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04D0-0615-47E8-871A-E45B15041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6BC8-FD6F-4972-8F4E-17EF45826348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326-5267-4BAC-832D-547A3BBD735D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9A31-CD3D-41AC-907A-F86534240ADF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A8E0-A20E-4027-B2A2-718B7A79CE61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241F-FA27-4E09-AB46-135D74FE8BB7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451-9FF6-4D7E-BF79-82C5BF6388DB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8546-A224-4BAB-BEA4-120ECCFFC8E3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CCF9-C7BA-4348-A957-3A2682D9A80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1EF-52FB-4C33-A2BE-575A7ED43A2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6ED3-4B0F-4F5E-942E-E308DD07BD6F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A4E-2B95-4FBC-A1B0-6EEEC7A9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605-09DA-4EC3-B124-7F79EB35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A59-5064-428C-9C36-1E86132F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D69-76AA-4ABA-9628-871BD415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2AE-9452-417B-B576-BB80E105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C80-BE0B-42BB-B1F0-F63245A5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0E1-4C1B-4711-A1FE-7E3D3F5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D87-ECB2-465B-8A31-B1DF43EC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884-EA3D-4A67-ABDF-B4DE8C7D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1C9-470D-4623-A1C1-5114BBD9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ABF-1DB5-412D-84B9-67CBAA2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BE8-7971-4874-8E8A-58545D1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DAB4-AC64-4BB5-BD66-2C6BAE34E545}" type="slidenum"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AF8B-71D8-4963-98E4-E0F3967BC3C4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FFEA-87A8-408D-AD8A-E41167FA982B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9876-C24A-4FE7-99E3-7FB6AB7BDAF6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2FCC-B0C1-4BCE-A5D3-D091F4D04435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5221-FDA6-4BE2-AE60-AE93FD281225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2856-5E5D-4F1D-A363-661E777B03E9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6D20-D259-4A90-B7F0-DCBE8EA02972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a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a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a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13FB-A399-48F8-94EC-DEB301E2F939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1565c0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42a5f5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42a5f5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42a5f5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42a5f5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0aff8"/>
                </a:gs>
                <a:gs pos="100000">
                  <a:srgbClr val="2794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761ae"/>
                </a:gs>
                <a:gs pos="100000">
                  <a:srgbClr val="003b9c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a86dc"/>
                </a:gs>
                <a:gs pos="100000">
                  <a:srgbClr val="0568c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978ca"/>
                </a:gs>
                <a:gs pos="100000">
                  <a:srgbClr val="0358b9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ea1f7"/>
                </a:gs>
                <a:gs pos="100000">
                  <a:srgbClr val="0787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d95ea"/>
                </a:gs>
                <a:gs pos="100000">
                  <a:srgbClr val="0679d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42a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197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219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1e8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42a5f5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42a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60aff8"/>
                </a:gs>
                <a:gs pos="100000">
                  <a:srgbClr val="2794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4ea1f7"/>
                </a:gs>
                <a:gs pos="100000">
                  <a:srgbClr val="0787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60aff8"/>
                </a:gs>
                <a:gs pos="100000">
                  <a:srgbClr val="2794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4ea1f7"/>
                </a:gs>
                <a:gs pos="100000">
                  <a:srgbClr val="0787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656d78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197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1976d2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42a5f5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2196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2196f3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1e8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1e88e5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60aff8"/>
                </a:gs>
                <a:gs pos="100000">
                  <a:srgbClr val="2794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4ea1f7"/>
                </a:gs>
                <a:gs pos="100000">
                  <a:srgbClr val="0787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1976d2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1976d2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e88e5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1e88e5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6d78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656d78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2196f3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60aff8"/>
                  </a:gs>
                  <a:gs pos="100000">
                    <a:srgbClr val="2794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4ea1f7"/>
                  </a:gs>
                  <a:gs pos="100000">
                    <a:srgbClr val="0787e5"/>
                  </a:gs>
                </a:gsLst>
                <a:lin ang="5400000"/>
              </a:gradFill>
              <a:ln w="6480">
                <a:solidFill>
                  <a:srgbClr val="2196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4978ca"/>
                  </a:gs>
                  <a:gs pos="100000">
                    <a:srgbClr val="0358b9"/>
                  </a:gs>
                </a:gsLst>
                <a:lin ang="16200000"/>
              </a:gradFill>
              <a:ln w="6480">
                <a:solidFill>
                  <a:srgbClr val="1565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4a86dc"/>
                  </a:gs>
                  <a:gs pos="100000">
                    <a:srgbClr val="0568cb"/>
                  </a:gs>
                </a:gsLst>
                <a:lin ang="16200000"/>
              </a:gradFill>
              <a:ln w="6480">
                <a:solidFill>
                  <a:srgbClr val="1976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4d95ea"/>
                  </a:gs>
                  <a:gs pos="100000">
                    <a:srgbClr val="0679df"/>
                  </a:gs>
                </a:gsLst>
                <a:lin ang="16200000"/>
              </a:gradFill>
              <a:ln w="6480">
                <a:solidFill>
                  <a:srgbClr val="1e8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0d47a1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1565c0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1565c0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1565c0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1565c0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1565c0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1565c0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483696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656d78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2196f3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2196f3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2196f3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2196f3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42a5f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42a5f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42a5f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42a5f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156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0d4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42a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219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156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0d4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197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42a5f5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2196f3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1976d2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1565c0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0d47a1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656d7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60aff8"/>
                </a:gs>
                <a:gs pos="100000">
                  <a:srgbClr val="2794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4ea1f7"/>
                </a:gs>
                <a:gs pos="100000">
                  <a:srgbClr val="0787e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4d95ea"/>
                </a:gs>
                <a:gs pos="100000">
                  <a:srgbClr val="0679d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4a86dc"/>
                </a:gs>
                <a:gs pos="100000">
                  <a:srgbClr val="0568c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56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104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0c8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a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0c8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a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197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197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2196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b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b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2196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56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104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e8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146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e8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146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197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35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197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42a5f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0c8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56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d4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196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e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97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56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d4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0d4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42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42a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219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156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0d4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197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32:01Z</dcterms:modified>
  <cp:revision>539</cp:revision>
  <dc:subject/>
  <dc:title>PowerPoint Presentation</dc:title>
</cp:coreProperties>
</file>