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AC09-858A-4141-850B-0D1C82C60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3FE-5DF4-4A01-A4E6-8A37D8B1F675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A8A6-F90E-4B35-A3A6-21722BC0CD29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C5A9-FA7F-4DE9-B6FE-499526A24C03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1C0D-2A27-4480-97FA-EBB8AFEE5CD1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B2EA-900C-4F2C-B651-00AA15A62529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8BA-1B96-41E0-9562-F88AB24E17D7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21A-D412-4C8E-A5DB-CA5EFA2720F7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C7C4-BFA3-457E-BC7E-05B7CDDD3361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854-F33C-4363-8E93-8E1026545A82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11C-8EB9-465C-B54E-E7606A90A62A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EEC-0694-4194-AB7A-DA02D941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8BF-E720-4D86-8E2C-2B693CC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A2F-C4D7-49A6-A6EF-ECCEF83C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0F5-6BE0-499B-BF42-B967E888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3C0-BBA0-446B-BB6F-D5020ABA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9F4-BF0C-4ED1-93C4-930FD727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E5B-0007-422E-B8D8-8A7243A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F6D-75FE-4E20-B24D-6BCD36F0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88B-E2EB-4390-A971-C91B9165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510-C6ED-4084-AA1A-BFC0200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93F-8870-474B-AF0E-178183C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D4D-49E7-4863-9EDD-DB378B6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99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99a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99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FE0-93E5-46D6-8842-E6C047A6FA76}" type="slidenum">
              <a:rPr b="0" lang="en-US" sz="1200" spc="-1" strike="noStrike">
                <a:solidFill>
                  <a:srgbClr val="9399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1F5D-7016-4CAE-A60C-E188A16383AC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25E-EA66-4A58-B55F-B32A2881D3D2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309E-6837-412E-A59C-D43F36DFB277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37C-8FFF-47F4-8FA5-0F8CAD79FF53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802-DC08-4A7D-A219-44FE24D43C3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19D-83D6-4856-88E0-6111B8462172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31E-0ED0-4522-BD9A-3DBB15B0646E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53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53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53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F9B3-3D0D-4E7A-9675-C482881D6EEE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c62828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f535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f535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f535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f535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36c69"/>
                </a:gs>
                <a:gs pos="100000">
                  <a:srgbClr val="e439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24b4b"/>
                </a:gs>
                <a:gs pos="100000">
                  <a:srgbClr val="b00a0a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95454"/>
                </a:gs>
                <a:gs pos="100000">
                  <a:srgbClr val="cb181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04f4f"/>
                </a:gs>
                <a:gs pos="100000">
                  <a:srgbClr val="bd141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6058"/>
                </a:gs>
                <a:gs pos="100000">
                  <a:srgbClr val="e52a1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a5a57"/>
                </a:gs>
                <a:gs pos="100000">
                  <a:srgbClr val="dd201c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ef5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d3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f44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e53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ef5350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ef5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f36c69"/>
                </a:gs>
                <a:gs pos="100000">
                  <a:srgbClr val="e439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f86058"/>
                </a:gs>
                <a:gs pos="100000">
                  <a:srgbClr val="e52a1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36c69"/>
                </a:gs>
                <a:gs pos="100000">
                  <a:srgbClr val="e439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86058"/>
                </a:gs>
                <a:gs pos="100000">
                  <a:srgbClr val="e52a1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d3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d32f2f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ef5350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f44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f44336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e53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e53935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36c69"/>
                </a:gs>
                <a:gs pos="100000">
                  <a:srgbClr val="e439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86058"/>
                </a:gs>
                <a:gs pos="100000">
                  <a:srgbClr val="e52a1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d32f2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d32f2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e53935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e53935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44546a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f44336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f36c69"/>
                  </a:gs>
                  <a:gs pos="100000">
                    <a:srgbClr val="e4393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f86058"/>
                  </a:gs>
                  <a:gs pos="100000">
                    <a:srgbClr val="e52a1b"/>
                  </a:gs>
                </a:gsLst>
                <a:lin ang="5400000"/>
              </a:gradFill>
              <a:ln w="6480">
                <a:solidFill>
                  <a:srgbClr val="f443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d04f4f"/>
                  </a:gs>
                  <a:gs pos="100000">
                    <a:srgbClr val="bd1414"/>
                  </a:gs>
                </a:gsLst>
                <a:lin ang="16200000"/>
              </a:gradFill>
              <a:ln w="6480">
                <a:solidFill>
                  <a:srgbClr val="c62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d95454"/>
                  </a:gs>
                  <a:gs pos="100000">
                    <a:srgbClr val="cb1818"/>
                  </a:gs>
                </a:gsLst>
                <a:lin ang="16200000"/>
              </a:gradFill>
              <a:ln w="6480">
                <a:solidFill>
                  <a:srgbClr val="d3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ea5a57"/>
                  </a:gs>
                  <a:gs pos="100000">
                    <a:srgbClr val="dd201c"/>
                  </a:gs>
                </a:gsLst>
                <a:lin ang="16200000"/>
              </a:gradFill>
              <a:ln w="6480">
                <a:solidFill>
                  <a:srgbClr val="e539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b71c1c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c62828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c62828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c62828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c62828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c62828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c62828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44546a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f44336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f44336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f44336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f44336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ef53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ef53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ef53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ef53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c6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b7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ef5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f44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c6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b7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d3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ef535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f44336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d32f2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c62828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b71c1c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44546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f36c69"/>
                </a:gs>
                <a:gs pos="100000">
                  <a:srgbClr val="e439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f86058"/>
                </a:gs>
                <a:gs pos="100000">
                  <a:srgbClr val="e52a1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ea5a57"/>
                </a:gs>
                <a:gs pos="100000">
                  <a:srgbClr val="dd201c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d95454"/>
                </a:gs>
                <a:gs pos="100000">
                  <a:srgbClr val="cb181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95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db1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5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db18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5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d3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d3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f44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1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1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44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95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39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bb1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39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bb1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d3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d3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f535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db1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53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c6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b7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53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d3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c6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b7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b7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ef53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ef5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f44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c6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b7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d3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3:54Z</dcterms:modified>
  <cp:revision>539</cp:revision>
  <dc:subject/>
  <dc:title>PowerPoint Presentation</dc:title>
</cp:coreProperties>
</file>