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70B7-89F3-4F51-B54C-C7CB87530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96FE-2744-42F2-B903-9D1D6F2CA1F4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3045-0FA9-4E60-89D0-332D3D7D02E4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63B8-A6A2-4FE5-AC64-8B716773FC63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90C4-9AEB-4C98-BC45-8DEF398E008E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C947-1D4B-4683-AD8F-D4451D5E0F2D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8FEC-0713-4511-A204-3840B8D9147C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EFBB-679A-4255-AA8F-59C34D92D366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C4F0-6104-44CA-A21E-B9124EB13921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B8C4-9E0C-4F5C-8541-CDA2049EC73A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DD1E-CC91-4643-9104-E7D61E45C5F6}" type="slidenum">
              <a:rPr b="0" lang="en-US" sz="1200" spc="-1" strike="noStrike">
                <a:solidFill>
                  <a:srgbClr val="656d7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429A-CE35-4C7A-BF47-8F5107F2B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F9F4-965C-428B-B771-B7EA5E89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F6B3-614B-4CEA-9F91-023DB9839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FBAC-9FAD-4FBE-8187-CC4065901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12D3-49E7-489D-BDE3-0C272A9B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E4D6-71A0-41D3-B918-E5CCD9A8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4F7D-5732-4978-BCE7-BEC41B11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9B0E-3B7A-4B86-9F93-6D325504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70DF-033D-4B70-86E3-3C114304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565F-A0EF-4BD4-BE12-E0E52656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0113-B0BE-42E6-BE40-719ADB9B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DB50-BAAC-434E-8331-415AC9AD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a3a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fa3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a3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C907-AFF0-49F2-BEAA-6BB554C7F182}" type="slidenum">
              <a:rPr b="0" lang="en-US" sz="1200" spc="-1" strike="noStrike">
                <a:solidFill>
                  <a:srgbClr val="9fa3a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03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04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886E-B6EE-4F59-9B31-BEB7A57CB769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4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5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6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7DC0-10ED-4CB0-A544-A3D48A874C13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86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7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8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9A49-5ABB-4897-A833-6DC45EF25125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28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29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30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04DE-7A8E-41EF-9182-586E87F4B713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4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5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8357-EEF8-4A68-8805-999F96312C7A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5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6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4539-7EDA-432B-8410-69B897956FA9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7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06BA-9B30-41D7-8044-D24CF54695CC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a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Группа 21" descr=""/>
          <p:cNvPicPr/>
          <p:nvPr/>
        </p:nvPicPr>
        <p:blipFill>
          <a:blip r:embed="rId3"/>
          <a:stretch/>
        </p:blipFill>
        <p:spPr>
          <a:xfrm>
            <a:off x="3938760" y="1809720"/>
            <a:ext cx="1438200" cy="1414440"/>
          </a:xfrm>
          <a:prstGeom prst="rect">
            <a:avLst/>
          </a:prstGeom>
          <a:ln w="0">
            <a:noFill/>
          </a:ln>
        </p:spPr>
      </p:pic>
      <p:pic>
        <p:nvPicPr>
          <p:cNvPr id="209" name="Группа 76" descr=""/>
          <p:cNvPicPr/>
          <p:nvPr/>
        </p:nvPicPr>
        <p:blipFill>
          <a:blip r:embed="rId4"/>
          <a:stretch/>
        </p:blipFill>
        <p:spPr>
          <a:xfrm>
            <a:off x="6413400" y="1809720"/>
            <a:ext cx="1444680" cy="140976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ая соединительная линия 2"/>
          <p:cNvSpPr/>
          <p:nvPr/>
        </p:nvSpPr>
        <p:spPr>
          <a:xfrm>
            <a:off x="11136240" y="1809720"/>
            <a:ext cx="10558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11" name="Равнобедренный треугольник 3"/>
          <p:cNvSpPr/>
          <p:nvPr/>
        </p:nvSpPr>
        <p:spPr>
          <a:xfrm>
            <a:off x="7164360" y="5062680"/>
            <a:ext cx="3618000" cy="1795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12" name="Равнобедренный треугольник 128"/>
          <p:cNvSpPr/>
          <p:nvPr/>
        </p:nvSpPr>
        <p:spPr>
          <a:xfrm>
            <a:off x="9326520" y="5640480"/>
            <a:ext cx="3619440" cy="1233360"/>
          </a:xfrm>
          <a:prstGeom prst="triangle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13" name="Равнобедренный треугольник 129"/>
          <p:cNvSpPr/>
          <p:nvPr/>
        </p:nvSpPr>
        <p:spPr>
          <a:xfrm>
            <a:off x="1971720" y="6456240"/>
            <a:ext cx="2560680" cy="417600"/>
          </a:xfrm>
          <a:prstGeom prst="triangle">
            <a:avLst>
              <a:gd name="adj" fmla="val 50000"/>
            </a:avLst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a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53" name="Группа 21" descr=""/>
          <p:cNvPicPr/>
          <p:nvPr/>
        </p:nvPicPr>
        <p:blipFill>
          <a:blip r:embed="rId3"/>
          <a:stretch/>
        </p:blipFill>
        <p:spPr>
          <a:xfrm>
            <a:off x="3938760" y="1809720"/>
            <a:ext cx="1438200" cy="1414440"/>
          </a:xfrm>
          <a:prstGeom prst="rect">
            <a:avLst/>
          </a:prstGeom>
          <a:ln w="0">
            <a:noFill/>
          </a:ln>
        </p:spPr>
      </p:pic>
      <p:pic>
        <p:nvPicPr>
          <p:cNvPr id="254" name="Группа 76" descr=""/>
          <p:cNvPicPr/>
          <p:nvPr/>
        </p:nvPicPr>
        <p:blipFill>
          <a:blip r:embed="rId4"/>
          <a:stretch/>
        </p:blipFill>
        <p:spPr>
          <a:xfrm>
            <a:off x="6413400" y="1809720"/>
            <a:ext cx="1444680" cy="140976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ая соединительная линия 2"/>
          <p:cNvSpPr/>
          <p:nvPr/>
        </p:nvSpPr>
        <p:spPr>
          <a:xfrm>
            <a:off x="0" y="1809720"/>
            <a:ext cx="7477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6" name="Равнобедренный треугольник 128"/>
          <p:cNvSpPr/>
          <p:nvPr/>
        </p:nvSpPr>
        <p:spPr>
          <a:xfrm>
            <a:off x="-2867040" y="5640480"/>
            <a:ext cx="3618000" cy="1233360"/>
          </a:xfrm>
          <a:prstGeom prst="triangle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7" name="Равнобедренный треугольник 129"/>
          <p:cNvSpPr/>
          <p:nvPr/>
        </p:nvSpPr>
        <p:spPr>
          <a:xfrm>
            <a:off x="115920" y="5062680"/>
            <a:ext cx="3618000" cy="1795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8" name="Равнобедренный треугольник 131"/>
          <p:cNvSpPr/>
          <p:nvPr/>
        </p:nvSpPr>
        <p:spPr>
          <a:xfrm>
            <a:off x="2354400" y="5776920"/>
            <a:ext cx="2212920" cy="1096920"/>
          </a:xfrm>
          <a:prstGeom prst="triangle">
            <a:avLst>
              <a:gd name="adj" fmla="val 50000"/>
            </a:avLst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59" name="Равнобедренный треугольник 132"/>
          <p:cNvSpPr/>
          <p:nvPr/>
        </p:nvSpPr>
        <p:spPr>
          <a:xfrm>
            <a:off x="7464600" y="5087880"/>
            <a:ext cx="3619440" cy="1765440"/>
          </a:xfrm>
          <a:prstGeom prst="triangle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60" name="Равнобедренный треугольник 133"/>
          <p:cNvSpPr/>
          <p:nvPr/>
        </p:nvSpPr>
        <p:spPr>
          <a:xfrm>
            <a:off x="8940960" y="3627360"/>
            <a:ext cx="6516360" cy="3232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61" name="Прямая соединительная линия 135"/>
          <p:cNvSpPr/>
          <p:nvPr/>
        </p:nvSpPr>
        <p:spPr>
          <a:xfrm>
            <a:off x="11136240" y="1809720"/>
            <a:ext cx="10558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a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Прямая соединительная линия 2"/>
          <p:cNvSpPr/>
          <p:nvPr/>
        </p:nvSpPr>
        <p:spPr>
          <a:xfrm>
            <a:off x="0" y="1809720"/>
            <a:ext cx="7477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02" name="Равнобедренный треугольник 132"/>
          <p:cNvSpPr/>
          <p:nvPr/>
        </p:nvSpPr>
        <p:spPr>
          <a:xfrm>
            <a:off x="695160" y="4776840"/>
            <a:ext cx="4259520" cy="2076480"/>
          </a:xfrm>
          <a:prstGeom prst="triangle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03" name="Равнобедренный треугольник 133"/>
          <p:cNvSpPr/>
          <p:nvPr/>
        </p:nvSpPr>
        <p:spPr>
          <a:xfrm>
            <a:off x="-3257640" y="3627360"/>
            <a:ext cx="6515280" cy="3232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04" name="Равнобедренный треугольник 130"/>
          <p:cNvSpPr/>
          <p:nvPr/>
        </p:nvSpPr>
        <p:spPr>
          <a:xfrm>
            <a:off x="2109960" y="1625760"/>
            <a:ext cx="11675880" cy="5233680"/>
          </a:xfrm>
          <a:prstGeom prst="triangle">
            <a:avLst>
              <a:gd name="adj" fmla="val 50000"/>
            </a:avLst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305" name="Группа 7"/>
          <p:cNvGrpSpPr/>
          <p:nvPr/>
        </p:nvGrpSpPr>
        <p:grpSpPr>
          <a:xfrm>
            <a:off x="7953480" y="901800"/>
            <a:ext cx="7867440" cy="433440"/>
            <a:chOff x="7953480" y="901800"/>
            <a:chExt cx="7867440" cy="433440"/>
          </a:xfrm>
        </p:grpSpPr>
        <p:sp>
          <p:nvSpPr>
            <p:cNvPr id="306" name="Волна 4"/>
            <p:cNvSpPr/>
            <p:nvPr/>
          </p:nvSpPr>
          <p:spPr>
            <a:xfrm>
              <a:off x="7953480" y="90180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07" name="Волна 134"/>
            <p:cNvSpPr/>
            <p:nvPr/>
          </p:nvSpPr>
          <p:spPr>
            <a:xfrm>
              <a:off x="8605800" y="90468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08" name="Волна 136"/>
            <p:cNvSpPr/>
            <p:nvPr/>
          </p:nvSpPr>
          <p:spPr>
            <a:xfrm>
              <a:off x="9263160" y="90468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09" name="Волна 139"/>
            <p:cNvSpPr/>
            <p:nvPr/>
          </p:nvSpPr>
          <p:spPr>
            <a:xfrm>
              <a:off x="9920160" y="90360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0" name="Волна 140"/>
            <p:cNvSpPr/>
            <p:nvPr/>
          </p:nvSpPr>
          <p:spPr>
            <a:xfrm>
              <a:off x="10572840" y="90684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1" name="Волна 141"/>
            <p:cNvSpPr/>
            <p:nvPr/>
          </p:nvSpPr>
          <p:spPr>
            <a:xfrm>
              <a:off x="11229840" y="90684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2" name="Волна 142"/>
            <p:cNvSpPr/>
            <p:nvPr/>
          </p:nvSpPr>
          <p:spPr>
            <a:xfrm>
              <a:off x="11887200" y="90792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3" name="Волна 143"/>
            <p:cNvSpPr/>
            <p:nvPr/>
          </p:nvSpPr>
          <p:spPr>
            <a:xfrm>
              <a:off x="12539520" y="91116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4" name="Волна 144"/>
            <p:cNvSpPr/>
            <p:nvPr/>
          </p:nvSpPr>
          <p:spPr>
            <a:xfrm>
              <a:off x="13196880" y="91116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5" name="Волна 145"/>
            <p:cNvSpPr/>
            <p:nvPr/>
          </p:nvSpPr>
          <p:spPr>
            <a:xfrm>
              <a:off x="13853880" y="90972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6" name="Волна 146"/>
            <p:cNvSpPr/>
            <p:nvPr/>
          </p:nvSpPr>
          <p:spPr>
            <a:xfrm>
              <a:off x="14506560" y="91296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317" name="Волна 147"/>
            <p:cNvSpPr/>
            <p:nvPr/>
          </p:nvSpPr>
          <p:spPr>
            <a:xfrm>
              <a:off x="15163560" y="912960"/>
              <a:ext cx="657360" cy="42228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105480 h 422280"/>
                <a:gd name="textAreaBottom" fmla="*/ 3168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318" name="Прямоугольник 6"/>
          <p:cNvSpPr/>
          <p:nvPr/>
        </p:nvSpPr>
        <p:spPr>
          <a:xfrm>
            <a:off x="8512200" y="722160"/>
            <a:ext cx="3679920" cy="720720"/>
          </a:xfrm>
          <a:prstGeom prst="rect">
            <a:avLst/>
          </a:prstGeom>
          <a:solidFill>
            <a:srgbClr val="26a6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19" name="Прямая соединительная линия 3"/>
          <p:cNvSpPr/>
          <p:nvPr/>
        </p:nvSpPr>
        <p:spPr>
          <a:xfrm flipV="1">
            <a:off x="7948440" y="905040"/>
            <a:ext cx="0" cy="72216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20" name="Прямоугольник 138"/>
          <p:cNvSpPr/>
          <p:nvPr/>
        </p:nvSpPr>
        <p:spPr>
          <a:xfrm>
            <a:off x="1440" y="727200"/>
            <a:ext cx="7937640" cy="722160"/>
          </a:xfrm>
          <a:prstGeom prst="rect">
            <a:avLst/>
          </a:prstGeom>
          <a:solidFill>
            <a:srgbClr val="26a6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Rounded Rectangle 7"/>
          <p:cNvSpPr/>
          <p:nvPr/>
        </p:nvSpPr>
        <p:spPr>
          <a:xfrm>
            <a:off x="11264760" y="6215040"/>
            <a:ext cx="316080" cy="314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6d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61" name="Slide Number Placeholder 14"/>
          <p:cNvSpPr/>
          <p:nvPr/>
        </p:nvSpPr>
        <p:spPr>
          <a:xfrm>
            <a:off x="11234880" y="6189840"/>
            <a:ext cx="38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62" name="TextBox 9"/>
          <p:cNvSpPr/>
          <p:nvPr/>
        </p:nvSpPr>
        <p:spPr>
          <a:xfrm>
            <a:off x="10961640" y="623556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E208-A7BF-4BE0-89F4-17431FC16230}" type="slidenum">
              <a:rPr b="0" lang="en-US" sz="1200" spc="-1" strike="noStrike">
                <a:solidFill>
                  <a:srgbClr val="d6dce5"/>
                </a:solidFill>
                <a:latin typeface="Source Sans Pro"/>
              </a:rPr>
              <a:t>&lt;number&gt;</a:t>
            </a:fld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6d78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656d78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656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73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93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3" name="Rectangle 1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gradFill rotWithShape="0">
            <a:gsLst>
              <a:gs pos="0">
                <a:srgbClr val="44546a">
                  <a:alpha val="86274"/>
                </a:srgbClr>
              </a:gs>
              <a:gs pos="100000">
                <a:srgbClr val="00695c">
                  <a:alpha val="79215"/>
                </a:srgbClr>
              </a:gs>
            </a:gsLst>
            <a:lin ang="13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734" name="Picture 1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5" name="TextBox 9"/>
          <p:cNvSpPr/>
          <p:nvPr/>
        </p:nvSpPr>
        <p:spPr>
          <a:xfrm>
            <a:off x="2111760" y="2644920"/>
            <a:ext cx="7968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ATTRACTIVE</a:t>
            </a:r>
            <a:endParaRPr b="0" lang="en-US" sz="96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36" name="TextBox 10"/>
          <p:cNvSpPr/>
          <p:nvPr/>
        </p:nvSpPr>
        <p:spPr>
          <a:xfrm>
            <a:off x="4549680" y="4473720"/>
            <a:ext cx="31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 Light"/>
                <a:ea typeface="Roboto Light"/>
              </a:rPr>
              <a:t>Letterpress next level trust fund, before. 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37" name="TextBox 11"/>
          <p:cNvSpPr/>
          <p:nvPr/>
        </p:nvSpPr>
        <p:spPr>
          <a:xfrm>
            <a:off x="2590920" y="2203560"/>
            <a:ext cx="70149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We’ve been </a:t>
            </a:r>
            <a:r>
              <a:rPr b="1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crafting</a:t>
            </a:r>
            <a:r>
              <a:rPr b="0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 beautiful </a:t>
            </a:r>
            <a:r>
              <a:rPr b="0" i="1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presentation</a:t>
            </a:r>
            <a:r>
              <a:rPr b="0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 &amp; making </a:t>
            </a:r>
            <a:r>
              <a:rPr b="1" i="1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clients</a:t>
            </a:r>
            <a:r>
              <a:rPr b="0" lang="en-US" sz="1600" spc="-1" strike="noStrike">
                <a:solidFill>
                  <a:srgbClr val="ffffff"/>
                </a:solidFill>
                <a:latin typeface="Source Sans Pro"/>
                <a:ea typeface="Roboto"/>
              </a:rPr>
              <a:t> happy for years.</a:t>
            </a:r>
            <a:endParaRPr b="0" lang="en-US" sz="16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38" name="Shape 2721"/>
          <p:cNvSpPr/>
          <p:nvPr/>
        </p:nvSpPr>
        <p:spPr>
          <a:xfrm>
            <a:off x="5905440" y="5249880"/>
            <a:ext cx="38124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365" y="19991"/>
                </a:moveTo>
                <a:lnTo>
                  <a:pt x="14707" y="20866"/>
                </a:lnTo>
                <a:cubicBezTo>
                  <a:pt x="15328" y="20625"/>
                  <a:pt x="15928" y="20324"/>
                  <a:pt x="16492" y="19973"/>
                </a:cubicBezTo>
                <a:lnTo>
                  <a:pt x="15994" y="19176"/>
                </a:lnTo>
                <a:cubicBezTo>
                  <a:pt x="15479" y="19497"/>
                  <a:pt x="14931" y="19771"/>
                  <a:pt x="14365" y="19991"/>
                </a:cubicBezTo>
                <a:moveTo>
                  <a:pt x="10800" y="20661"/>
                </a:moveTo>
                <a:lnTo>
                  <a:pt x="10801" y="21600"/>
                </a:lnTo>
                <a:cubicBezTo>
                  <a:pt x="11469" y="21598"/>
                  <a:pt x="12137" y="21536"/>
                  <a:pt x="12788" y="21415"/>
                </a:cubicBezTo>
                <a:lnTo>
                  <a:pt x="12614" y="20491"/>
                </a:lnTo>
                <a:cubicBezTo>
                  <a:pt x="12020" y="20603"/>
                  <a:pt x="11409" y="20660"/>
                  <a:pt x="10800" y="20661"/>
                </a:cubicBezTo>
                <a:moveTo>
                  <a:pt x="11148" y="16559"/>
                </a:moveTo>
                <a:lnTo>
                  <a:pt x="15092" y="12624"/>
                </a:lnTo>
                <a:cubicBezTo>
                  <a:pt x="15181" y="12535"/>
                  <a:pt x="15236" y="12412"/>
                  <a:pt x="15236" y="12276"/>
                </a:cubicBezTo>
                <a:cubicBezTo>
                  <a:pt x="15236" y="12004"/>
                  <a:pt x="15015" y="11784"/>
                  <a:pt x="14743" y="11784"/>
                </a:cubicBezTo>
                <a:cubicBezTo>
                  <a:pt x="14607" y="11784"/>
                  <a:pt x="14483" y="11839"/>
                  <a:pt x="14395" y="11928"/>
                </a:cubicBezTo>
                <a:lnTo>
                  <a:pt x="11293" y="15024"/>
                </a:lnTo>
                <a:lnTo>
                  <a:pt x="11293" y="5389"/>
                </a:lnTo>
                <a:cubicBezTo>
                  <a:pt x="11293" y="5117"/>
                  <a:pt x="11072" y="4897"/>
                  <a:pt x="10800" y="4897"/>
                </a:cubicBezTo>
                <a:cubicBezTo>
                  <a:pt x="10528" y="4897"/>
                  <a:pt x="10307" y="5117"/>
                  <a:pt x="10307" y="5389"/>
                </a:cubicBezTo>
                <a:lnTo>
                  <a:pt x="10307" y="15024"/>
                </a:lnTo>
                <a:lnTo>
                  <a:pt x="7206" y="11928"/>
                </a:lnTo>
                <a:cubicBezTo>
                  <a:pt x="7117" y="11839"/>
                  <a:pt x="6993" y="11784"/>
                  <a:pt x="6857" y="11784"/>
                </a:cubicBezTo>
                <a:cubicBezTo>
                  <a:pt x="6585" y="11784"/>
                  <a:pt x="6364" y="12004"/>
                  <a:pt x="6364" y="12276"/>
                </a:cubicBezTo>
                <a:cubicBezTo>
                  <a:pt x="6364" y="12412"/>
                  <a:pt x="6419" y="12535"/>
                  <a:pt x="6508" y="12624"/>
                </a:cubicBezTo>
                <a:lnTo>
                  <a:pt x="10452" y="16559"/>
                </a:lnTo>
                <a:cubicBezTo>
                  <a:pt x="10541" y="16648"/>
                  <a:pt x="10664" y="16703"/>
                  <a:pt x="10800" y="16703"/>
                </a:cubicBezTo>
                <a:cubicBezTo>
                  <a:pt x="10936" y="16703"/>
                  <a:pt x="11059" y="16648"/>
                  <a:pt x="11148" y="16559"/>
                </a:cubicBezTo>
                <a:moveTo>
                  <a:pt x="18660" y="4854"/>
                </a:moveTo>
                <a:lnTo>
                  <a:pt x="19411" y="4287"/>
                </a:lnTo>
                <a:cubicBezTo>
                  <a:pt x="19011" y="3759"/>
                  <a:pt x="18558" y="3264"/>
                  <a:pt x="18065" y="2816"/>
                </a:cubicBezTo>
                <a:lnTo>
                  <a:pt x="17432" y="3510"/>
                </a:lnTo>
                <a:cubicBezTo>
                  <a:pt x="17882" y="3919"/>
                  <a:pt x="18295" y="4371"/>
                  <a:pt x="18660" y="4854"/>
                </a:cubicBezTo>
                <a:moveTo>
                  <a:pt x="6893" y="20882"/>
                </a:moveTo>
                <a:cubicBezTo>
                  <a:pt x="7514" y="21121"/>
                  <a:pt x="8160" y="21302"/>
                  <a:pt x="8814" y="21422"/>
                </a:cubicBezTo>
                <a:lnTo>
                  <a:pt x="8985" y="20499"/>
                </a:lnTo>
                <a:cubicBezTo>
                  <a:pt x="8387" y="20389"/>
                  <a:pt x="7797" y="20223"/>
                  <a:pt x="7231" y="20006"/>
                </a:cubicBezTo>
                <a:cubicBezTo>
                  <a:pt x="7231" y="20006"/>
                  <a:pt x="6893" y="20882"/>
                  <a:pt x="6893" y="20882"/>
                </a:cubicBezTo>
                <a:close/>
                <a:moveTo>
                  <a:pt x="21553" y="9794"/>
                </a:moveTo>
                <a:lnTo>
                  <a:pt x="20617" y="9880"/>
                </a:lnTo>
                <a:cubicBezTo>
                  <a:pt x="20644" y="10182"/>
                  <a:pt x="20659" y="10492"/>
                  <a:pt x="20659" y="10800"/>
                </a:cubicBezTo>
                <a:cubicBezTo>
                  <a:pt x="20659" y="11099"/>
                  <a:pt x="20645" y="11401"/>
                  <a:pt x="20619" y="11699"/>
                </a:cubicBezTo>
                <a:lnTo>
                  <a:pt x="21556" y="11784"/>
                </a:lnTo>
                <a:cubicBezTo>
                  <a:pt x="21585" y="11458"/>
                  <a:pt x="21600" y="11127"/>
                  <a:pt x="21600" y="10800"/>
                </a:cubicBezTo>
                <a:cubicBezTo>
                  <a:pt x="21599" y="10462"/>
                  <a:pt x="21584" y="10124"/>
                  <a:pt x="21553" y="9794"/>
                </a:cubicBezTo>
                <a:moveTo>
                  <a:pt x="21187" y="7835"/>
                </a:moveTo>
                <a:cubicBezTo>
                  <a:pt x="21005" y="7197"/>
                  <a:pt x="20761" y="6573"/>
                  <a:pt x="20463" y="5978"/>
                </a:cubicBezTo>
                <a:lnTo>
                  <a:pt x="19622" y="6399"/>
                </a:lnTo>
                <a:cubicBezTo>
                  <a:pt x="19893" y="6941"/>
                  <a:pt x="20115" y="7510"/>
                  <a:pt x="20282" y="8094"/>
                </a:cubicBezTo>
                <a:cubicBezTo>
                  <a:pt x="20282" y="8094"/>
                  <a:pt x="21187" y="7835"/>
                  <a:pt x="21187" y="7835"/>
                </a:cubicBezTo>
                <a:close/>
                <a:moveTo>
                  <a:pt x="19632" y="15184"/>
                </a:moveTo>
                <a:lnTo>
                  <a:pt x="20474" y="15602"/>
                </a:lnTo>
                <a:cubicBezTo>
                  <a:pt x="20770" y="15008"/>
                  <a:pt x="21012" y="14383"/>
                  <a:pt x="21194" y="13743"/>
                </a:cubicBezTo>
                <a:lnTo>
                  <a:pt x="20288" y="13487"/>
                </a:lnTo>
                <a:cubicBezTo>
                  <a:pt x="20123" y="14071"/>
                  <a:pt x="19901" y="14642"/>
                  <a:pt x="19632" y="15184"/>
                </a:cubicBezTo>
                <a:moveTo>
                  <a:pt x="17446" y="18078"/>
                </a:moveTo>
                <a:lnTo>
                  <a:pt x="18081" y="18771"/>
                </a:lnTo>
                <a:cubicBezTo>
                  <a:pt x="18572" y="18323"/>
                  <a:pt x="19024" y="17827"/>
                  <a:pt x="19424" y="17297"/>
                </a:cubicBezTo>
                <a:lnTo>
                  <a:pt x="18672" y="16732"/>
                </a:lnTo>
                <a:cubicBezTo>
                  <a:pt x="18307" y="17216"/>
                  <a:pt x="17894" y="17669"/>
                  <a:pt x="17446" y="18078"/>
                </a:cubicBezTo>
                <a:moveTo>
                  <a:pt x="8924" y="1113"/>
                </a:moveTo>
                <a:lnTo>
                  <a:pt x="8748" y="190"/>
                </a:lnTo>
                <a:cubicBezTo>
                  <a:pt x="8093" y="315"/>
                  <a:pt x="7448" y="501"/>
                  <a:pt x="6830" y="743"/>
                </a:cubicBezTo>
                <a:lnTo>
                  <a:pt x="7173" y="1617"/>
                </a:lnTo>
                <a:cubicBezTo>
                  <a:pt x="7738" y="1396"/>
                  <a:pt x="8327" y="1226"/>
                  <a:pt x="8924" y="1113"/>
                </a:cubicBezTo>
                <a:moveTo>
                  <a:pt x="12594" y="1105"/>
                </a:moveTo>
                <a:lnTo>
                  <a:pt x="12765" y="182"/>
                </a:lnTo>
                <a:cubicBezTo>
                  <a:pt x="12115" y="61"/>
                  <a:pt x="11448" y="0"/>
                  <a:pt x="10788" y="0"/>
                </a:cubicBezTo>
                <a:lnTo>
                  <a:pt x="10787" y="0"/>
                </a:lnTo>
                <a:lnTo>
                  <a:pt x="10736" y="0"/>
                </a:lnTo>
                <a:lnTo>
                  <a:pt x="10779" y="940"/>
                </a:lnTo>
                <a:cubicBezTo>
                  <a:pt x="11389" y="940"/>
                  <a:pt x="12000" y="995"/>
                  <a:pt x="12594" y="1105"/>
                </a:cubicBezTo>
                <a:moveTo>
                  <a:pt x="16473" y="1615"/>
                </a:moveTo>
                <a:cubicBezTo>
                  <a:pt x="15908" y="1264"/>
                  <a:pt x="15306" y="966"/>
                  <a:pt x="14686" y="726"/>
                </a:cubicBezTo>
                <a:lnTo>
                  <a:pt x="14347" y="1602"/>
                </a:lnTo>
                <a:cubicBezTo>
                  <a:pt x="14912" y="1821"/>
                  <a:pt x="15462" y="2094"/>
                  <a:pt x="15978" y="2413"/>
                </a:cubicBezTo>
                <a:cubicBezTo>
                  <a:pt x="15978" y="2413"/>
                  <a:pt x="16473" y="1615"/>
                  <a:pt x="16473" y="1615"/>
                </a:cubicBezTo>
                <a:close/>
                <a:moveTo>
                  <a:pt x="3510" y="18800"/>
                </a:moveTo>
                <a:cubicBezTo>
                  <a:pt x="4003" y="19247"/>
                  <a:pt x="4539" y="19650"/>
                  <a:pt x="5105" y="19997"/>
                </a:cubicBezTo>
                <a:lnTo>
                  <a:pt x="5599" y="19198"/>
                </a:lnTo>
                <a:cubicBezTo>
                  <a:pt x="5083" y="18881"/>
                  <a:pt x="4592" y="18513"/>
                  <a:pt x="4142" y="18105"/>
                </a:cubicBezTo>
                <a:cubicBezTo>
                  <a:pt x="4142" y="18105"/>
                  <a:pt x="3510" y="18800"/>
                  <a:pt x="3510" y="18800"/>
                </a:cubicBezTo>
                <a:close/>
                <a:moveTo>
                  <a:pt x="2873" y="4886"/>
                </a:moveTo>
                <a:lnTo>
                  <a:pt x="2120" y="4322"/>
                </a:lnTo>
                <a:cubicBezTo>
                  <a:pt x="1721" y="4854"/>
                  <a:pt x="1369" y="5424"/>
                  <a:pt x="1074" y="6018"/>
                </a:cubicBezTo>
                <a:lnTo>
                  <a:pt x="1917" y="6435"/>
                </a:lnTo>
                <a:cubicBezTo>
                  <a:pt x="2186" y="5892"/>
                  <a:pt x="2508" y="5371"/>
                  <a:pt x="2873" y="4886"/>
                </a:cubicBezTo>
                <a:moveTo>
                  <a:pt x="5546" y="2435"/>
                </a:moveTo>
                <a:lnTo>
                  <a:pt x="5048" y="1639"/>
                </a:lnTo>
                <a:cubicBezTo>
                  <a:pt x="4484" y="1991"/>
                  <a:pt x="3950" y="2397"/>
                  <a:pt x="3460" y="2846"/>
                </a:cubicBezTo>
                <a:lnTo>
                  <a:pt x="4096" y="3538"/>
                </a:lnTo>
                <a:cubicBezTo>
                  <a:pt x="4544" y="3127"/>
                  <a:pt x="5032" y="2756"/>
                  <a:pt x="5546" y="2435"/>
                </a:cubicBezTo>
                <a:moveTo>
                  <a:pt x="1105" y="15642"/>
                </a:moveTo>
                <a:cubicBezTo>
                  <a:pt x="1403" y="16235"/>
                  <a:pt x="1759" y="16804"/>
                  <a:pt x="2161" y="17332"/>
                </a:cubicBezTo>
                <a:lnTo>
                  <a:pt x="2910" y="16763"/>
                </a:lnTo>
                <a:cubicBezTo>
                  <a:pt x="2542" y="16281"/>
                  <a:pt x="2218" y="15762"/>
                  <a:pt x="1945" y="15220"/>
                </a:cubicBezTo>
                <a:cubicBezTo>
                  <a:pt x="1945" y="15220"/>
                  <a:pt x="1105" y="15642"/>
                  <a:pt x="1105" y="15642"/>
                </a:cubicBezTo>
                <a:close/>
                <a:moveTo>
                  <a:pt x="1265" y="8133"/>
                </a:moveTo>
                <a:lnTo>
                  <a:pt x="359" y="7879"/>
                </a:lnTo>
                <a:cubicBezTo>
                  <a:pt x="179" y="8516"/>
                  <a:pt x="59" y="9176"/>
                  <a:pt x="0" y="9838"/>
                </a:cubicBezTo>
                <a:lnTo>
                  <a:pt x="938" y="9921"/>
                </a:lnTo>
                <a:cubicBezTo>
                  <a:pt x="991" y="9316"/>
                  <a:pt x="1101" y="8714"/>
                  <a:pt x="1265" y="8133"/>
                </a:cubicBezTo>
                <a:moveTo>
                  <a:pt x="943" y="11741"/>
                </a:moveTo>
                <a:lnTo>
                  <a:pt x="6" y="11829"/>
                </a:lnTo>
                <a:cubicBezTo>
                  <a:pt x="69" y="12492"/>
                  <a:pt x="194" y="13151"/>
                  <a:pt x="377" y="13786"/>
                </a:cubicBezTo>
                <a:lnTo>
                  <a:pt x="1281" y="13527"/>
                </a:lnTo>
                <a:cubicBezTo>
                  <a:pt x="1114" y="12946"/>
                  <a:pt x="1000" y="12346"/>
                  <a:pt x="943" y="1174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TextBox 1"/>
          <p:cNvSpPr/>
          <p:nvPr/>
        </p:nvSpPr>
        <p:spPr>
          <a:xfrm>
            <a:off x="3261240" y="538200"/>
            <a:ext cx="568548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Brainstorm Infographic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27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26a69a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028" name="Group 3" descr=""/>
          <p:cNvPicPr/>
          <p:nvPr/>
        </p:nvPicPr>
        <p:blipFill>
          <a:blip r:embed="rId1"/>
          <a:stretch/>
        </p:blipFill>
        <p:spPr>
          <a:xfrm>
            <a:off x="7149960" y="1749600"/>
            <a:ext cx="4462560" cy="3565440"/>
          </a:xfrm>
          <a:prstGeom prst="rect">
            <a:avLst/>
          </a:prstGeom>
          <a:ln w="0">
            <a:noFill/>
          </a:ln>
        </p:spPr>
      </p:pic>
      <p:grpSp>
        <p:nvGrpSpPr>
          <p:cNvPr id="1029" name="Group 18"/>
          <p:cNvGrpSpPr/>
          <p:nvPr/>
        </p:nvGrpSpPr>
        <p:grpSpPr>
          <a:xfrm>
            <a:off x="627120" y="1839960"/>
            <a:ext cx="2822400" cy="1600200"/>
            <a:chOff x="627120" y="1839960"/>
            <a:chExt cx="2822400" cy="1600200"/>
          </a:xfrm>
        </p:grpSpPr>
        <p:grpSp>
          <p:nvGrpSpPr>
            <p:cNvPr id="1030" name="Group 19"/>
            <p:cNvGrpSpPr/>
            <p:nvPr/>
          </p:nvGrpSpPr>
          <p:grpSpPr>
            <a:xfrm>
              <a:off x="627120" y="1839960"/>
              <a:ext cx="2822400" cy="1600200"/>
              <a:chOff x="627120" y="1839960"/>
              <a:chExt cx="2822400" cy="1600200"/>
            </a:xfrm>
          </p:grpSpPr>
          <p:sp>
            <p:nvSpPr>
              <p:cNvPr id="1031" name="Rounded Rectangle 21"/>
              <p:cNvSpPr/>
              <p:nvPr/>
            </p:nvSpPr>
            <p:spPr>
              <a:xfrm>
                <a:off x="627120" y="1839960"/>
                <a:ext cx="604440" cy="604080"/>
              </a:xfrm>
              <a:prstGeom prst="roundRect">
                <a:avLst>
                  <a:gd name="adj" fmla="val 50000"/>
                </a:avLst>
              </a:prstGeom>
              <a:solidFill>
                <a:srgbClr val="26a6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32" name="TextBox 22"/>
              <p:cNvSpPr/>
              <p:nvPr/>
            </p:nvSpPr>
            <p:spPr>
              <a:xfrm>
                <a:off x="1376640" y="2017440"/>
                <a:ext cx="17679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Analysis 01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33" name="Text Placeholder 32"/>
              <p:cNvSpPr/>
              <p:nvPr/>
            </p:nvSpPr>
            <p:spPr>
              <a:xfrm>
                <a:off x="627120" y="2648880"/>
                <a:ext cx="2822400" cy="79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100" spc="-1" strike="noStrike">
                    <a:solidFill>
                      <a:srgbClr val="26a69a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1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  <a:ea typeface="Roboto Light"/>
                  </a:rPr>
                  <a:t>Hashtag fashion axe fingerstache, everyday carry shoreditch pinterest umami authentic brooklyn YOLO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1034" name="Shape 2540"/>
            <p:cNvSpPr/>
            <p:nvPr/>
          </p:nvSpPr>
          <p:spPr>
            <a:xfrm>
              <a:off x="789480" y="202788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32" y="6661"/>
                  </a:moveTo>
                  <a:cubicBezTo>
                    <a:pt x="20540" y="6471"/>
                    <a:pt x="20228" y="6473"/>
                    <a:pt x="20038" y="6667"/>
                  </a:cubicBezTo>
                  <a:cubicBezTo>
                    <a:pt x="19903" y="6804"/>
                    <a:pt x="19870" y="7000"/>
                    <a:pt x="19929" y="7171"/>
                  </a:cubicBezTo>
                  <a:lnTo>
                    <a:pt x="19918" y="7175"/>
                  </a:lnTo>
                  <a:cubicBezTo>
                    <a:pt x="20365" y="8298"/>
                    <a:pt x="20618" y="951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7"/>
                    <a:pt x="5378" y="982"/>
                    <a:pt x="10800" y="982"/>
                  </a:cubicBezTo>
                  <a:cubicBezTo>
                    <a:pt x="13575" y="982"/>
                    <a:pt x="16077" y="2136"/>
                    <a:pt x="17862" y="3989"/>
                  </a:cubicBezTo>
                  <a:lnTo>
                    <a:pt x="17868" y="3982"/>
                  </a:lnTo>
                  <a:cubicBezTo>
                    <a:pt x="18062" y="4157"/>
                    <a:pt x="18359" y="4153"/>
                    <a:pt x="18544" y="3965"/>
                  </a:cubicBezTo>
                  <a:cubicBezTo>
                    <a:pt x="18734" y="3771"/>
                    <a:pt x="18732" y="3461"/>
                    <a:pt x="18539" y="3270"/>
                  </a:cubicBezTo>
                  <a:cubicBezTo>
                    <a:pt x="18520" y="3252"/>
                    <a:pt x="18496" y="3244"/>
                    <a:pt x="18476" y="3230"/>
                  </a:cubicBezTo>
                  <a:cubicBezTo>
                    <a:pt x="16521" y="1241"/>
                    <a:pt x="13810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9412"/>
                    <a:pt x="21329" y="8089"/>
                    <a:pt x="20851" y="6869"/>
                  </a:cubicBezTo>
                  <a:cubicBezTo>
                    <a:pt x="20828" y="6794"/>
                    <a:pt x="20793" y="6721"/>
                    <a:pt x="20732" y="6661"/>
                  </a:cubicBezTo>
                  <a:moveTo>
                    <a:pt x="10792" y="13534"/>
                  </a:moveTo>
                  <a:lnTo>
                    <a:pt x="6238" y="8980"/>
                  </a:lnTo>
                  <a:cubicBezTo>
                    <a:pt x="6149" y="8891"/>
                    <a:pt x="6027" y="8836"/>
                    <a:pt x="5891" y="8836"/>
                  </a:cubicBezTo>
                  <a:cubicBezTo>
                    <a:pt x="5620" y="8836"/>
                    <a:pt x="5400" y="9056"/>
                    <a:pt x="5400" y="9327"/>
                  </a:cubicBezTo>
                  <a:cubicBezTo>
                    <a:pt x="5400" y="9463"/>
                    <a:pt x="5455" y="9585"/>
                    <a:pt x="5544" y="9675"/>
                  </a:cubicBezTo>
                  <a:lnTo>
                    <a:pt x="10453" y="14583"/>
                  </a:lnTo>
                  <a:cubicBezTo>
                    <a:pt x="10542" y="14672"/>
                    <a:pt x="10664" y="14727"/>
                    <a:pt x="10800" y="14727"/>
                  </a:cubicBezTo>
                  <a:cubicBezTo>
                    <a:pt x="10940" y="14727"/>
                    <a:pt x="11064" y="14668"/>
                    <a:pt x="11154" y="14574"/>
                  </a:cubicBezTo>
                  <a:lnTo>
                    <a:pt x="11155" y="14576"/>
                  </a:lnTo>
                  <a:lnTo>
                    <a:pt x="19353" y="5988"/>
                  </a:lnTo>
                  <a:cubicBezTo>
                    <a:pt x="19353" y="5989"/>
                    <a:pt x="19354" y="5990"/>
                    <a:pt x="19354" y="5991"/>
                  </a:cubicBezTo>
                  <a:lnTo>
                    <a:pt x="20055" y="5255"/>
                  </a:lnTo>
                  <a:cubicBezTo>
                    <a:pt x="20055" y="5255"/>
                    <a:pt x="20054" y="5254"/>
                    <a:pt x="20054" y="5253"/>
                  </a:cubicBezTo>
                  <a:lnTo>
                    <a:pt x="21464" y="3775"/>
                  </a:lnTo>
                  <a:lnTo>
                    <a:pt x="21463" y="3774"/>
                  </a:lnTo>
                  <a:cubicBezTo>
                    <a:pt x="21547" y="3686"/>
                    <a:pt x="21600" y="3567"/>
                    <a:pt x="21600" y="3436"/>
                  </a:cubicBezTo>
                  <a:cubicBezTo>
                    <a:pt x="21600" y="3166"/>
                    <a:pt x="21380" y="2945"/>
                    <a:pt x="21109" y="2945"/>
                  </a:cubicBezTo>
                  <a:cubicBezTo>
                    <a:pt x="20969" y="2945"/>
                    <a:pt x="20844" y="3005"/>
                    <a:pt x="20755" y="3099"/>
                  </a:cubicBezTo>
                  <a:lnTo>
                    <a:pt x="20754" y="3097"/>
                  </a:lnTo>
                  <a:lnTo>
                    <a:pt x="19493" y="4419"/>
                  </a:lnTo>
                  <a:cubicBezTo>
                    <a:pt x="19492" y="4418"/>
                    <a:pt x="19491" y="4416"/>
                    <a:pt x="19490" y="4415"/>
                  </a:cubicBezTo>
                  <a:lnTo>
                    <a:pt x="18805" y="5133"/>
                  </a:lnTo>
                  <a:cubicBezTo>
                    <a:pt x="18806" y="5134"/>
                    <a:pt x="18807" y="5136"/>
                    <a:pt x="18807" y="5137"/>
                  </a:cubicBezTo>
                  <a:cubicBezTo>
                    <a:pt x="18807" y="5137"/>
                    <a:pt x="10792" y="13534"/>
                    <a:pt x="10792" y="135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35" name="Group 24"/>
          <p:cNvGrpSpPr/>
          <p:nvPr/>
        </p:nvGrpSpPr>
        <p:grpSpPr>
          <a:xfrm>
            <a:off x="3848040" y="1812960"/>
            <a:ext cx="2833920" cy="1601640"/>
            <a:chOff x="3848040" y="1812960"/>
            <a:chExt cx="2833920" cy="1601640"/>
          </a:xfrm>
        </p:grpSpPr>
        <p:grpSp>
          <p:nvGrpSpPr>
            <p:cNvPr id="1036" name="Group 25"/>
            <p:cNvGrpSpPr/>
            <p:nvPr/>
          </p:nvGrpSpPr>
          <p:grpSpPr>
            <a:xfrm>
              <a:off x="3848040" y="1812960"/>
              <a:ext cx="2833920" cy="1601640"/>
              <a:chOff x="3848040" y="1812960"/>
              <a:chExt cx="2833920" cy="1601640"/>
            </a:xfrm>
          </p:grpSpPr>
          <p:sp>
            <p:nvSpPr>
              <p:cNvPr id="1037" name="Rounded Rectangle 27"/>
              <p:cNvSpPr/>
              <p:nvPr/>
            </p:nvSpPr>
            <p:spPr>
              <a:xfrm>
                <a:off x="3848040" y="1812960"/>
                <a:ext cx="604800" cy="604800"/>
              </a:xfrm>
              <a:prstGeom prst="roundRect">
                <a:avLst>
                  <a:gd name="adj" fmla="val 50000"/>
                </a:avLst>
              </a:prstGeom>
              <a:solidFill>
                <a:srgbClr val="26a6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38" name="TextBox 28"/>
              <p:cNvSpPr/>
              <p:nvPr/>
            </p:nvSpPr>
            <p:spPr>
              <a:xfrm>
                <a:off x="4597920" y="1990800"/>
                <a:ext cx="176904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Analysis 02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39" name="Text Placeholder 32"/>
              <p:cNvSpPr/>
              <p:nvPr/>
            </p:nvSpPr>
            <p:spPr>
              <a:xfrm>
                <a:off x="3848040" y="2622600"/>
                <a:ext cx="283392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100" spc="-1" strike="noStrike">
                    <a:solidFill>
                      <a:srgbClr val="26a69a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1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  <a:ea typeface="Roboto Light"/>
                  </a:rPr>
                  <a:t>Hashtag fashion axe fingerstache, everyday carry shoreditch pinterest umami authentic brooklyn YOLO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1040" name="Shape 2540"/>
            <p:cNvSpPr/>
            <p:nvPr/>
          </p:nvSpPr>
          <p:spPr>
            <a:xfrm>
              <a:off x="4010760" y="19893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32" y="6661"/>
                  </a:moveTo>
                  <a:cubicBezTo>
                    <a:pt x="20540" y="6471"/>
                    <a:pt x="20228" y="6473"/>
                    <a:pt x="20038" y="6667"/>
                  </a:cubicBezTo>
                  <a:cubicBezTo>
                    <a:pt x="19903" y="6804"/>
                    <a:pt x="19870" y="7000"/>
                    <a:pt x="19929" y="7171"/>
                  </a:cubicBezTo>
                  <a:lnTo>
                    <a:pt x="19918" y="7175"/>
                  </a:lnTo>
                  <a:cubicBezTo>
                    <a:pt x="20365" y="8298"/>
                    <a:pt x="20618" y="951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7"/>
                    <a:pt x="5378" y="982"/>
                    <a:pt x="10800" y="982"/>
                  </a:cubicBezTo>
                  <a:cubicBezTo>
                    <a:pt x="13575" y="982"/>
                    <a:pt x="16077" y="2136"/>
                    <a:pt x="17862" y="3989"/>
                  </a:cubicBezTo>
                  <a:lnTo>
                    <a:pt x="17868" y="3982"/>
                  </a:lnTo>
                  <a:cubicBezTo>
                    <a:pt x="18062" y="4157"/>
                    <a:pt x="18359" y="4153"/>
                    <a:pt x="18544" y="3965"/>
                  </a:cubicBezTo>
                  <a:cubicBezTo>
                    <a:pt x="18734" y="3771"/>
                    <a:pt x="18732" y="3461"/>
                    <a:pt x="18539" y="3270"/>
                  </a:cubicBezTo>
                  <a:cubicBezTo>
                    <a:pt x="18520" y="3252"/>
                    <a:pt x="18496" y="3244"/>
                    <a:pt x="18476" y="3230"/>
                  </a:cubicBezTo>
                  <a:cubicBezTo>
                    <a:pt x="16521" y="1241"/>
                    <a:pt x="13810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9412"/>
                    <a:pt x="21329" y="8089"/>
                    <a:pt x="20851" y="6869"/>
                  </a:cubicBezTo>
                  <a:cubicBezTo>
                    <a:pt x="20828" y="6794"/>
                    <a:pt x="20793" y="6721"/>
                    <a:pt x="20732" y="6661"/>
                  </a:cubicBezTo>
                  <a:moveTo>
                    <a:pt x="10792" y="13534"/>
                  </a:moveTo>
                  <a:lnTo>
                    <a:pt x="6238" y="8980"/>
                  </a:lnTo>
                  <a:cubicBezTo>
                    <a:pt x="6149" y="8891"/>
                    <a:pt x="6027" y="8836"/>
                    <a:pt x="5891" y="8836"/>
                  </a:cubicBezTo>
                  <a:cubicBezTo>
                    <a:pt x="5620" y="8836"/>
                    <a:pt x="5400" y="9056"/>
                    <a:pt x="5400" y="9327"/>
                  </a:cubicBezTo>
                  <a:cubicBezTo>
                    <a:pt x="5400" y="9463"/>
                    <a:pt x="5455" y="9585"/>
                    <a:pt x="5544" y="9675"/>
                  </a:cubicBezTo>
                  <a:lnTo>
                    <a:pt x="10453" y="14583"/>
                  </a:lnTo>
                  <a:cubicBezTo>
                    <a:pt x="10542" y="14672"/>
                    <a:pt x="10664" y="14727"/>
                    <a:pt x="10800" y="14727"/>
                  </a:cubicBezTo>
                  <a:cubicBezTo>
                    <a:pt x="10940" y="14727"/>
                    <a:pt x="11064" y="14668"/>
                    <a:pt x="11154" y="14574"/>
                  </a:cubicBezTo>
                  <a:lnTo>
                    <a:pt x="11155" y="14576"/>
                  </a:lnTo>
                  <a:lnTo>
                    <a:pt x="19353" y="5988"/>
                  </a:lnTo>
                  <a:cubicBezTo>
                    <a:pt x="19353" y="5989"/>
                    <a:pt x="19354" y="5990"/>
                    <a:pt x="19354" y="5991"/>
                  </a:cubicBezTo>
                  <a:lnTo>
                    <a:pt x="20055" y="5255"/>
                  </a:lnTo>
                  <a:cubicBezTo>
                    <a:pt x="20055" y="5255"/>
                    <a:pt x="20054" y="5254"/>
                    <a:pt x="20054" y="5253"/>
                  </a:cubicBezTo>
                  <a:lnTo>
                    <a:pt x="21464" y="3775"/>
                  </a:lnTo>
                  <a:lnTo>
                    <a:pt x="21463" y="3774"/>
                  </a:lnTo>
                  <a:cubicBezTo>
                    <a:pt x="21547" y="3686"/>
                    <a:pt x="21600" y="3567"/>
                    <a:pt x="21600" y="3436"/>
                  </a:cubicBezTo>
                  <a:cubicBezTo>
                    <a:pt x="21600" y="3166"/>
                    <a:pt x="21380" y="2945"/>
                    <a:pt x="21109" y="2945"/>
                  </a:cubicBezTo>
                  <a:cubicBezTo>
                    <a:pt x="20969" y="2945"/>
                    <a:pt x="20844" y="3005"/>
                    <a:pt x="20755" y="3099"/>
                  </a:cubicBezTo>
                  <a:lnTo>
                    <a:pt x="20754" y="3097"/>
                  </a:lnTo>
                  <a:lnTo>
                    <a:pt x="19493" y="4419"/>
                  </a:lnTo>
                  <a:cubicBezTo>
                    <a:pt x="19492" y="4418"/>
                    <a:pt x="19491" y="4416"/>
                    <a:pt x="19490" y="4415"/>
                  </a:cubicBezTo>
                  <a:lnTo>
                    <a:pt x="18805" y="5133"/>
                  </a:lnTo>
                  <a:cubicBezTo>
                    <a:pt x="18806" y="5134"/>
                    <a:pt x="18807" y="5136"/>
                    <a:pt x="18807" y="5137"/>
                  </a:cubicBezTo>
                  <a:cubicBezTo>
                    <a:pt x="18807" y="5137"/>
                    <a:pt x="10792" y="13534"/>
                    <a:pt x="10792" y="135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41" name="Group 30"/>
          <p:cNvGrpSpPr/>
          <p:nvPr/>
        </p:nvGrpSpPr>
        <p:grpSpPr>
          <a:xfrm>
            <a:off x="627120" y="3940200"/>
            <a:ext cx="2822400" cy="1601640"/>
            <a:chOff x="627120" y="3940200"/>
            <a:chExt cx="2822400" cy="1601640"/>
          </a:xfrm>
        </p:grpSpPr>
        <p:grpSp>
          <p:nvGrpSpPr>
            <p:cNvPr id="1042" name="Group 31"/>
            <p:cNvGrpSpPr/>
            <p:nvPr/>
          </p:nvGrpSpPr>
          <p:grpSpPr>
            <a:xfrm>
              <a:off x="627120" y="3940200"/>
              <a:ext cx="2822400" cy="1601640"/>
              <a:chOff x="627120" y="3940200"/>
              <a:chExt cx="2822400" cy="1601640"/>
            </a:xfrm>
          </p:grpSpPr>
          <p:sp>
            <p:nvSpPr>
              <p:cNvPr id="1043" name="Rounded Rectangle 33"/>
              <p:cNvSpPr/>
              <p:nvPr/>
            </p:nvSpPr>
            <p:spPr>
              <a:xfrm>
                <a:off x="627120" y="3940200"/>
                <a:ext cx="604440" cy="604800"/>
              </a:xfrm>
              <a:custGeom>
                <a:avLst/>
                <a:gdLst>
                  <a:gd name="textAreaLeft" fmla="*/ 88560 w 604440"/>
                  <a:gd name="textAreaRight" fmla="*/ 515880 w 604440"/>
                  <a:gd name="textAreaTop" fmla="*/ 88560 h 604800"/>
                  <a:gd name="textAreaBottom" fmla="*/ 516240 h 60480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10800" y="0"/>
                    </a:moveTo>
                    <a:arcTo wR="10800" hR="10800" stAng="16200000" swAng="-5400000"/>
                    <a:lnTo>
                      <a:pt x="0" y="10813"/>
                    </a:lnTo>
                    <a:arcTo wR="10800" hR="10800" stAng="10800000" swAng="-5400000"/>
                    <a:lnTo>
                      <a:pt x="10800" y="2161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26a6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44" name="TextBox 34"/>
              <p:cNvSpPr/>
              <p:nvPr/>
            </p:nvSpPr>
            <p:spPr>
              <a:xfrm>
                <a:off x="1376640" y="4118040"/>
                <a:ext cx="17679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Analysis 03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45" name="Text Placeholder 32"/>
              <p:cNvSpPr/>
              <p:nvPr/>
            </p:nvSpPr>
            <p:spPr>
              <a:xfrm>
                <a:off x="627120" y="4749840"/>
                <a:ext cx="282240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100" spc="-1" strike="noStrike">
                    <a:solidFill>
                      <a:srgbClr val="26a69a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1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  <a:ea typeface="Roboto Light"/>
                  </a:rPr>
                  <a:t>Hashtag fashion axe fingerstache, everyday carry shoreditch pinterest umami authentic brooklyn YOLO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1046" name="Shape 2540"/>
            <p:cNvSpPr/>
            <p:nvPr/>
          </p:nvSpPr>
          <p:spPr>
            <a:xfrm>
              <a:off x="784440" y="4116600"/>
              <a:ext cx="27900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32" y="6661"/>
                  </a:moveTo>
                  <a:cubicBezTo>
                    <a:pt x="20540" y="6471"/>
                    <a:pt x="20228" y="6473"/>
                    <a:pt x="20038" y="6667"/>
                  </a:cubicBezTo>
                  <a:cubicBezTo>
                    <a:pt x="19903" y="6804"/>
                    <a:pt x="19870" y="7000"/>
                    <a:pt x="19929" y="7171"/>
                  </a:cubicBezTo>
                  <a:lnTo>
                    <a:pt x="19918" y="7175"/>
                  </a:lnTo>
                  <a:cubicBezTo>
                    <a:pt x="20365" y="8298"/>
                    <a:pt x="20618" y="951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7"/>
                    <a:pt x="5378" y="982"/>
                    <a:pt x="10800" y="982"/>
                  </a:cubicBezTo>
                  <a:cubicBezTo>
                    <a:pt x="13575" y="982"/>
                    <a:pt x="16077" y="2136"/>
                    <a:pt x="17862" y="3989"/>
                  </a:cubicBezTo>
                  <a:lnTo>
                    <a:pt x="17868" y="3982"/>
                  </a:lnTo>
                  <a:cubicBezTo>
                    <a:pt x="18062" y="4157"/>
                    <a:pt x="18359" y="4153"/>
                    <a:pt x="18544" y="3965"/>
                  </a:cubicBezTo>
                  <a:cubicBezTo>
                    <a:pt x="18734" y="3771"/>
                    <a:pt x="18732" y="3461"/>
                    <a:pt x="18539" y="3270"/>
                  </a:cubicBezTo>
                  <a:cubicBezTo>
                    <a:pt x="18520" y="3252"/>
                    <a:pt x="18496" y="3244"/>
                    <a:pt x="18476" y="3230"/>
                  </a:cubicBezTo>
                  <a:cubicBezTo>
                    <a:pt x="16521" y="1241"/>
                    <a:pt x="13810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9412"/>
                    <a:pt x="21329" y="8089"/>
                    <a:pt x="20851" y="6869"/>
                  </a:cubicBezTo>
                  <a:cubicBezTo>
                    <a:pt x="20828" y="6794"/>
                    <a:pt x="20793" y="6721"/>
                    <a:pt x="20732" y="6661"/>
                  </a:cubicBezTo>
                  <a:moveTo>
                    <a:pt x="10792" y="13534"/>
                  </a:moveTo>
                  <a:lnTo>
                    <a:pt x="6238" y="8980"/>
                  </a:lnTo>
                  <a:cubicBezTo>
                    <a:pt x="6149" y="8891"/>
                    <a:pt x="6027" y="8836"/>
                    <a:pt x="5891" y="8836"/>
                  </a:cubicBezTo>
                  <a:cubicBezTo>
                    <a:pt x="5620" y="8836"/>
                    <a:pt x="5400" y="9056"/>
                    <a:pt x="5400" y="9327"/>
                  </a:cubicBezTo>
                  <a:cubicBezTo>
                    <a:pt x="5400" y="9463"/>
                    <a:pt x="5455" y="9585"/>
                    <a:pt x="5544" y="9675"/>
                  </a:cubicBezTo>
                  <a:lnTo>
                    <a:pt x="10453" y="14583"/>
                  </a:lnTo>
                  <a:cubicBezTo>
                    <a:pt x="10542" y="14672"/>
                    <a:pt x="10664" y="14727"/>
                    <a:pt x="10800" y="14727"/>
                  </a:cubicBezTo>
                  <a:cubicBezTo>
                    <a:pt x="10940" y="14727"/>
                    <a:pt x="11064" y="14668"/>
                    <a:pt x="11154" y="14574"/>
                  </a:cubicBezTo>
                  <a:lnTo>
                    <a:pt x="11155" y="14576"/>
                  </a:lnTo>
                  <a:lnTo>
                    <a:pt x="19353" y="5988"/>
                  </a:lnTo>
                  <a:cubicBezTo>
                    <a:pt x="19353" y="5989"/>
                    <a:pt x="19354" y="5990"/>
                    <a:pt x="19354" y="5991"/>
                  </a:cubicBezTo>
                  <a:lnTo>
                    <a:pt x="20055" y="5255"/>
                  </a:lnTo>
                  <a:cubicBezTo>
                    <a:pt x="20055" y="5255"/>
                    <a:pt x="20054" y="5254"/>
                    <a:pt x="20054" y="5253"/>
                  </a:cubicBezTo>
                  <a:lnTo>
                    <a:pt x="21464" y="3775"/>
                  </a:lnTo>
                  <a:lnTo>
                    <a:pt x="21463" y="3774"/>
                  </a:lnTo>
                  <a:cubicBezTo>
                    <a:pt x="21547" y="3686"/>
                    <a:pt x="21600" y="3567"/>
                    <a:pt x="21600" y="3436"/>
                  </a:cubicBezTo>
                  <a:cubicBezTo>
                    <a:pt x="21600" y="3166"/>
                    <a:pt x="21380" y="2945"/>
                    <a:pt x="21109" y="2945"/>
                  </a:cubicBezTo>
                  <a:cubicBezTo>
                    <a:pt x="20969" y="2945"/>
                    <a:pt x="20844" y="3005"/>
                    <a:pt x="20755" y="3099"/>
                  </a:cubicBezTo>
                  <a:lnTo>
                    <a:pt x="20754" y="3097"/>
                  </a:lnTo>
                  <a:lnTo>
                    <a:pt x="19493" y="4419"/>
                  </a:lnTo>
                  <a:cubicBezTo>
                    <a:pt x="19492" y="4418"/>
                    <a:pt x="19491" y="4416"/>
                    <a:pt x="19490" y="4415"/>
                  </a:cubicBezTo>
                  <a:lnTo>
                    <a:pt x="18805" y="5133"/>
                  </a:lnTo>
                  <a:cubicBezTo>
                    <a:pt x="18806" y="5134"/>
                    <a:pt x="18807" y="5136"/>
                    <a:pt x="18807" y="5137"/>
                  </a:cubicBezTo>
                  <a:cubicBezTo>
                    <a:pt x="18807" y="5137"/>
                    <a:pt x="10792" y="13534"/>
                    <a:pt x="10792" y="135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47" name="Group 36"/>
          <p:cNvGrpSpPr/>
          <p:nvPr/>
        </p:nvGrpSpPr>
        <p:grpSpPr>
          <a:xfrm>
            <a:off x="3848040" y="3940200"/>
            <a:ext cx="2833920" cy="1601640"/>
            <a:chOff x="3848040" y="3940200"/>
            <a:chExt cx="2833920" cy="1601640"/>
          </a:xfrm>
        </p:grpSpPr>
        <p:grpSp>
          <p:nvGrpSpPr>
            <p:cNvPr id="1048" name="Group 37"/>
            <p:cNvGrpSpPr/>
            <p:nvPr/>
          </p:nvGrpSpPr>
          <p:grpSpPr>
            <a:xfrm>
              <a:off x="3848040" y="3940200"/>
              <a:ext cx="2833920" cy="1601640"/>
              <a:chOff x="3848040" y="3940200"/>
              <a:chExt cx="2833920" cy="1601640"/>
            </a:xfrm>
          </p:grpSpPr>
          <p:sp>
            <p:nvSpPr>
              <p:cNvPr id="1049" name="Rounded Rectangle 39"/>
              <p:cNvSpPr/>
              <p:nvPr/>
            </p:nvSpPr>
            <p:spPr>
              <a:xfrm>
                <a:off x="3848040" y="3940200"/>
                <a:ext cx="604800" cy="604800"/>
              </a:xfrm>
              <a:prstGeom prst="roundRect">
                <a:avLst>
                  <a:gd name="adj" fmla="val 50000"/>
                </a:avLst>
              </a:prstGeom>
              <a:solidFill>
                <a:srgbClr val="26a6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50" name="TextBox 40"/>
              <p:cNvSpPr/>
              <p:nvPr/>
            </p:nvSpPr>
            <p:spPr>
              <a:xfrm>
                <a:off x="4597920" y="4118040"/>
                <a:ext cx="176904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Analysis 04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051" name="Text Placeholder 32"/>
              <p:cNvSpPr/>
              <p:nvPr/>
            </p:nvSpPr>
            <p:spPr>
              <a:xfrm>
                <a:off x="3848040" y="4749840"/>
                <a:ext cx="283392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100" spc="-1" strike="noStrike">
                    <a:solidFill>
                      <a:srgbClr val="26a69a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1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  <a:ea typeface="Roboto Light"/>
                  </a:rPr>
                  <a:t>Hashtag fashion axe fingerstache, everyday carry shoreditch pinterest umami authentic brooklyn YOLO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1052" name="Shape 2540"/>
            <p:cNvSpPr/>
            <p:nvPr/>
          </p:nvSpPr>
          <p:spPr>
            <a:xfrm>
              <a:off x="4007880" y="410580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32" y="6661"/>
                  </a:moveTo>
                  <a:cubicBezTo>
                    <a:pt x="20540" y="6471"/>
                    <a:pt x="20228" y="6473"/>
                    <a:pt x="20038" y="6667"/>
                  </a:cubicBezTo>
                  <a:cubicBezTo>
                    <a:pt x="19903" y="6804"/>
                    <a:pt x="19870" y="7000"/>
                    <a:pt x="19929" y="7171"/>
                  </a:cubicBezTo>
                  <a:lnTo>
                    <a:pt x="19918" y="7175"/>
                  </a:lnTo>
                  <a:cubicBezTo>
                    <a:pt x="20365" y="8298"/>
                    <a:pt x="20618" y="951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7"/>
                    <a:pt x="5378" y="982"/>
                    <a:pt x="10800" y="982"/>
                  </a:cubicBezTo>
                  <a:cubicBezTo>
                    <a:pt x="13575" y="982"/>
                    <a:pt x="16077" y="2136"/>
                    <a:pt x="17862" y="3989"/>
                  </a:cubicBezTo>
                  <a:lnTo>
                    <a:pt x="17868" y="3982"/>
                  </a:lnTo>
                  <a:cubicBezTo>
                    <a:pt x="18062" y="4157"/>
                    <a:pt x="18359" y="4153"/>
                    <a:pt x="18544" y="3965"/>
                  </a:cubicBezTo>
                  <a:cubicBezTo>
                    <a:pt x="18734" y="3771"/>
                    <a:pt x="18732" y="3461"/>
                    <a:pt x="18539" y="3270"/>
                  </a:cubicBezTo>
                  <a:cubicBezTo>
                    <a:pt x="18520" y="3252"/>
                    <a:pt x="18496" y="3244"/>
                    <a:pt x="18476" y="3230"/>
                  </a:cubicBezTo>
                  <a:cubicBezTo>
                    <a:pt x="16521" y="1241"/>
                    <a:pt x="13810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9412"/>
                    <a:pt x="21329" y="8089"/>
                    <a:pt x="20851" y="6869"/>
                  </a:cubicBezTo>
                  <a:cubicBezTo>
                    <a:pt x="20828" y="6794"/>
                    <a:pt x="20793" y="6721"/>
                    <a:pt x="20732" y="6661"/>
                  </a:cubicBezTo>
                  <a:moveTo>
                    <a:pt x="10792" y="13534"/>
                  </a:moveTo>
                  <a:lnTo>
                    <a:pt x="6238" y="8980"/>
                  </a:lnTo>
                  <a:cubicBezTo>
                    <a:pt x="6149" y="8891"/>
                    <a:pt x="6027" y="8836"/>
                    <a:pt x="5891" y="8836"/>
                  </a:cubicBezTo>
                  <a:cubicBezTo>
                    <a:pt x="5620" y="8836"/>
                    <a:pt x="5400" y="9056"/>
                    <a:pt x="5400" y="9327"/>
                  </a:cubicBezTo>
                  <a:cubicBezTo>
                    <a:pt x="5400" y="9463"/>
                    <a:pt x="5455" y="9585"/>
                    <a:pt x="5544" y="9675"/>
                  </a:cubicBezTo>
                  <a:lnTo>
                    <a:pt x="10453" y="14583"/>
                  </a:lnTo>
                  <a:cubicBezTo>
                    <a:pt x="10542" y="14672"/>
                    <a:pt x="10664" y="14727"/>
                    <a:pt x="10800" y="14727"/>
                  </a:cubicBezTo>
                  <a:cubicBezTo>
                    <a:pt x="10940" y="14727"/>
                    <a:pt x="11064" y="14668"/>
                    <a:pt x="11154" y="14574"/>
                  </a:cubicBezTo>
                  <a:lnTo>
                    <a:pt x="11155" y="14576"/>
                  </a:lnTo>
                  <a:lnTo>
                    <a:pt x="19353" y="5988"/>
                  </a:lnTo>
                  <a:cubicBezTo>
                    <a:pt x="19353" y="5989"/>
                    <a:pt x="19354" y="5990"/>
                    <a:pt x="19354" y="5991"/>
                  </a:cubicBezTo>
                  <a:lnTo>
                    <a:pt x="20055" y="5255"/>
                  </a:lnTo>
                  <a:cubicBezTo>
                    <a:pt x="20055" y="5255"/>
                    <a:pt x="20054" y="5254"/>
                    <a:pt x="20054" y="5253"/>
                  </a:cubicBezTo>
                  <a:lnTo>
                    <a:pt x="21464" y="3775"/>
                  </a:lnTo>
                  <a:lnTo>
                    <a:pt x="21463" y="3774"/>
                  </a:lnTo>
                  <a:cubicBezTo>
                    <a:pt x="21547" y="3686"/>
                    <a:pt x="21600" y="3567"/>
                    <a:pt x="21600" y="3436"/>
                  </a:cubicBezTo>
                  <a:cubicBezTo>
                    <a:pt x="21600" y="3166"/>
                    <a:pt x="21380" y="2945"/>
                    <a:pt x="21109" y="2945"/>
                  </a:cubicBezTo>
                  <a:cubicBezTo>
                    <a:pt x="20969" y="2945"/>
                    <a:pt x="20844" y="3005"/>
                    <a:pt x="20755" y="3099"/>
                  </a:cubicBezTo>
                  <a:lnTo>
                    <a:pt x="20754" y="3097"/>
                  </a:lnTo>
                  <a:lnTo>
                    <a:pt x="19493" y="4419"/>
                  </a:lnTo>
                  <a:cubicBezTo>
                    <a:pt x="19492" y="4418"/>
                    <a:pt x="19491" y="4416"/>
                    <a:pt x="19490" y="4415"/>
                  </a:cubicBezTo>
                  <a:lnTo>
                    <a:pt x="18805" y="5133"/>
                  </a:lnTo>
                  <a:cubicBezTo>
                    <a:pt x="18806" y="5134"/>
                    <a:pt x="18807" y="5136"/>
                    <a:pt x="18807" y="5137"/>
                  </a:cubicBezTo>
                  <a:cubicBezTo>
                    <a:pt x="18807" y="5137"/>
                    <a:pt x="10792" y="13534"/>
                    <a:pt x="10792" y="135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600"/>
                            </p:stCondLst>
                            <p:childTnLst>
                              <p:par>
                                <p:cTn id="5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100"/>
                            </p:stCondLst>
                            <p:childTnLst>
                              <p:par>
                                <p:cTn id="5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600"/>
                            </p:stCondLst>
                            <p:childTnLst>
                              <p:par>
                                <p:cTn id="5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100"/>
                            </p:stCondLst>
                            <p:childTnLst>
                              <p:par>
                                <p:cTn id="5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TextBox 1"/>
          <p:cNvSpPr/>
          <p:nvPr/>
        </p:nvSpPr>
        <p:spPr>
          <a:xfrm>
            <a:off x="2935080" y="538200"/>
            <a:ext cx="633780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Creative Visual Infographic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54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26a69a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055" name="Group 3" descr=""/>
          <p:cNvPicPr/>
          <p:nvPr/>
        </p:nvPicPr>
        <p:blipFill>
          <a:blip r:embed="rId1"/>
          <a:stretch/>
        </p:blipFill>
        <p:spPr>
          <a:xfrm>
            <a:off x="3919680" y="1944720"/>
            <a:ext cx="4365360" cy="3919680"/>
          </a:xfrm>
          <a:prstGeom prst="rect">
            <a:avLst/>
          </a:prstGeom>
          <a:ln w="0">
            <a:noFill/>
          </a:ln>
        </p:spPr>
      </p:pic>
      <p:grpSp>
        <p:nvGrpSpPr>
          <p:cNvPr id="1056" name="Group 33"/>
          <p:cNvGrpSpPr/>
          <p:nvPr/>
        </p:nvGrpSpPr>
        <p:grpSpPr>
          <a:xfrm>
            <a:off x="1195560" y="2281320"/>
            <a:ext cx="2609640" cy="839880"/>
            <a:chOff x="1195560" y="2281320"/>
            <a:chExt cx="2609640" cy="839880"/>
          </a:xfrm>
        </p:grpSpPr>
        <p:sp>
          <p:nvSpPr>
            <p:cNvPr id="1057" name="Text Placeholder 32"/>
            <p:cNvSpPr/>
            <p:nvPr/>
          </p:nvSpPr>
          <p:spPr>
            <a:xfrm flipH="1">
              <a:off x="1195560" y="2561400"/>
              <a:ext cx="172656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58" name="Text Placeholder 33"/>
            <p:cNvSpPr/>
            <p:nvPr/>
          </p:nvSpPr>
          <p:spPr>
            <a:xfrm flipH="1">
              <a:off x="1197360" y="2281320"/>
              <a:ext cx="173880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Chat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59" name="Freeform 36"/>
            <p:cNvSpPr/>
            <p:nvPr/>
          </p:nvSpPr>
          <p:spPr>
            <a:xfrm flipV="1">
              <a:off x="3148920" y="2281320"/>
              <a:ext cx="656280" cy="60480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4fb2a7"/>
                </a:gs>
                <a:gs pos="100000">
                  <a:srgbClr val="159e91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60" name="Shape 2837"/>
            <p:cNvSpPr/>
            <p:nvPr/>
          </p:nvSpPr>
          <p:spPr>
            <a:xfrm>
              <a:off x="3310200" y="2466000"/>
              <a:ext cx="279360" cy="215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691" y="18667"/>
                  </a:moveTo>
                  <a:lnTo>
                    <a:pt x="12576" y="13341"/>
                  </a:lnTo>
                  <a:lnTo>
                    <a:pt x="16691" y="8016"/>
                  </a:lnTo>
                  <a:cubicBezTo>
                    <a:pt x="16691" y="8016"/>
                    <a:pt x="16691" y="18667"/>
                    <a:pt x="16691" y="18667"/>
                  </a:cubicBezTo>
                  <a:close/>
                  <a:moveTo>
                    <a:pt x="15709" y="20329"/>
                  </a:moveTo>
                  <a:lnTo>
                    <a:pt x="1964" y="20329"/>
                  </a:lnTo>
                  <a:cubicBezTo>
                    <a:pt x="1719" y="20329"/>
                    <a:pt x="1498" y="20210"/>
                    <a:pt x="1326" y="20018"/>
                  </a:cubicBezTo>
                  <a:lnTo>
                    <a:pt x="5791" y="14240"/>
                  </a:lnTo>
                  <a:lnTo>
                    <a:pt x="7477" y="16421"/>
                  </a:lnTo>
                  <a:cubicBezTo>
                    <a:pt x="7853" y="16907"/>
                    <a:pt x="8344" y="17150"/>
                    <a:pt x="8836" y="17150"/>
                  </a:cubicBezTo>
                  <a:cubicBezTo>
                    <a:pt x="9329" y="17150"/>
                    <a:pt x="9821" y="16907"/>
                    <a:pt x="10195" y="16421"/>
                  </a:cubicBezTo>
                  <a:lnTo>
                    <a:pt x="11882" y="14240"/>
                  </a:lnTo>
                  <a:lnTo>
                    <a:pt x="16347" y="20018"/>
                  </a:lnTo>
                  <a:cubicBezTo>
                    <a:pt x="16175" y="20210"/>
                    <a:pt x="15954" y="20329"/>
                    <a:pt x="15709" y="20329"/>
                  </a:cubicBezTo>
                  <a:moveTo>
                    <a:pt x="982" y="8016"/>
                  </a:moveTo>
                  <a:lnTo>
                    <a:pt x="5097" y="13341"/>
                  </a:lnTo>
                  <a:lnTo>
                    <a:pt x="982" y="18667"/>
                  </a:lnTo>
                  <a:cubicBezTo>
                    <a:pt x="982" y="18667"/>
                    <a:pt x="982" y="8016"/>
                    <a:pt x="982" y="8016"/>
                  </a:cubicBezTo>
                  <a:close/>
                  <a:moveTo>
                    <a:pt x="1964" y="6353"/>
                  </a:moveTo>
                  <a:lnTo>
                    <a:pt x="15709" y="6353"/>
                  </a:lnTo>
                  <a:cubicBezTo>
                    <a:pt x="15954" y="6353"/>
                    <a:pt x="16175" y="6474"/>
                    <a:pt x="16347" y="6665"/>
                  </a:cubicBezTo>
                  <a:lnTo>
                    <a:pt x="9502" y="15523"/>
                  </a:lnTo>
                  <a:cubicBezTo>
                    <a:pt x="9324" y="15752"/>
                    <a:pt x="9088" y="15880"/>
                    <a:pt x="8836" y="15880"/>
                  </a:cubicBezTo>
                  <a:cubicBezTo>
                    <a:pt x="8585" y="15880"/>
                    <a:pt x="8349" y="15752"/>
                    <a:pt x="8170" y="15523"/>
                  </a:cubicBezTo>
                  <a:lnTo>
                    <a:pt x="1326" y="6664"/>
                  </a:lnTo>
                  <a:cubicBezTo>
                    <a:pt x="1498" y="6474"/>
                    <a:pt x="1719" y="6353"/>
                    <a:pt x="1964" y="6353"/>
                  </a:cubicBezTo>
                  <a:moveTo>
                    <a:pt x="15709" y="5082"/>
                  </a:moveTo>
                  <a:lnTo>
                    <a:pt x="1964" y="5082"/>
                  </a:lnTo>
                  <a:cubicBezTo>
                    <a:pt x="879" y="5082"/>
                    <a:pt x="0" y="6220"/>
                    <a:pt x="0" y="7624"/>
                  </a:cubicBezTo>
                  <a:lnTo>
                    <a:pt x="0" y="19059"/>
                  </a:lnTo>
                  <a:cubicBezTo>
                    <a:pt x="0" y="20462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462"/>
                    <a:pt x="17673" y="19059"/>
                  </a:cubicBezTo>
                  <a:lnTo>
                    <a:pt x="17673" y="7624"/>
                  </a:lnTo>
                  <a:cubicBezTo>
                    <a:pt x="17673" y="6220"/>
                    <a:pt x="16794" y="5082"/>
                    <a:pt x="15709" y="5082"/>
                  </a:cubicBezTo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1138"/>
                    <a:pt x="3927" y="2541"/>
                  </a:cubicBezTo>
                  <a:lnTo>
                    <a:pt x="3927" y="3176"/>
                  </a:lnTo>
                  <a:cubicBezTo>
                    <a:pt x="3927" y="3528"/>
                    <a:pt x="4147" y="3812"/>
                    <a:pt x="4418" y="3812"/>
                  </a:cubicBezTo>
                  <a:cubicBezTo>
                    <a:pt x="4690" y="3812"/>
                    <a:pt x="4909" y="3528"/>
                    <a:pt x="4909" y="3176"/>
                  </a:cubicBezTo>
                  <a:lnTo>
                    <a:pt x="4909" y="2541"/>
                  </a:lnTo>
                  <a:cubicBezTo>
                    <a:pt x="4909" y="1840"/>
                    <a:pt x="5348" y="1271"/>
                    <a:pt x="5891" y="1271"/>
                  </a:cubicBezTo>
                  <a:lnTo>
                    <a:pt x="19636" y="1271"/>
                  </a:lnTo>
                  <a:cubicBezTo>
                    <a:pt x="20178" y="1271"/>
                    <a:pt x="20618" y="1840"/>
                    <a:pt x="20618" y="2541"/>
                  </a:cubicBezTo>
                  <a:lnTo>
                    <a:pt x="20618" y="13976"/>
                  </a:lnTo>
                  <a:cubicBezTo>
                    <a:pt x="20618" y="14678"/>
                    <a:pt x="20178" y="15247"/>
                    <a:pt x="19636" y="15247"/>
                  </a:cubicBezTo>
                  <a:lnTo>
                    <a:pt x="19145" y="15247"/>
                  </a:lnTo>
                  <a:cubicBezTo>
                    <a:pt x="18874" y="15247"/>
                    <a:pt x="18655" y="15532"/>
                    <a:pt x="18655" y="15882"/>
                  </a:cubicBezTo>
                  <a:cubicBezTo>
                    <a:pt x="18655" y="16234"/>
                    <a:pt x="18874" y="16518"/>
                    <a:pt x="19145" y="16518"/>
                  </a:cubicBezTo>
                  <a:lnTo>
                    <a:pt x="19636" y="16518"/>
                  </a:lnTo>
                  <a:cubicBezTo>
                    <a:pt x="20721" y="16518"/>
                    <a:pt x="21600" y="15380"/>
                    <a:pt x="21600" y="13976"/>
                  </a:cubicBezTo>
                  <a:lnTo>
                    <a:pt x="21600" y="2541"/>
                  </a:lnTo>
                  <a:cubicBezTo>
                    <a:pt x="21600" y="1138"/>
                    <a:pt x="20721" y="0"/>
                    <a:pt x="1963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61" name="Group 38"/>
          <p:cNvGrpSpPr/>
          <p:nvPr/>
        </p:nvGrpSpPr>
        <p:grpSpPr>
          <a:xfrm>
            <a:off x="1195200" y="3620880"/>
            <a:ext cx="2610000" cy="849600"/>
            <a:chOff x="1195200" y="3620880"/>
            <a:chExt cx="2610000" cy="849600"/>
          </a:xfrm>
        </p:grpSpPr>
        <p:sp>
          <p:nvSpPr>
            <p:cNvPr id="1062" name="Text Placeholder 32"/>
            <p:cNvSpPr/>
            <p:nvPr/>
          </p:nvSpPr>
          <p:spPr>
            <a:xfrm flipH="1">
              <a:off x="1194840" y="3910680"/>
              <a:ext cx="172620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63" name="Text Placeholder 33"/>
            <p:cNvSpPr/>
            <p:nvPr/>
          </p:nvSpPr>
          <p:spPr>
            <a:xfrm flipH="1">
              <a:off x="1196640" y="3630600"/>
              <a:ext cx="173844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Drop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64" name="Freeform 41"/>
            <p:cNvSpPr/>
            <p:nvPr/>
          </p:nvSpPr>
          <p:spPr>
            <a:xfrm flipV="1">
              <a:off x="3149280" y="3620520"/>
              <a:ext cx="655920" cy="60444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45675e"/>
                </a:gs>
                <a:gs pos="100000">
                  <a:srgbClr val="004a3c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65" name="Shape 2857"/>
            <p:cNvSpPr/>
            <p:nvPr/>
          </p:nvSpPr>
          <p:spPr>
            <a:xfrm>
              <a:off x="3308400" y="3783600"/>
              <a:ext cx="27900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429" y="14128"/>
                  </a:moveTo>
                  <a:cubicBezTo>
                    <a:pt x="17041" y="13430"/>
                    <a:pt x="15777" y="12523"/>
                    <a:pt x="14684" y="11440"/>
                  </a:cubicBezTo>
                  <a:cubicBezTo>
                    <a:pt x="15214" y="10618"/>
                    <a:pt x="15664" y="9739"/>
                    <a:pt x="16034" y="8820"/>
                  </a:cubicBezTo>
                  <a:cubicBezTo>
                    <a:pt x="16089" y="8826"/>
                    <a:pt x="16143" y="8836"/>
                    <a:pt x="16200" y="8836"/>
                  </a:cubicBezTo>
                  <a:cubicBezTo>
                    <a:pt x="17013" y="8836"/>
                    <a:pt x="17673" y="8177"/>
                    <a:pt x="17673" y="7364"/>
                  </a:cubicBezTo>
                  <a:cubicBezTo>
                    <a:pt x="17673" y="6787"/>
                    <a:pt x="17339" y="6294"/>
                    <a:pt x="16856" y="6052"/>
                  </a:cubicBezTo>
                  <a:cubicBezTo>
                    <a:pt x="17033" y="5170"/>
                    <a:pt x="17144" y="4264"/>
                    <a:pt x="17167" y="3336"/>
                  </a:cubicBezTo>
                  <a:cubicBezTo>
                    <a:pt x="19277" y="5136"/>
                    <a:pt x="20618" y="7809"/>
                    <a:pt x="20618" y="10800"/>
                  </a:cubicBezTo>
                  <a:cubicBezTo>
                    <a:pt x="20618" y="11764"/>
                    <a:pt x="20469" y="12689"/>
                    <a:pt x="20209" y="13568"/>
                  </a:cubicBezTo>
                  <a:cubicBezTo>
                    <a:pt x="19628" y="13783"/>
                    <a:pt x="19034" y="13971"/>
                    <a:pt x="18429" y="14128"/>
                  </a:cubicBezTo>
                  <a:moveTo>
                    <a:pt x="10800" y="20618"/>
                  </a:moveTo>
                  <a:cubicBezTo>
                    <a:pt x="8406" y="20618"/>
                    <a:pt x="6213" y="19759"/>
                    <a:pt x="4509" y="18335"/>
                  </a:cubicBezTo>
                  <a:cubicBezTo>
                    <a:pt x="6552" y="17934"/>
                    <a:pt x="8450" y="17135"/>
                    <a:pt x="10128" y="16031"/>
                  </a:cubicBezTo>
                  <a:cubicBezTo>
                    <a:pt x="10330" y="16135"/>
                    <a:pt x="10556" y="16200"/>
                    <a:pt x="10800" y="16200"/>
                  </a:cubicBezTo>
                  <a:cubicBezTo>
                    <a:pt x="11273" y="16200"/>
                    <a:pt x="11689" y="15973"/>
                    <a:pt x="11959" y="15627"/>
                  </a:cubicBezTo>
                  <a:cubicBezTo>
                    <a:pt x="12547" y="15680"/>
                    <a:pt x="13142" y="15709"/>
                    <a:pt x="13745" y="15709"/>
                  </a:cubicBezTo>
                  <a:cubicBezTo>
                    <a:pt x="15323" y="15709"/>
                    <a:pt x="16852" y="15508"/>
                    <a:pt x="18322" y="15156"/>
                  </a:cubicBezTo>
                  <a:cubicBezTo>
                    <a:pt x="18660" y="15317"/>
                    <a:pt x="18998" y="15480"/>
                    <a:pt x="19350" y="15618"/>
                  </a:cubicBezTo>
                  <a:cubicBezTo>
                    <a:pt x="17665" y="18601"/>
                    <a:pt x="14470" y="20618"/>
                    <a:pt x="10800" y="20618"/>
                  </a:cubicBezTo>
                  <a:moveTo>
                    <a:pt x="3539" y="17392"/>
                  </a:moveTo>
                  <a:cubicBezTo>
                    <a:pt x="3476" y="16840"/>
                    <a:pt x="3436" y="16279"/>
                    <a:pt x="3436" y="15709"/>
                  </a:cubicBezTo>
                  <a:cubicBezTo>
                    <a:pt x="3436" y="14763"/>
                    <a:pt x="3536" y="13842"/>
                    <a:pt x="3707" y="12946"/>
                  </a:cubicBezTo>
                  <a:cubicBezTo>
                    <a:pt x="5455" y="13988"/>
                    <a:pt x="7377" y="14767"/>
                    <a:pt x="9421" y="15226"/>
                  </a:cubicBezTo>
                  <a:cubicBezTo>
                    <a:pt x="9431" y="15253"/>
                    <a:pt x="9436" y="15282"/>
                    <a:pt x="9447" y="15308"/>
                  </a:cubicBezTo>
                  <a:cubicBezTo>
                    <a:pt x="7724" y="16421"/>
                    <a:pt x="5761" y="17193"/>
                    <a:pt x="3643" y="17506"/>
                  </a:cubicBezTo>
                  <a:cubicBezTo>
                    <a:pt x="3608" y="17469"/>
                    <a:pt x="3573" y="17430"/>
                    <a:pt x="3539" y="17392"/>
                  </a:cubicBezTo>
                  <a:moveTo>
                    <a:pt x="3075" y="11369"/>
                  </a:moveTo>
                  <a:cubicBezTo>
                    <a:pt x="2361" y="10869"/>
                    <a:pt x="1683" y="10321"/>
                    <a:pt x="1046" y="9729"/>
                  </a:cubicBezTo>
                  <a:cubicBezTo>
                    <a:pt x="1528" y="5299"/>
                    <a:pt x="4955" y="1762"/>
                    <a:pt x="9331" y="1104"/>
                  </a:cubicBezTo>
                  <a:cubicBezTo>
                    <a:pt x="9335" y="1629"/>
                    <a:pt x="9363" y="2148"/>
                    <a:pt x="9417" y="2660"/>
                  </a:cubicBezTo>
                  <a:cubicBezTo>
                    <a:pt x="8572" y="3227"/>
                    <a:pt x="7787" y="3879"/>
                    <a:pt x="7069" y="4596"/>
                  </a:cubicBezTo>
                  <a:cubicBezTo>
                    <a:pt x="6863" y="4486"/>
                    <a:pt x="6632" y="4418"/>
                    <a:pt x="6382" y="4418"/>
                  </a:cubicBezTo>
                  <a:cubicBezTo>
                    <a:pt x="5569" y="4418"/>
                    <a:pt x="4909" y="5078"/>
                    <a:pt x="4909" y="5891"/>
                  </a:cubicBezTo>
                  <a:cubicBezTo>
                    <a:pt x="4909" y="6236"/>
                    <a:pt x="5033" y="6549"/>
                    <a:pt x="5231" y="6800"/>
                  </a:cubicBezTo>
                  <a:cubicBezTo>
                    <a:pt x="4279" y="8179"/>
                    <a:pt x="3550" y="9719"/>
                    <a:pt x="3075" y="11369"/>
                  </a:cubicBezTo>
                  <a:moveTo>
                    <a:pt x="2466" y="15973"/>
                  </a:moveTo>
                  <a:cubicBezTo>
                    <a:pt x="1563" y="14521"/>
                    <a:pt x="1025" y="12821"/>
                    <a:pt x="989" y="10995"/>
                  </a:cubicBezTo>
                  <a:cubicBezTo>
                    <a:pt x="1570" y="11492"/>
                    <a:pt x="2180" y="11955"/>
                    <a:pt x="2817" y="12383"/>
                  </a:cubicBezTo>
                  <a:cubicBezTo>
                    <a:pt x="2585" y="13456"/>
                    <a:pt x="2455" y="14567"/>
                    <a:pt x="2455" y="15709"/>
                  </a:cubicBezTo>
                  <a:cubicBezTo>
                    <a:pt x="2455" y="15798"/>
                    <a:pt x="2464" y="15885"/>
                    <a:pt x="2466" y="15973"/>
                  </a:cubicBezTo>
                  <a:moveTo>
                    <a:pt x="13428" y="11540"/>
                  </a:moveTo>
                  <a:cubicBezTo>
                    <a:pt x="12907" y="12264"/>
                    <a:pt x="12315" y="12931"/>
                    <a:pt x="11674" y="13548"/>
                  </a:cubicBezTo>
                  <a:cubicBezTo>
                    <a:pt x="11429" y="13366"/>
                    <a:pt x="11129" y="13255"/>
                    <a:pt x="10800" y="13255"/>
                  </a:cubicBezTo>
                  <a:cubicBezTo>
                    <a:pt x="10166" y="13255"/>
                    <a:pt x="9631" y="13657"/>
                    <a:pt x="9423" y="14218"/>
                  </a:cubicBezTo>
                  <a:cubicBezTo>
                    <a:pt x="7455" y="13751"/>
                    <a:pt x="5607" y="12973"/>
                    <a:pt x="3936" y="11937"/>
                  </a:cubicBezTo>
                  <a:cubicBezTo>
                    <a:pt x="4379" y="10266"/>
                    <a:pt x="5100" y="8708"/>
                    <a:pt x="6060" y="7326"/>
                  </a:cubicBezTo>
                  <a:cubicBezTo>
                    <a:pt x="6164" y="7349"/>
                    <a:pt x="6271" y="7364"/>
                    <a:pt x="6382" y="7364"/>
                  </a:cubicBezTo>
                  <a:cubicBezTo>
                    <a:pt x="7195" y="7364"/>
                    <a:pt x="7855" y="6704"/>
                    <a:pt x="7855" y="5891"/>
                  </a:cubicBezTo>
                  <a:cubicBezTo>
                    <a:pt x="7855" y="5688"/>
                    <a:pt x="7813" y="5493"/>
                    <a:pt x="7739" y="5317"/>
                  </a:cubicBezTo>
                  <a:cubicBezTo>
                    <a:pt x="8307" y="4747"/>
                    <a:pt x="8920" y="4221"/>
                    <a:pt x="9575" y="3749"/>
                  </a:cubicBezTo>
                  <a:cubicBezTo>
                    <a:pt x="10104" y="6723"/>
                    <a:pt x="11479" y="9397"/>
                    <a:pt x="13428" y="11540"/>
                  </a:cubicBezTo>
                  <a:moveTo>
                    <a:pt x="10800" y="982"/>
                  </a:moveTo>
                  <a:cubicBezTo>
                    <a:pt x="11347" y="982"/>
                    <a:pt x="11881" y="1038"/>
                    <a:pt x="12403" y="1125"/>
                  </a:cubicBezTo>
                  <a:cubicBezTo>
                    <a:pt x="11696" y="1400"/>
                    <a:pt x="11005" y="1707"/>
                    <a:pt x="10354" y="2081"/>
                  </a:cubicBezTo>
                  <a:cubicBezTo>
                    <a:pt x="10328" y="1726"/>
                    <a:pt x="10311" y="1368"/>
                    <a:pt x="10310" y="1007"/>
                  </a:cubicBezTo>
                  <a:cubicBezTo>
                    <a:pt x="10474" y="999"/>
                    <a:pt x="10635" y="982"/>
                    <a:pt x="10800" y="982"/>
                  </a:cubicBezTo>
                  <a:moveTo>
                    <a:pt x="14120" y="12262"/>
                  </a:moveTo>
                  <a:cubicBezTo>
                    <a:pt x="14982" y="13097"/>
                    <a:pt x="15950" y="13819"/>
                    <a:pt x="16986" y="14440"/>
                  </a:cubicBezTo>
                  <a:cubicBezTo>
                    <a:pt x="15933" y="14626"/>
                    <a:pt x="14852" y="14727"/>
                    <a:pt x="13745" y="14727"/>
                  </a:cubicBezTo>
                  <a:cubicBezTo>
                    <a:pt x="13246" y="14727"/>
                    <a:pt x="12754" y="14702"/>
                    <a:pt x="12265" y="14664"/>
                  </a:cubicBezTo>
                  <a:cubicBezTo>
                    <a:pt x="12259" y="14569"/>
                    <a:pt x="12250" y="14475"/>
                    <a:pt x="12229" y="14385"/>
                  </a:cubicBezTo>
                  <a:cubicBezTo>
                    <a:pt x="12921" y="13737"/>
                    <a:pt x="13555" y="13027"/>
                    <a:pt x="14120" y="12262"/>
                  </a:cubicBezTo>
                  <a:moveTo>
                    <a:pt x="16188" y="2597"/>
                  </a:moveTo>
                  <a:cubicBezTo>
                    <a:pt x="16191" y="2713"/>
                    <a:pt x="16200" y="2828"/>
                    <a:pt x="16200" y="2945"/>
                  </a:cubicBezTo>
                  <a:cubicBezTo>
                    <a:pt x="16200" y="3967"/>
                    <a:pt x="16092" y="4962"/>
                    <a:pt x="15894" y="5924"/>
                  </a:cubicBezTo>
                  <a:cubicBezTo>
                    <a:pt x="15227" y="6065"/>
                    <a:pt x="14727" y="6656"/>
                    <a:pt x="14727" y="7364"/>
                  </a:cubicBezTo>
                  <a:cubicBezTo>
                    <a:pt x="14727" y="7765"/>
                    <a:pt x="14888" y="8127"/>
                    <a:pt x="15149" y="8393"/>
                  </a:cubicBezTo>
                  <a:cubicBezTo>
                    <a:pt x="14827" y="9199"/>
                    <a:pt x="14443" y="9973"/>
                    <a:pt x="13991" y="10701"/>
                  </a:cubicBezTo>
                  <a:cubicBezTo>
                    <a:pt x="12159" y="8620"/>
                    <a:pt x="10894" y="6025"/>
                    <a:pt x="10469" y="3152"/>
                  </a:cubicBezTo>
                  <a:cubicBezTo>
                    <a:pt x="11590" y="2463"/>
                    <a:pt x="12813" y="1934"/>
                    <a:pt x="14106" y="1565"/>
                  </a:cubicBezTo>
                  <a:cubicBezTo>
                    <a:pt x="14844" y="1829"/>
                    <a:pt x="15544" y="2173"/>
                    <a:pt x="16188" y="2597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66" name="Group 43"/>
          <p:cNvGrpSpPr/>
          <p:nvPr/>
        </p:nvGrpSpPr>
        <p:grpSpPr>
          <a:xfrm>
            <a:off x="1195560" y="4960800"/>
            <a:ext cx="2609640" cy="858960"/>
            <a:chOff x="1195560" y="4960800"/>
            <a:chExt cx="2609640" cy="858960"/>
          </a:xfrm>
        </p:grpSpPr>
        <p:sp>
          <p:nvSpPr>
            <p:cNvPr id="1067" name="Text Placeholder 32"/>
            <p:cNvSpPr/>
            <p:nvPr/>
          </p:nvSpPr>
          <p:spPr>
            <a:xfrm flipH="1">
              <a:off x="1195560" y="5259960"/>
              <a:ext cx="172656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68" name="Text Placeholder 33"/>
            <p:cNvSpPr/>
            <p:nvPr/>
          </p:nvSpPr>
          <p:spPr>
            <a:xfrm flipH="1">
              <a:off x="1197360" y="4979520"/>
              <a:ext cx="173880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Target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69" name="Freeform 46"/>
            <p:cNvSpPr/>
            <p:nvPr/>
          </p:nvSpPr>
          <p:spPr>
            <a:xfrm flipV="1">
              <a:off x="3148920" y="4960800"/>
              <a:ext cx="656280" cy="60480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458a7e"/>
                </a:gs>
                <a:gs pos="100000">
                  <a:srgbClr val="007566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70" name="Shape 2748"/>
            <p:cNvSpPr/>
            <p:nvPr/>
          </p:nvSpPr>
          <p:spPr>
            <a:xfrm>
              <a:off x="3307680" y="512352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71" name="Group 48"/>
          <p:cNvGrpSpPr/>
          <p:nvPr/>
        </p:nvGrpSpPr>
        <p:grpSpPr>
          <a:xfrm>
            <a:off x="8372160" y="4883040"/>
            <a:ext cx="2613240" cy="858960"/>
            <a:chOff x="8372160" y="4883040"/>
            <a:chExt cx="2613240" cy="858960"/>
          </a:xfrm>
        </p:grpSpPr>
        <p:sp>
          <p:nvSpPr>
            <p:cNvPr id="1072" name="Text Placeholder 32"/>
            <p:cNvSpPr/>
            <p:nvPr/>
          </p:nvSpPr>
          <p:spPr>
            <a:xfrm>
              <a:off x="9258840" y="5182200"/>
              <a:ext cx="172656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73" name="Text Placeholder 33"/>
            <p:cNvSpPr/>
            <p:nvPr/>
          </p:nvSpPr>
          <p:spPr>
            <a:xfrm>
              <a:off x="9244440" y="4901760"/>
              <a:ext cx="173880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Presentation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74" name="Freeform 51"/>
            <p:cNvSpPr/>
            <p:nvPr/>
          </p:nvSpPr>
          <p:spPr>
            <a:xfrm flipH="1" flipV="1">
              <a:off x="8371800" y="4883040"/>
              <a:ext cx="656280" cy="60480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457c72"/>
                </a:gs>
                <a:gs pos="100000">
                  <a:srgbClr val="006658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75" name="Shape 2774"/>
            <p:cNvSpPr/>
            <p:nvPr/>
          </p:nvSpPr>
          <p:spPr>
            <a:xfrm>
              <a:off x="8588520" y="50565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76" name="Group 53"/>
          <p:cNvGrpSpPr/>
          <p:nvPr/>
        </p:nvGrpSpPr>
        <p:grpSpPr>
          <a:xfrm>
            <a:off x="8367480" y="3543480"/>
            <a:ext cx="2617920" cy="849240"/>
            <a:chOff x="8367480" y="3543480"/>
            <a:chExt cx="2617920" cy="849240"/>
          </a:xfrm>
        </p:grpSpPr>
        <p:sp>
          <p:nvSpPr>
            <p:cNvPr id="1077" name="Text Placeholder 32"/>
            <p:cNvSpPr/>
            <p:nvPr/>
          </p:nvSpPr>
          <p:spPr>
            <a:xfrm>
              <a:off x="9259920" y="3832920"/>
              <a:ext cx="172548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78" name="Text Placeholder 33"/>
            <p:cNvSpPr/>
            <p:nvPr/>
          </p:nvSpPr>
          <p:spPr>
            <a:xfrm>
              <a:off x="9245520" y="3552480"/>
              <a:ext cx="173772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Atom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79" name="Freeform 56"/>
            <p:cNvSpPr/>
            <p:nvPr/>
          </p:nvSpPr>
          <p:spPr>
            <a:xfrm flipH="1" flipV="1">
              <a:off x="8367120" y="3543480"/>
              <a:ext cx="655560" cy="60480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45a497"/>
                </a:gs>
                <a:gs pos="100000">
                  <a:srgbClr val="009283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80" name="Shape 2778"/>
            <p:cNvSpPr/>
            <p:nvPr/>
          </p:nvSpPr>
          <p:spPr>
            <a:xfrm>
              <a:off x="8589960" y="3706200"/>
              <a:ext cx="27900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81" name="Group 58"/>
          <p:cNvGrpSpPr/>
          <p:nvPr/>
        </p:nvGrpSpPr>
        <p:grpSpPr>
          <a:xfrm>
            <a:off x="8358120" y="2271600"/>
            <a:ext cx="2627280" cy="849600"/>
            <a:chOff x="8358120" y="2271600"/>
            <a:chExt cx="2627280" cy="849600"/>
          </a:xfrm>
        </p:grpSpPr>
        <p:sp>
          <p:nvSpPr>
            <p:cNvPr id="1082" name="Text Placeholder 32"/>
            <p:cNvSpPr/>
            <p:nvPr/>
          </p:nvSpPr>
          <p:spPr>
            <a:xfrm>
              <a:off x="9259560" y="2561040"/>
              <a:ext cx="17258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83" name="Text Placeholder 33"/>
            <p:cNvSpPr/>
            <p:nvPr/>
          </p:nvSpPr>
          <p:spPr>
            <a:xfrm>
              <a:off x="9245520" y="2280960"/>
              <a:ext cx="173772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4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Tree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84" name="Freeform 61"/>
            <p:cNvSpPr/>
            <p:nvPr/>
          </p:nvSpPr>
          <p:spPr>
            <a:xfrm flipH="1" flipV="1">
              <a:off x="8358120" y="2271600"/>
              <a:ext cx="655920" cy="604800"/>
            </a:xfrm>
            <a:custGeom>
              <a:avLst/>
              <a:gdLst/>
              <a:ahLst/>
              <a:rect l="l" t="t" r="r" b="b"/>
              <a:pathLst>
                <a:path w="2671591" h="2234714">
                  <a:moveTo>
                    <a:pt x="971829" y="311"/>
                  </a:moveTo>
                  <a:cubicBezTo>
                    <a:pt x="1208558" y="-4512"/>
                    <a:pt x="1452273" y="47220"/>
                    <a:pt x="1658132" y="121675"/>
                  </a:cubicBezTo>
                  <a:cubicBezTo>
                    <a:pt x="1922757" y="217427"/>
                    <a:pt x="2191606" y="370914"/>
                    <a:pt x="2391482" y="570868"/>
                  </a:cubicBezTo>
                  <a:cubicBezTo>
                    <a:pt x="2536463" y="715906"/>
                    <a:pt x="2671591" y="914452"/>
                    <a:pt x="2671591" y="1127080"/>
                  </a:cubicBezTo>
                  <a:cubicBezTo>
                    <a:pt x="2671591" y="1267893"/>
                    <a:pt x="2492828" y="1465031"/>
                    <a:pt x="2398520" y="1555152"/>
                  </a:cubicBezTo>
                  <a:cubicBezTo>
                    <a:pt x="2188790" y="1755106"/>
                    <a:pt x="1919942" y="1922674"/>
                    <a:pt x="1656724" y="2040957"/>
                  </a:cubicBezTo>
                  <a:cubicBezTo>
                    <a:pt x="1309052" y="2194443"/>
                    <a:pt x="796691" y="2329623"/>
                    <a:pt x="436351" y="2146567"/>
                  </a:cubicBezTo>
                  <a:cubicBezTo>
                    <a:pt x="71787" y="1960693"/>
                    <a:pt x="0" y="1496010"/>
                    <a:pt x="0" y="1127080"/>
                  </a:cubicBezTo>
                  <a:cubicBezTo>
                    <a:pt x="0" y="742660"/>
                    <a:pt x="95716" y="334303"/>
                    <a:pt x="453241" y="130124"/>
                  </a:cubicBezTo>
                  <a:cubicBezTo>
                    <a:pt x="607811" y="42027"/>
                    <a:pt x="787708" y="4063"/>
                    <a:pt x="971829" y="311"/>
                  </a:cubicBezTo>
                  <a:close/>
                </a:path>
              </a:pathLst>
            </a:custGeom>
            <a:gradFill rotWithShape="0">
              <a:gsLst>
                <a:gs pos="0">
                  <a:srgbClr val="45988b"/>
                </a:gs>
                <a:gs pos="100000">
                  <a:srgbClr val="008576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85" name="Shape 2779"/>
            <p:cNvSpPr/>
            <p:nvPr/>
          </p:nvSpPr>
          <p:spPr>
            <a:xfrm>
              <a:off x="8618040" y="2421360"/>
              <a:ext cx="20304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67" y="16691"/>
                  </a:moveTo>
                  <a:lnTo>
                    <a:pt x="5303" y="12525"/>
                  </a:lnTo>
                  <a:lnTo>
                    <a:pt x="5294" y="12521"/>
                  </a:lnTo>
                  <a:cubicBezTo>
                    <a:pt x="5355" y="12447"/>
                    <a:pt x="5400" y="12365"/>
                    <a:pt x="5400" y="12273"/>
                  </a:cubicBezTo>
                  <a:cubicBezTo>
                    <a:pt x="5400" y="12001"/>
                    <a:pt x="5098" y="11782"/>
                    <a:pt x="4725" y="11782"/>
                  </a:cubicBezTo>
                  <a:lnTo>
                    <a:pt x="3375" y="11782"/>
                  </a:lnTo>
                  <a:lnTo>
                    <a:pt x="6615" y="8640"/>
                  </a:lnTo>
                  <a:lnTo>
                    <a:pt x="6606" y="8635"/>
                  </a:lnTo>
                  <a:cubicBezTo>
                    <a:pt x="6691" y="8553"/>
                    <a:pt x="6750" y="8456"/>
                    <a:pt x="6750" y="8345"/>
                  </a:cubicBezTo>
                  <a:cubicBezTo>
                    <a:pt x="6750" y="8075"/>
                    <a:pt x="6448" y="7855"/>
                    <a:pt x="6075" y="7855"/>
                  </a:cubicBezTo>
                  <a:lnTo>
                    <a:pt x="4855" y="7855"/>
                  </a:lnTo>
                  <a:lnTo>
                    <a:pt x="8548" y="4785"/>
                  </a:lnTo>
                  <a:lnTo>
                    <a:pt x="8544" y="4782"/>
                  </a:lnTo>
                  <a:cubicBezTo>
                    <a:pt x="8683" y="4691"/>
                    <a:pt x="8775" y="4564"/>
                    <a:pt x="8775" y="4418"/>
                  </a:cubicBezTo>
                  <a:cubicBezTo>
                    <a:pt x="8775" y="4147"/>
                    <a:pt x="8473" y="3927"/>
                    <a:pt x="8100" y="3927"/>
                  </a:cubicBezTo>
                  <a:lnTo>
                    <a:pt x="7029" y="3927"/>
                  </a:lnTo>
                  <a:lnTo>
                    <a:pt x="10800" y="1185"/>
                  </a:lnTo>
                  <a:lnTo>
                    <a:pt x="14571" y="3927"/>
                  </a:lnTo>
                  <a:lnTo>
                    <a:pt x="13500" y="3927"/>
                  </a:lnTo>
                  <a:cubicBezTo>
                    <a:pt x="13128" y="3927"/>
                    <a:pt x="12825" y="4147"/>
                    <a:pt x="12825" y="4418"/>
                  </a:cubicBezTo>
                  <a:cubicBezTo>
                    <a:pt x="12825" y="4564"/>
                    <a:pt x="12917" y="4691"/>
                    <a:pt x="13056" y="4782"/>
                  </a:cubicBezTo>
                  <a:lnTo>
                    <a:pt x="13052" y="4785"/>
                  </a:lnTo>
                  <a:lnTo>
                    <a:pt x="16744" y="7855"/>
                  </a:lnTo>
                  <a:lnTo>
                    <a:pt x="15525" y="7855"/>
                  </a:lnTo>
                  <a:cubicBezTo>
                    <a:pt x="15153" y="7855"/>
                    <a:pt x="14850" y="8075"/>
                    <a:pt x="14850" y="8345"/>
                  </a:cubicBezTo>
                  <a:cubicBezTo>
                    <a:pt x="14850" y="8456"/>
                    <a:pt x="14909" y="8553"/>
                    <a:pt x="14994" y="8635"/>
                  </a:cubicBezTo>
                  <a:lnTo>
                    <a:pt x="14985" y="8640"/>
                  </a:lnTo>
                  <a:lnTo>
                    <a:pt x="18225" y="11782"/>
                  </a:lnTo>
                  <a:lnTo>
                    <a:pt x="16875" y="11782"/>
                  </a:lnTo>
                  <a:cubicBezTo>
                    <a:pt x="16503" y="11782"/>
                    <a:pt x="16200" y="12001"/>
                    <a:pt x="16200" y="12273"/>
                  </a:cubicBezTo>
                  <a:cubicBezTo>
                    <a:pt x="16200" y="12365"/>
                    <a:pt x="16244" y="12447"/>
                    <a:pt x="16306" y="12521"/>
                  </a:cubicBezTo>
                  <a:lnTo>
                    <a:pt x="16296" y="12525"/>
                  </a:lnTo>
                  <a:lnTo>
                    <a:pt x="19733" y="16691"/>
                  </a:lnTo>
                  <a:cubicBezTo>
                    <a:pt x="19733" y="16691"/>
                    <a:pt x="1867" y="16691"/>
                    <a:pt x="1867" y="16691"/>
                  </a:cubicBezTo>
                  <a:close/>
                  <a:moveTo>
                    <a:pt x="12150" y="20618"/>
                  </a:moveTo>
                  <a:lnTo>
                    <a:pt x="9450" y="20618"/>
                  </a:lnTo>
                  <a:lnTo>
                    <a:pt x="9450" y="17673"/>
                  </a:lnTo>
                  <a:lnTo>
                    <a:pt x="12150" y="17673"/>
                  </a:lnTo>
                  <a:cubicBezTo>
                    <a:pt x="12150" y="17673"/>
                    <a:pt x="12150" y="20618"/>
                    <a:pt x="12150" y="20618"/>
                  </a:cubicBezTo>
                  <a:close/>
                  <a:moveTo>
                    <a:pt x="21494" y="16933"/>
                  </a:moveTo>
                  <a:lnTo>
                    <a:pt x="21503" y="16929"/>
                  </a:lnTo>
                  <a:lnTo>
                    <a:pt x="18067" y="12764"/>
                  </a:lnTo>
                  <a:lnTo>
                    <a:pt x="19575" y="12764"/>
                  </a:lnTo>
                  <a:cubicBezTo>
                    <a:pt x="19948" y="12764"/>
                    <a:pt x="20250" y="12544"/>
                    <a:pt x="20250" y="12273"/>
                  </a:cubicBezTo>
                  <a:cubicBezTo>
                    <a:pt x="20250" y="12162"/>
                    <a:pt x="20191" y="12066"/>
                    <a:pt x="20106" y="11983"/>
                  </a:cubicBezTo>
                  <a:lnTo>
                    <a:pt x="20115" y="11978"/>
                  </a:lnTo>
                  <a:lnTo>
                    <a:pt x="16875" y="8836"/>
                  </a:lnTo>
                  <a:lnTo>
                    <a:pt x="18225" y="8836"/>
                  </a:lnTo>
                  <a:cubicBezTo>
                    <a:pt x="18598" y="8836"/>
                    <a:pt x="18900" y="8617"/>
                    <a:pt x="18900" y="8345"/>
                  </a:cubicBezTo>
                  <a:cubicBezTo>
                    <a:pt x="18900" y="8200"/>
                    <a:pt x="18808" y="8072"/>
                    <a:pt x="18669" y="7982"/>
                  </a:cubicBezTo>
                  <a:lnTo>
                    <a:pt x="18673" y="7978"/>
                  </a:lnTo>
                  <a:lnTo>
                    <a:pt x="14980" y="4909"/>
                  </a:lnTo>
                  <a:lnTo>
                    <a:pt x="16200" y="4909"/>
                  </a:lnTo>
                  <a:cubicBezTo>
                    <a:pt x="16573" y="4909"/>
                    <a:pt x="16875" y="4690"/>
                    <a:pt x="16875" y="4418"/>
                  </a:cubicBezTo>
                  <a:cubicBezTo>
                    <a:pt x="16875" y="4283"/>
                    <a:pt x="16800" y="4160"/>
                    <a:pt x="16677" y="4071"/>
                  </a:cubicBezTo>
                  <a:lnTo>
                    <a:pt x="11277" y="144"/>
                  </a:lnTo>
                  <a:cubicBezTo>
                    <a:pt x="11155" y="55"/>
                    <a:pt x="10986" y="0"/>
                    <a:pt x="10800" y="0"/>
                  </a:cubicBezTo>
                  <a:cubicBezTo>
                    <a:pt x="10614" y="0"/>
                    <a:pt x="10445" y="55"/>
                    <a:pt x="10323" y="144"/>
                  </a:cubicBezTo>
                  <a:lnTo>
                    <a:pt x="4923" y="4071"/>
                  </a:lnTo>
                  <a:cubicBezTo>
                    <a:pt x="4801" y="4160"/>
                    <a:pt x="4725" y="4283"/>
                    <a:pt x="4725" y="4418"/>
                  </a:cubicBezTo>
                  <a:cubicBezTo>
                    <a:pt x="4725" y="4690"/>
                    <a:pt x="5028" y="4909"/>
                    <a:pt x="5400" y="4909"/>
                  </a:cubicBezTo>
                  <a:lnTo>
                    <a:pt x="6619" y="4909"/>
                  </a:lnTo>
                  <a:lnTo>
                    <a:pt x="2927" y="7978"/>
                  </a:lnTo>
                  <a:lnTo>
                    <a:pt x="2931" y="7982"/>
                  </a:lnTo>
                  <a:cubicBezTo>
                    <a:pt x="2792" y="8072"/>
                    <a:pt x="2700" y="8200"/>
                    <a:pt x="2700" y="8345"/>
                  </a:cubicBezTo>
                  <a:cubicBezTo>
                    <a:pt x="2700" y="8617"/>
                    <a:pt x="3003" y="8836"/>
                    <a:pt x="3375" y="8836"/>
                  </a:cubicBezTo>
                  <a:lnTo>
                    <a:pt x="4725" y="8836"/>
                  </a:lnTo>
                  <a:lnTo>
                    <a:pt x="1485" y="11978"/>
                  </a:lnTo>
                  <a:lnTo>
                    <a:pt x="1494" y="11983"/>
                  </a:lnTo>
                  <a:cubicBezTo>
                    <a:pt x="1409" y="12066"/>
                    <a:pt x="1350" y="12162"/>
                    <a:pt x="1350" y="12273"/>
                  </a:cubicBezTo>
                  <a:cubicBezTo>
                    <a:pt x="1350" y="12544"/>
                    <a:pt x="1653" y="12764"/>
                    <a:pt x="2025" y="12764"/>
                  </a:cubicBezTo>
                  <a:lnTo>
                    <a:pt x="3533" y="12764"/>
                  </a:lnTo>
                  <a:lnTo>
                    <a:pt x="96" y="16929"/>
                  </a:lnTo>
                  <a:lnTo>
                    <a:pt x="106" y="16933"/>
                  </a:lnTo>
                  <a:cubicBezTo>
                    <a:pt x="44" y="17007"/>
                    <a:pt x="0" y="17089"/>
                    <a:pt x="0" y="17182"/>
                  </a:cubicBezTo>
                  <a:cubicBezTo>
                    <a:pt x="0" y="17453"/>
                    <a:pt x="303" y="17673"/>
                    <a:pt x="675" y="17673"/>
                  </a:cubicBezTo>
                  <a:lnTo>
                    <a:pt x="8100" y="17673"/>
                  </a:lnTo>
                  <a:lnTo>
                    <a:pt x="8100" y="21109"/>
                  </a:lnTo>
                  <a:cubicBezTo>
                    <a:pt x="8100" y="21380"/>
                    <a:pt x="8403" y="21600"/>
                    <a:pt x="8775" y="21600"/>
                  </a:cubicBezTo>
                  <a:lnTo>
                    <a:pt x="12825" y="21600"/>
                  </a:lnTo>
                  <a:cubicBezTo>
                    <a:pt x="13198" y="21600"/>
                    <a:pt x="13500" y="21380"/>
                    <a:pt x="13500" y="21109"/>
                  </a:cubicBezTo>
                  <a:lnTo>
                    <a:pt x="13500" y="17673"/>
                  </a:lnTo>
                  <a:lnTo>
                    <a:pt x="20925" y="17673"/>
                  </a:lnTo>
                  <a:cubicBezTo>
                    <a:pt x="21298" y="17673"/>
                    <a:pt x="21600" y="17453"/>
                    <a:pt x="21600" y="17182"/>
                  </a:cubicBezTo>
                  <a:cubicBezTo>
                    <a:pt x="21600" y="17089"/>
                    <a:pt x="21555" y="17007"/>
                    <a:pt x="21494" y="1693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000"/>
                            </p:stCondLst>
                            <p:childTnLst>
                              <p:par>
                                <p:cTn id="5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3000"/>
                            </p:stCondLst>
                            <p:childTnLst>
                              <p:par>
                                <p:cTn id="6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3500"/>
                            </p:stCondLst>
                            <p:childTnLst>
                              <p:par>
                                <p:cTn id="6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TextBox 1"/>
          <p:cNvSpPr/>
          <p:nvPr/>
        </p:nvSpPr>
        <p:spPr>
          <a:xfrm>
            <a:off x="3552480" y="538200"/>
            <a:ext cx="510336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Creative Infographic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87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26a69a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88" name="Freeform 5"/>
          <p:cNvSpPr/>
          <p:nvPr/>
        </p:nvSpPr>
        <p:spPr>
          <a:xfrm>
            <a:off x="5187960" y="1903320"/>
            <a:ext cx="1816200" cy="704880"/>
          </a:xfrm>
          <a:custGeom>
            <a:avLst/>
            <a:gdLst/>
            <a:ahLst/>
            <a:rect l="l" t="t" r="r" b="b"/>
            <a:pathLst>
              <a:path w="1308" h="507">
                <a:moveTo>
                  <a:pt x="489" y="418"/>
                </a:moveTo>
                <a:cubicBezTo>
                  <a:pt x="533" y="400"/>
                  <a:pt x="584" y="387"/>
                  <a:pt x="652" y="386"/>
                </a:cubicBezTo>
                <a:cubicBezTo>
                  <a:pt x="722" y="386"/>
                  <a:pt x="775" y="400"/>
                  <a:pt x="820" y="419"/>
                </a:cubicBezTo>
                <a:cubicBezTo>
                  <a:pt x="896" y="454"/>
                  <a:pt x="950" y="502"/>
                  <a:pt x="1039" y="507"/>
                </a:cubicBezTo>
                <a:cubicBezTo>
                  <a:pt x="1041" y="507"/>
                  <a:pt x="1043" y="507"/>
                  <a:pt x="1044" y="507"/>
                </a:cubicBezTo>
                <a:cubicBezTo>
                  <a:pt x="1046" y="507"/>
                  <a:pt x="1046" y="507"/>
                  <a:pt x="1046" y="507"/>
                </a:cubicBezTo>
                <a:cubicBezTo>
                  <a:pt x="1049" y="507"/>
                  <a:pt x="1052" y="507"/>
                  <a:pt x="1054" y="507"/>
                </a:cubicBezTo>
                <a:cubicBezTo>
                  <a:pt x="1055" y="507"/>
                  <a:pt x="1055" y="507"/>
                  <a:pt x="1055" y="507"/>
                </a:cubicBezTo>
                <a:cubicBezTo>
                  <a:pt x="1055" y="507"/>
                  <a:pt x="1055" y="507"/>
                  <a:pt x="1055" y="507"/>
                </a:cubicBezTo>
                <a:cubicBezTo>
                  <a:pt x="1057" y="507"/>
                  <a:pt x="1059" y="507"/>
                  <a:pt x="1061" y="507"/>
                </a:cubicBezTo>
                <a:cubicBezTo>
                  <a:pt x="1061" y="507"/>
                  <a:pt x="1061" y="507"/>
                  <a:pt x="1061" y="507"/>
                </a:cubicBezTo>
                <a:cubicBezTo>
                  <a:pt x="1063" y="507"/>
                  <a:pt x="1065" y="507"/>
                  <a:pt x="1067" y="507"/>
                </a:cubicBezTo>
                <a:cubicBezTo>
                  <a:pt x="1067" y="507"/>
                  <a:pt x="1067" y="507"/>
                  <a:pt x="1067" y="507"/>
                </a:cubicBezTo>
                <a:cubicBezTo>
                  <a:pt x="1069" y="507"/>
                  <a:pt x="1072" y="507"/>
                  <a:pt x="1074" y="507"/>
                </a:cubicBezTo>
                <a:cubicBezTo>
                  <a:pt x="1074" y="507"/>
                  <a:pt x="1074" y="507"/>
                  <a:pt x="1074" y="507"/>
                </a:cubicBezTo>
                <a:cubicBezTo>
                  <a:pt x="1076" y="507"/>
                  <a:pt x="1078" y="506"/>
                  <a:pt x="1080" y="506"/>
                </a:cubicBezTo>
                <a:cubicBezTo>
                  <a:pt x="1080" y="506"/>
                  <a:pt x="1080" y="506"/>
                  <a:pt x="1080" y="506"/>
                </a:cubicBezTo>
                <a:cubicBezTo>
                  <a:pt x="1082" y="506"/>
                  <a:pt x="1084" y="506"/>
                  <a:pt x="1086" y="506"/>
                </a:cubicBezTo>
                <a:cubicBezTo>
                  <a:pt x="1086" y="506"/>
                  <a:pt x="1086" y="506"/>
                  <a:pt x="1086" y="506"/>
                </a:cubicBezTo>
                <a:cubicBezTo>
                  <a:pt x="1088" y="505"/>
                  <a:pt x="1091" y="505"/>
                  <a:pt x="1093" y="505"/>
                </a:cubicBezTo>
                <a:cubicBezTo>
                  <a:pt x="1093" y="505"/>
                  <a:pt x="1093" y="505"/>
                  <a:pt x="1093" y="505"/>
                </a:cubicBezTo>
                <a:cubicBezTo>
                  <a:pt x="1095" y="504"/>
                  <a:pt x="1097" y="504"/>
                  <a:pt x="1099" y="504"/>
                </a:cubicBezTo>
                <a:cubicBezTo>
                  <a:pt x="1099" y="504"/>
                  <a:pt x="1099" y="504"/>
                  <a:pt x="1099" y="504"/>
                </a:cubicBezTo>
                <a:cubicBezTo>
                  <a:pt x="1101" y="503"/>
                  <a:pt x="1103" y="503"/>
                  <a:pt x="1105" y="503"/>
                </a:cubicBezTo>
                <a:cubicBezTo>
                  <a:pt x="1105" y="503"/>
                  <a:pt x="1105" y="503"/>
                  <a:pt x="1105" y="503"/>
                </a:cubicBezTo>
                <a:cubicBezTo>
                  <a:pt x="1107" y="502"/>
                  <a:pt x="1109" y="502"/>
                  <a:pt x="1111" y="501"/>
                </a:cubicBezTo>
                <a:cubicBezTo>
                  <a:pt x="1111" y="501"/>
                  <a:pt x="1111" y="501"/>
                  <a:pt x="1111" y="501"/>
                </a:cubicBezTo>
                <a:cubicBezTo>
                  <a:pt x="1113" y="501"/>
                  <a:pt x="1115" y="500"/>
                  <a:pt x="1117" y="500"/>
                </a:cubicBezTo>
                <a:cubicBezTo>
                  <a:pt x="1117" y="500"/>
                  <a:pt x="1117" y="500"/>
                  <a:pt x="1117" y="500"/>
                </a:cubicBezTo>
                <a:cubicBezTo>
                  <a:pt x="1119" y="499"/>
                  <a:pt x="1121" y="499"/>
                  <a:pt x="1123" y="498"/>
                </a:cubicBezTo>
                <a:cubicBezTo>
                  <a:pt x="1123" y="498"/>
                  <a:pt x="1123" y="498"/>
                  <a:pt x="1123" y="498"/>
                </a:cubicBezTo>
                <a:cubicBezTo>
                  <a:pt x="1127" y="497"/>
                  <a:pt x="1131" y="496"/>
                  <a:pt x="1135" y="495"/>
                </a:cubicBezTo>
                <a:cubicBezTo>
                  <a:pt x="1135" y="495"/>
                  <a:pt x="1135" y="495"/>
                  <a:pt x="1135" y="495"/>
                </a:cubicBezTo>
                <a:cubicBezTo>
                  <a:pt x="1213" y="468"/>
                  <a:pt x="1275" y="406"/>
                  <a:pt x="1299" y="324"/>
                </a:cubicBezTo>
                <a:cubicBezTo>
                  <a:pt x="1299" y="324"/>
                  <a:pt x="1299" y="324"/>
                  <a:pt x="1299" y="324"/>
                </a:cubicBezTo>
                <a:cubicBezTo>
                  <a:pt x="1300" y="318"/>
                  <a:pt x="1302" y="312"/>
                  <a:pt x="1303" y="306"/>
                </a:cubicBezTo>
                <a:cubicBezTo>
                  <a:pt x="1303" y="306"/>
                  <a:pt x="1303" y="306"/>
                  <a:pt x="1303" y="306"/>
                </a:cubicBezTo>
                <a:cubicBezTo>
                  <a:pt x="1304" y="304"/>
                  <a:pt x="1304" y="302"/>
                  <a:pt x="1304" y="300"/>
                </a:cubicBezTo>
                <a:cubicBezTo>
                  <a:pt x="1304" y="300"/>
                  <a:pt x="1304" y="300"/>
                  <a:pt x="1304" y="300"/>
                </a:cubicBezTo>
                <a:cubicBezTo>
                  <a:pt x="1305" y="297"/>
                  <a:pt x="1305" y="295"/>
                  <a:pt x="1305" y="293"/>
                </a:cubicBezTo>
                <a:cubicBezTo>
                  <a:pt x="1305" y="293"/>
                  <a:pt x="1305" y="293"/>
                  <a:pt x="1305" y="293"/>
                </a:cubicBezTo>
                <a:cubicBezTo>
                  <a:pt x="1306" y="289"/>
                  <a:pt x="1307" y="285"/>
                  <a:pt x="1307" y="280"/>
                </a:cubicBezTo>
                <a:cubicBezTo>
                  <a:pt x="1307" y="280"/>
                  <a:pt x="1307" y="280"/>
                  <a:pt x="1307" y="280"/>
                </a:cubicBezTo>
                <a:cubicBezTo>
                  <a:pt x="1307" y="278"/>
                  <a:pt x="1307" y="276"/>
                  <a:pt x="1308" y="274"/>
                </a:cubicBezTo>
                <a:cubicBezTo>
                  <a:pt x="1308" y="274"/>
                  <a:pt x="1308" y="274"/>
                  <a:pt x="1308" y="274"/>
                </a:cubicBezTo>
                <a:cubicBezTo>
                  <a:pt x="1308" y="269"/>
                  <a:pt x="1308" y="265"/>
                  <a:pt x="1308" y="260"/>
                </a:cubicBezTo>
                <a:cubicBezTo>
                  <a:pt x="1308" y="260"/>
                  <a:pt x="1308" y="260"/>
                  <a:pt x="1308" y="260"/>
                </a:cubicBezTo>
                <a:cubicBezTo>
                  <a:pt x="1308" y="258"/>
                  <a:pt x="1308" y="256"/>
                  <a:pt x="1308" y="254"/>
                </a:cubicBezTo>
                <a:cubicBezTo>
                  <a:pt x="1308" y="254"/>
                  <a:pt x="1308" y="254"/>
                  <a:pt x="1308" y="254"/>
                </a:cubicBezTo>
                <a:cubicBezTo>
                  <a:pt x="1308" y="251"/>
                  <a:pt x="1308" y="249"/>
                  <a:pt x="1308" y="247"/>
                </a:cubicBezTo>
                <a:cubicBezTo>
                  <a:pt x="1308" y="247"/>
                  <a:pt x="1308" y="247"/>
                  <a:pt x="1308" y="247"/>
                </a:cubicBezTo>
                <a:cubicBezTo>
                  <a:pt x="1308" y="243"/>
                  <a:pt x="1308" y="238"/>
                  <a:pt x="1308" y="234"/>
                </a:cubicBezTo>
                <a:cubicBezTo>
                  <a:pt x="1308" y="234"/>
                  <a:pt x="1308" y="234"/>
                  <a:pt x="1308" y="234"/>
                </a:cubicBezTo>
                <a:cubicBezTo>
                  <a:pt x="1307" y="231"/>
                  <a:pt x="1307" y="229"/>
                  <a:pt x="1307" y="227"/>
                </a:cubicBezTo>
                <a:cubicBezTo>
                  <a:pt x="1307" y="227"/>
                  <a:pt x="1307" y="227"/>
                  <a:pt x="1307" y="227"/>
                </a:cubicBezTo>
                <a:cubicBezTo>
                  <a:pt x="1307" y="223"/>
                  <a:pt x="1306" y="218"/>
                  <a:pt x="1305" y="214"/>
                </a:cubicBezTo>
                <a:cubicBezTo>
                  <a:pt x="1305" y="214"/>
                  <a:pt x="1305" y="214"/>
                  <a:pt x="1305" y="214"/>
                </a:cubicBezTo>
                <a:cubicBezTo>
                  <a:pt x="1305" y="212"/>
                  <a:pt x="1305" y="210"/>
                  <a:pt x="1304" y="208"/>
                </a:cubicBezTo>
                <a:cubicBezTo>
                  <a:pt x="1304" y="208"/>
                  <a:pt x="1304" y="208"/>
                  <a:pt x="1304" y="208"/>
                </a:cubicBezTo>
                <a:cubicBezTo>
                  <a:pt x="1304" y="206"/>
                  <a:pt x="1304" y="204"/>
                  <a:pt x="1303" y="201"/>
                </a:cubicBezTo>
                <a:cubicBezTo>
                  <a:pt x="1303" y="201"/>
                  <a:pt x="1303" y="201"/>
                  <a:pt x="1303" y="201"/>
                </a:cubicBezTo>
                <a:cubicBezTo>
                  <a:pt x="1302" y="195"/>
                  <a:pt x="1300" y="189"/>
                  <a:pt x="1299" y="183"/>
                </a:cubicBezTo>
                <a:cubicBezTo>
                  <a:pt x="1299" y="183"/>
                  <a:pt x="1299" y="183"/>
                  <a:pt x="1299" y="183"/>
                </a:cubicBezTo>
                <a:cubicBezTo>
                  <a:pt x="1275" y="102"/>
                  <a:pt x="1213" y="39"/>
                  <a:pt x="1135" y="13"/>
                </a:cubicBezTo>
                <a:cubicBezTo>
                  <a:pt x="1135" y="13"/>
                  <a:pt x="1135" y="13"/>
                  <a:pt x="1135" y="13"/>
                </a:cubicBezTo>
                <a:cubicBezTo>
                  <a:pt x="1131" y="11"/>
                  <a:pt x="1127" y="10"/>
                  <a:pt x="1123" y="9"/>
                </a:cubicBezTo>
                <a:cubicBezTo>
                  <a:pt x="1123" y="9"/>
                  <a:pt x="1123" y="9"/>
                  <a:pt x="1123" y="9"/>
                </a:cubicBezTo>
                <a:cubicBezTo>
                  <a:pt x="1121" y="9"/>
                  <a:pt x="1119" y="8"/>
                  <a:pt x="1117" y="7"/>
                </a:cubicBezTo>
                <a:cubicBezTo>
                  <a:pt x="1117" y="7"/>
                  <a:pt x="1117" y="7"/>
                  <a:pt x="1117" y="7"/>
                </a:cubicBezTo>
                <a:cubicBezTo>
                  <a:pt x="1115" y="7"/>
                  <a:pt x="1113" y="7"/>
                  <a:pt x="1111" y="6"/>
                </a:cubicBezTo>
                <a:cubicBezTo>
                  <a:pt x="1111" y="6"/>
                  <a:pt x="1111" y="6"/>
                  <a:pt x="1111" y="6"/>
                </a:cubicBezTo>
                <a:cubicBezTo>
                  <a:pt x="1109" y="6"/>
                  <a:pt x="1107" y="5"/>
                  <a:pt x="1105" y="5"/>
                </a:cubicBezTo>
                <a:cubicBezTo>
                  <a:pt x="1105" y="5"/>
                  <a:pt x="1105" y="5"/>
                  <a:pt x="1105" y="5"/>
                </a:cubicBezTo>
                <a:cubicBezTo>
                  <a:pt x="1103" y="4"/>
                  <a:pt x="1101" y="4"/>
                  <a:pt x="1099" y="4"/>
                </a:cubicBezTo>
                <a:cubicBezTo>
                  <a:pt x="1099" y="4"/>
                  <a:pt x="1099" y="4"/>
                  <a:pt x="1099" y="4"/>
                </a:cubicBezTo>
                <a:cubicBezTo>
                  <a:pt x="1097" y="3"/>
                  <a:pt x="1095" y="3"/>
                  <a:pt x="1093" y="3"/>
                </a:cubicBezTo>
                <a:cubicBezTo>
                  <a:pt x="1093" y="3"/>
                  <a:pt x="1093" y="3"/>
                  <a:pt x="1093" y="3"/>
                </a:cubicBezTo>
                <a:cubicBezTo>
                  <a:pt x="1091" y="2"/>
                  <a:pt x="1088" y="2"/>
                  <a:pt x="1086" y="2"/>
                </a:cubicBezTo>
                <a:cubicBezTo>
                  <a:pt x="1086" y="2"/>
                  <a:pt x="1086" y="2"/>
                  <a:pt x="1086" y="2"/>
                </a:cubicBezTo>
                <a:cubicBezTo>
                  <a:pt x="1084" y="1"/>
                  <a:pt x="1082" y="1"/>
                  <a:pt x="1080" y="1"/>
                </a:cubicBezTo>
                <a:cubicBezTo>
                  <a:pt x="1080" y="1"/>
                  <a:pt x="1080" y="1"/>
                  <a:pt x="1080" y="1"/>
                </a:cubicBezTo>
                <a:cubicBezTo>
                  <a:pt x="1078" y="1"/>
                  <a:pt x="1076" y="1"/>
                  <a:pt x="1074" y="1"/>
                </a:cubicBezTo>
                <a:cubicBezTo>
                  <a:pt x="1074" y="1"/>
                  <a:pt x="1074" y="1"/>
                  <a:pt x="1074" y="1"/>
                </a:cubicBezTo>
                <a:cubicBezTo>
                  <a:pt x="1072" y="0"/>
                  <a:pt x="1069" y="0"/>
                  <a:pt x="1067" y="0"/>
                </a:cubicBezTo>
                <a:cubicBezTo>
                  <a:pt x="1067" y="0"/>
                  <a:pt x="1067" y="0"/>
                  <a:pt x="1067" y="0"/>
                </a:cubicBezTo>
                <a:cubicBezTo>
                  <a:pt x="1065" y="0"/>
                  <a:pt x="1063" y="0"/>
                  <a:pt x="1061" y="0"/>
                </a:cubicBezTo>
                <a:cubicBezTo>
                  <a:pt x="1061" y="0"/>
                  <a:pt x="1061" y="0"/>
                  <a:pt x="1061" y="0"/>
                </a:cubicBezTo>
                <a:cubicBezTo>
                  <a:pt x="1059" y="0"/>
                  <a:pt x="1057" y="0"/>
                  <a:pt x="1055" y="0"/>
                </a:cubicBezTo>
                <a:cubicBezTo>
                  <a:pt x="1055" y="0"/>
                  <a:pt x="1055" y="0"/>
                  <a:pt x="1055" y="0"/>
                </a:cubicBezTo>
                <a:cubicBezTo>
                  <a:pt x="1053" y="0"/>
                  <a:pt x="1053" y="0"/>
                  <a:pt x="1053" y="0"/>
                </a:cubicBezTo>
                <a:cubicBezTo>
                  <a:pt x="1052" y="0"/>
                  <a:pt x="1051" y="0"/>
                  <a:pt x="1051" y="0"/>
                </a:cubicBezTo>
                <a:cubicBezTo>
                  <a:pt x="1050" y="0"/>
                  <a:pt x="1048" y="0"/>
                  <a:pt x="1047" y="0"/>
                </a:cubicBezTo>
                <a:cubicBezTo>
                  <a:pt x="1047" y="0"/>
                  <a:pt x="1047" y="0"/>
                  <a:pt x="1047" y="0"/>
                </a:cubicBezTo>
                <a:cubicBezTo>
                  <a:pt x="953" y="2"/>
                  <a:pt x="898" y="53"/>
                  <a:pt x="820" y="88"/>
                </a:cubicBezTo>
                <a:cubicBezTo>
                  <a:pt x="775" y="107"/>
                  <a:pt x="723" y="121"/>
                  <a:pt x="653" y="122"/>
                </a:cubicBezTo>
                <a:cubicBezTo>
                  <a:pt x="585" y="121"/>
                  <a:pt x="533" y="107"/>
                  <a:pt x="489" y="89"/>
                </a:cubicBezTo>
                <a:cubicBezTo>
                  <a:pt x="412" y="54"/>
                  <a:pt x="359" y="5"/>
                  <a:pt x="268" y="0"/>
                </a:cubicBezTo>
                <a:cubicBezTo>
                  <a:pt x="267" y="0"/>
                  <a:pt x="265" y="0"/>
                  <a:pt x="264" y="0"/>
                </a:cubicBezTo>
                <a:cubicBezTo>
                  <a:pt x="262" y="0"/>
                  <a:pt x="262" y="0"/>
                  <a:pt x="262" y="0"/>
                </a:cubicBezTo>
                <a:cubicBezTo>
                  <a:pt x="259" y="0"/>
                  <a:pt x="256" y="0"/>
                  <a:pt x="254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51" y="0"/>
                  <a:pt x="249" y="0"/>
                  <a:pt x="247" y="0"/>
                </a:cubicBezTo>
                <a:cubicBezTo>
                  <a:pt x="247" y="0"/>
                  <a:pt x="247" y="0"/>
                  <a:pt x="247" y="0"/>
                </a:cubicBezTo>
                <a:cubicBezTo>
                  <a:pt x="245" y="0"/>
                  <a:pt x="243" y="0"/>
                  <a:pt x="241" y="0"/>
                </a:cubicBezTo>
                <a:cubicBezTo>
                  <a:pt x="241" y="0"/>
                  <a:pt x="241" y="0"/>
                  <a:pt x="241" y="0"/>
                </a:cubicBezTo>
                <a:cubicBezTo>
                  <a:pt x="239" y="0"/>
                  <a:pt x="236" y="0"/>
                  <a:pt x="234" y="1"/>
                </a:cubicBezTo>
                <a:cubicBezTo>
                  <a:pt x="234" y="1"/>
                  <a:pt x="234" y="1"/>
                  <a:pt x="234" y="1"/>
                </a:cubicBezTo>
                <a:cubicBezTo>
                  <a:pt x="232" y="1"/>
                  <a:pt x="230" y="1"/>
                  <a:pt x="228" y="1"/>
                </a:cubicBezTo>
                <a:cubicBezTo>
                  <a:pt x="228" y="1"/>
                  <a:pt x="228" y="1"/>
                  <a:pt x="228" y="1"/>
                </a:cubicBezTo>
                <a:cubicBezTo>
                  <a:pt x="226" y="1"/>
                  <a:pt x="224" y="1"/>
                  <a:pt x="222" y="2"/>
                </a:cubicBezTo>
                <a:cubicBezTo>
                  <a:pt x="222" y="2"/>
                  <a:pt x="222" y="2"/>
                  <a:pt x="222" y="2"/>
                </a:cubicBezTo>
                <a:cubicBezTo>
                  <a:pt x="220" y="2"/>
                  <a:pt x="218" y="2"/>
                  <a:pt x="215" y="3"/>
                </a:cubicBezTo>
                <a:cubicBezTo>
                  <a:pt x="215" y="3"/>
                  <a:pt x="215" y="3"/>
                  <a:pt x="215" y="3"/>
                </a:cubicBezTo>
                <a:cubicBezTo>
                  <a:pt x="213" y="3"/>
                  <a:pt x="211" y="3"/>
                  <a:pt x="209" y="4"/>
                </a:cubicBezTo>
                <a:cubicBezTo>
                  <a:pt x="209" y="4"/>
                  <a:pt x="209" y="4"/>
                  <a:pt x="209" y="4"/>
                </a:cubicBezTo>
                <a:cubicBezTo>
                  <a:pt x="207" y="4"/>
                  <a:pt x="205" y="4"/>
                  <a:pt x="203" y="5"/>
                </a:cubicBezTo>
                <a:cubicBezTo>
                  <a:pt x="203" y="5"/>
                  <a:pt x="203" y="5"/>
                  <a:pt x="203" y="5"/>
                </a:cubicBezTo>
                <a:cubicBezTo>
                  <a:pt x="201" y="5"/>
                  <a:pt x="199" y="6"/>
                  <a:pt x="197" y="6"/>
                </a:cubicBezTo>
                <a:cubicBezTo>
                  <a:pt x="197" y="6"/>
                  <a:pt x="197" y="6"/>
                  <a:pt x="197" y="6"/>
                </a:cubicBezTo>
                <a:cubicBezTo>
                  <a:pt x="195" y="7"/>
                  <a:pt x="193" y="7"/>
                  <a:pt x="191" y="7"/>
                </a:cubicBezTo>
                <a:cubicBezTo>
                  <a:pt x="191" y="7"/>
                  <a:pt x="191" y="7"/>
                  <a:pt x="191" y="7"/>
                </a:cubicBezTo>
                <a:cubicBezTo>
                  <a:pt x="189" y="8"/>
                  <a:pt x="187" y="9"/>
                  <a:pt x="185" y="9"/>
                </a:cubicBezTo>
                <a:cubicBezTo>
                  <a:pt x="185" y="9"/>
                  <a:pt x="185" y="9"/>
                  <a:pt x="185" y="9"/>
                </a:cubicBezTo>
                <a:cubicBezTo>
                  <a:pt x="181" y="10"/>
                  <a:pt x="177" y="11"/>
                  <a:pt x="173" y="13"/>
                </a:cubicBezTo>
                <a:cubicBezTo>
                  <a:pt x="173" y="13"/>
                  <a:pt x="173" y="13"/>
                  <a:pt x="173" y="13"/>
                </a:cubicBezTo>
                <a:cubicBezTo>
                  <a:pt x="95" y="39"/>
                  <a:pt x="33" y="102"/>
                  <a:pt x="9" y="183"/>
                </a:cubicBezTo>
                <a:cubicBezTo>
                  <a:pt x="9" y="183"/>
                  <a:pt x="9" y="183"/>
                  <a:pt x="9" y="183"/>
                </a:cubicBezTo>
                <a:cubicBezTo>
                  <a:pt x="8" y="189"/>
                  <a:pt x="6" y="195"/>
                  <a:pt x="5" y="201"/>
                </a:cubicBezTo>
                <a:cubicBezTo>
                  <a:pt x="5" y="201"/>
                  <a:pt x="5" y="201"/>
                  <a:pt x="5" y="201"/>
                </a:cubicBezTo>
                <a:cubicBezTo>
                  <a:pt x="4" y="204"/>
                  <a:pt x="4" y="206"/>
                  <a:pt x="4" y="208"/>
                </a:cubicBezTo>
                <a:cubicBezTo>
                  <a:pt x="4" y="208"/>
                  <a:pt x="4" y="208"/>
                  <a:pt x="4" y="208"/>
                </a:cubicBezTo>
                <a:cubicBezTo>
                  <a:pt x="3" y="210"/>
                  <a:pt x="3" y="212"/>
                  <a:pt x="3" y="214"/>
                </a:cubicBezTo>
                <a:cubicBezTo>
                  <a:pt x="3" y="214"/>
                  <a:pt x="3" y="214"/>
                  <a:pt x="3" y="214"/>
                </a:cubicBezTo>
                <a:cubicBezTo>
                  <a:pt x="2" y="218"/>
                  <a:pt x="1" y="223"/>
                  <a:pt x="1" y="227"/>
                </a:cubicBezTo>
                <a:cubicBezTo>
                  <a:pt x="1" y="227"/>
                  <a:pt x="1" y="227"/>
                  <a:pt x="1" y="227"/>
                </a:cubicBezTo>
                <a:cubicBezTo>
                  <a:pt x="1" y="229"/>
                  <a:pt x="1" y="231"/>
                  <a:pt x="0" y="234"/>
                </a:cubicBezTo>
                <a:cubicBezTo>
                  <a:pt x="0" y="234"/>
                  <a:pt x="0" y="234"/>
                  <a:pt x="0" y="234"/>
                </a:cubicBezTo>
                <a:cubicBezTo>
                  <a:pt x="0" y="238"/>
                  <a:pt x="0" y="243"/>
                  <a:pt x="0" y="247"/>
                </a:cubicBezTo>
                <a:cubicBezTo>
                  <a:pt x="0" y="247"/>
                  <a:pt x="0" y="247"/>
                  <a:pt x="0" y="247"/>
                </a:cubicBezTo>
                <a:cubicBezTo>
                  <a:pt x="0" y="249"/>
                  <a:pt x="0" y="251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6"/>
                  <a:pt x="0" y="258"/>
                  <a:pt x="0" y="260"/>
                </a:cubicBezTo>
                <a:cubicBezTo>
                  <a:pt x="0" y="260"/>
                  <a:pt x="0" y="260"/>
                  <a:pt x="0" y="260"/>
                </a:cubicBezTo>
                <a:cubicBezTo>
                  <a:pt x="0" y="265"/>
                  <a:pt x="0" y="269"/>
                  <a:pt x="0" y="274"/>
                </a:cubicBezTo>
                <a:cubicBezTo>
                  <a:pt x="0" y="274"/>
                  <a:pt x="0" y="274"/>
                  <a:pt x="0" y="274"/>
                </a:cubicBezTo>
                <a:cubicBezTo>
                  <a:pt x="1" y="276"/>
                  <a:pt x="1" y="278"/>
                  <a:pt x="1" y="280"/>
                </a:cubicBezTo>
                <a:cubicBezTo>
                  <a:pt x="1" y="280"/>
                  <a:pt x="1" y="280"/>
                  <a:pt x="1" y="280"/>
                </a:cubicBezTo>
                <a:cubicBezTo>
                  <a:pt x="1" y="285"/>
                  <a:pt x="2" y="289"/>
                  <a:pt x="3" y="293"/>
                </a:cubicBezTo>
                <a:cubicBezTo>
                  <a:pt x="3" y="293"/>
                  <a:pt x="3" y="293"/>
                  <a:pt x="3" y="293"/>
                </a:cubicBezTo>
                <a:cubicBezTo>
                  <a:pt x="3" y="295"/>
                  <a:pt x="3" y="297"/>
                  <a:pt x="4" y="300"/>
                </a:cubicBezTo>
                <a:cubicBezTo>
                  <a:pt x="4" y="300"/>
                  <a:pt x="4" y="300"/>
                  <a:pt x="4" y="300"/>
                </a:cubicBezTo>
                <a:cubicBezTo>
                  <a:pt x="4" y="302"/>
                  <a:pt x="4" y="304"/>
                  <a:pt x="5" y="306"/>
                </a:cubicBezTo>
                <a:cubicBezTo>
                  <a:pt x="5" y="306"/>
                  <a:pt x="5" y="306"/>
                  <a:pt x="5" y="306"/>
                </a:cubicBezTo>
                <a:cubicBezTo>
                  <a:pt x="6" y="312"/>
                  <a:pt x="8" y="318"/>
                  <a:pt x="9" y="324"/>
                </a:cubicBezTo>
                <a:cubicBezTo>
                  <a:pt x="9" y="324"/>
                  <a:pt x="9" y="324"/>
                  <a:pt x="9" y="324"/>
                </a:cubicBezTo>
                <a:cubicBezTo>
                  <a:pt x="33" y="406"/>
                  <a:pt x="95" y="468"/>
                  <a:pt x="173" y="495"/>
                </a:cubicBezTo>
                <a:cubicBezTo>
                  <a:pt x="173" y="495"/>
                  <a:pt x="173" y="495"/>
                  <a:pt x="173" y="495"/>
                </a:cubicBezTo>
                <a:cubicBezTo>
                  <a:pt x="177" y="496"/>
                  <a:pt x="181" y="497"/>
                  <a:pt x="185" y="498"/>
                </a:cubicBezTo>
                <a:cubicBezTo>
                  <a:pt x="185" y="498"/>
                  <a:pt x="185" y="498"/>
                  <a:pt x="185" y="498"/>
                </a:cubicBezTo>
                <a:cubicBezTo>
                  <a:pt x="187" y="499"/>
                  <a:pt x="189" y="499"/>
                  <a:pt x="191" y="500"/>
                </a:cubicBezTo>
                <a:cubicBezTo>
                  <a:pt x="191" y="500"/>
                  <a:pt x="191" y="500"/>
                  <a:pt x="191" y="500"/>
                </a:cubicBezTo>
                <a:cubicBezTo>
                  <a:pt x="193" y="500"/>
                  <a:pt x="195" y="501"/>
                  <a:pt x="197" y="501"/>
                </a:cubicBezTo>
                <a:cubicBezTo>
                  <a:pt x="197" y="501"/>
                  <a:pt x="197" y="501"/>
                  <a:pt x="197" y="501"/>
                </a:cubicBezTo>
                <a:cubicBezTo>
                  <a:pt x="199" y="502"/>
                  <a:pt x="201" y="502"/>
                  <a:pt x="203" y="503"/>
                </a:cubicBezTo>
                <a:cubicBezTo>
                  <a:pt x="203" y="503"/>
                  <a:pt x="203" y="503"/>
                  <a:pt x="203" y="503"/>
                </a:cubicBezTo>
                <a:cubicBezTo>
                  <a:pt x="205" y="503"/>
                  <a:pt x="207" y="503"/>
                  <a:pt x="209" y="504"/>
                </a:cubicBezTo>
                <a:cubicBezTo>
                  <a:pt x="209" y="504"/>
                  <a:pt x="209" y="504"/>
                  <a:pt x="209" y="504"/>
                </a:cubicBezTo>
                <a:cubicBezTo>
                  <a:pt x="211" y="504"/>
                  <a:pt x="213" y="504"/>
                  <a:pt x="215" y="505"/>
                </a:cubicBezTo>
                <a:cubicBezTo>
                  <a:pt x="215" y="505"/>
                  <a:pt x="215" y="505"/>
                  <a:pt x="215" y="505"/>
                </a:cubicBezTo>
                <a:cubicBezTo>
                  <a:pt x="218" y="505"/>
                  <a:pt x="220" y="505"/>
                  <a:pt x="222" y="506"/>
                </a:cubicBezTo>
                <a:cubicBezTo>
                  <a:pt x="222" y="506"/>
                  <a:pt x="222" y="506"/>
                  <a:pt x="222" y="506"/>
                </a:cubicBezTo>
                <a:cubicBezTo>
                  <a:pt x="224" y="506"/>
                  <a:pt x="226" y="506"/>
                  <a:pt x="228" y="506"/>
                </a:cubicBezTo>
                <a:cubicBezTo>
                  <a:pt x="228" y="506"/>
                  <a:pt x="228" y="506"/>
                  <a:pt x="228" y="506"/>
                </a:cubicBezTo>
                <a:cubicBezTo>
                  <a:pt x="230" y="506"/>
                  <a:pt x="232" y="507"/>
                  <a:pt x="234" y="507"/>
                </a:cubicBezTo>
                <a:cubicBezTo>
                  <a:pt x="234" y="507"/>
                  <a:pt x="234" y="507"/>
                  <a:pt x="234" y="507"/>
                </a:cubicBezTo>
                <a:cubicBezTo>
                  <a:pt x="236" y="507"/>
                  <a:pt x="239" y="507"/>
                  <a:pt x="241" y="507"/>
                </a:cubicBezTo>
                <a:cubicBezTo>
                  <a:pt x="241" y="507"/>
                  <a:pt x="241" y="507"/>
                  <a:pt x="241" y="507"/>
                </a:cubicBezTo>
                <a:cubicBezTo>
                  <a:pt x="243" y="507"/>
                  <a:pt x="245" y="507"/>
                  <a:pt x="247" y="507"/>
                </a:cubicBezTo>
                <a:cubicBezTo>
                  <a:pt x="247" y="507"/>
                  <a:pt x="247" y="507"/>
                  <a:pt x="247" y="507"/>
                </a:cubicBezTo>
                <a:cubicBezTo>
                  <a:pt x="249" y="507"/>
                  <a:pt x="251" y="507"/>
                  <a:pt x="254" y="507"/>
                </a:cubicBezTo>
                <a:cubicBezTo>
                  <a:pt x="254" y="507"/>
                  <a:pt x="254" y="507"/>
                  <a:pt x="254" y="507"/>
                </a:cubicBezTo>
                <a:cubicBezTo>
                  <a:pt x="254" y="507"/>
                  <a:pt x="254" y="507"/>
                  <a:pt x="254" y="507"/>
                </a:cubicBezTo>
                <a:cubicBezTo>
                  <a:pt x="256" y="507"/>
                  <a:pt x="259" y="507"/>
                  <a:pt x="262" y="507"/>
                </a:cubicBezTo>
                <a:cubicBezTo>
                  <a:pt x="262" y="507"/>
                  <a:pt x="263" y="507"/>
                  <a:pt x="264" y="507"/>
                </a:cubicBezTo>
                <a:cubicBezTo>
                  <a:pt x="265" y="507"/>
                  <a:pt x="267" y="507"/>
                  <a:pt x="268" y="507"/>
                </a:cubicBezTo>
                <a:cubicBezTo>
                  <a:pt x="359" y="502"/>
                  <a:pt x="412" y="453"/>
                  <a:pt x="489" y="418"/>
                </a:cubicBezTo>
                <a:close/>
              </a:path>
            </a:pathLst>
          </a:cu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89" name="Freeform 6"/>
          <p:cNvSpPr/>
          <p:nvPr/>
        </p:nvSpPr>
        <p:spPr>
          <a:xfrm>
            <a:off x="7102440" y="3819600"/>
            <a:ext cx="671400" cy="669960"/>
          </a:xfrm>
          <a:custGeom>
            <a:avLst/>
            <a:gdLst/>
            <a:ahLst/>
            <a:rect l="l" t="t" r="r" b="b"/>
            <a:pathLst>
              <a:path w="483" h="483">
                <a:moveTo>
                  <a:pt x="86" y="86"/>
                </a:moveTo>
                <a:cubicBezTo>
                  <a:pt x="172" y="0"/>
                  <a:pt x="311" y="0"/>
                  <a:pt x="397" y="86"/>
                </a:cubicBezTo>
                <a:cubicBezTo>
                  <a:pt x="483" y="172"/>
                  <a:pt x="483" y="311"/>
                  <a:pt x="397" y="397"/>
                </a:cubicBezTo>
                <a:cubicBezTo>
                  <a:pt x="311" y="483"/>
                  <a:pt x="172" y="483"/>
                  <a:pt x="86" y="397"/>
                </a:cubicBezTo>
                <a:cubicBezTo>
                  <a:pt x="0" y="311"/>
                  <a:pt x="0" y="172"/>
                  <a:pt x="86" y="86"/>
                </a:cubicBez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90" name="Freeform 7"/>
          <p:cNvSpPr/>
          <p:nvPr/>
        </p:nvSpPr>
        <p:spPr>
          <a:xfrm>
            <a:off x="4402080" y="2687760"/>
            <a:ext cx="703440" cy="1819080"/>
          </a:xfrm>
          <a:custGeom>
            <a:avLst/>
            <a:gdLst/>
            <a:ahLst/>
            <a:rect l="l" t="t" r="r" b="b"/>
            <a:pathLst>
              <a:path w="507" h="1309">
                <a:moveTo>
                  <a:pt x="89" y="819"/>
                </a:moveTo>
                <a:cubicBezTo>
                  <a:pt x="107" y="775"/>
                  <a:pt x="120" y="724"/>
                  <a:pt x="121" y="656"/>
                </a:cubicBezTo>
                <a:cubicBezTo>
                  <a:pt x="121" y="586"/>
                  <a:pt x="107" y="533"/>
                  <a:pt x="88" y="488"/>
                </a:cubicBezTo>
                <a:cubicBezTo>
                  <a:pt x="53" y="412"/>
                  <a:pt x="5" y="358"/>
                  <a:pt x="0" y="269"/>
                </a:cubicBezTo>
                <a:cubicBezTo>
                  <a:pt x="0" y="267"/>
                  <a:pt x="0" y="266"/>
                  <a:pt x="0" y="264"/>
                </a:cubicBezTo>
                <a:cubicBezTo>
                  <a:pt x="0" y="262"/>
                  <a:pt x="0" y="262"/>
                  <a:pt x="0" y="262"/>
                </a:cubicBezTo>
                <a:cubicBezTo>
                  <a:pt x="0" y="259"/>
                  <a:pt x="0" y="257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1"/>
                  <a:pt x="0" y="249"/>
                  <a:pt x="0" y="247"/>
                </a:cubicBezTo>
                <a:cubicBezTo>
                  <a:pt x="0" y="247"/>
                  <a:pt x="0" y="247"/>
                  <a:pt x="0" y="247"/>
                </a:cubicBezTo>
                <a:cubicBezTo>
                  <a:pt x="0" y="245"/>
                  <a:pt x="0" y="243"/>
                  <a:pt x="0" y="241"/>
                </a:cubicBezTo>
                <a:cubicBezTo>
                  <a:pt x="0" y="241"/>
                  <a:pt x="0" y="241"/>
                  <a:pt x="0" y="241"/>
                </a:cubicBezTo>
                <a:cubicBezTo>
                  <a:pt x="0" y="239"/>
                  <a:pt x="0" y="237"/>
                  <a:pt x="0" y="234"/>
                </a:cubicBezTo>
                <a:cubicBezTo>
                  <a:pt x="0" y="234"/>
                  <a:pt x="0" y="234"/>
                  <a:pt x="0" y="234"/>
                </a:cubicBezTo>
                <a:cubicBezTo>
                  <a:pt x="0" y="232"/>
                  <a:pt x="1" y="230"/>
                  <a:pt x="1" y="228"/>
                </a:cubicBezTo>
                <a:cubicBezTo>
                  <a:pt x="1" y="228"/>
                  <a:pt x="1" y="228"/>
                  <a:pt x="1" y="228"/>
                </a:cubicBezTo>
                <a:cubicBezTo>
                  <a:pt x="1" y="226"/>
                  <a:pt x="1" y="224"/>
                  <a:pt x="1" y="222"/>
                </a:cubicBezTo>
                <a:cubicBezTo>
                  <a:pt x="1" y="222"/>
                  <a:pt x="1" y="222"/>
                  <a:pt x="1" y="222"/>
                </a:cubicBezTo>
                <a:cubicBezTo>
                  <a:pt x="2" y="220"/>
                  <a:pt x="2" y="218"/>
                  <a:pt x="2" y="216"/>
                </a:cubicBezTo>
                <a:cubicBezTo>
                  <a:pt x="2" y="216"/>
                  <a:pt x="2" y="216"/>
                  <a:pt x="2" y="216"/>
                </a:cubicBezTo>
                <a:cubicBezTo>
                  <a:pt x="3" y="214"/>
                  <a:pt x="3" y="212"/>
                  <a:pt x="3" y="209"/>
                </a:cubicBezTo>
                <a:cubicBezTo>
                  <a:pt x="3" y="209"/>
                  <a:pt x="3" y="209"/>
                  <a:pt x="3" y="209"/>
                </a:cubicBezTo>
                <a:cubicBezTo>
                  <a:pt x="4" y="207"/>
                  <a:pt x="4" y="205"/>
                  <a:pt x="5" y="203"/>
                </a:cubicBezTo>
                <a:cubicBezTo>
                  <a:pt x="5" y="203"/>
                  <a:pt x="5" y="203"/>
                  <a:pt x="5" y="203"/>
                </a:cubicBezTo>
                <a:cubicBezTo>
                  <a:pt x="5" y="201"/>
                  <a:pt x="5" y="199"/>
                  <a:pt x="6" y="197"/>
                </a:cubicBezTo>
                <a:cubicBezTo>
                  <a:pt x="6" y="197"/>
                  <a:pt x="6" y="197"/>
                  <a:pt x="6" y="197"/>
                </a:cubicBezTo>
                <a:cubicBezTo>
                  <a:pt x="6" y="195"/>
                  <a:pt x="7" y="193"/>
                  <a:pt x="7" y="191"/>
                </a:cubicBezTo>
                <a:cubicBezTo>
                  <a:pt x="7" y="191"/>
                  <a:pt x="7" y="191"/>
                  <a:pt x="7" y="191"/>
                </a:cubicBezTo>
                <a:cubicBezTo>
                  <a:pt x="8" y="189"/>
                  <a:pt x="8" y="187"/>
                  <a:pt x="9" y="185"/>
                </a:cubicBezTo>
                <a:cubicBezTo>
                  <a:pt x="9" y="185"/>
                  <a:pt x="9" y="185"/>
                  <a:pt x="9" y="185"/>
                </a:cubicBezTo>
                <a:cubicBezTo>
                  <a:pt x="10" y="181"/>
                  <a:pt x="11" y="177"/>
                  <a:pt x="12" y="173"/>
                </a:cubicBezTo>
                <a:cubicBezTo>
                  <a:pt x="13" y="173"/>
                  <a:pt x="13" y="173"/>
                  <a:pt x="13" y="173"/>
                </a:cubicBezTo>
                <a:cubicBezTo>
                  <a:pt x="38" y="95"/>
                  <a:pt x="101" y="33"/>
                  <a:pt x="183" y="10"/>
                </a:cubicBezTo>
                <a:cubicBezTo>
                  <a:pt x="183" y="10"/>
                  <a:pt x="183" y="10"/>
                  <a:pt x="183" y="10"/>
                </a:cubicBezTo>
                <a:cubicBezTo>
                  <a:pt x="189" y="8"/>
                  <a:pt x="195" y="6"/>
                  <a:pt x="201" y="5"/>
                </a:cubicBezTo>
                <a:cubicBezTo>
                  <a:pt x="201" y="5"/>
                  <a:pt x="201" y="5"/>
                  <a:pt x="201" y="5"/>
                </a:cubicBezTo>
                <a:cubicBezTo>
                  <a:pt x="203" y="5"/>
                  <a:pt x="205" y="4"/>
                  <a:pt x="208" y="4"/>
                </a:cubicBezTo>
                <a:cubicBezTo>
                  <a:pt x="208" y="4"/>
                  <a:pt x="208" y="4"/>
                  <a:pt x="208" y="4"/>
                </a:cubicBezTo>
                <a:cubicBezTo>
                  <a:pt x="210" y="3"/>
                  <a:pt x="212" y="3"/>
                  <a:pt x="214" y="3"/>
                </a:cubicBezTo>
                <a:cubicBezTo>
                  <a:pt x="214" y="3"/>
                  <a:pt x="214" y="3"/>
                  <a:pt x="214" y="3"/>
                </a:cubicBezTo>
                <a:cubicBezTo>
                  <a:pt x="218" y="2"/>
                  <a:pt x="223" y="2"/>
                  <a:pt x="227" y="1"/>
                </a:cubicBezTo>
                <a:cubicBezTo>
                  <a:pt x="227" y="1"/>
                  <a:pt x="227" y="1"/>
                  <a:pt x="227" y="1"/>
                </a:cubicBezTo>
                <a:cubicBezTo>
                  <a:pt x="229" y="1"/>
                  <a:pt x="231" y="1"/>
                  <a:pt x="233" y="0"/>
                </a:cubicBezTo>
                <a:cubicBezTo>
                  <a:pt x="233" y="0"/>
                  <a:pt x="233" y="0"/>
                  <a:pt x="233" y="0"/>
                </a:cubicBezTo>
                <a:cubicBezTo>
                  <a:pt x="238" y="0"/>
                  <a:pt x="242" y="0"/>
                  <a:pt x="247" y="0"/>
                </a:cubicBezTo>
                <a:cubicBezTo>
                  <a:pt x="247" y="0"/>
                  <a:pt x="247" y="0"/>
                  <a:pt x="247" y="0"/>
                </a:cubicBezTo>
                <a:cubicBezTo>
                  <a:pt x="249" y="0"/>
                  <a:pt x="251" y="0"/>
                  <a:pt x="253" y="0"/>
                </a:cubicBezTo>
                <a:cubicBezTo>
                  <a:pt x="253" y="0"/>
                  <a:pt x="253" y="0"/>
                  <a:pt x="253" y="0"/>
                </a:cubicBezTo>
                <a:cubicBezTo>
                  <a:pt x="256" y="0"/>
                  <a:pt x="258" y="0"/>
                  <a:pt x="260" y="0"/>
                </a:cubicBezTo>
                <a:cubicBezTo>
                  <a:pt x="260" y="0"/>
                  <a:pt x="260" y="0"/>
                  <a:pt x="260" y="0"/>
                </a:cubicBezTo>
                <a:cubicBezTo>
                  <a:pt x="265" y="0"/>
                  <a:pt x="269" y="0"/>
                  <a:pt x="273" y="0"/>
                </a:cubicBezTo>
                <a:cubicBezTo>
                  <a:pt x="273" y="0"/>
                  <a:pt x="273" y="0"/>
                  <a:pt x="273" y="0"/>
                </a:cubicBezTo>
                <a:cubicBezTo>
                  <a:pt x="276" y="1"/>
                  <a:pt x="278" y="1"/>
                  <a:pt x="280" y="1"/>
                </a:cubicBezTo>
                <a:cubicBezTo>
                  <a:pt x="280" y="1"/>
                  <a:pt x="280" y="1"/>
                  <a:pt x="280" y="1"/>
                </a:cubicBezTo>
                <a:cubicBezTo>
                  <a:pt x="284" y="2"/>
                  <a:pt x="289" y="2"/>
                  <a:pt x="293" y="3"/>
                </a:cubicBezTo>
                <a:cubicBezTo>
                  <a:pt x="293" y="3"/>
                  <a:pt x="293" y="3"/>
                  <a:pt x="293" y="3"/>
                </a:cubicBezTo>
                <a:cubicBezTo>
                  <a:pt x="295" y="3"/>
                  <a:pt x="297" y="3"/>
                  <a:pt x="299" y="4"/>
                </a:cubicBezTo>
                <a:cubicBezTo>
                  <a:pt x="299" y="4"/>
                  <a:pt x="299" y="4"/>
                  <a:pt x="299" y="4"/>
                </a:cubicBezTo>
                <a:cubicBezTo>
                  <a:pt x="301" y="4"/>
                  <a:pt x="303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12" y="6"/>
                  <a:pt x="318" y="8"/>
                  <a:pt x="324" y="10"/>
                </a:cubicBezTo>
                <a:cubicBezTo>
                  <a:pt x="324" y="10"/>
                  <a:pt x="324" y="10"/>
                  <a:pt x="324" y="10"/>
                </a:cubicBezTo>
                <a:cubicBezTo>
                  <a:pt x="405" y="33"/>
                  <a:pt x="468" y="95"/>
                  <a:pt x="494" y="173"/>
                </a:cubicBezTo>
                <a:cubicBezTo>
                  <a:pt x="494" y="173"/>
                  <a:pt x="494" y="173"/>
                  <a:pt x="494" y="173"/>
                </a:cubicBezTo>
                <a:cubicBezTo>
                  <a:pt x="496" y="177"/>
                  <a:pt x="497" y="181"/>
                  <a:pt x="498" y="185"/>
                </a:cubicBezTo>
                <a:cubicBezTo>
                  <a:pt x="498" y="185"/>
                  <a:pt x="498" y="185"/>
                  <a:pt x="498" y="185"/>
                </a:cubicBezTo>
                <a:cubicBezTo>
                  <a:pt x="498" y="187"/>
                  <a:pt x="499" y="189"/>
                  <a:pt x="499" y="191"/>
                </a:cubicBezTo>
                <a:cubicBezTo>
                  <a:pt x="499" y="191"/>
                  <a:pt x="499" y="191"/>
                  <a:pt x="499" y="191"/>
                </a:cubicBezTo>
                <a:cubicBezTo>
                  <a:pt x="500" y="193"/>
                  <a:pt x="501" y="195"/>
                  <a:pt x="501" y="197"/>
                </a:cubicBezTo>
                <a:cubicBezTo>
                  <a:pt x="501" y="197"/>
                  <a:pt x="501" y="197"/>
                  <a:pt x="501" y="197"/>
                </a:cubicBezTo>
                <a:cubicBezTo>
                  <a:pt x="501" y="199"/>
                  <a:pt x="502" y="201"/>
                  <a:pt x="502" y="203"/>
                </a:cubicBezTo>
                <a:cubicBezTo>
                  <a:pt x="502" y="203"/>
                  <a:pt x="502" y="203"/>
                  <a:pt x="502" y="203"/>
                </a:cubicBezTo>
                <a:cubicBezTo>
                  <a:pt x="503" y="205"/>
                  <a:pt x="503" y="207"/>
                  <a:pt x="503" y="209"/>
                </a:cubicBezTo>
                <a:cubicBezTo>
                  <a:pt x="503" y="209"/>
                  <a:pt x="503" y="209"/>
                  <a:pt x="503" y="209"/>
                </a:cubicBezTo>
                <a:cubicBezTo>
                  <a:pt x="504" y="212"/>
                  <a:pt x="504" y="214"/>
                  <a:pt x="504" y="216"/>
                </a:cubicBezTo>
                <a:cubicBezTo>
                  <a:pt x="504" y="216"/>
                  <a:pt x="504" y="216"/>
                  <a:pt x="504" y="216"/>
                </a:cubicBezTo>
                <a:cubicBezTo>
                  <a:pt x="505" y="218"/>
                  <a:pt x="505" y="220"/>
                  <a:pt x="505" y="222"/>
                </a:cubicBezTo>
                <a:cubicBezTo>
                  <a:pt x="505" y="222"/>
                  <a:pt x="505" y="222"/>
                  <a:pt x="505" y="222"/>
                </a:cubicBezTo>
                <a:cubicBezTo>
                  <a:pt x="506" y="224"/>
                  <a:pt x="506" y="226"/>
                  <a:pt x="506" y="228"/>
                </a:cubicBezTo>
                <a:cubicBezTo>
                  <a:pt x="506" y="228"/>
                  <a:pt x="506" y="228"/>
                  <a:pt x="506" y="228"/>
                </a:cubicBezTo>
                <a:cubicBezTo>
                  <a:pt x="506" y="230"/>
                  <a:pt x="506" y="232"/>
                  <a:pt x="507" y="234"/>
                </a:cubicBezTo>
                <a:cubicBezTo>
                  <a:pt x="507" y="234"/>
                  <a:pt x="507" y="234"/>
                  <a:pt x="507" y="234"/>
                </a:cubicBezTo>
                <a:cubicBezTo>
                  <a:pt x="507" y="237"/>
                  <a:pt x="507" y="239"/>
                  <a:pt x="507" y="241"/>
                </a:cubicBezTo>
                <a:cubicBezTo>
                  <a:pt x="507" y="241"/>
                  <a:pt x="507" y="241"/>
                  <a:pt x="507" y="241"/>
                </a:cubicBezTo>
                <a:cubicBezTo>
                  <a:pt x="507" y="243"/>
                  <a:pt x="507" y="245"/>
                  <a:pt x="507" y="247"/>
                </a:cubicBezTo>
                <a:cubicBezTo>
                  <a:pt x="507" y="247"/>
                  <a:pt x="507" y="247"/>
                  <a:pt x="507" y="247"/>
                </a:cubicBezTo>
                <a:cubicBezTo>
                  <a:pt x="507" y="249"/>
                  <a:pt x="507" y="251"/>
                  <a:pt x="507" y="254"/>
                </a:cubicBezTo>
                <a:cubicBezTo>
                  <a:pt x="507" y="254"/>
                  <a:pt x="507" y="254"/>
                  <a:pt x="507" y="254"/>
                </a:cubicBezTo>
                <a:cubicBezTo>
                  <a:pt x="507" y="255"/>
                  <a:pt x="507" y="255"/>
                  <a:pt x="507" y="255"/>
                </a:cubicBezTo>
                <a:cubicBezTo>
                  <a:pt x="507" y="256"/>
                  <a:pt x="507" y="257"/>
                  <a:pt x="507" y="258"/>
                </a:cubicBezTo>
                <a:cubicBezTo>
                  <a:pt x="507" y="259"/>
                  <a:pt x="507" y="260"/>
                  <a:pt x="507" y="261"/>
                </a:cubicBezTo>
                <a:cubicBezTo>
                  <a:pt x="507" y="261"/>
                  <a:pt x="507" y="261"/>
                  <a:pt x="507" y="261"/>
                </a:cubicBezTo>
                <a:cubicBezTo>
                  <a:pt x="505" y="355"/>
                  <a:pt x="454" y="410"/>
                  <a:pt x="419" y="488"/>
                </a:cubicBezTo>
                <a:cubicBezTo>
                  <a:pt x="400" y="533"/>
                  <a:pt x="386" y="586"/>
                  <a:pt x="385" y="656"/>
                </a:cubicBezTo>
                <a:cubicBezTo>
                  <a:pt x="386" y="723"/>
                  <a:pt x="400" y="775"/>
                  <a:pt x="418" y="819"/>
                </a:cubicBezTo>
                <a:cubicBezTo>
                  <a:pt x="453" y="896"/>
                  <a:pt x="502" y="950"/>
                  <a:pt x="507" y="1040"/>
                </a:cubicBezTo>
                <a:cubicBezTo>
                  <a:pt x="507" y="1041"/>
                  <a:pt x="507" y="1043"/>
                  <a:pt x="507" y="1044"/>
                </a:cubicBezTo>
                <a:cubicBezTo>
                  <a:pt x="507" y="1047"/>
                  <a:pt x="507" y="1047"/>
                  <a:pt x="507" y="1047"/>
                </a:cubicBezTo>
                <a:cubicBezTo>
                  <a:pt x="507" y="1049"/>
                  <a:pt x="507" y="1052"/>
                  <a:pt x="507" y="1055"/>
                </a:cubicBezTo>
                <a:cubicBezTo>
                  <a:pt x="507" y="1055"/>
                  <a:pt x="507" y="1055"/>
                  <a:pt x="507" y="1055"/>
                </a:cubicBezTo>
                <a:cubicBezTo>
                  <a:pt x="507" y="1055"/>
                  <a:pt x="507" y="1055"/>
                  <a:pt x="507" y="1055"/>
                </a:cubicBezTo>
                <a:cubicBezTo>
                  <a:pt x="507" y="1057"/>
                  <a:pt x="507" y="1059"/>
                  <a:pt x="507" y="1061"/>
                </a:cubicBezTo>
                <a:cubicBezTo>
                  <a:pt x="507" y="1061"/>
                  <a:pt x="507" y="1061"/>
                  <a:pt x="507" y="1061"/>
                </a:cubicBezTo>
                <a:cubicBezTo>
                  <a:pt x="507" y="1063"/>
                  <a:pt x="507" y="1065"/>
                  <a:pt x="507" y="1067"/>
                </a:cubicBezTo>
                <a:cubicBezTo>
                  <a:pt x="507" y="1067"/>
                  <a:pt x="507" y="1067"/>
                  <a:pt x="507" y="1067"/>
                </a:cubicBezTo>
                <a:cubicBezTo>
                  <a:pt x="507" y="1070"/>
                  <a:pt x="507" y="1072"/>
                  <a:pt x="507" y="1074"/>
                </a:cubicBezTo>
                <a:cubicBezTo>
                  <a:pt x="507" y="1074"/>
                  <a:pt x="507" y="1074"/>
                  <a:pt x="507" y="1074"/>
                </a:cubicBezTo>
                <a:cubicBezTo>
                  <a:pt x="506" y="1076"/>
                  <a:pt x="506" y="1078"/>
                  <a:pt x="506" y="1080"/>
                </a:cubicBezTo>
                <a:cubicBezTo>
                  <a:pt x="506" y="1080"/>
                  <a:pt x="506" y="1080"/>
                  <a:pt x="506" y="1080"/>
                </a:cubicBezTo>
                <a:cubicBezTo>
                  <a:pt x="506" y="1082"/>
                  <a:pt x="506" y="1084"/>
                  <a:pt x="505" y="1086"/>
                </a:cubicBezTo>
                <a:cubicBezTo>
                  <a:pt x="505" y="1086"/>
                  <a:pt x="505" y="1086"/>
                  <a:pt x="505" y="1086"/>
                </a:cubicBezTo>
                <a:cubicBezTo>
                  <a:pt x="505" y="1089"/>
                  <a:pt x="505" y="1091"/>
                  <a:pt x="504" y="1093"/>
                </a:cubicBezTo>
                <a:cubicBezTo>
                  <a:pt x="504" y="1093"/>
                  <a:pt x="504" y="1093"/>
                  <a:pt x="504" y="1093"/>
                </a:cubicBezTo>
                <a:cubicBezTo>
                  <a:pt x="504" y="1095"/>
                  <a:pt x="504" y="1097"/>
                  <a:pt x="503" y="1099"/>
                </a:cubicBezTo>
                <a:cubicBezTo>
                  <a:pt x="503" y="1099"/>
                  <a:pt x="503" y="1099"/>
                  <a:pt x="503" y="1099"/>
                </a:cubicBezTo>
                <a:cubicBezTo>
                  <a:pt x="503" y="1101"/>
                  <a:pt x="503" y="1103"/>
                  <a:pt x="502" y="1105"/>
                </a:cubicBezTo>
                <a:cubicBezTo>
                  <a:pt x="502" y="1105"/>
                  <a:pt x="502" y="1105"/>
                  <a:pt x="502" y="1105"/>
                </a:cubicBezTo>
                <a:cubicBezTo>
                  <a:pt x="502" y="1107"/>
                  <a:pt x="501" y="1109"/>
                  <a:pt x="501" y="1111"/>
                </a:cubicBezTo>
                <a:cubicBezTo>
                  <a:pt x="501" y="1111"/>
                  <a:pt x="501" y="1111"/>
                  <a:pt x="501" y="1111"/>
                </a:cubicBezTo>
                <a:cubicBezTo>
                  <a:pt x="501" y="1113"/>
                  <a:pt x="500" y="1115"/>
                  <a:pt x="499" y="1117"/>
                </a:cubicBezTo>
                <a:cubicBezTo>
                  <a:pt x="499" y="1117"/>
                  <a:pt x="499" y="1117"/>
                  <a:pt x="499" y="1117"/>
                </a:cubicBezTo>
                <a:cubicBezTo>
                  <a:pt x="499" y="1119"/>
                  <a:pt x="498" y="1121"/>
                  <a:pt x="498" y="1123"/>
                </a:cubicBezTo>
                <a:cubicBezTo>
                  <a:pt x="498" y="1123"/>
                  <a:pt x="498" y="1123"/>
                  <a:pt x="498" y="1123"/>
                </a:cubicBezTo>
                <a:cubicBezTo>
                  <a:pt x="497" y="1127"/>
                  <a:pt x="496" y="1131"/>
                  <a:pt x="494" y="1135"/>
                </a:cubicBezTo>
                <a:cubicBezTo>
                  <a:pt x="494" y="1135"/>
                  <a:pt x="494" y="1135"/>
                  <a:pt x="494" y="1135"/>
                </a:cubicBezTo>
                <a:cubicBezTo>
                  <a:pt x="468" y="1213"/>
                  <a:pt x="405" y="1276"/>
                  <a:pt x="324" y="1299"/>
                </a:cubicBezTo>
                <a:cubicBezTo>
                  <a:pt x="324" y="1299"/>
                  <a:pt x="324" y="1299"/>
                  <a:pt x="324" y="1299"/>
                </a:cubicBezTo>
                <a:cubicBezTo>
                  <a:pt x="318" y="1301"/>
                  <a:pt x="312" y="1302"/>
                  <a:pt x="305" y="1303"/>
                </a:cubicBezTo>
                <a:cubicBezTo>
                  <a:pt x="305" y="1303"/>
                  <a:pt x="305" y="1303"/>
                  <a:pt x="305" y="1303"/>
                </a:cubicBezTo>
                <a:cubicBezTo>
                  <a:pt x="303" y="1304"/>
                  <a:pt x="301" y="1304"/>
                  <a:pt x="299" y="1305"/>
                </a:cubicBezTo>
                <a:cubicBezTo>
                  <a:pt x="299" y="1305"/>
                  <a:pt x="299" y="1305"/>
                  <a:pt x="299" y="1305"/>
                </a:cubicBezTo>
                <a:cubicBezTo>
                  <a:pt x="297" y="1305"/>
                  <a:pt x="295" y="1305"/>
                  <a:pt x="293" y="1306"/>
                </a:cubicBezTo>
                <a:cubicBezTo>
                  <a:pt x="293" y="1306"/>
                  <a:pt x="293" y="1306"/>
                  <a:pt x="293" y="1306"/>
                </a:cubicBezTo>
                <a:cubicBezTo>
                  <a:pt x="289" y="1306"/>
                  <a:pt x="284" y="1307"/>
                  <a:pt x="280" y="1307"/>
                </a:cubicBezTo>
                <a:cubicBezTo>
                  <a:pt x="280" y="1307"/>
                  <a:pt x="280" y="1307"/>
                  <a:pt x="280" y="1307"/>
                </a:cubicBezTo>
                <a:cubicBezTo>
                  <a:pt x="278" y="1308"/>
                  <a:pt x="276" y="1308"/>
                  <a:pt x="273" y="1308"/>
                </a:cubicBezTo>
                <a:cubicBezTo>
                  <a:pt x="273" y="1308"/>
                  <a:pt x="273" y="1308"/>
                  <a:pt x="273" y="1308"/>
                </a:cubicBezTo>
                <a:cubicBezTo>
                  <a:pt x="269" y="1308"/>
                  <a:pt x="265" y="1308"/>
                  <a:pt x="260" y="1309"/>
                </a:cubicBezTo>
                <a:cubicBezTo>
                  <a:pt x="260" y="1309"/>
                  <a:pt x="260" y="1309"/>
                  <a:pt x="260" y="1309"/>
                </a:cubicBezTo>
                <a:cubicBezTo>
                  <a:pt x="258" y="1309"/>
                  <a:pt x="256" y="1309"/>
                  <a:pt x="253" y="1309"/>
                </a:cubicBezTo>
                <a:cubicBezTo>
                  <a:pt x="253" y="1309"/>
                  <a:pt x="253" y="1309"/>
                  <a:pt x="253" y="1309"/>
                </a:cubicBezTo>
                <a:cubicBezTo>
                  <a:pt x="251" y="1309"/>
                  <a:pt x="249" y="1309"/>
                  <a:pt x="247" y="1309"/>
                </a:cubicBezTo>
                <a:cubicBezTo>
                  <a:pt x="247" y="1309"/>
                  <a:pt x="247" y="1309"/>
                  <a:pt x="247" y="1309"/>
                </a:cubicBezTo>
                <a:cubicBezTo>
                  <a:pt x="242" y="1308"/>
                  <a:pt x="238" y="1308"/>
                  <a:pt x="233" y="1308"/>
                </a:cubicBezTo>
                <a:cubicBezTo>
                  <a:pt x="233" y="1308"/>
                  <a:pt x="233" y="1308"/>
                  <a:pt x="233" y="1308"/>
                </a:cubicBezTo>
                <a:cubicBezTo>
                  <a:pt x="231" y="1308"/>
                  <a:pt x="229" y="1308"/>
                  <a:pt x="227" y="1307"/>
                </a:cubicBezTo>
                <a:cubicBezTo>
                  <a:pt x="227" y="1307"/>
                  <a:pt x="227" y="1307"/>
                  <a:pt x="227" y="1307"/>
                </a:cubicBezTo>
                <a:cubicBezTo>
                  <a:pt x="223" y="1307"/>
                  <a:pt x="218" y="1306"/>
                  <a:pt x="214" y="1306"/>
                </a:cubicBezTo>
                <a:cubicBezTo>
                  <a:pt x="214" y="1306"/>
                  <a:pt x="214" y="1306"/>
                  <a:pt x="214" y="1306"/>
                </a:cubicBezTo>
                <a:cubicBezTo>
                  <a:pt x="212" y="1305"/>
                  <a:pt x="210" y="1305"/>
                  <a:pt x="208" y="1305"/>
                </a:cubicBezTo>
                <a:cubicBezTo>
                  <a:pt x="208" y="1305"/>
                  <a:pt x="208" y="1305"/>
                  <a:pt x="208" y="1305"/>
                </a:cubicBezTo>
                <a:cubicBezTo>
                  <a:pt x="205" y="1304"/>
                  <a:pt x="203" y="1304"/>
                  <a:pt x="201" y="1303"/>
                </a:cubicBezTo>
                <a:cubicBezTo>
                  <a:pt x="201" y="1303"/>
                  <a:pt x="201" y="1303"/>
                  <a:pt x="201" y="1303"/>
                </a:cubicBezTo>
                <a:cubicBezTo>
                  <a:pt x="195" y="1302"/>
                  <a:pt x="189" y="1301"/>
                  <a:pt x="183" y="1299"/>
                </a:cubicBezTo>
                <a:cubicBezTo>
                  <a:pt x="183" y="1299"/>
                  <a:pt x="183" y="1299"/>
                  <a:pt x="183" y="1299"/>
                </a:cubicBezTo>
                <a:cubicBezTo>
                  <a:pt x="101" y="1276"/>
                  <a:pt x="38" y="1213"/>
                  <a:pt x="13" y="1135"/>
                </a:cubicBezTo>
                <a:cubicBezTo>
                  <a:pt x="12" y="1135"/>
                  <a:pt x="12" y="1135"/>
                  <a:pt x="12" y="1135"/>
                </a:cubicBezTo>
                <a:cubicBezTo>
                  <a:pt x="11" y="1131"/>
                  <a:pt x="10" y="1127"/>
                  <a:pt x="9" y="1123"/>
                </a:cubicBezTo>
                <a:cubicBezTo>
                  <a:pt x="9" y="1123"/>
                  <a:pt x="9" y="1123"/>
                  <a:pt x="9" y="1123"/>
                </a:cubicBezTo>
                <a:cubicBezTo>
                  <a:pt x="8" y="1121"/>
                  <a:pt x="8" y="1119"/>
                  <a:pt x="7" y="1117"/>
                </a:cubicBezTo>
                <a:cubicBezTo>
                  <a:pt x="7" y="1117"/>
                  <a:pt x="7" y="1117"/>
                  <a:pt x="7" y="1117"/>
                </a:cubicBezTo>
                <a:cubicBezTo>
                  <a:pt x="7" y="1115"/>
                  <a:pt x="6" y="1113"/>
                  <a:pt x="6" y="1111"/>
                </a:cubicBezTo>
                <a:cubicBezTo>
                  <a:pt x="6" y="1111"/>
                  <a:pt x="6" y="1111"/>
                  <a:pt x="6" y="1111"/>
                </a:cubicBezTo>
                <a:cubicBezTo>
                  <a:pt x="5" y="1109"/>
                  <a:pt x="5" y="1107"/>
                  <a:pt x="5" y="1105"/>
                </a:cubicBezTo>
                <a:cubicBezTo>
                  <a:pt x="5" y="1105"/>
                  <a:pt x="5" y="1105"/>
                  <a:pt x="5" y="1105"/>
                </a:cubicBezTo>
                <a:cubicBezTo>
                  <a:pt x="4" y="1103"/>
                  <a:pt x="4" y="1101"/>
                  <a:pt x="3" y="1099"/>
                </a:cubicBezTo>
                <a:cubicBezTo>
                  <a:pt x="3" y="1099"/>
                  <a:pt x="3" y="1099"/>
                  <a:pt x="3" y="1099"/>
                </a:cubicBezTo>
                <a:cubicBezTo>
                  <a:pt x="3" y="1097"/>
                  <a:pt x="3" y="1095"/>
                  <a:pt x="2" y="1093"/>
                </a:cubicBezTo>
                <a:cubicBezTo>
                  <a:pt x="2" y="1093"/>
                  <a:pt x="2" y="1093"/>
                  <a:pt x="2" y="1093"/>
                </a:cubicBezTo>
                <a:cubicBezTo>
                  <a:pt x="2" y="1091"/>
                  <a:pt x="2" y="1089"/>
                  <a:pt x="1" y="1086"/>
                </a:cubicBezTo>
                <a:cubicBezTo>
                  <a:pt x="1" y="1086"/>
                  <a:pt x="1" y="1086"/>
                  <a:pt x="1" y="1086"/>
                </a:cubicBezTo>
                <a:cubicBezTo>
                  <a:pt x="1" y="1084"/>
                  <a:pt x="1" y="1082"/>
                  <a:pt x="1" y="1080"/>
                </a:cubicBezTo>
                <a:cubicBezTo>
                  <a:pt x="1" y="1080"/>
                  <a:pt x="1" y="1080"/>
                  <a:pt x="1" y="1080"/>
                </a:cubicBezTo>
                <a:cubicBezTo>
                  <a:pt x="1" y="1078"/>
                  <a:pt x="0" y="1076"/>
                  <a:pt x="0" y="1074"/>
                </a:cubicBezTo>
                <a:cubicBezTo>
                  <a:pt x="0" y="1074"/>
                  <a:pt x="0" y="1074"/>
                  <a:pt x="0" y="1074"/>
                </a:cubicBezTo>
                <a:cubicBezTo>
                  <a:pt x="0" y="1072"/>
                  <a:pt x="0" y="1070"/>
                  <a:pt x="0" y="1067"/>
                </a:cubicBezTo>
                <a:cubicBezTo>
                  <a:pt x="0" y="1067"/>
                  <a:pt x="0" y="1067"/>
                  <a:pt x="0" y="1067"/>
                </a:cubicBezTo>
                <a:cubicBezTo>
                  <a:pt x="0" y="1065"/>
                  <a:pt x="0" y="1063"/>
                  <a:pt x="0" y="1061"/>
                </a:cubicBezTo>
                <a:cubicBezTo>
                  <a:pt x="0" y="1061"/>
                  <a:pt x="0" y="1061"/>
                  <a:pt x="0" y="1061"/>
                </a:cubicBezTo>
                <a:cubicBezTo>
                  <a:pt x="0" y="1059"/>
                  <a:pt x="0" y="1057"/>
                  <a:pt x="0" y="1055"/>
                </a:cubicBezTo>
                <a:cubicBezTo>
                  <a:pt x="0" y="1055"/>
                  <a:pt x="0" y="1055"/>
                  <a:pt x="0" y="1055"/>
                </a:cubicBezTo>
                <a:cubicBezTo>
                  <a:pt x="0" y="1055"/>
                  <a:pt x="0" y="1055"/>
                  <a:pt x="0" y="1055"/>
                </a:cubicBezTo>
                <a:cubicBezTo>
                  <a:pt x="0" y="1052"/>
                  <a:pt x="0" y="1049"/>
                  <a:pt x="0" y="1047"/>
                </a:cubicBezTo>
                <a:cubicBezTo>
                  <a:pt x="0" y="1046"/>
                  <a:pt x="0" y="1045"/>
                  <a:pt x="0" y="1044"/>
                </a:cubicBezTo>
                <a:cubicBezTo>
                  <a:pt x="0" y="1043"/>
                  <a:pt x="0" y="1041"/>
                  <a:pt x="0" y="1040"/>
                </a:cubicBezTo>
                <a:cubicBezTo>
                  <a:pt x="5" y="950"/>
                  <a:pt x="54" y="896"/>
                  <a:pt x="89" y="819"/>
                </a:cubicBezTo>
                <a:close/>
              </a:path>
            </a:pathLst>
          </a:cu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91" name="Oval 8"/>
          <p:cNvSpPr/>
          <p:nvPr/>
        </p:nvSpPr>
        <p:spPr>
          <a:xfrm>
            <a:off x="4448160" y="2735280"/>
            <a:ext cx="611280" cy="61272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92" name="Freeform 9"/>
          <p:cNvSpPr/>
          <p:nvPr/>
        </p:nvSpPr>
        <p:spPr>
          <a:xfrm>
            <a:off x="5187960" y="4586400"/>
            <a:ext cx="1816200" cy="706320"/>
          </a:xfrm>
          <a:custGeom>
            <a:avLst/>
            <a:gdLst/>
            <a:ahLst/>
            <a:rect l="l" t="t" r="r" b="b"/>
            <a:pathLst>
              <a:path w="1308" h="508">
                <a:moveTo>
                  <a:pt x="489" y="89"/>
                </a:moveTo>
                <a:cubicBezTo>
                  <a:pt x="533" y="107"/>
                  <a:pt x="584" y="121"/>
                  <a:pt x="652" y="122"/>
                </a:cubicBezTo>
                <a:cubicBezTo>
                  <a:pt x="722" y="122"/>
                  <a:pt x="775" y="108"/>
                  <a:pt x="820" y="89"/>
                </a:cubicBezTo>
                <a:cubicBezTo>
                  <a:pt x="896" y="54"/>
                  <a:pt x="950" y="6"/>
                  <a:pt x="1039" y="1"/>
                </a:cubicBezTo>
                <a:cubicBezTo>
                  <a:pt x="1041" y="1"/>
                  <a:pt x="1043" y="1"/>
                  <a:pt x="1044" y="1"/>
                </a:cubicBezTo>
                <a:cubicBezTo>
                  <a:pt x="1046" y="1"/>
                  <a:pt x="1046" y="1"/>
                  <a:pt x="1046" y="1"/>
                </a:cubicBezTo>
                <a:cubicBezTo>
                  <a:pt x="1049" y="1"/>
                  <a:pt x="1052" y="0"/>
                  <a:pt x="1054" y="0"/>
                </a:cubicBezTo>
                <a:cubicBezTo>
                  <a:pt x="1055" y="0"/>
                  <a:pt x="1055" y="0"/>
                  <a:pt x="1055" y="0"/>
                </a:cubicBezTo>
                <a:cubicBezTo>
                  <a:pt x="1055" y="0"/>
                  <a:pt x="1055" y="0"/>
                  <a:pt x="1055" y="0"/>
                </a:cubicBezTo>
                <a:cubicBezTo>
                  <a:pt x="1057" y="0"/>
                  <a:pt x="1059" y="0"/>
                  <a:pt x="1061" y="1"/>
                </a:cubicBezTo>
                <a:cubicBezTo>
                  <a:pt x="1061" y="1"/>
                  <a:pt x="1061" y="1"/>
                  <a:pt x="1061" y="1"/>
                </a:cubicBezTo>
                <a:cubicBezTo>
                  <a:pt x="1063" y="1"/>
                  <a:pt x="1065" y="1"/>
                  <a:pt x="1067" y="1"/>
                </a:cubicBezTo>
                <a:cubicBezTo>
                  <a:pt x="1067" y="1"/>
                  <a:pt x="1067" y="1"/>
                  <a:pt x="1067" y="1"/>
                </a:cubicBezTo>
                <a:cubicBezTo>
                  <a:pt x="1069" y="1"/>
                  <a:pt x="1072" y="1"/>
                  <a:pt x="1074" y="1"/>
                </a:cubicBezTo>
                <a:cubicBezTo>
                  <a:pt x="1074" y="1"/>
                  <a:pt x="1074" y="1"/>
                  <a:pt x="1074" y="1"/>
                </a:cubicBezTo>
                <a:cubicBezTo>
                  <a:pt x="1076" y="1"/>
                  <a:pt x="1078" y="1"/>
                  <a:pt x="1080" y="2"/>
                </a:cubicBezTo>
                <a:cubicBezTo>
                  <a:pt x="1080" y="2"/>
                  <a:pt x="1080" y="2"/>
                  <a:pt x="1080" y="2"/>
                </a:cubicBezTo>
                <a:cubicBezTo>
                  <a:pt x="1082" y="2"/>
                  <a:pt x="1084" y="2"/>
                  <a:pt x="1086" y="2"/>
                </a:cubicBezTo>
                <a:cubicBezTo>
                  <a:pt x="1086" y="2"/>
                  <a:pt x="1086" y="2"/>
                  <a:pt x="1086" y="2"/>
                </a:cubicBezTo>
                <a:cubicBezTo>
                  <a:pt x="1088" y="3"/>
                  <a:pt x="1091" y="3"/>
                  <a:pt x="1093" y="3"/>
                </a:cubicBezTo>
                <a:cubicBezTo>
                  <a:pt x="1093" y="3"/>
                  <a:pt x="1093" y="3"/>
                  <a:pt x="1093" y="3"/>
                </a:cubicBezTo>
                <a:cubicBezTo>
                  <a:pt x="1095" y="4"/>
                  <a:pt x="1097" y="4"/>
                  <a:pt x="1099" y="4"/>
                </a:cubicBezTo>
                <a:cubicBezTo>
                  <a:pt x="1099" y="4"/>
                  <a:pt x="1099" y="4"/>
                  <a:pt x="1099" y="4"/>
                </a:cubicBezTo>
                <a:cubicBezTo>
                  <a:pt x="1101" y="5"/>
                  <a:pt x="1103" y="5"/>
                  <a:pt x="1105" y="5"/>
                </a:cubicBezTo>
                <a:cubicBezTo>
                  <a:pt x="1105" y="5"/>
                  <a:pt x="1105" y="5"/>
                  <a:pt x="1105" y="5"/>
                </a:cubicBezTo>
                <a:cubicBezTo>
                  <a:pt x="1107" y="6"/>
                  <a:pt x="1109" y="6"/>
                  <a:pt x="1111" y="7"/>
                </a:cubicBezTo>
                <a:cubicBezTo>
                  <a:pt x="1111" y="7"/>
                  <a:pt x="1111" y="7"/>
                  <a:pt x="1111" y="7"/>
                </a:cubicBezTo>
                <a:cubicBezTo>
                  <a:pt x="1113" y="7"/>
                  <a:pt x="1115" y="8"/>
                  <a:pt x="1117" y="8"/>
                </a:cubicBezTo>
                <a:cubicBezTo>
                  <a:pt x="1117" y="8"/>
                  <a:pt x="1117" y="8"/>
                  <a:pt x="1117" y="8"/>
                </a:cubicBezTo>
                <a:cubicBezTo>
                  <a:pt x="1119" y="9"/>
                  <a:pt x="1121" y="9"/>
                  <a:pt x="1123" y="10"/>
                </a:cubicBezTo>
                <a:cubicBezTo>
                  <a:pt x="1123" y="10"/>
                  <a:pt x="1123" y="10"/>
                  <a:pt x="1123" y="10"/>
                </a:cubicBezTo>
                <a:cubicBezTo>
                  <a:pt x="1127" y="11"/>
                  <a:pt x="1131" y="12"/>
                  <a:pt x="1135" y="13"/>
                </a:cubicBezTo>
                <a:cubicBezTo>
                  <a:pt x="1135" y="13"/>
                  <a:pt x="1135" y="13"/>
                  <a:pt x="1135" y="13"/>
                </a:cubicBezTo>
                <a:cubicBezTo>
                  <a:pt x="1213" y="39"/>
                  <a:pt x="1275" y="102"/>
                  <a:pt x="1299" y="184"/>
                </a:cubicBezTo>
                <a:cubicBezTo>
                  <a:pt x="1299" y="184"/>
                  <a:pt x="1299" y="184"/>
                  <a:pt x="1299" y="184"/>
                </a:cubicBezTo>
                <a:cubicBezTo>
                  <a:pt x="1300" y="190"/>
                  <a:pt x="1302" y="196"/>
                  <a:pt x="1303" y="202"/>
                </a:cubicBezTo>
                <a:cubicBezTo>
                  <a:pt x="1303" y="202"/>
                  <a:pt x="1303" y="202"/>
                  <a:pt x="1303" y="202"/>
                </a:cubicBezTo>
                <a:cubicBezTo>
                  <a:pt x="1304" y="204"/>
                  <a:pt x="1304" y="206"/>
                  <a:pt x="1304" y="208"/>
                </a:cubicBezTo>
                <a:cubicBezTo>
                  <a:pt x="1304" y="208"/>
                  <a:pt x="1304" y="208"/>
                  <a:pt x="1304" y="208"/>
                </a:cubicBezTo>
                <a:cubicBezTo>
                  <a:pt x="1305" y="210"/>
                  <a:pt x="1305" y="213"/>
                  <a:pt x="1305" y="215"/>
                </a:cubicBezTo>
                <a:cubicBezTo>
                  <a:pt x="1305" y="215"/>
                  <a:pt x="1305" y="215"/>
                  <a:pt x="1305" y="215"/>
                </a:cubicBezTo>
                <a:cubicBezTo>
                  <a:pt x="1306" y="219"/>
                  <a:pt x="1307" y="223"/>
                  <a:pt x="1307" y="228"/>
                </a:cubicBezTo>
                <a:cubicBezTo>
                  <a:pt x="1307" y="228"/>
                  <a:pt x="1307" y="228"/>
                  <a:pt x="1307" y="228"/>
                </a:cubicBezTo>
                <a:cubicBezTo>
                  <a:pt x="1307" y="230"/>
                  <a:pt x="1307" y="232"/>
                  <a:pt x="1308" y="234"/>
                </a:cubicBezTo>
                <a:cubicBezTo>
                  <a:pt x="1308" y="234"/>
                  <a:pt x="1308" y="234"/>
                  <a:pt x="1308" y="234"/>
                </a:cubicBezTo>
                <a:cubicBezTo>
                  <a:pt x="1308" y="239"/>
                  <a:pt x="1308" y="243"/>
                  <a:pt x="1308" y="248"/>
                </a:cubicBezTo>
                <a:cubicBezTo>
                  <a:pt x="1308" y="248"/>
                  <a:pt x="1308" y="248"/>
                  <a:pt x="1308" y="248"/>
                </a:cubicBezTo>
                <a:cubicBezTo>
                  <a:pt x="1308" y="250"/>
                  <a:pt x="1308" y="252"/>
                  <a:pt x="1308" y="254"/>
                </a:cubicBezTo>
                <a:cubicBezTo>
                  <a:pt x="1308" y="254"/>
                  <a:pt x="1308" y="254"/>
                  <a:pt x="1308" y="254"/>
                </a:cubicBezTo>
                <a:cubicBezTo>
                  <a:pt x="1308" y="257"/>
                  <a:pt x="1308" y="259"/>
                  <a:pt x="1308" y="261"/>
                </a:cubicBezTo>
                <a:cubicBezTo>
                  <a:pt x="1308" y="261"/>
                  <a:pt x="1308" y="261"/>
                  <a:pt x="1308" y="261"/>
                </a:cubicBezTo>
                <a:cubicBezTo>
                  <a:pt x="1308" y="265"/>
                  <a:pt x="1308" y="270"/>
                  <a:pt x="1308" y="274"/>
                </a:cubicBezTo>
                <a:cubicBezTo>
                  <a:pt x="1308" y="274"/>
                  <a:pt x="1308" y="274"/>
                  <a:pt x="1308" y="274"/>
                </a:cubicBezTo>
                <a:cubicBezTo>
                  <a:pt x="1307" y="276"/>
                  <a:pt x="1307" y="279"/>
                  <a:pt x="1307" y="281"/>
                </a:cubicBezTo>
                <a:cubicBezTo>
                  <a:pt x="1307" y="281"/>
                  <a:pt x="1307" y="281"/>
                  <a:pt x="1307" y="281"/>
                </a:cubicBezTo>
                <a:cubicBezTo>
                  <a:pt x="1307" y="285"/>
                  <a:pt x="1306" y="289"/>
                  <a:pt x="1305" y="294"/>
                </a:cubicBezTo>
                <a:cubicBezTo>
                  <a:pt x="1305" y="294"/>
                  <a:pt x="1305" y="294"/>
                  <a:pt x="1305" y="294"/>
                </a:cubicBezTo>
                <a:cubicBezTo>
                  <a:pt x="1305" y="296"/>
                  <a:pt x="1305" y="298"/>
                  <a:pt x="1304" y="300"/>
                </a:cubicBezTo>
                <a:cubicBezTo>
                  <a:pt x="1304" y="300"/>
                  <a:pt x="1304" y="300"/>
                  <a:pt x="1304" y="300"/>
                </a:cubicBezTo>
                <a:cubicBezTo>
                  <a:pt x="1304" y="302"/>
                  <a:pt x="1304" y="304"/>
                  <a:pt x="1303" y="306"/>
                </a:cubicBezTo>
                <a:cubicBezTo>
                  <a:pt x="1303" y="306"/>
                  <a:pt x="1303" y="306"/>
                  <a:pt x="1303" y="306"/>
                </a:cubicBezTo>
                <a:cubicBezTo>
                  <a:pt x="1302" y="313"/>
                  <a:pt x="1300" y="319"/>
                  <a:pt x="1299" y="325"/>
                </a:cubicBezTo>
                <a:cubicBezTo>
                  <a:pt x="1299" y="325"/>
                  <a:pt x="1299" y="325"/>
                  <a:pt x="1299" y="325"/>
                </a:cubicBezTo>
                <a:cubicBezTo>
                  <a:pt x="1275" y="406"/>
                  <a:pt x="1213" y="469"/>
                  <a:pt x="1135" y="495"/>
                </a:cubicBezTo>
                <a:cubicBezTo>
                  <a:pt x="1135" y="495"/>
                  <a:pt x="1135" y="495"/>
                  <a:pt x="1135" y="495"/>
                </a:cubicBezTo>
                <a:cubicBezTo>
                  <a:pt x="1131" y="496"/>
                  <a:pt x="1127" y="498"/>
                  <a:pt x="1123" y="499"/>
                </a:cubicBezTo>
                <a:cubicBezTo>
                  <a:pt x="1123" y="499"/>
                  <a:pt x="1123" y="499"/>
                  <a:pt x="1123" y="499"/>
                </a:cubicBezTo>
                <a:cubicBezTo>
                  <a:pt x="1121" y="499"/>
                  <a:pt x="1119" y="500"/>
                  <a:pt x="1117" y="500"/>
                </a:cubicBezTo>
                <a:cubicBezTo>
                  <a:pt x="1117" y="500"/>
                  <a:pt x="1117" y="500"/>
                  <a:pt x="1117" y="500"/>
                </a:cubicBezTo>
                <a:cubicBezTo>
                  <a:pt x="1115" y="501"/>
                  <a:pt x="1113" y="501"/>
                  <a:pt x="1111" y="502"/>
                </a:cubicBezTo>
                <a:cubicBezTo>
                  <a:pt x="1111" y="502"/>
                  <a:pt x="1111" y="502"/>
                  <a:pt x="1111" y="502"/>
                </a:cubicBezTo>
                <a:cubicBezTo>
                  <a:pt x="1109" y="502"/>
                  <a:pt x="1107" y="503"/>
                  <a:pt x="1105" y="503"/>
                </a:cubicBezTo>
                <a:cubicBezTo>
                  <a:pt x="1105" y="503"/>
                  <a:pt x="1105" y="503"/>
                  <a:pt x="1105" y="503"/>
                </a:cubicBezTo>
                <a:cubicBezTo>
                  <a:pt x="1103" y="504"/>
                  <a:pt x="1101" y="504"/>
                  <a:pt x="1099" y="504"/>
                </a:cubicBezTo>
                <a:cubicBezTo>
                  <a:pt x="1099" y="504"/>
                  <a:pt x="1099" y="504"/>
                  <a:pt x="1099" y="504"/>
                </a:cubicBezTo>
                <a:cubicBezTo>
                  <a:pt x="1097" y="505"/>
                  <a:pt x="1095" y="505"/>
                  <a:pt x="1093" y="505"/>
                </a:cubicBezTo>
                <a:cubicBezTo>
                  <a:pt x="1093" y="505"/>
                  <a:pt x="1093" y="505"/>
                  <a:pt x="1093" y="505"/>
                </a:cubicBezTo>
                <a:cubicBezTo>
                  <a:pt x="1091" y="506"/>
                  <a:pt x="1088" y="506"/>
                  <a:pt x="1086" y="506"/>
                </a:cubicBezTo>
                <a:cubicBezTo>
                  <a:pt x="1086" y="506"/>
                  <a:pt x="1086" y="506"/>
                  <a:pt x="1086" y="506"/>
                </a:cubicBezTo>
                <a:cubicBezTo>
                  <a:pt x="1084" y="506"/>
                  <a:pt x="1082" y="507"/>
                  <a:pt x="1080" y="507"/>
                </a:cubicBezTo>
                <a:cubicBezTo>
                  <a:pt x="1080" y="507"/>
                  <a:pt x="1080" y="507"/>
                  <a:pt x="1080" y="507"/>
                </a:cubicBezTo>
                <a:cubicBezTo>
                  <a:pt x="1078" y="507"/>
                  <a:pt x="1076" y="507"/>
                  <a:pt x="1074" y="507"/>
                </a:cubicBezTo>
                <a:cubicBezTo>
                  <a:pt x="1074" y="507"/>
                  <a:pt x="1074" y="507"/>
                  <a:pt x="1074" y="507"/>
                </a:cubicBezTo>
                <a:cubicBezTo>
                  <a:pt x="1072" y="508"/>
                  <a:pt x="1069" y="508"/>
                  <a:pt x="1067" y="508"/>
                </a:cubicBezTo>
                <a:cubicBezTo>
                  <a:pt x="1067" y="508"/>
                  <a:pt x="1067" y="508"/>
                  <a:pt x="1067" y="508"/>
                </a:cubicBezTo>
                <a:cubicBezTo>
                  <a:pt x="1065" y="508"/>
                  <a:pt x="1063" y="508"/>
                  <a:pt x="1061" y="508"/>
                </a:cubicBezTo>
                <a:cubicBezTo>
                  <a:pt x="1061" y="508"/>
                  <a:pt x="1061" y="508"/>
                  <a:pt x="1061" y="508"/>
                </a:cubicBezTo>
                <a:cubicBezTo>
                  <a:pt x="1059" y="508"/>
                  <a:pt x="1057" y="508"/>
                  <a:pt x="1055" y="508"/>
                </a:cubicBezTo>
                <a:cubicBezTo>
                  <a:pt x="1055" y="508"/>
                  <a:pt x="1055" y="508"/>
                  <a:pt x="1055" y="508"/>
                </a:cubicBezTo>
                <a:cubicBezTo>
                  <a:pt x="1053" y="508"/>
                  <a:pt x="1053" y="508"/>
                  <a:pt x="1053" y="508"/>
                </a:cubicBezTo>
                <a:cubicBezTo>
                  <a:pt x="1052" y="508"/>
                  <a:pt x="1051" y="508"/>
                  <a:pt x="1051" y="508"/>
                </a:cubicBezTo>
                <a:cubicBezTo>
                  <a:pt x="1050" y="508"/>
                  <a:pt x="1048" y="508"/>
                  <a:pt x="1047" y="508"/>
                </a:cubicBezTo>
                <a:cubicBezTo>
                  <a:pt x="1047" y="508"/>
                  <a:pt x="1047" y="508"/>
                  <a:pt x="1047" y="508"/>
                </a:cubicBezTo>
                <a:cubicBezTo>
                  <a:pt x="953" y="505"/>
                  <a:pt x="898" y="455"/>
                  <a:pt x="820" y="420"/>
                </a:cubicBezTo>
                <a:cubicBezTo>
                  <a:pt x="775" y="401"/>
                  <a:pt x="723" y="387"/>
                  <a:pt x="653" y="386"/>
                </a:cubicBezTo>
                <a:cubicBezTo>
                  <a:pt x="585" y="387"/>
                  <a:pt x="533" y="401"/>
                  <a:pt x="489" y="419"/>
                </a:cubicBezTo>
                <a:cubicBezTo>
                  <a:pt x="412" y="454"/>
                  <a:pt x="359" y="503"/>
                  <a:pt x="268" y="508"/>
                </a:cubicBezTo>
                <a:cubicBezTo>
                  <a:pt x="267" y="508"/>
                  <a:pt x="265" y="508"/>
                  <a:pt x="264" y="508"/>
                </a:cubicBezTo>
                <a:cubicBezTo>
                  <a:pt x="262" y="508"/>
                  <a:pt x="262" y="508"/>
                  <a:pt x="262" y="508"/>
                </a:cubicBezTo>
                <a:cubicBezTo>
                  <a:pt x="259" y="508"/>
                  <a:pt x="256" y="508"/>
                  <a:pt x="254" y="508"/>
                </a:cubicBezTo>
                <a:cubicBezTo>
                  <a:pt x="254" y="508"/>
                  <a:pt x="254" y="508"/>
                  <a:pt x="254" y="508"/>
                </a:cubicBezTo>
                <a:cubicBezTo>
                  <a:pt x="254" y="508"/>
                  <a:pt x="254" y="508"/>
                  <a:pt x="254" y="508"/>
                </a:cubicBezTo>
                <a:cubicBezTo>
                  <a:pt x="251" y="508"/>
                  <a:pt x="249" y="508"/>
                  <a:pt x="247" y="508"/>
                </a:cubicBezTo>
                <a:cubicBezTo>
                  <a:pt x="247" y="508"/>
                  <a:pt x="247" y="508"/>
                  <a:pt x="247" y="508"/>
                </a:cubicBezTo>
                <a:cubicBezTo>
                  <a:pt x="245" y="508"/>
                  <a:pt x="243" y="508"/>
                  <a:pt x="241" y="508"/>
                </a:cubicBezTo>
                <a:cubicBezTo>
                  <a:pt x="241" y="508"/>
                  <a:pt x="241" y="508"/>
                  <a:pt x="241" y="508"/>
                </a:cubicBezTo>
                <a:cubicBezTo>
                  <a:pt x="239" y="508"/>
                  <a:pt x="236" y="508"/>
                  <a:pt x="234" y="507"/>
                </a:cubicBezTo>
                <a:cubicBezTo>
                  <a:pt x="234" y="507"/>
                  <a:pt x="234" y="507"/>
                  <a:pt x="234" y="507"/>
                </a:cubicBezTo>
                <a:cubicBezTo>
                  <a:pt x="232" y="507"/>
                  <a:pt x="230" y="507"/>
                  <a:pt x="228" y="507"/>
                </a:cubicBezTo>
                <a:cubicBezTo>
                  <a:pt x="228" y="507"/>
                  <a:pt x="228" y="507"/>
                  <a:pt x="228" y="507"/>
                </a:cubicBezTo>
                <a:cubicBezTo>
                  <a:pt x="226" y="507"/>
                  <a:pt x="224" y="506"/>
                  <a:pt x="222" y="506"/>
                </a:cubicBezTo>
                <a:cubicBezTo>
                  <a:pt x="222" y="506"/>
                  <a:pt x="222" y="506"/>
                  <a:pt x="222" y="506"/>
                </a:cubicBezTo>
                <a:cubicBezTo>
                  <a:pt x="220" y="506"/>
                  <a:pt x="218" y="506"/>
                  <a:pt x="215" y="505"/>
                </a:cubicBezTo>
                <a:cubicBezTo>
                  <a:pt x="215" y="505"/>
                  <a:pt x="215" y="505"/>
                  <a:pt x="215" y="505"/>
                </a:cubicBezTo>
                <a:cubicBezTo>
                  <a:pt x="213" y="505"/>
                  <a:pt x="211" y="505"/>
                  <a:pt x="209" y="504"/>
                </a:cubicBezTo>
                <a:cubicBezTo>
                  <a:pt x="209" y="504"/>
                  <a:pt x="209" y="504"/>
                  <a:pt x="209" y="504"/>
                </a:cubicBezTo>
                <a:cubicBezTo>
                  <a:pt x="207" y="504"/>
                  <a:pt x="205" y="504"/>
                  <a:pt x="203" y="503"/>
                </a:cubicBezTo>
                <a:cubicBezTo>
                  <a:pt x="203" y="503"/>
                  <a:pt x="203" y="503"/>
                  <a:pt x="203" y="503"/>
                </a:cubicBezTo>
                <a:cubicBezTo>
                  <a:pt x="201" y="503"/>
                  <a:pt x="199" y="502"/>
                  <a:pt x="197" y="502"/>
                </a:cubicBezTo>
                <a:cubicBezTo>
                  <a:pt x="197" y="502"/>
                  <a:pt x="197" y="502"/>
                  <a:pt x="197" y="502"/>
                </a:cubicBezTo>
                <a:cubicBezTo>
                  <a:pt x="195" y="501"/>
                  <a:pt x="193" y="501"/>
                  <a:pt x="191" y="500"/>
                </a:cubicBezTo>
                <a:cubicBezTo>
                  <a:pt x="191" y="500"/>
                  <a:pt x="191" y="500"/>
                  <a:pt x="191" y="500"/>
                </a:cubicBezTo>
                <a:cubicBezTo>
                  <a:pt x="189" y="500"/>
                  <a:pt x="187" y="499"/>
                  <a:pt x="185" y="499"/>
                </a:cubicBezTo>
                <a:cubicBezTo>
                  <a:pt x="185" y="499"/>
                  <a:pt x="185" y="499"/>
                  <a:pt x="185" y="499"/>
                </a:cubicBezTo>
                <a:cubicBezTo>
                  <a:pt x="181" y="498"/>
                  <a:pt x="177" y="496"/>
                  <a:pt x="173" y="495"/>
                </a:cubicBezTo>
                <a:cubicBezTo>
                  <a:pt x="173" y="495"/>
                  <a:pt x="173" y="495"/>
                  <a:pt x="173" y="495"/>
                </a:cubicBezTo>
                <a:cubicBezTo>
                  <a:pt x="95" y="469"/>
                  <a:pt x="33" y="406"/>
                  <a:pt x="9" y="325"/>
                </a:cubicBezTo>
                <a:cubicBezTo>
                  <a:pt x="9" y="325"/>
                  <a:pt x="9" y="325"/>
                  <a:pt x="9" y="325"/>
                </a:cubicBezTo>
                <a:cubicBezTo>
                  <a:pt x="8" y="319"/>
                  <a:pt x="6" y="313"/>
                  <a:pt x="5" y="306"/>
                </a:cubicBezTo>
                <a:cubicBezTo>
                  <a:pt x="5" y="306"/>
                  <a:pt x="5" y="306"/>
                  <a:pt x="5" y="306"/>
                </a:cubicBezTo>
                <a:cubicBezTo>
                  <a:pt x="4" y="304"/>
                  <a:pt x="4" y="302"/>
                  <a:pt x="4" y="300"/>
                </a:cubicBezTo>
                <a:cubicBezTo>
                  <a:pt x="4" y="300"/>
                  <a:pt x="4" y="300"/>
                  <a:pt x="4" y="300"/>
                </a:cubicBezTo>
                <a:cubicBezTo>
                  <a:pt x="3" y="298"/>
                  <a:pt x="3" y="296"/>
                  <a:pt x="3" y="294"/>
                </a:cubicBezTo>
                <a:cubicBezTo>
                  <a:pt x="3" y="294"/>
                  <a:pt x="3" y="294"/>
                  <a:pt x="3" y="294"/>
                </a:cubicBezTo>
                <a:cubicBezTo>
                  <a:pt x="2" y="289"/>
                  <a:pt x="1" y="285"/>
                  <a:pt x="1" y="281"/>
                </a:cubicBezTo>
                <a:cubicBezTo>
                  <a:pt x="1" y="281"/>
                  <a:pt x="1" y="281"/>
                  <a:pt x="1" y="281"/>
                </a:cubicBezTo>
                <a:cubicBezTo>
                  <a:pt x="1" y="279"/>
                  <a:pt x="1" y="276"/>
                  <a:pt x="0" y="274"/>
                </a:cubicBezTo>
                <a:cubicBezTo>
                  <a:pt x="0" y="274"/>
                  <a:pt x="0" y="274"/>
                  <a:pt x="0" y="274"/>
                </a:cubicBezTo>
                <a:cubicBezTo>
                  <a:pt x="0" y="270"/>
                  <a:pt x="0" y="265"/>
                  <a:pt x="0" y="261"/>
                </a:cubicBezTo>
                <a:cubicBezTo>
                  <a:pt x="0" y="261"/>
                  <a:pt x="0" y="261"/>
                  <a:pt x="0" y="261"/>
                </a:cubicBezTo>
                <a:cubicBezTo>
                  <a:pt x="0" y="259"/>
                  <a:pt x="0" y="257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2"/>
                  <a:pt x="0" y="250"/>
                  <a:pt x="0" y="248"/>
                </a:cubicBezTo>
                <a:cubicBezTo>
                  <a:pt x="0" y="248"/>
                  <a:pt x="0" y="248"/>
                  <a:pt x="0" y="248"/>
                </a:cubicBezTo>
                <a:cubicBezTo>
                  <a:pt x="0" y="243"/>
                  <a:pt x="0" y="239"/>
                  <a:pt x="0" y="234"/>
                </a:cubicBezTo>
                <a:cubicBezTo>
                  <a:pt x="0" y="234"/>
                  <a:pt x="0" y="234"/>
                  <a:pt x="0" y="234"/>
                </a:cubicBezTo>
                <a:cubicBezTo>
                  <a:pt x="1" y="232"/>
                  <a:pt x="1" y="230"/>
                  <a:pt x="1" y="228"/>
                </a:cubicBezTo>
                <a:cubicBezTo>
                  <a:pt x="1" y="228"/>
                  <a:pt x="1" y="228"/>
                  <a:pt x="1" y="228"/>
                </a:cubicBezTo>
                <a:cubicBezTo>
                  <a:pt x="1" y="223"/>
                  <a:pt x="2" y="219"/>
                  <a:pt x="3" y="215"/>
                </a:cubicBezTo>
                <a:cubicBezTo>
                  <a:pt x="3" y="215"/>
                  <a:pt x="3" y="215"/>
                  <a:pt x="3" y="215"/>
                </a:cubicBezTo>
                <a:cubicBezTo>
                  <a:pt x="3" y="213"/>
                  <a:pt x="3" y="210"/>
                  <a:pt x="4" y="208"/>
                </a:cubicBezTo>
                <a:cubicBezTo>
                  <a:pt x="4" y="208"/>
                  <a:pt x="4" y="208"/>
                  <a:pt x="4" y="208"/>
                </a:cubicBezTo>
                <a:cubicBezTo>
                  <a:pt x="4" y="206"/>
                  <a:pt x="4" y="204"/>
                  <a:pt x="5" y="202"/>
                </a:cubicBezTo>
                <a:cubicBezTo>
                  <a:pt x="5" y="202"/>
                  <a:pt x="5" y="202"/>
                  <a:pt x="5" y="202"/>
                </a:cubicBezTo>
                <a:cubicBezTo>
                  <a:pt x="6" y="196"/>
                  <a:pt x="8" y="190"/>
                  <a:pt x="9" y="184"/>
                </a:cubicBezTo>
                <a:cubicBezTo>
                  <a:pt x="9" y="184"/>
                  <a:pt x="9" y="184"/>
                  <a:pt x="9" y="184"/>
                </a:cubicBezTo>
                <a:cubicBezTo>
                  <a:pt x="33" y="102"/>
                  <a:pt x="95" y="39"/>
                  <a:pt x="173" y="13"/>
                </a:cubicBezTo>
                <a:cubicBezTo>
                  <a:pt x="173" y="13"/>
                  <a:pt x="173" y="13"/>
                  <a:pt x="173" y="13"/>
                </a:cubicBezTo>
                <a:cubicBezTo>
                  <a:pt x="177" y="12"/>
                  <a:pt x="181" y="11"/>
                  <a:pt x="185" y="10"/>
                </a:cubicBezTo>
                <a:cubicBezTo>
                  <a:pt x="185" y="10"/>
                  <a:pt x="185" y="10"/>
                  <a:pt x="185" y="10"/>
                </a:cubicBezTo>
                <a:cubicBezTo>
                  <a:pt x="187" y="9"/>
                  <a:pt x="189" y="9"/>
                  <a:pt x="191" y="8"/>
                </a:cubicBezTo>
                <a:cubicBezTo>
                  <a:pt x="191" y="8"/>
                  <a:pt x="191" y="8"/>
                  <a:pt x="191" y="8"/>
                </a:cubicBezTo>
                <a:cubicBezTo>
                  <a:pt x="193" y="8"/>
                  <a:pt x="195" y="7"/>
                  <a:pt x="197" y="7"/>
                </a:cubicBezTo>
                <a:cubicBezTo>
                  <a:pt x="197" y="7"/>
                  <a:pt x="197" y="7"/>
                  <a:pt x="197" y="7"/>
                </a:cubicBezTo>
                <a:cubicBezTo>
                  <a:pt x="199" y="6"/>
                  <a:pt x="201" y="6"/>
                  <a:pt x="203" y="5"/>
                </a:cubicBezTo>
                <a:cubicBezTo>
                  <a:pt x="203" y="5"/>
                  <a:pt x="203" y="5"/>
                  <a:pt x="203" y="5"/>
                </a:cubicBezTo>
                <a:cubicBezTo>
                  <a:pt x="205" y="5"/>
                  <a:pt x="207" y="5"/>
                  <a:pt x="209" y="4"/>
                </a:cubicBezTo>
                <a:cubicBezTo>
                  <a:pt x="209" y="4"/>
                  <a:pt x="209" y="4"/>
                  <a:pt x="209" y="4"/>
                </a:cubicBezTo>
                <a:cubicBezTo>
                  <a:pt x="211" y="4"/>
                  <a:pt x="213" y="4"/>
                  <a:pt x="215" y="3"/>
                </a:cubicBezTo>
                <a:cubicBezTo>
                  <a:pt x="215" y="3"/>
                  <a:pt x="215" y="3"/>
                  <a:pt x="215" y="3"/>
                </a:cubicBezTo>
                <a:cubicBezTo>
                  <a:pt x="218" y="3"/>
                  <a:pt x="220" y="3"/>
                  <a:pt x="222" y="2"/>
                </a:cubicBezTo>
                <a:cubicBezTo>
                  <a:pt x="222" y="2"/>
                  <a:pt x="222" y="2"/>
                  <a:pt x="222" y="2"/>
                </a:cubicBezTo>
                <a:cubicBezTo>
                  <a:pt x="224" y="2"/>
                  <a:pt x="226" y="2"/>
                  <a:pt x="228" y="2"/>
                </a:cubicBezTo>
                <a:cubicBezTo>
                  <a:pt x="228" y="2"/>
                  <a:pt x="228" y="2"/>
                  <a:pt x="228" y="2"/>
                </a:cubicBezTo>
                <a:cubicBezTo>
                  <a:pt x="230" y="1"/>
                  <a:pt x="232" y="1"/>
                  <a:pt x="234" y="1"/>
                </a:cubicBezTo>
                <a:cubicBezTo>
                  <a:pt x="234" y="1"/>
                  <a:pt x="234" y="1"/>
                  <a:pt x="234" y="1"/>
                </a:cubicBezTo>
                <a:cubicBezTo>
                  <a:pt x="236" y="1"/>
                  <a:pt x="239" y="1"/>
                  <a:pt x="241" y="1"/>
                </a:cubicBezTo>
                <a:cubicBezTo>
                  <a:pt x="241" y="1"/>
                  <a:pt x="241" y="1"/>
                  <a:pt x="241" y="1"/>
                </a:cubicBezTo>
                <a:cubicBezTo>
                  <a:pt x="243" y="1"/>
                  <a:pt x="245" y="1"/>
                  <a:pt x="247" y="1"/>
                </a:cubicBezTo>
                <a:cubicBezTo>
                  <a:pt x="247" y="1"/>
                  <a:pt x="247" y="1"/>
                  <a:pt x="247" y="1"/>
                </a:cubicBezTo>
                <a:cubicBezTo>
                  <a:pt x="249" y="0"/>
                  <a:pt x="251" y="0"/>
                  <a:pt x="254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56" y="0"/>
                  <a:pt x="259" y="1"/>
                  <a:pt x="262" y="1"/>
                </a:cubicBezTo>
                <a:cubicBezTo>
                  <a:pt x="262" y="1"/>
                  <a:pt x="263" y="1"/>
                  <a:pt x="264" y="1"/>
                </a:cubicBezTo>
                <a:cubicBezTo>
                  <a:pt x="265" y="1"/>
                  <a:pt x="267" y="1"/>
                  <a:pt x="268" y="1"/>
                </a:cubicBezTo>
                <a:cubicBezTo>
                  <a:pt x="359" y="6"/>
                  <a:pt x="412" y="55"/>
                  <a:pt x="489" y="89"/>
                </a:cubicBezTo>
                <a:close/>
              </a:path>
            </a:pathLst>
          </a:cu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93" name="Freeform 13"/>
          <p:cNvSpPr/>
          <p:nvPr/>
        </p:nvSpPr>
        <p:spPr>
          <a:xfrm>
            <a:off x="7102440" y="2706840"/>
            <a:ext cx="671400" cy="669600"/>
          </a:xfrm>
          <a:custGeom>
            <a:avLst/>
            <a:gdLst/>
            <a:ahLst/>
            <a:rect l="l" t="t" r="r" b="b"/>
            <a:pathLst>
              <a:path w="483" h="483">
                <a:moveTo>
                  <a:pt x="86" y="397"/>
                </a:moveTo>
                <a:cubicBezTo>
                  <a:pt x="172" y="483"/>
                  <a:pt x="311" y="483"/>
                  <a:pt x="397" y="397"/>
                </a:cubicBezTo>
                <a:cubicBezTo>
                  <a:pt x="483" y="311"/>
                  <a:pt x="483" y="172"/>
                  <a:pt x="397" y="86"/>
                </a:cubicBezTo>
                <a:cubicBezTo>
                  <a:pt x="311" y="0"/>
                  <a:pt x="172" y="0"/>
                  <a:pt x="86" y="86"/>
                </a:cubicBezTo>
                <a:cubicBezTo>
                  <a:pt x="0" y="172"/>
                  <a:pt x="0" y="311"/>
                  <a:pt x="86" y="397"/>
                </a:cubicBez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94" name="Freeform 17"/>
          <p:cNvSpPr/>
          <p:nvPr/>
        </p:nvSpPr>
        <p:spPr>
          <a:xfrm>
            <a:off x="7086600" y="2687760"/>
            <a:ext cx="704880" cy="1819080"/>
          </a:xfrm>
          <a:custGeom>
            <a:avLst/>
            <a:gdLst/>
            <a:ahLst/>
            <a:rect l="l" t="t" r="r" b="b"/>
            <a:pathLst>
              <a:path w="508" h="1309">
                <a:moveTo>
                  <a:pt x="89" y="819"/>
                </a:moveTo>
                <a:cubicBezTo>
                  <a:pt x="107" y="775"/>
                  <a:pt x="121" y="724"/>
                  <a:pt x="122" y="656"/>
                </a:cubicBezTo>
                <a:cubicBezTo>
                  <a:pt x="122" y="586"/>
                  <a:pt x="107" y="533"/>
                  <a:pt x="89" y="488"/>
                </a:cubicBezTo>
                <a:cubicBezTo>
                  <a:pt x="54" y="412"/>
                  <a:pt x="6" y="358"/>
                  <a:pt x="1" y="269"/>
                </a:cubicBezTo>
                <a:cubicBezTo>
                  <a:pt x="0" y="267"/>
                  <a:pt x="0" y="266"/>
                  <a:pt x="0" y="264"/>
                </a:cubicBezTo>
                <a:cubicBezTo>
                  <a:pt x="0" y="262"/>
                  <a:pt x="0" y="262"/>
                  <a:pt x="0" y="262"/>
                </a:cubicBezTo>
                <a:cubicBezTo>
                  <a:pt x="0" y="259"/>
                  <a:pt x="0" y="257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251"/>
                  <a:pt x="0" y="249"/>
                  <a:pt x="0" y="247"/>
                </a:cubicBezTo>
                <a:cubicBezTo>
                  <a:pt x="0" y="247"/>
                  <a:pt x="0" y="247"/>
                  <a:pt x="0" y="247"/>
                </a:cubicBezTo>
                <a:cubicBezTo>
                  <a:pt x="0" y="245"/>
                  <a:pt x="0" y="243"/>
                  <a:pt x="0" y="241"/>
                </a:cubicBezTo>
                <a:cubicBezTo>
                  <a:pt x="0" y="241"/>
                  <a:pt x="0" y="241"/>
                  <a:pt x="0" y="241"/>
                </a:cubicBezTo>
                <a:cubicBezTo>
                  <a:pt x="1" y="239"/>
                  <a:pt x="1" y="237"/>
                  <a:pt x="1" y="234"/>
                </a:cubicBezTo>
                <a:cubicBezTo>
                  <a:pt x="1" y="234"/>
                  <a:pt x="1" y="234"/>
                  <a:pt x="1" y="234"/>
                </a:cubicBezTo>
                <a:cubicBezTo>
                  <a:pt x="1" y="232"/>
                  <a:pt x="1" y="230"/>
                  <a:pt x="1" y="228"/>
                </a:cubicBezTo>
                <a:cubicBezTo>
                  <a:pt x="1" y="228"/>
                  <a:pt x="1" y="228"/>
                  <a:pt x="1" y="228"/>
                </a:cubicBezTo>
                <a:cubicBezTo>
                  <a:pt x="2" y="226"/>
                  <a:pt x="2" y="224"/>
                  <a:pt x="2" y="222"/>
                </a:cubicBezTo>
                <a:cubicBezTo>
                  <a:pt x="2" y="222"/>
                  <a:pt x="2" y="222"/>
                  <a:pt x="2" y="222"/>
                </a:cubicBezTo>
                <a:cubicBezTo>
                  <a:pt x="2" y="220"/>
                  <a:pt x="3" y="218"/>
                  <a:pt x="3" y="216"/>
                </a:cubicBezTo>
                <a:cubicBezTo>
                  <a:pt x="3" y="216"/>
                  <a:pt x="3" y="216"/>
                  <a:pt x="3" y="216"/>
                </a:cubicBezTo>
                <a:cubicBezTo>
                  <a:pt x="3" y="214"/>
                  <a:pt x="4" y="212"/>
                  <a:pt x="4" y="209"/>
                </a:cubicBezTo>
                <a:cubicBezTo>
                  <a:pt x="4" y="209"/>
                  <a:pt x="4" y="209"/>
                  <a:pt x="4" y="209"/>
                </a:cubicBezTo>
                <a:cubicBezTo>
                  <a:pt x="4" y="207"/>
                  <a:pt x="5" y="205"/>
                  <a:pt x="5" y="203"/>
                </a:cubicBezTo>
                <a:cubicBezTo>
                  <a:pt x="5" y="203"/>
                  <a:pt x="5" y="203"/>
                  <a:pt x="5" y="203"/>
                </a:cubicBezTo>
                <a:cubicBezTo>
                  <a:pt x="6" y="201"/>
                  <a:pt x="6" y="199"/>
                  <a:pt x="7" y="197"/>
                </a:cubicBezTo>
                <a:cubicBezTo>
                  <a:pt x="7" y="197"/>
                  <a:pt x="7" y="197"/>
                  <a:pt x="7" y="197"/>
                </a:cubicBezTo>
                <a:cubicBezTo>
                  <a:pt x="7" y="195"/>
                  <a:pt x="7" y="193"/>
                  <a:pt x="8" y="191"/>
                </a:cubicBezTo>
                <a:cubicBezTo>
                  <a:pt x="8" y="191"/>
                  <a:pt x="8" y="191"/>
                  <a:pt x="8" y="191"/>
                </a:cubicBezTo>
                <a:cubicBezTo>
                  <a:pt x="8" y="189"/>
                  <a:pt x="9" y="187"/>
                  <a:pt x="9" y="185"/>
                </a:cubicBezTo>
                <a:cubicBezTo>
                  <a:pt x="9" y="185"/>
                  <a:pt x="9" y="185"/>
                  <a:pt x="9" y="185"/>
                </a:cubicBezTo>
                <a:cubicBezTo>
                  <a:pt x="11" y="181"/>
                  <a:pt x="12" y="177"/>
                  <a:pt x="13" y="173"/>
                </a:cubicBezTo>
                <a:cubicBezTo>
                  <a:pt x="13" y="173"/>
                  <a:pt x="13" y="173"/>
                  <a:pt x="13" y="173"/>
                </a:cubicBezTo>
                <a:cubicBezTo>
                  <a:pt x="39" y="95"/>
                  <a:pt x="102" y="33"/>
                  <a:pt x="183" y="10"/>
                </a:cubicBezTo>
                <a:cubicBezTo>
                  <a:pt x="183" y="10"/>
                  <a:pt x="183" y="10"/>
                  <a:pt x="183" y="10"/>
                </a:cubicBezTo>
                <a:cubicBezTo>
                  <a:pt x="189" y="8"/>
                  <a:pt x="196" y="6"/>
                  <a:pt x="202" y="5"/>
                </a:cubicBezTo>
                <a:cubicBezTo>
                  <a:pt x="202" y="5"/>
                  <a:pt x="202" y="5"/>
                  <a:pt x="202" y="5"/>
                </a:cubicBezTo>
                <a:cubicBezTo>
                  <a:pt x="204" y="5"/>
                  <a:pt x="206" y="4"/>
                  <a:pt x="208" y="4"/>
                </a:cubicBezTo>
                <a:cubicBezTo>
                  <a:pt x="208" y="4"/>
                  <a:pt x="208" y="4"/>
                  <a:pt x="208" y="4"/>
                </a:cubicBezTo>
                <a:cubicBezTo>
                  <a:pt x="210" y="3"/>
                  <a:pt x="212" y="3"/>
                  <a:pt x="215" y="3"/>
                </a:cubicBezTo>
                <a:cubicBezTo>
                  <a:pt x="215" y="3"/>
                  <a:pt x="215" y="3"/>
                  <a:pt x="215" y="3"/>
                </a:cubicBezTo>
                <a:cubicBezTo>
                  <a:pt x="219" y="2"/>
                  <a:pt x="223" y="2"/>
                  <a:pt x="227" y="1"/>
                </a:cubicBezTo>
                <a:cubicBezTo>
                  <a:pt x="227" y="1"/>
                  <a:pt x="227" y="1"/>
                  <a:pt x="227" y="1"/>
                </a:cubicBezTo>
                <a:cubicBezTo>
                  <a:pt x="230" y="1"/>
                  <a:pt x="232" y="1"/>
                  <a:pt x="234" y="0"/>
                </a:cubicBezTo>
                <a:cubicBezTo>
                  <a:pt x="234" y="0"/>
                  <a:pt x="234" y="0"/>
                  <a:pt x="234" y="0"/>
                </a:cubicBezTo>
                <a:cubicBezTo>
                  <a:pt x="238" y="0"/>
                  <a:pt x="243" y="0"/>
                  <a:pt x="247" y="0"/>
                </a:cubicBezTo>
                <a:cubicBezTo>
                  <a:pt x="247" y="0"/>
                  <a:pt x="247" y="0"/>
                  <a:pt x="247" y="0"/>
                </a:cubicBezTo>
                <a:cubicBezTo>
                  <a:pt x="250" y="0"/>
                  <a:pt x="252" y="0"/>
                  <a:pt x="254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56" y="0"/>
                  <a:pt x="259" y="0"/>
                  <a:pt x="261" y="0"/>
                </a:cubicBezTo>
                <a:cubicBezTo>
                  <a:pt x="261" y="0"/>
                  <a:pt x="261" y="0"/>
                  <a:pt x="261" y="0"/>
                </a:cubicBezTo>
                <a:cubicBezTo>
                  <a:pt x="265" y="0"/>
                  <a:pt x="270" y="0"/>
                  <a:pt x="274" y="0"/>
                </a:cubicBezTo>
                <a:cubicBezTo>
                  <a:pt x="274" y="0"/>
                  <a:pt x="274" y="0"/>
                  <a:pt x="274" y="0"/>
                </a:cubicBezTo>
                <a:cubicBezTo>
                  <a:pt x="276" y="1"/>
                  <a:pt x="278" y="1"/>
                  <a:pt x="281" y="1"/>
                </a:cubicBezTo>
                <a:cubicBezTo>
                  <a:pt x="281" y="1"/>
                  <a:pt x="281" y="1"/>
                  <a:pt x="281" y="1"/>
                </a:cubicBezTo>
                <a:cubicBezTo>
                  <a:pt x="285" y="2"/>
                  <a:pt x="289" y="2"/>
                  <a:pt x="294" y="3"/>
                </a:cubicBezTo>
                <a:cubicBezTo>
                  <a:pt x="294" y="3"/>
                  <a:pt x="294" y="3"/>
                  <a:pt x="294" y="3"/>
                </a:cubicBezTo>
                <a:cubicBezTo>
                  <a:pt x="296" y="3"/>
                  <a:pt x="298" y="3"/>
                  <a:pt x="300" y="4"/>
                </a:cubicBezTo>
                <a:cubicBezTo>
                  <a:pt x="300" y="4"/>
                  <a:pt x="300" y="4"/>
                  <a:pt x="300" y="4"/>
                </a:cubicBezTo>
                <a:cubicBezTo>
                  <a:pt x="302" y="4"/>
                  <a:pt x="304" y="5"/>
                  <a:pt x="306" y="5"/>
                </a:cubicBezTo>
                <a:cubicBezTo>
                  <a:pt x="306" y="5"/>
                  <a:pt x="306" y="5"/>
                  <a:pt x="306" y="5"/>
                </a:cubicBezTo>
                <a:cubicBezTo>
                  <a:pt x="312" y="6"/>
                  <a:pt x="319" y="8"/>
                  <a:pt x="325" y="10"/>
                </a:cubicBezTo>
                <a:cubicBezTo>
                  <a:pt x="325" y="10"/>
                  <a:pt x="325" y="10"/>
                  <a:pt x="325" y="10"/>
                </a:cubicBezTo>
                <a:cubicBezTo>
                  <a:pt x="406" y="33"/>
                  <a:pt x="469" y="95"/>
                  <a:pt x="495" y="173"/>
                </a:cubicBezTo>
                <a:cubicBezTo>
                  <a:pt x="495" y="173"/>
                  <a:pt x="495" y="173"/>
                  <a:pt x="495" y="173"/>
                </a:cubicBezTo>
                <a:cubicBezTo>
                  <a:pt x="496" y="177"/>
                  <a:pt x="497" y="181"/>
                  <a:pt x="498" y="185"/>
                </a:cubicBezTo>
                <a:cubicBezTo>
                  <a:pt x="498" y="185"/>
                  <a:pt x="498" y="185"/>
                  <a:pt x="498" y="185"/>
                </a:cubicBezTo>
                <a:cubicBezTo>
                  <a:pt x="499" y="187"/>
                  <a:pt x="500" y="189"/>
                  <a:pt x="500" y="191"/>
                </a:cubicBezTo>
                <a:cubicBezTo>
                  <a:pt x="500" y="191"/>
                  <a:pt x="500" y="191"/>
                  <a:pt x="500" y="191"/>
                </a:cubicBezTo>
                <a:cubicBezTo>
                  <a:pt x="501" y="193"/>
                  <a:pt x="501" y="195"/>
                  <a:pt x="502" y="197"/>
                </a:cubicBezTo>
                <a:cubicBezTo>
                  <a:pt x="502" y="197"/>
                  <a:pt x="502" y="197"/>
                  <a:pt x="502" y="197"/>
                </a:cubicBezTo>
                <a:cubicBezTo>
                  <a:pt x="502" y="199"/>
                  <a:pt x="502" y="201"/>
                  <a:pt x="503" y="203"/>
                </a:cubicBezTo>
                <a:cubicBezTo>
                  <a:pt x="503" y="203"/>
                  <a:pt x="503" y="203"/>
                  <a:pt x="503" y="203"/>
                </a:cubicBezTo>
                <a:cubicBezTo>
                  <a:pt x="503" y="205"/>
                  <a:pt x="504" y="207"/>
                  <a:pt x="504" y="209"/>
                </a:cubicBezTo>
                <a:cubicBezTo>
                  <a:pt x="504" y="209"/>
                  <a:pt x="504" y="209"/>
                  <a:pt x="504" y="209"/>
                </a:cubicBezTo>
                <a:cubicBezTo>
                  <a:pt x="504" y="212"/>
                  <a:pt x="505" y="214"/>
                  <a:pt x="505" y="216"/>
                </a:cubicBezTo>
                <a:cubicBezTo>
                  <a:pt x="505" y="216"/>
                  <a:pt x="505" y="216"/>
                  <a:pt x="505" y="216"/>
                </a:cubicBezTo>
                <a:cubicBezTo>
                  <a:pt x="505" y="218"/>
                  <a:pt x="506" y="220"/>
                  <a:pt x="506" y="222"/>
                </a:cubicBezTo>
                <a:cubicBezTo>
                  <a:pt x="506" y="222"/>
                  <a:pt x="506" y="222"/>
                  <a:pt x="506" y="222"/>
                </a:cubicBezTo>
                <a:cubicBezTo>
                  <a:pt x="506" y="224"/>
                  <a:pt x="506" y="226"/>
                  <a:pt x="507" y="228"/>
                </a:cubicBezTo>
                <a:cubicBezTo>
                  <a:pt x="507" y="228"/>
                  <a:pt x="507" y="228"/>
                  <a:pt x="507" y="228"/>
                </a:cubicBezTo>
                <a:cubicBezTo>
                  <a:pt x="507" y="230"/>
                  <a:pt x="507" y="232"/>
                  <a:pt x="507" y="234"/>
                </a:cubicBezTo>
                <a:cubicBezTo>
                  <a:pt x="507" y="234"/>
                  <a:pt x="507" y="234"/>
                  <a:pt x="507" y="234"/>
                </a:cubicBezTo>
                <a:cubicBezTo>
                  <a:pt x="507" y="237"/>
                  <a:pt x="508" y="239"/>
                  <a:pt x="508" y="241"/>
                </a:cubicBezTo>
                <a:cubicBezTo>
                  <a:pt x="508" y="241"/>
                  <a:pt x="508" y="241"/>
                  <a:pt x="508" y="241"/>
                </a:cubicBezTo>
                <a:cubicBezTo>
                  <a:pt x="508" y="243"/>
                  <a:pt x="508" y="245"/>
                  <a:pt x="508" y="247"/>
                </a:cubicBezTo>
                <a:cubicBezTo>
                  <a:pt x="508" y="247"/>
                  <a:pt x="508" y="247"/>
                  <a:pt x="508" y="247"/>
                </a:cubicBezTo>
                <a:cubicBezTo>
                  <a:pt x="508" y="249"/>
                  <a:pt x="508" y="251"/>
                  <a:pt x="508" y="254"/>
                </a:cubicBezTo>
                <a:cubicBezTo>
                  <a:pt x="508" y="254"/>
                  <a:pt x="508" y="254"/>
                  <a:pt x="508" y="254"/>
                </a:cubicBezTo>
                <a:cubicBezTo>
                  <a:pt x="508" y="255"/>
                  <a:pt x="508" y="255"/>
                  <a:pt x="508" y="255"/>
                </a:cubicBezTo>
                <a:cubicBezTo>
                  <a:pt x="508" y="256"/>
                  <a:pt x="508" y="257"/>
                  <a:pt x="508" y="258"/>
                </a:cubicBezTo>
                <a:cubicBezTo>
                  <a:pt x="508" y="259"/>
                  <a:pt x="508" y="260"/>
                  <a:pt x="508" y="261"/>
                </a:cubicBezTo>
                <a:cubicBezTo>
                  <a:pt x="508" y="261"/>
                  <a:pt x="508" y="261"/>
                  <a:pt x="508" y="261"/>
                </a:cubicBezTo>
                <a:cubicBezTo>
                  <a:pt x="505" y="355"/>
                  <a:pt x="455" y="410"/>
                  <a:pt x="419" y="488"/>
                </a:cubicBezTo>
                <a:cubicBezTo>
                  <a:pt x="401" y="533"/>
                  <a:pt x="387" y="586"/>
                  <a:pt x="386" y="656"/>
                </a:cubicBezTo>
                <a:cubicBezTo>
                  <a:pt x="387" y="723"/>
                  <a:pt x="401" y="775"/>
                  <a:pt x="419" y="819"/>
                </a:cubicBezTo>
                <a:cubicBezTo>
                  <a:pt x="453" y="896"/>
                  <a:pt x="502" y="950"/>
                  <a:pt x="508" y="1040"/>
                </a:cubicBezTo>
                <a:cubicBezTo>
                  <a:pt x="508" y="1041"/>
                  <a:pt x="508" y="1043"/>
                  <a:pt x="508" y="1044"/>
                </a:cubicBezTo>
                <a:cubicBezTo>
                  <a:pt x="508" y="1047"/>
                  <a:pt x="508" y="1047"/>
                  <a:pt x="508" y="1047"/>
                </a:cubicBezTo>
                <a:cubicBezTo>
                  <a:pt x="508" y="1049"/>
                  <a:pt x="508" y="1052"/>
                  <a:pt x="508" y="1055"/>
                </a:cubicBezTo>
                <a:cubicBezTo>
                  <a:pt x="508" y="1055"/>
                  <a:pt x="508" y="1055"/>
                  <a:pt x="508" y="1055"/>
                </a:cubicBezTo>
                <a:cubicBezTo>
                  <a:pt x="508" y="1055"/>
                  <a:pt x="508" y="1055"/>
                  <a:pt x="508" y="1055"/>
                </a:cubicBezTo>
                <a:cubicBezTo>
                  <a:pt x="508" y="1057"/>
                  <a:pt x="508" y="1059"/>
                  <a:pt x="508" y="1061"/>
                </a:cubicBezTo>
                <a:cubicBezTo>
                  <a:pt x="508" y="1061"/>
                  <a:pt x="508" y="1061"/>
                  <a:pt x="508" y="1061"/>
                </a:cubicBezTo>
                <a:cubicBezTo>
                  <a:pt x="508" y="1063"/>
                  <a:pt x="508" y="1065"/>
                  <a:pt x="508" y="1067"/>
                </a:cubicBezTo>
                <a:cubicBezTo>
                  <a:pt x="508" y="1067"/>
                  <a:pt x="508" y="1067"/>
                  <a:pt x="508" y="1067"/>
                </a:cubicBezTo>
                <a:cubicBezTo>
                  <a:pt x="508" y="1070"/>
                  <a:pt x="507" y="1072"/>
                  <a:pt x="507" y="1074"/>
                </a:cubicBezTo>
                <a:cubicBezTo>
                  <a:pt x="507" y="1074"/>
                  <a:pt x="507" y="1074"/>
                  <a:pt x="507" y="1074"/>
                </a:cubicBezTo>
                <a:cubicBezTo>
                  <a:pt x="507" y="1076"/>
                  <a:pt x="507" y="1078"/>
                  <a:pt x="507" y="1080"/>
                </a:cubicBezTo>
                <a:cubicBezTo>
                  <a:pt x="507" y="1080"/>
                  <a:pt x="507" y="1080"/>
                  <a:pt x="507" y="1080"/>
                </a:cubicBezTo>
                <a:cubicBezTo>
                  <a:pt x="506" y="1082"/>
                  <a:pt x="506" y="1084"/>
                  <a:pt x="506" y="1086"/>
                </a:cubicBezTo>
                <a:cubicBezTo>
                  <a:pt x="506" y="1086"/>
                  <a:pt x="506" y="1086"/>
                  <a:pt x="506" y="1086"/>
                </a:cubicBezTo>
                <a:cubicBezTo>
                  <a:pt x="506" y="1089"/>
                  <a:pt x="505" y="1091"/>
                  <a:pt x="505" y="1093"/>
                </a:cubicBezTo>
                <a:cubicBezTo>
                  <a:pt x="505" y="1093"/>
                  <a:pt x="505" y="1093"/>
                  <a:pt x="505" y="1093"/>
                </a:cubicBezTo>
                <a:cubicBezTo>
                  <a:pt x="505" y="1095"/>
                  <a:pt x="504" y="1097"/>
                  <a:pt x="504" y="1099"/>
                </a:cubicBezTo>
                <a:cubicBezTo>
                  <a:pt x="504" y="1099"/>
                  <a:pt x="504" y="1099"/>
                  <a:pt x="504" y="1099"/>
                </a:cubicBezTo>
                <a:cubicBezTo>
                  <a:pt x="504" y="1101"/>
                  <a:pt x="503" y="1103"/>
                  <a:pt x="503" y="1105"/>
                </a:cubicBezTo>
                <a:cubicBezTo>
                  <a:pt x="503" y="1105"/>
                  <a:pt x="503" y="1105"/>
                  <a:pt x="503" y="1105"/>
                </a:cubicBezTo>
                <a:cubicBezTo>
                  <a:pt x="502" y="1107"/>
                  <a:pt x="502" y="1109"/>
                  <a:pt x="502" y="1111"/>
                </a:cubicBezTo>
                <a:cubicBezTo>
                  <a:pt x="502" y="1111"/>
                  <a:pt x="502" y="1111"/>
                  <a:pt x="502" y="1111"/>
                </a:cubicBezTo>
                <a:cubicBezTo>
                  <a:pt x="501" y="1113"/>
                  <a:pt x="501" y="1115"/>
                  <a:pt x="500" y="1117"/>
                </a:cubicBezTo>
                <a:cubicBezTo>
                  <a:pt x="500" y="1117"/>
                  <a:pt x="500" y="1117"/>
                  <a:pt x="500" y="1117"/>
                </a:cubicBezTo>
                <a:cubicBezTo>
                  <a:pt x="500" y="1119"/>
                  <a:pt x="499" y="1121"/>
                  <a:pt x="498" y="1123"/>
                </a:cubicBezTo>
                <a:cubicBezTo>
                  <a:pt x="498" y="1123"/>
                  <a:pt x="498" y="1123"/>
                  <a:pt x="498" y="1123"/>
                </a:cubicBezTo>
                <a:cubicBezTo>
                  <a:pt x="497" y="1127"/>
                  <a:pt x="496" y="1131"/>
                  <a:pt x="495" y="1135"/>
                </a:cubicBezTo>
                <a:cubicBezTo>
                  <a:pt x="495" y="1135"/>
                  <a:pt x="495" y="1135"/>
                  <a:pt x="495" y="1135"/>
                </a:cubicBezTo>
                <a:cubicBezTo>
                  <a:pt x="469" y="1213"/>
                  <a:pt x="406" y="1276"/>
                  <a:pt x="325" y="1299"/>
                </a:cubicBezTo>
                <a:cubicBezTo>
                  <a:pt x="325" y="1299"/>
                  <a:pt x="325" y="1299"/>
                  <a:pt x="325" y="1299"/>
                </a:cubicBezTo>
                <a:cubicBezTo>
                  <a:pt x="319" y="1301"/>
                  <a:pt x="312" y="1302"/>
                  <a:pt x="306" y="1303"/>
                </a:cubicBezTo>
                <a:cubicBezTo>
                  <a:pt x="306" y="1303"/>
                  <a:pt x="306" y="1303"/>
                  <a:pt x="306" y="1303"/>
                </a:cubicBezTo>
                <a:cubicBezTo>
                  <a:pt x="304" y="1304"/>
                  <a:pt x="302" y="1304"/>
                  <a:pt x="300" y="1305"/>
                </a:cubicBezTo>
                <a:cubicBezTo>
                  <a:pt x="300" y="1305"/>
                  <a:pt x="300" y="1305"/>
                  <a:pt x="300" y="1305"/>
                </a:cubicBezTo>
                <a:cubicBezTo>
                  <a:pt x="298" y="1305"/>
                  <a:pt x="296" y="1305"/>
                  <a:pt x="294" y="1306"/>
                </a:cubicBezTo>
                <a:cubicBezTo>
                  <a:pt x="294" y="1306"/>
                  <a:pt x="294" y="1306"/>
                  <a:pt x="294" y="1306"/>
                </a:cubicBezTo>
                <a:cubicBezTo>
                  <a:pt x="289" y="1306"/>
                  <a:pt x="285" y="1307"/>
                  <a:pt x="281" y="1307"/>
                </a:cubicBezTo>
                <a:cubicBezTo>
                  <a:pt x="281" y="1307"/>
                  <a:pt x="281" y="1307"/>
                  <a:pt x="281" y="1307"/>
                </a:cubicBezTo>
                <a:cubicBezTo>
                  <a:pt x="278" y="1308"/>
                  <a:pt x="276" y="1308"/>
                  <a:pt x="274" y="1308"/>
                </a:cubicBezTo>
                <a:cubicBezTo>
                  <a:pt x="274" y="1308"/>
                  <a:pt x="274" y="1308"/>
                  <a:pt x="274" y="1308"/>
                </a:cubicBezTo>
                <a:cubicBezTo>
                  <a:pt x="270" y="1308"/>
                  <a:pt x="265" y="1308"/>
                  <a:pt x="261" y="1309"/>
                </a:cubicBezTo>
                <a:cubicBezTo>
                  <a:pt x="261" y="1309"/>
                  <a:pt x="261" y="1309"/>
                  <a:pt x="261" y="1309"/>
                </a:cubicBezTo>
                <a:cubicBezTo>
                  <a:pt x="259" y="1309"/>
                  <a:pt x="256" y="1309"/>
                  <a:pt x="254" y="1309"/>
                </a:cubicBezTo>
                <a:cubicBezTo>
                  <a:pt x="254" y="1309"/>
                  <a:pt x="254" y="1309"/>
                  <a:pt x="254" y="1309"/>
                </a:cubicBezTo>
                <a:cubicBezTo>
                  <a:pt x="252" y="1309"/>
                  <a:pt x="250" y="1309"/>
                  <a:pt x="247" y="1309"/>
                </a:cubicBezTo>
                <a:cubicBezTo>
                  <a:pt x="247" y="1309"/>
                  <a:pt x="247" y="1309"/>
                  <a:pt x="247" y="1309"/>
                </a:cubicBezTo>
                <a:cubicBezTo>
                  <a:pt x="243" y="1308"/>
                  <a:pt x="238" y="1308"/>
                  <a:pt x="234" y="1308"/>
                </a:cubicBezTo>
                <a:cubicBezTo>
                  <a:pt x="234" y="1308"/>
                  <a:pt x="234" y="1308"/>
                  <a:pt x="234" y="1308"/>
                </a:cubicBezTo>
                <a:cubicBezTo>
                  <a:pt x="232" y="1308"/>
                  <a:pt x="230" y="1308"/>
                  <a:pt x="227" y="1307"/>
                </a:cubicBezTo>
                <a:cubicBezTo>
                  <a:pt x="227" y="1307"/>
                  <a:pt x="227" y="1307"/>
                  <a:pt x="227" y="1307"/>
                </a:cubicBezTo>
                <a:cubicBezTo>
                  <a:pt x="223" y="1307"/>
                  <a:pt x="219" y="1306"/>
                  <a:pt x="215" y="1306"/>
                </a:cubicBezTo>
                <a:cubicBezTo>
                  <a:pt x="215" y="1306"/>
                  <a:pt x="215" y="1306"/>
                  <a:pt x="215" y="1306"/>
                </a:cubicBezTo>
                <a:cubicBezTo>
                  <a:pt x="212" y="1305"/>
                  <a:pt x="210" y="1305"/>
                  <a:pt x="208" y="1305"/>
                </a:cubicBezTo>
                <a:cubicBezTo>
                  <a:pt x="208" y="1305"/>
                  <a:pt x="208" y="1305"/>
                  <a:pt x="208" y="1305"/>
                </a:cubicBezTo>
                <a:cubicBezTo>
                  <a:pt x="206" y="1304"/>
                  <a:pt x="204" y="1304"/>
                  <a:pt x="202" y="1303"/>
                </a:cubicBezTo>
                <a:cubicBezTo>
                  <a:pt x="202" y="1303"/>
                  <a:pt x="202" y="1303"/>
                  <a:pt x="202" y="1303"/>
                </a:cubicBezTo>
                <a:cubicBezTo>
                  <a:pt x="196" y="1302"/>
                  <a:pt x="189" y="1301"/>
                  <a:pt x="183" y="1299"/>
                </a:cubicBezTo>
                <a:cubicBezTo>
                  <a:pt x="183" y="1299"/>
                  <a:pt x="183" y="1299"/>
                  <a:pt x="183" y="1299"/>
                </a:cubicBezTo>
                <a:cubicBezTo>
                  <a:pt x="102" y="1276"/>
                  <a:pt x="39" y="1213"/>
                  <a:pt x="13" y="1135"/>
                </a:cubicBezTo>
                <a:cubicBezTo>
                  <a:pt x="13" y="1135"/>
                  <a:pt x="13" y="1135"/>
                  <a:pt x="13" y="1135"/>
                </a:cubicBezTo>
                <a:cubicBezTo>
                  <a:pt x="12" y="1131"/>
                  <a:pt x="11" y="1127"/>
                  <a:pt x="9" y="1123"/>
                </a:cubicBezTo>
                <a:cubicBezTo>
                  <a:pt x="9" y="1123"/>
                  <a:pt x="9" y="1123"/>
                  <a:pt x="9" y="1123"/>
                </a:cubicBezTo>
                <a:cubicBezTo>
                  <a:pt x="9" y="1121"/>
                  <a:pt x="8" y="1119"/>
                  <a:pt x="8" y="1117"/>
                </a:cubicBezTo>
                <a:cubicBezTo>
                  <a:pt x="8" y="1117"/>
                  <a:pt x="8" y="1117"/>
                  <a:pt x="8" y="1117"/>
                </a:cubicBezTo>
                <a:cubicBezTo>
                  <a:pt x="7" y="1115"/>
                  <a:pt x="7" y="1113"/>
                  <a:pt x="7" y="1111"/>
                </a:cubicBezTo>
                <a:cubicBezTo>
                  <a:pt x="7" y="1111"/>
                  <a:pt x="7" y="1111"/>
                  <a:pt x="7" y="1111"/>
                </a:cubicBezTo>
                <a:cubicBezTo>
                  <a:pt x="6" y="1109"/>
                  <a:pt x="6" y="1107"/>
                  <a:pt x="5" y="1105"/>
                </a:cubicBezTo>
                <a:cubicBezTo>
                  <a:pt x="5" y="1105"/>
                  <a:pt x="5" y="1105"/>
                  <a:pt x="5" y="1105"/>
                </a:cubicBezTo>
                <a:cubicBezTo>
                  <a:pt x="5" y="1103"/>
                  <a:pt x="4" y="1101"/>
                  <a:pt x="4" y="1099"/>
                </a:cubicBezTo>
                <a:cubicBezTo>
                  <a:pt x="4" y="1099"/>
                  <a:pt x="4" y="1099"/>
                  <a:pt x="4" y="1099"/>
                </a:cubicBezTo>
                <a:cubicBezTo>
                  <a:pt x="4" y="1097"/>
                  <a:pt x="3" y="1095"/>
                  <a:pt x="3" y="1093"/>
                </a:cubicBezTo>
                <a:cubicBezTo>
                  <a:pt x="3" y="1093"/>
                  <a:pt x="3" y="1093"/>
                  <a:pt x="3" y="1093"/>
                </a:cubicBezTo>
                <a:cubicBezTo>
                  <a:pt x="3" y="1091"/>
                  <a:pt x="2" y="1089"/>
                  <a:pt x="2" y="1086"/>
                </a:cubicBezTo>
                <a:cubicBezTo>
                  <a:pt x="2" y="1086"/>
                  <a:pt x="2" y="1086"/>
                  <a:pt x="2" y="1086"/>
                </a:cubicBezTo>
                <a:cubicBezTo>
                  <a:pt x="2" y="1084"/>
                  <a:pt x="2" y="1082"/>
                  <a:pt x="1" y="1080"/>
                </a:cubicBezTo>
                <a:cubicBezTo>
                  <a:pt x="1" y="1080"/>
                  <a:pt x="1" y="1080"/>
                  <a:pt x="1" y="1080"/>
                </a:cubicBezTo>
                <a:cubicBezTo>
                  <a:pt x="1" y="1078"/>
                  <a:pt x="1" y="1076"/>
                  <a:pt x="1" y="1074"/>
                </a:cubicBezTo>
                <a:cubicBezTo>
                  <a:pt x="1" y="1074"/>
                  <a:pt x="1" y="1074"/>
                  <a:pt x="1" y="1074"/>
                </a:cubicBezTo>
                <a:cubicBezTo>
                  <a:pt x="1" y="1072"/>
                  <a:pt x="1" y="1070"/>
                  <a:pt x="0" y="1067"/>
                </a:cubicBezTo>
                <a:cubicBezTo>
                  <a:pt x="0" y="1067"/>
                  <a:pt x="0" y="1067"/>
                  <a:pt x="0" y="1067"/>
                </a:cubicBezTo>
                <a:cubicBezTo>
                  <a:pt x="0" y="1065"/>
                  <a:pt x="0" y="1063"/>
                  <a:pt x="0" y="1061"/>
                </a:cubicBezTo>
                <a:cubicBezTo>
                  <a:pt x="0" y="1061"/>
                  <a:pt x="0" y="1061"/>
                  <a:pt x="0" y="1061"/>
                </a:cubicBezTo>
                <a:cubicBezTo>
                  <a:pt x="0" y="1059"/>
                  <a:pt x="0" y="1057"/>
                  <a:pt x="0" y="1055"/>
                </a:cubicBezTo>
                <a:cubicBezTo>
                  <a:pt x="0" y="1055"/>
                  <a:pt x="0" y="1055"/>
                  <a:pt x="0" y="1055"/>
                </a:cubicBezTo>
                <a:cubicBezTo>
                  <a:pt x="0" y="1055"/>
                  <a:pt x="0" y="1055"/>
                  <a:pt x="0" y="1055"/>
                </a:cubicBezTo>
                <a:cubicBezTo>
                  <a:pt x="0" y="1052"/>
                  <a:pt x="0" y="1049"/>
                  <a:pt x="0" y="1047"/>
                </a:cubicBezTo>
                <a:cubicBezTo>
                  <a:pt x="0" y="1046"/>
                  <a:pt x="0" y="1045"/>
                  <a:pt x="0" y="1044"/>
                </a:cubicBezTo>
                <a:cubicBezTo>
                  <a:pt x="0" y="1043"/>
                  <a:pt x="0" y="1041"/>
                  <a:pt x="1" y="1040"/>
                </a:cubicBezTo>
                <a:cubicBezTo>
                  <a:pt x="6" y="950"/>
                  <a:pt x="55" y="896"/>
                  <a:pt x="89" y="819"/>
                </a:cubicBezTo>
                <a:close/>
              </a:path>
            </a:pathLst>
          </a:cu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095" name="Group 10"/>
          <p:cNvGrpSpPr/>
          <p:nvPr/>
        </p:nvGrpSpPr>
        <p:grpSpPr>
          <a:xfrm>
            <a:off x="4386240" y="1889280"/>
            <a:ext cx="1521000" cy="1520640"/>
            <a:chOff x="4386240" y="1889280"/>
            <a:chExt cx="1521000" cy="1520640"/>
          </a:xfrm>
        </p:grpSpPr>
        <p:sp>
          <p:nvSpPr>
            <p:cNvPr id="1096" name="Freeform 14"/>
            <p:cNvSpPr/>
            <p:nvPr/>
          </p:nvSpPr>
          <p:spPr>
            <a:xfrm>
              <a:off x="4386240" y="1889280"/>
              <a:ext cx="1521000" cy="1520640"/>
            </a:xfrm>
            <a:custGeom>
              <a:avLst/>
              <a:gdLst/>
              <a:ahLst/>
              <a:rect l="l" t="t" r="r" b="b"/>
              <a:pathLst>
                <a:path w="1095" h="1094">
                  <a:moveTo>
                    <a:pt x="780" y="547"/>
                  </a:moveTo>
                  <a:cubicBezTo>
                    <a:pt x="737" y="565"/>
                    <a:pt x="691" y="592"/>
                    <a:pt x="642" y="639"/>
                  </a:cubicBezTo>
                  <a:cubicBezTo>
                    <a:pt x="593" y="689"/>
                    <a:pt x="566" y="736"/>
                    <a:pt x="547" y="781"/>
                  </a:cubicBezTo>
                  <a:cubicBezTo>
                    <a:pt x="518" y="860"/>
                    <a:pt x="514" y="932"/>
                    <a:pt x="454" y="999"/>
                  </a:cubicBezTo>
                  <a:cubicBezTo>
                    <a:pt x="453" y="1000"/>
                    <a:pt x="452" y="1001"/>
                    <a:pt x="451" y="1002"/>
                  </a:cubicBezTo>
                  <a:cubicBezTo>
                    <a:pt x="449" y="1004"/>
                    <a:pt x="449" y="1004"/>
                    <a:pt x="449" y="1004"/>
                  </a:cubicBezTo>
                  <a:cubicBezTo>
                    <a:pt x="448" y="1006"/>
                    <a:pt x="446" y="1008"/>
                    <a:pt x="444" y="1010"/>
                  </a:cubicBezTo>
                  <a:cubicBezTo>
                    <a:pt x="444" y="1010"/>
                    <a:pt x="444" y="1010"/>
                    <a:pt x="444" y="1010"/>
                  </a:cubicBezTo>
                  <a:cubicBezTo>
                    <a:pt x="444" y="1010"/>
                    <a:pt x="444" y="1010"/>
                    <a:pt x="444" y="1010"/>
                  </a:cubicBezTo>
                  <a:cubicBezTo>
                    <a:pt x="442" y="1011"/>
                    <a:pt x="441" y="1013"/>
                    <a:pt x="439" y="1014"/>
                  </a:cubicBezTo>
                  <a:cubicBezTo>
                    <a:pt x="439" y="1014"/>
                    <a:pt x="439" y="1014"/>
                    <a:pt x="439" y="1014"/>
                  </a:cubicBezTo>
                  <a:cubicBezTo>
                    <a:pt x="437" y="1016"/>
                    <a:pt x="436" y="1017"/>
                    <a:pt x="434" y="1019"/>
                  </a:cubicBezTo>
                  <a:cubicBezTo>
                    <a:pt x="434" y="1019"/>
                    <a:pt x="434" y="1019"/>
                    <a:pt x="434" y="1019"/>
                  </a:cubicBezTo>
                  <a:cubicBezTo>
                    <a:pt x="433" y="1020"/>
                    <a:pt x="431" y="1021"/>
                    <a:pt x="430" y="1023"/>
                  </a:cubicBezTo>
                  <a:cubicBezTo>
                    <a:pt x="430" y="1023"/>
                    <a:pt x="430" y="1023"/>
                    <a:pt x="430" y="1023"/>
                  </a:cubicBezTo>
                  <a:cubicBezTo>
                    <a:pt x="428" y="1024"/>
                    <a:pt x="426" y="1026"/>
                    <a:pt x="425" y="1027"/>
                  </a:cubicBezTo>
                  <a:cubicBezTo>
                    <a:pt x="425" y="1027"/>
                    <a:pt x="425" y="1027"/>
                    <a:pt x="425" y="1027"/>
                  </a:cubicBezTo>
                  <a:cubicBezTo>
                    <a:pt x="423" y="1028"/>
                    <a:pt x="421" y="1029"/>
                    <a:pt x="420" y="1031"/>
                  </a:cubicBezTo>
                  <a:cubicBezTo>
                    <a:pt x="420" y="1031"/>
                    <a:pt x="420" y="1031"/>
                    <a:pt x="420" y="1031"/>
                  </a:cubicBezTo>
                  <a:cubicBezTo>
                    <a:pt x="418" y="1032"/>
                    <a:pt x="416" y="1033"/>
                    <a:pt x="415" y="1035"/>
                  </a:cubicBezTo>
                  <a:cubicBezTo>
                    <a:pt x="415" y="1035"/>
                    <a:pt x="415" y="1035"/>
                    <a:pt x="415" y="1035"/>
                  </a:cubicBezTo>
                  <a:cubicBezTo>
                    <a:pt x="413" y="1036"/>
                    <a:pt x="411" y="1037"/>
                    <a:pt x="410" y="1038"/>
                  </a:cubicBezTo>
                  <a:cubicBezTo>
                    <a:pt x="410" y="1038"/>
                    <a:pt x="410" y="1038"/>
                    <a:pt x="410" y="1038"/>
                  </a:cubicBezTo>
                  <a:cubicBezTo>
                    <a:pt x="408" y="1039"/>
                    <a:pt x="406" y="1041"/>
                    <a:pt x="405" y="1042"/>
                  </a:cubicBezTo>
                  <a:cubicBezTo>
                    <a:pt x="405" y="1042"/>
                    <a:pt x="405" y="1042"/>
                    <a:pt x="405" y="1042"/>
                  </a:cubicBezTo>
                  <a:cubicBezTo>
                    <a:pt x="403" y="1043"/>
                    <a:pt x="401" y="1044"/>
                    <a:pt x="399" y="1045"/>
                  </a:cubicBezTo>
                  <a:cubicBezTo>
                    <a:pt x="399" y="1045"/>
                    <a:pt x="399" y="1045"/>
                    <a:pt x="399" y="1045"/>
                  </a:cubicBezTo>
                  <a:cubicBezTo>
                    <a:pt x="398" y="1046"/>
                    <a:pt x="396" y="1047"/>
                    <a:pt x="394" y="1048"/>
                  </a:cubicBezTo>
                  <a:cubicBezTo>
                    <a:pt x="394" y="1048"/>
                    <a:pt x="394" y="1048"/>
                    <a:pt x="394" y="1048"/>
                  </a:cubicBezTo>
                  <a:cubicBezTo>
                    <a:pt x="392" y="1049"/>
                    <a:pt x="390" y="1050"/>
                    <a:pt x="389" y="1051"/>
                  </a:cubicBezTo>
                  <a:cubicBezTo>
                    <a:pt x="389" y="1051"/>
                    <a:pt x="389" y="1051"/>
                    <a:pt x="389" y="1051"/>
                  </a:cubicBezTo>
                  <a:cubicBezTo>
                    <a:pt x="385" y="1054"/>
                    <a:pt x="381" y="1055"/>
                    <a:pt x="378" y="1057"/>
                  </a:cubicBezTo>
                  <a:cubicBezTo>
                    <a:pt x="378" y="1057"/>
                    <a:pt x="378" y="1057"/>
                    <a:pt x="378" y="1057"/>
                  </a:cubicBezTo>
                  <a:cubicBezTo>
                    <a:pt x="304" y="1094"/>
                    <a:pt x="216" y="1094"/>
                    <a:pt x="142" y="1053"/>
                  </a:cubicBezTo>
                  <a:cubicBezTo>
                    <a:pt x="142" y="1053"/>
                    <a:pt x="142" y="1053"/>
                    <a:pt x="142" y="1053"/>
                  </a:cubicBezTo>
                  <a:cubicBezTo>
                    <a:pt x="136" y="1050"/>
                    <a:pt x="131" y="1046"/>
                    <a:pt x="125" y="1043"/>
                  </a:cubicBezTo>
                  <a:cubicBezTo>
                    <a:pt x="125" y="1043"/>
                    <a:pt x="125" y="1043"/>
                    <a:pt x="125" y="1043"/>
                  </a:cubicBezTo>
                  <a:cubicBezTo>
                    <a:pt x="124" y="1042"/>
                    <a:pt x="122" y="1040"/>
                    <a:pt x="120" y="1039"/>
                  </a:cubicBezTo>
                  <a:cubicBezTo>
                    <a:pt x="120" y="1039"/>
                    <a:pt x="120" y="1039"/>
                    <a:pt x="120" y="1039"/>
                  </a:cubicBezTo>
                  <a:cubicBezTo>
                    <a:pt x="118" y="1038"/>
                    <a:pt x="116" y="1037"/>
                    <a:pt x="115" y="1035"/>
                  </a:cubicBezTo>
                  <a:cubicBezTo>
                    <a:pt x="115" y="1035"/>
                    <a:pt x="115" y="1035"/>
                    <a:pt x="115" y="1035"/>
                  </a:cubicBezTo>
                  <a:cubicBezTo>
                    <a:pt x="111" y="1033"/>
                    <a:pt x="108" y="1030"/>
                    <a:pt x="104" y="1027"/>
                  </a:cubicBezTo>
                  <a:cubicBezTo>
                    <a:pt x="104" y="1027"/>
                    <a:pt x="104" y="1027"/>
                    <a:pt x="104" y="1027"/>
                  </a:cubicBezTo>
                  <a:cubicBezTo>
                    <a:pt x="103" y="1026"/>
                    <a:pt x="101" y="1025"/>
                    <a:pt x="99" y="1023"/>
                  </a:cubicBezTo>
                  <a:cubicBezTo>
                    <a:pt x="99" y="1023"/>
                    <a:pt x="99" y="1023"/>
                    <a:pt x="99" y="1023"/>
                  </a:cubicBezTo>
                  <a:cubicBezTo>
                    <a:pt x="96" y="1020"/>
                    <a:pt x="93" y="1017"/>
                    <a:pt x="89" y="1014"/>
                  </a:cubicBezTo>
                  <a:cubicBezTo>
                    <a:pt x="89" y="1014"/>
                    <a:pt x="89" y="1014"/>
                    <a:pt x="89" y="1014"/>
                  </a:cubicBezTo>
                  <a:cubicBezTo>
                    <a:pt x="88" y="1013"/>
                    <a:pt x="86" y="1011"/>
                    <a:pt x="85" y="1010"/>
                  </a:cubicBezTo>
                  <a:cubicBezTo>
                    <a:pt x="85" y="1010"/>
                    <a:pt x="85" y="1010"/>
                    <a:pt x="85" y="1010"/>
                  </a:cubicBezTo>
                  <a:cubicBezTo>
                    <a:pt x="83" y="1008"/>
                    <a:pt x="81" y="1006"/>
                    <a:pt x="80" y="1005"/>
                  </a:cubicBezTo>
                  <a:cubicBezTo>
                    <a:pt x="80" y="1005"/>
                    <a:pt x="80" y="1005"/>
                    <a:pt x="80" y="1005"/>
                  </a:cubicBezTo>
                  <a:cubicBezTo>
                    <a:pt x="77" y="1002"/>
                    <a:pt x="74" y="998"/>
                    <a:pt x="71" y="995"/>
                  </a:cubicBezTo>
                  <a:cubicBezTo>
                    <a:pt x="71" y="995"/>
                    <a:pt x="71" y="995"/>
                    <a:pt x="71" y="995"/>
                  </a:cubicBezTo>
                  <a:cubicBezTo>
                    <a:pt x="70" y="993"/>
                    <a:pt x="68" y="992"/>
                    <a:pt x="67" y="990"/>
                  </a:cubicBezTo>
                  <a:cubicBezTo>
                    <a:pt x="67" y="990"/>
                    <a:pt x="67" y="990"/>
                    <a:pt x="67" y="990"/>
                  </a:cubicBezTo>
                  <a:cubicBezTo>
                    <a:pt x="64" y="987"/>
                    <a:pt x="61" y="983"/>
                    <a:pt x="59" y="980"/>
                  </a:cubicBezTo>
                  <a:cubicBezTo>
                    <a:pt x="59" y="980"/>
                    <a:pt x="59" y="980"/>
                    <a:pt x="59" y="980"/>
                  </a:cubicBezTo>
                  <a:cubicBezTo>
                    <a:pt x="58" y="978"/>
                    <a:pt x="56" y="976"/>
                    <a:pt x="55" y="974"/>
                  </a:cubicBezTo>
                  <a:cubicBezTo>
                    <a:pt x="55" y="974"/>
                    <a:pt x="55" y="974"/>
                    <a:pt x="55" y="974"/>
                  </a:cubicBezTo>
                  <a:cubicBezTo>
                    <a:pt x="54" y="973"/>
                    <a:pt x="53" y="971"/>
                    <a:pt x="52" y="969"/>
                  </a:cubicBezTo>
                  <a:cubicBezTo>
                    <a:pt x="52" y="969"/>
                    <a:pt x="52" y="969"/>
                    <a:pt x="52" y="969"/>
                  </a:cubicBezTo>
                  <a:cubicBezTo>
                    <a:pt x="48" y="964"/>
                    <a:pt x="45" y="958"/>
                    <a:pt x="42" y="953"/>
                  </a:cubicBezTo>
                  <a:cubicBezTo>
                    <a:pt x="42" y="953"/>
                    <a:pt x="42" y="953"/>
                    <a:pt x="42" y="953"/>
                  </a:cubicBezTo>
                  <a:cubicBezTo>
                    <a:pt x="1" y="879"/>
                    <a:pt x="0" y="790"/>
                    <a:pt x="37" y="717"/>
                  </a:cubicBezTo>
                  <a:cubicBezTo>
                    <a:pt x="37" y="717"/>
                    <a:pt x="37" y="717"/>
                    <a:pt x="37" y="717"/>
                  </a:cubicBezTo>
                  <a:cubicBezTo>
                    <a:pt x="39" y="713"/>
                    <a:pt x="41" y="709"/>
                    <a:pt x="43" y="706"/>
                  </a:cubicBezTo>
                  <a:cubicBezTo>
                    <a:pt x="43" y="706"/>
                    <a:pt x="43" y="706"/>
                    <a:pt x="43" y="706"/>
                  </a:cubicBezTo>
                  <a:cubicBezTo>
                    <a:pt x="44" y="704"/>
                    <a:pt x="45" y="702"/>
                    <a:pt x="46" y="700"/>
                  </a:cubicBezTo>
                  <a:cubicBezTo>
                    <a:pt x="46" y="700"/>
                    <a:pt x="46" y="700"/>
                    <a:pt x="46" y="700"/>
                  </a:cubicBezTo>
                  <a:cubicBezTo>
                    <a:pt x="47" y="699"/>
                    <a:pt x="48" y="697"/>
                    <a:pt x="49" y="695"/>
                  </a:cubicBezTo>
                  <a:cubicBezTo>
                    <a:pt x="49" y="695"/>
                    <a:pt x="49" y="695"/>
                    <a:pt x="49" y="695"/>
                  </a:cubicBezTo>
                  <a:cubicBezTo>
                    <a:pt x="50" y="693"/>
                    <a:pt x="51" y="691"/>
                    <a:pt x="53" y="690"/>
                  </a:cubicBezTo>
                  <a:cubicBezTo>
                    <a:pt x="53" y="690"/>
                    <a:pt x="53" y="690"/>
                    <a:pt x="53" y="690"/>
                  </a:cubicBezTo>
                  <a:cubicBezTo>
                    <a:pt x="54" y="688"/>
                    <a:pt x="55" y="686"/>
                    <a:pt x="56" y="685"/>
                  </a:cubicBezTo>
                  <a:cubicBezTo>
                    <a:pt x="56" y="685"/>
                    <a:pt x="56" y="685"/>
                    <a:pt x="56" y="685"/>
                  </a:cubicBezTo>
                  <a:cubicBezTo>
                    <a:pt x="57" y="683"/>
                    <a:pt x="59" y="681"/>
                    <a:pt x="60" y="679"/>
                  </a:cubicBezTo>
                  <a:cubicBezTo>
                    <a:pt x="60" y="679"/>
                    <a:pt x="60" y="679"/>
                    <a:pt x="60" y="679"/>
                  </a:cubicBezTo>
                  <a:cubicBezTo>
                    <a:pt x="61" y="678"/>
                    <a:pt x="62" y="676"/>
                    <a:pt x="64" y="675"/>
                  </a:cubicBezTo>
                  <a:cubicBezTo>
                    <a:pt x="64" y="675"/>
                    <a:pt x="64" y="675"/>
                    <a:pt x="64" y="675"/>
                  </a:cubicBezTo>
                  <a:cubicBezTo>
                    <a:pt x="65" y="673"/>
                    <a:pt x="66" y="671"/>
                    <a:pt x="68" y="670"/>
                  </a:cubicBezTo>
                  <a:cubicBezTo>
                    <a:pt x="68" y="670"/>
                    <a:pt x="68" y="670"/>
                    <a:pt x="68" y="670"/>
                  </a:cubicBezTo>
                  <a:cubicBezTo>
                    <a:pt x="69" y="668"/>
                    <a:pt x="70" y="666"/>
                    <a:pt x="72" y="665"/>
                  </a:cubicBezTo>
                  <a:cubicBezTo>
                    <a:pt x="72" y="665"/>
                    <a:pt x="72" y="665"/>
                    <a:pt x="72" y="665"/>
                  </a:cubicBezTo>
                  <a:cubicBezTo>
                    <a:pt x="73" y="663"/>
                    <a:pt x="74" y="662"/>
                    <a:pt x="76" y="660"/>
                  </a:cubicBezTo>
                  <a:cubicBezTo>
                    <a:pt x="76" y="660"/>
                    <a:pt x="76" y="660"/>
                    <a:pt x="76" y="660"/>
                  </a:cubicBezTo>
                  <a:cubicBezTo>
                    <a:pt x="77" y="658"/>
                    <a:pt x="79" y="657"/>
                    <a:pt x="80" y="655"/>
                  </a:cubicBezTo>
                  <a:cubicBezTo>
                    <a:pt x="80" y="655"/>
                    <a:pt x="80" y="655"/>
                    <a:pt x="80" y="655"/>
                  </a:cubicBezTo>
                  <a:cubicBezTo>
                    <a:pt x="82" y="654"/>
                    <a:pt x="83" y="652"/>
                    <a:pt x="85" y="651"/>
                  </a:cubicBezTo>
                  <a:cubicBezTo>
                    <a:pt x="85" y="651"/>
                    <a:pt x="85" y="651"/>
                    <a:pt x="85" y="651"/>
                  </a:cubicBezTo>
                  <a:cubicBezTo>
                    <a:pt x="86" y="650"/>
                    <a:pt x="86" y="650"/>
                    <a:pt x="86" y="650"/>
                  </a:cubicBezTo>
                  <a:cubicBezTo>
                    <a:pt x="86" y="649"/>
                    <a:pt x="87" y="648"/>
                    <a:pt x="87" y="648"/>
                  </a:cubicBezTo>
                  <a:cubicBezTo>
                    <a:pt x="88" y="647"/>
                    <a:pt x="89" y="646"/>
                    <a:pt x="90" y="646"/>
                  </a:cubicBezTo>
                  <a:cubicBezTo>
                    <a:pt x="90" y="646"/>
                    <a:pt x="90" y="646"/>
                    <a:pt x="90" y="646"/>
                  </a:cubicBezTo>
                  <a:cubicBezTo>
                    <a:pt x="158" y="581"/>
                    <a:pt x="233" y="578"/>
                    <a:pt x="313" y="547"/>
                  </a:cubicBezTo>
                  <a:cubicBezTo>
                    <a:pt x="358" y="529"/>
                    <a:pt x="405" y="502"/>
                    <a:pt x="455" y="453"/>
                  </a:cubicBezTo>
                  <a:cubicBezTo>
                    <a:pt x="502" y="404"/>
                    <a:pt x="529" y="358"/>
                    <a:pt x="547" y="314"/>
                  </a:cubicBezTo>
                  <a:cubicBezTo>
                    <a:pt x="577" y="235"/>
                    <a:pt x="581" y="162"/>
                    <a:pt x="641" y="95"/>
                  </a:cubicBezTo>
                  <a:cubicBezTo>
                    <a:pt x="642" y="94"/>
                    <a:pt x="643" y="93"/>
                    <a:pt x="644" y="92"/>
                  </a:cubicBezTo>
                  <a:cubicBezTo>
                    <a:pt x="645" y="90"/>
                    <a:pt x="645" y="90"/>
                    <a:pt x="645" y="90"/>
                  </a:cubicBezTo>
                  <a:cubicBezTo>
                    <a:pt x="647" y="88"/>
                    <a:pt x="649" y="86"/>
                    <a:pt x="651" y="84"/>
                  </a:cubicBezTo>
                  <a:cubicBezTo>
                    <a:pt x="651" y="84"/>
                    <a:pt x="651" y="84"/>
                    <a:pt x="651" y="84"/>
                  </a:cubicBezTo>
                  <a:cubicBezTo>
                    <a:pt x="651" y="84"/>
                    <a:pt x="651" y="84"/>
                    <a:pt x="651" y="84"/>
                  </a:cubicBezTo>
                  <a:cubicBezTo>
                    <a:pt x="653" y="83"/>
                    <a:pt x="654" y="81"/>
                    <a:pt x="656" y="80"/>
                  </a:cubicBezTo>
                  <a:cubicBezTo>
                    <a:pt x="656" y="80"/>
                    <a:pt x="656" y="80"/>
                    <a:pt x="656" y="80"/>
                  </a:cubicBezTo>
                  <a:cubicBezTo>
                    <a:pt x="657" y="78"/>
                    <a:pt x="659" y="77"/>
                    <a:pt x="660" y="75"/>
                  </a:cubicBezTo>
                  <a:cubicBezTo>
                    <a:pt x="660" y="75"/>
                    <a:pt x="660" y="75"/>
                    <a:pt x="660" y="75"/>
                  </a:cubicBezTo>
                  <a:cubicBezTo>
                    <a:pt x="662" y="74"/>
                    <a:pt x="664" y="73"/>
                    <a:pt x="665" y="71"/>
                  </a:cubicBezTo>
                  <a:cubicBezTo>
                    <a:pt x="665" y="71"/>
                    <a:pt x="665" y="71"/>
                    <a:pt x="665" y="71"/>
                  </a:cubicBezTo>
                  <a:cubicBezTo>
                    <a:pt x="667" y="70"/>
                    <a:pt x="668" y="68"/>
                    <a:pt x="670" y="67"/>
                  </a:cubicBezTo>
                  <a:cubicBezTo>
                    <a:pt x="670" y="67"/>
                    <a:pt x="670" y="67"/>
                    <a:pt x="670" y="67"/>
                  </a:cubicBezTo>
                  <a:cubicBezTo>
                    <a:pt x="672" y="66"/>
                    <a:pt x="673" y="64"/>
                    <a:pt x="675" y="63"/>
                  </a:cubicBezTo>
                  <a:cubicBezTo>
                    <a:pt x="675" y="63"/>
                    <a:pt x="675" y="63"/>
                    <a:pt x="675" y="63"/>
                  </a:cubicBezTo>
                  <a:cubicBezTo>
                    <a:pt x="677" y="62"/>
                    <a:pt x="678" y="61"/>
                    <a:pt x="680" y="59"/>
                  </a:cubicBezTo>
                  <a:cubicBezTo>
                    <a:pt x="680" y="59"/>
                    <a:pt x="680" y="59"/>
                    <a:pt x="680" y="59"/>
                  </a:cubicBezTo>
                  <a:cubicBezTo>
                    <a:pt x="682" y="58"/>
                    <a:pt x="683" y="57"/>
                    <a:pt x="685" y="56"/>
                  </a:cubicBezTo>
                  <a:cubicBezTo>
                    <a:pt x="685" y="56"/>
                    <a:pt x="685" y="56"/>
                    <a:pt x="685" y="56"/>
                  </a:cubicBezTo>
                  <a:cubicBezTo>
                    <a:pt x="687" y="55"/>
                    <a:pt x="689" y="53"/>
                    <a:pt x="690" y="52"/>
                  </a:cubicBezTo>
                  <a:cubicBezTo>
                    <a:pt x="690" y="52"/>
                    <a:pt x="690" y="52"/>
                    <a:pt x="690" y="52"/>
                  </a:cubicBezTo>
                  <a:cubicBezTo>
                    <a:pt x="692" y="51"/>
                    <a:pt x="694" y="50"/>
                    <a:pt x="695" y="49"/>
                  </a:cubicBezTo>
                  <a:cubicBezTo>
                    <a:pt x="695" y="49"/>
                    <a:pt x="695" y="49"/>
                    <a:pt x="695" y="49"/>
                  </a:cubicBezTo>
                  <a:cubicBezTo>
                    <a:pt x="697" y="48"/>
                    <a:pt x="699" y="47"/>
                    <a:pt x="701" y="45"/>
                  </a:cubicBezTo>
                  <a:cubicBezTo>
                    <a:pt x="701" y="45"/>
                    <a:pt x="701" y="45"/>
                    <a:pt x="701" y="45"/>
                  </a:cubicBezTo>
                  <a:cubicBezTo>
                    <a:pt x="703" y="44"/>
                    <a:pt x="704" y="43"/>
                    <a:pt x="706" y="42"/>
                  </a:cubicBezTo>
                  <a:cubicBezTo>
                    <a:pt x="706" y="42"/>
                    <a:pt x="706" y="42"/>
                    <a:pt x="706" y="42"/>
                  </a:cubicBezTo>
                  <a:cubicBezTo>
                    <a:pt x="710" y="40"/>
                    <a:pt x="713" y="38"/>
                    <a:pt x="717" y="37"/>
                  </a:cubicBezTo>
                  <a:cubicBezTo>
                    <a:pt x="717" y="37"/>
                    <a:pt x="717" y="37"/>
                    <a:pt x="717" y="37"/>
                  </a:cubicBezTo>
                  <a:cubicBezTo>
                    <a:pt x="791" y="0"/>
                    <a:pt x="879" y="0"/>
                    <a:pt x="953" y="41"/>
                  </a:cubicBezTo>
                  <a:cubicBezTo>
                    <a:pt x="953" y="41"/>
                    <a:pt x="953" y="41"/>
                    <a:pt x="953" y="41"/>
                  </a:cubicBezTo>
                  <a:cubicBezTo>
                    <a:pt x="959" y="44"/>
                    <a:pt x="964" y="48"/>
                    <a:pt x="970" y="51"/>
                  </a:cubicBezTo>
                  <a:cubicBezTo>
                    <a:pt x="970" y="51"/>
                    <a:pt x="970" y="51"/>
                    <a:pt x="970" y="51"/>
                  </a:cubicBezTo>
                  <a:cubicBezTo>
                    <a:pt x="971" y="52"/>
                    <a:pt x="973" y="53"/>
                    <a:pt x="975" y="55"/>
                  </a:cubicBezTo>
                  <a:cubicBezTo>
                    <a:pt x="975" y="55"/>
                    <a:pt x="975" y="55"/>
                    <a:pt x="975" y="55"/>
                  </a:cubicBezTo>
                  <a:cubicBezTo>
                    <a:pt x="977" y="56"/>
                    <a:pt x="978" y="57"/>
                    <a:pt x="980" y="58"/>
                  </a:cubicBezTo>
                  <a:cubicBezTo>
                    <a:pt x="980" y="58"/>
                    <a:pt x="980" y="58"/>
                    <a:pt x="980" y="58"/>
                  </a:cubicBezTo>
                  <a:cubicBezTo>
                    <a:pt x="984" y="61"/>
                    <a:pt x="987" y="64"/>
                    <a:pt x="990" y="66"/>
                  </a:cubicBezTo>
                  <a:cubicBezTo>
                    <a:pt x="990" y="66"/>
                    <a:pt x="990" y="66"/>
                    <a:pt x="990" y="66"/>
                  </a:cubicBezTo>
                  <a:cubicBezTo>
                    <a:pt x="992" y="68"/>
                    <a:pt x="994" y="69"/>
                    <a:pt x="995" y="71"/>
                  </a:cubicBezTo>
                  <a:cubicBezTo>
                    <a:pt x="995" y="71"/>
                    <a:pt x="995" y="71"/>
                    <a:pt x="995" y="71"/>
                  </a:cubicBezTo>
                  <a:cubicBezTo>
                    <a:pt x="999" y="73"/>
                    <a:pt x="1002" y="76"/>
                    <a:pt x="1005" y="80"/>
                  </a:cubicBezTo>
                  <a:cubicBezTo>
                    <a:pt x="1005" y="80"/>
                    <a:pt x="1005" y="80"/>
                    <a:pt x="1005" y="80"/>
                  </a:cubicBezTo>
                  <a:cubicBezTo>
                    <a:pt x="1007" y="81"/>
                    <a:pt x="1009" y="83"/>
                    <a:pt x="1010" y="84"/>
                  </a:cubicBezTo>
                  <a:cubicBezTo>
                    <a:pt x="1010" y="84"/>
                    <a:pt x="1010" y="84"/>
                    <a:pt x="1010" y="84"/>
                  </a:cubicBezTo>
                  <a:cubicBezTo>
                    <a:pt x="1012" y="86"/>
                    <a:pt x="1013" y="87"/>
                    <a:pt x="1015" y="89"/>
                  </a:cubicBezTo>
                  <a:cubicBezTo>
                    <a:pt x="1015" y="89"/>
                    <a:pt x="1015" y="89"/>
                    <a:pt x="1015" y="89"/>
                  </a:cubicBezTo>
                  <a:cubicBezTo>
                    <a:pt x="1018" y="92"/>
                    <a:pt x="1021" y="96"/>
                    <a:pt x="1024" y="99"/>
                  </a:cubicBezTo>
                  <a:cubicBezTo>
                    <a:pt x="1024" y="99"/>
                    <a:pt x="1024" y="99"/>
                    <a:pt x="1024" y="99"/>
                  </a:cubicBezTo>
                  <a:cubicBezTo>
                    <a:pt x="1025" y="101"/>
                    <a:pt x="1027" y="102"/>
                    <a:pt x="1028" y="104"/>
                  </a:cubicBezTo>
                  <a:cubicBezTo>
                    <a:pt x="1028" y="104"/>
                    <a:pt x="1028" y="104"/>
                    <a:pt x="1028" y="104"/>
                  </a:cubicBezTo>
                  <a:cubicBezTo>
                    <a:pt x="1031" y="107"/>
                    <a:pt x="1033" y="111"/>
                    <a:pt x="1036" y="114"/>
                  </a:cubicBezTo>
                  <a:cubicBezTo>
                    <a:pt x="1036" y="114"/>
                    <a:pt x="1036" y="114"/>
                    <a:pt x="1036" y="114"/>
                  </a:cubicBezTo>
                  <a:cubicBezTo>
                    <a:pt x="1037" y="116"/>
                    <a:pt x="1038" y="118"/>
                    <a:pt x="1040" y="120"/>
                  </a:cubicBezTo>
                  <a:cubicBezTo>
                    <a:pt x="1040" y="120"/>
                    <a:pt x="1040" y="120"/>
                    <a:pt x="1040" y="120"/>
                  </a:cubicBezTo>
                  <a:cubicBezTo>
                    <a:pt x="1041" y="121"/>
                    <a:pt x="1042" y="123"/>
                    <a:pt x="1043" y="125"/>
                  </a:cubicBezTo>
                  <a:cubicBezTo>
                    <a:pt x="1043" y="125"/>
                    <a:pt x="1043" y="125"/>
                    <a:pt x="1043" y="125"/>
                  </a:cubicBezTo>
                  <a:cubicBezTo>
                    <a:pt x="1047" y="130"/>
                    <a:pt x="1050" y="136"/>
                    <a:pt x="1053" y="141"/>
                  </a:cubicBezTo>
                  <a:cubicBezTo>
                    <a:pt x="1053" y="141"/>
                    <a:pt x="1053" y="141"/>
                    <a:pt x="1053" y="141"/>
                  </a:cubicBezTo>
                  <a:cubicBezTo>
                    <a:pt x="1094" y="215"/>
                    <a:pt x="1095" y="304"/>
                    <a:pt x="1058" y="377"/>
                  </a:cubicBezTo>
                  <a:cubicBezTo>
                    <a:pt x="1058" y="377"/>
                    <a:pt x="1058" y="377"/>
                    <a:pt x="1058" y="377"/>
                  </a:cubicBezTo>
                  <a:cubicBezTo>
                    <a:pt x="1056" y="381"/>
                    <a:pt x="1054" y="385"/>
                    <a:pt x="1052" y="388"/>
                  </a:cubicBezTo>
                  <a:cubicBezTo>
                    <a:pt x="1052" y="388"/>
                    <a:pt x="1052" y="388"/>
                    <a:pt x="1052" y="388"/>
                  </a:cubicBezTo>
                  <a:cubicBezTo>
                    <a:pt x="1051" y="390"/>
                    <a:pt x="1050" y="392"/>
                    <a:pt x="1049" y="393"/>
                  </a:cubicBezTo>
                  <a:cubicBezTo>
                    <a:pt x="1049" y="393"/>
                    <a:pt x="1049" y="393"/>
                    <a:pt x="1049" y="393"/>
                  </a:cubicBezTo>
                  <a:cubicBezTo>
                    <a:pt x="1048" y="395"/>
                    <a:pt x="1047" y="397"/>
                    <a:pt x="1046" y="399"/>
                  </a:cubicBezTo>
                  <a:cubicBezTo>
                    <a:pt x="1046" y="399"/>
                    <a:pt x="1046" y="399"/>
                    <a:pt x="1046" y="399"/>
                  </a:cubicBezTo>
                  <a:cubicBezTo>
                    <a:pt x="1045" y="401"/>
                    <a:pt x="1043" y="402"/>
                    <a:pt x="1042" y="404"/>
                  </a:cubicBezTo>
                  <a:cubicBezTo>
                    <a:pt x="1042" y="404"/>
                    <a:pt x="1042" y="404"/>
                    <a:pt x="1042" y="404"/>
                  </a:cubicBezTo>
                  <a:cubicBezTo>
                    <a:pt x="1041" y="406"/>
                    <a:pt x="1040" y="408"/>
                    <a:pt x="1039" y="409"/>
                  </a:cubicBezTo>
                  <a:cubicBezTo>
                    <a:pt x="1039" y="409"/>
                    <a:pt x="1039" y="409"/>
                    <a:pt x="1039" y="409"/>
                  </a:cubicBezTo>
                  <a:cubicBezTo>
                    <a:pt x="1037" y="411"/>
                    <a:pt x="1036" y="413"/>
                    <a:pt x="1035" y="414"/>
                  </a:cubicBezTo>
                  <a:cubicBezTo>
                    <a:pt x="1035" y="414"/>
                    <a:pt x="1035" y="414"/>
                    <a:pt x="1035" y="414"/>
                  </a:cubicBezTo>
                  <a:cubicBezTo>
                    <a:pt x="1034" y="416"/>
                    <a:pt x="1033" y="418"/>
                    <a:pt x="1031" y="419"/>
                  </a:cubicBezTo>
                  <a:cubicBezTo>
                    <a:pt x="1031" y="419"/>
                    <a:pt x="1031" y="419"/>
                    <a:pt x="1031" y="419"/>
                  </a:cubicBezTo>
                  <a:cubicBezTo>
                    <a:pt x="1030" y="421"/>
                    <a:pt x="1029" y="423"/>
                    <a:pt x="1027" y="424"/>
                  </a:cubicBezTo>
                  <a:cubicBezTo>
                    <a:pt x="1027" y="424"/>
                    <a:pt x="1027" y="424"/>
                    <a:pt x="1027" y="424"/>
                  </a:cubicBezTo>
                  <a:cubicBezTo>
                    <a:pt x="1026" y="426"/>
                    <a:pt x="1025" y="428"/>
                    <a:pt x="1023" y="429"/>
                  </a:cubicBezTo>
                  <a:cubicBezTo>
                    <a:pt x="1023" y="429"/>
                    <a:pt x="1023" y="429"/>
                    <a:pt x="1023" y="429"/>
                  </a:cubicBezTo>
                  <a:cubicBezTo>
                    <a:pt x="1022" y="431"/>
                    <a:pt x="1020" y="432"/>
                    <a:pt x="1019" y="434"/>
                  </a:cubicBezTo>
                  <a:cubicBezTo>
                    <a:pt x="1019" y="434"/>
                    <a:pt x="1019" y="434"/>
                    <a:pt x="1019" y="434"/>
                  </a:cubicBezTo>
                  <a:cubicBezTo>
                    <a:pt x="1018" y="436"/>
                    <a:pt x="1016" y="437"/>
                    <a:pt x="1015" y="439"/>
                  </a:cubicBezTo>
                  <a:cubicBezTo>
                    <a:pt x="1015" y="439"/>
                    <a:pt x="1015" y="439"/>
                    <a:pt x="1015" y="439"/>
                  </a:cubicBezTo>
                  <a:cubicBezTo>
                    <a:pt x="1013" y="440"/>
                    <a:pt x="1012" y="442"/>
                    <a:pt x="1010" y="443"/>
                  </a:cubicBezTo>
                  <a:cubicBezTo>
                    <a:pt x="1010" y="443"/>
                    <a:pt x="1010" y="443"/>
                    <a:pt x="1010" y="443"/>
                  </a:cubicBezTo>
                  <a:cubicBezTo>
                    <a:pt x="1010" y="443"/>
                    <a:pt x="1010" y="443"/>
                    <a:pt x="1010" y="443"/>
                  </a:cubicBezTo>
                  <a:cubicBezTo>
                    <a:pt x="1008" y="445"/>
                    <a:pt x="1006" y="447"/>
                    <a:pt x="1004" y="449"/>
                  </a:cubicBezTo>
                  <a:cubicBezTo>
                    <a:pt x="1004" y="449"/>
                    <a:pt x="1003" y="450"/>
                    <a:pt x="1003" y="450"/>
                  </a:cubicBezTo>
                  <a:cubicBezTo>
                    <a:pt x="1001" y="452"/>
                    <a:pt x="1000" y="453"/>
                    <a:pt x="999" y="454"/>
                  </a:cubicBezTo>
                  <a:cubicBezTo>
                    <a:pt x="932" y="514"/>
                    <a:pt x="859" y="517"/>
                    <a:pt x="780" y="547"/>
                  </a:cubicBezTo>
                  <a:close/>
                </a:path>
              </a:pathLst>
            </a:custGeom>
            <a:solidFill>
              <a:srgbClr val="26a6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97" name="Freeform 15"/>
            <p:cNvSpPr/>
            <p:nvPr/>
          </p:nvSpPr>
          <p:spPr>
            <a:xfrm>
              <a:off x="4417920" y="2706840"/>
              <a:ext cx="671400" cy="669960"/>
            </a:xfrm>
            <a:custGeom>
              <a:avLst/>
              <a:gdLst/>
              <a:ahLst/>
              <a:rect l="l" t="t" r="r" b="b"/>
              <a:pathLst>
                <a:path w="483" h="483">
                  <a:moveTo>
                    <a:pt x="397" y="397"/>
                  </a:moveTo>
                  <a:cubicBezTo>
                    <a:pt x="311" y="483"/>
                    <a:pt x="172" y="483"/>
                    <a:pt x="86" y="397"/>
                  </a:cubicBezTo>
                  <a:cubicBezTo>
                    <a:pt x="0" y="311"/>
                    <a:pt x="0" y="172"/>
                    <a:pt x="86" y="86"/>
                  </a:cubicBezTo>
                  <a:cubicBezTo>
                    <a:pt x="172" y="0"/>
                    <a:pt x="311" y="0"/>
                    <a:pt x="397" y="86"/>
                  </a:cubicBezTo>
                  <a:cubicBezTo>
                    <a:pt x="483" y="172"/>
                    <a:pt x="483" y="311"/>
                    <a:pt x="397" y="39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98" name="Oval 16"/>
            <p:cNvSpPr/>
            <p:nvPr/>
          </p:nvSpPr>
          <p:spPr>
            <a:xfrm>
              <a:off x="5240520" y="1951200"/>
              <a:ext cx="612720" cy="61092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99" name="Shape 2778"/>
            <p:cNvSpPr/>
            <p:nvPr/>
          </p:nvSpPr>
          <p:spPr>
            <a:xfrm>
              <a:off x="4614120" y="29019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00" name="Shape 2774"/>
            <p:cNvSpPr/>
            <p:nvPr/>
          </p:nvSpPr>
          <p:spPr>
            <a:xfrm>
              <a:off x="5403960" y="211608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01" name="Group 16"/>
          <p:cNvGrpSpPr/>
          <p:nvPr/>
        </p:nvGrpSpPr>
        <p:grpSpPr>
          <a:xfrm>
            <a:off x="4386240" y="3787920"/>
            <a:ext cx="1521000" cy="1519200"/>
            <a:chOff x="4386240" y="3787920"/>
            <a:chExt cx="1521000" cy="1519200"/>
          </a:xfrm>
        </p:grpSpPr>
        <p:sp>
          <p:nvSpPr>
            <p:cNvPr id="1102" name="Freeform 10"/>
            <p:cNvSpPr/>
            <p:nvPr/>
          </p:nvSpPr>
          <p:spPr>
            <a:xfrm>
              <a:off x="4386240" y="3787920"/>
              <a:ext cx="1521000" cy="1519200"/>
            </a:xfrm>
            <a:custGeom>
              <a:avLst/>
              <a:gdLst/>
              <a:ahLst/>
              <a:rect l="l" t="t" r="r" b="b"/>
              <a:pathLst>
                <a:path w="1095" h="1094">
                  <a:moveTo>
                    <a:pt x="780" y="547"/>
                  </a:moveTo>
                  <a:cubicBezTo>
                    <a:pt x="737" y="529"/>
                    <a:pt x="691" y="502"/>
                    <a:pt x="642" y="455"/>
                  </a:cubicBezTo>
                  <a:cubicBezTo>
                    <a:pt x="593" y="405"/>
                    <a:pt x="566" y="358"/>
                    <a:pt x="547" y="313"/>
                  </a:cubicBezTo>
                  <a:cubicBezTo>
                    <a:pt x="518" y="234"/>
                    <a:pt x="514" y="162"/>
                    <a:pt x="454" y="95"/>
                  </a:cubicBezTo>
                  <a:cubicBezTo>
                    <a:pt x="453" y="94"/>
                    <a:pt x="452" y="93"/>
                    <a:pt x="451" y="92"/>
                  </a:cubicBezTo>
                  <a:cubicBezTo>
                    <a:pt x="449" y="90"/>
                    <a:pt x="449" y="90"/>
                    <a:pt x="449" y="90"/>
                  </a:cubicBezTo>
                  <a:cubicBezTo>
                    <a:pt x="448" y="88"/>
                    <a:pt x="446" y="86"/>
                    <a:pt x="444" y="84"/>
                  </a:cubicBezTo>
                  <a:cubicBezTo>
                    <a:pt x="444" y="84"/>
                    <a:pt x="444" y="84"/>
                    <a:pt x="444" y="84"/>
                  </a:cubicBezTo>
                  <a:cubicBezTo>
                    <a:pt x="444" y="84"/>
                    <a:pt x="444" y="84"/>
                    <a:pt x="444" y="84"/>
                  </a:cubicBezTo>
                  <a:cubicBezTo>
                    <a:pt x="442" y="83"/>
                    <a:pt x="441" y="81"/>
                    <a:pt x="439" y="80"/>
                  </a:cubicBezTo>
                  <a:cubicBezTo>
                    <a:pt x="439" y="80"/>
                    <a:pt x="439" y="80"/>
                    <a:pt x="439" y="80"/>
                  </a:cubicBezTo>
                  <a:cubicBezTo>
                    <a:pt x="437" y="78"/>
                    <a:pt x="436" y="77"/>
                    <a:pt x="434" y="75"/>
                  </a:cubicBezTo>
                  <a:cubicBezTo>
                    <a:pt x="434" y="75"/>
                    <a:pt x="434" y="75"/>
                    <a:pt x="434" y="75"/>
                  </a:cubicBezTo>
                  <a:cubicBezTo>
                    <a:pt x="433" y="74"/>
                    <a:pt x="431" y="73"/>
                    <a:pt x="430" y="71"/>
                  </a:cubicBezTo>
                  <a:cubicBezTo>
                    <a:pt x="430" y="71"/>
                    <a:pt x="430" y="71"/>
                    <a:pt x="430" y="71"/>
                  </a:cubicBezTo>
                  <a:cubicBezTo>
                    <a:pt x="428" y="70"/>
                    <a:pt x="426" y="68"/>
                    <a:pt x="425" y="67"/>
                  </a:cubicBezTo>
                  <a:cubicBezTo>
                    <a:pt x="425" y="67"/>
                    <a:pt x="425" y="67"/>
                    <a:pt x="425" y="67"/>
                  </a:cubicBezTo>
                  <a:cubicBezTo>
                    <a:pt x="423" y="66"/>
                    <a:pt x="421" y="64"/>
                    <a:pt x="420" y="63"/>
                  </a:cubicBezTo>
                  <a:cubicBezTo>
                    <a:pt x="420" y="63"/>
                    <a:pt x="420" y="63"/>
                    <a:pt x="420" y="63"/>
                  </a:cubicBezTo>
                  <a:cubicBezTo>
                    <a:pt x="418" y="62"/>
                    <a:pt x="416" y="61"/>
                    <a:pt x="415" y="59"/>
                  </a:cubicBezTo>
                  <a:cubicBezTo>
                    <a:pt x="415" y="59"/>
                    <a:pt x="415" y="59"/>
                    <a:pt x="415" y="59"/>
                  </a:cubicBezTo>
                  <a:cubicBezTo>
                    <a:pt x="413" y="58"/>
                    <a:pt x="411" y="57"/>
                    <a:pt x="410" y="56"/>
                  </a:cubicBezTo>
                  <a:cubicBezTo>
                    <a:pt x="410" y="56"/>
                    <a:pt x="410" y="56"/>
                    <a:pt x="410" y="56"/>
                  </a:cubicBezTo>
                  <a:cubicBezTo>
                    <a:pt x="408" y="54"/>
                    <a:pt x="406" y="53"/>
                    <a:pt x="405" y="52"/>
                  </a:cubicBezTo>
                  <a:cubicBezTo>
                    <a:pt x="405" y="52"/>
                    <a:pt x="405" y="52"/>
                    <a:pt x="405" y="52"/>
                  </a:cubicBezTo>
                  <a:cubicBezTo>
                    <a:pt x="403" y="51"/>
                    <a:pt x="401" y="50"/>
                    <a:pt x="399" y="49"/>
                  </a:cubicBezTo>
                  <a:cubicBezTo>
                    <a:pt x="399" y="49"/>
                    <a:pt x="399" y="49"/>
                    <a:pt x="399" y="49"/>
                  </a:cubicBezTo>
                  <a:cubicBezTo>
                    <a:pt x="398" y="48"/>
                    <a:pt x="396" y="47"/>
                    <a:pt x="394" y="45"/>
                  </a:cubicBezTo>
                  <a:cubicBezTo>
                    <a:pt x="394" y="45"/>
                    <a:pt x="394" y="45"/>
                    <a:pt x="394" y="45"/>
                  </a:cubicBezTo>
                  <a:cubicBezTo>
                    <a:pt x="392" y="44"/>
                    <a:pt x="390" y="43"/>
                    <a:pt x="389" y="42"/>
                  </a:cubicBezTo>
                  <a:cubicBezTo>
                    <a:pt x="389" y="42"/>
                    <a:pt x="389" y="42"/>
                    <a:pt x="389" y="42"/>
                  </a:cubicBezTo>
                  <a:cubicBezTo>
                    <a:pt x="385" y="40"/>
                    <a:pt x="381" y="38"/>
                    <a:pt x="378" y="37"/>
                  </a:cubicBezTo>
                  <a:cubicBezTo>
                    <a:pt x="378" y="37"/>
                    <a:pt x="378" y="37"/>
                    <a:pt x="378" y="37"/>
                  </a:cubicBezTo>
                  <a:cubicBezTo>
                    <a:pt x="304" y="0"/>
                    <a:pt x="216" y="0"/>
                    <a:pt x="142" y="41"/>
                  </a:cubicBezTo>
                  <a:cubicBezTo>
                    <a:pt x="142" y="41"/>
                    <a:pt x="142" y="41"/>
                    <a:pt x="142" y="41"/>
                  </a:cubicBezTo>
                  <a:cubicBezTo>
                    <a:pt x="136" y="44"/>
                    <a:pt x="131" y="48"/>
                    <a:pt x="125" y="51"/>
                  </a:cubicBezTo>
                  <a:cubicBezTo>
                    <a:pt x="125" y="51"/>
                    <a:pt x="125" y="51"/>
                    <a:pt x="125" y="51"/>
                  </a:cubicBezTo>
                  <a:cubicBezTo>
                    <a:pt x="124" y="52"/>
                    <a:pt x="122" y="53"/>
                    <a:pt x="120" y="55"/>
                  </a:cubicBezTo>
                  <a:cubicBezTo>
                    <a:pt x="120" y="55"/>
                    <a:pt x="120" y="55"/>
                    <a:pt x="120" y="55"/>
                  </a:cubicBezTo>
                  <a:cubicBezTo>
                    <a:pt x="118" y="56"/>
                    <a:pt x="116" y="57"/>
                    <a:pt x="115" y="58"/>
                  </a:cubicBezTo>
                  <a:cubicBezTo>
                    <a:pt x="115" y="58"/>
                    <a:pt x="115" y="58"/>
                    <a:pt x="115" y="58"/>
                  </a:cubicBezTo>
                  <a:cubicBezTo>
                    <a:pt x="111" y="61"/>
                    <a:pt x="108" y="64"/>
                    <a:pt x="104" y="66"/>
                  </a:cubicBezTo>
                  <a:cubicBezTo>
                    <a:pt x="104" y="66"/>
                    <a:pt x="104" y="66"/>
                    <a:pt x="104" y="66"/>
                  </a:cubicBezTo>
                  <a:cubicBezTo>
                    <a:pt x="103" y="68"/>
                    <a:pt x="101" y="69"/>
                    <a:pt x="99" y="71"/>
                  </a:cubicBezTo>
                  <a:cubicBezTo>
                    <a:pt x="99" y="71"/>
                    <a:pt x="99" y="71"/>
                    <a:pt x="99" y="71"/>
                  </a:cubicBezTo>
                  <a:cubicBezTo>
                    <a:pt x="96" y="73"/>
                    <a:pt x="93" y="76"/>
                    <a:pt x="89" y="80"/>
                  </a:cubicBezTo>
                  <a:cubicBezTo>
                    <a:pt x="89" y="80"/>
                    <a:pt x="89" y="80"/>
                    <a:pt x="89" y="80"/>
                  </a:cubicBezTo>
                  <a:cubicBezTo>
                    <a:pt x="88" y="81"/>
                    <a:pt x="86" y="83"/>
                    <a:pt x="85" y="84"/>
                  </a:cubicBezTo>
                  <a:cubicBezTo>
                    <a:pt x="85" y="84"/>
                    <a:pt x="85" y="84"/>
                    <a:pt x="85" y="84"/>
                  </a:cubicBezTo>
                  <a:cubicBezTo>
                    <a:pt x="83" y="86"/>
                    <a:pt x="81" y="87"/>
                    <a:pt x="80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77" y="92"/>
                    <a:pt x="74" y="96"/>
                    <a:pt x="71" y="99"/>
                  </a:cubicBezTo>
                  <a:cubicBezTo>
                    <a:pt x="71" y="99"/>
                    <a:pt x="71" y="99"/>
                    <a:pt x="71" y="99"/>
                  </a:cubicBezTo>
                  <a:cubicBezTo>
                    <a:pt x="70" y="101"/>
                    <a:pt x="68" y="102"/>
                    <a:pt x="67" y="104"/>
                  </a:cubicBezTo>
                  <a:cubicBezTo>
                    <a:pt x="67" y="104"/>
                    <a:pt x="67" y="104"/>
                    <a:pt x="67" y="104"/>
                  </a:cubicBezTo>
                  <a:cubicBezTo>
                    <a:pt x="64" y="107"/>
                    <a:pt x="61" y="111"/>
                    <a:pt x="59" y="114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8" y="116"/>
                    <a:pt x="56" y="118"/>
                    <a:pt x="55" y="119"/>
                  </a:cubicBezTo>
                  <a:cubicBezTo>
                    <a:pt x="55" y="119"/>
                    <a:pt x="55" y="119"/>
                    <a:pt x="55" y="119"/>
                  </a:cubicBezTo>
                  <a:cubicBezTo>
                    <a:pt x="54" y="121"/>
                    <a:pt x="53" y="123"/>
                    <a:pt x="52" y="125"/>
                  </a:cubicBezTo>
                  <a:cubicBezTo>
                    <a:pt x="52" y="125"/>
                    <a:pt x="52" y="125"/>
                    <a:pt x="52" y="125"/>
                  </a:cubicBezTo>
                  <a:cubicBezTo>
                    <a:pt x="48" y="130"/>
                    <a:pt x="45" y="136"/>
                    <a:pt x="42" y="141"/>
                  </a:cubicBezTo>
                  <a:cubicBezTo>
                    <a:pt x="42" y="141"/>
                    <a:pt x="42" y="141"/>
                    <a:pt x="42" y="141"/>
                  </a:cubicBezTo>
                  <a:cubicBezTo>
                    <a:pt x="1" y="215"/>
                    <a:pt x="0" y="304"/>
                    <a:pt x="37" y="377"/>
                  </a:cubicBezTo>
                  <a:cubicBezTo>
                    <a:pt x="37" y="377"/>
                    <a:pt x="37" y="377"/>
                    <a:pt x="37" y="377"/>
                  </a:cubicBezTo>
                  <a:cubicBezTo>
                    <a:pt x="39" y="381"/>
                    <a:pt x="41" y="385"/>
                    <a:pt x="43" y="388"/>
                  </a:cubicBezTo>
                  <a:cubicBezTo>
                    <a:pt x="43" y="388"/>
                    <a:pt x="43" y="388"/>
                    <a:pt x="43" y="388"/>
                  </a:cubicBezTo>
                  <a:cubicBezTo>
                    <a:pt x="44" y="390"/>
                    <a:pt x="45" y="392"/>
                    <a:pt x="46" y="394"/>
                  </a:cubicBezTo>
                  <a:cubicBezTo>
                    <a:pt x="46" y="394"/>
                    <a:pt x="46" y="394"/>
                    <a:pt x="46" y="394"/>
                  </a:cubicBezTo>
                  <a:cubicBezTo>
                    <a:pt x="47" y="395"/>
                    <a:pt x="48" y="397"/>
                    <a:pt x="49" y="399"/>
                  </a:cubicBezTo>
                  <a:cubicBezTo>
                    <a:pt x="49" y="399"/>
                    <a:pt x="49" y="399"/>
                    <a:pt x="49" y="399"/>
                  </a:cubicBezTo>
                  <a:cubicBezTo>
                    <a:pt x="50" y="401"/>
                    <a:pt x="51" y="402"/>
                    <a:pt x="53" y="404"/>
                  </a:cubicBezTo>
                  <a:cubicBezTo>
                    <a:pt x="53" y="404"/>
                    <a:pt x="53" y="404"/>
                    <a:pt x="53" y="404"/>
                  </a:cubicBezTo>
                  <a:cubicBezTo>
                    <a:pt x="54" y="406"/>
                    <a:pt x="55" y="408"/>
                    <a:pt x="56" y="409"/>
                  </a:cubicBezTo>
                  <a:cubicBezTo>
                    <a:pt x="56" y="409"/>
                    <a:pt x="56" y="409"/>
                    <a:pt x="56" y="409"/>
                  </a:cubicBezTo>
                  <a:cubicBezTo>
                    <a:pt x="57" y="411"/>
                    <a:pt x="59" y="413"/>
                    <a:pt x="60" y="414"/>
                  </a:cubicBezTo>
                  <a:cubicBezTo>
                    <a:pt x="60" y="414"/>
                    <a:pt x="60" y="414"/>
                    <a:pt x="60" y="414"/>
                  </a:cubicBezTo>
                  <a:cubicBezTo>
                    <a:pt x="61" y="416"/>
                    <a:pt x="62" y="418"/>
                    <a:pt x="64" y="419"/>
                  </a:cubicBezTo>
                  <a:cubicBezTo>
                    <a:pt x="64" y="419"/>
                    <a:pt x="64" y="419"/>
                    <a:pt x="64" y="419"/>
                  </a:cubicBezTo>
                  <a:cubicBezTo>
                    <a:pt x="65" y="421"/>
                    <a:pt x="66" y="423"/>
                    <a:pt x="68" y="424"/>
                  </a:cubicBezTo>
                  <a:cubicBezTo>
                    <a:pt x="68" y="424"/>
                    <a:pt x="68" y="424"/>
                    <a:pt x="68" y="424"/>
                  </a:cubicBezTo>
                  <a:cubicBezTo>
                    <a:pt x="69" y="426"/>
                    <a:pt x="70" y="428"/>
                    <a:pt x="72" y="429"/>
                  </a:cubicBezTo>
                  <a:cubicBezTo>
                    <a:pt x="72" y="429"/>
                    <a:pt x="72" y="429"/>
                    <a:pt x="72" y="429"/>
                  </a:cubicBezTo>
                  <a:cubicBezTo>
                    <a:pt x="73" y="431"/>
                    <a:pt x="74" y="432"/>
                    <a:pt x="76" y="434"/>
                  </a:cubicBezTo>
                  <a:cubicBezTo>
                    <a:pt x="76" y="434"/>
                    <a:pt x="76" y="434"/>
                    <a:pt x="76" y="434"/>
                  </a:cubicBezTo>
                  <a:cubicBezTo>
                    <a:pt x="77" y="436"/>
                    <a:pt x="79" y="437"/>
                    <a:pt x="80" y="439"/>
                  </a:cubicBezTo>
                  <a:cubicBezTo>
                    <a:pt x="80" y="439"/>
                    <a:pt x="80" y="439"/>
                    <a:pt x="80" y="439"/>
                  </a:cubicBezTo>
                  <a:cubicBezTo>
                    <a:pt x="82" y="440"/>
                    <a:pt x="83" y="442"/>
                    <a:pt x="85" y="443"/>
                  </a:cubicBezTo>
                  <a:cubicBezTo>
                    <a:pt x="85" y="443"/>
                    <a:pt x="85" y="443"/>
                    <a:pt x="85" y="443"/>
                  </a:cubicBezTo>
                  <a:cubicBezTo>
                    <a:pt x="86" y="444"/>
                    <a:pt x="86" y="444"/>
                    <a:pt x="86" y="444"/>
                  </a:cubicBezTo>
                  <a:cubicBezTo>
                    <a:pt x="86" y="445"/>
                    <a:pt x="87" y="445"/>
                    <a:pt x="87" y="446"/>
                  </a:cubicBezTo>
                  <a:cubicBezTo>
                    <a:pt x="88" y="447"/>
                    <a:pt x="89" y="448"/>
                    <a:pt x="90" y="448"/>
                  </a:cubicBezTo>
                  <a:cubicBezTo>
                    <a:pt x="90" y="448"/>
                    <a:pt x="90" y="448"/>
                    <a:pt x="90" y="448"/>
                  </a:cubicBezTo>
                  <a:cubicBezTo>
                    <a:pt x="158" y="513"/>
                    <a:pt x="233" y="516"/>
                    <a:pt x="313" y="547"/>
                  </a:cubicBezTo>
                  <a:cubicBezTo>
                    <a:pt x="358" y="565"/>
                    <a:pt x="405" y="592"/>
                    <a:pt x="455" y="641"/>
                  </a:cubicBezTo>
                  <a:cubicBezTo>
                    <a:pt x="502" y="690"/>
                    <a:pt x="529" y="736"/>
                    <a:pt x="547" y="780"/>
                  </a:cubicBezTo>
                  <a:cubicBezTo>
                    <a:pt x="577" y="859"/>
                    <a:pt x="581" y="931"/>
                    <a:pt x="641" y="999"/>
                  </a:cubicBezTo>
                  <a:cubicBezTo>
                    <a:pt x="642" y="1000"/>
                    <a:pt x="643" y="1001"/>
                    <a:pt x="644" y="1002"/>
                  </a:cubicBezTo>
                  <a:cubicBezTo>
                    <a:pt x="645" y="1004"/>
                    <a:pt x="645" y="1004"/>
                    <a:pt x="645" y="1004"/>
                  </a:cubicBezTo>
                  <a:cubicBezTo>
                    <a:pt x="647" y="1006"/>
                    <a:pt x="649" y="1008"/>
                    <a:pt x="651" y="1010"/>
                  </a:cubicBezTo>
                  <a:cubicBezTo>
                    <a:pt x="651" y="1010"/>
                    <a:pt x="651" y="1010"/>
                    <a:pt x="651" y="1010"/>
                  </a:cubicBezTo>
                  <a:cubicBezTo>
                    <a:pt x="651" y="1010"/>
                    <a:pt x="651" y="1010"/>
                    <a:pt x="651" y="1010"/>
                  </a:cubicBezTo>
                  <a:cubicBezTo>
                    <a:pt x="653" y="1011"/>
                    <a:pt x="654" y="1013"/>
                    <a:pt x="656" y="1014"/>
                  </a:cubicBezTo>
                  <a:cubicBezTo>
                    <a:pt x="656" y="1014"/>
                    <a:pt x="656" y="1014"/>
                    <a:pt x="656" y="1014"/>
                  </a:cubicBezTo>
                  <a:cubicBezTo>
                    <a:pt x="657" y="1016"/>
                    <a:pt x="659" y="1017"/>
                    <a:pt x="660" y="1019"/>
                  </a:cubicBezTo>
                  <a:cubicBezTo>
                    <a:pt x="660" y="1019"/>
                    <a:pt x="660" y="1019"/>
                    <a:pt x="660" y="1019"/>
                  </a:cubicBezTo>
                  <a:cubicBezTo>
                    <a:pt x="662" y="1020"/>
                    <a:pt x="664" y="1021"/>
                    <a:pt x="665" y="1023"/>
                  </a:cubicBezTo>
                  <a:cubicBezTo>
                    <a:pt x="665" y="1023"/>
                    <a:pt x="665" y="1023"/>
                    <a:pt x="665" y="1023"/>
                  </a:cubicBezTo>
                  <a:cubicBezTo>
                    <a:pt x="667" y="1024"/>
                    <a:pt x="668" y="1026"/>
                    <a:pt x="670" y="1027"/>
                  </a:cubicBezTo>
                  <a:cubicBezTo>
                    <a:pt x="670" y="1027"/>
                    <a:pt x="670" y="1027"/>
                    <a:pt x="670" y="1027"/>
                  </a:cubicBezTo>
                  <a:cubicBezTo>
                    <a:pt x="672" y="1028"/>
                    <a:pt x="673" y="1030"/>
                    <a:pt x="675" y="1031"/>
                  </a:cubicBezTo>
                  <a:cubicBezTo>
                    <a:pt x="675" y="1031"/>
                    <a:pt x="675" y="1031"/>
                    <a:pt x="675" y="1031"/>
                  </a:cubicBezTo>
                  <a:cubicBezTo>
                    <a:pt x="677" y="1032"/>
                    <a:pt x="678" y="1033"/>
                    <a:pt x="680" y="1035"/>
                  </a:cubicBezTo>
                  <a:cubicBezTo>
                    <a:pt x="680" y="1035"/>
                    <a:pt x="680" y="1035"/>
                    <a:pt x="680" y="1035"/>
                  </a:cubicBezTo>
                  <a:cubicBezTo>
                    <a:pt x="682" y="1036"/>
                    <a:pt x="683" y="1037"/>
                    <a:pt x="685" y="1038"/>
                  </a:cubicBezTo>
                  <a:cubicBezTo>
                    <a:pt x="685" y="1038"/>
                    <a:pt x="685" y="1038"/>
                    <a:pt x="685" y="1038"/>
                  </a:cubicBezTo>
                  <a:cubicBezTo>
                    <a:pt x="687" y="1039"/>
                    <a:pt x="689" y="1041"/>
                    <a:pt x="690" y="1042"/>
                  </a:cubicBezTo>
                  <a:cubicBezTo>
                    <a:pt x="690" y="1042"/>
                    <a:pt x="690" y="1042"/>
                    <a:pt x="690" y="1042"/>
                  </a:cubicBezTo>
                  <a:cubicBezTo>
                    <a:pt x="692" y="1043"/>
                    <a:pt x="694" y="1044"/>
                    <a:pt x="695" y="1045"/>
                  </a:cubicBezTo>
                  <a:cubicBezTo>
                    <a:pt x="695" y="1045"/>
                    <a:pt x="695" y="1045"/>
                    <a:pt x="695" y="1045"/>
                  </a:cubicBezTo>
                  <a:cubicBezTo>
                    <a:pt x="697" y="1046"/>
                    <a:pt x="699" y="1047"/>
                    <a:pt x="701" y="1048"/>
                  </a:cubicBezTo>
                  <a:cubicBezTo>
                    <a:pt x="701" y="1048"/>
                    <a:pt x="701" y="1048"/>
                    <a:pt x="701" y="1048"/>
                  </a:cubicBezTo>
                  <a:cubicBezTo>
                    <a:pt x="703" y="1050"/>
                    <a:pt x="704" y="1051"/>
                    <a:pt x="706" y="1052"/>
                  </a:cubicBezTo>
                  <a:cubicBezTo>
                    <a:pt x="706" y="1052"/>
                    <a:pt x="706" y="1052"/>
                    <a:pt x="706" y="1052"/>
                  </a:cubicBezTo>
                  <a:cubicBezTo>
                    <a:pt x="710" y="1054"/>
                    <a:pt x="713" y="1055"/>
                    <a:pt x="717" y="1057"/>
                  </a:cubicBezTo>
                  <a:cubicBezTo>
                    <a:pt x="717" y="1057"/>
                    <a:pt x="717" y="1057"/>
                    <a:pt x="717" y="1057"/>
                  </a:cubicBezTo>
                  <a:cubicBezTo>
                    <a:pt x="791" y="1094"/>
                    <a:pt x="879" y="1094"/>
                    <a:pt x="953" y="1053"/>
                  </a:cubicBezTo>
                  <a:cubicBezTo>
                    <a:pt x="953" y="1053"/>
                    <a:pt x="953" y="1053"/>
                    <a:pt x="953" y="1053"/>
                  </a:cubicBezTo>
                  <a:cubicBezTo>
                    <a:pt x="959" y="1050"/>
                    <a:pt x="964" y="1046"/>
                    <a:pt x="970" y="1043"/>
                  </a:cubicBezTo>
                  <a:cubicBezTo>
                    <a:pt x="970" y="1043"/>
                    <a:pt x="970" y="1043"/>
                    <a:pt x="970" y="1043"/>
                  </a:cubicBezTo>
                  <a:cubicBezTo>
                    <a:pt x="971" y="1042"/>
                    <a:pt x="973" y="1040"/>
                    <a:pt x="975" y="1039"/>
                  </a:cubicBezTo>
                  <a:cubicBezTo>
                    <a:pt x="975" y="1039"/>
                    <a:pt x="975" y="1039"/>
                    <a:pt x="975" y="1039"/>
                  </a:cubicBezTo>
                  <a:cubicBezTo>
                    <a:pt x="977" y="1038"/>
                    <a:pt x="978" y="1037"/>
                    <a:pt x="980" y="1035"/>
                  </a:cubicBezTo>
                  <a:cubicBezTo>
                    <a:pt x="980" y="1035"/>
                    <a:pt x="980" y="1035"/>
                    <a:pt x="980" y="1035"/>
                  </a:cubicBezTo>
                  <a:cubicBezTo>
                    <a:pt x="984" y="1033"/>
                    <a:pt x="987" y="1030"/>
                    <a:pt x="990" y="1028"/>
                  </a:cubicBezTo>
                  <a:cubicBezTo>
                    <a:pt x="990" y="1027"/>
                    <a:pt x="990" y="1027"/>
                    <a:pt x="990" y="1027"/>
                  </a:cubicBezTo>
                  <a:cubicBezTo>
                    <a:pt x="992" y="1026"/>
                    <a:pt x="994" y="1025"/>
                    <a:pt x="995" y="1023"/>
                  </a:cubicBezTo>
                  <a:cubicBezTo>
                    <a:pt x="995" y="1023"/>
                    <a:pt x="995" y="1023"/>
                    <a:pt x="995" y="1023"/>
                  </a:cubicBezTo>
                  <a:cubicBezTo>
                    <a:pt x="999" y="1020"/>
                    <a:pt x="1002" y="1018"/>
                    <a:pt x="1005" y="1014"/>
                  </a:cubicBezTo>
                  <a:cubicBezTo>
                    <a:pt x="1005" y="1014"/>
                    <a:pt x="1005" y="1014"/>
                    <a:pt x="1005" y="1014"/>
                  </a:cubicBezTo>
                  <a:cubicBezTo>
                    <a:pt x="1007" y="1013"/>
                    <a:pt x="1009" y="1011"/>
                    <a:pt x="1010" y="1010"/>
                  </a:cubicBezTo>
                  <a:cubicBezTo>
                    <a:pt x="1010" y="1010"/>
                    <a:pt x="1010" y="1010"/>
                    <a:pt x="1010" y="1010"/>
                  </a:cubicBezTo>
                  <a:cubicBezTo>
                    <a:pt x="1012" y="1008"/>
                    <a:pt x="1013" y="1007"/>
                    <a:pt x="1015" y="1005"/>
                  </a:cubicBezTo>
                  <a:cubicBezTo>
                    <a:pt x="1015" y="1005"/>
                    <a:pt x="1015" y="1005"/>
                    <a:pt x="1015" y="1005"/>
                  </a:cubicBezTo>
                  <a:cubicBezTo>
                    <a:pt x="1018" y="1002"/>
                    <a:pt x="1021" y="998"/>
                    <a:pt x="1024" y="995"/>
                  </a:cubicBezTo>
                  <a:cubicBezTo>
                    <a:pt x="1024" y="995"/>
                    <a:pt x="1024" y="995"/>
                    <a:pt x="1024" y="995"/>
                  </a:cubicBezTo>
                  <a:cubicBezTo>
                    <a:pt x="1025" y="993"/>
                    <a:pt x="1027" y="992"/>
                    <a:pt x="1028" y="990"/>
                  </a:cubicBezTo>
                  <a:cubicBezTo>
                    <a:pt x="1028" y="990"/>
                    <a:pt x="1028" y="990"/>
                    <a:pt x="1028" y="990"/>
                  </a:cubicBezTo>
                  <a:cubicBezTo>
                    <a:pt x="1031" y="987"/>
                    <a:pt x="1033" y="983"/>
                    <a:pt x="1036" y="980"/>
                  </a:cubicBezTo>
                  <a:cubicBezTo>
                    <a:pt x="1036" y="980"/>
                    <a:pt x="1036" y="980"/>
                    <a:pt x="1036" y="980"/>
                  </a:cubicBezTo>
                  <a:cubicBezTo>
                    <a:pt x="1037" y="978"/>
                    <a:pt x="1038" y="976"/>
                    <a:pt x="1040" y="974"/>
                  </a:cubicBezTo>
                  <a:cubicBezTo>
                    <a:pt x="1040" y="974"/>
                    <a:pt x="1040" y="974"/>
                    <a:pt x="1040" y="974"/>
                  </a:cubicBezTo>
                  <a:cubicBezTo>
                    <a:pt x="1041" y="973"/>
                    <a:pt x="1042" y="971"/>
                    <a:pt x="1043" y="969"/>
                  </a:cubicBezTo>
                  <a:cubicBezTo>
                    <a:pt x="1043" y="969"/>
                    <a:pt x="1043" y="969"/>
                    <a:pt x="1043" y="969"/>
                  </a:cubicBezTo>
                  <a:cubicBezTo>
                    <a:pt x="1047" y="964"/>
                    <a:pt x="1050" y="958"/>
                    <a:pt x="1053" y="953"/>
                  </a:cubicBezTo>
                  <a:cubicBezTo>
                    <a:pt x="1053" y="953"/>
                    <a:pt x="1053" y="953"/>
                    <a:pt x="1053" y="953"/>
                  </a:cubicBezTo>
                  <a:cubicBezTo>
                    <a:pt x="1094" y="879"/>
                    <a:pt x="1095" y="790"/>
                    <a:pt x="1058" y="717"/>
                  </a:cubicBezTo>
                  <a:cubicBezTo>
                    <a:pt x="1058" y="717"/>
                    <a:pt x="1058" y="717"/>
                    <a:pt x="1058" y="717"/>
                  </a:cubicBezTo>
                  <a:cubicBezTo>
                    <a:pt x="1056" y="713"/>
                    <a:pt x="1054" y="709"/>
                    <a:pt x="1052" y="706"/>
                  </a:cubicBezTo>
                  <a:cubicBezTo>
                    <a:pt x="1052" y="706"/>
                    <a:pt x="1052" y="706"/>
                    <a:pt x="1052" y="706"/>
                  </a:cubicBezTo>
                  <a:cubicBezTo>
                    <a:pt x="1051" y="704"/>
                    <a:pt x="1050" y="702"/>
                    <a:pt x="1049" y="700"/>
                  </a:cubicBezTo>
                  <a:cubicBezTo>
                    <a:pt x="1049" y="700"/>
                    <a:pt x="1049" y="700"/>
                    <a:pt x="1049" y="700"/>
                  </a:cubicBezTo>
                  <a:cubicBezTo>
                    <a:pt x="1048" y="699"/>
                    <a:pt x="1047" y="697"/>
                    <a:pt x="1046" y="695"/>
                  </a:cubicBezTo>
                  <a:cubicBezTo>
                    <a:pt x="1046" y="695"/>
                    <a:pt x="1046" y="695"/>
                    <a:pt x="1046" y="695"/>
                  </a:cubicBezTo>
                  <a:cubicBezTo>
                    <a:pt x="1045" y="693"/>
                    <a:pt x="1043" y="692"/>
                    <a:pt x="1042" y="690"/>
                  </a:cubicBezTo>
                  <a:cubicBezTo>
                    <a:pt x="1042" y="690"/>
                    <a:pt x="1042" y="690"/>
                    <a:pt x="1042" y="690"/>
                  </a:cubicBezTo>
                  <a:cubicBezTo>
                    <a:pt x="1041" y="688"/>
                    <a:pt x="1040" y="686"/>
                    <a:pt x="1039" y="685"/>
                  </a:cubicBezTo>
                  <a:cubicBezTo>
                    <a:pt x="1039" y="685"/>
                    <a:pt x="1039" y="685"/>
                    <a:pt x="1039" y="685"/>
                  </a:cubicBezTo>
                  <a:cubicBezTo>
                    <a:pt x="1037" y="683"/>
                    <a:pt x="1036" y="681"/>
                    <a:pt x="1035" y="680"/>
                  </a:cubicBezTo>
                  <a:cubicBezTo>
                    <a:pt x="1035" y="680"/>
                    <a:pt x="1035" y="680"/>
                    <a:pt x="1035" y="680"/>
                  </a:cubicBezTo>
                  <a:cubicBezTo>
                    <a:pt x="1034" y="678"/>
                    <a:pt x="1033" y="676"/>
                    <a:pt x="1031" y="675"/>
                  </a:cubicBezTo>
                  <a:cubicBezTo>
                    <a:pt x="1031" y="675"/>
                    <a:pt x="1031" y="675"/>
                    <a:pt x="1031" y="675"/>
                  </a:cubicBezTo>
                  <a:cubicBezTo>
                    <a:pt x="1030" y="673"/>
                    <a:pt x="1029" y="671"/>
                    <a:pt x="1027" y="670"/>
                  </a:cubicBezTo>
                  <a:cubicBezTo>
                    <a:pt x="1027" y="670"/>
                    <a:pt x="1027" y="670"/>
                    <a:pt x="1027" y="670"/>
                  </a:cubicBezTo>
                  <a:cubicBezTo>
                    <a:pt x="1026" y="668"/>
                    <a:pt x="1025" y="666"/>
                    <a:pt x="1023" y="665"/>
                  </a:cubicBezTo>
                  <a:cubicBezTo>
                    <a:pt x="1023" y="665"/>
                    <a:pt x="1023" y="665"/>
                    <a:pt x="1023" y="665"/>
                  </a:cubicBezTo>
                  <a:cubicBezTo>
                    <a:pt x="1022" y="663"/>
                    <a:pt x="1020" y="662"/>
                    <a:pt x="1019" y="660"/>
                  </a:cubicBezTo>
                  <a:cubicBezTo>
                    <a:pt x="1019" y="660"/>
                    <a:pt x="1019" y="660"/>
                    <a:pt x="1019" y="660"/>
                  </a:cubicBezTo>
                  <a:cubicBezTo>
                    <a:pt x="1018" y="658"/>
                    <a:pt x="1016" y="657"/>
                    <a:pt x="1015" y="655"/>
                  </a:cubicBezTo>
                  <a:cubicBezTo>
                    <a:pt x="1015" y="655"/>
                    <a:pt x="1015" y="655"/>
                    <a:pt x="1015" y="655"/>
                  </a:cubicBezTo>
                  <a:cubicBezTo>
                    <a:pt x="1013" y="654"/>
                    <a:pt x="1012" y="652"/>
                    <a:pt x="1010" y="651"/>
                  </a:cubicBezTo>
                  <a:cubicBezTo>
                    <a:pt x="1010" y="651"/>
                    <a:pt x="1010" y="651"/>
                    <a:pt x="1010" y="651"/>
                  </a:cubicBezTo>
                  <a:cubicBezTo>
                    <a:pt x="1010" y="651"/>
                    <a:pt x="1010" y="651"/>
                    <a:pt x="1010" y="651"/>
                  </a:cubicBezTo>
                  <a:cubicBezTo>
                    <a:pt x="1008" y="649"/>
                    <a:pt x="1006" y="647"/>
                    <a:pt x="1004" y="645"/>
                  </a:cubicBezTo>
                  <a:cubicBezTo>
                    <a:pt x="1004" y="644"/>
                    <a:pt x="1003" y="644"/>
                    <a:pt x="1003" y="643"/>
                  </a:cubicBezTo>
                  <a:cubicBezTo>
                    <a:pt x="1001" y="642"/>
                    <a:pt x="1000" y="641"/>
                    <a:pt x="999" y="640"/>
                  </a:cubicBezTo>
                  <a:cubicBezTo>
                    <a:pt x="932" y="580"/>
                    <a:pt x="859" y="577"/>
                    <a:pt x="780" y="547"/>
                  </a:cubicBezTo>
                  <a:close/>
                </a:path>
              </a:pathLst>
            </a:custGeom>
            <a:solidFill>
              <a:srgbClr val="007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03" name="Freeform 11"/>
            <p:cNvSpPr/>
            <p:nvPr/>
          </p:nvSpPr>
          <p:spPr>
            <a:xfrm>
              <a:off x="4417920" y="3819600"/>
              <a:ext cx="671400" cy="669960"/>
            </a:xfrm>
            <a:custGeom>
              <a:avLst/>
              <a:gdLst/>
              <a:ahLst/>
              <a:rect l="l" t="t" r="r" b="b"/>
              <a:pathLst>
                <a:path w="483" h="483">
                  <a:moveTo>
                    <a:pt x="397" y="86"/>
                  </a:moveTo>
                  <a:cubicBezTo>
                    <a:pt x="311" y="0"/>
                    <a:pt x="172" y="0"/>
                    <a:pt x="86" y="86"/>
                  </a:cubicBezTo>
                  <a:cubicBezTo>
                    <a:pt x="0" y="172"/>
                    <a:pt x="0" y="311"/>
                    <a:pt x="86" y="397"/>
                  </a:cubicBezTo>
                  <a:cubicBezTo>
                    <a:pt x="172" y="483"/>
                    <a:pt x="311" y="483"/>
                    <a:pt x="397" y="397"/>
                  </a:cubicBezTo>
                  <a:cubicBezTo>
                    <a:pt x="483" y="311"/>
                    <a:pt x="483" y="172"/>
                    <a:pt x="397" y="86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04" name="Oval 12"/>
            <p:cNvSpPr/>
            <p:nvPr/>
          </p:nvSpPr>
          <p:spPr>
            <a:xfrm>
              <a:off x="5240520" y="4633920"/>
              <a:ext cx="612720" cy="61128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05" name="Shape 2748"/>
            <p:cNvSpPr/>
            <p:nvPr/>
          </p:nvSpPr>
          <p:spPr>
            <a:xfrm>
              <a:off x="4611240" y="400680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06" name="Shape 2784"/>
            <p:cNvSpPr/>
            <p:nvPr/>
          </p:nvSpPr>
          <p:spPr>
            <a:xfrm>
              <a:off x="5403240" y="481932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07" name="Group 22"/>
          <p:cNvGrpSpPr/>
          <p:nvPr/>
        </p:nvGrpSpPr>
        <p:grpSpPr>
          <a:xfrm>
            <a:off x="6284880" y="1889280"/>
            <a:ext cx="1521000" cy="1520640"/>
            <a:chOff x="6284880" y="1889280"/>
            <a:chExt cx="1521000" cy="1520640"/>
          </a:xfrm>
        </p:grpSpPr>
        <p:sp>
          <p:nvSpPr>
            <p:cNvPr id="1108" name="Freeform 23"/>
            <p:cNvSpPr/>
            <p:nvPr/>
          </p:nvSpPr>
          <p:spPr>
            <a:xfrm>
              <a:off x="6284880" y="1889280"/>
              <a:ext cx="1521000" cy="1520640"/>
            </a:xfrm>
            <a:custGeom>
              <a:avLst/>
              <a:gdLst/>
              <a:ahLst/>
              <a:rect l="l" t="t" r="r" b="b"/>
              <a:pathLst>
                <a:path w="1095" h="1094">
                  <a:moveTo>
                    <a:pt x="315" y="547"/>
                  </a:moveTo>
                  <a:cubicBezTo>
                    <a:pt x="359" y="565"/>
                    <a:pt x="404" y="592"/>
                    <a:pt x="453" y="639"/>
                  </a:cubicBezTo>
                  <a:cubicBezTo>
                    <a:pt x="502" y="689"/>
                    <a:pt x="529" y="736"/>
                    <a:pt x="548" y="781"/>
                  </a:cubicBezTo>
                  <a:cubicBezTo>
                    <a:pt x="578" y="860"/>
                    <a:pt x="581" y="932"/>
                    <a:pt x="641" y="999"/>
                  </a:cubicBezTo>
                  <a:cubicBezTo>
                    <a:pt x="642" y="1000"/>
                    <a:pt x="643" y="1001"/>
                    <a:pt x="644" y="1002"/>
                  </a:cubicBezTo>
                  <a:cubicBezTo>
                    <a:pt x="646" y="1004"/>
                    <a:pt x="646" y="1004"/>
                    <a:pt x="646" y="1004"/>
                  </a:cubicBezTo>
                  <a:cubicBezTo>
                    <a:pt x="648" y="1006"/>
                    <a:pt x="649" y="1008"/>
                    <a:pt x="651" y="1010"/>
                  </a:cubicBezTo>
                  <a:cubicBezTo>
                    <a:pt x="651" y="1010"/>
                    <a:pt x="651" y="1010"/>
                    <a:pt x="651" y="1010"/>
                  </a:cubicBezTo>
                  <a:cubicBezTo>
                    <a:pt x="651" y="1010"/>
                    <a:pt x="651" y="1010"/>
                    <a:pt x="651" y="1010"/>
                  </a:cubicBezTo>
                  <a:cubicBezTo>
                    <a:pt x="653" y="1011"/>
                    <a:pt x="654" y="1013"/>
                    <a:pt x="656" y="1014"/>
                  </a:cubicBezTo>
                  <a:cubicBezTo>
                    <a:pt x="656" y="1014"/>
                    <a:pt x="656" y="1014"/>
                    <a:pt x="656" y="1014"/>
                  </a:cubicBezTo>
                  <a:cubicBezTo>
                    <a:pt x="658" y="1016"/>
                    <a:pt x="659" y="1017"/>
                    <a:pt x="661" y="1019"/>
                  </a:cubicBezTo>
                  <a:cubicBezTo>
                    <a:pt x="661" y="1019"/>
                    <a:pt x="661" y="1019"/>
                    <a:pt x="661" y="1019"/>
                  </a:cubicBezTo>
                  <a:cubicBezTo>
                    <a:pt x="662" y="1020"/>
                    <a:pt x="664" y="1021"/>
                    <a:pt x="666" y="1023"/>
                  </a:cubicBezTo>
                  <a:cubicBezTo>
                    <a:pt x="666" y="1023"/>
                    <a:pt x="666" y="1023"/>
                    <a:pt x="666" y="1023"/>
                  </a:cubicBezTo>
                  <a:cubicBezTo>
                    <a:pt x="667" y="1024"/>
                    <a:pt x="669" y="1026"/>
                    <a:pt x="670" y="1027"/>
                  </a:cubicBezTo>
                  <a:cubicBezTo>
                    <a:pt x="670" y="1027"/>
                    <a:pt x="670" y="1027"/>
                    <a:pt x="670" y="1027"/>
                  </a:cubicBezTo>
                  <a:cubicBezTo>
                    <a:pt x="672" y="1028"/>
                    <a:pt x="674" y="1029"/>
                    <a:pt x="675" y="1031"/>
                  </a:cubicBezTo>
                  <a:cubicBezTo>
                    <a:pt x="675" y="1031"/>
                    <a:pt x="675" y="1031"/>
                    <a:pt x="675" y="1031"/>
                  </a:cubicBezTo>
                  <a:cubicBezTo>
                    <a:pt x="677" y="1032"/>
                    <a:pt x="679" y="1033"/>
                    <a:pt x="680" y="1035"/>
                  </a:cubicBezTo>
                  <a:cubicBezTo>
                    <a:pt x="680" y="1035"/>
                    <a:pt x="680" y="1035"/>
                    <a:pt x="680" y="1035"/>
                  </a:cubicBezTo>
                  <a:cubicBezTo>
                    <a:pt x="682" y="1036"/>
                    <a:pt x="684" y="1037"/>
                    <a:pt x="685" y="1038"/>
                  </a:cubicBezTo>
                  <a:cubicBezTo>
                    <a:pt x="685" y="1038"/>
                    <a:pt x="685" y="1038"/>
                    <a:pt x="685" y="1038"/>
                  </a:cubicBezTo>
                  <a:cubicBezTo>
                    <a:pt x="687" y="1039"/>
                    <a:pt x="689" y="1041"/>
                    <a:pt x="691" y="1042"/>
                  </a:cubicBezTo>
                  <a:cubicBezTo>
                    <a:pt x="691" y="1042"/>
                    <a:pt x="691" y="1042"/>
                    <a:pt x="691" y="1042"/>
                  </a:cubicBezTo>
                  <a:cubicBezTo>
                    <a:pt x="692" y="1043"/>
                    <a:pt x="694" y="1044"/>
                    <a:pt x="696" y="1045"/>
                  </a:cubicBezTo>
                  <a:cubicBezTo>
                    <a:pt x="696" y="1045"/>
                    <a:pt x="696" y="1045"/>
                    <a:pt x="696" y="1045"/>
                  </a:cubicBezTo>
                  <a:cubicBezTo>
                    <a:pt x="698" y="1046"/>
                    <a:pt x="699" y="1047"/>
                    <a:pt x="701" y="1048"/>
                  </a:cubicBezTo>
                  <a:cubicBezTo>
                    <a:pt x="701" y="1048"/>
                    <a:pt x="701" y="1048"/>
                    <a:pt x="701" y="1048"/>
                  </a:cubicBezTo>
                  <a:cubicBezTo>
                    <a:pt x="703" y="1049"/>
                    <a:pt x="705" y="1050"/>
                    <a:pt x="706" y="1051"/>
                  </a:cubicBezTo>
                  <a:cubicBezTo>
                    <a:pt x="706" y="1051"/>
                    <a:pt x="706" y="1051"/>
                    <a:pt x="706" y="1051"/>
                  </a:cubicBezTo>
                  <a:cubicBezTo>
                    <a:pt x="710" y="1054"/>
                    <a:pt x="714" y="1055"/>
                    <a:pt x="717" y="1057"/>
                  </a:cubicBezTo>
                  <a:cubicBezTo>
                    <a:pt x="717" y="1057"/>
                    <a:pt x="717" y="1057"/>
                    <a:pt x="717" y="1057"/>
                  </a:cubicBezTo>
                  <a:cubicBezTo>
                    <a:pt x="791" y="1094"/>
                    <a:pt x="880" y="1094"/>
                    <a:pt x="953" y="1053"/>
                  </a:cubicBezTo>
                  <a:cubicBezTo>
                    <a:pt x="953" y="1053"/>
                    <a:pt x="953" y="1053"/>
                    <a:pt x="953" y="1053"/>
                  </a:cubicBezTo>
                  <a:cubicBezTo>
                    <a:pt x="959" y="1050"/>
                    <a:pt x="965" y="1046"/>
                    <a:pt x="970" y="1043"/>
                  </a:cubicBezTo>
                  <a:cubicBezTo>
                    <a:pt x="970" y="1043"/>
                    <a:pt x="970" y="1043"/>
                    <a:pt x="970" y="1043"/>
                  </a:cubicBezTo>
                  <a:cubicBezTo>
                    <a:pt x="972" y="1042"/>
                    <a:pt x="973" y="1040"/>
                    <a:pt x="975" y="1039"/>
                  </a:cubicBezTo>
                  <a:cubicBezTo>
                    <a:pt x="975" y="1039"/>
                    <a:pt x="975" y="1039"/>
                    <a:pt x="975" y="1039"/>
                  </a:cubicBezTo>
                  <a:cubicBezTo>
                    <a:pt x="977" y="1038"/>
                    <a:pt x="979" y="1037"/>
                    <a:pt x="980" y="1035"/>
                  </a:cubicBezTo>
                  <a:cubicBezTo>
                    <a:pt x="980" y="1035"/>
                    <a:pt x="980" y="1035"/>
                    <a:pt x="980" y="1035"/>
                  </a:cubicBezTo>
                  <a:cubicBezTo>
                    <a:pt x="984" y="1033"/>
                    <a:pt x="987" y="1030"/>
                    <a:pt x="991" y="1027"/>
                  </a:cubicBezTo>
                  <a:cubicBezTo>
                    <a:pt x="991" y="1027"/>
                    <a:pt x="991" y="1027"/>
                    <a:pt x="991" y="1027"/>
                  </a:cubicBezTo>
                  <a:cubicBezTo>
                    <a:pt x="993" y="1026"/>
                    <a:pt x="994" y="1025"/>
                    <a:pt x="996" y="1023"/>
                  </a:cubicBezTo>
                  <a:cubicBezTo>
                    <a:pt x="996" y="1023"/>
                    <a:pt x="996" y="1023"/>
                    <a:pt x="996" y="1023"/>
                  </a:cubicBezTo>
                  <a:cubicBezTo>
                    <a:pt x="999" y="1020"/>
                    <a:pt x="1002" y="1017"/>
                    <a:pt x="1006" y="1014"/>
                  </a:cubicBezTo>
                  <a:cubicBezTo>
                    <a:pt x="1006" y="1014"/>
                    <a:pt x="1006" y="1014"/>
                    <a:pt x="1006" y="1014"/>
                  </a:cubicBezTo>
                  <a:cubicBezTo>
                    <a:pt x="1007" y="1013"/>
                    <a:pt x="1009" y="1011"/>
                    <a:pt x="1010" y="1010"/>
                  </a:cubicBezTo>
                  <a:cubicBezTo>
                    <a:pt x="1010" y="1010"/>
                    <a:pt x="1010" y="1010"/>
                    <a:pt x="1010" y="1010"/>
                  </a:cubicBezTo>
                  <a:cubicBezTo>
                    <a:pt x="1012" y="1008"/>
                    <a:pt x="1014" y="1006"/>
                    <a:pt x="1015" y="1005"/>
                  </a:cubicBezTo>
                  <a:cubicBezTo>
                    <a:pt x="1015" y="1005"/>
                    <a:pt x="1015" y="1005"/>
                    <a:pt x="1015" y="1005"/>
                  </a:cubicBezTo>
                  <a:cubicBezTo>
                    <a:pt x="1018" y="1002"/>
                    <a:pt x="1021" y="998"/>
                    <a:pt x="1024" y="995"/>
                  </a:cubicBezTo>
                  <a:cubicBezTo>
                    <a:pt x="1024" y="995"/>
                    <a:pt x="1024" y="995"/>
                    <a:pt x="1024" y="995"/>
                  </a:cubicBezTo>
                  <a:cubicBezTo>
                    <a:pt x="1026" y="993"/>
                    <a:pt x="1027" y="992"/>
                    <a:pt x="1028" y="990"/>
                  </a:cubicBezTo>
                  <a:cubicBezTo>
                    <a:pt x="1028" y="990"/>
                    <a:pt x="1028" y="990"/>
                    <a:pt x="1028" y="990"/>
                  </a:cubicBezTo>
                  <a:cubicBezTo>
                    <a:pt x="1031" y="987"/>
                    <a:pt x="1034" y="983"/>
                    <a:pt x="1036" y="980"/>
                  </a:cubicBezTo>
                  <a:cubicBezTo>
                    <a:pt x="1036" y="980"/>
                    <a:pt x="1036" y="980"/>
                    <a:pt x="1036" y="980"/>
                  </a:cubicBezTo>
                  <a:cubicBezTo>
                    <a:pt x="1038" y="978"/>
                    <a:pt x="1039" y="976"/>
                    <a:pt x="1040" y="974"/>
                  </a:cubicBezTo>
                  <a:cubicBezTo>
                    <a:pt x="1040" y="974"/>
                    <a:pt x="1040" y="974"/>
                    <a:pt x="1040" y="974"/>
                  </a:cubicBezTo>
                  <a:cubicBezTo>
                    <a:pt x="1041" y="973"/>
                    <a:pt x="1042" y="971"/>
                    <a:pt x="1044" y="969"/>
                  </a:cubicBezTo>
                  <a:cubicBezTo>
                    <a:pt x="1044" y="969"/>
                    <a:pt x="1044" y="969"/>
                    <a:pt x="1044" y="969"/>
                  </a:cubicBezTo>
                  <a:cubicBezTo>
                    <a:pt x="1047" y="964"/>
                    <a:pt x="1050" y="958"/>
                    <a:pt x="1054" y="953"/>
                  </a:cubicBezTo>
                  <a:cubicBezTo>
                    <a:pt x="1054" y="953"/>
                    <a:pt x="1054" y="953"/>
                    <a:pt x="1054" y="953"/>
                  </a:cubicBezTo>
                  <a:cubicBezTo>
                    <a:pt x="1095" y="879"/>
                    <a:pt x="1095" y="790"/>
                    <a:pt x="1058" y="717"/>
                  </a:cubicBezTo>
                  <a:cubicBezTo>
                    <a:pt x="1058" y="717"/>
                    <a:pt x="1058" y="717"/>
                    <a:pt x="1058" y="717"/>
                  </a:cubicBezTo>
                  <a:cubicBezTo>
                    <a:pt x="1056" y="713"/>
                    <a:pt x="1054" y="709"/>
                    <a:pt x="1052" y="706"/>
                  </a:cubicBezTo>
                  <a:cubicBezTo>
                    <a:pt x="1052" y="706"/>
                    <a:pt x="1052" y="706"/>
                    <a:pt x="1052" y="706"/>
                  </a:cubicBezTo>
                  <a:cubicBezTo>
                    <a:pt x="1051" y="704"/>
                    <a:pt x="1050" y="702"/>
                    <a:pt x="1049" y="700"/>
                  </a:cubicBezTo>
                  <a:cubicBezTo>
                    <a:pt x="1049" y="700"/>
                    <a:pt x="1049" y="700"/>
                    <a:pt x="1049" y="700"/>
                  </a:cubicBezTo>
                  <a:cubicBezTo>
                    <a:pt x="1048" y="699"/>
                    <a:pt x="1047" y="697"/>
                    <a:pt x="1046" y="695"/>
                  </a:cubicBezTo>
                  <a:cubicBezTo>
                    <a:pt x="1046" y="695"/>
                    <a:pt x="1046" y="695"/>
                    <a:pt x="1046" y="695"/>
                  </a:cubicBezTo>
                  <a:cubicBezTo>
                    <a:pt x="1045" y="693"/>
                    <a:pt x="1044" y="691"/>
                    <a:pt x="1043" y="690"/>
                  </a:cubicBezTo>
                  <a:cubicBezTo>
                    <a:pt x="1043" y="690"/>
                    <a:pt x="1043" y="690"/>
                    <a:pt x="1043" y="690"/>
                  </a:cubicBezTo>
                  <a:cubicBezTo>
                    <a:pt x="1041" y="688"/>
                    <a:pt x="1040" y="686"/>
                    <a:pt x="1039" y="685"/>
                  </a:cubicBezTo>
                  <a:cubicBezTo>
                    <a:pt x="1039" y="685"/>
                    <a:pt x="1039" y="685"/>
                    <a:pt x="1039" y="685"/>
                  </a:cubicBezTo>
                  <a:cubicBezTo>
                    <a:pt x="1038" y="683"/>
                    <a:pt x="1037" y="681"/>
                    <a:pt x="1035" y="679"/>
                  </a:cubicBezTo>
                  <a:cubicBezTo>
                    <a:pt x="1035" y="679"/>
                    <a:pt x="1035" y="679"/>
                    <a:pt x="1035" y="679"/>
                  </a:cubicBezTo>
                  <a:cubicBezTo>
                    <a:pt x="1034" y="678"/>
                    <a:pt x="1033" y="676"/>
                    <a:pt x="1031" y="675"/>
                  </a:cubicBezTo>
                  <a:cubicBezTo>
                    <a:pt x="1031" y="675"/>
                    <a:pt x="1031" y="675"/>
                    <a:pt x="1031" y="675"/>
                  </a:cubicBezTo>
                  <a:cubicBezTo>
                    <a:pt x="1030" y="673"/>
                    <a:pt x="1029" y="671"/>
                    <a:pt x="1028" y="670"/>
                  </a:cubicBezTo>
                  <a:cubicBezTo>
                    <a:pt x="1028" y="670"/>
                    <a:pt x="1028" y="670"/>
                    <a:pt x="1028" y="670"/>
                  </a:cubicBezTo>
                  <a:cubicBezTo>
                    <a:pt x="1026" y="668"/>
                    <a:pt x="1025" y="666"/>
                    <a:pt x="1023" y="665"/>
                  </a:cubicBezTo>
                  <a:cubicBezTo>
                    <a:pt x="1023" y="665"/>
                    <a:pt x="1023" y="665"/>
                    <a:pt x="1023" y="665"/>
                  </a:cubicBezTo>
                  <a:cubicBezTo>
                    <a:pt x="1022" y="663"/>
                    <a:pt x="1021" y="662"/>
                    <a:pt x="1019" y="660"/>
                  </a:cubicBezTo>
                  <a:cubicBezTo>
                    <a:pt x="1019" y="660"/>
                    <a:pt x="1019" y="660"/>
                    <a:pt x="1019" y="660"/>
                  </a:cubicBezTo>
                  <a:cubicBezTo>
                    <a:pt x="1018" y="658"/>
                    <a:pt x="1016" y="657"/>
                    <a:pt x="1015" y="655"/>
                  </a:cubicBezTo>
                  <a:cubicBezTo>
                    <a:pt x="1015" y="655"/>
                    <a:pt x="1015" y="655"/>
                    <a:pt x="1015" y="655"/>
                  </a:cubicBezTo>
                  <a:cubicBezTo>
                    <a:pt x="1013" y="654"/>
                    <a:pt x="1012" y="652"/>
                    <a:pt x="1010" y="651"/>
                  </a:cubicBezTo>
                  <a:cubicBezTo>
                    <a:pt x="1010" y="651"/>
                    <a:pt x="1010" y="651"/>
                    <a:pt x="1010" y="651"/>
                  </a:cubicBezTo>
                  <a:cubicBezTo>
                    <a:pt x="1010" y="650"/>
                    <a:pt x="1010" y="650"/>
                    <a:pt x="1010" y="650"/>
                  </a:cubicBezTo>
                  <a:cubicBezTo>
                    <a:pt x="1009" y="649"/>
                    <a:pt x="1008" y="648"/>
                    <a:pt x="1008" y="648"/>
                  </a:cubicBezTo>
                  <a:cubicBezTo>
                    <a:pt x="1007" y="647"/>
                    <a:pt x="1006" y="646"/>
                    <a:pt x="1005" y="646"/>
                  </a:cubicBezTo>
                  <a:cubicBezTo>
                    <a:pt x="1005" y="646"/>
                    <a:pt x="1005" y="646"/>
                    <a:pt x="1005" y="646"/>
                  </a:cubicBezTo>
                  <a:cubicBezTo>
                    <a:pt x="937" y="581"/>
                    <a:pt x="863" y="578"/>
                    <a:pt x="782" y="547"/>
                  </a:cubicBezTo>
                  <a:cubicBezTo>
                    <a:pt x="737" y="529"/>
                    <a:pt x="690" y="502"/>
                    <a:pt x="640" y="453"/>
                  </a:cubicBezTo>
                  <a:cubicBezTo>
                    <a:pt x="593" y="404"/>
                    <a:pt x="566" y="358"/>
                    <a:pt x="548" y="314"/>
                  </a:cubicBezTo>
                  <a:cubicBezTo>
                    <a:pt x="518" y="235"/>
                    <a:pt x="515" y="162"/>
                    <a:pt x="454" y="95"/>
                  </a:cubicBezTo>
                  <a:cubicBezTo>
                    <a:pt x="453" y="94"/>
                    <a:pt x="452" y="93"/>
                    <a:pt x="451" y="92"/>
                  </a:cubicBezTo>
                  <a:cubicBezTo>
                    <a:pt x="450" y="90"/>
                    <a:pt x="450" y="90"/>
                    <a:pt x="450" y="90"/>
                  </a:cubicBezTo>
                  <a:cubicBezTo>
                    <a:pt x="448" y="88"/>
                    <a:pt x="446" y="86"/>
                    <a:pt x="444" y="84"/>
                  </a:cubicBezTo>
                  <a:cubicBezTo>
                    <a:pt x="444" y="84"/>
                    <a:pt x="444" y="84"/>
                    <a:pt x="444" y="84"/>
                  </a:cubicBezTo>
                  <a:cubicBezTo>
                    <a:pt x="444" y="84"/>
                    <a:pt x="444" y="84"/>
                    <a:pt x="444" y="84"/>
                  </a:cubicBezTo>
                  <a:cubicBezTo>
                    <a:pt x="443" y="83"/>
                    <a:pt x="441" y="81"/>
                    <a:pt x="439" y="80"/>
                  </a:cubicBezTo>
                  <a:cubicBezTo>
                    <a:pt x="439" y="80"/>
                    <a:pt x="439" y="80"/>
                    <a:pt x="439" y="80"/>
                  </a:cubicBezTo>
                  <a:cubicBezTo>
                    <a:pt x="438" y="78"/>
                    <a:pt x="436" y="77"/>
                    <a:pt x="435" y="75"/>
                  </a:cubicBezTo>
                  <a:cubicBezTo>
                    <a:pt x="435" y="75"/>
                    <a:pt x="435" y="75"/>
                    <a:pt x="435" y="75"/>
                  </a:cubicBezTo>
                  <a:cubicBezTo>
                    <a:pt x="433" y="74"/>
                    <a:pt x="432" y="73"/>
                    <a:pt x="430" y="71"/>
                  </a:cubicBezTo>
                  <a:cubicBezTo>
                    <a:pt x="430" y="71"/>
                    <a:pt x="430" y="71"/>
                    <a:pt x="430" y="71"/>
                  </a:cubicBezTo>
                  <a:cubicBezTo>
                    <a:pt x="428" y="70"/>
                    <a:pt x="427" y="68"/>
                    <a:pt x="425" y="67"/>
                  </a:cubicBezTo>
                  <a:cubicBezTo>
                    <a:pt x="425" y="67"/>
                    <a:pt x="425" y="67"/>
                    <a:pt x="425" y="67"/>
                  </a:cubicBezTo>
                  <a:cubicBezTo>
                    <a:pt x="423" y="66"/>
                    <a:pt x="422" y="64"/>
                    <a:pt x="420" y="63"/>
                  </a:cubicBezTo>
                  <a:cubicBezTo>
                    <a:pt x="420" y="63"/>
                    <a:pt x="420" y="63"/>
                    <a:pt x="420" y="63"/>
                  </a:cubicBezTo>
                  <a:cubicBezTo>
                    <a:pt x="419" y="62"/>
                    <a:pt x="417" y="61"/>
                    <a:pt x="415" y="59"/>
                  </a:cubicBezTo>
                  <a:cubicBezTo>
                    <a:pt x="415" y="59"/>
                    <a:pt x="415" y="59"/>
                    <a:pt x="415" y="59"/>
                  </a:cubicBezTo>
                  <a:cubicBezTo>
                    <a:pt x="414" y="58"/>
                    <a:pt x="412" y="57"/>
                    <a:pt x="410" y="56"/>
                  </a:cubicBezTo>
                  <a:cubicBezTo>
                    <a:pt x="410" y="56"/>
                    <a:pt x="410" y="56"/>
                    <a:pt x="410" y="56"/>
                  </a:cubicBezTo>
                  <a:cubicBezTo>
                    <a:pt x="408" y="55"/>
                    <a:pt x="407" y="53"/>
                    <a:pt x="405" y="52"/>
                  </a:cubicBezTo>
                  <a:cubicBezTo>
                    <a:pt x="405" y="52"/>
                    <a:pt x="405" y="52"/>
                    <a:pt x="405" y="52"/>
                  </a:cubicBezTo>
                  <a:cubicBezTo>
                    <a:pt x="403" y="51"/>
                    <a:pt x="401" y="50"/>
                    <a:pt x="400" y="49"/>
                  </a:cubicBezTo>
                  <a:cubicBezTo>
                    <a:pt x="400" y="49"/>
                    <a:pt x="400" y="49"/>
                    <a:pt x="400" y="49"/>
                  </a:cubicBezTo>
                  <a:cubicBezTo>
                    <a:pt x="398" y="48"/>
                    <a:pt x="396" y="47"/>
                    <a:pt x="394" y="45"/>
                  </a:cubicBezTo>
                  <a:cubicBezTo>
                    <a:pt x="394" y="45"/>
                    <a:pt x="394" y="45"/>
                    <a:pt x="394" y="45"/>
                  </a:cubicBezTo>
                  <a:cubicBezTo>
                    <a:pt x="393" y="44"/>
                    <a:pt x="391" y="43"/>
                    <a:pt x="389" y="42"/>
                  </a:cubicBezTo>
                  <a:cubicBezTo>
                    <a:pt x="389" y="42"/>
                    <a:pt x="389" y="42"/>
                    <a:pt x="389" y="42"/>
                  </a:cubicBezTo>
                  <a:cubicBezTo>
                    <a:pt x="385" y="40"/>
                    <a:pt x="382" y="38"/>
                    <a:pt x="378" y="37"/>
                  </a:cubicBezTo>
                  <a:cubicBezTo>
                    <a:pt x="378" y="37"/>
                    <a:pt x="378" y="37"/>
                    <a:pt x="378" y="37"/>
                  </a:cubicBezTo>
                  <a:cubicBezTo>
                    <a:pt x="305" y="0"/>
                    <a:pt x="216" y="0"/>
                    <a:pt x="142" y="41"/>
                  </a:cubicBezTo>
                  <a:cubicBezTo>
                    <a:pt x="142" y="41"/>
                    <a:pt x="142" y="41"/>
                    <a:pt x="142" y="41"/>
                  </a:cubicBezTo>
                  <a:cubicBezTo>
                    <a:pt x="136" y="44"/>
                    <a:pt x="131" y="48"/>
                    <a:pt x="126" y="51"/>
                  </a:cubicBezTo>
                  <a:cubicBezTo>
                    <a:pt x="126" y="51"/>
                    <a:pt x="126" y="51"/>
                    <a:pt x="126" y="51"/>
                  </a:cubicBezTo>
                  <a:cubicBezTo>
                    <a:pt x="124" y="52"/>
                    <a:pt x="122" y="53"/>
                    <a:pt x="120" y="55"/>
                  </a:cubicBezTo>
                  <a:cubicBezTo>
                    <a:pt x="120" y="55"/>
                    <a:pt x="120" y="55"/>
                    <a:pt x="120" y="55"/>
                  </a:cubicBezTo>
                  <a:cubicBezTo>
                    <a:pt x="119" y="56"/>
                    <a:pt x="117" y="57"/>
                    <a:pt x="115" y="58"/>
                  </a:cubicBezTo>
                  <a:cubicBezTo>
                    <a:pt x="115" y="58"/>
                    <a:pt x="115" y="58"/>
                    <a:pt x="115" y="58"/>
                  </a:cubicBezTo>
                  <a:cubicBezTo>
                    <a:pt x="112" y="61"/>
                    <a:pt x="108" y="64"/>
                    <a:pt x="105" y="66"/>
                  </a:cubicBezTo>
                  <a:cubicBezTo>
                    <a:pt x="105" y="66"/>
                    <a:pt x="105" y="66"/>
                    <a:pt x="105" y="66"/>
                  </a:cubicBezTo>
                  <a:cubicBezTo>
                    <a:pt x="103" y="68"/>
                    <a:pt x="101" y="69"/>
                    <a:pt x="100" y="71"/>
                  </a:cubicBezTo>
                  <a:cubicBezTo>
                    <a:pt x="100" y="71"/>
                    <a:pt x="100" y="71"/>
                    <a:pt x="100" y="71"/>
                  </a:cubicBezTo>
                  <a:cubicBezTo>
                    <a:pt x="96" y="73"/>
                    <a:pt x="93" y="76"/>
                    <a:pt x="90" y="80"/>
                  </a:cubicBezTo>
                  <a:cubicBezTo>
                    <a:pt x="90" y="80"/>
                    <a:pt x="90" y="80"/>
                    <a:pt x="90" y="80"/>
                  </a:cubicBezTo>
                  <a:cubicBezTo>
                    <a:pt x="88" y="81"/>
                    <a:pt x="87" y="83"/>
                    <a:pt x="85" y="84"/>
                  </a:cubicBezTo>
                  <a:cubicBezTo>
                    <a:pt x="85" y="84"/>
                    <a:pt x="85" y="84"/>
                    <a:pt x="85" y="84"/>
                  </a:cubicBezTo>
                  <a:cubicBezTo>
                    <a:pt x="83" y="86"/>
                    <a:pt x="82" y="87"/>
                    <a:pt x="80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77" y="92"/>
                    <a:pt x="74" y="96"/>
                    <a:pt x="71" y="99"/>
                  </a:cubicBezTo>
                  <a:cubicBezTo>
                    <a:pt x="71" y="99"/>
                    <a:pt x="71" y="99"/>
                    <a:pt x="71" y="99"/>
                  </a:cubicBezTo>
                  <a:cubicBezTo>
                    <a:pt x="70" y="101"/>
                    <a:pt x="69" y="102"/>
                    <a:pt x="67" y="104"/>
                  </a:cubicBezTo>
                  <a:cubicBezTo>
                    <a:pt x="67" y="104"/>
                    <a:pt x="67" y="104"/>
                    <a:pt x="67" y="104"/>
                  </a:cubicBezTo>
                  <a:cubicBezTo>
                    <a:pt x="64" y="107"/>
                    <a:pt x="62" y="111"/>
                    <a:pt x="59" y="114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8" y="116"/>
                    <a:pt x="57" y="118"/>
                    <a:pt x="55" y="120"/>
                  </a:cubicBezTo>
                  <a:cubicBezTo>
                    <a:pt x="55" y="120"/>
                    <a:pt x="55" y="120"/>
                    <a:pt x="55" y="120"/>
                  </a:cubicBezTo>
                  <a:cubicBezTo>
                    <a:pt x="54" y="121"/>
                    <a:pt x="53" y="123"/>
                    <a:pt x="52" y="125"/>
                  </a:cubicBezTo>
                  <a:cubicBezTo>
                    <a:pt x="52" y="125"/>
                    <a:pt x="52" y="125"/>
                    <a:pt x="52" y="125"/>
                  </a:cubicBezTo>
                  <a:cubicBezTo>
                    <a:pt x="48" y="130"/>
                    <a:pt x="45" y="136"/>
                    <a:pt x="42" y="141"/>
                  </a:cubicBezTo>
                  <a:cubicBezTo>
                    <a:pt x="42" y="141"/>
                    <a:pt x="42" y="141"/>
                    <a:pt x="42" y="141"/>
                  </a:cubicBezTo>
                  <a:cubicBezTo>
                    <a:pt x="1" y="215"/>
                    <a:pt x="0" y="304"/>
                    <a:pt x="37" y="377"/>
                  </a:cubicBezTo>
                  <a:cubicBezTo>
                    <a:pt x="37" y="377"/>
                    <a:pt x="37" y="377"/>
                    <a:pt x="37" y="377"/>
                  </a:cubicBezTo>
                  <a:cubicBezTo>
                    <a:pt x="39" y="381"/>
                    <a:pt x="41" y="385"/>
                    <a:pt x="43" y="388"/>
                  </a:cubicBezTo>
                  <a:cubicBezTo>
                    <a:pt x="43" y="388"/>
                    <a:pt x="43" y="388"/>
                    <a:pt x="43" y="388"/>
                  </a:cubicBezTo>
                  <a:cubicBezTo>
                    <a:pt x="44" y="390"/>
                    <a:pt x="45" y="392"/>
                    <a:pt x="46" y="393"/>
                  </a:cubicBezTo>
                  <a:cubicBezTo>
                    <a:pt x="46" y="393"/>
                    <a:pt x="46" y="393"/>
                    <a:pt x="46" y="393"/>
                  </a:cubicBezTo>
                  <a:cubicBezTo>
                    <a:pt x="47" y="395"/>
                    <a:pt x="48" y="397"/>
                    <a:pt x="50" y="399"/>
                  </a:cubicBezTo>
                  <a:cubicBezTo>
                    <a:pt x="50" y="399"/>
                    <a:pt x="50" y="399"/>
                    <a:pt x="50" y="399"/>
                  </a:cubicBezTo>
                  <a:cubicBezTo>
                    <a:pt x="51" y="401"/>
                    <a:pt x="52" y="402"/>
                    <a:pt x="53" y="404"/>
                  </a:cubicBezTo>
                  <a:cubicBezTo>
                    <a:pt x="53" y="404"/>
                    <a:pt x="53" y="404"/>
                    <a:pt x="53" y="404"/>
                  </a:cubicBezTo>
                  <a:cubicBezTo>
                    <a:pt x="54" y="406"/>
                    <a:pt x="55" y="408"/>
                    <a:pt x="56" y="409"/>
                  </a:cubicBezTo>
                  <a:cubicBezTo>
                    <a:pt x="56" y="409"/>
                    <a:pt x="56" y="409"/>
                    <a:pt x="56" y="409"/>
                  </a:cubicBezTo>
                  <a:cubicBezTo>
                    <a:pt x="58" y="411"/>
                    <a:pt x="59" y="413"/>
                    <a:pt x="60" y="414"/>
                  </a:cubicBezTo>
                  <a:cubicBezTo>
                    <a:pt x="60" y="414"/>
                    <a:pt x="60" y="414"/>
                    <a:pt x="60" y="414"/>
                  </a:cubicBezTo>
                  <a:cubicBezTo>
                    <a:pt x="61" y="416"/>
                    <a:pt x="63" y="418"/>
                    <a:pt x="64" y="419"/>
                  </a:cubicBezTo>
                  <a:cubicBezTo>
                    <a:pt x="64" y="419"/>
                    <a:pt x="64" y="419"/>
                    <a:pt x="64" y="419"/>
                  </a:cubicBezTo>
                  <a:cubicBezTo>
                    <a:pt x="65" y="421"/>
                    <a:pt x="67" y="423"/>
                    <a:pt x="68" y="424"/>
                  </a:cubicBezTo>
                  <a:cubicBezTo>
                    <a:pt x="68" y="424"/>
                    <a:pt x="68" y="424"/>
                    <a:pt x="68" y="424"/>
                  </a:cubicBezTo>
                  <a:cubicBezTo>
                    <a:pt x="69" y="426"/>
                    <a:pt x="71" y="428"/>
                    <a:pt x="72" y="429"/>
                  </a:cubicBezTo>
                  <a:cubicBezTo>
                    <a:pt x="72" y="429"/>
                    <a:pt x="72" y="429"/>
                    <a:pt x="72" y="429"/>
                  </a:cubicBezTo>
                  <a:cubicBezTo>
                    <a:pt x="73" y="431"/>
                    <a:pt x="75" y="432"/>
                    <a:pt x="76" y="434"/>
                  </a:cubicBezTo>
                  <a:cubicBezTo>
                    <a:pt x="76" y="434"/>
                    <a:pt x="76" y="434"/>
                    <a:pt x="76" y="434"/>
                  </a:cubicBezTo>
                  <a:cubicBezTo>
                    <a:pt x="78" y="436"/>
                    <a:pt x="79" y="437"/>
                    <a:pt x="80" y="439"/>
                  </a:cubicBezTo>
                  <a:cubicBezTo>
                    <a:pt x="80" y="439"/>
                    <a:pt x="80" y="439"/>
                    <a:pt x="80" y="439"/>
                  </a:cubicBezTo>
                  <a:cubicBezTo>
                    <a:pt x="82" y="440"/>
                    <a:pt x="83" y="442"/>
                    <a:pt x="85" y="443"/>
                  </a:cubicBezTo>
                  <a:cubicBezTo>
                    <a:pt x="85" y="443"/>
                    <a:pt x="85" y="443"/>
                    <a:pt x="85" y="443"/>
                  </a:cubicBezTo>
                  <a:cubicBezTo>
                    <a:pt x="85" y="443"/>
                    <a:pt x="85" y="443"/>
                    <a:pt x="85" y="443"/>
                  </a:cubicBezTo>
                  <a:cubicBezTo>
                    <a:pt x="87" y="445"/>
                    <a:pt x="89" y="447"/>
                    <a:pt x="91" y="449"/>
                  </a:cubicBezTo>
                  <a:cubicBezTo>
                    <a:pt x="91" y="449"/>
                    <a:pt x="92" y="450"/>
                    <a:pt x="92" y="450"/>
                  </a:cubicBezTo>
                  <a:cubicBezTo>
                    <a:pt x="94" y="452"/>
                    <a:pt x="95" y="453"/>
                    <a:pt x="96" y="454"/>
                  </a:cubicBezTo>
                  <a:cubicBezTo>
                    <a:pt x="163" y="514"/>
                    <a:pt x="236" y="517"/>
                    <a:pt x="315" y="547"/>
                  </a:cubicBezTo>
                  <a:close/>
                </a:path>
              </a:pathLst>
            </a:custGeom>
            <a:solidFill>
              <a:srgbClr val="009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09" name="Oval 24"/>
            <p:cNvSpPr/>
            <p:nvPr/>
          </p:nvSpPr>
          <p:spPr>
            <a:xfrm>
              <a:off x="6345000" y="1951200"/>
              <a:ext cx="611280" cy="61092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0" name="Oval 25"/>
            <p:cNvSpPr/>
            <p:nvPr/>
          </p:nvSpPr>
          <p:spPr>
            <a:xfrm>
              <a:off x="7132680" y="2735280"/>
              <a:ext cx="611280" cy="61272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1" name="Shape 2554"/>
            <p:cNvSpPr/>
            <p:nvPr/>
          </p:nvSpPr>
          <p:spPr>
            <a:xfrm>
              <a:off x="6510960" y="2116080"/>
              <a:ext cx="279360" cy="253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855" y="18900"/>
                  </a:moveTo>
                  <a:cubicBezTo>
                    <a:pt x="7279" y="18900"/>
                    <a:pt x="6684" y="18827"/>
                    <a:pt x="6086" y="18683"/>
                  </a:cubicBezTo>
                  <a:cubicBezTo>
                    <a:pt x="6017" y="18666"/>
                    <a:pt x="5946" y="18658"/>
                    <a:pt x="5876" y="18658"/>
                  </a:cubicBezTo>
                  <a:cubicBezTo>
                    <a:pt x="5756" y="18658"/>
                    <a:pt x="5636" y="18682"/>
                    <a:pt x="5523" y="18729"/>
                  </a:cubicBezTo>
                  <a:lnTo>
                    <a:pt x="2957" y="19815"/>
                  </a:lnTo>
                  <a:lnTo>
                    <a:pt x="3365" y="18243"/>
                  </a:lnTo>
                  <a:cubicBezTo>
                    <a:pt x="3474" y="17827"/>
                    <a:pt x="3345" y="17380"/>
                    <a:pt x="3039" y="17108"/>
                  </a:cubicBezTo>
                  <a:cubicBezTo>
                    <a:pt x="1712" y="15926"/>
                    <a:pt x="982" y="14358"/>
                    <a:pt x="982" y="12690"/>
                  </a:cubicBezTo>
                  <a:cubicBezTo>
                    <a:pt x="982" y="9266"/>
                    <a:pt x="4065" y="6480"/>
                    <a:pt x="7855" y="6480"/>
                  </a:cubicBezTo>
                  <a:cubicBezTo>
                    <a:pt x="11644" y="6480"/>
                    <a:pt x="14727" y="9266"/>
                    <a:pt x="14727" y="12690"/>
                  </a:cubicBezTo>
                  <a:cubicBezTo>
                    <a:pt x="14727" y="16114"/>
                    <a:pt x="11644" y="18900"/>
                    <a:pt x="7855" y="18900"/>
                  </a:cubicBezTo>
                  <a:moveTo>
                    <a:pt x="7855" y="5400"/>
                  </a:moveTo>
                  <a:cubicBezTo>
                    <a:pt x="3517" y="5400"/>
                    <a:pt x="0" y="8664"/>
                    <a:pt x="0" y="12690"/>
                  </a:cubicBezTo>
                  <a:cubicBezTo>
                    <a:pt x="0" y="14758"/>
                    <a:pt x="932" y="16620"/>
                    <a:pt x="2422" y="17947"/>
                  </a:cubicBezTo>
                  <a:lnTo>
                    <a:pt x="1473" y="21600"/>
                  </a:lnTo>
                  <a:lnTo>
                    <a:pt x="5876" y="19738"/>
                  </a:lnTo>
                  <a:cubicBezTo>
                    <a:pt x="6509" y="19891"/>
                    <a:pt x="7169" y="19980"/>
                    <a:pt x="7855" y="19980"/>
                  </a:cubicBezTo>
                  <a:cubicBezTo>
                    <a:pt x="12192" y="19980"/>
                    <a:pt x="15709" y="16716"/>
                    <a:pt x="15709" y="12690"/>
                  </a:cubicBezTo>
                  <a:cubicBezTo>
                    <a:pt x="15709" y="8664"/>
                    <a:pt x="12192" y="5400"/>
                    <a:pt x="7855" y="5400"/>
                  </a:cubicBezTo>
                  <a:moveTo>
                    <a:pt x="21600" y="7290"/>
                  </a:moveTo>
                  <a:cubicBezTo>
                    <a:pt x="21600" y="3264"/>
                    <a:pt x="18084" y="0"/>
                    <a:pt x="13745" y="0"/>
                  </a:cubicBezTo>
                  <a:cubicBezTo>
                    <a:pt x="10506" y="0"/>
                    <a:pt x="7725" y="1821"/>
                    <a:pt x="6525" y="4422"/>
                  </a:cubicBezTo>
                  <a:cubicBezTo>
                    <a:pt x="6912" y="4367"/>
                    <a:pt x="7306" y="4332"/>
                    <a:pt x="7708" y="4326"/>
                  </a:cubicBezTo>
                  <a:cubicBezTo>
                    <a:pt x="8875" y="2394"/>
                    <a:pt x="11143" y="1080"/>
                    <a:pt x="13745" y="1080"/>
                  </a:cubicBezTo>
                  <a:cubicBezTo>
                    <a:pt x="17535" y="1080"/>
                    <a:pt x="20618" y="3866"/>
                    <a:pt x="20618" y="7290"/>
                  </a:cubicBezTo>
                  <a:cubicBezTo>
                    <a:pt x="20618" y="8958"/>
                    <a:pt x="19888" y="10526"/>
                    <a:pt x="18561" y="11707"/>
                  </a:cubicBezTo>
                  <a:cubicBezTo>
                    <a:pt x="18255" y="11980"/>
                    <a:pt x="18126" y="12428"/>
                    <a:pt x="18234" y="12843"/>
                  </a:cubicBezTo>
                  <a:lnTo>
                    <a:pt x="18643" y="14415"/>
                  </a:lnTo>
                  <a:lnTo>
                    <a:pt x="16613" y="13556"/>
                  </a:lnTo>
                  <a:cubicBezTo>
                    <a:pt x="16573" y="13922"/>
                    <a:pt x="16500" y="14278"/>
                    <a:pt x="16411" y="14628"/>
                  </a:cubicBezTo>
                  <a:lnTo>
                    <a:pt x="20127" y="16200"/>
                  </a:lnTo>
                  <a:lnTo>
                    <a:pt x="19178" y="12547"/>
                  </a:lnTo>
                  <a:cubicBezTo>
                    <a:pt x="20669" y="11220"/>
                    <a:pt x="21600" y="9358"/>
                    <a:pt x="21600" y="7290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2" name="Shape 2543"/>
            <p:cNvSpPr/>
            <p:nvPr/>
          </p:nvSpPr>
          <p:spPr>
            <a:xfrm>
              <a:off x="7298640" y="29037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13" name="Group 28"/>
          <p:cNvGrpSpPr/>
          <p:nvPr/>
        </p:nvGrpSpPr>
        <p:grpSpPr>
          <a:xfrm>
            <a:off x="6284880" y="3787920"/>
            <a:ext cx="1521000" cy="1519200"/>
            <a:chOff x="6284880" y="3787920"/>
            <a:chExt cx="1521000" cy="1519200"/>
          </a:xfrm>
        </p:grpSpPr>
        <p:sp>
          <p:nvSpPr>
            <p:cNvPr id="1114" name="Freeform 18"/>
            <p:cNvSpPr/>
            <p:nvPr/>
          </p:nvSpPr>
          <p:spPr>
            <a:xfrm>
              <a:off x="6284880" y="3787920"/>
              <a:ext cx="1521000" cy="1519200"/>
            </a:xfrm>
            <a:custGeom>
              <a:avLst/>
              <a:gdLst/>
              <a:ahLst/>
              <a:rect l="l" t="t" r="r" b="b"/>
              <a:pathLst>
                <a:path w="1095" h="1094">
                  <a:moveTo>
                    <a:pt x="315" y="547"/>
                  </a:moveTo>
                  <a:cubicBezTo>
                    <a:pt x="359" y="529"/>
                    <a:pt x="404" y="502"/>
                    <a:pt x="453" y="455"/>
                  </a:cubicBezTo>
                  <a:cubicBezTo>
                    <a:pt x="502" y="405"/>
                    <a:pt x="529" y="358"/>
                    <a:pt x="548" y="313"/>
                  </a:cubicBezTo>
                  <a:cubicBezTo>
                    <a:pt x="578" y="234"/>
                    <a:pt x="581" y="162"/>
                    <a:pt x="641" y="95"/>
                  </a:cubicBezTo>
                  <a:cubicBezTo>
                    <a:pt x="642" y="94"/>
                    <a:pt x="643" y="93"/>
                    <a:pt x="644" y="92"/>
                  </a:cubicBezTo>
                  <a:cubicBezTo>
                    <a:pt x="646" y="90"/>
                    <a:pt x="646" y="90"/>
                    <a:pt x="646" y="90"/>
                  </a:cubicBezTo>
                  <a:cubicBezTo>
                    <a:pt x="648" y="88"/>
                    <a:pt x="649" y="86"/>
                    <a:pt x="651" y="84"/>
                  </a:cubicBezTo>
                  <a:cubicBezTo>
                    <a:pt x="651" y="84"/>
                    <a:pt x="651" y="84"/>
                    <a:pt x="651" y="84"/>
                  </a:cubicBezTo>
                  <a:cubicBezTo>
                    <a:pt x="651" y="84"/>
                    <a:pt x="651" y="84"/>
                    <a:pt x="651" y="84"/>
                  </a:cubicBezTo>
                  <a:cubicBezTo>
                    <a:pt x="653" y="83"/>
                    <a:pt x="654" y="81"/>
                    <a:pt x="656" y="80"/>
                  </a:cubicBezTo>
                  <a:cubicBezTo>
                    <a:pt x="656" y="80"/>
                    <a:pt x="656" y="80"/>
                    <a:pt x="656" y="80"/>
                  </a:cubicBezTo>
                  <a:cubicBezTo>
                    <a:pt x="658" y="78"/>
                    <a:pt x="659" y="77"/>
                    <a:pt x="661" y="75"/>
                  </a:cubicBezTo>
                  <a:cubicBezTo>
                    <a:pt x="661" y="75"/>
                    <a:pt x="661" y="75"/>
                    <a:pt x="661" y="75"/>
                  </a:cubicBezTo>
                  <a:cubicBezTo>
                    <a:pt x="662" y="74"/>
                    <a:pt x="664" y="73"/>
                    <a:pt x="666" y="71"/>
                  </a:cubicBezTo>
                  <a:cubicBezTo>
                    <a:pt x="666" y="71"/>
                    <a:pt x="666" y="71"/>
                    <a:pt x="666" y="71"/>
                  </a:cubicBezTo>
                  <a:cubicBezTo>
                    <a:pt x="667" y="70"/>
                    <a:pt x="669" y="68"/>
                    <a:pt x="670" y="67"/>
                  </a:cubicBezTo>
                  <a:cubicBezTo>
                    <a:pt x="670" y="67"/>
                    <a:pt x="670" y="67"/>
                    <a:pt x="670" y="67"/>
                  </a:cubicBezTo>
                  <a:cubicBezTo>
                    <a:pt x="672" y="66"/>
                    <a:pt x="674" y="64"/>
                    <a:pt x="675" y="63"/>
                  </a:cubicBezTo>
                  <a:cubicBezTo>
                    <a:pt x="675" y="63"/>
                    <a:pt x="675" y="63"/>
                    <a:pt x="675" y="63"/>
                  </a:cubicBezTo>
                  <a:cubicBezTo>
                    <a:pt x="677" y="62"/>
                    <a:pt x="679" y="61"/>
                    <a:pt x="680" y="59"/>
                  </a:cubicBezTo>
                  <a:cubicBezTo>
                    <a:pt x="680" y="59"/>
                    <a:pt x="680" y="59"/>
                    <a:pt x="680" y="59"/>
                  </a:cubicBezTo>
                  <a:cubicBezTo>
                    <a:pt x="682" y="58"/>
                    <a:pt x="684" y="57"/>
                    <a:pt x="685" y="56"/>
                  </a:cubicBezTo>
                  <a:cubicBezTo>
                    <a:pt x="685" y="56"/>
                    <a:pt x="685" y="56"/>
                    <a:pt x="685" y="56"/>
                  </a:cubicBezTo>
                  <a:cubicBezTo>
                    <a:pt x="687" y="54"/>
                    <a:pt x="689" y="53"/>
                    <a:pt x="691" y="52"/>
                  </a:cubicBezTo>
                  <a:cubicBezTo>
                    <a:pt x="691" y="52"/>
                    <a:pt x="691" y="52"/>
                    <a:pt x="691" y="52"/>
                  </a:cubicBezTo>
                  <a:cubicBezTo>
                    <a:pt x="692" y="51"/>
                    <a:pt x="694" y="50"/>
                    <a:pt x="696" y="49"/>
                  </a:cubicBezTo>
                  <a:cubicBezTo>
                    <a:pt x="696" y="49"/>
                    <a:pt x="696" y="49"/>
                    <a:pt x="696" y="49"/>
                  </a:cubicBezTo>
                  <a:cubicBezTo>
                    <a:pt x="698" y="48"/>
                    <a:pt x="699" y="47"/>
                    <a:pt x="701" y="45"/>
                  </a:cubicBezTo>
                  <a:cubicBezTo>
                    <a:pt x="701" y="45"/>
                    <a:pt x="701" y="45"/>
                    <a:pt x="701" y="45"/>
                  </a:cubicBezTo>
                  <a:cubicBezTo>
                    <a:pt x="703" y="44"/>
                    <a:pt x="705" y="43"/>
                    <a:pt x="706" y="42"/>
                  </a:cubicBezTo>
                  <a:cubicBezTo>
                    <a:pt x="706" y="42"/>
                    <a:pt x="706" y="42"/>
                    <a:pt x="706" y="42"/>
                  </a:cubicBezTo>
                  <a:cubicBezTo>
                    <a:pt x="710" y="40"/>
                    <a:pt x="714" y="38"/>
                    <a:pt x="717" y="37"/>
                  </a:cubicBezTo>
                  <a:cubicBezTo>
                    <a:pt x="717" y="37"/>
                    <a:pt x="717" y="37"/>
                    <a:pt x="717" y="37"/>
                  </a:cubicBezTo>
                  <a:cubicBezTo>
                    <a:pt x="791" y="0"/>
                    <a:pt x="880" y="0"/>
                    <a:pt x="953" y="41"/>
                  </a:cubicBezTo>
                  <a:cubicBezTo>
                    <a:pt x="953" y="41"/>
                    <a:pt x="953" y="41"/>
                    <a:pt x="953" y="41"/>
                  </a:cubicBezTo>
                  <a:cubicBezTo>
                    <a:pt x="959" y="44"/>
                    <a:pt x="965" y="48"/>
                    <a:pt x="970" y="51"/>
                  </a:cubicBezTo>
                  <a:cubicBezTo>
                    <a:pt x="970" y="51"/>
                    <a:pt x="970" y="51"/>
                    <a:pt x="970" y="51"/>
                  </a:cubicBezTo>
                  <a:cubicBezTo>
                    <a:pt x="972" y="52"/>
                    <a:pt x="973" y="53"/>
                    <a:pt x="975" y="55"/>
                  </a:cubicBezTo>
                  <a:cubicBezTo>
                    <a:pt x="975" y="55"/>
                    <a:pt x="975" y="55"/>
                    <a:pt x="975" y="55"/>
                  </a:cubicBezTo>
                  <a:cubicBezTo>
                    <a:pt x="977" y="56"/>
                    <a:pt x="979" y="57"/>
                    <a:pt x="980" y="58"/>
                  </a:cubicBezTo>
                  <a:cubicBezTo>
                    <a:pt x="980" y="58"/>
                    <a:pt x="980" y="58"/>
                    <a:pt x="980" y="58"/>
                  </a:cubicBezTo>
                  <a:cubicBezTo>
                    <a:pt x="984" y="61"/>
                    <a:pt x="987" y="64"/>
                    <a:pt x="991" y="66"/>
                  </a:cubicBezTo>
                  <a:cubicBezTo>
                    <a:pt x="991" y="66"/>
                    <a:pt x="991" y="66"/>
                    <a:pt x="991" y="66"/>
                  </a:cubicBezTo>
                  <a:cubicBezTo>
                    <a:pt x="993" y="68"/>
                    <a:pt x="994" y="69"/>
                    <a:pt x="996" y="71"/>
                  </a:cubicBezTo>
                  <a:cubicBezTo>
                    <a:pt x="996" y="71"/>
                    <a:pt x="996" y="71"/>
                    <a:pt x="996" y="71"/>
                  </a:cubicBezTo>
                  <a:cubicBezTo>
                    <a:pt x="999" y="73"/>
                    <a:pt x="1002" y="76"/>
                    <a:pt x="1006" y="80"/>
                  </a:cubicBezTo>
                  <a:cubicBezTo>
                    <a:pt x="1006" y="80"/>
                    <a:pt x="1006" y="80"/>
                    <a:pt x="1006" y="80"/>
                  </a:cubicBezTo>
                  <a:cubicBezTo>
                    <a:pt x="1007" y="81"/>
                    <a:pt x="1009" y="83"/>
                    <a:pt x="1010" y="84"/>
                  </a:cubicBezTo>
                  <a:cubicBezTo>
                    <a:pt x="1010" y="84"/>
                    <a:pt x="1010" y="84"/>
                    <a:pt x="1010" y="84"/>
                  </a:cubicBezTo>
                  <a:cubicBezTo>
                    <a:pt x="1012" y="86"/>
                    <a:pt x="1014" y="87"/>
                    <a:pt x="1015" y="89"/>
                  </a:cubicBezTo>
                  <a:cubicBezTo>
                    <a:pt x="1015" y="89"/>
                    <a:pt x="1015" y="89"/>
                    <a:pt x="1015" y="89"/>
                  </a:cubicBezTo>
                  <a:cubicBezTo>
                    <a:pt x="1018" y="92"/>
                    <a:pt x="1021" y="96"/>
                    <a:pt x="1024" y="99"/>
                  </a:cubicBezTo>
                  <a:cubicBezTo>
                    <a:pt x="1024" y="99"/>
                    <a:pt x="1024" y="99"/>
                    <a:pt x="1024" y="99"/>
                  </a:cubicBezTo>
                  <a:cubicBezTo>
                    <a:pt x="1026" y="101"/>
                    <a:pt x="1027" y="102"/>
                    <a:pt x="1028" y="104"/>
                  </a:cubicBezTo>
                  <a:cubicBezTo>
                    <a:pt x="1028" y="104"/>
                    <a:pt x="1028" y="104"/>
                    <a:pt x="1028" y="104"/>
                  </a:cubicBezTo>
                  <a:cubicBezTo>
                    <a:pt x="1031" y="107"/>
                    <a:pt x="1034" y="111"/>
                    <a:pt x="1036" y="114"/>
                  </a:cubicBezTo>
                  <a:cubicBezTo>
                    <a:pt x="1036" y="114"/>
                    <a:pt x="1036" y="114"/>
                    <a:pt x="1036" y="114"/>
                  </a:cubicBezTo>
                  <a:cubicBezTo>
                    <a:pt x="1038" y="116"/>
                    <a:pt x="1039" y="118"/>
                    <a:pt x="1040" y="119"/>
                  </a:cubicBezTo>
                  <a:cubicBezTo>
                    <a:pt x="1040" y="119"/>
                    <a:pt x="1040" y="119"/>
                    <a:pt x="1040" y="119"/>
                  </a:cubicBezTo>
                  <a:cubicBezTo>
                    <a:pt x="1041" y="121"/>
                    <a:pt x="1042" y="123"/>
                    <a:pt x="1044" y="125"/>
                  </a:cubicBezTo>
                  <a:cubicBezTo>
                    <a:pt x="1044" y="125"/>
                    <a:pt x="1044" y="125"/>
                    <a:pt x="1044" y="125"/>
                  </a:cubicBezTo>
                  <a:cubicBezTo>
                    <a:pt x="1047" y="130"/>
                    <a:pt x="1050" y="136"/>
                    <a:pt x="1054" y="141"/>
                  </a:cubicBezTo>
                  <a:cubicBezTo>
                    <a:pt x="1054" y="141"/>
                    <a:pt x="1054" y="141"/>
                    <a:pt x="1054" y="141"/>
                  </a:cubicBezTo>
                  <a:cubicBezTo>
                    <a:pt x="1095" y="215"/>
                    <a:pt x="1095" y="304"/>
                    <a:pt x="1058" y="377"/>
                  </a:cubicBezTo>
                  <a:cubicBezTo>
                    <a:pt x="1058" y="377"/>
                    <a:pt x="1058" y="377"/>
                    <a:pt x="1058" y="377"/>
                  </a:cubicBezTo>
                  <a:cubicBezTo>
                    <a:pt x="1056" y="381"/>
                    <a:pt x="1054" y="385"/>
                    <a:pt x="1052" y="388"/>
                  </a:cubicBezTo>
                  <a:cubicBezTo>
                    <a:pt x="1052" y="388"/>
                    <a:pt x="1052" y="388"/>
                    <a:pt x="1052" y="388"/>
                  </a:cubicBezTo>
                  <a:cubicBezTo>
                    <a:pt x="1051" y="390"/>
                    <a:pt x="1050" y="392"/>
                    <a:pt x="1049" y="394"/>
                  </a:cubicBezTo>
                  <a:cubicBezTo>
                    <a:pt x="1049" y="394"/>
                    <a:pt x="1049" y="394"/>
                    <a:pt x="1049" y="394"/>
                  </a:cubicBezTo>
                  <a:cubicBezTo>
                    <a:pt x="1048" y="395"/>
                    <a:pt x="1047" y="397"/>
                    <a:pt x="1046" y="399"/>
                  </a:cubicBezTo>
                  <a:cubicBezTo>
                    <a:pt x="1046" y="399"/>
                    <a:pt x="1046" y="399"/>
                    <a:pt x="1046" y="399"/>
                  </a:cubicBezTo>
                  <a:cubicBezTo>
                    <a:pt x="1045" y="401"/>
                    <a:pt x="1044" y="402"/>
                    <a:pt x="1043" y="404"/>
                  </a:cubicBezTo>
                  <a:cubicBezTo>
                    <a:pt x="1043" y="404"/>
                    <a:pt x="1043" y="404"/>
                    <a:pt x="1043" y="404"/>
                  </a:cubicBezTo>
                  <a:cubicBezTo>
                    <a:pt x="1041" y="406"/>
                    <a:pt x="1040" y="408"/>
                    <a:pt x="1039" y="409"/>
                  </a:cubicBezTo>
                  <a:cubicBezTo>
                    <a:pt x="1039" y="409"/>
                    <a:pt x="1039" y="409"/>
                    <a:pt x="1039" y="409"/>
                  </a:cubicBezTo>
                  <a:cubicBezTo>
                    <a:pt x="1038" y="411"/>
                    <a:pt x="1037" y="413"/>
                    <a:pt x="1035" y="414"/>
                  </a:cubicBezTo>
                  <a:cubicBezTo>
                    <a:pt x="1035" y="414"/>
                    <a:pt x="1035" y="414"/>
                    <a:pt x="1035" y="414"/>
                  </a:cubicBezTo>
                  <a:cubicBezTo>
                    <a:pt x="1034" y="416"/>
                    <a:pt x="1033" y="418"/>
                    <a:pt x="1031" y="419"/>
                  </a:cubicBezTo>
                  <a:cubicBezTo>
                    <a:pt x="1031" y="419"/>
                    <a:pt x="1031" y="419"/>
                    <a:pt x="1031" y="419"/>
                  </a:cubicBezTo>
                  <a:cubicBezTo>
                    <a:pt x="1030" y="421"/>
                    <a:pt x="1029" y="423"/>
                    <a:pt x="1028" y="424"/>
                  </a:cubicBezTo>
                  <a:cubicBezTo>
                    <a:pt x="1028" y="424"/>
                    <a:pt x="1028" y="424"/>
                    <a:pt x="1028" y="424"/>
                  </a:cubicBezTo>
                  <a:cubicBezTo>
                    <a:pt x="1026" y="426"/>
                    <a:pt x="1025" y="428"/>
                    <a:pt x="1023" y="429"/>
                  </a:cubicBezTo>
                  <a:cubicBezTo>
                    <a:pt x="1023" y="429"/>
                    <a:pt x="1023" y="429"/>
                    <a:pt x="1023" y="429"/>
                  </a:cubicBezTo>
                  <a:cubicBezTo>
                    <a:pt x="1022" y="431"/>
                    <a:pt x="1021" y="432"/>
                    <a:pt x="1019" y="434"/>
                  </a:cubicBezTo>
                  <a:cubicBezTo>
                    <a:pt x="1019" y="434"/>
                    <a:pt x="1019" y="434"/>
                    <a:pt x="1019" y="434"/>
                  </a:cubicBezTo>
                  <a:cubicBezTo>
                    <a:pt x="1018" y="436"/>
                    <a:pt x="1016" y="437"/>
                    <a:pt x="1015" y="439"/>
                  </a:cubicBezTo>
                  <a:cubicBezTo>
                    <a:pt x="1015" y="439"/>
                    <a:pt x="1015" y="439"/>
                    <a:pt x="1015" y="439"/>
                  </a:cubicBezTo>
                  <a:cubicBezTo>
                    <a:pt x="1013" y="440"/>
                    <a:pt x="1012" y="442"/>
                    <a:pt x="1010" y="443"/>
                  </a:cubicBezTo>
                  <a:cubicBezTo>
                    <a:pt x="1010" y="443"/>
                    <a:pt x="1010" y="443"/>
                    <a:pt x="1010" y="443"/>
                  </a:cubicBezTo>
                  <a:cubicBezTo>
                    <a:pt x="1010" y="444"/>
                    <a:pt x="1010" y="444"/>
                    <a:pt x="1010" y="444"/>
                  </a:cubicBezTo>
                  <a:cubicBezTo>
                    <a:pt x="1009" y="445"/>
                    <a:pt x="1008" y="445"/>
                    <a:pt x="1008" y="446"/>
                  </a:cubicBezTo>
                  <a:cubicBezTo>
                    <a:pt x="1007" y="447"/>
                    <a:pt x="1006" y="448"/>
                    <a:pt x="1005" y="448"/>
                  </a:cubicBezTo>
                  <a:cubicBezTo>
                    <a:pt x="1005" y="448"/>
                    <a:pt x="1005" y="448"/>
                    <a:pt x="1005" y="448"/>
                  </a:cubicBezTo>
                  <a:cubicBezTo>
                    <a:pt x="937" y="513"/>
                    <a:pt x="863" y="516"/>
                    <a:pt x="782" y="547"/>
                  </a:cubicBezTo>
                  <a:cubicBezTo>
                    <a:pt x="737" y="565"/>
                    <a:pt x="690" y="592"/>
                    <a:pt x="640" y="641"/>
                  </a:cubicBezTo>
                  <a:cubicBezTo>
                    <a:pt x="593" y="690"/>
                    <a:pt x="566" y="736"/>
                    <a:pt x="548" y="780"/>
                  </a:cubicBezTo>
                  <a:cubicBezTo>
                    <a:pt x="518" y="859"/>
                    <a:pt x="515" y="931"/>
                    <a:pt x="454" y="999"/>
                  </a:cubicBezTo>
                  <a:cubicBezTo>
                    <a:pt x="453" y="1000"/>
                    <a:pt x="452" y="1001"/>
                    <a:pt x="451" y="1002"/>
                  </a:cubicBezTo>
                  <a:cubicBezTo>
                    <a:pt x="450" y="1004"/>
                    <a:pt x="450" y="1004"/>
                    <a:pt x="450" y="1004"/>
                  </a:cubicBezTo>
                  <a:cubicBezTo>
                    <a:pt x="448" y="1006"/>
                    <a:pt x="446" y="1008"/>
                    <a:pt x="444" y="1010"/>
                  </a:cubicBezTo>
                  <a:cubicBezTo>
                    <a:pt x="444" y="1010"/>
                    <a:pt x="444" y="1010"/>
                    <a:pt x="444" y="1010"/>
                  </a:cubicBezTo>
                  <a:cubicBezTo>
                    <a:pt x="444" y="1010"/>
                    <a:pt x="444" y="1010"/>
                    <a:pt x="444" y="1010"/>
                  </a:cubicBezTo>
                  <a:cubicBezTo>
                    <a:pt x="443" y="1011"/>
                    <a:pt x="441" y="1013"/>
                    <a:pt x="439" y="1014"/>
                  </a:cubicBezTo>
                  <a:cubicBezTo>
                    <a:pt x="439" y="1014"/>
                    <a:pt x="439" y="1014"/>
                    <a:pt x="439" y="1014"/>
                  </a:cubicBezTo>
                  <a:cubicBezTo>
                    <a:pt x="438" y="1016"/>
                    <a:pt x="436" y="1017"/>
                    <a:pt x="435" y="1019"/>
                  </a:cubicBezTo>
                  <a:cubicBezTo>
                    <a:pt x="435" y="1019"/>
                    <a:pt x="435" y="1019"/>
                    <a:pt x="435" y="1019"/>
                  </a:cubicBezTo>
                  <a:cubicBezTo>
                    <a:pt x="433" y="1020"/>
                    <a:pt x="432" y="1021"/>
                    <a:pt x="430" y="1023"/>
                  </a:cubicBezTo>
                  <a:cubicBezTo>
                    <a:pt x="430" y="1023"/>
                    <a:pt x="430" y="1023"/>
                    <a:pt x="430" y="1023"/>
                  </a:cubicBezTo>
                  <a:cubicBezTo>
                    <a:pt x="428" y="1024"/>
                    <a:pt x="427" y="1026"/>
                    <a:pt x="425" y="1027"/>
                  </a:cubicBezTo>
                  <a:cubicBezTo>
                    <a:pt x="425" y="1027"/>
                    <a:pt x="425" y="1027"/>
                    <a:pt x="425" y="1027"/>
                  </a:cubicBezTo>
                  <a:cubicBezTo>
                    <a:pt x="423" y="1028"/>
                    <a:pt x="422" y="1030"/>
                    <a:pt x="420" y="1031"/>
                  </a:cubicBezTo>
                  <a:cubicBezTo>
                    <a:pt x="420" y="1031"/>
                    <a:pt x="420" y="1031"/>
                    <a:pt x="420" y="1031"/>
                  </a:cubicBezTo>
                  <a:cubicBezTo>
                    <a:pt x="419" y="1032"/>
                    <a:pt x="417" y="1033"/>
                    <a:pt x="415" y="1035"/>
                  </a:cubicBezTo>
                  <a:cubicBezTo>
                    <a:pt x="415" y="1035"/>
                    <a:pt x="415" y="1035"/>
                    <a:pt x="415" y="1035"/>
                  </a:cubicBezTo>
                  <a:cubicBezTo>
                    <a:pt x="414" y="1036"/>
                    <a:pt x="412" y="1037"/>
                    <a:pt x="410" y="1038"/>
                  </a:cubicBezTo>
                  <a:cubicBezTo>
                    <a:pt x="410" y="1038"/>
                    <a:pt x="410" y="1038"/>
                    <a:pt x="410" y="1038"/>
                  </a:cubicBezTo>
                  <a:cubicBezTo>
                    <a:pt x="408" y="1039"/>
                    <a:pt x="407" y="1041"/>
                    <a:pt x="405" y="1042"/>
                  </a:cubicBezTo>
                  <a:cubicBezTo>
                    <a:pt x="405" y="1042"/>
                    <a:pt x="405" y="1042"/>
                    <a:pt x="405" y="1042"/>
                  </a:cubicBezTo>
                  <a:cubicBezTo>
                    <a:pt x="403" y="1043"/>
                    <a:pt x="401" y="1044"/>
                    <a:pt x="400" y="1045"/>
                  </a:cubicBezTo>
                  <a:cubicBezTo>
                    <a:pt x="400" y="1045"/>
                    <a:pt x="400" y="1045"/>
                    <a:pt x="400" y="1045"/>
                  </a:cubicBezTo>
                  <a:cubicBezTo>
                    <a:pt x="398" y="1046"/>
                    <a:pt x="396" y="1047"/>
                    <a:pt x="394" y="1048"/>
                  </a:cubicBezTo>
                  <a:cubicBezTo>
                    <a:pt x="394" y="1048"/>
                    <a:pt x="394" y="1048"/>
                    <a:pt x="394" y="1048"/>
                  </a:cubicBezTo>
                  <a:cubicBezTo>
                    <a:pt x="393" y="1050"/>
                    <a:pt x="391" y="1051"/>
                    <a:pt x="389" y="1052"/>
                  </a:cubicBezTo>
                  <a:cubicBezTo>
                    <a:pt x="389" y="1052"/>
                    <a:pt x="389" y="1052"/>
                    <a:pt x="389" y="1052"/>
                  </a:cubicBezTo>
                  <a:cubicBezTo>
                    <a:pt x="385" y="1054"/>
                    <a:pt x="382" y="1055"/>
                    <a:pt x="378" y="1057"/>
                  </a:cubicBezTo>
                  <a:cubicBezTo>
                    <a:pt x="378" y="1057"/>
                    <a:pt x="378" y="1057"/>
                    <a:pt x="378" y="1057"/>
                  </a:cubicBezTo>
                  <a:cubicBezTo>
                    <a:pt x="305" y="1094"/>
                    <a:pt x="216" y="1094"/>
                    <a:pt x="142" y="1053"/>
                  </a:cubicBezTo>
                  <a:cubicBezTo>
                    <a:pt x="142" y="1053"/>
                    <a:pt x="142" y="1053"/>
                    <a:pt x="142" y="1053"/>
                  </a:cubicBezTo>
                  <a:cubicBezTo>
                    <a:pt x="136" y="1050"/>
                    <a:pt x="131" y="1046"/>
                    <a:pt x="126" y="1043"/>
                  </a:cubicBezTo>
                  <a:cubicBezTo>
                    <a:pt x="126" y="1043"/>
                    <a:pt x="126" y="1043"/>
                    <a:pt x="126" y="1043"/>
                  </a:cubicBezTo>
                  <a:cubicBezTo>
                    <a:pt x="124" y="1042"/>
                    <a:pt x="122" y="1040"/>
                    <a:pt x="120" y="1039"/>
                  </a:cubicBezTo>
                  <a:cubicBezTo>
                    <a:pt x="120" y="1039"/>
                    <a:pt x="120" y="1039"/>
                    <a:pt x="120" y="1039"/>
                  </a:cubicBezTo>
                  <a:cubicBezTo>
                    <a:pt x="119" y="1038"/>
                    <a:pt x="117" y="1037"/>
                    <a:pt x="115" y="1035"/>
                  </a:cubicBezTo>
                  <a:cubicBezTo>
                    <a:pt x="115" y="1035"/>
                    <a:pt x="115" y="1035"/>
                    <a:pt x="115" y="1035"/>
                  </a:cubicBezTo>
                  <a:cubicBezTo>
                    <a:pt x="112" y="1033"/>
                    <a:pt x="108" y="1030"/>
                    <a:pt x="105" y="1028"/>
                  </a:cubicBezTo>
                  <a:cubicBezTo>
                    <a:pt x="105" y="1027"/>
                    <a:pt x="105" y="1027"/>
                    <a:pt x="105" y="1027"/>
                  </a:cubicBezTo>
                  <a:cubicBezTo>
                    <a:pt x="103" y="1026"/>
                    <a:pt x="101" y="1025"/>
                    <a:pt x="100" y="1023"/>
                  </a:cubicBezTo>
                  <a:cubicBezTo>
                    <a:pt x="100" y="1023"/>
                    <a:pt x="100" y="1023"/>
                    <a:pt x="100" y="1023"/>
                  </a:cubicBezTo>
                  <a:cubicBezTo>
                    <a:pt x="96" y="1020"/>
                    <a:pt x="93" y="1018"/>
                    <a:pt x="90" y="1014"/>
                  </a:cubicBezTo>
                  <a:cubicBezTo>
                    <a:pt x="90" y="1014"/>
                    <a:pt x="90" y="1014"/>
                    <a:pt x="90" y="1014"/>
                  </a:cubicBezTo>
                  <a:cubicBezTo>
                    <a:pt x="88" y="1013"/>
                    <a:pt x="87" y="1011"/>
                    <a:pt x="85" y="1010"/>
                  </a:cubicBezTo>
                  <a:cubicBezTo>
                    <a:pt x="85" y="1010"/>
                    <a:pt x="85" y="1010"/>
                    <a:pt x="85" y="1010"/>
                  </a:cubicBezTo>
                  <a:cubicBezTo>
                    <a:pt x="83" y="1008"/>
                    <a:pt x="82" y="1007"/>
                    <a:pt x="80" y="1005"/>
                  </a:cubicBezTo>
                  <a:cubicBezTo>
                    <a:pt x="80" y="1005"/>
                    <a:pt x="80" y="1005"/>
                    <a:pt x="80" y="1005"/>
                  </a:cubicBezTo>
                  <a:cubicBezTo>
                    <a:pt x="77" y="1002"/>
                    <a:pt x="74" y="998"/>
                    <a:pt x="71" y="995"/>
                  </a:cubicBezTo>
                  <a:cubicBezTo>
                    <a:pt x="71" y="995"/>
                    <a:pt x="71" y="995"/>
                    <a:pt x="71" y="995"/>
                  </a:cubicBezTo>
                  <a:cubicBezTo>
                    <a:pt x="70" y="993"/>
                    <a:pt x="69" y="992"/>
                    <a:pt x="67" y="990"/>
                  </a:cubicBezTo>
                  <a:cubicBezTo>
                    <a:pt x="67" y="990"/>
                    <a:pt x="67" y="990"/>
                    <a:pt x="67" y="990"/>
                  </a:cubicBezTo>
                  <a:cubicBezTo>
                    <a:pt x="64" y="987"/>
                    <a:pt x="62" y="983"/>
                    <a:pt x="59" y="980"/>
                  </a:cubicBezTo>
                  <a:cubicBezTo>
                    <a:pt x="59" y="980"/>
                    <a:pt x="59" y="980"/>
                    <a:pt x="59" y="980"/>
                  </a:cubicBezTo>
                  <a:cubicBezTo>
                    <a:pt x="58" y="978"/>
                    <a:pt x="57" y="976"/>
                    <a:pt x="55" y="974"/>
                  </a:cubicBezTo>
                  <a:cubicBezTo>
                    <a:pt x="55" y="974"/>
                    <a:pt x="55" y="974"/>
                    <a:pt x="55" y="974"/>
                  </a:cubicBezTo>
                  <a:cubicBezTo>
                    <a:pt x="54" y="973"/>
                    <a:pt x="53" y="971"/>
                    <a:pt x="52" y="969"/>
                  </a:cubicBezTo>
                  <a:cubicBezTo>
                    <a:pt x="52" y="969"/>
                    <a:pt x="52" y="969"/>
                    <a:pt x="52" y="969"/>
                  </a:cubicBezTo>
                  <a:cubicBezTo>
                    <a:pt x="48" y="964"/>
                    <a:pt x="45" y="958"/>
                    <a:pt x="42" y="953"/>
                  </a:cubicBezTo>
                  <a:cubicBezTo>
                    <a:pt x="42" y="953"/>
                    <a:pt x="42" y="953"/>
                    <a:pt x="42" y="953"/>
                  </a:cubicBezTo>
                  <a:cubicBezTo>
                    <a:pt x="1" y="879"/>
                    <a:pt x="0" y="790"/>
                    <a:pt x="37" y="717"/>
                  </a:cubicBezTo>
                  <a:cubicBezTo>
                    <a:pt x="37" y="717"/>
                    <a:pt x="37" y="717"/>
                    <a:pt x="37" y="717"/>
                  </a:cubicBezTo>
                  <a:cubicBezTo>
                    <a:pt x="39" y="713"/>
                    <a:pt x="41" y="709"/>
                    <a:pt x="43" y="706"/>
                  </a:cubicBezTo>
                  <a:cubicBezTo>
                    <a:pt x="43" y="706"/>
                    <a:pt x="43" y="706"/>
                    <a:pt x="43" y="706"/>
                  </a:cubicBezTo>
                  <a:cubicBezTo>
                    <a:pt x="44" y="704"/>
                    <a:pt x="45" y="702"/>
                    <a:pt x="46" y="700"/>
                  </a:cubicBezTo>
                  <a:cubicBezTo>
                    <a:pt x="46" y="700"/>
                    <a:pt x="46" y="700"/>
                    <a:pt x="46" y="700"/>
                  </a:cubicBezTo>
                  <a:cubicBezTo>
                    <a:pt x="47" y="699"/>
                    <a:pt x="48" y="697"/>
                    <a:pt x="50" y="695"/>
                  </a:cubicBezTo>
                  <a:cubicBezTo>
                    <a:pt x="50" y="695"/>
                    <a:pt x="50" y="695"/>
                    <a:pt x="50" y="695"/>
                  </a:cubicBezTo>
                  <a:cubicBezTo>
                    <a:pt x="51" y="693"/>
                    <a:pt x="52" y="692"/>
                    <a:pt x="53" y="690"/>
                  </a:cubicBezTo>
                  <a:cubicBezTo>
                    <a:pt x="53" y="690"/>
                    <a:pt x="53" y="690"/>
                    <a:pt x="53" y="690"/>
                  </a:cubicBezTo>
                  <a:cubicBezTo>
                    <a:pt x="54" y="688"/>
                    <a:pt x="55" y="686"/>
                    <a:pt x="56" y="685"/>
                  </a:cubicBezTo>
                  <a:cubicBezTo>
                    <a:pt x="56" y="685"/>
                    <a:pt x="56" y="685"/>
                    <a:pt x="56" y="685"/>
                  </a:cubicBezTo>
                  <a:cubicBezTo>
                    <a:pt x="58" y="683"/>
                    <a:pt x="59" y="681"/>
                    <a:pt x="60" y="680"/>
                  </a:cubicBezTo>
                  <a:cubicBezTo>
                    <a:pt x="60" y="680"/>
                    <a:pt x="60" y="680"/>
                    <a:pt x="60" y="680"/>
                  </a:cubicBezTo>
                  <a:cubicBezTo>
                    <a:pt x="61" y="678"/>
                    <a:pt x="63" y="676"/>
                    <a:pt x="64" y="675"/>
                  </a:cubicBezTo>
                  <a:cubicBezTo>
                    <a:pt x="64" y="675"/>
                    <a:pt x="64" y="675"/>
                    <a:pt x="64" y="675"/>
                  </a:cubicBezTo>
                  <a:cubicBezTo>
                    <a:pt x="65" y="673"/>
                    <a:pt x="67" y="671"/>
                    <a:pt x="68" y="670"/>
                  </a:cubicBezTo>
                  <a:cubicBezTo>
                    <a:pt x="68" y="670"/>
                    <a:pt x="68" y="670"/>
                    <a:pt x="68" y="670"/>
                  </a:cubicBezTo>
                  <a:cubicBezTo>
                    <a:pt x="69" y="668"/>
                    <a:pt x="71" y="666"/>
                    <a:pt x="72" y="665"/>
                  </a:cubicBezTo>
                  <a:cubicBezTo>
                    <a:pt x="72" y="665"/>
                    <a:pt x="72" y="665"/>
                    <a:pt x="72" y="665"/>
                  </a:cubicBezTo>
                  <a:cubicBezTo>
                    <a:pt x="73" y="663"/>
                    <a:pt x="75" y="662"/>
                    <a:pt x="76" y="660"/>
                  </a:cubicBezTo>
                  <a:cubicBezTo>
                    <a:pt x="76" y="660"/>
                    <a:pt x="76" y="660"/>
                    <a:pt x="76" y="660"/>
                  </a:cubicBezTo>
                  <a:cubicBezTo>
                    <a:pt x="78" y="658"/>
                    <a:pt x="79" y="657"/>
                    <a:pt x="80" y="655"/>
                  </a:cubicBezTo>
                  <a:cubicBezTo>
                    <a:pt x="80" y="655"/>
                    <a:pt x="80" y="655"/>
                    <a:pt x="80" y="655"/>
                  </a:cubicBezTo>
                  <a:cubicBezTo>
                    <a:pt x="82" y="654"/>
                    <a:pt x="83" y="652"/>
                    <a:pt x="85" y="651"/>
                  </a:cubicBezTo>
                  <a:cubicBezTo>
                    <a:pt x="85" y="651"/>
                    <a:pt x="85" y="651"/>
                    <a:pt x="85" y="651"/>
                  </a:cubicBezTo>
                  <a:cubicBezTo>
                    <a:pt x="85" y="651"/>
                    <a:pt x="85" y="651"/>
                    <a:pt x="85" y="651"/>
                  </a:cubicBezTo>
                  <a:cubicBezTo>
                    <a:pt x="87" y="649"/>
                    <a:pt x="89" y="647"/>
                    <a:pt x="91" y="645"/>
                  </a:cubicBezTo>
                  <a:cubicBezTo>
                    <a:pt x="91" y="644"/>
                    <a:pt x="92" y="644"/>
                    <a:pt x="92" y="643"/>
                  </a:cubicBezTo>
                  <a:cubicBezTo>
                    <a:pt x="94" y="642"/>
                    <a:pt x="95" y="641"/>
                    <a:pt x="96" y="640"/>
                  </a:cubicBezTo>
                  <a:cubicBezTo>
                    <a:pt x="163" y="580"/>
                    <a:pt x="236" y="577"/>
                    <a:pt x="315" y="547"/>
                  </a:cubicBezTo>
                  <a:close/>
                </a:path>
              </a:pathLst>
            </a:custGeom>
            <a:solidFill>
              <a:srgbClr val="0089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5" name="Oval 19"/>
            <p:cNvSpPr/>
            <p:nvPr/>
          </p:nvSpPr>
          <p:spPr>
            <a:xfrm>
              <a:off x="6345000" y="4633920"/>
              <a:ext cx="611280" cy="61128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6" name="Freeform 20"/>
            <p:cNvSpPr/>
            <p:nvPr/>
          </p:nvSpPr>
          <p:spPr>
            <a:xfrm>
              <a:off x="7104240" y="3819600"/>
              <a:ext cx="671400" cy="669960"/>
            </a:xfrm>
            <a:custGeom>
              <a:avLst/>
              <a:gdLst/>
              <a:ahLst/>
              <a:rect l="l" t="t" r="r" b="b"/>
              <a:pathLst>
                <a:path w="483" h="483">
                  <a:moveTo>
                    <a:pt x="397" y="86"/>
                  </a:moveTo>
                  <a:cubicBezTo>
                    <a:pt x="311" y="0"/>
                    <a:pt x="172" y="0"/>
                    <a:pt x="86" y="86"/>
                  </a:cubicBezTo>
                  <a:cubicBezTo>
                    <a:pt x="0" y="172"/>
                    <a:pt x="0" y="311"/>
                    <a:pt x="86" y="397"/>
                  </a:cubicBezTo>
                  <a:cubicBezTo>
                    <a:pt x="172" y="483"/>
                    <a:pt x="311" y="483"/>
                    <a:pt x="397" y="397"/>
                  </a:cubicBezTo>
                  <a:cubicBezTo>
                    <a:pt x="483" y="311"/>
                    <a:pt x="483" y="172"/>
                    <a:pt x="397" y="86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7" name="Shape 2588"/>
            <p:cNvSpPr/>
            <p:nvPr/>
          </p:nvSpPr>
          <p:spPr>
            <a:xfrm>
              <a:off x="7311960" y="4019760"/>
              <a:ext cx="279360" cy="253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82" y="12420"/>
                  </a:moveTo>
                  <a:cubicBezTo>
                    <a:pt x="16368" y="12420"/>
                    <a:pt x="15709" y="11694"/>
                    <a:pt x="15709" y="10800"/>
                  </a:cubicBezTo>
                  <a:cubicBezTo>
                    <a:pt x="15709" y="9906"/>
                    <a:pt x="16368" y="9180"/>
                    <a:pt x="17182" y="9180"/>
                  </a:cubicBezTo>
                  <a:cubicBezTo>
                    <a:pt x="17995" y="9180"/>
                    <a:pt x="18655" y="9906"/>
                    <a:pt x="18655" y="10800"/>
                  </a:cubicBezTo>
                  <a:cubicBezTo>
                    <a:pt x="18655" y="11694"/>
                    <a:pt x="17995" y="12420"/>
                    <a:pt x="17182" y="12420"/>
                  </a:cubicBezTo>
                  <a:moveTo>
                    <a:pt x="21109" y="10260"/>
                  </a:moveTo>
                  <a:lnTo>
                    <a:pt x="19587" y="10260"/>
                  </a:lnTo>
                  <a:cubicBezTo>
                    <a:pt x="19360" y="9028"/>
                    <a:pt x="18369" y="8100"/>
                    <a:pt x="17182" y="8100"/>
                  </a:cubicBezTo>
                  <a:cubicBezTo>
                    <a:pt x="15994" y="8100"/>
                    <a:pt x="15004" y="9028"/>
                    <a:pt x="14777" y="10260"/>
                  </a:cubicBezTo>
                  <a:lnTo>
                    <a:pt x="491" y="10260"/>
                  </a:lnTo>
                  <a:cubicBezTo>
                    <a:pt x="220" y="10260"/>
                    <a:pt x="0" y="10502"/>
                    <a:pt x="0" y="10800"/>
                  </a:cubicBezTo>
                  <a:cubicBezTo>
                    <a:pt x="0" y="11098"/>
                    <a:pt x="220" y="11340"/>
                    <a:pt x="491" y="11340"/>
                  </a:cubicBezTo>
                  <a:lnTo>
                    <a:pt x="14777" y="11340"/>
                  </a:lnTo>
                  <a:cubicBezTo>
                    <a:pt x="15004" y="12572"/>
                    <a:pt x="15994" y="13500"/>
                    <a:pt x="17182" y="13500"/>
                  </a:cubicBezTo>
                  <a:cubicBezTo>
                    <a:pt x="18369" y="13500"/>
                    <a:pt x="19360" y="12572"/>
                    <a:pt x="19587" y="11340"/>
                  </a:cubicBezTo>
                  <a:lnTo>
                    <a:pt x="21109" y="11340"/>
                  </a:lnTo>
                  <a:cubicBezTo>
                    <a:pt x="21380" y="11340"/>
                    <a:pt x="21600" y="11098"/>
                    <a:pt x="21600" y="10800"/>
                  </a:cubicBezTo>
                  <a:cubicBezTo>
                    <a:pt x="21600" y="10502"/>
                    <a:pt x="21380" y="10260"/>
                    <a:pt x="21109" y="10260"/>
                  </a:cubicBezTo>
                  <a:moveTo>
                    <a:pt x="5400" y="1080"/>
                  </a:moveTo>
                  <a:cubicBezTo>
                    <a:pt x="6214" y="1080"/>
                    <a:pt x="6873" y="1806"/>
                    <a:pt x="6873" y="2700"/>
                  </a:cubicBezTo>
                  <a:cubicBezTo>
                    <a:pt x="6873" y="3595"/>
                    <a:pt x="6214" y="4320"/>
                    <a:pt x="5400" y="4320"/>
                  </a:cubicBezTo>
                  <a:cubicBezTo>
                    <a:pt x="4586" y="4320"/>
                    <a:pt x="3927" y="3595"/>
                    <a:pt x="3927" y="2700"/>
                  </a:cubicBezTo>
                  <a:cubicBezTo>
                    <a:pt x="3927" y="1806"/>
                    <a:pt x="4586" y="1080"/>
                    <a:pt x="5400" y="1080"/>
                  </a:cubicBezTo>
                  <a:moveTo>
                    <a:pt x="491" y="3240"/>
                  </a:moveTo>
                  <a:lnTo>
                    <a:pt x="2995" y="3240"/>
                  </a:lnTo>
                  <a:cubicBezTo>
                    <a:pt x="3222" y="4472"/>
                    <a:pt x="4213" y="5400"/>
                    <a:pt x="5400" y="5400"/>
                  </a:cubicBezTo>
                  <a:cubicBezTo>
                    <a:pt x="6587" y="5400"/>
                    <a:pt x="7578" y="4472"/>
                    <a:pt x="7805" y="3240"/>
                  </a:cubicBezTo>
                  <a:lnTo>
                    <a:pt x="21109" y="3240"/>
                  </a:lnTo>
                  <a:cubicBezTo>
                    <a:pt x="21380" y="3240"/>
                    <a:pt x="21600" y="2999"/>
                    <a:pt x="21600" y="2700"/>
                  </a:cubicBezTo>
                  <a:cubicBezTo>
                    <a:pt x="21600" y="2402"/>
                    <a:pt x="21380" y="2160"/>
                    <a:pt x="21109" y="2160"/>
                  </a:cubicBezTo>
                  <a:lnTo>
                    <a:pt x="7805" y="2160"/>
                  </a:lnTo>
                  <a:cubicBezTo>
                    <a:pt x="7578" y="928"/>
                    <a:pt x="6587" y="0"/>
                    <a:pt x="5400" y="0"/>
                  </a:cubicBezTo>
                  <a:cubicBezTo>
                    <a:pt x="4213" y="0"/>
                    <a:pt x="3222" y="928"/>
                    <a:pt x="2995" y="2160"/>
                  </a:cubicBezTo>
                  <a:lnTo>
                    <a:pt x="491" y="2160"/>
                  </a:lnTo>
                  <a:cubicBezTo>
                    <a:pt x="220" y="2160"/>
                    <a:pt x="0" y="2402"/>
                    <a:pt x="0" y="2700"/>
                  </a:cubicBezTo>
                  <a:cubicBezTo>
                    <a:pt x="0" y="2999"/>
                    <a:pt x="220" y="3240"/>
                    <a:pt x="491" y="3240"/>
                  </a:cubicBezTo>
                  <a:moveTo>
                    <a:pt x="9327" y="20519"/>
                  </a:moveTo>
                  <a:cubicBezTo>
                    <a:pt x="8514" y="20519"/>
                    <a:pt x="7855" y="19794"/>
                    <a:pt x="7855" y="18899"/>
                  </a:cubicBezTo>
                  <a:cubicBezTo>
                    <a:pt x="7855" y="18005"/>
                    <a:pt x="8514" y="17279"/>
                    <a:pt x="9327" y="17279"/>
                  </a:cubicBezTo>
                  <a:cubicBezTo>
                    <a:pt x="10141" y="17279"/>
                    <a:pt x="10800" y="18005"/>
                    <a:pt x="10800" y="18899"/>
                  </a:cubicBezTo>
                  <a:cubicBezTo>
                    <a:pt x="10800" y="19794"/>
                    <a:pt x="10141" y="20519"/>
                    <a:pt x="9327" y="20519"/>
                  </a:cubicBezTo>
                  <a:moveTo>
                    <a:pt x="21109" y="18359"/>
                  </a:moveTo>
                  <a:lnTo>
                    <a:pt x="11732" y="18359"/>
                  </a:lnTo>
                  <a:cubicBezTo>
                    <a:pt x="11505" y="17127"/>
                    <a:pt x="10515" y="16199"/>
                    <a:pt x="9327" y="16199"/>
                  </a:cubicBezTo>
                  <a:cubicBezTo>
                    <a:pt x="8140" y="16199"/>
                    <a:pt x="7150" y="17127"/>
                    <a:pt x="6922" y="18359"/>
                  </a:cubicBezTo>
                  <a:lnTo>
                    <a:pt x="491" y="18359"/>
                  </a:lnTo>
                  <a:cubicBezTo>
                    <a:pt x="220" y="18359"/>
                    <a:pt x="0" y="18601"/>
                    <a:pt x="0" y="18899"/>
                  </a:cubicBezTo>
                  <a:cubicBezTo>
                    <a:pt x="0" y="19198"/>
                    <a:pt x="220" y="19439"/>
                    <a:pt x="491" y="19439"/>
                  </a:cubicBezTo>
                  <a:lnTo>
                    <a:pt x="6922" y="19439"/>
                  </a:lnTo>
                  <a:cubicBezTo>
                    <a:pt x="7150" y="20672"/>
                    <a:pt x="8140" y="21600"/>
                    <a:pt x="9327" y="21600"/>
                  </a:cubicBezTo>
                  <a:cubicBezTo>
                    <a:pt x="10515" y="21600"/>
                    <a:pt x="11505" y="20672"/>
                    <a:pt x="11732" y="19439"/>
                  </a:cubicBezTo>
                  <a:lnTo>
                    <a:pt x="21109" y="19439"/>
                  </a:lnTo>
                  <a:cubicBezTo>
                    <a:pt x="21380" y="19439"/>
                    <a:pt x="21600" y="19198"/>
                    <a:pt x="21600" y="18899"/>
                  </a:cubicBezTo>
                  <a:cubicBezTo>
                    <a:pt x="21600" y="18601"/>
                    <a:pt x="21380" y="18359"/>
                    <a:pt x="21109" y="18359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18" name="Shape 2604"/>
            <p:cNvSpPr/>
            <p:nvPr/>
          </p:nvSpPr>
          <p:spPr>
            <a:xfrm>
              <a:off x="6510960" y="4844520"/>
              <a:ext cx="279360" cy="22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9600"/>
                  </a:moveTo>
                  <a:lnTo>
                    <a:pt x="17673" y="9600"/>
                  </a:lnTo>
                  <a:lnTo>
                    <a:pt x="17673" y="8400"/>
                  </a:lnTo>
                  <a:cubicBezTo>
                    <a:pt x="17673" y="7738"/>
                    <a:pt x="17233" y="7200"/>
                    <a:pt x="16691" y="7200"/>
                  </a:cubicBezTo>
                  <a:lnTo>
                    <a:pt x="14727" y="7200"/>
                  </a:lnTo>
                  <a:cubicBezTo>
                    <a:pt x="14186" y="7200"/>
                    <a:pt x="13745" y="7738"/>
                    <a:pt x="13745" y="8400"/>
                  </a:cubicBezTo>
                  <a:lnTo>
                    <a:pt x="13745" y="9600"/>
                  </a:lnTo>
                  <a:lnTo>
                    <a:pt x="7855" y="9600"/>
                  </a:lnTo>
                  <a:lnTo>
                    <a:pt x="7855" y="8400"/>
                  </a:lnTo>
                  <a:cubicBezTo>
                    <a:pt x="7855" y="7738"/>
                    <a:pt x="7414" y="7200"/>
                    <a:pt x="6873" y="7200"/>
                  </a:cubicBezTo>
                  <a:lnTo>
                    <a:pt x="4909" y="7200"/>
                  </a:lnTo>
                  <a:cubicBezTo>
                    <a:pt x="4367" y="7200"/>
                    <a:pt x="3927" y="7738"/>
                    <a:pt x="3927" y="8400"/>
                  </a:cubicBezTo>
                  <a:lnTo>
                    <a:pt x="3927" y="9600"/>
                  </a:lnTo>
                  <a:lnTo>
                    <a:pt x="982" y="9600"/>
                  </a:lnTo>
                  <a:lnTo>
                    <a:pt x="982" y="3601"/>
                  </a:lnTo>
                  <a:lnTo>
                    <a:pt x="20618" y="3601"/>
                  </a:lnTo>
                  <a:cubicBezTo>
                    <a:pt x="20618" y="3601"/>
                    <a:pt x="20618" y="9600"/>
                    <a:pt x="20618" y="9600"/>
                  </a:cubicBezTo>
                  <a:close/>
                  <a:moveTo>
                    <a:pt x="14727" y="8400"/>
                  </a:moveTo>
                  <a:lnTo>
                    <a:pt x="16691" y="8400"/>
                  </a:lnTo>
                  <a:lnTo>
                    <a:pt x="16691" y="12001"/>
                  </a:lnTo>
                  <a:lnTo>
                    <a:pt x="14727" y="12001"/>
                  </a:lnTo>
                  <a:cubicBezTo>
                    <a:pt x="14727" y="12001"/>
                    <a:pt x="14727" y="8400"/>
                    <a:pt x="14727" y="8400"/>
                  </a:cubicBezTo>
                  <a:close/>
                  <a:moveTo>
                    <a:pt x="4909" y="8400"/>
                  </a:moveTo>
                  <a:lnTo>
                    <a:pt x="6873" y="8400"/>
                  </a:lnTo>
                  <a:lnTo>
                    <a:pt x="6873" y="12001"/>
                  </a:lnTo>
                  <a:lnTo>
                    <a:pt x="4909" y="12001"/>
                  </a:lnTo>
                  <a:cubicBezTo>
                    <a:pt x="4909" y="12001"/>
                    <a:pt x="4909" y="8400"/>
                    <a:pt x="4909" y="8400"/>
                  </a:cubicBezTo>
                  <a:close/>
                  <a:moveTo>
                    <a:pt x="19636" y="20400"/>
                  </a:moveTo>
                  <a:lnTo>
                    <a:pt x="1964" y="20400"/>
                  </a:lnTo>
                  <a:lnTo>
                    <a:pt x="1964" y="10800"/>
                  </a:lnTo>
                  <a:lnTo>
                    <a:pt x="3927" y="10800"/>
                  </a:lnTo>
                  <a:lnTo>
                    <a:pt x="3927" y="12001"/>
                  </a:lnTo>
                  <a:cubicBezTo>
                    <a:pt x="3927" y="12662"/>
                    <a:pt x="4367" y="13200"/>
                    <a:pt x="4909" y="13200"/>
                  </a:cubicBezTo>
                  <a:lnTo>
                    <a:pt x="6873" y="13200"/>
                  </a:lnTo>
                  <a:cubicBezTo>
                    <a:pt x="7414" y="13200"/>
                    <a:pt x="7855" y="12662"/>
                    <a:pt x="7855" y="12001"/>
                  </a:cubicBezTo>
                  <a:lnTo>
                    <a:pt x="7855" y="10800"/>
                  </a:lnTo>
                  <a:lnTo>
                    <a:pt x="13745" y="10800"/>
                  </a:lnTo>
                  <a:lnTo>
                    <a:pt x="13745" y="12001"/>
                  </a:lnTo>
                  <a:cubicBezTo>
                    <a:pt x="13745" y="12662"/>
                    <a:pt x="14186" y="13200"/>
                    <a:pt x="14727" y="13200"/>
                  </a:cubicBezTo>
                  <a:lnTo>
                    <a:pt x="16691" y="13200"/>
                  </a:lnTo>
                  <a:cubicBezTo>
                    <a:pt x="17233" y="13200"/>
                    <a:pt x="17673" y="12662"/>
                    <a:pt x="17673" y="12001"/>
                  </a:cubicBezTo>
                  <a:lnTo>
                    <a:pt x="17673" y="10800"/>
                  </a:lnTo>
                  <a:lnTo>
                    <a:pt x="19636" y="10800"/>
                  </a:lnTo>
                  <a:cubicBezTo>
                    <a:pt x="19636" y="10800"/>
                    <a:pt x="19636" y="20400"/>
                    <a:pt x="19636" y="20400"/>
                  </a:cubicBezTo>
                  <a:close/>
                  <a:moveTo>
                    <a:pt x="8836" y="1200"/>
                  </a:moveTo>
                  <a:lnTo>
                    <a:pt x="12764" y="1200"/>
                  </a:lnTo>
                  <a:cubicBezTo>
                    <a:pt x="13305" y="1200"/>
                    <a:pt x="13745" y="1738"/>
                    <a:pt x="13745" y="2400"/>
                  </a:cubicBezTo>
                  <a:lnTo>
                    <a:pt x="7855" y="2400"/>
                  </a:lnTo>
                  <a:cubicBezTo>
                    <a:pt x="7855" y="1738"/>
                    <a:pt x="8295" y="1200"/>
                    <a:pt x="8836" y="1200"/>
                  </a:cubicBezTo>
                  <a:moveTo>
                    <a:pt x="20618" y="2400"/>
                  </a:moveTo>
                  <a:lnTo>
                    <a:pt x="14727" y="2400"/>
                  </a:lnTo>
                  <a:cubicBezTo>
                    <a:pt x="14727" y="1075"/>
                    <a:pt x="13848" y="0"/>
                    <a:pt x="12764" y="0"/>
                  </a:cubicBezTo>
                  <a:lnTo>
                    <a:pt x="8836" y="0"/>
                  </a:lnTo>
                  <a:cubicBezTo>
                    <a:pt x="7752" y="0"/>
                    <a:pt x="6873" y="1075"/>
                    <a:pt x="6873" y="2400"/>
                  </a:cubicBezTo>
                  <a:lnTo>
                    <a:pt x="982" y="2400"/>
                  </a:lnTo>
                  <a:cubicBezTo>
                    <a:pt x="440" y="2400"/>
                    <a:pt x="0" y="2938"/>
                    <a:pt x="0" y="3601"/>
                  </a:cubicBezTo>
                  <a:lnTo>
                    <a:pt x="0" y="9600"/>
                  </a:lnTo>
                  <a:cubicBezTo>
                    <a:pt x="0" y="10262"/>
                    <a:pt x="440" y="10800"/>
                    <a:pt x="982" y="10800"/>
                  </a:cubicBezTo>
                  <a:lnTo>
                    <a:pt x="982" y="20400"/>
                  </a:lnTo>
                  <a:cubicBezTo>
                    <a:pt x="982" y="21062"/>
                    <a:pt x="1422" y="21600"/>
                    <a:pt x="1964" y="21600"/>
                  </a:cubicBezTo>
                  <a:lnTo>
                    <a:pt x="19636" y="21600"/>
                  </a:lnTo>
                  <a:cubicBezTo>
                    <a:pt x="20178" y="21600"/>
                    <a:pt x="20618" y="21062"/>
                    <a:pt x="20618" y="20400"/>
                  </a:cubicBezTo>
                  <a:lnTo>
                    <a:pt x="20618" y="10800"/>
                  </a:lnTo>
                  <a:cubicBezTo>
                    <a:pt x="21160" y="10800"/>
                    <a:pt x="21600" y="10262"/>
                    <a:pt x="21600" y="9600"/>
                  </a:cubicBezTo>
                  <a:lnTo>
                    <a:pt x="21600" y="3601"/>
                  </a:lnTo>
                  <a:cubicBezTo>
                    <a:pt x="21600" y="2938"/>
                    <a:pt x="21160" y="2400"/>
                    <a:pt x="20618" y="2400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19" name="Group 34"/>
          <p:cNvGrpSpPr/>
          <p:nvPr/>
        </p:nvGrpSpPr>
        <p:grpSpPr>
          <a:xfrm>
            <a:off x="5310360" y="3230640"/>
            <a:ext cx="1834920" cy="549360"/>
            <a:chOff x="5310360" y="3230640"/>
            <a:chExt cx="1834920" cy="549360"/>
          </a:xfrm>
        </p:grpSpPr>
        <p:sp>
          <p:nvSpPr>
            <p:cNvPr id="1120" name="Text Placeholder 33"/>
            <p:cNvSpPr/>
            <p:nvPr/>
          </p:nvSpPr>
          <p:spPr>
            <a:xfrm>
              <a:off x="5974560" y="3347280"/>
              <a:ext cx="117072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900" spc="-1" strike="noStrike">
                  <a:solidFill>
                    <a:srgbClr val="26a69a"/>
                  </a:solidFill>
                  <a:latin typeface="Source Sans Pro Light"/>
                </a:rPr>
                <a:t>Synth chartreuse XOXO, tacos brooklyn VHS.</a:t>
              </a:r>
              <a:endParaRPr b="0" lang="en-US" sz="9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21" name="Oval 36"/>
            <p:cNvSpPr/>
            <p:nvPr/>
          </p:nvSpPr>
          <p:spPr>
            <a:xfrm>
              <a:off x="5310360" y="3230640"/>
              <a:ext cx="548280" cy="549360"/>
            </a:xfrm>
            <a:prstGeom prst="ellipse">
              <a:avLst/>
            </a:prstGeom>
            <a:solidFill>
              <a:srgbClr val="26a6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22" name="Shape 2540"/>
            <p:cNvSpPr/>
            <p:nvPr/>
          </p:nvSpPr>
          <p:spPr>
            <a:xfrm>
              <a:off x="5439240" y="336132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32" y="6661"/>
                  </a:moveTo>
                  <a:cubicBezTo>
                    <a:pt x="20540" y="6471"/>
                    <a:pt x="20228" y="6473"/>
                    <a:pt x="20038" y="6667"/>
                  </a:cubicBezTo>
                  <a:cubicBezTo>
                    <a:pt x="19903" y="6804"/>
                    <a:pt x="19870" y="7000"/>
                    <a:pt x="19929" y="7171"/>
                  </a:cubicBezTo>
                  <a:lnTo>
                    <a:pt x="19918" y="7175"/>
                  </a:lnTo>
                  <a:cubicBezTo>
                    <a:pt x="20365" y="8298"/>
                    <a:pt x="20618" y="9518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cubicBezTo>
                    <a:pt x="5378" y="20618"/>
                    <a:pt x="982" y="16223"/>
                    <a:pt x="982" y="10800"/>
                  </a:cubicBezTo>
                  <a:cubicBezTo>
                    <a:pt x="982" y="5377"/>
                    <a:pt x="5378" y="982"/>
                    <a:pt x="10800" y="982"/>
                  </a:cubicBezTo>
                  <a:cubicBezTo>
                    <a:pt x="13575" y="982"/>
                    <a:pt x="16077" y="2136"/>
                    <a:pt x="17862" y="3989"/>
                  </a:cubicBezTo>
                  <a:lnTo>
                    <a:pt x="17868" y="3982"/>
                  </a:lnTo>
                  <a:cubicBezTo>
                    <a:pt x="18062" y="4157"/>
                    <a:pt x="18359" y="4153"/>
                    <a:pt x="18544" y="3965"/>
                  </a:cubicBezTo>
                  <a:cubicBezTo>
                    <a:pt x="18734" y="3771"/>
                    <a:pt x="18732" y="3461"/>
                    <a:pt x="18539" y="3270"/>
                  </a:cubicBezTo>
                  <a:cubicBezTo>
                    <a:pt x="18520" y="3252"/>
                    <a:pt x="18496" y="3244"/>
                    <a:pt x="18476" y="3230"/>
                  </a:cubicBezTo>
                  <a:cubicBezTo>
                    <a:pt x="16521" y="1241"/>
                    <a:pt x="13810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9412"/>
                    <a:pt x="21329" y="8089"/>
                    <a:pt x="20851" y="6869"/>
                  </a:cubicBezTo>
                  <a:cubicBezTo>
                    <a:pt x="20828" y="6794"/>
                    <a:pt x="20793" y="6721"/>
                    <a:pt x="20732" y="6661"/>
                  </a:cubicBezTo>
                  <a:moveTo>
                    <a:pt x="10792" y="13534"/>
                  </a:moveTo>
                  <a:lnTo>
                    <a:pt x="6238" y="8980"/>
                  </a:lnTo>
                  <a:cubicBezTo>
                    <a:pt x="6149" y="8891"/>
                    <a:pt x="6027" y="8836"/>
                    <a:pt x="5891" y="8836"/>
                  </a:cubicBezTo>
                  <a:cubicBezTo>
                    <a:pt x="5620" y="8836"/>
                    <a:pt x="5400" y="9056"/>
                    <a:pt x="5400" y="9327"/>
                  </a:cubicBezTo>
                  <a:cubicBezTo>
                    <a:pt x="5400" y="9463"/>
                    <a:pt x="5455" y="9585"/>
                    <a:pt x="5544" y="9675"/>
                  </a:cubicBezTo>
                  <a:lnTo>
                    <a:pt x="10453" y="14583"/>
                  </a:lnTo>
                  <a:cubicBezTo>
                    <a:pt x="10542" y="14672"/>
                    <a:pt x="10664" y="14727"/>
                    <a:pt x="10800" y="14727"/>
                  </a:cubicBezTo>
                  <a:cubicBezTo>
                    <a:pt x="10940" y="14727"/>
                    <a:pt x="11064" y="14668"/>
                    <a:pt x="11154" y="14574"/>
                  </a:cubicBezTo>
                  <a:lnTo>
                    <a:pt x="11155" y="14576"/>
                  </a:lnTo>
                  <a:lnTo>
                    <a:pt x="19353" y="5988"/>
                  </a:lnTo>
                  <a:cubicBezTo>
                    <a:pt x="19353" y="5989"/>
                    <a:pt x="19354" y="5990"/>
                    <a:pt x="19354" y="5991"/>
                  </a:cubicBezTo>
                  <a:lnTo>
                    <a:pt x="20055" y="5255"/>
                  </a:lnTo>
                  <a:cubicBezTo>
                    <a:pt x="20055" y="5255"/>
                    <a:pt x="20054" y="5254"/>
                    <a:pt x="20054" y="5253"/>
                  </a:cubicBezTo>
                  <a:lnTo>
                    <a:pt x="21464" y="3775"/>
                  </a:lnTo>
                  <a:lnTo>
                    <a:pt x="21463" y="3774"/>
                  </a:lnTo>
                  <a:cubicBezTo>
                    <a:pt x="21547" y="3686"/>
                    <a:pt x="21600" y="3567"/>
                    <a:pt x="21600" y="3436"/>
                  </a:cubicBezTo>
                  <a:cubicBezTo>
                    <a:pt x="21600" y="3166"/>
                    <a:pt x="21380" y="2945"/>
                    <a:pt x="21109" y="2945"/>
                  </a:cubicBezTo>
                  <a:cubicBezTo>
                    <a:pt x="20969" y="2945"/>
                    <a:pt x="20844" y="3005"/>
                    <a:pt x="20755" y="3099"/>
                  </a:cubicBezTo>
                  <a:lnTo>
                    <a:pt x="20754" y="3097"/>
                  </a:lnTo>
                  <a:lnTo>
                    <a:pt x="19493" y="4419"/>
                  </a:lnTo>
                  <a:cubicBezTo>
                    <a:pt x="19492" y="4418"/>
                    <a:pt x="19491" y="4416"/>
                    <a:pt x="19490" y="4415"/>
                  </a:cubicBezTo>
                  <a:lnTo>
                    <a:pt x="18805" y="5133"/>
                  </a:lnTo>
                  <a:cubicBezTo>
                    <a:pt x="18806" y="5134"/>
                    <a:pt x="18807" y="5136"/>
                    <a:pt x="18807" y="5137"/>
                  </a:cubicBezTo>
                  <a:cubicBezTo>
                    <a:pt x="18807" y="5137"/>
                    <a:pt x="10792" y="13534"/>
                    <a:pt x="10792" y="135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23" name="Group 38"/>
          <p:cNvGrpSpPr/>
          <p:nvPr/>
        </p:nvGrpSpPr>
        <p:grpSpPr>
          <a:xfrm>
            <a:off x="1263600" y="1746360"/>
            <a:ext cx="2198880" cy="805680"/>
            <a:chOff x="1263600" y="1746360"/>
            <a:chExt cx="2198880" cy="805680"/>
          </a:xfrm>
        </p:grpSpPr>
        <p:sp>
          <p:nvSpPr>
            <p:cNvPr id="1124" name="Rectangle 39"/>
            <p:cNvSpPr/>
            <p:nvPr/>
          </p:nvSpPr>
          <p:spPr>
            <a:xfrm>
              <a:off x="1609560" y="174636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25" name="Shape 2778"/>
            <p:cNvSpPr/>
            <p:nvPr/>
          </p:nvSpPr>
          <p:spPr>
            <a:xfrm>
              <a:off x="1263600" y="190224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26" name="Group 41"/>
          <p:cNvGrpSpPr/>
          <p:nvPr/>
        </p:nvGrpSpPr>
        <p:grpSpPr>
          <a:xfrm>
            <a:off x="1252440" y="3686040"/>
            <a:ext cx="2200320" cy="805680"/>
            <a:chOff x="1252440" y="3686040"/>
            <a:chExt cx="2200320" cy="805680"/>
          </a:xfrm>
        </p:grpSpPr>
        <p:sp>
          <p:nvSpPr>
            <p:cNvPr id="1127" name="Rectangle 42"/>
            <p:cNvSpPr/>
            <p:nvPr/>
          </p:nvSpPr>
          <p:spPr>
            <a:xfrm>
              <a:off x="1599840" y="368604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28" name="Shape 2748"/>
            <p:cNvSpPr/>
            <p:nvPr/>
          </p:nvSpPr>
          <p:spPr>
            <a:xfrm>
              <a:off x="1252440" y="381312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29" name="Group 44"/>
          <p:cNvGrpSpPr/>
          <p:nvPr/>
        </p:nvGrpSpPr>
        <p:grpSpPr>
          <a:xfrm>
            <a:off x="1263600" y="2716200"/>
            <a:ext cx="2127240" cy="805680"/>
            <a:chOff x="1263600" y="2716200"/>
            <a:chExt cx="2127240" cy="805680"/>
          </a:xfrm>
        </p:grpSpPr>
        <p:sp>
          <p:nvSpPr>
            <p:cNvPr id="1130" name="Rectangle 45"/>
            <p:cNvSpPr/>
            <p:nvPr/>
          </p:nvSpPr>
          <p:spPr>
            <a:xfrm>
              <a:off x="1612440" y="2716200"/>
              <a:ext cx="177840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31" name="Shape 2774"/>
            <p:cNvSpPr/>
            <p:nvPr/>
          </p:nvSpPr>
          <p:spPr>
            <a:xfrm>
              <a:off x="1263600" y="286308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32" name="Group 47"/>
          <p:cNvGrpSpPr/>
          <p:nvPr/>
        </p:nvGrpSpPr>
        <p:grpSpPr>
          <a:xfrm>
            <a:off x="1263600" y="4592520"/>
            <a:ext cx="2200320" cy="805680"/>
            <a:chOff x="1263600" y="4592520"/>
            <a:chExt cx="2200320" cy="805680"/>
          </a:xfrm>
        </p:grpSpPr>
        <p:sp>
          <p:nvSpPr>
            <p:cNvPr id="1133" name="Rectangle 48"/>
            <p:cNvSpPr/>
            <p:nvPr/>
          </p:nvSpPr>
          <p:spPr>
            <a:xfrm>
              <a:off x="1611000" y="459252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34" name="Shape 2784"/>
            <p:cNvSpPr/>
            <p:nvPr/>
          </p:nvSpPr>
          <p:spPr>
            <a:xfrm>
              <a:off x="1263600" y="47451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35" name="Group 50"/>
          <p:cNvGrpSpPr/>
          <p:nvPr/>
        </p:nvGrpSpPr>
        <p:grpSpPr>
          <a:xfrm>
            <a:off x="8763120" y="1739880"/>
            <a:ext cx="2352600" cy="805680"/>
            <a:chOff x="8763120" y="1739880"/>
            <a:chExt cx="2352600" cy="805680"/>
          </a:xfrm>
        </p:grpSpPr>
        <p:sp>
          <p:nvSpPr>
            <p:cNvPr id="1136" name="Rectangle 51"/>
            <p:cNvSpPr/>
            <p:nvPr/>
          </p:nvSpPr>
          <p:spPr>
            <a:xfrm>
              <a:off x="9135360" y="1739880"/>
              <a:ext cx="198036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37" name="Shape 2554"/>
            <p:cNvSpPr/>
            <p:nvPr/>
          </p:nvSpPr>
          <p:spPr>
            <a:xfrm>
              <a:off x="8763120" y="1872000"/>
              <a:ext cx="279360" cy="254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855" y="18900"/>
                  </a:moveTo>
                  <a:cubicBezTo>
                    <a:pt x="7279" y="18900"/>
                    <a:pt x="6684" y="18827"/>
                    <a:pt x="6086" y="18683"/>
                  </a:cubicBezTo>
                  <a:cubicBezTo>
                    <a:pt x="6017" y="18666"/>
                    <a:pt x="5946" y="18658"/>
                    <a:pt x="5876" y="18658"/>
                  </a:cubicBezTo>
                  <a:cubicBezTo>
                    <a:pt x="5756" y="18658"/>
                    <a:pt x="5636" y="18682"/>
                    <a:pt x="5523" y="18729"/>
                  </a:cubicBezTo>
                  <a:lnTo>
                    <a:pt x="2957" y="19815"/>
                  </a:lnTo>
                  <a:lnTo>
                    <a:pt x="3365" y="18243"/>
                  </a:lnTo>
                  <a:cubicBezTo>
                    <a:pt x="3474" y="17827"/>
                    <a:pt x="3345" y="17380"/>
                    <a:pt x="3039" y="17108"/>
                  </a:cubicBezTo>
                  <a:cubicBezTo>
                    <a:pt x="1712" y="15926"/>
                    <a:pt x="982" y="14358"/>
                    <a:pt x="982" y="12690"/>
                  </a:cubicBezTo>
                  <a:cubicBezTo>
                    <a:pt x="982" y="9266"/>
                    <a:pt x="4065" y="6480"/>
                    <a:pt x="7855" y="6480"/>
                  </a:cubicBezTo>
                  <a:cubicBezTo>
                    <a:pt x="11644" y="6480"/>
                    <a:pt x="14727" y="9266"/>
                    <a:pt x="14727" y="12690"/>
                  </a:cubicBezTo>
                  <a:cubicBezTo>
                    <a:pt x="14727" y="16114"/>
                    <a:pt x="11644" y="18900"/>
                    <a:pt x="7855" y="18900"/>
                  </a:cubicBezTo>
                  <a:moveTo>
                    <a:pt x="7855" y="5400"/>
                  </a:moveTo>
                  <a:cubicBezTo>
                    <a:pt x="3517" y="5400"/>
                    <a:pt x="0" y="8664"/>
                    <a:pt x="0" y="12690"/>
                  </a:cubicBezTo>
                  <a:cubicBezTo>
                    <a:pt x="0" y="14758"/>
                    <a:pt x="932" y="16620"/>
                    <a:pt x="2422" y="17947"/>
                  </a:cubicBezTo>
                  <a:lnTo>
                    <a:pt x="1473" y="21600"/>
                  </a:lnTo>
                  <a:lnTo>
                    <a:pt x="5876" y="19738"/>
                  </a:lnTo>
                  <a:cubicBezTo>
                    <a:pt x="6509" y="19891"/>
                    <a:pt x="7169" y="19980"/>
                    <a:pt x="7855" y="19980"/>
                  </a:cubicBezTo>
                  <a:cubicBezTo>
                    <a:pt x="12192" y="19980"/>
                    <a:pt x="15709" y="16716"/>
                    <a:pt x="15709" y="12690"/>
                  </a:cubicBezTo>
                  <a:cubicBezTo>
                    <a:pt x="15709" y="8664"/>
                    <a:pt x="12192" y="5400"/>
                    <a:pt x="7855" y="5400"/>
                  </a:cubicBezTo>
                  <a:moveTo>
                    <a:pt x="21600" y="7290"/>
                  </a:moveTo>
                  <a:cubicBezTo>
                    <a:pt x="21600" y="3264"/>
                    <a:pt x="18084" y="0"/>
                    <a:pt x="13745" y="0"/>
                  </a:cubicBezTo>
                  <a:cubicBezTo>
                    <a:pt x="10506" y="0"/>
                    <a:pt x="7725" y="1821"/>
                    <a:pt x="6525" y="4422"/>
                  </a:cubicBezTo>
                  <a:cubicBezTo>
                    <a:pt x="6912" y="4367"/>
                    <a:pt x="7306" y="4332"/>
                    <a:pt x="7708" y="4326"/>
                  </a:cubicBezTo>
                  <a:cubicBezTo>
                    <a:pt x="8875" y="2394"/>
                    <a:pt x="11143" y="1080"/>
                    <a:pt x="13745" y="1080"/>
                  </a:cubicBezTo>
                  <a:cubicBezTo>
                    <a:pt x="17535" y="1080"/>
                    <a:pt x="20618" y="3866"/>
                    <a:pt x="20618" y="7290"/>
                  </a:cubicBezTo>
                  <a:cubicBezTo>
                    <a:pt x="20618" y="8958"/>
                    <a:pt x="19888" y="10526"/>
                    <a:pt x="18561" y="11707"/>
                  </a:cubicBezTo>
                  <a:cubicBezTo>
                    <a:pt x="18255" y="11980"/>
                    <a:pt x="18126" y="12428"/>
                    <a:pt x="18234" y="12843"/>
                  </a:cubicBezTo>
                  <a:lnTo>
                    <a:pt x="18643" y="14415"/>
                  </a:lnTo>
                  <a:lnTo>
                    <a:pt x="16613" y="13556"/>
                  </a:lnTo>
                  <a:cubicBezTo>
                    <a:pt x="16573" y="13922"/>
                    <a:pt x="16500" y="14278"/>
                    <a:pt x="16411" y="14628"/>
                  </a:cubicBezTo>
                  <a:lnTo>
                    <a:pt x="20127" y="16200"/>
                  </a:lnTo>
                  <a:lnTo>
                    <a:pt x="19178" y="12547"/>
                  </a:lnTo>
                  <a:cubicBezTo>
                    <a:pt x="20669" y="11220"/>
                    <a:pt x="21600" y="9358"/>
                    <a:pt x="21600" y="7290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38" name="Group 53"/>
          <p:cNvGrpSpPr/>
          <p:nvPr/>
        </p:nvGrpSpPr>
        <p:grpSpPr>
          <a:xfrm>
            <a:off x="8763120" y="2716200"/>
            <a:ext cx="2162160" cy="805680"/>
            <a:chOff x="8763120" y="2716200"/>
            <a:chExt cx="2162160" cy="805680"/>
          </a:xfrm>
        </p:grpSpPr>
        <p:sp>
          <p:nvSpPr>
            <p:cNvPr id="1139" name="Rectangle 54"/>
            <p:cNvSpPr/>
            <p:nvPr/>
          </p:nvSpPr>
          <p:spPr>
            <a:xfrm>
              <a:off x="9135360" y="2716200"/>
              <a:ext cx="1789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40" name="Shape 2543"/>
            <p:cNvSpPr/>
            <p:nvPr/>
          </p:nvSpPr>
          <p:spPr>
            <a:xfrm>
              <a:off x="8763120" y="28479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41" name="Group 56"/>
          <p:cNvGrpSpPr/>
          <p:nvPr/>
        </p:nvGrpSpPr>
        <p:grpSpPr>
          <a:xfrm>
            <a:off x="8763120" y="3684600"/>
            <a:ext cx="2143080" cy="805680"/>
            <a:chOff x="8763120" y="3684600"/>
            <a:chExt cx="2143080" cy="805680"/>
          </a:xfrm>
        </p:grpSpPr>
        <p:sp>
          <p:nvSpPr>
            <p:cNvPr id="1142" name="Rectangle 57"/>
            <p:cNvSpPr/>
            <p:nvPr/>
          </p:nvSpPr>
          <p:spPr>
            <a:xfrm>
              <a:off x="9135360" y="3684600"/>
              <a:ext cx="177084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43" name="Shape 2588"/>
            <p:cNvSpPr/>
            <p:nvPr/>
          </p:nvSpPr>
          <p:spPr>
            <a:xfrm>
              <a:off x="8763120" y="3844800"/>
              <a:ext cx="279360" cy="253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82" y="12420"/>
                  </a:moveTo>
                  <a:cubicBezTo>
                    <a:pt x="16368" y="12420"/>
                    <a:pt x="15709" y="11694"/>
                    <a:pt x="15709" y="10800"/>
                  </a:cubicBezTo>
                  <a:cubicBezTo>
                    <a:pt x="15709" y="9906"/>
                    <a:pt x="16368" y="9180"/>
                    <a:pt x="17182" y="9180"/>
                  </a:cubicBezTo>
                  <a:cubicBezTo>
                    <a:pt x="17995" y="9180"/>
                    <a:pt x="18655" y="9906"/>
                    <a:pt x="18655" y="10800"/>
                  </a:cubicBezTo>
                  <a:cubicBezTo>
                    <a:pt x="18655" y="11694"/>
                    <a:pt x="17995" y="12420"/>
                    <a:pt x="17182" y="12420"/>
                  </a:cubicBezTo>
                  <a:moveTo>
                    <a:pt x="21109" y="10260"/>
                  </a:moveTo>
                  <a:lnTo>
                    <a:pt x="19587" y="10260"/>
                  </a:lnTo>
                  <a:cubicBezTo>
                    <a:pt x="19360" y="9028"/>
                    <a:pt x="18369" y="8100"/>
                    <a:pt x="17182" y="8100"/>
                  </a:cubicBezTo>
                  <a:cubicBezTo>
                    <a:pt x="15994" y="8100"/>
                    <a:pt x="15004" y="9028"/>
                    <a:pt x="14777" y="10260"/>
                  </a:cubicBezTo>
                  <a:lnTo>
                    <a:pt x="491" y="10260"/>
                  </a:lnTo>
                  <a:cubicBezTo>
                    <a:pt x="220" y="10260"/>
                    <a:pt x="0" y="10502"/>
                    <a:pt x="0" y="10800"/>
                  </a:cubicBezTo>
                  <a:cubicBezTo>
                    <a:pt x="0" y="11098"/>
                    <a:pt x="220" y="11340"/>
                    <a:pt x="491" y="11340"/>
                  </a:cubicBezTo>
                  <a:lnTo>
                    <a:pt x="14777" y="11340"/>
                  </a:lnTo>
                  <a:cubicBezTo>
                    <a:pt x="15004" y="12572"/>
                    <a:pt x="15994" y="13500"/>
                    <a:pt x="17182" y="13500"/>
                  </a:cubicBezTo>
                  <a:cubicBezTo>
                    <a:pt x="18369" y="13500"/>
                    <a:pt x="19360" y="12572"/>
                    <a:pt x="19587" y="11340"/>
                  </a:cubicBezTo>
                  <a:lnTo>
                    <a:pt x="21109" y="11340"/>
                  </a:lnTo>
                  <a:cubicBezTo>
                    <a:pt x="21380" y="11340"/>
                    <a:pt x="21600" y="11098"/>
                    <a:pt x="21600" y="10800"/>
                  </a:cubicBezTo>
                  <a:cubicBezTo>
                    <a:pt x="21600" y="10502"/>
                    <a:pt x="21380" y="10260"/>
                    <a:pt x="21109" y="10260"/>
                  </a:cubicBezTo>
                  <a:moveTo>
                    <a:pt x="5400" y="1080"/>
                  </a:moveTo>
                  <a:cubicBezTo>
                    <a:pt x="6214" y="1080"/>
                    <a:pt x="6873" y="1806"/>
                    <a:pt x="6873" y="2700"/>
                  </a:cubicBezTo>
                  <a:cubicBezTo>
                    <a:pt x="6873" y="3595"/>
                    <a:pt x="6214" y="4320"/>
                    <a:pt x="5400" y="4320"/>
                  </a:cubicBezTo>
                  <a:cubicBezTo>
                    <a:pt x="4586" y="4320"/>
                    <a:pt x="3927" y="3595"/>
                    <a:pt x="3927" y="2700"/>
                  </a:cubicBezTo>
                  <a:cubicBezTo>
                    <a:pt x="3927" y="1806"/>
                    <a:pt x="4586" y="1080"/>
                    <a:pt x="5400" y="1080"/>
                  </a:cubicBezTo>
                  <a:moveTo>
                    <a:pt x="491" y="3240"/>
                  </a:moveTo>
                  <a:lnTo>
                    <a:pt x="2995" y="3240"/>
                  </a:lnTo>
                  <a:cubicBezTo>
                    <a:pt x="3222" y="4472"/>
                    <a:pt x="4213" y="5400"/>
                    <a:pt x="5400" y="5400"/>
                  </a:cubicBezTo>
                  <a:cubicBezTo>
                    <a:pt x="6587" y="5400"/>
                    <a:pt x="7578" y="4472"/>
                    <a:pt x="7805" y="3240"/>
                  </a:cubicBezTo>
                  <a:lnTo>
                    <a:pt x="21109" y="3240"/>
                  </a:lnTo>
                  <a:cubicBezTo>
                    <a:pt x="21380" y="3240"/>
                    <a:pt x="21600" y="2999"/>
                    <a:pt x="21600" y="2700"/>
                  </a:cubicBezTo>
                  <a:cubicBezTo>
                    <a:pt x="21600" y="2402"/>
                    <a:pt x="21380" y="2160"/>
                    <a:pt x="21109" y="2160"/>
                  </a:cubicBezTo>
                  <a:lnTo>
                    <a:pt x="7805" y="2160"/>
                  </a:lnTo>
                  <a:cubicBezTo>
                    <a:pt x="7578" y="928"/>
                    <a:pt x="6587" y="0"/>
                    <a:pt x="5400" y="0"/>
                  </a:cubicBezTo>
                  <a:cubicBezTo>
                    <a:pt x="4213" y="0"/>
                    <a:pt x="3222" y="928"/>
                    <a:pt x="2995" y="2160"/>
                  </a:cubicBezTo>
                  <a:lnTo>
                    <a:pt x="491" y="2160"/>
                  </a:lnTo>
                  <a:cubicBezTo>
                    <a:pt x="220" y="2160"/>
                    <a:pt x="0" y="2402"/>
                    <a:pt x="0" y="2700"/>
                  </a:cubicBezTo>
                  <a:cubicBezTo>
                    <a:pt x="0" y="2999"/>
                    <a:pt x="220" y="3240"/>
                    <a:pt x="491" y="3240"/>
                  </a:cubicBezTo>
                  <a:moveTo>
                    <a:pt x="9327" y="20519"/>
                  </a:moveTo>
                  <a:cubicBezTo>
                    <a:pt x="8514" y="20519"/>
                    <a:pt x="7855" y="19794"/>
                    <a:pt x="7855" y="18899"/>
                  </a:cubicBezTo>
                  <a:cubicBezTo>
                    <a:pt x="7855" y="18005"/>
                    <a:pt x="8514" y="17279"/>
                    <a:pt x="9327" y="17279"/>
                  </a:cubicBezTo>
                  <a:cubicBezTo>
                    <a:pt x="10141" y="17279"/>
                    <a:pt x="10800" y="18005"/>
                    <a:pt x="10800" y="18899"/>
                  </a:cubicBezTo>
                  <a:cubicBezTo>
                    <a:pt x="10800" y="19794"/>
                    <a:pt x="10141" y="20519"/>
                    <a:pt x="9327" y="20519"/>
                  </a:cubicBezTo>
                  <a:moveTo>
                    <a:pt x="21109" y="18359"/>
                  </a:moveTo>
                  <a:lnTo>
                    <a:pt x="11732" y="18359"/>
                  </a:lnTo>
                  <a:cubicBezTo>
                    <a:pt x="11505" y="17127"/>
                    <a:pt x="10515" y="16199"/>
                    <a:pt x="9327" y="16199"/>
                  </a:cubicBezTo>
                  <a:cubicBezTo>
                    <a:pt x="8140" y="16199"/>
                    <a:pt x="7150" y="17127"/>
                    <a:pt x="6922" y="18359"/>
                  </a:cubicBezTo>
                  <a:lnTo>
                    <a:pt x="491" y="18359"/>
                  </a:lnTo>
                  <a:cubicBezTo>
                    <a:pt x="220" y="18359"/>
                    <a:pt x="0" y="18601"/>
                    <a:pt x="0" y="18899"/>
                  </a:cubicBezTo>
                  <a:cubicBezTo>
                    <a:pt x="0" y="19198"/>
                    <a:pt x="220" y="19439"/>
                    <a:pt x="491" y="19439"/>
                  </a:cubicBezTo>
                  <a:lnTo>
                    <a:pt x="6922" y="19439"/>
                  </a:lnTo>
                  <a:cubicBezTo>
                    <a:pt x="7150" y="20672"/>
                    <a:pt x="8140" y="21600"/>
                    <a:pt x="9327" y="21600"/>
                  </a:cubicBezTo>
                  <a:cubicBezTo>
                    <a:pt x="10515" y="21600"/>
                    <a:pt x="11505" y="20672"/>
                    <a:pt x="11732" y="19439"/>
                  </a:cubicBezTo>
                  <a:lnTo>
                    <a:pt x="21109" y="19439"/>
                  </a:lnTo>
                  <a:cubicBezTo>
                    <a:pt x="21380" y="19439"/>
                    <a:pt x="21600" y="19198"/>
                    <a:pt x="21600" y="18899"/>
                  </a:cubicBezTo>
                  <a:cubicBezTo>
                    <a:pt x="21600" y="18601"/>
                    <a:pt x="21380" y="18359"/>
                    <a:pt x="21109" y="18359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44" name="Group 59"/>
          <p:cNvGrpSpPr/>
          <p:nvPr/>
        </p:nvGrpSpPr>
        <p:grpSpPr>
          <a:xfrm>
            <a:off x="8777160" y="4586400"/>
            <a:ext cx="2148120" cy="805680"/>
            <a:chOff x="8777160" y="4586400"/>
            <a:chExt cx="2148120" cy="805680"/>
          </a:xfrm>
        </p:grpSpPr>
        <p:sp>
          <p:nvSpPr>
            <p:cNvPr id="1145" name="Rectangle 60"/>
            <p:cNvSpPr/>
            <p:nvPr/>
          </p:nvSpPr>
          <p:spPr>
            <a:xfrm>
              <a:off x="9135360" y="4586400"/>
              <a:ext cx="1789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46" name="Shape 2604"/>
            <p:cNvSpPr/>
            <p:nvPr/>
          </p:nvSpPr>
          <p:spPr>
            <a:xfrm>
              <a:off x="8777160" y="4754880"/>
              <a:ext cx="279000" cy="228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9600"/>
                  </a:moveTo>
                  <a:lnTo>
                    <a:pt x="17673" y="9600"/>
                  </a:lnTo>
                  <a:lnTo>
                    <a:pt x="17673" y="8400"/>
                  </a:lnTo>
                  <a:cubicBezTo>
                    <a:pt x="17673" y="7738"/>
                    <a:pt x="17233" y="7200"/>
                    <a:pt x="16691" y="7200"/>
                  </a:cubicBezTo>
                  <a:lnTo>
                    <a:pt x="14727" y="7200"/>
                  </a:lnTo>
                  <a:cubicBezTo>
                    <a:pt x="14186" y="7200"/>
                    <a:pt x="13745" y="7738"/>
                    <a:pt x="13745" y="8400"/>
                  </a:cubicBezTo>
                  <a:lnTo>
                    <a:pt x="13745" y="9600"/>
                  </a:lnTo>
                  <a:lnTo>
                    <a:pt x="7855" y="9600"/>
                  </a:lnTo>
                  <a:lnTo>
                    <a:pt x="7855" y="8400"/>
                  </a:lnTo>
                  <a:cubicBezTo>
                    <a:pt x="7855" y="7738"/>
                    <a:pt x="7414" y="7200"/>
                    <a:pt x="6873" y="7200"/>
                  </a:cubicBezTo>
                  <a:lnTo>
                    <a:pt x="4909" y="7200"/>
                  </a:lnTo>
                  <a:cubicBezTo>
                    <a:pt x="4367" y="7200"/>
                    <a:pt x="3927" y="7738"/>
                    <a:pt x="3927" y="8400"/>
                  </a:cubicBezTo>
                  <a:lnTo>
                    <a:pt x="3927" y="9600"/>
                  </a:lnTo>
                  <a:lnTo>
                    <a:pt x="982" y="9600"/>
                  </a:lnTo>
                  <a:lnTo>
                    <a:pt x="982" y="3601"/>
                  </a:lnTo>
                  <a:lnTo>
                    <a:pt x="20618" y="3601"/>
                  </a:lnTo>
                  <a:cubicBezTo>
                    <a:pt x="20618" y="3601"/>
                    <a:pt x="20618" y="9600"/>
                    <a:pt x="20618" y="9600"/>
                  </a:cubicBezTo>
                  <a:close/>
                  <a:moveTo>
                    <a:pt x="14727" y="8400"/>
                  </a:moveTo>
                  <a:lnTo>
                    <a:pt x="16691" y="8400"/>
                  </a:lnTo>
                  <a:lnTo>
                    <a:pt x="16691" y="12001"/>
                  </a:lnTo>
                  <a:lnTo>
                    <a:pt x="14727" y="12001"/>
                  </a:lnTo>
                  <a:cubicBezTo>
                    <a:pt x="14727" y="12001"/>
                    <a:pt x="14727" y="8400"/>
                    <a:pt x="14727" y="8400"/>
                  </a:cubicBezTo>
                  <a:close/>
                  <a:moveTo>
                    <a:pt x="4909" y="8400"/>
                  </a:moveTo>
                  <a:lnTo>
                    <a:pt x="6873" y="8400"/>
                  </a:lnTo>
                  <a:lnTo>
                    <a:pt x="6873" y="12001"/>
                  </a:lnTo>
                  <a:lnTo>
                    <a:pt x="4909" y="12001"/>
                  </a:lnTo>
                  <a:cubicBezTo>
                    <a:pt x="4909" y="12001"/>
                    <a:pt x="4909" y="8400"/>
                    <a:pt x="4909" y="8400"/>
                  </a:cubicBezTo>
                  <a:close/>
                  <a:moveTo>
                    <a:pt x="19636" y="20400"/>
                  </a:moveTo>
                  <a:lnTo>
                    <a:pt x="1964" y="20400"/>
                  </a:lnTo>
                  <a:lnTo>
                    <a:pt x="1964" y="10800"/>
                  </a:lnTo>
                  <a:lnTo>
                    <a:pt x="3927" y="10800"/>
                  </a:lnTo>
                  <a:lnTo>
                    <a:pt x="3927" y="12001"/>
                  </a:lnTo>
                  <a:cubicBezTo>
                    <a:pt x="3927" y="12662"/>
                    <a:pt x="4367" y="13200"/>
                    <a:pt x="4909" y="13200"/>
                  </a:cubicBezTo>
                  <a:lnTo>
                    <a:pt x="6873" y="13200"/>
                  </a:lnTo>
                  <a:cubicBezTo>
                    <a:pt x="7414" y="13200"/>
                    <a:pt x="7855" y="12662"/>
                    <a:pt x="7855" y="12001"/>
                  </a:cubicBezTo>
                  <a:lnTo>
                    <a:pt x="7855" y="10800"/>
                  </a:lnTo>
                  <a:lnTo>
                    <a:pt x="13745" y="10800"/>
                  </a:lnTo>
                  <a:lnTo>
                    <a:pt x="13745" y="12001"/>
                  </a:lnTo>
                  <a:cubicBezTo>
                    <a:pt x="13745" y="12662"/>
                    <a:pt x="14186" y="13200"/>
                    <a:pt x="14727" y="13200"/>
                  </a:cubicBezTo>
                  <a:lnTo>
                    <a:pt x="16691" y="13200"/>
                  </a:lnTo>
                  <a:cubicBezTo>
                    <a:pt x="17233" y="13200"/>
                    <a:pt x="17673" y="12662"/>
                    <a:pt x="17673" y="12001"/>
                  </a:cubicBezTo>
                  <a:lnTo>
                    <a:pt x="17673" y="10800"/>
                  </a:lnTo>
                  <a:lnTo>
                    <a:pt x="19636" y="10800"/>
                  </a:lnTo>
                  <a:cubicBezTo>
                    <a:pt x="19636" y="10800"/>
                    <a:pt x="19636" y="20400"/>
                    <a:pt x="19636" y="20400"/>
                  </a:cubicBezTo>
                  <a:close/>
                  <a:moveTo>
                    <a:pt x="8836" y="1200"/>
                  </a:moveTo>
                  <a:lnTo>
                    <a:pt x="12764" y="1200"/>
                  </a:lnTo>
                  <a:cubicBezTo>
                    <a:pt x="13305" y="1200"/>
                    <a:pt x="13745" y="1738"/>
                    <a:pt x="13745" y="2400"/>
                  </a:cubicBezTo>
                  <a:lnTo>
                    <a:pt x="7855" y="2400"/>
                  </a:lnTo>
                  <a:cubicBezTo>
                    <a:pt x="7855" y="1738"/>
                    <a:pt x="8295" y="1200"/>
                    <a:pt x="8836" y="1200"/>
                  </a:cubicBezTo>
                  <a:moveTo>
                    <a:pt x="20618" y="2400"/>
                  </a:moveTo>
                  <a:lnTo>
                    <a:pt x="14727" y="2400"/>
                  </a:lnTo>
                  <a:cubicBezTo>
                    <a:pt x="14727" y="1075"/>
                    <a:pt x="13848" y="0"/>
                    <a:pt x="12764" y="0"/>
                  </a:cubicBezTo>
                  <a:lnTo>
                    <a:pt x="8836" y="0"/>
                  </a:lnTo>
                  <a:cubicBezTo>
                    <a:pt x="7752" y="0"/>
                    <a:pt x="6873" y="1075"/>
                    <a:pt x="6873" y="2400"/>
                  </a:cubicBezTo>
                  <a:lnTo>
                    <a:pt x="982" y="2400"/>
                  </a:lnTo>
                  <a:cubicBezTo>
                    <a:pt x="440" y="2400"/>
                    <a:pt x="0" y="2938"/>
                    <a:pt x="0" y="3601"/>
                  </a:cubicBezTo>
                  <a:lnTo>
                    <a:pt x="0" y="9600"/>
                  </a:lnTo>
                  <a:cubicBezTo>
                    <a:pt x="0" y="10262"/>
                    <a:pt x="440" y="10800"/>
                    <a:pt x="982" y="10800"/>
                  </a:cubicBezTo>
                  <a:lnTo>
                    <a:pt x="982" y="20400"/>
                  </a:lnTo>
                  <a:cubicBezTo>
                    <a:pt x="982" y="21062"/>
                    <a:pt x="1422" y="21600"/>
                    <a:pt x="1964" y="21600"/>
                  </a:cubicBezTo>
                  <a:lnTo>
                    <a:pt x="19636" y="21600"/>
                  </a:lnTo>
                  <a:cubicBezTo>
                    <a:pt x="20178" y="21600"/>
                    <a:pt x="20618" y="21062"/>
                    <a:pt x="20618" y="20400"/>
                  </a:cubicBezTo>
                  <a:lnTo>
                    <a:pt x="20618" y="10800"/>
                  </a:lnTo>
                  <a:cubicBezTo>
                    <a:pt x="21160" y="10800"/>
                    <a:pt x="21600" y="10262"/>
                    <a:pt x="21600" y="9600"/>
                  </a:cubicBezTo>
                  <a:lnTo>
                    <a:pt x="21600" y="3601"/>
                  </a:lnTo>
                  <a:cubicBezTo>
                    <a:pt x="21600" y="2938"/>
                    <a:pt x="21160" y="2400"/>
                    <a:pt x="20618" y="2400"/>
                  </a:cubicBezTo>
                </a:path>
              </a:pathLst>
            </a:custGeom>
            <a:solidFill>
              <a:srgbClr val="53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500"/>
                            </p:stCondLst>
                            <p:childTnLst>
                              <p:par>
                                <p:cTn id="6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500"/>
                            </p:stCondLst>
                            <p:childTnLst>
                              <p:par>
                                <p:cTn id="6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1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3000"/>
                            </p:stCondLst>
                            <p:childTnLst>
                              <p:par>
                                <p:cTn id="6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5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3500"/>
                            </p:stCondLst>
                            <p:childTnLst>
                              <p:par>
                                <p:cTn id="6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9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4000"/>
                            </p:stCondLst>
                            <p:childTnLst>
                              <p:par>
                                <p:cTn id="6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6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4500"/>
                            </p:stCondLst>
                            <p:childTnLst>
                              <p:par>
                                <p:cTn id="6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500"/>
                            </p:stCondLst>
                            <p:childTnLst>
                              <p:par>
                                <p:cTn id="6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6000"/>
                            </p:stCondLst>
                            <p:childTnLst>
                              <p:par>
                                <p:cTn id="6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6500"/>
                            </p:stCondLst>
                            <p:childTnLst>
                              <p:par>
                                <p:cTn id="6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7000"/>
                            </p:stCondLst>
                            <p:childTnLst>
                              <p:par>
                                <p:cTn id="6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7500"/>
                            </p:stCondLst>
                            <p:childTnLst>
                              <p:par>
                                <p:cTn id="6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8000"/>
                            </p:stCondLst>
                            <p:childTnLst>
                              <p:par>
                                <p:cTn id="6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/>
          </p:nvPr>
        </p:nvSpPr>
        <p:spPr>
          <a:xfrm>
            <a:off x="1069560" y="1407600"/>
            <a:ext cx="57466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4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647960" y="3575160"/>
            <a:ext cx="574668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5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8248320" y="1410840"/>
            <a:ext cx="57466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6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150" name="Объект 5" descr=""/>
          <p:cNvPicPr/>
          <p:nvPr/>
        </p:nvPicPr>
        <p:blipFill>
          <a:blip r:embed="rId1"/>
          <a:stretch/>
        </p:blipFill>
        <p:spPr>
          <a:xfrm>
            <a:off x="1060560" y="2706840"/>
            <a:ext cx="2541600" cy="360360"/>
          </a:xfrm>
          <a:prstGeom prst="rect">
            <a:avLst/>
          </a:prstGeom>
          <a:ln w="0">
            <a:noFill/>
          </a:ln>
        </p:spPr>
      </p:pic>
      <p:pic>
        <p:nvPicPr>
          <p:cNvPr id="1151" name="Объект 4" descr=""/>
          <p:cNvPicPr/>
          <p:nvPr/>
        </p:nvPicPr>
        <p:blipFill>
          <a:blip r:embed="rId2"/>
          <a:stretch/>
        </p:blipFill>
        <p:spPr>
          <a:xfrm>
            <a:off x="1054080" y="3243240"/>
            <a:ext cx="2548080" cy="1268280"/>
          </a:xfrm>
          <a:prstGeom prst="rect">
            <a:avLst/>
          </a:prstGeom>
          <a:ln w="0">
            <a:noFill/>
          </a:ln>
        </p:spPr>
      </p:pic>
      <p:pic>
        <p:nvPicPr>
          <p:cNvPr id="1152" name="Объект 130" descr=""/>
          <p:cNvPicPr/>
          <p:nvPr/>
        </p:nvPicPr>
        <p:blipFill>
          <a:blip r:embed="rId3"/>
          <a:stretch/>
        </p:blipFill>
        <p:spPr>
          <a:xfrm>
            <a:off x="4645080" y="4681440"/>
            <a:ext cx="2547720" cy="384120"/>
          </a:xfrm>
          <a:prstGeom prst="rect">
            <a:avLst/>
          </a:prstGeom>
          <a:ln w="0">
            <a:noFill/>
          </a:ln>
        </p:spPr>
      </p:pic>
      <p:pic>
        <p:nvPicPr>
          <p:cNvPr id="1153" name="Текст 24" descr=""/>
          <p:cNvPicPr/>
          <p:nvPr/>
        </p:nvPicPr>
        <p:blipFill>
          <a:blip r:embed="rId4"/>
          <a:stretch/>
        </p:blipFill>
        <p:spPr>
          <a:xfrm>
            <a:off x="4645080" y="5224320"/>
            <a:ext cx="2547720" cy="1279800"/>
          </a:xfrm>
          <a:prstGeom prst="rect">
            <a:avLst/>
          </a:prstGeom>
          <a:ln w="0">
            <a:noFill/>
          </a:ln>
        </p:spPr>
      </p:pic>
      <p:pic>
        <p:nvPicPr>
          <p:cNvPr id="1154" name="Объект 141" descr=""/>
          <p:cNvPicPr/>
          <p:nvPr/>
        </p:nvPicPr>
        <p:blipFill>
          <a:blip r:embed="rId5"/>
          <a:stretch/>
        </p:blipFill>
        <p:spPr>
          <a:xfrm>
            <a:off x="8253360" y="2706840"/>
            <a:ext cx="2554200" cy="384120"/>
          </a:xfrm>
          <a:prstGeom prst="rect">
            <a:avLst/>
          </a:prstGeom>
          <a:ln w="0">
            <a:noFill/>
          </a:ln>
        </p:spPr>
      </p:pic>
      <p:pic>
        <p:nvPicPr>
          <p:cNvPr id="1155" name="Объект 142" descr=""/>
          <p:cNvPicPr/>
          <p:nvPr/>
        </p:nvPicPr>
        <p:blipFill>
          <a:blip r:embed="rId6"/>
          <a:stretch/>
        </p:blipFill>
        <p:spPr>
          <a:xfrm>
            <a:off x="8253360" y="3243240"/>
            <a:ext cx="2554200" cy="12794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/>
          </p:nvPr>
        </p:nvSpPr>
        <p:spPr>
          <a:xfrm>
            <a:off x="1069560" y="1407600"/>
            <a:ext cx="57466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7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647960" y="3575160"/>
            <a:ext cx="574668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8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8248320" y="1410840"/>
            <a:ext cx="57466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2019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159" name="Объект 5" descr=""/>
          <p:cNvPicPr/>
          <p:nvPr/>
        </p:nvPicPr>
        <p:blipFill>
          <a:blip r:embed="rId1"/>
          <a:stretch/>
        </p:blipFill>
        <p:spPr>
          <a:xfrm>
            <a:off x="1054080" y="2706840"/>
            <a:ext cx="2548080" cy="384120"/>
          </a:xfrm>
          <a:prstGeom prst="rect">
            <a:avLst/>
          </a:prstGeom>
          <a:ln w="0">
            <a:noFill/>
          </a:ln>
        </p:spPr>
      </p:pic>
      <p:pic>
        <p:nvPicPr>
          <p:cNvPr id="1160" name="Объект 4" descr=""/>
          <p:cNvPicPr/>
          <p:nvPr/>
        </p:nvPicPr>
        <p:blipFill>
          <a:blip r:embed="rId2"/>
          <a:stretch/>
        </p:blipFill>
        <p:spPr>
          <a:xfrm>
            <a:off x="1054080" y="3243240"/>
            <a:ext cx="2548080" cy="1268280"/>
          </a:xfrm>
          <a:prstGeom prst="rect">
            <a:avLst/>
          </a:prstGeom>
          <a:ln w="0">
            <a:noFill/>
          </a:ln>
        </p:spPr>
      </p:pic>
      <p:pic>
        <p:nvPicPr>
          <p:cNvPr id="1161" name="Объект 130" descr=""/>
          <p:cNvPicPr/>
          <p:nvPr/>
        </p:nvPicPr>
        <p:blipFill>
          <a:blip r:embed="rId3"/>
          <a:stretch/>
        </p:blipFill>
        <p:spPr>
          <a:xfrm>
            <a:off x="4645080" y="4681440"/>
            <a:ext cx="2547720" cy="384120"/>
          </a:xfrm>
          <a:prstGeom prst="rect">
            <a:avLst/>
          </a:prstGeom>
          <a:ln w="0">
            <a:noFill/>
          </a:ln>
        </p:spPr>
      </p:pic>
      <p:pic>
        <p:nvPicPr>
          <p:cNvPr id="1162" name="Объект 131" descr=""/>
          <p:cNvPicPr/>
          <p:nvPr/>
        </p:nvPicPr>
        <p:blipFill>
          <a:blip r:embed="rId4"/>
          <a:stretch/>
        </p:blipFill>
        <p:spPr>
          <a:xfrm>
            <a:off x="4645080" y="5224320"/>
            <a:ext cx="2547720" cy="1279800"/>
          </a:xfrm>
          <a:prstGeom prst="rect">
            <a:avLst/>
          </a:prstGeom>
          <a:ln w="0">
            <a:noFill/>
          </a:ln>
        </p:spPr>
      </p:pic>
      <p:pic>
        <p:nvPicPr>
          <p:cNvPr id="1163" name="Объект 141" descr=""/>
          <p:cNvPicPr/>
          <p:nvPr/>
        </p:nvPicPr>
        <p:blipFill>
          <a:blip r:embed="rId5"/>
          <a:stretch/>
        </p:blipFill>
        <p:spPr>
          <a:xfrm>
            <a:off x="8253360" y="2706840"/>
            <a:ext cx="2554200" cy="384120"/>
          </a:xfrm>
          <a:prstGeom prst="rect">
            <a:avLst/>
          </a:prstGeom>
          <a:ln w="0">
            <a:noFill/>
          </a:ln>
        </p:spPr>
      </p:pic>
      <p:pic>
        <p:nvPicPr>
          <p:cNvPr id="1164" name="Объект 142" descr=""/>
          <p:cNvPicPr/>
          <p:nvPr/>
        </p:nvPicPr>
        <p:blipFill>
          <a:blip r:embed="rId6"/>
          <a:stretch/>
        </p:blipFill>
        <p:spPr>
          <a:xfrm>
            <a:off x="8253360" y="3243240"/>
            <a:ext cx="2554200" cy="12794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/>
          </p:nvPr>
        </p:nvSpPr>
        <p:spPr>
          <a:xfrm>
            <a:off x="1069560" y="1407600"/>
            <a:ext cx="574668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Success</a:t>
            </a:r>
            <a:endParaRPr b="0" lang="en-US" sz="75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166" name="Объект 5" descr=""/>
          <p:cNvPicPr/>
          <p:nvPr/>
        </p:nvPicPr>
        <p:blipFill>
          <a:blip r:embed="rId1"/>
          <a:stretch/>
        </p:blipFill>
        <p:spPr>
          <a:xfrm>
            <a:off x="1054080" y="2706840"/>
            <a:ext cx="2548080" cy="384120"/>
          </a:xfrm>
          <a:prstGeom prst="rect">
            <a:avLst/>
          </a:prstGeom>
          <a:ln w="0">
            <a:noFill/>
          </a:ln>
        </p:spPr>
      </p:pic>
      <p:pic>
        <p:nvPicPr>
          <p:cNvPr id="1167" name="Объект 4" descr=""/>
          <p:cNvPicPr/>
          <p:nvPr/>
        </p:nvPicPr>
        <p:blipFill>
          <a:blip r:embed="rId2"/>
          <a:stretch/>
        </p:blipFill>
        <p:spPr>
          <a:xfrm>
            <a:off x="1054080" y="3243240"/>
            <a:ext cx="2548080" cy="12682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Picture 4" descr=""/>
          <p:cNvPicPr/>
          <p:nvPr/>
        </p:nvPicPr>
        <p:blipFill>
          <a:blip r:embed="rId1"/>
          <a:stretch/>
        </p:blipFill>
        <p:spPr>
          <a:xfrm>
            <a:off x="898560" y="1809720"/>
            <a:ext cx="4087800" cy="5332320"/>
          </a:xfrm>
          <a:prstGeom prst="rect">
            <a:avLst/>
          </a:prstGeom>
          <a:ln w="0">
            <a:noFill/>
          </a:ln>
          <a:effectLst>
            <a:outerShdw dist="254049" dir="2700000" blurRad="0" rotWithShape="0">
              <a:srgbClr val="808080">
                <a:alpha val="15000"/>
              </a:srgbClr>
            </a:outerShdw>
          </a:effectLst>
        </p:spPr>
      </p:pic>
      <p:sp>
        <p:nvSpPr>
          <p:cNvPr id="1169" name="TextBox 31"/>
          <p:cNvSpPr/>
          <p:nvPr/>
        </p:nvSpPr>
        <p:spPr>
          <a:xfrm>
            <a:off x="3956400" y="538200"/>
            <a:ext cx="4295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Devices Mockup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70" name="Rectangle 3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26a69a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171" name="" descr=""/>
          <p:cNvPicPr/>
          <p:nvPr/>
        </p:nvPicPr>
        <p:blipFill>
          <a:blip r:embed="rId2"/>
          <a:stretch/>
        </p:blipFill>
        <p:spPr>
          <a:xfrm>
            <a:off x="2533320" y="2419200"/>
            <a:ext cx="1755720" cy="3106800"/>
          </a:xfrm>
          <a:prstGeom prst="rect">
            <a:avLst/>
          </a:prstGeom>
          <a:ln w="0">
            <a:noFill/>
          </a:ln>
        </p:spPr>
      </p:pic>
      <p:sp>
        <p:nvSpPr>
          <p:cNvPr id="1172" name="TextBox 18"/>
          <p:cNvSpPr/>
          <p:nvPr/>
        </p:nvSpPr>
        <p:spPr>
          <a:xfrm>
            <a:off x="6095880" y="2178000"/>
            <a:ext cx="4989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I’m a </a:t>
            </a:r>
            <a:r>
              <a:rPr b="1" lang="en-US" sz="2400" spc="-1" strike="noStrike">
                <a:solidFill>
                  <a:srgbClr val="656d78"/>
                </a:solidFill>
                <a:latin typeface="Source Sans Pro"/>
              </a:rPr>
              <a:t>big fan 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of doing what you are </a:t>
            </a:r>
            <a:r>
              <a:rPr b="0" i="1" lang="en-US" sz="2400" spc="-1" strike="noStrike">
                <a:solidFill>
                  <a:srgbClr val="656d78"/>
                </a:solidFill>
                <a:latin typeface="Source Sans Pro"/>
              </a:rPr>
              <a:t>really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 bad at. A </a:t>
            </a:r>
            <a:r>
              <a:rPr b="1" lang="en-US" sz="2400" spc="-1" strike="noStrike">
                <a:solidFill>
                  <a:srgbClr val="656d78"/>
                </a:solidFill>
                <a:latin typeface="Source Sans Pro"/>
              </a:rPr>
              <a:t>lot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. </a:t>
            </a:r>
            <a:endParaRPr b="0" lang="en-US" sz="24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73" name="Rectangle 19"/>
          <p:cNvSpPr/>
          <p:nvPr/>
        </p:nvSpPr>
        <p:spPr>
          <a:xfrm>
            <a:off x="6095880" y="3138480"/>
            <a:ext cx="48643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174" name="Group 20"/>
          <p:cNvGrpSpPr/>
          <p:nvPr/>
        </p:nvGrpSpPr>
        <p:grpSpPr>
          <a:xfrm>
            <a:off x="6195960" y="4454640"/>
            <a:ext cx="1716120" cy="573120"/>
            <a:chOff x="6195960" y="4454640"/>
            <a:chExt cx="1716120" cy="573120"/>
          </a:xfrm>
        </p:grpSpPr>
        <p:sp>
          <p:nvSpPr>
            <p:cNvPr id="1175" name="Oval 21"/>
            <p:cNvSpPr/>
            <p:nvPr/>
          </p:nvSpPr>
          <p:spPr>
            <a:xfrm>
              <a:off x="6195960" y="4479840"/>
              <a:ext cx="549000" cy="547920"/>
            </a:xfrm>
            <a:prstGeom prst="ellipse">
              <a:avLst/>
            </a:prstGeom>
            <a:gradFill rotWithShape="0">
              <a:gsLst>
                <a:gs pos="0">
                  <a:srgbClr val="4fb2a7"/>
                </a:gs>
                <a:gs pos="100000">
                  <a:srgbClr val="159e91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76" name="TextBox 22"/>
            <p:cNvSpPr/>
            <p:nvPr/>
          </p:nvSpPr>
          <p:spPr>
            <a:xfrm>
              <a:off x="6838200" y="445464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6d78"/>
                  </a:solidFill>
                  <a:latin typeface="Source Sans Pro"/>
                  <a:ea typeface="Roboto Black"/>
                </a:rPr>
                <a:t>2.888 K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77" name="Rectangle 23"/>
            <p:cNvSpPr/>
            <p:nvPr/>
          </p:nvSpPr>
          <p:spPr>
            <a:xfrm>
              <a:off x="6934680" y="483624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78" name="Shape 2614"/>
            <p:cNvSpPr/>
            <p:nvPr/>
          </p:nvSpPr>
          <p:spPr>
            <a:xfrm>
              <a:off x="6326640" y="463032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79" name="Group 25"/>
          <p:cNvGrpSpPr/>
          <p:nvPr/>
        </p:nvGrpSpPr>
        <p:grpSpPr>
          <a:xfrm>
            <a:off x="8142120" y="4476600"/>
            <a:ext cx="1716120" cy="573120"/>
            <a:chOff x="8142120" y="4476600"/>
            <a:chExt cx="1716120" cy="573120"/>
          </a:xfrm>
        </p:grpSpPr>
        <p:sp>
          <p:nvSpPr>
            <p:cNvPr id="1180" name="Oval 26"/>
            <p:cNvSpPr/>
            <p:nvPr/>
          </p:nvSpPr>
          <p:spPr>
            <a:xfrm>
              <a:off x="8142120" y="4501800"/>
              <a:ext cx="549000" cy="547920"/>
            </a:xfrm>
            <a:prstGeom prst="ellipse">
              <a:avLst/>
            </a:prstGeom>
            <a:gradFill rotWithShape="0">
              <a:gsLst>
                <a:gs pos="0">
                  <a:srgbClr val="45a497"/>
                </a:gs>
                <a:gs pos="100000">
                  <a:srgbClr val="009283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81" name="TextBox 27"/>
            <p:cNvSpPr/>
            <p:nvPr/>
          </p:nvSpPr>
          <p:spPr>
            <a:xfrm>
              <a:off x="8784360" y="447660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6d78"/>
                  </a:solidFill>
                  <a:latin typeface="Source Sans Pro"/>
                  <a:ea typeface="Roboto Black"/>
                </a:rPr>
                <a:t>1.074 K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82" name="Rectangle 28"/>
            <p:cNvSpPr/>
            <p:nvPr/>
          </p:nvSpPr>
          <p:spPr>
            <a:xfrm>
              <a:off x="8880480" y="484776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83" name="Shape 2615"/>
            <p:cNvSpPr/>
            <p:nvPr/>
          </p:nvSpPr>
          <p:spPr>
            <a:xfrm>
              <a:off x="8276760" y="463176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9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5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2000"/>
                            </p:stCondLst>
                            <p:childTnLst>
                              <p:par>
                                <p:cTn id="7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500"/>
                            </p:stCondLst>
                            <p:childTnLst>
                              <p:par>
                                <p:cTn id="7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Picture 6" descr=""/>
          <p:cNvPicPr/>
          <p:nvPr/>
        </p:nvPicPr>
        <p:blipFill>
          <a:blip r:embed="rId1"/>
          <a:stretch/>
        </p:blipFill>
        <p:spPr>
          <a:xfrm>
            <a:off x="598320" y="1650960"/>
            <a:ext cx="2222640" cy="4562640"/>
          </a:xfrm>
          <a:prstGeom prst="rect">
            <a:avLst/>
          </a:prstGeom>
          <a:ln w="0">
            <a:noFill/>
          </a:ln>
        </p:spPr>
      </p:pic>
      <p:sp>
        <p:nvSpPr>
          <p:cNvPr id="1185" name="TextBox 21"/>
          <p:cNvSpPr/>
          <p:nvPr/>
        </p:nvSpPr>
        <p:spPr>
          <a:xfrm>
            <a:off x="3956400" y="538200"/>
            <a:ext cx="4295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Devices Mockup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86" name="Rectangle 34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26a69a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87" name="TextBox 22"/>
          <p:cNvSpPr/>
          <p:nvPr/>
        </p:nvSpPr>
        <p:spPr>
          <a:xfrm>
            <a:off x="7458120" y="2438280"/>
            <a:ext cx="4622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I’m a </a:t>
            </a:r>
            <a:r>
              <a:rPr b="1" lang="en-US" sz="2400" spc="-1" strike="noStrike">
                <a:solidFill>
                  <a:srgbClr val="656d78"/>
                </a:solidFill>
                <a:latin typeface="Source Sans Pro"/>
              </a:rPr>
              <a:t>big fan 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of doing what you are </a:t>
            </a:r>
            <a:r>
              <a:rPr b="0" i="1" lang="en-US" sz="2400" spc="-1" strike="noStrike">
                <a:solidFill>
                  <a:srgbClr val="656d78"/>
                </a:solidFill>
                <a:latin typeface="Source Sans Pro"/>
              </a:rPr>
              <a:t>really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 bad at. A </a:t>
            </a:r>
            <a:r>
              <a:rPr b="1" lang="en-US" sz="2400" spc="-1" strike="noStrike">
                <a:solidFill>
                  <a:srgbClr val="656d78"/>
                </a:solidFill>
                <a:latin typeface="Source Sans Pro"/>
              </a:rPr>
              <a:t>lot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. </a:t>
            </a:r>
            <a:endParaRPr b="0" lang="en-US" sz="24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188" name="Rectangle 23"/>
          <p:cNvSpPr/>
          <p:nvPr/>
        </p:nvSpPr>
        <p:spPr>
          <a:xfrm>
            <a:off x="7458120" y="3398760"/>
            <a:ext cx="44974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189" name="Group 24"/>
          <p:cNvGrpSpPr/>
          <p:nvPr/>
        </p:nvGrpSpPr>
        <p:grpSpPr>
          <a:xfrm>
            <a:off x="7458120" y="4802040"/>
            <a:ext cx="1714680" cy="573120"/>
            <a:chOff x="7458120" y="4802040"/>
            <a:chExt cx="1714680" cy="573120"/>
          </a:xfrm>
        </p:grpSpPr>
        <p:sp>
          <p:nvSpPr>
            <p:cNvPr id="1190" name="Oval 25"/>
            <p:cNvSpPr/>
            <p:nvPr/>
          </p:nvSpPr>
          <p:spPr>
            <a:xfrm>
              <a:off x="7458120" y="4827240"/>
              <a:ext cx="548280" cy="547920"/>
            </a:xfrm>
            <a:prstGeom prst="ellipse">
              <a:avLst/>
            </a:prstGeom>
            <a:gradFill rotWithShape="0">
              <a:gsLst>
                <a:gs pos="0">
                  <a:srgbClr val="4fb2a7"/>
                </a:gs>
                <a:gs pos="100000">
                  <a:srgbClr val="159e91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91" name="TextBox 26"/>
            <p:cNvSpPr/>
            <p:nvPr/>
          </p:nvSpPr>
          <p:spPr>
            <a:xfrm>
              <a:off x="8098920" y="480204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6d78"/>
                  </a:solidFill>
                  <a:latin typeface="Source Sans Pro"/>
                  <a:ea typeface="Roboto Black"/>
                </a:rPr>
                <a:t>2.888 K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92" name="Rectangle 27"/>
            <p:cNvSpPr/>
            <p:nvPr/>
          </p:nvSpPr>
          <p:spPr>
            <a:xfrm>
              <a:off x="8195400" y="518364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93" name="Shape 2614"/>
            <p:cNvSpPr/>
            <p:nvPr/>
          </p:nvSpPr>
          <p:spPr>
            <a:xfrm>
              <a:off x="7588800" y="497772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194" name="Group 29"/>
          <p:cNvGrpSpPr/>
          <p:nvPr/>
        </p:nvGrpSpPr>
        <p:grpSpPr>
          <a:xfrm>
            <a:off x="9404280" y="4824360"/>
            <a:ext cx="1715040" cy="574560"/>
            <a:chOff x="9404280" y="4824360"/>
            <a:chExt cx="1715040" cy="574560"/>
          </a:xfrm>
        </p:grpSpPr>
        <p:sp>
          <p:nvSpPr>
            <p:cNvPr id="1195" name="Oval 30"/>
            <p:cNvSpPr/>
            <p:nvPr/>
          </p:nvSpPr>
          <p:spPr>
            <a:xfrm>
              <a:off x="9404280" y="4849560"/>
              <a:ext cx="548280" cy="549360"/>
            </a:xfrm>
            <a:prstGeom prst="ellipse">
              <a:avLst/>
            </a:prstGeom>
            <a:gradFill rotWithShape="0">
              <a:gsLst>
                <a:gs pos="0">
                  <a:srgbClr val="45a497"/>
                </a:gs>
                <a:gs pos="100000">
                  <a:srgbClr val="009283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96" name="TextBox 31"/>
            <p:cNvSpPr/>
            <p:nvPr/>
          </p:nvSpPr>
          <p:spPr>
            <a:xfrm>
              <a:off x="10045440" y="482436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6d78"/>
                  </a:solidFill>
                  <a:latin typeface="Source Sans Pro"/>
                  <a:ea typeface="Roboto Black"/>
                </a:rPr>
                <a:t>1.074 K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97" name="Rectangle 32"/>
            <p:cNvSpPr/>
            <p:nvPr/>
          </p:nvSpPr>
          <p:spPr>
            <a:xfrm>
              <a:off x="10141560" y="519624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198" name="Shape 2615"/>
            <p:cNvSpPr/>
            <p:nvPr/>
          </p:nvSpPr>
          <p:spPr>
            <a:xfrm>
              <a:off x="9538920" y="497988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9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3500"/>
                            </p:stCondLst>
                            <p:childTnLst>
                              <p:par>
                                <p:cTn id="7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4000"/>
                            </p:stCondLst>
                            <p:childTnLst>
                              <p:par>
                                <p:cTn id="7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4500"/>
                            </p:stCondLst>
                            <p:childTnLst>
                              <p:par>
                                <p:cTn id="7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Picture 4" descr=""/>
          <p:cNvPicPr/>
          <p:nvPr/>
        </p:nvPicPr>
        <p:blipFill>
          <a:blip r:embed="rId1"/>
          <a:stretch/>
        </p:blipFill>
        <p:spPr>
          <a:xfrm>
            <a:off x="-1036800" y="1852560"/>
            <a:ext cx="5459400" cy="4761000"/>
          </a:xfrm>
          <a:prstGeom prst="rect">
            <a:avLst/>
          </a:prstGeom>
          <a:ln w="0">
            <a:noFill/>
          </a:ln>
        </p:spPr>
      </p:pic>
      <p:sp>
        <p:nvSpPr>
          <p:cNvPr id="1200" name="TextBox 49"/>
          <p:cNvSpPr/>
          <p:nvPr/>
        </p:nvSpPr>
        <p:spPr>
          <a:xfrm>
            <a:off x="3956400" y="538200"/>
            <a:ext cx="4295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Devices Mockup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01" name="Rectangle 50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26a69a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02" name="TextBox 27"/>
          <p:cNvSpPr/>
          <p:nvPr/>
        </p:nvSpPr>
        <p:spPr>
          <a:xfrm>
            <a:off x="6111720" y="2171880"/>
            <a:ext cx="498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6d78"/>
                </a:solidFill>
                <a:latin typeface="Source Sans Pro"/>
              </a:rPr>
              <a:t>Great </a:t>
            </a:r>
            <a:r>
              <a:rPr b="1" lang="en-US" sz="2800" spc="-1" strike="noStrike">
                <a:solidFill>
                  <a:srgbClr val="656d78"/>
                </a:solidFill>
                <a:latin typeface="Source Sans Pro"/>
              </a:rPr>
              <a:t>design</a:t>
            </a:r>
            <a:r>
              <a:rPr b="0" lang="en-US" sz="2800" spc="-1" strike="noStrike">
                <a:solidFill>
                  <a:srgbClr val="656d78"/>
                </a:solidFill>
                <a:latin typeface="Source Sans Pro"/>
              </a:rPr>
              <a:t> is </a:t>
            </a:r>
            <a:r>
              <a:rPr b="0" i="1" lang="en-US" sz="2800" spc="-1" strike="noStrike">
                <a:solidFill>
                  <a:srgbClr val="656d78"/>
                </a:solidFill>
                <a:latin typeface="Source Sans Pro"/>
              </a:rPr>
              <a:t>eliminating</a:t>
            </a:r>
            <a:r>
              <a:rPr b="0" lang="en-US" sz="2800" spc="-1" strike="noStrike">
                <a:solidFill>
                  <a:srgbClr val="656d78"/>
                </a:solidFill>
                <a:latin typeface="Source Sans Pro"/>
              </a:rPr>
              <a:t> all unnecessary </a:t>
            </a:r>
            <a:r>
              <a:rPr b="1" lang="en-US" sz="2800" spc="-1" strike="noStrike">
                <a:solidFill>
                  <a:srgbClr val="656d78"/>
                </a:solidFill>
                <a:latin typeface="Source Sans Pro"/>
              </a:rPr>
              <a:t>details</a:t>
            </a:r>
            <a:r>
              <a:rPr b="0" lang="en-US" sz="2800" spc="-1" strike="noStrike">
                <a:solidFill>
                  <a:srgbClr val="656d78"/>
                </a:solidFill>
                <a:latin typeface="Source Sans Pro"/>
              </a:rPr>
              <a:t>. 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03" name="Rectangle 28"/>
          <p:cNvSpPr/>
          <p:nvPr/>
        </p:nvSpPr>
        <p:spPr>
          <a:xfrm>
            <a:off x="6111720" y="3132000"/>
            <a:ext cx="48643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204" name="Group 29"/>
          <p:cNvGrpSpPr/>
          <p:nvPr/>
        </p:nvGrpSpPr>
        <p:grpSpPr>
          <a:xfrm>
            <a:off x="6111720" y="4427640"/>
            <a:ext cx="5486040" cy="769680"/>
            <a:chOff x="6111720" y="4427640"/>
            <a:chExt cx="5486040" cy="769680"/>
          </a:xfrm>
        </p:grpSpPr>
        <p:sp>
          <p:nvSpPr>
            <p:cNvPr id="1205" name="Donut 30"/>
            <p:cNvSpPr/>
            <p:nvPr/>
          </p:nvSpPr>
          <p:spPr>
            <a:xfrm>
              <a:off x="10328760" y="4427640"/>
              <a:ext cx="708480" cy="731520"/>
            </a:xfrm>
            <a:custGeom>
              <a:avLst/>
              <a:gdLst/>
              <a:ahLst/>
              <a:rect l="l" t="t" r="r" b="b"/>
              <a:pathLst>
                <a:path w="708704" h="731273">
                  <a:moveTo>
                    <a:pt x="0" y="365637"/>
                  </a:moveTo>
                  <a:cubicBezTo>
                    <a:pt x="0" y="163701"/>
                    <a:pt x="158649" y="0"/>
                    <a:pt x="354352" y="0"/>
                  </a:cubicBezTo>
                  <a:cubicBezTo>
                    <a:pt x="550055" y="0"/>
                    <a:pt x="708704" y="163701"/>
                    <a:pt x="708704" y="365637"/>
                  </a:cubicBezTo>
                  <a:cubicBezTo>
                    <a:pt x="708704" y="567573"/>
                    <a:pt x="550055" y="731274"/>
                    <a:pt x="354352" y="731274"/>
                  </a:cubicBezTo>
                  <a:cubicBezTo>
                    <a:pt x="158649" y="731274"/>
                    <a:pt x="0" y="567573"/>
                    <a:pt x="0" y="365637"/>
                  </a:cubicBezTo>
                  <a:close/>
                  <a:moveTo>
                    <a:pt x="177176" y="365637"/>
                  </a:moveTo>
                  <a:cubicBezTo>
                    <a:pt x="177176" y="469721"/>
                    <a:pt x="256500" y="554098"/>
                    <a:pt x="354352" y="554098"/>
                  </a:cubicBezTo>
                  <a:cubicBezTo>
                    <a:pt x="452204" y="554098"/>
                    <a:pt x="531528" y="469721"/>
                    <a:pt x="531528" y="365637"/>
                  </a:cubicBezTo>
                  <a:cubicBezTo>
                    <a:pt x="531528" y="261553"/>
                    <a:pt x="452204" y="177176"/>
                    <a:pt x="354352" y="177176"/>
                  </a:cubicBezTo>
                  <a:cubicBezTo>
                    <a:pt x="256500" y="177176"/>
                    <a:pt x="177176" y="261553"/>
                    <a:pt x="177176" y="365637"/>
                  </a:cubicBezTo>
                  <a:close/>
                </a:path>
              </a:pathLst>
            </a:custGeom>
            <a:solidFill>
              <a:srgbClr val="d8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06" name="Block Arc 31"/>
            <p:cNvSpPr/>
            <p:nvPr/>
          </p:nvSpPr>
          <p:spPr>
            <a:xfrm>
              <a:off x="10328760" y="4436280"/>
              <a:ext cx="708480" cy="731520"/>
            </a:xfrm>
            <a:custGeom>
              <a:avLst/>
              <a:gdLst/>
              <a:ahLst/>
              <a:rect l="l" t="t" r="r" b="b"/>
              <a:pathLst>
                <a:path w="708704" h="731273">
                  <a:moveTo>
                    <a:pt x="261308" y="12830"/>
                  </a:moveTo>
                  <a:cubicBezTo>
                    <a:pt x="444545" y="-38621"/>
                    <a:pt x="634516" y="68123"/>
                    <a:pt x="692050" y="254862"/>
                  </a:cubicBezTo>
                  <a:cubicBezTo>
                    <a:pt x="748051" y="436627"/>
                    <a:pt x="659241" y="632275"/>
                    <a:pt x="488063" y="704245"/>
                  </a:cubicBezTo>
                  <a:cubicBezTo>
                    <a:pt x="311477" y="778488"/>
                    <a:pt x="109616" y="695231"/>
                    <a:pt x="31282" y="515846"/>
                  </a:cubicBezTo>
                  <a:lnTo>
                    <a:pt x="196471" y="439042"/>
                  </a:lnTo>
                  <a:cubicBezTo>
                    <a:pt x="234165" y="531085"/>
                    <a:pt x="334285" y="573760"/>
                    <a:pt x="421158" y="534813"/>
                  </a:cubicBezTo>
                  <a:cubicBezTo>
                    <a:pt x="502733" y="498242"/>
                    <a:pt x="545025" y="401756"/>
                    <a:pt x="518985" y="311631"/>
                  </a:cubicBezTo>
                  <a:cubicBezTo>
                    <a:pt x="491481" y="216440"/>
                    <a:pt x="397744" y="161993"/>
                    <a:pt x="307753" y="188937"/>
                  </a:cubicBezTo>
                  <a:lnTo>
                    <a:pt x="261308" y="12830"/>
                  </a:lnTo>
                  <a:close/>
                </a:path>
              </a:pathLst>
            </a:custGeom>
            <a:solidFill>
              <a:srgbClr val="007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07" name="Text Placeholder 33"/>
            <p:cNvSpPr/>
            <p:nvPr/>
          </p:nvSpPr>
          <p:spPr>
            <a:xfrm flipH="1">
              <a:off x="11147040" y="4582440"/>
              <a:ext cx="4503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00796b"/>
                  </a:solidFill>
                  <a:latin typeface="Source Sans Pro"/>
                  <a:ea typeface="Roboto Black"/>
                </a:rPr>
                <a:t>60%</a:t>
              </a:r>
              <a:endParaRPr b="0" lang="en-US" sz="16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08" name="Text Placeholder 32"/>
            <p:cNvSpPr/>
            <p:nvPr/>
          </p:nvSpPr>
          <p:spPr>
            <a:xfrm flipH="1">
              <a:off x="11147040" y="4856040"/>
              <a:ext cx="45036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Type D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grpSp>
          <p:nvGrpSpPr>
            <p:cNvPr id="1209" name="Group 34"/>
            <p:cNvGrpSpPr/>
            <p:nvPr/>
          </p:nvGrpSpPr>
          <p:grpSpPr>
            <a:xfrm>
              <a:off x="6111720" y="4462560"/>
              <a:ext cx="708480" cy="731880"/>
              <a:chOff x="6111720" y="4462560"/>
              <a:chExt cx="708480" cy="731880"/>
            </a:xfrm>
          </p:grpSpPr>
          <p:sp>
            <p:nvSpPr>
              <p:cNvPr id="1210" name="Donut 46"/>
              <p:cNvSpPr/>
              <p:nvPr/>
            </p:nvSpPr>
            <p:spPr>
              <a:xfrm>
                <a:off x="6111720" y="4462920"/>
                <a:ext cx="708480" cy="731520"/>
              </a:xfrm>
              <a:custGeom>
                <a:avLst/>
                <a:gdLst/>
                <a:ahLst/>
                <a:rect l="l" t="t" r="r" b="b"/>
                <a:pathLst>
                  <a:path w="802117" h="778678">
                    <a:moveTo>
                      <a:pt x="0" y="389339"/>
                    </a:moveTo>
                    <a:cubicBezTo>
                      <a:pt x="0" y="174313"/>
                      <a:pt x="179560" y="0"/>
                      <a:pt x="401059" y="0"/>
                    </a:cubicBezTo>
                    <a:cubicBezTo>
                      <a:pt x="622558" y="0"/>
                      <a:pt x="802118" y="174313"/>
                      <a:pt x="802118" y="389339"/>
                    </a:cubicBezTo>
                    <a:cubicBezTo>
                      <a:pt x="802118" y="604365"/>
                      <a:pt x="622558" y="778678"/>
                      <a:pt x="401059" y="778678"/>
                    </a:cubicBezTo>
                    <a:cubicBezTo>
                      <a:pt x="179560" y="778678"/>
                      <a:pt x="0" y="604365"/>
                      <a:pt x="0" y="389339"/>
                    </a:cubicBezTo>
                    <a:close/>
                    <a:moveTo>
                      <a:pt x="194670" y="389339"/>
                    </a:moveTo>
                    <a:cubicBezTo>
                      <a:pt x="194670" y="496852"/>
                      <a:pt x="287074" y="584009"/>
                      <a:pt x="401059" y="584009"/>
                    </a:cubicBezTo>
                    <a:cubicBezTo>
                      <a:pt x="515044" y="584009"/>
                      <a:pt x="607448" y="496852"/>
                      <a:pt x="607448" y="389339"/>
                    </a:cubicBezTo>
                    <a:cubicBezTo>
                      <a:pt x="607448" y="281826"/>
                      <a:pt x="515044" y="194669"/>
                      <a:pt x="401059" y="194669"/>
                    </a:cubicBezTo>
                    <a:cubicBezTo>
                      <a:pt x="287074" y="194669"/>
                      <a:pt x="194670" y="281826"/>
                      <a:pt x="194670" y="389339"/>
                    </a:cubicBezTo>
                    <a:close/>
                  </a:path>
                </a:pathLst>
              </a:custGeom>
              <a:solidFill>
                <a:srgbClr val="d8d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11" name="Block Arc 47"/>
              <p:cNvSpPr/>
              <p:nvPr/>
            </p:nvSpPr>
            <p:spPr>
              <a:xfrm>
                <a:off x="6111720" y="4462560"/>
                <a:ext cx="708480" cy="731520"/>
              </a:xfrm>
              <a:custGeom>
                <a:avLst/>
                <a:gdLst/>
                <a:ahLst/>
                <a:rect l="l" t="t" r="r" b="b"/>
                <a:pathLst>
                  <a:path w="802117" h="778678">
                    <a:moveTo>
                      <a:pt x="408264" y="63"/>
                    </a:moveTo>
                    <a:cubicBezTo>
                      <a:pt x="615241" y="3674"/>
                      <a:pt x="785381" y="159616"/>
                      <a:pt x="800977" y="360006"/>
                    </a:cubicBezTo>
                    <a:cubicBezTo>
                      <a:pt x="816673" y="561675"/>
                      <a:pt x="670699" y="741430"/>
                      <a:pt x="465035" y="773692"/>
                    </a:cubicBezTo>
                    <a:lnTo>
                      <a:pt x="434067" y="587645"/>
                    </a:lnTo>
                    <a:cubicBezTo>
                      <a:pt x="543598" y="571369"/>
                      <a:pt x="621465" y="478249"/>
                      <a:pt x="612884" y="373803"/>
                    </a:cubicBezTo>
                    <a:cubicBezTo>
                      <a:pt x="604406" y="270620"/>
                      <a:pt x="514293" y="190437"/>
                      <a:pt x="404774" y="188628"/>
                    </a:cubicBezTo>
                    <a:cubicBezTo>
                      <a:pt x="405937" y="125773"/>
                      <a:pt x="407101" y="62918"/>
                      <a:pt x="408264" y="63"/>
                    </a:cubicBezTo>
                    <a:close/>
                  </a:path>
                </a:pathLst>
              </a:custGeom>
              <a:solidFill>
                <a:srgbClr val="26a6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1212" name="Text Placeholder 33"/>
            <p:cNvSpPr/>
            <p:nvPr/>
          </p:nvSpPr>
          <p:spPr>
            <a:xfrm flipH="1">
              <a:off x="6898320" y="4602240"/>
              <a:ext cx="4503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26a69a"/>
                  </a:solidFill>
                  <a:latin typeface="Source Sans Pro"/>
                  <a:ea typeface="Roboto Black"/>
                </a:rPr>
                <a:t>20%</a:t>
              </a:r>
              <a:endParaRPr b="0" lang="en-US" sz="16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13" name="Text Placeholder 32"/>
            <p:cNvSpPr/>
            <p:nvPr/>
          </p:nvSpPr>
          <p:spPr>
            <a:xfrm flipH="1">
              <a:off x="6898320" y="4875840"/>
              <a:ext cx="45036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Type A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grpSp>
          <p:nvGrpSpPr>
            <p:cNvPr id="1214" name="Group 37"/>
            <p:cNvGrpSpPr/>
            <p:nvPr/>
          </p:nvGrpSpPr>
          <p:grpSpPr>
            <a:xfrm>
              <a:off x="7461720" y="4465080"/>
              <a:ext cx="708480" cy="731880"/>
              <a:chOff x="7461720" y="4465080"/>
              <a:chExt cx="708480" cy="731880"/>
            </a:xfrm>
          </p:grpSpPr>
          <p:sp>
            <p:nvSpPr>
              <p:cNvPr id="1215" name="Donut 44"/>
              <p:cNvSpPr/>
              <p:nvPr/>
            </p:nvSpPr>
            <p:spPr>
              <a:xfrm>
                <a:off x="7461720" y="4465440"/>
                <a:ext cx="708480" cy="731520"/>
              </a:xfrm>
              <a:custGeom>
                <a:avLst/>
                <a:gdLst/>
                <a:ahLst/>
                <a:rect l="l" t="t" r="r" b="b"/>
                <a:pathLst>
                  <a:path w="802117" h="778678">
                    <a:moveTo>
                      <a:pt x="0" y="389339"/>
                    </a:moveTo>
                    <a:cubicBezTo>
                      <a:pt x="0" y="174313"/>
                      <a:pt x="179560" y="0"/>
                      <a:pt x="401059" y="0"/>
                    </a:cubicBezTo>
                    <a:cubicBezTo>
                      <a:pt x="622558" y="0"/>
                      <a:pt x="802118" y="174313"/>
                      <a:pt x="802118" y="389339"/>
                    </a:cubicBezTo>
                    <a:cubicBezTo>
                      <a:pt x="802118" y="604365"/>
                      <a:pt x="622558" y="778678"/>
                      <a:pt x="401059" y="778678"/>
                    </a:cubicBezTo>
                    <a:cubicBezTo>
                      <a:pt x="179560" y="778678"/>
                      <a:pt x="0" y="604365"/>
                      <a:pt x="0" y="389339"/>
                    </a:cubicBezTo>
                    <a:close/>
                    <a:moveTo>
                      <a:pt x="194670" y="389339"/>
                    </a:moveTo>
                    <a:cubicBezTo>
                      <a:pt x="194670" y="496852"/>
                      <a:pt x="287074" y="584009"/>
                      <a:pt x="401059" y="584009"/>
                    </a:cubicBezTo>
                    <a:cubicBezTo>
                      <a:pt x="515044" y="584009"/>
                      <a:pt x="607448" y="496852"/>
                      <a:pt x="607448" y="389339"/>
                    </a:cubicBezTo>
                    <a:cubicBezTo>
                      <a:pt x="607448" y="281826"/>
                      <a:pt x="515044" y="194669"/>
                      <a:pt x="401059" y="194669"/>
                    </a:cubicBezTo>
                    <a:cubicBezTo>
                      <a:pt x="287074" y="194669"/>
                      <a:pt x="194670" y="281826"/>
                      <a:pt x="194670" y="389339"/>
                    </a:cubicBezTo>
                    <a:close/>
                  </a:path>
                </a:pathLst>
              </a:custGeom>
              <a:solidFill>
                <a:srgbClr val="d8d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16" name="Block Arc 45"/>
              <p:cNvSpPr/>
              <p:nvPr/>
            </p:nvSpPr>
            <p:spPr>
              <a:xfrm>
                <a:off x="7461720" y="4465080"/>
                <a:ext cx="708480" cy="731520"/>
              </a:xfrm>
              <a:custGeom>
                <a:avLst/>
                <a:gdLst/>
                <a:ahLst/>
                <a:rect l="l" t="t" r="r" b="b"/>
                <a:pathLst>
                  <a:path w="802117" h="778678">
                    <a:moveTo>
                      <a:pt x="408264" y="63"/>
                    </a:moveTo>
                    <a:cubicBezTo>
                      <a:pt x="627625" y="3890"/>
                      <a:pt x="803107" y="178119"/>
                      <a:pt x="802113" y="391102"/>
                    </a:cubicBezTo>
                    <a:cubicBezTo>
                      <a:pt x="801120" y="604006"/>
                      <a:pt x="624147" y="776652"/>
                      <a:pt x="404841" y="778661"/>
                    </a:cubicBezTo>
                    <a:cubicBezTo>
                      <a:pt x="404237" y="716533"/>
                      <a:pt x="403634" y="654405"/>
                      <a:pt x="403030" y="592277"/>
                    </a:cubicBezTo>
                    <a:cubicBezTo>
                      <a:pt x="520424" y="591257"/>
                      <a:pt x="615176" y="501271"/>
                      <a:pt x="615722" y="390282"/>
                    </a:cubicBezTo>
                    <a:cubicBezTo>
                      <a:pt x="616268" y="279216"/>
                      <a:pt x="522278" y="188366"/>
                      <a:pt x="404815" y="186422"/>
                    </a:cubicBezTo>
                    <a:cubicBezTo>
                      <a:pt x="405965" y="124302"/>
                      <a:pt x="407114" y="62183"/>
                      <a:pt x="408264" y="63"/>
                    </a:cubicBezTo>
                    <a:close/>
                  </a:path>
                </a:pathLst>
              </a:custGeom>
              <a:solidFill>
                <a:srgbClr val="0096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1217" name="Text Placeholder 33"/>
            <p:cNvSpPr/>
            <p:nvPr/>
          </p:nvSpPr>
          <p:spPr>
            <a:xfrm flipH="1">
              <a:off x="8263800" y="4605120"/>
              <a:ext cx="4503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009688"/>
                  </a:solidFill>
                  <a:latin typeface="Source Sans Pro"/>
                  <a:ea typeface="Roboto Black"/>
                </a:rPr>
                <a:t>50%</a:t>
              </a:r>
              <a:endParaRPr b="0" lang="en-US" sz="16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18" name="Text Placeholder 32"/>
            <p:cNvSpPr/>
            <p:nvPr/>
          </p:nvSpPr>
          <p:spPr>
            <a:xfrm flipH="1">
              <a:off x="8263800" y="4879080"/>
              <a:ext cx="45036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Type B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19" name="Donut 40"/>
            <p:cNvSpPr/>
            <p:nvPr/>
          </p:nvSpPr>
          <p:spPr>
            <a:xfrm>
              <a:off x="8938800" y="4465800"/>
              <a:ext cx="708480" cy="731520"/>
            </a:xfrm>
            <a:custGeom>
              <a:avLst/>
              <a:gdLst/>
              <a:ahLst/>
              <a:rect l="l" t="t" r="r" b="b"/>
              <a:pathLst>
                <a:path w="708704" h="731273">
                  <a:moveTo>
                    <a:pt x="0" y="365637"/>
                  </a:moveTo>
                  <a:cubicBezTo>
                    <a:pt x="0" y="163701"/>
                    <a:pt x="158649" y="0"/>
                    <a:pt x="354352" y="0"/>
                  </a:cubicBezTo>
                  <a:cubicBezTo>
                    <a:pt x="550055" y="0"/>
                    <a:pt x="708704" y="163701"/>
                    <a:pt x="708704" y="365637"/>
                  </a:cubicBezTo>
                  <a:cubicBezTo>
                    <a:pt x="708704" y="567573"/>
                    <a:pt x="550055" y="731274"/>
                    <a:pt x="354352" y="731274"/>
                  </a:cubicBezTo>
                  <a:cubicBezTo>
                    <a:pt x="158649" y="731274"/>
                    <a:pt x="0" y="567573"/>
                    <a:pt x="0" y="365637"/>
                  </a:cubicBezTo>
                  <a:close/>
                  <a:moveTo>
                    <a:pt x="177176" y="365637"/>
                  </a:moveTo>
                  <a:cubicBezTo>
                    <a:pt x="177176" y="469721"/>
                    <a:pt x="256500" y="554098"/>
                    <a:pt x="354352" y="554098"/>
                  </a:cubicBezTo>
                  <a:cubicBezTo>
                    <a:pt x="452204" y="554098"/>
                    <a:pt x="531528" y="469721"/>
                    <a:pt x="531528" y="365637"/>
                  </a:cubicBezTo>
                  <a:cubicBezTo>
                    <a:pt x="531528" y="261553"/>
                    <a:pt x="452204" y="177176"/>
                    <a:pt x="354352" y="177176"/>
                  </a:cubicBezTo>
                  <a:cubicBezTo>
                    <a:pt x="256500" y="177176"/>
                    <a:pt x="177176" y="261553"/>
                    <a:pt x="177176" y="365637"/>
                  </a:cubicBezTo>
                  <a:close/>
                </a:path>
              </a:pathLst>
            </a:custGeom>
            <a:solidFill>
              <a:srgbClr val="d8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20" name="Block Arc 41"/>
            <p:cNvSpPr/>
            <p:nvPr/>
          </p:nvSpPr>
          <p:spPr>
            <a:xfrm>
              <a:off x="8938800" y="4465800"/>
              <a:ext cx="708480" cy="731520"/>
            </a:xfrm>
            <a:custGeom>
              <a:avLst/>
              <a:gdLst/>
              <a:ahLst/>
              <a:rect l="l" t="t" r="r" b="b"/>
              <a:pathLst>
                <a:path w="708704" h="731273">
                  <a:moveTo>
                    <a:pt x="261308" y="12830"/>
                  </a:moveTo>
                  <a:cubicBezTo>
                    <a:pt x="414750" y="-30255"/>
                    <a:pt x="577218" y="37413"/>
                    <a:pt x="658679" y="178335"/>
                  </a:cubicBezTo>
                  <a:cubicBezTo>
                    <a:pt x="736709" y="313321"/>
                    <a:pt x="722404" y="484660"/>
                    <a:pt x="623149" y="603887"/>
                  </a:cubicBezTo>
                  <a:cubicBezTo>
                    <a:pt x="519030" y="728957"/>
                    <a:pt x="346670" y="766651"/>
                    <a:pt x="202332" y="695918"/>
                  </a:cubicBezTo>
                  <a:cubicBezTo>
                    <a:pt x="63181" y="627726"/>
                    <a:pt x="-17332" y="474581"/>
                    <a:pt x="3143" y="317038"/>
                  </a:cubicBezTo>
                  <a:lnTo>
                    <a:pt x="178418" y="341291"/>
                  </a:lnTo>
                  <a:cubicBezTo>
                    <a:pt x="168600" y="421551"/>
                    <a:pt x="207998" y="499532"/>
                    <a:pt x="276344" y="535118"/>
                  </a:cubicBezTo>
                  <a:cubicBezTo>
                    <a:pt x="349789" y="573360"/>
                    <a:pt x="438296" y="553256"/>
                    <a:pt x="490646" y="486441"/>
                  </a:cubicBezTo>
                  <a:cubicBezTo>
                    <a:pt x="538295" y="425626"/>
                    <a:pt x="545190" y="339644"/>
                    <a:pt x="507912" y="271125"/>
                  </a:cubicBezTo>
                  <a:cubicBezTo>
                    <a:pt x="467340" y="196553"/>
                    <a:pt x="384431" y="160678"/>
                    <a:pt x="306436" y="183947"/>
                  </a:cubicBezTo>
                  <a:lnTo>
                    <a:pt x="261308" y="12830"/>
                  </a:lnTo>
                  <a:close/>
                </a:path>
              </a:pathLst>
            </a:custGeom>
            <a:solidFill>
              <a:srgbClr val="0089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21" name="Text Placeholder 33"/>
            <p:cNvSpPr/>
            <p:nvPr/>
          </p:nvSpPr>
          <p:spPr>
            <a:xfrm flipH="1">
              <a:off x="9725760" y="4604760"/>
              <a:ext cx="4503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600" spc="-1" strike="noStrike">
                  <a:solidFill>
                    <a:srgbClr val="00897b"/>
                  </a:solidFill>
                  <a:latin typeface="Source Sans Pro"/>
                  <a:ea typeface="Roboto Black"/>
                </a:rPr>
                <a:t>80%</a:t>
              </a:r>
              <a:endParaRPr b="0" lang="en-US" sz="16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22" name="Text Placeholder 32"/>
            <p:cNvSpPr/>
            <p:nvPr/>
          </p:nvSpPr>
          <p:spPr>
            <a:xfrm flipH="1">
              <a:off x="9725760" y="4878360"/>
              <a:ext cx="45036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Type C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500"/>
                            </p:stCondLst>
                            <p:childTnLst>
                              <p:par>
                                <p:cTn id="7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3" name="Picture 5" descr=""/>
          <p:cNvPicPr/>
          <p:nvPr/>
        </p:nvPicPr>
        <p:blipFill>
          <a:blip r:embed="rId1"/>
          <a:stretch/>
        </p:blipFill>
        <p:spPr>
          <a:xfrm>
            <a:off x="8080200" y="1417680"/>
            <a:ext cx="3762720" cy="5116320"/>
          </a:xfrm>
          <a:prstGeom prst="rect">
            <a:avLst/>
          </a:prstGeom>
          <a:ln w="0">
            <a:noFill/>
          </a:ln>
        </p:spPr>
      </p:pic>
      <p:pic>
        <p:nvPicPr>
          <p:cNvPr id="1224" name="Picture 6" descr=""/>
          <p:cNvPicPr/>
          <p:nvPr/>
        </p:nvPicPr>
        <p:blipFill>
          <a:blip r:embed="rId2"/>
          <a:stretch/>
        </p:blipFill>
        <p:spPr>
          <a:xfrm>
            <a:off x="5851440" y="1741320"/>
            <a:ext cx="3762360" cy="5116680"/>
          </a:xfrm>
          <a:prstGeom prst="rect">
            <a:avLst/>
          </a:prstGeom>
          <a:ln w="0">
            <a:noFill/>
          </a:ln>
        </p:spPr>
      </p:pic>
      <p:sp>
        <p:nvSpPr>
          <p:cNvPr id="1225" name="TextBox 33"/>
          <p:cNvSpPr/>
          <p:nvPr/>
        </p:nvSpPr>
        <p:spPr>
          <a:xfrm>
            <a:off x="3956400" y="538200"/>
            <a:ext cx="4295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Devices Mockup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26" name="Rectangle 34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26a69a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27" name="TextBox 21"/>
          <p:cNvSpPr/>
          <p:nvPr/>
        </p:nvSpPr>
        <p:spPr>
          <a:xfrm>
            <a:off x="501480" y="2448000"/>
            <a:ext cx="4989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I’m a </a:t>
            </a:r>
            <a:r>
              <a:rPr b="1" lang="en-US" sz="2400" spc="-1" strike="noStrike">
                <a:solidFill>
                  <a:srgbClr val="656d78"/>
                </a:solidFill>
                <a:latin typeface="Source Sans Pro"/>
              </a:rPr>
              <a:t>big fan 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of doing what you are </a:t>
            </a:r>
            <a:r>
              <a:rPr b="0" i="1" lang="en-US" sz="2400" spc="-1" strike="noStrike">
                <a:solidFill>
                  <a:srgbClr val="656d78"/>
                </a:solidFill>
                <a:latin typeface="Source Sans Pro"/>
              </a:rPr>
              <a:t>really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 bad at. A </a:t>
            </a:r>
            <a:r>
              <a:rPr b="1" lang="en-US" sz="2400" spc="-1" strike="noStrike">
                <a:solidFill>
                  <a:srgbClr val="656d78"/>
                </a:solidFill>
                <a:latin typeface="Source Sans Pro"/>
              </a:rPr>
              <a:t>lot</a:t>
            </a:r>
            <a:r>
              <a:rPr b="0" lang="en-US" sz="2400" spc="-1" strike="noStrike">
                <a:solidFill>
                  <a:srgbClr val="656d78"/>
                </a:solidFill>
                <a:latin typeface="Source Sans Pro"/>
              </a:rPr>
              <a:t>. </a:t>
            </a:r>
            <a:endParaRPr b="0" lang="en-US" sz="24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28" name="Rectangle 22"/>
          <p:cNvSpPr/>
          <p:nvPr/>
        </p:nvSpPr>
        <p:spPr>
          <a:xfrm>
            <a:off x="501480" y="3406680"/>
            <a:ext cx="48657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229" name="Group 23"/>
          <p:cNvGrpSpPr/>
          <p:nvPr/>
        </p:nvGrpSpPr>
        <p:grpSpPr>
          <a:xfrm>
            <a:off x="622440" y="4608360"/>
            <a:ext cx="1714680" cy="573120"/>
            <a:chOff x="622440" y="4608360"/>
            <a:chExt cx="1714680" cy="573120"/>
          </a:xfrm>
        </p:grpSpPr>
        <p:sp>
          <p:nvSpPr>
            <p:cNvPr id="1230" name="Oval 24"/>
            <p:cNvSpPr/>
            <p:nvPr/>
          </p:nvSpPr>
          <p:spPr>
            <a:xfrm>
              <a:off x="622440" y="4633560"/>
              <a:ext cx="548280" cy="547920"/>
            </a:xfrm>
            <a:prstGeom prst="ellipse">
              <a:avLst/>
            </a:prstGeom>
            <a:gradFill rotWithShape="0">
              <a:gsLst>
                <a:gs pos="0">
                  <a:srgbClr val="4fb2a7"/>
                </a:gs>
                <a:gs pos="100000">
                  <a:srgbClr val="159e91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31" name="TextBox 25"/>
            <p:cNvSpPr/>
            <p:nvPr/>
          </p:nvSpPr>
          <p:spPr>
            <a:xfrm>
              <a:off x="1263240" y="460836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6d78"/>
                  </a:solidFill>
                  <a:latin typeface="Source Sans Pro"/>
                  <a:ea typeface="Roboto Black"/>
                </a:rPr>
                <a:t>2.888 K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32" name="Rectangle 26"/>
            <p:cNvSpPr/>
            <p:nvPr/>
          </p:nvSpPr>
          <p:spPr>
            <a:xfrm>
              <a:off x="1359720" y="4989960"/>
              <a:ext cx="60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Male User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33" name="Shape 2614"/>
            <p:cNvSpPr/>
            <p:nvPr/>
          </p:nvSpPr>
          <p:spPr>
            <a:xfrm>
              <a:off x="753120" y="478404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958" y="17505"/>
                  </a:moveTo>
                  <a:cubicBezTo>
                    <a:pt x="17372" y="16944"/>
                    <a:pt x="16242" y="15945"/>
                    <a:pt x="15117" y="15413"/>
                  </a:cubicBezTo>
                  <a:cubicBezTo>
                    <a:pt x="14189" y="14975"/>
                    <a:pt x="13657" y="14531"/>
                    <a:pt x="13491" y="14057"/>
                  </a:cubicBezTo>
                  <a:cubicBezTo>
                    <a:pt x="13377" y="13728"/>
                    <a:pt x="13428" y="13351"/>
                    <a:pt x="13649" y="12904"/>
                  </a:cubicBezTo>
                  <a:cubicBezTo>
                    <a:pt x="13815" y="12567"/>
                    <a:pt x="13972" y="12286"/>
                    <a:pt x="14117" y="12028"/>
                  </a:cubicBezTo>
                  <a:cubicBezTo>
                    <a:pt x="14730" y="10934"/>
                    <a:pt x="15203" y="10145"/>
                    <a:pt x="15203" y="7348"/>
                  </a:cubicBezTo>
                  <a:cubicBezTo>
                    <a:pt x="15203" y="3162"/>
                    <a:pt x="12787" y="2951"/>
                    <a:pt x="12309" y="2951"/>
                  </a:cubicBezTo>
                  <a:cubicBezTo>
                    <a:pt x="11917" y="2951"/>
                    <a:pt x="11672" y="3037"/>
                    <a:pt x="11435" y="3121"/>
                  </a:cubicBezTo>
                  <a:cubicBezTo>
                    <a:pt x="11175" y="3213"/>
                    <a:pt x="10907" y="3309"/>
                    <a:pt x="10296" y="3319"/>
                  </a:cubicBezTo>
                  <a:cubicBezTo>
                    <a:pt x="9190" y="3337"/>
                    <a:pt x="6873" y="3375"/>
                    <a:pt x="6873" y="7226"/>
                  </a:cubicBezTo>
                  <a:cubicBezTo>
                    <a:pt x="6873" y="9919"/>
                    <a:pt x="7574" y="11156"/>
                    <a:pt x="8125" y="12150"/>
                  </a:cubicBezTo>
                  <a:cubicBezTo>
                    <a:pt x="8266" y="12404"/>
                    <a:pt x="8399" y="12645"/>
                    <a:pt x="8505" y="12885"/>
                  </a:cubicBezTo>
                  <a:cubicBezTo>
                    <a:pt x="8973" y="13949"/>
                    <a:pt x="8631" y="14693"/>
                    <a:pt x="7426" y="15224"/>
                  </a:cubicBezTo>
                  <a:cubicBezTo>
                    <a:pt x="5905" y="15897"/>
                    <a:pt x="5188" y="16247"/>
                    <a:pt x="3693" y="17562"/>
                  </a:cubicBezTo>
                  <a:cubicBezTo>
                    <a:pt x="2017" y="15800"/>
                    <a:pt x="982" y="134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3395"/>
                    <a:pt x="19603" y="15749"/>
                    <a:pt x="17958" y="17505"/>
                  </a:cubicBezTo>
                  <a:moveTo>
                    <a:pt x="10800" y="20618"/>
                  </a:moveTo>
                  <a:cubicBezTo>
                    <a:pt x="8356" y="20618"/>
                    <a:pt x="6125" y="19720"/>
                    <a:pt x="4407" y="18242"/>
                  </a:cubicBezTo>
                  <a:cubicBezTo>
                    <a:pt x="5730" y="17084"/>
                    <a:pt x="6362" y="16767"/>
                    <a:pt x="7823" y="16122"/>
                  </a:cubicBezTo>
                  <a:cubicBezTo>
                    <a:pt x="9515" y="15375"/>
                    <a:pt x="10091" y="14051"/>
                    <a:pt x="9403" y="12489"/>
                  </a:cubicBezTo>
                  <a:cubicBezTo>
                    <a:pt x="9279" y="12208"/>
                    <a:pt x="9136" y="11949"/>
                    <a:pt x="8984" y="11674"/>
                  </a:cubicBezTo>
                  <a:cubicBezTo>
                    <a:pt x="8461" y="10732"/>
                    <a:pt x="7855" y="9665"/>
                    <a:pt x="7855" y="7226"/>
                  </a:cubicBezTo>
                  <a:cubicBezTo>
                    <a:pt x="7855" y="4341"/>
                    <a:pt x="9224" y="4318"/>
                    <a:pt x="10312" y="4300"/>
                  </a:cubicBezTo>
                  <a:cubicBezTo>
                    <a:pt x="11084" y="4287"/>
                    <a:pt x="11461" y="4154"/>
                    <a:pt x="11763" y="4047"/>
                  </a:cubicBezTo>
                  <a:cubicBezTo>
                    <a:pt x="11964" y="3975"/>
                    <a:pt x="12086" y="3933"/>
                    <a:pt x="12309" y="3933"/>
                  </a:cubicBezTo>
                  <a:cubicBezTo>
                    <a:pt x="13218" y="3933"/>
                    <a:pt x="14221" y="4830"/>
                    <a:pt x="14221" y="7348"/>
                  </a:cubicBezTo>
                  <a:cubicBezTo>
                    <a:pt x="14221" y="9888"/>
                    <a:pt x="13840" y="10513"/>
                    <a:pt x="13261" y="11548"/>
                  </a:cubicBezTo>
                  <a:cubicBezTo>
                    <a:pt x="13108" y="11820"/>
                    <a:pt x="12943" y="12115"/>
                    <a:pt x="12768" y="12470"/>
                  </a:cubicBezTo>
                  <a:cubicBezTo>
                    <a:pt x="12430" y="13155"/>
                    <a:pt x="12362" y="13798"/>
                    <a:pt x="12565" y="14380"/>
                  </a:cubicBezTo>
                  <a:cubicBezTo>
                    <a:pt x="12825" y="15126"/>
                    <a:pt x="13502" y="15737"/>
                    <a:pt x="14696" y="16302"/>
                  </a:cubicBezTo>
                  <a:cubicBezTo>
                    <a:pt x="15675" y="16764"/>
                    <a:pt x="16700" y="17667"/>
                    <a:pt x="17251" y="18189"/>
                  </a:cubicBezTo>
                  <a:cubicBezTo>
                    <a:pt x="15525" y="19697"/>
                    <a:pt x="13272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5" y="21600"/>
                    <a:pt x="21600" y="16764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34" name="Group 28"/>
          <p:cNvGrpSpPr/>
          <p:nvPr/>
        </p:nvGrpSpPr>
        <p:grpSpPr>
          <a:xfrm>
            <a:off x="2568600" y="4630680"/>
            <a:ext cx="1714680" cy="574560"/>
            <a:chOff x="2568600" y="4630680"/>
            <a:chExt cx="1714680" cy="574560"/>
          </a:xfrm>
        </p:grpSpPr>
        <p:sp>
          <p:nvSpPr>
            <p:cNvPr id="1235" name="Oval 29"/>
            <p:cNvSpPr/>
            <p:nvPr/>
          </p:nvSpPr>
          <p:spPr>
            <a:xfrm>
              <a:off x="2568600" y="4655880"/>
              <a:ext cx="548280" cy="549360"/>
            </a:xfrm>
            <a:prstGeom prst="ellipse">
              <a:avLst/>
            </a:prstGeom>
            <a:gradFill rotWithShape="0">
              <a:gsLst>
                <a:gs pos="0">
                  <a:srgbClr val="45a497"/>
                </a:gs>
                <a:gs pos="100000">
                  <a:srgbClr val="009283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36" name="TextBox 30"/>
            <p:cNvSpPr/>
            <p:nvPr/>
          </p:nvSpPr>
          <p:spPr>
            <a:xfrm>
              <a:off x="3209400" y="463068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6d78"/>
                  </a:solidFill>
                  <a:latin typeface="Source Sans Pro"/>
                  <a:ea typeface="Roboto Black"/>
                </a:rPr>
                <a:t>1.074 K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37" name="Rectangle 31"/>
            <p:cNvSpPr/>
            <p:nvPr/>
          </p:nvSpPr>
          <p:spPr>
            <a:xfrm>
              <a:off x="3305520" y="500256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Female User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38" name="Shape 2615"/>
            <p:cNvSpPr/>
            <p:nvPr/>
          </p:nvSpPr>
          <p:spPr>
            <a:xfrm>
              <a:off x="2702880" y="4786200"/>
              <a:ext cx="27900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593" y="17878"/>
                  </a:moveTo>
                  <a:cubicBezTo>
                    <a:pt x="16514" y="16546"/>
                    <a:pt x="15177" y="15812"/>
                    <a:pt x="14084" y="15323"/>
                  </a:cubicBezTo>
                  <a:cubicBezTo>
                    <a:pt x="13842" y="15214"/>
                    <a:pt x="13687" y="15099"/>
                    <a:pt x="13598" y="14990"/>
                  </a:cubicBezTo>
                  <a:cubicBezTo>
                    <a:pt x="15238" y="14959"/>
                    <a:pt x="16521" y="14237"/>
                    <a:pt x="16581" y="14203"/>
                  </a:cubicBezTo>
                  <a:cubicBezTo>
                    <a:pt x="16751" y="14106"/>
                    <a:pt x="16846" y="13918"/>
                    <a:pt x="16826" y="13724"/>
                  </a:cubicBezTo>
                  <a:cubicBezTo>
                    <a:pt x="16807" y="13546"/>
                    <a:pt x="16693" y="13394"/>
                    <a:pt x="16530" y="13325"/>
                  </a:cubicBezTo>
                  <a:cubicBezTo>
                    <a:pt x="16461" y="13275"/>
                    <a:pt x="15663" y="12629"/>
                    <a:pt x="15663" y="9051"/>
                  </a:cubicBezTo>
                  <a:cubicBezTo>
                    <a:pt x="15663" y="5000"/>
                    <a:pt x="14115" y="2945"/>
                    <a:pt x="11061" y="2945"/>
                  </a:cubicBezTo>
                  <a:cubicBezTo>
                    <a:pt x="8481" y="2945"/>
                    <a:pt x="5845" y="3642"/>
                    <a:pt x="5845" y="8806"/>
                  </a:cubicBezTo>
                  <a:cubicBezTo>
                    <a:pt x="5845" y="12555"/>
                    <a:pt x="5219" y="13278"/>
                    <a:pt x="5122" y="13367"/>
                  </a:cubicBezTo>
                  <a:cubicBezTo>
                    <a:pt x="4957" y="13416"/>
                    <a:pt x="4826" y="13551"/>
                    <a:pt x="4784" y="13723"/>
                  </a:cubicBezTo>
                  <a:cubicBezTo>
                    <a:pt x="4734" y="13935"/>
                    <a:pt x="4828" y="14153"/>
                    <a:pt x="5015" y="14262"/>
                  </a:cubicBezTo>
                  <a:cubicBezTo>
                    <a:pt x="6396" y="15064"/>
                    <a:pt x="7482" y="15136"/>
                    <a:pt x="8065" y="15091"/>
                  </a:cubicBezTo>
                  <a:cubicBezTo>
                    <a:pt x="7994" y="15151"/>
                    <a:pt x="7850" y="15241"/>
                    <a:pt x="7564" y="15335"/>
                  </a:cubicBezTo>
                  <a:cubicBezTo>
                    <a:pt x="6211" y="15776"/>
                    <a:pt x="4766" y="16807"/>
                    <a:pt x="3958" y="17834"/>
                  </a:cubicBezTo>
                  <a:cubicBezTo>
                    <a:pt x="2125" y="16050"/>
                    <a:pt x="982" y="13560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2" y="982"/>
                    <a:pt x="20618" y="5377"/>
                    <a:pt x="20618" y="10800"/>
                  </a:cubicBezTo>
                  <a:cubicBezTo>
                    <a:pt x="20618" y="13584"/>
                    <a:pt x="19454" y="16092"/>
                    <a:pt x="17593" y="17878"/>
                  </a:cubicBezTo>
                  <a:moveTo>
                    <a:pt x="10800" y="20618"/>
                  </a:moveTo>
                  <a:cubicBezTo>
                    <a:pt x="8489" y="20618"/>
                    <a:pt x="6370" y="19815"/>
                    <a:pt x="4693" y="18480"/>
                  </a:cubicBezTo>
                  <a:cubicBezTo>
                    <a:pt x="5360" y="17604"/>
                    <a:pt x="6693" y="16652"/>
                    <a:pt x="7869" y="16268"/>
                  </a:cubicBezTo>
                  <a:cubicBezTo>
                    <a:pt x="8578" y="16037"/>
                    <a:pt x="8988" y="15688"/>
                    <a:pt x="9087" y="15232"/>
                  </a:cubicBezTo>
                  <a:cubicBezTo>
                    <a:pt x="9214" y="14656"/>
                    <a:pt x="8775" y="14230"/>
                    <a:pt x="8725" y="14183"/>
                  </a:cubicBezTo>
                  <a:cubicBezTo>
                    <a:pt x="8597" y="14065"/>
                    <a:pt x="8412" y="14025"/>
                    <a:pt x="8246" y="14075"/>
                  </a:cubicBezTo>
                  <a:cubicBezTo>
                    <a:pt x="8208" y="14086"/>
                    <a:pt x="7406" y="14309"/>
                    <a:pt x="6089" y="13714"/>
                  </a:cubicBezTo>
                  <a:cubicBezTo>
                    <a:pt x="6486" y="13026"/>
                    <a:pt x="6826" y="11618"/>
                    <a:pt x="6826" y="8806"/>
                  </a:cubicBezTo>
                  <a:cubicBezTo>
                    <a:pt x="6826" y="4301"/>
                    <a:pt x="8829" y="3928"/>
                    <a:pt x="11061" y="3928"/>
                  </a:cubicBezTo>
                  <a:cubicBezTo>
                    <a:pt x="12615" y="3928"/>
                    <a:pt x="14681" y="4458"/>
                    <a:pt x="14681" y="9051"/>
                  </a:cubicBezTo>
                  <a:cubicBezTo>
                    <a:pt x="14681" y="11662"/>
                    <a:pt x="15092" y="12966"/>
                    <a:pt x="15499" y="13617"/>
                  </a:cubicBezTo>
                  <a:cubicBezTo>
                    <a:pt x="14943" y="13829"/>
                    <a:pt x="14058" y="14076"/>
                    <a:pt x="13097" y="13993"/>
                  </a:cubicBezTo>
                  <a:cubicBezTo>
                    <a:pt x="12883" y="13971"/>
                    <a:pt x="12690" y="14092"/>
                    <a:pt x="12605" y="14285"/>
                  </a:cubicBezTo>
                  <a:cubicBezTo>
                    <a:pt x="12420" y="14704"/>
                    <a:pt x="12408" y="15649"/>
                    <a:pt x="13683" y="16219"/>
                  </a:cubicBezTo>
                  <a:cubicBezTo>
                    <a:pt x="14677" y="16664"/>
                    <a:pt x="15893" y="17331"/>
                    <a:pt x="16850" y="18522"/>
                  </a:cubicBezTo>
                  <a:cubicBezTo>
                    <a:pt x="15182" y="19831"/>
                    <a:pt x="13085" y="20618"/>
                    <a:pt x="10800" y="20618"/>
                  </a:cubicBezTo>
                  <a:moveTo>
                    <a:pt x="10800" y="0"/>
                  </a:moveTo>
                  <a:cubicBezTo>
                    <a:pt x="4835" y="0"/>
                    <a:pt x="0" y="4836"/>
                    <a:pt x="0" y="10800"/>
                  </a:cubicBezTo>
                  <a:cubicBezTo>
                    <a:pt x="0" y="16765"/>
                    <a:pt x="4835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0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9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500"/>
                            </p:stCondLst>
                            <p:childTnLst>
                              <p:par>
                                <p:cTn id="8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9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500"/>
                            </p:stCondLst>
                            <p:childTnLst>
                              <p:par>
                                <p:cTn id="8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3000"/>
                            </p:stCondLst>
                            <p:childTnLst>
                              <p:par>
                                <p:cTn id="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3500"/>
                            </p:stCondLst>
                            <p:childTnLst>
                              <p:par>
                                <p:cTn id="8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Group 17"/>
          <p:cNvGrpSpPr/>
          <p:nvPr/>
        </p:nvGrpSpPr>
        <p:grpSpPr>
          <a:xfrm>
            <a:off x="5657760" y="1897200"/>
            <a:ext cx="990360" cy="955080"/>
            <a:chOff x="5657760" y="1897200"/>
            <a:chExt cx="990360" cy="955080"/>
          </a:xfrm>
        </p:grpSpPr>
        <p:sp>
          <p:nvSpPr>
            <p:cNvPr id="740" name="AutoShape 16"/>
            <p:cNvSpPr/>
            <p:nvPr/>
          </p:nvSpPr>
          <p:spPr>
            <a:xfrm>
              <a:off x="5657760" y="1897200"/>
              <a:ext cx="990360" cy="95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1" name="Freeform 18"/>
            <p:cNvSpPr/>
            <p:nvPr/>
          </p:nvSpPr>
          <p:spPr>
            <a:xfrm>
              <a:off x="5657760" y="1901520"/>
              <a:ext cx="204480" cy="671040"/>
            </a:xfrm>
            <a:custGeom>
              <a:avLst/>
              <a:gdLst/>
              <a:ahLst/>
              <a:rect l="l" t="t" r="r" b="b"/>
              <a:pathLst>
                <a:path w="129" h="425">
                  <a:moveTo>
                    <a:pt x="129" y="0"/>
                  </a:moveTo>
                  <a:lnTo>
                    <a:pt x="0" y="0"/>
                  </a:lnTo>
                  <a:lnTo>
                    <a:pt x="0" y="425"/>
                  </a:lnTo>
                  <a:lnTo>
                    <a:pt x="129" y="425"/>
                  </a:lnTo>
                  <a:lnTo>
                    <a:pt x="129" y="367"/>
                  </a:lnTo>
                  <a:lnTo>
                    <a:pt x="53" y="367"/>
                  </a:lnTo>
                  <a:lnTo>
                    <a:pt x="53" y="52"/>
                  </a:lnTo>
                  <a:lnTo>
                    <a:pt x="129" y="52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00796b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2" name="Freeform 19"/>
            <p:cNvSpPr/>
            <p:nvPr/>
          </p:nvSpPr>
          <p:spPr>
            <a:xfrm>
              <a:off x="5657760" y="1901520"/>
              <a:ext cx="204480" cy="671040"/>
            </a:xfrm>
            <a:custGeom>
              <a:avLst/>
              <a:gdLst/>
              <a:ahLst/>
              <a:rect l="l" t="t" r="r" b="b"/>
              <a:pathLst>
                <a:path w="129" h="425">
                  <a:moveTo>
                    <a:pt x="129" y="0"/>
                  </a:moveTo>
                  <a:lnTo>
                    <a:pt x="0" y="0"/>
                  </a:lnTo>
                  <a:lnTo>
                    <a:pt x="0" y="425"/>
                  </a:lnTo>
                  <a:lnTo>
                    <a:pt x="129" y="425"/>
                  </a:lnTo>
                  <a:lnTo>
                    <a:pt x="129" y="367"/>
                  </a:lnTo>
                  <a:lnTo>
                    <a:pt x="53" y="367"/>
                  </a:lnTo>
                  <a:lnTo>
                    <a:pt x="53" y="52"/>
                  </a:lnTo>
                  <a:lnTo>
                    <a:pt x="129" y="52"/>
                  </a:lnTo>
                  <a:lnTo>
                    <a:pt x="12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3" name="Freeform 20"/>
            <p:cNvSpPr/>
            <p:nvPr/>
          </p:nvSpPr>
          <p:spPr>
            <a:xfrm>
              <a:off x="5930640" y="1901520"/>
              <a:ext cx="414360" cy="671040"/>
            </a:xfrm>
            <a:custGeom>
              <a:avLst/>
              <a:gdLst/>
              <a:ahLst/>
              <a:rect l="l" t="t" r="r" b="b"/>
              <a:pathLst>
                <a:path w="261" h="425">
                  <a:moveTo>
                    <a:pt x="261" y="0"/>
                  </a:moveTo>
                  <a:lnTo>
                    <a:pt x="0" y="0"/>
                  </a:lnTo>
                  <a:lnTo>
                    <a:pt x="0" y="52"/>
                  </a:lnTo>
                  <a:lnTo>
                    <a:pt x="206" y="57"/>
                  </a:lnTo>
                  <a:lnTo>
                    <a:pt x="206" y="370"/>
                  </a:lnTo>
                  <a:lnTo>
                    <a:pt x="129" y="370"/>
                  </a:lnTo>
                  <a:lnTo>
                    <a:pt x="129" y="425"/>
                  </a:lnTo>
                  <a:lnTo>
                    <a:pt x="261" y="425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00796b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4" name="Freeform 21"/>
            <p:cNvSpPr/>
            <p:nvPr/>
          </p:nvSpPr>
          <p:spPr>
            <a:xfrm>
              <a:off x="5930640" y="1901520"/>
              <a:ext cx="414360" cy="671040"/>
            </a:xfrm>
            <a:custGeom>
              <a:avLst/>
              <a:gdLst/>
              <a:ahLst/>
              <a:rect l="l" t="t" r="r" b="b"/>
              <a:pathLst>
                <a:path w="261" h="425">
                  <a:moveTo>
                    <a:pt x="261" y="0"/>
                  </a:moveTo>
                  <a:lnTo>
                    <a:pt x="0" y="0"/>
                  </a:lnTo>
                  <a:lnTo>
                    <a:pt x="0" y="52"/>
                  </a:lnTo>
                  <a:lnTo>
                    <a:pt x="206" y="57"/>
                  </a:lnTo>
                  <a:lnTo>
                    <a:pt x="206" y="370"/>
                  </a:lnTo>
                  <a:lnTo>
                    <a:pt x="129" y="370"/>
                  </a:lnTo>
                  <a:lnTo>
                    <a:pt x="129" y="425"/>
                  </a:lnTo>
                  <a:lnTo>
                    <a:pt x="261" y="425"/>
                  </a:lnTo>
                  <a:lnTo>
                    <a:pt x="26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5" name="Freeform 22"/>
            <p:cNvSpPr/>
            <p:nvPr/>
          </p:nvSpPr>
          <p:spPr>
            <a:xfrm>
              <a:off x="5973480" y="2179440"/>
              <a:ext cx="208080" cy="672840"/>
            </a:xfrm>
            <a:custGeom>
              <a:avLst/>
              <a:gdLst/>
              <a:ahLst/>
              <a:rect l="l" t="t" r="r" b="b"/>
              <a:pathLst>
                <a:path w="131" h="426">
                  <a:moveTo>
                    <a:pt x="131" y="0"/>
                  </a:moveTo>
                  <a:lnTo>
                    <a:pt x="0" y="0"/>
                  </a:lnTo>
                  <a:lnTo>
                    <a:pt x="0" y="426"/>
                  </a:lnTo>
                  <a:lnTo>
                    <a:pt x="131" y="426"/>
                  </a:lnTo>
                  <a:lnTo>
                    <a:pt x="131" y="368"/>
                  </a:lnTo>
                  <a:lnTo>
                    <a:pt x="55" y="368"/>
                  </a:lnTo>
                  <a:lnTo>
                    <a:pt x="55" y="55"/>
                  </a:lnTo>
                  <a:lnTo>
                    <a:pt x="131" y="55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897b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6" name="Freeform 23"/>
            <p:cNvSpPr/>
            <p:nvPr/>
          </p:nvSpPr>
          <p:spPr>
            <a:xfrm>
              <a:off x="5973480" y="2179440"/>
              <a:ext cx="208080" cy="672840"/>
            </a:xfrm>
            <a:custGeom>
              <a:avLst/>
              <a:gdLst/>
              <a:ahLst/>
              <a:rect l="l" t="t" r="r" b="b"/>
              <a:pathLst>
                <a:path w="131" h="426">
                  <a:moveTo>
                    <a:pt x="131" y="0"/>
                  </a:moveTo>
                  <a:lnTo>
                    <a:pt x="0" y="0"/>
                  </a:lnTo>
                  <a:lnTo>
                    <a:pt x="0" y="426"/>
                  </a:lnTo>
                  <a:lnTo>
                    <a:pt x="131" y="426"/>
                  </a:lnTo>
                  <a:lnTo>
                    <a:pt x="131" y="368"/>
                  </a:lnTo>
                  <a:lnTo>
                    <a:pt x="55" y="368"/>
                  </a:lnTo>
                  <a:lnTo>
                    <a:pt x="55" y="55"/>
                  </a:lnTo>
                  <a:lnTo>
                    <a:pt x="131" y="55"/>
                  </a:lnTo>
                  <a:lnTo>
                    <a:pt x="13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7" name="Freeform 24"/>
            <p:cNvSpPr/>
            <p:nvPr/>
          </p:nvSpPr>
          <p:spPr>
            <a:xfrm>
              <a:off x="6238440" y="2179440"/>
              <a:ext cx="409680" cy="672840"/>
            </a:xfrm>
            <a:custGeom>
              <a:avLst/>
              <a:gdLst/>
              <a:ahLst/>
              <a:rect l="l" t="t" r="r" b="b"/>
              <a:pathLst>
                <a:path w="258" h="426">
                  <a:moveTo>
                    <a:pt x="258" y="0"/>
                  </a:moveTo>
                  <a:lnTo>
                    <a:pt x="129" y="0"/>
                  </a:lnTo>
                  <a:lnTo>
                    <a:pt x="129" y="58"/>
                  </a:lnTo>
                  <a:lnTo>
                    <a:pt x="205" y="58"/>
                  </a:lnTo>
                  <a:lnTo>
                    <a:pt x="205" y="371"/>
                  </a:lnTo>
                  <a:lnTo>
                    <a:pt x="0" y="368"/>
                  </a:lnTo>
                  <a:lnTo>
                    <a:pt x="0" y="426"/>
                  </a:lnTo>
                  <a:lnTo>
                    <a:pt x="258" y="426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897b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748" name="Freeform 25"/>
            <p:cNvSpPr/>
            <p:nvPr/>
          </p:nvSpPr>
          <p:spPr>
            <a:xfrm>
              <a:off x="6238440" y="2179440"/>
              <a:ext cx="409680" cy="672840"/>
            </a:xfrm>
            <a:custGeom>
              <a:avLst/>
              <a:gdLst/>
              <a:ahLst/>
              <a:rect l="l" t="t" r="r" b="b"/>
              <a:pathLst>
                <a:path w="258" h="426">
                  <a:moveTo>
                    <a:pt x="258" y="0"/>
                  </a:moveTo>
                  <a:lnTo>
                    <a:pt x="129" y="0"/>
                  </a:lnTo>
                  <a:lnTo>
                    <a:pt x="129" y="58"/>
                  </a:lnTo>
                  <a:lnTo>
                    <a:pt x="205" y="58"/>
                  </a:lnTo>
                  <a:lnTo>
                    <a:pt x="205" y="371"/>
                  </a:lnTo>
                  <a:lnTo>
                    <a:pt x="0" y="368"/>
                  </a:lnTo>
                  <a:lnTo>
                    <a:pt x="0" y="426"/>
                  </a:lnTo>
                  <a:lnTo>
                    <a:pt x="258" y="426"/>
                  </a:lnTo>
                  <a:lnTo>
                    <a:pt x="25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749" name="Title 1"/>
          <p:cNvSpPr/>
          <p:nvPr/>
        </p:nvSpPr>
        <p:spPr>
          <a:xfrm>
            <a:off x="4106880" y="3276720"/>
            <a:ext cx="3984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56d78"/>
                </a:solidFill>
                <a:latin typeface="Source Sans Pro"/>
                <a:ea typeface="Roboto"/>
              </a:rPr>
              <a:t>Welcome Message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0" name="Content Placeholder 2"/>
          <p:cNvSpPr/>
          <p:nvPr/>
        </p:nvSpPr>
        <p:spPr>
          <a:xfrm>
            <a:off x="4915080" y="3784680"/>
            <a:ext cx="2368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  <a:ea typeface="Roboto Light"/>
              </a:rPr>
              <a:t>John Doe / Director of </a:t>
            </a:r>
            <a:r>
              <a:rPr b="0" lang="en-US" sz="1100" spc="-1" strike="noStrike">
                <a:solidFill>
                  <a:srgbClr val="26a69a"/>
                </a:solidFill>
                <a:latin typeface="Source Sans Pro Light"/>
                <a:ea typeface="Roboto Light"/>
              </a:rPr>
              <a:t>Attractive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1" name="Rectangle 13"/>
          <p:cNvSpPr/>
          <p:nvPr/>
        </p:nvSpPr>
        <p:spPr>
          <a:xfrm>
            <a:off x="3051000" y="4098960"/>
            <a:ext cx="60962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9" name="Picture 4" descr=""/>
          <p:cNvPicPr/>
          <p:nvPr/>
        </p:nvPicPr>
        <p:blipFill>
          <a:blip r:embed="rId1"/>
          <a:stretch/>
        </p:blipFill>
        <p:spPr>
          <a:xfrm>
            <a:off x="-1241280" y="1530360"/>
            <a:ext cx="7705440" cy="4470480"/>
          </a:xfrm>
          <a:prstGeom prst="rect">
            <a:avLst/>
          </a:prstGeom>
          <a:ln w="0">
            <a:noFill/>
          </a:ln>
        </p:spPr>
      </p:pic>
      <p:sp>
        <p:nvSpPr>
          <p:cNvPr id="1240" name="TextBox 37"/>
          <p:cNvSpPr/>
          <p:nvPr/>
        </p:nvSpPr>
        <p:spPr>
          <a:xfrm>
            <a:off x="3956400" y="538200"/>
            <a:ext cx="4295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Devices Mockup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41" name="Rectangle 38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26a69a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242" name="Group 21"/>
          <p:cNvGrpSpPr/>
          <p:nvPr/>
        </p:nvGrpSpPr>
        <p:grpSpPr>
          <a:xfrm>
            <a:off x="7023240" y="2184480"/>
            <a:ext cx="2198520" cy="805680"/>
            <a:chOff x="7023240" y="2184480"/>
            <a:chExt cx="2198520" cy="805680"/>
          </a:xfrm>
        </p:grpSpPr>
        <p:sp>
          <p:nvSpPr>
            <p:cNvPr id="1243" name="Rectangle 22"/>
            <p:cNvSpPr/>
            <p:nvPr/>
          </p:nvSpPr>
          <p:spPr>
            <a:xfrm>
              <a:off x="7369200" y="2184480"/>
              <a:ext cx="185256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44" name="Shape 2778"/>
            <p:cNvSpPr/>
            <p:nvPr/>
          </p:nvSpPr>
          <p:spPr>
            <a:xfrm>
              <a:off x="7023240" y="23403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45" name="Group 24"/>
          <p:cNvGrpSpPr/>
          <p:nvPr/>
        </p:nvGrpSpPr>
        <p:grpSpPr>
          <a:xfrm>
            <a:off x="9580680" y="2203560"/>
            <a:ext cx="2200320" cy="805680"/>
            <a:chOff x="9580680" y="2203560"/>
            <a:chExt cx="2200320" cy="805680"/>
          </a:xfrm>
        </p:grpSpPr>
        <p:sp>
          <p:nvSpPr>
            <p:cNvPr id="1246" name="Rectangle 25"/>
            <p:cNvSpPr/>
            <p:nvPr/>
          </p:nvSpPr>
          <p:spPr>
            <a:xfrm>
              <a:off x="9928080" y="220356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47" name="Shape 2748"/>
            <p:cNvSpPr/>
            <p:nvPr/>
          </p:nvSpPr>
          <p:spPr>
            <a:xfrm>
              <a:off x="9580680" y="233100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48" name="Group 27"/>
          <p:cNvGrpSpPr/>
          <p:nvPr/>
        </p:nvGrpSpPr>
        <p:grpSpPr>
          <a:xfrm>
            <a:off x="7023240" y="3325680"/>
            <a:ext cx="2127240" cy="805680"/>
            <a:chOff x="7023240" y="3325680"/>
            <a:chExt cx="2127240" cy="805680"/>
          </a:xfrm>
        </p:grpSpPr>
        <p:sp>
          <p:nvSpPr>
            <p:cNvPr id="1249" name="Rectangle 28"/>
            <p:cNvSpPr/>
            <p:nvPr/>
          </p:nvSpPr>
          <p:spPr>
            <a:xfrm>
              <a:off x="7372080" y="3325680"/>
              <a:ext cx="177840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50" name="Shape 2774"/>
            <p:cNvSpPr/>
            <p:nvPr/>
          </p:nvSpPr>
          <p:spPr>
            <a:xfrm>
              <a:off x="7023240" y="347256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51" name="Group 30"/>
          <p:cNvGrpSpPr/>
          <p:nvPr/>
        </p:nvGrpSpPr>
        <p:grpSpPr>
          <a:xfrm>
            <a:off x="9580680" y="3297240"/>
            <a:ext cx="2200320" cy="805680"/>
            <a:chOff x="9580680" y="3297240"/>
            <a:chExt cx="2200320" cy="805680"/>
          </a:xfrm>
        </p:grpSpPr>
        <p:sp>
          <p:nvSpPr>
            <p:cNvPr id="1252" name="Rectangle 31"/>
            <p:cNvSpPr/>
            <p:nvPr/>
          </p:nvSpPr>
          <p:spPr>
            <a:xfrm>
              <a:off x="9928080" y="3297240"/>
              <a:ext cx="1852920" cy="80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253" name="Shape 2784"/>
            <p:cNvSpPr/>
            <p:nvPr/>
          </p:nvSpPr>
          <p:spPr>
            <a:xfrm>
              <a:off x="9580680" y="3449160"/>
              <a:ext cx="279360" cy="278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1254" name="Text Placeholder 33"/>
          <p:cNvSpPr/>
          <p:nvPr/>
        </p:nvSpPr>
        <p:spPr>
          <a:xfrm>
            <a:off x="7023240" y="4454640"/>
            <a:ext cx="2635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AU" sz="1100" spc="-1" strike="noStrike">
                <a:solidFill>
                  <a:srgbClr val="656d78"/>
                </a:solidFill>
                <a:latin typeface="Source Sans Pro"/>
                <a:ea typeface="Roboto Black"/>
              </a:rPr>
              <a:t>Steps Data Analysis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55" name="Text Placeholder 32"/>
          <p:cNvSpPr/>
          <p:nvPr/>
        </p:nvSpPr>
        <p:spPr>
          <a:xfrm>
            <a:off x="7023240" y="4761000"/>
            <a:ext cx="160488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200" spc="-1" strike="noStrike">
                <a:solidFill>
                  <a:srgbClr val="009688"/>
                </a:solidFill>
                <a:latin typeface="Source Sans Pro"/>
                <a:ea typeface="Roboto Black"/>
              </a:rPr>
              <a:t>Process Steps Information Analysis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56" name="Rectangle 35"/>
          <p:cNvSpPr/>
          <p:nvPr/>
        </p:nvSpPr>
        <p:spPr>
          <a:xfrm>
            <a:off x="8713800" y="4375080"/>
            <a:ext cx="30672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ic brooklyn YOLO heirloom keytar waistcoat kickstarter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0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9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500"/>
                            </p:stCondLst>
                            <p:childTnLst>
                              <p:par>
                                <p:cTn id="8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2000"/>
                            </p:stCondLst>
                            <p:childTnLst>
                              <p:par>
                                <p:cTn id="8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500"/>
                            </p:stCondLst>
                            <p:childTnLst>
                              <p:par>
                                <p:cTn id="8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3000"/>
                            </p:stCondLst>
                            <p:childTnLst>
                              <p:par>
                                <p:cTn id="8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TextBox 69"/>
          <p:cNvSpPr/>
          <p:nvPr/>
        </p:nvSpPr>
        <p:spPr>
          <a:xfrm>
            <a:off x="3807720" y="538200"/>
            <a:ext cx="459288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Portfolio Slide Exampl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258" name="Rectangle 70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26a69a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259" name="Group 16"/>
          <p:cNvGrpSpPr/>
          <p:nvPr/>
        </p:nvGrpSpPr>
        <p:grpSpPr>
          <a:xfrm>
            <a:off x="2455920" y="2062080"/>
            <a:ext cx="2388960" cy="2389320"/>
            <a:chOff x="2455920" y="2062080"/>
            <a:chExt cx="2388960" cy="2389320"/>
          </a:xfrm>
        </p:grpSpPr>
        <p:grpSp>
          <p:nvGrpSpPr>
            <p:cNvPr id="1260" name="Group 64"/>
            <p:cNvGrpSpPr/>
            <p:nvPr/>
          </p:nvGrpSpPr>
          <p:grpSpPr>
            <a:xfrm>
              <a:off x="2455920" y="2062080"/>
              <a:ext cx="2388960" cy="2389320"/>
              <a:chOff x="2455920" y="2062080"/>
              <a:chExt cx="2388960" cy="2389320"/>
            </a:xfrm>
          </p:grpSpPr>
          <p:sp>
            <p:nvSpPr>
              <p:cNvPr id="1261" name="Shape 583"/>
              <p:cNvSpPr/>
              <p:nvPr/>
            </p:nvSpPr>
            <p:spPr>
              <a:xfrm>
                <a:off x="2455920" y="2062080"/>
                <a:ext cx="2388960" cy="2389320"/>
              </a:xfrm>
              <a:prstGeom prst="rect">
                <a:avLst/>
              </a:prstGeom>
              <a:gradFill rotWithShape="0">
                <a:gsLst>
                  <a:gs pos="0">
                    <a:srgbClr val="4fb2a7"/>
                  </a:gs>
                  <a:gs pos="100000">
                    <a:srgbClr val="159e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7160"/>
                    <a:tab algn="l" pos="453960"/>
                    <a:tab algn="l" pos="681120"/>
                    <a:tab algn="l" pos="907920"/>
                    <a:tab algn="l" pos="1135080"/>
                    <a:tab algn="l" pos="1362240"/>
                    <a:tab algn="l" pos="1589040"/>
                    <a:tab algn="l" pos="1816200"/>
                    <a:tab algn="l" pos="2043000"/>
                    <a:tab algn="l" pos="2270160"/>
                    <a:tab algn="l" pos="2496960"/>
                    <a:tab algn="l" pos="2724120"/>
                    <a:tab algn="l" pos="2951280"/>
                    <a:tab algn="l" pos="3178080"/>
                    <a:tab algn="l" pos="3405240"/>
                    <a:tab algn="l" pos="3632040"/>
                    <a:tab algn="l" pos="3859200"/>
                    <a:tab algn="l" pos="4086360"/>
                    <a:tab algn="l" pos="4313160"/>
                    <a:tab algn="l" pos="454032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62" name="Rectangle 44"/>
              <p:cNvSpPr/>
              <p:nvPr/>
            </p:nvSpPr>
            <p:spPr>
              <a:xfrm>
                <a:off x="2584440" y="3354840"/>
                <a:ext cx="21283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ource Sans Pro Light"/>
                  </a:rPr>
                  <a:t>Hashtag fashion axe fingerstache, everyday carry shoreditch pinterest umami authentic brooklyn YOLO. </a:t>
                </a:r>
                <a:endParaRPr b="0" lang="en-US" sz="12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grpSp>
            <p:nvGrpSpPr>
              <p:cNvPr id="1263" name="Group 51"/>
              <p:cNvGrpSpPr/>
              <p:nvPr/>
            </p:nvGrpSpPr>
            <p:grpSpPr>
              <a:xfrm>
                <a:off x="2529720" y="2760480"/>
                <a:ext cx="1893240" cy="492840"/>
                <a:chOff x="2529720" y="2760480"/>
                <a:chExt cx="1893240" cy="492840"/>
              </a:xfrm>
            </p:grpSpPr>
            <p:sp>
              <p:nvSpPr>
                <p:cNvPr id="1264" name="TextBox 49"/>
                <p:cNvSpPr/>
                <p:nvPr/>
              </p:nvSpPr>
              <p:spPr>
                <a:xfrm>
                  <a:off x="2529720" y="2760480"/>
                  <a:ext cx="1207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Source Sans Pro"/>
                    </a:rPr>
                    <a:t>Portfolio 01</a:t>
                  </a:r>
                  <a:endParaRPr b="0" lang="en-US" sz="14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  <p:sp>
              <p:nvSpPr>
                <p:cNvPr id="1265" name="Rectangle 50"/>
                <p:cNvSpPr/>
                <p:nvPr/>
              </p:nvSpPr>
              <p:spPr>
                <a:xfrm>
                  <a:off x="2575800" y="2961720"/>
                  <a:ext cx="184716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ource Sans Pro Light"/>
                    </a:rPr>
                    <a:t>Synth chartreuse XOXO.</a:t>
                  </a:r>
                  <a:endParaRPr b="0" lang="en-US" sz="10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66" name="Shape 2556"/>
            <p:cNvSpPr/>
            <p:nvPr/>
          </p:nvSpPr>
          <p:spPr>
            <a:xfrm>
              <a:off x="2626560" y="216360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6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11874" y="5396"/>
                  </a:moveTo>
                  <a:cubicBezTo>
                    <a:pt x="11493" y="5396"/>
                    <a:pt x="11166" y="5519"/>
                    <a:pt x="10894" y="5766"/>
                  </a:cubicBezTo>
                  <a:cubicBezTo>
                    <a:pt x="10621" y="6013"/>
                    <a:pt x="10484" y="6310"/>
                    <a:pt x="10484" y="6658"/>
                  </a:cubicBezTo>
                  <a:cubicBezTo>
                    <a:pt x="10484" y="7005"/>
                    <a:pt x="10621" y="7301"/>
                    <a:pt x="10894" y="7545"/>
                  </a:cubicBezTo>
                  <a:cubicBezTo>
                    <a:pt x="11166" y="7790"/>
                    <a:pt x="11493" y="7912"/>
                    <a:pt x="11874" y="7912"/>
                  </a:cubicBezTo>
                  <a:cubicBezTo>
                    <a:pt x="12255" y="7912"/>
                    <a:pt x="12581" y="7790"/>
                    <a:pt x="12852" y="7545"/>
                  </a:cubicBezTo>
                  <a:cubicBezTo>
                    <a:pt x="13122" y="7301"/>
                    <a:pt x="13257" y="7005"/>
                    <a:pt x="13257" y="6658"/>
                  </a:cubicBezTo>
                  <a:cubicBezTo>
                    <a:pt x="13257" y="6310"/>
                    <a:pt x="13122" y="6013"/>
                    <a:pt x="12852" y="5766"/>
                  </a:cubicBezTo>
                  <a:cubicBezTo>
                    <a:pt x="12581" y="5519"/>
                    <a:pt x="12255" y="5396"/>
                    <a:pt x="11874" y="5396"/>
                  </a:cubicBezTo>
                  <a:moveTo>
                    <a:pt x="12242" y="15228"/>
                  </a:moveTo>
                  <a:cubicBezTo>
                    <a:pt x="11942" y="15228"/>
                    <a:pt x="11730" y="15180"/>
                    <a:pt x="11608" y="15083"/>
                  </a:cubicBezTo>
                  <a:cubicBezTo>
                    <a:pt x="11486" y="14987"/>
                    <a:pt x="11425" y="14807"/>
                    <a:pt x="11425" y="14542"/>
                  </a:cubicBezTo>
                  <a:cubicBezTo>
                    <a:pt x="11425" y="14436"/>
                    <a:pt x="11444" y="14281"/>
                    <a:pt x="11482" y="14076"/>
                  </a:cubicBezTo>
                  <a:cubicBezTo>
                    <a:pt x="11519" y="13870"/>
                    <a:pt x="11562" y="13687"/>
                    <a:pt x="11609" y="13527"/>
                  </a:cubicBezTo>
                  <a:lnTo>
                    <a:pt x="12189" y="11532"/>
                  </a:lnTo>
                  <a:cubicBezTo>
                    <a:pt x="12246" y="11349"/>
                    <a:pt x="12284" y="11148"/>
                    <a:pt x="12306" y="10929"/>
                  </a:cubicBezTo>
                  <a:cubicBezTo>
                    <a:pt x="12327" y="10709"/>
                    <a:pt x="12337" y="10557"/>
                    <a:pt x="12337" y="10469"/>
                  </a:cubicBezTo>
                  <a:cubicBezTo>
                    <a:pt x="12337" y="10049"/>
                    <a:pt x="12185" y="9707"/>
                    <a:pt x="11882" y="9444"/>
                  </a:cubicBezTo>
                  <a:cubicBezTo>
                    <a:pt x="11578" y="9182"/>
                    <a:pt x="11146" y="9050"/>
                    <a:pt x="10586" y="9050"/>
                  </a:cubicBezTo>
                  <a:cubicBezTo>
                    <a:pt x="10275" y="9050"/>
                    <a:pt x="9945" y="9104"/>
                    <a:pt x="9597" y="9211"/>
                  </a:cubicBezTo>
                  <a:cubicBezTo>
                    <a:pt x="9248" y="9319"/>
                    <a:pt x="8884" y="9448"/>
                    <a:pt x="8502" y="9599"/>
                  </a:cubicBezTo>
                  <a:lnTo>
                    <a:pt x="8347" y="10216"/>
                  </a:lnTo>
                  <a:cubicBezTo>
                    <a:pt x="8460" y="10175"/>
                    <a:pt x="8595" y="10131"/>
                    <a:pt x="8753" y="10085"/>
                  </a:cubicBezTo>
                  <a:cubicBezTo>
                    <a:pt x="8911" y="10040"/>
                    <a:pt x="9066" y="10017"/>
                    <a:pt x="9217" y="10017"/>
                  </a:cubicBezTo>
                  <a:cubicBezTo>
                    <a:pt x="9524" y="10017"/>
                    <a:pt x="9731" y="10068"/>
                    <a:pt x="9839" y="10168"/>
                  </a:cubicBezTo>
                  <a:cubicBezTo>
                    <a:pt x="9948" y="10269"/>
                    <a:pt x="10002" y="10447"/>
                    <a:pt x="10002" y="10703"/>
                  </a:cubicBezTo>
                  <a:cubicBezTo>
                    <a:pt x="10002" y="10844"/>
                    <a:pt x="9985" y="11001"/>
                    <a:pt x="9949" y="11172"/>
                  </a:cubicBezTo>
                  <a:cubicBezTo>
                    <a:pt x="9914" y="11343"/>
                    <a:pt x="9870" y="11526"/>
                    <a:pt x="9818" y="11717"/>
                  </a:cubicBezTo>
                  <a:lnTo>
                    <a:pt x="9235" y="13719"/>
                  </a:lnTo>
                  <a:cubicBezTo>
                    <a:pt x="9184" y="13929"/>
                    <a:pt x="9146" y="14118"/>
                    <a:pt x="9123" y="14285"/>
                  </a:cubicBezTo>
                  <a:cubicBezTo>
                    <a:pt x="9100" y="14451"/>
                    <a:pt x="9088" y="14615"/>
                    <a:pt x="9088" y="14775"/>
                  </a:cubicBezTo>
                  <a:cubicBezTo>
                    <a:pt x="9088" y="15186"/>
                    <a:pt x="9244" y="15526"/>
                    <a:pt x="9556" y="15793"/>
                  </a:cubicBezTo>
                  <a:cubicBezTo>
                    <a:pt x="9869" y="16060"/>
                    <a:pt x="10308" y="16194"/>
                    <a:pt x="10872" y="16194"/>
                  </a:cubicBezTo>
                  <a:cubicBezTo>
                    <a:pt x="11239" y="16194"/>
                    <a:pt x="11561" y="16147"/>
                    <a:pt x="11839" y="16053"/>
                  </a:cubicBezTo>
                  <a:cubicBezTo>
                    <a:pt x="12117" y="15960"/>
                    <a:pt x="12488" y="15824"/>
                    <a:pt x="12954" y="15645"/>
                  </a:cubicBezTo>
                  <a:lnTo>
                    <a:pt x="13109" y="15028"/>
                  </a:lnTo>
                  <a:cubicBezTo>
                    <a:pt x="13029" y="15065"/>
                    <a:pt x="12900" y="15107"/>
                    <a:pt x="12721" y="15155"/>
                  </a:cubicBezTo>
                  <a:cubicBezTo>
                    <a:pt x="12543" y="15204"/>
                    <a:pt x="12383" y="15228"/>
                    <a:pt x="12242" y="152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67" name="Group 17"/>
          <p:cNvGrpSpPr/>
          <p:nvPr/>
        </p:nvGrpSpPr>
        <p:grpSpPr>
          <a:xfrm>
            <a:off x="7353360" y="2062080"/>
            <a:ext cx="2388960" cy="2389320"/>
            <a:chOff x="7353360" y="2062080"/>
            <a:chExt cx="2388960" cy="2389320"/>
          </a:xfrm>
        </p:grpSpPr>
        <p:grpSp>
          <p:nvGrpSpPr>
            <p:cNvPr id="1268" name="Group 65"/>
            <p:cNvGrpSpPr/>
            <p:nvPr/>
          </p:nvGrpSpPr>
          <p:grpSpPr>
            <a:xfrm>
              <a:off x="7353360" y="2062080"/>
              <a:ext cx="2388960" cy="2389320"/>
              <a:chOff x="7353360" y="2062080"/>
              <a:chExt cx="2388960" cy="2389320"/>
            </a:xfrm>
          </p:grpSpPr>
          <p:sp>
            <p:nvSpPr>
              <p:cNvPr id="1269" name="Shape 587"/>
              <p:cNvSpPr/>
              <p:nvPr/>
            </p:nvSpPr>
            <p:spPr>
              <a:xfrm>
                <a:off x="7353360" y="2062080"/>
                <a:ext cx="2388960" cy="2389320"/>
              </a:xfrm>
              <a:prstGeom prst="rect">
                <a:avLst/>
              </a:prstGeom>
              <a:gradFill rotWithShape="0">
                <a:gsLst>
                  <a:gs pos="0">
                    <a:srgbClr val="45a497"/>
                  </a:gs>
                  <a:gs pos="100000">
                    <a:srgbClr val="009283"/>
                  </a:gs>
                </a:gsLst>
                <a:lin ang="5400000"/>
              </a:gradFill>
              <a:ln w="6480">
                <a:solidFill>
                  <a:srgbClr val="0096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7160"/>
                    <a:tab algn="l" pos="453960"/>
                    <a:tab algn="l" pos="681120"/>
                    <a:tab algn="l" pos="907920"/>
                    <a:tab algn="l" pos="1135080"/>
                    <a:tab algn="l" pos="1362240"/>
                    <a:tab algn="l" pos="1589040"/>
                    <a:tab algn="l" pos="1816200"/>
                    <a:tab algn="l" pos="2043000"/>
                    <a:tab algn="l" pos="2270160"/>
                    <a:tab algn="l" pos="2496960"/>
                    <a:tab algn="l" pos="2724120"/>
                    <a:tab algn="l" pos="2951280"/>
                    <a:tab algn="l" pos="3178080"/>
                    <a:tab algn="l" pos="3405240"/>
                    <a:tab algn="l" pos="3632040"/>
                    <a:tab algn="l" pos="3859200"/>
                    <a:tab algn="l" pos="4086360"/>
                    <a:tab algn="l" pos="4313160"/>
                    <a:tab algn="l" pos="454032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70" name="Rectangle 48"/>
              <p:cNvSpPr/>
              <p:nvPr/>
            </p:nvSpPr>
            <p:spPr>
              <a:xfrm>
                <a:off x="7410960" y="3354840"/>
                <a:ext cx="21283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ource Sans Pro Light"/>
                  </a:rPr>
                  <a:t>Hashtag fashion axe fingerstache, everyday carry shoreditch pinterest umami authentic brooklyn YOLO. </a:t>
                </a:r>
                <a:endParaRPr b="0" lang="en-US" sz="12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grpSp>
            <p:nvGrpSpPr>
              <p:cNvPr id="1271" name="Group 52"/>
              <p:cNvGrpSpPr/>
              <p:nvPr/>
            </p:nvGrpSpPr>
            <p:grpSpPr>
              <a:xfrm>
                <a:off x="7364880" y="2760480"/>
                <a:ext cx="1893240" cy="492840"/>
                <a:chOff x="7364880" y="2760480"/>
                <a:chExt cx="1893240" cy="492840"/>
              </a:xfrm>
            </p:grpSpPr>
            <p:sp>
              <p:nvSpPr>
                <p:cNvPr id="1272" name="TextBox 53"/>
                <p:cNvSpPr/>
                <p:nvPr/>
              </p:nvSpPr>
              <p:spPr>
                <a:xfrm>
                  <a:off x="7364880" y="2760480"/>
                  <a:ext cx="1207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Source Sans Pro"/>
                    </a:rPr>
                    <a:t>Portfolio 02</a:t>
                  </a:r>
                  <a:endParaRPr b="0" lang="en-US" sz="14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  <p:sp>
              <p:nvSpPr>
                <p:cNvPr id="1273" name="Rectangle 54"/>
                <p:cNvSpPr/>
                <p:nvPr/>
              </p:nvSpPr>
              <p:spPr>
                <a:xfrm>
                  <a:off x="7410960" y="2961720"/>
                  <a:ext cx="184716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ource Sans Pro Light"/>
                    </a:rPr>
                    <a:t>Synth chartreuse XOXO.</a:t>
                  </a:r>
                  <a:endParaRPr b="0" lang="en-US" sz="10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74" name="Shape 2556"/>
            <p:cNvSpPr/>
            <p:nvPr/>
          </p:nvSpPr>
          <p:spPr>
            <a:xfrm>
              <a:off x="7471440" y="21646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6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11874" y="5396"/>
                  </a:moveTo>
                  <a:cubicBezTo>
                    <a:pt x="11493" y="5396"/>
                    <a:pt x="11166" y="5519"/>
                    <a:pt x="10894" y="5766"/>
                  </a:cubicBezTo>
                  <a:cubicBezTo>
                    <a:pt x="10621" y="6013"/>
                    <a:pt x="10484" y="6310"/>
                    <a:pt x="10484" y="6658"/>
                  </a:cubicBezTo>
                  <a:cubicBezTo>
                    <a:pt x="10484" y="7005"/>
                    <a:pt x="10621" y="7301"/>
                    <a:pt x="10894" y="7545"/>
                  </a:cubicBezTo>
                  <a:cubicBezTo>
                    <a:pt x="11166" y="7790"/>
                    <a:pt x="11493" y="7912"/>
                    <a:pt x="11874" y="7912"/>
                  </a:cubicBezTo>
                  <a:cubicBezTo>
                    <a:pt x="12255" y="7912"/>
                    <a:pt x="12581" y="7790"/>
                    <a:pt x="12852" y="7545"/>
                  </a:cubicBezTo>
                  <a:cubicBezTo>
                    <a:pt x="13122" y="7301"/>
                    <a:pt x="13257" y="7005"/>
                    <a:pt x="13257" y="6658"/>
                  </a:cubicBezTo>
                  <a:cubicBezTo>
                    <a:pt x="13257" y="6310"/>
                    <a:pt x="13122" y="6013"/>
                    <a:pt x="12852" y="5766"/>
                  </a:cubicBezTo>
                  <a:cubicBezTo>
                    <a:pt x="12581" y="5519"/>
                    <a:pt x="12255" y="5396"/>
                    <a:pt x="11874" y="5396"/>
                  </a:cubicBezTo>
                  <a:moveTo>
                    <a:pt x="12242" y="15228"/>
                  </a:moveTo>
                  <a:cubicBezTo>
                    <a:pt x="11942" y="15228"/>
                    <a:pt x="11730" y="15180"/>
                    <a:pt x="11608" y="15083"/>
                  </a:cubicBezTo>
                  <a:cubicBezTo>
                    <a:pt x="11486" y="14987"/>
                    <a:pt x="11425" y="14807"/>
                    <a:pt x="11425" y="14542"/>
                  </a:cubicBezTo>
                  <a:cubicBezTo>
                    <a:pt x="11425" y="14436"/>
                    <a:pt x="11444" y="14281"/>
                    <a:pt x="11482" y="14076"/>
                  </a:cubicBezTo>
                  <a:cubicBezTo>
                    <a:pt x="11519" y="13870"/>
                    <a:pt x="11562" y="13687"/>
                    <a:pt x="11609" y="13527"/>
                  </a:cubicBezTo>
                  <a:lnTo>
                    <a:pt x="12189" y="11532"/>
                  </a:lnTo>
                  <a:cubicBezTo>
                    <a:pt x="12246" y="11349"/>
                    <a:pt x="12284" y="11148"/>
                    <a:pt x="12306" y="10929"/>
                  </a:cubicBezTo>
                  <a:cubicBezTo>
                    <a:pt x="12327" y="10709"/>
                    <a:pt x="12337" y="10557"/>
                    <a:pt x="12337" y="10469"/>
                  </a:cubicBezTo>
                  <a:cubicBezTo>
                    <a:pt x="12337" y="10049"/>
                    <a:pt x="12185" y="9707"/>
                    <a:pt x="11882" y="9444"/>
                  </a:cubicBezTo>
                  <a:cubicBezTo>
                    <a:pt x="11578" y="9182"/>
                    <a:pt x="11146" y="9050"/>
                    <a:pt x="10586" y="9050"/>
                  </a:cubicBezTo>
                  <a:cubicBezTo>
                    <a:pt x="10275" y="9050"/>
                    <a:pt x="9945" y="9104"/>
                    <a:pt x="9597" y="9211"/>
                  </a:cubicBezTo>
                  <a:cubicBezTo>
                    <a:pt x="9248" y="9319"/>
                    <a:pt x="8884" y="9448"/>
                    <a:pt x="8502" y="9599"/>
                  </a:cubicBezTo>
                  <a:lnTo>
                    <a:pt x="8347" y="10216"/>
                  </a:lnTo>
                  <a:cubicBezTo>
                    <a:pt x="8460" y="10175"/>
                    <a:pt x="8595" y="10131"/>
                    <a:pt x="8753" y="10085"/>
                  </a:cubicBezTo>
                  <a:cubicBezTo>
                    <a:pt x="8911" y="10040"/>
                    <a:pt x="9066" y="10017"/>
                    <a:pt x="9217" y="10017"/>
                  </a:cubicBezTo>
                  <a:cubicBezTo>
                    <a:pt x="9524" y="10017"/>
                    <a:pt x="9731" y="10068"/>
                    <a:pt x="9839" y="10168"/>
                  </a:cubicBezTo>
                  <a:cubicBezTo>
                    <a:pt x="9948" y="10269"/>
                    <a:pt x="10002" y="10447"/>
                    <a:pt x="10002" y="10703"/>
                  </a:cubicBezTo>
                  <a:cubicBezTo>
                    <a:pt x="10002" y="10844"/>
                    <a:pt x="9985" y="11001"/>
                    <a:pt x="9949" y="11172"/>
                  </a:cubicBezTo>
                  <a:cubicBezTo>
                    <a:pt x="9914" y="11343"/>
                    <a:pt x="9870" y="11526"/>
                    <a:pt x="9818" y="11717"/>
                  </a:cubicBezTo>
                  <a:lnTo>
                    <a:pt x="9235" y="13719"/>
                  </a:lnTo>
                  <a:cubicBezTo>
                    <a:pt x="9184" y="13929"/>
                    <a:pt x="9146" y="14118"/>
                    <a:pt x="9123" y="14285"/>
                  </a:cubicBezTo>
                  <a:cubicBezTo>
                    <a:pt x="9100" y="14451"/>
                    <a:pt x="9088" y="14615"/>
                    <a:pt x="9088" y="14775"/>
                  </a:cubicBezTo>
                  <a:cubicBezTo>
                    <a:pt x="9088" y="15186"/>
                    <a:pt x="9244" y="15526"/>
                    <a:pt x="9556" y="15793"/>
                  </a:cubicBezTo>
                  <a:cubicBezTo>
                    <a:pt x="9869" y="16060"/>
                    <a:pt x="10308" y="16194"/>
                    <a:pt x="10872" y="16194"/>
                  </a:cubicBezTo>
                  <a:cubicBezTo>
                    <a:pt x="11239" y="16194"/>
                    <a:pt x="11561" y="16147"/>
                    <a:pt x="11839" y="16053"/>
                  </a:cubicBezTo>
                  <a:cubicBezTo>
                    <a:pt x="12117" y="15960"/>
                    <a:pt x="12488" y="15824"/>
                    <a:pt x="12954" y="15645"/>
                  </a:cubicBezTo>
                  <a:lnTo>
                    <a:pt x="13109" y="15028"/>
                  </a:lnTo>
                  <a:cubicBezTo>
                    <a:pt x="13029" y="15065"/>
                    <a:pt x="12900" y="15107"/>
                    <a:pt x="12721" y="15155"/>
                  </a:cubicBezTo>
                  <a:cubicBezTo>
                    <a:pt x="12543" y="15204"/>
                    <a:pt x="12383" y="15228"/>
                    <a:pt x="12242" y="152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75" name="Group 18"/>
          <p:cNvGrpSpPr/>
          <p:nvPr/>
        </p:nvGrpSpPr>
        <p:grpSpPr>
          <a:xfrm>
            <a:off x="9801360" y="4510080"/>
            <a:ext cx="2388960" cy="2347920"/>
            <a:chOff x="9801360" y="4510080"/>
            <a:chExt cx="2388960" cy="2347920"/>
          </a:xfrm>
        </p:grpSpPr>
        <p:grpSp>
          <p:nvGrpSpPr>
            <p:cNvPr id="1276" name="Group 68"/>
            <p:cNvGrpSpPr/>
            <p:nvPr/>
          </p:nvGrpSpPr>
          <p:grpSpPr>
            <a:xfrm>
              <a:off x="9801360" y="4510080"/>
              <a:ext cx="2388960" cy="2347920"/>
              <a:chOff x="9801360" y="4510080"/>
              <a:chExt cx="2388960" cy="2347920"/>
            </a:xfrm>
          </p:grpSpPr>
          <p:sp>
            <p:nvSpPr>
              <p:cNvPr id="1277" name="Shape 591"/>
              <p:cNvSpPr/>
              <p:nvPr/>
            </p:nvSpPr>
            <p:spPr>
              <a:xfrm rot="10800000">
                <a:off x="9801360" y="4510080"/>
                <a:ext cx="2388960" cy="2347920"/>
              </a:xfrm>
              <a:prstGeom prst="rect">
                <a:avLst/>
              </a:prstGeom>
              <a:gradFill rotWithShape="0">
                <a:gsLst>
                  <a:gs pos="0">
                    <a:srgbClr val="457c72"/>
                  </a:gs>
                  <a:gs pos="100000">
                    <a:srgbClr val="006658"/>
                  </a:gs>
                </a:gsLst>
                <a:lin ang="16200000"/>
              </a:gradFill>
              <a:ln w="6480">
                <a:solidFill>
                  <a:srgbClr val="0069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7160"/>
                    <a:tab algn="l" pos="453960"/>
                    <a:tab algn="l" pos="681120"/>
                    <a:tab algn="l" pos="907920"/>
                    <a:tab algn="l" pos="1135080"/>
                    <a:tab algn="l" pos="1362240"/>
                    <a:tab algn="l" pos="1589040"/>
                    <a:tab algn="l" pos="1816200"/>
                    <a:tab algn="l" pos="2043000"/>
                    <a:tab algn="l" pos="2270160"/>
                    <a:tab algn="l" pos="2496960"/>
                    <a:tab algn="l" pos="2724120"/>
                    <a:tab algn="l" pos="2951280"/>
                    <a:tab algn="l" pos="3178080"/>
                    <a:tab algn="l" pos="3405240"/>
                    <a:tab algn="l" pos="3632040"/>
                    <a:tab algn="l" pos="3859200"/>
                    <a:tab algn="l" pos="4086360"/>
                    <a:tab algn="l" pos="4313160"/>
                    <a:tab algn="l" pos="454032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78" name="Rectangle 47"/>
              <p:cNvSpPr/>
              <p:nvPr/>
            </p:nvSpPr>
            <p:spPr>
              <a:xfrm>
                <a:off x="9895680" y="5763240"/>
                <a:ext cx="21283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ource Sans Pro Light"/>
                  </a:rPr>
                  <a:t>Hashtag fashion axe fingerstache, everyday carry shoreditch pinterest umami authentic brooklyn YOLO. </a:t>
                </a:r>
                <a:endParaRPr b="0" lang="en-US" sz="12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grpSp>
            <p:nvGrpSpPr>
              <p:cNvPr id="1279" name="Group 55"/>
              <p:cNvGrpSpPr/>
              <p:nvPr/>
            </p:nvGrpSpPr>
            <p:grpSpPr>
              <a:xfrm>
                <a:off x="9849600" y="5210280"/>
                <a:ext cx="1893240" cy="492840"/>
                <a:chOff x="9849600" y="5210280"/>
                <a:chExt cx="1893240" cy="492840"/>
              </a:xfrm>
            </p:grpSpPr>
            <p:sp>
              <p:nvSpPr>
                <p:cNvPr id="1280" name="TextBox 56"/>
                <p:cNvSpPr/>
                <p:nvPr/>
              </p:nvSpPr>
              <p:spPr>
                <a:xfrm>
                  <a:off x="9849600" y="5210280"/>
                  <a:ext cx="1207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Source Sans Pro"/>
                    </a:rPr>
                    <a:t>Portfolio 03</a:t>
                  </a:r>
                  <a:endParaRPr b="0" lang="en-US" sz="14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  <p:sp>
              <p:nvSpPr>
                <p:cNvPr id="1281" name="Rectangle 57"/>
                <p:cNvSpPr/>
                <p:nvPr/>
              </p:nvSpPr>
              <p:spPr>
                <a:xfrm>
                  <a:off x="9895680" y="5411520"/>
                  <a:ext cx="184716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ource Sans Pro Light"/>
                    </a:rPr>
                    <a:t>Synth chartreuse XOXO.</a:t>
                  </a:r>
                  <a:endParaRPr b="0" lang="en-US" sz="10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82" name="Shape 2556"/>
            <p:cNvSpPr/>
            <p:nvPr/>
          </p:nvSpPr>
          <p:spPr>
            <a:xfrm>
              <a:off x="9895680" y="46198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6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11874" y="5396"/>
                  </a:moveTo>
                  <a:cubicBezTo>
                    <a:pt x="11493" y="5396"/>
                    <a:pt x="11166" y="5519"/>
                    <a:pt x="10894" y="5766"/>
                  </a:cubicBezTo>
                  <a:cubicBezTo>
                    <a:pt x="10621" y="6013"/>
                    <a:pt x="10484" y="6310"/>
                    <a:pt x="10484" y="6658"/>
                  </a:cubicBezTo>
                  <a:cubicBezTo>
                    <a:pt x="10484" y="7005"/>
                    <a:pt x="10621" y="7301"/>
                    <a:pt x="10894" y="7545"/>
                  </a:cubicBezTo>
                  <a:cubicBezTo>
                    <a:pt x="11166" y="7790"/>
                    <a:pt x="11493" y="7912"/>
                    <a:pt x="11874" y="7912"/>
                  </a:cubicBezTo>
                  <a:cubicBezTo>
                    <a:pt x="12255" y="7912"/>
                    <a:pt x="12581" y="7790"/>
                    <a:pt x="12852" y="7545"/>
                  </a:cubicBezTo>
                  <a:cubicBezTo>
                    <a:pt x="13122" y="7301"/>
                    <a:pt x="13257" y="7005"/>
                    <a:pt x="13257" y="6658"/>
                  </a:cubicBezTo>
                  <a:cubicBezTo>
                    <a:pt x="13257" y="6310"/>
                    <a:pt x="13122" y="6013"/>
                    <a:pt x="12852" y="5766"/>
                  </a:cubicBezTo>
                  <a:cubicBezTo>
                    <a:pt x="12581" y="5519"/>
                    <a:pt x="12255" y="5396"/>
                    <a:pt x="11874" y="5396"/>
                  </a:cubicBezTo>
                  <a:moveTo>
                    <a:pt x="12242" y="15228"/>
                  </a:moveTo>
                  <a:cubicBezTo>
                    <a:pt x="11942" y="15228"/>
                    <a:pt x="11730" y="15180"/>
                    <a:pt x="11608" y="15083"/>
                  </a:cubicBezTo>
                  <a:cubicBezTo>
                    <a:pt x="11486" y="14987"/>
                    <a:pt x="11425" y="14807"/>
                    <a:pt x="11425" y="14542"/>
                  </a:cubicBezTo>
                  <a:cubicBezTo>
                    <a:pt x="11425" y="14436"/>
                    <a:pt x="11444" y="14281"/>
                    <a:pt x="11482" y="14076"/>
                  </a:cubicBezTo>
                  <a:cubicBezTo>
                    <a:pt x="11519" y="13870"/>
                    <a:pt x="11562" y="13687"/>
                    <a:pt x="11609" y="13527"/>
                  </a:cubicBezTo>
                  <a:lnTo>
                    <a:pt x="12189" y="11532"/>
                  </a:lnTo>
                  <a:cubicBezTo>
                    <a:pt x="12246" y="11349"/>
                    <a:pt x="12284" y="11148"/>
                    <a:pt x="12306" y="10929"/>
                  </a:cubicBezTo>
                  <a:cubicBezTo>
                    <a:pt x="12327" y="10709"/>
                    <a:pt x="12337" y="10557"/>
                    <a:pt x="12337" y="10469"/>
                  </a:cubicBezTo>
                  <a:cubicBezTo>
                    <a:pt x="12337" y="10049"/>
                    <a:pt x="12185" y="9707"/>
                    <a:pt x="11882" y="9444"/>
                  </a:cubicBezTo>
                  <a:cubicBezTo>
                    <a:pt x="11578" y="9182"/>
                    <a:pt x="11146" y="9050"/>
                    <a:pt x="10586" y="9050"/>
                  </a:cubicBezTo>
                  <a:cubicBezTo>
                    <a:pt x="10275" y="9050"/>
                    <a:pt x="9945" y="9104"/>
                    <a:pt x="9597" y="9211"/>
                  </a:cubicBezTo>
                  <a:cubicBezTo>
                    <a:pt x="9248" y="9319"/>
                    <a:pt x="8884" y="9448"/>
                    <a:pt x="8502" y="9599"/>
                  </a:cubicBezTo>
                  <a:lnTo>
                    <a:pt x="8347" y="10216"/>
                  </a:lnTo>
                  <a:cubicBezTo>
                    <a:pt x="8460" y="10175"/>
                    <a:pt x="8595" y="10131"/>
                    <a:pt x="8753" y="10085"/>
                  </a:cubicBezTo>
                  <a:cubicBezTo>
                    <a:pt x="8911" y="10040"/>
                    <a:pt x="9066" y="10017"/>
                    <a:pt x="9217" y="10017"/>
                  </a:cubicBezTo>
                  <a:cubicBezTo>
                    <a:pt x="9524" y="10017"/>
                    <a:pt x="9731" y="10068"/>
                    <a:pt x="9839" y="10168"/>
                  </a:cubicBezTo>
                  <a:cubicBezTo>
                    <a:pt x="9948" y="10269"/>
                    <a:pt x="10002" y="10447"/>
                    <a:pt x="10002" y="10703"/>
                  </a:cubicBezTo>
                  <a:cubicBezTo>
                    <a:pt x="10002" y="10844"/>
                    <a:pt x="9985" y="11001"/>
                    <a:pt x="9949" y="11172"/>
                  </a:cubicBezTo>
                  <a:cubicBezTo>
                    <a:pt x="9914" y="11343"/>
                    <a:pt x="9870" y="11526"/>
                    <a:pt x="9818" y="11717"/>
                  </a:cubicBezTo>
                  <a:lnTo>
                    <a:pt x="9235" y="13719"/>
                  </a:lnTo>
                  <a:cubicBezTo>
                    <a:pt x="9184" y="13929"/>
                    <a:pt x="9146" y="14118"/>
                    <a:pt x="9123" y="14285"/>
                  </a:cubicBezTo>
                  <a:cubicBezTo>
                    <a:pt x="9100" y="14451"/>
                    <a:pt x="9088" y="14615"/>
                    <a:pt x="9088" y="14775"/>
                  </a:cubicBezTo>
                  <a:cubicBezTo>
                    <a:pt x="9088" y="15186"/>
                    <a:pt x="9244" y="15526"/>
                    <a:pt x="9556" y="15793"/>
                  </a:cubicBezTo>
                  <a:cubicBezTo>
                    <a:pt x="9869" y="16060"/>
                    <a:pt x="10308" y="16194"/>
                    <a:pt x="10872" y="16194"/>
                  </a:cubicBezTo>
                  <a:cubicBezTo>
                    <a:pt x="11239" y="16194"/>
                    <a:pt x="11561" y="16147"/>
                    <a:pt x="11839" y="16053"/>
                  </a:cubicBezTo>
                  <a:cubicBezTo>
                    <a:pt x="12117" y="15960"/>
                    <a:pt x="12488" y="15824"/>
                    <a:pt x="12954" y="15645"/>
                  </a:cubicBezTo>
                  <a:lnTo>
                    <a:pt x="13109" y="15028"/>
                  </a:lnTo>
                  <a:cubicBezTo>
                    <a:pt x="13029" y="15065"/>
                    <a:pt x="12900" y="15107"/>
                    <a:pt x="12721" y="15155"/>
                  </a:cubicBezTo>
                  <a:cubicBezTo>
                    <a:pt x="12543" y="15204"/>
                    <a:pt x="12383" y="15228"/>
                    <a:pt x="12242" y="152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83" name="Group 19"/>
          <p:cNvGrpSpPr/>
          <p:nvPr/>
        </p:nvGrpSpPr>
        <p:grpSpPr>
          <a:xfrm>
            <a:off x="4903920" y="4510080"/>
            <a:ext cx="2388960" cy="2347920"/>
            <a:chOff x="4903920" y="4510080"/>
            <a:chExt cx="2388960" cy="2347920"/>
          </a:xfrm>
        </p:grpSpPr>
        <p:grpSp>
          <p:nvGrpSpPr>
            <p:cNvPr id="1284" name="Group 67"/>
            <p:cNvGrpSpPr/>
            <p:nvPr/>
          </p:nvGrpSpPr>
          <p:grpSpPr>
            <a:xfrm>
              <a:off x="4903920" y="4510080"/>
              <a:ext cx="2388960" cy="2347920"/>
              <a:chOff x="4903920" y="4510080"/>
              <a:chExt cx="2388960" cy="2347920"/>
            </a:xfrm>
          </p:grpSpPr>
          <p:sp>
            <p:nvSpPr>
              <p:cNvPr id="1285" name="Shape 589"/>
              <p:cNvSpPr/>
              <p:nvPr/>
            </p:nvSpPr>
            <p:spPr>
              <a:xfrm rot="10800000">
                <a:off x="4903920" y="4510080"/>
                <a:ext cx="2388960" cy="2347920"/>
              </a:xfrm>
              <a:prstGeom prst="rect">
                <a:avLst/>
              </a:prstGeom>
              <a:gradFill rotWithShape="0">
                <a:gsLst>
                  <a:gs pos="0">
                    <a:srgbClr val="458a7e"/>
                  </a:gs>
                  <a:gs pos="100000">
                    <a:srgbClr val="007566"/>
                  </a:gs>
                </a:gsLst>
                <a:lin ang="16200000"/>
              </a:gradFill>
              <a:ln w="6480">
                <a:solidFill>
                  <a:srgbClr val="0079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7160"/>
                    <a:tab algn="l" pos="453960"/>
                    <a:tab algn="l" pos="681120"/>
                    <a:tab algn="l" pos="907920"/>
                    <a:tab algn="l" pos="1135080"/>
                    <a:tab algn="l" pos="1362240"/>
                    <a:tab algn="l" pos="1589040"/>
                    <a:tab algn="l" pos="1816200"/>
                    <a:tab algn="l" pos="2043000"/>
                    <a:tab algn="l" pos="2270160"/>
                    <a:tab algn="l" pos="2496960"/>
                    <a:tab algn="l" pos="2724120"/>
                    <a:tab algn="l" pos="2951280"/>
                    <a:tab algn="l" pos="3178080"/>
                    <a:tab algn="l" pos="3405240"/>
                    <a:tab algn="l" pos="3632040"/>
                    <a:tab algn="l" pos="3859200"/>
                    <a:tab algn="l" pos="4086360"/>
                    <a:tab algn="l" pos="4313160"/>
                    <a:tab algn="l" pos="454032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86" name="Rectangle 46"/>
              <p:cNvSpPr/>
              <p:nvPr/>
            </p:nvSpPr>
            <p:spPr>
              <a:xfrm>
                <a:off x="5148720" y="5719320"/>
                <a:ext cx="21283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ource Sans Pro Light"/>
                  </a:rPr>
                  <a:t>Hashtag fashion axe fingerstache, everyday carry shoreditch pinterest umami authentic brooklyn YOLO. </a:t>
                </a:r>
                <a:endParaRPr b="0" lang="en-US" sz="12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grpSp>
            <p:nvGrpSpPr>
              <p:cNvPr id="1287" name="Group 58"/>
              <p:cNvGrpSpPr/>
              <p:nvPr/>
            </p:nvGrpSpPr>
            <p:grpSpPr>
              <a:xfrm>
                <a:off x="5102640" y="5166000"/>
                <a:ext cx="1893240" cy="492840"/>
                <a:chOff x="5102640" y="5166000"/>
                <a:chExt cx="1893240" cy="492840"/>
              </a:xfrm>
            </p:grpSpPr>
            <p:sp>
              <p:nvSpPr>
                <p:cNvPr id="1288" name="TextBox 59"/>
                <p:cNvSpPr/>
                <p:nvPr/>
              </p:nvSpPr>
              <p:spPr>
                <a:xfrm>
                  <a:off x="5102640" y="5166000"/>
                  <a:ext cx="1207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Source Sans Pro"/>
                    </a:rPr>
                    <a:t>Portfolio 04</a:t>
                  </a:r>
                  <a:endParaRPr b="0" lang="en-US" sz="14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  <p:sp>
              <p:nvSpPr>
                <p:cNvPr id="1289" name="Rectangle 60"/>
                <p:cNvSpPr/>
                <p:nvPr/>
              </p:nvSpPr>
              <p:spPr>
                <a:xfrm>
                  <a:off x="5148720" y="5367240"/>
                  <a:ext cx="184716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ource Sans Pro Light"/>
                    </a:rPr>
                    <a:t>Synth chartreuse XOXO.</a:t>
                  </a:r>
                  <a:endParaRPr b="0" lang="en-US" sz="10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90" name="Shape 2556"/>
            <p:cNvSpPr/>
            <p:nvPr/>
          </p:nvSpPr>
          <p:spPr>
            <a:xfrm>
              <a:off x="6917760" y="46198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6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11874" y="5396"/>
                  </a:moveTo>
                  <a:cubicBezTo>
                    <a:pt x="11493" y="5396"/>
                    <a:pt x="11166" y="5519"/>
                    <a:pt x="10894" y="5766"/>
                  </a:cubicBezTo>
                  <a:cubicBezTo>
                    <a:pt x="10621" y="6013"/>
                    <a:pt x="10484" y="6310"/>
                    <a:pt x="10484" y="6658"/>
                  </a:cubicBezTo>
                  <a:cubicBezTo>
                    <a:pt x="10484" y="7005"/>
                    <a:pt x="10621" y="7301"/>
                    <a:pt x="10894" y="7545"/>
                  </a:cubicBezTo>
                  <a:cubicBezTo>
                    <a:pt x="11166" y="7790"/>
                    <a:pt x="11493" y="7912"/>
                    <a:pt x="11874" y="7912"/>
                  </a:cubicBezTo>
                  <a:cubicBezTo>
                    <a:pt x="12255" y="7912"/>
                    <a:pt x="12581" y="7790"/>
                    <a:pt x="12852" y="7545"/>
                  </a:cubicBezTo>
                  <a:cubicBezTo>
                    <a:pt x="13122" y="7301"/>
                    <a:pt x="13257" y="7005"/>
                    <a:pt x="13257" y="6658"/>
                  </a:cubicBezTo>
                  <a:cubicBezTo>
                    <a:pt x="13257" y="6310"/>
                    <a:pt x="13122" y="6013"/>
                    <a:pt x="12852" y="5766"/>
                  </a:cubicBezTo>
                  <a:cubicBezTo>
                    <a:pt x="12581" y="5519"/>
                    <a:pt x="12255" y="5396"/>
                    <a:pt x="11874" y="5396"/>
                  </a:cubicBezTo>
                  <a:moveTo>
                    <a:pt x="12242" y="15228"/>
                  </a:moveTo>
                  <a:cubicBezTo>
                    <a:pt x="11942" y="15228"/>
                    <a:pt x="11730" y="15180"/>
                    <a:pt x="11608" y="15083"/>
                  </a:cubicBezTo>
                  <a:cubicBezTo>
                    <a:pt x="11486" y="14987"/>
                    <a:pt x="11425" y="14807"/>
                    <a:pt x="11425" y="14542"/>
                  </a:cubicBezTo>
                  <a:cubicBezTo>
                    <a:pt x="11425" y="14436"/>
                    <a:pt x="11444" y="14281"/>
                    <a:pt x="11482" y="14076"/>
                  </a:cubicBezTo>
                  <a:cubicBezTo>
                    <a:pt x="11519" y="13870"/>
                    <a:pt x="11562" y="13687"/>
                    <a:pt x="11609" y="13527"/>
                  </a:cubicBezTo>
                  <a:lnTo>
                    <a:pt x="12189" y="11532"/>
                  </a:lnTo>
                  <a:cubicBezTo>
                    <a:pt x="12246" y="11349"/>
                    <a:pt x="12284" y="11148"/>
                    <a:pt x="12306" y="10929"/>
                  </a:cubicBezTo>
                  <a:cubicBezTo>
                    <a:pt x="12327" y="10709"/>
                    <a:pt x="12337" y="10557"/>
                    <a:pt x="12337" y="10469"/>
                  </a:cubicBezTo>
                  <a:cubicBezTo>
                    <a:pt x="12337" y="10049"/>
                    <a:pt x="12185" y="9707"/>
                    <a:pt x="11882" y="9444"/>
                  </a:cubicBezTo>
                  <a:cubicBezTo>
                    <a:pt x="11578" y="9182"/>
                    <a:pt x="11146" y="9050"/>
                    <a:pt x="10586" y="9050"/>
                  </a:cubicBezTo>
                  <a:cubicBezTo>
                    <a:pt x="10275" y="9050"/>
                    <a:pt x="9945" y="9104"/>
                    <a:pt x="9597" y="9211"/>
                  </a:cubicBezTo>
                  <a:cubicBezTo>
                    <a:pt x="9248" y="9319"/>
                    <a:pt x="8884" y="9448"/>
                    <a:pt x="8502" y="9599"/>
                  </a:cubicBezTo>
                  <a:lnTo>
                    <a:pt x="8347" y="10216"/>
                  </a:lnTo>
                  <a:cubicBezTo>
                    <a:pt x="8460" y="10175"/>
                    <a:pt x="8595" y="10131"/>
                    <a:pt x="8753" y="10085"/>
                  </a:cubicBezTo>
                  <a:cubicBezTo>
                    <a:pt x="8911" y="10040"/>
                    <a:pt x="9066" y="10017"/>
                    <a:pt x="9217" y="10017"/>
                  </a:cubicBezTo>
                  <a:cubicBezTo>
                    <a:pt x="9524" y="10017"/>
                    <a:pt x="9731" y="10068"/>
                    <a:pt x="9839" y="10168"/>
                  </a:cubicBezTo>
                  <a:cubicBezTo>
                    <a:pt x="9948" y="10269"/>
                    <a:pt x="10002" y="10447"/>
                    <a:pt x="10002" y="10703"/>
                  </a:cubicBezTo>
                  <a:cubicBezTo>
                    <a:pt x="10002" y="10844"/>
                    <a:pt x="9985" y="11001"/>
                    <a:pt x="9949" y="11172"/>
                  </a:cubicBezTo>
                  <a:cubicBezTo>
                    <a:pt x="9914" y="11343"/>
                    <a:pt x="9870" y="11526"/>
                    <a:pt x="9818" y="11717"/>
                  </a:cubicBezTo>
                  <a:lnTo>
                    <a:pt x="9235" y="13719"/>
                  </a:lnTo>
                  <a:cubicBezTo>
                    <a:pt x="9184" y="13929"/>
                    <a:pt x="9146" y="14118"/>
                    <a:pt x="9123" y="14285"/>
                  </a:cubicBezTo>
                  <a:cubicBezTo>
                    <a:pt x="9100" y="14451"/>
                    <a:pt x="9088" y="14615"/>
                    <a:pt x="9088" y="14775"/>
                  </a:cubicBezTo>
                  <a:cubicBezTo>
                    <a:pt x="9088" y="15186"/>
                    <a:pt x="9244" y="15526"/>
                    <a:pt x="9556" y="15793"/>
                  </a:cubicBezTo>
                  <a:cubicBezTo>
                    <a:pt x="9869" y="16060"/>
                    <a:pt x="10308" y="16194"/>
                    <a:pt x="10872" y="16194"/>
                  </a:cubicBezTo>
                  <a:cubicBezTo>
                    <a:pt x="11239" y="16194"/>
                    <a:pt x="11561" y="16147"/>
                    <a:pt x="11839" y="16053"/>
                  </a:cubicBezTo>
                  <a:cubicBezTo>
                    <a:pt x="12117" y="15960"/>
                    <a:pt x="12488" y="15824"/>
                    <a:pt x="12954" y="15645"/>
                  </a:cubicBezTo>
                  <a:lnTo>
                    <a:pt x="13109" y="15028"/>
                  </a:lnTo>
                  <a:cubicBezTo>
                    <a:pt x="13029" y="15065"/>
                    <a:pt x="12900" y="15107"/>
                    <a:pt x="12721" y="15155"/>
                  </a:cubicBezTo>
                  <a:cubicBezTo>
                    <a:pt x="12543" y="15204"/>
                    <a:pt x="12383" y="15228"/>
                    <a:pt x="12242" y="152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291" name="Group 20"/>
          <p:cNvGrpSpPr/>
          <p:nvPr/>
        </p:nvGrpSpPr>
        <p:grpSpPr>
          <a:xfrm>
            <a:off x="1080" y="4510080"/>
            <a:ext cx="2389320" cy="2347920"/>
            <a:chOff x="1080" y="4510080"/>
            <a:chExt cx="2389320" cy="2347920"/>
          </a:xfrm>
        </p:grpSpPr>
        <p:grpSp>
          <p:nvGrpSpPr>
            <p:cNvPr id="1292" name="Group 66"/>
            <p:cNvGrpSpPr/>
            <p:nvPr/>
          </p:nvGrpSpPr>
          <p:grpSpPr>
            <a:xfrm>
              <a:off x="1080" y="4510080"/>
              <a:ext cx="2389320" cy="2347920"/>
              <a:chOff x="1080" y="4510080"/>
              <a:chExt cx="2389320" cy="2347920"/>
            </a:xfrm>
          </p:grpSpPr>
          <p:sp>
            <p:nvSpPr>
              <p:cNvPr id="1293" name="Shape 585"/>
              <p:cNvSpPr/>
              <p:nvPr/>
            </p:nvSpPr>
            <p:spPr>
              <a:xfrm rot="10800000">
                <a:off x="1080" y="4510080"/>
                <a:ext cx="2389320" cy="2347920"/>
              </a:xfrm>
              <a:prstGeom prst="rect">
                <a:avLst/>
              </a:prstGeom>
              <a:gradFill rotWithShape="0">
                <a:gsLst>
                  <a:gs pos="0">
                    <a:srgbClr val="45988b"/>
                  </a:gs>
                  <a:gs pos="100000">
                    <a:srgbClr val="008576"/>
                  </a:gs>
                </a:gsLst>
                <a:lin ang="16200000"/>
              </a:gradFill>
              <a:ln w="6480">
                <a:solidFill>
                  <a:srgbClr val="0089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25560" bIns="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7160"/>
                    <a:tab algn="l" pos="453960"/>
                    <a:tab algn="l" pos="681120"/>
                    <a:tab algn="l" pos="907920"/>
                    <a:tab algn="l" pos="1135080"/>
                    <a:tab algn="l" pos="1362240"/>
                    <a:tab algn="l" pos="1589040"/>
                    <a:tab algn="l" pos="1816200"/>
                    <a:tab algn="l" pos="2043000"/>
                    <a:tab algn="l" pos="2270160"/>
                    <a:tab algn="l" pos="2496960"/>
                    <a:tab algn="l" pos="2724120"/>
                    <a:tab algn="l" pos="2951280"/>
                    <a:tab algn="l" pos="3178080"/>
                    <a:tab algn="l" pos="3405240"/>
                    <a:tab algn="l" pos="3632040"/>
                    <a:tab algn="l" pos="3859200"/>
                    <a:tab algn="l" pos="4086360"/>
                    <a:tab algn="l" pos="4313160"/>
                    <a:tab algn="l" pos="454032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1294" name="Rectangle 45"/>
              <p:cNvSpPr/>
              <p:nvPr/>
            </p:nvSpPr>
            <p:spPr>
              <a:xfrm>
                <a:off x="243360" y="5719320"/>
                <a:ext cx="212868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ource Sans Pro Light"/>
                  </a:rPr>
                  <a:t>Hashtag fashion axe fingerstache, everyday carry shoreditch pinterest umami authentic brooklyn YOLO. </a:t>
                </a:r>
                <a:endParaRPr b="0" lang="en-US" sz="12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grpSp>
            <p:nvGrpSpPr>
              <p:cNvPr id="1295" name="Group 61"/>
              <p:cNvGrpSpPr/>
              <p:nvPr/>
            </p:nvGrpSpPr>
            <p:grpSpPr>
              <a:xfrm>
                <a:off x="197280" y="5166000"/>
                <a:ext cx="1893600" cy="492840"/>
                <a:chOff x="197280" y="5166000"/>
                <a:chExt cx="1893600" cy="492840"/>
              </a:xfrm>
            </p:grpSpPr>
            <p:sp>
              <p:nvSpPr>
                <p:cNvPr id="1296" name="TextBox 62"/>
                <p:cNvSpPr/>
                <p:nvPr/>
              </p:nvSpPr>
              <p:spPr>
                <a:xfrm>
                  <a:off x="197280" y="5166000"/>
                  <a:ext cx="1207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Source Sans Pro"/>
                    </a:rPr>
                    <a:t>Portfolio 05</a:t>
                  </a:r>
                  <a:endParaRPr b="0" lang="en-US" sz="14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  <p:sp>
              <p:nvSpPr>
                <p:cNvPr id="1297" name="Rectangle 63"/>
                <p:cNvSpPr/>
                <p:nvPr/>
              </p:nvSpPr>
              <p:spPr>
                <a:xfrm>
                  <a:off x="243360" y="5367240"/>
                  <a:ext cx="184752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Source Sans Pro Light"/>
                    </a:rPr>
                    <a:t>Synth chartreuse XOXO.</a:t>
                  </a:r>
                  <a:endParaRPr b="0" lang="en-US" sz="1000" spc="-1" strike="noStrike">
                    <a:solidFill>
                      <a:srgbClr val="656d78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298" name="Shape 2556"/>
            <p:cNvSpPr/>
            <p:nvPr/>
          </p:nvSpPr>
          <p:spPr>
            <a:xfrm>
              <a:off x="2013840" y="46198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0800" y="0"/>
                  </a:moveTo>
                  <a:cubicBezTo>
                    <a:pt x="4836" y="0"/>
                    <a:pt x="0" y="4836"/>
                    <a:pt x="0" y="10800"/>
                  </a:cubicBezTo>
                  <a:cubicBezTo>
                    <a:pt x="0" y="16765"/>
                    <a:pt x="4836" y="21600"/>
                    <a:pt x="10800" y="21600"/>
                  </a:cubicBezTo>
                  <a:cubicBezTo>
                    <a:pt x="16764" y="21600"/>
                    <a:pt x="21600" y="16765"/>
                    <a:pt x="21600" y="10800"/>
                  </a:cubicBezTo>
                  <a:cubicBezTo>
                    <a:pt x="21600" y="4836"/>
                    <a:pt x="16764" y="0"/>
                    <a:pt x="10800" y="0"/>
                  </a:cubicBezTo>
                  <a:moveTo>
                    <a:pt x="11874" y="5396"/>
                  </a:moveTo>
                  <a:cubicBezTo>
                    <a:pt x="11493" y="5396"/>
                    <a:pt x="11166" y="5519"/>
                    <a:pt x="10894" y="5766"/>
                  </a:cubicBezTo>
                  <a:cubicBezTo>
                    <a:pt x="10621" y="6013"/>
                    <a:pt x="10484" y="6310"/>
                    <a:pt x="10484" y="6658"/>
                  </a:cubicBezTo>
                  <a:cubicBezTo>
                    <a:pt x="10484" y="7005"/>
                    <a:pt x="10621" y="7301"/>
                    <a:pt x="10894" y="7545"/>
                  </a:cubicBezTo>
                  <a:cubicBezTo>
                    <a:pt x="11166" y="7790"/>
                    <a:pt x="11493" y="7912"/>
                    <a:pt x="11874" y="7912"/>
                  </a:cubicBezTo>
                  <a:cubicBezTo>
                    <a:pt x="12255" y="7912"/>
                    <a:pt x="12581" y="7790"/>
                    <a:pt x="12852" y="7545"/>
                  </a:cubicBezTo>
                  <a:cubicBezTo>
                    <a:pt x="13122" y="7301"/>
                    <a:pt x="13257" y="7005"/>
                    <a:pt x="13257" y="6658"/>
                  </a:cubicBezTo>
                  <a:cubicBezTo>
                    <a:pt x="13257" y="6310"/>
                    <a:pt x="13122" y="6013"/>
                    <a:pt x="12852" y="5766"/>
                  </a:cubicBezTo>
                  <a:cubicBezTo>
                    <a:pt x="12581" y="5519"/>
                    <a:pt x="12255" y="5396"/>
                    <a:pt x="11874" y="5396"/>
                  </a:cubicBezTo>
                  <a:moveTo>
                    <a:pt x="12242" y="15228"/>
                  </a:moveTo>
                  <a:cubicBezTo>
                    <a:pt x="11942" y="15228"/>
                    <a:pt x="11730" y="15180"/>
                    <a:pt x="11608" y="15083"/>
                  </a:cubicBezTo>
                  <a:cubicBezTo>
                    <a:pt x="11486" y="14987"/>
                    <a:pt x="11425" y="14807"/>
                    <a:pt x="11425" y="14542"/>
                  </a:cubicBezTo>
                  <a:cubicBezTo>
                    <a:pt x="11425" y="14436"/>
                    <a:pt x="11444" y="14281"/>
                    <a:pt x="11482" y="14076"/>
                  </a:cubicBezTo>
                  <a:cubicBezTo>
                    <a:pt x="11519" y="13870"/>
                    <a:pt x="11562" y="13687"/>
                    <a:pt x="11609" y="13527"/>
                  </a:cubicBezTo>
                  <a:lnTo>
                    <a:pt x="12189" y="11532"/>
                  </a:lnTo>
                  <a:cubicBezTo>
                    <a:pt x="12246" y="11349"/>
                    <a:pt x="12284" y="11148"/>
                    <a:pt x="12306" y="10929"/>
                  </a:cubicBezTo>
                  <a:cubicBezTo>
                    <a:pt x="12327" y="10709"/>
                    <a:pt x="12337" y="10557"/>
                    <a:pt x="12337" y="10469"/>
                  </a:cubicBezTo>
                  <a:cubicBezTo>
                    <a:pt x="12337" y="10049"/>
                    <a:pt x="12185" y="9707"/>
                    <a:pt x="11882" y="9444"/>
                  </a:cubicBezTo>
                  <a:cubicBezTo>
                    <a:pt x="11578" y="9182"/>
                    <a:pt x="11146" y="9050"/>
                    <a:pt x="10586" y="9050"/>
                  </a:cubicBezTo>
                  <a:cubicBezTo>
                    <a:pt x="10275" y="9050"/>
                    <a:pt x="9945" y="9104"/>
                    <a:pt x="9597" y="9211"/>
                  </a:cubicBezTo>
                  <a:cubicBezTo>
                    <a:pt x="9248" y="9319"/>
                    <a:pt x="8884" y="9448"/>
                    <a:pt x="8502" y="9599"/>
                  </a:cubicBezTo>
                  <a:lnTo>
                    <a:pt x="8347" y="10216"/>
                  </a:lnTo>
                  <a:cubicBezTo>
                    <a:pt x="8460" y="10175"/>
                    <a:pt x="8595" y="10131"/>
                    <a:pt x="8753" y="10085"/>
                  </a:cubicBezTo>
                  <a:cubicBezTo>
                    <a:pt x="8911" y="10040"/>
                    <a:pt x="9066" y="10017"/>
                    <a:pt x="9217" y="10017"/>
                  </a:cubicBezTo>
                  <a:cubicBezTo>
                    <a:pt x="9524" y="10017"/>
                    <a:pt x="9731" y="10068"/>
                    <a:pt x="9839" y="10168"/>
                  </a:cubicBezTo>
                  <a:cubicBezTo>
                    <a:pt x="9948" y="10269"/>
                    <a:pt x="10002" y="10447"/>
                    <a:pt x="10002" y="10703"/>
                  </a:cubicBezTo>
                  <a:cubicBezTo>
                    <a:pt x="10002" y="10844"/>
                    <a:pt x="9985" y="11001"/>
                    <a:pt x="9949" y="11172"/>
                  </a:cubicBezTo>
                  <a:cubicBezTo>
                    <a:pt x="9914" y="11343"/>
                    <a:pt x="9870" y="11526"/>
                    <a:pt x="9818" y="11717"/>
                  </a:cubicBezTo>
                  <a:lnTo>
                    <a:pt x="9235" y="13719"/>
                  </a:lnTo>
                  <a:cubicBezTo>
                    <a:pt x="9184" y="13929"/>
                    <a:pt x="9146" y="14118"/>
                    <a:pt x="9123" y="14285"/>
                  </a:cubicBezTo>
                  <a:cubicBezTo>
                    <a:pt x="9100" y="14451"/>
                    <a:pt x="9088" y="14615"/>
                    <a:pt x="9088" y="14775"/>
                  </a:cubicBezTo>
                  <a:cubicBezTo>
                    <a:pt x="9088" y="15186"/>
                    <a:pt x="9244" y="15526"/>
                    <a:pt x="9556" y="15793"/>
                  </a:cubicBezTo>
                  <a:cubicBezTo>
                    <a:pt x="9869" y="16060"/>
                    <a:pt x="10308" y="16194"/>
                    <a:pt x="10872" y="16194"/>
                  </a:cubicBezTo>
                  <a:cubicBezTo>
                    <a:pt x="11239" y="16194"/>
                    <a:pt x="11561" y="16147"/>
                    <a:pt x="11839" y="16053"/>
                  </a:cubicBezTo>
                  <a:cubicBezTo>
                    <a:pt x="12117" y="15960"/>
                    <a:pt x="12488" y="15824"/>
                    <a:pt x="12954" y="15645"/>
                  </a:cubicBezTo>
                  <a:lnTo>
                    <a:pt x="13109" y="15028"/>
                  </a:lnTo>
                  <a:cubicBezTo>
                    <a:pt x="13029" y="15065"/>
                    <a:pt x="12900" y="15107"/>
                    <a:pt x="12721" y="15155"/>
                  </a:cubicBezTo>
                  <a:cubicBezTo>
                    <a:pt x="12543" y="15204"/>
                    <a:pt x="12383" y="15228"/>
                    <a:pt x="12242" y="152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pic>
        <p:nvPicPr>
          <p:cNvPr id="1299" name="" descr=""/>
          <p:cNvPicPr/>
          <p:nvPr/>
        </p:nvPicPr>
        <p:blipFill>
          <a:blip r:embed="rId1"/>
          <a:stretch/>
        </p:blipFill>
        <p:spPr>
          <a:xfrm>
            <a:off x="1080" y="2061720"/>
            <a:ext cx="2389320" cy="238932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00" name="" descr=""/>
          <p:cNvPicPr/>
          <p:nvPr/>
        </p:nvPicPr>
        <p:blipFill>
          <a:blip r:embed="rId2"/>
          <a:stretch/>
        </p:blipFill>
        <p:spPr>
          <a:xfrm>
            <a:off x="4903920" y="2061720"/>
            <a:ext cx="2388960" cy="238932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01" name="" descr=""/>
          <p:cNvPicPr/>
          <p:nvPr/>
        </p:nvPicPr>
        <p:blipFill>
          <a:blip r:embed="rId3"/>
          <a:stretch/>
        </p:blipFill>
        <p:spPr>
          <a:xfrm>
            <a:off x="9801360" y="2061720"/>
            <a:ext cx="2388960" cy="238932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02" name="" descr=""/>
          <p:cNvPicPr/>
          <p:nvPr/>
        </p:nvPicPr>
        <p:blipFill>
          <a:blip r:embed="rId4"/>
          <a:stretch/>
        </p:blipFill>
        <p:spPr>
          <a:xfrm>
            <a:off x="7353360" y="4510080"/>
            <a:ext cx="2388960" cy="234792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03" name="" descr=""/>
          <p:cNvPicPr/>
          <p:nvPr/>
        </p:nvPicPr>
        <p:blipFill>
          <a:blip r:embed="rId5"/>
          <a:stretch/>
        </p:blipFill>
        <p:spPr>
          <a:xfrm>
            <a:off x="2455920" y="4506480"/>
            <a:ext cx="2388960" cy="235116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 advTm="2000">
    <p:fade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7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3000"/>
                            </p:stCondLst>
                            <p:childTnLst>
                              <p:par>
                                <p:cTn id="9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5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4000"/>
                            </p:stCondLst>
                            <p:childTnLst>
                              <p:par>
                                <p:cTn id="9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9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3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4" name="Group 15"/>
          <p:cNvGrpSpPr/>
          <p:nvPr/>
        </p:nvGrpSpPr>
        <p:grpSpPr>
          <a:xfrm>
            <a:off x="147600" y="2492280"/>
            <a:ext cx="1859040" cy="1994040"/>
            <a:chOff x="147600" y="2492280"/>
            <a:chExt cx="1859040" cy="1994040"/>
          </a:xfrm>
        </p:grpSpPr>
        <p:sp>
          <p:nvSpPr>
            <p:cNvPr id="1305" name="Rounded Rectangle 16"/>
            <p:cNvSpPr/>
            <p:nvPr/>
          </p:nvSpPr>
          <p:spPr>
            <a:xfrm>
              <a:off x="147600" y="2492280"/>
              <a:ext cx="1829520" cy="1994040"/>
            </a:xfrm>
            <a:custGeom>
              <a:avLst/>
              <a:gdLst>
                <a:gd name="textAreaLeft" fmla="*/ 6480 w 1829520"/>
                <a:gd name="textAreaRight" fmla="*/ 1823040 w 1829520"/>
                <a:gd name="textAreaTop" fmla="*/ 6480 h 1994040"/>
                <a:gd name="textAreaBottom" fmla="*/ 1987560 h 1994040"/>
              </a:gdLst>
              <a:ahLst/>
              <a:rect l="textAreaLeft" t="textAreaTop" r="textAreaRight" b="textAreaBottom"/>
              <a:pathLst>
                <a:path w="21600" h="23542">
                  <a:moveTo>
                    <a:pt x="266" y="0"/>
                  </a:moveTo>
                  <a:arcTo wR="266" hR="266" stAng="16200000" swAng="-5400000"/>
                  <a:lnTo>
                    <a:pt x="0" y="23276"/>
                  </a:lnTo>
                  <a:arcTo wR="266" hR="266" stAng="10800000" swAng="-5400000"/>
                  <a:lnTo>
                    <a:pt x="21334" y="23542"/>
                  </a:lnTo>
                  <a:arcTo wR="266" hR="266" stAng="5400000" swAng="-5400000"/>
                  <a:lnTo>
                    <a:pt x="21600" y="266"/>
                  </a:lnTo>
                  <a:arcTo wR="266" hR="266" stAng="0" swAng="-5400000"/>
                  <a:close/>
                </a:path>
              </a:pathLst>
            </a:custGeom>
            <a:solidFill>
              <a:srgbClr val="004d40">
                <a:alpha val="82000"/>
              </a:srgbClr>
            </a:solidFill>
            <a:ln w="0">
              <a:noFill/>
            </a:ln>
            <a:effectLst>
              <a:outerShdw dist="12600" dir="5400000" blurRad="0" rotWithShape="0">
                <a:srgbClr val="80808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306" name="Title 3"/>
            <p:cNvSpPr/>
            <p:nvPr/>
          </p:nvSpPr>
          <p:spPr>
            <a:xfrm>
              <a:off x="236880" y="3721680"/>
              <a:ext cx="176976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ource Sans Pro Light"/>
                  <a:ea typeface="Roboto Light"/>
                </a:rPr>
                <a:t>Showcase 01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307" name="Title 3"/>
            <p:cNvSpPr/>
            <p:nvPr/>
          </p:nvSpPr>
          <p:spPr>
            <a:xfrm>
              <a:off x="236880" y="4032000"/>
              <a:ext cx="176976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ource Sans Pro Light"/>
                  <a:ea typeface="Roboto Thin"/>
                </a:rPr>
                <a:t>Synth chartreuse XOXO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0"/>
                      </p:stCondLst>
                      <p:childTnLst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9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8" name="Group 19"/>
          <p:cNvGrpSpPr/>
          <p:nvPr/>
        </p:nvGrpSpPr>
        <p:grpSpPr>
          <a:xfrm>
            <a:off x="108000" y="4778280"/>
            <a:ext cx="1859040" cy="1994040"/>
            <a:chOff x="108000" y="4778280"/>
            <a:chExt cx="1859040" cy="1994040"/>
          </a:xfrm>
        </p:grpSpPr>
        <p:sp>
          <p:nvSpPr>
            <p:cNvPr id="1309" name="Rounded Rectangle 20"/>
            <p:cNvSpPr/>
            <p:nvPr/>
          </p:nvSpPr>
          <p:spPr>
            <a:xfrm>
              <a:off x="108000" y="4778280"/>
              <a:ext cx="1829520" cy="1994040"/>
            </a:xfrm>
            <a:custGeom>
              <a:avLst/>
              <a:gdLst>
                <a:gd name="textAreaLeft" fmla="*/ 6480 w 1829520"/>
                <a:gd name="textAreaRight" fmla="*/ 1823040 w 1829520"/>
                <a:gd name="textAreaTop" fmla="*/ 6480 h 1994040"/>
                <a:gd name="textAreaBottom" fmla="*/ 1987560 h 1994040"/>
              </a:gdLst>
              <a:ahLst/>
              <a:rect l="textAreaLeft" t="textAreaTop" r="textAreaRight" b="textAreaBottom"/>
              <a:pathLst>
                <a:path w="21600" h="23542">
                  <a:moveTo>
                    <a:pt x="266" y="0"/>
                  </a:moveTo>
                  <a:arcTo wR="266" hR="266" stAng="16200000" swAng="-5400000"/>
                  <a:lnTo>
                    <a:pt x="0" y="23276"/>
                  </a:lnTo>
                  <a:arcTo wR="266" hR="266" stAng="10800000" swAng="-5400000"/>
                  <a:lnTo>
                    <a:pt x="21334" y="23542"/>
                  </a:lnTo>
                  <a:arcTo wR="266" hR="266" stAng="5400000" swAng="-5400000"/>
                  <a:lnTo>
                    <a:pt x="21600" y="266"/>
                  </a:lnTo>
                  <a:arcTo wR="266" hR="266" stAng="0" swAng="-5400000"/>
                  <a:close/>
                </a:path>
              </a:pathLst>
            </a:custGeom>
            <a:solidFill>
              <a:srgbClr val="00695c">
                <a:alpha val="82000"/>
              </a:srgbClr>
            </a:solidFill>
            <a:ln w="0">
              <a:noFill/>
            </a:ln>
            <a:effectLst>
              <a:outerShdw dist="12600" dir="5400000" blurRad="0" rotWithShape="0">
                <a:srgbClr val="80808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310" name="Title 3"/>
            <p:cNvSpPr/>
            <p:nvPr/>
          </p:nvSpPr>
          <p:spPr>
            <a:xfrm>
              <a:off x="197280" y="6007680"/>
              <a:ext cx="176976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ource Sans Pro Light"/>
                  <a:ea typeface="Roboto Light"/>
                </a:rPr>
                <a:t>Showcase 01</a:t>
              </a:r>
              <a:endParaRPr b="0" lang="en-US" sz="2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311" name="Title 3"/>
            <p:cNvSpPr/>
            <p:nvPr/>
          </p:nvSpPr>
          <p:spPr>
            <a:xfrm>
              <a:off x="197280" y="6318000"/>
              <a:ext cx="176976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ource Sans Pro Light"/>
                  <a:ea typeface="Roboto Thin"/>
                </a:rPr>
                <a:t>Synth chartreuse XOXO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0"/>
                      </p:stCondLst>
                      <p:childTnLst>
                        <p:par>
                          <p:cTn id="927" fill="hold">
                            <p:stCondLst>
                              <p:cond delay="1000"/>
                            </p:stCondLst>
                            <p:childTnLst>
                              <p:par>
                                <p:cTn id="9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9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2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313" name="" descr=""/>
          <p:cNvPicPr/>
          <p:nvPr/>
        </p:nvPicPr>
        <p:blipFill>
          <a:blip r:embed="rId2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14" name="Rectangle 1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gradFill rotWithShape="0">
            <a:gsLst>
              <a:gs pos="0">
                <a:srgbClr val="44546a">
                  <a:alpha val="86274"/>
                </a:srgbClr>
              </a:gs>
              <a:gs pos="100000">
                <a:srgbClr val="00695c">
                  <a:alpha val="79215"/>
                </a:srgbClr>
              </a:gs>
            </a:gsLst>
            <a:lin ang="13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315" name="Picture 19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16" name="Shape 1121"/>
          <p:cNvSpPr/>
          <p:nvPr/>
        </p:nvSpPr>
        <p:spPr>
          <a:xfrm>
            <a:off x="4124160" y="2405160"/>
            <a:ext cx="396144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Get In Touch</a:t>
            </a:r>
            <a:endParaRPr b="0" lang="en-US" sz="4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17" name="Shape 1122"/>
          <p:cNvSpPr/>
          <p:nvPr/>
        </p:nvSpPr>
        <p:spPr>
          <a:xfrm>
            <a:off x="3049560" y="3354480"/>
            <a:ext cx="609588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 Light"/>
              </a:rPr>
              <a:t>Hashtag fashion axe fingerstache, everyday carry shoreditch pinterest umami authentic brooklyn YOLO heirloom keytar waistcoat kickstarter. 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18" name="Shape 1714"/>
          <p:cNvSpPr/>
          <p:nvPr/>
        </p:nvSpPr>
        <p:spPr>
          <a:xfrm>
            <a:off x="4471920" y="5075280"/>
            <a:ext cx="357120" cy="35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902" y="9175"/>
                </a:moveTo>
                <a:cubicBezTo>
                  <a:pt x="13937" y="9175"/>
                  <a:pt x="13937" y="9175"/>
                  <a:pt x="13937" y="9175"/>
                </a:cubicBezTo>
                <a:cubicBezTo>
                  <a:pt x="13699" y="11240"/>
                  <a:pt x="13699" y="11240"/>
                  <a:pt x="13699" y="11240"/>
                </a:cubicBezTo>
                <a:cubicBezTo>
                  <a:pt x="11902" y="11240"/>
                  <a:pt x="11902" y="11240"/>
                  <a:pt x="11902" y="11240"/>
                </a:cubicBezTo>
                <a:cubicBezTo>
                  <a:pt x="11902" y="17402"/>
                  <a:pt x="11902" y="17402"/>
                  <a:pt x="11902" y="17402"/>
                </a:cubicBezTo>
                <a:cubicBezTo>
                  <a:pt x="9257" y="17402"/>
                  <a:pt x="9257" y="17402"/>
                  <a:pt x="9257" y="17402"/>
                </a:cubicBezTo>
                <a:cubicBezTo>
                  <a:pt x="9257" y="11240"/>
                  <a:pt x="9257" y="11240"/>
                  <a:pt x="9257" y="11240"/>
                </a:cubicBezTo>
                <a:cubicBezTo>
                  <a:pt x="7765" y="11240"/>
                  <a:pt x="7765" y="11240"/>
                  <a:pt x="7765" y="11240"/>
                </a:cubicBezTo>
                <a:cubicBezTo>
                  <a:pt x="7765" y="9175"/>
                  <a:pt x="7765" y="9175"/>
                  <a:pt x="7765" y="9175"/>
                </a:cubicBezTo>
                <a:cubicBezTo>
                  <a:pt x="9257" y="9175"/>
                  <a:pt x="9257" y="9175"/>
                  <a:pt x="9257" y="9175"/>
                </a:cubicBezTo>
                <a:cubicBezTo>
                  <a:pt x="9257" y="7821"/>
                  <a:pt x="9257" y="7821"/>
                  <a:pt x="9257" y="7821"/>
                </a:cubicBezTo>
                <a:cubicBezTo>
                  <a:pt x="9257" y="6094"/>
                  <a:pt x="9969" y="5112"/>
                  <a:pt x="12173" y="5112"/>
                </a:cubicBezTo>
                <a:cubicBezTo>
                  <a:pt x="13937" y="5112"/>
                  <a:pt x="13937" y="5112"/>
                  <a:pt x="13937" y="5112"/>
                </a:cubicBezTo>
                <a:cubicBezTo>
                  <a:pt x="13937" y="7144"/>
                  <a:pt x="13937" y="7144"/>
                  <a:pt x="13937" y="7144"/>
                </a:cubicBezTo>
                <a:cubicBezTo>
                  <a:pt x="12885" y="7144"/>
                  <a:pt x="12885" y="7144"/>
                  <a:pt x="12885" y="7144"/>
                </a:cubicBezTo>
                <a:cubicBezTo>
                  <a:pt x="12038" y="7144"/>
                  <a:pt x="11902" y="7414"/>
                  <a:pt x="11902" y="7956"/>
                </a:cubicBezTo>
                <a:lnTo>
                  <a:pt x="11902" y="9175"/>
                </a:lnTo>
                <a:close/>
                <a:moveTo>
                  <a:pt x="21600" y="10800"/>
                </a:moveTo>
                <a:cubicBezTo>
                  <a:pt x="21600" y="16759"/>
                  <a:pt x="16785" y="21600"/>
                  <a:pt x="10817" y="21600"/>
                </a:cubicBezTo>
                <a:cubicBezTo>
                  <a:pt x="4849" y="21600"/>
                  <a:pt x="0" y="16759"/>
                  <a:pt x="0" y="10800"/>
                </a:cubicBezTo>
                <a:cubicBezTo>
                  <a:pt x="0" y="4841"/>
                  <a:pt x="4849" y="0"/>
                  <a:pt x="10817" y="0"/>
                </a:cubicBezTo>
                <a:cubicBezTo>
                  <a:pt x="16785" y="0"/>
                  <a:pt x="21600" y="4841"/>
                  <a:pt x="21600" y="10800"/>
                </a:cubicBezTo>
                <a:close/>
                <a:moveTo>
                  <a:pt x="20922" y="10800"/>
                </a:moveTo>
                <a:cubicBezTo>
                  <a:pt x="20922" y="8092"/>
                  <a:pt x="19871" y="5552"/>
                  <a:pt x="17972" y="3656"/>
                </a:cubicBezTo>
                <a:cubicBezTo>
                  <a:pt x="16039" y="1727"/>
                  <a:pt x="13496" y="677"/>
                  <a:pt x="10817" y="677"/>
                </a:cubicBezTo>
                <a:cubicBezTo>
                  <a:pt x="8104" y="677"/>
                  <a:pt x="5561" y="1727"/>
                  <a:pt x="3628" y="3656"/>
                </a:cubicBezTo>
                <a:cubicBezTo>
                  <a:pt x="1729" y="5552"/>
                  <a:pt x="678" y="8092"/>
                  <a:pt x="678" y="10800"/>
                </a:cubicBezTo>
                <a:cubicBezTo>
                  <a:pt x="678" y="13508"/>
                  <a:pt x="1729" y="16048"/>
                  <a:pt x="3628" y="17944"/>
                </a:cubicBezTo>
                <a:cubicBezTo>
                  <a:pt x="5561" y="19873"/>
                  <a:pt x="8104" y="20923"/>
                  <a:pt x="10817" y="20923"/>
                </a:cubicBezTo>
                <a:cubicBezTo>
                  <a:pt x="13496" y="20923"/>
                  <a:pt x="16039" y="19873"/>
                  <a:pt x="17972" y="17944"/>
                </a:cubicBezTo>
                <a:cubicBezTo>
                  <a:pt x="19871" y="16048"/>
                  <a:pt x="20922" y="13508"/>
                  <a:pt x="20922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19" name="Shape 1716"/>
          <p:cNvSpPr/>
          <p:nvPr/>
        </p:nvSpPr>
        <p:spPr>
          <a:xfrm>
            <a:off x="5921280" y="5075280"/>
            <a:ext cx="358920" cy="35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717" y="8667"/>
                </a:moveTo>
                <a:cubicBezTo>
                  <a:pt x="16717" y="8803"/>
                  <a:pt x="16717" y="8904"/>
                  <a:pt x="16717" y="9039"/>
                </a:cubicBezTo>
                <a:cubicBezTo>
                  <a:pt x="16717" y="12594"/>
                  <a:pt x="14004" y="16691"/>
                  <a:pt x="9054" y="16691"/>
                </a:cubicBezTo>
                <a:cubicBezTo>
                  <a:pt x="7528" y="16691"/>
                  <a:pt x="6104" y="16251"/>
                  <a:pt x="4917" y="15472"/>
                </a:cubicBezTo>
                <a:cubicBezTo>
                  <a:pt x="5120" y="15506"/>
                  <a:pt x="5324" y="15540"/>
                  <a:pt x="5561" y="15540"/>
                </a:cubicBezTo>
                <a:cubicBezTo>
                  <a:pt x="6816" y="15540"/>
                  <a:pt x="7969" y="15100"/>
                  <a:pt x="8884" y="14389"/>
                </a:cubicBezTo>
                <a:cubicBezTo>
                  <a:pt x="7731" y="14355"/>
                  <a:pt x="6714" y="13576"/>
                  <a:pt x="6375" y="12493"/>
                </a:cubicBezTo>
                <a:cubicBezTo>
                  <a:pt x="6544" y="12527"/>
                  <a:pt x="6714" y="12561"/>
                  <a:pt x="6884" y="12561"/>
                </a:cubicBezTo>
                <a:cubicBezTo>
                  <a:pt x="7121" y="12561"/>
                  <a:pt x="7358" y="12527"/>
                  <a:pt x="7596" y="12459"/>
                </a:cubicBezTo>
                <a:cubicBezTo>
                  <a:pt x="6375" y="12222"/>
                  <a:pt x="5425" y="11105"/>
                  <a:pt x="5425" y="9818"/>
                </a:cubicBezTo>
                <a:cubicBezTo>
                  <a:pt x="5425" y="9818"/>
                  <a:pt x="5425" y="9784"/>
                  <a:pt x="5425" y="9784"/>
                </a:cubicBezTo>
                <a:cubicBezTo>
                  <a:pt x="5798" y="9987"/>
                  <a:pt x="6205" y="10089"/>
                  <a:pt x="6646" y="10123"/>
                </a:cubicBezTo>
                <a:cubicBezTo>
                  <a:pt x="5934" y="9649"/>
                  <a:pt x="5459" y="8803"/>
                  <a:pt x="5459" y="7888"/>
                </a:cubicBezTo>
                <a:cubicBezTo>
                  <a:pt x="5459" y="7381"/>
                  <a:pt x="5595" y="6907"/>
                  <a:pt x="5832" y="6534"/>
                </a:cubicBezTo>
                <a:cubicBezTo>
                  <a:pt x="7155" y="8159"/>
                  <a:pt x="9155" y="9209"/>
                  <a:pt x="11393" y="9344"/>
                </a:cubicBezTo>
                <a:cubicBezTo>
                  <a:pt x="11326" y="9141"/>
                  <a:pt x="11326" y="8938"/>
                  <a:pt x="11326" y="8735"/>
                </a:cubicBezTo>
                <a:cubicBezTo>
                  <a:pt x="11326" y="7245"/>
                  <a:pt x="12512" y="6026"/>
                  <a:pt x="14004" y="6026"/>
                </a:cubicBezTo>
                <a:cubicBezTo>
                  <a:pt x="14784" y="6026"/>
                  <a:pt x="15496" y="6365"/>
                  <a:pt x="15971" y="6873"/>
                </a:cubicBezTo>
                <a:cubicBezTo>
                  <a:pt x="16581" y="6771"/>
                  <a:pt x="17192" y="6534"/>
                  <a:pt x="17700" y="6229"/>
                </a:cubicBezTo>
                <a:cubicBezTo>
                  <a:pt x="17497" y="6839"/>
                  <a:pt x="17056" y="7381"/>
                  <a:pt x="16514" y="7719"/>
                </a:cubicBezTo>
                <a:cubicBezTo>
                  <a:pt x="17056" y="7651"/>
                  <a:pt x="17565" y="7516"/>
                  <a:pt x="18073" y="7279"/>
                </a:cubicBezTo>
                <a:cubicBezTo>
                  <a:pt x="17700" y="7821"/>
                  <a:pt x="17226" y="8295"/>
                  <a:pt x="16717" y="8667"/>
                </a:cubicBezTo>
                <a:close/>
                <a:moveTo>
                  <a:pt x="21600" y="10800"/>
                </a:moveTo>
                <a:cubicBezTo>
                  <a:pt x="21600" y="16759"/>
                  <a:pt x="16785" y="21600"/>
                  <a:pt x="10817" y="21600"/>
                </a:cubicBezTo>
                <a:cubicBezTo>
                  <a:pt x="4849" y="21600"/>
                  <a:pt x="0" y="16759"/>
                  <a:pt x="0" y="10800"/>
                </a:cubicBezTo>
                <a:cubicBezTo>
                  <a:pt x="0" y="4841"/>
                  <a:pt x="4849" y="0"/>
                  <a:pt x="10817" y="0"/>
                </a:cubicBezTo>
                <a:cubicBezTo>
                  <a:pt x="16785" y="0"/>
                  <a:pt x="21600" y="4841"/>
                  <a:pt x="21600" y="10800"/>
                </a:cubicBezTo>
                <a:close/>
                <a:moveTo>
                  <a:pt x="20922" y="10800"/>
                </a:moveTo>
                <a:cubicBezTo>
                  <a:pt x="20922" y="8092"/>
                  <a:pt x="19871" y="5552"/>
                  <a:pt x="17972" y="3656"/>
                </a:cubicBezTo>
                <a:cubicBezTo>
                  <a:pt x="16039" y="1727"/>
                  <a:pt x="13496" y="677"/>
                  <a:pt x="10817" y="677"/>
                </a:cubicBezTo>
                <a:cubicBezTo>
                  <a:pt x="8104" y="677"/>
                  <a:pt x="5561" y="1727"/>
                  <a:pt x="3628" y="3656"/>
                </a:cubicBezTo>
                <a:cubicBezTo>
                  <a:pt x="1729" y="5552"/>
                  <a:pt x="678" y="8092"/>
                  <a:pt x="678" y="10800"/>
                </a:cubicBezTo>
                <a:cubicBezTo>
                  <a:pt x="678" y="13508"/>
                  <a:pt x="1729" y="16048"/>
                  <a:pt x="3628" y="17944"/>
                </a:cubicBezTo>
                <a:cubicBezTo>
                  <a:pt x="5561" y="19873"/>
                  <a:pt x="8104" y="20923"/>
                  <a:pt x="10817" y="20923"/>
                </a:cubicBezTo>
                <a:cubicBezTo>
                  <a:pt x="13496" y="20923"/>
                  <a:pt x="16039" y="19873"/>
                  <a:pt x="17972" y="17944"/>
                </a:cubicBezTo>
                <a:cubicBezTo>
                  <a:pt x="19871" y="16048"/>
                  <a:pt x="20922" y="13508"/>
                  <a:pt x="20922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20" name="Shape 1717"/>
          <p:cNvSpPr/>
          <p:nvPr/>
        </p:nvSpPr>
        <p:spPr>
          <a:xfrm>
            <a:off x="6642000" y="5070600"/>
            <a:ext cx="357120" cy="35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17" y="0"/>
                </a:moveTo>
                <a:cubicBezTo>
                  <a:pt x="4849" y="0"/>
                  <a:pt x="0" y="4841"/>
                  <a:pt x="0" y="10800"/>
                </a:cubicBezTo>
                <a:cubicBezTo>
                  <a:pt x="0" y="16759"/>
                  <a:pt x="4849" y="21600"/>
                  <a:pt x="10817" y="21600"/>
                </a:cubicBezTo>
                <a:cubicBezTo>
                  <a:pt x="16785" y="21600"/>
                  <a:pt x="21600" y="16759"/>
                  <a:pt x="21600" y="10800"/>
                </a:cubicBezTo>
                <a:cubicBezTo>
                  <a:pt x="21600" y="4841"/>
                  <a:pt x="16785" y="0"/>
                  <a:pt x="10817" y="0"/>
                </a:cubicBezTo>
                <a:close/>
                <a:moveTo>
                  <a:pt x="17972" y="17944"/>
                </a:moveTo>
                <a:cubicBezTo>
                  <a:pt x="16039" y="19873"/>
                  <a:pt x="13496" y="20923"/>
                  <a:pt x="10817" y="20923"/>
                </a:cubicBezTo>
                <a:cubicBezTo>
                  <a:pt x="8104" y="20923"/>
                  <a:pt x="5561" y="19873"/>
                  <a:pt x="3628" y="17944"/>
                </a:cubicBezTo>
                <a:cubicBezTo>
                  <a:pt x="1729" y="16048"/>
                  <a:pt x="678" y="13508"/>
                  <a:pt x="678" y="10800"/>
                </a:cubicBezTo>
                <a:cubicBezTo>
                  <a:pt x="678" y="8092"/>
                  <a:pt x="1729" y="5552"/>
                  <a:pt x="3628" y="3656"/>
                </a:cubicBezTo>
                <a:cubicBezTo>
                  <a:pt x="5561" y="1727"/>
                  <a:pt x="8104" y="677"/>
                  <a:pt x="10817" y="677"/>
                </a:cubicBezTo>
                <a:cubicBezTo>
                  <a:pt x="13496" y="677"/>
                  <a:pt x="16039" y="1727"/>
                  <a:pt x="17972" y="3656"/>
                </a:cubicBezTo>
                <a:cubicBezTo>
                  <a:pt x="19871" y="5552"/>
                  <a:pt x="20922" y="8092"/>
                  <a:pt x="20922" y="10800"/>
                </a:cubicBezTo>
                <a:cubicBezTo>
                  <a:pt x="20922" y="13508"/>
                  <a:pt x="19871" y="16048"/>
                  <a:pt x="17972" y="17944"/>
                </a:cubicBezTo>
                <a:close/>
                <a:moveTo>
                  <a:pt x="7053" y="5688"/>
                </a:moveTo>
                <a:cubicBezTo>
                  <a:pt x="14649" y="5688"/>
                  <a:pt x="14649" y="5688"/>
                  <a:pt x="14649" y="5688"/>
                </a:cubicBezTo>
                <a:cubicBezTo>
                  <a:pt x="15395" y="5688"/>
                  <a:pt x="15971" y="6263"/>
                  <a:pt x="15971" y="6974"/>
                </a:cubicBezTo>
                <a:cubicBezTo>
                  <a:pt x="15971" y="14558"/>
                  <a:pt x="15971" y="14558"/>
                  <a:pt x="15971" y="14558"/>
                </a:cubicBezTo>
                <a:cubicBezTo>
                  <a:pt x="15971" y="15303"/>
                  <a:pt x="15395" y="15912"/>
                  <a:pt x="14649" y="15912"/>
                </a:cubicBezTo>
                <a:cubicBezTo>
                  <a:pt x="7053" y="15912"/>
                  <a:pt x="7053" y="15912"/>
                  <a:pt x="7053" y="15912"/>
                </a:cubicBezTo>
                <a:cubicBezTo>
                  <a:pt x="6341" y="15912"/>
                  <a:pt x="5731" y="15303"/>
                  <a:pt x="5731" y="14558"/>
                </a:cubicBezTo>
                <a:cubicBezTo>
                  <a:pt x="5731" y="6974"/>
                  <a:pt x="5731" y="6974"/>
                  <a:pt x="5731" y="6974"/>
                </a:cubicBezTo>
                <a:cubicBezTo>
                  <a:pt x="5731" y="6263"/>
                  <a:pt x="6341" y="5688"/>
                  <a:pt x="7053" y="5688"/>
                </a:cubicBezTo>
                <a:close/>
                <a:moveTo>
                  <a:pt x="13191" y="6839"/>
                </a:moveTo>
                <a:cubicBezTo>
                  <a:pt x="12953" y="6839"/>
                  <a:pt x="12750" y="7008"/>
                  <a:pt x="12750" y="7279"/>
                </a:cubicBezTo>
                <a:cubicBezTo>
                  <a:pt x="12750" y="8362"/>
                  <a:pt x="12750" y="8362"/>
                  <a:pt x="12750" y="8362"/>
                </a:cubicBezTo>
                <a:cubicBezTo>
                  <a:pt x="12750" y="8633"/>
                  <a:pt x="12953" y="8803"/>
                  <a:pt x="13191" y="8803"/>
                </a:cubicBezTo>
                <a:cubicBezTo>
                  <a:pt x="14343" y="8803"/>
                  <a:pt x="14343" y="8803"/>
                  <a:pt x="14343" y="8803"/>
                </a:cubicBezTo>
                <a:cubicBezTo>
                  <a:pt x="14615" y="8803"/>
                  <a:pt x="14818" y="8633"/>
                  <a:pt x="14818" y="8362"/>
                </a:cubicBezTo>
                <a:cubicBezTo>
                  <a:pt x="14818" y="7279"/>
                  <a:pt x="14818" y="7279"/>
                  <a:pt x="14818" y="7279"/>
                </a:cubicBezTo>
                <a:cubicBezTo>
                  <a:pt x="14818" y="7008"/>
                  <a:pt x="14615" y="6839"/>
                  <a:pt x="14343" y="6839"/>
                </a:cubicBezTo>
                <a:cubicBezTo>
                  <a:pt x="13191" y="6839"/>
                  <a:pt x="13191" y="6839"/>
                  <a:pt x="13191" y="6839"/>
                </a:cubicBezTo>
                <a:close/>
                <a:moveTo>
                  <a:pt x="14818" y="9987"/>
                </a:moveTo>
                <a:cubicBezTo>
                  <a:pt x="13937" y="9987"/>
                  <a:pt x="13937" y="9987"/>
                  <a:pt x="13937" y="9987"/>
                </a:cubicBezTo>
                <a:cubicBezTo>
                  <a:pt x="14004" y="10258"/>
                  <a:pt x="14038" y="10563"/>
                  <a:pt x="14038" y="10868"/>
                </a:cubicBezTo>
                <a:cubicBezTo>
                  <a:pt x="14038" y="12561"/>
                  <a:pt x="12614" y="13949"/>
                  <a:pt x="10885" y="13949"/>
                </a:cubicBezTo>
                <a:cubicBezTo>
                  <a:pt x="9122" y="13949"/>
                  <a:pt x="7697" y="12561"/>
                  <a:pt x="7697" y="10868"/>
                </a:cubicBezTo>
                <a:cubicBezTo>
                  <a:pt x="7697" y="10563"/>
                  <a:pt x="7731" y="10258"/>
                  <a:pt x="7833" y="9987"/>
                </a:cubicBezTo>
                <a:cubicBezTo>
                  <a:pt x="6884" y="9987"/>
                  <a:pt x="6884" y="9987"/>
                  <a:pt x="6884" y="9987"/>
                </a:cubicBezTo>
                <a:cubicBezTo>
                  <a:pt x="6884" y="14321"/>
                  <a:pt x="6884" y="14321"/>
                  <a:pt x="6884" y="14321"/>
                </a:cubicBezTo>
                <a:cubicBezTo>
                  <a:pt x="6884" y="14524"/>
                  <a:pt x="7087" y="14727"/>
                  <a:pt x="7290" y="14727"/>
                </a:cubicBezTo>
                <a:cubicBezTo>
                  <a:pt x="14411" y="14727"/>
                  <a:pt x="14411" y="14727"/>
                  <a:pt x="14411" y="14727"/>
                </a:cubicBezTo>
                <a:cubicBezTo>
                  <a:pt x="14649" y="14727"/>
                  <a:pt x="14818" y="14524"/>
                  <a:pt x="14818" y="14321"/>
                </a:cubicBezTo>
                <a:cubicBezTo>
                  <a:pt x="14818" y="9987"/>
                  <a:pt x="14818" y="9987"/>
                  <a:pt x="14818" y="9987"/>
                </a:cubicBezTo>
                <a:close/>
                <a:moveTo>
                  <a:pt x="10885" y="8769"/>
                </a:moveTo>
                <a:cubicBezTo>
                  <a:pt x="9732" y="8769"/>
                  <a:pt x="8816" y="9649"/>
                  <a:pt x="8816" y="10766"/>
                </a:cubicBezTo>
                <a:cubicBezTo>
                  <a:pt x="8816" y="11850"/>
                  <a:pt x="9732" y="12730"/>
                  <a:pt x="10885" y="12730"/>
                </a:cubicBezTo>
                <a:cubicBezTo>
                  <a:pt x="12004" y="12730"/>
                  <a:pt x="12919" y="11850"/>
                  <a:pt x="12919" y="10766"/>
                </a:cubicBezTo>
                <a:cubicBezTo>
                  <a:pt x="12919" y="9649"/>
                  <a:pt x="12004" y="8769"/>
                  <a:pt x="10885" y="87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21" name="Shape 1724"/>
          <p:cNvSpPr/>
          <p:nvPr/>
        </p:nvSpPr>
        <p:spPr>
          <a:xfrm>
            <a:off x="5195880" y="5075280"/>
            <a:ext cx="358920" cy="35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682" y="7414"/>
                </a:moveTo>
                <a:cubicBezTo>
                  <a:pt x="15869" y="7414"/>
                  <a:pt x="15869" y="7414"/>
                  <a:pt x="15869" y="7414"/>
                </a:cubicBezTo>
                <a:cubicBezTo>
                  <a:pt x="15869" y="8329"/>
                  <a:pt x="15869" y="8329"/>
                  <a:pt x="15869" y="8329"/>
                </a:cubicBezTo>
                <a:cubicBezTo>
                  <a:pt x="12682" y="8329"/>
                  <a:pt x="12682" y="8329"/>
                  <a:pt x="12682" y="8329"/>
                </a:cubicBezTo>
                <a:lnTo>
                  <a:pt x="12682" y="7414"/>
                </a:lnTo>
                <a:close/>
                <a:moveTo>
                  <a:pt x="17022" y="12256"/>
                </a:moveTo>
                <a:cubicBezTo>
                  <a:pt x="13089" y="12256"/>
                  <a:pt x="13089" y="12256"/>
                  <a:pt x="13089" y="12256"/>
                </a:cubicBezTo>
                <a:cubicBezTo>
                  <a:pt x="13089" y="13610"/>
                  <a:pt x="14411" y="13508"/>
                  <a:pt x="14411" y="13508"/>
                </a:cubicBezTo>
                <a:cubicBezTo>
                  <a:pt x="15666" y="13508"/>
                  <a:pt x="15632" y="12662"/>
                  <a:pt x="15632" y="12662"/>
                </a:cubicBezTo>
                <a:cubicBezTo>
                  <a:pt x="16988" y="12662"/>
                  <a:pt x="16988" y="12662"/>
                  <a:pt x="16988" y="12662"/>
                </a:cubicBezTo>
                <a:cubicBezTo>
                  <a:pt x="16988" y="14863"/>
                  <a:pt x="14377" y="14693"/>
                  <a:pt x="14377" y="14693"/>
                </a:cubicBezTo>
                <a:cubicBezTo>
                  <a:pt x="11258" y="14693"/>
                  <a:pt x="11461" y="11816"/>
                  <a:pt x="11461" y="11816"/>
                </a:cubicBezTo>
                <a:cubicBezTo>
                  <a:pt x="11461" y="11816"/>
                  <a:pt x="11461" y="8938"/>
                  <a:pt x="14377" y="8938"/>
                </a:cubicBezTo>
                <a:cubicBezTo>
                  <a:pt x="17463" y="8938"/>
                  <a:pt x="17022" y="12256"/>
                  <a:pt x="17022" y="12256"/>
                </a:cubicBezTo>
                <a:close/>
                <a:moveTo>
                  <a:pt x="14411" y="10021"/>
                </a:moveTo>
                <a:cubicBezTo>
                  <a:pt x="13224" y="10021"/>
                  <a:pt x="13055" y="11206"/>
                  <a:pt x="13055" y="11206"/>
                </a:cubicBezTo>
                <a:cubicBezTo>
                  <a:pt x="15564" y="11206"/>
                  <a:pt x="15564" y="11206"/>
                  <a:pt x="15564" y="11206"/>
                </a:cubicBezTo>
                <a:cubicBezTo>
                  <a:pt x="15564" y="11206"/>
                  <a:pt x="15564" y="10021"/>
                  <a:pt x="14411" y="10021"/>
                </a:cubicBezTo>
                <a:close/>
                <a:moveTo>
                  <a:pt x="11156" y="12324"/>
                </a:moveTo>
                <a:cubicBezTo>
                  <a:pt x="11156" y="14626"/>
                  <a:pt x="8749" y="14558"/>
                  <a:pt x="8749" y="14558"/>
                </a:cubicBezTo>
                <a:cubicBezTo>
                  <a:pt x="6511" y="14558"/>
                  <a:pt x="6511" y="14558"/>
                  <a:pt x="6511" y="14558"/>
                </a:cubicBezTo>
                <a:cubicBezTo>
                  <a:pt x="6443" y="14558"/>
                  <a:pt x="6443" y="14558"/>
                  <a:pt x="6443" y="14558"/>
                </a:cubicBezTo>
                <a:cubicBezTo>
                  <a:pt x="4747" y="14558"/>
                  <a:pt x="4747" y="14558"/>
                  <a:pt x="4747" y="14558"/>
                </a:cubicBezTo>
                <a:cubicBezTo>
                  <a:pt x="4747" y="6974"/>
                  <a:pt x="4747" y="6974"/>
                  <a:pt x="4747" y="6974"/>
                </a:cubicBezTo>
                <a:cubicBezTo>
                  <a:pt x="6443" y="6974"/>
                  <a:pt x="6443" y="6974"/>
                  <a:pt x="6443" y="6974"/>
                </a:cubicBezTo>
                <a:cubicBezTo>
                  <a:pt x="6511" y="6974"/>
                  <a:pt x="6511" y="6974"/>
                  <a:pt x="6511" y="6974"/>
                </a:cubicBezTo>
                <a:cubicBezTo>
                  <a:pt x="8749" y="6974"/>
                  <a:pt x="8749" y="6974"/>
                  <a:pt x="8749" y="6974"/>
                </a:cubicBezTo>
                <a:cubicBezTo>
                  <a:pt x="9935" y="6974"/>
                  <a:pt x="10885" y="7618"/>
                  <a:pt x="10885" y="8972"/>
                </a:cubicBezTo>
                <a:cubicBezTo>
                  <a:pt x="10885" y="10360"/>
                  <a:pt x="9732" y="10428"/>
                  <a:pt x="9732" y="10428"/>
                </a:cubicBezTo>
                <a:cubicBezTo>
                  <a:pt x="11258" y="10428"/>
                  <a:pt x="11156" y="12324"/>
                  <a:pt x="11156" y="12324"/>
                </a:cubicBezTo>
                <a:close/>
                <a:moveTo>
                  <a:pt x="6511" y="10021"/>
                </a:moveTo>
                <a:cubicBezTo>
                  <a:pt x="8579" y="10021"/>
                  <a:pt x="8579" y="10021"/>
                  <a:pt x="8579" y="10021"/>
                </a:cubicBezTo>
                <a:cubicBezTo>
                  <a:pt x="8952" y="10021"/>
                  <a:pt x="9257" y="9920"/>
                  <a:pt x="9257" y="9107"/>
                </a:cubicBezTo>
                <a:cubicBezTo>
                  <a:pt x="9257" y="8329"/>
                  <a:pt x="8749" y="8329"/>
                  <a:pt x="8749" y="8329"/>
                </a:cubicBezTo>
                <a:cubicBezTo>
                  <a:pt x="8443" y="8329"/>
                  <a:pt x="8443" y="8329"/>
                  <a:pt x="8443" y="8329"/>
                </a:cubicBezTo>
                <a:cubicBezTo>
                  <a:pt x="6511" y="8329"/>
                  <a:pt x="6511" y="8329"/>
                  <a:pt x="6511" y="8329"/>
                </a:cubicBezTo>
                <a:lnTo>
                  <a:pt x="6511" y="10021"/>
                </a:lnTo>
                <a:close/>
                <a:moveTo>
                  <a:pt x="9528" y="12222"/>
                </a:moveTo>
                <a:cubicBezTo>
                  <a:pt x="9528" y="11172"/>
                  <a:pt x="8749" y="11206"/>
                  <a:pt x="8749" y="11206"/>
                </a:cubicBezTo>
                <a:cubicBezTo>
                  <a:pt x="6511" y="11206"/>
                  <a:pt x="6511" y="11206"/>
                  <a:pt x="6511" y="11206"/>
                </a:cubicBezTo>
                <a:cubicBezTo>
                  <a:pt x="6511" y="13204"/>
                  <a:pt x="6511" y="13204"/>
                  <a:pt x="6511" y="13204"/>
                </a:cubicBezTo>
                <a:cubicBezTo>
                  <a:pt x="8477" y="13204"/>
                  <a:pt x="8477" y="13204"/>
                  <a:pt x="8477" y="13204"/>
                </a:cubicBezTo>
                <a:cubicBezTo>
                  <a:pt x="8511" y="13204"/>
                  <a:pt x="8579" y="13204"/>
                  <a:pt x="8613" y="13204"/>
                </a:cubicBezTo>
                <a:cubicBezTo>
                  <a:pt x="8952" y="13204"/>
                  <a:pt x="9528" y="13102"/>
                  <a:pt x="9528" y="12222"/>
                </a:cubicBezTo>
                <a:close/>
                <a:moveTo>
                  <a:pt x="21600" y="10800"/>
                </a:moveTo>
                <a:cubicBezTo>
                  <a:pt x="21600" y="16759"/>
                  <a:pt x="16751" y="21600"/>
                  <a:pt x="10783" y="21600"/>
                </a:cubicBezTo>
                <a:cubicBezTo>
                  <a:pt x="4815" y="21600"/>
                  <a:pt x="0" y="16759"/>
                  <a:pt x="0" y="10800"/>
                </a:cubicBezTo>
                <a:cubicBezTo>
                  <a:pt x="0" y="4841"/>
                  <a:pt x="4815" y="0"/>
                  <a:pt x="10783" y="0"/>
                </a:cubicBezTo>
                <a:cubicBezTo>
                  <a:pt x="16751" y="0"/>
                  <a:pt x="21600" y="4841"/>
                  <a:pt x="21600" y="10800"/>
                </a:cubicBezTo>
                <a:close/>
                <a:moveTo>
                  <a:pt x="20922" y="10800"/>
                </a:moveTo>
                <a:cubicBezTo>
                  <a:pt x="20922" y="8092"/>
                  <a:pt x="19871" y="5552"/>
                  <a:pt x="17972" y="3656"/>
                </a:cubicBezTo>
                <a:cubicBezTo>
                  <a:pt x="16039" y="1727"/>
                  <a:pt x="13496" y="677"/>
                  <a:pt x="10783" y="677"/>
                </a:cubicBezTo>
                <a:cubicBezTo>
                  <a:pt x="8104" y="677"/>
                  <a:pt x="5561" y="1727"/>
                  <a:pt x="3628" y="3656"/>
                </a:cubicBezTo>
                <a:cubicBezTo>
                  <a:pt x="1729" y="5552"/>
                  <a:pt x="678" y="8092"/>
                  <a:pt x="678" y="10800"/>
                </a:cubicBezTo>
                <a:cubicBezTo>
                  <a:pt x="678" y="13508"/>
                  <a:pt x="1729" y="16048"/>
                  <a:pt x="3628" y="17944"/>
                </a:cubicBezTo>
                <a:cubicBezTo>
                  <a:pt x="5561" y="19873"/>
                  <a:pt x="8104" y="20923"/>
                  <a:pt x="10783" y="20923"/>
                </a:cubicBezTo>
                <a:cubicBezTo>
                  <a:pt x="13496" y="20923"/>
                  <a:pt x="16039" y="19873"/>
                  <a:pt x="17972" y="17944"/>
                </a:cubicBezTo>
                <a:cubicBezTo>
                  <a:pt x="19871" y="16048"/>
                  <a:pt x="20922" y="13508"/>
                  <a:pt x="20922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322" name="Shape 1720"/>
          <p:cNvSpPr/>
          <p:nvPr/>
        </p:nvSpPr>
        <p:spPr>
          <a:xfrm>
            <a:off x="7365960" y="5070600"/>
            <a:ext cx="358920" cy="35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004" y="15946"/>
                </a:moveTo>
                <a:cubicBezTo>
                  <a:pt x="14004" y="12188"/>
                  <a:pt x="14004" y="12188"/>
                  <a:pt x="14004" y="12188"/>
                </a:cubicBezTo>
                <a:cubicBezTo>
                  <a:pt x="14004" y="11274"/>
                  <a:pt x="13665" y="10665"/>
                  <a:pt x="12851" y="10665"/>
                </a:cubicBezTo>
                <a:cubicBezTo>
                  <a:pt x="12241" y="10665"/>
                  <a:pt x="11868" y="11071"/>
                  <a:pt x="11699" y="11477"/>
                </a:cubicBezTo>
                <a:cubicBezTo>
                  <a:pt x="11631" y="11646"/>
                  <a:pt x="11631" y="11850"/>
                  <a:pt x="11631" y="12019"/>
                </a:cubicBezTo>
                <a:cubicBezTo>
                  <a:pt x="11631" y="15946"/>
                  <a:pt x="11631" y="15946"/>
                  <a:pt x="11631" y="15946"/>
                </a:cubicBezTo>
                <a:cubicBezTo>
                  <a:pt x="9393" y="15946"/>
                  <a:pt x="9393" y="15946"/>
                  <a:pt x="9393" y="15946"/>
                </a:cubicBezTo>
                <a:cubicBezTo>
                  <a:pt x="9393" y="9073"/>
                  <a:pt x="9393" y="9073"/>
                  <a:pt x="9393" y="9073"/>
                </a:cubicBezTo>
                <a:cubicBezTo>
                  <a:pt x="11631" y="9073"/>
                  <a:pt x="11631" y="9073"/>
                  <a:pt x="11631" y="9073"/>
                </a:cubicBezTo>
                <a:cubicBezTo>
                  <a:pt x="11631" y="10021"/>
                  <a:pt x="11631" y="10021"/>
                  <a:pt x="11631" y="10021"/>
                </a:cubicBezTo>
                <a:cubicBezTo>
                  <a:pt x="11936" y="9581"/>
                  <a:pt x="12478" y="8904"/>
                  <a:pt x="13631" y="8904"/>
                </a:cubicBezTo>
                <a:cubicBezTo>
                  <a:pt x="15089" y="8904"/>
                  <a:pt x="16242" y="9852"/>
                  <a:pt x="16242" y="11951"/>
                </a:cubicBezTo>
                <a:cubicBezTo>
                  <a:pt x="16242" y="15946"/>
                  <a:pt x="16242" y="15946"/>
                  <a:pt x="16242" y="15946"/>
                </a:cubicBezTo>
                <a:lnTo>
                  <a:pt x="14004" y="15946"/>
                </a:lnTo>
                <a:close/>
                <a:moveTo>
                  <a:pt x="7053" y="5620"/>
                </a:moveTo>
                <a:cubicBezTo>
                  <a:pt x="6341" y="5620"/>
                  <a:pt x="5866" y="6128"/>
                  <a:pt x="5866" y="6805"/>
                </a:cubicBezTo>
                <a:cubicBezTo>
                  <a:pt x="5866" y="7482"/>
                  <a:pt x="6307" y="7990"/>
                  <a:pt x="7019" y="7990"/>
                </a:cubicBezTo>
                <a:cubicBezTo>
                  <a:pt x="7053" y="7990"/>
                  <a:pt x="7053" y="7990"/>
                  <a:pt x="7053" y="7990"/>
                </a:cubicBezTo>
                <a:cubicBezTo>
                  <a:pt x="7799" y="7990"/>
                  <a:pt x="8240" y="7482"/>
                  <a:pt x="8240" y="6805"/>
                </a:cubicBezTo>
                <a:cubicBezTo>
                  <a:pt x="8240" y="6128"/>
                  <a:pt x="7799" y="5620"/>
                  <a:pt x="7053" y="5620"/>
                </a:cubicBezTo>
                <a:close/>
                <a:moveTo>
                  <a:pt x="5866" y="15946"/>
                </a:moveTo>
                <a:cubicBezTo>
                  <a:pt x="8104" y="15946"/>
                  <a:pt x="8104" y="15946"/>
                  <a:pt x="8104" y="15946"/>
                </a:cubicBezTo>
                <a:cubicBezTo>
                  <a:pt x="8104" y="9073"/>
                  <a:pt x="8104" y="9073"/>
                  <a:pt x="8104" y="9073"/>
                </a:cubicBezTo>
                <a:cubicBezTo>
                  <a:pt x="5866" y="9073"/>
                  <a:pt x="5866" y="9073"/>
                  <a:pt x="5866" y="9073"/>
                </a:cubicBezTo>
                <a:lnTo>
                  <a:pt x="5866" y="15946"/>
                </a:lnTo>
                <a:close/>
                <a:moveTo>
                  <a:pt x="21600" y="10800"/>
                </a:moveTo>
                <a:cubicBezTo>
                  <a:pt x="21600" y="16759"/>
                  <a:pt x="16785" y="21600"/>
                  <a:pt x="10817" y="21600"/>
                </a:cubicBezTo>
                <a:cubicBezTo>
                  <a:pt x="4849" y="21600"/>
                  <a:pt x="0" y="16759"/>
                  <a:pt x="0" y="10800"/>
                </a:cubicBezTo>
                <a:cubicBezTo>
                  <a:pt x="0" y="4841"/>
                  <a:pt x="4849" y="0"/>
                  <a:pt x="10817" y="0"/>
                </a:cubicBezTo>
                <a:cubicBezTo>
                  <a:pt x="16785" y="0"/>
                  <a:pt x="21600" y="4841"/>
                  <a:pt x="21600" y="10800"/>
                </a:cubicBezTo>
                <a:close/>
                <a:moveTo>
                  <a:pt x="20922" y="10800"/>
                </a:moveTo>
                <a:cubicBezTo>
                  <a:pt x="20922" y="8092"/>
                  <a:pt x="19871" y="5552"/>
                  <a:pt x="17972" y="3656"/>
                </a:cubicBezTo>
                <a:cubicBezTo>
                  <a:pt x="16039" y="1727"/>
                  <a:pt x="13496" y="677"/>
                  <a:pt x="10817" y="677"/>
                </a:cubicBezTo>
                <a:cubicBezTo>
                  <a:pt x="8104" y="677"/>
                  <a:pt x="5561" y="1727"/>
                  <a:pt x="3628" y="3656"/>
                </a:cubicBezTo>
                <a:cubicBezTo>
                  <a:pt x="1729" y="5552"/>
                  <a:pt x="678" y="8092"/>
                  <a:pt x="678" y="10800"/>
                </a:cubicBezTo>
                <a:cubicBezTo>
                  <a:pt x="678" y="13508"/>
                  <a:pt x="1729" y="16048"/>
                  <a:pt x="3628" y="17944"/>
                </a:cubicBezTo>
                <a:cubicBezTo>
                  <a:pt x="5561" y="19873"/>
                  <a:pt x="8104" y="20923"/>
                  <a:pt x="10817" y="20923"/>
                </a:cubicBezTo>
                <a:cubicBezTo>
                  <a:pt x="13496" y="20923"/>
                  <a:pt x="16039" y="19873"/>
                  <a:pt x="17972" y="17944"/>
                </a:cubicBezTo>
                <a:cubicBezTo>
                  <a:pt x="19871" y="16048"/>
                  <a:pt x="20922" y="13508"/>
                  <a:pt x="20922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46800" bIns="46800"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0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4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3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3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3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3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24" name="Group 2"/>
          <p:cNvGrpSpPr/>
          <p:nvPr/>
        </p:nvGrpSpPr>
        <p:grpSpPr>
          <a:xfrm>
            <a:off x="-3286080" y="0"/>
            <a:ext cx="7531200" cy="6843600"/>
            <a:chOff x="-3286080" y="0"/>
            <a:chExt cx="7531200" cy="6843600"/>
          </a:xfrm>
        </p:grpSpPr>
        <p:sp>
          <p:nvSpPr>
            <p:cNvPr id="1325" name="Freeform 3"/>
            <p:cNvSpPr/>
            <p:nvPr/>
          </p:nvSpPr>
          <p:spPr>
            <a:xfrm>
              <a:off x="-3286080" y="0"/>
              <a:ext cx="6813000" cy="6843600"/>
            </a:xfrm>
            <a:custGeom>
              <a:avLst/>
              <a:gdLst/>
              <a:ahLst/>
              <a:rect l="l" t="t" r="r" b="b"/>
              <a:pathLst>
                <a:path w="6812996" h="6844146">
                  <a:moveTo>
                    <a:pt x="3406498" y="0"/>
                  </a:moveTo>
                  <a:cubicBezTo>
                    <a:pt x="5287855" y="0"/>
                    <a:pt x="6812996" y="1532114"/>
                    <a:pt x="6812996" y="3422073"/>
                  </a:cubicBezTo>
                  <a:cubicBezTo>
                    <a:pt x="6812996" y="5312032"/>
                    <a:pt x="5287855" y="6844146"/>
                    <a:pt x="3406498" y="6844146"/>
                  </a:cubicBezTo>
                  <a:cubicBezTo>
                    <a:pt x="1525141" y="6844146"/>
                    <a:pt x="0" y="5312032"/>
                    <a:pt x="0" y="3422073"/>
                  </a:cubicBezTo>
                  <a:cubicBezTo>
                    <a:pt x="0" y="1532114"/>
                    <a:pt x="1525141" y="0"/>
                    <a:pt x="340649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44546a">
                    <a:alpha val="86274"/>
                  </a:srgbClr>
                </a:gs>
                <a:gs pos="100000">
                  <a:srgbClr val="00695c">
                    <a:alpha val="79215"/>
                  </a:srgbClr>
                </a:gs>
              </a:gsLst>
              <a:lin ang="13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326" name="Freeform 4"/>
            <p:cNvSpPr/>
            <p:nvPr/>
          </p:nvSpPr>
          <p:spPr>
            <a:xfrm>
              <a:off x="459720" y="1515240"/>
              <a:ext cx="3545640" cy="3785400"/>
            </a:xfrm>
            <a:custGeom>
              <a:avLst/>
              <a:gdLst/>
              <a:ahLst/>
              <a:rect l="l" t="t" r="r" b="b"/>
              <a:pathLst>
                <a:path w="3545558" h="3785616">
                  <a:moveTo>
                    <a:pt x="1772779" y="0"/>
                  </a:moveTo>
                  <a:cubicBezTo>
                    <a:pt x="2751858" y="0"/>
                    <a:pt x="3545558" y="847439"/>
                    <a:pt x="3545558" y="1892808"/>
                  </a:cubicBezTo>
                  <a:cubicBezTo>
                    <a:pt x="3545558" y="2938177"/>
                    <a:pt x="2751858" y="3785616"/>
                    <a:pt x="1772779" y="3785616"/>
                  </a:cubicBezTo>
                  <a:cubicBezTo>
                    <a:pt x="793700" y="3785616"/>
                    <a:pt x="0" y="2938177"/>
                    <a:pt x="0" y="1892808"/>
                  </a:cubicBezTo>
                  <a:cubicBezTo>
                    <a:pt x="0" y="847439"/>
                    <a:pt x="793700" y="0"/>
                    <a:pt x="177277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44546a">
                    <a:alpha val="86274"/>
                  </a:srgbClr>
                </a:gs>
                <a:gs pos="100000">
                  <a:srgbClr val="00695c">
                    <a:alpha val="79215"/>
                  </a:srgbClr>
                </a:gs>
              </a:gsLst>
              <a:lin ang="13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327" name="Freeform 5"/>
            <p:cNvSpPr/>
            <p:nvPr/>
          </p:nvSpPr>
          <p:spPr>
            <a:xfrm>
              <a:off x="699480" y="1528920"/>
              <a:ext cx="3545640" cy="3785400"/>
            </a:xfrm>
            <a:custGeom>
              <a:avLst/>
              <a:gdLst/>
              <a:ahLst/>
              <a:rect l="l" t="t" r="r" b="b"/>
              <a:pathLst>
                <a:path w="3545558" h="3785616">
                  <a:moveTo>
                    <a:pt x="1772779" y="0"/>
                  </a:moveTo>
                  <a:cubicBezTo>
                    <a:pt x="2751858" y="0"/>
                    <a:pt x="3545558" y="847439"/>
                    <a:pt x="3545558" y="1892808"/>
                  </a:cubicBezTo>
                  <a:cubicBezTo>
                    <a:pt x="3545558" y="2938177"/>
                    <a:pt x="2751858" y="3785616"/>
                    <a:pt x="1772779" y="3785616"/>
                  </a:cubicBezTo>
                  <a:cubicBezTo>
                    <a:pt x="793700" y="3785616"/>
                    <a:pt x="0" y="2938177"/>
                    <a:pt x="0" y="1892808"/>
                  </a:cubicBezTo>
                  <a:cubicBezTo>
                    <a:pt x="0" y="847439"/>
                    <a:pt x="793700" y="0"/>
                    <a:pt x="177277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44546a">
                    <a:alpha val="86274"/>
                  </a:srgbClr>
                </a:gs>
                <a:gs pos="100000">
                  <a:srgbClr val="00695c">
                    <a:alpha val="79215"/>
                  </a:srgbClr>
                </a:gs>
              </a:gsLst>
              <a:lin ang="13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1328" name="TextBox 6"/>
          <p:cNvSpPr/>
          <p:nvPr/>
        </p:nvSpPr>
        <p:spPr>
          <a:xfrm>
            <a:off x="996840" y="2716200"/>
            <a:ext cx="2949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Thanks For Watching! 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 Light"/>
                <a:ea typeface="Source Sans Pro Light"/>
              </a:rPr>
              <a:t>Have a nice day!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2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5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22"/>
          <p:cNvSpPr/>
          <p:nvPr/>
        </p:nvSpPr>
        <p:spPr>
          <a:xfrm>
            <a:off x="0" y="0"/>
            <a:ext cx="12192120" cy="4836960"/>
          </a:xfrm>
          <a:prstGeom prst="rect">
            <a:avLst/>
          </a:prstGeom>
          <a:gradFill rotWithShape="0">
            <a:gsLst>
              <a:gs pos="0">
                <a:srgbClr val="44546a">
                  <a:alpha val="86274"/>
                </a:srgbClr>
              </a:gs>
              <a:gs pos="100000">
                <a:srgbClr val="00695c">
                  <a:alpha val="79215"/>
                </a:srgbClr>
              </a:gs>
            </a:gsLst>
            <a:lin ang="13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75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54" name="Rectangle 8"/>
          <p:cNvSpPr/>
          <p:nvPr/>
        </p:nvSpPr>
        <p:spPr>
          <a:xfrm>
            <a:off x="1882800" y="1430280"/>
            <a:ext cx="780732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ource Sans Pro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Source Sans Pro"/>
              </a:rPr>
              <a:t>details</a:t>
            </a:r>
            <a:r>
              <a:rPr b="0" lang="en-US" sz="4000" spc="-1" strike="noStrike">
                <a:solidFill>
                  <a:srgbClr val="ffffff"/>
                </a:solidFill>
                <a:latin typeface="Source Sans Pro"/>
              </a:rPr>
              <a:t> are </a:t>
            </a:r>
            <a:r>
              <a:rPr b="0" i="1" lang="en-US" sz="4000" spc="-1" strike="noStrike">
                <a:solidFill>
                  <a:srgbClr val="ffffff"/>
                </a:solidFill>
                <a:latin typeface="Source Sans Pro"/>
              </a:rPr>
              <a:t>not the </a:t>
            </a:r>
            <a:r>
              <a:rPr b="0" lang="en-US" sz="4000" spc="-1" strike="noStrike">
                <a:solidFill>
                  <a:srgbClr val="ffffff"/>
                </a:solidFill>
                <a:latin typeface="Source Sans Pro"/>
              </a:rPr>
              <a:t>details. They make </a:t>
            </a:r>
            <a:r>
              <a:rPr b="1" lang="en-US" sz="4000" spc="-1" strike="noStrike">
                <a:solidFill>
                  <a:srgbClr val="ffffff"/>
                </a:solidFill>
                <a:latin typeface="Source Sans Pro"/>
              </a:rPr>
              <a:t>the design</a:t>
            </a:r>
            <a:r>
              <a:rPr b="0" lang="en-US" sz="4000" spc="-1" strike="noStrike">
                <a:solidFill>
                  <a:srgbClr val="ffffff"/>
                </a:solidFill>
                <a:latin typeface="Source Sans Pro"/>
              </a:rPr>
              <a:t>. </a:t>
            </a:r>
            <a:endParaRPr b="0" lang="en-US" sz="4000" spc="-1" strike="noStrike">
              <a:solidFill>
                <a:srgbClr val="656d7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6d7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ource Sans Pro Light"/>
                <a:ea typeface="Raleway"/>
              </a:rPr>
              <a:t>- Charles </a:t>
            </a:r>
            <a:r>
              <a:rPr b="1" i="1" lang="en-US" sz="2400" spc="-1" strike="noStrike">
                <a:solidFill>
                  <a:srgbClr val="ffffff"/>
                </a:solidFill>
                <a:latin typeface="Source Sans Pro"/>
                <a:ea typeface="Raleway"/>
              </a:rPr>
              <a:t>Eames</a:t>
            </a:r>
            <a:endParaRPr b="0" lang="en-US" sz="24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5" name="Rectangle 9"/>
          <p:cNvSpPr/>
          <p:nvPr/>
        </p:nvSpPr>
        <p:spPr>
          <a:xfrm>
            <a:off x="1233360" y="5270400"/>
            <a:ext cx="9731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Hashtag fashion axe fingerstache, everyday carry shoreditch pinterest umami authent</a:t>
            </a:r>
            <a:r>
              <a:rPr b="1" lang="en-US" sz="1200" spc="-1" strike="noStrike">
                <a:solidFill>
                  <a:srgbClr val="656d78"/>
                </a:solidFill>
                <a:latin typeface="Source Sans Pro Light"/>
              </a:rPr>
              <a:t>ic </a:t>
            </a:r>
            <a:r>
              <a:rPr b="0" lang="en-US" sz="1200" spc="-1" strike="noStrike">
                <a:solidFill>
                  <a:srgbClr val="656d78"/>
                </a:solidFill>
                <a:latin typeface="Source Sans Pro Light"/>
              </a:rPr>
              <a:t>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arallelogram 53"/>
          <p:cNvSpPr/>
          <p:nvPr/>
        </p:nvSpPr>
        <p:spPr>
          <a:xfrm>
            <a:off x="1023840" y="3706920"/>
            <a:ext cx="978120" cy="234720"/>
          </a:xfrm>
          <a:prstGeom prst="parallelogram">
            <a:avLst>
              <a:gd name="adj" fmla="val 25022"/>
            </a:avLst>
          </a:prstGeom>
          <a:solidFill>
            <a:srgbClr val="009688"/>
          </a:solidFill>
          <a:ln w="0">
            <a:noFill/>
          </a:ln>
          <a:effectLst>
            <a:outerShdw dist="507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ource Sans Pro"/>
              </a:rPr>
              <a:t>DESIGNER</a:t>
            </a:r>
            <a:endParaRPr b="0" lang="en-US" sz="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7" name="Parallelogram 77"/>
          <p:cNvSpPr/>
          <p:nvPr/>
        </p:nvSpPr>
        <p:spPr>
          <a:xfrm>
            <a:off x="3927600" y="3706920"/>
            <a:ext cx="977760" cy="234720"/>
          </a:xfrm>
          <a:prstGeom prst="parallelogram">
            <a:avLst>
              <a:gd name="adj" fmla="val 25013"/>
            </a:avLst>
          </a:prstGeom>
          <a:solidFill>
            <a:srgbClr val="009688"/>
          </a:solidFill>
          <a:ln w="0">
            <a:noFill/>
          </a:ln>
          <a:effectLst>
            <a:outerShdw dist="507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ource Sans Pro"/>
              </a:rPr>
              <a:t>MARKETING</a:t>
            </a:r>
            <a:endParaRPr b="0" lang="en-US" sz="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8" name="Parallelogram 87"/>
          <p:cNvSpPr/>
          <p:nvPr/>
        </p:nvSpPr>
        <p:spPr>
          <a:xfrm>
            <a:off x="7054920" y="3706920"/>
            <a:ext cx="977760" cy="234720"/>
          </a:xfrm>
          <a:prstGeom prst="parallelogram">
            <a:avLst>
              <a:gd name="adj" fmla="val 25013"/>
            </a:avLst>
          </a:prstGeom>
          <a:solidFill>
            <a:srgbClr val="009688"/>
          </a:solidFill>
          <a:ln w="0">
            <a:noFill/>
          </a:ln>
          <a:effectLst>
            <a:outerShdw dist="507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ource Sans Pro"/>
              </a:rPr>
              <a:t>FOUNDER</a:t>
            </a:r>
            <a:endParaRPr b="0" lang="en-US" sz="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59" name="Parallelogram 110"/>
          <p:cNvSpPr/>
          <p:nvPr/>
        </p:nvSpPr>
        <p:spPr>
          <a:xfrm>
            <a:off x="10180800" y="3706920"/>
            <a:ext cx="979200" cy="234720"/>
          </a:xfrm>
          <a:prstGeom prst="parallelogram">
            <a:avLst>
              <a:gd name="adj" fmla="val 25050"/>
            </a:avLst>
          </a:prstGeom>
          <a:solidFill>
            <a:srgbClr val="009688"/>
          </a:solidFill>
          <a:ln w="0">
            <a:noFill/>
          </a:ln>
          <a:effectLst>
            <a:outerShdw dist="507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ource Sans Pro"/>
              </a:rPr>
              <a:t>DIRECTOR</a:t>
            </a:r>
            <a:endParaRPr b="0" lang="en-US" sz="8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760" name="Group 13"/>
          <p:cNvGrpSpPr/>
          <p:nvPr/>
        </p:nvGrpSpPr>
        <p:grpSpPr>
          <a:xfrm>
            <a:off x="658800" y="4149720"/>
            <a:ext cx="1708200" cy="1471680"/>
            <a:chOff x="658800" y="4149720"/>
            <a:chExt cx="1708200" cy="1471680"/>
          </a:xfrm>
        </p:grpSpPr>
        <p:grpSp>
          <p:nvGrpSpPr>
            <p:cNvPr id="761" name="Group 68"/>
            <p:cNvGrpSpPr/>
            <p:nvPr/>
          </p:nvGrpSpPr>
          <p:grpSpPr>
            <a:xfrm>
              <a:off x="1008720" y="4149720"/>
              <a:ext cx="1008360" cy="430200"/>
              <a:chOff x="1008720" y="4149720"/>
              <a:chExt cx="1008360" cy="430200"/>
            </a:xfrm>
          </p:grpSpPr>
          <p:sp>
            <p:nvSpPr>
              <p:cNvPr id="762" name="TextBox 70"/>
              <p:cNvSpPr/>
              <p:nvPr/>
            </p:nvSpPr>
            <p:spPr>
              <a:xfrm>
                <a:off x="1008720" y="4149720"/>
                <a:ext cx="100836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56d78"/>
                    </a:solidFill>
                    <a:latin typeface="Source Sans Pro"/>
                  </a:rPr>
                  <a:t>SOFIA GREEN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56d78"/>
                    </a:solidFill>
                    <a:latin typeface="Source Sans Pro Light"/>
                  </a:rPr>
                  <a:t>DESIGNER</a:t>
                </a:r>
                <a:endParaRPr b="0" lang="en-US" sz="7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63" name="Straight Connector 71"/>
              <p:cNvSpPr/>
              <p:nvPr/>
            </p:nvSpPr>
            <p:spPr>
              <a:xfrm>
                <a:off x="1380600" y="4579920"/>
                <a:ext cx="276120" cy="0"/>
              </a:xfrm>
              <a:prstGeom prst="line">
                <a:avLst/>
              </a:prstGeom>
              <a:ln w="12600">
                <a:solidFill>
                  <a:srgbClr val="26a6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764" name="Rectangle 69"/>
            <p:cNvSpPr/>
            <p:nvPr/>
          </p:nvSpPr>
          <p:spPr>
            <a:xfrm>
              <a:off x="658800" y="4686120"/>
              <a:ext cx="17082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34a54"/>
                  </a:solidFill>
                  <a:latin typeface="Source Sans Pro Light"/>
                </a:rPr>
                <a:t>Synth chartreuse XOXO, tacos brooklyn VHS plaid.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grpSp>
          <p:nvGrpSpPr>
            <p:cNvPr id="765" name="Group 9"/>
            <p:cNvGrpSpPr/>
            <p:nvPr/>
          </p:nvGrpSpPr>
          <p:grpSpPr>
            <a:xfrm>
              <a:off x="1023480" y="5353200"/>
              <a:ext cx="950040" cy="268200"/>
              <a:chOff x="1023480" y="5353200"/>
              <a:chExt cx="950040" cy="268200"/>
            </a:xfrm>
          </p:grpSpPr>
          <p:sp>
            <p:nvSpPr>
              <p:cNvPr id="766" name="Shape 2864"/>
              <p:cNvSpPr/>
              <p:nvPr/>
            </p:nvSpPr>
            <p:spPr>
              <a:xfrm>
                <a:off x="1023480" y="53532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5" y="7359"/>
                    </a:moveTo>
                    <a:lnTo>
                      <a:pt x="13743" y="7359"/>
                    </a:lnTo>
                    <a:lnTo>
                      <a:pt x="13743" y="8833"/>
                    </a:lnTo>
                    <a:lnTo>
                      <a:pt x="12265" y="8833"/>
                    </a:lnTo>
                    <a:lnTo>
                      <a:pt x="12265" y="9816"/>
                    </a:lnTo>
                    <a:lnTo>
                      <a:pt x="13743" y="9816"/>
                    </a:lnTo>
                    <a:lnTo>
                      <a:pt x="13743" y="11283"/>
                    </a:lnTo>
                    <a:lnTo>
                      <a:pt x="14725" y="11283"/>
                    </a:lnTo>
                    <a:lnTo>
                      <a:pt x="14725" y="9816"/>
                    </a:lnTo>
                    <a:lnTo>
                      <a:pt x="16205" y="9816"/>
                    </a:lnTo>
                    <a:lnTo>
                      <a:pt x="16205" y="8833"/>
                    </a:lnTo>
                    <a:lnTo>
                      <a:pt x="14725" y="8833"/>
                    </a:lnTo>
                    <a:cubicBezTo>
                      <a:pt x="14725" y="8833"/>
                      <a:pt x="14725" y="7359"/>
                      <a:pt x="14725" y="7359"/>
                    </a:cubicBezTo>
                    <a:close/>
                    <a:moveTo>
                      <a:pt x="9321" y="13946"/>
                    </a:moveTo>
                    <a:cubicBezTo>
                      <a:pt x="8620" y="13946"/>
                      <a:pt x="8071" y="13495"/>
                      <a:pt x="8071" y="12919"/>
                    </a:cubicBezTo>
                    <a:cubicBezTo>
                      <a:pt x="8071" y="12392"/>
                      <a:pt x="8713" y="11929"/>
                      <a:pt x="9446" y="11929"/>
                    </a:cubicBezTo>
                    <a:lnTo>
                      <a:pt x="9446" y="11723"/>
                    </a:lnTo>
                    <a:lnTo>
                      <a:pt x="9447" y="11723"/>
                    </a:lnTo>
                    <a:lnTo>
                      <a:pt x="9465" y="11929"/>
                    </a:lnTo>
                    <a:cubicBezTo>
                      <a:pt x="9624" y="11930"/>
                      <a:pt x="9777" y="11954"/>
                      <a:pt x="9922" y="12000"/>
                    </a:cubicBezTo>
                    <a:lnTo>
                      <a:pt x="10067" y="12104"/>
                    </a:lnTo>
                    <a:cubicBezTo>
                      <a:pt x="10440" y="12371"/>
                      <a:pt x="10637" y="12521"/>
                      <a:pt x="10695" y="12764"/>
                    </a:cubicBezTo>
                    <a:cubicBezTo>
                      <a:pt x="10710" y="12827"/>
                      <a:pt x="10717" y="12891"/>
                      <a:pt x="10717" y="12954"/>
                    </a:cubicBezTo>
                    <a:cubicBezTo>
                      <a:pt x="10717" y="13612"/>
                      <a:pt x="10247" y="13946"/>
                      <a:pt x="9321" y="13946"/>
                    </a:cubicBezTo>
                    <a:moveTo>
                      <a:pt x="8542" y="8739"/>
                    </a:moveTo>
                    <a:cubicBezTo>
                      <a:pt x="8495" y="8362"/>
                      <a:pt x="8574" y="8014"/>
                      <a:pt x="8754" y="7806"/>
                    </a:cubicBezTo>
                    <a:cubicBezTo>
                      <a:pt x="8864" y="7680"/>
                      <a:pt x="9006" y="7613"/>
                      <a:pt x="9164" y="7613"/>
                    </a:cubicBezTo>
                    <a:lnTo>
                      <a:pt x="9164" y="7409"/>
                    </a:lnTo>
                    <a:lnTo>
                      <a:pt x="9182" y="7613"/>
                    </a:lnTo>
                    <a:cubicBezTo>
                      <a:pt x="9653" y="7628"/>
                      <a:pt x="10105" y="8185"/>
                      <a:pt x="10189" y="8855"/>
                    </a:cubicBezTo>
                    <a:cubicBezTo>
                      <a:pt x="10237" y="9239"/>
                      <a:pt x="10155" y="9596"/>
                      <a:pt x="9970" y="9809"/>
                    </a:cubicBezTo>
                    <a:cubicBezTo>
                      <a:pt x="9860" y="9935"/>
                      <a:pt x="9722" y="10002"/>
                      <a:pt x="9550" y="10001"/>
                    </a:cubicBezTo>
                    <a:lnTo>
                      <a:pt x="9549" y="10001"/>
                    </a:lnTo>
                    <a:cubicBezTo>
                      <a:pt x="9087" y="9988"/>
                      <a:pt x="8626" y="9409"/>
                      <a:pt x="8542" y="8739"/>
                    </a:cubicBezTo>
                    <a:moveTo>
                      <a:pt x="10838" y="11196"/>
                    </a:moveTo>
                    <a:cubicBezTo>
                      <a:pt x="10586" y="11009"/>
                      <a:pt x="10351" y="10732"/>
                      <a:pt x="10342" y="10646"/>
                    </a:cubicBezTo>
                    <a:cubicBezTo>
                      <a:pt x="10342" y="10499"/>
                      <a:pt x="10342" y="10431"/>
                      <a:pt x="10689" y="10148"/>
                    </a:cubicBezTo>
                    <a:cubicBezTo>
                      <a:pt x="11138" y="9780"/>
                      <a:pt x="11386" y="9295"/>
                      <a:pt x="11386" y="8784"/>
                    </a:cubicBezTo>
                    <a:cubicBezTo>
                      <a:pt x="11386" y="8342"/>
                      <a:pt x="11262" y="7947"/>
                      <a:pt x="11050" y="7659"/>
                    </a:cubicBezTo>
                    <a:lnTo>
                      <a:pt x="11238" y="7659"/>
                    </a:lnTo>
                    <a:lnTo>
                      <a:pt x="12276" y="6873"/>
                    </a:lnTo>
                    <a:lnTo>
                      <a:pt x="9463" y="6873"/>
                    </a:lnTo>
                    <a:cubicBezTo>
                      <a:pt x="8335" y="6873"/>
                      <a:pt x="7345" y="7759"/>
                      <a:pt x="7345" y="8769"/>
                    </a:cubicBezTo>
                    <a:cubicBezTo>
                      <a:pt x="7345" y="9812"/>
                      <a:pt x="8109" y="10605"/>
                      <a:pt x="9137" y="10648"/>
                    </a:cubicBezTo>
                    <a:cubicBezTo>
                      <a:pt x="9121" y="10722"/>
                      <a:pt x="9113" y="10795"/>
                      <a:pt x="9113" y="10868"/>
                    </a:cubicBezTo>
                    <a:cubicBezTo>
                      <a:pt x="9113" y="11018"/>
                      <a:pt x="9147" y="11162"/>
                      <a:pt x="9216" y="11300"/>
                    </a:cubicBezTo>
                    <a:cubicBezTo>
                      <a:pt x="7943" y="11309"/>
                      <a:pt x="6870" y="12161"/>
                      <a:pt x="6870" y="13167"/>
                    </a:cubicBezTo>
                    <a:cubicBezTo>
                      <a:pt x="6870" y="14071"/>
                      <a:pt x="7903" y="14727"/>
                      <a:pt x="9325" y="14727"/>
                    </a:cubicBezTo>
                    <a:cubicBezTo>
                      <a:pt x="10861" y="14727"/>
                      <a:pt x="11690" y="13766"/>
                      <a:pt x="11690" y="12860"/>
                    </a:cubicBezTo>
                    <a:cubicBezTo>
                      <a:pt x="11690" y="12108"/>
                      <a:pt x="11459" y="11656"/>
                      <a:pt x="10838" y="11196"/>
                    </a:cubicBezTo>
                    <a:moveTo>
                      <a:pt x="10800" y="20618"/>
                    </a:move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8"/>
                      <a:pt x="5378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26a6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67" name="Shape 2865"/>
              <p:cNvSpPr/>
              <p:nvPr/>
            </p:nvSpPr>
            <p:spPr>
              <a:xfrm>
                <a:off x="1364400" y="53532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4" y="21600"/>
                      <a:pt x="21600" y="16765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moveTo>
                      <a:pt x="13430" y="9320"/>
                    </a:moveTo>
                    <a:cubicBezTo>
                      <a:pt x="11975" y="9320"/>
                      <a:pt x="11780" y="10196"/>
                      <a:pt x="11780" y="10196"/>
                    </a:cubicBezTo>
                    <a:lnTo>
                      <a:pt x="11782" y="9327"/>
                    </a:lnTo>
                    <a:lnTo>
                      <a:pt x="9818" y="9327"/>
                    </a:lnTo>
                    <a:lnTo>
                      <a:pt x="9818" y="14727"/>
                    </a:lnTo>
                    <a:lnTo>
                      <a:pt x="11782" y="14727"/>
                    </a:lnTo>
                    <a:lnTo>
                      <a:pt x="11782" y="11782"/>
                    </a:lnTo>
                    <a:cubicBezTo>
                      <a:pt x="11782" y="11782"/>
                      <a:pt x="11782" y="10793"/>
                      <a:pt x="12616" y="10793"/>
                    </a:cubicBezTo>
                    <a:cubicBezTo>
                      <a:pt x="13086" y="10793"/>
                      <a:pt x="13255" y="11232"/>
                      <a:pt x="13255" y="11782"/>
                    </a:cubicBezTo>
                    <a:lnTo>
                      <a:pt x="13255" y="14727"/>
                    </a:lnTo>
                    <a:lnTo>
                      <a:pt x="15218" y="14727"/>
                    </a:lnTo>
                    <a:lnTo>
                      <a:pt x="15218" y="11782"/>
                    </a:lnTo>
                    <a:cubicBezTo>
                      <a:pt x="15218" y="10245"/>
                      <a:pt x="14550" y="9320"/>
                      <a:pt x="13430" y="9320"/>
                    </a:cubicBezTo>
                    <a:moveTo>
                      <a:pt x="6873" y="14727"/>
                    </a:moveTo>
                    <a:lnTo>
                      <a:pt x="8829" y="14727"/>
                    </a:lnTo>
                    <a:lnTo>
                      <a:pt x="8829" y="9320"/>
                    </a:lnTo>
                    <a:lnTo>
                      <a:pt x="6873" y="9320"/>
                    </a:lnTo>
                    <a:cubicBezTo>
                      <a:pt x="6873" y="9320"/>
                      <a:pt x="6873" y="14727"/>
                      <a:pt x="6873" y="14727"/>
                    </a:cubicBezTo>
                    <a:close/>
                    <a:moveTo>
                      <a:pt x="7851" y="6873"/>
                    </a:moveTo>
                    <a:cubicBezTo>
                      <a:pt x="7311" y="6873"/>
                      <a:pt x="6873" y="7313"/>
                      <a:pt x="6873" y="7856"/>
                    </a:cubicBezTo>
                    <a:cubicBezTo>
                      <a:pt x="6873" y="8399"/>
                      <a:pt x="7311" y="8839"/>
                      <a:pt x="7851" y="8839"/>
                    </a:cubicBezTo>
                    <a:cubicBezTo>
                      <a:pt x="8391" y="8839"/>
                      <a:pt x="8829" y="8399"/>
                      <a:pt x="8829" y="7856"/>
                    </a:cubicBezTo>
                    <a:cubicBezTo>
                      <a:pt x="8829" y="7313"/>
                      <a:pt x="8391" y="6873"/>
                      <a:pt x="7851" y="6873"/>
                    </a:cubicBezTo>
                  </a:path>
                </a:pathLst>
              </a:custGeom>
              <a:solidFill>
                <a:srgbClr val="26a6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68" name="Shape 2869"/>
              <p:cNvSpPr/>
              <p:nvPr/>
            </p:nvSpPr>
            <p:spPr>
              <a:xfrm>
                <a:off x="1705320" y="53532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7" y="13745"/>
                    </a:moveTo>
                    <a:cubicBezTo>
                      <a:pt x="14727" y="14287"/>
                      <a:pt x="14287" y="14727"/>
                      <a:pt x="13745" y="14727"/>
                    </a:cubicBezTo>
                    <a:lnTo>
                      <a:pt x="7855" y="14727"/>
                    </a:lnTo>
                    <a:cubicBezTo>
                      <a:pt x="7313" y="14727"/>
                      <a:pt x="6873" y="14287"/>
                      <a:pt x="6873" y="13745"/>
                    </a:cubicBezTo>
                    <a:lnTo>
                      <a:pt x="6873" y="10309"/>
                    </a:lnTo>
                    <a:lnTo>
                      <a:pt x="7904" y="10309"/>
                    </a:lnTo>
                    <a:cubicBezTo>
                      <a:pt x="7877" y="10470"/>
                      <a:pt x="7855" y="10632"/>
                      <a:pt x="7855" y="10800"/>
                    </a:cubicBezTo>
                    <a:cubicBezTo>
                      <a:pt x="7855" y="12427"/>
                      <a:pt x="9173" y="13745"/>
                      <a:pt x="10800" y="13745"/>
                    </a:cubicBezTo>
                    <a:cubicBezTo>
                      <a:pt x="12426" y="13745"/>
                      <a:pt x="13745" y="12427"/>
                      <a:pt x="13745" y="10800"/>
                    </a:cubicBezTo>
                    <a:cubicBezTo>
                      <a:pt x="13745" y="10632"/>
                      <a:pt x="13723" y="10470"/>
                      <a:pt x="13696" y="10309"/>
                    </a:cubicBezTo>
                    <a:lnTo>
                      <a:pt x="14727" y="10309"/>
                    </a:lnTo>
                    <a:cubicBezTo>
                      <a:pt x="14727" y="10309"/>
                      <a:pt x="14727" y="13745"/>
                      <a:pt x="14727" y="13745"/>
                    </a:cubicBezTo>
                    <a:close/>
                    <a:moveTo>
                      <a:pt x="10800" y="8836"/>
                    </a:moveTo>
                    <a:cubicBezTo>
                      <a:pt x="11884" y="8836"/>
                      <a:pt x="12764" y="9716"/>
                      <a:pt x="12764" y="10800"/>
                    </a:cubicBezTo>
                    <a:cubicBezTo>
                      <a:pt x="12764" y="11884"/>
                      <a:pt x="11884" y="12764"/>
                      <a:pt x="10800" y="12764"/>
                    </a:cubicBezTo>
                    <a:cubicBezTo>
                      <a:pt x="9716" y="12764"/>
                      <a:pt x="8836" y="11884"/>
                      <a:pt x="8836" y="10800"/>
                    </a:cubicBezTo>
                    <a:cubicBezTo>
                      <a:pt x="8836" y="9716"/>
                      <a:pt x="9716" y="8836"/>
                      <a:pt x="10800" y="8836"/>
                    </a:cubicBezTo>
                    <a:moveTo>
                      <a:pt x="12764" y="7364"/>
                    </a:moveTo>
                    <a:lnTo>
                      <a:pt x="14236" y="7364"/>
                    </a:lnTo>
                    <a:lnTo>
                      <a:pt x="14236" y="8836"/>
                    </a:lnTo>
                    <a:lnTo>
                      <a:pt x="12764" y="8836"/>
                    </a:lnTo>
                    <a:cubicBezTo>
                      <a:pt x="12764" y="8836"/>
                      <a:pt x="12764" y="7364"/>
                      <a:pt x="12764" y="7364"/>
                    </a:cubicBezTo>
                    <a:close/>
                    <a:moveTo>
                      <a:pt x="13745" y="5891"/>
                    </a:moveTo>
                    <a:lnTo>
                      <a:pt x="7855" y="5891"/>
                    </a:lnTo>
                    <a:cubicBezTo>
                      <a:pt x="6770" y="5891"/>
                      <a:pt x="5891" y="6770"/>
                      <a:pt x="5891" y="7855"/>
                    </a:cubicBezTo>
                    <a:lnTo>
                      <a:pt x="5891" y="13745"/>
                    </a:lnTo>
                    <a:cubicBezTo>
                      <a:pt x="5891" y="14830"/>
                      <a:pt x="6770" y="15709"/>
                      <a:pt x="7855" y="15709"/>
                    </a:cubicBezTo>
                    <a:lnTo>
                      <a:pt x="13745" y="15709"/>
                    </a:lnTo>
                    <a:cubicBezTo>
                      <a:pt x="14830" y="15709"/>
                      <a:pt x="15709" y="14830"/>
                      <a:pt x="15709" y="13745"/>
                    </a:cubicBezTo>
                    <a:lnTo>
                      <a:pt x="15709" y="7855"/>
                    </a:lnTo>
                    <a:cubicBezTo>
                      <a:pt x="15709" y="6770"/>
                      <a:pt x="14830" y="5891"/>
                      <a:pt x="13745" y="5891"/>
                    </a:cubicBezTo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26a6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</p:grpSp>
      <p:grpSp>
        <p:nvGrpSpPr>
          <p:cNvPr id="769" name="Group 14"/>
          <p:cNvGrpSpPr/>
          <p:nvPr/>
        </p:nvGrpSpPr>
        <p:grpSpPr>
          <a:xfrm>
            <a:off x="3560760" y="4149720"/>
            <a:ext cx="1706400" cy="1469880"/>
            <a:chOff x="3560760" y="4149720"/>
            <a:chExt cx="1706400" cy="1469880"/>
          </a:xfrm>
        </p:grpSpPr>
        <p:grpSp>
          <p:nvGrpSpPr>
            <p:cNvPr id="770" name="Group 79"/>
            <p:cNvGrpSpPr/>
            <p:nvPr/>
          </p:nvGrpSpPr>
          <p:grpSpPr>
            <a:xfrm>
              <a:off x="3813840" y="4149720"/>
              <a:ext cx="1200240" cy="430200"/>
              <a:chOff x="3813840" y="4149720"/>
              <a:chExt cx="1200240" cy="430200"/>
            </a:xfrm>
          </p:grpSpPr>
          <p:sp>
            <p:nvSpPr>
              <p:cNvPr id="771" name="TextBox 81"/>
              <p:cNvSpPr/>
              <p:nvPr/>
            </p:nvSpPr>
            <p:spPr>
              <a:xfrm>
                <a:off x="3813840" y="4149720"/>
                <a:ext cx="120024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56d78"/>
                    </a:solidFill>
                    <a:latin typeface="Source Sans Pro"/>
                  </a:rPr>
                  <a:t>PETER DOUGLAS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56d78"/>
                    </a:solidFill>
                    <a:latin typeface="Source Sans Pro Light"/>
                  </a:rPr>
                  <a:t>MARKETING</a:t>
                </a:r>
                <a:endParaRPr b="0" lang="en-US" sz="7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72" name="Straight Connector 82"/>
              <p:cNvSpPr/>
              <p:nvPr/>
            </p:nvSpPr>
            <p:spPr>
              <a:xfrm>
                <a:off x="4281840" y="4579920"/>
                <a:ext cx="275760" cy="0"/>
              </a:xfrm>
              <a:prstGeom prst="line">
                <a:avLst/>
              </a:prstGeom>
              <a:ln w="12600">
                <a:solidFill>
                  <a:srgbClr val="26a6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773" name="Rectangle 80"/>
            <p:cNvSpPr/>
            <p:nvPr/>
          </p:nvSpPr>
          <p:spPr>
            <a:xfrm>
              <a:off x="3560760" y="4686120"/>
              <a:ext cx="17064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34a54"/>
                  </a:solidFill>
                  <a:latin typeface="Source Sans Pro Light"/>
                </a:rPr>
                <a:t>Synth chartreuse XOXO, tacos brooklyn VHS plaid.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grpSp>
          <p:nvGrpSpPr>
            <p:cNvPr id="774" name="Group 10"/>
            <p:cNvGrpSpPr/>
            <p:nvPr/>
          </p:nvGrpSpPr>
          <p:grpSpPr>
            <a:xfrm>
              <a:off x="3914640" y="5351400"/>
              <a:ext cx="948960" cy="268200"/>
              <a:chOff x="3914640" y="5351400"/>
              <a:chExt cx="948960" cy="268200"/>
            </a:xfrm>
          </p:grpSpPr>
          <p:sp>
            <p:nvSpPr>
              <p:cNvPr id="775" name="Shape 2864"/>
              <p:cNvSpPr/>
              <p:nvPr/>
            </p:nvSpPr>
            <p:spPr>
              <a:xfrm>
                <a:off x="391464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5" y="7359"/>
                    </a:moveTo>
                    <a:lnTo>
                      <a:pt x="13743" y="7359"/>
                    </a:lnTo>
                    <a:lnTo>
                      <a:pt x="13743" y="8833"/>
                    </a:lnTo>
                    <a:lnTo>
                      <a:pt x="12265" y="8833"/>
                    </a:lnTo>
                    <a:lnTo>
                      <a:pt x="12265" y="9816"/>
                    </a:lnTo>
                    <a:lnTo>
                      <a:pt x="13743" y="9816"/>
                    </a:lnTo>
                    <a:lnTo>
                      <a:pt x="13743" y="11283"/>
                    </a:lnTo>
                    <a:lnTo>
                      <a:pt x="14725" y="11283"/>
                    </a:lnTo>
                    <a:lnTo>
                      <a:pt x="14725" y="9816"/>
                    </a:lnTo>
                    <a:lnTo>
                      <a:pt x="16205" y="9816"/>
                    </a:lnTo>
                    <a:lnTo>
                      <a:pt x="16205" y="8833"/>
                    </a:lnTo>
                    <a:lnTo>
                      <a:pt x="14725" y="8833"/>
                    </a:lnTo>
                    <a:cubicBezTo>
                      <a:pt x="14725" y="8833"/>
                      <a:pt x="14725" y="7359"/>
                      <a:pt x="14725" y="7359"/>
                    </a:cubicBezTo>
                    <a:close/>
                    <a:moveTo>
                      <a:pt x="9321" y="13946"/>
                    </a:moveTo>
                    <a:cubicBezTo>
                      <a:pt x="8620" y="13946"/>
                      <a:pt x="8071" y="13495"/>
                      <a:pt x="8071" y="12919"/>
                    </a:cubicBezTo>
                    <a:cubicBezTo>
                      <a:pt x="8071" y="12392"/>
                      <a:pt x="8713" y="11929"/>
                      <a:pt x="9446" y="11929"/>
                    </a:cubicBezTo>
                    <a:lnTo>
                      <a:pt x="9446" y="11723"/>
                    </a:lnTo>
                    <a:lnTo>
                      <a:pt x="9447" y="11723"/>
                    </a:lnTo>
                    <a:lnTo>
                      <a:pt x="9465" y="11929"/>
                    </a:lnTo>
                    <a:cubicBezTo>
                      <a:pt x="9624" y="11930"/>
                      <a:pt x="9777" y="11954"/>
                      <a:pt x="9922" y="12000"/>
                    </a:cubicBezTo>
                    <a:lnTo>
                      <a:pt x="10067" y="12104"/>
                    </a:lnTo>
                    <a:cubicBezTo>
                      <a:pt x="10440" y="12371"/>
                      <a:pt x="10637" y="12521"/>
                      <a:pt x="10695" y="12764"/>
                    </a:cubicBezTo>
                    <a:cubicBezTo>
                      <a:pt x="10710" y="12827"/>
                      <a:pt x="10717" y="12891"/>
                      <a:pt x="10717" y="12954"/>
                    </a:cubicBezTo>
                    <a:cubicBezTo>
                      <a:pt x="10717" y="13612"/>
                      <a:pt x="10247" y="13946"/>
                      <a:pt x="9321" y="13946"/>
                    </a:cubicBezTo>
                    <a:moveTo>
                      <a:pt x="8542" y="8739"/>
                    </a:moveTo>
                    <a:cubicBezTo>
                      <a:pt x="8495" y="8362"/>
                      <a:pt x="8574" y="8014"/>
                      <a:pt x="8754" y="7806"/>
                    </a:cubicBezTo>
                    <a:cubicBezTo>
                      <a:pt x="8864" y="7680"/>
                      <a:pt x="9006" y="7613"/>
                      <a:pt x="9164" y="7613"/>
                    </a:cubicBezTo>
                    <a:lnTo>
                      <a:pt x="9164" y="7409"/>
                    </a:lnTo>
                    <a:lnTo>
                      <a:pt x="9182" y="7613"/>
                    </a:lnTo>
                    <a:cubicBezTo>
                      <a:pt x="9653" y="7628"/>
                      <a:pt x="10105" y="8185"/>
                      <a:pt x="10189" y="8855"/>
                    </a:cubicBezTo>
                    <a:cubicBezTo>
                      <a:pt x="10237" y="9239"/>
                      <a:pt x="10155" y="9596"/>
                      <a:pt x="9970" y="9809"/>
                    </a:cubicBezTo>
                    <a:cubicBezTo>
                      <a:pt x="9860" y="9935"/>
                      <a:pt x="9722" y="10002"/>
                      <a:pt x="9550" y="10001"/>
                    </a:cubicBezTo>
                    <a:lnTo>
                      <a:pt x="9549" y="10001"/>
                    </a:lnTo>
                    <a:cubicBezTo>
                      <a:pt x="9087" y="9988"/>
                      <a:pt x="8626" y="9409"/>
                      <a:pt x="8542" y="8739"/>
                    </a:cubicBezTo>
                    <a:moveTo>
                      <a:pt x="10838" y="11196"/>
                    </a:moveTo>
                    <a:cubicBezTo>
                      <a:pt x="10586" y="11009"/>
                      <a:pt x="10351" y="10732"/>
                      <a:pt x="10342" y="10646"/>
                    </a:cubicBezTo>
                    <a:cubicBezTo>
                      <a:pt x="10342" y="10499"/>
                      <a:pt x="10342" y="10431"/>
                      <a:pt x="10689" y="10148"/>
                    </a:cubicBezTo>
                    <a:cubicBezTo>
                      <a:pt x="11138" y="9780"/>
                      <a:pt x="11386" y="9295"/>
                      <a:pt x="11386" y="8784"/>
                    </a:cubicBezTo>
                    <a:cubicBezTo>
                      <a:pt x="11386" y="8342"/>
                      <a:pt x="11262" y="7947"/>
                      <a:pt x="11050" y="7659"/>
                    </a:cubicBezTo>
                    <a:lnTo>
                      <a:pt x="11238" y="7659"/>
                    </a:lnTo>
                    <a:lnTo>
                      <a:pt x="12276" y="6873"/>
                    </a:lnTo>
                    <a:lnTo>
                      <a:pt x="9463" y="6873"/>
                    </a:lnTo>
                    <a:cubicBezTo>
                      <a:pt x="8335" y="6873"/>
                      <a:pt x="7345" y="7759"/>
                      <a:pt x="7345" y="8769"/>
                    </a:cubicBezTo>
                    <a:cubicBezTo>
                      <a:pt x="7345" y="9812"/>
                      <a:pt x="8109" y="10605"/>
                      <a:pt x="9137" y="10648"/>
                    </a:cubicBezTo>
                    <a:cubicBezTo>
                      <a:pt x="9121" y="10722"/>
                      <a:pt x="9113" y="10795"/>
                      <a:pt x="9113" y="10868"/>
                    </a:cubicBezTo>
                    <a:cubicBezTo>
                      <a:pt x="9113" y="11018"/>
                      <a:pt x="9147" y="11162"/>
                      <a:pt x="9216" y="11300"/>
                    </a:cubicBezTo>
                    <a:cubicBezTo>
                      <a:pt x="7943" y="11309"/>
                      <a:pt x="6870" y="12161"/>
                      <a:pt x="6870" y="13167"/>
                    </a:cubicBezTo>
                    <a:cubicBezTo>
                      <a:pt x="6870" y="14071"/>
                      <a:pt x="7903" y="14727"/>
                      <a:pt x="9325" y="14727"/>
                    </a:cubicBezTo>
                    <a:cubicBezTo>
                      <a:pt x="10861" y="14727"/>
                      <a:pt x="11690" y="13766"/>
                      <a:pt x="11690" y="12860"/>
                    </a:cubicBezTo>
                    <a:cubicBezTo>
                      <a:pt x="11690" y="12108"/>
                      <a:pt x="11459" y="11656"/>
                      <a:pt x="10838" y="11196"/>
                    </a:cubicBezTo>
                    <a:moveTo>
                      <a:pt x="10800" y="20618"/>
                    </a:move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8"/>
                      <a:pt x="5378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26a6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76" name="Shape 2865"/>
              <p:cNvSpPr/>
              <p:nvPr/>
            </p:nvSpPr>
            <p:spPr>
              <a:xfrm>
                <a:off x="425484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4" y="21600"/>
                      <a:pt x="21600" y="16765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moveTo>
                      <a:pt x="13430" y="9320"/>
                    </a:moveTo>
                    <a:cubicBezTo>
                      <a:pt x="11975" y="9320"/>
                      <a:pt x="11780" y="10196"/>
                      <a:pt x="11780" y="10196"/>
                    </a:cubicBezTo>
                    <a:lnTo>
                      <a:pt x="11782" y="9327"/>
                    </a:lnTo>
                    <a:lnTo>
                      <a:pt x="9818" y="9327"/>
                    </a:lnTo>
                    <a:lnTo>
                      <a:pt x="9818" y="14727"/>
                    </a:lnTo>
                    <a:lnTo>
                      <a:pt x="11782" y="14727"/>
                    </a:lnTo>
                    <a:lnTo>
                      <a:pt x="11782" y="11782"/>
                    </a:lnTo>
                    <a:cubicBezTo>
                      <a:pt x="11782" y="11782"/>
                      <a:pt x="11782" y="10793"/>
                      <a:pt x="12616" y="10793"/>
                    </a:cubicBezTo>
                    <a:cubicBezTo>
                      <a:pt x="13086" y="10793"/>
                      <a:pt x="13255" y="11232"/>
                      <a:pt x="13255" y="11782"/>
                    </a:cubicBezTo>
                    <a:lnTo>
                      <a:pt x="13255" y="14727"/>
                    </a:lnTo>
                    <a:lnTo>
                      <a:pt x="15218" y="14727"/>
                    </a:lnTo>
                    <a:lnTo>
                      <a:pt x="15218" y="11782"/>
                    </a:lnTo>
                    <a:cubicBezTo>
                      <a:pt x="15218" y="10245"/>
                      <a:pt x="14550" y="9320"/>
                      <a:pt x="13430" y="9320"/>
                    </a:cubicBezTo>
                    <a:moveTo>
                      <a:pt x="6873" y="14727"/>
                    </a:moveTo>
                    <a:lnTo>
                      <a:pt x="8829" y="14727"/>
                    </a:lnTo>
                    <a:lnTo>
                      <a:pt x="8829" y="9320"/>
                    </a:lnTo>
                    <a:lnTo>
                      <a:pt x="6873" y="9320"/>
                    </a:lnTo>
                    <a:cubicBezTo>
                      <a:pt x="6873" y="9320"/>
                      <a:pt x="6873" y="14727"/>
                      <a:pt x="6873" y="14727"/>
                    </a:cubicBezTo>
                    <a:close/>
                    <a:moveTo>
                      <a:pt x="7851" y="6873"/>
                    </a:moveTo>
                    <a:cubicBezTo>
                      <a:pt x="7311" y="6873"/>
                      <a:pt x="6873" y="7313"/>
                      <a:pt x="6873" y="7856"/>
                    </a:cubicBezTo>
                    <a:cubicBezTo>
                      <a:pt x="6873" y="8399"/>
                      <a:pt x="7311" y="8839"/>
                      <a:pt x="7851" y="8839"/>
                    </a:cubicBezTo>
                    <a:cubicBezTo>
                      <a:pt x="8391" y="8839"/>
                      <a:pt x="8829" y="8399"/>
                      <a:pt x="8829" y="7856"/>
                    </a:cubicBezTo>
                    <a:cubicBezTo>
                      <a:pt x="8829" y="7313"/>
                      <a:pt x="8391" y="6873"/>
                      <a:pt x="7851" y="6873"/>
                    </a:cubicBezTo>
                  </a:path>
                </a:pathLst>
              </a:custGeom>
              <a:solidFill>
                <a:srgbClr val="26a6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77" name="Shape 2869"/>
              <p:cNvSpPr/>
              <p:nvPr/>
            </p:nvSpPr>
            <p:spPr>
              <a:xfrm>
                <a:off x="459540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7" y="13745"/>
                    </a:moveTo>
                    <a:cubicBezTo>
                      <a:pt x="14727" y="14287"/>
                      <a:pt x="14287" y="14727"/>
                      <a:pt x="13745" y="14727"/>
                    </a:cubicBezTo>
                    <a:lnTo>
                      <a:pt x="7855" y="14727"/>
                    </a:lnTo>
                    <a:cubicBezTo>
                      <a:pt x="7313" y="14727"/>
                      <a:pt x="6873" y="14287"/>
                      <a:pt x="6873" y="13745"/>
                    </a:cubicBezTo>
                    <a:lnTo>
                      <a:pt x="6873" y="10309"/>
                    </a:lnTo>
                    <a:lnTo>
                      <a:pt x="7904" y="10309"/>
                    </a:lnTo>
                    <a:cubicBezTo>
                      <a:pt x="7877" y="10470"/>
                      <a:pt x="7855" y="10632"/>
                      <a:pt x="7855" y="10800"/>
                    </a:cubicBezTo>
                    <a:cubicBezTo>
                      <a:pt x="7855" y="12427"/>
                      <a:pt x="9173" y="13745"/>
                      <a:pt x="10800" y="13745"/>
                    </a:cubicBezTo>
                    <a:cubicBezTo>
                      <a:pt x="12426" y="13745"/>
                      <a:pt x="13745" y="12427"/>
                      <a:pt x="13745" y="10800"/>
                    </a:cubicBezTo>
                    <a:cubicBezTo>
                      <a:pt x="13745" y="10632"/>
                      <a:pt x="13723" y="10470"/>
                      <a:pt x="13696" y="10309"/>
                    </a:cubicBezTo>
                    <a:lnTo>
                      <a:pt x="14727" y="10309"/>
                    </a:lnTo>
                    <a:cubicBezTo>
                      <a:pt x="14727" y="10309"/>
                      <a:pt x="14727" y="13745"/>
                      <a:pt x="14727" y="13745"/>
                    </a:cubicBezTo>
                    <a:close/>
                    <a:moveTo>
                      <a:pt x="10800" y="8836"/>
                    </a:moveTo>
                    <a:cubicBezTo>
                      <a:pt x="11884" y="8836"/>
                      <a:pt x="12764" y="9716"/>
                      <a:pt x="12764" y="10800"/>
                    </a:cubicBezTo>
                    <a:cubicBezTo>
                      <a:pt x="12764" y="11884"/>
                      <a:pt x="11884" y="12764"/>
                      <a:pt x="10800" y="12764"/>
                    </a:cubicBezTo>
                    <a:cubicBezTo>
                      <a:pt x="9716" y="12764"/>
                      <a:pt x="8836" y="11884"/>
                      <a:pt x="8836" y="10800"/>
                    </a:cubicBezTo>
                    <a:cubicBezTo>
                      <a:pt x="8836" y="9716"/>
                      <a:pt x="9716" y="8836"/>
                      <a:pt x="10800" y="8836"/>
                    </a:cubicBezTo>
                    <a:moveTo>
                      <a:pt x="12764" y="7364"/>
                    </a:moveTo>
                    <a:lnTo>
                      <a:pt x="14236" y="7364"/>
                    </a:lnTo>
                    <a:lnTo>
                      <a:pt x="14236" y="8836"/>
                    </a:lnTo>
                    <a:lnTo>
                      <a:pt x="12764" y="8836"/>
                    </a:lnTo>
                    <a:cubicBezTo>
                      <a:pt x="12764" y="8836"/>
                      <a:pt x="12764" y="7364"/>
                      <a:pt x="12764" y="7364"/>
                    </a:cubicBezTo>
                    <a:close/>
                    <a:moveTo>
                      <a:pt x="13745" y="5891"/>
                    </a:moveTo>
                    <a:lnTo>
                      <a:pt x="7855" y="5891"/>
                    </a:lnTo>
                    <a:cubicBezTo>
                      <a:pt x="6770" y="5891"/>
                      <a:pt x="5891" y="6770"/>
                      <a:pt x="5891" y="7855"/>
                    </a:cubicBezTo>
                    <a:lnTo>
                      <a:pt x="5891" y="13745"/>
                    </a:lnTo>
                    <a:cubicBezTo>
                      <a:pt x="5891" y="14830"/>
                      <a:pt x="6770" y="15709"/>
                      <a:pt x="7855" y="15709"/>
                    </a:cubicBezTo>
                    <a:lnTo>
                      <a:pt x="13745" y="15709"/>
                    </a:lnTo>
                    <a:cubicBezTo>
                      <a:pt x="14830" y="15709"/>
                      <a:pt x="15709" y="14830"/>
                      <a:pt x="15709" y="13745"/>
                    </a:cubicBezTo>
                    <a:lnTo>
                      <a:pt x="15709" y="7855"/>
                    </a:lnTo>
                    <a:cubicBezTo>
                      <a:pt x="15709" y="6770"/>
                      <a:pt x="14830" y="5891"/>
                      <a:pt x="13745" y="5891"/>
                    </a:cubicBezTo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26a6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</p:grpSp>
      <p:grpSp>
        <p:nvGrpSpPr>
          <p:cNvPr id="778" name="Group 15"/>
          <p:cNvGrpSpPr/>
          <p:nvPr/>
        </p:nvGrpSpPr>
        <p:grpSpPr>
          <a:xfrm>
            <a:off x="6689880" y="4149720"/>
            <a:ext cx="1706400" cy="1469880"/>
            <a:chOff x="6689880" y="4149720"/>
            <a:chExt cx="1706400" cy="1469880"/>
          </a:xfrm>
        </p:grpSpPr>
        <p:grpSp>
          <p:nvGrpSpPr>
            <p:cNvPr id="779" name="Group 89"/>
            <p:cNvGrpSpPr/>
            <p:nvPr/>
          </p:nvGrpSpPr>
          <p:grpSpPr>
            <a:xfrm>
              <a:off x="7012080" y="4149720"/>
              <a:ext cx="1061640" cy="430200"/>
              <a:chOff x="7012080" y="4149720"/>
              <a:chExt cx="1061640" cy="430200"/>
            </a:xfrm>
          </p:grpSpPr>
          <p:sp>
            <p:nvSpPr>
              <p:cNvPr id="780" name="TextBox 91"/>
              <p:cNvSpPr/>
              <p:nvPr/>
            </p:nvSpPr>
            <p:spPr>
              <a:xfrm>
                <a:off x="7012080" y="4149720"/>
                <a:ext cx="106164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56d78"/>
                    </a:solidFill>
                    <a:latin typeface="Source Sans Pro"/>
                  </a:rPr>
                  <a:t>JULIA SANTOS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56d78"/>
                    </a:solidFill>
                    <a:latin typeface="Source Sans Pro Light"/>
                  </a:rPr>
                  <a:t>FOUNDER </a:t>
                </a:r>
                <a:endParaRPr b="0" lang="en-US" sz="7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81" name="Straight Connector 92"/>
              <p:cNvSpPr/>
              <p:nvPr/>
            </p:nvSpPr>
            <p:spPr>
              <a:xfrm>
                <a:off x="7410600" y="4579920"/>
                <a:ext cx="275760" cy="0"/>
              </a:xfrm>
              <a:prstGeom prst="line">
                <a:avLst/>
              </a:prstGeom>
              <a:ln w="12600">
                <a:solidFill>
                  <a:srgbClr val="26a6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782" name="Rectangle 90"/>
            <p:cNvSpPr/>
            <p:nvPr/>
          </p:nvSpPr>
          <p:spPr>
            <a:xfrm>
              <a:off x="6689880" y="4686120"/>
              <a:ext cx="17064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34a54"/>
                  </a:solidFill>
                  <a:latin typeface="Source Sans Pro Light"/>
                </a:rPr>
                <a:t>Synth chartreuse XOXO, tacos brooklyn VHS plaid.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grpSp>
          <p:nvGrpSpPr>
            <p:cNvPr id="783" name="Group 11"/>
            <p:cNvGrpSpPr/>
            <p:nvPr/>
          </p:nvGrpSpPr>
          <p:grpSpPr>
            <a:xfrm>
              <a:off x="7068600" y="5351400"/>
              <a:ext cx="948960" cy="268200"/>
              <a:chOff x="7068600" y="5351400"/>
              <a:chExt cx="948960" cy="268200"/>
            </a:xfrm>
          </p:grpSpPr>
          <p:sp>
            <p:nvSpPr>
              <p:cNvPr id="784" name="Shape 2864"/>
              <p:cNvSpPr/>
              <p:nvPr/>
            </p:nvSpPr>
            <p:spPr>
              <a:xfrm>
                <a:off x="706860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5" y="7359"/>
                    </a:moveTo>
                    <a:lnTo>
                      <a:pt x="13743" y="7359"/>
                    </a:lnTo>
                    <a:lnTo>
                      <a:pt x="13743" y="8833"/>
                    </a:lnTo>
                    <a:lnTo>
                      <a:pt x="12265" y="8833"/>
                    </a:lnTo>
                    <a:lnTo>
                      <a:pt x="12265" y="9816"/>
                    </a:lnTo>
                    <a:lnTo>
                      <a:pt x="13743" y="9816"/>
                    </a:lnTo>
                    <a:lnTo>
                      <a:pt x="13743" y="11283"/>
                    </a:lnTo>
                    <a:lnTo>
                      <a:pt x="14725" y="11283"/>
                    </a:lnTo>
                    <a:lnTo>
                      <a:pt x="14725" y="9816"/>
                    </a:lnTo>
                    <a:lnTo>
                      <a:pt x="16205" y="9816"/>
                    </a:lnTo>
                    <a:lnTo>
                      <a:pt x="16205" y="8833"/>
                    </a:lnTo>
                    <a:lnTo>
                      <a:pt x="14725" y="8833"/>
                    </a:lnTo>
                    <a:cubicBezTo>
                      <a:pt x="14725" y="8833"/>
                      <a:pt x="14725" y="7359"/>
                      <a:pt x="14725" y="7359"/>
                    </a:cubicBezTo>
                    <a:close/>
                    <a:moveTo>
                      <a:pt x="9321" y="13946"/>
                    </a:moveTo>
                    <a:cubicBezTo>
                      <a:pt x="8620" y="13946"/>
                      <a:pt x="8071" y="13495"/>
                      <a:pt x="8071" y="12919"/>
                    </a:cubicBezTo>
                    <a:cubicBezTo>
                      <a:pt x="8071" y="12392"/>
                      <a:pt x="8713" y="11929"/>
                      <a:pt x="9446" y="11929"/>
                    </a:cubicBezTo>
                    <a:lnTo>
                      <a:pt x="9446" y="11723"/>
                    </a:lnTo>
                    <a:lnTo>
                      <a:pt x="9447" y="11723"/>
                    </a:lnTo>
                    <a:lnTo>
                      <a:pt x="9465" y="11929"/>
                    </a:lnTo>
                    <a:cubicBezTo>
                      <a:pt x="9624" y="11930"/>
                      <a:pt x="9777" y="11954"/>
                      <a:pt x="9922" y="12000"/>
                    </a:cubicBezTo>
                    <a:lnTo>
                      <a:pt x="10067" y="12104"/>
                    </a:lnTo>
                    <a:cubicBezTo>
                      <a:pt x="10440" y="12371"/>
                      <a:pt x="10637" y="12521"/>
                      <a:pt x="10695" y="12764"/>
                    </a:cubicBezTo>
                    <a:cubicBezTo>
                      <a:pt x="10710" y="12827"/>
                      <a:pt x="10717" y="12891"/>
                      <a:pt x="10717" y="12954"/>
                    </a:cubicBezTo>
                    <a:cubicBezTo>
                      <a:pt x="10717" y="13612"/>
                      <a:pt x="10247" y="13946"/>
                      <a:pt x="9321" y="13946"/>
                    </a:cubicBezTo>
                    <a:moveTo>
                      <a:pt x="8542" y="8739"/>
                    </a:moveTo>
                    <a:cubicBezTo>
                      <a:pt x="8495" y="8362"/>
                      <a:pt x="8574" y="8014"/>
                      <a:pt x="8754" y="7806"/>
                    </a:cubicBezTo>
                    <a:cubicBezTo>
                      <a:pt x="8864" y="7680"/>
                      <a:pt x="9006" y="7613"/>
                      <a:pt x="9164" y="7613"/>
                    </a:cubicBezTo>
                    <a:lnTo>
                      <a:pt x="9164" y="7409"/>
                    </a:lnTo>
                    <a:lnTo>
                      <a:pt x="9182" y="7613"/>
                    </a:lnTo>
                    <a:cubicBezTo>
                      <a:pt x="9653" y="7628"/>
                      <a:pt x="10105" y="8185"/>
                      <a:pt x="10189" y="8855"/>
                    </a:cubicBezTo>
                    <a:cubicBezTo>
                      <a:pt x="10237" y="9239"/>
                      <a:pt x="10155" y="9596"/>
                      <a:pt x="9970" y="9809"/>
                    </a:cubicBezTo>
                    <a:cubicBezTo>
                      <a:pt x="9860" y="9935"/>
                      <a:pt x="9722" y="10002"/>
                      <a:pt x="9550" y="10001"/>
                    </a:cubicBezTo>
                    <a:lnTo>
                      <a:pt x="9549" y="10001"/>
                    </a:lnTo>
                    <a:cubicBezTo>
                      <a:pt x="9087" y="9988"/>
                      <a:pt x="8626" y="9409"/>
                      <a:pt x="8542" y="8739"/>
                    </a:cubicBezTo>
                    <a:moveTo>
                      <a:pt x="10838" y="11196"/>
                    </a:moveTo>
                    <a:cubicBezTo>
                      <a:pt x="10586" y="11009"/>
                      <a:pt x="10351" y="10732"/>
                      <a:pt x="10342" y="10646"/>
                    </a:cubicBezTo>
                    <a:cubicBezTo>
                      <a:pt x="10342" y="10499"/>
                      <a:pt x="10342" y="10431"/>
                      <a:pt x="10689" y="10148"/>
                    </a:cubicBezTo>
                    <a:cubicBezTo>
                      <a:pt x="11138" y="9780"/>
                      <a:pt x="11386" y="9295"/>
                      <a:pt x="11386" y="8784"/>
                    </a:cubicBezTo>
                    <a:cubicBezTo>
                      <a:pt x="11386" y="8342"/>
                      <a:pt x="11262" y="7947"/>
                      <a:pt x="11050" y="7659"/>
                    </a:cubicBezTo>
                    <a:lnTo>
                      <a:pt x="11238" y="7659"/>
                    </a:lnTo>
                    <a:lnTo>
                      <a:pt x="12276" y="6873"/>
                    </a:lnTo>
                    <a:lnTo>
                      <a:pt x="9463" y="6873"/>
                    </a:lnTo>
                    <a:cubicBezTo>
                      <a:pt x="8335" y="6873"/>
                      <a:pt x="7345" y="7759"/>
                      <a:pt x="7345" y="8769"/>
                    </a:cubicBezTo>
                    <a:cubicBezTo>
                      <a:pt x="7345" y="9812"/>
                      <a:pt x="8109" y="10605"/>
                      <a:pt x="9137" y="10648"/>
                    </a:cubicBezTo>
                    <a:cubicBezTo>
                      <a:pt x="9121" y="10722"/>
                      <a:pt x="9113" y="10795"/>
                      <a:pt x="9113" y="10868"/>
                    </a:cubicBezTo>
                    <a:cubicBezTo>
                      <a:pt x="9113" y="11018"/>
                      <a:pt x="9147" y="11162"/>
                      <a:pt x="9216" y="11300"/>
                    </a:cubicBezTo>
                    <a:cubicBezTo>
                      <a:pt x="7943" y="11309"/>
                      <a:pt x="6870" y="12161"/>
                      <a:pt x="6870" y="13167"/>
                    </a:cubicBezTo>
                    <a:cubicBezTo>
                      <a:pt x="6870" y="14071"/>
                      <a:pt x="7903" y="14727"/>
                      <a:pt x="9325" y="14727"/>
                    </a:cubicBezTo>
                    <a:cubicBezTo>
                      <a:pt x="10861" y="14727"/>
                      <a:pt x="11690" y="13766"/>
                      <a:pt x="11690" y="12860"/>
                    </a:cubicBezTo>
                    <a:cubicBezTo>
                      <a:pt x="11690" y="12108"/>
                      <a:pt x="11459" y="11656"/>
                      <a:pt x="10838" y="11196"/>
                    </a:cubicBezTo>
                    <a:moveTo>
                      <a:pt x="10800" y="20618"/>
                    </a:move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8"/>
                      <a:pt x="5378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26a6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85" name="Shape 2865"/>
              <p:cNvSpPr/>
              <p:nvPr/>
            </p:nvSpPr>
            <p:spPr>
              <a:xfrm>
                <a:off x="740880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4" y="21600"/>
                      <a:pt x="21600" y="16765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moveTo>
                      <a:pt x="13430" y="9320"/>
                    </a:moveTo>
                    <a:cubicBezTo>
                      <a:pt x="11975" y="9320"/>
                      <a:pt x="11780" y="10196"/>
                      <a:pt x="11780" y="10196"/>
                    </a:cubicBezTo>
                    <a:lnTo>
                      <a:pt x="11782" y="9327"/>
                    </a:lnTo>
                    <a:lnTo>
                      <a:pt x="9818" y="9327"/>
                    </a:lnTo>
                    <a:lnTo>
                      <a:pt x="9818" y="14727"/>
                    </a:lnTo>
                    <a:lnTo>
                      <a:pt x="11782" y="14727"/>
                    </a:lnTo>
                    <a:lnTo>
                      <a:pt x="11782" y="11782"/>
                    </a:lnTo>
                    <a:cubicBezTo>
                      <a:pt x="11782" y="11782"/>
                      <a:pt x="11782" y="10793"/>
                      <a:pt x="12616" y="10793"/>
                    </a:cubicBezTo>
                    <a:cubicBezTo>
                      <a:pt x="13086" y="10793"/>
                      <a:pt x="13255" y="11232"/>
                      <a:pt x="13255" y="11782"/>
                    </a:cubicBezTo>
                    <a:lnTo>
                      <a:pt x="13255" y="14727"/>
                    </a:lnTo>
                    <a:lnTo>
                      <a:pt x="15218" y="14727"/>
                    </a:lnTo>
                    <a:lnTo>
                      <a:pt x="15218" y="11782"/>
                    </a:lnTo>
                    <a:cubicBezTo>
                      <a:pt x="15218" y="10245"/>
                      <a:pt x="14550" y="9320"/>
                      <a:pt x="13430" y="9320"/>
                    </a:cubicBezTo>
                    <a:moveTo>
                      <a:pt x="6873" y="14727"/>
                    </a:moveTo>
                    <a:lnTo>
                      <a:pt x="8829" y="14727"/>
                    </a:lnTo>
                    <a:lnTo>
                      <a:pt x="8829" y="9320"/>
                    </a:lnTo>
                    <a:lnTo>
                      <a:pt x="6873" y="9320"/>
                    </a:lnTo>
                    <a:cubicBezTo>
                      <a:pt x="6873" y="9320"/>
                      <a:pt x="6873" y="14727"/>
                      <a:pt x="6873" y="14727"/>
                    </a:cubicBezTo>
                    <a:close/>
                    <a:moveTo>
                      <a:pt x="7851" y="6873"/>
                    </a:moveTo>
                    <a:cubicBezTo>
                      <a:pt x="7311" y="6873"/>
                      <a:pt x="6873" y="7313"/>
                      <a:pt x="6873" y="7856"/>
                    </a:cubicBezTo>
                    <a:cubicBezTo>
                      <a:pt x="6873" y="8399"/>
                      <a:pt x="7311" y="8839"/>
                      <a:pt x="7851" y="8839"/>
                    </a:cubicBezTo>
                    <a:cubicBezTo>
                      <a:pt x="8391" y="8839"/>
                      <a:pt x="8829" y="8399"/>
                      <a:pt x="8829" y="7856"/>
                    </a:cubicBezTo>
                    <a:cubicBezTo>
                      <a:pt x="8829" y="7313"/>
                      <a:pt x="8391" y="6873"/>
                      <a:pt x="7851" y="6873"/>
                    </a:cubicBezTo>
                  </a:path>
                </a:pathLst>
              </a:custGeom>
              <a:solidFill>
                <a:srgbClr val="26a6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86" name="Shape 2869"/>
              <p:cNvSpPr/>
              <p:nvPr/>
            </p:nvSpPr>
            <p:spPr>
              <a:xfrm>
                <a:off x="774936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7" y="13745"/>
                    </a:moveTo>
                    <a:cubicBezTo>
                      <a:pt x="14727" y="14287"/>
                      <a:pt x="14287" y="14727"/>
                      <a:pt x="13745" y="14727"/>
                    </a:cubicBezTo>
                    <a:lnTo>
                      <a:pt x="7855" y="14727"/>
                    </a:lnTo>
                    <a:cubicBezTo>
                      <a:pt x="7313" y="14727"/>
                      <a:pt x="6873" y="14287"/>
                      <a:pt x="6873" y="13745"/>
                    </a:cubicBezTo>
                    <a:lnTo>
                      <a:pt x="6873" y="10309"/>
                    </a:lnTo>
                    <a:lnTo>
                      <a:pt x="7904" y="10309"/>
                    </a:lnTo>
                    <a:cubicBezTo>
                      <a:pt x="7877" y="10470"/>
                      <a:pt x="7855" y="10632"/>
                      <a:pt x="7855" y="10800"/>
                    </a:cubicBezTo>
                    <a:cubicBezTo>
                      <a:pt x="7855" y="12427"/>
                      <a:pt x="9173" y="13745"/>
                      <a:pt x="10800" y="13745"/>
                    </a:cubicBezTo>
                    <a:cubicBezTo>
                      <a:pt x="12426" y="13745"/>
                      <a:pt x="13745" y="12427"/>
                      <a:pt x="13745" y="10800"/>
                    </a:cubicBezTo>
                    <a:cubicBezTo>
                      <a:pt x="13745" y="10632"/>
                      <a:pt x="13723" y="10470"/>
                      <a:pt x="13696" y="10309"/>
                    </a:cubicBezTo>
                    <a:lnTo>
                      <a:pt x="14727" y="10309"/>
                    </a:lnTo>
                    <a:cubicBezTo>
                      <a:pt x="14727" y="10309"/>
                      <a:pt x="14727" y="13745"/>
                      <a:pt x="14727" y="13745"/>
                    </a:cubicBezTo>
                    <a:close/>
                    <a:moveTo>
                      <a:pt x="10800" y="8836"/>
                    </a:moveTo>
                    <a:cubicBezTo>
                      <a:pt x="11884" y="8836"/>
                      <a:pt x="12764" y="9716"/>
                      <a:pt x="12764" y="10800"/>
                    </a:cubicBezTo>
                    <a:cubicBezTo>
                      <a:pt x="12764" y="11884"/>
                      <a:pt x="11884" y="12764"/>
                      <a:pt x="10800" y="12764"/>
                    </a:cubicBezTo>
                    <a:cubicBezTo>
                      <a:pt x="9716" y="12764"/>
                      <a:pt x="8836" y="11884"/>
                      <a:pt x="8836" y="10800"/>
                    </a:cubicBezTo>
                    <a:cubicBezTo>
                      <a:pt x="8836" y="9716"/>
                      <a:pt x="9716" y="8836"/>
                      <a:pt x="10800" y="8836"/>
                    </a:cubicBezTo>
                    <a:moveTo>
                      <a:pt x="12764" y="7364"/>
                    </a:moveTo>
                    <a:lnTo>
                      <a:pt x="14236" y="7364"/>
                    </a:lnTo>
                    <a:lnTo>
                      <a:pt x="14236" y="8836"/>
                    </a:lnTo>
                    <a:lnTo>
                      <a:pt x="12764" y="8836"/>
                    </a:lnTo>
                    <a:cubicBezTo>
                      <a:pt x="12764" y="8836"/>
                      <a:pt x="12764" y="7364"/>
                      <a:pt x="12764" y="7364"/>
                    </a:cubicBezTo>
                    <a:close/>
                    <a:moveTo>
                      <a:pt x="13745" y="5891"/>
                    </a:moveTo>
                    <a:lnTo>
                      <a:pt x="7855" y="5891"/>
                    </a:lnTo>
                    <a:cubicBezTo>
                      <a:pt x="6770" y="5891"/>
                      <a:pt x="5891" y="6770"/>
                      <a:pt x="5891" y="7855"/>
                    </a:cubicBezTo>
                    <a:lnTo>
                      <a:pt x="5891" y="13745"/>
                    </a:lnTo>
                    <a:cubicBezTo>
                      <a:pt x="5891" y="14830"/>
                      <a:pt x="6770" y="15709"/>
                      <a:pt x="7855" y="15709"/>
                    </a:cubicBezTo>
                    <a:lnTo>
                      <a:pt x="13745" y="15709"/>
                    </a:lnTo>
                    <a:cubicBezTo>
                      <a:pt x="14830" y="15709"/>
                      <a:pt x="15709" y="14830"/>
                      <a:pt x="15709" y="13745"/>
                    </a:cubicBezTo>
                    <a:lnTo>
                      <a:pt x="15709" y="7855"/>
                    </a:lnTo>
                    <a:cubicBezTo>
                      <a:pt x="15709" y="6770"/>
                      <a:pt x="14830" y="5891"/>
                      <a:pt x="13745" y="5891"/>
                    </a:cubicBezTo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26a6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</p:grpSp>
      <p:grpSp>
        <p:nvGrpSpPr>
          <p:cNvPr id="787" name="Group 16"/>
          <p:cNvGrpSpPr/>
          <p:nvPr/>
        </p:nvGrpSpPr>
        <p:grpSpPr>
          <a:xfrm>
            <a:off x="9820440" y="4149720"/>
            <a:ext cx="1706400" cy="1469880"/>
            <a:chOff x="9820440" y="4149720"/>
            <a:chExt cx="1706400" cy="1469880"/>
          </a:xfrm>
        </p:grpSpPr>
        <p:grpSp>
          <p:nvGrpSpPr>
            <p:cNvPr id="788" name="Group 112"/>
            <p:cNvGrpSpPr/>
            <p:nvPr/>
          </p:nvGrpSpPr>
          <p:grpSpPr>
            <a:xfrm>
              <a:off x="10062000" y="4149720"/>
              <a:ext cx="1223280" cy="430200"/>
              <a:chOff x="10062000" y="4149720"/>
              <a:chExt cx="1223280" cy="430200"/>
            </a:xfrm>
          </p:grpSpPr>
          <p:sp>
            <p:nvSpPr>
              <p:cNvPr id="789" name="TextBox 114"/>
              <p:cNvSpPr/>
              <p:nvPr/>
            </p:nvSpPr>
            <p:spPr>
              <a:xfrm>
                <a:off x="10062000" y="4149720"/>
                <a:ext cx="122328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56d78"/>
                    </a:solidFill>
                    <a:latin typeface="Source Sans Pro"/>
                  </a:rPr>
                  <a:t>BEN FERNANDEZ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56d78"/>
                    </a:solidFill>
                    <a:latin typeface="Source Sans Pro Light"/>
                  </a:rPr>
                  <a:t>DIRECTOR</a:t>
                </a:r>
                <a:endParaRPr b="0" lang="en-US" sz="7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90" name="Straight Connector 115"/>
              <p:cNvSpPr/>
              <p:nvPr/>
            </p:nvSpPr>
            <p:spPr>
              <a:xfrm>
                <a:off x="10541160" y="4579920"/>
                <a:ext cx="275760" cy="0"/>
              </a:xfrm>
              <a:prstGeom prst="line">
                <a:avLst/>
              </a:prstGeom>
              <a:ln w="12600">
                <a:solidFill>
                  <a:srgbClr val="26a6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791" name="Rectangle 113"/>
            <p:cNvSpPr/>
            <p:nvPr/>
          </p:nvSpPr>
          <p:spPr>
            <a:xfrm>
              <a:off x="9820440" y="4686120"/>
              <a:ext cx="17064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34a54"/>
                  </a:solidFill>
                  <a:latin typeface="Source Sans Pro Light"/>
                </a:rPr>
                <a:t>Synth chartreuse XOXO, tacos brooklyn VHS plaid.</a:t>
              </a:r>
              <a:endParaRPr b="0" lang="en-US" sz="10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grpSp>
          <p:nvGrpSpPr>
            <p:cNvPr id="792" name="Group 12"/>
            <p:cNvGrpSpPr/>
            <p:nvPr/>
          </p:nvGrpSpPr>
          <p:grpSpPr>
            <a:xfrm>
              <a:off x="10223640" y="5351400"/>
              <a:ext cx="948960" cy="268200"/>
              <a:chOff x="10223640" y="5351400"/>
              <a:chExt cx="948960" cy="268200"/>
            </a:xfrm>
          </p:grpSpPr>
          <p:sp>
            <p:nvSpPr>
              <p:cNvPr id="793" name="Shape 2864"/>
              <p:cNvSpPr/>
              <p:nvPr/>
            </p:nvSpPr>
            <p:spPr>
              <a:xfrm>
                <a:off x="1022364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5" y="7359"/>
                    </a:moveTo>
                    <a:lnTo>
                      <a:pt x="13743" y="7359"/>
                    </a:lnTo>
                    <a:lnTo>
                      <a:pt x="13743" y="8833"/>
                    </a:lnTo>
                    <a:lnTo>
                      <a:pt x="12265" y="8833"/>
                    </a:lnTo>
                    <a:lnTo>
                      <a:pt x="12265" y="9816"/>
                    </a:lnTo>
                    <a:lnTo>
                      <a:pt x="13743" y="9816"/>
                    </a:lnTo>
                    <a:lnTo>
                      <a:pt x="13743" y="11283"/>
                    </a:lnTo>
                    <a:lnTo>
                      <a:pt x="14725" y="11283"/>
                    </a:lnTo>
                    <a:lnTo>
                      <a:pt x="14725" y="9816"/>
                    </a:lnTo>
                    <a:lnTo>
                      <a:pt x="16205" y="9816"/>
                    </a:lnTo>
                    <a:lnTo>
                      <a:pt x="16205" y="8833"/>
                    </a:lnTo>
                    <a:lnTo>
                      <a:pt x="14725" y="8833"/>
                    </a:lnTo>
                    <a:cubicBezTo>
                      <a:pt x="14725" y="8833"/>
                      <a:pt x="14725" y="7359"/>
                      <a:pt x="14725" y="7359"/>
                    </a:cubicBezTo>
                    <a:close/>
                    <a:moveTo>
                      <a:pt x="9321" y="13946"/>
                    </a:moveTo>
                    <a:cubicBezTo>
                      <a:pt x="8620" y="13946"/>
                      <a:pt x="8071" y="13495"/>
                      <a:pt x="8071" y="12919"/>
                    </a:cubicBezTo>
                    <a:cubicBezTo>
                      <a:pt x="8071" y="12392"/>
                      <a:pt x="8713" y="11929"/>
                      <a:pt x="9446" y="11929"/>
                    </a:cubicBezTo>
                    <a:lnTo>
                      <a:pt x="9446" y="11723"/>
                    </a:lnTo>
                    <a:lnTo>
                      <a:pt x="9447" y="11723"/>
                    </a:lnTo>
                    <a:lnTo>
                      <a:pt x="9465" y="11929"/>
                    </a:lnTo>
                    <a:cubicBezTo>
                      <a:pt x="9624" y="11930"/>
                      <a:pt x="9777" y="11954"/>
                      <a:pt x="9922" y="12000"/>
                    </a:cubicBezTo>
                    <a:lnTo>
                      <a:pt x="10067" y="12104"/>
                    </a:lnTo>
                    <a:cubicBezTo>
                      <a:pt x="10440" y="12371"/>
                      <a:pt x="10637" y="12521"/>
                      <a:pt x="10695" y="12764"/>
                    </a:cubicBezTo>
                    <a:cubicBezTo>
                      <a:pt x="10710" y="12827"/>
                      <a:pt x="10717" y="12891"/>
                      <a:pt x="10717" y="12954"/>
                    </a:cubicBezTo>
                    <a:cubicBezTo>
                      <a:pt x="10717" y="13612"/>
                      <a:pt x="10247" y="13946"/>
                      <a:pt x="9321" y="13946"/>
                    </a:cubicBezTo>
                    <a:moveTo>
                      <a:pt x="8542" y="8739"/>
                    </a:moveTo>
                    <a:cubicBezTo>
                      <a:pt x="8495" y="8362"/>
                      <a:pt x="8574" y="8014"/>
                      <a:pt x="8754" y="7806"/>
                    </a:cubicBezTo>
                    <a:cubicBezTo>
                      <a:pt x="8864" y="7680"/>
                      <a:pt x="9006" y="7613"/>
                      <a:pt x="9164" y="7613"/>
                    </a:cubicBezTo>
                    <a:lnTo>
                      <a:pt x="9164" y="7409"/>
                    </a:lnTo>
                    <a:lnTo>
                      <a:pt x="9182" y="7613"/>
                    </a:lnTo>
                    <a:cubicBezTo>
                      <a:pt x="9653" y="7628"/>
                      <a:pt x="10105" y="8185"/>
                      <a:pt x="10189" y="8855"/>
                    </a:cubicBezTo>
                    <a:cubicBezTo>
                      <a:pt x="10237" y="9239"/>
                      <a:pt x="10155" y="9596"/>
                      <a:pt x="9970" y="9809"/>
                    </a:cubicBezTo>
                    <a:cubicBezTo>
                      <a:pt x="9860" y="9935"/>
                      <a:pt x="9722" y="10002"/>
                      <a:pt x="9550" y="10001"/>
                    </a:cubicBezTo>
                    <a:lnTo>
                      <a:pt x="9549" y="10001"/>
                    </a:lnTo>
                    <a:cubicBezTo>
                      <a:pt x="9087" y="9988"/>
                      <a:pt x="8626" y="9409"/>
                      <a:pt x="8542" y="8739"/>
                    </a:cubicBezTo>
                    <a:moveTo>
                      <a:pt x="10838" y="11196"/>
                    </a:moveTo>
                    <a:cubicBezTo>
                      <a:pt x="10586" y="11009"/>
                      <a:pt x="10351" y="10732"/>
                      <a:pt x="10342" y="10646"/>
                    </a:cubicBezTo>
                    <a:cubicBezTo>
                      <a:pt x="10342" y="10499"/>
                      <a:pt x="10342" y="10431"/>
                      <a:pt x="10689" y="10148"/>
                    </a:cubicBezTo>
                    <a:cubicBezTo>
                      <a:pt x="11138" y="9780"/>
                      <a:pt x="11386" y="9295"/>
                      <a:pt x="11386" y="8784"/>
                    </a:cubicBezTo>
                    <a:cubicBezTo>
                      <a:pt x="11386" y="8342"/>
                      <a:pt x="11262" y="7947"/>
                      <a:pt x="11050" y="7659"/>
                    </a:cubicBezTo>
                    <a:lnTo>
                      <a:pt x="11238" y="7659"/>
                    </a:lnTo>
                    <a:lnTo>
                      <a:pt x="12276" y="6873"/>
                    </a:lnTo>
                    <a:lnTo>
                      <a:pt x="9463" y="6873"/>
                    </a:lnTo>
                    <a:cubicBezTo>
                      <a:pt x="8335" y="6873"/>
                      <a:pt x="7345" y="7759"/>
                      <a:pt x="7345" y="8769"/>
                    </a:cubicBezTo>
                    <a:cubicBezTo>
                      <a:pt x="7345" y="9812"/>
                      <a:pt x="8109" y="10605"/>
                      <a:pt x="9137" y="10648"/>
                    </a:cubicBezTo>
                    <a:cubicBezTo>
                      <a:pt x="9121" y="10722"/>
                      <a:pt x="9113" y="10795"/>
                      <a:pt x="9113" y="10868"/>
                    </a:cubicBezTo>
                    <a:cubicBezTo>
                      <a:pt x="9113" y="11018"/>
                      <a:pt x="9147" y="11162"/>
                      <a:pt x="9216" y="11300"/>
                    </a:cubicBezTo>
                    <a:cubicBezTo>
                      <a:pt x="7943" y="11309"/>
                      <a:pt x="6870" y="12161"/>
                      <a:pt x="6870" y="13167"/>
                    </a:cubicBezTo>
                    <a:cubicBezTo>
                      <a:pt x="6870" y="14071"/>
                      <a:pt x="7903" y="14727"/>
                      <a:pt x="9325" y="14727"/>
                    </a:cubicBezTo>
                    <a:cubicBezTo>
                      <a:pt x="10861" y="14727"/>
                      <a:pt x="11690" y="13766"/>
                      <a:pt x="11690" y="12860"/>
                    </a:cubicBezTo>
                    <a:cubicBezTo>
                      <a:pt x="11690" y="12108"/>
                      <a:pt x="11459" y="11656"/>
                      <a:pt x="10838" y="11196"/>
                    </a:cubicBezTo>
                    <a:moveTo>
                      <a:pt x="10800" y="20618"/>
                    </a:moveTo>
                    <a:cubicBezTo>
                      <a:pt x="5378" y="20618"/>
                      <a:pt x="982" y="16223"/>
                      <a:pt x="982" y="10800"/>
                    </a:cubicBezTo>
                    <a:cubicBezTo>
                      <a:pt x="982" y="5378"/>
                      <a:pt x="5378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26a6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94" name="Shape 2865"/>
              <p:cNvSpPr/>
              <p:nvPr/>
            </p:nvSpPr>
            <p:spPr>
              <a:xfrm>
                <a:off x="1056384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6" y="0"/>
                      <a:pt x="0" y="4835"/>
                      <a:pt x="0" y="10800"/>
                    </a:cubicBezTo>
                    <a:cubicBezTo>
                      <a:pt x="0" y="16765"/>
                      <a:pt x="4836" y="21600"/>
                      <a:pt x="10800" y="21600"/>
                    </a:cubicBezTo>
                    <a:cubicBezTo>
                      <a:pt x="16764" y="21600"/>
                      <a:pt x="21600" y="16765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moveTo>
                      <a:pt x="13430" y="9320"/>
                    </a:moveTo>
                    <a:cubicBezTo>
                      <a:pt x="11975" y="9320"/>
                      <a:pt x="11780" y="10196"/>
                      <a:pt x="11780" y="10196"/>
                    </a:cubicBezTo>
                    <a:lnTo>
                      <a:pt x="11782" y="9327"/>
                    </a:lnTo>
                    <a:lnTo>
                      <a:pt x="9818" y="9327"/>
                    </a:lnTo>
                    <a:lnTo>
                      <a:pt x="9818" y="14727"/>
                    </a:lnTo>
                    <a:lnTo>
                      <a:pt x="11782" y="14727"/>
                    </a:lnTo>
                    <a:lnTo>
                      <a:pt x="11782" y="11782"/>
                    </a:lnTo>
                    <a:cubicBezTo>
                      <a:pt x="11782" y="11782"/>
                      <a:pt x="11782" y="10793"/>
                      <a:pt x="12616" y="10793"/>
                    </a:cubicBezTo>
                    <a:cubicBezTo>
                      <a:pt x="13086" y="10793"/>
                      <a:pt x="13255" y="11232"/>
                      <a:pt x="13255" y="11782"/>
                    </a:cubicBezTo>
                    <a:lnTo>
                      <a:pt x="13255" y="14727"/>
                    </a:lnTo>
                    <a:lnTo>
                      <a:pt x="15218" y="14727"/>
                    </a:lnTo>
                    <a:lnTo>
                      <a:pt x="15218" y="11782"/>
                    </a:lnTo>
                    <a:cubicBezTo>
                      <a:pt x="15218" y="10245"/>
                      <a:pt x="14550" y="9320"/>
                      <a:pt x="13430" y="9320"/>
                    </a:cubicBezTo>
                    <a:moveTo>
                      <a:pt x="6873" y="14727"/>
                    </a:moveTo>
                    <a:lnTo>
                      <a:pt x="8829" y="14727"/>
                    </a:lnTo>
                    <a:lnTo>
                      <a:pt x="8829" y="9320"/>
                    </a:lnTo>
                    <a:lnTo>
                      <a:pt x="6873" y="9320"/>
                    </a:lnTo>
                    <a:cubicBezTo>
                      <a:pt x="6873" y="9320"/>
                      <a:pt x="6873" y="14727"/>
                      <a:pt x="6873" y="14727"/>
                    </a:cubicBezTo>
                    <a:close/>
                    <a:moveTo>
                      <a:pt x="7851" y="6873"/>
                    </a:moveTo>
                    <a:cubicBezTo>
                      <a:pt x="7311" y="6873"/>
                      <a:pt x="6873" y="7313"/>
                      <a:pt x="6873" y="7856"/>
                    </a:cubicBezTo>
                    <a:cubicBezTo>
                      <a:pt x="6873" y="8399"/>
                      <a:pt x="7311" y="8839"/>
                      <a:pt x="7851" y="8839"/>
                    </a:cubicBezTo>
                    <a:cubicBezTo>
                      <a:pt x="8391" y="8839"/>
                      <a:pt x="8829" y="8399"/>
                      <a:pt x="8829" y="7856"/>
                    </a:cubicBezTo>
                    <a:cubicBezTo>
                      <a:pt x="8829" y="7313"/>
                      <a:pt x="8391" y="6873"/>
                      <a:pt x="7851" y="6873"/>
                    </a:cubicBezTo>
                  </a:path>
                </a:pathLst>
              </a:custGeom>
              <a:solidFill>
                <a:srgbClr val="26a6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795" name="Shape 2869"/>
              <p:cNvSpPr/>
              <p:nvPr/>
            </p:nvSpPr>
            <p:spPr>
              <a:xfrm>
                <a:off x="10904400" y="535140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727" y="13745"/>
                    </a:moveTo>
                    <a:cubicBezTo>
                      <a:pt x="14727" y="14287"/>
                      <a:pt x="14287" y="14727"/>
                      <a:pt x="13745" y="14727"/>
                    </a:cubicBezTo>
                    <a:lnTo>
                      <a:pt x="7855" y="14727"/>
                    </a:lnTo>
                    <a:cubicBezTo>
                      <a:pt x="7313" y="14727"/>
                      <a:pt x="6873" y="14287"/>
                      <a:pt x="6873" y="13745"/>
                    </a:cubicBezTo>
                    <a:lnTo>
                      <a:pt x="6873" y="10309"/>
                    </a:lnTo>
                    <a:lnTo>
                      <a:pt x="7904" y="10309"/>
                    </a:lnTo>
                    <a:cubicBezTo>
                      <a:pt x="7877" y="10470"/>
                      <a:pt x="7855" y="10632"/>
                      <a:pt x="7855" y="10800"/>
                    </a:cubicBezTo>
                    <a:cubicBezTo>
                      <a:pt x="7855" y="12427"/>
                      <a:pt x="9173" y="13745"/>
                      <a:pt x="10800" y="13745"/>
                    </a:cubicBezTo>
                    <a:cubicBezTo>
                      <a:pt x="12426" y="13745"/>
                      <a:pt x="13745" y="12427"/>
                      <a:pt x="13745" y="10800"/>
                    </a:cubicBezTo>
                    <a:cubicBezTo>
                      <a:pt x="13745" y="10632"/>
                      <a:pt x="13723" y="10470"/>
                      <a:pt x="13696" y="10309"/>
                    </a:cubicBezTo>
                    <a:lnTo>
                      <a:pt x="14727" y="10309"/>
                    </a:lnTo>
                    <a:cubicBezTo>
                      <a:pt x="14727" y="10309"/>
                      <a:pt x="14727" y="13745"/>
                      <a:pt x="14727" y="13745"/>
                    </a:cubicBezTo>
                    <a:close/>
                    <a:moveTo>
                      <a:pt x="10800" y="8836"/>
                    </a:moveTo>
                    <a:cubicBezTo>
                      <a:pt x="11884" y="8836"/>
                      <a:pt x="12764" y="9716"/>
                      <a:pt x="12764" y="10800"/>
                    </a:cubicBezTo>
                    <a:cubicBezTo>
                      <a:pt x="12764" y="11884"/>
                      <a:pt x="11884" y="12764"/>
                      <a:pt x="10800" y="12764"/>
                    </a:cubicBezTo>
                    <a:cubicBezTo>
                      <a:pt x="9716" y="12764"/>
                      <a:pt x="8836" y="11884"/>
                      <a:pt x="8836" y="10800"/>
                    </a:cubicBezTo>
                    <a:cubicBezTo>
                      <a:pt x="8836" y="9716"/>
                      <a:pt x="9716" y="8836"/>
                      <a:pt x="10800" y="8836"/>
                    </a:cubicBezTo>
                    <a:moveTo>
                      <a:pt x="12764" y="7364"/>
                    </a:moveTo>
                    <a:lnTo>
                      <a:pt x="14236" y="7364"/>
                    </a:lnTo>
                    <a:lnTo>
                      <a:pt x="14236" y="8836"/>
                    </a:lnTo>
                    <a:lnTo>
                      <a:pt x="12764" y="8836"/>
                    </a:lnTo>
                    <a:cubicBezTo>
                      <a:pt x="12764" y="8836"/>
                      <a:pt x="12764" y="7364"/>
                      <a:pt x="12764" y="7364"/>
                    </a:cubicBezTo>
                    <a:close/>
                    <a:moveTo>
                      <a:pt x="13745" y="5891"/>
                    </a:moveTo>
                    <a:lnTo>
                      <a:pt x="7855" y="5891"/>
                    </a:lnTo>
                    <a:cubicBezTo>
                      <a:pt x="6770" y="5891"/>
                      <a:pt x="5891" y="6770"/>
                      <a:pt x="5891" y="7855"/>
                    </a:cubicBezTo>
                    <a:lnTo>
                      <a:pt x="5891" y="13745"/>
                    </a:lnTo>
                    <a:cubicBezTo>
                      <a:pt x="5891" y="14830"/>
                      <a:pt x="6770" y="15709"/>
                      <a:pt x="7855" y="15709"/>
                    </a:cubicBezTo>
                    <a:lnTo>
                      <a:pt x="13745" y="15709"/>
                    </a:lnTo>
                    <a:cubicBezTo>
                      <a:pt x="14830" y="15709"/>
                      <a:pt x="15709" y="14830"/>
                      <a:pt x="15709" y="13745"/>
                    </a:cubicBezTo>
                    <a:lnTo>
                      <a:pt x="15709" y="7855"/>
                    </a:lnTo>
                    <a:cubicBezTo>
                      <a:pt x="15709" y="6770"/>
                      <a:pt x="14830" y="5891"/>
                      <a:pt x="13745" y="5891"/>
                    </a:cubicBezTo>
                    <a:moveTo>
                      <a:pt x="10800" y="20618"/>
                    </a:moveTo>
                    <a:cubicBezTo>
                      <a:pt x="5377" y="20618"/>
                      <a:pt x="982" y="16223"/>
                      <a:pt x="982" y="10800"/>
                    </a:cubicBezTo>
                    <a:cubicBezTo>
                      <a:pt x="982" y="5378"/>
                      <a:pt x="5377" y="982"/>
                      <a:pt x="10800" y="982"/>
                    </a:cubicBezTo>
                    <a:cubicBezTo>
                      <a:pt x="16223" y="982"/>
                      <a:pt x="20618" y="5378"/>
                      <a:pt x="20618" y="10800"/>
                    </a:cubicBezTo>
                    <a:cubicBezTo>
                      <a:pt x="20618" y="16223"/>
                      <a:pt x="16223" y="20618"/>
                      <a:pt x="10800" y="20618"/>
                    </a:cubicBezTo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</a:path>
                </a:pathLst>
              </a:custGeom>
              <a:solidFill>
                <a:srgbClr val="26a6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</p:grpSp>
      <p:sp>
        <p:nvSpPr>
          <p:cNvPr id="796" name="TextBox 47"/>
          <p:cNvSpPr/>
          <p:nvPr/>
        </p:nvSpPr>
        <p:spPr>
          <a:xfrm>
            <a:off x="4007520" y="538200"/>
            <a:ext cx="419328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Team Members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97" name="Rectangle 48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26a69a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</p:spTree>
  </p:cSld>
  <p:transition spd="slow" advTm="2000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500"/>
                            </p:stCondLst>
                            <p:childTnLst>
                              <p:par>
                                <p:cTn id="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500"/>
                            </p:stCondLst>
                            <p:childTnLst>
                              <p:par>
                                <p:cTn id="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8500"/>
                            </p:stCondLst>
                            <p:childTnLst>
                              <p:par>
                                <p:cTn id="1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Box 1"/>
          <p:cNvSpPr/>
          <p:nvPr/>
        </p:nvSpPr>
        <p:spPr>
          <a:xfrm>
            <a:off x="3710880" y="538200"/>
            <a:ext cx="478620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Circle Infographics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799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26a69a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0" name="Freeform 3"/>
          <p:cNvSpPr/>
          <p:nvPr/>
        </p:nvSpPr>
        <p:spPr>
          <a:xfrm>
            <a:off x="617400" y="2908440"/>
            <a:ext cx="2436840" cy="118872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adb9c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1" name="Freeform 4"/>
          <p:cNvSpPr/>
          <p:nvPr/>
        </p:nvSpPr>
        <p:spPr>
          <a:xfrm>
            <a:off x="4862520" y="2908440"/>
            <a:ext cx="2436840" cy="118872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adb9c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2" name="Freeform 5"/>
          <p:cNvSpPr/>
          <p:nvPr/>
        </p:nvSpPr>
        <p:spPr>
          <a:xfrm flipV="1">
            <a:off x="2736720" y="1718640"/>
            <a:ext cx="24368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adb9c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3" name="Freeform 6"/>
          <p:cNvSpPr/>
          <p:nvPr/>
        </p:nvSpPr>
        <p:spPr>
          <a:xfrm>
            <a:off x="9115560" y="2908440"/>
            <a:ext cx="2436840" cy="118872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adb9c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4" name="Freeform 7"/>
          <p:cNvSpPr/>
          <p:nvPr/>
        </p:nvSpPr>
        <p:spPr>
          <a:xfrm flipV="1">
            <a:off x="6988320" y="1718640"/>
            <a:ext cx="243828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adb9c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5" name="Freeform 8"/>
          <p:cNvSpPr/>
          <p:nvPr/>
        </p:nvSpPr>
        <p:spPr>
          <a:xfrm>
            <a:off x="2736720" y="2908440"/>
            <a:ext cx="2436840" cy="118872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6" name="Freeform 9"/>
          <p:cNvSpPr/>
          <p:nvPr/>
        </p:nvSpPr>
        <p:spPr>
          <a:xfrm flipV="1">
            <a:off x="609480" y="1718640"/>
            <a:ext cx="24386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26a6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7" name="Freeform 10"/>
          <p:cNvSpPr/>
          <p:nvPr/>
        </p:nvSpPr>
        <p:spPr>
          <a:xfrm>
            <a:off x="6988320" y="2908440"/>
            <a:ext cx="2438280" cy="118872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006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8" name="Freeform 11"/>
          <p:cNvSpPr/>
          <p:nvPr/>
        </p:nvSpPr>
        <p:spPr>
          <a:xfrm flipV="1">
            <a:off x="4862520" y="1718640"/>
            <a:ext cx="24368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0079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09" name="Freeform 12"/>
          <p:cNvSpPr/>
          <p:nvPr/>
        </p:nvSpPr>
        <p:spPr>
          <a:xfrm flipV="1">
            <a:off x="9115560" y="1718640"/>
            <a:ext cx="2436840" cy="1189080"/>
          </a:xfrm>
          <a:custGeom>
            <a:avLst/>
            <a:gdLst/>
            <a:ahLst/>
            <a:rect l="l" t="t" r="r" b="b"/>
            <a:pathLst>
              <a:path w="2223735" h="1107346">
                <a:moveTo>
                  <a:pt x="0" y="0"/>
                </a:moveTo>
                <a:lnTo>
                  <a:pt x="280086" y="0"/>
                </a:lnTo>
                <a:lnTo>
                  <a:pt x="284141" y="80308"/>
                </a:lnTo>
                <a:cubicBezTo>
                  <a:pt x="326749" y="499860"/>
                  <a:pt x="681074" y="827260"/>
                  <a:pt x="1111867" y="827260"/>
                </a:cubicBezTo>
                <a:cubicBezTo>
                  <a:pt x="1542661" y="827260"/>
                  <a:pt x="1896986" y="499860"/>
                  <a:pt x="1939593" y="80308"/>
                </a:cubicBezTo>
                <a:lnTo>
                  <a:pt x="1943649" y="0"/>
                </a:lnTo>
                <a:lnTo>
                  <a:pt x="2223735" y="0"/>
                </a:lnTo>
                <a:lnTo>
                  <a:pt x="2218233" y="108945"/>
                </a:lnTo>
                <a:cubicBezTo>
                  <a:pt x="2161282" y="669732"/>
                  <a:pt x="1687680" y="1107346"/>
                  <a:pt x="1111867" y="1107346"/>
                </a:cubicBezTo>
                <a:cubicBezTo>
                  <a:pt x="536055" y="1107346"/>
                  <a:pt x="62452" y="669732"/>
                  <a:pt x="5501" y="108945"/>
                </a:cubicBezTo>
                <a:lnTo>
                  <a:pt x="0" y="0"/>
                </a:lnTo>
                <a:close/>
              </a:path>
            </a:pathLst>
          </a:custGeom>
          <a:solidFill>
            <a:srgbClr val="004d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810" name="Group 13"/>
          <p:cNvGrpSpPr/>
          <p:nvPr/>
        </p:nvGrpSpPr>
        <p:grpSpPr>
          <a:xfrm>
            <a:off x="1046160" y="2612880"/>
            <a:ext cx="1546200" cy="649440"/>
            <a:chOff x="1046160" y="2612880"/>
            <a:chExt cx="1546200" cy="649440"/>
          </a:xfrm>
        </p:grpSpPr>
        <p:sp>
          <p:nvSpPr>
            <p:cNvPr id="811" name="Text Placeholder 33"/>
            <p:cNvSpPr/>
            <p:nvPr/>
          </p:nvSpPr>
          <p:spPr>
            <a:xfrm>
              <a:off x="1063800" y="2612880"/>
              <a:ext cx="151920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On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12" name="Text Placeholder 32"/>
            <p:cNvSpPr/>
            <p:nvPr/>
          </p:nvSpPr>
          <p:spPr>
            <a:xfrm>
              <a:off x="1046160" y="2846160"/>
              <a:ext cx="154620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13" name="Group 16"/>
          <p:cNvGrpSpPr/>
          <p:nvPr/>
        </p:nvGrpSpPr>
        <p:grpSpPr>
          <a:xfrm>
            <a:off x="3192480" y="2612880"/>
            <a:ext cx="1546200" cy="649440"/>
            <a:chOff x="3192480" y="2612880"/>
            <a:chExt cx="1546200" cy="649440"/>
          </a:xfrm>
        </p:grpSpPr>
        <p:sp>
          <p:nvSpPr>
            <p:cNvPr id="814" name="Text Placeholder 33"/>
            <p:cNvSpPr/>
            <p:nvPr/>
          </p:nvSpPr>
          <p:spPr>
            <a:xfrm>
              <a:off x="3210120" y="2612880"/>
              <a:ext cx="151920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Two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15" name="Text Placeholder 32"/>
            <p:cNvSpPr/>
            <p:nvPr/>
          </p:nvSpPr>
          <p:spPr>
            <a:xfrm>
              <a:off x="3192480" y="2846160"/>
              <a:ext cx="154620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16" name="Group 19"/>
          <p:cNvGrpSpPr/>
          <p:nvPr/>
        </p:nvGrpSpPr>
        <p:grpSpPr>
          <a:xfrm>
            <a:off x="5318280" y="2619360"/>
            <a:ext cx="1546200" cy="647640"/>
            <a:chOff x="5318280" y="2619360"/>
            <a:chExt cx="1546200" cy="647640"/>
          </a:xfrm>
        </p:grpSpPr>
        <p:sp>
          <p:nvSpPr>
            <p:cNvPr id="817" name="Text Placeholder 33"/>
            <p:cNvSpPr/>
            <p:nvPr/>
          </p:nvSpPr>
          <p:spPr>
            <a:xfrm>
              <a:off x="5335920" y="2619360"/>
              <a:ext cx="15192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Thre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18" name="Text Placeholder 32"/>
            <p:cNvSpPr/>
            <p:nvPr/>
          </p:nvSpPr>
          <p:spPr>
            <a:xfrm>
              <a:off x="5318280" y="2851920"/>
              <a:ext cx="154620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19" name="Group 22"/>
          <p:cNvGrpSpPr/>
          <p:nvPr/>
        </p:nvGrpSpPr>
        <p:grpSpPr>
          <a:xfrm>
            <a:off x="7469280" y="2612880"/>
            <a:ext cx="1550880" cy="649440"/>
            <a:chOff x="7469280" y="2612880"/>
            <a:chExt cx="1550880" cy="649440"/>
          </a:xfrm>
        </p:grpSpPr>
        <p:sp>
          <p:nvSpPr>
            <p:cNvPr id="820" name="Text Placeholder 33"/>
            <p:cNvSpPr/>
            <p:nvPr/>
          </p:nvSpPr>
          <p:spPr>
            <a:xfrm>
              <a:off x="7469280" y="2612880"/>
              <a:ext cx="151920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Four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21" name="Text Placeholder 32"/>
            <p:cNvSpPr/>
            <p:nvPr/>
          </p:nvSpPr>
          <p:spPr>
            <a:xfrm>
              <a:off x="7473600" y="2846160"/>
              <a:ext cx="154656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22" name="Group 25"/>
          <p:cNvGrpSpPr/>
          <p:nvPr/>
        </p:nvGrpSpPr>
        <p:grpSpPr>
          <a:xfrm>
            <a:off x="9596520" y="2620800"/>
            <a:ext cx="1544400" cy="648000"/>
            <a:chOff x="9596520" y="2620800"/>
            <a:chExt cx="1544400" cy="648000"/>
          </a:xfrm>
        </p:grpSpPr>
        <p:sp>
          <p:nvSpPr>
            <p:cNvPr id="823" name="Text Placeholder 33"/>
            <p:cNvSpPr/>
            <p:nvPr/>
          </p:nvSpPr>
          <p:spPr>
            <a:xfrm>
              <a:off x="9614160" y="2620800"/>
              <a:ext cx="151740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Fiv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24" name="Text Placeholder 32"/>
            <p:cNvSpPr/>
            <p:nvPr/>
          </p:nvSpPr>
          <p:spPr>
            <a:xfrm>
              <a:off x="9596520" y="2853720"/>
              <a:ext cx="154440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8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25" name="Group 28"/>
          <p:cNvGrpSpPr/>
          <p:nvPr/>
        </p:nvGrpSpPr>
        <p:grpSpPr>
          <a:xfrm>
            <a:off x="644400" y="4540320"/>
            <a:ext cx="2146320" cy="871560"/>
            <a:chOff x="644400" y="4540320"/>
            <a:chExt cx="2146320" cy="871560"/>
          </a:xfrm>
        </p:grpSpPr>
        <p:sp>
          <p:nvSpPr>
            <p:cNvPr id="826" name="Oval 29"/>
            <p:cNvSpPr/>
            <p:nvPr/>
          </p:nvSpPr>
          <p:spPr>
            <a:xfrm>
              <a:off x="644400" y="4556880"/>
              <a:ext cx="180000" cy="179640"/>
            </a:xfrm>
            <a:prstGeom prst="ellipse">
              <a:avLst/>
            </a:prstGeom>
            <a:solidFill>
              <a:srgbClr val="26a6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27" name="Text Placeholder 32"/>
            <p:cNvSpPr/>
            <p:nvPr/>
          </p:nvSpPr>
          <p:spPr>
            <a:xfrm>
              <a:off x="963000" y="4730400"/>
              <a:ext cx="1629000" cy="6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28" name="Text Placeholder 33"/>
            <p:cNvSpPr/>
            <p:nvPr/>
          </p:nvSpPr>
          <p:spPr>
            <a:xfrm>
              <a:off x="963000" y="4540320"/>
              <a:ext cx="182772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On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29" name="Group 32"/>
          <p:cNvGrpSpPr/>
          <p:nvPr/>
        </p:nvGrpSpPr>
        <p:grpSpPr>
          <a:xfrm>
            <a:off x="2928960" y="4533840"/>
            <a:ext cx="1967040" cy="878040"/>
            <a:chOff x="2928960" y="4533840"/>
            <a:chExt cx="1967040" cy="878040"/>
          </a:xfrm>
        </p:grpSpPr>
        <p:sp>
          <p:nvSpPr>
            <p:cNvPr id="830" name="Oval 33"/>
            <p:cNvSpPr/>
            <p:nvPr/>
          </p:nvSpPr>
          <p:spPr>
            <a:xfrm>
              <a:off x="2928960" y="4550400"/>
              <a:ext cx="180000" cy="179640"/>
            </a:xfrm>
            <a:prstGeom prst="ellipse">
              <a:avLst/>
            </a:prstGeom>
            <a:solidFill>
              <a:srgbClr val="009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31" name="Text Placeholder 32"/>
            <p:cNvSpPr/>
            <p:nvPr/>
          </p:nvSpPr>
          <p:spPr>
            <a:xfrm>
              <a:off x="3247920" y="4723920"/>
              <a:ext cx="16480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32" name="Text Placeholder 33"/>
            <p:cNvSpPr/>
            <p:nvPr/>
          </p:nvSpPr>
          <p:spPr>
            <a:xfrm>
              <a:off x="3247920" y="4533840"/>
              <a:ext cx="16480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Two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33" name="Group 36"/>
          <p:cNvGrpSpPr/>
          <p:nvPr/>
        </p:nvGrpSpPr>
        <p:grpSpPr>
          <a:xfrm>
            <a:off x="7139160" y="4527720"/>
            <a:ext cx="1976400" cy="879480"/>
            <a:chOff x="7139160" y="4527720"/>
            <a:chExt cx="1976400" cy="879480"/>
          </a:xfrm>
        </p:grpSpPr>
        <p:sp>
          <p:nvSpPr>
            <p:cNvPr id="834" name="Oval 37"/>
            <p:cNvSpPr/>
            <p:nvPr/>
          </p:nvSpPr>
          <p:spPr>
            <a:xfrm>
              <a:off x="7139160" y="4544280"/>
              <a:ext cx="180000" cy="180000"/>
            </a:xfrm>
            <a:prstGeom prst="ellipse">
              <a:avLst/>
            </a:prstGeom>
            <a:solidFill>
              <a:srgbClr val="00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35" name="Text Placeholder 32"/>
            <p:cNvSpPr/>
            <p:nvPr/>
          </p:nvSpPr>
          <p:spPr>
            <a:xfrm>
              <a:off x="7458120" y="4718160"/>
              <a:ext cx="165744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36" name="Text Placeholder 33"/>
            <p:cNvSpPr/>
            <p:nvPr/>
          </p:nvSpPr>
          <p:spPr>
            <a:xfrm>
              <a:off x="7458120" y="4527720"/>
              <a:ext cx="16574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Four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37" name="Group 40"/>
          <p:cNvGrpSpPr/>
          <p:nvPr/>
        </p:nvGrpSpPr>
        <p:grpSpPr>
          <a:xfrm>
            <a:off x="9416880" y="4527720"/>
            <a:ext cx="2021040" cy="861840"/>
            <a:chOff x="9416880" y="4527720"/>
            <a:chExt cx="2021040" cy="861840"/>
          </a:xfrm>
        </p:grpSpPr>
        <p:sp>
          <p:nvSpPr>
            <p:cNvPr id="838" name="Oval 41"/>
            <p:cNvSpPr/>
            <p:nvPr/>
          </p:nvSpPr>
          <p:spPr>
            <a:xfrm>
              <a:off x="9416880" y="4544280"/>
              <a:ext cx="180000" cy="179640"/>
            </a:xfrm>
            <a:prstGeom prst="ellipse">
              <a:avLst/>
            </a:prstGeom>
            <a:solidFill>
              <a:srgbClr val="004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39" name="Text Placeholder 32"/>
            <p:cNvSpPr/>
            <p:nvPr/>
          </p:nvSpPr>
          <p:spPr>
            <a:xfrm>
              <a:off x="9735840" y="4717800"/>
              <a:ext cx="156276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40" name="Text Placeholder 33"/>
            <p:cNvSpPr/>
            <p:nvPr/>
          </p:nvSpPr>
          <p:spPr>
            <a:xfrm>
              <a:off x="9735840" y="4527720"/>
              <a:ext cx="17020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Fiv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41" name="Group 44"/>
          <p:cNvGrpSpPr/>
          <p:nvPr/>
        </p:nvGrpSpPr>
        <p:grpSpPr>
          <a:xfrm>
            <a:off x="5033880" y="4527720"/>
            <a:ext cx="1878120" cy="879480"/>
            <a:chOff x="5033880" y="4527720"/>
            <a:chExt cx="1878120" cy="879480"/>
          </a:xfrm>
        </p:grpSpPr>
        <p:sp>
          <p:nvSpPr>
            <p:cNvPr id="842" name="Oval 45"/>
            <p:cNvSpPr/>
            <p:nvPr/>
          </p:nvSpPr>
          <p:spPr>
            <a:xfrm>
              <a:off x="5033880" y="4544280"/>
              <a:ext cx="180000" cy="180000"/>
            </a:xfrm>
            <a:prstGeom prst="ellipse">
              <a:avLst/>
            </a:prstGeom>
            <a:solidFill>
              <a:srgbClr val="007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43" name="Text Placeholder 32"/>
            <p:cNvSpPr/>
            <p:nvPr/>
          </p:nvSpPr>
          <p:spPr>
            <a:xfrm>
              <a:off x="5352840" y="4718160"/>
              <a:ext cx="155916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44" name="Text Placeholder 33"/>
            <p:cNvSpPr/>
            <p:nvPr/>
          </p:nvSpPr>
          <p:spPr>
            <a:xfrm>
              <a:off x="5352840" y="4527720"/>
              <a:ext cx="1559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Source Sans Pro"/>
                </a:rPr>
                <a:t>Number Thre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5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5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75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8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9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95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TextBox 1"/>
          <p:cNvSpPr/>
          <p:nvPr/>
        </p:nvSpPr>
        <p:spPr>
          <a:xfrm>
            <a:off x="2723040" y="538200"/>
            <a:ext cx="67615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Creative Arrows Infographics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46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26a69a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847" name="Group 3" descr=""/>
          <p:cNvPicPr/>
          <p:nvPr/>
        </p:nvPicPr>
        <p:blipFill>
          <a:blip r:embed="rId1"/>
          <a:stretch/>
        </p:blipFill>
        <p:spPr>
          <a:xfrm>
            <a:off x="8637480" y="1700280"/>
            <a:ext cx="2713320" cy="2543040"/>
          </a:xfrm>
          <a:prstGeom prst="rect">
            <a:avLst/>
          </a:prstGeom>
          <a:ln w="0">
            <a:noFill/>
          </a:ln>
        </p:spPr>
      </p:pic>
      <p:pic>
        <p:nvPicPr>
          <p:cNvPr id="848" name="Group 10" descr=""/>
          <p:cNvPicPr/>
          <p:nvPr/>
        </p:nvPicPr>
        <p:blipFill>
          <a:blip r:embed="rId2"/>
          <a:stretch/>
        </p:blipFill>
        <p:spPr>
          <a:xfrm>
            <a:off x="6729480" y="3529080"/>
            <a:ext cx="2706480" cy="2547720"/>
          </a:xfrm>
          <a:prstGeom prst="rect">
            <a:avLst/>
          </a:prstGeom>
          <a:ln w="0">
            <a:noFill/>
          </a:ln>
        </p:spPr>
      </p:pic>
      <p:pic>
        <p:nvPicPr>
          <p:cNvPr id="849" name="Group 16" descr=""/>
          <p:cNvPicPr/>
          <p:nvPr/>
        </p:nvPicPr>
        <p:blipFill>
          <a:blip r:embed="rId3"/>
          <a:stretch/>
        </p:blipFill>
        <p:spPr>
          <a:xfrm>
            <a:off x="4827600" y="1700280"/>
            <a:ext cx="2712960" cy="2543040"/>
          </a:xfrm>
          <a:prstGeom prst="rect">
            <a:avLst/>
          </a:prstGeom>
          <a:ln w="0">
            <a:noFill/>
          </a:ln>
        </p:spPr>
      </p:pic>
      <p:pic>
        <p:nvPicPr>
          <p:cNvPr id="850" name="Group 22" descr=""/>
          <p:cNvPicPr/>
          <p:nvPr/>
        </p:nvPicPr>
        <p:blipFill>
          <a:blip r:embed="rId4"/>
          <a:stretch/>
        </p:blipFill>
        <p:spPr>
          <a:xfrm>
            <a:off x="2925720" y="3529080"/>
            <a:ext cx="2712960" cy="2547720"/>
          </a:xfrm>
          <a:prstGeom prst="rect">
            <a:avLst/>
          </a:prstGeom>
          <a:ln w="0">
            <a:noFill/>
          </a:ln>
        </p:spPr>
      </p:pic>
      <p:pic>
        <p:nvPicPr>
          <p:cNvPr id="851" name="Group 28" descr=""/>
          <p:cNvPicPr/>
          <p:nvPr/>
        </p:nvPicPr>
        <p:blipFill>
          <a:blip r:embed="rId5"/>
          <a:stretch/>
        </p:blipFill>
        <p:spPr>
          <a:xfrm>
            <a:off x="1023840" y="1700280"/>
            <a:ext cx="2712960" cy="2543040"/>
          </a:xfrm>
          <a:prstGeom prst="rect">
            <a:avLst/>
          </a:prstGeom>
          <a:ln w="0">
            <a:noFill/>
          </a:ln>
        </p:spPr>
      </p:pic>
      <p:grpSp>
        <p:nvGrpSpPr>
          <p:cNvPr id="852" name="Group 34"/>
          <p:cNvGrpSpPr/>
          <p:nvPr/>
        </p:nvGrpSpPr>
        <p:grpSpPr>
          <a:xfrm>
            <a:off x="1717560" y="2606760"/>
            <a:ext cx="1125720" cy="1892160"/>
            <a:chOff x="1717560" y="2606760"/>
            <a:chExt cx="1125720" cy="1892160"/>
          </a:xfrm>
        </p:grpSpPr>
        <p:grpSp>
          <p:nvGrpSpPr>
            <p:cNvPr id="853" name="Group 35"/>
            <p:cNvGrpSpPr/>
            <p:nvPr/>
          </p:nvGrpSpPr>
          <p:grpSpPr>
            <a:xfrm>
              <a:off x="1717560" y="2606760"/>
              <a:ext cx="1125720" cy="1892160"/>
              <a:chOff x="1717560" y="2606760"/>
              <a:chExt cx="1125720" cy="1892160"/>
            </a:xfrm>
          </p:grpSpPr>
          <p:sp>
            <p:nvSpPr>
              <p:cNvPr id="854" name="Text Placeholder 32"/>
              <p:cNvSpPr/>
              <p:nvPr/>
            </p:nvSpPr>
            <p:spPr>
              <a:xfrm>
                <a:off x="1717560" y="3706200"/>
                <a:ext cx="111240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55" name="Text Placeholder 33"/>
              <p:cNvSpPr/>
              <p:nvPr/>
            </p:nvSpPr>
            <p:spPr>
              <a:xfrm>
                <a:off x="1730880" y="3412080"/>
                <a:ext cx="1112400" cy="18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0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Atom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56" name="Oval 39"/>
              <p:cNvSpPr/>
              <p:nvPr/>
            </p:nvSpPr>
            <p:spPr>
              <a:xfrm>
                <a:off x="1981080" y="2606760"/>
                <a:ext cx="612000" cy="611640"/>
              </a:xfrm>
              <a:prstGeom prst="ellipse">
                <a:avLst/>
              </a:prstGeom>
              <a:solidFill>
                <a:srgbClr val="26a69a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857" name="Shape 2778"/>
            <p:cNvSpPr/>
            <p:nvPr/>
          </p:nvSpPr>
          <p:spPr>
            <a:xfrm>
              <a:off x="2153160" y="277380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58" name="Group 40"/>
          <p:cNvGrpSpPr/>
          <p:nvPr/>
        </p:nvGrpSpPr>
        <p:grpSpPr>
          <a:xfrm>
            <a:off x="3652920" y="3405240"/>
            <a:ext cx="1206360" cy="1714320"/>
            <a:chOff x="3652920" y="3405240"/>
            <a:chExt cx="1206360" cy="1714320"/>
          </a:xfrm>
        </p:grpSpPr>
        <p:grpSp>
          <p:nvGrpSpPr>
            <p:cNvPr id="859" name="Group 41"/>
            <p:cNvGrpSpPr/>
            <p:nvPr/>
          </p:nvGrpSpPr>
          <p:grpSpPr>
            <a:xfrm>
              <a:off x="3652920" y="3405240"/>
              <a:ext cx="1206360" cy="1714320"/>
              <a:chOff x="3652920" y="3405240"/>
              <a:chExt cx="1206360" cy="1714320"/>
            </a:xfrm>
          </p:grpSpPr>
          <p:sp>
            <p:nvSpPr>
              <p:cNvPr id="860" name="Text Placeholder 32"/>
              <p:cNvSpPr/>
              <p:nvPr/>
            </p:nvSpPr>
            <p:spPr>
              <a:xfrm>
                <a:off x="3652920" y="3699000"/>
                <a:ext cx="1206360" cy="66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61" name="Text Placeholder 33"/>
              <p:cNvSpPr/>
              <p:nvPr/>
            </p:nvSpPr>
            <p:spPr>
              <a:xfrm>
                <a:off x="3652920" y="3405240"/>
                <a:ext cx="1110960" cy="20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5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Presentation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62" name="Oval 45"/>
              <p:cNvSpPr/>
              <p:nvPr/>
            </p:nvSpPr>
            <p:spPr>
              <a:xfrm>
                <a:off x="3864960" y="4508280"/>
                <a:ext cx="610920" cy="611280"/>
              </a:xfrm>
              <a:prstGeom prst="ellipse">
                <a:avLst/>
              </a:prstGeom>
              <a:solidFill>
                <a:srgbClr val="009688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863" name="Shape 2774"/>
            <p:cNvSpPr/>
            <p:nvPr/>
          </p:nvSpPr>
          <p:spPr>
            <a:xfrm>
              <a:off x="4047480" y="467424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64" name="Group 46"/>
          <p:cNvGrpSpPr/>
          <p:nvPr/>
        </p:nvGrpSpPr>
        <p:grpSpPr>
          <a:xfrm>
            <a:off x="5508720" y="2606760"/>
            <a:ext cx="1112760" cy="1892160"/>
            <a:chOff x="5508720" y="2606760"/>
            <a:chExt cx="1112760" cy="1892160"/>
          </a:xfrm>
        </p:grpSpPr>
        <p:grpSp>
          <p:nvGrpSpPr>
            <p:cNvPr id="865" name="Group 47"/>
            <p:cNvGrpSpPr/>
            <p:nvPr/>
          </p:nvGrpSpPr>
          <p:grpSpPr>
            <a:xfrm>
              <a:off x="5508720" y="2606760"/>
              <a:ext cx="1112760" cy="1892160"/>
              <a:chOff x="5508720" y="2606760"/>
              <a:chExt cx="1112760" cy="1892160"/>
            </a:xfrm>
          </p:grpSpPr>
          <p:sp>
            <p:nvSpPr>
              <p:cNvPr id="866" name="Text Placeholder 32"/>
              <p:cNvSpPr/>
              <p:nvPr/>
            </p:nvSpPr>
            <p:spPr>
              <a:xfrm>
                <a:off x="5508720" y="3727440"/>
                <a:ext cx="1112760" cy="77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8000"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67" name="Text Placeholder 33"/>
              <p:cNvSpPr/>
              <p:nvPr/>
            </p:nvSpPr>
            <p:spPr>
              <a:xfrm>
                <a:off x="5508720" y="3412080"/>
                <a:ext cx="111276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3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Target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68" name="Oval 51"/>
              <p:cNvSpPr/>
              <p:nvPr/>
            </p:nvSpPr>
            <p:spPr>
              <a:xfrm>
                <a:off x="5758920" y="2606760"/>
                <a:ext cx="612000" cy="611640"/>
              </a:xfrm>
              <a:prstGeom prst="ellipse">
                <a:avLst/>
              </a:prstGeom>
              <a:solidFill>
                <a:srgbClr val="00796b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869" name="Shape 2748"/>
            <p:cNvSpPr/>
            <p:nvPr/>
          </p:nvSpPr>
          <p:spPr>
            <a:xfrm>
              <a:off x="5935680" y="277272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70" name="Group 52"/>
          <p:cNvGrpSpPr/>
          <p:nvPr/>
        </p:nvGrpSpPr>
        <p:grpSpPr>
          <a:xfrm>
            <a:off x="7429680" y="3421080"/>
            <a:ext cx="1136520" cy="1698480"/>
            <a:chOff x="7429680" y="3421080"/>
            <a:chExt cx="1136520" cy="1698480"/>
          </a:xfrm>
        </p:grpSpPr>
        <p:grpSp>
          <p:nvGrpSpPr>
            <p:cNvPr id="871" name="Group 53"/>
            <p:cNvGrpSpPr/>
            <p:nvPr/>
          </p:nvGrpSpPr>
          <p:grpSpPr>
            <a:xfrm>
              <a:off x="7429680" y="3421080"/>
              <a:ext cx="1136520" cy="1698480"/>
              <a:chOff x="7429680" y="3421080"/>
              <a:chExt cx="1136520" cy="1698480"/>
            </a:xfrm>
          </p:grpSpPr>
          <p:sp>
            <p:nvSpPr>
              <p:cNvPr id="872" name="Text Placeholder 32"/>
              <p:cNvSpPr/>
              <p:nvPr/>
            </p:nvSpPr>
            <p:spPr>
              <a:xfrm>
                <a:off x="7453080" y="3652560"/>
                <a:ext cx="111312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4000"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73" name="Text Placeholder 33"/>
              <p:cNvSpPr/>
              <p:nvPr/>
            </p:nvSpPr>
            <p:spPr>
              <a:xfrm>
                <a:off x="7429680" y="3421080"/>
                <a:ext cx="11131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79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Layers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74" name="Oval 57"/>
              <p:cNvSpPr/>
              <p:nvPr/>
            </p:nvSpPr>
            <p:spPr>
              <a:xfrm>
                <a:off x="7681320" y="4507920"/>
                <a:ext cx="612000" cy="611640"/>
              </a:xfrm>
              <a:prstGeom prst="ellipse">
                <a:avLst/>
              </a:prstGeom>
              <a:solidFill>
                <a:srgbClr val="00695c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875" name="Shape 2784"/>
            <p:cNvSpPr/>
            <p:nvPr/>
          </p:nvSpPr>
          <p:spPr>
            <a:xfrm>
              <a:off x="7846200" y="467388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76" name="Group 58"/>
          <p:cNvGrpSpPr/>
          <p:nvPr/>
        </p:nvGrpSpPr>
        <p:grpSpPr>
          <a:xfrm>
            <a:off x="9326520" y="2606760"/>
            <a:ext cx="1181160" cy="1725480"/>
            <a:chOff x="9326520" y="2606760"/>
            <a:chExt cx="1181160" cy="1725480"/>
          </a:xfrm>
        </p:grpSpPr>
        <p:grpSp>
          <p:nvGrpSpPr>
            <p:cNvPr id="877" name="Group 59"/>
            <p:cNvGrpSpPr/>
            <p:nvPr/>
          </p:nvGrpSpPr>
          <p:grpSpPr>
            <a:xfrm>
              <a:off x="9326520" y="2606760"/>
              <a:ext cx="1181160" cy="1725480"/>
              <a:chOff x="9326520" y="2606760"/>
              <a:chExt cx="1181160" cy="1725480"/>
            </a:xfrm>
          </p:grpSpPr>
          <p:sp>
            <p:nvSpPr>
              <p:cNvPr id="878" name="Text Placeholder 32"/>
              <p:cNvSpPr/>
              <p:nvPr/>
            </p:nvSpPr>
            <p:spPr>
              <a:xfrm>
                <a:off x="9394920" y="3652560"/>
                <a:ext cx="111276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92000"/>
              </a:bodyPr>
              <a:p>
                <a:pPr algn="ctr">
                  <a:lnSpc>
                    <a:spcPct val="130000"/>
                  </a:lnSpc>
                  <a:spcBef>
                    <a:spcPts val="751"/>
                  </a:spcBef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656d78"/>
                    </a:solidFill>
                    <a:latin typeface="Source Sans Pro Light"/>
                  </a:rPr>
                  <a:t>Synth chartreuse XOXO, tacos brooklyn VHS plaid.</a:t>
                </a:r>
                <a:endParaRPr b="0" lang="en-US" sz="10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79" name="Text Placeholder 33"/>
              <p:cNvSpPr/>
              <p:nvPr/>
            </p:nvSpPr>
            <p:spPr>
              <a:xfrm>
                <a:off x="9326520" y="3411720"/>
                <a:ext cx="111276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83000"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en-AU" sz="1400" spc="-1" strike="noStrike">
                    <a:solidFill>
                      <a:srgbClr val="656d78"/>
                    </a:solidFill>
                    <a:latin typeface="Source Sans Pro"/>
                    <a:ea typeface="Source Sans Pro"/>
                  </a:rPr>
                  <a:t>Video</a:t>
                </a:r>
                <a:endParaRPr b="0" lang="en-US" sz="14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880" name="Oval 63"/>
              <p:cNvSpPr/>
              <p:nvPr/>
            </p:nvSpPr>
            <p:spPr>
              <a:xfrm>
                <a:off x="9576720" y="2606760"/>
                <a:ext cx="612000" cy="611280"/>
              </a:xfrm>
              <a:prstGeom prst="ellipse">
                <a:avLst/>
              </a:prstGeom>
              <a:solidFill>
                <a:srgbClr val="004d40"/>
              </a:solidFill>
              <a:ln w="0">
                <a:noFill/>
              </a:ln>
              <a:effectLst>
                <a:outerShdw dist="50911" dir="2700000" blurRad="0" rotWithShape="0">
                  <a:srgbClr val="80808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881" name="Shape 2543"/>
            <p:cNvSpPr/>
            <p:nvPr/>
          </p:nvSpPr>
          <p:spPr>
            <a:xfrm>
              <a:off x="9749160" y="277272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TextBox 1"/>
          <p:cNvSpPr/>
          <p:nvPr/>
        </p:nvSpPr>
        <p:spPr>
          <a:xfrm>
            <a:off x="2477160" y="538200"/>
            <a:ext cx="725364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Creative Approach Infographics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83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26a69a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884" name="Freeform 3"/>
          <p:cNvSpPr/>
          <p:nvPr/>
        </p:nvSpPr>
        <p:spPr>
          <a:xfrm>
            <a:off x="-84240" y="2351160"/>
            <a:ext cx="9794880" cy="3583080"/>
          </a:xfrm>
          <a:custGeom>
            <a:avLst/>
            <a:gdLst/>
            <a:ahLst/>
            <a:rect l="l" t="t" r="r" b="b"/>
            <a:pathLst>
              <a:path w="2828" h="1032">
                <a:moveTo>
                  <a:pt x="0" y="856"/>
                </a:moveTo>
                <a:cubicBezTo>
                  <a:pt x="420" y="1032"/>
                  <a:pt x="464" y="536"/>
                  <a:pt x="660" y="540"/>
                </a:cubicBezTo>
                <a:cubicBezTo>
                  <a:pt x="856" y="544"/>
                  <a:pt x="976" y="736"/>
                  <a:pt x="1232" y="720"/>
                </a:cubicBezTo>
                <a:cubicBezTo>
                  <a:pt x="1488" y="704"/>
                  <a:pt x="1508" y="352"/>
                  <a:pt x="1772" y="320"/>
                </a:cubicBezTo>
                <a:cubicBezTo>
                  <a:pt x="2036" y="288"/>
                  <a:pt x="2063" y="491"/>
                  <a:pt x="2315" y="479"/>
                </a:cubicBezTo>
                <a:cubicBezTo>
                  <a:pt x="2567" y="467"/>
                  <a:pt x="2572" y="84"/>
                  <a:pt x="2828" y="0"/>
                </a:cubicBezTo>
              </a:path>
            </a:pathLst>
          </a:custGeom>
          <a:noFill/>
          <a:ln w="15840">
            <a:solidFill>
              <a:srgbClr val="656d7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885" name="Group 4"/>
          <p:cNvGrpSpPr/>
          <p:nvPr/>
        </p:nvGrpSpPr>
        <p:grpSpPr>
          <a:xfrm>
            <a:off x="1760400" y="3745080"/>
            <a:ext cx="995400" cy="993600"/>
            <a:chOff x="1760400" y="3745080"/>
            <a:chExt cx="995400" cy="993600"/>
          </a:xfrm>
        </p:grpSpPr>
        <p:sp>
          <p:nvSpPr>
            <p:cNvPr id="886" name="Oval 19"/>
            <p:cNvSpPr/>
            <p:nvPr/>
          </p:nvSpPr>
          <p:spPr>
            <a:xfrm>
              <a:off x="1760400" y="3745080"/>
              <a:ext cx="995400" cy="993600"/>
            </a:xfrm>
            <a:prstGeom prst="ellipse">
              <a:avLst/>
            </a:prstGeom>
            <a:gradFill rotWithShape="0">
              <a:gsLst>
                <a:gs pos="0">
                  <a:srgbClr val="4fb2a7"/>
                </a:gs>
                <a:gs pos="100000">
                  <a:srgbClr val="159e91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87" name="Shape 2778"/>
            <p:cNvSpPr/>
            <p:nvPr/>
          </p:nvSpPr>
          <p:spPr>
            <a:xfrm>
              <a:off x="2118600" y="4102200"/>
              <a:ext cx="27900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88" name="Group 7"/>
          <p:cNvGrpSpPr/>
          <p:nvPr/>
        </p:nvGrpSpPr>
        <p:grpSpPr>
          <a:xfrm>
            <a:off x="3657600" y="4365720"/>
            <a:ext cx="996840" cy="993600"/>
            <a:chOff x="3657600" y="4365720"/>
            <a:chExt cx="996840" cy="993600"/>
          </a:xfrm>
        </p:grpSpPr>
        <p:sp>
          <p:nvSpPr>
            <p:cNvPr id="889" name="Oval 19"/>
            <p:cNvSpPr/>
            <p:nvPr/>
          </p:nvSpPr>
          <p:spPr>
            <a:xfrm>
              <a:off x="3657600" y="4365720"/>
              <a:ext cx="996840" cy="993600"/>
            </a:xfrm>
            <a:prstGeom prst="ellipse">
              <a:avLst/>
            </a:prstGeom>
            <a:gradFill rotWithShape="0">
              <a:gsLst>
                <a:gs pos="0">
                  <a:srgbClr val="45a497"/>
                </a:gs>
                <a:gs pos="100000">
                  <a:srgbClr val="009283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90" name="Shape 2774"/>
            <p:cNvSpPr/>
            <p:nvPr/>
          </p:nvSpPr>
          <p:spPr>
            <a:xfrm>
              <a:off x="4030200" y="472464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91" name="Group 10"/>
          <p:cNvGrpSpPr/>
          <p:nvPr/>
        </p:nvGrpSpPr>
        <p:grpSpPr>
          <a:xfrm>
            <a:off x="5556240" y="3009960"/>
            <a:ext cx="996840" cy="993600"/>
            <a:chOff x="5556240" y="3009960"/>
            <a:chExt cx="996840" cy="993600"/>
          </a:xfrm>
        </p:grpSpPr>
        <p:sp>
          <p:nvSpPr>
            <p:cNvPr id="892" name="Oval 11"/>
            <p:cNvSpPr/>
            <p:nvPr/>
          </p:nvSpPr>
          <p:spPr>
            <a:xfrm>
              <a:off x="5556240" y="3009960"/>
              <a:ext cx="996840" cy="993600"/>
            </a:xfrm>
            <a:prstGeom prst="ellipse">
              <a:avLst/>
            </a:prstGeom>
            <a:gradFill rotWithShape="0">
              <a:gsLst>
                <a:gs pos="0">
                  <a:srgbClr val="45988b"/>
                </a:gs>
                <a:gs pos="100000">
                  <a:srgbClr val="008576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93" name="Shape 2748"/>
            <p:cNvSpPr/>
            <p:nvPr/>
          </p:nvSpPr>
          <p:spPr>
            <a:xfrm>
              <a:off x="5922720" y="334224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894" name="Group 13"/>
          <p:cNvGrpSpPr/>
          <p:nvPr/>
        </p:nvGrpSpPr>
        <p:grpSpPr>
          <a:xfrm>
            <a:off x="7454880" y="3537000"/>
            <a:ext cx="995400" cy="992160"/>
            <a:chOff x="7454880" y="3537000"/>
            <a:chExt cx="995400" cy="992160"/>
          </a:xfrm>
        </p:grpSpPr>
        <p:sp>
          <p:nvSpPr>
            <p:cNvPr id="895" name="Oval 19"/>
            <p:cNvSpPr/>
            <p:nvPr/>
          </p:nvSpPr>
          <p:spPr>
            <a:xfrm>
              <a:off x="7454880" y="3537000"/>
              <a:ext cx="995400" cy="992160"/>
            </a:xfrm>
            <a:prstGeom prst="ellipse">
              <a:avLst/>
            </a:prstGeom>
            <a:gradFill rotWithShape="0">
              <a:gsLst>
                <a:gs pos="0">
                  <a:srgbClr val="458a7e"/>
                </a:gs>
                <a:gs pos="100000">
                  <a:srgbClr val="007566"/>
                </a:gs>
              </a:gsLst>
              <a:lin ang="5400000"/>
            </a:gradFill>
            <a:ln w="0">
              <a:noFill/>
            </a:ln>
            <a:effectLst>
              <a:outerShdw dist="19080" dir="5400000" blurRad="0" rotWithShape="0">
                <a:srgbClr val="80808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896" name="Shape 2784"/>
            <p:cNvSpPr/>
            <p:nvPr/>
          </p:nvSpPr>
          <p:spPr>
            <a:xfrm>
              <a:off x="7813080" y="389340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897" name="Shape 2587"/>
          <p:cNvSpPr/>
          <p:nvPr/>
        </p:nvSpPr>
        <p:spPr>
          <a:xfrm>
            <a:off x="9656640" y="1619280"/>
            <a:ext cx="800280" cy="799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281" y="19846"/>
                </a:moveTo>
                <a:lnTo>
                  <a:pt x="9413" y="12882"/>
                </a:lnTo>
                <a:lnTo>
                  <a:pt x="19655" y="2640"/>
                </a:lnTo>
                <a:cubicBezTo>
                  <a:pt x="19655" y="2640"/>
                  <a:pt x="12281" y="19846"/>
                  <a:pt x="12281" y="19846"/>
                </a:cubicBezTo>
                <a:close/>
                <a:moveTo>
                  <a:pt x="1755" y="9320"/>
                </a:moveTo>
                <a:lnTo>
                  <a:pt x="18960" y="1945"/>
                </a:lnTo>
                <a:lnTo>
                  <a:pt x="8719" y="12187"/>
                </a:lnTo>
                <a:cubicBezTo>
                  <a:pt x="8719" y="12187"/>
                  <a:pt x="1755" y="9320"/>
                  <a:pt x="1755" y="9320"/>
                </a:cubicBezTo>
                <a:close/>
                <a:moveTo>
                  <a:pt x="21600" y="491"/>
                </a:moveTo>
                <a:cubicBezTo>
                  <a:pt x="21600" y="220"/>
                  <a:pt x="21380" y="0"/>
                  <a:pt x="21109" y="0"/>
                </a:cubicBezTo>
                <a:cubicBezTo>
                  <a:pt x="21034" y="0"/>
                  <a:pt x="20964" y="20"/>
                  <a:pt x="20900" y="52"/>
                </a:cubicBezTo>
                <a:lnTo>
                  <a:pt x="20898" y="48"/>
                </a:lnTo>
                <a:lnTo>
                  <a:pt x="302" y="8875"/>
                </a:lnTo>
                <a:cubicBezTo>
                  <a:pt x="301" y="8875"/>
                  <a:pt x="299" y="8876"/>
                  <a:pt x="297" y="8877"/>
                </a:cubicBezTo>
                <a:lnTo>
                  <a:pt x="280" y="8885"/>
                </a:lnTo>
                <a:lnTo>
                  <a:pt x="281" y="8887"/>
                </a:lnTo>
                <a:cubicBezTo>
                  <a:pt x="116" y="8967"/>
                  <a:pt x="0" y="9132"/>
                  <a:pt x="0" y="9327"/>
                </a:cubicBezTo>
                <a:cubicBezTo>
                  <a:pt x="0" y="9550"/>
                  <a:pt x="151" y="9731"/>
                  <a:pt x="355" y="9791"/>
                </a:cubicBezTo>
                <a:lnTo>
                  <a:pt x="353" y="9799"/>
                </a:lnTo>
                <a:lnTo>
                  <a:pt x="8462" y="13138"/>
                </a:lnTo>
                <a:lnTo>
                  <a:pt x="11801" y="21248"/>
                </a:lnTo>
                <a:lnTo>
                  <a:pt x="11809" y="21245"/>
                </a:lnTo>
                <a:cubicBezTo>
                  <a:pt x="11869" y="21449"/>
                  <a:pt x="12050" y="21600"/>
                  <a:pt x="12273" y="21600"/>
                </a:cubicBezTo>
                <a:cubicBezTo>
                  <a:pt x="12468" y="21600"/>
                  <a:pt x="12634" y="21484"/>
                  <a:pt x="12713" y="21319"/>
                </a:cubicBezTo>
                <a:lnTo>
                  <a:pt x="12716" y="21320"/>
                </a:lnTo>
                <a:lnTo>
                  <a:pt x="12723" y="21303"/>
                </a:lnTo>
                <a:cubicBezTo>
                  <a:pt x="12724" y="21301"/>
                  <a:pt x="12725" y="21300"/>
                  <a:pt x="12725" y="21298"/>
                </a:cubicBezTo>
                <a:lnTo>
                  <a:pt x="21553" y="702"/>
                </a:lnTo>
                <a:lnTo>
                  <a:pt x="21547" y="699"/>
                </a:lnTo>
                <a:cubicBezTo>
                  <a:pt x="21578" y="636"/>
                  <a:pt x="21600" y="567"/>
                  <a:pt x="21600" y="491"/>
                </a:cubicBezTo>
                <a:moveTo>
                  <a:pt x="7855" y="16200"/>
                </a:moveTo>
                <a:cubicBezTo>
                  <a:pt x="7719" y="16200"/>
                  <a:pt x="7596" y="16255"/>
                  <a:pt x="7507" y="16344"/>
                </a:cubicBezTo>
                <a:lnTo>
                  <a:pt x="6035" y="17817"/>
                </a:lnTo>
                <a:cubicBezTo>
                  <a:pt x="5946" y="17905"/>
                  <a:pt x="5891" y="18029"/>
                  <a:pt x="5891" y="18164"/>
                </a:cubicBezTo>
                <a:cubicBezTo>
                  <a:pt x="5891" y="18435"/>
                  <a:pt x="6111" y="18655"/>
                  <a:pt x="6382" y="18655"/>
                </a:cubicBezTo>
                <a:cubicBezTo>
                  <a:pt x="6517" y="18655"/>
                  <a:pt x="6640" y="18600"/>
                  <a:pt x="6729" y="18511"/>
                </a:cubicBezTo>
                <a:lnTo>
                  <a:pt x="8202" y="17038"/>
                </a:lnTo>
                <a:cubicBezTo>
                  <a:pt x="8291" y="16950"/>
                  <a:pt x="8345" y="16827"/>
                  <a:pt x="8345" y="16691"/>
                </a:cubicBezTo>
                <a:cubicBezTo>
                  <a:pt x="8345" y="16420"/>
                  <a:pt x="8126" y="16200"/>
                  <a:pt x="7855" y="16200"/>
                </a:cubicBezTo>
                <a:moveTo>
                  <a:pt x="7855" y="14237"/>
                </a:moveTo>
                <a:cubicBezTo>
                  <a:pt x="7855" y="13966"/>
                  <a:pt x="7635" y="13745"/>
                  <a:pt x="7364" y="13745"/>
                </a:cubicBezTo>
                <a:cubicBezTo>
                  <a:pt x="7228" y="13745"/>
                  <a:pt x="7105" y="13801"/>
                  <a:pt x="7017" y="13889"/>
                </a:cubicBezTo>
                <a:lnTo>
                  <a:pt x="2107" y="18798"/>
                </a:lnTo>
                <a:cubicBezTo>
                  <a:pt x="2019" y="18888"/>
                  <a:pt x="1964" y="19011"/>
                  <a:pt x="1964" y="19145"/>
                </a:cubicBezTo>
                <a:cubicBezTo>
                  <a:pt x="1964" y="19417"/>
                  <a:pt x="2184" y="19636"/>
                  <a:pt x="2455" y="19636"/>
                </a:cubicBezTo>
                <a:cubicBezTo>
                  <a:pt x="2590" y="19636"/>
                  <a:pt x="2713" y="19582"/>
                  <a:pt x="2802" y="19493"/>
                </a:cubicBezTo>
                <a:lnTo>
                  <a:pt x="7711" y="14583"/>
                </a:lnTo>
                <a:cubicBezTo>
                  <a:pt x="7800" y="14495"/>
                  <a:pt x="7855" y="14372"/>
                  <a:pt x="7855" y="14237"/>
                </a:cubicBezTo>
                <a:moveTo>
                  <a:pt x="4765" y="14583"/>
                </a:moveTo>
                <a:lnTo>
                  <a:pt x="5256" y="14093"/>
                </a:lnTo>
                <a:cubicBezTo>
                  <a:pt x="5345" y="14004"/>
                  <a:pt x="5400" y="13881"/>
                  <a:pt x="5400" y="13745"/>
                </a:cubicBezTo>
                <a:cubicBezTo>
                  <a:pt x="5400" y="13475"/>
                  <a:pt x="5180" y="13255"/>
                  <a:pt x="4909" y="13255"/>
                </a:cubicBezTo>
                <a:cubicBezTo>
                  <a:pt x="4774" y="13255"/>
                  <a:pt x="4651" y="13310"/>
                  <a:pt x="4562" y="13398"/>
                </a:cubicBezTo>
                <a:lnTo>
                  <a:pt x="4071" y="13889"/>
                </a:lnTo>
                <a:cubicBezTo>
                  <a:pt x="3982" y="13979"/>
                  <a:pt x="3927" y="14101"/>
                  <a:pt x="3927" y="14237"/>
                </a:cubicBezTo>
                <a:cubicBezTo>
                  <a:pt x="3927" y="14507"/>
                  <a:pt x="4147" y="14727"/>
                  <a:pt x="4418" y="14727"/>
                </a:cubicBezTo>
                <a:cubicBezTo>
                  <a:pt x="4554" y="14727"/>
                  <a:pt x="4676" y="14673"/>
                  <a:pt x="4765" y="14583"/>
                </a:cubicBezTo>
              </a:path>
            </a:pathLst>
          </a:custGeom>
          <a:solidFill>
            <a:srgbClr val="26a6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898" name="Group 17"/>
          <p:cNvGrpSpPr/>
          <p:nvPr/>
        </p:nvGrpSpPr>
        <p:grpSpPr>
          <a:xfrm>
            <a:off x="1611360" y="2933640"/>
            <a:ext cx="1573200" cy="628560"/>
            <a:chOff x="1611360" y="2933640"/>
            <a:chExt cx="1573200" cy="628560"/>
          </a:xfrm>
        </p:grpSpPr>
        <p:sp>
          <p:nvSpPr>
            <p:cNvPr id="899" name="Rectangle 18"/>
            <p:cNvSpPr/>
            <p:nvPr/>
          </p:nvSpPr>
          <p:spPr>
            <a:xfrm>
              <a:off x="1957320" y="2933640"/>
              <a:ext cx="122724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00" name="Shape 2778"/>
            <p:cNvSpPr/>
            <p:nvPr/>
          </p:nvSpPr>
          <p:spPr>
            <a:xfrm>
              <a:off x="1611360" y="308916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81" y="12956"/>
                  </a:moveTo>
                  <a:cubicBezTo>
                    <a:pt x="17070" y="12258"/>
                    <a:pt x="16576" y="11533"/>
                    <a:pt x="16011" y="10795"/>
                  </a:cubicBezTo>
                  <a:cubicBezTo>
                    <a:pt x="16573" y="10063"/>
                    <a:pt x="17072" y="9339"/>
                    <a:pt x="17481" y="8644"/>
                  </a:cubicBezTo>
                  <a:cubicBezTo>
                    <a:pt x="19410" y="9181"/>
                    <a:pt x="20618" y="9948"/>
                    <a:pt x="20618" y="10800"/>
                  </a:cubicBezTo>
                  <a:cubicBezTo>
                    <a:pt x="20618" y="11652"/>
                    <a:pt x="19410" y="12419"/>
                    <a:pt x="17481" y="12956"/>
                  </a:cubicBezTo>
                  <a:moveTo>
                    <a:pt x="17742" y="17743"/>
                  </a:moveTo>
                  <a:cubicBezTo>
                    <a:pt x="17140" y="18345"/>
                    <a:pt x="15740" y="18028"/>
                    <a:pt x="13996" y="17045"/>
                  </a:cubicBezTo>
                  <a:cubicBezTo>
                    <a:pt x="14198" y="16261"/>
                    <a:pt x="14365" y="15406"/>
                    <a:pt x="14487" y="14488"/>
                  </a:cubicBezTo>
                  <a:cubicBezTo>
                    <a:pt x="15405" y="14366"/>
                    <a:pt x="16261" y="14198"/>
                    <a:pt x="17044" y="13996"/>
                  </a:cubicBezTo>
                  <a:cubicBezTo>
                    <a:pt x="18028" y="15740"/>
                    <a:pt x="18345" y="17140"/>
                    <a:pt x="17742" y="17743"/>
                  </a:cubicBezTo>
                  <a:moveTo>
                    <a:pt x="15404" y="11561"/>
                  </a:moveTo>
                  <a:cubicBezTo>
                    <a:pt x="15837" y="12119"/>
                    <a:pt x="16219" y="12662"/>
                    <a:pt x="16554" y="13185"/>
                  </a:cubicBezTo>
                  <a:cubicBezTo>
                    <a:pt x="15950" y="13317"/>
                    <a:pt x="15295" y="13429"/>
                    <a:pt x="14597" y="13517"/>
                  </a:cubicBezTo>
                  <a:cubicBezTo>
                    <a:pt x="14631" y="13155"/>
                    <a:pt x="14655" y="12784"/>
                    <a:pt x="14677" y="12409"/>
                  </a:cubicBezTo>
                  <a:cubicBezTo>
                    <a:pt x="14930" y="12127"/>
                    <a:pt x="15170" y="11844"/>
                    <a:pt x="15404" y="11561"/>
                  </a:cubicBezTo>
                  <a:moveTo>
                    <a:pt x="15402" y="10032"/>
                  </a:moveTo>
                  <a:cubicBezTo>
                    <a:pt x="15170" y="9752"/>
                    <a:pt x="14928" y="9471"/>
                    <a:pt x="14677" y="9191"/>
                  </a:cubicBezTo>
                  <a:cubicBezTo>
                    <a:pt x="14655" y="8817"/>
                    <a:pt x="14631" y="8445"/>
                    <a:pt x="14597" y="8084"/>
                  </a:cubicBezTo>
                  <a:cubicBezTo>
                    <a:pt x="15295" y="8171"/>
                    <a:pt x="15950" y="8283"/>
                    <a:pt x="16554" y="8415"/>
                  </a:cubicBezTo>
                  <a:cubicBezTo>
                    <a:pt x="16221" y="8935"/>
                    <a:pt x="15832" y="9478"/>
                    <a:pt x="15402" y="10032"/>
                  </a:cubicBezTo>
                  <a:moveTo>
                    <a:pt x="17742" y="3857"/>
                  </a:moveTo>
                  <a:cubicBezTo>
                    <a:pt x="18345" y="4460"/>
                    <a:pt x="18028" y="5860"/>
                    <a:pt x="17044" y="7604"/>
                  </a:cubicBezTo>
                  <a:cubicBezTo>
                    <a:pt x="16261" y="7402"/>
                    <a:pt x="15405" y="7234"/>
                    <a:pt x="14487" y="7112"/>
                  </a:cubicBezTo>
                  <a:cubicBezTo>
                    <a:pt x="14365" y="6194"/>
                    <a:pt x="14198" y="5339"/>
                    <a:pt x="13996" y="4555"/>
                  </a:cubicBezTo>
                  <a:cubicBezTo>
                    <a:pt x="15740" y="3572"/>
                    <a:pt x="17140" y="3255"/>
                    <a:pt x="17742" y="3857"/>
                  </a:cubicBezTo>
                  <a:moveTo>
                    <a:pt x="13718" y="12012"/>
                  </a:moveTo>
                  <a:cubicBezTo>
                    <a:pt x="13448" y="12303"/>
                    <a:pt x="13172" y="12593"/>
                    <a:pt x="12882" y="12883"/>
                  </a:cubicBezTo>
                  <a:cubicBezTo>
                    <a:pt x="12593" y="13172"/>
                    <a:pt x="12303" y="13449"/>
                    <a:pt x="12012" y="13719"/>
                  </a:cubicBezTo>
                  <a:cubicBezTo>
                    <a:pt x="11614" y="13733"/>
                    <a:pt x="11212" y="13745"/>
                    <a:pt x="10800" y="13745"/>
                  </a:cubicBezTo>
                  <a:cubicBezTo>
                    <a:pt x="10387" y="13745"/>
                    <a:pt x="9985" y="13733"/>
                    <a:pt x="9587" y="13719"/>
                  </a:cubicBezTo>
                  <a:cubicBezTo>
                    <a:pt x="9297" y="13449"/>
                    <a:pt x="9006" y="13172"/>
                    <a:pt x="8717" y="12883"/>
                  </a:cubicBezTo>
                  <a:cubicBezTo>
                    <a:pt x="8428" y="12593"/>
                    <a:pt x="8152" y="12303"/>
                    <a:pt x="7881" y="12012"/>
                  </a:cubicBezTo>
                  <a:cubicBezTo>
                    <a:pt x="7866" y="11614"/>
                    <a:pt x="7855" y="11212"/>
                    <a:pt x="7855" y="10800"/>
                  </a:cubicBezTo>
                  <a:cubicBezTo>
                    <a:pt x="7855" y="10388"/>
                    <a:pt x="7866" y="9986"/>
                    <a:pt x="7881" y="9587"/>
                  </a:cubicBezTo>
                  <a:cubicBezTo>
                    <a:pt x="8152" y="9297"/>
                    <a:pt x="8428" y="9007"/>
                    <a:pt x="8717" y="8717"/>
                  </a:cubicBezTo>
                  <a:cubicBezTo>
                    <a:pt x="9006" y="8428"/>
                    <a:pt x="9297" y="8151"/>
                    <a:pt x="9587" y="7881"/>
                  </a:cubicBezTo>
                  <a:cubicBezTo>
                    <a:pt x="9985" y="7867"/>
                    <a:pt x="10387" y="7855"/>
                    <a:pt x="10800" y="7855"/>
                  </a:cubicBezTo>
                  <a:cubicBezTo>
                    <a:pt x="11212" y="7855"/>
                    <a:pt x="11614" y="7867"/>
                    <a:pt x="12012" y="7881"/>
                  </a:cubicBezTo>
                  <a:cubicBezTo>
                    <a:pt x="12303" y="8151"/>
                    <a:pt x="12593" y="8428"/>
                    <a:pt x="12882" y="8717"/>
                  </a:cubicBezTo>
                  <a:cubicBezTo>
                    <a:pt x="13172" y="9007"/>
                    <a:pt x="13448" y="9297"/>
                    <a:pt x="13718" y="9587"/>
                  </a:cubicBezTo>
                  <a:cubicBezTo>
                    <a:pt x="13733" y="9986"/>
                    <a:pt x="13745" y="10388"/>
                    <a:pt x="13745" y="10800"/>
                  </a:cubicBezTo>
                  <a:cubicBezTo>
                    <a:pt x="13745" y="11212"/>
                    <a:pt x="13733" y="11614"/>
                    <a:pt x="13718" y="12012"/>
                  </a:cubicBezTo>
                  <a:moveTo>
                    <a:pt x="13185" y="16555"/>
                  </a:moveTo>
                  <a:cubicBezTo>
                    <a:pt x="12662" y="16219"/>
                    <a:pt x="12120" y="15837"/>
                    <a:pt x="11561" y="15404"/>
                  </a:cubicBezTo>
                  <a:cubicBezTo>
                    <a:pt x="11844" y="15170"/>
                    <a:pt x="12127" y="14931"/>
                    <a:pt x="12409" y="14677"/>
                  </a:cubicBezTo>
                  <a:cubicBezTo>
                    <a:pt x="12783" y="14655"/>
                    <a:pt x="13155" y="14631"/>
                    <a:pt x="13517" y="14597"/>
                  </a:cubicBezTo>
                  <a:cubicBezTo>
                    <a:pt x="13429" y="15295"/>
                    <a:pt x="13316" y="15950"/>
                    <a:pt x="13185" y="16555"/>
                  </a:cubicBezTo>
                  <a:moveTo>
                    <a:pt x="10800" y="20618"/>
                  </a:moveTo>
                  <a:cubicBezTo>
                    <a:pt x="9948" y="20618"/>
                    <a:pt x="9181" y="19410"/>
                    <a:pt x="8643" y="17481"/>
                  </a:cubicBezTo>
                  <a:cubicBezTo>
                    <a:pt x="9339" y="17072"/>
                    <a:pt x="10062" y="16573"/>
                    <a:pt x="10795" y="16011"/>
                  </a:cubicBezTo>
                  <a:cubicBezTo>
                    <a:pt x="11532" y="16576"/>
                    <a:pt x="12258" y="17070"/>
                    <a:pt x="12957" y="17481"/>
                  </a:cubicBezTo>
                  <a:cubicBezTo>
                    <a:pt x="12419" y="19410"/>
                    <a:pt x="11652" y="20618"/>
                    <a:pt x="10800" y="20618"/>
                  </a:cubicBezTo>
                  <a:moveTo>
                    <a:pt x="8083" y="14597"/>
                  </a:moveTo>
                  <a:cubicBezTo>
                    <a:pt x="8445" y="14631"/>
                    <a:pt x="8816" y="14655"/>
                    <a:pt x="9190" y="14677"/>
                  </a:cubicBezTo>
                  <a:cubicBezTo>
                    <a:pt x="9471" y="14929"/>
                    <a:pt x="9751" y="15170"/>
                    <a:pt x="10032" y="15403"/>
                  </a:cubicBezTo>
                  <a:cubicBezTo>
                    <a:pt x="9478" y="15832"/>
                    <a:pt x="8935" y="16221"/>
                    <a:pt x="8415" y="16555"/>
                  </a:cubicBezTo>
                  <a:cubicBezTo>
                    <a:pt x="8283" y="15950"/>
                    <a:pt x="8171" y="15295"/>
                    <a:pt x="8083" y="14597"/>
                  </a:cubicBezTo>
                  <a:moveTo>
                    <a:pt x="8415" y="5045"/>
                  </a:moveTo>
                  <a:cubicBezTo>
                    <a:pt x="8938" y="5381"/>
                    <a:pt x="9480" y="5762"/>
                    <a:pt x="10038" y="6196"/>
                  </a:cubicBezTo>
                  <a:cubicBezTo>
                    <a:pt x="9756" y="6430"/>
                    <a:pt x="9473" y="6670"/>
                    <a:pt x="9190" y="6924"/>
                  </a:cubicBezTo>
                  <a:cubicBezTo>
                    <a:pt x="8816" y="6945"/>
                    <a:pt x="8445" y="6969"/>
                    <a:pt x="8083" y="7003"/>
                  </a:cubicBezTo>
                  <a:cubicBezTo>
                    <a:pt x="8171" y="6305"/>
                    <a:pt x="8283" y="5650"/>
                    <a:pt x="8415" y="5045"/>
                  </a:cubicBezTo>
                  <a:moveTo>
                    <a:pt x="10800" y="982"/>
                  </a:moveTo>
                  <a:cubicBezTo>
                    <a:pt x="11652" y="982"/>
                    <a:pt x="12419" y="2191"/>
                    <a:pt x="12957" y="4119"/>
                  </a:cubicBezTo>
                  <a:cubicBezTo>
                    <a:pt x="12261" y="4528"/>
                    <a:pt x="11537" y="5027"/>
                    <a:pt x="10804" y="5589"/>
                  </a:cubicBezTo>
                  <a:cubicBezTo>
                    <a:pt x="10067" y="5024"/>
                    <a:pt x="9341" y="4530"/>
                    <a:pt x="8643" y="4119"/>
                  </a:cubicBezTo>
                  <a:cubicBezTo>
                    <a:pt x="9181" y="2191"/>
                    <a:pt x="9948" y="982"/>
                    <a:pt x="10800" y="982"/>
                  </a:cubicBezTo>
                  <a:moveTo>
                    <a:pt x="13517" y="7003"/>
                  </a:moveTo>
                  <a:cubicBezTo>
                    <a:pt x="13155" y="6969"/>
                    <a:pt x="12783" y="6945"/>
                    <a:pt x="12409" y="6924"/>
                  </a:cubicBezTo>
                  <a:cubicBezTo>
                    <a:pt x="12129" y="6671"/>
                    <a:pt x="11848" y="6430"/>
                    <a:pt x="11568" y="6198"/>
                  </a:cubicBezTo>
                  <a:cubicBezTo>
                    <a:pt x="12122" y="5768"/>
                    <a:pt x="12665" y="5379"/>
                    <a:pt x="13185" y="5045"/>
                  </a:cubicBezTo>
                  <a:cubicBezTo>
                    <a:pt x="13316" y="5650"/>
                    <a:pt x="13429" y="6305"/>
                    <a:pt x="13517" y="7003"/>
                  </a:cubicBezTo>
                  <a:moveTo>
                    <a:pt x="7112" y="7112"/>
                  </a:moveTo>
                  <a:cubicBezTo>
                    <a:pt x="6194" y="7234"/>
                    <a:pt x="5339" y="7402"/>
                    <a:pt x="4555" y="7604"/>
                  </a:cubicBezTo>
                  <a:cubicBezTo>
                    <a:pt x="3572" y="5860"/>
                    <a:pt x="3255" y="4460"/>
                    <a:pt x="3858" y="3857"/>
                  </a:cubicBezTo>
                  <a:cubicBezTo>
                    <a:pt x="4460" y="3255"/>
                    <a:pt x="5860" y="3572"/>
                    <a:pt x="7604" y="4555"/>
                  </a:cubicBezTo>
                  <a:cubicBezTo>
                    <a:pt x="7402" y="5339"/>
                    <a:pt x="7234" y="6194"/>
                    <a:pt x="7112" y="7112"/>
                  </a:cubicBezTo>
                  <a:moveTo>
                    <a:pt x="3858" y="17743"/>
                  </a:moveTo>
                  <a:cubicBezTo>
                    <a:pt x="3255" y="17140"/>
                    <a:pt x="3572" y="15740"/>
                    <a:pt x="4555" y="13996"/>
                  </a:cubicBezTo>
                  <a:cubicBezTo>
                    <a:pt x="5339" y="14198"/>
                    <a:pt x="6194" y="14366"/>
                    <a:pt x="7112" y="14488"/>
                  </a:cubicBezTo>
                  <a:cubicBezTo>
                    <a:pt x="7234" y="15406"/>
                    <a:pt x="7402" y="16261"/>
                    <a:pt x="7604" y="17045"/>
                  </a:cubicBezTo>
                  <a:cubicBezTo>
                    <a:pt x="5860" y="18028"/>
                    <a:pt x="4460" y="18345"/>
                    <a:pt x="3858" y="17743"/>
                  </a:cubicBezTo>
                  <a:moveTo>
                    <a:pt x="7003" y="13517"/>
                  </a:moveTo>
                  <a:cubicBezTo>
                    <a:pt x="6305" y="13429"/>
                    <a:pt x="5650" y="13317"/>
                    <a:pt x="5045" y="13185"/>
                  </a:cubicBezTo>
                  <a:cubicBezTo>
                    <a:pt x="5379" y="12665"/>
                    <a:pt x="5768" y="12122"/>
                    <a:pt x="6197" y="11568"/>
                  </a:cubicBezTo>
                  <a:cubicBezTo>
                    <a:pt x="6429" y="11848"/>
                    <a:pt x="6671" y="12129"/>
                    <a:pt x="6923" y="12409"/>
                  </a:cubicBezTo>
                  <a:cubicBezTo>
                    <a:pt x="6944" y="12784"/>
                    <a:pt x="6968" y="13155"/>
                    <a:pt x="7003" y="13517"/>
                  </a:cubicBezTo>
                  <a:moveTo>
                    <a:pt x="6923" y="9191"/>
                  </a:moveTo>
                  <a:cubicBezTo>
                    <a:pt x="6669" y="9473"/>
                    <a:pt x="6429" y="9756"/>
                    <a:pt x="6196" y="10039"/>
                  </a:cubicBezTo>
                  <a:cubicBezTo>
                    <a:pt x="5763" y="9481"/>
                    <a:pt x="5381" y="8938"/>
                    <a:pt x="5045" y="8415"/>
                  </a:cubicBezTo>
                  <a:cubicBezTo>
                    <a:pt x="5650" y="8283"/>
                    <a:pt x="6305" y="8171"/>
                    <a:pt x="7003" y="8084"/>
                  </a:cubicBezTo>
                  <a:cubicBezTo>
                    <a:pt x="6968" y="8445"/>
                    <a:pt x="6944" y="8816"/>
                    <a:pt x="6923" y="9191"/>
                  </a:cubicBezTo>
                  <a:moveTo>
                    <a:pt x="982" y="10800"/>
                  </a:moveTo>
                  <a:cubicBezTo>
                    <a:pt x="982" y="9948"/>
                    <a:pt x="2190" y="9181"/>
                    <a:pt x="4119" y="8644"/>
                  </a:cubicBezTo>
                  <a:cubicBezTo>
                    <a:pt x="4530" y="9342"/>
                    <a:pt x="5023" y="10067"/>
                    <a:pt x="5588" y="10805"/>
                  </a:cubicBezTo>
                  <a:cubicBezTo>
                    <a:pt x="5027" y="11537"/>
                    <a:pt x="4528" y="12262"/>
                    <a:pt x="4119" y="12956"/>
                  </a:cubicBezTo>
                  <a:cubicBezTo>
                    <a:pt x="2190" y="12419"/>
                    <a:pt x="982" y="11652"/>
                    <a:pt x="982" y="10800"/>
                  </a:cubicBezTo>
                  <a:moveTo>
                    <a:pt x="21600" y="10800"/>
                  </a:moveTo>
                  <a:cubicBezTo>
                    <a:pt x="21600" y="9624"/>
                    <a:pt x="20173" y="8571"/>
                    <a:pt x="17918" y="7853"/>
                  </a:cubicBezTo>
                  <a:cubicBezTo>
                    <a:pt x="19002" y="5750"/>
                    <a:pt x="19269" y="3995"/>
                    <a:pt x="18437" y="3163"/>
                  </a:cubicBezTo>
                  <a:cubicBezTo>
                    <a:pt x="17605" y="2332"/>
                    <a:pt x="15850" y="2598"/>
                    <a:pt x="13748" y="3682"/>
                  </a:cubicBezTo>
                  <a:cubicBezTo>
                    <a:pt x="13029" y="1427"/>
                    <a:pt x="11976" y="0"/>
                    <a:pt x="10800" y="0"/>
                  </a:cubicBezTo>
                  <a:cubicBezTo>
                    <a:pt x="9623" y="0"/>
                    <a:pt x="8571" y="1427"/>
                    <a:pt x="7852" y="3682"/>
                  </a:cubicBezTo>
                  <a:cubicBezTo>
                    <a:pt x="5750" y="2598"/>
                    <a:pt x="3995" y="2332"/>
                    <a:pt x="3163" y="3163"/>
                  </a:cubicBezTo>
                  <a:cubicBezTo>
                    <a:pt x="2331" y="3995"/>
                    <a:pt x="2598" y="5750"/>
                    <a:pt x="3682" y="7853"/>
                  </a:cubicBezTo>
                  <a:cubicBezTo>
                    <a:pt x="1426" y="8571"/>
                    <a:pt x="0" y="9624"/>
                    <a:pt x="0" y="10800"/>
                  </a:cubicBezTo>
                  <a:cubicBezTo>
                    <a:pt x="0" y="11976"/>
                    <a:pt x="1426" y="13029"/>
                    <a:pt x="3682" y="13748"/>
                  </a:cubicBezTo>
                  <a:cubicBezTo>
                    <a:pt x="2598" y="15851"/>
                    <a:pt x="2331" y="17605"/>
                    <a:pt x="3163" y="18437"/>
                  </a:cubicBezTo>
                  <a:cubicBezTo>
                    <a:pt x="3995" y="19268"/>
                    <a:pt x="5750" y="19002"/>
                    <a:pt x="7852" y="17918"/>
                  </a:cubicBezTo>
                  <a:cubicBezTo>
                    <a:pt x="8571" y="20173"/>
                    <a:pt x="9623" y="21600"/>
                    <a:pt x="10800" y="21600"/>
                  </a:cubicBezTo>
                  <a:cubicBezTo>
                    <a:pt x="11976" y="21600"/>
                    <a:pt x="13029" y="20173"/>
                    <a:pt x="13748" y="17918"/>
                  </a:cubicBezTo>
                  <a:cubicBezTo>
                    <a:pt x="15850" y="19002"/>
                    <a:pt x="17605" y="19268"/>
                    <a:pt x="18437" y="18437"/>
                  </a:cubicBezTo>
                  <a:cubicBezTo>
                    <a:pt x="19269" y="17605"/>
                    <a:pt x="19002" y="15851"/>
                    <a:pt x="17918" y="13748"/>
                  </a:cubicBezTo>
                  <a:cubicBezTo>
                    <a:pt x="20173" y="13029"/>
                    <a:pt x="21600" y="11976"/>
                    <a:pt x="21600" y="10800"/>
                  </a:cubicBezTo>
                  <a:moveTo>
                    <a:pt x="10800" y="9818"/>
                  </a:moveTo>
                  <a:cubicBezTo>
                    <a:pt x="10258" y="9818"/>
                    <a:pt x="9818" y="10258"/>
                    <a:pt x="9818" y="10800"/>
                  </a:cubicBezTo>
                  <a:cubicBezTo>
                    <a:pt x="9818" y="11342"/>
                    <a:pt x="10258" y="11782"/>
                    <a:pt x="10800" y="11782"/>
                  </a:cubicBezTo>
                  <a:cubicBezTo>
                    <a:pt x="11342" y="11782"/>
                    <a:pt x="11782" y="11342"/>
                    <a:pt x="11782" y="10800"/>
                  </a:cubicBezTo>
                  <a:cubicBezTo>
                    <a:pt x="11782" y="10258"/>
                    <a:pt x="11342" y="9818"/>
                    <a:pt x="10800" y="9818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01" name="Group 20"/>
          <p:cNvGrpSpPr/>
          <p:nvPr/>
        </p:nvGrpSpPr>
        <p:grpSpPr>
          <a:xfrm>
            <a:off x="3382920" y="5478480"/>
            <a:ext cx="1575000" cy="628560"/>
            <a:chOff x="3382920" y="5478480"/>
            <a:chExt cx="1575000" cy="628560"/>
          </a:xfrm>
        </p:grpSpPr>
        <p:sp>
          <p:nvSpPr>
            <p:cNvPr id="902" name="Rectangle 21"/>
            <p:cNvSpPr/>
            <p:nvPr/>
          </p:nvSpPr>
          <p:spPr>
            <a:xfrm>
              <a:off x="3730320" y="5478480"/>
              <a:ext cx="122760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03" name="Shape 2748"/>
            <p:cNvSpPr/>
            <p:nvPr/>
          </p:nvSpPr>
          <p:spPr>
            <a:xfrm>
              <a:off x="3382920" y="5605920"/>
              <a:ext cx="279360" cy="27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0618"/>
                  </a:moveTo>
                  <a:cubicBezTo>
                    <a:pt x="5377" y="20618"/>
                    <a:pt x="982" y="16223"/>
                    <a:pt x="982" y="10800"/>
                  </a:cubicBezTo>
                  <a:cubicBezTo>
                    <a:pt x="982" y="5377"/>
                    <a:pt x="5377" y="982"/>
                    <a:pt x="10800" y="982"/>
                  </a:cubicBezTo>
                  <a:cubicBezTo>
                    <a:pt x="16223" y="982"/>
                    <a:pt x="20618" y="5377"/>
                    <a:pt x="20618" y="10800"/>
                  </a:cubicBezTo>
                  <a:cubicBezTo>
                    <a:pt x="20618" y="16223"/>
                    <a:pt x="16223" y="20618"/>
                    <a:pt x="10800" y="20618"/>
                  </a:cubicBezTo>
                  <a:moveTo>
                    <a:pt x="18280" y="18579"/>
                  </a:moveTo>
                  <a:cubicBezTo>
                    <a:pt x="20323" y="16614"/>
                    <a:pt x="21600" y="1385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6" y="0"/>
                    <a:pt x="0" y="4835"/>
                    <a:pt x="0" y="10800"/>
                  </a:cubicBezTo>
                  <a:cubicBezTo>
                    <a:pt x="0" y="13859"/>
                    <a:pt x="1277" y="16614"/>
                    <a:pt x="3320" y="18579"/>
                  </a:cubicBezTo>
                  <a:lnTo>
                    <a:pt x="2107" y="20762"/>
                  </a:lnTo>
                  <a:cubicBezTo>
                    <a:pt x="2019" y="20851"/>
                    <a:pt x="1964" y="20974"/>
                    <a:pt x="1964" y="21109"/>
                  </a:cubicBezTo>
                  <a:cubicBezTo>
                    <a:pt x="1964" y="21380"/>
                    <a:pt x="2184" y="21600"/>
                    <a:pt x="2455" y="21600"/>
                  </a:cubicBezTo>
                  <a:cubicBezTo>
                    <a:pt x="2590" y="21600"/>
                    <a:pt x="2713" y="21545"/>
                    <a:pt x="2802" y="21456"/>
                  </a:cubicBezTo>
                  <a:cubicBezTo>
                    <a:pt x="2858" y="21400"/>
                    <a:pt x="2894" y="21327"/>
                    <a:pt x="2917" y="21248"/>
                  </a:cubicBezTo>
                  <a:lnTo>
                    <a:pt x="4044" y="19219"/>
                  </a:lnTo>
                  <a:cubicBezTo>
                    <a:pt x="5895" y="20706"/>
                    <a:pt x="8242" y="21600"/>
                    <a:pt x="10800" y="21600"/>
                  </a:cubicBezTo>
                  <a:cubicBezTo>
                    <a:pt x="13358" y="21600"/>
                    <a:pt x="15705" y="20706"/>
                    <a:pt x="17555" y="19219"/>
                  </a:cubicBezTo>
                  <a:lnTo>
                    <a:pt x="18683" y="21248"/>
                  </a:lnTo>
                  <a:cubicBezTo>
                    <a:pt x="18743" y="21450"/>
                    <a:pt x="18923" y="21600"/>
                    <a:pt x="19145" y="21600"/>
                  </a:cubicBezTo>
                  <a:cubicBezTo>
                    <a:pt x="19416" y="21600"/>
                    <a:pt x="19636" y="21380"/>
                    <a:pt x="19636" y="21109"/>
                  </a:cubicBezTo>
                  <a:cubicBezTo>
                    <a:pt x="19636" y="20974"/>
                    <a:pt x="19581" y="20851"/>
                    <a:pt x="19493" y="20762"/>
                  </a:cubicBezTo>
                  <a:cubicBezTo>
                    <a:pt x="19493" y="20762"/>
                    <a:pt x="18280" y="18579"/>
                    <a:pt x="18280" y="18579"/>
                  </a:cubicBezTo>
                  <a:close/>
                  <a:moveTo>
                    <a:pt x="10800" y="16691"/>
                  </a:moveTo>
                  <a:cubicBezTo>
                    <a:pt x="7547" y="16691"/>
                    <a:pt x="4909" y="14053"/>
                    <a:pt x="4909" y="10800"/>
                  </a:cubicBezTo>
                  <a:cubicBezTo>
                    <a:pt x="4909" y="7547"/>
                    <a:pt x="7547" y="4909"/>
                    <a:pt x="10800" y="4909"/>
                  </a:cubicBezTo>
                  <a:cubicBezTo>
                    <a:pt x="14053" y="4909"/>
                    <a:pt x="16691" y="7547"/>
                    <a:pt x="16691" y="10800"/>
                  </a:cubicBezTo>
                  <a:cubicBezTo>
                    <a:pt x="16691" y="14053"/>
                    <a:pt x="14053" y="16691"/>
                    <a:pt x="10800" y="16691"/>
                  </a:cubicBezTo>
                  <a:moveTo>
                    <a:pt x="10800" y="3927"/>
                  </a:moveTo>
                  <a:cubicBezTo>
                    <a:pt x="7004" y="3927"/>
                    <a:pt x="3927" y="7004"/>
                    <a:pt x="3927" y="10800"/>
                  </a:cubicBezTo>
                  <a:cubicBezTo>
                    <a:pt x="3927" y="14596"/>
                    <a:pt x="7004" y="17673"/>
                    <a:pt x="10800" y="17673"/>
                  </a:cubicBezTo>
                  <a:cubicBezTo>
                    <a:pt x="14596" y="17673"/>
                    <a:pt x="17673" y="14596"/>
                    <a:pt x="17673" y="10800"/>
                  </a:cubicBezTo>
                  <a:cubicBezTo>
                    <a:pt x="17673" y="7004"/>
                    <a:pt x="14596" y="3927"/>
                    <a:pt x="10800" y="3927"/>
                  </a:cubicBezTo>
                  <a:moveTo>
                    <a:pt x="10800" y="12764"/>
                  </a:moveTo>
                  <a:cubicBezTo>
                    <a:pt x="9716" y="12764"/>
                    <a:pt x="8836" y="11884"/>
                    <a:pt x="8836" y="10800"/>
                  </a:cubicBezTo>
                  <a:cubicBezTo>
                    <a:pt x="8836" y="9716"/>
                    <a:pt x="9716" y="8836"/>
                    <a:pt x="10800" y="8836"/>
                  </a:cubicBezTo>
                  <a:cubicBezTo>
                    <a:pt x="11884" y="8836"/>
                    <a:pt x="12764" y="9716"/>
                    <a:pt x="12764" y="10800"/>
                  </a:cubicBezTo>
                  <a:cubicBezTo>
                    <a:pt x="12764" y="11884"/>
                    <a:pt x="11884" y="12764"/>
                    <a:pt x="10800" y="12764"/>
                  </a:cubicBezTo>
                  <a:moveTo>
                    <a:pt x="10800" y="7855"/>
                  </a:moveTo>
                  <a:cubicBezTo>
                    <a:pt x="9173" y="7855"/>
                    <a:pt x="7855" y="9173"/>
                    <a:pt x="7855" y="10800"/>
                  </a:cubicBezTo>
                  <a:cubicBezTo>
                    <a:pt x="7855" y="12427"/>
                    <a:pt x="9173" y="13745"/>
                    <a:pt x="10800" y="13745"/>
                  </a:cubicBezTo>
                  <a:cubicBezTo>
                    <a:pt x="12427" y="13745"/>
                    <a:pt x="13745" y="12427"/>
                    <a:pt x="13745" y="10800"/>
                  </a:cubicBezTo>
                  <a:cubicBezTo>
                    <a:pt x="13745" y="9173"/>
                    <a:pt x="12427" y="7855"/>
                    <a:pt x="10800" y="785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04" name="Group 23"/>
          <p:cNvGrpSpPr/>
          <p:nvPr/>
        </p:nvGrpSpPr>
        <p:grpSpPr>
          <a:xfrm>
            <a:off x="5353200" y="4243320"/>
            <a:ext cx="1576080" cy="628560"/>
            <a:chOff x="5353200" y="4243320"/>
            <a:chExt cx="1576080" cy="628560"/>
          </a:xfrm>
        </p:grpSpPr>
        <p:sp>
          <p:nvSpPr>
            <p:cNvPr id="905" name="Rectangle 24"/>
            <p:cNvSpPr/>
            <p:nvPr/>
          </p:nvSpPr>
          <p:spPr>
            <a:xfrm>
              <a:off x="5701680" y="4243320"/>
              <a:ext cx="122760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06" name="Shape 2774"/>
            <p:cNvSpPr/>
            <p:nvPr/>
          </p:nvSpPr>
          <p:spPr>
            <a:xfrm>
              <a:off x="5353200" y="439020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2945"/>
                  </a:moveTo>
                  <a:lnTo>
                    <a:pt x="982" y="2945"/>
                  </a:lnTo>
                  <a:lnTo>
                    <a:pt x="982" y="1964"/>
                  </a:lnTo>
                  <a:lnTo>
                    <a:pt x="20618" y="1964"/>
                  </a:lnTo>
                  <a:cubicBezTo>
                    <a:pt x="20618" y="1964"/>
                    <a:pt x="20618" y="2945"/>
                    <a:pt x="20618" y="2945"/>
                  </a:cubicBezTo>
                  <a:close/>
                  <a:moveTo>
                    <a:pt x="19636" y="15709"/>
                  </a:moveTo>
                  <a:lnTo>
                    <a:pt x="1964" y="15709"/>
                  </a:lnTo>
                  <a:lnTo>
                    <a:pt x="1964" y="3927"/>
                  </a:lnTo>
                  <a:lnTo>
                    <a:pt x="19636" y="3927"/>
                  </a:lnTo>
                  <a:cubicBezTo>
                    <a:pt x="19636" y="3927"/>
                    <a:pt x="19636" y="15709"/>
                    <a:pt x="19636" y="15709"/>
                  </a:cubicBezTo>
                  <a:close/>
                  <a:moveTo>
                    <a:pt x="20618" y="982"/>
                  </a:moveTo>
                  <a:lnTo>
                    <a:pt x="11782" y="982"/>
                  </a:lnTo>
                  <a:cubicBezTo>
                    <a:pt x="11782" y="440"/>
                    <a:pt x="11342" y="0"/>
                    <a:pt x="10800" y="0"/>
                  </a:cubicBezTo>
                  <a:cubicBezTo>
                    <a:pt x="10257" y="0"/>
                    <a:pt x="9818" y="440"/>
                    <a:pt x="9818" y="982"/>
                  </a:cubicBezTo>
                  <a:lnTo>
                    <a:pt x="982" y="982"/>
                  </a:lnTo>
                  <a:cubicBezTo>
                    <a:pt x="439" y="982"/>
                    <a:pt x="0" y="1422"/>
                    <a:pt x="0" y="1964"/>
                  </a:cubicBezTo>
                  <a:lnTo>
                    <a:pt x="0" y="2945"/>
                  </a:lnTo>
                  <a:cubicBezTo>
                    <a:pt x="0" y="3488"/>
                    <a:pt x="439" y="3927"/>
                    <a:pt x="982" y="3927"/>
                  </a:cubicBezTo>
                  <a:lnTo>
                    <a:pt x="982" y="15709"/>
                  </a:lnTo>
                  <a:cubicBezTo>
                    <a:pt x="982" y="16252"/>
                    <a:pt x="1421" y="16691"/>
                    <a:pt x="1964" y="16691"/>
                  </a:cubicBezTo>
                  <a:lnTo>
                    <a:pt x="10309" y="16691"/>
                  </a:lnTo>
                  <a:lnTo>
                    <a:pt x="10309" y="17960"/>
                  </a:lnTo>
                  <a:lnTo>
                    <a:pt x="7507" y="20762"/>
                  </a:lnTo>
                  <a:cubicBezTo>
                    <a:pt x="7419" y="20851"/>
                    <a:pt x="7364" y="20974"/>
                    <a:pt x="7364" y="21109"/>
                  </a:cubicBezTo>
                  <a:cubicBezTo>
                    <a:pt x="7364" y="21380"/>
                    <a:pt x="7583" y="21600"/>
                    <a:pt x="7855" y="21600"/>
                  </a:cubicBezTo>
                  <a:cubicBezTo>
                    <a:pt x="7990" y="21600"/>
                    <a:pt x="8113" y="21545"/>
                    <a:pt x="8202" y="21456"/>
                  </a:cubicBezTo>
                  <a:lnTo>
                    <a:pt x="10800" y="18858"/>
                  </a:lnTo>
                  <a:lnTo>
                    <a:pt x="13398" y="21456"/>
                  </a:lnTo>
                  <a:cubicBezTo>
                    <a:pt x="13488" y="21545"/>
                    <a:pt x="13610" y="21600"/>
                    <a:pt x="13745" y="21600"/>
                  </a:cubicBezTo>
                  <a:cubicBezTo>
                    <a:pt x="14017" y="21600"/>
                    <a:pt x="14236" y="21380"/>
                    <a:pt x="14236" y="21109"/>
                  </a:cubicBezTo>
                  <a:cubicBezTo>
                    <a:pt x="14236" y="20974"/>
                    <a:pt x="14182" y="20851"/>
                    <a:pt x="14093" y="20762"/>
                  </a:cubicBezTo>
                  <a:lnTo>
                    <a:pt x="11291" y="17960"/>
                  </a:lnTo>
                  <a:lnTo>
                    <a:pt x="11291" y="16691"/>
                  </a:lnTo>
                  <a:lnTo>
                    <a:pt x="19636" y="16691"/>
                  </a:lnTo>
                  <a:cubicBezTo>
                    <a:pt x="20178" y="16691"/>
                    <a:pt x="20618" y="16252"/>
                    <a:pt x="20618" y="15709"/>
                  </a:cubicBezTo>
                  <a:lnTo>
                    <a:pt x="20618" y="3927"/>
                  </a:lnTo>
                  <a:cubicBezTo>
                    <a:pt x="21160" y="3927"/>
                    <a:pt x="21600" y="3488"/>
                    <a:pt x="21600" y="2945"/>
                  </a:cubicBezTo>
                  <a:lnTo>
                    <a:pt x="21600" y="1964"/>
                  </a:lnTo>
                  <a:cubicBezTo>
                    <a:pt x="21600" y="1422"/>
                    <a:pt x="21160" y="982"/>
                    <a:pt x="20618" y="982"/>
                  </a:cubicBezTo>
                  <a:moveTo>
                    <a:pt x="16200" y="5891"/>
                  </a:moveTo>
                  <a:cubicBezTo>
                    <a:pt x="16471" y="5891"/>
                    <a:pt x="16691" y="6111"/>
                    <a:pt x="16691" y="6382"/>
                  </a:cubicBezTo>
                  <a:cubicBezTo>
                    <a:pt x="16691" y="6653"/>
                    <a:pt x="16471" y="6873"/>
                    <a:pt x="16200" y="6873"/>
                  </a:cubicBezTo>
                  <a:cubicBezTo>
                    <a:pt x="15929" y="6873"/>
                    <a:pt x="15709" y="6653"/>
                    <a:pt x="15709" y="6382"/>
                  </a:cubicBezTo>
                  <a:cubicBezTo>
                    <a:pt x="15709" y="6111"/>
                    <a:pt x="15929" y="5891"/>
                    <a:pt x="16200" y="5891"/>
                  </a:cubicBezTo>
                  <a:moveTo>
                    <a:pt x="16200" y="7855"/>
                  </a:moveTo>
                  <a:cubicBezTo>
                    <a:pt x="17013" y="7855"/>
                    <a:pt x="17673" y="7196"/>
                    <a:pt x="17673" y="6382"/>
                  </a:cubicBezTo>
                  <a:cubicBezTo>
                    <a:pt x="17673" y="5569"/>
                    <a:pt x="17013" y="4909"/>
                    <a:pt x="16200" y="4909"/>
                  </a:cubicBezTo>
                  <a:cubicBezTo>
                    <a:pt x="15387" y="4909"/>
                    <a:pt x="14727" y="5569"/>
                    <a:pt x="14727" y="6382"/>
                  </a:cubicBezTo>
                  <a:cubicBezTo>
                    <a:pt x="14727" y="7196"/>
                    <a:pt x="15387" y="7855"/>
                    <a:pt x="16200" y="7855"/>
                  </a:cubicBezTo>
                  <a:moveTo>
                    <a:pt x="8422" y="8135"/>
                  </a:moveTo>
                  <a:lnTo>
                    <a:pt x="11926" y="11638"/>
                  </a:lnTo>
                  <a:cubicBezTo>
                    <a:pt x="12015" y="11727"/>
                    <a:pt x="12138" y="11782"/>
                    <a:pt x="12273" y="11782"/>
                  </a:cubicBezTo>
                  <a:cubicBezTo>
                    <a:pt x="12408" y="11782"/>
                    <a:pt x="12531" y="11727"/>
                    <a:pt x="12620" y="11638"/>
                  </a:cubicBezTo>
                  <a:lnTo>
                    <a:pt x="14183" y="10075"/>
                  </a:lnTo>
                  <a:lnTo>
                    <a:pt x="16200" y="12764"/>
                  </a:lnTo>
                  <a:lnTo>
                    <a:pt x="5336" y="12764"/>
                  </a:lnTo>
                  <a:cubicBezTo>
                    <a:pt x="5336" y="12764"/>
                    <a:pt x="8422" y="8135"/>
                    <a:pt x="8422" y="8135"/>
                  </a:cubicBezTo>
                  <a:close/>
                  <a:moveTo>
                    <a:pt x="4418" y="13745"/>
                  </a:moveTo>
                  <a:lnTo>
                    <a:pt x="17182" y="13745"/>
                  </a:lnTo>
                  <a:cubicBezTo>
                    <a:pt x="17453" y="13745"/>
                    <a:pt x="17673" y="13526"/>
                    <a:pt x="17673" y="13255"/>
                  </a:cubicBezTo>
                  <a:cubicBezTo>
                    <a:pt x="17673" y="13144"/>
                    <a:pt x="17630" y="13047"/>
                    <a:pt x="17568" y="12965"/>
                  </a:cubicBezTo>
                  <a:lnTo>
                    <a:pt x="17575" y="12960"/>
                  </a:lnTo>
                  <a:lnTo>
                    <a:pt x="14629" y="9033"/>
                  </a:lnTo>
                  <a:lnTo>
                    <a:pt x="14622" y="9038"/>
                  </a:lnTo>
                  <a:cubicBezTo>
                    <a:pt x="14533" y="8919"/>
                    <a:pt x="14397" y="8836"/>
                    <a:pt x="14236" y="8836"/>
                  </a:cubicBezTo>
                  <a:cubicBezTo>
                    <a:pt x="14101" y="8836"/>
                    <a:pt x="13978" y="8891"/>
                    <a:pt x="13889" y="8980"/>
                  </a:cubicBezTo>
                  <a:lnTo>
                    <a:pt x="12273" y="10597"/>
                  </a:lnTo>
                  <a:lnTo>
                    <a:pt x="8693" y="7017"/>
                  </a:lnTo>
                  <a:cubicBezTo>
                    <a:pt x="8604" y="6928"/>
                    <a:pt x="8481" y="6873"/>
                    <a:pt x="8345" y="6873"/>
                  </a:cubicBezTo>
                  <a:cubicBezTo>
                    <a:pt x="8175" y="6873"/>
                    <a:pt x="8033" y="6965"/>
                    <a:pt x="7945" y="7097"/>
                  </a:cubicBezTo>
                  <a:lnTo>
                    <a:pt x="7937" y="7091"/>
                  </a:lnTo>
                  <a:lnTo>
                    <a:pt x="4010" y="12982"/>
                  </a:lnTo>
                  <a:lnTo>
                    <a:pt x="4017" y="12988"/>
                  </a:lnTo>
                  <a:cubicBezTo>
                    <a:pt x="3965" y="13066"/>
                    <a:pt x="3927" y="13154"/>
                    <a:pt x="3927" y="13255"/>
                  </a:cubicBezTo>
                  <a:cubicBezTo>
                    <a:pt x="3927" y="13526"/>
                    <a:pt x="4147" y="13745"/>
                    <a:pt x="4418" y="13745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07" name="Group 26"/>
          <p:cNvGrpSpPr/>
          <p:nvPr/>
        </p:nvGrpSpPr>
        <p:grpSpPr>
          <a:xfrm>
            <a:off x="7164360" y="2736720"/>
            <a:ext cx="1576440" cy="628560"/>
            <a:chOff x="7164360" y="2736720"/>
            <a:chExt cx="1576440" cy="628560"/>
          </a:xfrm>
        </p:grpSpPr>
        <p:sp>
          <p:nvSpPr>
            <p:cNvPr id="908" name="Rectangle 27"/>
            <p:cNvSpPr/>
            <p:nvPr/>
          </p:nvSpPr>
          <p:spPr>
            <a:xfrm>
              <a:off x="7512120" y="2736720"/>
              <a:ext cx="12286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9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09" name="Shape 2784"/>
            <p:cNvSpPr/>
            <p:nvPr/>
          </p:nvSpPr>
          <p:spPr>
            <a:xfrm>
              <a:off x="7164360" y="288900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53" y="11229"/>
                  </a:moveTo>
                  <a:lnTo>
                    <a:pt x="20356" y="11234"/>
                  </a:lnTo>
                  <a:lnTo>
                    <a:pt x="11029" y="16143"/>
                  </a:lnTo>
                  <a:lnTo>
                    <a:pt x="11026" y="16138"/>
                  </a:lnTo>
                  <a:cubicBezTo>
                    <a:pt x="10957" y="16174"/>
                    <a:pt x="10883" y="16200"/>
                    <a:pt x="10800" y="16200"/>
                  </a:cubicBezTo>
                  <a:cubicBezTo>
                    <a:pt x="10717" y="16200"/>
                    <a:pt x="10643" y="16174"/>
                    <a:pt x="10574" y="16138"/>
                  </a:cubicBezTo>
                  <a:lnTo>
                    <a:pt x="10571" y="16143"/>
                  </a:lnTo>
                  <a:lnTo>
                    <a:pt x="1244" y="11234"/>
                  </a:lnTo>
                  <a:lnTo>
                    <a:pt x="1247" y="11229"/>
                  </a:lnTo>
                  <a:cubicBezTo>
                    <a:pt x="1091" y="11147"/>
                    <a:pt x="982" y="10988"/>
                    <a:pt x="982" y="10800"/>
                  </a:cubicBezTo>
                  <a:cubicBezTo>
                    <a:pt x="982" y="10612"/>
                    <a:pt x="1091" y="10453"/>
                    <a:pt x="1247" y="10371"/>
                  </a:cubicBezTo>
                  <a:lnTo>
                    <a:pt x="1244" y="10366"/>
                  </a:lnTo>
                  <a:lnTo>
                    <a:pt x="3562" y="9146"/>
                  </a:lnTo>
                  <a:lnTo>
                    <a:pt x="10113" y="12594"/>
                  </a:lnTo>
                  <a:lnTo>
                    <a:pt x="10117" y="12588"/>
                  </a:lnTo>
                  <a:cubicBezTo>
                    <a:pt x="10322" y="12697"/>
                    <a:pt x="10552" y="12764"/>
                    <a:pt x="10800" y="12764"/>
                  </a:cubicBezTo>
                  <a:cubicBezTo>
                    <a:pt x="11048" y="12764"/>
                    <a:pt x="11278" y="12697"/>
                    <a:pt x="11483" y="12588"/>
                  </a:cubicBezTo>
                  <a:lnTo>
                    <a:pt x="11486" y="12594"/>
                  </a:lnTo>
                  <a:lnTo>
                    <a:pt x="18038" y="9146"/>
                  </a:lnTo>
                  <a:lnTo>
                    <a:pt x="20356" y="10366"/>
                  </a:lnTo>
                  <a:lnTo>
                    <a:pt x="20353" y="10371"/>
                  </a:lnTo>
                  <a:cubicBezTo>
                    <a:pt x="20509" y="10453"/>
                    <a:pt x="20618" y="10612"/>
                    <a:pt x="20618" y="10800"/>
                  </a:cubicBezTo>
                  <a:cubicBezTo>
                    <a:pt x="20618" y="10988"/>
                    <a:pt x="20509" y="11147"/>
                    <a:pt x="20353" y="11229"/>
                  </a:cubicBezTo>
                  <a:moveTo>
                    <a:pt x="20356" y="14784"/>
                  </a:moveTo>
                  <a:lnTo>
                    <a:pt x="20353" y="14790"/>
                  </a:lnTo>
                  <a:cubicBezTo>
                    <a:pt x="20509" y="14872"/>
                    <a:pt x="20618" y="15030"/>
                    <a:pt x="20618" y="15218"/>
                  </a:cubicBezTo>
                  <a:cubicBezTo>
                    <a:pt x="20618" y="15407"/>
                    <a:pt x="20509" y="15565"/>
                    <a:pt x="20353" y="15647"/>
                  </a:cubicBezTo>
                  <a:lnTo>
                    <a:pt x="20356" y="15653"/>
                  </a:lnTo>
                  <a:lnTo>
                    <a:pt x="11029" y="20562"/>
                  </a:lnTo>
                  <a:lnTo>
                    <a:pt x="11026" y="20556"/>
                  </a:lnTo>
                  <a:cubicBezTo>
                    <a:pt x="10957" y="20592"/>
                    <a:pt x="10883" y="20618"/>
                    <a:pt x="10800" y="20618"/>
                  </a:cubicBezTo>
                  <a:cubicBezTo>
                    <a:pt x="10717" y="20618"/>
                    <a:pt x="10643" y="20592"/>
                    <a:pt x="10574" y="20556"/>
                  </a:cubicBezTo>
                  <a:lnTo>
                    <a:pt x="10571" y="20562"/>
                  </a:lnTo>
                  <a:lnTo>
                    <a:pt x="1244" y="15653"/>
                  </a:lnTo>
                  <a:lnTo>
                    <a:pt x="1247" y="15647"/>
                  </a:lnTo>
                  <a:cubicBezTo>
                    <a:pt x="1091" y="15565"/>
                    <a:pt x="982" y="15407"/>
                    <a:pt x="982" y="15218"/>
                  </a:cubicBezTo>
                  <a:cubicBezTo>
                    <a:pt x="982" y="15030"/>
                    <a:pt x="1091" y="14872"/>
                    <a:pt x="1247" y="14790"/>
                  </a:cubicBezTo>
                  <a:lnTo>
                    <a:pt x="1244" y="14784"/>
                  </a:lnTo>
                  <a:lnTo>
                    <a:pt x="3562" y="13564"/>
                  </a:lnTo>
                  <a:lnTo>
                    <a:pt x="10113" y="17012"/>
                  </a:lnTo>
                  <a:lnTo>
                    <a:pt x="10117" y="17006"/>
                  </a:lnTo>
                  <a:cubicBezTo>
                    <a:pt x="10322" y="17115"/>
                    <a:pt x="10552" y="17182"/>
                    <a:pt x="10800" y="17182"/>
                  </a:cubicBezTo>
                  <a:cubicBezTo>
                    <a:pt x="11048" y="17182"/>
                    <a:pt x="11278" y="17115"/>
                    <a:pt x="11483" y="17006"/>
                  </a:cubicBezTo>
                  <a:lnTo>
                    <a:pt x="11486" y="17012"/>
                  </a:lnTo>
                  <a:lnTo>
                    <a:pt x="18038" y="13564"/>
                  </a:lnTo>
                  <a:cubicBezTo>
                    <a:pt x="18038" y="13564"/>
                    <a:pt x="20356" y="14784"/>
                    <a:pt x="20356" y="14784"/>
                  </a:cubicBezTo>
                  <a:close/>
                  <a:moveTo>
                    <a:pt x="1244" y="6816"/>
                  </a:moveTo>
                  <a:lnTo>
                    <a:pt x="1247" y="6811"/>
                  </a:lnTo>
                  <a:cubicBezTo>
                    <a:pt x="1091" y="6728"/>
                    <a:pt x="982" y="6570"/>
                    <a:pt x="982" y="6382"/>
                  </a:cubicBezTo>
                  <a:cubicBezTo>
                    <a:pt x="982" y="6194"/>
                    <a:pt x="1091" y="6035"/>
                    <a:pt x="1247" y="5953"/>
                  </a:cubicBezTo>
                  <a:lnTo>
                    <a:pt x="1244" y="5947"/>
                  </a:lnTo>
                  <a:lnTo>
                    <a:pt x="10571" y="1038"/>
                  </a:lnTo>
                  <a:lnTo>
                    <a:pt x="10574" y="1044"/>
                  </a:lnTo>
                  <a:cubicBezTo>
                    <a:pt x="10643" y="1008"/>
                    <a:pt x="10717" y="982"/>
                    <a:pt x="10800" y="982"/>
                  </a:cubicBezTo>
                  <a:cubicBezTo>
                    <a:pt x="10883" y="982"/>
                    <a:pt x="10957" y="1008"/>
                    <a:pt x="11026" y="1044"/>
                  </a:cubicBezTo>
                  <a:lnTo>
                    <a:pt x="11029" y="1038"/>
                  </a:lnTo>
                  <a:lnTo>
                    <a:pt x="20356" y="5947"/>
                  </a:lnTo>
                  <a:lnTo>
                    <a:pt x="20353" y="5953"/>
                  </a:lnTo>
                  <a:cubicBezTo>
                    <a:pt x="20509" y="6035"/>
                    <a:pt x="20618" y="6194"/>
                    <a:pt x="20618" y="6382"/>
                  </a:cubicBezTo>
                  <a:cubicBezTo>
                    <a:pt x="20618" y="6570"/>
                    <a:pt x="20509" y="6728"/>
                    <a:pt x="20353" y="6811"/>
                  </a:cubicBezTo>
                  <a:lnTo>
                    <a:pt x="20356" y="6816"/>
                  </a:lnTo>
                  <a:lnTo>
                    <a:pt x="11029" y="11725"/>
                  </a:lnTo>
                  <a:lnTo>
                    <a:pt x="11026" y="11720"/>
                  </a:lnTo>
                  <a:cubicBezTo>
                    <a:pt x="10957" y="11756"/>
                    <a:pt x="10883" y="11782"/>
                    <a:pt x="10800" y="11782"/>
                  </a:cubicBezTo>
                  <a:cubicBezTo>
                    <a:pt x="10717" y="11782"/>
                    <a:pt x="10643" y="11756"/>
                    <a:pt x="10574" y="11720"/>
                  </a:cubicBezTo>
                  <a:lnTo>
                    <a:pt x="10571" y="11725"/>
                  </a:lnTo>
                  <a:cubicBezTo>
                    <a:pt x="10571" y="11725"/>
                    <a:pt x="1244" y="6816"/>
                    <a:pt x="1244" y="6816"/>
                  </a:cubicBezTo>
                  <a:close/>
                  <a:moveTo>
                    <a:pt x="21600" y="10800"/>
                  </a:moveTo>
                  <a:cubicBezTo>
                    <a:pt x="21600" y="10234"/>
                    <a:pt x="21278" y="9749"/>
                    <a:pt x="20810" y="9503"/>
                  </a:cubicBezTo>
                  <a:lnTo>
                    <a:pt x="20813" y="9497"/>
                  </a:lnTo>
                  <a:lnTo>
                    <a:pt x="19092" y="8591"/>
                  </a:lnTo>
                  <a:lnTo>
                    <a:pt x="20813" y="7685"/>
                  </a:lnTo>
                  <a:lnTo>
                    <a:pt x="20810" y="7679"/>
                  </a:lnTo>
                  <a:cubicBezTo>
                    <a:pt x="21278" y="7433"/>
                    <a:pt x="21600" y="6948"/>
                    <a:pt x="21600" y="6382"/>
                  </a:cubicBezTo>
                  <a:cubicBezTo>
                    <a:pt x="21600" y="5816"/>
                    <a:pt x="21278" y="5331"/>
                    <a:pt x="20810" y="5085"/>
                  </a:cubicBezTo>
                  <a:lnTo>
                    <a:pt x="20813" y="5079"/>
                  </a:lnTo>
                  <a:lnTo>
                    <a:pt x="11486" y="170"/>
                  </a:lnTo>
                  <a:lnTo>
                    <a:pt x="11483" y="175"/>
                  </a:lnTo>
                  <a:cubicBezTo>
                    <a:pt x="11278" y="67"/>
                    <a:pt x="11048" y="0"/>
                    <a:pt x="10800" y="0"/>
                  </a:cubicBezTo>
                  <a:cubicBezTo>
                    <a:pt x="10552" y="0"/>
                    <a:pt x="10322" y="67"/>
                    <a:pt x="10117" y="175"/>
                  </a:cubicBezTo>
                  <a:lnTo>
                    <a:pt x="10113" y="170"/>
                  </a:lnTo>
                  <a:lnTo>
                    <a:pt x="786" y="5079"/>
                  </a:lnTo>
                  <a:lnTo>
                    <a:pt x="790" y="5085"/>
                  </a:lnTo>
                  <a:cubicBezTo>
                    <a:pt x="322" y="5331"/>
                    <a:pt x="0" y="5816"/>
                    <a:pt x="0" y="6382"/>
                  </a:cubicBezTo>
                  <a:cubicBezTo>
                    <a:pt x="0" y="6948"/>
                    <a:pt x="322" y="7433"/>
                    <a:pt x="790" y="7679"/>
                  </a:cubicBezTo>
                  <a:lnTo>
                    <a:pt x="786" y="7685"/>
                  </a:lnTo>
                  <a:lnTo>
                    <a:pt x="2508" y="8591"/>
                  </a:lnTo>
                  <a:lnTo>
                    <a:pt x="786" y="9497"/>
                  </a:lnTo>
                  <a:lnTo>
                    <a:pt x="790" y="9503"/>
                  </a:lnTo>
                  <a:cubicBezTo>
                    <a:pt x="322" y="9749"/>
                    <a:pt x="0" y="10234"/>
                    <a:pt x="0" y="10800"/>
                  </a:cubicBezTo>
                  <a:cubicBezTo>
                    <a:pt x="0" y="11366"/>
                    <a:pt x="322" y="11851"/>
                    <a:pt x="790" y="12097"/>
                  </a:cubicBezTo>
                  <a:lnTo>
                    <a:pt x="786" y="12103"/>
                  </a:lnTo>
                  <a:lnTo>
                    <a:pt x="2508" y="13009"/>
                  </a:lnTo>
                  <a:lnTo>
                    <a:pt x="786" y="13915"/>
                  </a:lnTo>
                  <a:lnTo>
                    <a:pt x="790" y="13921"/>
                  </a:lnTo>
                  <a:cubicBezTo>
                    <a:pt x="322" y="14167"/>
                    <a:pt x="0" y="14652"/>
                    <a:pt x="0" y="15218"/>
                  </a:cubicBezTo>
                  <a:cubicBezTo>
                    <a:pt x="0" y="15784"/>
                    <a:pt x="322" y="16269"/>
                    <a:pt x="790" y="16515"/>
                  </a:cubicBezTo>
                  <a:lnTo>
                    <a:pt x="786" y="16521"/>
                  </a:lnTo>
                  <a:lnTo>
                    <a:pt x="10113" y="21430"/>
                  </a:lnTo>
                  <a:lnTo>
                    <a:pt x="10117" y="21425"/>
                  </a:lnTo>
                  <a:cubicBezTo>
                    <a:pt x="10322" y="21533"/>
                    <a:pt x="10552" y="21600"/>
                    <a:pt x="10800" y="21600"/>
                  </a:cubicBezTo>
                  <a:cubicBezTo>
                    <a:pt x="11048" y="21600"/>
                    <a:pt x="11278" y="21533"/>
                    <a:pt x="11483" y="21425"/>
                  </a:cubicBezTo>
                  <a:lnTo>
                    <a:pt x="11486" y="21430"/>
                  </a:lnTo>
                  <a:lnTo>
                    <a:pt x="20813" y="16521"/>
                  </a:lnTo>
                  <a:lnTo>
                    <a:pt x="20810" y="16515"/>
                  </a:lnTo>
                  <a:cubicBezTo>
                    <a:pt x="21278" y="16269"/>
                    <a:pt x="21600" y="15784"/>
                    <a:pt x="21600" y="15218"/>
                  </a:cubicBezTo>
                  <a:cubicBezTo>
                    <a:pt x="21600" y="14652"/>
                    <a:pt x="21278" y="14167"/>
                    <a:pt x="20810" y="13921"/>
                  </a:cubicBezTo>
                  <a:lnTo>
                    <a:pt x="20813" y="13915"/>
                  </a:lnTo>
                  <a:lnTo>
                    <a:pt x="19092" y="13009"/>
                  </a:lnTo>
                  <a:lnTo>
                    <a:pt x="20813" y="12103"/>
                  </a:lnTo>
                  <a:lnTo>
                    <a:pt x="20810" y="12097"/>
                  </a:lnTo>
                  <a:cubicBezTo>
                    <a:pt x="21278" y="11851"/>
                    <a:pt x="21600" y="11366"/>
                    <a:pt x="21600" y="10800"/>
                  </a:cubicBezTo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50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TextBox 1"/>
          <p:cNvSpPr/>
          <p:nvPr/>
        </p:nvSpPr>
        <p:spPr>
          <a:xfrm>
            <a:off x="3543840" y="538200"/>
            <a:ext cx="511992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Smart Business Path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11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26a69a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912" name="Group 3"/>
          <p:cNvGrpSpPr/>
          <p:nvPr/>
        </p:nvGrpSpPr>
        <p:grpSpPr>
          <a:xfrm>
            <a:off x="2513160" y="2107800"/>
            <a:ext cx="261720" cy="1166760"/>
            <a:chOff x="2513160" y="2107800"/>
            <a:chExt cx="261720" cy="1166760"/>
          </a:xfrm>
        </p:grpSpPr>
        <p:sp>
          <p:nvSpPr>
            <p:cNvPr id="913" name="Straight Connector 4"/>
            <p:cNvSpPr/>
            <p:nvPr/>
          </p:nvSpPr>
          <p:spPr>
            <a:xfrm flipV="1">
              <a:off x="2513160" y="2107800"/>
              <a:ext cx="0" cy="116676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14" name="Straight Connector 5"/>
            <p:cNvSpPr/>
            <p:nvPr/>
          </p:nvSpPr>
          <p:spPr>
            <a:xfrm>
              <a:off x="2513160" y="2108160"/>
              <a:ext cx="26172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15" name="Group 6"/>
          <p:cNvGrpSpPr/>
          <p:nvPr/>
        </p:nvGrpSpPr>
        <p:grpSpPr>
          <a:xfrm>
            <a:off x="7921800" y="2377800"/>
            <a:ext cx="261720" cy="1700280"/>
            <a:chOff x="7921800" y="2377800"/>
            <a:chExt cx="261720" cy="1700280"/>
          </a:xfrm>
        </p:grpSpPr>
        <p:sp>
          <p:nvSpPr>
            <p:cNvPr id="916" name="Straight Connector 7"/>
            <p:cNvSpPr/>
            <p:nvPr/>
          </p:nvSpPr>
          <p:spPr>
            <a:xfrm flipV="1">
              <a:off x="7921800" y="2377800"/>
              <a:ext cx="0" cy="170028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17" name="Straight Connector 8"/>
            <p:cNvSpPr/>
            <p:nvPr/>
          </p:nvSpPr>
          <p:spPr>
            <a:xfrm>
              <a:off x="7921800" y="2378160"/>
              <a:ext cx="26172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18" name="Group 9"/>
          <p:cNvGrpSpPr/>
          <p:nvPr/>
        </p:nvGrpSpPr>
        <p:grpSpPr>
          <a:xfrm>
            <a:off x="9834480" y="1698480"/>
            <a:ext cx="262080" cy="1508400"/>
            <a:chOff x="9834480" y="1698480"/>
            <a:chExt cx="262080" cy="1508400"/>
          </a:xfrm>
        </p:grpSpPr>
        <p:sp>
          <p:nvSpPr>
            <p:cNvPr id="919" name="Straight Connector 10"/>
            <p:cNvSpPr/>
            <p:nvPr/>
          </p:nvSpPr>
          <p:spPr>
            <a:xfrm flipV="1">
              <a:off x="9834480" y="1698480"/>
              <a:ext cx="0" cy="150840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20" name="Straight Connector 11"/>
            <p:cNvSpPr/>
            <p:nvPr/>
          </p:nvSpPr>
          <p:spPr>
            <a:xfrm>
              <a:off x="9834480" y="1698480"/>
              <a:ext cx="26208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21" name="Group 12"/>
          <p:cNvGrpSpPr/>
          <p:nvPr/>
        </p:nvGrpSpPr>
        <p:grpSpPr>
          <a:xfrm>
            <a:off x="336600" y="2933640"/>
            <a:ext cx="261720" cy="1166760"/>
            <a:chOff x="336600" y="2933640"/>
            <a:chExt cx="261720" cy="1166760"/>
          </a:xfrm>
        </p:grpSpPr>
        <p:sp>
          <p:nvSpPr>
            <p:cNvPr id="922" name="Straight Connector 13"/>
            <p:cNvSpPr/>
            <p:nvPr/>
          </p:nvSpPr>
          <p:spPr>
            <a:xfrm>
              <a:off x="336600" y="2933640"/>
              <a:ext cx="0" cy="116676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23" name="Straight Connector 14"/>
            <p:cNvSpPr/>
            <p:nvPr/>
          </p:nvSpPr>
          <p:spPr>
            <a:xfrm>
              <a:off x="336600" y="4100040"/>
              <a:ext cx="26172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24" name="Group 15"/>
          <p:cNvGrpSpPr/>
          <p:nvPr/>
        </p:nvGrpSpPr>
        <p:grpSpPr>
          <a:xfrm>
            <a:off x="5962680" y="3589200"/>
            <a:ext cx="260280" cy="1167120"/>
            <a:chOff x="5962680" y="3589200"/>
            <a:chExt cx="260280" cy="1167120"/>
          </a:xfrm>
        </p:grpSpPr>
        <p:sp>
          <p:nvSpPr>
            <p:cNvPr id="925" name="Straight Connector 16"/>
            <p:cNvSpPr/>
            <p:nvPr/>
          </p:nvSpPr>
          <p:spPr>
            <a:xfrm flipV="1">
              <a:off x="5962680" y="3589200"/>
              <a:ext cx="0" cy="116712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26" name="Straight Connector 17"/>
            <p:cNvSpPr/>
            <p:nvPr/>
          </p:nvSpPr>
          <p:spPr>
            <a:xfrm>
              <a:off x="5962680" y="3589200"/>
              <a:ext cx="26028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27" name="Group 18"/>
          <p:cNvGrpSpPr/>
          <p:nvPr/>
        </p:nvGrpSpPr>
        <p:grpSpPr>
          <a:xfrm>
            <a:off x="11326320" y="2906640"/>
            <a:ext cx="352440" cy="1569960"/>
            <a:chOff x="11326320" y="2906640"/>
            <a:chExt cx="352440" cy="1569960"/>
          </a:xfrm>
        </p:grpSpPr>
        <p:sp>
          <p:nvSpPr>
            <p:cNvPr id="928" name="Straight Connector 19"/>
            <p:cNvSpPr/>
            <p:nvPr/>
          </p:nvSpPr>
          <p:spPr>
            <a:xfrm>
              <a:off x="11678760" y="2906640"/>
              <a:ext cx="0" cy="156996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29" name="Straight Connector 20"/>
            <p:cNvSpPr/>
            <p:nvPr/>
          </p:nvSpPr>
          <p:spPr>
            <a:xfrm flipH="1">
              <a:off x="11326320" y="4476240"/>
              <a:ext cx="35244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30" name="Group 21"/>
          <p:cNvGrpSpPr/>
          <p:nvPr/>
        </p:nvGrpSpPr>
        <p:grpSpPr>
          <a:xfrm>
            <a:off x="4386240" y="2533320"/>
            <a:ext cx="262080" cy="1446120"/>
            <a:chOff x="4386240" y="2533320"/>
            <a:chExt cx="262080" cy="1446120"/>
          </a:xfrm>
        </p:grpSpPr>
        <p:sp>
          <p:nvSpPr>
            <p:cNvPr id="931" name="Straight Connector 22"/>
            <p:cNvSpPr/>
            <p:nvPr/>
          </p:nvSpPr>
          <p:spPr>
            <a:xfrm flipV="1">
              <a:off x="4386240" y="2533320"/>
              <a:ext cx="0" cy="144612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32" name="Straight Connector 23"/>
            <p:cNvSpPr/>
            <p:nvPr/>
          </p:nvSpPr>
          <p:spPr>
            <a:xfrm>
              <a:off x="4386240" y="2533680"/>
              <a:ext cx="262080" cy="0"/>
            </a:xfrm>
            <a:prstGeom prst="line">
              <a:avLst/>
            </a:prstGeom>
            <a:ln w="6480">
              <a:solidFill>
                <a:srgbClr val="e0e2e5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933" name="Rectangle 24"/>
          <p:cNvSpPr/>
          <p:nvPr/>
        </p:nvSpPr>
        <p:spPr>
          <a:xfrm>
            <a:off x="220680" y="4232160"/>
            <a:ext cx="21016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4" name="Rectangle 25"/>
          <p:cNvSpPr/>
          <p:nvPr/>
        </p:nvSpPr>
        <p:spPr>
          <a:xfrm>
            <a:off x="2854440" y="1817640"/>
            <a:ext cx="21016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5" name="Rectangle 26"/>
          <p:cNvSpPr/>
          <p:nvPr/>
        </p:nvSpPr>
        <p:spPr>
          <a:xfrm>
            <a:off x="4727520" y="2239920"/>
            <a:ext cx="21020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6" name="Rectangle 27"/>
          <p:cNvSpPr/>
          <p:nvPr/>
        </p:nvSpPr>
        <p:spPr>
          <a:xfrm>
            <a:off x="6275520" y="3305160"/>
            <a:ext cx="1747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7" name="Rectangle 28"/>
          <p:cNvSpPr/>
          <p:nvPr/>
        </p:nvSpPr>
        <p:spPr>
          <a:xfrm>
            <a:off x="8285040" y="2112840"/>
            <a:ext cx="140652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8" name="Rectangle 29"/>
          <p:cNvSpPr/>
          <p:nvPr/>
        </p:nvSpPr>
        <p:spPr>
          <a:xfrm>
            <a:off x="10190160" y="1438200"/>
            <a:ext cx="19605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39" name="Rectangle 30"/>
          <p:cNvSpPr/>
          <p:nvPr/>
        </p:nvSpPr>
        <p:spPr>
          <a:xfrm>
            <a:off x="9317160" y="4203720"/>
            <a:ext cx="1962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56d78"/>
                </a:solidFill>
                <a:latin typeface="Source Sans Pro Light"/>
              </a:rPr>
              <a:t>Synth chartreuse XOXO, tacos brooklyn VHS plaid.</a:t>
            </a:r>
            <a:endParaRPr b="0" lang="en-US" sz="10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940" name="Group 31"/>
          <p:cNvGrpSpPr/>
          <p:nvPr/>
        </p:nvGrpSpPr>
        <p:grpSpPr>
          <a:xfrm>
            <a:off x="-6840" y="2197080"/>
            <a:ext cx="2056320" cy="851040"/>
            <a:chOff x="-6840" y="2197080"/>
            <a:chExt cx="2056320" cy="851040"/>
          </a:xfrm>
        </p:grpSpPr>
        <p:grpSp>
          <p:nvGrpSpPr>
            <p:cNvPr id="941" name="Group 32"/>
            <p:cNvGrpSpPr/>
            <p:nvPr/>
          </p:nvGrpSpPr>
          <p:grpSpPr>
            <a:xfrm>
              <a:off x="-6840" y="2197080"/>
              <a:ext cx="2056320" cy="851040"/>
              <a:chOff x="-6840" y="2197080"/>
              <a:chExt cx="2056320" cy="851040"/>
            </a:xfrm>
          </p:grpSpPr>
          <p:sp>
            <p:nvSpPr>
              <p:cNvPr id="942" name="Round Single Corner Rectangle 34"/>
              <p:cNvSpPr/>
              <p:nvPr/>
            </p:nvSpPr>
            <p:spPr>
              <a:xfrm>
                <a:off x="1135440" y="2197080"/>
                <a:ext cx="914040" cy="8510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43" name="Rectangle 35"/>
              <p:cNvSpPr/>
              <p:nvPr/>
            </p:nvSpPr>
            <p:spPr>
              <a:xfrm flipH="1">
                <a:off x="-6840" y="2197080"/>
                <a:ext cx="1141920" cy="851040"/>
              </a:xfrm>
              <a:prstGeom prst="rect">
                <a:avLst/>
              </a:prstGeom>
              <a:solidFill>
                <a:srgbClr val="00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44" name="Shape 2543"/>
            <p:cNvSpPr/>
            <p:nvPr/>
          </p:nvSpPr>
          <p:spPr>
            <a:xfrm>
              <a:off x="391680" y="248256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709" y="18655"/>
                  </a:moveTo>
                  <a:lnTo>
                    <a:pt x="14727" y="18655"/>
                  </a:lnTo>
                  <a:lnTo>
                    <a:pt x="14727" y="19636"/>
                  </a:lnTo>
                  <a:lnTo>
                    <a:pt x="15709" y="19636"/>
                  </a:lnTo>
                  <a:cubicBezTo>
                    <a:pt x="15709" y="19636"/>
                    <a:pt x="15709" y="18655"/>
                    <a:pt x="15709" y="18655"/>
                  </a:cubicBezTo>
                  <a:close/>
                  <a:moveTo>
                    <a:pt x="15709" y="14727"/>
                  </a:moveTo>
                  <a:lnTo>
                    <a:pt x="14727" y="14727"/>
                  </a:lnTo>
                  <a:lnTo>
                    <a:pt x="14727" y="15709"/>
                  </a:lnTo>
                  <a:lnTo>
                    <a:pt x="15709" y="15709"/>
                  </a:lnTo>
                  <a:cubicBezTo>
                    <a:pt x="15709" y="15709"/>
                    <a:pt x="15709" y="14727"/>
                    <a:pt x="15709" y="14727"/>
                  </a:cubicBezTo>
                  <a:close/>
                  <a:moveTo>
                    <a:pt x="14727" y="10800"/>
                  </a:moveTo>
                  <a:lnTo>
                    <a:pt x="15709" y="10800"/>
                  </a:lnTo>
                  <a:lnTo>
                    <a:pt x="15709" y="9818"/>
                  </a:lnTo>
                  <a:lnTo>
                    <a:pt x="14727" y="9818"/>
                  </a:lnTo>
                  <a:cubicBezTo>
                    <a:pt x="14727" y="9818"/>
                    <a:pt x="14727" y="10800"/>
                    <a:pt x="14727" y="10800"/>
                  </a:cubicBezTo>
                  <a:close/>
                  <a:moveTo>
                    <a:pt x="15709" y="16691"/>
                  </a:moveTo>
                  <a:lnTo>
                    <a:pt x="14727" y="16691"/>
                  </a:lnTo>
                  <a:lnTo>
                    <a:pt x="14727" y="17673"/>
                  </a:lnTo>
                  <a:lnTo>
                    <a:pt x="15709" y="17673"/>
                  </a:lnTo>
                  <a:cubicBezTo>
                    <a:pt x="15709" y="17673"/>
                    <a:pt x="15709" y="16691"/>
                    <a:pt x="15709" y="16691"/>
                  </a:cubicBezTo>
                  <a:close/>
                  <a:moveTo>
                    <a:pt x="14727" y="8836"/>
                  </a:moveTo>
                  <a:lnTo>
                    <a:pt x="15709" y="8836"/>
                  </a:lnTo>
                  <a:lnTo>
                    <a:pt x="15709" y="7855"/>
                  </a:lnTo>
                  <a:lnTo>
                    <a:pt x="14727" y="7855"/>
                  </a:lnTo>
                  <a:cubicBezTo>
                    <a:pt x="14727" y="7855"/>
                    <a:pt x="14727" y="8836"/>
                    <a:pt x="14727" y="8836"/>
                  </a:cubicBezTo>
                  <a:close/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1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14727" y="6873"/>
                  </a:moveTo>
                  <a:lnTo>
                    <a:pt x="15709" y="6873"/>
                  </a:lnTo>
                  <a:lnTo>
                    <a:pt x="15709" y="5891"/>
                  </a:lnTo>
                  <a:lnTo>
                    <a:pt x="14727" y="5891"/>
                  </a:lnTo>
                  <a:cubicBezTo>
                    <a:pt x="14727" y="5891"/>
                    <a:pt x="14727" y="6873"/>
                    <a:pt x="14727" y="6873"/>
                  </a:cubicBezTo>
                  <a:close/>
                  <a:moveTo>
                    <a:pt x="16691" y="12273"/>
                  </a:moveTo>
                  <a:lnTo>
                    <a:pt x="13745" y="12273"/>
                  </a:lnTo>
                  <a:lnTo>
                    <a:pt x="13745" y="4909"/>
                  </a:ln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2273"/>
                    <a:pt x="16691" y="12273"/>
                  </a:cubicBezTo>
                  <a:close/>
                  <a:moveTo>
                    <a:pt x="16691" y="19636"/>
                  </a:moveTo>
                  <a:cubicBezTo>
                    <a:pt x="16691" y="20178"/>
                    <a:pt x="16251" y="20618"/>
                    <a:pt x="15709" y="20618"/>
                  </a:cubicBezTo>
                  <a:lnTo>
                    <a:pt x="13745" y="20618"/>
                  </a:lnTo>
                  <a:lnTo>
                    <a:pt x="13745" y="13255"/>
                  </a:lnTo>
                  <a:lnTo>
                    <a:pt x="16691" y="13255"/>
                  </a:lnTo>
                  <a:cubicBezTo>
                    <a:pt x="16691" y="13255"/>
                    <a:pt x="16691" y="19636"/>
                    <a:pt x="16691" y="19636"/>
                  </a:cubicBezTo>
                  <a:close/>
                  <a:moveTo>
                    <a:pt x="12764" y="12273"/>
                  </a:moveTo>
                  <a:lnTo>
                    <a:pt x="4909" y="12273"/>
                  </a:lnTo>
                  <a:lnTo>
                    <a:pt x="4909" y="4909"/>
                  </a:lnTo>
                  <a:lnTo>
                    <a:pt x="12764" y="4909"/>
                  </a:lnTo>
                  <a:cubicBezTo>
                    <a:pt x="12764" y="4909"/>
                    <a:pt x="12764" y="12273"/>
                    <a:pt x="12764" y="12273"/>
                  </a:cubicBezTo>
                  <a:close/>
                  <a:moveTo>
                    <a:pt x="12764" y="20618"/>
                  </a:moveTo>
                  <a:lnTo>
                    <a:pt x="4909" y="20618"/>
                  </a:lnTo>
                  <a:lnTo>
                    <a:pt x="4909" y="13255"/>
                  </a:lnTo>
                  <a:lnTo>
                    <a:pt x="12764" y="13255"/>
                  </a:lnTo>
                  <a:cubicBezTo>
                    <a:pt x="12764" y="13255"/>
                    <a:pt x="12764" y="20618"/>
                    <a:pt x="12764" y="20618"/>
                  </a:cubicBezTo>
                  <a:close/>
                  <a:moveTo>
                    <a:pt x="3927" y="12273"/>
                  </a:moveTo>
                  <a:lnTo>
                    <a:pt x="982" y="12273"/>
                  </a:ln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3927" y="4909"/>
                  </a:lnTo>
                  <a:cubicBezTo>
                    <a:pt x="3927" y="4909"/>
                    <a:pt x="3927" y="12273"/>
                    <a:pt x="3927" y="12273"/>
                  </a:cubicBezTo>
                  <a:close/>
                  <a:moveTo>
                    <a:pt x="3927" y="20618"/>
                  </a:moveTo>
                  <a:lnTo>
                    <a:pt x="1964" y="20618"/>
                  </a:lnTo>
                  <a:cubicBezTo>
                    <a:pt x="1422" y="20618"/>
                    <a:pt x="982" y="20178"/>
                    <a:pt x="982" y="19636"/>
                  </a:cubicBezTo>
                  <a:lnTo>
                    <a:pt x="982" y="13255"/>
                  </a:lnTo>
                  <a:lnTo>
                    <a:pt x="3927" y="13255"/>
                  </a:lnTo>
                  <a:cubicBezTo>
                    <a:pt x="3927" y="13255"/>
                    <a:pt x="3927" y="20618"/>
                    <a:pt x="3927" y="20618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  <a:moveTo>
                    <a:pt x="1964" y="8836"/>
                  </a:moveTo>
                  <a:lnTo>
                    <a:pt x="2945" y="8836"/>
                  </a:lnTo>
                  <a:lnTo>
                    <a:pt x="2945" y="7855"/>
                  </a:lnTo>
                  <a:lnTo>
                    <a:pt x="1964" y="7855"/>
                  </a:lnTo>
                  <a:cubicBezTo>
                    <a:pt x="1964" y="7855"/>
                    <a:pt x="1964" y="8836"/>
                    <a:pt x="1964" y="8836"/>
                  </a:cubicBezTo>
                  <a:close/>
                  <a:moveTo>
                    <a:pt x="1964" y="10800"/>
                  </a:moveTo>
                  <a:lnTo>
                    <a:pt x="2945" y="10800"/>
                  </a:lnTo>
                  <a:lnTo>
                    <a:pt x="2945" y="9818"/>
                  </a:lnTo>
                  <a:lnTo>
                    <a:pt x="1964" y="9818"/>
                  </a:lnTo>
                  <a:cubicBezTo>
                    <a:pt x="1964" y="9818"/>
                    <a:pt x="1964" y="10800"/>
                    <a:pt x="1964" y="10800"/>
                  </a:cubicBezTo>
                  <a:close/>
                  <a:moveTo>
                    <a:pt x="2945" y="16691"/>
                  </a:moveTo>
                  <a:lnTo>
                    <a:pt x="1964" y="16691"/>
                  </a:lnTo>
                  <a:lnTo>
                    <a:pt x="1964" y="17673"/>
                  </a:lnTo>
                  <a:lnTo>
                    <a:pt x="2945" y="17673"/>
                  </a:lnTo>
                  <a:cubicBezTo>
                    <a:pt x="2945" y="17673"/>
                    <a:pt x="2945" y="16691"/>
                    <a:pt x="2945" y="16691"/>
                  </a:cubicBezTo>
                  <a:close/>
                  <a:moveTo>
                    <a:pt x="1964" y="6873"/>
                  </a:moveTo>
                  <a:lnTo>
                    <a:pt x="2945" y="6873"/>
                  </a:lnTo>
                  <a:lnTo>
                    <a:pt x="2945" y="5891"/>
                  </a:lnTo>
                  <a:lnTo>
                    <a:pt x="1964" y="5891"/>
                  </a:lnTo>
                  <a:cubicBezTo>
                    <a:pt x="1964" y="5891"/>
                    <a:pt x="1964" y="6873"/>
                    <a:pt x="1964" y="6873"/>
                  </a:cubicBezTo>
                  <a:close/>
                  <a:moveTo>
                    <a:pt x="2945" y="14727"/>
                  </a:moveTo>
                  <a:lnTo>
                    <a:pt x="1964" y="14727"/>
                  </a:lnTo>
                  <a:lnTo>
                    <a:pt x="1964" y="15709"/>
                  </a:lnTo>
                  <a:lnTo>
                    <a:pt x="2945" y="15709"/>
                  </a:lnTo>
                  <a:cubicBezTo>
                    <a:pt x="2945" y="15709"/>
                    <a:pt x="2945" y="14727"/>
                    <a:pt x="2945" y="14727"/>
                  </a:cubicBezTo>
                  <a:close/>
                  <a:moveTo>
                    <a:pt x="2945" y="18655"/>
                  </a:moveTo>
                  <a:lnTo>
                    <a:pt x="1964" y="18655"/>
                  </a:lnTo>
                  <a:lnTo>
                    <a:pt x="1964" y="19636"/>
                  </a:lnTo>
                  <a:lnTo>
                    <a:pt x="2945" y="19636"/>
                  </a:lnTo>
                  <a:cubicBezTo>
                    <a:pt x="2945" y="19636"/>
                    <a:pt x="2945" y="18655"/>
                    <a:pt x="2945" y="186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45" name="Group 36"/>
          <p:cNvGrpSpPr/>
          <p:nvPr/>
        </p:nvGrpSpPr>
        <p:grpSpPr>
          <a:xfrm>
            <a:off x="2964960" y="3858840"/>
            <a:ext cx="2719800" cy="849600"/>
            <a:chOff x="2964960" y="3858840"/>
            <a:chExt cx="2719800" cy="849600"/>
          </a:xfrm>
        </p:grpSpPr>
        <p:grpSp>
          <p:nvGrpSpPr>
            <p:cNvPr id="946" name="Group 37"/>
            <p:cNvGrpSpPr/>
            <p:nvPr/>
          </p:nvGrpSpPr>
          <p:grpSpPr>
            <a:xfrm>
              <a:off x="3858120" y="3859200"/>
              <a:ext cx="1826640" cy="849240"/>
              <a:chOff x="3858120" y="3859200"/>
              <a:chExt cx="1826640" cy="849240"/>
            </a:xfrm>
          </p:grpSpPr>
          <p:sp>
            <p:nvSpPr>
              <p:cNvPr id="947" name="Rectangle 40"/>
              <p:cNvSpPr/>
              <p:nvPr/>
            </p:nvSpPr>
            <p:spPr>
              <a:xfrm>
                <a:off x="3858120" y="3859200"/>
                <a:ext cx="913320" cy="849240"/>
              </a:xfrm>
              <a:prstGeom prst="rect">
                <a:avLst/>
              </a:prstGeom>
              <a:solidFill>
                <a:srgbClr val="1d7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48" name="Round Single Corner Rectangle 41"/>
              <p:cNvSpPr/>
              <p:nvPr/>
            </p:nvSpPr>
            <p:spPr>
              <a:xfrm>
                <a:off x="4771440" y="3859200"/>
                <a:ext cx="913320" cy="8492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a6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49" name="Isosceles Triangle 42"/>
              <p:cNvSpPr/>
              <p:nvPr/>
            </p:nvSpPr>
            <p:spPr>
              <a:xfrm rot="5400000">
                <a:off x="4726080" y="4222440"/>
                <a:ext cx="2080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1d7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50" name="Round Single Corner Rectangle 38"/>
            <p:cNvSpPr/>
            <p:nvPr/>
          </p:nvSpPr>
          <p:spPr>
            <a:xfrm flipH="1" flipV="1">
              <a:off x="2964600" y="3858480"/>
              <a:ext cx="913320" cy="849240"/>
            </a:xfrm>
            <a:custGeom>
              <a:avLst/>
              <a:gdLst/>
              <a:ahLst/>
              <a:rect l="l" t="t" r="r" b="b"/>
              <a:pathLst>
                <a:path w="913710" h="850209">
                  <a:moveTo>
                    <a:pt x="0" y="0"/>
                  </a:moveTo>
                  <a:lnTo>
                    <a:pt x="488606" y="0"/>
                  </a:lnTo>
                  <a:cubicBezTo>
                    <a:pt x="723385" y="0"/>
                    <a:pt x="913711" y="190326"/>
                    <a:pt x="913711" y="425105"/>
                  </a:cubicBezTo>
                  <a:cubicBezTo>
                    <a:pt x="913711" y="566806"/>
                    <a:pt x="913710" y="708508"/>
                    <a:pt x="913710" y="850209"/>
                  </a:cubicBezTo>
                  <a:lnTo>
                    <a:pt x="0" y="8502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a6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951" name="Shape 2563"/>
            <p:cNvSpPr/>
            <p:nvPr/>
          </p:nvSpPr>
          <p:spPr>
            <a:xfrm>
              <a:off x="4171320" y="4144320"/>
              <a:ext cx="279000" cy="27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636" y="0"/>
                  </a:moveTo>
                  <a:lnTo>
                    <a:pt x="5891" y="0"/>
                  </a:lnTo>
                  <a:cubicBezTo>
                    <a:pt x="4806" y="0"/>
                    <a:pt x="3927" y="879"/>
                    <a:pt x="3927" y="1964"/>
                  </a:cubicBezTo>
                  <a:lnTo>
                    <a:pt x="3927" y="2455"/>
                  </a:lnTo>
                  <a:cubicBezTo>
                    <a:pt x="3927" y="2726"/>
                    <a:pt x="4147" y="2945"/>
                    <a:pt x="4418" y="2945"/>
                  </a:cubicBezTo>
                  <a:cubicBezTo>
                    <a:pt x="4690" y="2945"/>
                    <a:pt x="4909" y="2726"/>
                    <a:pt x="4909" y="2455"/>
                  </a:cubicBezTo>
                  <a:lnTo>
                    <a:pt x="4909" y="1964"/>
                  </a:lnTo>
                  <a:cubicBezTo>
                    <a:pt x="4909" y="1422"/>
                    <a:pt x="5349" y="982"/>
                    <a:pt x="5891" y="982"/>
                  </a:cubicBezTo>
                  <a:lnTo>
                    <a:pt x="19636" y="982"/>
                  </a:lnTo>
                  <a:cubicBezTo>
                    <a:pt x="20178" y="982"/>
                    <a:pt x="20618" y="1422"/>
                    <a:pt x="20618" y="1964"/>
                  </a:cubicBezTo>
                  <a:lnTo>
                    <a:pt x="20618" y="15709"/>
                  </a:lnTo>
                  <a:cubicBezTo>
                    <a:pt x="20618" y="16252"/>
                    <a:pt x="20178" y="16691"/>
                    <a:pt x="19636" y="16691"/>
                  </a:cubicBezTo>
                  <a:lnTo>
                    <a:pt x="19145" y="16691"/>
                  </a:lnTo>
                  <a:cubicBezTo>
                    <a:pt x="18874" y="16691"/>
                    <a:pt x="18655" y="16911"/>
                    <a:pt x="18655" y="17182"/>
                  </a:cubicBezTo>
                  <a:cubicBezTo>
                    <a:pt x="18655" y="17453"/>
                    <a:pt x="18874" y="17673"/>
                    <a:pt x="19145" y="17673"/>
                  </a:cubicBezTo>
                  <a:lnTo>
                    <a:pt x="19636" y="17673"/>
                  </a:lnTo>
                  <a:cubicBezTo>
                    <a:pt x="20721" y="17673"/>
                    <a:pt x="21600" y="16794"/>
                    <a:pt x="21600" y="15709"/>
                  </a:cubicBezTo>
                  <a:lnTo>
                    <a:pt x="21600" y="1964"/>
                  </a:lnTo>
                  <a:cubicBezTo>
                    <a:pt x="21600" y="879"/>
                    <a:pt x="20721" y="0"/>
                    <a:pt x="19636" y="0"/>
                  </a:cubicBezTo>
                  <a:moveTo>
                    <a:pt x="4354" y="17673"/>
                  </a:moveTo>
                  <a:lnTo>
                    <a:pt x="7369" y="13149"/>
                  </a:lnTo>
                  <a:lnTo>
                    <a:pt x="8875" y="15407"/>
                  </a:lnTo>
                  <a:cubicBezTo>
                    <a:pt x="8949" y="15584"/>
                    <a:pt x="9123" y="15709"/>
                    <a:pt x="9327" y="15709"/>
                  </a:cubicBezTo>
                  <a:cubicBezTo>
                    <a:pt x="9463" y="15709"/>
                    <a:pt x="9586" y="15655"/>
                    <a:pt x="9674" y="15565"/>
                  </a:cubicBezTo>
                  <a:lnTo>
                    <a:pt x="11198" y="14042"/>
                  </a:lnTo>
                  <a:lnTo>
                    <a:pt x="13376" y="17673"/>
                  </a:lnTo>
                  <a:cubicBezTo>
                    <a:pt x="13376" y="17673"/>
                    <a:pt x="4354" y="17673"/>
                    <a:pt x="4354" y="17673"/>
                  </a:cubicBezTo>
                  <a:close/>
                  <a:moveTo>
                    <a:pt x="14692" y="17982"/>
                  </a:moveTo>
                  <a:lnTo>
                    <a:pt x="14690" y="17977"/>
                  </a:lnTo>
                  <a:cubicBezTo>
                    <a:pt x="14685" y="17967"/>
                    <a:pt x="14677" y="17959"/>
                    <a:pt x="14673" y="17949"/>
                  </a:cubicBezTo>
                  <a:lnTo>
                    <a:pt x="11747" y="13073"/>
                  </a:lnTo>
                  <a:lnTo>
                    <a:pt x="11745" y="13073"/>
                  </a:lnTo>
                  <a:cubicBezTo>
                    <a:pt x="11673" y="12892"/>
                    <a:pt x="11498" y="12764"/>
                    <a:pt x="11291" y="12764"/>
                  </a:cubicBezTo>
                  <a:cubicBezTo>
                    <a:pt x="11155" y="12764"/>
                    <a:pt x="11033" y="12819"/>
                    <a:pt x="10944" y="12908"/>
                  </a:cubicBezTo>
                  <a:lnTo>
                    <a:pt x="9397" y="14454"/>
                  </a:lnTo>
                  <a:lnTo>
                    <a:pt x="7816" y="12084"/>
                  </a:lnTo>
                  <a:cubicBezTo>
                    <a:pt x="7742" y="11907"/>
                    <a:pt x="7568" y="11782"/>
                    <a:pt x="7364" y="11782"/>
                  </a:cubicBezTo>
                  <a:cubicBezTo>
                    <a:pt x="7193" y="11782"/>
                    <a:pt x="7051" y="11874"/>
                    <a:pt x="6963" y="12006"/>
                  </a:cubicBezTo>
                  <a:lnTo>
                    <a:pt x="6955" y="12000"/>
                  </a:lnTo>
                  <a:lnTo>
                    <a:pt x="3028" y="17891"/>
                  </a:lnTo>
                  <a:lnTo>
                    <a:pt x="3036" y="17897"/>
                  </a:lnTo>
                  <a:cubicBezTo>
                    <a:pt x="2983" y="17974"/>
                    <a:pt x="2945" y="18063"/>
                    <a:pt x="2945" y="18164"/>
                  </a:cubicBezTo>
                  <a:cubicBezTo>
                    <a:pt x="2945" y="18435"/>
                    <a:pt x="3165" y="18655"/>
                    <a:pt x="3436" y="18655"/>
                  </a:cubicBezTo>
                  <a:lnTo>
                    <a:pt x="14236" y="18655"/>
                  </a:lnTo>
                  <a:cubicBezTo>
                    <a:pt x="14508" y="18655"/>
                    <a:pt x="14727" y="18435"/>
                    <a:pt x="14727" y="18164"/>
                  </a:cubicBezTo>
                  <a:cubicBezTo>
                    <a:pt x="14727" y="18099"/>
                    <a:pt x="14713" y="18039"/>
                    <a:pt x="14691" y="17983"/>
                  </a:cubicBezTo>
                  <a:cubicBezTo>
                    <a:pt x="14691" y="17983"/>
                    <a:pt x="14692" y="17982"/>
                    <a:pt x="14692" y="17982"/>
                  </a:cubicBezTo>
                  <a:close/>
                  <a:moveTo>
                    <a:pt x="4909" y="7855"/>
                  </a:moveTo>
                  <a:cubicBezTo>
                    <a:pt x="5451" y="7855"/>
                    <a:pt x="5891" y="8295"/>
                    <a:pt x="5891" y="8836"/>
                  </a:cubicBezTo>
                  <a:cubicBezTo>
                    <a:pt x="5891" y="9379"/>
                    <a:pt x="5451" y="9818"/>
                    <a:pt x="4909" y="9818"/>
                  </a:cubicBezTo>
                  <a:cubicBezTo>
                    <a:pt x="4367" y="9818"/>
                    <a:pt x="3927" y="9379"/>
                    <a:pt x="3927" y="8836"/>
                  </a:cubicBezTo>
                  <a:cubicBezTo>
                    <a:pt x="3927" y="8295"/>
                    <a:pt x="4367" y="7855"/>
                    <a:pt x="4909" y="7855"/>
                  </a:cubicBezTo>
                  <a:moveTo>
                    <a:pt x="4909" y="10800"/>
                  </a:moveTo>
                  <a:cubicBezTo>
                    <a:pt x="5994" y="10800"/>
                    <a:pt x="6873" y="9921"/>
                    <a:pt x="6873" y="8836"/>
                  </a:cubicBezTo>
                  <a:cubicBezTo>
                    <a:pt x="6873" y="7752"/>
                    <a:pt x="5994" y="6873"/>
                    <a:pt x="4909" y="6873"/>
                  </a:cubicBezTo>
                  <a:cubicBezTo>
                    <a:pt x="3825" y="6873"/>
                    <a:pt x="2945" y="7752"/>
                    <a:pt x="2945" y="8836"/>
                  </a:cubicBezTo>
                  <a:cubicBezTo>
                    <a:pt x="2945" y="9921"/>
                    <a:pt x="3825" y="10800"/>
                    <a:pt x="4909" y="10800"/>
                  </a:cubicBezTo>
                  <a:moveTo>
                    <a:pt x="16691" y="19636"/>
                  </a:moveTo>
                  <a:cubicBezTo>
                    <a:pt x="16691" y="20179"/>
                    <a:pt x="16251" y="20619"/>
                    <a:pt x="15709" y="20619"/>
                  </a:cubicBezTo>
                  <a:lnTo>
                    <a:pt x="1964" y="20619"/>
                  </a:lnTo>
                  <a:cubicBezTo>
                    <a:pt x="1422" y="20619"/>
                    <a:pt x="982" y="20179"/>
                    <a:pt x="982" y="19636"/>
                  </a:cubicBezTo>
                  <a:lnTo>
                    <a:pt x="982" y="5891"/>
                  </a:lnTo>
                  <a:cubicBezTo>
                    <a:pt x="982" y="5349"/>
                    <a:pt x="1422" y="4909"/>
                    <a:pt x="1964" y="4909"/>
                  </a:cubicBezTo>
                  <a:lnTo>
                    <a:pt x="15709" y="4909"/>
                  </a:lnTo>
                  <a:cubicBezTo>
                    <a:pt x="16251" y="4909"/>
                    <a:pt x="16691" y="5349"/>
                    <a:pt x="16691" y="5891"/>
                  </a:cubicBezTo>
                  <a:cubicBezTo>
                    <a:pt x="16691" y="5891"/>
                    <a:pt x="16691" y="19636"/>
                    <a:pt x="16691" y="19636"/>
                  </a:cubicBezTo>
                  <a:close/>
                  <a:moveTo>
                    <a:pt x="15709" y="3927"/>
                  </a:moveTo>
                  <a:lnTo>
                    <a:pt x="1964" y="3927"/>
                  </a:lnTo>
                  <a:cubicBezTo>
                    <a:pt x="879" y="3927"/>
                    <a:pt x="0" y="4806"/>
                    <a:pt x="0" y="5891"/>
                  </a:cubicBezTo>
                  <a:lnTo>
                    <a:pt x="0" y="19636"/>
                  </a:lnTo>
                  <a:cubicBezTo>
                    <a:pt x="0" y="20721"/>
                    <a:pt x="879" y="21600"/>
                    <a:pt x="1964" y="21600"/>
                  </a:cubicBezTo>
                  <a:lnTo>
                    <a:pt x="15709" y="21600"/>
                  </a:lnTo>
                  <a:cubicBezTo>
                    <a:pt x="16794" y="21600"/>
                    <a:pt x="17673" y="20721"/>
                    <a:pt x="17673" y="19636"/>
                  </a:cubicBezTo>
                  <a:lnTo>
                    <a:pt x="17673" y="5891"/>
                  </a:lnTo>
                  <a:cubicBezTo>
                    <a:pt x="17673" y="4806"/>
                    <a:pt x="16794" y="3927"/>
                    <a:pt x="15709" y="39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52" name="Group 43"/>
          <p:cNvGrpSpPr/>
          <p:nvPr/>
        </p:nvGrpSpPr>
        <p:grpSpPr>
          <a:xfrm>
            <a:off x="1149480" y="3022200"/>
            <a:ext cx="2730240" cy="849600"/>
            <a:chOff x="1149480" y="3022200"/>
            <a:chExt cx="2730240" cy="849600"/>
          </a:xfrm>
        </p:grpSpPr>
        <p:grpSp>
          <p:nvGrpSpPr>
            <p:cNvPr id="953" name="Group 44"/>
            <p:cNvGrpSpPr/>
            <p:nvPr/>
          </p:nvGrpSpPr>
          <p:grpSpPr>
            <a:xfrm>
              <a:off x="1149480" y="3022200"/>
              <a:ext cx="2730240" cy="849600"/>
              <a:chOff x="1149480" y="3022200"/>
              <a:chExt cx="2730240" cy="849600"/>
            </a:xfrm>
          </p:grpSpPr>
          <p:sp>
            <p:nvSpPr>
              <p:cNvPr id="954" name="Round Single Corner Rectangle 46"/>
              <p:cNvSpPr/>
              <p:nvPr/>
            </p:nvSpPr>
            <p:spPr>
              <a:xfrm flipH="1" flipV="1">
                <a:off x="1149480" y="3021840"/>
                <a:ext cx="913680" cy="8492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55" name="Rectangle 47"/>
              <p:cNvSpPr/>
              <p:nvPr/>
            </p:nvSpPr>
            <p:spPr>
              <a:xfrm flipV="1">
                <a:off x="2052360" y="3021840"/>
                <a:ext cx="913680" cy="849240"/>
              </a:xfrm>
              <a:prstGeom prst="rect">
                <a:avLst/>
              </a:prstGeom>
              <a:solidFill>
                <a:srgbClr val="0079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56" name="Round Single Corner Rectangle 48"/>
              <p:cNvSpPr/>
              <p:nvPr/>
            </p:nvSpPr>
            <p:spPr>
              <a:xfrm>
                <a:off x="2966040" y="3022560"/>
                <a:ext cx="913680" cy="8492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57" name="Isosceles Triangle 49"/>
              <p:cNvSpPr/>
              <p:nvPr/>
            </p:nvSpPr>
            <p:spPr>
              <a:xfrm flipV="1" rot="16200000">
                <a:off x="2923200" y="3372840"/>
                <a:ext cx="2080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0079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58" name="Shape 2570"/>
            <p:cNvSpPr/>
            <p:nvPr/>
          </p:nvSpPr>
          <p:spPr>
            <a:xfrm>
              <a:off x="2369520" y="3375720"/>
              <a:ext cx="279000" cy="272520"/>
            </a:xfrm>
            <a:custGeom>
              <a:avLst/>
              <a:gdLst/>
              <a:ahLst/>
              <a:rect l="l" t="t" r="r" b="b"/>
              <a:pathLst>
                <a:path w="21600" h="21319">
                  <a:moveTo>
                    <a:pt x="7530" y="4197"/>
                  </a:moveTo>
                  <a:lnTo>
                    <a:pt x="6680" y="3701"/>
                  </a:lnTo>
                  <a:lnTo>
                    <a:pt x="6189" y="4560"/>
                  </a:lnTo>
                  <a:lnTo>
                    <a:pt x="7040" y="5056"/>
                  </a:lnTo>
                  <a:cubicBezTo>
                    <a:pt x="7040" y="5056"/>
                    <a:pt x="7530" y="4197"/>
                    <a:pt x="7530" y="4197"/>
                  </a:cubicBezTo>
                  <a:close/>
                  <a:moveTo>
                    <a:pt x="8512" y="2479"/>
                  </a:moveTo>
                  <a:lnTo>
                    <a:pt x="7662" y="1984"/>
                  </a:lnTo>
                  <a:lnTo>
                    <a:pt x="7171" y="2843"/>
                  </a:lnTo>
                  <a:lnTo>
                    <a:pt x="8021" y="3339"/>
                  </a:lnTo>
                  <a:cubicBezTo>
                    <a:pt x="8021" y="3339"/>
                    <a:pt x="8512" y="2479"/>
                    <a:pt x="8512" y="2479"/>
                  </a:cubicBezTo>
                  <a:close/>
                  <a:moveTo>
                    <a:pt x="20618" y="8428"/>
                  </a:moveTo>
                  <a:lnTo>
                    <a:pt x="982" y="8428"/>
                  </a:lnTo>
                  <a:lnTo>
                    <a:pt x="982" y="6445"/>
                  </a:lnTo>
                  <a:lnTo>
                    <a:pt x="20618" y="6445"/>
                  </a:lnTo>
                  <a:cubicBezTo>
                    <a:pt x="20618" y="6445"/>
                    <a:pt x="20618" y="8428"/>
                    <a:pt x="20618" y="8428"/>
                  </a:cubicBezTo>
                  <a:close/>
                  <a:moveTo>
                    <a:pt x="18655" y="20327"/>
                  </a:moveTo>
                  <a:lnTo>
                    <a:pt x="2945" y="20327"/>
                  </a:lnTo>
                  <a:lnTo>
                    <a:pt x="2945" y="9420"/>
                  </a:lnTo>
                  <a:lnTo>
                    <a:pt x="18655" y="9420"/>
                  </a:lnTo>
                  <a:cubicBezTo>
                    <a:pt x="18655" y="9420"/>
                    <a:pt x="18655" y="20327"/>
                    <a:pt x="18655" y="20327"/>
                  </a:cubicBezTo>
                  <a:close/>
                  <a:moveTo>
                    <a:pt x="6811" y="1488"/>
                  </a:moveTo>
                  <a:cubicBezTo>
                    <a:pt x="7083" y="1014"/>
                    <a:pt x="7683" y="851"/>
                    <a:pt x="8153" y="1125"/>
                  </a:cubicBezTo>
                  <a:lnTo>
                    <a:pt x="9854" y="2117"/>
                  </a:lnTo>
                  <a:lnTo>
                    <a:pt x="7946" y="5454"/>
                  </a:lnTo>
                  <a:lnTo>
                    <a:pt x="5759" y="5454"/>
                  </a:lnTo>
                  <a:lnTo>
                    <a:pt x="5698" y="5419"/>
                  </a:lnTo>
                  <a:lnTo>
                    <a:pt x="5678" y="5454"/>
                  </a:lnTo>
                  <a:lnTo>
                    <a:pt x="4545" y="5454"/>
                  </a:lnTo>
                  <a:cubicBezTo>
                    <a:pt x="4545" y="5454"/>
                    <a:pt x="6811" y="1488"/>
                    <a:pt x="6811" y="1488"/>
                  </a:cubicBezTo>
                  <a:close/>
                  <a:moveTo>
                    <a:pt x="15577" y="5454"/>
                  </a:moveTo>
                  <a:lnTo>
                    <a:pt x="9079" y="5454"/>
                  </a:lnTo>
                  <a:lnTo>
                    <a:pt x="10704" y="2612"/>
                  </a:lnTo>
                  <a:cubicBezTo>
                    <a:pt x="10704" y="2612"/>
                    <a:pt x="15577" y="5454"/>
                    <a:pt x="15577" y="5454"/>
                  </a:cubicBezTo>
                  <a:close/>
                  <a:moveTo>
                    <a:pt x="15930" y="2759"/>
                  </a:moveTo>
                  <a:cubicBezTo>
                    <a:pt x="16454" y="2617"/>
                    <a:pt x="16991" y="2931"/>
                    <a:pt x="17132" y="3460"/>
                  </a:cubicBezTo>
                  <a:lnTo>
                    <a:pt x="17661" y="5454"/>
                  </a:lnTo>
                  <a:lnTo>
                    <a:pt x="17540" y="5454"/>
                  </a:lnTo>
                  <a:lnTo>
                    <a:pt x="16279" y="4718"/>
                  </a:lnTo>
                  <a:lnTo>
                    <a:pt x="16438" y="4674"/>
                  </a:lnTo>
                  <a:lnTo>
                    <a:pt x="16184" y="3716"/>
                  </a:lnTo>
                  <a:lnTo>
                    <a:pt x="15236" y="3973"/>
                  </a:lnTo>
                  <a:lnTo>
                    <a:pt x="15279" y="4135"/>
                  </a:lnTo>
                  <a:lnTo>
                    <a:pt x="14076" y="3434"/>
                  </a:lnTo>
                  <a:lnTo>
                    <a:pt x="14033" y="3272"/>
                  </a:lnTo>
                  <a:cubicBezTo>
                    <a:pt x="14033" y="3272"/>
                    <a:pt x="15930" y="2759"/>
                    <a:pt x="15930" y="2759"/>
                  </a:cubicBezTo>
                  <a:close/>
                  <a:moveTo>
                    <a:pt x="20618" y="5454"/>
                  </a:moveTo>
                  <a:lnTo>
                    <a:pt x="18678" y="5454"/>
                  </a:lnTo>
                  <a:lnTo>
                    <a:pt x="18081" y="3203"/>
                  </a:lnTo>
                  <a:cubicBezTo>
                    <a:pt x="17800" y="2145"/>
                    <a:pt x="16724" y="1518"/>
                    <a:pt x="15676" y="1801"/>
                  </a:cubicBezTo>
                  <a:lnTo>
                    <a:pt x="12671" y="2615"/>
                  </a:lnTo>
                  <a:lnTo>
                    <a:pt x="8644" y="266"/>
                  </a:lnTo>
                  <a:cubicBezTo>
                    <a:pt x="7704" y="-281"/>
                    <a:pt x="6504" y="44"/>
                    <a:pt x="5961" y="992"/>
                  </a:cubicBezTo>
                  <a:lnTo>
                    <a:pt x="3410" y="5454"/>
                  </a:lnTo>
                  <a:lnTo>
                    <a:pt x="982" y="5454"/>
                  </a:lnTo>
                  <a:cubicBezTo>
                    <a:pt x="440" y="5454"/>
                    <a:pt x="0" y="5898"/>
                    <a:pt x="0" y="6445"/>
                  </a:cubicBezTo>
                  <a:lnTo>
                    <a:pt x="0" y="8428"/>
                  </a:lnTo>
                  <a:cubicBezTo>
                    <a:pt x="0" y="8977"/>
                    <a:pt x="440" y="9420"/>
                    <a:pt x="982" y="9420"/>
                  </a:cubicBezTo>
                  <a:lnTo>
                    <a:pt x="1964" y="9420"/>
                  </a:lnTo>
                  <a:lnTo>
                    <a:pt x="1964" y="20327"/>
                  </a:lnTo>
                  <a:cubicBezTo>
                    <a:pt x="1964" y="20875"/>
                    <a:pt x="2403" y="21319"/>
                    <a:pt x="2945" y="21319"/>
                  </a:cubicBezTo>
                  <a:lnTo>
                    <a:pt x="18655" y="21319"/>
                  </a:lnTo>
                  <a:cubicBezTo>
                    <a:pt x="19197" y="21319"/>
                    <a:pt x="19636" y="20875"/>
                    <a:pt x="19636" y="20327"/>
                  </a:cubicBezTo>
                  <a:lnTo>
                    <a:pt x="19636" y="9420"/>
                  </a:lnTo>
                  <a:lnTo>
                    <a:pt x="20618" y="9420"/>
                  </a:lnTo>
                  <a:cubicBezTo>
                    <a:pt x="21160" y="9420"/>
                    <a:pt x="21600" y="8977"/>
                    <a:pt x="21600" y="8428"/>
                  </a:cubicBezTo>
                  <a:lnTo>
                    <a:pt x="21600" y="6445"/>
                  </a:lnTo>
                  <a:cubicBezTo>
                    <a:pt x="21600" y="5898"/>
                    <a:pt x="21160" y="5454"/>
                    <a:pt x="20618" y="5454"/>
                  </a:cubicBezTo>
                  <a:moveTo>
                    <a:pt x="7855" y="12395"/>
                  </a:moveTo>
                  <a:lnTo>
                    <a:pt x="13745" y="12395"/>
                  </a:lnTo>
                  <a:lnTo>
                    <a:pt x="13745" y="13386"/>
                  </a:lnTo>
                  <a:lnTo>
                    <a:pt x="7855" y="13386"/>
                  </a:lnTo>
                  <a:cubicBezTo>
                    <a:pt x="7855" y="13386"/>
                    <a:pt x="7855" y="12395"/>
                    <a:pt x="7855" y="12395"/>
                  </a:cubicBezTo>
                  <a:close/>
                  <a:moveTo>
                    <a:pt x="7855" y="14378"/>
                  </a:moveTo>
                  <a:lnTo>
                    <a:pt x="13745" y="14378"/>
                  </a:lnTo>
                  <a:cubicBezTo>
                    <a:pt x="14288" y="14378"/>
                    <a:pt x="14727" y="13934"/>
                    <a:pt x="14727" y="13386"/>
                  </a:cubicBezTo>
                  <a:lnTo>
                    <a:pt x="14727" y="12395"/>
                  </a:lnTo>
                  <a:cubicBezTo>
                    <a:pt x="14727" y="11847"/>
                    <a:pt x="14288" y="11403"/>
                    <a:pt x="13745" y="11403"/>
                  </a:cubicBezTo>
                  <a:lnTo>
                    <a:pt x="7855" y="11403"/>
                  </a:lnTo>
                  <a:cubicBezTo>
                    <a:pt x="7312" y="11403"/>
                    <a:pt x="6873" y="11847"/>
                    <a:pt x="6873" y="12395"/>
                  </a:cubicBezTo>
                  <a:lnTo>
                    <a:pt x="6873" y="13386"/>
                  </a:lnTo>
                  <a:cubicBezTo>
                    <a:pt x="6873" y="13934"/>
                    <a:pt x="7312" y="14378"/>
                    <a:pt x="7855" y="1437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59" name="Group 50"/>
          <p:cNvGrpSpPr/>
          <p:nvPr/>
        </p:nvGrpSpPr>
        <p:grpSpPr>
          <a:xfrm>
            <a:off x="4772160" y="4708440"/>
            <a:ext cx="2741400" cy="851040"/>
            <a:chOff x="4772160" y="4708440"/>
            <a:chExt cx="2741400" cy="851040"/>
          </a:xfrm>
        </p:grpSpPr>
        <p:grpSp>
          <p:nvGrpSpPr>
            <p:cNvPr id="960" name="Group 51"/>
            <p:cNvGrpSpPr/>
            <p:nvPr/>
          </p:nvGrpSpPr>
          <p:grpSpPr>
            <a:xfrm>
              <a:off x="4772160" y="4708440"/>
              <a:ext cx="2741400" cy="851040"/>
              <a:chOff x="4772160" y="4708440"/>
              <a:chExt cx="2741400" cy="851040"/>
            </a:xfrm>
          </p:grpSpPr>
          <p:sp>
            <p:nvSpPr>
              <p:cNvPr id="961" name="Rectangle 53"/>
              <p:cNvSpPr/>
              <p:nvPr/>
            </p:nvSpPr>
            <p:spPr>
              <a:xfrm>
                <a:off x="5685840" y="4708440"/>
                <a:ext cx="913680" cy="851040"/>
              </a:xfrm>
              <a:prstGeom prst="rect">
                <a:avLst/>
              </a:prstGeom>
              <a:solidFill>
                <a:srgbClr val="0096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62" name="Round Single Corner Rectangle 54"/>
              <p:cNvSpPr/>
              <p:nvPr/>
            </p:nvSpPr>
            <p:spPr>
              <a:xfrm flipH="1" flipV="1">
                <a:off x="4772160" y="4708440"/>
                <a:ext cx="913680" cy="8510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7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63" name="Round Single Corner Rectangle 55"/>
              <p:cNvSpPr/>
              <p:nvPr/>
            </p:nvSpPr>
            <p:spPr>
              <a:xfrm flipV="1">
                <a:off x="6599880" y="4708440"/>
                <a:ext cx="913680" cy="8510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7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64" name="Isosceles Triangle 56"/>
              <p:cNvSpPr/>
              <p:nvPr/>
            </p:nvSpPr>
            <p:spPr>
              <a:xfrm rot="5400000">
                <a:off x="6556680" y="5094720"/>
                <a:ext cx="208440" cy="122400"/>
              </a:xfrm>
              <a:prstGeom prst="triangle">
                <a:avLst>
                  <a:gd name="adj" fmla="val 50000"/>
                </a:avLst>
              </a:prstGeom>
              <a:solidFill>
                <a:srgbClr val="0096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65" name="Shape 2599"/>
            <p:cNvSpPr/>
            <p:nvPr/>
          </p:nvSpPr>
          <p:spPr>
            <a:xfrm>
              <a:off x="5962680" y="5016240"/>
              <a:ext cx="279360" cy="27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382" y="7855"/>
                  </a:moveTo>
                  <a:cubicBezTo>
                    <a:pt x="6653" y="7855"/>
                    <a:pt x="6873" y="7635"/>
                    <a:pt x="6873" y="7364"/>
                  </a:cubicBezTo>
                  <a:cubicBezTo>
                    <a:pt x="6873" y="7092"/>
                    <a:pt x="6653" y="6873"/>
                    <a:pt x="6382" y="6873"/>
                  </a:cubicBezTo>
                  <a:cubicBezTo>
                    <a:pt x="6111" y="6873"/>
                    <a:pt x="5891" y="7092"/>
                    <a:pt x="5891" y="7364"/>
                  </a:cubicBezTo>
                  <a:cubicBezTo>
                    <a:pt x="5891" y="7635"/>
                    <a:pt x="6111" y="7855"/>
                    <a:pt x="6382" y="7855"/>
                  </a:cubicBezTo>
                  <a:moveTo>
                    <a:pt x="6873" y="10800"/>
                  </a:moveTo>
                  <a:lnTo>
                    <a:pt x="10800" y="10800"/>
                  </a:lnTo>
                  <a:lnTo>
                    <a:pt x="10800" y="13746"/>
                  </a:lnTo>
                  <a:lnTo>
                    <a:pt x="6873" y="13746"/>
                  </a:lnTo>
                  <a:cubicBezTo>
                    <a:pt x="6873" y="13746"/>
                    <a:pt x="6873" y="10800"/>
                    <a:pt x="6873" y="10800"/>
                  </a:cubicBezTo>
                  <a:close/>
                  <a:moveTo>
                    <a:pt x="6382" y="14727"/>
                  </a:moveTo>
                  <a:lnTo>
                    <a:pt x="11291" y="14727"/>
                  </a:lnTo>
                  <a:cubicBezTo>
                    <a:pt x="11562" y="14727"/>
                    <a:pt x="11782" y="14508"/>
                    <a:pt x="11782" y="14236"/>
                  </a:cubicBezTo>
                  <a:lnTo>
                    <a:pt x="11782" y="10309"/>
                  </a:lnTo>
                  <a:cubicBezTo>
                    <a:pt x="11782" y="10038"/>
                    <a:pt x="11562" y="9818"/>
                    <a:pt x="11291" y="9818"/>
                  </a:cubicBezTo>
                  <a:lnTo>
                    <a:pt x="6382" y="9818"/>
                  </a:lnTo>
                  <a:cubicBezTo>
                    <a:pt x="6111" y="9818"/>
                    <a:pt x="5891" y="10038"/>
                    <a:pt x="5891" y="10309"/>
                  </a:cubicBezTo>
                  <a:lnTo>
                    <a:pt x="5891" y="14236"/>
                  </a:lnTo>
                  <a:cubicBezTo>
                    <a:pt x="5891" y="14508"/>
                    <a:pt x="6111" y="14727"/>
                    <a:pt x="6382" y="14727"/>
                  </a:cubicBezTo>
                  <a:moveTo>
                    <a:pt x="8345" y="7855"/>
                  </a:moveTo>
                  <a:cubicBezTo>
                    <a:pt x="8616" y="7855"/>
                    <a:pt x="8836" y="7635"/>
                    <a:pt x="8836" y="7364"/>
                  </a:cubicBezTo>
                  <a:cubicBezTo>
                    <a:pt x="8836" y="7092"/>
                    <a:pt x="8616" y="6873"/>
                    <a:pt x="8345" y="6873"/>
                  </a:cubicBezTo>
                  <a:cubicBezTo>
                    <a:pt x="8075" y="6873"/>
                    <a:pt x="7855" y="7092"/>
                    <a:pt x="7855" y="7364"/>
                  </a:cubicBezTo>
                  <a:cubicBezTo>
                    <a:pt x="7855" y="7635"/>
                    <a:pt x="8075" y="7855"/>
                    <a:pt x="8345" y="7855"/>
                  </a:cubicBezTo>
                  <a:moveTo>
                    <a:pt x="20618" y="20618"/>
                  </a:moveTo>
                  <a:lnTo>
                    <a:pt x="2945" y="20618"/>
                  </a:lnTo>
                  <a:cubicBezTo>
                    <a:pt x="1861" y="20618"/>
                    <a:pt x="982" y="19739"/>
                    <a:pt x="982" y="18655"/>
                  </a:cubicBezTo>
                  <a:lnTo>
                    <a:pt x="982" y="7855"/>
                  </a:lnTo>
                  <a:lnTo>
                    <a:pt x="2945" y="7855"/>
                  </a:lnTo>
                  <a:lnTo>
                    <a:pt x="2945" y="18164"/>
                  </a:lnTo>
                  <a:cubicBezTo>
                    <a:pt x="2945" y="18435"/>
                    <a:pt x="3166" y="18655"/>
                    <a:pt x="3436" y="18655"/>
                  </a:cubicBezTo>
                  <a:cubicBezTo>
                    <a:pt x="3707" y="18655"/>
                    <a:pt x="3927" y="18435"/>
                    <a:pt x="3927" y="18164"/>
                  </a:cubicBezTo>
                  <a:lnTo>
                    <a:pt x="3927" y="4909"/>
                  </a:lnTo>
                  <a:lnTo>
                    <a:pt x="20618" y="4909"/>
                  </a:lnTo>
                  <a:cubicBezTo>
                    <a:pt x="20618" y="4909"/>
                    <a:pt x="20618" y="20618"/>
                    <a:pt x="20618" y="20618"/>
                  </a:cubicBezTo>
                  <a:close/>
                  <a:moveTo>
                    <a:pt x="20618" y="3927"/>
                  </a:moveTo>
                  <a:lnTo>
                    <a:pt x="3927" y="3927"/>
                  </a:lnTo>
                  <a:cubicBezTo>
                    <a:pt x="3385" y="3927"/>
                    <a:pt x="2945" y="4367"/>
                    <a:pt x="2945" y="4909"/>
                  </a:cubicBezTo>
                  <a:lnTo>
                    <a:pt x="2945" y="6873"/>
                  </a:lnTo>
                  <a:lnTo>
                    <a:pt x="982" y="6873"/>
                  </a:lnTo>
                  <a:cubicBezTo>
                    <a:pt x="440" y="6873"/>
                    <a:pt x="0" y="7313"/>
                    <a:pt x="0" y="7855"/>
                  </a:cubicBezTo>
                  <a:lnTo>
                    <a:pt x="0" y="18655"/>
                  </a:lnTo>
                  <a:cubicBezTo>
                    <a:pt x="0" y="20282"/>
                    <a:pt x="1319" y="21600"/>
                    <a:pt x="2945" y="21600"/>
                  </a:cubicBezTo>
                  <a:lnTo>
                    <a:pt x="20618" y="21600"/>
                  </a:lnTo>
                  <a:cubicBezTo>
                    <a:pt x="21160" y="21600"/>
                    <a:pt x="21600" y="21160"/>
                    <a:pt x="21600" y="20618"/>
                  </a:cubicBezTo>
                  <a:lnTo>
                    <a:pt x="21600" y="4909"/>
                  </a:lnTo>
                  <a:cubicBezTo>
                    <a:pt x="21600" y="4367"/>
                    <a:pt x="21160" y="3927"/>
                    <a:pt x="20618" y="3927"/>
                  </a:cubicBezTo>
                  <a:moveTo>
                    <a:pt x="6382" y="16691"/>
                  </a:moveTo>
                  <a:lnTo>
                    <a:pt x="18164" y="16691"/>
                  </a:lnTo>
                  <a:cubicBezTo>
                    <a:pt x="18434" y="16691"/>
                    <a:pt x="18655" y="16472"/>
                    <a:pt x="18655" y="16200"/>
                  </a:cubicBezTo>
                  <a:cubicBezTo>
                    <a:pt x="18655" y="15929"/>
                    <a:pt x="18434" y="15710"/>
                    <a:pt x="18164" y="15710"/>
                  </a:cubicBezTo>
                  <a:lnTo>
                    <a:pt x="6382" y="15710"/>
                  </a:lnTo>
                  <a:cubicBezTo>
                    <a:pt x="6111" y="15710"/>
                    <a:pt x="5891" y="15929"/>
                    <a:pt x="5891" y="16200"/>
                  </a:cubicBezTo>
                  <a:cubicBezTo>
                    <a:pt x="5891" y="16472"/>
                    <a:pt x="6111" y="16691"/>
                    <a:pt x="6382" y="16691"/>
                  </a:cubicBezTo>
                  <a:moveTo>
                    <a:pt x="10309" y="7855"/>
                  </a:moveTo>
                  <a:lnTo>
                    <a:pt x="14236" y="7855"/>
                  </a:lnTo>
                  <a:cubicBezTo>
                    <a:pt x="14507" y="7855"/>
                    <a:pt x="14727" y="7635"/>
                    <a:pt x="14727" y="7364"/>
                  </a:cubicBezTo>
                  <a:cubicBezTo>
                    <a:pt x="14727" y="7092"/>
                    <a:pt x="14507" y="6873"/>
                    <a:pt x="14236" y="6873"/>
                  </a:cubicBezTo>
                  <a:lnTo>
                    <a:pt x="10309" y="6873"/>
                  </a:lnTo>
                  <a:cubicBezTo>
                    <a:pt x="10038" y="6873"/>
                    <a:pt x="9818" y="7092"/>
                    <a:pt x="9818" y="7364"/>
                  </a:cubicBezTo>
                  <a:cubicBezTo>
                    <a:pt x="9818" y="7635"/>
                    <a:pt x="10038" y="7855"/>
                    <a:pt x="10309" y="7855"/>
                  </a:cubicBezTo>
                  <a:moveTo>
                    <a:pt x="6382" y="18655"/>
                  </a:moveTo>
                  <a:lnTo>
                    <a:pt x="18164" y="18655"/>
                  </a:lnTo>
                  <a:cubicBezTo>
                    <a:pt x="18434" y="18655"/>
                    <a:pt x="18655" y="18435"/>
                    <a:pt x="18655" y="18164"/>
                  </a:cubicBezTo>
                  <a:cubicBezTo>
                    <a:pt x="18655" y="17893"/>
                    <a:pt x="18434" y="17673"/>
                    <a:pt x="18164" y="17673"/>
                  </a:cubicBezTo>
                  <a:lnTo>
                    <a:pt x="6382" y="17673"/>
                  </a:lnTo>
                  <a:cubicBezTo>
                    <a:pt x="6111" y="17673"/>
                    <a:pt x="5891" y="17893"/>
                    <a:pt x="5891" y="18164"/>
                  </a:cubicBezTo>
                  <a:cubicBezTo>
                    <a:pt x="5891" y="18435"/>
                    <a:pt x="6111" y="18655"/>
                    <a:pt x="6382" y="18655"/>
                  </a:cubicBezTo>
                  <a:moveTo>
                    <a:pt x="4909" y="2945"/>
                  </a:moveTo>
                  <a:lnTo>
                    <a:pt x="20127" y="2945"/>
                  </a:lnTo>
                  <a:cubicBezTo>
                    <a:pt x="20398" y="2945"/>
                    <a:pt x="20618" y="2726"/>
                    <a:pt x="20618" y="2455"/>
                  </a:cubicBezTo>
                  <a:cubicBezTo>
                    <a:pt x="20618" y="2184"/>
                    <a:pt x="20398" y="1964"/>
                    <a:pt x="20127" y="1964"/>
                  </a:cubicBezTo>
                  <a:lnTo>
                    <a:pt x="4909" y="1964"/>
                  </a:lnTo>
                  <a:cubicBezTo>
                    <a:pt x="4638" y="1964"/>
                    <a:pt x="4418" y="2184"/>
                    <a:pt x="4418" y="2455"/>
                  </a:cubicBezTo>
                  <a:cubicBezTo>
                    <a:pt x="4418" y="2726"/>
                    <a:pt x="4638" y="2945"/>
                    <a:pt x="4909" y="2945"/>
                  </a:cubicBezTo>
                  <a:moveTo>
                    <a:pt x="18164" y="11783"/>
                  </a:moveTo>
                  <a:lnTo>
                    <a:pt x="14236" y="11783"/>
                  </a:lnTo>
                  <a:cubicBezTo>
                    <a:pt x="13966" y="11783"/>
                    <a:pt x="13745" y="12001"/>
                    <a:pt x="13745" y="12273"/>
                  </a:cubicBezTo>
                  <a:cubicBezTo>
                    <a:pt x="13745" y="12544"/>
                    <a:pt x="13966" y="12764"/>
                    <a:pt x="14236" y="12764"/>
                  </a:cubicBezTo>
                  <a:lnTo>
                    <a:pt x="18164" y="12764"/>
                  </a:lnTo>
                  <a:cubicBezTo>
                    <a:pt x="18434" y="12764"/>
                    <a:pt x="18655" y="12544"/>
                    <a:pt x="18655" y="12273"/>
                  </a:cubicBezTo>
                  <a:cubicBezTo>
                    <a:pt x="18655" y="12001"/>
                    <a:pt x="18434" y="11783"/>
                    <a:pt x="18164" y="11783"/>
                  </a:cubicBezTo>
                  <a:moveTo>
                    <a:pt x="6382" y="982"/>
                  </a:moveTo>
                  <a:lnTo>
                    <a:pt x="19145" y="982"/>
                  </a:lnTo>
                  <a:cubicBezTo>
                    <a:pt x="19416" y="982"/>
                    <a:pt x="19636" y="762"/>
                    <a:pt x="19636" y="491"/>
                  </a:cubicBezTo>
                  <a:cubicBezTo>
                    <a:pt x="19636" y="220"/>
                    <a:pt x="19416" y="0"/>
                    <a:pt x="19145" y="0"/>
                  </a:cubicBezTo>
                  <a:lnTo>
                    <a:pt x="6382" y="0"/>
                  </a:lnTo>
                  <a:cubicBezTo>
                    <a:pt x="6111" y="0"/>
                    <a:pt x="5891" y="220"/>
                    <a:pt x="5891" y="491"/>
                  </a:cubicBezTo>
                  <a:cubicBezTo>
                    <a:pt x="5891" y="762"/>
                    <a:pt x="6111" y="982"/>
                    <a:pt x="6382" y="982"/>
                  </a:cubicBezTo>
                  <a:moveTo>
                    <a:pt x="18164" y="13746"/>
                  </a:moveTo>
                  <a:lnTo>
                    <a:pt x="14236" y="13746"/>
                  </a:lnTo>
                  <a:cubicBezTo>
                    <a:pt x="13966" y="13746"/>
                    <a:pt x="13745" y="13965"/>
                    <a:pt x="13745" y="14236"/>
                  </a:cubicBezTo>
                  <a:cubicBezTo>
                    <a:pt x="13745" y="14508"/>
                    <a:pt x="13966" y="14727"/>
                    <a:pt x="14236" y="14727"/>
                  </a:cubicBezTo>
                  <a:lnTo>
                    <a:pt x="18164" y="14727"/>
                  </a:lnTo>
                  <a:cubicBezTo>
                    <a:pt x="18434" y="14727"/>
                    <a:pt x="18655" y="14508"/>
                    <a:pt x="18655" y="14236"/>
                  </a:cubicBezTo>
                  <a:cubicBezTo>
                    <a:pt x="18655" y="13965"/>
                    <a:pt x="18434" y="13746"/>
                    <a:pt x="18164" y="13746"/>
                  </a:cubicBezTo>
                  <a:moveTo>
                    <a:pt x="16200" y="7855"/>
                  </a:moveTo>
                  <a:cubicBezTo>
                    <a:pt x="16471" y="7855"/>
                    <a:pt x="16691" y="7635"/>
                    <a:pt x="16691" y="7364"/>
                  </a:cubicBezTo>
                  <a:cubicBezTo>
                    <a:pt x="16691" y="7092"/>
                    <a:pt x="16471" y="6873"/>
                    <a:pt x="16200" y="6873"/>
                  </a:cubicBezTo>
                  <a:cubicBezTo>
                    <a:pt x="15929" y="6873"/>
                    <a:pt x="15709" y="7092"/>
                    <a:pt x="15709" y="7364"/>
                  </a:cubicBezTo>
                  <a:cubicBezTo>
                    <a:pt x="15709" y="7635"/>
                    <a:pt x="15929" y="7855"/>
                    <a:pt x="16200" y="7855"/>
                  </a:cubicBezTo>
                  <a:moveTo>
                    <a:pt x="18164" y="7855"/>
                  </a:moveTo>
                  <a:cubicBezTo>
                    <a:pt x="18434" y="7855"/>
                    <a:pt x="18655" y="7635"/>
                    <a:pt x="18655" y="7364"/>
                  </a:cubicBezTo>
                  <a:cubicBezTo>
                    <a:pt x="18655" y="7092"/>
                    <a:pt x="18434" y="6873"/>
                    <a:pt x="18164" y="6873"/>
                  </a:cubicBezTo>
                  <a:cubicBezTo>
                    <a:pt x="17893" y="6873"/>
                    <a:pt x="17673" y="7092"/>
                    <a:pt x="17673" y="7364"/>
                  </a:cubicBezTo>
                  <a:cubicBezTo>
                    <a:pt x="17673" y="7635"/>
                    <a:pt x="17893" y="7855"/>
                    <a:pt x="18164" y="7855"/>
                  </a:cubicBezTo>
                  <a:moveTo>
                    <a:pt x="18164" y="9818"/>
                  </a:moveTo>
                  <a:lnTo>
                    <a:pt x="14236" y="9818"/>
                  </a:lnTo>
                  <a:cubicBezTo>
                    <a:pt x="13966" y="9818"/>
                    <a:pt x="13745" y="10038"/>
                    <a:pt x="13745" y="10309"/>
                  </a:cubicBezTo>
                  <a:cubicBezTo>
                    <a:pt x="13745" y="10581"/>
                    <a:pt x="13966" y="10800"/>
                    <a:pt x="14236" y="10800"/>
                  </a:cubicBezTo>
                  <a:lnTo>
                    <a:pt x="18164" y="10800"/>
                  </a:lnTo>
                  <a:cubicBezTo>
                    <a:pt x="18434" y="10800"/>
                    <a:pt x="18655" y="10581"/>
                    <a:pt x="18655" y="10309"/>
                  </a:cubicBezTo>
                  <a:cubicBezTo>
                    <a:pt x="18655" y="10038"/>
                    <a:pt x="18434" y="9818"/>
                    <a:pt x="18164" y="98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66" name="Group 57"/>
          <p:cNvGrpSpPr/>
          <p:nvPr/>
        </p:nvGrpSpPr>
        <p:grpSpPr>
          <a:xfrm>
            <a:off x="10256400" y="2157480"/>
            <a:ext cx="1935720" cy="850680"/>
            <a:chOff x="10256400" y="2157480"/>
            <a:chExt cx="1935720" cy="850680"/>
          </a:xfrm>
        </p:grpSpPr>
        <p:grpSp>
          <p:nvGrpSpPr>
            <p:cNvPr id="967" name="Group 58"/>
            <p:cNvGrpSpPr/>
            <p:nvPr/>
          </p:nvGrpSpPr>
          <p:grpSpPr>
            <a:xfrm>
              <a:off x="10256400" y="2157480"/>
              <a:ext cx="1935720" cy="850680"/>
              <a:chOff x="10256400" y="2157480"/>
              <a:chExt cx="1935720" cy="850680"/>
            </a:xfrm>
          </p:grpSpPr>
          <p:sp>
            <p:nvSpPr>
              <p:cNvPr id="968" name="Round Single Corner Rectangle 60"/>
              <p:cNvSpPr/>
              <p:nvPr/>
            </p:nvSpPr>
            <p:spPr>
              <a:xfrm flipH="1">
                <a:off x="10256040" y="2157480"/>
                <a:ext cx="914040" cy="85068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69" name="Rectangle 61"/>
              <p:cNvSpPr/>
              <p:nvPr/>
            </p:nvSpPr>
            <p:spPr>
              <a:xfrm>
                <a:off x="11170800" y="2157480"/>
                <a:ext cx="1021320" cy="850680"/>
              </a:xfrm>
              <a:prstGeom prst="rect">
                <a:avLst/>
              </a:prstGeom>
              <a:solidFill>
                <a:srgbClr val="00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70" name="Shape 2604"/>
            <p:cNvSpPr/>
            <p:nvPr/>
          </p:nvSpPr>
          <p:spPr>
            <a:xfrm>
              <a:off x="11512440" y="2421000"/>
              <a:ext cx="279360" cy="228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18" y="9600"/>
                  </a:moveTo>
                  <a:lnTo>
                    <a:pt x="17673" y="9600"/>
                  </a:lnTo>
                  <a:lnTo>
                    <a:pt x="17673" y="8400"/>
                  </a:lnTo>
                  <a:cubicBezTo>
                    <a:pt x="17673" y="7738"/>
                    <a:pt x="17233" y="7200"/>
                    <a:pt x="16691" y="7200"/>
                  </a:cubicBezTo>
                  <a:lnTo>
                    <a:pt x="14727" y="7200"/>
                  </a:lnTo>
                  <a:cubicBezTo>
                    <a:pt x="14186" y="7200"/>
                    <a:pt x="13745" y="7738"/>
                    <a:pt x="13745" y="8400"/>
                  </a:cubicBezTo>
                  <a:lnTo>
                    <a:pt x="13745" y="9600"/>
                  </a:lnTo>
                  <a:lnTo>
                    <a:pt x="7855" y="9600"/>
                  </a:lnTo>
                  <a:lnTo>
                    <a:pt x="7855" y="8400"/>
                  </a:lnTo>
                  <a:cubicBezTo>
                    <a:pt x="7855" y="7738"/>
                    <a:pt x="7414" y="7200"/>
                    <a:pt x="6873" y="7200"/>
                  </a:cubicBezTo>
                  <a:lnTo>
                    <a:pt x="4909" y="7200"/>
                  </a:lnTo>
                  <a:cubicBezTo>
                    <a:pt x="4367" y="7200"/>
                    <a:pt x="3927" y="7738"/>
                    <a:pt x="3927" y="8400"/>
                  </a:cubicBezTo>
                  <a:lnTo>
                    <a:pt x="3927" y="9600"/>
                  </a:lnTo>
                  <a:lnTo>
                    <a:pt x="982" y="9600"/>
                  </a:lnTo>
                  <a:lnTo>
                    <a:pt x="982" y="3601"/>
                  </a:lnTo>
                  <a:lnTo>
                    <a:pt x="20618" y="3601"/>
                  </a:lnTo>
                  <a:cubicBezTo>
                    <a:pt x="20618" y="3601"/>
                    <a:pt x="20618" y="9600"/>
                    <a:pt x="20618" y="9600"/>
                  </a:cubicBezTo>
                  <a:close/>
                  <a:moveTo>
                    <a:pt x="14727" y="8400"/>
                  </a:moveTo>
                  <a:lnTo>
                    <a:pt x="16691" y="8400"/>
                  </a:lnTo>
                  <a:lnTo>
                    <a:pt x="16691" y="12001"/>
                  </a:lnTo>
                  <a:lnTo>
                    <a:pt x="14727" y="12001"/>
                  </a:lnTo>
                  <a:cubicBezTo>
                    <a:pt x="14727" y="12001"/>
                    <a:pt x="14727" y="8400"/>
                    <a:pt x="14727" y="8400"/>
                  </a:cubicBezTo>
                  <a:close/>
                  <a:moveTo>
                    <a:pt x="4909" y="8400"/>
                  </a:moveTo>
                  <a:lnTo>
                    <a:pt x="6873" y="8400"/>
                  </a:lnTo>
                  <a:lnTo>
                    <a:pt x="6873" y="12001"/>
                  </a:lnTo>
                  <a:lnTo>
                    <a:pt x="4909" y="12001"/>
                  </a:lnTo>
                  <a:cubicBezTo>
                    <a:pt x="4909" y="12001"/>
                    <a:pt x="4909" y="8400"/>
                    <a:pt x="4909" y="8400"/>
                  </a:cubicBezTo>
                  <a:close/>
                  <a:moveTo>
                    <a:pt x="19636" y="20400"/>
                  </a:moveTo>
                  <a:lnTo>
                    <a:pt x="1964" y="20400"/>
                  </a:lnTo>
                  <a:lnTo>
                    <a:pt x="1964" y="10800"/>
                  </a:lnTo>
                  <a:lnTo>
                    <a:pt x="3927" y="10800"/>
                  </a:lnTo>
                  <a:lnTo>
                    <a:pt x="3927" y="12001"/>
                  </a:lnTo>
                  <a:cubicBezTo>
                    <a:pt x="3927" y="12662"/>
                    <a:pt x="4367" y="13200"/>
                    <a:pt x="4909" y="13200"/>
                  </a:cubicBezTo>
                  <a:lnTo>
                    <a:pt x="6873" y="13200"/>
                  </a:lnTo>
                  <a:cubicBezTo>
                    <a:pt x="7414" y="13200"/>
                    <a:pt x="7855" y="12662"/>
                    <a:pt x="7855" y="12001"/>
                  </a:cubicBezTo>
                  <a:lnTo>
                    <a:pt x="7855" y="10800"/>
                  </a:lnTo>
                  <a:lnTo>
                    <a:pt x="13745" y="10800"/>
                  </a:lnTo>
                  <a:lnTo>
                    <a:pt x="13745" y="12001"/>
                  </a:lnTo>
                  <a:cubicBezTo>
                    <a:pt x="13745" y="12662"/>
                    <a:pt x="14186" y="13200"/>
                    <a:pt x="14727" y="13200"/>
                  </a:cubicBezTo>
                  <a:lnTo>
                    <a:pt x="16691" y="13200"/>
                  </a:lnTo>
                  <a:cubicBezTo>
                    <a:pt x="17233" y="13200"/>
                    <a:pt x="17673" y="12662"/>
                    <a:pt x="17673" y="12001"/>
                  </a:cubicBezTo>
                  <a:lnTo>
                    <a:pt x="17673" y="10800"/>
                  </a:lnTo>
                  <a:lnTo>
                    <a:pt x="19636" y="10800"/>
                  </a:lnTo>
                  <a:cubicBezTo>
                    <a:pt x="19636" y="10800"/>
                    <a:pt x="19636" y="20400"/>
                    <a:pt x="19636" y="20400"/>
                  </a:cubicBezTo>
                  <a:close/>
                  <a:moveTo>
                    <a:pt x="8836" y="1200"/>
                  </a:moveTo>
                  <a:lnTo>
                    <a:pt x="12764" y="1200"/>
                  </a:lnTo>
                  <a:cubicBezTo>
                    <a:pt x="13305" y="1200"/>
                    <a:pt x="13745" y="1738"/>
                    <a:pt x="13745" y="2400"/>
                  </a:cubicBezTo>
                  <a:lnTo>
                    <a:pt x="7855" y="2400"/>
                  </a:lnTo>
                  <a:cubicBezTo>
                    <a:pt x="7855" y="1738"/>
                    <a:pt x="8295" y="1200"/>
                    <a:pt x="8836" y="1200"/>
                  </a:cubicBezTo>
                  <a:moveTo>
                    <a:pt x="20618" y="2400"/>
                  </a:moveTo>
                  <a:lnTo>
                    <a:pt x="14727" y="2400"/>
                  </a:lnTo>
                  <a:cubicBezTo>
                    <a:pt x="14727" y="1075"/>
                    <a:pt x="13848" y="0"/>
                    <a:pt x="12764" y="0"/>
                  </a:cubicBezTo>
                  <a:lnTo>
                    <a:pt x="8836" y="0"/>
                  </a:lnTo>
                  <a:cubicBezTo>
                    <a:pt x="7752" y="0"/>
                    <a:pt x="6873" y="1075"/>
                    <a:pt x="6873" y="2400"/>
                  </a:cubicBezTo>
                  <a:lnTo>
                    <a:pt x="982" y="2400"/>
                  </a:lnTo>
                  <a:cubicBezTo>
                    <a:pt x="440" y="2400"/>
                    <a:pt x="0" y="2938"/>
                    <a:pt x="0" y="3601"/>
                  </a:cubicBezTo>
                  <a:lnTo>
                    <a:pt x="0" y="9600"/>
                  </a:lnTo>
                  <a:cubicBezTo>
                    <a:pt x="0" y="10262"/>
                    <a:pt x="440" y="10800"/>
                    <a:pt x="982" y="10800"/>
                  </a:cubicBezTo>
                  <a:lnTo>
                    <a:pt x="982" y="20400"/>
                  </a:lnTo>
                  <a:cubicBezTo>
                    <a:pt x="982" y="21062"/>
                    <a:pt x="1422" y="21600"/>
                    <a:pt x="1964" y="21600"/>
                  </a:cubicBezTo>
                  <a:lnTo>
                    <a:pt x="19636" y="21600"/>
                  </a:lnTo>
                  <a:cubicBezTo>
                    <a:pt x="20178" y="21600"/>
                    <a:pt x="20618" y="21062"/>
                    <a:pt x="20618" y="20400"/>
                  </a:cubicBezTo>
                  <a:lnTo>
                    <a:pt x="20618" y="10800"/>
                  </a:lnTo>
                  <a:cubicBezTo>
                    <a:pt x="21160" y="10800"/>
                    <a:pt x="21600" y="10262"/>
                    <a:pt x="21600" y="9600"/>
                  </a:cubicBezTo>
                  <a:lnTo>
                    <a:pt x="21600" y="3601"/>
                  </a:lnTo>
                  <a:cubicBezTo>
                    <a:pt x="21600" y="2938"/>
                    <a:pt x="21160" y="2400"/>
                    <a:pt x="20618" y="240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71" name="Group 62"/>
          <p:cNvGrpSpPr/>
          <p:nvPr/>
        </p:nvGrpSpPr>
        <p:grpSpPr>
          <a:xfrm>
            <a:off x="6598800" y="3858840"/>
            <a:ext cx="2742120" cy="849600"/>
            <a:chOff x="6598800" y="3858840"/>
            <a:chExt cx="2742120" cy="849600"/>
          </a:xfrm>
        </p:grpSpPr>
        <p:grpSp>
          <p:nvGrpSpPr>
            <p:cNvPr id="972" name="Group 63"/>
            <p:cNvGrpSpPr/>
            <p:nvPr/>
          </p:nvGrpSpPr>
          <p:grpSpPr>
            <a:xfrm>
              <a:off x="6598800" y="3858840"/>
              <a:ext cx="2742120" cy="849600"/>
              <a:chOff x="6598800" y="3858840"/>
              <a:chExt cx="2742120" cy="849600"/>
            </a:xfrm>
          </p:grpSpPr>
          <p:sp>
            <p:nvSpPr>
              <p:cNvPr id="973" name="Round Single Corner Rectangle 65"/>
              <p:cNvSpPr/>
              <p:nvPr/>
            </p:nvSpPr>
            <p:spPr>
              <a:xfrm flipH="1">
                <a:off x="6598440" y="3859200"/>
                <a:ext cx="914040" cy="8492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9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74" name="Rectangle 66"/>
              <p:cNvSpPr/>
              <p:nvPr/>
            </p:nvSpPr>
            <p:spPr>
              <a:xfrm>
                <a:off x="7512840" y="3859200"/>
                <a:ext cx="914040" cy="849240"/>
              </a:xfrm>
              <a:prstGeom prst="rect">
                <a:avLst/>
              </a:prstGeom>
              <a:solidFill>
                <a:srgbClr val="0067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75" name="Round Single Corner Rectangle 67"/>
              <p:cNvSpPr/>
              <p:nvPr/>
            </p:nvSpPr>
            <p:spPr>
              <a:xfrm flipV="1">
                <a:off x="8426880" y="3858480"/>
                <a:ext cx="914040" cy="8492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9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76" name="Isosceles Triangle 68"/>
              <p:cNvSpPr/>
              <p:nvPr/>
            </p:nvSpPr>
            <p:spPr>
              <a:xfrm rot="5400000">
                <a:off x="8384040" y="4222080"/>
                <a:ext cx="208080" cy="122760"/>
              </a:xfrm>
              <a:prstGeom prst="triangle">
                <a:avLst>
                  <a:gd name="adj" fmla="val 50000"/>
                </a:avLst>
              </a:prstGeom>
              <a:solidFill>
                <a:srgbClr val="0067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77" name="Shape 2619"/>
            <p:cNvSpPr/>
            <p:nvPr/>
          </p:nvSpPr>
          <p:spPr>
            <a:xfrm>
              <a:off x="7792560" y="4182480"/>
              <a:ext cx="279360" cy="279000"/>
            </a:xfrm>
            <a:custGeom>
              <a:avLst/>
              <a:gdLst/>
              <a:ahLst/>
              <a:rect l="l" t="t" r="r" b="b"/>
              <a:pathLst>
                <a:path w="21600" h="21583">
                  <a:moveTo>
                    <a:pt x="12364" y="11941"/>
                  </a:moveTo>
                  <a:lnTo>
                    <a:pt x="13062" y="14033"/>
                  </a:lnTo>
                  <a:lnTo>
                    <a:pt x="11365" y="12790"/>
                  </a:lnTo>
                  <a:lnTo>
                    <a:pt x="10785" y="12365"/>
                  </a:lnTo>
                  <a:lnTo>
                    <a:pt x="10205" y="12790"/>
                  </a:lnTo>
                  <a:lnTo>
                    <a:pt x="8508" y="14033"/>
                  </a:lnTo>
                  <a:lnTo>
                    <a:pt x="9206" y="11941"/>
                  </a:lnTo>
                  <a:lnTo>
                    <a:pt x="9426" y="11282"/>
                  </a:lnTo>
                  <a:lnTo>
                    <a:pt x="8877" y="10856"/>
                  </a:lnTo>
                  <a:lnTo>
                    <a:pt x="7511" y="9794"/>
                  </a:lnTo>
                  <a:lnTo>
                    <a:pt x="9790" y="9794"/>
                  </a:lnTo>
                  <a:lnTo>
                    <a:pt x="10030" y="9160"/>
                  </a:lnTo>
                  <a:lnTo>
                    <a:pt x="10785" y="7162"/>
                  </a:lnTo>
                  <a:lnTo>
                    <a:pt x="11540" y="9160"/>
                  </a:lnTo>
                  <a:lnTo>
                    <a:pt x="11779" y="9794"/>
                  </a:lnTo>
                  <a:lnTo>
                    <a:pt x="14059" y="9794"/>
                  </a:lnTo>
                  <a:lnTo>
                    <a:pt x="12692" y="10856"/>
                  </a:lnTo>
                  <a:lnTo>
                    <a:pt x="12144" y="11282"/>
                  </a:lnTo>
                  <a:cubicBezTo>
                    <a:pt x="12144" y="11282"/>
                    <a:pt x="12364" y="11941"/>
                    <a:pt x="12364" y="11941"/>
                  </a:cubicBezTo>
                  <a:close/>
                  <a:moveTo>
                    <a:pt x="12458" y="8813"/>
                  </a:moveTo>
                  <a:lnTo>
                    <a:pt x="10785" y="4384"/>
                  </a:lnTo>
                  <a:lnTo>
                    <a:pt x="9111" y="8813"/>
                  </a:lnTo>
                  <a:lnTo>
                    <a:pt x="4649" y="8813"/>
                  </a:lnTo>
                  <a:lnTo>
                    <a:pt x="8275" y="11631"/>
                  </a:lnTo>
                  <a:lnTo>
                    <a:pt x="6601" y="16647"/>
                  </a:lnTo>
                  <a:lnTo>
                    <a:pt x="10785" y="13582"/>
                  </a:lnTo>
                  <a:lnTo>
                    <a:pt x="14969" y="16647"/>
                  </a:lnTo>
                  <a:lnTo>
                    <a:pt x="13295" y="11631"/>
                  </a:lnTo>
                  <a:lnTo>
                    <a:pt x="16921" y="8813"/>
                  </a:lnTo>
                  <a:cubicBezTo>
                    <a:pt x="16921" y="8813"/>
                    <a:pt x="12458" y="8813"/>
                    <a:pt x="12458" y="8813"/>
                  </a:cubicBezTo>
                  <a:close/>
                  <a:moveTo>
                    <a:pt x="10800" y="20592"/>
                  </a:moveTo>
                  <a:cubicBezTo>
                    <a:pt x="9796" y="20381"/>
                    <a:pt x="982" y="17399"/>
                    <a:pt x="982" y="12263"/>
                  </a:cubicBezTo>
                  <a:cubicBezTo>
                    <a:pt x="982" y="7469"/>
                    <a:pt x="2322" y="2919"/>
                    <a:pt x="2778" y="1179"/>
                  </a:cubicBezTo>
                  <a:cubicBezTo>
                    <a:pt x="4022" y="1719"/>
                    <a:pt x="7232" y="2943"/>
                    <a:pt x="10800" y="2943"/>
                  </a:cubicBezTo>
                  <a:cubicBezTo>
                    <a:pt x="14368" y="2943"/>
                    <a:pt x="17579" y="1719"/>
                    <a:pt x="18823" y="1179"/>
                  </a:cubicBezTo>
                  <a:cubicBezTo>
                    <a:pt x="19278" y="2918"/>
                    <a:pt x="20618" y="7466"/>
                    <a:pt x="20618" y="12263"/>
                  </a:cubicBezTo>
                  <a:cubicBezTo>
                    <a:pt x="20618" y="17393"/>
                    <a:pt x="11803" y="20381"/>
                    <a:pt x="10800" y="20592"/>
                  </a:cubicBezTo>
                  <a:moveTo>
                    <a:pt x="19618" y="356"/>
                  </a:moveTo>
                  <a:cubicBezTo>
                    <a:pt x="19577" y="216"/>
                    <a:pt x="19477" y="101"/>
                    <a:pt x="19343" y="42"/>
                  </a:cubicBezTo>
                  <a:cubicBezTo>
                    <a:pt x="19210" y="-17"/>
                    <a:pt x="19057" y="-13"/>
                    <a:pt x="18926" y="52"/>
                  </a:cubicBezTo>
                  <a:cubicBezTo>
                    <a:pt x="18888" y="71"/>
                    <a:pt x="15053" y="1962"/>
                    <a:pt x="10800" y="1962"/>
                  </a:cubicBezTo>
                  <a:cubicBezTo>
                    <a:pt x="6556" y="1962"/>
                    <a:pt x="2712" y="71"/>
                    <a:pt x="2674" y="52"/>
                  </a:cubicBezTo>
                  <a:cubicBezTo>
                    <a:pt x="2543" y="-13"/>
                    <a:pt x="2391" y="-17"/>
                    <a:pt x="2257" y="42"/>
                  </a:cubicBezTo>
                  <a:cubicBezTo>
                    <a:pt x="2124" y="101"/>
                    <a:pt x="2023" y="216"/>
                    <a:pt x="1983" y="356"/>
                  </a:cubicBezTo>
                  <a:cubicBezTo>
                    <a:pt x="1963" y="426"/>
                    <a:pt x="0" y="6376"/>
                    <a:pt x="0" y="12263"/>
                  </a:cubicBezTo>
                  <a:cubicBezTo>
                    <a:pt x="0" y="18484"/>
                    <a:pt x="10271" y="21491"/>
                    <a:pt x="10708" y="21575"/>
                  </a:cubicBezTo>
                  <a:cubicBezTo>
                    <a:pt x="10739" y="21580"/>
                    <a:pt x="10770" y="21583"/>
                    <a:pt x="10800" y="21583"/>
                  </a:cubicBezTo>
                  <a:cubicBezTo>
                    <a:pt x="10831" y="21583"/>
                    <a:pt x="10862" y="21580"/>
                    <a:pt x="10892" y="21575"/>
                  </a:cubicBezTo>
                  <a:cubicBezTo>
                    <a:pt x="11329" y="21491"/>
                    <a:pt x="21600" y="18484"/>
                    <a:pt x="21600" y="12263"/>
                  </a:cubicBezTo>
                  <a:cubicBezTo>
                    <a:pt x="21600" y="6376"/>
                    <a:pt x="19637" y="426"/>
                    <a:pt x="19618" y="35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978" name="Group 69"/>
          <p:cNvGrpSpPr/>
          <p:nvPr/>
        </p:nvGrpSpPr>
        <p:grpSpPr>
          <a:xfrm>
            <a:off x="8426520" y="3008160"/>
            <a:ext cx="2744640" cy="851040"/>
            <a:chOff x="8426520" y="3008160"/>
            <a:chExt cx="2744640" cy="851040"/>
          </a:xfrm>
        </p:grpSpPr>
        <p:grpSp>
          <p:nvGrpSpPr>
            <p:cNvPr id="979" name="Group 70"/>
            <p:cNvGrpSpPr/>
            <p:nvPr/>
          </p:nvGrpSpPr>
          <p:grpSpPr>
            <a:xfrm>
              <a:off x="8426520" y="3008160"/>
              <a:ext cx="2744640" cy="851040"/>
              <a:chOff x="8426520" y="3008160"/>
              <a:chExt cx="2744640" cy="851040"/>
            </a:xfrm>
          </p:grpSpPr>
          <p:sp>
            <p:nvSpPr>
              <p:cNvPr id="980" name="Round Single Corner Rectangle 72"/>
              <p:cNvSpPr/>
              <p:nvPr/>
            </p:nvSpPr>
            <p:spPr>
              <a:xfrm flipH="1">
                <a:off x="8426520" y="3008160"/>
                <a:ext cx="913680" cy="8510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81" name="Rectangle 73"/>
              <p:cNvSpPr/>
              <p:nvPr/>
            </p:nvSpPr>
            <p:spPr>
              <a:xfrm>
                <a:off x="9330480" y="3008160"/>
                <a:ext cx="961920" cy="851040"/>
              </a:xfrm>
              <a:prstGeom prst="rect">
                <a:avLst/>
              </a:prstGeom>
              <a:solidFill>
                <a:srgbClr val="0079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82" name="Round Single Corner Rectangle 74"/>
              <p:cNvSpPr/>
              <p:nvPr/>
            </p:nvSpPr>
            <p:spPr>
              <a:xfrm flipV="1">
                <a:off x="10257480" y="3008160"/>
                <a:ext cx="913680" cy="851040"/>
              </a:xfrm>
              <a:custGeom>
                <a:avLst/>
                <a:gdLst/>
                <a:ahLst/>
                <a:rect l="l" t="t" r="r" b="b"/>
                <a:pathLst>
                  <a:path w="913710" h="850209">
                    <a:moveTo>
                      <a:pt x="0" y="0"/>
                    </a:moveTo>
                    <a:lnTo>
                      <a:pt x="488606" y="0"/>
                    </a:lnTo>
                    <a:cubicBezTo>
                      <a:pt x="723385" y="0"/>
                      <a:pt x="913711" y="190326"/>
                      <a:pt x="913711" y="425105"/>
                    </a:cubicBezTo>
                    <a:cubicBezTo>
                      <a:pt x="913711" y="566806"/>
                      <a:pt x="913710" y="708508"/>
                      <a:pt x="913710" y="850209"/>
                    </a:cubicBezTo>
                    <a:lnTo>
                      <a:pt x="0" y="850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  <p:sp>
            <p:nvSpPr>
              <p:cNvPr id="983" name="Isosceles Triangle 75"/>
              <p:cNvSpPr/>
              <p:nvPr/>
            </p:nvSpPr>
            <p:spPr>
              <a:xfrm rot="5400000">
                <a:off x="10213920" y="3385080"/>
                <a:ext cx="208440" cy="122760"/>
              </a:xfrm>
              <a:prstGeom prst="triangle">
                <a:avLst>
                  <a:gd name="adj" fmla="val 50000"/>
                </a:avLst>
              </a:prstGeom>
              <a:solidFill>
                <a:srgbClr val="0079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56d78"/>
                  </a:solidFill>
                  <a:latin typeface="Calibri"/>
                </a:endParaRPr>
              </a:p>
            </p:txBody>
          </p:sp>
        </p:grpSp>
        <p:sp>
          <p:nvSpPr>
            <p:cNvPr id="984" name="Shape 2620"/>
            <p:cNvSpPr/>
            <p:nvPr/>
          </p:nvSpPr>
          <p:spPr>
            <a:xfrm>
              <a:off x="9692280" y="3327480"/>
              <a:ext cx="279360" cy="254160"/>
            </a:xfrm>
            <a:custGeom>
              <a:avLst/>
              <a:gdLst/>
              <a:ahLst/>
              <a:rect l="l" t="t" r="r" b="b"/>
              <a:pathLst>
                <a:path w="21600" h="21144">
                  <a:moveTo>
                    <a:pt x="20618" y="7406"/>
                  </a:moveTo>
                  <a:lnTo>
                    <a:pt x="13580" y="7406"/>
                  </a:lnTo>
                  <a:cubicBezTo>
                    <a:pt x="13156" y="6803"/>
                    <a:pt x="12718" y="6095"/>
                    <a:pt x="12319" y="5293"/>
                  </a:cubicBezTo>
                  <a:lnTo>
                    <a:pt x="20618" y="5293"/>
                  </a:lnTo>
                  <a:cubicBezTo>
                    <a:pt x="20618" y="5293"/>
                    <a:pt x="20618" y="7406"/>
                    <a:pt x="20618" y="7406"/>
                  </a:cubicBezTo>
                  <a:close/>
                  <a:moveTo>
                    <a:pt x="19636" y="13747"/>
                  </a:moveTo>
                  <a:lnTo>
                    <a:pt x="11291" y="13747"/>
                  </a:lnTo>
                  <a:lnTo>
                    <a:pt x="11291" y="8463"/>
                  </a:lnTo>
                  <a:lnTo>
                    <a:pt x="13090" y="8463"/>
                  </a:lnTo>
                  <a:cubicBezTo>
                    <a:pt x="14022" y="9712"/>
                    <a:pt x="14815" y="10437"/>
                    <a:pt x="14882" y="10497"/>
                  </a:cubicBezTo>
                  <a:cubicBezTo>
                    <a:pt x="15009" y="10610"/>
                    <a:pt x="15174" y="10644"/>
                    <a:pt x="15323" y="10601"/>
                  </a:cubicBezTo>
                  <a:cubicBezTo>
                    <a:pt x="15418" y="10574"/>
                    <a:pt x="15505" y="10516"/>
                    <a:pt x="15573" y="10429"/>
                  </a:cubicBezTo>
                  <a:cubicBezTo>
                    <a:pt x="15746" y="10205"/>
                    <a:pt x="15718" y="9871"/>
                    <a:pt x="15510" y="9684"/>
                  </a:cubicBezTo>
                  <a:cubicBezTo>
                    <a:pt x="15498" y="9674"/>
                    <a:pt x="15023" y="9238"/>
                    <a:pt x="14383" y="8463"/>
                  </a:cubicBezTo>
                  <a:lnTo>
                    <a:pt x="19636" y="8463"/>
                  </a:lnTo>
                  <a:cubicBezTo>
                    <a:pt x="19636" y="8463"/>
                    <a:pt x="19636" y="13747"/>
                    <a:pt x="19636" y="13747"/>
                  </a:cubicBezTo>
                  <a:close/>
                  <a:moveTo>
                    <a:pt x="19636" y="20087"/>
                  </a:moveTo>
                  <a:lnTo>
                    <a:pt x="11291" y="20087"/>
                  </a:lnTo>
                  <a:lnTo>
                    <a:pt x="11291" y="14803"/>
                  </a:lnTo>
                  <a:lnTo>
                    <a:pt x="19636" y="14803"/>
                  </a:lnTo>
                  <a:cubicBezTo>
                    <a:pt x="19636" y="14803"/>
                    <a:pt x="19636" y="20087"/>
                    <a:pt x="19636" y="20087"/>
                  </a:cubicBezTo>
                  <a:close/>
                  <a:moveTo>
                    <a:pt x="11291" y="5461"/>
                  </a:moveTo>
                  <a:cubicBezTo>
                    <a:pt x="11626" y="6178"/>
                    <a:pt x="11991" y="6828"/>
                    <a:pt x="12360" y="7406"/>
                  </a:cubicBezTo>
                  <a:lnTo>
                    <a:pt x="11291" y="7406"/>
                  </a:lnTo>
                  <a:cubicBezTo>
                    <a:pt x="11291" y="7406"/>
                    <a:pt x="11291" y="5461"/>
                    <a:pt x="11291" y="5461"/>
                  </a:cubicBezTo>
                  <a:close/>
                  <a:moveTo>
                    <a:pt x="12871" y="1481"/>
                  </a:moveTo>
                  <a:cubicBezTo>
                    <a:pt x="14045" y="751"/>
                    <a:pt x="15436" y="979"/>
                    <a:pt x="15979" y="1990"/>
                  </a:cubicBezTo>
                  <a:cubicBezTo>
                    <a:pt x="16343" y="2668"/>
                    <a:pt x="16223" y="3523"/>
                    <a:pt x="15755" y="4236"/>
                  </a:cubicBezTo>
                  <a:lnTo>
                    <a:pt x="11845" y="4236"/>
                  </a:lnTo>
                  <a:cubicBezTo>
                    <a:pt x="11740" y="3975"/>
                    <a:pt x="11641" y="3708"/>
                    <a:pt x="11550" y="3432"/>
                  </a:cubicBezTo>
                  <a:cubicBezTo>
                    <a:pt x="11653" y="2691"/>
                    <a:pt x="12120" y="1947"/>
                    <a:pt x="12871" y="1481"/>
                  </a:cubicBezTo>
                  <a:moveTo>
                    <a:pt x="10309" y="7406"/>
                  </a:moveTo>
                  <a:lnTo>
                    <a:pt x="9224" y="7406"/>
                  </a:lnTo>
                  <a:cubicBezTo>
                    <a:pt x="9600" y="6819"/>
                    <a:pt x="9970" y="6158"/>
                    <a:pt x="10309" y="5429"/>
                  </a:cubicBezTo>
                  <a:cubicBezTo>
                    <a:pt x="10309" y="5429"/>
                    <a:pt x="10309" y="7406"/>
                    <a:pt x="10309" y="7406"/>
                  </a:cubicBezTo>
                  <a:close/>
                  <a:moveTo>
                    <a:pt x="10309" y="13747"/>
                  </a:moveTo>
                  <a:lnTo>
                    <a:pt x="1964" y="13747"/>
                  </a:lnTo>
                  <a:lnTo>
                    <a:pt x="1964" y="8463"/>
                  </a:lnTo>
                  <a:lnTo>
                    <a:pt x="7202" y="8463"/>
                  </a:lnTo>
                  <a:cubicBezTo>
                    <a:pt x="6563" y="9238"/>
                    <a:pt x="6087" y="9674"/>
                    <a:pt x="6075" y="9684"/>
                  </a:cubicBezTo>
                  <a:cubicBezTo>
                    <a:pt x="5867" y="9871"/>
                    <a:pt x="5839" y="10205"/>
                    <a:pt x="6012" y="10429"/>
                  </a:cubicBezTo>
                  <a:cubicBezTo>
                    <a:pt x="6080" y="10516"/>
                    <a:pt x="6167" y="10574"/>
                    <a:pt x="6261" y="10601"/>
                  </a:cubicBezTo>
                  <a:cubicBezTo>
                    <a:pt x="6411" y="10644"/>
                    <a:pt x="6575" y="10610"/>
                    <a:pt x="6703" y="10497"/>
                  </a:cubicBezTo>
                  <a:cubicBezTo>
                    <a:pt x="6770" y="10437"/>
                    <a:pt x="7563" y="9712"/>
                    <a:pt x="8495" y="8463"/>
                  </a:cubicBezTo>
                  <a:lnTo>
                    <a:pt x="10309" y="8463"/>
                  </a:lnTo>
                  <a:cubicBezTo>
                    <a:pt x="10309" y="8463"/>
                    <a:pt x="10309" y="13747"/>
                    <a:pt x="10309" y="13747"/>
                  </a:cubicBezTo>
                  <a:close/>
                  <a:moveTo>
                    <a:pt x="10309" y="20087"/>
                  </a:moveTo>
                  <a:lnTo>
                    <a:pt x="1964" y="20087"/>
                  </a:lnTo>
                  <a:lnTo>
                    <a:pt x="1964" y="14803"/>
                  </a:lnTo>
                  <a:lnTo>
                    <a:pt x="10309" y="14803"/>
                  </a:lnTo>
                  <a:cubicBezTo>
                    <a:pt x="10309" y="14803"/>
                    <a:pt x="10309" y="20087"/>
                    <a:pt x="10309" y="20087"/>
                  </a:cubicBezTo>
                  <a:close/>
                  <a:moveTo>
                    <a:pt x="982" y="7406"/>
                  </a:moveTo>
                  <a:lnTo>
                    <a:pt x="982" y="5293"/>
                  </a:lnTo>
                  <a:lnTo>
                    <a:pt x="9266" y="5293"/>
                  </a:lnTo>
                  <a:cubicBezTo>
                    <a:pt x="8867" y="6095"/>
                    <a:pt x="8429" y="6803"/>
                    <a:pt x="8005" y="7406"/>
                  </a:cubicBezTo>
                  <a:cubicBezTo>
                    <a:pt x="8005" y="7406"/>
                    <a:pt x="982" y="7406"/>
                    <a:pt x="982" y="7406"/>
                  </a:cubicBezTo>
                  <a:close/>
                  <a:moveTo>
                    <a:pt x="5606" y="1990"/>
                  </a:moveTo>
                  <a:cubicBezTo>
                    <a:pt x="6148" y="980"/>
                    <a:pt x="7540" y="751"/>
                    <a:pt x="8714" y="1481"/>
                  </a:cubicBezTo>
                  <a:cubicBezTo>
                    <a:pt x="9465" y="1948"/>
                    <a:pt x="9931" y="2692"/>
                    <a:pt x="10035" y="3433"/>
                  </a:cubicBezTo>
                  <a:cubicBezTo>
                    <a:pt x="9944" y="3708"/>
                    <a:pt x="9845" y="3975"/>
                    <a:pt x="9740" y="4236"/>
                  </a:cubicBezTo>
                  <a:lnTo>
                    <a:pt x="5830" y="4236"/>
                  </a:lnTo>
                  <a:cubicBezTo>
                    <a:pt x="5362" y="3523"/>
                    <a:pt x="5242" y="2668"/>
                    <a:pt x="5606" y="1990"/>
                  </a:cubicBezTo>
                  <a:moveTo>
                    <a:pt x="20618" y="4236"/>
                  </a:moveTo>
                  <a:lnTo>
                    <a:pt x="16874" y="4236"/>
                  </a:lnTo>
                  <a:cubicBezTo>
                    <a:pt x="17259" y="3325"/>
                    <a:pt x="17284" y="2310"/>
                    <a:pt x="16829" y="1461"/>
                  </a:cubicBezTo>
                  <a:cubicBezTo>
                    <a:pt x="16015" y="-54"/>
                    <a:pt x="14024" y="-456"/>
                    <a:pt x="12380" y="565"/>
                  </a:cubicBezTo>
                  <a:cubicBezTo>
                    <a:pt x="11747" y="959"/>
                    <a:pt x="11277" y="1511"/>
                    <a:pt x="10965" y="2122"/>
                  </a:cubicBezTo>
                  <a:cubicBezTo>
                    <a:pt x="10949" y="2115"/>
                    <a:pt x="10937" y="2103"/>
                    <a:pt x="10920" y="2098"/>
                  </a:cubicBezTo>
                  <a:cubicBezTo>
                    <a:pt x="10909" y="2095"/>
                    <a:pt x="10899" y="2097"/>
                    <a:pt x="10888" y="2095"/>
                  </a:cubicBezTo>
                  <a:cubicBezTo>
                    <a:pt x="10861" y="2089"/>
                    <a:pt x="10834" y="2089"/>
                    <a:pt x="10806" y="2088"/>
                  </a:cubicBezTo>
                  <a:cubicBezTo>
                    <a:pt x="10782" y="2089"/>
                    <a:pt x="10759" y="2089"/>
                    <a:pt x="10735" y="2093"/>
                  </a:cubicBezTo>
                  <a:cubicBezTo>
                    <a:pt x="10712" y="2096"/>
                    <a:pt x="10689" y="2090"/>
                    <a:pt x="10665" y="2098"/>
                  </a:cubicBezTo>
                  <a:cubicBezTo>
                    <a:pt x="10648" y="2103"/>
                    <a:pt x="10636" y="2115"/>
                    <a:pt x="10620" y="2122"/>
                  </a:cubicBezTo>
                  <a:cubicBezTo>
                    <a:pt x="10307" y="1511"/>
                    <a:pt x="9837" y="959"/>
                    <a:pt x="9205" y="566"/>
                  </a:cubicBezTo>
                  <a:cubicBezTo>
                    <a:pt x="7561" y="-456"/>
                    <a:pt x="5569" y="-54"/>
                    <a:pt x="4755" y="1461"/>
                  </a:cubicBezTo>
                  <a:cubicBezTo>
                    <a:pt x="4301" y="2310"/>
                    <a:pt x="4325" y="3325"/>
                    <a:pt x="4711" y="4236"/>
                  </a:cubicBezTo>
                  <a:lnTo>
                    <a:pt x="982" y="4236"/>
                  </a:lnTo>
                  <a:cubicBezTo>
                    <a:pt x="440" y="4236"/>
                    <a:pt x="0" y="4709"/>
                    <a:pt x="0" y="5293"/>
                  </a:cubicBezTo>
                  <a:lnTo>
                    <a:pt x="0" y="7406"/>
                  </a:lnTo>
                  <a:cubicBezTo>
                    <a:pt x="0" y="7990"/>
                    <a:pt x="440" y="8463"/>
                    <a:pt x="982" y="8463"/>
                  </a:cubicBezTo>
                  <a:lnTo>
                    <a:pt x="982" y="20087"/>
                  </a:lnTo>
                  <a:cubicBezTo>
                    <a:pt x="982" y="20671"/>
                    <a:pt x="1422" y="21144"/>
                    <a:pt x="1964" y="21144"/>
                  </a:cubicBezTo>
                  <a:lnTo>
                    <a:pt x="19636" y="21144"/>
                  </a:lnTo>
                  <a:cubicBezTo>
                    <a:pt x="20178" y="21144"/>
                    <a:pt x="20618" y="20671"/>
                    <a:pt x="20618" y="20087"/>
                  </a:cubicBezTo>
                  <a:lnTo>
                    <a:pt x="20618" y="8463"/>
                  </a:lnTo>
                  <a:cubicBezTo>
                    <a:pt x="21160" y="8463"/>
                    <a:pt x="21600" y="7990"/>
                    <a:pt x="21600" y="7406"/>
                  </a:cubicBezTo>
                  <a:lnTo>
                    <a:pt x="21600" y="5293"/>
                  </a:lnTo>
                  <a:cubicBezTo>
                    <a:pt x="21600" y="4709"/>
                    <a:pt x="21160" y="4236"/>
                    <a:pt x="20618" y="42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18720" bIns="1872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500"/>
                            </p:stCondLst>
                            <p:childTnLst>
                              <p:par>
                                <p:cTn id="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5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000"/>
                            </p:stCondLst>
                            <p:childTnLst>
                              <p:par>
                                <p:cTn id="3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9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500"/>
                            </p:stCondLst>
                            <p:childTnLst>
                              <p:par>
                                <p:cTn id="3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6000"/>
                            </p:stCondLst>
                            <p:childTnLst>
                              <p:par>
                                <p:cTn id="39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6500"/>
                            </p:stCondLst>
                            <p:childTnLst>
                              <p:par>
                                <p:cTn id="3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7500"/>
                            </p:stCondLst>
                            <p:childTnLst>
                              <p:par>
                                <p:cTn id="40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00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8500"/>
                            </p:stCondLst>
                            <p:childTnLst>
                              <p:par>
                                <p:cTn id="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9000"/>
                            </p:stCondLst>
                            <p:childTnLst>
                              <p:par>
                                <p:cTn id="41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9500"/>
                            </p:stCondLst>
                            <p:childTnLst>
                              <p:par>
                                <p:cTn id="4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TextBox 1"/>
          <p:cNvSpPr/>
          <p:nvPr/>
        </p:nvSpPr>
        <p:spPr>
          <a:xfrm>
            <a:off x="3898440" y="538200"/>
            <a:ext cx="4411440" cy="58140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6d78"/>
                </a:solidFill>
                <a:latin typeface="Source Sans Pro Light"/>
                <a:ea typeface="Open Sans"/>
              </a:rPr>
              <a:t>Ranking Analysis Slide</a:t>
            </a:r>
            <a:endParaRPr b="0" lang="en-US" sz="32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86" name="Rectangle 2"/>
          <p:cNvSpPr/>
          <p:nvPr/>
        </p:nvSpPr>
        <p:spPr>
          <a:xfrm>
            <a:off x="3916440" y="1012680"/>
            <a:ext cx="4376520" cy="428760"/>
          </a:xfrm>
          <a:prstGeom prst="rect">
            <a:avLst/>
          </a:prstGeom>
          <a:noFill/>
          <a:ln w="0">
            <a:noFill/>
          </a:ln>
          <a:effectLst>
            <a:outerShdw dist="254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Letterpress next level trust fund, </a:t>
            </a:r>
            <a:r>
              <a:rPr b="0" lang="en-US" sz="1100" spc="-1" strike="noStrike">
                <a:solidFill>
                  <a:srgbClr val="26a69a"/>
                </a:solidFill>
                <a:latin typeface="Source Sans Pro Light"/>
              </a:rPr>
              <a:t>before</a:t>
            </a:r>
            <a:r>
              <a:rPr b="0" lang="en-US" sz="1100" spc="-1" strike="noStrike">
                <a:solidFill>
                  <a:srgbClr val="656d78"/>
                </a:solidFill>
                <a:latin typeface="Source Sans Pro Light"/>
              </a:rPr>
              <a:t> they sold out +1 meh gluten-free locavore tacos PBR&amp;B tofu. </a:t>
            </a:r>
            <a:endParaRPr b="0" lang="en-US" sz="11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87" name="Rectangle 3"/>
          <p:cNvSpPr/>
          <p:nvPr/>
        </p:nvSpPr>
        <p:spPr>
          <a:xfrm>
            <a:off x="1230480" y="4199040"/>
            <a:ext cx="9753480" cy="63360"/>
          </a:xfrm>
          <a:prstGeom prst="rect">
            <a:avLst/>
          </a:prstGeom>
          <a:solidFill>
            <a:srgbClr val="1d7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88" name="Freeform 4"/>
          <p:cNvSpPr/>
          <p:nvPr/>
        </p:nvSpPr>
        <p:spPr>
          <a:xfrm>
            <a:off x="1509840" y="4105440"/>
            <a:ext cx="763560" cy="9360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26a6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89" name="Freeform 6"/>
          <p:cNvSpPr/>
          <p:nvPr/>
        </p:nvSpPr>
        <p:spPr>
          <a:xfrm>
            <a:off x="2273400" y="3968640"/>
            <a:ext cx="765000" cy="23040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0" name="Freeform 6"/>
          <p:cNvSpPr/>
          <p:nvPr/>
        </p:nvSpPr>
        <p:spPr>
          <a:xfrm>
            <a:off x="3038400" y="3871800"/>
            <a:ext cx="763560" cy="32724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008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1" name="Freeform 6"/>
          <p:cNvSpPr/>
          <p:nvPr/>
        </p:nvSpPr>
        <p:spPr>
          <a:xfrm>
            <a:off x="3801960" y="3703680"/>
            <a:ext cx="765360" cy="49536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0079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2" name="Freeform 8"/>
          <p:cNvSpPr/>
          <p:nvPr/>
        </p:nvSpPr>
        <p:spPr>
          <a:xfrm>
            <a:off x="4567320" y="3559320"/>
            <a:ext cx="763560" cy="63972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006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3" name="Freeform 6"/>
          <p:cNvSpPr/>
          <p:nvPr/>
        </p:nvSpPr>
        <p:spPr>
          <a:xfrm>
            <a:off x="5330880" y="3398760"/>
            <a:ext cx="765000" cy="80028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004d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4" name="Freeform 6"/>
          <p:cNvSpPr/>
          <p:nvPr/>
        </p:nvSpPr>
        <p:spPr>
          <a:xfrm>
            <a:off x="6095880" y="3286080"/>
            <a:ext cx="765360" cy="91296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26a6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5" name="Freeform 6"/>
          <p:cNvSpPr/>
          <p:nvPr/>
        </p:nvSpPr>
        <p:spPr>
          <a:xfrm>
            <a:off x="6861240" y="3029040"/>
            <a:ext cx="763560" cy="117000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6" name="Freeform 6"/>
          <p:cNvSpPr/>
          <p:nvPr/>
        </p:nvSpPr>
        <p:spPr>
          <a:xfrm>
            <a:off x="7624800" y="2774880"/>
            <a:ext cx="765000" cy="142416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008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7" name="Freeform 6"/>
          <p:cNvSpPr/>
          <p:nvPr/>
        </p:nvSpPr>
        <p:spPr>
          <a:xfrm>
            <a:off x="8389800" y="2435400"/>
            <a:ext cx="763560" cy="176364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0079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8" name="Freeform 6"/>
          <p:cNvSpPr/>
          <p:nvPr/>
        </p:nvSpPr>
        <p:spPr>
          <a:xfrm>
            <a:off x="9153360" y="2081160"/>
            <a:ext cx="765360" cy="211788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006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999" name="Freeform 6"/>
          <p:cNvSpPr/>
          <p:nvPr/>
        </p:nvSpPr>
        <p:spPr>
          <a:xfrm>
            <a:off x="9918720" y="1744560"/>
            <a:ext cx="763560" cy="2454480"/>
          </a:xfrm>
          <a:custGeom>
            <a:avLst/>
            <a:gdLst/>
            <a:ahLst/>
            <a:rect l="l" t="t" r="r" b="b"/>
            <a:pathLst>
              <a:path w="648" h="1082">
                <a:moveTo>
                  <a:pt x="648" y="1082"/>
                </a:moveTo>
                <a:cubicBezTo>
                  <a:pt x="0" y="1082"/>
                  <a:pt x="0" y="1082"/>
                  <a:pt x="0" y="1082"/>
                </a:cubicBezTo>
                <a:cubicBezTo>
                  <a:pt x="4" y="1082"/>
                  <a:pt x="98" y="1080"/>
                  <a:pt x="140" y="919"/>
                </a:cubicBezTo>
                <a:cubicBezTo>
                  <a:pt x="182" y="755"/>
                  <a:pt x="223" y="0"/>
                  <a:pt x="324" y="0"/>
                </a:cubicBezTo>
                <a:cubicBezTo>
                  <a:pt x="425" y="0"/>
                  <a:pt x="466" y="755"/>
                  <a:pt x="508" y="919"/>
                </a:cubicBezTo>
                <a:cubicBezTo>
                  <a:pt x="550" y="1080"/>
                  <a:pt x="644" y="1082"/>
                  <a:pt x="648" y="1082"/>
                </a:cubicBezTo>
                <a:close/>
              </a:path>
            </a:pathLst>
          </a:custGeom>
          <a:solidFill>
            <a:srgbClr val="004d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pic>
        <p:nvPicPr>
          <p:cNvPr id="1000" name="Group 16" descr=""/>
          <p:cNvPicPr/>
          <p:nvPr/>
        </p:nvPicPr>
        <p:blipFill>
          <a:blip r:embed="rId1"/>
          <a:stretch/>
        </p:blipFill>
        <p:spPr>
          <a:xfrm>
            <a:off x="1657440" y="3352680"/>
            <a:ext cx="463320" cy="554040"/>
          </a:xfrm>
          <a:prstGeom prst="rect">
            <a:avLst/>
          </a:prstGeom>
          <a:ln w="0">
            <a:noFill/>
          </a:ln>
        </p:spPr>
      </p:pic>
      <p:grpSp>
        <p:nvGrpSpPr>
          <p:cNvPr id="1001" name="Group 19"/>
          <p:cNvGrpSpPr/>
          <p:nvPr/>
        </p:nvGrpSpPr>
        <p:grpSpPr>
          <a:xfrm>
            <a:off x="9975960" y="876600"/>
            <a:ext cx="648720" cy="649080"/>
            <a:chOff x="9975960" y="876600"/>
            <a:chExt cx="648720" cy="649080"/>
          </a:xfrm>
        </p:grpSpPr>
        <p:sp>
          <p:nvSpPr>
            <p:cNvPr id="1002" name="Teardrop 20"/>
            <p:cNvSpPr/>
            <p:nvPr/>
          </p:nvSpPr>
          <p:spPr>
            <a:xfrm rot="8100000">
              <a:off x="10070640" y="971640"/>
              <a:ext cx="459000" cy="458640"/>
            </a:xfrm>
            <a:custGeom>
              <a:avLst/>
              <a:gdLst/>
              <a:ahLst/>
              <a:rect l="l" t="t" r="r" b="b"/>
              <a:pathLst>
                <a:path w="458437" h="458438">
                  <a:moveTo>
                    <a:pt x="0" y="229219"/>
                  </a:moveTo>
                  <a:cubicBezTo>
                    <a:pt x="0" y="102625"/>
                    <a:pt x="102625" y="0"/>
                    <a:pt x="229219" y="0"/>
                  </a:cubicBezTo>
                  <a:lnTo>
                    <a:pt x="458437" y="0"/>
                  </a:lnTo>
                  <a:lnTo>
                    <a:pt x="458437" y="229219"/>
                  </a:lnTo>
                  <a:cubicBezTo>
                    <a:pt x="458437" y="355813"/>
                    <a:pt x="355812" y="458438"/>
                    <a:pt x="229218" y="458438"/>
                  </a:cubicBezTo>
                  <a:cubicBezTo>
                    <a:pt x="102624" y="458438"/>
                    <a:pt x="-1" y="355813"/>
                    <a:pt x="-1" y="229219"/>
                  </a:cubicBezTo>
                  <a:lnTo>
                    <a:pt x="0" y="229219"/>
                  </a:lnTo>
                  <a:close/>
                </a:path>
              </a:pathLst>
            </a:custGeom>
            <a:solidFill>
              <a:srgbClr val="004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03" name="TextBox 21"/>
            <p:cNvSpPr/>
            <p:nvPr/>
          </p:nvSpPr>
          <p:spPr>
            <a:xfrm>
              <a:off x="10099800" y="1040760"/>
              <a:ext cx="40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ffffff"/>
                  </a:solidFill>
                  <a:latin typeface="Source Sans Pro"/>
                  <a:ea typeface="Source Sans Pro"/>
                </a:rPr>
                <a:t>8K</a:t>
              </a:r>
              <a:endParaRPr b="0" lang="en-US" sz="14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sp>
        <p:nvSpPr>
          <p:cNvPr id="1004" name="Oval 22"/>
          <p:cNvSpPr/>
          <p:nvPr/>
        </p:nvSpPr>
        <p:spPr>
          <a:xfrm>
            <a:off x="1260360" y="1797120"/>
            <a:ext cx="179640" cy="179280"/>
          </a:xfrm>
          <a:prstGeom prst="ellipse">
            <a:avLst/>
          </a:prstGeom>
          <a:solidFill>
            <a:srgbClr val="26a6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56d78"/>
              </a:solidFill>
              <a:latin typeface="Calibri"/>
            </a:endParaRPr>
          </a:p>
        </p:txBody>
      </p:sp>
      <p:sp>
        <p:nvSpPr>
          <p:cNvPr id="1005" name="Rectangle 23"/>
          <p:cNvSpPr/>
          <p:nvPr/>
        </p:nvSpPr>
        <p:spPr>
          <a:xfrm>
            <a:off x="1449360" y="1676520"/>
            <a:ext cx="6637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Hashtag fashion axe fingerstache, everyday carry shoreditch pinterest umami authent</a:t>
            </a:r>
            <a:r>
              <a:rPr b="1" lang="en-US" sz="1200" spc="-1" strike="noStrike">
                <a:solidFill>
                  <a:srgbClr val="44546a"/>
                </a:solidFill>
                <a:latin typeface="Source Sans Pro Light"/>
              </a:rPr>
              <a:t>ic </a:t>
            </a:r>
            <a:r>
              <a:rPr b="0" lang="en-US" sz="1200" spc="-1" strike="noStrike">
                <a:solidFill>
                  <a:srgbClr val="44546a"/>
                </a:solidFill>
                <a:latin typeface="Source Sans Pro Light"/>
              </a:rPr>
              <a:t>brooklyn YOLO heirloom keytar waistcoat kickstarter. Kitsch authentic offal, narwhal tilde etsy four loko selvage normcore messenger bag put a bird on it heirloom gastropub.</a:t>
            </a:r>
            <a:endParaRPr b="0" lang="en-US" sz="1200" spc="-1" strike="noStrike">
              <a:solidFill>
                <a:srgbClr val="656d78"/>
              </a:solidFill>
              <a:latin typeface="Calibri"/>
            </a:endParaRPr>
          </a:p>
        </p:txBody>
      </p:sp>
      <p:grpSp>
        <p:nvGrpSpPr>
          <p:cNvPr id="1006" name="Group 24"/>
          <p:cNvGrpSpPr/>
          <p:nvPr/>
        </p:nvGrpSpPr>
        <p:grpSpPr>
          <a:xfrm>
            <a:off x="1230480" y="4805280"/>
            <a:ext cx="1963440" cy="797040"/>
            <a:chOff x="1230480" y="4805280"/>
            <a:chExt cx="1963440" cy="797040"/>
          </a:xfrm>
        </p:grpSpPr>
        <p:sp>
          <p:nvSpPr>
            <p:cNvPr id="1007" name="Oval 25"/>
            <p:cNvSpPr/>
            <p:nvPr/>
          </p:nvSpPr>
          <p:spPr>
            <a:xfrm>
              <a:off x="1230480" y="4820400"/>
              <a:ext cx="164520" cy="164160"/>
            </a:xfrm>
            <a:prstGeom prst="ellipse">
              <a:avLst/>
            </a:prstGeom>
            <a:solidFill>
              <a:srgbClr val="26a6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08" name="Text Placeholder 32"/>
            <p:cNvSpPr/>
            <p:nvPr/>
          </p:nvSpPr>
          <p:spPr>
            <a:xfrm>
              <a:off x="1522080" y="4979160"/>
              <a:ext cx="1515600" cy="62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5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09" name="Text Placeholder 33"/>
            <p:cNvSpPr/>
            <p:nvPr/>
          </p:nvSpPr>
          <p:spPr>
            <a:xfrm>
              <a:off x="1522080" y="4805280"/>
              <a:ext cx="167184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On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10" name="Group 28"/>
          <p:cNvGrpSpPr/>
          <p:nvPr/>
        </p:nvGrpSpPr>
        <p:grpSpPr>
          <a:xfrm>
            <a:off x="3321000" y="4799160"/>
            <a:ext cx="1800360" cy="803160"/>
            <a:chOff x="3321000" y="4799160"/>
            <a:chExt cx="1800360" cy="803160"/>
          </a:xfrm>
        </p:grpSpPr>
        <p:sp>
          <p:nvSpPr>
            <p:cNvPr id="1011" name="Oval 29"/>
            <p:cNvSpPr/>
            <p:nvPr/>
          </p:nvSpPr>
          <p:spPr>
            <a:xfrm>
              <a:off x="3321000" y="4814280"/>
              <a:ext cx="164520" cy="164520"/>
            </a:xfrm>
            <a:prstGeom prst="ellipse">
              <a:avLst/>
            </a:prstGeom>
            <a:solidFill>
              <a:srgbClr val="009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12" name="Text Placeholder 32"/>
            <p:cNvSpPr/>
            <p:nvPr/>
          </p:nvSpPr>
          <p:spPr>
            <a:xfrm>
              <a:off x="3612960" y="4973040"/>
              <a:ext cx="1508400" cy="62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6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13" name="Text Placeholder 33"/>
            <p:cNvSpPr/>
            <p:nvPr/>
          </p:nvSpPr>
          <p:spPr>
            <a:xfrm>
              <a:off x="3612960" y="4799160"/>
              <a:ext cx="150840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Two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14" name="Group 32"/>
          <p:cNvGrpSpPr/>
          <p:nvPr/>
        </p:nvGrpSpPr>
        <p:grpSpPr>
          <a:xfrm>
            <a:off x="7174080" y="4792680"/>
            <a:ext cx="1806480" cy="804960"/>
            <a:chOff x="7174080" y="4792680"/>
            <a:chExt cx="1806480" cy="804960"/>
          </a:xfrm>
        </p:grpSpPr>
        <p:sp>
          <p:nvSpPr>
            <p:cNvPr id="1015" name="Oval 33"/>
            <p:cNvSpPr/>
            <p:nvPr/>
          </p:nvSpPr>
          <p:spPr>
            <a:xfrm>
              <a:off x="7174080" y="4807800"/>
              <a:ext cx="164520" cy="164520"/>
            </a:xfrm>
            <a:prstGeom prst="ellipse">
              <a:avLst/>
            </a:prstGeom>
            <a:solidFill>
              <a:srgbClr val="00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16" name="Text Placeholder 32"/>
            <p:cNvSpPr/>
            <p:nvPr/>
          </p:nvSpPr>
          <p:spPr>
            <a:xfrm>
              <a:off x="7465680" y="4966920"/>
              <a:ext cx="151488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6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17" name="Text Placeholder 33"/>
            <p:cNvSpPr/>
            <p:nvPr/>
          </p:nvSpPr>
          <p:spPr>
            <a:xfrm>
              <a:off x="7465680" y="4792680"/>
              <a:ext cx="1514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Four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18" name="Group 36"/>
          <p:cNvGrpSpPr/>
          <p:nvPr/>
        </p:nvGrpSpPr>
        <p:grpSpPr>
          <a:xfrm>
            <a:off x="9258480" y="4792680"/>
            <a:ext cx="1847520" cy="789120"/>
            <a:chOff x="9258480" y="4792680"/>
            <a:chExt cx="1847520" cy="789120"/>
          </a:xfrm>
        </p:grpSpPr>
        <p:sp>
          <p:nvSpPr>
            <p:cNvPr id="1019" name="Oval 37"/>
            <p:cNvSpPr/>
            <p:nvPr/>
          </p:nvSpPr>
          <p:spPr>
            <a:xfrm>
              <a:off x="9258480" y="4807800"/>
              <a:ext cx="164520" cy="164520"/>
            </a:xfrm>
            <a:prstGeom prst="ellipse">
              <a:avLst/>
            </a:prstGeom>
            <a:solidFill>
              <a:srgbClr val="004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20" name="Text Placeholder 32"/>
            <p:cNvSpPr/>
            <p:nvPr/>
          </p:nvSpPr>
          <p:spPr>
            <a:xfrm>
              <a:off x="9550080" y="4966920"/>
              <a:ext cx="1555920" cy="6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4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21" name="Text Placeholder 33"/>
            <p:cNvSpPr/>
            <p:nvPr/>
          </p:nvSpPr>
          <p:spPr>
            <a:xfrm>
              <a:off x="9550080" y="4792680"/>
              <a:ext cx="155592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Fiv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  <p:grpSp>
        <p:nvGrpSpPr>
          <p:cNvPr id="1022" name="Group 40"/>
          <p:cNvGrpSpPr/>
          <p:nvPr/>
        </p:nvGrpSpPr>
        <p:grpSpPr>
          <a:xfrm>
            <a:off x="5248440" y="4792680"/>
            <a:ext cx="1798560" cy="804960"/>
            <a:chOff x="5248440" y="4792680"/>
            <a:chExt cx="1798560" cy="804960"/>
          </a:xfrm>
        </p:grpSpPr>
        <p:sp>
          <p:nvSpPr>
            <p:cNvPr id="1023" name="Oval 41"/>
            <p:cNvSpPr/>
            <p:nvPr/>
          </p:nvSpPr>
          <p:spPr>
            <a:xfrm>
              <a:off x="5248440" y="4807800"/>
              <a:ext cx="164520" cy="164880"/>
            </a:xfrm>
            <a:prstGeom prst="ellipse">
              <a:avLst/>
            </a:prstGeom>
            <a:solidFill>
              <a:srgbClr val="007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24" name="Text Placeholder 32"/>
            <p:cNvSpPr/>
            <p:nvPr/>
          </p:nvSpPr>
          <p:spPr>
            <a:xfrm>
              <a:off x="5540040" y="4966920"/>
              <a:ext cx="150696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6000"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100" spc="-1" strike="noStrike">
                  <a:solidFill>
                    <a:srgbClr val="656d78"/>
                  </a:solidFill>
                  <a:latin typeface="Source Sans Pro Light"/>
                </a:rPr>
                <a:t>Synth chartreuse XOXO, tacos brooklyn VHS plaid.</a:t>
              </a:r>
              <a:endParaRPr b="0" lang="en-US" sz="1100" spc="-1" strike="noStrike">
                <a:solidFill>
                  <a:srgbClr val="656d78"/>
                </a:solidFill>
                <a:latin typeface="Calibri"/>
              </a:endParaRPr>
            </a:p>
          </p:txBody>
        </p:sp>
        <p:sp>
          <p:nvSpPr>
            <p:cNvPr id="1025" name="Text Placeholder 33"/>
            <p:cNvSpPr/>
            <p:nvPr/>
          </p:nvSpPr>
          <p:spPr>
            <a:xfrm>
              <a:off x="5540040" y="4792680"/>
              <a:ext cx="1425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AU" sz="1200" spc="-1" strike="noStrike">
                  <a:solidFill>
                    <a:srgbClr val="656d78"/>
                  </a:solidFill>
                  <a:latin typeface="Source Sans Pro"/>
                  <a:ea typeface="Open Sans"/>
                </a:rPr>
                <a:t>Number Three</a:t>
              </a:r>
              <a:endParaRPr b="0" lang="en-US" sz="1200" spc="-1" strike="noStrike">
                <a:solidFill>
                  <a:srgbClr val="656d78"/>
                </a:solidFill>
                <a:latin typeface="Calibri"/>
              </a:endParaRPr>
            </a:p>
          </p:txBody>
        </p:sp>
      </p:grpSp>
    </p:spTree>
  </p:cSld>
  <p:transition spd="slow" advTm="2000">
    <p:fade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500"/>
                            </p:stCondLst>
                            <p:childTnLst>
                              <p:par>
                                <p:cTn id="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000"/>
                            </p:stCondLst>
                            <p:childTnLst>
                              <p:par>
                                <p:cTn id="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4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4000"/>
                            </p:stCondLst>
                            <p:childTnLst>
                              <p:par>
                                <p:cTn id="4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4500"/>
                            </p:stCondLst>
                            <p:childTnLst>
                              <p:par>
                                <p:cTn id="4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0"/>
                            </p:stCondLst>
                            <p:childTnLst>
                              <p:par>
                                <p:cTn id="4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500"/>
                            </p:stCondLst>
                            <p:childTnLst>
                              <p:par>
                                <p:cTn id="4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650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7000"/>
                            </p:stCondLst>
                            <p:childTnLst>
                              <p:par>
                                <p:cTn id="4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7500"/>
                            </p:stCondLst>
                            <p:childTnLst>
                              <p:par>
                                <p:cTn id="5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6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9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8500"/>
                            </p:stCondLst>
                            <p:childTnLst>
                              <p:par>
                                <p:cTn id="5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9000"/>
                            </p:stCondLst>
                            <p:childTnLst>
                              <p:par>
                                <p:cTn id="5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9500"/>
                            </p:stCondLst>
                            <p:childTnLst>
                              <p:par>
                                <p:cTn id="5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3T10:43:23Z</dcterms:created>
  <dc:creator>Sandra</dc:creator>
  <dc:description/>
  <dc:language>en-US</dc:language>
  <cp:lastModifiedBy>Microsoft Office User</cp:lastModifiedBy>
  <dcterms:modified xsi:type="dcterms:W3CDTF">2018-03-10T12:25:56Z</dcterms:modified>
  <cp:revision>550</cp:revision>
  <dc:subject/>
  <dc:title>PowerPoint Presentation</dc:title>
</cp:coreProperties>
</file>