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28D-9088-4FD5-99F7-BF4AD40D9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C05D-3F04-4D0E-A92B-EFF35B22887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AC23-18F8-4124-9AC4-793D29BDED66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7550-44B1-4452-9230-E3244368A169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1B75-4593-40F6-B02A-C12761C1A8A0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25E8-05AD-4DC3-8A00-6B235B5F9889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150-1037-4DFA-8CE8-726CC38DFF8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DB7-F1D7-4516-82A2-1A3543DF163F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91B9-9030-477F-B2B7-19333C27AAA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DFA-7017-4C94-8B82-5A5CB506B2C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B153-9DFE-41BD-8255-F5EEBCB79685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128-B890-4E0D-B684-E2266FFD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921-08F0-4390-9532-7199DAA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477-653D-436C-BDDE-B485274D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587-7D7A-4287-917F-4E3CEC16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7F2-175C-4041-AAD1-F1C9A1BD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255-A103-4856-A353-3E1802A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8E2-24B8-4D0C-8BDB-0B3C81B8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C7D-FF06-4596-977A-14470239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E90-68E8-4817-98CA-9E26B69F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D3C-9421-4559-8382-6F4E3EE1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BF0-D05E-4347-8569-264CF78F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572-ED9A-49D8-AC72-00C7E3E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FFB-6E68-4FED-8258-F8A5667405DD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EEAF-B52E-423C-B2FC-070329EBB9F5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07D1-2D71-49C4-AE8B-5689CFE32DE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E3A-F33A-41BC-A868-846CAF3DA8F0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83CC-9152-45DE-B62E-1FDC25640436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646-2BE4-4D55-9A55-60CF64105478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E387-5DDE-4B64-9CCF-45557929334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D627-4940-43CB-883B-E56D63C281F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EE8-1ED7-45BA-AF16-DB8CFC3406C8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4527a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e57c2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e57c2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e57c2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e57c2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8d6ec9"/>
                </a:gs>
                <a:gs pos="100000">
                  <a:srgbClr val="6c41b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44ba0"/>
                </a:gs>
                <a:gs pos="100000">
                  <a:srgbClr val="240c8c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852b4"/>
                </a:gs>
                <a:gs pos="100000">
                  <a:srgbClr val="421ca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04fac"/>
                </a:gs>
                <a:gs pos="100000">
                  <a:srgbClr val="37179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59c1"/>
                </a:gs>
                <a:gs pos="100000">
                  <a:srgbClr val="5727a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256bc"/>
                </a:gs>
                <a:gs pos="100000">
                  <a:srgbClr val="4f23a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7e5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512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673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5e3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7e57c2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7e5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8d6ec9"/>
                </a:gs>
                <a:gs pos="100000">
                  <a:srgbClr val="6c41b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7959c1"/>
                </a:gs>
                <a:gs pos="100000">
                  <a:srgbClr val="5727a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8d6ec9"/>
                </a:gs>
                <a:gs pos="100000">
                  <a:srgbClr val="6c41b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959c1"/>
                </a:gs>
                <a:gs pos="100000">
                  <a:srgbClr val="5727a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512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512da8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7e57c2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673a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73ab7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5e3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5e35b1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8d6ec9"/>
                </a:gs>
                <a:gs pos="100000">
                  <a:srgbClr val="6c41b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959c1"/>
                </a:gs>
                <a:gs pos="100000">
                  <a:srgbClr val="5727a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512da8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512da8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e35b1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5e35b1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673ab7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8d6ec9"/>
                  </a:gs>
                  <a:gs pos="100000">
                    <a:srgbClr val="6c41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7959c1"/>
                  </a:gs>
                  <a:gs pos="100000">
                    <a:srgbClr val="5727ad"/>
                  </a:gs>
                </a:gsLst>
                <a:lin ang="5400000"/>
              </a:gradFill>
              <a:ln w="6480">
                <a:solidFill>
                  <a:srgbClr val="673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604fac"/>
                  </a:gs>
                  <a:gs pos="100000">
                    <a:srgbClr val="371798"/>
                  </a:gs>
                </a:gsLst>
                <a:lin ang="16200000"/>
              </a:gradFill>
              <a:ln w="6480">
                <a:solidFill>
                  <a:srgbClr val="4527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6852b4"/>
                  </a:gs>
                  <a:gs pos="100000">
                    <a:srgbClr val="421ca0"/>
                  </a:gs>
                </a:gsLst>
                <a:lin ang="16200000"/>
              </a:gradFill>
              <a:ln w="6480">
                <a:solidFill>
                  <a:srgbClr val="512d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7256bc"/>
                  </a:gs>
                  <a:gs pos="100000">
                    <a:srgbClr val="4f23a8"/>
                  </a:gs>
                </a:gsLst>
                <a:lin ang="16200000"/>
              </a:gradFill>
              <a:ln w="6480">
                <a:solidFill>
                  <a:srgbClr val="5e35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311b92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4527a0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4527a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4527a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4527a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4527a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4527a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673ab7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673ab7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673ab7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673ab7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7e57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7e57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7e57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7e57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73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52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512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11b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7e5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673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452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311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512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7e57c2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673ab7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512da8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4527a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311b92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8d6ec9"/>
                </a:gs>
                <a:gs pos="100000">
                  <a:srgbClr val="6c41b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7959c1"/>
                </a:gs>
                <a:gs pos="100000">
                  <a:srgbClr val="5727a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7256bc"/>
                </a:gs>
                <a:gs pos="100000">
                  <a:srgbClr val="4f23a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6852b4"/>
                </a:gs>
                <a:gs pos="100000">
                  <a:srgbClr val="421ca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2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341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5c38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57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5c38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5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512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512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673a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2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2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673a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2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341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3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462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35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462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512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2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512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e57c2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5c38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73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e3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12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52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11b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73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e3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12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52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11b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311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7e57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7e5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673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452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311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512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2:46Z</dcterms:modified>
  <cp:revision>539</cp:revision>
  <dc:subject/>
  <dc:title>PowerPoint Presentation</dc:title>
</cp:coreProperties>
</file>