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D8E9-91C7-46CA-84A1-B1B271F97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4DE3-50FD-43B2-AD5E-3E07AB6414C9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BFB6-41F2-4DBB-BA31-681F135C76C8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61F4-684B-44BC-9BAA-E99670E16CD3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730B-63AD-4B52-99EB-4A70BB7B03D7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F8BD-F04B-4F96-9CC5-96B1A6FCAE34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8353-8E58-4CC6-BC1C-09DA2369F910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548E-946E-4A59-BCBE-6E5F278F0AB6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3AEF-84D0-4662-AAE4-1574142D7B9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0AC9-BD52-45D0-AE3B-BDB8C285E9C4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AB4-831B-4BE6-A40F-18786A56A427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848-AF08-42FC-BC91-7A50D915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B47-9592-4A88-8D5A-C35A9B6B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8BF-8D67-4939-80F7-D7B3303D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5F8-0194-4AB0-908C-C7B8B9D6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662-435E-40A1-B71B-DC11E38C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03E-ACAE-4821-982B-0EBCD5E1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499-21EC-425C-9F48-17CFCEF1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9AC-3B33-44E2-86E6-F0EA1174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50F-234D-46D9-9C4D-57460A11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6E4-596F-4B77-B71C-12083FC4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DFF-0D9A-4F36-A8FA-EBAA605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58B-E7BA-4AE4-B52F-D2039CC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252C-F8F4-4DC1-A87A-754A32A36C05}" type="slidenum"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455-1AE0-4BC4-A3FD-53899D11530A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3463-2573-4FD4-B577-DE0CE1B374B5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D41-C0EE-4EC8-8788-3586802C2527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4D8-9B1C-4B4C-B532-FA3FC5DF1BAB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AB48-0BD3-4290-94CB-651FB31A9098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D04E-61FC-4B59-A83B-57BA60B436D6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55B9-1E74-4800-B96F-F5CC5E46D0E7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bb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bb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bb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96A4-AF99-446B-90F9-EB7AB342C3EF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2e7d32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66bb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66bb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66bb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66bb6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79c37c"/>
                </a:gs>
                <a:gs pos="100000">
                  <a:srgbClr val="51ae5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b734d"/>
                </a:gs>
                <a:gs pos="100000">
                  <a:srgbClr val="11591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89c5a"/>
                </a:gs>
                <a:gs pos="100000">
                  <a:srgbClr val="29852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28d55"/>
                </a:gs>
                <a:gs pos="100000">
                  <a:srgbClr val="21752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4b967"/>
                </a:gs>
                <a:gs pos="100000">
                  <a:srgbClr val="3aa43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5eac61"/>
                </a:gs>
                <a:gs pos="100000">
                  <a:srgbClr val="32963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66b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388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4c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43a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66bb6a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66b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79c37c"/>
                </a:gs>
                <a:gs pos="100000">
                  <a:srgbClr val="51ae5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64b967"/>
                </a:gs>
                <a:gs pos="100000">
                  <a:srgbClr val="3aa43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79c37c"/>
                </a:gs>
                <a:gs pos="100000">
                  <a:srgbClr val="51ae5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64b967"/>
                </a:gs>
                <a:gs pos="100000">
                  <a:srgbClr val="3aa43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656d78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388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388e3c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66bb6a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4ca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4caf50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43a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43a047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79c37c"/>
                </a:gs>
                <a:gs pos="100000">
                  <a:srgbClr val="51ae5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64b967"/>
                </a:gs>
                <a:gs pos="100000">
                  <a:srgbClr val="3aa43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388e3c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388e3c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43a047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43a047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6d78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656d78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4caf50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79c37c"/>
                  </a:gs>
                  <a:gs pos="100000">
                    <a:srgbClr val="51ae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64b967"/>
                  </a:gs>
                  <a:gs pos="100000">
                    <a:srgbClr val="3aa43e"/>
                  </a:gs>
                </a:gsLst>
                <a:lin ang="5400000"/>
              </a:gradFill>
              <a:ln w="6480">
                <a:solidFill>
                  <a:srgbClr val="4caf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528d55"/>
                  </a:gs>
                  <a:gs pos="100000">
                    <a:srgbClr val="217525"/>
                  </a:gs>
                </a:gsLst>
                <a:lin ang="16200000"/>
              </a:gradFill>
              <a:ln w="6480">
                <a:solidFill>
                  <a:srgbClr val="2e7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589c5a"/>
                  </a:gs>
                  <a:gs pos="100000">
                    <a:srgbClr val="29852d"/>
                  </a:gs>
                </a:gsLst>
                <a:lin ang="16200000"/>
              </a:gradFill>
              <a:ln w="6480">
                <a:solidFill>
                  <a:srgbClr val="388e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5eac61"/>
                  </a:gs>
                  <a:gs pos="100000">
                    <a:srgbClr val="329636"/>
                  </a:gs>
                </a:gsLst>
                <a:lin ang="16200000"/>
              </a:gradFill>
              <a:ln w="6480">
                <a:solidFill>
                  <a:srgbClr val="43a0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1b5e20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2e7d32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2e7d32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2e7d32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2e7d32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2e7d32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2e7d32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656d78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5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4836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4caf50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4caf50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4caf50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4caf50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66bb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66bb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66bb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66bb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2e7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388e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1b5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66b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4c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2e7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1b5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388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66bb6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4caf50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388e3c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2e7d32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1b5e20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656d7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79c37c"/>
                </a:gs>
                <a:gs pos="100000">
                  <a:srgbClr val="51ae55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64b967"/>
                </a:gs>
                <a:gs pos="100000">
                  <a:srgbClr val="3aa43e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5eac61"/>
                </a:gs>
                <a:gs pos="100000">
                  <a:srgbClr val="32963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589c5a"/>
                </a:gs>
                <a:gs pos="100000">
                  <a:srgbClr val="29852d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7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235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439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b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439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b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6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388e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6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388e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4ca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8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8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4ca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7d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235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a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327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a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327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6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388e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6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388e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66bb6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439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88e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e7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b5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ca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43a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388e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e7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1b5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1b5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66b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66b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4c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2e7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1b5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388e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26:30Z</dcterms:modified>
  <cp:revision>540</cp:revision>
  <dc:subject/>
  <dc:title>PowerPoint Presentation</dc:title>
</cp:coreProperties>
</file>