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0468-6BE1-4094-874B-DCD1FA785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9D2F-AAA5-436C-8699-C9A9FFE6B23C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E6D4-C95E-4645-96FE-C002023008D9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36FD-51AE-42D2-8E74-D80F33C0C8E4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8F80-9577-486A-87A9-E3BAD294A0E9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94D8-5DF0-4E2A-8566-D70A025DF04C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75A5-EC1D-4C0D-B4B2-9057553CC4F8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81CF-C2DC-4887-A3AF-8686D73D71D6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517D-062D-4945-9F75-44101297C8EE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5196-5AEF-49D0-BF35-214DAF5F41A4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4104-8333-4524-B080-67974BAE53D8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6EF-8CA1-4D56-B288-63962F29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777-A93E-40DC-B2F9-8CF87A01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BCE-E8E5-4F07-9CD2-41F1BDED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04A-89EB-47EC-872E-719E792D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3BA-7C64-4B97-9213-25B13C46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2E0-E54A-46C2-B1FD-F45B03FA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341-10C6-4349-81DD-870A9C43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67B-5E05-4F28-8A65-12EC40A4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C53-6B93-4E07-BB4D-51629C65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BB1-0C64-49E0-B104-E2EBDA6D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55C1-ADE4-47A6-B5F8-AE676A56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57A-7B90-4C8A-AA1B-D18B4BA5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a3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a3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a3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9A94-E863-4CDA-A880-22B1CD68207B}" type="slidenum">
              <a:rPr b="0" lang="en-US" sz="1200" spc="-1" strike="noStrike">
                <a:solidFill>
                  <a:srgbClr val="9fa3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3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4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49D0-94A8-4719-998F-65AB7CFFCE56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E282-8F4C-4651-AF23-F23416829934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174C-1E41-43E4-9CB5-CCB73A6E1827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9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C5E2-A9D9-46BC-B12F-7D83F0DCCBCF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72AE-C24C-481F-AA81-ADE33B2A9880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700A-D6A5-466D-B3F4-77A05D69511B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D8B9-FAC9-4549-8B73-E22D2B0D6D26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09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ая соединительная линия 2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1" name="Равнобедренный треугольник 3"/>
          <p:cNvSpPr/>
          <p:nvPr/>
        </p:nvSpPr>
        <p:spPr>
          <a:xfrm>
            <a:off x="716436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2" name="Равнобедренный треугольник 128"/>
          <p:cNvSpPr/>
          <p:nvPr/>
        </p:nvSpPr>
        <p:spPr>
          <a:xfrm>
            <a:off x="9326520" y="5640480"/>
            <a:ext cx="361944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3" name="Равнобедренный треугольник 129"/>
          <p:cNvSpPr/>
          <p:nvPr/>
        </p:nvSpPr>
        <p:spPr>
          <a:xfrm>
            <a:off x="1971720" y="6456240"/>
            <a:ext cx="2560680" cy="41760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54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6" name="Равнобедренный треугольник 128"/>
          <p:cNvSpPr/>
          <p:nvPr/>
        </p:nvSpPr>
        <p:spPr>
          <a:xfrm>
            <a:off x="-2867040" y="5640480"/>
            <a:ext cx="361800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7" name="Равнобедренный треугольник 129"/>
          <p:cNvSpPr/>
          <p:nvPr/>
        </p:nvSpPr>
        <p:spPr>
          <a:xfrm>
            <a:off x="11592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8" name="Равнобедренный треугольник 131"/>
          <p:cNvSpPr/>
          <p:nvPr/>
        </p:nvSpPr>
        <p:spPr>
          <a:xfrm>
            <a:off x="2354400" y="5776920"/>
            <a:ext cx="2212920" cy="109692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9" name="Равнобедренный треугольник 132"/>
          <p:cNvSpPr/>
          <p:nvPr/>
        </p:nvSpPr>
        <p:spPr>
          <a:xfrm>
            <a:off x="7464600" y="5087880"/>
            <a:ext cx="3619440" cy="176544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0" name="Равнобедренный треугольник 133"/>
          <p:cNvSpPr/>
          <p:nvPr/>
        </p:nvSpPr>
        <p:spPr>
          <a:xfrm>
            <a:off x="8940960" y="3627360"/>
            <a:ext cx="651636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1" name="Прямая соединительная линия 135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4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2" name="Равнобедренный треугольник 132"/>
          <p:cNvSpPr/>
          <p:nvPr/>
        </p:nvSpPr>
        <p:spPr>
          <a:xfrm>
            <a:off x="695160" y="4776840"/>
            <a:ext cx="4259520" cy="207648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3" name="Равнобедренный треугольник 133"/>
          <p:cNvSpPr/>
          <p:nvPr/>
        </p:nvSpPr>
        <p:spPr>
          <a:xfrm>
            <a:off x="-3257640" y="3627360"/>
            <a:ext cx="651528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4" name="Равнобедренный треугольник 130"/>
          <p:cNvSpPr/>
          <p:nvPr/>
        </p:nvSpPr>
        <p:spPr>
          <a:xfrm>
            <a:off x="2109960" y="1625760"/>
            <a:ext cx="11675880" cy="523368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305" name="Группа 7"/>
          <p:cNvGrpSpPr/>
          <p:nvPr/>
        </p:nvGrpSpPr>
        <p:grpSpPr>
          <a:xfrm>
            <a:off x="7953480" y="901800"/>
            <a:ext cx="7867440" cy="433440"/>
            <a:chOff x="7953480" y="901800"/>
            <a:chExt cx="7867440" cy="433440"/>
          </a:xfrm>
        </p:grpSpPr>
        <p:sp>
          <p:nvSpPr>
            <p:cNvPr id="306" name="Волна 4"/>
            <p:cNvSpPr/>
            <p:nvPr/>
          </p:nvSpPr>
          <p:spPr>
            <a:xfrm>
              <a:off x="7953480" y="9018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7" name="Волна 134"/>
            <p:cNvSpPr/>
            <p:nvPr/>
          </p:nvSpPr>
          <p:spPr>
            <a:xfrm>
              <a:off x="860580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8" name="Волна 136"/>
            <p:cNvSpPr/>
            <p:nvPr/>
          </p:nvSpPr>
          <p:spPr>
            <a:xfrm>
              <a:off x="926316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9" name="Волна 139"/>
            <p:cNvSpPr/>
            <p:nvPr/>
          </p:nvSpPr>
          <p:spPr>
            <a:xfrm>
              <a:off x="9920160" y="9036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0" name="Волна 140"/>
            <p:cNvSpPr/>
            <p:nvPr/>
          </p:nvSpPr>
          <p:spPr>
            <a:xfrm>
              <a:off x="10572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1" name="Волна 141"/>
            <p:cNvSpPr/>
            <p:nvPr/>
          </p:nvSpPr>
          <p:spPr>
            <a:xfrm>
              <a:off x="11229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2" name="Волна 142"/>
            <p:cNvSpPr/>
            <p:nvPr/>
          </p:nvSpPr>
          <p:spPr>
            <a:xfrm>
              <a:off x="11887200" y="9079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3" name="Волна 143"/>
            <p:cNvSpPr/>
            <p:nvPr/>
          </p:nvSpPr>
          <p:spPr>
            <a:xfrm>
              <a:off x="1253952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4" name="Волна 144"/>
            <p:cNvSpPr/>
            <p:nvPr/>
          </p:nvSpPr>
          <p:spPr>
            <a:xfrm>
              <a:off x="1319688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5" name="Волна 145"/>
            <p:cNvSpPr/>
            <p:nvPr/>
          </p:nvSpPr>
          <p:spPr>
            <a:xfrm>
              <a:off x="13853880" y="9097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6" name="Волна 146"/>
            <p:cNvSpPr/>
            <p:nvPr/>
          </p:nvSpPr>
          <p:spPr>
            <a:xfrm>
              <a:off x="14506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7" name="Волна 147"/>
            <p:cNvSpPr/>
            <p:nvPr/>
          </p:nvSpPr>
          <p:spPr>
            <a:xfrm>
              <a:off x="15163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318" name="Прямоугольник 6"/>
          <p:cNvSpPr/>
          <p:nvPr/>
        </p:nvSpPr>
        <p:spPr>
          <a:xfrm>
            <a:off x="8512200" y="722160"/>
            <a:ext cx="3679920" cy="720720"/>
          </a:xfrm>
          <a:prstGeom prst="rect">
            <a:avLst/>
          </a:prstGeom>
          <a:solidFill>
            <a:srgbClr val="ec4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19" name="Прямая соединительная линия 3"/>
          <p:cNvSpPr/>
          <p:nvPr/>
        </p:nvSpPr>
        <p:spPr>
          <a:xfrm flipV="1">
            <a:off x="7948440" y="905040"/>
            <a:ext cx="0" cy="72216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0" name="Прямоугольник 138"/>
          <p:cNvSpPr/>
          <p:nvPr/>
        </p:nvSpPr>
        <p:spPr>
          <a:xfrm>
            <a:off x="1440" y="727200"/>
            <a:ext cx="7937640" cy="722160"/>
          </a:xfrm>
          <a:prstGeom prst="rect">
            <a:avLst/>
          </a:prstGeom>
          <a:solidFill>
            <a:srgbClr val="ec4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1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DA09-B454-4537-AF3A-9440C5EFBA04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ad1457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734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Box 9"/>
          <p:cNvSpPr/>
          <p:nvPr/>
        </p:nvSpPr>
        <p:spPr>
          <a:xfrm>
            <a:off x="2111760" y="2644920"/>
            <a:ext cx="796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TTRACTIVE</a:t>
            </a:r>
            <a:endParaRPr b="0" lang="en-US" sz="96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6" name="TextBox 10"/>
          <p:cNvSpPr/>
          <p:nvPr/>
        </p:nvSpPr>
        <p:spPr>
          <a:xfrm>
            <a:off x="4549680" y="4473720"/>
            <a:ext cx="31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Roboto Light"/>
              </a:rPr>
              <a:t>Letterpress next level trust fund, before. 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7" name="TextBox 11"/>
          <p:cNvSpPr/>
          <p:nvPr/>
        </p:nvSpPr>
        <p:spPr>
          <a:xfrm>
            <a:off x="2590920" y="2203560"/>
            <a:ext cx="7014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We’ve been </a:t>
            </a: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rafting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beautiful </a:t>
            </a:r>
            <a:r>
              <a:rPr b="0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presentation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&amp; making </a:t>
            </a:r>
            <a:r>
              <a:rPr b="1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lients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happy for years.</a:t>
            </a:r>
            <a:endParaRPr b="0" lang="en-US" sz="16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8" name="Shape 2721"/>
          <p:cNvSpPr/>
          <p:nvPr/>
        </p:nvSpPr>
        <p:spPr>
          <a:xfrm>
            <a:off x="5905440" y="5249880"/>
            <a:ext cx="3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65" y="19991"/>
                </a:moveTo>
                <a:lnTo>
                  <a:pt x="14707" y="20866"/>
                </a:lnTo>
                <a:cubicBezTo>
                  <a:pt x="15328" y="20625"/>
                  <a:pt x="15928" y="20324"/>
                  <a:pt x="16492" y="19973"/>
                </a:cubicBezTo>
                <a:lnTo>
                  <a:pt x="15994" y="19176"/>
                </a:lnTo>
                <a:cubicBezTo>
                  <a:pt x="15479" y="19497"/>
                  <a:pt x="14931" y="19771"/>
                  <a:pt x="14365" y="19991"/>
                </a:cubicBezTo>
                <a:moveTo>
                  <a:pt x="10800" y="20661"/>
                </a:moveTo>
                <a:lnTo>
                  <a:pt x="10801" y="21600"/>
                </a:lnTo>
                <a:cubicBezTo>
                  <a:pt x="11469" y="21598"/>
                  <a:pt x="12137" y="21536"/>
                  <a:pt x="12788" y="21415"/>
                </a:cubicBezTo>
                <a:lnTo>
                  <a:pt x="12614" y="20491"/>
                </a:lnTo>
                <a:cubicBezTo>
                  <a:pt x="12020" y="20603"/>
                  <a:pt x="11409" y="20660"/>
                  <a:pt x="10800" y="20661"/>
                </a:cubicBezTo>
                <a:moveTo>
                  <a:pt x="11148" y="16559"/>
                </a:moveTo>
                <a:lnTo>
                  <a:pt x="15092" y="12624"/>
                </a:lnTo>
                <a:cubicBezTo>
                  <a:pt x="15181" y="12535"/>
                  <a:pt x="15236" y="12412"/>
                  <a:pt x="15236" y="12276"/>
                </a:cubicBezTo>
                <a:cubicBezTo>
                  <a:pt x="15236" y="12004"/>
                  <a:pt x="15015" y="11784"/>
                  <a:pt x="14743" y="11784"/>
                </a:cubicBezTo>
                <a:cubicBezTo>
                  <a:pt x="14607" y="11784"/>
                  <a:pt x="14483" y="11839"/>
                  <a:pt x="14395" y="11928"/>
                </a:cubicBezTo>
                <a:lnTo>
                  <a:pt x="11293" y="15024"/>
                </a:lnTo>
                <a:lnTo>
                  <a:pt x="11293" y="5389"/>
                </a:lnTo>
                <a:cubicBezTo>
                  <a:pt x="11293" y="5117"/>
                  <a:pt x="11072" y="4897"/>
                  <a:pt x="10800" y="4897"/>
                </a:cubicBezTo>
                <a:cubicBezTo>
                  <a:pt x="10528" y="4897"/>
                  <a:pt x="10307" y="5117"/>
                  <a:pt x="10307" y="5389"/>
                </a:cubicBezTo>
                <a:lnTo>
                  <a:pt x="10307" y="15024"/>
                </a:lnTo>
                <a:lnTo>
                  <a:pt x="7206" y="11928"/>
                </a:lnTo>
                <a:cubicBezTo>
                  <a:pt x="7117" y="11839"/>
                  <a:pt x="6993" y="11784"/>
                  <a:pt x="6857" y="11784"/>
                </a:cubicBezTo>
                <a:cubicBezTo>
                  <a:pt x="6585" y="11784"/>
                  <a:pt x="6364" y="12004"/>
                  <a:pt x="6364" y="12276"/>
                </a:cubicBezTo>
                <a:cubicBezTo>
                  <a:pt x="6364" y="12412"/>
                  <a:pt x="6419" y="12535"/>
                  <a:pt x="6508" y="12624"/>
                </a:cubicBezTo>
                <a:lnTo>
                  <a:pt x="10452" y="16559"/>
                </a:lnTo>
                <a:cubicBezTo>
                  <a:pt x="10541" y="16648"/>
                  <a:pt x="10664" y="16703"/>
                  <a:pt x="10800" y="16703"/>
                </a:cubicBezTo>
                <a:cubicBezTo>
                  <a:pt x="10936" y="16703"/>
                  <a:pt x="11059" y="16648"/>
                  <a:pt x="11148" y="16559"/>
                </a:cubicBezTo>
                <a:moveTo>
                  <a:pt x="18660" y="4854"/>
                </a:moveTo>
                <a:lnTo>
                  <a:pt x="19411" y="4287"/>
                </a:lnTo>
                <a:cubicBezTo>
                  <a:pt x="19011" y="3759"/>
                  <a:pt x="18558" y="3264"/>
                  <a:pt x="18065" y="2816"/>
                </a:cubicBezTo>
                <a:lnTo>
                  <a:pt x="17432" y="3510"/>
                </a:lnTo>
                <a:cubicBezTo>
                  <a:pt x="17882" y="3919"/>
                  <a:pt x="18295" y="4371"/>
                  <a:pt x="18660" y="4854"/>
                </a:cubicBezTo>
                <a:moveTo>
                  <a:pt x="6893" y="20882"/>
                </a:moveTo>
                <a:cubicBezTo>
                  <a:pt x="7514" y="21121"/>
                  <a:pt x="8160" y="21302"/>
                  <a:pt x="8814" y="21422"/>
                </a:cubicBezTo>
                <a:lnTo>
                  <a:pt x="8985" y="20499"/>
                </a:lnTo>
                <a:cubicBezTo>
                  <a:pt x="8387" y="20389"/>
                  <a:pt x="7797" y="20223"/>
                  <a:pt x="7231" y="20006"/>
                </a:cubicBezTo>
                <a:cubicBezTo>
                  <a:pt x="7231" y="20006"/>
                  <a:pt x="6893" y="20882"/>
                  <a:pt x="6893" y="20882"/>
                </a:cubicBezTo>
                <a:close/>
                <a:moveTo>
                  <a:pt x="21553" y="9794"/>
                </a:moveTo>
                <a:lnTo>
                  <a:pt x="20617" y="9880"/>
                </a:lnTo>
                <a:cubicBezTo>
                  <a:pt x="20644" y="10182"/>
                  <a:pt x="20659" y="10492"/>
                  <a:pt x="20659" y="10800"/>
                </a:cubicBezTo>
                <a:cubicBezTo>
                  <a:pt x="20659" y="11099"/>
                  <a:pt x="20645" y="11401"/>
                  <a:pt x="20619" y="11699"/>
                </a:cubicBezTo>
                <a:lnTo>
                  <a:pt x="21556" y="11784"/>
                </a:lnTo>
                <a:cubicBezTo>
                  <a:pt x="21585" y="11458"/>
                  <a:pt x="21600" y="11127"/>
                  <a:pt x="21600" y="10800"/>
                </a:cubicBezTo>
                <a:cubicBezTo>
                  <a:pt x="21599" y="10462"/>
                  <a:pt x="21584" y="10124"/>
                  <a:pt x="21553" y="9794"/>
                </a:cubicBezTo>
                <a:moveTo>
                  <a:pt x="21187" y="7835"/>
                </a:moveTo>
                <a:cubicBezTo>
                  <a:pt x="21005" y="7197"/>
                  <a:pt x="20761" y="6573"/>
                  <a:pt x="20463" y="5978"/>
                </a:cubicBezTo>
                <a:lnTo>
                  <a:pt x="19622" y="6399"/>
                </a:lnTo>
                <a:cubicBezTo>
                  <a:pt x="19893" y="6941"/>
                  <a:pt x="20115" y="7510"/>
                  <a:pt x="20282" y="8094"/>
                </a:cubicBezTo>
                <a:cubicBezTo>
                  <a:pt x="20282" y="8094"/>
                  <a:pt x="21187" y="7835"/>
                  <a:pt x="21187" y="7835"/>
                </a:cubicBezTo>
                <a:close/>
                <a:moveTo>
                  <a:pt x="19632" y="15184"/>
                </a:moveTo>
                <a:lnTo>
                  <a:pt x="20474" y="15602"/>
                </a:lnTo>
                <a:cubicBezTo>
                  <a:pt x="20770" y="15008"/>
                  <a:pt x="21012" y="14383"/>
                  <a:pt x="21194" y="13743"/>
                </a:cubicBezTo>
                <a:lnTo>
                  <a:pt x="20288" y="13487"/>
                </a:lnTo>
                <a:cubicBezTo>
                  <a:pt x="20123" y="14071"/>
                  <a:pt x="19901" y="14642"/>
                  <a:pt x="19632" y="15184"/>
                </a:cubicBezTo>
                <a:moveTo>
                  <a:pt x="17446" y="18078"/>
                </a:moveTo>
                <a:lnTo>
                  <a:pt x="18081" y="18771"/>
                </a:lnTo>
                <a:cubicBezTo>
                  <a:pt x="18572" y="18323"/>
                  <a:pt x="19024" y="17827"/>
                  <a:pt x="19424" y="17297"/>
                </a:cubicBezTo>
                <a:lnTo>
                  <a:pt x="18672" y="16732"/>
                </a:lnTo>
                <a:cubicBezTo>
                  <a:pt x="18307" y="17216"/>
                  <a:pt x="17894" y="17669"/>
                  <a:pt x="17446" y="18078"/>
                </a:cubicBezTo>
                <a:moveTo>
                  <a:pt x="8924" y="1113"/>
                </a:moveTo>
                <a:lnTo>
                  <a:pt x="8748" y="190"/>
                </a:lnTo>
                <a:cubicBezTo>
                  <a:pt x="8093" y="315"/>
                  <a:pt x="7448" y="501"/>
                  <a:pt x="6830" y="743"/>
                </a:cubicBezTo>
                <a:lnTo>
                  <a:pt x="7173" y="1617"/>
                </a:lnTo>
                <a:cubicBezTo>
                  <a:pt x="7738" y="1396"/>
                  <a:pt x="8327" y="1226"/>
                  <a:pt x="8924" y="1113"/>
                </a:cubicBezTo>
                <a:moveTo>
                  <a:pt x="12594" y="1105"/>
                </a:moveTo>
                <a:lnTo>
                  <a:pt x="12765" y="182"/>
                </a:lnTo>
                <a:cubicBezTo>
                  <a:pt x="12115" y="61"/>
                  <a:pt x="11448" y="0"/>
                  <a:pt x="10788" y="0"/>
                </a:cubicBezTo>
                <a:lnTo>
                  <a:pt x="10787" y="0"/>
                </a:lnTo>
                <a:lnTo>
                  <a:pt x="10736" y="0"/>
                </a:lnTo>
                <a:lnTo>
                  <a:pt x="10779" y="940"/>
                </a:lnTo>
                <a:cubicBezTo>
                  <a:pt x="11389" y="940"/>
                  <a:pt x="12000" y="995"/>
                  <a:pt x="12594" y="1105"/>
                </a:cubicBezTo>
                <a:moveTo>
                  <a:pt x="16473" y="1615"/>
                </a:moveTo>
                <a:cubicBezTo>
                  <a:pt x="15908" y="1264"/>
                  <a:pt x="15306" y="966"/>
                  <a:pt x="14686" y="726"/>
                </a:cubicBezTo>
                <a:lnTo>
                  <a:pt x="14347" y="1602"/>
                </a:lnTo>
                <a:cubicBezTo>
                  <a:pt x="14912" y="1821"/>
                  <a:pt x="15462" y="2094"/>
                  <a:pt x="15978" y="2413"/>
                </a:cubicBezTo>
                <a:cubicBezTo>
                  <a:pt x="15978" y="2413"/>
                  <a:pt x="16473" y="1615"/>
                  <a:pt x="16473" y="1615"/>
                </a:cubicBezTo>
                <a:close/>
                <a:moveTo>
                  <a:pt x="3510" y="18800"/>
                </a:moveTo>
                <a:cubicBezTo>
                  <a:pt x="4003" y="19247"/>
                  <a:pt x="4539" y="19650"/>
                  <a:pt x="5105" y="19997"/>
                </a:cubicBezTo>
                <a:lnTo>
                  <a:pt x="5599" y="19198"/>
                </a:lnTo>
                <a:cubicBezTo>
                  <a:pt x="5083" y="18881"/>
                  <a:pt x="4592" y="18513"/>
                  <a:pt x="4142" y="18105"/>
                </a:cubicBezTo>
                <a:cubicBezTo>
                  <a:pt x="4142" y="18105"/>
                  <a:pt x="3510" y="18800"/>
                  <a:pt x="3510" y="18800"/>
                </a:cubicBezTo>
                <a:close/>
                <a:moveTo>
                  <a:pt x="2873" y="4886"/>
                </a:moveTo>
                <a:lnTo>
                  <a:pt x="2120" y="4322"/>
                </a:lnTo>
                <a:cubicBezTo>
                  <a:pt x="1721" y="4854"/>
                  <a:pt x="1369" y="5424"/>
                  <a:pt x="1074" y="6018"/>
                </a:cubicBezTo>
                <a:lnTo>
                  <a:pt x="1917" y="6435"/>
                </a:lnTo>
                <a:cubicBezTo>
                  <a:pt x="2186" y="5892"/>
                  <a:pt x="2508" y="5371"/>
                  <a:pt x="2873" y="4886"/>
                </a:cubicBezTo>
                <a:moveTo>
                  <a:pt x="5546" y="2435"/>
                </a:moveTo>
                <a:lnTo>
                  <a:pt x="5048" y="1639"/>
                </a:lnTo>
                <a:cubicBezTo>
                  <a:pt x="4484" y="1991"/>
                  <a:pt x="3950" y="2397"/>
                  <a:pt x="3460" y="2846"/>
                </a:cubicBezTo>
                <a:lnTo>
                  <a:pt x="4096" y="3538"/>
                </a:lnTo>
                <a:cubicBezTo>
                  <a:pt x="4544" y="3127"/>
                  <a:pt x="5032" y="2756"/>
                  <a:pt x="5546" y="2435"/>
                </a:cubicBezTo>
                <a:moveTo>
                  <a:pt x="1105" y="15642"/>
                </a:moveTo>
                <a:cubicBezTo>
                  <a:pt x="1403" y="16235"/>
                  <a:pt x="1759" y="16804"/>
                  <a:pt x="2161" y="17332"/>
                </a:cubicBezTo>
                <a:lnTo>
                  <a:pt x="2910" y="16763"/>
                </a:lnTo>
                <a:cubicBezTo>
                  <a:pt x="2542" y="16281"/>
                  <a:pt x="2218" y="15762"/>
                  <a:pt x="1945" y="15220"/>
                </a:cubicBezTo>
                <a:cubicBezTo>
                  <a:pt x="1945" y="15220"/>
                  <a:pt x="1105" y="15642"/>
                  <a:pt x="1105" y="15642"/>
                </a:cubicBezTo>
                <a:close/>
                <a:moveTo>
                  <a:pt x="1265" y="8133"/>
                </a:moveTo>
                <a:lnTo>
                  <a:pt x="359" y="7879"/>
                </a:lnTo>
                <a:cubicBezTo>
                  <a:pt x="179" y="8516"/>
                  <a:pt x="59" y="9176"/>
                  <a:pt x="0" y="9838"/>
                </a:cubicBezTo>
                <a:lnTo>
                  <a:pt x="938" y="9921"/>
                </a:lnTo>
                <a:cubicBezTo>
                  <a:pt x="991" y="9316"/>
                  <a:pt x="1101" y="8714"/>
                  <a:pt x="1265" y="8133"/>
                </a:cubicBezTo>
                <a:moveTo>
                  <a:pt x="943" y="11741"/>
                </a:moveTo>
                <a:lnTo>
                  <a:pt x="6" y="11829"/>
                </a:lnTo>
                <a:cubicBezTo>
                  <a:pt x="69" y="12492"/>
                  <a:pt x="194" y="13151"/>
                  <a:pt x="377" y="13786"/>
                </a:cubicBezTo>
                <a:lnTo>
                  <a:pt x="1281" y="13527"/>
                </a:lnTo>
                <a:cubicBezTo>
                  <a:pt x="1114" y="12946"/>
                  <a:pt x="1000" y="12346"/>
                  <a:pt x="943" y="1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1"/>
          <p:cNvSpPr/>
          <p:nvPr/>
        </p:nvSpPr>
        <p:spPr>
          <a:xfrm>
            <a:off x="3261240" y="538200"/>
            <a:ext cx="56854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Brainstorm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2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c407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28" name="Group 3" descr=""/>
          <p:cNvPicPr/>
          <p:nvPr/>
        </p:nvPicPr>
        <p:blipFill>
          <a:blip r:embed="rId1"/>
          <a:stretch/>
        </p:blipFill>
        <p:spPr>
          <a:xfrm>
            <a:off x="7149960" y="1749600"/>
            <a:ext cx="4462560" cy="3565440"/>
          </a:xfrm>
          <a:prstGeom prst="rect">
            <a:avLst/>
          </a:prstGeom>
          <a:ln w="0">
            <a:noFill/>
          </a:ln>
        </p:spPr>
      </p:pic>
      <p:grpSp>
        <p:nvGrpSpPr>
          <p:cNvPr id="1029" name="Group 18"/>
          <p:cNvGrpSpPr/>
          <p:nvPr/>
        </p:nvGrpSpPr>
        <p:grpSpPr>
          <a:xfrm>
            <a:off x="627120" y="1839960"/>
            <a:ext cx="2822400" cy="1600200"/>
            <a:chOff x="627120" y="1839960"/>
            <a:chExt cx="2822400" cy="1600200"/>
          </a:xfrm>
        </p:grpSpPr>
        <p:grpSp>
          <p:nvGrpSpPr>
            <p:cNvPr id="1030" name="Group 19"/>
            <p:cNvGrpSpPr/>
            <p:nvPr/>
          </p:nvGrpSpPr>
          <p:grpSpPr>
            <a:xfrm>
              <a:off x="627120" y="1839960"/>
              <a:ext cx="2822400" cy="1600200"/>
              <a:chOff x="627120" y="1839960"/>
              <a:chExt cx="2822400" cy="1600200"/>
            </a:xfrm>
          </p:grpSpPr>
          <p:sp>
            <p:nvSpPr>
              <p:cNvPr id="1031" name="Rounded Rectangle 21"/>
              <p:cNvSpPr/>
              <p:nvPr/>
            </p:nvSpPr>
            <p:spPr>
              <a:xfrm>
                <a:off x="627120" y="1839960"/>
                <a:ext cx="604440" cy="604080"/>
              </a:xfrm>
              <a:prstGeom prst="roundRect">
                <a:avLst>
                  <a:gd name="adj" fmla="val 50000"/>
                </a:avLst>
              </a:pr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2" name="TextBox 22"/>
              <p:cNvSpPr/>
              <p:nvPr/>
            </p:nvSpPr>
            <p:spPr>
              <a:xfrm>
                <a:off x="1376640" y="20174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1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3" name="Text Placeholder 32"/>
              <p:cNvSpPr/>
              <p:nvPr/>
            </p:nvSpPr>
            <p:spPr>
              <a:xfrm>
                <a:off x="627120" y="2648880"/>
                <a:ext cx="282240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ec407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34" name="Shape 2540"/>
            <p:cNvSpPr/>
            <p:nvPr/>
          </p:nvSpPr>
          <p:spPr>
            <a:xfrm>
              <a:off x="789480" y="20278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35" name="Group 24"/>
          <p:cNvGrpSpPr/>
          <p:nvPr/>
        </p:nvGrpSpPr>
        <p:grpSpPr>
          <a:xfrm>
            <a:off x="3848040" y="1812960"/>
            <a:ext cx="2833920" cy="1601640"/>
            <a:chOff x="3848040" y="1812960"/>
            <a:chExt cx="2833920" cy="1601640"/>
          </a:xfrm>
        </p:grpSpPr>
        <p:grpSp>
          <p:nvGrpSpPr>
            <p:cNvPr id="1036" name="Group 25"/>
            <p:cNvGrpSpPr/>
            <p:nvPr/>
          </p:nvGrpSpPr>
          <p:grpSpPr>
            <a:xfrm>
              <a:off x="3848040" y="1812960"/>
              <a:ext cx="2833920" cy="1601640"/>
              <a:chOff x="3848040" y="1812960"/>
              <a:chExt cx="2833920" cy="1601640"/>
            </a:xfrm>
          </p:grpSpPr>
          <p:sp>
            <p:nvSpPr>
              <p:cNvPr id="1037" name="Rounded Rectangle 27"/>
              <p:cNvSpPr/>
              <p:nvPr/>
            </p:nvSpPr>
            <p:spPr>
              <a:xfrm>
                <a:off x="3848040" y="181296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8" name="TextBox 28"/>
              <p:cNvSpPr/>
              <p:nvPr/>
            </p:nvSpPr>
            <p:spPr>
              <a:xfrm>
                <a:off x="4597920" y="199080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2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9" name="Text Placeholder 32"/>
              <p:cNvSpPr/>
              <p:nvPr/>
            </p:nvSpPr>
            <p:spPr>
              <a:xfrm>
                <a:off x="3848040" y="262260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ec407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40" name="Shape 2540"/>
            <p:cNvSpPr/>
            <p:nvPr/>
          </p:nvSpPr>
          <p:spPr>
            <a:xfrm>
              <a:off x="4010760" y="1989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41" name="Group 30"/>
          <p:cNvGrpSpPr/>
          <p:nvPr/>
        </p:nvGrpSpPr>
        <p:grpSpPr>
          <a:xfrm>
            <a:off x="627120" y="3940200"/>
            <a:ext cx="2822400" cy="1601640"/>
            <a:chOff x="627120" y="3940200"/>
            <a:chExt cx="2822400" cy="1601640"/>
          </a:xfrm>
        </p:grpSpPr>
        <p:grpSp>
          <p:nvGrpSpPr>
            <p:cNvPr id="1042" name="Group 31"/>
            <p:cNvGrpSpPr/>
            <p:nvPr/>
          </p:nvGrpSpPr>
          <p:grpSpPr>
            <a:xfrm>
              <a:off x="627120" y="3940200"/>
              <a:ext cx="2822400" cy="1601640"/>
              <a:chOff x="627120" y="3940200"/>
              <a:chExt cx="2822400" cy="1601640"/>
            </a:xfrm>
          </p:grpSpPr>
          <p:sp>
            <p:nvSpPr>
              <p:cNvPr id="1043" name="Rounded Rectangle 33"/>
              <p:cNvSpPr/>
              <p:nvPr/>
            </p:nvSpPr>
            <p:spPr>
              <a:xfrm>
                <a:off x="627120" y="3940200"/>
                <a:ext cx="604440" cy="604800"/>
              </a:xfrm>
              <a:custGeom>
                <a:avLst/>
                <a:gdLst>
                  <a:gd name="textAreaLeft" fmla="*/ 88560 w 604440"/>
                  <a:gd name="textAreaRight" fmla="*/ 515880 w 604440"/>
                  <a:gd name="textAreaTop" fmla="*/ 88560 h 604800"/>
                  <a:gd name="textAreaBottom" fmla="*/ 516240 h 60480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10800" y="0"/>
                    </a:moveTo>
                    <a:arcTo wR="10800" hR="10800" stAng="16200000" swAng="-5400000"/>
                    <a:lnTo>
                      <a:pt x="0" y="10813"/>
                    </a:lnTo>
                    <a:arcTo wR="10800" hR="10800" stAng="10800000" swAng="-5400000"/>
                    <a:lnTo>
                      <a:pt x="10800" y="2161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44" name="TextBox 34"/>
              <p:cNvSpPr/>
              <p:nvPr/>
            </p:nvSpPr>
            <p:spPr>
              <a:xfrm>
                <a:off x="1376640" y="41180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3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45" name="Text Placeholder 32"/>
              <p:cNvSpPr/>
              <p:nvPr/>
            </p:nvSpPr>
            <p:spPr>
              <a:xfrm>
                <a:off x="627120" y="4749840"/>
                <a:ext cx="282240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ec407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46" name="Shape 2540"/>
            <p:cNvSpPr/>
            <p:nvPr/>
          </p:nvSpPr>
          <p:spPr>
            <a:xfrm>
              <a:off x="784440" y="4116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47" name="Group 36"/>
          <p:cNvGrpSpPr/>
          <p:nvPr/>
        </p:nvGrpSpPr>
        <p:grpSpPr>
          <a:xfrm>
            <a:off x="3848040" y="3940200"/>
            <a:ext cx="2833920" cy="1601640"/>
            <a:chOff x="3848040" y="3940200"/>
            <a:chExt cx="2833920" cy="1601640"/>
          </a:xfrm>
        </p:grpSpPr>
        <p:grpSp>
          <p:nvGrpSpPr>
            <p:cNvPr id="1048" name="Group 37"/>
            <p:cNvGrpSpPr/>
            <p:nvPr/>
          </p:nvGrpSpPr>
          <p:grpSpPr>
            <a:xfrm>
              <a:off x="3848040" y="3940200"/>
              <a:ext cx="2833920" cy="1601640"/>
              <a:chOff x="3848040" y="3940200"/>
              <a:chExt cx="2833920" cy="1601640"/>
            </a:xfrm>
          </p:grpSpPr>
          <p:sp>
            <p:nvSpPr>
              <p:cNvPr id="1049" name="Rounded Rectangle 39"/>
              <p:cNvSpPr/>
              <p:nvPr/>
            </p:nvSpPr>
            <p:spPr>
              <a:xfrm>
                <a:off x="3848040" y="394020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50" name="TextBox 40"/>
              <p:cNvSpPr/>
              <p:nvPr/>
            </p:nvSpPr>
            <p:spPr>
              <a:xfrm>
                <a:off x="4597920" y="411804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4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51" name="Text Placeholder 32"/>
              <p:cNvSpPr/>
              <p:nvPr/>
            </p:nvSpPr>
            <p:spPr>
              <a:xfrm>
                <a:off x="3848040" y="474984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ec407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52" name="Shape 2540"/>
            <p:cNvSpPr/>
            <p:nvPr/>
          </p:nvSpPr>
          <p:spPr>
            <a:xfrm>
              <a:off x="4007880" y="4105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1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6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100"/>
                            </p:stCondLst>
                            <p:childTnLst>
                              <p:par>
                                <p:cTn id="5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Box 1"/>
          <p:cNvSpPr/>
          <p:nvPr/>
        </p:nvSpPr>
        <p:spPr>
          <a:xfrm>
            <a:off x="2935080" y="538200"/>
            <a:ext cx="63378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Visual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54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c407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55" name="Group 3" descr=""/>
          <p:cNvPicPr/>
          <p:nvPr/>
        </p:nvPicPr>
        <p:blipFill>
          <a:blip r:embed="rId1"/>
          <a:stretch/>
        </p:blipFill>
        <p:spPr>
          <a:xfrm>
            <a:off x="3919680" y="1944720"/>
            <a:ext cx="4365360" cy="3919680"/>
          </a:xfrm>
          <a:prstGeom prst="rect">
            <a:avLst/>
          </a:prstGeom>
          <a:ln w="0">
            <a:noFill/>
          </a:ln>
        </p:spPr>
      </p:pic>
      <p:grpSp>
        <p:nvGrpSpPr>
          <p:cNvPr id="1056" name="Group 33"/>
          <p:cNvGrpSpPr/>
          <p:nvPr/>
        </p:nvGrpSpPr>
        <p:grpSpPr>
          <a:xfrm>
            <a:off x="1195560" y="2281320"/>
            <a:ext cx="2609640" cy="839880"/>
            <a:chOff x="1195560" y="2281320"/>
            <a:chExt cx="2609640" cy="839880"/>
          </a:xfrm>
        </p:grpSpPr>
        <p:sp>
          <p:nvSpPr>
            <p:cNvPr id="1057" name="Text Placeholder 32"/>
            <p:cNvSpPr/>
            <p:nvPr/>
          </p:nvSpPr>
          <p:spPr>
            <a:xfrm flipH="1">
              <a:off x="1195560" y="25614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58" name="Text Placeholder 33"/>
            <p:cNvSpPr/>
            <p:nvPr/>
          </p:nvSpPr>
          <p:spPr>
            <a:xfrm flipH="1">
              <a:off x="1197360" y="22813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Chat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59" name="Freeform 36"/>
            <p:cNvSpPr/>
            <p:nvPr/>
          </p:nvSpPr>
          <p:spPr>
            <a:xfrm flipV="1">
              <a:off x="3148920" y="228132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05e8a"/>
                </a:gs>
                <a:gs pos="100000">
                  <a:srgbClr val="e3266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0" name="Shape 2837"/>
            <p:cNvSpPr/>
            <p:nvPr/>
          </p:nvSpPr>
          <p:spPr>
            <a:xfrm>
              <a:off x="3310200" y="2466000"/>
              <a:ext cx="27936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91" y="18667"/>
                  </a:moveTo>
                  <a:lnTo>
                    <a:pt x="12576" y="13341"/>
                  </a:lnTo>
                  <a:lnTo>
                    <a:pt x="16691" y="8016"/>
                  </a:lnTo>
                  <a:cubicBezTo>
                    <a:pt x="16691" y="8016"/>
                    <a:pt x="16691" y="18667"/>
                    <a:pt x="16691" y="18667"/>
                  </a:cubicBezTo>
                  <a:close/>
                  <a:moveTo>
                    <a:pt x="15709" y="20329"/>
                  </a:moveTo>
                  <a:lnTo>
                    <a:pt x="1964" y="20329"/>
                  </a:lnTo>
                  <a:cubicBezTo>
                    <a:pt x="1719" y="20329"/>
                    <a:pt x="1498" y="20210"/>
                    <a:pt x="1326" y="20018"/>
                  </a:cubicBezTo>
                  <a:lnTo>
                    <a:pt x="5791" y="14240"/>
                  </a:lnTo>
                  <a:lnTo>
                    <a:pt x="7477" y="16421"/>
                  </a:lnTo>
                  <a:cubicBezTo>
                    <a:pt x="7853" y="16907"/>
                    <a:pt x="8344" y="17150"/>
                    <a:pt x="8836" y="17150"/>
                  </a:cubicBezTo>
                  <a:cubicBezTo>
                    <a:pt x="9329" y="17150"/>
                    <a:pt x="9821" y="16907"/>
                    <a:pt x="10195" y="16421"/>
                  </a:cubicBezTo>
                  <a:lnTo>
                    <a:pt x="11882" y="14240"/>
                  </a:lnTo>
                  <a:lnTo>
                    <a:pt x="16347" y="20018"/>
                  </a:lnTo>
                  <a:cubicBezTo>
                    <a:pt x="16175" y="20210"/>
                    <a:pt x="15954" y="20329"/>
                    <a:pt x="15709" y="20329"/>
                  </a:cubicBezTo>
                  <a:moveTo>
                    <a:pt x="982" y="8016"/>
                  </a:moveTo>
                  <a:lnTo>
                    <a:pt x="5097" y="13341"/>
                  </a:lnTo>
                  <a:lnTo>
                    <a:pt x="982" y="18667"/>
                  </a:lnTo>
                  <a:cubicBezTo>
                    <a:pt x="982" y="18667"/>
                    <a:pt x="982" y="8016"/>
                    <a:pt x="982" y="8016"/>
                  </a:cubicBezTo>
                  <a:close/>
                  <a:moveTo>
                    <a:pt x="1964" y="6353"/>
                  </a:moveTo>
                  <a:lnTo>
                    <a:pt x="15709" y="6353"/>
                  </a:lnTo>
                  <a:cubicBezTo>
                    <a:pt x="15954" y="6353"/>
                    <a:pt x="16175" y="6474"/>
                    <a:pt x="16347" y="6665"/>
                  </a:cubicBezTo>
                  <a:lnTo>
                    <a:pt x="9502" y="15523"/>
                  </a:lnTo>
                  <a:cubicBezTo>
                    <a:pt x="9324" y="15752"/>
                    <a:pt x="9088" y="15880"/>
                    <a:pt x="8836" y="15880"/>
                  </a:cubicBezTo>
                  <a:cubicBezTo>
                    <a:pt x="8585" y="15880"/>
                    <a:pt x="8349" y="15752"/>
                    <a:pt x="8170" y="15523"/>
                  </a:cubicBezTo>
                  <a:lnTo>
                    <a:pt x="1326" y="6664"/>
                  </a:lnTo>
                  <a:cubicBezTo>
                    <a:pt x="1498" y="6474"/>
                    <a:pt x="1719" y="6353"/>
                    <a:pt x="1964" y="6353"/>
                  </a:cubicBezTo>
                  <a:moveTo>
                    <a:pt x="15709" y="5082"/>
                  </a:moveTo>
                  <a:lnTo>
                    <a:pt x="1964" y="5082"/>
                  </a:lnTo>
                  <a:cubicBezTo>
                    <a:pt x="879" y="5082"/>
                    <a:pt x="0" y="6220"/>
                    <a:pt x="0" y="7624"/>
                  </a:cubicBezTo>
                  <a:lnTo>
                    <a:pt x="0" y="19059"/>
                  </a:lnTo>
                  <a:cubicBezTo>
                    <a:pt x="0" y="20462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462"/>
                    <a:pt x="17673" y="19059"/>
                  </a:cubicBezTo>
                  <a:lnTo>
                    <a:pt x="17673" y="7624"/>
                  </a:lnTo>
                  <a:cubicBezTo>
                    <a:pt x="17673" y="6220"/>
                    <a:pt x="16794" y="5082"/>
                    <a:pt x="15709" y="5082"/>
                  </a:cubicBezTo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1138"/>
                    <a:pt x="3927" y="2541"/>
                  </a:cubicBezTo>
                  <a:lnTo>
                    <a:pt x="3927" y="3176"/>
                  </a:lnTo>
                  <a:cubicBezTo>
                    <a:pt x="3927" y="3528"/>
                    <a:pt x="4147" y="3812"/>
                    <a:pt x="4418" y="3812"/>
                  </a:cubicBezTo>
                  <a:cubicBezTo>
                    <a:pt x="4690" y="3812"/>
                    <a:pt x="4909" y="3528"/>
                    <a:pt x="4909" y="3176"/>
                  </a:cubicBezTo>
                  <a:lnTo>
                    <a:pt x="4909" y="2541"/>
                  </a:lnTo>
                  <a:cubicBezTo>
                    <a:pt x="4909" y="1840"/>
                    <a:pt x="5348" y="1271"/>
                    <a:pt x="5891" y="1271"/>
                  </a:cubicBezTo>
                  <a:lnTo>
                    <a:pt x="19636" y="1271"/>
                  </a:lnTo>
                  <a:cubicBezTo>
                    <a:pt x="20178" y="1271"/>
                    <a:pt x="20618" y="1840"/>
                    <a:pt x="20618" y="2541"/>
                  </a:cubicBezTo>
                  <a:lnTo>
                    <a:pt x="20618" y="13976"/>
                  </a:lnTo>
                  <a:cubicBezTo>
                    <a:pt x="20618" y="14678"/>
                    <a:pt x="20178" y="15247"/>
                    <a:pt x="19636" y="15247"/>
                  </a:cubicBezTo>
                  <a:lnTo>
                    <a:pt x="19145" y="15247"/>
                  </a:lnTo>
                  <a:cubicBezTo>
                    <a:pt x="18874" y="15247"/>
                    <a:pt x="18655" y="15532"/>
                    <a:pt x="18655" y="15882"/>
                  </a:cubicBezTo>
                  <a:cubicBezTo>
                    <a:pt x="18655" y="16234"/>
                    <a:pt x="18874" y="16518"/>
                    <a:pt x="19145" y="16518"/>
                  </a:cubicBezTo>
                  <a:lnTo>
                    <a:pt x="19636" y="16518"/>
                  </a:lnTo>
                  <a:cubicBezTo>
                    <a:pt x="20721" y="16518"/>
                    <a:pt x="21600" y="15380"/>
                    <a:pt x="21600" y="13976"/>
                  </a:cubicBezTo>
                  <a:lnTo>
                    <a:pt x="21600" y="2541"/>
                  </a:lnTo>
                  <a:cubicBezTo>
                    <a:pt x="21600" y="1138"/>
                    <a:pt x="20721" y="0"/>
                    <a:pt x="1963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61" name="Group 38"/>
          <p:cNvGrpSpPr/>
          <p:nvPr/>
        </p:nvGrpSpPr>
        <p:grpSpPr>
          <a:xfrm>
            <a:off x="1195200" y="3620880"/>
            <a:ext cx="2610000" cy="849600"/>
            <a:chOff x="1195200" y="3620880"/>
            <a:chExt cx="2610000" cy="849600"/>
          </a:xfrm>
        </p:grpSpPr>
        <p:sp>
          <p:nvSpPr>
            <p:cNvPr id="1062" name="Text Placeholder 32"/>
            <p:cNvSpPr/>
            <p:nvPr/>
          </p:nvSpPr>
          <p:spPr>
            <a:xfrm flipH="1">
              <a:off x="1194840" y="3910680"/>
              <a:ext cx="17262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3" name="Text Placeholder 33"/>
            <p:cNvSpPr/>
            <p:nvPr/>
          </p:nvSpPr>
          <p:spPr>
            <a:xfrm flipH="1">
              <a:off x="1196640" y="3630600"/>
              <a:ext cx="173844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Drop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4" name="Freeform 41"/>
            <p:cNvSpPr/>
            <p:nvPr/>
          </p:nvSpPr>
          <p:spPr>
            <a:xfrm flipV="1">
              <a:off x="3149280" y="3620520"/>
              <a:ext cx="655920" cy="60444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4767"/>
                </a:gs>
                <a:gs pos="100000">
                  <a:srgbClr val="83014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5" name="Shape 2857"/>
            <p:cNvSpPr/>
            <p:nvPr/>
          </p:nvSpPr>
          <p:spPr>
            <a:xfrm>
              <a:off x="3308400" y="3783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429" y="14128"/>
                  </a:moveTo>
                  <a:cubicBezTo>
                    <a:pt x="17041" y="13430"/>
                    <a:pt x="15777" y="12523"/>
                    <a:pt x="14684" y="11440"/>
                  </a:cubicBezTo>
                  <a:cubicBezTo>
                    <a:pt x="15214" y="10618"/>
                    <a:pt x="15664" y="9739"/>
                    <a:pt x="16034" y="8820"/>
                  </a:cubicBezTo>
                  <a:cubicBezTo>
                    <a:pt x="16089" y="8826"/>
                    <a:pt x="16143" y="8836"/>
                    <a:pt x="16200" y="8836"/>
                  </a:cubicBezTo>
                  <a:cubicBezTo>
                    <a:pt x="17013" y="8836"/>
                    <a:pt x="17673" y="8177"/>
                    <a:pt x="17673" y="7364"/>
                  </a:cubicBezTo>
                  <a:cubicBezTo>
                    <a:pt x="17673" y="6787"/>
                    <a:pt x="17339" y="6294"/>
                    <a:pt x="16856" y="6052"/>
                  </a:cubicBezTo>
                  <a:cubicBezTo>
                    <a:pt x="17033" y="5170"/>
                    <a:pt x="17144" y="4264"/>
                    <a:pt x="17167" y="3336"/>
                  </a:cubicBezTo>
                  <a:cubicBezTo>
                    <a:pt x="19277" y="5136"/>
                    <a:pt x="20618" y="7809"/>
                    <a:pt x="20618" y="10800"/>
                  </a:cubicBezTo>
                  <a:cubicBezTo>
                    <a:pt x="20618" y="11764"/>
                    <a:pt x="20469" y="12689"/>
                    <a:pt x="20209" y="13568"/>
                  </a:cubicBezTo>
                  <a:cubicBezTo>
                    <a:pt x="19628" y="13783"/>
                    <a:pt x="19034" y="13971"/>
                    <a:pt x="18429" y="14128"/>
                  </a:cubicBezTo>
                  <a:moveTo>
                    <a:pt x="10800" y="20618"/>
                  </a:moveTo>
                  <a:cubicBezTo>
                    <a:pt x="8406" y="20618"/>
                    <a:pt x="6213" y="19759"/>
                    <a:pt x="4509" y="18335"/>
                  </a:cubicBezTo>
                  <a:cubicBezTo>
                    <a:pt x="6552" y="17934"/>
                    <a:pt x="8450" y="17135"/>
                    <a:pt x="10128" y="16031"/>
                  </a:cubicBezTo>
                  <a:cubicBezTo>
                    <a:pt x="10330" y="16135"/>
                    <a:pt x="10556" y="16200"/>
                    <a:pt x="10800" y="16200"/>
                  </a:cubicBezTo>
                  <a:cubicBezTo>
                    <a:pt x="11273" y="16200"/>
                    <a:pt x="11689" y="15973"/>
                    <a:pt x="11959" y="15627"/>
                  </a:cubicBezTo>
                  <a:cubicBezTo>
                    <a:pt x="12547" y="15680"/>
                    <a:pt x="13142" y="15709"/>
                    <a:pt x="13745" y="15709"/>
                  </a:cubicBezTo>
                  <a:cubicBezTo>
                    <a:pt x="15323" y="15709"/>
                    <a:pt x="16852" y="15508"/>
                    <a:pt x="18322" y="15156"/>
                  </a:cubicBezTo>
                  <a:cubicBezTo>
                    <a:pt x="18660" y="15317"/>
                    <a:pt x="18998" y="15480"/>
                    <a:pt x="19350" y="15618"/>
                  </a:cubicBezTo>
                  <a:cubicBezTo>
                    <a:pt x="17665" y="18601"/>
                    <a:pt x="14470" y="20618"/>
                    <a:pt x="10800" y="20618"/>
                  </a:cubicBezTo>
                  <a:moveTo>
                    <a:pt x="3539" y="17392"/>
                  </a:moveTo>
                  <a:cubicBezTo>
                    <a:pt x="3476" y="16840"/>
                    <a:pt x="3436" y="16279"/>
                    <a:pt x="3436" y="15709"/>
                  </a:cubicBezTo>
                  <a:cubicBezTo>
                    <a:pt x="3436" y="14763"/>
                    <a:pt x="3536" y="13842"/>
                    <a:pt x="3707" y="12946"/>
                  </a:cubicBezTo>
                  <a:cubicBezTo>
                    <a:pt x="5455" y="13988"/>
                    <a:pt x="7377" y="14767"/>
                    <a:pt x="9421" y="15226"/>
                  </a:cubicBezTo>
                  <a:cubicBezTo>
                    <a:pt x="9431" y="15253"/>
                    <a:pt x="9436" y="15282"/>
                    <a:pt x="9447" y="15308"/>
                  </a:cubicBezTo>
                  <a:cubicBezTo>
                    <a:pt x="7724" y="16421"/>
                    <a:pt x="5761" y="17193"/>
                    <a:pt x="3643" y="17506"/>
                  </a:cubicBezTo>
                  <a:cubicBezTo>
                    <a:pt x="3608" y="17469"/>
                    <a:pt x="3573" y="17430"/>
                    <a:pt x="3539" y="17392"/>
                  </a:cubicBezTo>
                  <a:moveTo>
                    <a:pt x="3075" y="11369"/>
                  </a:moveTo>
                  <a:cubicBezTo>
                    <a:pt x="2361" y="10869"/>
                    <a:pt x="1683" y="10321"/>
                    <a:pt x="1046" y="9729"/>
                  </a:cubicBezTo>
                  <a:cubicBezTo>
                    <a:pt x="1528" y="5299"/>
                    <a:pt x="4955" y="1762"/>
                    <a:pt x="9331" y="1104"/>
                  </a:cubicBezTo>
                  <a:cubicBezTo>
                    <a:pt x="9335" y="1629"/>
                    <a:pt x="9363" y="2148"/>
                    <a:pt x="9417" y="2660"/>
                  </a:cubicBezTo>
                  <a:cubicBezTo>
                    <a:pt x="8572" y="3227"/>
                    <a:pt x="7787" y="3879"/>
                    <a:pt x="7069" y="4596"/>
                  </a:cubicBezTo>
                  <a:cubicBezTo>
                    <a:pt x="6863" y="4486"/>
                    <a:pt x="6632" y="4418"/>
                    <a:pt x="6382" y="4418"/>
                  </a:cubicBezTo>
                  <a:cubicBezTo>
                    <a:pt x="5569" y="4418"/>
                    <a:pt x="4909" y="5078"/>
                    <a:pt x="4909" y="5891"/>
                  </a:cubicBezTo>
                  <a:cubicBezTo>
                    <a:pt x="4909" y="6236"/>
                    <a:pt x="5033" y="6549"/>
                    <a:pt x="5231" y="6800"/>
                  </a:cubicBezTo>
                  <a:cubicBezTo>
                    <a:pt x="4279" y="8179"/>
                    <a:pt x="3550" y="9719"/>
                    <a:pt x="3075" y="11369"/>
                  </a:cubicBezTo>
                  <a:moveTo>
                    <a:pt x="2466" y="15973"/>
                  </a:moveTo>
                  <a:cubicBezTo>
                    <a:pt x="1563" y="14521"/>
                    <a:pt x="1025" y="12821"/>
                    <a:pt x="989" y="10995"/>
                  </a:cubicBezTo>
                  <a:cubicBezTo>
                    <a:pt x="1570" y="11492"/>
                    <a:pt x="2180" y="11955"/>
                    <a:pt x="2817" y="12383"/>
                  </a:cubicBezTo>
                  <a:cubicBezTo>
                    <a:pt x="2585" y="13456"/>
                    <a:pt x="2455" y="14567"/>
                    <a:pt x="2455" y="15709"/>
                  </a:cubicBezTo>
                  <a:cubicBezTo>
                    <a:pt x="2455" y="15798"/>
                    <a:pt x="2464" y="15885"/>
                    <a:pt x="2466" y="15973"/>
                  </a:cubicBezTo>
                  <a:moveTo>
                    <a:pt x="13428" y="11540"/>
                  </a:moveTo>
                  <a:cubicBezTo>
                    <a:pt x="12907" y="12264"/>
                    <a:pt x="12315" y="12931"/>
                    <a:pt x="11674" y="13548"/>
                  </a:cubicBezTo>
                  <a:cubicBezTo>
                    <a:pt x="11429" y="13366"/>
                    <a:pt x="11129" y="13255"/>
                    <a:pt x="10800" y="13255"/>
                  </a:cubicBezTo>
                  <a:cubicBezTo>
                    <a:pt x="10166" y="13255"/>
                    <a:pt x="9631" y="13657"/>
                    <a:pt x="9423" y="14218"/>
                  </a:cubicBezTo>
                  <a:cubicBezTo>
                    <a:pt x="7455" y="13751"/>
                    <a:pt x="5607" y="12973"/>
                    <a:pt x="3936" y="11937"/>
                  </a:cubicBezTo>
                  <a:cubicBezTo>
                    <a:pt x="4379" y="10266"/>
                    <a:pt x="5100" y="8708"/>
                    <a:pt x="6060" y="7326"/>
                  </a:cubicBezTo>
                  <a:cubicBezTo>
                    <a:pt x="6164" y="7349"/>
                    <a:pt x="6271" y="7364"/>
                    <a:pt x="6382" y="7364"/>
                  </a:cubicBezTo>
                  <a:cubicBezTo>
                    <a:pt x="7195" y="7364"/>
                    <a:pt x="7855" y="6704"/>
                    <a:pt x="7855" y="5891"/>
                  </a:cubicBezTo>
                  <a:cubicBezTo>
                    <a:pt x="7855" y="5688"/>
                    <a:pt x="7813" y="5493"/>
                    <a:pt x="7739" y="5317"/>
                  </a:cubicBezTo>
                  <a:cubicBezTo>
                    <a:pt x="8307" y="4747"/>
                    <a:pt x="8920" y="4221"/>
                    <a:pt x="9575" y="3749"/>
                  </a:cubicBezTo>
                  <a:cubicBezTo>
                    <a:pt x="10104" y="6723"/>
                    <a:pt x="11479" y="9397"/>
                    <a:pt x="13428" y="11540"/>
                  </a:cubicBezTo>
                  <a:moveTo>
                    <a:pt x="10800" y="982"/>
                  </a:moveTo>
                  <a:cubicBezTo>
                    <a:pt x="11347" y="982"/>
                    <a:pt x="11881" y="1038"/>
                    <a:pt x="12403" y="1125"/>
                  </a:cubicBezTo>
                  <a:cubicBezTo>
                    <a:pt x="11696" y="1400"/>
                    <a:pt x="11005" y="1707"/>
                    <a:pt x="10354" y="2081"/>
                  </a:cubicBezTo>
                  <a:cubicBezTo>
                    <a:pt x="10328" y="1726"/>
                    <a:pt x="10311" y="1368"/>
                    <a:pt x="10310" y="1007"/>
                  </a:cubicBezTo>
                  <a:cubicBezTo>
                    <a:pt x="10474" y="999"/>
                    <a:pt x="10635" y="982"/>
                    <a:pt x="10800" y="982"/>
                  </a:cubicBezTo>
                  <a:moveTo>
                    <a:pt x="14120" y="12262"/>
                  </a:moveTo>
                  <a:cubicBezTo>
                    <a:pt x="14982" y="13097"/>
                    <a:pt x="15950" y="13819"/>
                    <a:pt x="16986" y="14440"/>
                  </a:cubicBezTo>
                  <a:cubicBezTo>
                    <a:pt x="15933" y="14626"/>
                    <a:pt x="14852" y="14727"/>
                    <a:pt x="13745" y="14727"/>
                  </a:cubicBezTo>
                  <a:cubicBezTo>
                    <a:pt x="13246" y="14727"/>
                    <a:pt x="12754" y="14702"/>
                    <a:pt x="12265" y="14664"/>
                  </a:cubicBezTo>
                  <a:cubicBezTo>
                    <a:pt x="12259" y="14569"/>
                    <a:pt x="12250" y="14475"/>
                    <a:pt x="12229" y="14385"/>
                  </a:cubicBezTo>
                  <a:cubicBezTo>
                    <a:pt x="12921" y="13737"/>
                    <a:pt x="13555" y="13027"/>
                    <a:pt x="14120" y="12262"/>
                  </a:cubicBezTo>
                  <a:moveTo>
                    <a:pt x="16188" y="2597"/>
                  </a:moveTo>
                  <a:cubicBezTo>
                    <a:pt x="16191" y="2713"/>
                    <a:pt x="16200" y="2828"/>
                    <a:pt x="16200" y="2945"/>
                  </a:cubicBezTo>
                  <a:cubicBezTo>
                    <a:pt x="16200" y="3967"/>
                    <a:pt x="16092" y="4962"/>
                    <a:pt x="15894" y="5924"/>
                  </a:cubicBezTo>
                  <a:cubicBezTo>
                    <a:pt x="15227" y="6065"/>
                    <a:pt x="14727" y="6656"/>
                    <a:pt x="14727" y="7364"/>
                  </a:cubicBezTo>
                  <a:cubicBezTo>
                    <a:pt x="14727" y="7765"/>
                    <a:pt x="14888" y="8127"/>
                    <a:pt x="15149" y="8393"/>
                  </a:cubicBezTo>
                  <a:cubicBezTo>
                    <a:pt x="14827" y="9199"/>
                    <a:pt x="14443" y="9973"/>
                    <a:pt x="13991" y="10701"/>
                  </a:cubicBezTo>
                  <a:cubicBezTo>
                    <a:pt x="12159" y="8620"/>
                    <a:pt x="10894" y="6025"/>
                    <a:pt x="10469" y="3152"/>
                  </a:cubicBezTo>
                  <a:cubicBezTo>
                    <a:pt x="11590" y="2463"/>
                    <a:pt x="12813" y="1934"/>
                    <a:pt x="14106" y="1565"/>
                  </a:cubicBezTo>
                  <a:cubicBezTo>
                    <a:pt x="14844" y="1829"/>
                    <a:pt x="15544" y="2173"/>
                    <a:pt x="16188" y="2597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66" name="Group 43"/>
          <p:cNvGrpSpPr/>
          <p:nvPr/>
        </p:nvGrpSpPr>
        <p:grpSpPr>
          <a:xfrm>
            <a:off x="1195560" y="4960800"/>
            <a:ext cx="2609640" cy="858960"/>
            <a:chOff x="1195560" y="4960800"/>
            <a:chExt cx="2609640" cy="858960"/>
          </a:xfrm>
        </p:grpSpPr>
        <p:sp>
          <p:nvSpPr>
            <p:cNvPr id="1067" name="Text Placeholder 32"/>
            <p:cNvSpPr/>
            <p:nvPr/>
          </p:nvSpPr>
          <p:spPr>
            <a:xfrm flipH="1">
              <a:off x="1195560" y="525996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8" name="Text Placeholder 33"/>
            <p:cNvSpPr/>
            <p:nvPr/>
          </p:nvSpPr>
          <p:spPr>
            <a:xfrm flipH="1">
              <a:off x="1197360" y="49795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Target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9" name="Freeform 46"/>
            <p:cNvSpPr/>
            <p:nvPr/>
          </p:nvSpPr>
          <p:spPr>
            <a:xfrm flipV="1">
              <a:off x="3148920" y="496080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c4970"/>
                </a:gs>
                <a:gs pos="100000">
                  <a:srgbClr val="bb054d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0" name="Shape 2748"/>
            <p:cNvSpPr/>
            <p:nvPr/>
          </p:nvSpPr>
          <p:spPr>
            <a:xfrm>
              <a:off x="3307680" y="5123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71" name="Group 48"/>
          <p:cNvGrpSpPr/>
          <p:nvPr/>
        </p:nvGrpSpPr>
        <p:grpSpPr>
          <a:xfrm>
            <a:off x="8372160" y="4883040"/>
            <a:ext cx="2613240" cy="858960"/>
            <a:chOff x="8372160" y="4883040"/>
            <a:chExt cx="2613240" cy="858960"/>
          </a:xfrm>
        </p:grpSpPr>
        <p:sp>
          <p:nvSpPr>
            <p:cNvPr id="1072" name="Text Placeholder 32"/>
            <p:cNvSpPr/>
            <p:nvPr/>
          </p:nvSpPr>
          <p:spPr>
            <a:xfrm>
              <a:off x="9258840" y="51822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3" name="Text Placeholder 33"/>
            <p:cNvSpPr/>
            <p:nvPr/>
          </p:nvSpPr>
          <p:spPr>
            <a:xfrm>
              <a:off x="9244440" y="490176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Presentation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4" name="Freeform 51"/>
            <p:cNvSpPr/>
            <p:nvPr/>
          </p:nvSpPr>
          <p:spPr>
            <a:xfrm flipH="1" flipV="1">
              <a:off x="8371800" y="488304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496d"/>
                </a:gs>
                <a:gs pos="100000">
                  <a:srgbClr val="a7044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5" name="Shape 2774"/>
            <p:cNvSpPr/>
            <p:nvPr/>
          </p:nvSpPr>
          <p:spPr>
            <a:xfrm>
              <a:off x="8588520" y="5056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76" name="Group 53"/>
          <p:cNvGrpSpPr/>
          <p:nvPr/>
        </p:nvGrpSpPr>
        <p:grpSpPr>
          <a:xfrm>
            <a:off x="8367480" y="3543480"/>
            <a:ext cx="2617920" cy="849240"/>
            <a:chOff x="8367480" y="3543480"/>
            <a:chExt cx="2617920" cy="849240"/>
          </a:xfrm>
        </p:grpSpPr>
        <p:sp>
          <p:nvSpPr>
            <p:cNvPr id="1077" name="Text Placeholder 32"/>
            <p:cNvSpPr/>
            <p:nvPr/>
          </p:nvSpPr>
          <p:spPr>
            <a:xfrm>
              <a:off x="9259920" y="3832920"/>
              <a:ext cx="17254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8" name="Text Placeholder 33"/>
            <p:cNvSpPr/>
            <p:nvPr/>
          </p:nvSpPr>
          <p:spPr>
            <a:xfrm>
              <a:off x="9245520" y="355248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Atom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9" name="Freeform 56"/>
            <p:cNvSpPr/>
            <p:nvPr/>
          </p:nvSpPr>
          <p:spPr>
            <a:xfrm flipH="1" flipV="1">
              <a:off x="8367120" y="3543480"/>
              <a:ext cx="65556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e4d77"/>
                </a:gs>
                <a:gs pos="100000">
                  <a:srgbClr val="e3065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0" name="Shape 2778"/>
            <p:cNvSpPr/>
            <p:nvPr/>
          </p:nvSpPr>
          <p:spPr>
            <a:xfrm>
              <a:off x="8589960" y="3706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81" name="Group 58"/>
          <p:cNvGrpSpPr/>
          <p:nvPr/>
        </p:nvGrpSpPr>
        <p:grpSpPr>
          <a:xfrm>
            <a:off x="8358120" y="2271600"/>
            <a:ext cx="2627280" cy="849600"/>
            <a:chOff x="8358120" y="2271600"/>
            <a:chExt cx="2627280" cy="849600"/>
          </a:xfrm>
        </p:grpSpPr>
        <p:sp>
          <p:nvSpPr>
            <p:cNvPr id="1082" name="Text Placeholder 32"/>
            <p:cNvSpPr/>
            <p:nvPr/>
          </p:nvSpPr>
          <p:spPr>
            <a:xfrm>
              <a:off x="9259560" y="2561040"/>
              <a:ext cx="17258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3" name="Text Placeholder 33"/>
            <p:cNvSpPr/>
            <p:nvPr/>
          </p:nvSpPr>
          <p:spPr>
            <a:xfrm>
              <a:off x="9245520" y="228096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Tree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4" name="Freeform 61"/>
            <p:cNvSpPr/>
            <p:nvPr/>
          </p:nvSpPr>
          <p:spPr>
            <a:xfrm flipH="1" flipV="1">
              <a:off x="8358120" y="2271600"/>
              <a:ext cx="65592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14a73"/>
                </a:gs>
                <a:gs pos="100000">
                  <a:srgbClr val="d0065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5" name="Shape 2779"/>
            <p:cNvSpPr/>
            <p:nvPr/>
          </p:nvSpPr>
          <p:spPr>
            <a:xfrm>
              <a:off x="8618040" y="2421360"/>
              <a:ext cx="20304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67" y="16691"/>
                  </a:moveTo>
                  <a:lnTo>
                    <a:pt x="5303" y="12525"/>
                  </a:lnTo>
                  <a:lnTo>
                    <a:pt x="5294" y="12521"/>
                  </a:lnTo>
                  <a:cubicBezTo>
                    <a:pt x="5355" y="12447"/>
                    <a:pt x="5400" y="12365"/>
                    <a:pt x="5400" y="12273"/>
                  </a:cubicBezTo>
                  <a:cubicBezTo>
                    <a:pt x="5400" y="12001"/>
                    <a:pt x="5098" y="11782"/>
                    <a:pt x="4725" y="11782"/>
                  </a:cubicBezTo>
                  <a:lnTo>
                    <a:pt x="3375" y="11782"/>
                  </a:lnTo>
                  <a:lnTo>
                    <a:pt x="6615" y="8640"/>
                  </a:lnTo>
                  <a:lnTo>
                    <a:pt x="6606" y="8635"/>
                  </a:lnTo>
                  <a:cubicBezTo>
                    <a:pt x="6691" y="8553"/>
                    <a:pt x="6750" y="8456"/>
                    <a:pt x="6750" y="8345"/>
                  </a:cubicBezTo>
                  <a:cubicBezTo>
                    <a:pt x="6750" y="8075"/>
                    <a:pt x="6448" y="7855"/>
                    <a:pt x="6075" y="7855"/>
                  </a:cubicBezTo>
                  <a:lnTo>
                    <a:pt x="4855" y="7855"/>
                  </a:lnTo>
                  <a:lnTo>
                    <a:pt x="8548" y="4785"/>
                  </a:lnTo>
                  <a:lnTo>
                    <a:pt x="8544" y="4782"/>
                  </a:lnTo>
                  <a:cubicBezTo>
                    <a:pt x="8683" y="4691"/>
                    <a:pt x="8775" y="4564"/>
                    <a:pt x="8775" y="4418"/>
                  </a:cubicBezTo>
                  <a:cubicBezTo>
                    <a:pt x="8775" y="4147"/>
                    <a:pt x="8473" y="3927"/>
                    <a:pt x="8100" y="3927"/>
                  </a:cubicBezTo>
                  <a:lnTo>
                    <a:pt x="7029" y="3927"/>
                  </a:lnTo>
                  <a:lnTo>
                    <a:pt x="10800" y="1185"/>
                  </a:lnTo>
                  <a:lnTo>
                    <a:pt x="14571" y="3927"/>
                  </a:lnTo>
                  <a:lnTo>
                    <a:pt x="13500" y="3927"/>
                  </a:lnTo>
                  <a:cubicBezTo>
                    <a:pt x="13128" y="3927"/>
                    <a:pt x="12825" y="4147"/>
                    <a:pt x="12825" y="4418"/>
                  </a:cubicBezTo>
                  <a:cubicBezTo>
                    <a:pt x="12825" y="4564"/>
                    <a:pt x="12917" y="4691"/>
                    <a:pt x="13056" y="4782"/>
                  </a:cubicBezTo>
                  <a:lnTo>
                    <a:pt x="13052" y="4785"/>
                  </a:lnTo>
                  <a:lnTo>
                    <a:pt x="16744" y="7855"/>
                  </a:lnTo>
                  <a:lnTo>
                    <a:pt x="15525" y="7855"/>
                  </a:lnTo>
                  <a:cubicBezTo>
                    <a:pt x="15153" y="7855"/>
                    <a:pt x="14850" y="8075"/>
                    <a:pt x="14850" y="8345"/>
                  </a:cubicBezTo>
                  <a:cubicBezTo>
                    <a:pt x="14850" y="8456"/>
                    <a:pt x="14909" y="8553"/>
                    <a:pt x="14994" y="8635"/>
                  </a:cubicBezTo>
                  <a:lnTo>
                    <a:pt x="14985" y="8640"/>
                  </a:lnTo>
                  <a:lnTo>
                    <a:pt x="18225" y="11782"/>
                  </a:lnTo>
                  <a:lnTo>
                    <a:pt x="16875" y="11782"/>
                  </a:lnTo>
                  <a:cubicBezTo>
                    <a:pt x="16503" y="11782"/>
                    <a:pt x="16200" y="12001"/>
                    <a:pt x="16200" y="12273"/>
                  </a:cubicBezTo>
                  <a:cubicBezTo>
                    <a:pt x="16200" y="12365"/>
                    <a:pt x="16244" y="12447"/>
                    <a:pt x="16306" y="12521"/>
                  </a:cubicBezTo>
                  <a:lnTo>
                    <a:pt x="16296" y="12525"/>
                  </a:lnTo>
                  <a:lnTo>
                    <a:pt x="19733" y="16691"/>
                  </a:lnTo>
                  <a:cubicBezTo>
                    <a:pt x="19733" y="16691"/>
                    <a:pt x="1867" y="16691"/>
                    <a:pt x="1867" y="16691"/>
                  </a:cubicBezTo>
                  <a:close/>
                  <a:moveTo>
                    <a:pt x="12150" y="20618"/>
                  </a:moveTo>
                  <a:lnTo>
                    <a:pt x="9450" y="20618"/>
                  </a:lnTo>
                  <a:lnTo>
                    <a:pt x="9450" y="17673"/>
                  </a:lnTo>
                  <a:lnTo>
                    <a:pt x="12150" y="17673"/>
                  </a:lnTo>
                  <a:cubicBezTo>
                    <a:pt x="12150" y="17673"/>
                    <a:pt x="12150" y="20618"/>
                    <a:pt x="12150" y="20618"/>
                  </a:cubicBezTo>
                  <a:close/>
                  <a:moveTo>
                    <a:pt x="21494" y="16933"/>
                  </a:moveTo>
                  <a:lnTo>
                    <a:pt x="21503" y="16929"/>
                  </a:lnTo>
                  <a:lnTo>
                    <a:pt x="18067" y="12764"/>
                  </a:lnTo>
                  <a:lnTo>
                    <a:pt x="19575" y="12764"/>
                  </a:lnTo>
                  <a:cubicBezTo>
                    <a:pt x="19948" y="12764"/>
                    <a:pt x="20250" y="12544"/>
                    <a:pt x="20250" y="12273"/>
                  </a:cubicBezTo>
                  <a:cubicBezTo>
                    <a:pt x="20250" y="12162"/>
                    <a:pt x="20191" y="12066"/>
                    <a:pt x="20106" y="11983"/>
                  </a:cubicBezTo>
                  <a:lnTo>
                    <a:pt x="20115" y="11978"/>
                  </a:lnTo>
                  <a:lnTo>
                    <a:pt x="16875" y="8836"/>
                  </a:lnTo>
                  <a:lnTo>
                    <a:pt x="18225" y="8836"/>
                  </a:lnTo>
                  <a:cubicBezTo>
                    <a:pt x="18598" y="8836"/>
                    <a:pt x="18900" y="8617"/>
                    <a:pt x="18900" y="8345"/>
                  </a:cubicBezTo>
                  <a:cubicBezTo>
                    <a:pt x="18900" y="8200"/>
                    <a:pt x="18808" y="8072"/>
                    <a:pt x="18669" y="7982"/>
                  </a:cubicBezTo>
                  <a:lnTo>
                    <a:pt x="18673" y="7978"/>
                  </a:lnTo>
                  <a:lnTo>
                    <a:pt x="14980" y="4909"/>
                  </a:lnTo>
                  <a:lnTo>
                    <a:pt x="16200" y="4909"/>
                  </a:lnTo>
                  <a:cubicBezTo>
                    <a:pt x="16573" y="4909"/>
                    <a:pt x="16875" y="4690"/>
                    <a:pt x="16875" y="4418"/>
                  </a:cubicBezTo>
                  <a:cubicBezTo>
                    <a:pt x="16875" y="4283"/>
                    <a:pt x="16800" y="4160"/>
                    <a:pt x="16677" y="4071"/>
                  </a:cubicBezTo>
                  <a:lnTo>
                    <a:pt x="11277" y="144"/>
                  </a:lnTo>
                  <a:cubicBezTo>
                    <a:pt x="11155" y="55"/>
                    <a:pt x="10986" y="0"/>
                    <a:pt x="10800" y="0"/>
                  </a:cubicBezTo>
                  <a:cubicBezTo>
                    <a:pt x="10614" y="0"/>
                    <a:pt x="10445" y="55"/>
                    <a:pt x="10323" y="144"/>
                  </a:cubicBezTo>
                  <a:lnTo>
                    <a:pt x="4923" y="4071"/>
                  </a:lnTo>
                  <a:cubicBezTo>
                    <a:pt x="4801" y="4160"/>
                    <a:pt x="4725" y="4283"/>
                    <a:pt x="4725" y="4418"/>
                  </a:cubicBezTo>
                  <a:cubicBezTo>
                    <a:pt x="4725" y="4690"/>
                    <a:pt x="5028" y="4909"/>
                    <a:pt x="5400" y="4909"/>
                  </a:cubicBezTo>
                  <a:lnTo>
                    <a:pt x="6619" y="4909"/>
                  </a:lnTo>
                  <a:lnTo>
                    <a:pt x="2927" y="7978"/>
                  </a:lnTo>
                  <a:lnTo>
                    <a:pt x="2931" y="7982"/>
                  </a:lnTo>
                  <a:cubicBezTo>
                    <a:pt x="2792" y="8072"/>
                    <a:pt x="2700" y="8200"/>
                    <a:pt x="2700" y="8345"/>
                  </a:cubicBezTo>
                  <a:cubicBezTo>
                    <a:pt x="2700" y="8617"/>
                    <a:pt x="3003" y="8836"/>
                    <a:pt x="3375" y="8836"/>
                  </a:cubicBezTo>
                  <a:lnTo>
                    <a:pt x="4725" y="8836"/>
                  </a:lnTo>
                  <a:lnTo>
                    <a:pt x="1485" y="11978"/>
                  </a:lnTo>
                  <a:lnTo>
                    <a:pt x="1494" y="11983"/>
                  </a:lnTo>
                  <a:cubicBezTo>
                    <a:pt x="1409" y="12066"/>
                    <a:pt x="1350" y="12162"/>
                    <a:pt x="1350" y="12273"/>
                  </a:cubicBezTo>
                  <a:cubicBezTo>
                    <a:pt x="1350" y="12544"/>
                    <a:pt x="1653" y="12764"/>
                    <a:pt x="2025" y="12764"/>
                  </a:cubicBezTo>
                  <a:lnTo>
                    <a:pt x="3533" y="12764"/>
                  </a:lnTo>
                  <a:lnTo>
                    <a:pt x="96" y="16929"/>
                  </a:lnTo>
                  <a:lnTo>
                    <a:pt x="106" y="16933"/>
                  </a:lnTo>
                  <a:cubicBezTo>
                    <a:pt x="44" y="17007"/>
                    <a:pt x="0" y="17089"/>
                    <a:pt x="0" y="17182"/>
                  </a:cubicBezTo>
                  <a:cubicBezTo>
                    <a:pt x="0" y="17453"/>
                    <a:pt x="303" y="17673"/>
                    <a:pt x="675" y="17673"/>
                  </a:cubicBezTo>
                  <a:lnTo>
                    <a:pt x="8100" y="17673"/>
                  </a:lnTo>
                  <a:lnTo>
                    <a:pt x="8100" y="21109"/>
                  </a:lnTo>
                  <a:cubicBezTo>
                    <a:pt x="8100" y="21380"/>
                    <a:pt x="8403" y="21600"/>
                    <a:pt x="8775" y="21600"/>
                  </a:cubicBezTo>
                  <a:lnTo>
                    <a:pt x="12825" y="21600"/>
                  </a:lnTo>
                  <a:cubicBezTo>
                    <a:pt x="13198" y="21600"/>
                    <a:pt x="13500" y="21380"/>
                    <a:pt x="13500" y="21109"/>
                  </a:cubicBezTo>
                  <a:lnTo>
                    <a:pt x="13500" y="17673"/>
                  </a:lnTo>
                  <a:lnTo>
                    <a:pt x="20925" y="17673"/>
                  </a:lnTo>
                  <a:cubicBezTo>
                    <a:pt x="21298" y="17673"/>
                    <a:pt x="21600" y="17453"/>
                    <a:pt x="21600" y="17182"/>
                  </a:cubicBezTo>
                  <a:cubicBezTo>
                    <a:pt x="21600" y="17089"/>
                    <a:pt x="21555" y="17007"/>
                    <a:pt x="21494" y="169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Box 1"/>
          <p:cNvSpPr/>
          <p:nvPr/>
        </p:nvSpPr>
        <p:spPr>
          <a:xfrm>
            <a:off x="3552480" y="538200"/>
            <a:ext cx="510336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c407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8" name="Freeform 5"/>
          <p:cNvSpPr/>
          <p:nvPr/>
        </p:nvSpPr>
        <p:spPr>
          <a:xfrm>
            <a:off x="5187960" y="1903320"/>
            <a:ext cx="1816200" cy="704880"/>
          </a:xfrm>
          <a:custGeom>
            <a:avLst/>
            <a:gdLst/>
            <a:ahLst/>
            <a:rect l="l" t="t" r="r" b="b"/>
            <a:pathLst>
              <a:path w="1308" h="507">
                <a:moveTo>
                  <a:pt x="489" y="418"/>
                </a:moveTo>
                <a:cubicBezTo>
                  <a:pt x="533" y="400"/>
                  <a:pt x="584" y="387"/>
                  <a:pt x="652" y="386"/>
                </a:cubicBezTo>
                <a:cubicBezTo>
                  <a:pt x="722" y="386"/>
                  <a:pt x="775" y="400"/>
                  <a:pt x="820" y="419"/>
                </a:cubicBezTo>
                <a:cubicBezTo>
                  <a:pt x="896" y="454"/>
                  <a:pt x="950" y="502"/>
                  <a:pt x="1039" y="507"/>
                </a:cubicBezTo>
                <a:cubicBezTo>
                  <a:pt x="1041" y="507"/>
                  <a:pt x="1043" y="507"/>
                  <a:pt x="1044" y="507"/>
                </a:cubicBezTo>
                <a:cubicBezTo>
                  <a:pt x="1046" y="507"/>
                  <a:pt x="1046" y="507"/>
                  <a:pt x="1046" y="507"/>
                </a:cubicBezTo>
                <a:cubicBezTo>
                  <a:pt x="1049" y="507"/>
                  <a:pt x="1052" y="507"/>
                  <a:pt x="1054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7" y="507"/>
                  <a:pt x="1059" y="507"/>
                  <a:pt x="1061" y="507"/>
                </a:cubicBezTo>
                <a:cubicBezTo>
                  <a:pt x="1061" y="507"/>
                  <a:pt x="1061" y="507"/>
                  <a:pt x="1061" y="507"/>
                </a:cubicBezTo>
                <a:cubicBezTo>
                  <a:pt x="1063" y="507"/>
                  <a:pt x="1065" y="507"/>
                  <a:pt x="1067" y="507"/>
                </a:cubicBezTo>
                <a:cubicBezTo>
                  <a:pt x="1067" y="507"/>
                  <a:pt x="1067" y="507"/>
                  <a:pt x="1067" y="507"/>
                </a:cubicBezTo>
                <a:cubicBezTo>
                  <a:pt x="1069" y="507"/>
                  <a:pt x="1072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6" y="507"/>
                  <a:pt x="1078" y="506"/>
                  <a:pt x="1080" y="506"/>
                </a:cubicBezTo>
                <a:cubicBezTo>
                  <a:pt x="1080" y="506"/>
                  <a:pt x="1080" y="506"/>
                  <a:pt x="1080" y="506"/>
                </a:cubicBezTo>
                <a:cubicBezTo>
                  <a:pt x="1082" y="506"/>
                  <a:pt x="1084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8" y="505"/>
                  <a:pt x="1091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5" y="504"/>
                  <a:pt x="1097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101" y="503"/>
                  <a:pt x="1103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7" y="502"/>
                  <a:pt x="1109" y="502"/>
                  <a:pt x="1111" y="501"/>
                </a:cubicBezTo>
                <a:cubicBezTo>
                  <a:pt x="1111" y="501"/>
                  <a:pt x="1111" y="501"/>
                  <a:pt x="1111" y="501"/>
                </a:cubicBezTo>
                <a:cubicBezTo>
                  <a:pt x="1113" y="501"/>
                  <a:pt x="1115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9" y="499"/>
                  <a:pt x="1121" y="499"/>
                  <a:pt x="1123" y="498"/>
                </a:cubicBezTo>
                <a:cubicBezTo>
                  <a:pt x="1123" y="498"/>
                  <a:pt x="1123" y="498"/>
                  <a:pt x="1123" y="498"/>
                </a:cubicBezTo>
                <a:cubicBezTo>
                  <a:pt x="1127" y="497"/>
                  <a:pt x="1131" y="496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213" y="468"/>
                  <a:pt x="1275" y="406"/>
                  <a:pt x="1299" y="324"/>
                </a:cubicBezTo>
                <a:cubicBezTo>
                  <a:pt x="1299" y="324"/>
                  <a:pt x="1299" y="324"/>
                  <a:pt x="1299" y="324"/>
                </a:cubicBezTo>
                <a:cubicBezTo>
                  <a:pt x="1300" y="318"/>
                  <a:pt x="1302" y="312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4" y="304"/>
                  <a:pt x="1304" y="302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5" y="297"/>
                  <a:pt x="1305" y="295"/>
                  <a:pt x="1305" y="293"/>
                </a:cubicBezTo>
                <a:cubicBezTo>
                  <a:pt x="1305" y="293"/>
                  <a:pt x="1305" y="293"/>
                  <a:pt x="1305" y="293"/>
                </a:cubicBezTo>
                <a:cubicBezTo>
                  <a:pt x="1306" y="289"/>
                  <a:pt x="1307" y="285"/>
                  <a:pt x="1307" y="280"/>
                </a:cubicBezTo>
                <a:cubicBezTo>
                  <a:pt x="1307" y="280"/>
                  <a:pt x="1307" y="280"/>
                  <a:pt x="1307" y="280"/>
                </a:cubicBezTo>
                <a:cubicBezTo>
                  <a:pt x="1307" y="278"/>
                  <a:pt x="1307" y="276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8" y="269"/>
                  <a:pt x="1308" y="265"/>
                  <a:pt x="1308" y="260"/>
                </a:cubicBezTo>
                <a:cubicBezTo>
                  <a:pt x="1308" y="260"/>
                  <a:pt x="1308" y="260"/>
                  <a:pt x="1308" y="260"/>
                </a:cubicBezTo>
                <a:cubicBezTo>
                  <a:pt x="1308" y="258"/>
                  <a:pt x="1308" y="256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1"/>
                  <a:pt x="1308" y="249"/>
                  <a:pt x="1308" y="247"/>
                </a:cubicBezTo>
                <a:cubicBezTo>
                  <a:pt x="1308" y="247"/>
                  <a:pt x="1308" y="247"/>
                  <a:pt x="1308" y="247"/>
                </a:cubicBezTo>
                <a:cubicBezTo>
                  <a:pt x="1308" y="243"/>
                  <a:pt x="1308" y="238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7" y="231"/>
                  <a:pt x="1307" y="229"/>
                  <a:pt x="1307" y="227"/>
                </a:cubicBezTo>
                <a:cubicBezTo>
                  <a:pt x="1307" y="227"/>
                  <a:pt x="1307" y="227"/>
                  <a:pt x="1307" y="227"/>
                </a:cubicBezTo>
                <a:cubicBezTo>
                  <a:pt x="1307" y="223"/>
                  <a:pt x="1306" y="218"/>
                  <a:pt x="1305" y="214"/>
                </a:cubicBezTo>
                <a:cubicBezTo>
                  <a:pt x="1305" y="214"/>
                  <a:pt x="1305" y="214"/>
                  <a:pt x="1305" y="214"/>
                </a:cubicBezTo>
                <a:cubicBezTo>
                  <a:pt x="1305" y="212"/>
                  <a:pt x="1305" y="210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4" y="206"/>
                  <a:pt x="1304" y="204"/>
                  <a:pt x="1303" y="201"/>
                </a:cubicBezTo>
                <a:cubicBezTo>
                  <a:pt x="1303" y="201"/>
                  <a:pt x="1303" y="201"/>
                  <a:pt x="1303" y="201"/>
                </a:cubicBezTo>
                <a:cubicBezTo>
                  <a:pt x="1302" y="195"/>
                  <a:pt x="1300" y="189"/>
                  <a:pt x="1299" y="183"/>
                </a:cubicBezTo>
                <a:cubicBezTo>
                  <a:pt x="1299" y="183"/>
                  <a:pt x="1299" y="183"/>
                  <a:pt x="1299" y="183"/>
                </a:cubicBezTo>
                <a:cubicBezTo>
                  <a:pt x="1275" y="102"/>
                  <a:pt x="1213" y="39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131" y="11"/>
                  <a:pt x="1127" y="10"/>
                  <a:pt x="1123" y="9"/>
                </a:cubicBezTo>
                <a:cubicBezTo>
                  <a:pt x="1123" y="9"/>
                  <a:pt x="1123" y="9"/>
                  <a:pt x="1123" y="9"/>
                </a:cubicBezTo>
                <a:cubicBezTo>
                  <a:pt x="1121" y="9"/>
                  <a:pt x="1119" y="8"/>
                  <a:pt x="1117" y="7"/>
                </a:cubicBezTo>
                <a:cubicBezTo>
                  <a:pt x="1117" y="7"/>
                  <a:pt x="1117" y="7"/>
                  <a:pt x="1117" y="7"/>
                </a:cubicBezTo>
                <a:cubicBezTo>
                  <a:pt x="1115" y="7"/>
                  <a:pt x="1113" y="7"/>
                  <a:pt x="1111" y="6"/>
                </a:cubicBezTo>
                <a:cubicBezTo>
                  <a:pt x="1111" y="6"/>
                  <a:pt x="1111" y="6"/>
                  <a:pt x="1111" y="6"/>
                </a:cubicBezTo>
                <a:cubicBezTo>
                  <a:pt x="1109" y="6"/>
                  <a:pt x="1107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3" y="4"/>
                  <a:pt x="1101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097" y="3"/>
                  <a:pt x="1095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1" y="2"/>
                  <a:pt x="1088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4" y="1"/>
                  <a:pt x="1082" y="1"/>
                  <a:pt x="1080" y="1"/>
                </a:cubicBezTo>
                <a:cubicBezTo>
                  <a:pt x="1080" y="1"/>
                  <a:pt x="1080" y="1"/>
                  <a:pt x="1080" y="1"/>
                </a:cubicBezTo>
                <a:cubicBezTo>
                  <a:pt x="1078" y="1"/>
                  <a:pt x="1076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2" y="0"/>
                  <a:pt x="1069" y="0"/>
                  <a:pt x="1067" y="0"/>
                </a:cubicBezTo>
                <a:cubicBezTo>
                  <a:pt x="1067" y="0"/>
                  <a:pt x="1067" y="0"/>
                  <a:pt x="1067" y="0"/>
                </a:cubicBezTo>
                <a:cubicBezTo>
                  <a:pt x="1065" y="0"/>
                  <a:pt x="1063" y="0"/>
                  <a:pt x="1061" y="0"/>
                </a:cubicBezTo>
                <a:cubicBezTo>
                  <a:pt x="1061" y="0"/>
                  <a:pt x="1061" y="0"/>
                  <a:pt x="1061" y="0"/>
                </a:cubicBezTo>
                <a:cubicBezTo>
                  <a:pt x="1059" y="0"/>
                  <a:pt x="1057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3" y="0"/>
                  <a:pt x="1053" y="0"/>
                  <a:pt x="1053" y="0"/>
                </a:cubicBezTo>
                <a:cubicBezTo>
                  <a:pt x="1052" y="0"/>
                  <a:pt x="1051" y="0"/>
                  <a:pt x="1051" y="0"/>
                </a:cubicBezTo>
                <a:cubicBezTo>
                  <a:pt x="1050" y="0"/>
                  <a:pt x="1048" y="0"/>
                  <a:pt x="1047" y="0"/>
                </a:cubicBezTo>
                <a:cubicBezTo>
                  <a:pt x="1047" y="0"/>
                  <a:pt x="1047" y="0"/>
                  <a:pt x="1047" y="0"/>
                </a:cubicBezTo>
                <a:cubicBezTo>
                  <a:pt x="953" y="2"/>
                  <a:pt x="898" y="53"/>
                  <a:pt x="820" y="88"/>
                </a:cubicBezTo>
                <a:cubicBezTo>
                  <a:pt x="775" y="107"/>
                  <a:pt x="723" y="121"/>
                  <a:pt x="653" y="122"/>
                </a:cubicBezTo>
                <a:cubicBezTo>
                  <a:pt x="585" y="121"/>
                  <a:pt x="533" y="107"/>
                  <a:pt x="489" y="89"/>
                </a:cubicBezTo>
                <a:cubicBezTo>
                  <a:pt x="412" y="54"/>
                  <a:pt x="359" y="5"/>
                  <a:pt x="268" y="0"/>
                </a:cubicBezTo>
                <a:cubicBezTo>
                  <a:pt x="267" y="0"/>
                  <a:pt x="265" y="0"/>
                  <a:pt x="264" y="0"/>
                </a:cubicBezTo>
                <a:cubicBezTo>
                  <a:pt x="262" y="0"/>
                  <a:pt x="262" y="0"/>
                  <a:pt x="262" y="0"/>
                </a:cubicBezTo>
                <a:cubicBezTo>
                  <a:pt x="259" y="0"/>
                  <a:pt x="256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1" y="0"/>
                  <a:pt x="249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5" y="0"/>
                  <a:pt x="243" y="0"/>
                  <a:pt x="241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39" y="0"/>
                  <a:pt x="236" y="0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2" y="1"/>
                  <a:pt x="230" y="1"/>
                  <a:pt x="228" y="1"/>
                </a:cubicBezTo>
                <a:cubicBezTo>
                  <a:pt x="228" y="1"/>
                  <a:pt x="228" y="1"/>
                  <a:pt x="228" y="1"/>
                </a:cubicBezTo>
                <a:cubicBezTo>
                  <a:pt x="226" y="1"/>
                  <a:pt x="224" y="1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0" y="2"/>
                  <a:pt x="218" y="2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3" y="3"/>
                  <a:pt x="211" y="3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07" y="4"/>
                  <a:pt x="205" y="4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1" y="5"/>
                  <a:pt x="199" y="6"/>
                  <a:pt x="197" y="6"/>
                </a:cubicBezTo>
                <a:cubicBezTo>
                  <a:pt x="197" y="6"/>
                  <a:pt x="197" y="6"/>
                  <a:pt x="197" y="6"/>
                </a:cubicBezTo>
                <a:cubicBezTo>
                  <a:pt x="195" y="7"/>
                  <a:pt x="193" y="7"/>
                  <a:pt x="191" y="7"/>
                </a:cubicBezTo>
                <a:cubicBezTo>
                  <a:pt x="191" y="7"/>
                  <a:pt x="191" y="7"/>
                  <a:pt x="191" y="7"/>
                </a:cubicBezTo>
                <a:cubicBezTo>
                  <a:pt x="189" y="8"/>
                  <a:pt x="187" y="9"/>
                  <a:pt x="185" y="9"/>
                </a:cubicBezTo>
                <a:cubicBezTo>
                  <a:pt x="185" y="9"/>
                  <a:pt x="185" y="9"/>
                  <a:pt x="185" y="9"/>
                </a:cubicBezTo>
                <a:cubicBezTo>
                  <a:pt x="181" y="10"/>
                  <a:pt x="177" y="11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95" y="39"/>
                  <a:pt x="33" y="102"/>
                  <a:pt x="9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8" y="189"/>
                  <a:pt x="6" y="195"/>
                  <a:pt x="5" y="201"/>
                </a:cubicBezTo>
                <a:cubicBezTo>
                  <a:pt x="5" y="201"/>
                  <a:pt x="5" y="201"/>
                  <a:pt x="5" y="201"/>
                </a:cubicBezTo>
                <a:cubicBezTo>
                  <a:pt x="4" y="204"/>
                  <a:pt x="4" y="206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3" y="210"/>
                  <a:pt x="3" y="212"/>
                  <a:pt x="3" y="214"/>
                </a:cubicBezTo>
                <a:cubicBezTo>
                  <a:pt x="3" y="214"/>
                  <a:pt x="3" y="214"/>
                  <a:pt x="3" y="214"/>
                </a:cubicBezTo>
                <a:cubicBezTo>
                  <a:pt x="2" y="218"/>
                  <a:pt x="1" y="223"/>
                  <a:pt x="1" y="227"/>
                </a:cubicBezTo>
                <a:cubicBezTo>
                  <a:pt x="1" y="227"/>
                  <a:pt x="1" y="227"/>
                  <a:pt x="1" y="227"/>
                </a:cubicBezTo>
                <a:cubicBezTo>
                  <a:pt x="1" y="229"/>
                  <a:pt x="1" y="231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8"/>
                  <a:pt x="0" y="243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9"/>
                  <a:pt x="0" y="251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6"/>
                  <a:pt x="0" y="258"/>
                  <a:pt x="0" y="260"/>
                </a:cubicBezTo>
                <a:cubicBezTo>
                  <a:pt x="0" y="260"/>
                  <a:pt x="0" y="260"/>
                  <a:pt x="0" y="260"/>
                </a:cubicBezTo>
                <a:cubicBezTo>
                  <a:pt x="0" y="265"/>
                  <a:pt x="0" y="269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1" y="276"/>
                  <a:pt x="1" y="278"/>
                  <a:pt x="1" y="280"/>
                </a:cubicBezTo>
                <a:cubicBezTo>
                  <a:pt x="1" y="280"/>
                  <a:pt x="1" y="280"/>
                  <a:pt x="1" y="280"/>
                </a:cubicBezTo>
                <a:cubicBezTo>
                  <a:pt x="1" y="285"/>
                  <a:pt x="2" y="289"/>
                  <a:pt x="3" y="293"/>
                </a:cubicBezTo>
                <a:cubicBezTo>
                  <a:pt x="3" y="293"/>
                  <a:pt x="3" y="293"/>
                  <a:pt x="3" y="293"/>
                </a:cubicBezTo>
                <a:cubicBezTo>
                  <a:pt x="3" y="295"/>
                  <a:pt x="3" y="297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4" y="302"/>
                  <a:pt x="4" y="304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6" y="312"/>
                  <a:pt x="8" y="318"/>
                  <a:pt x="9" y="324"/>
                </a:cubicBezTo>
                <a:cubicBezTo>
                  <a:pt x="9" y="324"/>
                  <a:pt x="9" y="324"/>
                  <a:pt x="9" y="324"/>
                </a:cubicBezTo>
                <a:cubicBezTo>
                  <a:pt x="33" y="406"/>
                  <a:pt x="95" y="468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177" y="496"/>
                  <a:pt x="181" y="497"/>
                  <a:pt x="185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7" y="499"/>
                  <a:pt x="189" y="499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93" y="500"/>
                  <a:pt x="195" y="501"/>
                  <a:pt x="197" y="501"/>
                </a:cubicBezTo>
                <a:cubicBezTo>
                  <a:pt x="197" y="501"/>
                  <a:pt x="197" y="501"/>
                  <a:pt x="197" y="501"/>
                </a:cubicBezTo>
                <a:cubicBezTo>
                  <a:pt x="199" y="502"/>
                  <a:pt x="201" y="502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5" y="503"/>
                  <a:pt x="207" y="503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11" y="504"/>
                  <a:pt x="213" y="504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8" y="505"/>
                  <a:pt x="220" y="505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4" y="506"/>
                  <a:pt x="226" y="506"/>
                  <a:pt x="228" y="506"/>
                </a:cubicBezTo>
                <a:cubicBezTo>
                  <a:pt x="228" y="506"/>
                  <a:pt x="228" y="506"/>
                  <a:pt x="228" y="506"/>
                </a:cubicBezTo>
                <a:cubicBezTo>
                  <a:pt x="230" y="506"/>
                  <a:pt x="232" y="507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6" y="507"/>
                  <a:pt x="239" y="507"/>
                  <a:pt x="241" y="507"/>
                </a:cubicBezTo>
                <a:cubicBezTo>
                  <a:pt x="241" y="507"/>
                  <a:pt x="241" y="507"/>
                  <a:pt x="241" y="507"/>
                </a:cubicBezTo>
                <a:cubicBezTo>
                  <a:pt x="243" y="507"/>
                  <a:pt x="245" y="507"/>
                  <a:pt x="247" y="507"/>
                </a:cubicBezTo>
                <a:cubicBezTo>
                  <a:pt x="247" y="507"/>
                  <a:pt x="247" y="507"/>
                  <a:pt x="247" y="507"/>
                </a:cubicBezTo>
                <a:cubicBezTo>
                  <a:pt x="249" y="507"/>
                  <a:pt x="251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6" y="507"/>
                  <a:pt x="259" y="507"/>
                  <a:pt x="262" y="507"/>
                </a:cubicBezTo>
                <a:cubicBezTo>
                  <a:pt x="262" y="507"/>
                  <a:pt x="263" y="507"/>
                  <a:pt x="264" y="507"/>
                </a:cubicBezTo>
                <a:cubicBezTo>
                  <a:pt x="265" y="507"/>
                  <a:pt x="267" y="507"/>
                  <a:pt x="268" y="507"/>
                </a:cubicBezTo>
                <a:cubicBezTo>
                  <a:pt x="359" y="502"/>
                  <a:pt x="412" y="453"/>
                  <a:pt x="489" y="418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9" name="Freeform 6"/>
          <p:cNvSpPr/>
          <p:nvPr/>
        </p:nvSpPr>
        <p:spPr>
          <a:xfrm>
            <a:off x="7102440" y="3819600"/>
            <a:ext cx="671400" cy="66996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86"/>
                </a:moveTo>
                <a:cubicBezTo>
                  <a:pt x="172" y="0"/>
                  <a:pt x="311" y="0"/>
                  <a:pt x="397" y="86"/>
                </a:cubicBezTo>
                <a:cubicBezTo>
                  <a:pt x="483" y="172"/>
                  <a:pt x="483" y="311"/>
                  <a:pt x="397" y="397"/>
                </a:cubicBezTo>
                <a:cubicBezTo>
                  <a:pt x="311" y="483"/>
                  <a:pt x="172" y="483"/>
                  <a:pt x="86" y="397"/>
                </a:cubicBezTo>
                <a:cubicBezTo>
                  <a:pt x="0" y="311"/>
                  <a:pt x="0" y="172"/>
                  <a:pt x="86" y="86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0" name="Freeform 7"/>
          <p:cNvSpPr/>
          <p:nvPr/>
        </p:nvSpPr>
        <p:spPr>
          <a:xfrm>
            <a:off x="4402080" y="2687760"/>
            <a:ext cx="703440" cy="1819080"/>
          </a:xfrm>
          <a:custGeom>
            <a:avLst/>
            <a:gdLst/>
            <a:ahLst/>
            <a:rect l="l" t="t" r="r" b="b"/>
            <a:pathLst>
              <a:path w="507" h="1309">
                <a:moveTo>
                  <a:pt x="89" y="819"/>
                </a:moveTo>
                <a:cubicBezTo>
                  <a:pt x="107" y="775"/>
                  <a:pt x="120" y="724"/>
                  <a:pt x="121" y="656"/>
                </a:cubicBezTo>
                <a:cubicBezTo>
                  <a:pt x="121" y="586"/>
                  <a:pt x="107" y="533"/>
                  <a:pt x="88" y="488"/>
                </a:cubicBezTo>
                <a:cubicBezTo>
                  <a:pt x="53" y="412"/>
                  <a:pt x="5" y="358"/>
                  <a:pt x="0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39"/>
                  <a:pt x="0" y="237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6"/>
                  <a:pt x="1" y="224"/>
                  <a:pt x="1" y="222"/>
                </a:cubicBezTo>
                <a:cubicBezTo>
                  <a:pt x="1" y="222"/>
                  <a:pt x="1" y="222"/>
                  <a:pt x="1" y="222"/>
                </a:cubicBezTo>
                <a:cubicBezTo>
                  <a:pt x="2" y="220"/>
                  <a:pt x="2" y="218"/>
                  <a:pt x="2" y="216"/>
                </a:cubicBezTo>
                <a:cubicBezTo>
                  <a:pt x="2" y="216"/>
                  <a:pt x="2" y="216"/>
                  <a:pt x="2" y="216"/>
                </a:cubicBezTo>
                <a:cubicBezTo>
                  <a:pt x="3" y="214"/>
                  <a:pt x="3" y="212"/>
                  <a:pt x="3" y="209"/>
                </a:cubicBezTo>
                <a:cubicBezTo>
                  <a:pt x="3" y="209"/>
                  <a:pt x="3" y="209"/>
                  <a:pt x="3" y="209"/>
                </a:cubicBezTo>
                <a:cubicBezTo>
                  <a:pt x="4" y="207"/>
                  <a:pt x="4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5" y="201"/>
                  <a:pt x="5" y="199"/>
                  <a:pt x="6" y="197"/>
                </a:cubicBezTo>
                <a:cubicBezTo>
                  <a:pt x="6" y="197"/>
                  <a:pt x="6" y="197"/>
                  <a:pt x="6" y="197"/>
                </a:cubicBezTo>
                <a:cubicBezTo>
                  <a:pt x="6" y="195"/>
                  <a:pt x="7" y="193"/>
                  <a:pt x="7" y="191"/>
                </a:cubicBezTo>
                <a:cubicBezTo>
                  <a:pt x="7" y="191"/>
                  <a:pt x="7" y="191"/>
                  <a:pt x="7" y="191"/>
                </a:cubicBezTo>
                <a:cubicBezTo>
                  <a:pt x="8" y="189"/>
                  <a:pt x="8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0" y="181"/>
                  <a:pt x="11" y="177"/>
                  <a:pt x="12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8" y="95"/>
                  <a:pt x="101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5" y="6"/>
                  <a:pt x="201" y="5"/>
                </a:cubicBezTo>
                <a:cubicBezTo>
                  <a:pt x="201" y="5"/>
                  <a:pt x="201" y="5"/>
                  <a:pt x="201" y="5"/>
                </a:cubicBezTo>
                <a:cubicBezTo>
                  <a:pt x="203" y="5"/>
                  <a:pt x="205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4" y="3"/>
                </a:cubicBezTo>
                <a:cubicBezTo>
                  <a:pt x="214" y="3"/>
                  <a:pt x="214" y="3"/>
                  <a:pt x="214" y="3"/>
                </a:cubicBezTo>
                <a:cubicBezTo>
                  <a:pt x="218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29" y="1"/>
                  <a:pt x="231" y="1"/>
                  <a:pt x="233" y="0"/>
                </a:cubicBezTo>
                <a:cubicBezTo>
                  <a:pt x="233" y="0"/>
                  <a:pt x="233" y="0"/>
                  <a:pt x="233" y="0"/>
                </a:cubicBezTo>
                <a:cubicBezTo>
                  <a:pt x="238" y="0"/>
                  <a:pt x="242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9" y="0"/>
                  <a:pt x="251" y="0"/>
                  <a:pt x="25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56" y="0"/>
                  <a:pt x="258" y="0"/>
                  <a:pt x="260" y="0"/>
                </a:cubicBezTo>
                <a:cubicBezTo>
                  <a:pt x="260" y="0"/>
                  <a:pt x="260" y="0"/>
                  <a:pt x="260" y="0"/>
                </a:cubicBezTo>
                <a:cubicBezTo>
                  <a:pt x="265" y="0"/>
                  <a:pt x="269" y="0"/>
                  <a:pt x="273" y="0"/>
                </a:cubicBezTo>
                <a:cubicBezTo>
                  <a:pt x="273" y="0"/>
                  <a:pt x="273" y="0"/>
                  <a:pt x="273" y="0"/>
                </a:cubicBezTo>
                <a:cubicBezTo>
                  <a:pt x="276" y="1"/>
                  <a:pt x="278" y="1"/>
                  <a:pt x="280" y="1"/>
                </a:cubicBezTo>
                <a:cubicBezTo>
                  <a:pt x="280" y="1"/>
                  <a:pt x="280" y="1"/>
                  <a:pt x="280" y="1"/>
                </a:cubicBezTo>
                <a:cubicBezTo>
                  <a:pt x="284" y="2"/>
                  <a:pt x="289" y="2"/>
                  <a:pt x="293" y="3"/>
                </a:cubicBezTo>
                <a:cubicBezTo>
                  <a:pt x="293" y="3"/>
                  <a:pt x="293" y="3"/>
                  <a:pt x="293" y="3"/>
                </a:cubicBezTo>
                <a:cubicBezTo>
                  <a:pt x="295" y="3"/>
                  <a:pt x="297" y="3"/>
                  <a:pt x="299" y="4"/>
                </a:cubicBezTo>
                <a:cubicBezTo>
                  <a:pt x="299" y="4"/>
                  <a:pt x="299" y="4"/>
                  <a:pt x="299" y="4"/>
                </a:cubicBezTo>
                <a:cubicBezTo>
                  <a:pt x="301" y="4"/>
                  <a:pt x="303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12" y="6"/>
                  <a:pt x="318" y="8"/>
                  <a:pt x="324" y="10"/>
                </a:cubicBezTo>
                <a:cubicBezTo>
                  <a:pt x="324" y="10"/>
                  <a:pt x="324" y="10"/>
                  <a:pt x="324" y="10"/>
                </a:cubicBezTo>
                <a:cubicBezTo>
                  <a:pt x="405" y="33"/>
                  <a:pt x="468" y="95"/>
                  <a:pt x="494" y="173"/>
                </a:cubicBezTo>
                <a:cubicBezTo>
                  <a:pt x="494" y="173"/>
                  <a:pt x="494" y="173"/>
                  <a:pt x="494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8" y="187"/>
                  <a:pt x="499" y="189"/>
                  <a:pt x="499" y="191"/>
                </a:cubicBezTo>
                <a:cubicBezTo>
                  <a:pt x="499" y="191"/>
                  <a:pt x="499" y="191"/>
                  <a:pt x="499" y="191"/>
                </a:cubicBezTo>
                <a:cubicBezTo>
                  <a:pt x="500" y="193"/>
                  <a:pt x="501" y="195"/>
                  <a:pt x="501" y="197"/>
                </a:cubicBezTo>
                <a:cubicBezTo>
                  <a:pt x="501" y="197"/>
                  <a:pt x="501" y="197"/>
                  <a:pt x="501" y="197"/>
                </a:cubicBezTo>
                <a:cubicBezTo>
                  <a:pt x="501" y="199"/>
                  <a:pt x="502" y="201"/>
                  <a:pt x="502" y="203"/>
                </a:cubicBezTo>
                <a:cubicBezTo>
                  <a:pt x="502" y="203"/>
                  <a:pt x="502" y="203"/>
                  <a:pt x="502" y="203"/>
                </a:cubicBezTo>
                <a:cubicBezTo>
                  <a:pt x="503" y="205"/>
                  <a:pt x="503" y="207"/>
                  <a:pt x="503" y="209"/>
                </a:cubicBezTo>
                <a:cubicBezTo>
                  <a:pt x="503" y="209"/>
                  <a:pt x="503" y="209"/>
                  <a:pt x="503" y="209"/>
                </a:cubicBezTo>
                <a:cubicBezTo>
                  <a:pt x="504" y="212"/>
                  <a:pt x="504" y="214"/>
                  <a:pt x="504" y="216"/>
                </a:cubicBezTo>
                <a:cubicBezTo>
                  <a:pt x="504" y="216"/>
                  <a:pt x="504" y="216"/>
                  <a:pt x="504" y="216"/>
                </a:cubicBezTo>
                <a:cubicBezTo>
                  <a:pt x="505" y="218"/>
                  <a:pt x="505" y="220"/>
                  <a:pt x="505" y="222"/>
                </a:cubicBezTo>
                <a:cubicBezTo>
                  <a:pt x="505" y="222"/>
                  <a:pt x="505" y="222"/>
                  <a:pt x="505" y="222"/>
                </a:cubicBezTo>
                <a:cubicBezTo>
                  <a:pt x="506" y="224"/>
                  <a:pt x="506" y="226"/>
                  <a:pt x="506" y="228"/>
                </a:cubicBezTo>
                <a:cubicBezTo>
                  <a:pt x="506" y="228"/>
                  <a:pt x="506" y="228"/>
                  <a:pt x="506" y="228"/>
                </a:cubicBezTo>
                <a:cubicBezTo>
                  <a:pt x="506" y="230"/>
                  <a:pt x="506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7" y="239"/>
                  <a:pt x="507" y="241"/>
                </a:cubicBezTo>
                <a:cubicBezTo>
                  <a:pt x="507" y="241"/>
                  <a:pt x="507" y="241"/>
                  <a:pt x="507" y="241"/>
                </a:cubicBezTo>
                <a:cubicBezTo>
                  <a:pt x="507" y="243"/>
                  <a:pt x="507" y="245"/>
                  <a:pt x="507" y="247"/>
                </a:cubicBezTo>
                <a:cubicBezTo>
                  <a:pt x="507" y="247"/>
                  <a:pt x="507" y="247"/>
                  <a:pt x="507" y="247"/>
                </a:cubicBezTo>
                <a:cubicBezTo>
                  <a:pt x="507" y="249"/>
                  <a:pt x="507" y="251"/>
                  <a:pt x="507" y="254"/>
                </a:cubicBezTo>
                <a:cubicBezTo>
                  <a:pt x="507" y="254"/>
                  <a:pt x="507" y="254"/>
                  <a:pt x="507" y="254"/>
                </a:cubicBezTo>
                <a:cubicBezTo>
                  <a:pt x="507" y="255"/>
                  <a:pt x="507" y="255"/>
                  <a:pt x="507" y="255"/>
                </a:cubicBezTo>
                <a:cubicBezTo>
                  <a:pt x="507" y="256"/>
                  <a:pt x="507" y="257"/>
                  <a:pt x="507" y="258"/>
                </a:cubicBezTo>
                <a:cubicBezTo>
                  <a:pt x="507" y="259"/>
                  <a:pt x="507" y="260"/>
                  <a:pt x="507" y="261"/>
                </a:cubicBezTo>
                <a:cubicBezTo>
                  <a:pt x="507" y="261"/>
                  <a:pt x="507" y="261"/>
                  <a:pt x="507" y="261"/>
                </a:cubicBezTo>
                <a:cubicBezTo>
                  <a:pt x="505" y="355"/>
                  <a:pt x="454" y="410"/>
                  <a:pt x="419" y="488"/>
                </a:cubicBezTo>
                <a:cubicBezTo>
                  <a:pt x="400" y="533"/>
                  <a:pt x="386" y="586"/>
                  <a:pt x="385" y="656"/>
                </a:cubicBezTo>
                <a:cubicBezTo>
                  <a:pt x="386" y="723"/>
                  <a:pt x="400" y="775"/>
                  <a:pt x="418" y="819"/>
                </a:cubicBezTo>
                <a:cubicBezTo>
                  <a:pt x="453" y="896"/>
                  <a:pt x="502" y="950"/>
                  <a:pt x="507" y="1040"/>
                </a:cubicBezTo>
                <a:cubicBezTo>
                  <a:pt x="507" y="1041"/>
                  <a:pt x="507" y="1043"/>
                  <a:pt x="507" y="1044"/>
                </a:cubicBezTo>
                <a:cubicBezTo>
                  <a:pt x="507" y="1047"/>
                  <a:pt x="507" y="1047"/>
                  <a:pt x="507" y="1047"/>
                </a:cubicBezTo>
                <a:cubicBezTo>
                  <a:pt x="507" y="1049"/>
                  <a:pt x="507" y="1052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7"/>
                  <a:pt x="507" y="1059"/>
                  <a:pt x="507" y="1061"/>
                </a:cubicBezTo>
                <a:cubicBezTo>
                  <a:pt x="507" y="1061"/>
                  <a:pt x="507" y="1061"/>
                  <a:pt x="507" y="1061"/>
                </a:cubicBezTo>
                <a:cubicBezTo>
                  <a:pt x="507" y="1063"/>
                  <a:pt x="507" y="1065"/>
                  <a:pt x="507" y="1067"/>
                </a:cubicBezTo>
                <a:cubicBezTo>
                  <a:pt x="507" y="1067"/>
                  <a:pt x="507" y="1067"/>
                  <a:pt x="507" y="1067"/>
                </a:cubicBezTo>
                <a:cubicBezTo>
                  <a:pt x="507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6" y="1076"/>
                  <a:pt x="506" y="1078"/>
                  <a:pt x="506" y="1080"/>
                </a:cubicBezTo>
                <a:cubicBezTo>
                  <a:pt x="506" y="1080"/>
                  <a:pt x="506" y="1080"/>
                  <a:pt x="506" y="1080"/>
                </a:cubicBezTo>
                <a:cubicBezTo>
                  <a:pt x="506" y="1082"/>
                  <a:pt x="506" y="1084"/>
                  <a:pt x="505" y="1086"/>
                </a:cubicBezTo>
                <a:cubicBezTo>
                  <a:pt x="505" y="1086"/>
                  <a:pt x="505" y="1086"/>
                  <a:pt x="505" y="1086"/>
                </a:cubicBezTo>
                <a:cubicBezTo>
                  <a:pt x="505" y="1089"/>
                  <a:pt x="505" y="1091"/>
                  <a:pt x="504" y="1093"/>
                </a:cubicBezTo>
                <a:cubicBezTo>
                  <a:pt x="504" y="1093"/>
                  <a:pt x="504" y="1093"/>
                  <a:pt x="504" y="1093"/>
                </a:cubicBezTo>
                <a:cubicBezTo>
                  <a:pt x="504" y="1095"/>
                  <a:pt x="504" y="1097"/>
                  <a:pt x="503" y="1099"/>
                </a:cubicBezTo>
                <a:cubicBezTo>
                  <a:pt x="503" y="1099"/>
                  <a:pt x="503" y="1099"/>
                  <a:pt x="503" y="1099"/>
                </a:cubicBezTo>
                <a:cubicBezTo>
                  <a:pt x="503" y="1101"/>
                  <a:pt x="503" y="1103"/>
                  <a:pt x="502" y="1105"/>
                </a:cubicBezTo>
                <a:cubicBezTo>
                  <a:pt x="502" y="1105"/>
                  <a:pt x="502" y="1105"/>
                  <a:pt x="502" y="1105"/>
                </a:cubicBezTo>
                <a:cubicBezTo>
                  <a:pt x="502" y="1107"/>
                  <a:pt x="501" y="1109"/>
                  <a:pt x="501" y="1111"/>
                </a:cubicBezTo>
                <a:cubicBezTo>
                  <a:pt x="501" y="1111"/>
                  <a:pt x="501" y="1111"/>
                  <a:pt x="501" y="1111"/>
                </a:cubicBezTo>
                <a:cubicBezTo>
                  <a:pt x="501" y="1113"/>
                  <a:pt x="500" y="1115"/>
                  <a:pt x="499" y="1117"/>
                </a:cubicBezTo>
                <a:cubicBezTo>
                  <a:pt x="499" y="1117"/>
                  <a:pt x="499" y="1117"/>
                  <a:pt x="499" y="1117"/>
                </a:cubicBezTo>
                <a:cubicBezTo>
                  <a:pt x="499" y="1119"/>
                  <a:pt x="498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4" y="1135"/>
                </a:cubicBezTo>
                <a:cubicBezTo>
                  <a:pt x="494" y="1135"/>
                  <a:pt x="494" y="1135"/>
                  <a:pt x="494" y="1135"/>
                </a:cubicBezTo>
                <a:cubicBezTo>
                  <a:pt x="468" y="1213"/>
                  <a:pt x="405" y="1276"/>
                  <a:pt x="324" y="1299"/>
                </a:cubicBezTo>
                <a:cubicBezTo>
                  <a:pt x="324" y="1299"/>
                  <a:pt x="324" y="1299"/>
                  <a:pt x="324" y="1299"/>
                </a:cubicBezTo>
                <a:cubicBezTo>
                  <a:pt x="318" y="1301"/>
                  <a:pt x="312" y="1302"/>
                  <a:pt x="305" y="1303"/>
                </a:cubicBezTo>
                <a:cubicBezTo>
                  <a:pt x="305" y="1303"/>
                  <a:pt x="305" y="1303"/>
                  <a:pt x="305" y="1303"/>
                </a:cubicBezTo>
                <a:cubicBezTo>
                  <a:pt x="303" y="1304"/>
                  <a:pt x="301" y="1304"/>
                  <a:pt x="299" y="1305"/>
                </a:cubicBezTo>
                <a:cubicBezTo>
                  <a:pt x="299" y="1305"/>
                  <a:pt x="299" y="1305"/>
                  <a:pt x="299" y="1305"/>
                </a:cubicBezTo>
                <a:cubicBezTo>
                  <a:pt x="297" y="1305"/>
                  <a:pt x="295" y="1305"/>
                  <a:pt x="293" y="1306"/>
                </a:cubicBezTo>
                <a:cubicBezTo>
                  <a:pt x="293" y="1306"/>
                  <a:pt x="293" y="1306"/>
                  <a:pt x="293" y="1306"/>
                </a:cubicBezTo>
                <a:cubicBezTo>
                  <a:pt x="289" y="1306"/>
                  <a:pt x="284" y="1307"/>
                  <a:pt x="280" y="1307"/>
                </a:cubicBezTo>
                <a:cubicBezTo>
                  <a:pt x="280" y="1307"/>
                  <a:pt x="280" y="1307"/>
                  <a:pt x="280" y="1307"/>
                </a:cubicBezTo>
                <a:cubicBezTo>
                  <a:pt x="278" y="1308"/>
                  <a:pt x="276" y="1308"/>
                  <a:pt x="273" y="1308"/>
                </a:cubicBezTo>
                <a:cubicBezTo>
                  <a:pt x="273" y="1308"/>
                  <a:pt x="273" y="1308"/>
                  <a:pt x="273" y="1308"/>
                </a:cubicBezTo>
                <a:cubicBezTo>
                  <a:pt x="269" y="1308"/>
                  <a:pt x="265" y="1308"/>
                  <a:pt x="260" y="1309"/>
                </a:cubicBezTo>
                <a:cubicBezTo>
                  <a:pt x="260" y="1309"/>
                  <a:pt x="260" y="1309"/>
                  <a:pt x="260" y="1309"/>
                </a:cubicBezTo>
                <a:cubicBezTo>
                  <a:pt x="258" y="1309"/>
                  <a:pt x="256" y="1309"/>
                  <a:pt x="253" y="1309"/>
                </a:cubicBezTo>
                <a:cubicBezTo>
                  <a:pt x="253" y="1309"/>
                  <a:pt x="253" y="1309"/>
                  <a:pt x="253" y="1309"/>
                </a:cubicBezTo>
                <a:cubicBezTo>
                  <a:pt x="251" y="1309"/>
                  <a:pt x="249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2" y="1308"/>
                  <a:pt x="238" y="1308"/>
                  <a:pt x="233" y="1308"/>
                </a:cubicBezTo>
                <a:cubicBezTo>
                  <a:pt x="233" y="1308"/>
                  <a:pt x="233" y="1308"/>
                  <a:pt x="233" y="1308"/>
                </a:cubicBezTo>
                <a:cubicBezTo>
                  <a:pt x="231" y="1308"/>
                  <a:pt x="229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8" y="1306"/>
                  <a:pt x="214" y="1306"/>
                </a:cubicBezTo>
                <a:cubicBezTo>
                  <a:pt x="214" y="1306"/>
                  <a:pt x="214" y="1306"/>
                  <a:pt x="214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5" y="1304"/>
                  <a:pt x="203" y="1304"/>
                  <a:pt x="201" y="1303"/>
                </a:cubicBezTo>
                <a:cubicBezTo>
                  <a:pt x="201" y="1303"/>
                  <a:pt x="201" y="1303"/>
                  <a:pt x="201" y="1303"/>
                </a:cubicBezTo>
                <a:cubicBezTo>
                  <a:pt x="195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1" y="1276"/>
                  <a:pt x="38" y="1213"/>
                  <a:pt x="13" y="1135"/>
                </a:cubicBezTo>
                <a:cubicBezTo>
                  <a:pt x="12" y="1135"/>
                  <a:pt x="12" y="1135"/>
                  <a:pt x="12" y="1135"/>
                </a:cubicBezTo>
                <a:cubicBezTo>
                  <a:pt x="11" y="1131"/>
                  <a:pt x="10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8" y="1121"/>
                  <a:pt x="8" y="1119"/>
                  <a:pt x="7" y="1117"/>
                </a:cubicBezTo>
                <a:cubicBezTo>
                  <a:pt x="7" y="1117"/>
                  <a:pt x="7" y="1117"/>
                  <a:pt x="7" y="1117"/>
                </a:cubicBezTo>
                <a:cubicBezTo>
                  <a:pt x="7" y="1115"/>
                  <a:pt x="6" y="1113"/>
                  <a:pt x="6" y="1111"/>
                </a:cubicBezTo>
                <a:cubicBezTo>
                  <a:pt x="6" y="1111"/>
                  <a:pt x="6" y="1111"/>
                  <a:pt x="6" y="1111"/>
                </a:cubicBezTo>
                <a:cubicBezTo>
                  <a:pt x="5" y="1109"/>
                  <a:pt x="5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4" y="1103"/>
                  <a:pt x="4" y="1101"/>
                  <a:pt x="3" y="1099"/>
                </a:cubicBezTo>
                <a:cubicBezTo>
                  <a:pt x="3" y="1099"/>
                  <a:pt x="3" y="1099"/>
                  <a:pt x="3" y="1099"/>
                </a:cubicBezTo>
                <a:cubicBezTo>
                  <a:pt x="3" y="1097"/>
                  <a:pt x="3" y="1095"/>
                  <a:pt x="2" y="1093"/>
                </a:cubicBezTo>
                <a:cubicBezTo>
                  <a:pt x="2" y="1093"/>
                  <a:pt x="2" y="1093"/>
                  <a:pt x="2" y="1093"/>
                </a:cubicBezTo>
                <a:cubicBezTo>
                  <a:pt x="2" y="1091"/>
                  <a:pt x="2" y="1089"/>
                  <a:pt x="1" y="1086"/>
                </a:cubicBezTo>
                <a:cubicBezTo>
                  <a:pt x="1" y="1086"/>
                  <a:pt x="1" y="1086"/>
                  <a:pt x="1" y="1086"/>
                </a:cubicBezTo>
                <a:cubicBezTo>
                  <a:pt x="1" y="1084"/>
                  <a:pt x="1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0" y="1076"/>
                  <a:pt x="0" y="1074"/>
                </a:cubicBezTo>
                <a:cubicBezTo>
                  <a:pt x="0" y="1074"/>
                  <a:pt x="0" y="1074"/>
                  <a:pt x="0" y="1074"/>
                </a:cubicBezTo>
                <a:cubicBezTo>
                  <a:pt x="0" y="1072"/>
                  <a:pt x="0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0" y="1040"/>
                </a:cubicBezTo>
                <a:cubicBezTo>
                  <a:pt x="5" y="950"/>
                  <a:pt x="54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1" name="Oval 8"/>
          <p:cNvSpPr/>
          <p:nvPr/>
        </p:nvSpPr>
        <p:spPr>
          <a:xfrm>
            <a:off x="4448160" y="2735280"/>
            <a:ext cx="611280" cy="6127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2" name="Freeform 9"/>
          <p:cNvSpPr/>
          <p:nvPr/>
        </p:nvSpPr>
        <p:spPr>
          <a:xfrm>
            <a:off x="5187960" y="4586400"/>
            <a:ext cx="1816200" cy="706320"/>
          </a:xfrm>
          <a:custGeom>
            <a:avLst/>
            <a:gdLst/>
            <a:ahLst/>
            <a:rect l="l" t="t" r="r" b="b"/>
            <a:pathLst>
              <a:path w="1308" h="508">
                <a:moveTo>
                  <a:pt x="489" y="89"/>
                </a:moveTo>
                <a:cubicBezTo>
                  <a:pt x="533" y="107"/>
                  <a:pt x="584" y="121"/>
                  <a:pt x="652" y="122"/>
                </a:cubicBezTo>
                <a:cubicBezTo>
                  <a:pt x="722" y="122"/>
                  <a:pt x="775" y="108"/>
                  <a:pt x="820" y="89"/>
                </a:cubicBezTo>
                <a:cubicBezTo>
                  <a:pt x="896" y="54"/>
                  <a:pt x="950" y="6"/>
                  <a:pt x="1039" y="1"/>
                </a:cubicBezTo>
                <a:cubicBezTo>
                  <a:pt x="1041" y="1"/>
                  <a:pt x="1043" y="1"/>
                  <a:pt x="1044" y="1"/>
                </a:cubicBezTo>
                <a:cubicBezTo>
                  <a:pt x="1046" y="1"/>
                  <a:pt x="1046" y="1"/>
                  <a:pt x="1046" y="1"/>
                </a:cubicBezTo>
                <a:cubicBezTo>
                  <a:pt x="1049" y="1"/>
                  <a:pt x="1052" y="0"/>
                  <a:pt x="1054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7" y="0"/>
                  <a:pt x="1059" y="0"/>
                  <a:pt x="1061" y="1"/>
                </a:cubicBezTo>
                <a:cubicBezTo>
                  <a:pt x="1061" y="1"/>
                  <a:pt x="1061" y="1"/>
                  <a:pt x="1061" y="1"/>
                </a:cubicBezTo>
                <a:cubicBezTo>
                  <a:pt x="1063" y="1"/>
                  <a:pt x="1065" y="1"/>
                  <a:pt x="1067" y="1"/>
                </a:cubicBezTo>
                <a:cubicBezTo>
                  <a:pt x="1067" y="1"/>
                  <a:pt x="1067" y="1"/>
                  <a:pt x="1067" y="1"/>
                </a:cubicBezTo>
                <a:cubicBezTo>
                  <a:pt x="1069" y="1"/>
                  <a:pt x="1072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6" y="1"/>
                  <a:pt x="1078" y="1"/>
                  <a:pt x="1080" y="2"/>
                </a:cubicBezTo>
                <a:cubicBezTo>
                  <a:pt x="1080" y="2"/>
                  <a:pt x="1080" y="2"/>
                  <a:pt x="1080" y="2"/>
                </a:cubicBezTo>
                <a:cubicBezTo>
                  <a:pt x="1082" y="2"/>
                  <a:pt x="1084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8" y="3"/>
                  <a:pt x="1091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5" y="4"/>
                  <a:pt x="1097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101" y="5"/>
                  <a:pt x="1103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7" y="6"/>
                  <a:pt x="1109" y="6"/>
                  <a:pt x="1111" y="7"/>
                </a:cubicBezTo>
                <a:cubicBezTo>
                  <a:pt x="1111" y="7"/>
                  <a:pt x="1111" y="7"/>
                  <a:pt x="1111" y="7"/>
                </a:cubicBezTo>
                <a:cubicBezTo>
                  <a:pt x="1113" y="7"/>
                  <a:pt x="1115" y="8"/>
                  <a:pt x="1117" y="8"/>
                </a:cubicBezTo>
                <a:cubicBezTo>
                  <a:pt x="1117" y="8"/>
                  <a:pt x="1117" y="8"/>
                  <a:pt x="1117" y="8"/>
                </a:cubicBezTo>
                <a:cubicBezTo>
                  <a:pt x="1119" y="9"/>
                  <a:pt x="1121" y="9"/>
                  <a:pt x="1123" y="10"/>
                </a:cubicBezTo>
                <a:cubicBezTo>
                  <a:pt x="1123" y="10"/>
                  <a:pt x="1123" y="10"/>
                  <a:pt x="1123" y="10"/>
                </a:cubicBezTo>
                <a:cubicBezTo>
                  <a:pt x="1127" y="11"/>
                  <a:pt x="1131" y="12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213" y="39"/>
                  <a:pt x="1275" y="102"/>
                  <a:pt x="1299" y="184"/>
                </a:cubicBezTo>
                <a:cubicBezTo>
                  <a:pt x="1299" y="184"/>
                  <a:pt x="1299" y="184"/>
                  <a:pt x="1299" y="184"/>
                </a:cubicBezTo>
                <a:cubicBezTo>
                  <a:pt x="1300" y="190"/>
                  <a:pt x="1302" y="196"/>
                  <a:pt x="1303" y="202"/>
                </a:cubicBezTo>
                <a:cubicBezTo>
                  <a:pt x="1303" y="202"/>
                  <a:pt x="1303" y="202"/>
                  <a:pt x="1303" y="202"/>
                </a:cubicBezTo>
                <a:cubicBezTo>
                  <a:pt x="1304" y="204"/>
                  <a:pt x="1304" y="206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5" y="210"/>
                  <a:pt x="1305" y="213"/>
                  <a:pt x="1305" y="215"/>
                </a:cubicBezTo>
                <a:cubicBezTo>
                  <a:pt x="1305" y="215"/>
                  <a:pt x="1305" y="215"/>
                  <a:pt x="1305" y="215"/>
                </a:cubicBezTo>
                <a:cubicBezTo>
                  <a:pt x="1306" y="219"/>
                  <a:pt x="1307" y="223"/>
                  <a:pt x="1307" y="228"/>
                </a:cubicBezTo>
                <a:cubicBezTo>
                  <a:pt x="1307" y="228"/>
                  <a:pt x="1307" y="228"/>
                  <a:pt x="1307" y="228"/>
                </a:cubicBezTo>
                <a:cubicBezTo>
                  <a:pt x="1307" y="230"/>
                  <a:pt x="1307" y="232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8" y="239"/>
                  <a:pt x="1308" y="243"/>
                  <a:pt x="1308" y="248"/>
                </a:cubicBezTo>
                <a:cubicBezTo>
                  <a:pt x="1308" y="248"/>
                  <a:pt x="1308" y="248"/>
                  <a:pt x="1308" y="248"/>
                </a:cubicBezTo>
                <a:cubicBezTo>
                  <a:pt x="1308" y="250"/>
                  <a:pt x="1308" y="252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7"/>
                  <a:pt x="1308" y="259"/>
                  <a:pt x="1308" y="261"/>
                </a:cubicBezTo>
                <a:cubicBezTo>
                  <a:pt x="1308" y="261"/>
                  <a:pt x="1308" y="261"/>
                  <a:pt x="1308" y="261"/>
                </a:cubicBezTo>
                <a:cubicBezTo>
                  <a:pt x="1308" y="265"/>
                  <a:pt x="1308" y="270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7" y="276"/>
                  <a:pt x="1307" y="279"/>
                  <a:pt x="1307" y="281"/>
                </a:cubicBezTo>
                <a:cubicBezTo>
                  <a:pt x="1307" y="281"/>
                  <a:pt x="1307" y="281"/>
                  <a:pt x="1307" y="281"/>
                </a:cubicBezTo>
                <a:cubicBezTo>
                  <a:pt x="1307" y="285"/>
                  <a:pt x="1306" y="289"/>
                  <a:pt x="1305" y="294"/>
                </a:cubicBezTo>
                <a:cubicBezTo>
                  <a:pt x="1305" y="294"/>
                  <a:pt x="1305" y="294"/>
                  <a:pt x="1305" y="294"/>
                </a:cubicBezTo>
                <a:cubicBezTo>
                  <a:pt x="1305" y="296"/>
                  <a:pt x="1305" y="298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4" y="302"/>
                  <a:pt x="1304" y="304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2" y="313"/>
                  <a:pt x="1300" y="319"/>
                  <a:pt x="1299" y="325"/>
                </a:cubicBezTo>
                <a:cubicBezTo>
                  <a:pt x="1299" y="325"/>
                  <a:pt x="1299" y="325"/>
                  <a:pt x="1299" y="325"/>
                </a:cubicBezTo>
                <a:cubicBezTo>
                  <a:pt x="1275" y="406"/>
                  <a:pt x="1213" y="469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131" y="496"/>
                  <a:pt x="1127" y="498"/>
                  <a:pt x="1123" y="499"/>
                </a:cubicBezTo>
                <a:cubicBezTo>
                  <a:pt x="1123" y="499"/>
                  <a:pt x="1123" y="499"/>
                  <a:pt x="1123" y="499"/>
                </a:cubicBezTo>
                <a:cubicBezTo>
                  <a:pt x="1121" y="499"/>
                  <a:pt x="1119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5" y="501"/>
                  <a:pt x="1113" y="501"/>
                  <a:pt x="1111" y="502"/>
                </a:cubicBezTo>
                <a:cubicBezTo>
                  <a:pt x="1111" y="502"/>
                  <a:pt x="1111" y="502"/>
                  <a:pt x="1111" y="502"/>
                </a:cubicBezTo>
                <a:cubicBezTo>
                  <a:pt x="1109" y="502"/>
                  <a:pt x="1107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3" y="504"/>
                  <a:pt x="1101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097" y="505"/>
                  <a:pt x="1095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1" y="506"/>
                  <a:pt x="1088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4" y="506"/>
                  <a:pt x="1082" y="507"/>
                  <a:pt x="1080" y="507"/>
                </a:cubicBezTo>
                <a:cubicBezTo>
                  <a:pt x="1080" y="507"/>
                  <a:pt x="1080" y="507"/>
                  <a:pt x="1080" y="507"/>
                </a:cubicBezTo>
                <a:cubicBezTo>
                  <a:pt x="1078" y="507"/>
                  <a:pt x="1076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2" y="508"/>
                  <a:pt x="1069" y="508"/>
                  <a:pt x="1067" y="508"/>
                </a:cubicBezTo>
                <a:cubicBezTo>
                  <a:pt x="1067" y="508"/>
                  <a:pt x="1067" y="508"/>
                  <a:pt x="1067" y="508"/>
                </a:cubicBezTo>
                <a:cubicBezTo>
                  <a:pt x="1065" y="508"/>
                  <a:pt x="1063" y="508"/>
                  <a:pt x="1061" y="508"/>
                </a:cubicBezTo>
                <a:cubicBezTo>
                  <a:pt x="1061" y="508"/>
                  <a:pt x="1061" y="508"/>
                  <a:pt x="1061" y="508"/>
                </a:cubicBezTo>
                <a:cubicBezTo>
                  <a:pt x="1059" y="508"/>
                  <a:pt x="1057" y="508"/>
                  <a:pt x="1055" y="508"/>
                </a:cubicBezTo>
                <a:cubicBezTo>
                  <a:pt x="1055" y="508"/>
                  <a:pt x="1055" y="508"/>
                  <a:pt x="1055" y="508"/>
                </a:cubicBezTo>
                <a:cubicBezTo>
                  <a:pt x="1053" y="508"/>
                  <a:pt x="1053" y="508"/>
                  <a:pt x="1053" y="508"/>
                </a:cubicBezTo>
                <a:cubicBezTo>
                  <a:pt x="1052" y="508"/>
                  <a:pt x="1051" y="508"/>
                  <a:pt x="1051" y="508"/>
                </a:cubicBezTo>
                <a:cubicBezTo>
                  <a:pt x="1050" y="508"/>
                  <a:pt x="1048" y="508"/>
                  <a:pt x="1047" y="508"/>
                </a:cubicBezTo>
                <a:cubicBezTo>
                  <a:pt x="1047" y="508"/>
                  <a:pt x="1047" y="508"/>
                  <a:pt x="1047" y="508"/>
                </a:cubicBezTo>
                <a:cubicBezTo>
                  <a:pt x="953" y="505"/>
                  <a:pt x="898" y="455"/>
                  <a:pt x="820" y="420"/>
                </a:cubicBezTo>
                <a:cubicBezTo>
                  <a:pt x="775" y="401"/>
                  <a:pt x="723" y="387"/>
                  <a:pt x="653" y="386"/>
                </a:cubicBezTo>
                <a:cubicBezTo>
                  <a:pt x="585" y="387"/>
                  <a:pt x="533" y="401"/>
                  <a:pt x="489" y="419"/>
                </a:cubicBezTo>
                <a:cubicBezTo>
                  <a:pt x="412" y="454"/>
                  <a:pt x="359" y="503"/>
                  <a:pt x="268" y="508"/>
                </a:cubicBezTo>
                <a:cubicBezTo>
                  <a:pt x="267" y="508"/>
                  <a:pt x="265" y="508"/>
                  <a:pt x="264" y="508"/>
                </a:cubicBezTo>
                <a:cubicBezTo>
                  <a:pt x="262" y="508"/>
                  <a:pt x="262" y="508"/>
                  <a:pt x="262" y="508"/>
                </a:cubicBezTo>
                <a:cubicBezTo>
                  <a:pt x="259" y="508"/>
                  <a:pt x="256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1" y="508"/>
                  <a:pt x="249" y="508"/>
                  <a:pt x="247" y="508"/>
                </a:cubicBezTo>
                <a:cubicBezTo>
                  <a:pt x="247" y="508"/>
                  <a:pt x="247" y="508"/>
                  <a:pt x="247" y="508"/>
                </a:cubicBezTo>
                <a:cubicBezTo>
                  <a:pt x="245" y="508"/>
                  <a:pt x="243" y="508"/>
                  <a:pt x="241" y="508"/>
                </a:cubicBezTo>
                <a:cubicBezTo>
                  <a:pt x="241" y="508"/>
                  <a:pt x="241" y="508"/>
                  <a:pt x="241" y="508"/>
                </a:cubicBezTo>
                <a:cubicBezTo>
                  <a:pt x="239" y="508"/>
                  <a:pt x="236" y="508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2" y="507"/>
                  <a:pt x="230" y="507"/>
                  <a:pt x="228" y="507"/>
                </a:cubicBezTo>
                <a:cubicBezTo>
                  <a:pt x="228" y="507"/>
                  <a:pt x="228" y="507"/>
                  <a:pt x="228" y="507"/>
                </a:cubicBezTo>
                <a:cubicBezTo>
                  <a:pt x="226" y="507"/>
                  <a:pt x="224" y="506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0" y="506"/>
                  <a:pt x="218" y="506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3" y="505"/>
                  <a:pt x="211" y="505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07" y="504"/>
                  <a:pt x="205" y="504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1" y="503"/>
                  <a:pt x="199" y="502"/>
                  <a:pt x="197" y="502"/>
                </a:cubicBezTo>
                <a:cubicBezTo>
                  <a:pt x="197" y="502"/>
                  <a:pt x="197" y="502"/>
                  <a:pt x="197" y="502"/>
                </a:cubicBezTo>
                <a:cubicBezTo>
                  <a:pt x="195" y="501"/>
                  <a:pt x="193" y="501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89" y="500"/>
                  <a:pt x="187" y="499"/>
                  <a:pt x="185" y="499"/>
                </a:cubicBezTo>
                <a:cubicBezTo>
                  <a:pt x="185" y="499"/>
                  <a:pt x="185" y="499"/>
                  <a:pt x="185" y="499"/>
                </a:cubicBezTo>
                <a:cubicBezTo>
                  <a:pt x="181" y="498"/>
                  <a:pt x="177" y="496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95" y="469"/>
                  <a:pt x="33" y="406"/>
                  <a:pt x="9" y="325"/>
                </a:cubicBezTo>
                <a:cubicBezTo>
                  <a:pt x="9" y="325"/>
                  <a:pt x="9" y="325"/>
                  <a:pt x="9" y="325"/>
                </a:cubicBezTo>
                <a:cubicBezTo>
                  <a:pt x="8" y="319"/>
                  <a:pt x="6" y="313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4" y="304"/>
                  <a:pt x="4" y="302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3" y="298"/>
                  <a:pt x="3" y="296"/>
                  <a:pt x="3" y="294"/>
                </a:cubicBezTo>
                <a:cubicBezTo>
                  <a:pt x="3" y="294"/>
                  <a:pt x="3" y="294"/>
                  <a:pt x="3" y="294"/>
                </a:cubicBezTo>
                <a:cubicBezTo>
                  <a:pt x="2" y="289"/>
                  <a:pt x="1" y="285"/>
                  <a:pt x="1" y="281"/>
                </a:cubicBezTo>
                <a:cubicBezTo>
                  <a:pt x="1" y="281"/>
                  <a:pt x="1" y="281"/>
                  <a:pt x="1" y="281"/>
                </a:cubicBezTo>
                <a:cubicBezTo>
                  <a:pt x="1" y="279"/>
                  <a:pt x="1" y="276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0" y="270"/>
                  <a:pt x="0" y="265"/>
                  <a:pt x="0" y="261"/>
                </a:cubicBezTo>
                <a:cubicBezTo>
                  <a:pt x="0" y="261"/>
                  <a:pt x="0" y="261"/>
                  <a:pt x="0" y="261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2"/>
                  <a:pt x="0" y="250"/>
                  <a:pt x="0" y="248"/>
                </a:cubicBezTo>
                <a:cubicBezTo>
                  <a:pt x="0" y="248"/>
                  <a:pt x="0" y="248"/>
                  <a:pt x="0" y="248"/>
                </a:cubicBezTo>
                <a:cubicBezTo>
                  <a:pt x="0" y="243"/>
                  <a:pt x="0" y="239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3"/>
                  <a:pt x="2" y="219"/>
                  <a:pt x="3" y="215"/>
                </a:cubicBezTo>
                <a:cubicBezTo>
                  <a:pt x="3" y="215"/>
                  <a:pt x="3" y="215"/>
                  <a:pt x="3" y="215"/>
                </a:cubicBezTo>
                <a:cubicBezTo>
                  <a:pt x="3" y="213"/>
                  <a:pt x="3" y="210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4" y="206"/>
                  <a:pt x="4" y="204"/>
                  <a:pt x="5" y="202"/>
                </a:cubicBezTo>
                <a:cubicBezTo>
                  <a:pt x="5" y="202"/>
                  <a:pt x="5" y="202"/>
                  <a:pt x="5" y="202"/>
                </a:cubicBezTo>
                <a:cubicBezTo>
                  <a:pt x="6" y="196"/>
                  <a:pt x="8" y="190"/>
                  <a:pt x="9" y="184"/>
                </a:cubicBezTo>
                <a:cubicBezTo>
                  <a:pt x="9" y="184"/>
                  <a:pt x="9" y="184"/>
                  <a:pt x="9" y="184"/>
                </a:cubicBezTo>
                <a:cubicBezTo>
                  <a:pt x="33" y="102"/>
                  <a:pt x="95" y="39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177" y="12"/>
                  <a:pt x="181" y="11"/>
                  <a:pt x="185" y="10"/>
                </a:cubicBezTo>
                <a:cubicBezTo>
                  <a:pt x="185" y="10"/>
                  <a:pt x="185" y="10"/>
                  <a:pt x="185" y="10"/>
                </a:cubicBezTo>
                <a:cubicBezTo>
                  <a:pt x="187" y="9"/>
                  <a:pt x="189" y="9"/>
                  <a:pt x="191" y="8"/>
                </a:cubicBezTo>
                <a:cubicBezTo>
                  <a:pt x="191" y="8"/>
                  <a:pt x="191" y="8"/>
                  <a:pt x="191" y="8"/>
                </a:cubicBezTo>
                <a:cubicBezTo>
                  <a:pt x="193" y="8"/>
                  <a:pt x="195" y="7"/>
                  <a:pt x="197" y="7"/>
                </a:cubicBezTo>
                <a:cubicBezTo>
                  <a:pt x="197" y="7"/>
                  <a:pt x="197" y="7"/>
                  <a:pt x="197" y="7"/>
                </a:cubicBezTo>
                <a:cubicBezTo>
                  <a:pt x="199" y="6"/>
                  <a:pt x="201" y="6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5" y="5"/>
                  <a:pt x="207" y="5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11" y="4"/>
                  <a:pt x="213" y="4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8" y="3"/>
                  <a:pt x="220" y="3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4" y="2"/>
                  <a:pt x="226" y="2"/>
                  <a:pt x="228" y="2"/>
                </a:cubicBezTo>
                <a:cubicBezTo>
                  <a:pt x="228" y="2"/>
                  <a:pt x="228" y="2"/>
                  <a:pt x="228" y="2"/>
                </a:cubicBezTo>
                <a:cubicBezTo>
                  <a:pt x="230" y="1"/>
                  <a:pt x="232" y="1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6" y="1"/>
                  <a:pt x="239" y="1"/>
                  <a:pt x="241" y="1"/>
                </a:cubicBezTo>
                <a:cubicBezTo>
                  <a:pt x="241" y="1"/>
                  <a:pt x="241" y="1"/>
                  <a:pt x="241" y="1"/>
                </a:cubicBezTo>
                <a:cubicBezTo>
                  <a:pt x="243" y="1"/>
                  <a:pt x="245" y="1"/>
                  <a:pt x="247" y="1"/>
                </a:cubicBezTo>
                <a:cubicBezTo>
                  <a:pt x="247" y="1"/>
                  <a:pt x="247" y="1"/>
                  <a:pt x="247" y="1"/>
                </a:cubicBezTo>
                <a:cubicBezTo>
                  <a:pt x="249" y="0"/>
                  <a:pt x="251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1"/>
                  <a:pt x="262" y="1"/>
                </a:cubicBezTo>
                <a:cubicBezTo>
                  <a:pt x="262" y="1"/>
                  <a:pt x="263" y="1"/>
                  <a:pt x="264" y="1"/>
                </a:cubicBezTo>
                <a:cubicBezTo>
                  <a:pt x="265" y="1"/>
                  <a:pt x="267" y="1"/>
                  <a:pt x="268" y="1"/>
                </a:cubicBezTo>
                <a:cubicBezTo>
                  <a:pt x="359" y="6"/>
                  <a:pt x="412" y="55"/>
                  <a:pt x="489" y="8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3" name="Freeform 13"/>
          <p:cNvSpPr/>
          <p:nvPr/>
        </p:nvSpPr>
        <p:spPr>
          <a:xfrm>
            <a:off x="7102440" y="2706840"/>
            <a:ext cx="671400" cy="66960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397"/>
                </a:moveTo>
                <a:cubicBezTo>
                  <a:pt x="172" y="483"/>
                  <a:pt x="311" y="483"/>
                  <a:pt x="397" y="397"/>
                </a:cubicBezTo>
                <a:cubicBezTo>
                  <a:pt x="483" y="311"/>
                  <a:pt x="483" y="172"/>
                  <a:pt x="397" y="86"/>
                </a:cubicBezTo>
                <a:cubicBezTo>
                  <a:pt x="311" y="0"/>
                  <a:pt x="172" y="0"/>
                  <a:pt x="86" y="86"/>
                </a:cubicBezTo>
                <a:cubicBezTo>
                  <a:pt x="0" y="172"/>
                  <a:pt x="0" y="311"/>
                  <a:pt x="86" y="397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4" name="Freeform 17"/>
          <p:cNvSpPr/>
          <p:nvPr/>
        </p:nvSpPr>
        <p:spPr>
          <a:xfrm>
            <a:off x="7086600" y="2687760"/>
            <a:ext cx="704880" cy="1819080"/>
          </a:xfrm>
          <a:custGeom>
            <a:avLst/>
            <a:gdLst/>
            <a:ahLst/>
            <a:rect l="l" t="t" r="r" b="b"/>
            <a:pathLst>
              <a:path w="508" h="1309">
                <a:moveTo>
                  <a:pt x="89" y="819"/>
                </a:moveTo>
                <a:cubicBezTo>
                  <a:pt x="107" y="775"/>
                  <a:pt x="121" y="724"/>
                  <a:pt x="122" y="656"/>
                </a:cubicBezTo>
                <a:cubicBezTo>
                  <a:pt x="122" y="586"/>
                  <a:pt x="107" y="533"/>
                  <a:pt x="89" y="488"/>
                </a:cubicBezTo>
                <a:cubicBezTo>
                  <a:pt x="54" y="412"/>
                  <a:pt x="6" y="358"/>
                  <a:pt x="1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" y="239"/>
                  <a:pt x="1" y="237"/>
                  <a:pt x="1" y="234"/>
                </a:cubicBezTo>
                <a:cubicBezTo>
                  <a:pt x="1" y="234"/>
                  <a:pt x="1" y="234"/>
                  <a:pt x="1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2" y="226"/>
                  <a:pt x="2" y="224"/>
                  <a:pt x="2" y="222"/>
                </a:cubicBezTo>
                <a:cubicBezTo>
                  <a:pt x="2" y="222"/>
                  <a:pt x="2" y="222"/>
                  <a:pt x="2" y="222"/>
                </a:cubicBezTo>
                <a:cubicBezTo>
                  <a:pt x="2" y="220"/>
                  <a:pt x="3" y="218"/>
                  <a:pt x="3" y="216"/>
                </a:cubicBezTo>
                <a:cubicBezTo>
                  <a:pt x="3" y="216"/>
                  <a:pt x="3" y="216"/>
                  <a:pt x="3" y="216"/>
                </a:cubicBezTo>
                <a:cubicBezTo>
                  <a:pt x="3" y="214"/>
                  <a:pt x="4" y="212"/>
                  <a:pt x="4" y="209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07"/>
                  <a:pt x="5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6" y="201"/>
                  <a:pt x="6" y="199"/>
                  <a:pt x="7" y="197"/>
                </a:cubicBezTo>
                <a:cubicBezTo>
                  <a:pt x="7" y="197"/>
                  <a:pt x="7" y="197"/>
                  <a:pt x="7" y="197"/>
                </a:cubicBezTo>
                <a:cubicBezTo>
                  <a:pt x="7" y="195"/>
                  <a:pt x="7" y="193"/>
                  <a:pt x="8" y="191"/>
                </a:cubicBezTo>
                <a:cubicBezTo>
                  <a:pt x="8" y="191"/>
                  <a:pt x="8" y="191"/>
                  <a:pt x="8" y="191"/>
                </a:cubicBezTo>
                <a:cubicBezTo>
                  <a:pt x="8" y="189"/>
                  <a:pt x="9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1" y="181"/>
                  <a:pt x="12" y="177"/>
                  <a:pt x="13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9" y="95"/>
                  <a:pt x="102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6" y="6"/>
                  <a:pt x="202" y="5"/>
                </a:cubicBezTo>
                <a:cubicBezTo>
                  <a:pt x="202" y="5"/>
                  <a:pt x="202" y="5"/>
                  <a:pt x="202" y="5"/>
                </a:cubicBezTo>
                <a:cubicBezTo>
                  <a:pt x="204" y="5"/>
                  <a:pt x="206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9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30" y="1"/>
                  <a:pt x="232" y="1"/>
                  <a:pt x="234" y="0"/>
                </a:cubicBezTo>
                <a:cubicBezTo>
                  <a:pt x="234" y="0"/>
                  <a:pt x="234" y="0"/>
                  <a:pt x="234" y="0"/>
                </a:cubicBezTo>
                <a:cubicBezTo>
                  <a:pt x="238" y="0"/>
                  <a:pt x="243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50" y="0"/>
                  <a:pt x="252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0"/>
                  <a:pt x="261" y="0"/>
                </a:cubicBezTo>
                <a:cubicBezTo>
                  <a:pt x="261" y="0"/>
                  <a:pt x="261" y="0"/>
                  <a:pt x="261" y="0"/>
                </a:cubicBezTo>
                <a:cubicBezTo>
                  <a:pt x="265" y="0"/>
                  <a:pt x="270" y="0"/>
                  <a:pt x="274" y="0"/>
                </a:cubicBezTo>
                <a:cubicBezTo>
                  <a:pt x="274" y="0"/>
                  <a:pt x="274" y="0"/>
                  <a:pt x="274" y="0"/>
                </a:cubicBezTo>
                <a:cubicBezTo>
                  <a:pt x="276" y="1"/>
                  <a:pt x="278" y="1"/>
                  <a:pt x="281" y="1"/>
                </a:cubicBezTo>
                <a:cubicBezTo>
                  <a:pt x="281" y="1"/>
                  <a:pt x="281" y="1"/>
                  <a:pt x="281" y="1"/>
                </a:cubicBezTo>
                <a:cubicBezTo>
                  <a:pt x="285" y="2"/>
                  <a:pt x="289" y="2"/>
                  <a:pt x="294" y="3"/>
                </a:cubicBezTo>
                <a:cubicBezTo>
                  <a:pt x="294" y="3"/>
                  <a:pt x="294" y="3"/>
                  <a:pt x="294" y="3"/>
                </a:cubicBezTo>
                <a:cubicBezTo>
                  <a:pt x="296" y="3"/>
                  <a:pt x="298" y="3"/>
                  <a:pt x="300" y="4"/>
                </a:cubicBezTo>
                <a:cubicBezTo>
                  <a:pt x="300" y="4"/>
                  <a:pt x="300" y="4"/>
                  <a:pt x="300" y="4"/>
                </a:cubicBezTo>
                <a:cubicBezTo>
                  <a:pt x="302" y="4"/>
                  <a:pt x="304" y="5"/>
                  <a:pt x="306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12" y="6"/>
                  <a:pt x="319" y="8"/>
                  <a:pt x="325" y="10"/>
                </a:cubicBezTo>
                <a:cubicBezTo>
                  <a:pt x="325" y="10"/>
                  <a:pt x="325" y="10"/>
                  <a:pt x="325" y="10"/>
                </a:cubicBezTo>
                <a:cubicBezTo>
                  <a:pt x="406" y="33"/>
                  <a:pt x="469" y="95"/>
                  <a:pt x="495" y="173"/>
                </a:cubicBezTo>
                <a:cubicBezTo>
                  <a:pt x="495" y="173"/>
                  <a:pt x="495" y="173"/>
                  <a:pt x="495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9" y="187"/>
                  <a:pt x="500" y="189"/>
                  <a:pt x="500" y="191"/>
                </a:cubicBezTo>
                <a:cubicBezTo>
                  <a:pt x="500" y="191"/>
                  <a:pt x="500" y="191"/>
                  <a:pt x="500" y="191"/>
                </a:cubicBezTo>
                <a:cubicBezTo>
                  <a:pt x="501" y="193"/>
                  <a:pt x="501" y="195"/>
                  <a:pt x="502" y="197"/>
                </a:cubicBezTo>
                <a:cubicBezTo>
                  <a:pt x="502" y="197"/>
                  <a:pt x="502" y="197"/>
                  <a:pt x="502" y="197"/>
                </a:cubicBezTo>
                <a:cubicBezTo>
                  <a:pt x="502" y="199"/>
                  <a:pt x="502" y="201"/>
                  <a:pt x="503" y="203"/>
                </a:cubicBezTo>
                <a:cubicBezTo>
                  <a:pt x="503" y="203"/>
                  <a:pt x="503" y="203"/>
                  <a:pt x="503" y="203"/>
                </a:cubicBezTo>
                <a:cubicBezTo>
                  <a:pt x="503" y="205"/>
                  <a:pt x="504" y="207"/>
                  <a:pt x="504" y="209"/>
                </a:cubicBezTo>
                <a:cubicBezTo>
                  <a:pt x="504" y="209"/>
                  <a:pt x="504" y="209"/>
                  <a:pt x="504" y="209"/>
                </a:cubicBezTo>
                <a:cubicBezTo>
                  <a:pt x="504" y="212"/>
                  <a:pt x="505" y="214"/>
                  <a:pt x="505" y="216"/>
                </a:cubicBezTo>
                <a:cubicBezTo>
                  <a:pt x="505" y="216"/>
                  <a:pt x="505" y="216"/>
                  <a:pt x="505" y="216"/>
                </a:cubicBezTo>
                <a:cubicBezTo>
                  <a:pt x="505" y="218"/>
                  <a:pt x="506" y="220"/>
                  <a:pt x="506" y="222"/>
                </a:cubicBezTo>
                <a:cubicBezTo>
                  <a:pt x="506" y="222"/>
                  <a:pt x="506" y="222"/>
                  <a:pt x="506" y="222"/>
                </a:cubicBezTo>
                <a:cubicBezTo>
                  <a:pt x="506" y="224"/>
                  <a:pt x="506" y="226"/>
                  <a:pt x="507" y="228"/>
                </a:cubicBezTo>
                <a:cubicBezTo>
                  <a:pt x="507" y="228"/>
                  <a:pt x="507" y="228"/>
                  <a:pt x="507" y="228"/>
                </a:cubicBezTo>
                <a:cubicBezTo>
                  <a:pt x="507" y="230"/>
                  <a:pt x="507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8" y="239"/>
                  <a:pt x="508" y="241"/>
                </a:cubicBezTo>
                <a:cubicBezTo>
                  <a:pt x="508" y="241"/>
                  <a:pt x="508" y="241"/>
                  <a:pt x="508" y="241"/>
                </a:cubicBezTo>
                <a:cubicBezTo>
                  <a:pt x="508" y="243"/>
                  <a:pt x="508" y="245"/>
                  <a:pt x="508" y="247"/>
                </a:cubicBezTo>
                <a:cubicBezTo>
                  <a:pt x="508" y="247"/>
                  <a:pt x="508" y="247"/>
                  <a:pt x="508" y="247"/>
                </a:cubicBezTo>
                <a:cubicBezTo>
                  <a:pt x="508" y="249"/>
                  <a:pt x="508" y="251"/>
                  <a:pt x="508" y="254"/>
                </a:cubicBezTo>
                <a:cubicBezTo>
                  <a:pt x="508" y="254"/>
                  <a:pt x="508" y="254"/>
                  <a:pt x="508" y="254"/>
                </a:cubicBezTo>
                <a:cubicBezTo>
                  <a:pt x="508" y="255"/>
                  <a:pt x="508" y="255"/>
                  <a:pt x="508" y="255"/>
                </a:cubicBezTo>
                <a:cubicBezTo>
                  <a:pt x="508" y="256"/>
                  <a:pt x="508" y="257"/>
                  <a:pt x="508" y="258"/>
                </a:cubicBezTo>
                <a:cubicBezTo>
                  <a:pt x="508" y="259"/>
                  <a:pt x="508" y="260"/>
                  <a:pt x="508" y="261"/>
                </a:cubicBezTo>
                <a:cubicBezTo>
                  <a:pt x="508" y="261"/>
                  <a:pt x="508" y="261"/>
                  <a:pt x="508" y="261"/>
                </a:cubicBezTo>
                <a:cubicBezTo>
                  <a:pt x="505" y="355"/>
                  <a:pt x="455" y="410"/>
                  <a:pt x="419" y="488"/>
                </a:cubicBezTo>
                <a:cubicBezTo>
                  <a:pt x="401" y="533"/>
                  <a:pt x="387" y="586"/>
                  <a:pt x="386" y="656"/>
                </a:cubicBezTo>
                <a:cubicBezTo>
                  <a:pt x="387" y="723"/>
                  <a:pt x="401" y="775"/>
                  <a:pt x="419" y="819"/>
                </a:cubicBezTo>
                <a:cubicBezTo>
                  <a:pt x="453" y="896"/>
                  <a:pt x="502" y="950"/>
                  <a:pt x="508" y="1040"/>
                </a:cubicBezTo>
                <a:cubicBezTo>
                  <a:pt x="508" y="1041"/>
                  <a:pt x="508" y="1043"/>
                  <a:pt x="508" y="1044"/>
                </a:cubicBezTo>
                <a:cubicBezTo>
                  <a:pt x="508" y="1047"/>
                  <a:pt x="508" y="1047"/>
                  <a:pt x="508" y="1047"/>
                </a:cubicBezTo>
                <a:cubicBezTo>
                  <a:pt x="508" y="1049"/>
                  <a:pt x="508" y="1052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7"/>
                  <a:pt x="508" y="1059"/>
                  <a:pt x="508" y="1061"/>
                </a:cubicBezTo>
                <a:cubicBezTo>
                  <a:pt x="508" y="1061"/>
                  <a:pt x="508" y="1061"/>
                  <a:pt x="508" y="1061"/>
                </a:cubicBezTo>
                <a:cubicBezTo>
                  <a:pt x="508" y="1063"/>
                  <a:pt x="508" y="1065"/>
                  <a:pt x="508" y="1067"/>
                </a:cubicBezTo>
                <a:cubicBezTo>
                  <a:pt x="508" y="1067"/>
                  <a:pt x="508" y="1067"/>
                  <a:pt x="508" y="1067"/>
                </a:cubicBezTo>
                <a:cubicBezTo>
                  <a:pt x="508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7" y="1076"/>
                  <a:pt x="507" y="1078"/>
                  <a:pt x="507" y="1080"/>
                </a:cubicBezTo>
                <a:cubicBezTo>
                  <a:pt x="507" y="1080"/>
                  <a:pt x="507" y="1080"/>
                  <a:pt x="507" y="1080"/>
                </a:cubicBezTo>
                <a:cubicBezTo>
                  <a:pt x="506" y="1082"/>
                  <a:pt x="506" y="1084"/>
                  <a:pt x="506" y="1086"/>
                </a:cubicBezTo>
                <a:cubicBezTo>
                  <a:pt x="506" y="1086"/>
                  <a:pt x="506" y="1086"/>
                  <a:pt x="506" y="1086"/>
                </a:cubicBezTo>
                <a:cubicBezTo>
                  <a:pt x="506" y="1089"/>
                  <a:pt x="505" y="1091"/>
                  <a:pt x="505" y="1093"/>
                </a:cubicBezTo>
                <a:cubicBezTo>
                  <a:pt x="505" y="1093"/>
                  <a:pt x="505" y="1093"/>
                  <a:pt x="505" y="1093"/>
                </a:cubicBezTo>
                <a:cubicBezTo>
                  <a:pt x="505" y="1095"/>
                  <a:pt x="504" y="1097"/>
                  <a:pt x="504" y="1099"/>
                </a:cubicBezTo>
                <a:cubicBezTo>
                  <a:pt x="504" y="1099"/>
                  <a:pt x="504" y="1099"/>
                  <a:pt x="504" y="1099"/>
                </a:cubicBezTo>
                <a:cubicBezTo>
                  <a:pt x="504" y="1101"/>
                  <a:pt x="503" y="1103"/>
                  <a:pt x="503" y="1105"/>
                </a:cubicBezTo>
                <a:cubicBezTo>
                  <a:pt x="503" y="1105"/>
                  <a:pt x="503" y="1105"/>
                  <a:pt x="503" y="1105"/>
                </a:cubicBezTo>
                <a:cubicBezTo>
                  <a:pt x="502" y="1107"/>
                  <a:pt x="502" y="1109"/>
                  <a:pt x="502" y="1111"/>
                </a:cubicBezTo>
                <a:cubicBezTo>
                  <a:pt x="502" y="1111"/>
                  <a:pt x="502" y="1111"/>
                  <a:pt x="502" y="1111"/>
                </a:cubicBezTo>
                <a:cubicBezTo>
                  <a:pt x="501" y="1113"/>
                  <a:pt x="501" y="1115"/>
                  <a:pt x="500" y="1117"/>
                </a:cubicBezTo>
                <a:cubicBezTo>
                  <a:pt x="500" y="1117"/>
                  <a:pt x="500" y="1117"/>
                  <a:pt x="500" y="1117"/>
                </a:cubicBezTo>
                <a:cubicBezTo>
                  <a:pt x="500" y="1119"/>
                  <a:pt x="499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5" y="1135"/>
                </a:cubicBezTo>
                <a:cubicBezTo>
                  <a:pt x="495" y="1135"/>
                  <a:pt x="495" y="1135"/>
                  <a:pt x="495" y="1135"/>
                </a:cubicBezTo>
                <a:cubicBezTo>
                  <a:pt x="469" y="1213"/>
                  <a:pt x="406" y="1276"/>
                  <a:pt x="325" y="1299"/>
                </a:cubicBezTo>
                <a:cubicBezTo>
                  <a:pt x="325" y="1299"/>
                  <a:pt x="325" y="1299"/>
                  <a:pt x="325" y="1299"/>
                </a:cubicBezTo>
                <a:cubicBezTo>
                  <a:pt x="319" y="1301"/>
                  <a:pt x="312" y="1302"/>
                  <a:pt x="306" y="1303"/>
                </a:cubicBezTo>
                <a:cubicBezTo>
                  <a:pt x="306" y="1303"/>
                  <a:pt x="306" y="1303"/>
                  <a:pt x="306" y="1303"/>
                </a:cubicBezTo>
                <a:cubicBezTo>
                  <a:pt x="304" y="1304"/>
                  <a:pt x="302" y="1304"/>
                  <a:pt x="300" y="1305"/>
                </a:cubicBezTo>
                <a:cubicBezTo>
                  <a:pt x="300" y="1305"/>
                  <a:pt x="300" y="1305"/>
                  <a:pt x="300" y="1305"/>
                </a:cubicBezTo>
                <a:cubicBezTo>
                  <a:pt x="298" y="1305"/>
                  <a:pt x="296" y="1305"/>
                  <a:pt x="294" y="1306"/>
                </a:cubicBezTo>
                <a:cubicBezTo>
                  <a:pt x="294" y="1306"/>
                  <a:pt x="294" y="1306"/>
                  <a:pt x="294" y="1306"/>
                </a:cubicBezTo>
                <a:cubicBezTo>
                  <a:pt x="289" y="1306"/>
                  <a:pt x="285" y="1307"/>
                  <a:pt x="281" y="1307"/>
                </a:cubicBezTo>
                <a:cubicBezTo>
                  <a:pt x="281" y="1307"/>
                  <a:pt x="281" y="1307"/>
                  <a:pt x="281" y="1307"/>
                </a:cubicBezTo>
                <a:cubicBezTo>
                  <a:pt x="278" y="1308"/>
                  <a:pt x="276" y="1308"/>
                  <a:pt x="274" y="1308"/>
                </a:cubicBezTo>
                <a:cubicBezTo>
                  <a:pt x="274" y="1308"/>
                  <a:pt x="274" y="1308"/>
                  <a:pt x="274" y="1308"/>
                </a:cubicBezTo>
                <a:cubicBezTo>
                  <a:pt x="270" y="1308"/>
                  <a:pt x="265" y="1308"/>
                  <a:pt x="261" y="1309"/>
                </a:cubicBezTo>
                <a:cubicBezTo>
                  <a:pt x="261" y="1309"/>
                  <a:pt x="261" y="1309"/>
                  <a:pt x="261" y="1309"/>
                </a:cubicBezTo>
                <a:cubicBezTo>
                  <a:pt x="259" y="1309"/>
                  <a:pt x="256" y="1309"/>
                  <a:pt x="254" y="1309"/>
                </a:cubicBezTo>
                <a:cubicBezTo>
                  <a:pt x="254" y="1309"/>
                  <a:pt x="254" y="1309"/>
                  <a:pt x="254" y="1309"/>
                </a:cubicBezTo>
                <a:cubicBezTo>
                  <a:pt x="252" y="1309"/>
                  <a:pt x="250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3" y="1308"/>
                  <a:pt x="238" y="1308"/>
                  <a:pt x="234" y="1308"/>
                </a:cubicBezTo>
                <a:cubicBezTo>
                  <a:pt x="234" y="1308"/>
                  <a:pt x="234" y="1308"/>
                  <a:pt x="234" y="1308"/>
                </a:cubicBezTo>
                <a:cubicBezTo>
                  <a:pt x="232" y="1308"/>
                  <a:pt x="230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9" y="1306"/>
                  <a:pt x="215" y="1306"/>
                </a:cubicBezTo>
                <a:cubicBezTo>
                  <a:pt x="215" y="1306"/>
                  <a:pt x="215" y="1306"/>
                  <a:pt x="215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6" y="1304"/>
                  <a:pt x="204" y="1304"/>
                  <a:pt x="202" y="1303"/>
                </a:cubicBezTo>
                <a:cubicBezTo>
                  <a:pt x="202" y="1303"/>
                  <a:pt x="202" y="1303"/>
                  <a:pt x="202" y="1303"/>
                </a:cubicBezTo>
                <a:cubicBezTo>
                  <a:pt x="196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2" y="1276"/>
                  <a:pt x="39" y="1213"/>
                  <a:pt x="13" y="1135"/>
                </a:cubicBezTo>
                <a:cubicBezTo>
                  <a:pt x="13" y="1135"/>
                  <a:pt x="13" y="1135"/>
                  <a:pt x="13" y="1135"/>
                </a:cubicBezTo>
                <a:cubicBezTo>
                  <a:pt x="12" y="1131"/>
                  <a:pt x="11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9" y="1121"/>
                  <a:pt x="8" y="1119"/>
                  <a:pt x="8" y="1117"/>
                </a:cubicBezTo>
                <a:cubicBezTo>
                  <a:pt x="8" y="1117"/>
                  <a:pt x="8" y="1117"/>
                  <a:pt x="8" y="1117"/>
                </a:cubicBezTo>
                <a:cubicBezTo>
                  <a:pt x="7" y="1115"/>
                  <a:pt x="7" y="1113"/>
                  <a:pt x="7" y="1111"/>
                </a:cubicBezTo>
                <a:cubicBezTo>
                  <a:pt x="7" y="1111"/>
                  <a:pt x="7" y="1111"/>
                  <a:pt x="7" y="1111"/>
                </a:cubicBezTo>
                <a:cubicBezTo>
                  <a:pt x="6" y="1109"/>
                  <a:pt x="6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5" y="1103"/>
                  <a:pt x="4" y="1101"/>
                  <a:pt x="4" y="1099"/>
                </a:cubicBezTo>
                <a:cubicBezTo>
                  <a:pt x="4" y="1099"/>
                  <a:pt x="4" y="1099"/>
                  <a:pt x="4" y="1099"/>
                </a:cubicBezTo>
                <a:cubicBezTo>
                  <a:pt x="4" y="1097"/>
                  <a:pt x="3" y="1095"/>
                  <a:pt x="3" y="1093"/>
                </a:cubicBezTo>
                <a:cubicBezTo>
                  <a:pt x="3" y="1093"/>
                  <a:pt x="3" y="1093"/>
                  <a:pt x="3" y="1093"/>
                </a:cubicBezTo>
                <a:cubicBezTo>
                  <a:pt x="3" y="1091"/>
                  <a:pt x="2" y="1089"/>
                  <a:pt x="2" y="1086"/>
                </a:cubicBezTo>
                <a:cubicBezTo>
                  <a:pt x="2" y="1086"/>
                  <a:pt x="2" y="1086"/>
                  <a:pt x="2" y="1086"/>
                </a:cubicBezTo>
                <a:cubicBezTo>
                  <a:pt x="2" y="1084"/>
                  <a:pt x="2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1" y="1076"/>
                  <a:pt x="1" y="1074"/>
                </a:cubicBezTo>
                <a:cubicBezTo>
                  <a:pt x="1" y="1074"/>
                  <a:pt x="1" y="1074"/>
                  <a:pt x="1" y="1074"/>
                </a:cubicBezTo>
                <a:cubicBezTo>
                  <a:pt x="1" y="1072"/>
                  <a:pt x="1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1" y="1040"/>
                </a:cubicBezTo>
                <a:cubicBezTo>
                  <a:pt x="6" y="950"/>
                  <a:pt x="55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095" name="Group 10"/>
          <p:cNvGrpSpPr/>
          <p:nvPr/>
        </p:nvGrpSpPr>
        <p:grpSpPr>
          <a:xfrm>
            <a:off x="4386240" y="1889280"/>
            <a:ext cx="1521000" cy="1520640"/>
            <a:chOff x="4386240" y="1889280"/>
            <a:chExt cx="1521000" cy="1520640"/>
          </a:xfrm>
        </p:grpSpPr>
        <p:sp>
          <p:nvSpPr>
            <p:cNvPr id="1096" name="Freeform 14"/>
            <p:cNvSpPr/>
            <p:nvPr/>
          </p:nvSpPr>
          <p:spPr>
            <a:xfrm>
              <a:off x="438624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65"/>
                    <a:pt x="691" y="592"/>
                    <a:pt x="642" y="639"/>
                  </a:cubicBezTo>
                  <a:cubicBezTo>
                    <a:pt x="593" y="689"/>
                    <a:pt x="566" y="736"/>
                    <a:pt x="547" y="781"/>
                  </a:cubicBezTo>
                  <a:cubicBezTo>
                    <a:pt x="518" y="860"/>
                    <a:pt x="514" y="932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49" y="1004"/>
                    <a:pt x="449" y="1004"/>
                    <a:pt x="449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2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7" y="1016"/>
                    <a:pt x="436" y="1017"/>
                    <a:pt x="434" y="1019"/>
                  </a:cubicBezTo>
                  <a:cubicBezTo>
                    <a:pt x="434" y="1019"/>
                    <a:pt x="434" y="1019"/>
                    <a:pt x="434" y="1019"/>
                  </a:cubicBezTo>
                  <a:cubicBezTo>
                    <a:pt x="433" y="1020"/>
                    <a:pt x="431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6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1" y="1029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8" y="1032"/>
                    <a:pt x="416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3" y="1036"/>
                    <a:pt x="411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6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399" y="1045"/>
                  </a:cubicBezTo>
                  <a:cubicBezTo>
                    <a:pt x="399" y="1045"/>
                    <a:pt x="399" y="1045"/>
                    <a:pt x="399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2" y="1049"/>
                    <a:pt x="390" y="1050"/>
                    <a:pt x="389" y="1051"/>
                  </a:cubicBezTo>
                  <a:cubicBezTo>
                    <a:pt x="389" y="1051"/>
                    <a:pt x="389" y="1051"/>
                    <a:pt x="389" y="1051"/>
                  </a:cubicBezTo>
                  <a:cubicBezTo>
                    <a:pt x="385" y="1054"/>
                    <a:pt x="381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4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5" y="1043"/>
                  </a:cubicBezTo>
                  <a:cubicBezTo>
                    <a:pt x="125" y="1043"/>
                    <a:pt x="125" y="1043"/>
                    <a:pt x="125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8" y="1038"/>
                    <a:pt x="116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1" y="1033"/>
                    <a:pt x="108" y="1030"/>
                    <a:pt x="104" y="1027"/>
                  </a:cubicBezTo>
                  <a:cubicBezTo>
                    <a:pt x="104" y="1027"/>
                    <a:pt x="104" y="1027"/>
                    <a:pt x="104" y="1027"/>
                  </a:cubicBezTo>
                  <a:cubicBezTo>
                    <a:pt x="103" y="1026"/>
                    <a:pt x="101" y="1025"/>
                    <a:pt x="99" y="1023"/>
                  </a:cubicBezTo>
                  <a:cubicBezTo>
                    <a:pt x="99" y="1023"/>
                    <a:pt x="99" y="1023"/>
                    <a:pt x="99" y="1023"/>
                  </a:cubicBezTo>
                  <a:cubicBezTo>
                    <a:pt x="96" y="1020"/>
                    <a:pt x="93" y="1017"/>
                    <a:pt x="89" y="1014"/>
                  </a:cubicBezTo>
                  <a:cubicBezTo>
                    <a:pt x="89" y="1014"/>
                    <a:pt x="89" y="1014"/>
                    <a:pt x="89" y="1014"/>
                  </a:cubicBezTo>
                  <a:cubicBezTo>
                    <a:pt x="88" y="1013"/>
                    <a:pt x="86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1" y="1006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8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1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6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49" y="695"/>
                  </a:cubicBezTo>
                  <a:cubicBezTo>
                    <a:pt x="49" y="695"/>
                    <a:pt x="49" y="695"/>
                    <a:pt x="49" y="695"/>
                  </a:cubicBezTo>
                  <a:cubicBezTo>
                    <a:pt x="50" y="693"/>
                    <a:pt x="51" y="691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7" y="683"/>
                    <a:pt x="59" y="681"/>
                    <a:pt x="60" y="679"/>
                  </a:cubicBezTo>
                  <a:cubicBezTo>
                    <a:pt x="60" y="679"/>
                    <a:pt x="60" y="679"/>
                    <a:pt x="60" y="679"/>
                  </a:cubicBezTo>
                  <a:cubicBezTo>
                    <a:pt x="61" y="678"/>
                    <a:pt x="62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6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0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4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7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6" y="650"/>
                    <a:pt x="86" y="650"/>
                    <a:pt x="86" y="650"/>
                  </a:cubicBezTo>
                  <a:cubicBezTo>
                    <a:pt x="86" y="649"/>
                    <a:pt x="87" y="648"/>
                    <a:pt x="87" y="648"/>
                  </a:cubicBezTo>
                  <a:cubicBezTo>
                    <a:pt x="88" y="647"/>
                    <a:pt x="89" y="646"/>
                    <a:pt x="90" y="646"/>
                  </a:cubicBezTo>
                  <a:cubicBezTo>
                    <a:pt x="90" y="646"/>
                    <a:pt x="90" y="646"/>
                    <a:pt x="90" y="646"/>
                  </a:cubicBezTo>
                  <a:cubicBezTo>
                    <a:pt x="158" y="581"/>
                    <a:pt x="233" y="578"/>
                    <a:pt x="313" y="547"/>
                  </a:cubicBezTo>
                  <a:cubicBezTo>
                    <a:pt x="358" y="529"/>
                    <a:pt x="405" y="502"/>
                    <a:pt x="455" y="453"/>
                  </a:cubicBezTo>
                  <a:cubicBezTo>
                    <a:pt x="502" y="404"/>
                    <a:pt x="529" y="358"/>
                    <a:pt x="547" y="314"/>
                  </a:cubicBezTo>
                  <a:cubicBezTo>
                    <a:pt x="577" y="235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5" y="90"/>
                    <a:pt x="645" y="90"/>
                    <a:pt x="645" y="90"/>
                  </a:cubicBezTo>
                  <a:cubicBezTo>
                    <a:pt x="647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7" y="78"/>
                    <a:pt x="659" y="77"/>
                    <a:pt x="660" y="75"/>
                  </a:cubicBezTo>
                  <a:cubicBezTo>
                    <a:pt x="660" y="75"/>
                    <a:pt x="660" y="75"/>
                    <a:pt x="660" y="75"/>
                  </a:cubicBezTo>
                  <a:cubicBezTo>
                    <a:pt x="662" y="74"/>
                    <a:pt x="664" y="73"/>
                    <a:pt x="665" y="71"/>
                  </a:cubicBezTo>
                  <a:cubicBezTo>
                    <a:pt x="665" y="71"/>
                    <a:pt x="665" y="71"/>
                    <a:pt x="665" y="71"/>
                  </a:cubicBezTo>
                  <a:cubicBezTo>
                    <a:pt x="667" y="70"/>
                    <a:pt x="668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3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8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3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5"/>
                    <a:pt x="689" y="53"/>
                    <a:pt x="690" y="52"/>
                  </a:cubicBezTo>
                  <a:cubicBezTo>
                    <a:pt x="690" y="52"/>
                    <a:pt x="690" y="52"/>
                    <a:pt x="690" y="52"/>
                  </a:cubicBezTo>
                  <a:cubicBezTo>
                    <a:pt x="692" y="51"/>
                    <a:pt x="694" y="50"/>
                    <a:pt x="695" y="49"/>
                  </a:cubicBezTo>
                  <a:cubicBezTo>
                    <a:pt x="695" y="49"/>
                    <a:pt x="695" y="49"/>
                    <a:pt x="695" y="49"/>
                  </a:cubicBezTo>
                  <a:cubicBezTo>
                    <a:pt x="697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4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3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79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4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1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8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0" y="66"/>
                  </a:cubicBezTo>
                  <a:cubicBezTo>
                    <a:pt x="990" y="66"/>
                    <a:pt x="990" y="66"/>
                    <a:pt x="990" y="66"/>
                  </a:cubicBezTo>
                  <a:cubicBezTo>
                    <a:pt x="992" y="68"/>
                    <a:pt x="994" y="69"/>
                    <a:pt x="995" y="71"/>
                  </a:cubicBezTo>
                  <a:cubicBezTo>
                    <a:pt x="995" y="71"/>
                    <a:pt x="995" y="71"/>
                    <a:pt x="995" y="71"/>
                  </a:cubicBezTo>
                  <a:cubicBezTo>
                    <a:pt x="999" y="73"/>
                    <a:pt x="1002" y="76"/>
                    <a:pt x="1005" y="80"/>
                  </a:cubicBezTo>
                  <a:cubicBezTo>
                    <a:pt x="1005" y="80"/>
                    <a:pt x="1005" y="80"/>
                    <a:pt x="1005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3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5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3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7" y="116"/>
                    <a:pt x="1038" y="118"/>
                    <a:pt x="1040" y="120"/>
                  </a:cubicBezTo>
                  <a:cubicBezTo>
                    <a:pt x="1040" y="120"/>
                    <a:pt x="1040" y="120"/>
                    <a:pt x="1040" y="120"/>
                  </a:cubicBezTo>
                  <a:cubicBezTo>
                    <a:pt x="1041" y="121"/>
                    <a:pt x="1042" y="123"/>
                    <a:pt x="1043" y="125"/>
                  </a:cubicBezTo>
                  <a:cubicBezTo>
                    <a:pt x="1043" y="125"/>
                    <a:pt x="1043" y="125"/>
                    <a:pt x="1043" y="125"/>
                  </a:cubicBezTo>
                  <a:cubicBezTo>
                    <a:pt x="1047" y="130"/>
                    <a:pt x="1050" y="136"/>
                    <a:pt x="1053" y="141"/>
                  </a:cubicBezTo>
                  <a:cubicBezTo>
                    <a:pt x="1053" y="141"/>
                    <a:pt x="1053" y="141"/>
                    <a:pt x="1053" y="141"/>
                  </a:cubicBezTo>
                  <a:cubicBezTo>
                    <a:pt x="1094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3"/>
                  </a:cubicBezTo>
                  <a:cubicBezTo>
                    <a:pt x="1049" y="393"/>
                    <a:pt x="1049" y="393"/>
                    <a:pt x="1049" y="393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3" y="402"/>
                    <a:pt x="1042" y="404"/>
                  </a:cubicBezTo>
                  <a:cubicBezTo>
                    <a:pt x="1042" y="404"/>
                    <a:pt x="1042" y="404"/>
                    <a:pt x="1042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7" y="411"/>
                    <a:pt x="1036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7" y="424"/>
                  </a:cubicBezTo>
                  <a:cubicBezTo>
                    <a:pt x="1027" y="424"/>
                    <a:pt x="1027" y="424"/>
                    <a:pt x="1027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0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08" y="445"/>
                    <a:pt x="1006" y="447"/>
                    <a:pt x="1004" y="449"/>
                  </a:cubicBezTo>
                  <a:cubicBezTo>
                    <a:pt x="1004" y="449"/>
                    <a:pt x="1003" y="450"/>
                    <a:pt x="1003" y="450"/>
                  </a:cubicBezTo>
                  <a:cubicBezTo>
                    <a:pt x="1001" y="452"/>
                    <a:pt x="1000" y="453"/>
                    <a:pt x="999" y="454"/>
                  </a:cubicBezTo>
                  <a:cubicBezTo>
                    <a:pt x="932" y="514"/>
                    <a:pt x="859" y="517"/>
                    <a:pt x="780" y="547"/>
                  </a:cubicBezTo>
                  <a:close/>
                </a:path>
              </a:pathLst>
            </a:custGeom>
            <a:solidFill>
              <a:srgbClr val="ec4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7" name="Freeform 15"/>
            <p:cNvSpPr/>
            <p:nvPr/>
          </p:nvSpPr>
          <p:spPr>
            <a:xfrm>
              <a:off x="4417920" y="270684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397"/>
                  </a:moveTo>
                  <a:cubicBezTo>
                    <a:pt x="311" y="483"/>
                    <a:pt x="172" y="483"/>
                    <a:pt x="86" y="397"/>
                  </a:cubicBezTo>
                  <a:cubicBezTo>
                    <a:pt x="0" y="311"/>
                    <a:pt x="0" y="172"/>
                    <a:pt x="86" y="86"/>
                  </a:cubicBezTo>
                  <a:cubicBezTo>
                    <a:pt x="172" y="0"/>
                    <a:pt x="311" y="0"/>
                    <a:pt x="397" y="86"/>
                  </a:cubicBezTo>
                  <a:cubicBezTo>
                    <a:pt x="483" y="172"/>
                    <a:pt x="483" y="311"/>
                    <a:pt x="397" y="39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8" name="Oval 16"/>
            <p:cNvSpPr/>
            <p:nvPr/>
          </p:nvSpPr>
          <p:spPr>
            <a:xfrm>
              <a:off x="5240520" y="1951200"/>
              <a:ext cx="61272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9" name="Shape 2778"/>
            <p:cNvSpPr/>
            <p:nvPr/>
          </p:nvSpPr>
          <p:spPr>
            <a:xfrm>
              <a:off x="4614120" y="2901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0" name="Shape 2774"/>
            <p:cNvSpPr/>
            <p:nvPr/>
          </p:nvSpPr>
          <p:spPr>
            <a:xfrm>
              <a:off x="5403960" y="21160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01" name="Group 16"/>
          <p:cNvGrpSpPr/>
          <p:nvPr/>
        </p:nvGrpSpPr>
        <p:grpSpPr>
          <a:xfrm>
            <a:off x="4386240" y="3787920"/>
            <a:ext cx="1521000" cy="1519200"/>
            <a:chOff x="4386240" y="3787920"/>
            <a:chExt cx="1521000" cy="1519200"/>
          </a:xfrm>
        </p:grpSpPr>
        <p:sp>
          <p:nvSpPr>
            <p:cNvPr id="1102" name="Freeform 10"/>
            <p:cNvSpPr/>
            <p:nvPr/>
          </p:nvSpPr>
          <p:spPr>
            <a:xfrm>
              <a:off x="438624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29"/>
                    <a:pt x="691" y="502"/>
                    <a:pt x="642" y="455"/>
                  </a:cubicBezTo>
                  <a:cubicBezTo>
                    <a:pt x="593" y="405"/>
                    <a:pt x="566" y="358"/>
                    <a:pt x="547" y="313"/>
                  </a:cubicBezTo>
                  <a:cubicBezTo>
                    <a:pt x="518" y="234"/>
                    <a:pt x="514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49" y="90"/>
                    <a:pt x="449" y="90"/>
                    <a:pt x="449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2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7" y="78"/>
                    <a:pt x="436" y="77"/>
                    <a:pt x="434" y="75"/>
                  </a:cubicBezTo>
                  <a:cubicBezTo>
                    <a:pt x="434" y="75"/>
                    <a:pt x="434" y="75"/>
                    <a:pt x="434" y="75"/>
                  </a:cubicBezTo>
                  <a:cubicBezTo>
                    <a:pt x="433" y="74"/>
                    <a:pt x="431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6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1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8" y="62"/>
                    <a:pt x="416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3" y="58"/>
                    <a:pt x="411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4"/>
                    <a:pt x="406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399" y="49"/>
                  </a:cubicBezTo>
                  <a:cubicBezTo>
                    <a:pt x="399" y="49"/>
                    <a:pt x="399" y="49"/>
                    <a:pt x="399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2" y="44"/>
                    <a:pt x="390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1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4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5" y="51"/>
                  </a:cubicBezTo>
                  <a:cubicBezTo>
                    <a:pt x="125" y="51"/>
                    <a:pt x="125" y="51"/>
                    <a:pt x="125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8" y="56"/>
                    <a:pt x="116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1" y="61"/>
                    <a:pt x="108" y="64"/>
                    <a:pt x="104" y="66"/>
                  </a:cubicBezTo>
                  <a:cubicBezTo>
                    <a:pt x="104" y="66"/>
                    <a:pt x="104" y="66"/>
                    <a:pt x="104" y="66"/>
                  </a:cubicBezTo>
                  <a:cubicBezTo>
                    <a:pt x="103" y="68"/>
                    <a:pt x="101" y="69"/>
                    <a:pt x="99" y="71"/>
                  </a:cubicBezTo>
                  <a:cubicBezTo>
                    <a:pt x="99" y="71"/>
                    <a:pt x="99" y="71"/>
                    <a:pt x="99" y="71"/>
                  </a:cubicBezTo>
                  <a:cubicBezTo>
                    <a:pt x="96" y="73"/>
                    <a:pt x="93" y="76"/>
                    <a:pt x="89" y="80"/>
                  </a:cubicBezTo>
                  <a:cubicBezTo>
                    <a:pt x="89" y="80"/>
                    <a:pt x="89" y="80"/>
                    <a:pt x="89" y="80"/>
                  </a:cubicBezTo>
                  <a:cubicBezTo>
                    <a:pt x="88" y="81"/>
                    <a:pt x="86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1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8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1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6" y="118"/>
                    <a:pt x="55" y="119"/>
                  </a:cubicBezTo>
                  <a:cubicBezTo>
                    <a:pt x="55" y="119"/>
                    <a:pt x="55" y="119"/>
                    <a:pt x="55" y="119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4"/>
                  </a:cubicBezTo>
                  <a:cubicBezTo>
                    <a:pt x="46" y="394"/>
                    <a:pt x="46" y="394"/>
                    <a:pt x="46" y="394"/>
                  </a:cubicBezTo>
                  <a:cubicBezTo>
                    <a:pt x="47" y="395"/>
                    <a:pt x="48" y="397"/>
                    <a:pt x="49" y="399"/>
                  </a:cubicBezTo>
                  <a:cubicBezTo>
                    <a:pt x="49" y="399"/>
                    <a:pt x="49" y="399"/>
                    <a:pt x="49" y="399"/>
                  </a:cubicBezTo>
                  <a:cubicBezTo>
                    <a:pt x="50" y="401"/>
                    <a:pt x="51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7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2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6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0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4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7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6" y="444"/>
                    <a:pt x="86" y="444"/>
                    <a:pt x="86" y="444"/>
                  </a:cubicBezTo>
                  <a:cubicBezTo>
                    <a:pt x="86" y="445"/>
                    <a:pt x="87" y="445"/>
                    <a:pt x="87" y="446"/>
                  </a:cubicBezTo>
                  <a:cubicBezTo>
                    <a:pt x="88" y="447"/>
                    <a:pt x="89" y="448"/>
                    <a:pt x="90" y="448"/>
                  </a:cubicBezTo>
                  <a:cubicBezTo>
                    <a:pt x="90" y="448"/>
                    <a:pt x="90" y="448"/>
                    <a:pt x="90" y="448"/>
                  </a:cubicBezTo>
                  <a:cubicBezTo>
                    <a:pt x="158" y="513"/>
                    <a:pt x="233" y="516"/>
                    <a:pt x="313" y="547"/>
                  </a:cubicBezTo>
                  <a:cubicBezTo>
                    <a:pt x="358" y="565"/>
                    <a:pt x="405" y="592"/>
                    <a:pt x="455" y="641"/>
                  </a:cubicBezTo>
                  <a:cubicBezTo>
                    <a:pt x="502" y="690"/>
                    <a:pt x="529" y="736"/>
                    <a:pt x="547" y="780"/>
                  </a:cubicBezTo>
                  <a:cubicBezTo>
                    <a:pt x="577" y="859"/>
                    <a:pt x="581" y="931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5" y="1004"/>
                    <a:pt x="645" y="1004"/>
                    <a:pt x="645" y="1004"/>
                  </a:cubicBezTo>
                  <a:cubicBezTo>
                    <a:pt x="647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7" y="1016"/>
                    <a:pt x="659" y="1017"/>
                    <a:pt x="660" y="1019"/>
                  </a:cubicBezTo>
                  <a:cubicBezTo>
                    <a:pt x="660" y="1019"/>
                    <a:pt x="660" y="1019"/>
                    <a:pt x="660" y="1019"/>
                  </a:cubicBezTo>
                  <a:cubicBezTo>
                    <a:pt x="662" y="1020"/>
                    <a:pt x="664" y="1021"/>
                    <a:pt x="665" y="1023"/>
                  </a:cubicBezTo>
                  <a:cubicBezTo>
                    <a:pt x="665" y="1023"/>
                    <a:pt x="665" y="1023"/>
                    <a:pt x="665" y="1023"/>
                  </a:cubicBezTo>
                  <a:cubicBezTo>
                    <a:pt x="667" y="1024"/>
                    <a:pt x="668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3" y="1030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8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3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0" y="1042"/>
                  </a:cubicBezTo>
                  <a:cubicBezTo>
                    <a:pt x="690" y="1042"/>
                    <a:pt x="690" y="1042"/>
                    <a:pt x="690" y="1042"/>
                  </a:cubicBezTo>
                  <a:cubicBezTo>
                    <a:pt x="692" y="1043"/>
                    <a:pt x="694" y="1044"/>
                    <a:pt x="695" y="1045"/>
                  </a:cubicBezTo>
                  <a:cubicBezTo>
                    <a:pt x="695" y="1045"/>
                    <a:pt x="695" y="1045"/>
                    <a:pt x="695" y="1045"/>
                  </a:cubicBezTo>
                  <a:cubicBezTo>
                    <a:pt x="697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50"/>
                    <a:pt x="704" y="1051"/>
                    <a:pt x="706" y="1052"/>
                  </a:cubicBezTo>
                  <a:cubicBezTo>
                    <a:pt x="706" y="1052"/>
                    <a:pt x="706" y="1052"/>
                    <a:pt x="706" y="1052"/>
                  </a:cubicBezTo>
                  <a:cubicBezTo>
                    <a:pt x="710" y="1054"/>
                    <a:pt x="713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79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4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1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8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0" y="1028"/>
                  </a:cubicBezTo>
                  <a:cubicBezTo>
                    <a:pt x="990" y="1027"/>
                    <a:pt x="990" y="1027"/>
                    <a:pt x="990" y="1027"/>
                  </a:cubicBezTo>
                  <a:cubicBezTo>
                    <a:pt x="992" y="1026"/>
                    <a:pt x="994" y="1025"/>
                    <a:pt x="995" y="1023"/>
                  </a:cubicBezTo>
                  <a:cubicBezTo>
                    <a:pt x="995" y="1023"/>
                    <a:pt x="995" y="1023"/>
                    <a:pt x="995" y="1023"/>
                  </a:cubicBezTo>
                  <a:cubicBezTo>
                    <a:pt x="999" y="1020"/>
                    <a:pt x="1002" y="1018"/>
                    <a:pt x="1005" y="1014"/>
                  </a:cubicBezTo>
                  <a:cubicBezTo>
                    <a:pt x="1005" y="1014"/>
                    <a:pt x="1005" y="1014"/>
                    <a:pt x="1005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3" y="1007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5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3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7" y="978"/>
                    <a:pt x="1038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3" y="969"/>
                  </a:cubicBezTo>
                  <a:cubicBezTo>
                    <a:pt x="1043" y="969"/>
                    <a:pt x="1043" y="969"/>
                    <a:pt x="1043" y="969"/>
                  </a:cubicBezTo>
                  <a:cubicBezTo>
                    <a:pt x="1047" y="964"/>
                    <a:pt x="1050" y="958"/>
                    <a:pt x="1053" y="953"/>
                  </a:cubicBezTo>
                  <a:cubicBezTo>
                    <a:pt x="1053" y="953"/>
                    <a:pt x="1053" y="953"/>
                    <a:pt x="1053" y="953"/>
                  </a:cubicBezTo>
                  <a:cubicBezTo>
                    <a:pt x="1094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3" y="692"/>
                    <a:pt x="1042" y="690"/>
                  </a:cubicBezTo>
                  <a:cubicBezTo>
                    <a:pt x="1042" y="690"/>
                    <a:pt x="1042" y="690"/>
                    <a:pt x="1042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7" y="683"/>
                    <a:pt x="1036" y="681"/>
                    <a:pt x="1035" y="680"/>
                  </a:cubicBezTo>
                  <a:cubicBezTo>
                    <a:pt x="1035" y="680"/>
                    <a:pt x="1035" y="680"/>
                    <a:pt x="1035" y="680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7" y="670"/>
                  </a:cubicBezTo>
                  <a:cubicBezTo>
                    <a:pt x="1027" y="670"/>
                    <a:pt x="1027" y="670"/>
                    <a:pt x="1027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0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08" y="649"/>
                    <a:pt x="1006" y="647"/>
                    <a:pt x="1004" y="645"/>
                  </a:cubicBezTo>
                  <a:cubicBezTo>
                    <a:pt x="1004" y="644"/>
                    <a:pt x="1003" y="644"/>
                    <a:pt x="1003" y="643"/>
                  </a:cubicBezTo>
                  <a:cubicBezTo>
                    <a:pt x="1001" y="642"/>
                    <a:pt x="1000" y="641"/>
                    <a:pt x="999" y="640"/>
                  </a:cubicBezTo>
                  <a:cubicBezTo>
                    <a:pt x="932" y="580"/>
                    <a:pt x="859" y="577"/>
                    <a:pt x="780" y="547"/>
                  </a:cubicBezTo>
                  <a:close/>
                </a:path>
              </a:pathLst>
            </a:custGeom>
            <a:solidFill>
              <a:srgbClr val="c21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3" name="Freeform 11"/>
            <p:cNvSpPr/>
            <p:nvPr/>
          </p:nvSpPr>
          <p:spPr>
            <a:xfrm>
              <a:off x="441792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4" name="Oval 12"/>
            <p:cNvSpPr/>
            <p:nvPr/>
          </p:nvSpPr>
          <p:spPr>
            <a:xfrm>
              <a:off x="5240520" y="4633920"/>
              <a:ext cx="61272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5" name="Shape 2748"/>
            <p:cNvSpPr/>
            <p:nvPr/>
          </p:nvSpPr>
          <p:spPr>
            <a:xfrm>
              <a:off x="4611240" y="4006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6" name="Shape 2784"/>
            <p:cNvSpPr/>
            <p:nvPr/>
          </p:nvSpPr>
          <p:spPr>
            <a:xfrm>
              <a:off x="5403240" y="48193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07" name="Group 22"/>
          <p:cNvGrpSpPr/>
          <p:nvPr/>
        </p:nvGrpSpPr>
        <p:grpSpPr>
          <a:xfrm>
            <a:off x="6284880" y="1889280"/>
            <a:ext cx="1521000" cy="1520640"/>
            <a:chOff x="6284880" y="1889280"/>
            <a:chExt cx="1521000" cy="1520640"/>
          </a:xfrm>
        </p:grpSpPr>
        <p:sp>
          <p:nvSpPr>
            <p:cNvPr id="1108" name="Freeform 23"/>
            <p:cNvSpPr/>
            <p:nvPr/>
          </p:nvSpPr>
          <p:spPr>
            <a:xfrm>
              <a:off x="628488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65"/>
                    <a:pt x="404" y="592"/>
                    <a:pt x="453" y="639"/>
                  </a:cubicBezTo>
                  <a:cubicBezTo>
                    <a:pt x="502" y="689"/>
                    <a:pt x="529" y="736"/>
                    <a:pt x="548" y="781"/>
                  </a:cubicBezTo>
                  <a:cubicBezTo>
                    <a:pt x="578" y="860"/>
                    <a:pt x="581" y="932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6" y="1004"/>
                    <a:pt x="646" y="1004"/>
                    <a:pt x="646" y="1004"/>
                  </a:cubicBezTo>
                  <a:cubicBezTo>
                    <a:pt x="648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8" y="1016"/>
                    <a:pt x="659" y="1017"/>
                    <a:pt x="661" y="1019"/>
                  </a:cubicBezTo>
                  <a:cubicBezTo>
                    <a:pt x="661" y="1019"/>
                    <a:pt x="661" y="1019"/>
                    <a:pt x="661" y="1019"/>
                  </a:cubicBezTo>
                  <a:cubicBezTo>
                    <a:pt x="662" y="1020"/>
                    <a:pt x="664" y="1021"/>
                    <a:pt x="666" y="1023"/>
                  </a:cubicBezTo>
                  <a:cubicBezTo>
                    <a:pt x="666" y="1023"/>
                    <a:pt x="666" y="1023"/>
                    <a:pt x="666" y="1023"/>
                  </a:cubicBezTo>
                  <a:cubicBezTo>
                    <a:pt x="667" y="1024"/>
                    <a:pt x="669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4" y="1029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9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4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1" y="1042"/>
                  </a:cubicBezTo>
                  <a:cubicBezTo>
                    <a:pt x="691" y="1042"/>
                    <a:pt x="691" y="1042"/>
                    <a:pt x="691" y="1042"/>
                  </a:cubicBezTo>
                  <a:cubicBezTo>
                    <a:pt x="692" y="1043"/>
                    <a:pt x="694" y="1044"/>
                    <a:pt x="696" y="1045"/>
                  </a:cubicBezTo>
                  <a:cubicBezTo>
                    <a:pt x="696" y="1045"/>
                    <a:pt x="696" y="1045"/>
                    <a:pt x="696" y="1045"/>
                  </a:cubicBezTo>
                  <a:cubicBezTo>
                    <a:pt x="698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49"/>
                    <a:pt x="705" y="1050"/>
                    <a:pt x="706" y="1051"/>
                  </a:cubicBezTo>
                  <a:cubicBezTo>
                    <a:pt x="706" y="1051"/>
                    <a:pt x="706" y="1051"/>
                    <a:pt x="706" y="1051"/>
                  </a:cubicBezTo>
                  <a:cubicBezTo>
                    <a:pt x="710" y="1054"/>
                    <a:pt x="714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80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5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2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9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1" y="1027"/>
                  </a:cubicBezTo>
                  <a:cubicBezTo>
                    <a:pt x="991" y="1027"/>
                    <a:pt x="991" y="1027"/>
                    <a:pt x="991" y="1027"/>
                  </a:cubicBezTo>
                  <a:cubicBezTo>
                    <a:pt x="993" y="1026"/>
                    <a:pt x="994" y="1025"/>
                    <a:pt x="996" y="1023"/>
                  </a:cubicBezTo>
                  <a:cubicBezTo>
                    <a:pt x="996" y="1023"/>
                    <a:pt x="996" y="1023"/>
                    <a:pt x="996" y="1023"/>
                  </a:cubicBezTo>
                  <a:cubicBezTo>
                    <a:pt x="999" y="1020"/>
                    <a:pt x="1002" y="1017"/>
                    <a:pt x="1006" y="1014"/>
                  </a:cubicBezTo>
                  <a:cubicBezTo>
                    <a:pt x="1006" y="1014"/>
                    <a:pt x="1006" y="1014"/>
                    <a:pt x="1006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4" y="1006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6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4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8" y="978"/>
                    <a:pt x="1039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4" y="969"/>
                  </a:cubicBezTo>
                  <a:cubicBezTo>
                    <a:pt x="1044" y="969"/>
                    <a:pt x="1044" y="969"/>
                    <a:pt x="1044" y="969"/>
                  </a:cubicBezTo>
                  <a:cubicBezTo>
                    <a:pt x="1047" y="964"/>
                    <a:pt x="1050" y="958"/>
                    <a:pt x="1054" y="953"/>
                  </a:cubicBezTo>
                  <a:cubicBezTo>
                    <a:pt x="1054" y="953"/>
                    <a:pt x="1054" y="953"/>
                    <a:pt x="1054" y="953"/>
                  </a:cubicBezTo>
                  <a:cubicBezTo>
                    <a:pt x="1095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4" y="691"/>
                    <a:pt x="1043" y="690"/>
                  </a:cubicBezTo>
                  <a:cubicBezTo>
                    <a:pt x="1043" y="690"/>
                    <a:pt x="1043" y="690"/>
                    <a:pt x="1043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8" y="683"/>
                    <a:pt x="1037" y="681"/>
                    <a:pt x="1035" y="679"/>
                  </a:cubicBezTo>
                  <a:cubicBezTo>
                    <a:pt x="1035" y="679"/>
                    <a:pt x="1035" y="679"/>
                    <a:pt x="1035" y="679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8" y="670"/>
                  </a:cubicBezTo>
                  <a:cubicBezTo>
                    <a:pt x="1028" y="670"/>
                    <a:pt x="1028" y="670"/>
                    <a:pt x="1028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1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0"/>
                    <a:pt x="1010" y="650"/>
                    <a:pt x="1010" y="650"/>
                  </a:cubicBezTo>
                  <a:cubicBezTo>
                    <a:pt x="1009" y="649"/>
                    <a:pt x="1008" y="648"/>
                    <a:pt x="1008" y="648"/>
                  </a:cubicBezTo>
                  <a:cubicBezTo>
                    <a:pt x="1007" y="647"/>
                    <a:pt x="1006" y="646"/>
                    <a:pt x="1005" y="646"/>
                  </a:cubicBezTo>
                  <a:cubicBezTo>
                    <a:pt x="1005" y="646"/>
                    <a:pt x="1005" y="646"/>
                    <a:pt x="1005" y="646"/>
                  </a:cubicBezTo>
                  <a:cubicBezTo>
                    <a:pt x="937" y="581"/>
                    <a:pt x="863" y="578"/>
                    <a:pt x="782" y="547"/>
                  </a:cubicBezTo>
                  <a:cubicBezTo>
                    <a:pt x="737" y="529"/>
                    <a:pt x="690" y="502"/>
                    <a:pt x="640" y="453"/>
                  </a:cubicBezTo>
                  <a:cubicBezTo>
                    <a:pt x="593" y="404"/>
                    <a:pt x="566" y="358"/>
                    <a:pt x="548" y="314"/>
                  </a:cubicBezTo>
                  <a:cubicBezTo>
                    <a:pt x="518" y="235"/>
                    <a:pt x="515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50" y="90"/>
                    <a:pt x="450" y="90"/>
                    <a:pt x="450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3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8" y="78"/>
                    <a:pt x="436" y="77"/>
                    <a:pt x="435" y="75"/>
                  </a:cubicBezTo>
                  <a:cubicBezTo>
                    <a:pt x="435" y="75"/>
                    <a:pt x="435" y="75"/>
                    <a:pt x="435" y="75"/>
                  </a:cubicBezTo>
                  <a:cubicBezTo>
                    <a:pt x="433" y="74"/>
                    <a:pt x="432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7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2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9" y="62"/>
                    <a:pt x="417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8"/>
                    <a:pt x="412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5"/>
                    <a:pt x="407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400" y="49"/>
                  </a:cubicBezTo>
                  <a:cubicBezTo>
                    <a:pt x="400" y="49"/>
                    <a:pt x="400" y="49"/>
                    <a:pt x="400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3" y="44"/>
                    <a:pt x="391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2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5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6" y="51"/>
                  </a:cubicBezTo>
                  <a:cubicBezTo>
                    <a:pt x="126" y="51"/>
                    <a:pt x="126" y="51"/>
                    <a:pt x="126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9" y="56"/>
                    <a:pt x="117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2" y="61"/>
                    <a:pt x="108" y="64"/>
                    <a:pt x="105" y="66"/>
                  </a:cubicBezTo>
                  <a:cubicBezTo>
                    <a:pt x="105" y="66"/>
                    <a:pt x="105" y="66"/>
                    <a:pt x="105" y="66"/>
                  </a:cubicBezTo>
                  <a:cubicBezTo>
                    <a:pt x="103" y="68"/>
                    <a:pt x="101" y="69"/>
                    <a:pt x="100" y="71"/>
                  </a:cubicBezTo>
                  <a:cubicBezTo>
                    <a:pt x="100" y="71"/>
                    <a:pt x="100" y="71"/>
                    <a:pt x="100" y="71"/>
                  </a:cubicBezTo>
                  <a:cubicBezTo>
                    <a:pt x="96" y="73"/>
                    <a:pt x="93" y="76"/>
                    <a:pt x="90" y="80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88" y="81"/>
                    <a:pt x="87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2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9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2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7" y="118"/>
                    <a:pt x="55" y="120"/>
                  </a:cubicBezTo>
                  <a:cubicBezTo>
                    <a:pt x="55" y="120"/>
                    <a:pt x="55" y="120"/>
                    <a:pt x="55" y="120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3"/>
                  </a:cubicBezTo>
                  <a:cubicBezTo>
                    <a:pt x="46" y="393"/>
                    <a:pt x="46" y="393"/>
                    <a:pt x="46" y="393"/>
                  </a:cubicBezTo>
                  <a:cubicBezTo>
                    <a:pt x="47" y="395"/>
                    <a:pt x="48" y="397"/>
                    <a:pt x="50" y="399"/>
                  </a:cubicBezTo>
                  <a:cubicBezTo>
                    <a:pt x="50" y="399"/>
                    <a:pt x="50" y="399"/>
                    <a:pt x="50" y="399"/>
                  </a:cubicBezTo>
                  <a:cubicBezTo>
                    <a:pt x="51" y="401"/>
                    <a:pt x="52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8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3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7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1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5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8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7" y="445"/>
                    <a:pt x="89" y="447"/>
                    <a:pt x="91" y="449"/>
                  </a:cubicBezTo>
                  <a:cubicBezTo>
                    <a:pt x="91" y="449"/>
                    <a:pt x="92" y="450"/>
                    <a:pt x="92" y="450"/>
                  </a:cubicBezTo>
                  <a:cubicBezTo>
                    <a:pt x="94" y="452"/>
                    <a:pt x="95" y="453"/>
                    <a:pt x="96" y="454"/>
                  </a:cubicBezTo>
                  <a:cubicBezTo>
                    <a:pt x="163" y="514"/>
                    <a:pt x="236" y="517"/>
                    <a:pt x="315" y="547"/>
                  </a:cubicBezTo>
                  <a:close/>
                </a:path>
              </a:pathLst>
            </a:custGeom>
            <a:solidFill>
              <a:srgbClr val="e91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9" name="Oval 24"/>
            <p:cNvSpPr/>
            <p:nvPr/>
          </p:nvSpPr>
          <p:spPr>
            <a:xfrm>
              <a:off x="6345000" y="1951200"/>
              <a:ext cx="61128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0" name="Oval 25"/>
            <p:cNvSpPr/>
            <p:nvPr/>
          </p:nvSpPr>
          <p:spPr>
            <a:xfrm>
              <a:off x="7132680" y="2735280"/>
              <a:ext cx="611280" cy="612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1" name="Shape 2554"/>
            <p:cNvSpPr/>
            <p:nvPr/>
          </p:nvSpPr>
          <p:spPr>
            <a:xfrm>
              <a:off x="6510960" y="211608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2" name="Shape 2543"/>
            <p:cNvSpPr/>
            <p:nvPr/>
          </p:nvSpPr>
          <p:spPr>
            <a:xfrm>
              <a:off x="7298640" y="29037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13" name="Group 28"/>
          <p:cNvGrpSpPr/>
          <p:nvPr/>
        </p:nvGrpSpPr>
        <p:grpSpPr>
          <a:xfrm>
            <a:off x="6284880" y="3787920"/>
            <a:ext cx="1521000" cy="1519200"/>
            <a:chOff x="6284880" y="3787920"/>
            <a:chExt cx="1521000" cy="1519200"/>
          </a:xfrm>
        </p:grpSpPr>
        <p:sp>
          <p:nvSpPr>
            <p:cNvPr id="1114" name="Freeform 18"/>
            <p:cNvSpPr/>
            <p:nvPr/>
          </p:nvSpPr>
          <p:spPr>
            <a:xfrm>
              <a:off x="628488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29"/>
                    <a:pt x="404" y="502"/>
                    <a:pt x="453" y="455"/>
                  </a:cubicBezTo>
                  <a:cubicBezTo>
                    <a:pt x="502" y="405"/>
                    <a:pt x="529" y="358"/>
                    <a:pt x="548" y="313"/>
                  </a:cubicBezTo>
                  <a:cubicBezTo>
                    <a:pt x="578" y="234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6" y="90"/>
                    <a:pt x="646" y="90"/>
                    <a:pt x="646" y="90"/>
                  </a:cubicBezTo>
                  <a:cubicBezTo>
                    <a:pt x="648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8" y="78"/>
                    <a:pt x="659" y="77"/>
                    <a:pt x="661" y="75"/>
                  </a:cubicBezTo>
                  <a:cubicBezTo>
                    <a:pt x="661" y="75"/>
                    <a:pt x="661" y="75"/>
                    <a:pt x="661" y="75"/>
                  </a:cubicBezTo>
                  <a:cubicBezTo>
                    <a:pt x="662" y="74"/>
                    <a:pt x="664" y="73"/>
                    <a:pt x="666" y="71"/>
                  </a:cubicBezTo>
                  <a:cubicBezTo>
                    <a:pt x="666" y="71"/>
                    <a:pt x="666" y="71"/>
                    <a:pt x="666" y="71"/>
                  </a:cubicBezTo>
                  <a:cubicBezTo>
                    <a:pt x="667" y="70"/>
                    <a:pt x="669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4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9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4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4"/>
                    <a:pt x="689" y="53"/>
                    <a:pt x="691" y="52"/>
                  </a:cubicBezTo>
                  <a:cubicBezTo>
                    <a:pt x="691" y="52"/>
                    <a:pt x="691" y="52"/>
                    <a:pt x="691" y="52"/>
                  </a:cubicBezTo>
                  <a:cubicBezTo>
                    <a:pt x="692" y="51"/>
                    <a:pt x="694" y="50"/>
                    <a:pt x="696" y="49"/>
                  </a:cubicBezTo>
                  <a:cubicBezTo>
                    <a:pt x="696" y="49"/>
                    <a:pt x="696" y="49"/>
                    <a:pt x="696" y="49"/>
                  </a:cubicBezTo>
                  <a:cubicBezTo>
                    <a:pt x="698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5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4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80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5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2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9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1" y="66"/>
                  </a:cubicBezTo>
                  <a:cubicBezTo>
                    <a:pt x="991" y="66"/>
                    <a:pt x="991" y="66"/>
                    <a:pt x="991" y="66"/>
                  </a:cubicBezTo>
                  <a:cubicBezTo>
                    <a:pt x="993" y="68"/>
                    <a:pt x="994" y="69"/>
                    <a:pt x="996" y="71"/>
                  </a:cubicBezTo>
                  <a:cubicBezTo>
                    <a:pt x="996" y="71"/>
                    <a:pt x="996" y="71"/>
                    <a:pt x="996" y="71"/>
                  </a:cubicBezTo>
                  <a:cubicBezTo>
                    <a:pt x="999" y="73"/>
                    <a:pt x="1002" y="76"/>
                    <a:pt x="1006" y="80"/>
                  </a:cubicBezTo>
                  <a:cubicBezTo>
                    <a:pt x="1006" y="80"/>
                    <a:pt x="1006" y="80"/>
                    <a:pt x="1006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4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6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4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8" y="116"/>
                    <a:pt x="1039" y="118"/>
                    <a:pt x="1040" y="119"/>
                  </a:cubicBezTo>
                  <a:cubicBezTo>
                    <a:pt x="1040" y="119"/>
                    <a:pt x="1040" y="119"/>
                    <a:pt x="1040" y="119"/>
                  </a:cubicBezTo>
                  <a:cubicBezTo>
                    <a:pt x="1041" y="121"/>
                    <a:pt x="1042" y="123"/>
                    <a:pt x="1044" y="125"/>
                  </a:cubicBezTo>
                  <a:cubicBezTo>
                    <a:pt x="1044" y="125"/>
                    <a:pt x="1044" y="125"/>
                    <a:pt x="1044" y="125"/>
                  </a:cubicBezTo>
                  <a:cubicBezTo>
                    <a:pt x="1047" y="130"/>
                    <a:pt x="1050" y="136"/>
                    <a:pt x="1054" y="141"/>
                  </a:cubicBezTo>
                  <a:cubicBezTo>
                    <a:pt x="1054" y="141"/>
                    <a:pt x="1054" y="141"/>
                    <a:pt x="1054" y="141"/>
                  </a:cubicBezTo>
                  <a:cubicBezTo>
                    <a:pt x="1095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4"/>
                  </a:cubicBezTo>
                  <a:cubicBezTo>
                    <a:pt x="1049" y="394"/>
                    <a:pt x="1049" y="394"/>
                    <a:pt x="1049" y="394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4" y="402"/>
                    <a:pt x="1043" y="404"/>
                  </a:cubicBezTo>
                  <a:cubicBezTo>
                    <a:pt x="1043" y="404"/>
                    <a:pt x="1043" y="404"/>
                    <a:pt x="1043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8" y="411"/>
                    <a:pt x="1037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8" y="424"/>
                  </a:cubicBezTo>
                  <a:cubicBezTo>
                    <a:pt x="1028" y="424"/>
                    <a:pt x="1028" y="424"/>
                    <a:pt x="1028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1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4"/>
                    <a:pt x="1010" y="444"/>
                    <a:pt x="1010" y="444"/>
                  </a:cubicBezTo>
                  <a:cubicBezTo>
                    <a:pt x="1009" y="445"/>
                    <a:pt x="1008" y="445"/>
                    <a:pt x="1008" y="446"/>
                  </a:cubicBezTo>
                  <a:cubicBezTo>
                    <a:pt x="1007" y="447"/>
                    <a:pt x="1006" y="448"/>
                    <a:pt x="1005" y="448"/>
                  </a:cubicBezTo>
                  <a:cubicBezTo>
                    <a:pt x="1005" y="448"/>
                    <a:pt x="1005" y="448"/>
                    <a:pt x="1005" y="448"/>
                  </a:cubicBezTo>
                  <a:cubicBezTo>
                    <a:pt x="937" y="513"/>
                    <a:pt x="863" y="516"/>
                    <a:pt x="782" y="547"/>
                  </a:cubicBezTo>
                  <a:cubicBezTo>
                    <a:pt x="737" y="565"/>
                    <a:pt x="690" y="592"/>
                    <a:pt x="640" y="641"/>
                  </a:cubicBezTo>
                  <a:cubicBezTo>
                    <a:pt x="593" y="690"/>
                    <a:pt x="566" y="736"/>
                    <a:pt x="548" y="780"/>
                  </a:cubicBezTo>
                  <a:cubicBezTo>
                    <a:pt x="518" y="859"/>
                    <a:pt x="515" y="931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50" y="1004"/>
                    <a:pt x="450" y="1004"/>
                    <a:pt x="450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3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8" y="1016"/>
                    <a:pt x="436" y="1017"/>
                    <a:pt x="435" y="1019"/>
                  </a:cubicBezTo>
                  <a:cubicBezTo>
                    <a:pt x="435" y="1019"/>
                    <a:pt x="435" y="1019"/>
                    <a:pt x="435" y="1019"/>
                  </a:cubicBezTo>
                  <a:cubicBezTo>
                    <a:pt x="433" y="1020"/>
                    <a:pt x="432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7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2" y="1030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9" y="1032"/>
                    <a:pt x="417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4" y="1036"/>
                    <a:pt x="412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7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400" y="1045"/>
                  </a:cubicBezTo>
                  <a:cubicBezTo>
                    <a:pt x="400" y="1045"/>
                    <a:pt x="400" y="1045"/>
                    <a:pt x="400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3" y="1050"/>
                    <a:pt x="391" y="1051"/>
                    <a:pt x="389" y="1052"/>
                  </a:cubicBezTo>
                  <a:cubicBezTo>
                    <a:pt x="389" y="1052"/>
                    <a:pt x="389" y="1052"/>
                    <a:pt x="389" y="1052"/>
                  </a:cubicBezTo>
                  <a:cubicBezTo>
                    <a:pt x="385" y="1054"/>
                    <a:pt x="382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5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6" y="1043"/>
                  </a:cubicBezTo>
                  <a:cubicBezTo>
                    <a:pt x="126" y="1043"/>
                    <a:pt x="126" y="1043"/>
                    <a:pt x="126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9" y="1038"/>
                    <a:pt x="117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2" y="1033"/>
                    <a:pt x="108" y="1030"/>
                    <a:pt x="105" y="1028"/>
                  </a:cubicBezTo>
                  <a:cubicBezTo>
                    <a:pt x="105" y="1027"/>
                    <a:pt x="105" y="1027"/>
                    <a:pt x="105" y="1027"/>
                  </a:cubicBezTo>
                  <a:cubicBezTo>
                    <a:pt x="103" y="1026"/>
                    <a:pt x="101" y="1025"/>
                    <a:pt x="100" y="1023"/>
                  </a:cubicBezTo>
                  <a:cubicBezTo>
                    <a:pt x="100" y="1023"/>
                    <a:pt x="100" y="1023"/>
                    <a:pt x="100" y="1023"/>
                  </a:cubicBezTo>
                  <a:cubicBezTo>
                    <a:pt x="96" y="1020"/>
                    <a:pt x="93" y="1018"/>
                    <a:pt x="90" y="1014"/>
                  </a:cubicBezTo>
                  <a:cubicBezTo>
                    <a:pt x="90" y="1014"/>
                    <a:pt x="90" y="1014"/>
                    <a:pt x="90" y="1014"/>
                  </a:cubicBezTo>
                  <a:cubicBezTo>
                    <a:pt x="88" y="1013"/>
                    <a:pt x="87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2" y="1007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9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2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7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50" y="695"/>
                  </a:cubicBezTo>
                  <a:cubicBezTo>
                    <a:pt x="50" y="695"/>
                    <a:pt x="50" y="695"/>
                    <a:pt x="50" y="695"/>
                  </a:cubicBezTo>
                  <a:cubicBezTo>
                    <a:pt x="51" y="693"/>
                    <a:pt x="52" y="692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8" y="683"/>
                    <a:pt x="59" y="681"/>
                    <a:pt x="60" y="680"/>
                  </a:cubicBezTo>
                  <a:cubicBezTo>
                    <a:pt x="60" y="680"/>
                    <a:pt x="60" y="680"/>
                    <a:pt x="60" y="680"/>
                  </a:cubicBezTo>
                  <a:cubicBezTo>
                    <a:pt x="61" y="678"/>
                    <a:pt x="63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7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1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5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8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7" y="649"/>
                    <a:pt x="89" y="647"/>
                    <a:pt x="91" y="645"/>
                  </a:cubicBezTo>
                  <a:cubicBezTo>
                    <a:pt x="91" y="644"/>
                    <a:pt x="92" y="644"/>
                    <a:pt x="92" y="643"/>
                  </a:cubicBezTo>
                  <a:cubicBezTo>
                    <a:pt x="94" y="642"/>
                    <a:pt x="95" y="641"/>
                    <a:pt x="96" y="640"/>
                  </a:cubicBezTo>
                  <a:cubicBezTo>
                    <a:pt x="163" y="580"/>
                    <a:pt x="236" y="577"/>
                    <a:pt x="315" y="547"/>
                  </a:cubicBezTo>
                  <a:close/>
                </a:path>
              </a:pathLst>
            </a:custGeom>
            <a:solidFill>
              <a:srgbClr val="d81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5" name="Oval 19"/>
            <p:cNvSpPr/>
            <p:nvPr/>
          </p:nvSpPr>
          <p:spPr>
            <a:xfrm>
              <a:off x="6345000" y="4633920"/>
              <a:ext cx="61128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710424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7" name="Shape 2588"/>
            <p:cNvSpPr/>
            <p:nvPr/>
          </p:nvSpPr>
          <p:spPr>
            <a:xfrm>
              <a:off x="7311960" y="401976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8" name="Shape 2604"/>
            <p:cNvSpPr/>
            <p:nvPr/>
          </p:nvSpPr>
          <p:spPr>
            <a:xfrm>
              <a:off x="6510960" y="4844520"/>
              <a:ext cx="27936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19" name="Group 34"/>
          <p:cNvGrpSpPr/>
          <p:nvPr/>
        </p:nvGrpSpPr>
        <p:grpSpPr>
          <a:xfrm>
            <a:off x="5310360" y="3230640"/>
            <a:ext cx="1834920" cy="549360"/>
            <a:chOff x="5310360" y="3230640"/>
            <a:chExt cx="1834920" cy="549360"/>
          </a:xfrm>
        </p:grpSpPr>
        <p:sp>
          <p:nvSpPr>
            <p:cNvPr id="1120" name="Text Placeholder 33"/>
            <p:cNvSpPr/>
            <p:nvPr/>
          </p:nvSpPr>
          <p:spPr>
            <a:xfrm>
              <a:off x="5974560" y="3347280"/>
              <a:ext cx="117072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ec407a"/>
                  </a:solidFill>
                  <a:latin typeface="Source Sans Pro Light"/>
                </a:rPr>
                <a:t>Synth chartreuse XOXO, tacos brooklyn VHS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1" name="Oval 36"/>
            <p:cNvSpPr/>
            <p:nvPr/>
          </p:nvSpPr>
          <p:spPr>
            <a:xfrm>
              <a:off x="5310360" y="3230640"/>
              <a:ext cx="548280" cy="549360"/>
            </a:xfrm>
            <a:prstGeom prst="ellipse">
              <a:avLst/>
            </a:prstGeom>
            <a:solidFill>
              <a:srgbClr val="ec4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2" name="Shape 2540"/>
            <p:cNvSpPr/>
            <p:nvPr/>
          </p:nvSpPr>
          <p:spPr>
            <a:xfrm>
              <a:off x="5439240" y="33613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3" name="Group 38"/>
          <p:cNvGrpSpPr/>
          <p:nvPr/>
        </p:nvGrpSpPr>
        <p:grpSpPr>
          <a:xfrm>
            <a:off x="1263600" y="1746360"/>
            <a:ext cx="2198880" cy="805680"/>
            <a:chOff x="1263600" y="1746360"/>
            <a:chExt cx="2198880" cy="805680"/>
          </a:xfrm>
        </p:grpSpPr>
        <p:sp>
          <p:nvSpPr>
            <p:cNvPr id="1124" name="Rectangle 39"/>
            <p:cNvSpPr/>
            <p:nvPr/>
          </p:nvSpPr>
          <p:spPr>
            <a:xfrm>
              <a:off x="1609560" y="17463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5" name="Shape 2778"/>
            <p:cNvSpPr/>
            <p:nvPr/>
          </p:nvSpPr>
          <p:spPr>
            <a:xfrm>
              <a:off x="1263600" y="190224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6" name="Group 41"/>
          <p:cNvGrpSpPr/>
          <p:nvPr/>
        </p:nvGrpSpPr>
        <p:grpSpPr>
          <a:xfrm>
            <a:off x="1252440" y="3686040"/>
            <a:ext cx="2200320" cy="805680"/>
            <a:chOff x="1252440" y="3686040"/>
            <a:chExt cx="2200320" cy="805680"/>
          </a:xfrm>
        </p:grpSpPr>
        <p:sp>
          <p:nvSpPr>
            <p:cNvPr id="1127" name="Rectangle 42"/>
            <p:cNvSpPr/>
            <p:nvPr/>
          </p:nvSpPr>
          <p:spPr>
            <a:xfrm>
              <a:off x="1599840" y="36860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8" name="Shape 2748"/>
            <p:cNvSpPr/>
            <p:nvPr/>
          </p:nvSpPr>
          <p:spPr>
            <a:xfrm>
              <a:off x="1252440" y="38131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9" name="Group 44"/>
          <p:cNvGrpSpPr/>
          <p:nvPr/>
        </p:nvGrpSpPr>
        <p:grpSpPr>
          <a:xfrm>
            <a:off x="1263600" y="2716200"/>
            <a:ext cx="2127240" cy="805680"/>
            <a:chOff x="1263600" y="2716200"/>
            <a:chExt cx="2127240" cy="805680"/>
          </a:xfrm>
        </p:grpSpPr>
        <p:sp>
          <p:nvSpPr>
            <p:cNvPr id="1130" name="Rectangle 45"/>
            <p:cNvSpPr/>
            <p:nvPr/>
          </p:nvSpPr>
          <p:spPr>
            <a:xfrm>
              <a:off x="1612440" y="271620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1" name="Shape 2774"/>
            <p:cNvSpPr/>
            <p:nvPr/>
          </p:nvSpPr>
          <p:spPr>
            <a:xfrm>
              <a:off x="1263600" y="286308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2" name="Group 47"/>
          <p:cNvGrpSpPr/>
          <p:nvPr/>
        </p:nvGrpSpPr>
        <p:grpSpPr>
          <a:xfrm>
            <a:off x="1263600" y="4592520"/>
            <a:ext cx="2200320" cy="805680"/>
            <a:chOff x="1263600" y="4592520"/>
            <a:chExt cx="2200320" cy="805680"/>
          </a:xfrm>
        </p:grpSpPr>
        <p:sp>
          <p:nvSpPr>
            <p:cNvPr id="1133" name="Rectangle 48"/>
            <p:cNvSpPr/>
            <p:nvPr/>
          </p:nvSpPr>
          <p:spPr>
            <a:xfrm>
              <a:off x="1611000" y="459252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4" name="Shape 2784"/>
            <p:cNvSpPr/>
            <p:nvPr/>
          </p:nvSpPr>
          <p:spPr>
            <a:xfrm>
              <a:off x="1263600" y="47451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5" name="Group 50"/>
          <p:cNvGrpSpPr/>
          <p:nvPr/>
        </p:nvGrpSpPr>
        <p:grpSpPr>
          <a:xfrm>
            <a:off x="8763120" y="1739880"/>
            <a:ext cx="2352600" cy="805680"/>
            <a:chOff x="8763120" y="1739880"/>
            <a:chExt cx="2352600" cy="805680"/>
          </a:xfrm>
        </p:grpSpPr>
        <p:sp>
          <p:nvSpPr>
            <p:cNvPr id="1136" name="Rectangle 51"/>
            <p:cNvSpPr/>
            <p:nvPr/>
          </p:nvSpPr>
          <p:spPr>
            <a:xfrm>
              <a:off x="9135360" y="1739880"/>
              <a:ext cx="19803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7" name="Shape 2554"/>
            <p:cNvSpPr/>
            <p:nvPr/>
          </p:nvSpPr>
          <p:spPr>
            <a:xfrm>
              <a:off x="8763120" y="187200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8" name="Group 53"/>
          <p:cNvGrpSpPr/>
          <p:nvPr/>
        </p:nvGrpSpPr>
        <p:grpSpPr>
          <a:xfrm>
            <a:off x="8763120" y="2716200"/>
            <a:ext cx="2162160" cy="805680"/>
            <a:chOff x="8763120" y="2716200"/>
            <a:chExt cx="2162160" cy="805680"/>
          </a:xfrm>
        </p:grpSpPr>
        <p:sp>
          <p:nvSpPr>
            <p:cNvPr id="1139" name="Rectangle 54"/>
            <p:cNvSpPr/>
            <p:nvPr/>
          </p:nvSpPr>
          <p:spPr>
            <a:xfrm>
              <a:off x="9135360" y="27162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0" name="Shape 2543"/>
            <p:cNvSpPr/>
            <p:nvPr/>
          </p:nvSpPr>
          <p:spPr>
            <a:xfrm>
              <a:off x="8763120" y="28479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41" name="Group 56"/>
          <p:cNvGrpSpPr/>
          <p:nvPr/>
        </p:nvGrpSpPr>
        <p:grpSpPr>
          <a:xfrm>
            <a:off x="8763120" y="3684600"/>
            <a:ext cx="2143080" cy="805680"/>
            <a:chOff x="8763120" y="3684600"/>
            <a:chExt cx="2143080" cy="805680"/>
          </a:xfrm>
        </p:grpSpPr>
        <p:sp>
          <p:nvSpPr>
            <p:cNvPr id="1142" name="Rectangle 57"/>
            <p:cNvSpPr/>
            <p:nvPr/>
          </p:nvSpPr>
          <p:spPr>
            <a:xfrm>
              <a:off x="9135360" y="3684600"/>
              <a:ext cx="177084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3" name="Shape 2588"/>
            <p:cNvSpPr/>
            <p:nvPr/>
          </p:nvSpPr>
          <p:spPr>
            <a:xfrm>
              <a:off x="8763120" y="3844800"/>
              <a:ext cx="279360" cy="25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44" name="Group 59"/>
          <p:cNvGrpSpPr/>
          <p:nvPr/>
        </p:nvGrpSpPr>
        <p:grpSpPr>
          <a:xfrm>
            <a:off x="8777160" y="4586400"/>
            <a:ext cx="2148120" cy="805680"/>
            <a:chOff x="8777160" y="4586400"/>
            <a:chExt cx="2148120" cy="805680"/>
          </a:xfrm>
        </p:grpSpPr>
        <p:sp>
          <p:nvSpPr>
            <p:cNvPr id="1145" name="Rectangle 60"/>
            <p:cNvSpPr/>
            <p:nvPr/>
          </p:nvSpPr>
          <p:spPr>
            <a:xfrm>
              <a:off x="9135360" y="45864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6" name="Shape 2604"/>
            <p:cNvSpPr/>
            <p:nvPr/>
          </p:nvSpPr>
          <p:spPr>
            <a:xfrm>
              <a:off x="8777160" y="4754880"/>
              <a:ext cx="27900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500"/>
                            </p:stCondLst>
                            <p:childTnLst>
                              <p:par>
                                <p:cTn id="6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5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500"/>
                            </p:stCondLst>
                            <p:childTnLst>
                              <p:par>
                                <p:cTn id="6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7000"/>
                            </p:stCondLst>
                            <p:childTnLst>
                              <p:par>
                                <p:cTn id="6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80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4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5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6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50" name="Объект 5" descr=""/>
          <p:cNvPicPr/>
          <p:nvPr/>
        </p:nvPicPr>
        <p:blipFill>
          <a:blip r:embed="rId1"/>
          <a:stretch/>
        </p:blipFill>
        <p:spPr>
          <a:xfrm>
            <a:off x="1060560" y="2706840"/>
            <a:ext cx="2541600" cy="360360"/>
          </a:xfrm>
          <a:prstGeom prst="rect">
            <a:avLst/>
          </a:prstGeom>
          <a:ln w="0">
            <a:noFill/>
          </a:ln>
        </p:spPr>
      </p:pic>
      <p:pic>
        <p:nvPicPr>
          <p:cNvPr id="1151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52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53" name="Текст 24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54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55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7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8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9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59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0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61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62" name="Объект 131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63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64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Success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66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7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4" descr=""/>
          <p:cNvPicPr/>
          <p:nvPr/>
        </p:nvPicPr>
        <p:blipFill>
          <a:blip r:embed="rId1"/>
          <a:stretch/>
        </p:blipFill>
        <p:spPr>
          <a:xfrm>
            <a:off x="898560" y="1809720"/>
            <a:ext cx="4087800" cy="533232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808080">
                <a:alpha val="15000"/>
              </a:srgbClr>
            </a:outerShdw>
          </a:effectLst>
        </p:spPr>
      </p:pic>
      <p:sp>
        <p:nvSpPr>
          <p:cNvPr id="1169" name="TextBox 3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70" name="Rectangle 3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c407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2"/>
          <a:stretch/>
        </p:blipFill>
        <p:spPr>
          <a:xfrm>
            <a:off x="2533320" y="2419200"/>
            <a:ext cx="1755720" cy="3106800"/>
          </a:xfrm>
          <a:prstGeom prst="rect">
            <a:avLst/>
          </a:prstGeom>
          <a:ln w="0">
            <a:noFill/>
          </a:ln>
        </p:spPr>
      </p:pic>
      <p:sp>
        <p:nvSpPr>
          <p:cNvPr id="1172" name="TextBox 18"/>
          <p:cNvSpPr/>
          <p:nvPr/>
        </p:nvSpPr>
        <p:spPr>
          <a:xfrm>
            <a:off x="6095880" y="217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73" name="Rectangle 19"/>
          <p:cNvSpPr/>
          <p:nvPr/>
        </p:nvSpPr>
        <p:spPr>
          <a:xfrm>
            <a:off x="6095880" y="313848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174" name="Group 20"/>
          <p:cNvGrpSpPr/>
          <p:nvPr/>
        </p:nvGrpSpPr>
        <p:grpSpPr>
          <a:xfrm>
            <a:off x="6195960" y="4454640"/>
            <a:ext cx="1716120" cy="573120"/>
            <a:chOff x="6195960" y="4454640"/>
            <a:chExt cx="1716120" cy="573120"/>
          </a:xfrm>
        </p:grpSpPr>
        <p:sp>
          <p:nvSpPr>
            <p:cNvPr id="1175" name="Oval 21"/>
            <p:cNvSpPr/>
            <p:nvPr/>
          </p:nvSpPr>
          <p:spPr>
            <a:xfrm>
              <a:off x="6195960" y="447984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f05e8a"/>
                </a:gs>
                <a:gs pos="100000">
                  <a:srgbClr val="e3266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6" name="TextBox 22"/>
            <p:cNvSpPr/>
            <p:nvPr/>
          </p:nvSpPr>
          <p:spPr>
            <a:xfrm>
              <a:off x="6838200" y="44546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7" name="Rectangle 23"/>
            <p:cNvSpPr/>
            <p:nvPr/>
          </p:nvSpPr>
          <p:spPr>
            <a:xfrm>
              <a:off x="6934680" y="48362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8" name="Shape 2614"/>
            <p:cNvSpPr/>
            <p:nvPr/>
          </p:nvSpPr>
          <p:spPr>
            <a:xfrm>
              <a:off x="6326640" y="46303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79" name="Group 25"/>
          <p:cNvGrpSpPr/>
          <p:nvPr/>
        </p:nvGrpSpPr>
        <p:grpSpPr>
          <a:xfrm>
            <a:off x="8142120" y="4476600"/>
            <a:ext cx="1716120" cy="573120"/>
            <a:chOff x="8142120" y="4476600"/>
            <a:chExt cx="1716120" cy="573120"/>
          </a:xfrm>
        </p:grpSpPr>
        <p:sp>
          <p:nvSpPr>
            <p:cNvPr id="1180" name="Oval 26"/>
            <p:cNvSpPr/>
            <p:nvPr/>
          </p:nvSpPr>
          <p:spPr>
            <a:xfrm>
              <a:off x="8142120" y="450180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ee4d77"/>
                </a:gs>
                <a:gs pos="100000">
                  <a:srgbClr val="e3065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1" name="TextBox 27"/>
            <p:cNvSpPr/>
            <p:nvPr/>
          </p:nvSpPr>
          <p:spPr>
            <a:xfrm>
              <a:off x="8784360" y="44766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2" name="Rectangle 28"/>
            <p:cNvSpPr/>
            <p:nvPr/>
          </p:nvSpPr>
          <p:spPr>
            <a:xfrm>
              <a:off x="8880480" y="48477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3" name="Shape 2615"/>
            <p:cNvSpPr/>
            <p:nvPr/>
          </p:nvSpPr>
          <p:spPr>
            <a:xfrm>
              <a:off x="8276760" y="463176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6" descr=""/>
          <p:cNvPicPr/>
          <p:nvPr/>
        </p:nvPicPr>
        <p:blipFill>
          <a:blip r:embed="rId1"/>
          <a:stretch/>
        </p:blipFill>
        <p:spPr>
          <a:xfrm>
            <a:off x="598320" y="1650960"/>
            <a:ext cx="2222640" cy="456264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2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c407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7" name="TextBox 22"/>
          <p:cNvSpPr/>
          <p:nvPr/>
        </p:nvSpPr>
        <p:spPr>
          <a:xfrm>
            <a:off x="7458120" y="2438280"/>
            <a:ext cx="4622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8" name="Rectangle 23"/>
          <p:cNvSpPr/>
          <p:nvPr/>
        </p:nvSpPr>
        <p:spPr>
          <a:xfrm>
            <a:off x="7458120" y="3398760"/>
            <a:ext cx="4497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189" name="Group 24"/>
          <p:cNvGrpSpPr/>
          <p:nvPr/>
        </p:nvGrpSpPr>
        <p:grpSpPr>
          <a:xfrm>
            <a:off x="7458120" y="4802040"/>
            <a:ext cx="1714680" cy="573120"/>
            <a:chOff x="7458120" y="4802040"/>
            <a:chExt cx="1714680" cy="573120"/>
          </a:xfrm>
        </p:grpSpPr>
        <p:sp>
          <p:nvSpPr>
            <p:cNvPr id="1190" name="Oval 25"/>
            <p:cNvSpPr/>
            <p:nvPr/>
          </p:nvSpPr>
          <p:spPr>
            <a:xfrm>
              <a:off x="7458120" y="482724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f05e8a"/>
                </a:gs>
                <a:gs pos="100000">
                  <a:srgbClr val="e3266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1" name="TextBox 26"/>
            <p:cNvSpPr/>
            <p:nvPr/>
          </p:nvSpPr>
          <p:spPr>
            <a:xfrm>
              <a:off x="8098920" y="48020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2" name="Rectangle 27"/>
            <p:cNvSpPr/>
            <p:nvPr/>
          </p:nvSpPr>
          <p:spPr>
            <a:xfrm>
              <a:off x="8195400" y="51836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3" name="Shape 2614"/>
            <p:cNvSpPr/>
            <p:nvPr/>
          </p:nvSpPr>
          <p:spPr>
            <a:xfrm>
              <a:off x="7588800" y="49777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94" name="Group 29"/>
          <p:cNvGrpSpPr/>
          <p:nvPr/>
        </p:nvGrpSpPr>
        <p:grpSpPr>
          <a:xfrm>
            <a:off x="9404280" y="4824360"/>
            <a:ext cx="1715040" cy="574560"/>
            <a:chOff x="9404280" y="4824360"/>
            <a:chExt cx="1715040" cy="574560"/>
          </a:xfrm>
        </p:grpSpPr>
        <p:sp>
          <p:nvSpPr>
            <p:cNvPr id="1195" name="Oval 30"/>
            <p:cNvSpPr/>
            <p:nvPr/>
          </p:nvSpPr>
          <p:spPr>
            <a:xfrm>
              <a:off x="9404280" y="484956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ee4d77"/>
                </a:gs>
                <a:gs pos="100000">
                  <a:srgbClr val="e3065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6" name="TextBox 31"/>
            <p:cNvSpPr/>
            <p:nvPr/>
          </p:nvSpPr>
          <p:spPr>
            <a:xfrm>
              <a:off x="10045440" y="4824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7" name="Rectangle 32"/>
            <p:cNvSpPr/>
            <p:nvPr/>
          </p:nvSpPr>
          <p:spPr>
            <a:xfrm>
              <a:off x="10141560" y="519624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8" name="Shape 2615"/>
            <p:cNvSpPr/>
            <p:nvPr/>
          </p:nvSpPr>
          <p:spPr>
            <a:xfrm>
              <a:off x="9538920" y="497988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9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500"/>
                            </p:stCondLst>
                            <p:childTnLst>
                              <p:par>
                                <p:cTn id="7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4" descr=""/>
          <p:cNvPicPr/>
          <p:nvPr/>
        </p:nvPicPr>
        <p:blipFill>
          <a:blip r:embed="rId1"/>
          <a:stretch/>
        </p:blipFill>
        <p:spPr>
          <a:xfrm>
            <a:off x="-1036800" y="1852560"/>
            <a:ext cx="5459400" cy="4761000"/>
          </a:xfrm>
          <a:prstGeom prst="rect">
            <a:avLst/>
          </a:prstGeom>
          <a:ln w="0">
            <a:noFill/>
          </a:ln>
        </p:spPr>
      </p:pic>
      <p:sp>
        <p:nvSpPr>
          <p:cNvPr id="1200" name="TextBox 49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1" name="Rectangle 5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c407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2" name="TextBox 27"/>
          <p:cNvSpPr/>
          <p:nvPr/>
        </p:nvSpPr>
        <p:spPr>
          <a:xfrm>
            <a:off x="6111720" y="2171880"/>
            <a:ext cx="498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Great </a:t>
            </a:r>
            <a:r>
              <a:rPr b="1" lang="en-US" sz="2800" spc="-1" strike="noStrike">
                <a:solidFill>
                  <a:srgbClr val="656d78"/>
                </a:solidFill>
                <a:latin typeface="Source Sans Pro"/>
              </a:rPr>
              <a:t>design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 is </a:t>
            </a:r>
            <a:r>
              <a:rPr b="0" i="1" lang="en-US" sz="2800" spc="-1" strike="noStrike">
                <a:solidFill>
                  <a:srgbClr val="656d78"/>
                </a:solidFill>
                <a:latin typeface="Source Sans Pro"/>
              </a:rPr>
              <a:t>eliminating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 all unnecessary </a:t>
            </a:r>
            <a:r>
              <a:rPr b="1" lang="en-US" sz="2800" spc="-1" strike="noStrike">
                <a:solidFill>
                  <a:srgbClr val="656d78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3" name="Rectangle 28"/>
          <p:cNvSpPr/>
          <p:nvPr/>
        </p:nvSpPr>
        <p:spPr>
          <a:xfrm>
            <a:off x="61117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04" name="Group 29"/>
          <p:cNvGrpSpPr/>
          <p:nvPr/>
        </p:nvGrpSpPr>
        <p:grpSpPr>
          <a:xfrm>
            <a:off x="6111720" y="4427640"/>
            <a:ext cx="5486040" cy="769680"/>
            <a:chOff x="6111720" y="4427640"/>
            <a:chExt cx="5486040" cy="769680"/>
          </a:xfrm>
        </p:grpSpPr>
        <p:sp>
          <p:nvSpPr>
            <p:cNvPr id="1205" name="Donut 30"/>
            <p:cNvSpPr/>
            <p:nvPr/>
          </p:nvSpPr>
          <p:spPr>
            <a:xfrm>
              <a:off x="10328760" y="442764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6" name="Block Arc 31"/>
            <p:cNvSpPr/>
            <p:nvPr/>
          </p:nvSpPr>
          <p:spPr>
            <a:xfrm>
              <a:off x="10328760" y="443628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44545" y="-38621"/>
                    <a:pt x="634516" y="68123"/>
                    <a:pt x="692050" y="254862"/>
                  </a:cubicBezTo>
                  <a:cubicBezTo>
                    <a:pt x="748051" y="436627"/>
                    <a:pt x="659241" y="632275"/>
                    <a:pt x="488063" y="704245"/>
                  </a:cubicBezTo>
                  <a:cubicBezTo>
                    <a:pt x="311477" y="778488"/>
                    <a:pt x="109616" y="695231"/>
                    <a:pt x="31282" y="515846"/>
                  </a:cubicBezTo>
                  <a:lnTo>
                    <a:pt x="196471" y="439042"/>
                  </a:lnTo>
                  <a:cubicBezTo>
                    <a:pt x="234165" y="531085"/>
                    <a:pt x="334285" y="573760"/>
                    <a:pt x="421158" y="534813"/>
                  </a:cubicBezTo>
                  <a:cubicBezTo>
                    <a:pt x="502733" y="498242"/>
                    <a:pt x="545025" y="401756"/>
                    <a:pt x="518985" y="311631"/>
                  </a:cubicBezTo>
                  <a:cubicBezTo>
                    <a:pt x="491481" y="216440"/>
                    <a:pt x="397744" y="161993"/>
                    <a:pt x="307753" y="18893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c21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7" name="Text Placeholder 33"/>
            <p:cNvSpPr/>
            <p:nvPr/>
          </p:nvSpPr>
          <p:spPr>
            <a:xfrm flipH="1">
              <a:off x="11147040" y="45824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c2185b"/>
                  </a:solidFill>
                  <a:latin typeface="Source Sans Pro"/>
                  <a:ea typeface="Roboto Black"/>
                </a:rPr>
                <a:t>6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8" name="Text Placeholder 32"/>
            <p:cNvSpPr/>
            <p:nvPr/>
          </p:nvSpPr>
          <p:spPr>
            <a:xfrm flipH="1">
              <a:off x="11147040" y="48560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D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1209" name="Group 34"/>
            <p:cNvGrpSpPr/>
            <p:nvPr/>
          </p:nvGrpSpPr>
          <p:grpSpPr>
            <a:xfrm>
              <a:off x="6111720" y="4462560"/>
              <a:ext cx="708480" cy="731880"/>
              <a:chOff x="6111720" y="4462560"/>
              <a:chExt cx="708480" cy="731880"/>
            </a:xfrm>
          </p:grpSpPr>
          <p:sp>
            <p:nvSpPr>
              <p:cNvPr id="1210" name="Donut 46"/>
              <p:cNvSpPr/>
              <p:nvPr/>
            </p:nvSpPr>
            <p:spPr>
              <a:xfrm>
                <a:off x="6111720" y="446292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11" name="Block Arc 47"/>
              <p:cNvSpPr/>
              <p:nvPr/>
            </p:nvSpPr>
            <p:spPr>
              <a:xfrm>
                <a:off x="6111720" y="446256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15241" y="3674"/>
                      <a:pt x="785381" y="159616"/>
                      <a:pt x="800977" y="360006"/>
                    </a:cubicBezTo>
                    <a:cubicBezTo>
                      <a:pt x="816673" y="561675"/>
                      <a:pt x="670699" y="741430"/>
                      <a:pt x="465035" y="773692"/>
                    </a:cubicBezTo>
                    <a:lnTo>
                      <a:pt x="434067" y="587645"/>
                    </a:lnTo>
                    <a:cubicBezTo>
                      <a:pt x="543598" y="571369"/>
                      <a:pt x="621465" y="478249"/>
                      <a:pt x="612884" y="373803"/>
                    </a:cubicBezTo>
                    <a:cubicBezTo>
                      <a:pt x="604406" y="270620"/>
                      <a:pt x="514293" y="190437"/>
                      <a:pt x="404774" y="188628"/>
                    </a:cubicBezTo>
                    <a:cubicBezTo>
                      <a:pt x="405937" y="125773"/>
                      <a:pt x="407101" y="62918"/>
                      <a:pt x="408264" y="63"/>
                    </a:cubicBezTo>
                    <a:close/>
                  </a:path>
                </a:pathLst>
              </a:cu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212" name="Text Placeholder 33"/>
            <p:cNvSpPr/>
            <p:nvPr/>
          </p:nvSpPr>
          <p:spPr>
            <a:xfrm flipH="1">
              <a:off x="6898320" y="46022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ec407a"/>
                  </a:solidFill>
                  <a:latin typeface="Source Sans Pro"/>
                  <a:ea typeface="Roboto Black"/>
                </a:rPr>
                <a:t>2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3" name="Text Placeholder 32"/>
            <p:cNvSpPr/>
            <p:nvPr/>
          </p:nvSpPr>
          <p:spPr>
            <a:xfrm flipH="1">
              <a:off x="6898320" y="48758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A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1214" name="Group 37"/>
            <p:cNvGrpSpPr/>
            <p:nvPr/>
          </p:nvGrpSpPr>
          <p:grpSpPr>
            <a:xfrm>
              <a:off x="7461720" y="4465080"/>
              <a:ext cx="708480" cy="731880"/>
              <a:chOff x="7461720" y="4465080"/>
              <a:chExt cx="708480" cy="731880"/>
            </a:xfrm>
          </p:grpSpPr>
          <p:sp>
            <p:nvSpPr>
              <p:cNvPr id="1215" name="Donut 44"/>
              <p:cNvSpPr/>
              <p:nvPr/>
            </p:nvSpPr>
            <p:spPr>
              <a:xfrm>
                <a:off x="7461720" y="446544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16" name="Block Arc 45"/>
              <p:cNvSpPr/>
              <p:nvPr/>
            </p:nvSpPr>
            <p:spPr>
              <a:xfrm>
                <a:off x="7461720" y="446508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27625" y="3890"/>
                      <a:pt x="803107" y="178119"/>
                      <a:pt x="802113" y="391102"/>
                    </a:cubicBezTo>
                    <a:cubicBezTo>
                      <a:pt x="801120" y="604006"/>
                      <a:pt x="624147" y="776652"/>
                      <a:pt x="404841" y="778661"/>
                    </a:cubicBezTo>
                    <a:cubicBezTo>
                      <a:pt x="404237" y="716533"/>
                      <a:pt x="403634" y="654405"/>
                      <a:pt x="403030" y="592277"/>
                    </a:cubicBezTo>
                    <a:cubicBezTo>
                      <a:pt x="520424" y="591257"/>
                      <a:pt x="615176" y="501271"/>
                      <a:pt x="615722" y="390282"/>
                    </a:cubicBezTo>
                    <a:cubicBezTo>
                      <a:pt x="616268" y="279216"/>
                      <a:pt x="522278" y="188366"/>
                      <a:pt x="404815" y="186422"/>
                    </a:cubicBezTo>
                    <a:cubicBezTo>
                      <a:pt x="405965" y="124302"/>
                      <a:pt x="407114" y="62183"/>
                      <a:pt x="408264" y="63"/>
                    </a:cubicBezTo>
                    <a:close/>
                  </a:path>
                </a:pathLst>
              </a:custGeom>
              <a:solidFill>
                <a:srgbClr val="e91e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217" name="Text Placeholder 33"/>
            <p:cNvSpPr/>
            <p:nvPr/>
          </p:nvSpPr>
          <p:spPr>
            <a:xfrm flipH="1">
              <a:off x="8263800" y="460512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e91e63"/>
                  </a:solidFill>
                  <a:latin typeface="Source Sans Pro"/>
                  <a:ea typeface="Roboto Black"/>
                </a:rPr>
                <a:t>5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8" name="Text Placeholder 32"/>
            <p:cNvSpPr/>
            <p:nvPr/>
          </p:nvSpPr>
          <p:spPr>
            <a:xfrm flipH="1">
              <a:off x="8263800" y="487908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B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9" name="Donut 40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0" name="Block Arc 41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14750" y="-30255"/>
                    <a:pt x="577218" y="37413"/>
                    <a:pt x="658679" y="178335"/>
                  </a:cubicBezTo>
                  <a:cubicBezTo>
                    <a:pt x="736709" y="313321"/>
                    <a:pt x="722404" y="484660"/>
                    <a:pt x="623149" y="603887"/>
                  </a:cubicBezTo>
                  <a:cubicBezTo>
                    <a:pt x="519030" y="728957"/>
                    <a:pt x="346670" y="766651"/>
                    <a:pt x="202332" y="695918"/>
                  </a:cubicBezTo>
                  <a:cubicBezTo>
                    <a:pt x="63181" y="627726"/>
                    <a:pt x="-17332" y="474581"/>
                    <a:pt x="3143" y="317038"/>
                  </a:cubicBezTo>
                  <a:lnTo>
                    <a:pt x="178418" y="341291"/>
                  </a:lnTo>
                  <a:cubicBezTo>
                    <a:pt x="168600" y="421551"/>
                    <a:pt x="207998" y="499532"/>
                    <a:pt x="276344" y="535118"/>
                  </a:cubicBezTo>
                  <a:cubicBezTo>
                    <a:pt x="349789" y="573360"/>
                    <a:pt x="438296" y="553256"/>
                    <a:pt x="490646" y="486441"/>
                  </a:cubicBezTo>
                  <a:cubicBezTo>
                    <a:pt x="538295" y="425626"/>
                    <a:pt x="545190" y="339644"/>
                    <a:pt x="507912" y="271125"/>
                  </a:cubicBezTo>
                  <a:cubicBezTo>
                    <a:pt x="467340" y="196553"/>
                    <a:pt x="384431" y="160678"/>
                    <a:pt x="306436" y="18394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d81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1" name="Text Placeholder 33"/>
            <p:cNvSpPr/>
            <p:nvPr/>
          </p:nvSpPr>
          <p:spPr>
            <a:xfrm flipH="1">
              <a:off x="9725760" y="460476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d81b60"/>
                  </a:solidFill>
                  <a:latin typeface="Source Sans Pro"/>
                  <a:ea typeface="Roboto Black"/>
                </a:rPr>
                <a:t>8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2" name="Text Placeholder 32"/>
            <p:cNvSpPr/>
            <p:nvPr/>
          </p:nvSpPr>
          <p:spPr>
            <a:xfrm flipH="1">
              <a:off x="9725760" y="487836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C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Picture 5" descr=""/>
          <p:cNvPicPr/>
          <p:nvPr/>
        </p:nvPicPr>
        <p:blipFill>
          <a:blip r:embed="rId1"/>
          <a:stretch/>
        </p:blipFill>
        <p:spPr>
          <a:xfrm>
            <a:off x="8080200" y="1417680"/>
            <a:ext cx="3762720" cy="511632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6" descr=""/>
          <p:cNvPicPr/>
          <p:nvPr/>
        </p:nvPicPr>
        <p:blipFill>
          <a:blip r:embed="rId2"/>
          <a:stretch/>
        </p:blipFill>
        <p:spPr>
          <a:xfrm>
            <a:off x="5851440" y="1741320"/>
            <a:ext cx="3762360" cy="5116680"/>
          </a:xfrm>
          <a:prstGeom prst="rect">
            <a:avLst/>
          </a:prstGeom>
          <a:ln w="0">
            <a:noFill/>
          </a:ln>
        </p:spPr>
      </p:pic>
      <p:sp>
        <p:nvSpPr>
          <p:cNvPr id="1225" name="TextBox 33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c407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7" name="TextBox 21"/>
          <p:cNvSpPr/>
          <p:nvPr/>
        </p:nvSpPr>
        <p:spPr>
          <a:xfrm>
            <a:off x="501480" y="244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8" name="Rectangle 22"/>
          <p:cNvSpPr/>
          <p:nvPr/>
        </p:nvSpPr>
        <p:spPr>
          <a:xfrm>
            <a:off x="501480" y="340668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29" name="Group 23"/>
          <p:cNvGrpSpPr/>
          <p:nvPr/>
        </p:nvGrpSpPr>
        <p:grpSpPr>
          <a:xfrm>
            <a:off x="622440" y="4608360"/>
            <a:ext cx="1714680" cy="573120"/>
            <a:chOff x="622440" y="4608360"/>
            <a:chExt cx="1714680" cy="573120"/>
          </a:xfrm>
        </p:grpSpPr>
        <p:sp>
          <p:nvSpPr>
            <p:cNvPr id="1230" name="Oval 24"/>
            <p:cNvSpPr/>
            <p:nvPr/>
          </p:nvSpPr>
          <p:spPr>
            <a:xfrm>
              <a:off x="622440" y="463356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f05e8a"/>
                </a:gs>
                <a:gs pos="100000">
                  <a:srgbClr val="e3266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1" name="TextBox 25"/>
            <p:cNvSpPr/>
            <p:nvPr/>
          </p:nvSpPr>
          <p:spPr>
            <a:xfrm>
              <a:off x="1263240" y="4608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2" name="Rectangle 26"/>
            <p:cNvSpPr/>
            <p:nvPr/>
          </p:nvSpPr>
          <p:spPr>
            <a:xfrm>
              <a:off x="1359720" y="49899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3" name="Shape 2614"/>
            <p:cNvSpPr/>
            <p:nvPr/>
          </p:nvSpPr>
          <p:spPr>
            <a:xfrm>
              <a:off x="753120" y="4784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34" name="Group 28"/>
          <p:cNvGrpSpPr/>
          <p:nvPr/>
        </p:nvGrpSpPr>
        <p:grpSpPr>
          <a:xfrm>
            <a:off x="2568600" y="4630680"/>
            <a:ext cx="1714680" cy="574560"/>
            <a:chOff x="2568600" y="4630680"/>
            <a:chExt cx="1714680" cy="574560"/>
          </a:xfrm>
        </p:grpSpPr>
        <p:sp>
          <p:nvSpPr>
            <p:cNvPr id="1235" name="Oval 29"/>
            <p:cNvSpPr/>
            <p:nvPr/>
          </p:nvSpPr>
          <p:spPr>
            <a:xfrm>
              <a:off x="2568600" y="465588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ee4d77"/>
                </a:gs>
                <a:gs pos="100000">
                  <a:srgbClr val="e3065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6" name="TextBox 30"/>
            <p:cNvSpPr/>
            <p:nvPr/>
          </p:nvSpPr>
          <p:spPr>
            <a:xfrm>
              <a:off x="320940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7" name="Rectangle 31"/>
            <p:cNvSpPr/>
            <p:nvPr/>
          </p:nvSpPr>
          <p:spPr>
            <a:xfrm>
              <a:off x="3305520" y="50025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8" name="Shape 2615"/>
            <p:cNvSpPr/>
            <p:nvPr/>
          </p:nvSpPr>
          <p:spPr>
            <a:xfrm>
              <a:off x="2702880" y="47862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9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9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5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17"/>
          <p:cNvGrpSpPr/>
          <p:nvPr/>
        </p:nvGrpSpPr>
        <p:grpSpPr>
          <a:xfrm>
            <a:off x="5657760" y="1897200"/>
            <a:ext cx="990360" cy="955080"/>
            <a:chOff x="5657760" y="1897200"/>
            <a:chExt cx="990360" cy="955080"/>
          </a:xfrm>
        </p:grpSpPr>
        <p:sp>
          <p:nvSpPr>
            <p:cNvPr id="740" name="AutoShape 16"/>
            <p:cNvSpPr/>
            <p:nvPr/>
          </p:nvSpPr>
          <p:spPr>
            <a:xfrm>
              <a:off x="5657760" y="1897200"/>
              <a:ext cx="990360" cy="9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1" name="Freeform 18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c2185b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2" name="Freeform 19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3" name="Freeform 20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c2185b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4" name="Freeform 21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5" name="Freeform 22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d81b60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6" name="Freeform 23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7" name="Freeform 24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d81b60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8" name="Freeform 25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749" name="Title 1"/>
          <p:cNvSpPr/>
          <p:nvPr/>
        </p:nvSpPr>
        <p:spPr>
          <a:xfrm>
            <a:off x="4106880" y="3276720"/>
            <a:ext cx="3984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6d78"/>
                </a:solidFill>
                <a:latin typeface="Source Sans Pro"/>
                <a:ea typeface="Roboto"/>
              </a:rPr>
              <a:t>Welcome Message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0" name="Content Placeholder 2"/>
          <p:cNvSpPr/>
          <p:nvPr/>
        </p:nvSpPr>
        <p:spPr>
          <a:xfrm>
            <a:off x="4915080" y="3784680"/>
            <a:ext cx="2368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  <a:ea typeface="Roboto Light"/>
              </a:rPr>
              <a:t>John Doe / Director of </a:t>
            </a:r>
            <a:r>
              <a:rPr b="0" lang="en-US" sz="1100" spc="-1" strike="noStrike">
                <a:solidFill>
                  <a:srgbClr val="ec407a"/>
                </a:solidFill>
                <a:latin typeface="Source Sans Pro Light"/>
                <a:ea typeface="Roboto Light"/>
              </a:rPr>
              <a:t>Attractive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1" name="Rectangle 13"/>
          <p:cNvSpPr/>
          <p:nvPr/>
        </p:nvSpPr>
        <p:spPr>
          <a:xfrm>
            <a:off x="3051000" y="4098960"/>
            <a:ext cx="6096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Picture 4" descr=""/>
          <p:cNvPicPr/>
          <p:nvPr/>
        </p:nvPicPr>
        <p:blipFill>
          <a:blip r:embed="rId1"/>
          <a:stretch/>
        </p:blipFill>
        <p:spPr>
          <a:xfrm>
            <a:off x="-1241280" y="1530360"/>
            <a:ext cx="7705440" cy="447048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37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41" name="Rectangle 3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c407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42" name="Group 21"/>
          <p:cNvGrpSpPr/>
          <p:nvPr/>
        </p:nvGrpSpPr>
        <p:grpSpPr>
          <a:xfrm>
            <a:off x="7023240" y="2184480"/>
            <a:ext cx="2198520" cy="805680"/>
            <a:chOff x="7023240" y="2184480"/>
            <a:chExt cx="2198520" cy="805680"/>
          </a:xfrm>
        </p:grpSpPr>
        <p:sp>
          <p:nvSpPr>
            <p:cNvPr id="1243" name="Rectangle 22"/>
            <p:cNvSpPr/>
            <p:nvPr/>
          </p:nvSpPr>
          <p:spPr>
            <a:xfrm>
              <a:off x="7369200" y="2184480"/>
              <a:ext cx="18525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44" name="Shape 2778"/>
            <p:cNvSpPr/>
            <p:nvPr/>
          </p:nvSpPr>
          <p:spPr>
            <a:xfrm>
              <a:off x="7023240" y="23403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45" name="Group 24"/>
          <p:cNvGrpSpPr/>
          <p:nvPr/>
        </p:nvGrpSpPr>
        <p:grpSpPr>
          <a:xfrm>
            <a:off x="9580680" y="2203560"/>
            <a:ext cx="2200320" cy="805680"/>
            <a:chOff x="9580680" y="2203560"/>
            <a:chExt cx="2200320" cy="805680"/>
          </a:xfrm>
        </p:grpSpPr>
        <p:sp>
          <p:nvSpPr>
            <p:cNvPr id="1246" name="Rectangle 25"/>
            <p:cNvSpPr/>
            <p:nvPr/>
          </p:nvSpPr>
          <p:spPr>
            <a:xfrm>
              <a:off x="9928080" y="22035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47" name="Shape 2748"/>
            <p:cNvSpPr/>
            <p:nvPr/>
          </p:nvSpPr>
          <p:spPr>
            <a:xfrm>
              <a:off x="9580680" y="233100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48" name="Group 27"/>
          <p:cNvGrpSpPr/>
          <p:nvPr/>
        </p:nvGrpSpPr>
        <p:grpSpPr>
          <a:xfrm>
            <a:off x="7023240" y="3325680"/>
            <a:ext cx="2127240" cy="805680"/>
            <a:chOff x="7023240" y="3325680"/>
            <a:chExt cx="2127240" cy="805680"/>
          </a:xfrm>
        </p:grpSpPr>
        <p:sp>
          <p:nvSpPr>
            <p:cNvPr id="1249" name="Rectangle 28"/>
            <p:cNvSpPr/>
            <p:nvPr/>
          </p:nvSpPr>
          <p:spPr>
            <a:xfrm>
              <a:off x="7372080" y="332568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50" name="Shape 2774"/>
            <p:cNvSpPr/>
            <p:nvPr/>
          </p:nvSpPr>
          <p:spPr>
            <a:xfrm>
              <a:off x="7023240" y="34725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51" name="Group 30"/>
          <p:cNvGrpSpPr/>
          <p:nvPr/>
        </p:nvGrpSpPr>
        <p:grpSpPr>
          <a:xfrm>
            <a:off x="9580680" y="3297240"/>
            <a:ext cx="2200320" cy="805680"/>
            <a:chOff x="9580680" y="3297240"/>
            <a:chExt cx="2200320" cy="805680"/>
          </a:xfrm>
        </p:grpSpPr>
        <p:sp>
          <p:nvSpPr>
            <p:cNvPr id="1252" name="Rectangle 31"/>
            <p:cNvSpPr/>
            <p:nvPr/>
          </p:nvSpPr>
          <p:spPr>
            <a:xfrm>
              <a:off x="9928080" y="32972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53" name="Shape 2784"/>
            <p:cNvSpPr/>
            <p:nvPr/>
          </p:nvSpPr>
          <p:spPr>
            <a:xfrm>
              <a:off x="9580680" y="3449160"/>
              <a:ext cx="27936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254" name="Text Placeholder 33"/>
          <p:cNvSpPr/>
          <p:nvPr/>
        </p:nvSpPr>
        <p:spPr>
          <a:xfrm>
            <a:off x="7023240" y="4454640"/>
            <a:ext cx="2635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AU" sz="1100" spc="-1" strike="noStrike">
                <a:solidFill>
                  <a:srgbClr val="656d78"/>
                </a:solidFill>
                <a:latin typeface="Source Sans Pro"/>
                <a:ea typeface="Roboto Black"/>
              </a:rPr>
              <a:t>Steps Data Analysis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5" name="Text Placeholder 32"/>
          <p:cNvSpPr/>
          <p:nvPr/>
        </p:nvSpPr>
        <p:spPr>
          <a:xfrm>
            <a:off x="7023240" y="4761000"/>
            <a:ext cx="16048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200" spc="-1" strike="noStrike">
                <a:solidFill>
                  <a:srgbClr val="e91e63"/>
                </a:solidFill>
                <a:latin typeface="Source Sans Pro"/>
                <a:ea typeface="Roboto Black"/>
              </a:rPr>
              <a:t>Process Steps Information Analysis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6" name="Rectangle 35"/>
          <p:cNvSpPr/>
          <p:nvPr/>
        </p:nvSpPr>
        <p:spPr>
          <a:xfrm>
            <a:off x="8713800" y="4375080"/>
            <a:ext cx="3067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9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500"/>
                            </p:stCondLst>
                            <p:childTnLst>
                              <p:par>
                                <p:cTn id="8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Box 69"/>
          <p:cNvSpPr/>
          <p:nvPr/>
        </p:nvSpPr>
        <p:spPr>
          <a:xfrm>
            <a:off x="3807720" y="538200"/>
            <a:ext cx="45928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Portfolio Slide Exampl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8" name="Rectangle 7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c407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59" name="Group 16"/>
          <p:cNvGrpSpPr/>
          <p:nvPr/>
        </p:nvGrpSpPr>
        <p:grpSpPr>
          <a:xfrm>
            <a:off x="2455920" y="2062080"/>
            <a:ext cx="2388960" cy="2389320"/>
            <a:chOff x="2455920" y="2062080"/>
            <a:chExt cx="2388960" cy="2389320"/>
          </a:xfrm>
        </p:grpSpPr>
        <p:grpSp>
          <p:nvGrpSpPr>
            <p:cNvPr id="1260" name="Group 64"/>
            <p:cNvGrpSpPr/>
            <p:nvPr/>
          </p:nvGrpSpPr>
          <p:grpSpPr>
            <a:xfrm>
              <a:off x="2455920" y="2062080"/>
              <a:ext cx="2388960" cy="2389320"/>
              <a:chOff x="2455920" y="2062080"/>
              <a:chExt cx="2388960" cy="2389320"/>
            </a:xfrm>
          </p:grpSpPr>
          <p:sp>
            <p:nvSpPr>
              <p:cNvPr id="1261" name="Shape 583"/>
              <p:cNvSpPr/>
              <p:nvPr/>
            </p:nvSpPr>
            <p:spPr>
              <a:xfrm>
                <a:off x="245592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f05e8a"/>
                  </a:gs>
                  <a:gs pos="100000">
                    <a:srgbClr val="e32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62" name="Rectangle 44"/>
              <p:cNvSpPr/>
              <p:nvPr/>
            </p:nvSpPr>
            <p:spPr>
              <a:xfrm>
                <a:off x="258444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63" name="Group 51"/>
              <p:cNvGrpSpPr/>
              <p:nvPr/>
            </p:nvGrpSpPr>
            <p:grpSpPr>
              <a:xfrm>
                <a:off x="2529720" y="2760480"/>
                <a:ext cx="1893240" cy="492840"/>
                <a:chOff x="2529720" y="2760480"/>
                <a:chExt cx="1893240" cy="492840"/>
              </a:xfrm>
            </p:grpSpPr>
            <p:sp>
              <p:nvSpPr>
                <p:cNvPr id="1264" name="TextBox 49"/>
                <p:cNvSpPr/>
                <p:nvPr/>
              </p:nvSpPr>
              <p:spPr>
                <a:xfrm>
                  <a:off x="252972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1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65" name="Rectangle 50"/>
                <p:cNvSpPr/>
                <p:nvPr/>
              </p:nvSpPr>
              <p:spPr>
                <a:xfrm>
                  <a:off x="257580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66" name="Shape 2556"/>
            <p:cNvSpPr/>
            <p:nvPr/>
          </p:nvSpPr>
          <p:spPr>
            <a:xfrm>
              <a:off x="2626560" y="21636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67" name="Group 17"/>
          <p:cNvGrpSpPr/>
          <p:nvPr/>
        </p:nvGrpSpPr>
        <p:grpSpPr>
          <a:xfrm>
            <a:off x="7353360" y="2062080"/>
            <a:ext cx="2388960" cy="2389320"/>
            <a:chOff x="7353360" y="2062080"/>
            <a:chExt cx="2388960" cy="2389320"/>
          </a:xfrm>
        </p:grpSpPr>
        <p:grpSp>
          <p:nvGrpSpPr>
            <p:cNvPr id="1268" name="Group 65"/>
            <p:cNvGrpSpPr/>
            <p:nvPr/>
          </p:nvGrpSpPr>
          <p:grpSpPr>
            <a:xfrm>
              <a:off x="7353360" y="2062080"/>
              <a:ext cx="2388960" cy="2389320"/>
              <a:chOff x="7353360" y="2062080"/>
              <a:chExt cx="2388960" cy="2389320"/>
            </a:xfrm>
          </p:grpSpPr>
          <p:sp>
            <p:nvSpPr>
              <p:cNvPr id="1269" name="Shape 587"/>
              <p:cNvSpPr/>
              <p:nvPr/>
            </p:nvSpPr>
            <p:spPr>
              <a:xfrm>
                <a:off x="735336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ee4d77"/>
                  </a:gs>
                  <a:gs pos="100000">
                    <a:srgbClr val="e30650"/>
                  </a:gs>
                </a:gsLst>
                <a:lin ang="5400000"/>
              </a:gradFill>
              <a:ln w="6480">
                <a:solidFill>
                  <a:srgbClr val="e91e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70" name="Rectangle 48"/>
              <p:cNvSpPr/>
              <p:nvPr/>
            </p:nvSpPr>
            <p:spPr>
              <a:xfrm>
                <a:off x="741096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71" name="Group 52"/>
              <p:cNvGrpSpPr/>
              <p:nvPr/>
            </p:nvGrpSpPr>
            <p:grpSpPr>
              <a:xfrm>
                <a:off x="7364880" y="2760480"/>
                <a:ext cx="1893240" cy="492840"/>
                <a:chOff x="7364880" y="2760480"/>
                <a:chExt cx="1893240" cy="492840"/>
              </a:xfrm>
            </p:grpSpPr>
            <p:sp>
              <p:nvSpPr>
                <p:cNvPr id="1272" name="TextBox 53"/>
                <p:cNvSpPr/>
                <p:nvPr/>
              </p:nvSpPr>
              <p:spPr>
                <a:xfrm>
                  <a:off x="736488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2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73" name="Rectangle 54"/>
                <p:cNvSpPr/>
                <p:nvPr/>
              </p:nvSpPr>
              <p:spPr>
                <a:xfrm>
                  <a:off x="741096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74" name="Shape 2556"/>
            <p:cNvSpPr/>
            <p:nvPr/>
          </p:nvSpPr>
          <p:spPr>
            <a:xfrm>
              <a:off x="7471440" y="21646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75" name="Group 18"/>
          <p:cNvGrpSpPr/>
          <p:nvPr/>
        </p:nvGrpSpPr>
        <p:grpSpPr>
          <a:xfrm>
            <a:off x="9801360" y="4510080"/>
            <a:ext cx="2388960" cy="2347920"/>
            <a:chOff x="9801360" y="4510080"/>
            <a:chExt cx="2388960" cy="2347920"/>
          </a:xfrm>
        </p:grpSpPr>
        <p:grpSp>
          <p:nvGrpSpPr>
            <p:cNvPr id="1276" name="Group 68"/>
            <p:cNvGrpSpPr/>
            <p:nvPr/>
          </p:nvGrpSpPr>
          <p:grpSpPr>
            <a:xfrm>
              <a:off x="9801360" y="4510080"/>
              <a:ext cx="2388960" cy="2347920"/>
              <a:chOff x="9801360" y="4510080"/>
              <a:chExt cx="2388960" cy="2347920"/>
            </a:xfrm>
          </p:grpSpPr>
          <p:sp>
            <p:nvSpPr>
              <p:cNvPr id="1277" name="Shape 591"/>
              <p:cNvSpPr/>
              <p:nvPr/>
            </p:nvSpPr>
            <p:spPr>
              <a:xfrm rot="10800000">
                <a:off x="980136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b9496d"/>
                  </a:gs>
                  <a:gs pos="100000">
                    <a:srgbClr val="a7044b"/>
                  </a:gs>
                </a:gsLst>
                <a:lin ang="16200000"/>
              </a:gradFill>
              <a:ln w="6480">
                <a:solidFill>
                  <a:srgbClr val="ad14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78" name="Rectangle 47"/>
              <p:cNvSpPr/>
              <p:nvPr/>
            </p:nvSpPr>
            <p:spPr>
              <a:xfrm>
                <a:off x="9895680" y="57632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79" name="Group 55"/>
              <p:cNvGrpSpPr/>
              <p:nvPr/>
            </p:nvGrpSpPr>
            <p:grpSpPr>
              <a:xfrm>
                <a:off x="9849600" y="5210280"/>
                <a:ext cx="1893240" cy="492840"/>
                <a:chOff x="9849600" y="5210280"/>
                <a:chExt cx="1893240" cy="492840"/>
              </a:xfrm>
            </p:grpSpPr>
            <p:sp>
              <p:nvSpPr>
                <p:cNvPr id="1280" name="TextBox 56"/>
                <p:cNvSpPr/>
                <p:nvPr/>
              </p:nvSpPr>
              <p:spPr>
                <a:xfrm>
                  <a:off x="9849600" y="52102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3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81" name="Rectangle 57"/>
                <p:cNvSpPr/>
                <p:nvPr/>
              </p:nvSpPr>
              <p:spPr>
                <a:xfrm>
                  <a:off x="9895680" y="54115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82" name="Shape 2556"/>
            <p:cNvSpPr/>
            <p:nvPr/>
          </p:nvSpPr>
          <p:spPr>
            <a:xfrm>
              <a:off x="989568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83" name="Group 19"/>
          <p:cNvGrpSpPr/>
          <p:nvPr/>
        </p:nvGrpSpPr>
        <p:grpSpPr>
          <a:xfrm>
            <a:off x="4903920" y="4510080"/>
            <a:ext cx="2388960" cy="2347920"/>
            <a:chOff x="4903920" y="4510080"/>
            <a:chExt cx="2388960" cy="2347920"/>
          </a:xfrm>
        </p:grpSpPr>
        <p:grpSp>
          <p:nvGrpSpPr>
            <p:cNvPr id="1284" name="Group 67"/>
            <p:cNvGrpSpPr/>
            <p:nvPr/>
          </p:nvGrpSpPr>
          <p:grpSpPr>
            <a:xfrm>
              <a:off x="4903920" y="4510080"/>
              <a:ext cx="2388960" cy="2347920"/>
              <a:chOff x="4903920" y="4510080"/>
              <a:chExt cx="2388960" cy="2347920"/>
            </a:xfrm>
          </p:grpSpPr>
          <p:sp>
            <p:nvSpPr>
              <p:cNvPr id="1285" name="Shape 589"/>
              <p:cNvSpPr/>
              <p:nvPr/>
            </p:nvSpPr>
            <p:spPr>
              <a:xfrm rot="10800000">
                <a:off x="490392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cc4970"/>
                  </a:gs>
                  <a:gs pos="100000">
                    <a:srgbClr val="bb054d"/>
                  </a:gs>
                </a:gsLst>
                <a:lin ang="16200000"/>
              </a:gradFill>
              <a:ln w="6480">
                <a:solidFill>
                  <a:srgbClr val="c218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86" name="Rectangle 46"/>
              <p:cNvSpPr/>
              <p:nvPr/>
            </p:nvSpPr>
            <p:spPr>
              <a:xfrm>
                <a:off x="5148720" y="571932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87" name="Group 58"/>
              <p:cNvGrpSpPr/>
              <p:nvPr/>
            </p:nvGrpSpPr>
            <p:grpSpPr>
              <a:xfrm>
                <a:off x="5102640" y="5166000"/>
                <a:ext cx="1893240" cy="492840"/>
                <a:chOff x="5102640" y="5166000"/>
                <a:chExt cx="1893240" cy="492840"/>
              </a:xfrm>
            </p:grpSpPr>
            <p:sp>
              <p:nvSpPr>
                <p:cNvPr id="1288" name="TextBox 59"/>
                <p:cNvSpPr/>
                <p:nvPr/>
              </p:nvSpPr>
              <p:spPr>
                <a:xfrm>
                  <a:off x="510264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4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89" name="Rectangle 60"/>
                <p:cNvSpPr/>
                <p:nvPr/>
              </p:nvSpPr>
              <p:spPr>
                <a:xfrm>
                  <a:off x="5148720" y="536724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0" name="Shape 2556"/>
            <p:cNvSpPr/>
            <p:nvPr/>
          </p:nvSpPr>
          <p:spPr>
            <a:xfrm>
              <a:off x="691776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91" name="Group 20"/>
          <p:cNvGrpSpPr/>
          <p:nvPr/>
        </p:nvGrpSpPr>
        <p:grpSpPr>
          <a:xfrm>
            <a:off x="1080" y="4510080"/>
            <a:ext cx="2389320" cy="2347920"/>
            <a:chOff x="1080" y="4510080"/>
            <a:chExt cx="2389320" cy="2347920"/>
          </a:xfrm>
        </p:grpSpPr>
        <p:grpSp>
          <p:nvGrpSpPr>
            <p:cNvPr id="1292" name="Group 66"/>
            <p:cNvGrpSpPr/>
            <p:nvPr/>
          </p:nvGrpSpPr>
          <p:grpSpPr>
            <a:xfrm>
              <a:off x="1080" y="4510080"/>
              <a:ext cx="2389320" cy="2347920"/>
              <a:chOff x="1080" y="4510080"/>
              <a:chExt cx="2389320" cy="2347920"/>
            </a:xfrm>
          </p:grpSpPr>
          <p:sp>
            <p:nvSpPr>
              <p:cNvPr id="1293" name="Shape 585"/>
              <p:cNvSpPr/>
              <p:nvPr/>
            </p:nvSpPr>
            <p:spPr>
              <a:xfrm rot="10800000">
                <a:off x="1080" y="4510080"/>
                <a:ext cx="2389320" cy="2347920"/>
              </a:xfrm>
              <a:prstGeom prst="rect">
                <a:avLst/>
              </a:prstGeom>
              <a:gradFill rotWithShape="0">
                <a:gsLst>
                  <a:gs pos="0">
                    <a:srgbClr val="e14a73"/>
                  </a:gs>
                  <a:gs pos="100000">
                    <a:srgbClr val="d00650"/>
                  </a:gs>
                </a:gsLst>
                <a:lin ang="16200000"/>
              </a:gradFill>
              <a:ln w="6480">
                <a:solidFill>
                  <a:srgbClr val="d81b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94" name="Rectangle 45"/>
              <p:cNvSpPr/>
              <p:nvPr/>
            </p:nvSpPr>
            <p:spPr>
              <a:xfrm>
                <a:off x="243360" y="5719320"/>
                <a:ext cx="21286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95" name="Group 61"/>
              <p:cNvGrpSpPr/>
              <p:nvPr/>
            </p:nvGrpSpPr>
            <p:grpSpPr>
              <a:xfrm>
                <a:off x="197280" y="5166000"/>
                <a:ext cx="1893600" cy="492840"/>
                <a:chOff x="197280" y="5166000"/>
                <a:chExt cx="1893600" cy="492840"/>
              </a:xfrm>
            </p:grpSpPr>
            <p:sp>
              <p:nvSpPr>
                <p:cNvPr id="1296" name="TextBox 62"/>
                <p:cNvSpPr/>
                <p:nvPr/>
              </p:nvSpPr>
              <p:spPr>
                <a:xfrm>
                  <a:off x="19728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5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97" name="Rectangle 63"/>
                <p:cNvSpPr/>
                <p:nvPr/>
              </p:nvSpPr>
              <p:spPr>
                <a:xfrm>
                  <a:off x="243360" y="5367240"/>
                  <a:ext cx="184752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8" name="Shape 2556"/>
            <p:cNvSpPr/>
            <p:nvPr/>
          </p:nvSpPr>
          <p:spPr>
            <a:xfrm>
              <a:off x="201384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1080" y="2061720"/>
            <a:ext cx="238932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490392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1" name="" descr=""/>
          <p:cNvPicPr/>
          <p:nvPr/>
        </p:nvPicPr>
        <p:blipFill>
          <a:blip r:embed="rId3"/>
          <a:stretch/>
        </p:blipFill>
        <p:spPr>
          <a:xfrm>
            <a:off x="980136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2" name="" descr=""/>
          <p:cNvPicPr/>
          <p:nvPr/>
        </p:nvPicPr>
        <p:blipFill>
          <a:blip r:embed="rId4"/>
          <a:stretch/>
        </p:blipFill>
        <p:spPr>
          <a:xfrm>
            <a:off x="7353360" y="4510080"/>
            <a:ext cx="2388960" cy="23479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3" name="" descr=""/>
          <p:cNvPicPr/>
          <p:nvPr/>
        </p:nvPicPr>
        <p:blipFill>
          <a:blip r:embed="rId5"/>
          <a:stretch/>
        </p:blipFill>
        <p:spPr>
          <a:xfrm>
            <a:off x="2455920" y="4506480"/>
            <a:ext cx="2388960" cy="235116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 advTm="2000"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000"/>
                            </p:stCondLst>
                            <p:childTnLst>
                              <p:par>
                                <p:cTn id="9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000"/>
                            </p:stCondLst>
                            <p:childTnLst>
                              <p:par>
                                <p:cTn id="9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4" name="Group 15"/>
          <p:cNvGrpSpPr/>
          <p:nvPr/>
        </p:nvGrpSpPr>
        <p:grpSpPr>
          <a:xfrm>
            <a:off x="147600" y="2492280"/>
            <a:ext cx="1859040" cy="1994040"/>
            <a:chOff x="147600" y="2492280"/>
            <a:chExt cx="1859040" cy="1994040"/>
          </a:xfrm>
        </p:grpSpPr>
        <p:sp>
          <p:nvSpPr>
            <p:cNvPr id="1305" name="Rounded Rectangle 16"/>
            <p:cNvSpPr/>
            <p:nvPr/>
          </p:nvSpPr>
          <p:spPr>
            <a:xfrm>
              <a:off x="147600" y="2492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880e4f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06" name="Title 3"/>
            <p:cNvSpPr/>
            <p:nvPr/>
          </p:nvSpPr>
          <p:spPr>
            <a:xfrm>
              <a:off x="236880" y="3721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07" name="Title 3"/>
            <p:cNvSpPr/>
            <p:nvPr/>
          </p:nvSpPr>
          <p:spPr>
            <a:xfrm>
              <a:off x="236880" y="4032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9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Group 19"/>
          <p:cNvGrpSpPr/>
          <p:nvPr/>
        </p:nvGrpSpPr>
        <p:grpSpPr>
          <a:xfrm>
            <a:off x="108000" y="4778280"/>
            <a:ext cx="1859040" cy="1994040"/>
            <a:chOff x="108000" y="4778280"/>
            <a:chExt cx="1859040" cy="1994040"/>
          </a:xfrm>
        </p:grpSpPr>
        <p:sp>
          <p:nvSpPr>
            <p:cNvPr id="1309" name="Rounded Rectangle 20"/>
            <p:cNvSpPr/>
            <p:nvPr/>
          </p:nvSpPr>
          <p:spPr>
            <a:xfrm>
              <a:off x="108000" y="4778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ad1457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10" name="Title 3"/>
            <p:cNvSpPr/>
            <p:nvPr/>
          </p:nvSpPr>
          <p:spPr>
            <a:xfrm>
              <a:off x="197280" y="6007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11" name="Title 3"/>
            <p:cNvSpPr/>
            <p:nvPr/>
          </p:nvSpPr>
          <p:spPr>
            <a:xfrm>
              <a:off x="197280" y="6318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9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2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ad1457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315" name="Picture 19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6" name="Shape 1121"/>
          <p:cNvSpPr/>
          <p:nvPr/>
        </p:nvSpPr>
        <p:spPr>
          <a:xfrm>
            <a:off x="4124160" y="2405160"/>
            <a:ext cx="39614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Get In Touch</a:t>
            </a:r>
            <a:endParaRPr b="0" lang="en-US" sz="4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7" name="Shape 1122"/>
          <p:cNvSpPr/>
          <p:nvPr/>
        </p:nvSpPr>
        <p:spPr>
          <a:xfrm>
            <a:off x="3049560" y="3354480"/>
            <a:ext cx="60958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8" name="Shape 1714"/>
          <p:cNvSpPr/>
          <p:nvPr/>
        </p:nvSpPr>
        <p:spPr>
          <a:xfrm>
            <a:off x="4471920" y="5075280"/>
            <a:ext cx="3571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902" y="9175"/>
                </a:moveTo>
                <a:cubicBezTo>
                  <a:pt x="13937" y="9175"/>
                  <a:pt x="13937" y="9175"/>
                  <a:pt x="13937" y="9175"/>
                </a:cubicBezTo>
                <a:cubicBezTo>
                  <a:pt x="13699" y="11240"/>
                  <a:pt x="13699" y="11240"/>
                  <a:pt x="13699" y="11240"/>
                </a:cubicBezTo>
                <a:cubicBezTo>
                  <a:pt x="11902" y="11240"/>
                  <a:pt x="11902" y="11240"/>
                  <a:pt x="11902" y="11240"/>
                </a:cubicBezTo>
                <a:cubicBezTo>
                  <a:pt x="11902" y="17402"/>
                  <a:pt x="11902" y="17402"/>
                  <a:pt x="11902" y="17402"/>
                </a:cubicBezTo>
                <a:cubicBezTo>
                  <a:pt x="9257" y="17402"/>
                  <a:pt x="9257" y="17402"/>
                  <a:pt x="9257" y="17402"/>
                </a:cubicBezTo>
                <a:cubicBezTo>
                  <a:pt x="9257" y="11240"/>
                  <a:pt x="9257" y="11240"/>
                  <a:pt x="9257" y="11240"/>
                </a:cubicBezTo>
                <a:cubicBezTo>
                  <a:pt x="7765" y="11240"/>
                  <a:pt x="7765" y="11240"/>
                  <a:pt x="7765" y="11240"/>
                </a:cubicBezTo>
                <a:cubicBezTo>
                  <a:pt x="7765" y="9175"/>
                  <a:pt x="7765" y="9175"/>
                  <a:pt x="7765" y="9175"/>
                </a:cubicBezTo>
                <a:cubicBezTo>
                  <a:pt x="9257" y="9175"/>
                  <a:pt x="9257" y="9175"/>
                  <a:pt x="9257" y="9175"/>
                </a:cubicBezTo>
                <a:cubicBezTo>
                  <a:pt x="9257" y="7821"/>
                  <a:pt x="9257" y="7821"/>
                  <a:pt x="9257" y="7821"/>
                </a:cubicBezTo>
                <a:cubicBezTo>
                  <a:pt x="9257" y="6094"/>
                  <a:pt x="9969" y="5112"/>
                  <a:pt x="12173" y="5112"/>
                </a:cubicBezTo>
                <a:cubicBezTo>
                  <a:pt x="13937" y="5112"/>
                  <a:pt x="13937" y="5112"/>
                  <a:pt x="13937" y="5112"/>
                </a:cubicBezTo>
                <a:cubicBezTo>
                  <a:pt x="13937" y="7144"/>
                  <a:pt x="13937" y="7144"/>
                  <a:pt x="13937" y="7144"/>
                </a:cubicBezTo>
                <a:cubicBezTo>
                  <a:pt x="12885" y="7144"/>
                  <a:pt x="12885" y="7144"/>
                  <a:pt x="12885" y="7144"/>
                </a:cubicBezTo>
                <a:cubicBezTo>
                  <a:pt x="12038" y="7144"/>
                  <a:pt x="11902" y="7414"/>
                  <a:pt x="11902" y="7956"/>
                </a:cubicBezTo>
                <a:lnTo>
                  <a:pt x="11902" y="9175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9" name="Shape 1716"/>
          <p:cNvSpPr/>
          <p:nvPr/>
        </p:nvSpPr>
        <p:spPr>
          <a:xfrm>
            <a:off x="59212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717" y="8667"/>
                </a:moveTo>
                <a:cubicBezTo>
                  <a:pt x="16717" y="8803"/>
                  <a:pt x="16717" y="8904"/>
                  <a:pt x="16717" y="9039"/>
                </a:cubicBezTo>
                <a:cubicBezTo>
                  <a:pt x="16717" y="12594"/>
                  <a:pt x="14004" y="16691"/>
                  <a:pt x="9054" y="16691"/>
                </a:cubicBezTo>
                <a:cubicBezTo>
                  <a:pt x="7528" y="16691"/>
                  <a:pt x="6104" y="16251"/>
                  <a:pt x="4917" y="15472"/>
                </a:cubicBezTo>
                <a:cubicBezTo>
                  <a:pt x="5120" y="15506"/>
                  <a:pt x="5324" y="15540"/>
                  <a:pt x="5561" y="15540"/>
                </a:cubicBezTo>
                <a:cubicBezTo>
                  <a:pt x="6816" y="15540"/>
                  <a:pt x="7969" y="15100"/>
                  <a:pt x="8884" y="14389"/>
                </a:cubicBezTo>
                <a:cubicBezTo>
                  <a:pt x="7731" y="14355"/>
                  <a:pt x="6714" y="13576"/>
                  <a:pt x="6375" y="12493"/>
                </a:cubicBezTo>
                <a:cubicBezTo>
                  <a:pt x="6544" y="12527"/>
                  <a:pt x="6714" y="12561"/>
                  <a:pt x="6884" y="12561"/>
                </a:cubicBezTo>
                <a:cubicBezTo>
                  <a:pt x="7121" y="12561"/>
                  <a:pt x="7358" y="12527"/>
                  <a:pt x="7596" y="12459"/>
                </a:cubicBezTo>
                <a:cubicBezTo>
                  <a:pt x="6375" y="12222"/>
                  <a:pt x="5425" y="11105"/>
                  <a:pt x="5425" y="9818"/>
                </a:cubicBezTo>
                <a:cubicBezTo>
                  <a:pt x="5425" y="9818"/>
                  <a:pt x="5425" y="9784"/>
                  <a:pt x="5425" y="9784"/>
                </a:cubicBezTo>
                <a:cubicBezTo>
                  <a:pt x="5798" y="9987"/>
                  <a:pt x="6205" y="10089"/>
                  <a:pt x="6646" y="10123"/>
                </a:cubicBezTo>
                <a:cubicBezTo>
                  <a:pt x="5934" y="9649"/>
                  <a:pt x="5459" y="8803"/>
                  <a:pt x="5459" y="7888"/>
                </a:cubicBezTo>
                <a:cubicBezTo>
                  <a:pt x="5459" y="7381"/>
                  <a:pt x="5595" y="6907"/>
                  <a:pt x="5832" y="6534"/>
                </a:cubicBezTo>
                <a:cubicBezTo>
                  <a:pt x="7155" y="8159"/>
                  <a:pt x="9155" y="9209"/>
                  <a:pt x="11393" y="9344"/>
                </a:cubicBezTo>
                <a:cubicBezTo>
                  <a:pt x="11326" y="9141"/>
                  <a:pt x="11326" y="8938"/>
                  <a:pt x="11326" y="8735"/>
                </a:cubicBezTo>
                <a:cubicBezTo>
                  <a:pt x="11326" y="7245"/>
                  <a:pt x="12512" y="6026"/>
                  <a:pt x="14004" y="6026"/>
                </a:cubicBezTo>
                <a:cubicBezTo>
                  <a:pt x="14784" y="6026"/>
                  <a:pt x="15496" y="6365"/>
                  <a:pt x="15971" y="6873"/>
                </a:cubicBezTo>
                <a:cubicBezTo>
                  <a:pt x="16581" y="6771"/>
                  <a:pt x="17192" y="6534"/>
                  <a:pt x="17700" y="6229"/>
                </a:cubicBezTo>
                <a:cubicBezTo>
                  <a:pt x="17497" y="6839"/>
                  <a:pt x="17056" y="7381"/>
                  <a:pt x="16514" y="7719"/>
                </a:cubicBezTo>
                <a:cubicBezTo>
                  <a:pt x="17056" y="7651"/>
                  <a:pt x="17565" y="7516"/>
                  <a:pt x="18073" y="7279"/>
                </a:cubicBezTo>
                <a:cubicBezTo>
                  <a:pt x="17700" y="7821"/>
                  <a:pt x="17226" y="8295"/>
                  <a:pt x="16717" y="8667"/>
                </a:cubicBez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0" name="Shape 1717"/>
          <p:cNvSpPr/>
          <p:nvPr/>
        </p:nvSpPr>
        <p:spPr>
          <a:xfrm>
            <a:off x="6642000" y="5070600"/>
            <a:ext cx="3571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17" y="0"/>
                </a:moveTo>
                <a:cubicBezTo>
                  <a:pt x="4849" y="0"/>
                  <a:pt x="0" y="4841"/>
                  <a:pt x="0" y="10800"/>
                </a:cubicBezTo>
                <a:cubicBezTo>
                  <a:pt x="0" y="16759"/>
                  <a:pt x="4849" y="21600"/>
                  <a:pt x="10817" y="21600"/>
                </a:cubicBezTo>
                <a:cubicBezTo>
                  <a:pt x="16785" y="21600"/>
                  <a:pt x="21600" y="16759"/>
                  <a:pt x="21600" y="10800"/>
                </a:cubicBezTo>
                <a:cubicBezTo>
                  <a:pt x="21600" y="4841"/>
                  <a:pt x="16785" y="0"/>
                  <a:pt x="10817" y="0"/>
                </a:cubicBezTo>
                <a:close/>
                <a:moveTo>
                  <a:pt x="17972" y="17944"/>
                </a:moveTo>
                <a:cubicBezTo>
                  <a:pt x="16039" y="19873"/>
                  <a:pt x="13496" y="20923"/>
                  <a:pt x="10817" y="20923"/>
                </a:cubicBezTo>
                <a:cubicBezTo>
                  <a:pt x="8104" y="20923"/>
                  <a:pt x="5561" y="19873"/>
                  <a:pt x="3628" y="17944"/>
                </a:cubicBezTo>
                <a:cubicBezTo>
                  <a:pt x="1729" y="16048"/>
                  <a:pt x="678" y="13508"/>
                  <a:pt x="678" y="10800"/>
                </a:cubicBezTo>
                <a:cubicBezTo>
                  <a:pt x="678" y="8092"/>
                  <a:pt x="1729" y="5552"/>
                  <a:pt x="3628" y="3656"/>
                </a:cubicBezTo>
                <a:cubicBezTo>
                  <a:pt x="5561" y="1727"/>
                  <a:pt x="8104" y="677"/>
                  <a:pt x="10817" y="677"/>
                </a:cubicBezTo>
                <a:cubicBezTo>
                  <a:pt x="13496" y="677"/>
                  <a:pt x="16039" y="1727"/>
                  <a:pt x="17972" y="3656"/>
                </a:cubicBezTo>
                <a:cubicBezTo>
                  <a:pt x="19871" y="5552"/>
                  <a:pt x="20922" y="8092"/>
                  <a:pt x="20922" y="10800"/>
                </a:cubicBezTo>
                <a:cubicBezTo>
                  <a:pt x="20922" y="13508"/>
                  <a:pt x="19871" y="16048"/>
                  <a:pt x="17972" y="17944"/>
                </a:cubicBezTo>
                <a:close/>
                <a:moveTo>
                  <a:pt x="7053" y="5688"/>
                </a:moveTo>
                <a:cubicBezTo>
                  <a:pt x="14649" y="5688"/>
                  <a:pt x="14649" y="5688"/>
                  <a:pt x="14649" y="5688"/>
                </a:cubicBezTo>
                <a:cubicBezTo>
                  <a:pt x="15395" y="5688"/>
                  <a:pt x="15971" y="6263"/>
                  <a:pt x="15971" y="6974"/>
                </a:cubicBezTo>
                <a:cubicBezTo>
                  <a:pt x="15971" y="14558"/>
                  <a:pt x="15971" y="14558"/>
                  <a:pt x="15971" y="14558"/>
                </a:cubicBezTo>
                <a:cubicBezTo>
                  <a:pt x="15971" y="15303"/>
                  <a:pt x="15395" y="15912"/>
                  <a:pt x="14649" y="15912"/>
                </a:cubicBezTo>
                <a:cubicBezTo>
                  <a:pt x="7053" y="15912"/>
                  <a:pt x="7053" y="15912"/>
                  <a:pt x="7053" y="15912"/>
                </a:cubicBezTo>
                <a:cubicBezTo>
                  <a:pt x="6341" y="15912"/>
                  <a:pt x="5731" y="15303"/>
                  <a:pt x="5731" y="14558"/>
                </a:cubicBezTo>
                <a:cubicBezTo>
                  <a:pt x="5731" y="6974"/>
                  <a:pt x="5731" y="6974"/>
                  <a:pt x="5731" y="6974"/>
                </a:cubicBezTo>
                <a:cubicBezTo>
                  <a:pt x="5731" y="6263"/>
                  <a:pt x="6341" y="5688"/>
                  <a:pt x="7053" y="5688"/>
                </a:cubicBezTo>
                <a:close/>
                <a:moveTo>
                  <a:pt x="13191" y="6839"/>
                </a:moveTo>
                <a:cubicBezTo>
                  <a:pt x="12953" y="6839"/>
                  <a:pt x="12750" y="7008"/>
                  <a:pt x="12750" y="7279"/>
                </a:cubicBezTo>
                <a:cubicBezTo>
                  <a:pt x="12750" y="8362"/>
                  <a:pt x="12750" y="8362"/>
                  <a:pt x="12750" y="8362"/>
                </a:cubicBezTo>
                <a:cubicBezTo>
                  <a:pt x="12750" y="8633"/>
                  <a:pt x="12953" y="8803"/>
                  <a:pt x="13191" y="8803"/>
                </a:cubicBezTo>
                <a:cubicBezTo>
                  <a:pt x="14343" y="8803"/>
                  <a:pt x="14343" y="8803"/>
                  <a:pt x="14343" y="8803"/>
                </a:cubicBezTo>
                <a:cubicBezTo>
                  <a:pt x="14615" y="8803"/>
                  <a:pt x="14818" y="8633"/>
                  <a:pt x="14818" y="8362"/>
                </a:cubicBezTo>
                <a:cubicBezTo>
                  <a:pt x="14818" y="7279"/>
                  <a:pt x="14818" y="7279"/>
                  <a:pt x="14818" y="7279"/>
                </a:cubicBezTo>
                <a:cubicBezTo>
                  <a:pt x="14818" y="7008"/>
                  <a:pt x="14615" y="6839"/>
                  <a:pt x="14343" y="6839"/>
                </a:cubicBezTo>
                <a:cubicBezTo>
                  <a:pt x="13191" y="6839"/>
                  <a:pt x="13191" y="6839"/>
                  <a:pt x="13191" y="6839"/>
                </a:cubicBezTo>
                <a:close/>
                <a:moveTo>
                  <a:pt x="14818" y="9987"/>
                </a:moveTo>
                <a:cubicBezTo>
                  <a:pt x="13937" y="9987"/>
                  <a:pt x="13937" y="9987"/>
                  <a:pt x="13937" y="9987"/>
                </a:cubicBezTo>
                <a:cubicBezTo>
                  <a:pt x="14004" y="10258"/>
                  <a:pt x="14038" y="10563"/>
                  <a:pt x="14038" y="10868"/>
                </a:cubicBezTo>
                <a:cubicBezTo>
                  <a:pt x="14038" y="12561"/>
                  <a:pt x="12614" y="13949"/>
                  <a:pt x="10885" y="13949"/>
                </a:cubicBezTo>
                <a:cubicBezTo>
                  <a:pt x="9122" y="13949"/>
                  <a:pt x="7697" y="12561"/>
                  <a:pt x="7697" y="10868"/>
                </a:cubicBezTo>
                <a:cubicBezTo>
                  <a:pt x="7697" y="10563"/>
                  <a:pt x="7731" y="10258"/>
                  <a:pt x="7833" y="9987"/>
                </a:cubicBezTo>
                <a:cubicBezTo>
                  <a:pt x="6884" y="9987"/>
                  <a:pt x="6884" y="9987"/>
                  <a:pt x="6884" y="9987"/>
                </a:cubicBezTo>
                <a:cubicBezTo>
                  <a:pt x="6884" y="14321"/>
                  <a:pt x="6884" y="14321"/>
                  <a:pt x="6884" y="14321"/>
                </a:cubicBezTo>
                <a:cubicBezTo>
                  <a:pt x="6884" y="14524"/>
                  <a:pt x="7087" y="14727"/>
                  <a:pt x="7290" y="14727"/>
                </a:cubicBezTo>
                <a:cubicBezTo>
                  <a:pt x="14411" y="14727"/>
                  <a:pt x="14411" y="14727"/>
                  <a:pt x="14411" y="14727"/>
                </a:cubicBezTo>
                <a:cubicBezTo>
                  <a:pt x="14649" y="14727"/>
                  <a:pt x="14818" y="14524"/>
                  <a:pt x="14818" y="14321"/>
                </a:cubicBezTo>
                <a:cubicBezTo>
                  <a:pt x="14818" y="9987"/>
                  <a:pt x="14818" y="9987"/>
                  <a:pt x="14818" y="9987"/>
                </a:cubicBezTo>
                <a:close/>
                <a:moveTo>
                  <a:pt x="10885" y="8769"/>
                </a:moveTo>
                <a:cubicBezTo>
                  <a:pt x="9732" y="8769"/>
                  <a:pt x="8816" y="9649"/>
                  <a:pt x="8816" y="10766"/>
                </a:cubicBezTo>
                <a:cubicBezTo>
                  <a:pt x="8816" y="11850"/>
                  <a:pt x="9732" y="12730"/>
                  <a:pt x="10885" y="12730"/>
                </a:cubicBezTo>
                <a:cubicBezTo>
                  <a:pt x="12004" y="12730"/>
                  <a:pt x="12919" y="11850"/>
                  <a:pt x="12919" y="10766"/>
                </a:cubicBezTo>
                <a:cubicBezTo>
                  <a:pt x="12919" y="9649"/>
                  <a:pt x="12004" y="8769"/>
                  <a:pt x="10885" y="87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1" name="Shape 1724"/>
          <p:cNvSpPr/>
          <p:nvPr/>
        </p:nvSpPr>
        <p:spPr>
          <a:xfrm>
            <a:off x="51958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82" y="7414"/>
                </a:moveTo>
                <a:cubicBezTo>
                  <a:pt x="15869" y="7414"/>
                  <a:pt x="15869" y="7414"/>
                  <a:pt x="15869" y="7414"/>
                </a:cubicBezTo>
                <a:cubicBezTo>
                  <a:pt x="15869" y="8329"/>
                  <a:pt x="15869" y="8329"/>
                  <a:pt x="15869" y="8329"/>
                </a:cubicBezTo>
                <a:cubicBezTo>
                  <a:pt x="12682" y="8329"/>
                  <a:pt x="12682" y="8329"/>
                  <a:pt x="12682" y="8329"/>
                </a:cubicBezTo>
                <a:lnTo>
                  <a:pt x="12682" y="7414"/>
                </a:lnTo>
                <a:close/>
                <a:moveTo>
                  <a:pt x="17022" y="12256"/>
                </a:moveTo>
                <a:cubicBezTo>
                  <a:pt x="13089" y="12256"/>
                  <a:pt x="13089" y="12256"/>
                  <a:pt x="13089" y="12256"/>
                </a:cubicBezTo>
                <a:cubicBezTo>
                  <a:pt x="13089" y="13610"/>
                  <a:pt x="14411" y="13508"/>
                  <a:pt x="14411" y="13508"/>
                </a:cubicBezTo>
                <a:cubicBezTo>
                  <a:pt x="15666" y="13508"/>
                  <a:pt x="15632" y="12662"/>
                  <a:pt x="15632" y="12662"/>
                </a:cubicBezTo>
                <a:cubicBezTo>
                  <a:pt x="16988" y="12662"/>
                  <a:pt x="16988" y="12662"/>
                  <a:pt x="16988" y="12662"/>
                </a:cubicBezTo>
                <a:cubicBezTo>
                  <a:pt x="16988" y="14863"/>
                  <a:pt x="14377" y="14693"/>
                  <a:pt x="14377" y="14693"/>
                </a:cubicBezTo>
                <a:cubicBezTo>
                  <a:pt x="11258" y="14693"/>
                  <a:pt x="11461" y="11816"/>
                  <a:pt x="11461" y="11816"/>
                </a:cubicBezTo>
                <a:cubicBezTo>
                  <a:pt x="11461" y="11816"/>
                  <a:pt x="11461" y="8938"/>
                  <a:pt x="14377" y="8938"/>
                </a:cubicBezTo>
                <a:cubicBezTo>
                  <a:pt x="17463" y="8938"/>
                  <a:pt x="17022" y="12256"/>
                  <a:pt x="17022" y="12256"/>
                </a:cubicBezTo>
                <a:close/>
                <a:moveTo>
                  <a:pt x="14411" y="10021"/>
                </a:moveTo>
                <a:cubicBezTo>
                  <a:pt x="13224" y="10021"/>
                  <a:pt x="13055" y="11206"/>
                  <a:pt x="13055" y="11206"/>
                </a:cubicBezTo>
                <a:cubicBezTo>
                  <a:pt x="15564" y="11206"/>
                  <a:pt x="15564" y="11206"/>
                  <a:pt x="15564" y="11206"/>
                </a:cubicBezTo>
                <a:cubicBezTo>
                  <a:pt x="15564" y="11206"/>
                  <a:pt x="15564" y="10021"/>
                  <a:pt x="14411" y="10021"/>
                </a:cubicBezTo>
                <a:close/>
                <a:moveTo>
                  <a:pt x="11156" y="12324"/>
                </a:moveTo>
                <a:cubicBezTo>
                  <a:pt x="11156" y="14626"/>
                  <a:pt x="8749" y="14558"/>
                  <a:pt x="8749" y="14558"/>
                </a:cubicBezTo>
                <a:cubicBezTo>
                  <a:pt x="6511" y="14558"/>
                  <a:pt x="6511" y="14558"/>
                  <a:pt x="6511" y="14558"/>
                </a:cubicBezTo>
                <a:cubicBezTo>
                  <a:pt x="6443" y="14558"/>
                  <a:pt x="6443" y="14558"/>
                  <a:pt x="6443" y="14558"/>
                </a:cubicBezTo>
                <a:cubicBezTo>
                  <a:pt x="4747" y="14558"/>
                  <a:pt x="4747" y="14558"/>
                  <a:pt x="4747" y="14558"/>
                </a:cubicBezTo>
                <a:cubicBezTo>
                  <a:pt x="4747" y="6974"/>
                  <a:pt x="4747" y="6974"/>
                  <a:pt x="4747" y="6974"/>
                </a:cubicBezTo>
                <a:cubicBezTo>
                  <a:pt x="6443" y="6974"/>
                  <a:pt x="6443" y="6974"/>
                  <a:pt x="6443" y="6974"/>
                </a:cubicBezTo>
                <a:cubicBezTo>
                  <a:pt x="6511" y="6974"/>
                  <a:pt x="6511" y="6974"/>
                  <a:pt x="6511" y="6974"/>
                </a:cubicBezTo>
                <a:cubicBezTo>
                  <a:pt x="8749" y="6974"/>
                  <a:pt x="8749" y="6974"/>
                  <a:pt x="8749" y="6974"/>
                </a:cubicBezTo>
                <a:cubicBezTo>
                  <a:pt x="9935" y="6974"/>
                  <a:pt x="10885" y="7618"/>
                  <a:pt x="10885" y="8972"/>
                </a:cubicBezTo>
                <a:cubicBezTo>
                  <a:pt x="10885" y="10360"/>
                  <a:pt x="9732" y="10428"/>
                  <a:pt x="9732" y="10428"/>
                </a:cubicBezTo>
                <a:cubicBezTo>
                  <a:pt x="11258" y="10428"/>
                  <a:pt x="11156" y="12324"/>
                  <a:pt x="11156" y="12324"/>
                </a:cubicBezTo>
                <a:close/>
                <a:moveTo>
                  <a:pt x="6511" y="10021"/>
                </a:moveTo>
                <a:cubicBezTo>
                  <a:pt x="8579" y="10021"/>
                  <a:pt x="8579" y="10021"/>
                  <a:pt x="8579" y="10021"/>
                </a:cubicBezTo>
                <a:cubicBezTo>
                  <a:pt x="8952" y="10021"/>
                  <a:pt x="9257" y="9920"/>
                  <a:pt x="9257" y="9107"/>
                </a:cubicBezTo>
                <a:cubicBezTo>
                  <a:pt x="9257" y="8329"/>
                  <a:pt x="8749" y="8329"/>
                  <a:pt x="8749" y="8329"/>
                </a:cubicBezTo>
                <a:cubicBezTo>
                  <a:pt x="8443" y="8329"/>
                  <a:pt x="8443" y="8329"/>
                  <a:pt x="8443" y="8329"/>
                </a:cubicBezTo>
                <a:cubicBezTo>
                  <a:pt x="6511" y="8329"/>
                  <a:pt x="6511" y="8329"/>
                  <a:pt x="6511" y="8329"/>
                </a:cubicBezTo>
                <a:lnTo>
                  <a:pt x="6511" y="10021"/>
                </a:lnTo>
                <a:close/>
                <a:moveTo>
                  <a:pt x="9528" y="12222"/>
                </a:moveTo>
                <a:cubicBezTo>
                  <a:pt x="9528" y="11172"/>
                  <a:pt x="8749" y="11206"/>
                  <a:pt x="8749" y="11206"/>
                </a:cubicBezTo>
                <a:cubicBezTo>
                  <a:pt x="6511" y="11206"/>
                  <a:pt x="6511" y="11206"/>
                  <a:pt x="6511" y="11206"/>
                </a:cubicBezTo>
                <a:cubicBezTo>
                  <a:pt x="6511" y="13204"/>
                  <a:pt x="6511" y="13204"/>
                  <a:pt x="6511" y="13204"/>
                </a:cubicBezTo>
                <a:cubicBezTo>
                  <a:pt x="8477" y="13204"/>
                  <a:pt x="8477" y="13204"/>
                  <a:pt x="8477" y="13204"/>
                </a:cubicBezTo>
                <a:cubicBezTo>
                  <a:pt x="8511" y="13204"/>
                  <a:pt x="8579" y="13204"/>
                  <a:pt x="8613" y="13204"/>
                </a:cubicBezTo>
                <a:cubicBezTo>
                  <a:pt x="8952" y="13204"/>
                  <a:pt x="9528" y="13102"/>
                  <a:pt x="9528" y="12222"/>
                </a:cubicBezTo>
                <a:close/>
                <a:moveTo>
                  <a:pt x="21600" y="10800"/>
                </a:moveTo>
                <a:cubicBezTo>
                  <a:pt x="21600" y="16759"/>
                  <a:pt x="16751" y="21600"/>
                  <a:pt x="10783" y="21600"/>
                </a:cubicBezTo>
                <a:cubicBezTo>
                  <a:pt x="4815" y="21600"/>
                  <a:pt x="0" y="16759"/>
                  <a:pt x="0" y="10800"/>
                </a:cubicBezTo>
                <a:cubicBezTo>
                  <a:pt x="0" y="4841"/>
                  <a:pt x="4815" y="0"/>
                  <a:pt x="10783" y="0"/>
                </a:cubicBezTo>
                <a:cubicBezTo>
                  <a:pt x="16751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783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783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2" name="Shape 1720"/>
          <p:cNvSpPr/>
          <p:nvPr/>
        </p:nvSpPr>
        <p:spPr>
          <a:xfrm>
            <a:off x="7365960" y="5070600"/>
            <a:ext cx="3589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04" y="15946"/>
                </a:moveTo>
                <a:cubicBezTo>
                  <a:pt x="14004" y="12188"/>
                  <a:pt x="14004" y="12188"/>
                  <a:pt x="14004" y="12188"/>
                </a:cubicBezTo>
                <a:cubicBezTo>
                  <a:pt x="14004" y="11274"/>
                  <a:pt x="13665" y="10665"/>
                  <a:pt x="12851" y="10665"/>
                </a:cubicBezTo>
                <a:cubicBezTo>
                  <a:pt x="12241" y="10665"/>
                  <a:pt x="11868" y="11071"/>
                  <a:pt x="11699" y="11477"/>
                </a:cubicBezTo>
                <a:cubicBezTo>
                  <a:pt x="11631" y="11646"/>
                  <a:pt x="11631" y="11850"/>
                  <a:pt x="11631" y="12019"/>
                </a:cubicBezTo>
                <a:cubicBezTo>
                  <a:pt x="11631" y="15946"/>
                  <a:pt x="11631" y="15946"/>
                  <a:pt x="11631" y="15946"/>
                </a:cubicBezTo>
                <a:cubicBezTo>
                  <a:pt x="9393" y="15946"/>
                  <a:pt x="9393" y="15946"/>
                  <a:pt x="9393" y="15946"/>
                </a:cubicBezTo>
                <a:cubicBezTo>
                  <a:pt x="9393" y="9073"/>
                  <a:pt x="9393" y="9073"/>
                  <a:pt x="9393" y="9073"/>
                </a:cubicBezTo>
                <a:cubicBezTo>
                  <a:pt x="11631" y="9073"/>
                  <a:pt x="11631" y="9073"/>
                  <a:pt x="11631" y="9073"/>
                </a:cubicBezTo>
                <a:cubicBezTo>
                  <a:pt x="11631" y="10021"/>
                  <a:pt x="11631" y="10021"/>
                  <a:pt x="11631" y="10021"/>
                </a:cubicBezTo>
                <a:cubicBezTo>
                  <a:pt x="11936" y="9581"/>
                  <a:pt x="12478" y="8904"/>
                  <a:pt x="13631" y="8904"/>
                </a:cubicBezTo>
                <a:cubicBezTo>
                  <a:pt x="15089" y="8904"/>
                  <a:pt x="16242" y="9852"/>
                  <a:pt x="16242" y="11951"/>
                </a:cubicBezTo>
                <a:cubicBezTo>
                  <a:pt x="16242" y="15946"/>
                  <a:pt x="16242" y="15946"/>
                  <a:pt x="16242" y="15946"/>
                </a:cubicBezTo>
                <a:lnTo>
                  <a:pt x="14004" y="15946"/>
                </a:lnTo>
                <a:close/>
                <a:moveTo>
                  <a:pt x="7053" y="5620"/>
                </a:moveTo>
                <a:cubicBezTo>
                  <a:pt x="6341" y="5620"/>
                  <a:pt x="5866" y="6128"/>
                  <a:pt x="5866" y="6805"/>
                </a:cubicBezTo>
                <a:cubicBezTo>
                  <a:pt x="5866" y="7482"/>
                  <a:pt x="6307" y="7990"/>
                  <a:pt x="7019" y="7990"/>
                </a:cubicBezTo>
                <a:cubicBezTo>
                  <a:pt x="7053" y="7990"/>
                  <a:pt x="7053" y="7990"/>
                  <a:pt x="7053" y="7990"/>
                </a:cubicBezTo>
                <a:cubicBezTo>
                  <a:pt x="7799" y="7990"/>
                  <a:pt x="8240" y="7482"/>
                  <a:pt x="8240" y="6805"/>
                </a:cubicBezTo>
                <a:cubicBezTo>
                  <a:pt x="8240" y="6128"/>
                  <a:pt x="7799" y="5620"/>
                  <a:pt x="7053" y="5620"/>
                </a:cubicBezTo>
                <a:close/>
                <a:moveTo>
                  <a:pt x="5866" y="15946"/>
                </a:moveTo>
                <a:cubicBezTo>
                  <a:pt x="8104" y="15946"/>
                  <a:pt x="8104" y="15946"/>
                  <a:pt x="8104" y="15946"/>
                </a:cubicBezTo>
                <a:cubicBezTo>
                  <a:pt x="8104" y="9073"/>
                  <a:pt x="8104" y="9073"/>
                  <a:pt x="8104" y="9073"/>
                </a:cubicBezTo>
                <a:cubicBezTo>
                  <a:pt x="5866" y="9073"/>
                  <a:pt x="5866" y="9073"/>
                  <a:pt x="5866" y="9073"/>
                </a:cubicBezTo>
                <a:lnTo>
                  <a:pt x="5866" y="15946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4" name="Group 2"/>
          <p:cNvGrpSpPr/>
          <p:nvPr/>
        </p:nvGrpSpPr>
        <p:grpSpPr>
          <a:xfrm>
            <a:off x="-3286080" y="0"/>
            <a:ext cx="7531200" cy="6843600"/>
            <a:chOff x="-3286080" y="0"/>
            <a:chExt cx="7531200" cy="6843600"/>
          </a:xfrm>
        </p:grpSpPr>
        <p:sp>
          <p:nvSpPr>
            <p:cNvPr id="1325" name="Freeform 3"/>
            <p:cNvSpPr/>
            <p:nvPr/>
          </p:nvSpPr>
          <p:spPr>
            <a:xfrm>
              <a:off x="-3286080" y="0"/>
              <a:ext cx="6813000" cy="6843600"/>
            </a:xfrm>
            <a:custGeom>
              <a:avLst/>
              <a:gdLst/>
              <a:ahLst/>
              <a:rect l="l" t="t" r="r" b="b"/>
              <a:pathLst>
                <a:path w="6812996" h="6844146">
                  <a:moveTo>
                    <a:pt x="3406498" y="0"/>
                  </a:moveTo>
                  <a:cubicBezTo>
                    <a:pt x="5287855" y="0"/>
                    <a:pt x="6812996" y="1532114"/>
                    <a:pt x="6812996" y="3422073"/>
                  </a:cubicBezTo>
                  <a:cubicBezTo>
                    <a:pt x="6812996" y="5312032"/>
                    <a:pt x="5287855" y="6844146"/>
                    <a:pt x="3406498" y="6844146"/>
                  </a:cubicBezTo>
                  <a:cubicBezTo>
                    <a:pt x="1525141" y="6844146"/>
                    <a:pt x="0" y="5312032"/>
                    <a:pt x="0" y="3422073"/>
                  </a:cubicBezTo>
                  <a:cubicBezTo>
                    <a:pt x="0" y="1532114"/>
                    <a:pt x="1525141" y="0"/>
                    <a:pt x="34064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ad1457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26" name="Freeform 4"/>
            <p:cNvSpPr/>
            <p:nvPr/>
          </p:nvSpPr>
          <p:spPr>
            <a:xfrm>
              <a:off x="459720" y="151524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ad1457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27" name="Freeform 5"/>
            <p:cNvSpPr/>
            <p:nvPr/>
          </p:nvSpPr>
          <p:spPr>
            <a:xfrm>
              <a:off x="699480" y="152892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ad1457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328" name="TextBox 6"/>
          <p:cNvSpPr/>
          <p:nvPr/>
        </p:nvSpPr>
        <p:spPr>
          <a:xfrm>
            <a:off x="996840" y="2716200"/>
            <a:ext cx="2949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Thanks For Watching! 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Have a nice day!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5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2"/>
          <p:cNvSpPr/>
          <p:nvPr/>
        </p:nvSpPr>
        <p:spPr>
          <a:xfrm>
            <a:off x="0" y="0"/>
            <a:ext cx="12192120" cy="483696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ad1457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7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483696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8"/>
          <p:cNvSpPr/>
          <p:nvPr/>
        </p:nvSpPr>
        <p:spPr>
          <a:xfrm>
            <a:off x="1882800" y="1430280"/>
            <a:ext cx="780732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etails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 are </a:t>
            </a:r>
            <a:r>
              <a:rPr b="0" i="1" lang="en-US" sz="4000" spc="-1" strike="noStrike">
                <a:solidFill>
                  <a:srgbClr val="ffffff"/>
                </a:solidFill>
                <a:latin typeface="Source Sans Pro"/>
              </a:rPr>
              <a:t>not the 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details. They mak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the design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. </a:t>
            </a:r>
            <a:endParaRPr b="0" lang="en-US" sz="4000" spc="-1" strike="noStrike">
              <a:solidFill>
                <a:srgbClr val="656d7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ource Sans Pro Light"/>
                <a:ea typeface="Raleway"/>
              </a:rPr>
              <a:t>- Charles </a:t>
            </a:r>
            <a:r>
              <a:rPr b="1" i="1" lang="en-US" sz="2400" spc="-1" strike="noStrike">
                <a:solidFill>
                  <a:srgbClr val="ffffff"/>
                </a:solidFill>
                <a:latin typeface="Source Sans Pro"/>
                <a:ea typeface="Raleway"/>
              </a:rPr>
              <a:t>Eames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5" name="Rectangle 9"/>
          <p:cNvSpPr/>
          <p:nvPr/>
        </p:nvSpPr>
        <p:spPr>
          <a:xfrm>
            <a:off x="1233360" y="5270400"/>
            <a:ext cx="973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656d78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arallelogram 53"/>
          <p:cNvSpPr/>
          <p:nvPr/>
        </p:nvSpPr>
        <p:spPr>
          <a:xfrm>
            <a:off x="1023840" y="3706920"/>
            <a:ext cx="978120" cy="234720"/>
          </a:xfrm>
          <a:prstGeom prst="parallelogram">
            <a:avLst>
              <a:gd name="adj" fmla="val 25022"/>
            </a:avLst>
          </a:prstGeom>
          <a:solidFill>
            <a:srgbClr val="e91e63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ESIGNE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7" name="Parallelogram 77"/>
          <p:cNvSpPr/>
          <p:nvPr/>
        </p:nvSpPr>
        <p:spPr>
          <a:xfrm>
            <a:off x="392760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e91e63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MARKETING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8" name="Parallelogram 87"/>
          <p:cNvSpPr/>
          <p:nvPr/>
        </p:nvSpPr>
        <p:spPr>
          <a:xfrm>
            <a:off x="705492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e91e63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FOUNDE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9" name="Parallelogram 110"/>
          <p:cNvSpPr/>
          <p:nvPr/>
        </p:nvSpPr>
        <p:spPr>
          <a:xfrm>
            <a:off x="10180800" y="3706920"/>
            <a:ext cx="979200" cy="234720"/>
          </a:xfrm>
          <a:prstGeom prst="parallelogram">
            <a:avLst>
              <a:gd name="adj" fmla="val 25050"/>
            </a:avLst>
          </a:prstGeom>
          <a:solidFill>
            <a:srgbClr val="e91e63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IRECTO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760" name="Group 13"/>
          <p:cNvGrpSpPr/>
          <p:nvPr/>
        </p:nvGrpSpPr>
        <p:grpSpPr>
          <a:xfrm>
            <a:off x="658800" y="4149720"/>
            <a:ext cx="1708200" cy="1471680"/>
            <a:chOff x="658800" y="4149720"/>
            <a:chExt cx="1708200" cy="1471680"/>
          </a:xfrm>
        </p:grpSpPr>
        <p:grpSp>
          <p:nvGrpSpPr>
            <p:cNvPr id="761" name="Group 68"/>
            <p:cNvGrpSpPr/>
            <p:nvPr/>
          </p:nvGrpSpPr>
          <p:grpSpPr>
            <a:xfrm>
              <a:off x="1008720" y="4149720"/>
              <a:ext cx="1008360" cy="430200"/>
              <a:chOff x="1008720" y="4149720"/>
              <a:chExt cx="1008360" cy="430200"/>
            </a:xfrm>
          </p:grpSpPr>
          <p:sp>
            <p:nvSpPr>
              <p:cNvPr id="762" name="TextBox 70"/>
              <p:cNvSpPr/>
              <p:nvPr/>
            </p:nvSpPr>
            <p:spPr>
              <a:xfrm>
                <a:off x="1008720" y="4149720"/>
                <a:ext cx="1008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SOFIA GREEN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DESIGNER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3" name="Straight Connector 71"/>
              <p:cNvSpPr/>
              <p:nvPr/>
            </p:nvSpPr>
            <p:spPr>
              <a:xfrm>
                <a:off x="1380600" y="4579920"/>
                <a:ext cx="276120" cy="0"/>
              </a:xfrm>
              <a:prstGeom prst="line">
                <a:avLst/>
              </a:prstGeom>
              <a:ln w="12600">
                <a:solidFill>
                  <a:srgbClr val="ec4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64" name="Rectangle 69"/>
            <p:cNvSpPr/>
            <p:nvPr/>
          </p:nvSpPr>
          <p:spPr>
            <a:xfrm>
              <a:off x="658800" y="4686120"/>
              <a:ext cx="1708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65" name="Group 9"/>
            <p:cNvGrpSpPr/>
            <p:nvPr/>
          </p:nvGrpSpPr>
          <p:grpSpPr>
            <a:xfrm>
              <a:off x="1023480" y="5353200"/>
              <a:ext cx="950040" cy="268200"/>
              <a:chOff x="1023480" y="5353200"/>
              <a:chExt cx="950040" cy="268200"/>
            </a:xfrm>
          </p:grpSpPr>
          <p:sp>
            <p:nvSpPr>
              <p:cNvPr id="766" name="Shape 2864"/>
              <p:cNvSpPr/>
              <p:nvPr/>
            </p:nvSpPr>
            <p:spPr>
              <a:xfrm>
                <a:off x="102348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7" name="Shape 2865"/>
              <p:cNvSpPr/>
              <p:nvPr/>
            </p:nvSpPr>
            <p:spPr>
              <a:xfrm>
                <a:off x="136440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8" name="Shape 2869"/>
              <p:cNvSpPr/>
              <p:nvPr/>
            </p:nvSpPr>
            <p:spPr>
              <a:xfrm>
                <a:off x="170532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Group 14"/>
          <p:cNvGrpSpPr/>
          <p:nvPr/>
        </p:nvGrpSpPr>
        <p:grpSpPr>
          <a:xfrm>
            <a:off x="3560760" y="4149720"/>
            <a:ext cx="1706400" cy="1469880"/>
            <a:chOff x="3560760" y="4149720"/>
            <a:chExt cx="1706400" cy="1469880"/>
          </a:xfrm>
        </p:grpSpPr>
        <p:grpSp>
          <p:nvGrpSpPr>
            <p:cNvPr id="770" name="Group 79"/>
            <p:cNvGrpSpPr/>
            <p:nvPr/>
          </p:nvGrpSpPr>
          <p:grpSpPr>
            <a:xfrm>
              <a:off x="3813840" y="4149720"/>
              <a:ext cx="1200240" cy="430200"/>
              <a:chOff x="3813840" y="4149720"/>
              <a:chExt cx="1200240" cy="430200"/>
            </a:xfrm>
          </p:grpSpPr>
          <p:sp>
            <p:nvSpPr>
              <p:cNvPr id="771" name="TextBox 81"/>
              <p:cNvSpPr/>
              <p:nvPr/>
            </p:nvSpPr>
            <p:spPr>
              <a:xfrm>
                <a:off x="3813840" y="4149720"/>
                <a:ext cx="12002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PETER DOUGLAS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MARKETING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2" name="Straight Connector 82"/>
              <p:cNvSpPr/>
              <p:nvPr/>
            </p:nvSpPr>
            <p:spPr>
              <a:xfrm>
                <a:off x="4281840" y="4579920"/>
                <a:ext cx="275760" cy="0"/>
              </a:xfrm>
              <a:prstGeom prst="line">
                <a:avLst/>
              </a:prstGeom>
              <a:ln w="12600">
                <a:solidFill>
                  <a:srgbClr val="ec4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73" name="Rectangle 80"/>
            <p:cNvSpPr/>
            <p:nvPr/>
          </p:nvSpPr>
          <p:spPr>
            <a:xfrm>
              <a:off x="356076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74" name="Group 10"/>
            <p:cNvGrpSpPr/>
            <p:nvPr/>
          </p:nvGrpSpPr>
          <p:grpSpPr>
            <a:xfrm>
              <a:off x="3914640" y="5351400"/>
              <a:ext cx="948960" cy="268200"/>
              <a:chOff x="3914640" y="5351400"/>
              <a:chExt cx="948960" cy="268200"/>
            </a:xfrm>
          </p:grpSpPr>
          <p:sp>
            <p:nvSpPr>
              <p:cNvPr id="775" name="Shape 2864"/>
              <p:cNvSpPr/>
              <p:nvPr/>
            </p:nvSpPr>
            <p:spPr>
              <a:xfrm>
                <a:off x="3914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6" name="Shape 2865"/>
              <p:cNvSpPr/>
              <p:nvPr/>
            </p:nvSpPr>
            <p:spPr>
              <a:xfrm>
                <a:off x="4254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7" name="Shape 2869"/>
              <p:cNvSpPr/>
              <p:nvPr/>
            </p:nvSpPr>
            <p:spPr>
              <a:xfrm>
                <a:off x="4595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78" name="Group 15"/>
          <p:cNvGrpSpPr/>
          <p:nvPr/>
        </p:nvGrpSpPr>
        <p:grpSpPr>
          <a:xfrm>
            <a:off x="6689880" y="4149720"/>
            <a:ext cx="1706400" cy="1469880"/>
            <a:chOff x="6689880" y="4149720"/>
            <a:chExt cx="1706400" cy="1469880"/>
          </a:xfrm>
        </p:grpSpPr>
        <p:grpSp>
          <p:nvGrpSpPr>
            <p:cNvPr id="779" name="Group 89"/>
            <p:cNvGrpSpPr/>
            <p:nvPr/>
          </p:nvGrpSpPr>
          <p:grpSpPr>
            <a:xfrm>
              <a:off x="7012080" y="4149720"/>
              <a:ext cx="1061640" cy="430200"/>
              <a:chOff x="7012080" y="4149720"/>
              <a:chExt cx="1061640" cy="430200"/>
            </a:xfrm>
          </p:grpSpPr>
          <p:sp>
            <p:nvSpPr>
              <p:cNvPr id="780" name="TextBox 91"/>
              <p:cNvSpPr/>
              <p:nvPr/>
            </p:nvSpPr>
            <p:spPr>
              <a:xfrm>
                <a:off x="7012080" y="4149720"/>
                <a:ext cx="10616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JULIA SANTOS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FOUNDER 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1" name="Straight Connector 92"/>
              <p:cNvSpPr/>
              <p:nvPr/>
            </p:nvSpPr>
            <p:spPr>
              <a:xfrm>
                <a:off x="7410600" y="4579920"/>
                <a:ext cx="275760" cy="0"/>
              </a:xfrm>
              <a:prstGeom prst="line">
                <a:avLst/>
              </a:prstGeom>
              <a:ln w="12600">
                <a:solidFill>
                  <a:srgbClr val="ec4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82" name="Rectangle 90"/>
            <p:cNvSpPr/>
            <p:nvPr/>
          </p:nvSpPr>
          <p:spPr>
            <a:xfrm>
              <a:off x="668988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83" name="Group 11"/>
            <p:cNvGrpSpPr/>
            <p:nvPr/>
          </p:nvGrpSpPr>
          <p:grpSpPr>
            <a:xfrm>
              <a:off x="7068600" y="5351400"/>
              <a:ext cx="948960" cy="268200"/>
              <a:chOff x="7068600" y="5351400"/>
              <a:chExt cx="948960" cy="268200"/>
            </a:xfrm>
          </p:grpSpPr>
          <p:sp>
            <p:nvSpPr>
              <p:cNvPr id="784" name="Shape 2864"/>
              <p:cNvSpPr/>
              <p:nvPr/>
            </p:nvSpPr>
            <p:spPr>
              <a:xfrm>
                <a:off x="70686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5" name="Shape 2865"/>
              <p:cNvSpPr/>
              <p:nvPr/>
            </p:nvSpPr>
            <p:spPr>
              <a:xfrm>
                <a:off x="74088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6" name="Shape 2869"/>
              <p:cNvSpPr/>
              <p:nvPr/>
            </p:nvSpPr>
            <p:spPr>
              <a:xfrm>
                <a:off x="774936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87" name="Group 16"/>
          <p:cNvGrpSpPr/>
          <p:nvPr/>
        </p:nvGrpSpPr>
        <p:grpSpPr>
          <a:xfrm>
            <a:off x="9820440" y="4149720"/>
            <a:ext cx="1706400" cy="1469880"/>
            <a:chOff x="9820440" y="4149720"/>
            <a:chExt cx="1706400" cy="1469880"/>
          </a:xfrm>
        </p:grpSpPr>
        <p:grpSp>
          <p:nvGrpSpPr>
            <p:cNvPr id="788" name="Group 112"/>
            <p:cNvGrpSpPr/>
            <p:nvPr/>
          </p:nvGrpSpPr>
          <p:grpSpPr>
            <a:xfrm>
              <a:off x="10062000" y="4149720"/>
              <a:ext cx="1223280" cy="430200"/>
              <a:chOff x="10062000" y="4149720"/>
              <a:chExt cx="1223280" cy="430200"/>
            </a:xfrm>
          </p:grpSpPr>
          <p:sp>
            <p:nvSpPr>
              <p:cNvPr id="789" name="TextBox 114"/>
              <p:cNvSpPr/>
              <p:nvPr/>
            </p:nvSpPr>
            <p:spPr>
              <a:xfrm>
                <a:off x="10062000" y="4149720"/>
                <a:ext cx="122328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BEN FERNANDEZ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DIRECTOR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0" name="Straight Connector 115"/>
              <p:cNvSpPr/>
              <p:nvPr/>
            </p:nvSpPr>
            <p:spPr>
              <a:xfrm>
                <a:off x="10541160" y="4579920"/>
                <a:ext cx="275760" cy="0"/>
              </a:xfrm>
              <a:prstGeom prst="line">
                <a:avLst/>
              </a:prstGeom>
              <a:ln w="12600">
                <a:solidFill>
                  <a:srgbClr val="ec40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91" name="Rectangle 113"/>
            <p:cNvSpPr/>
            <p:nvPr/>
          </p:nvSpPr>
          <p:spPr>
            <a:xfrm>
              <a:off x="982044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92" name="Group 12"/>
            <p:cNvGrpSpPr/>
            <p:nvPr/>
          </p:nvGrpSpPr>
          <p:grpSpPr>
            <a:xfrm>
              <a:off x="10223640" y="5351400"/>
              <a:ext cx="948960" cy="268200"/>
              <a:chOff x="10223640" y="5351400"/>
              <a:chExt cx="948960" cy="268200"/>
            </a:xfrm>
          </p:grpSpPr>
          <p:sp>
            <p:nvSpPr>
              <p:cNvPr id="793" name="Shape 2864"/>
              <p:cNvSpPr/>
              <p:nvPr/>
            </p:nvSpPr>
            <p:spPr>
              <a:xfrm>
                <a:off x="10223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4" name="Shape 2865"/>
              <p:cNvSpPr/>
              <p:nvPr/>
            </p:nvSpPr>
            <p:spPr>
              <a:xfrm>
                <a:off x="10563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5" name="Shape 2869"/>
              <p:cNvSpPr/>
              <p:nvPr/>
            </p:nvSpPr>
            <p:spPr>
              <a:xfrm>
                <a:off x="10904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sp>
        <p:nvSpPr>
          <p:cNvPr id="796" name="TextBox 47"/>
          <p:cNvSpPr/>
          <p:nvPr/>
        </p:nvSpPr>
        <p:spPr>
          <a:xfrm>
            <a:off x="4007520" y="538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Team Member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7" name="Rectangle 4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c407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Box 1"/>
          <p:cNvSpPr/>
          <p:nvPr/>
        </p:nvSpPr>
        <p:spPr>
          <a:xfrm>
            <a:off x="3710880" y="538200"/>
            <a:ext cx="47862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ircle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9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c407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0" name="Freeform 3"/>
          <p:cNvSpPr/>
          <p:nvPr/>
        </p:nvSpPr>
        <p:spPr>
          <a:xfrm>
            <a:off x="61740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8625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 flipV="1">
            <a:off x="27367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911556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4" name="Freeform 7"/>
          <p:cNvSpPr/>
          <p:nvPr/>
        </p:nvSpPr>
        <p:spPr>
          <a:xfrm flipV="1">
            <a:off x="6988320" y="171864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5" name="Freeform 8"/>
          <p:cNvSpPr/>
          <p:nvPr/>
        </p:nvSpPr>
        <p:spPr>
          <a:xfrm>
            <a:off x="27367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e91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6" name="Freeform 9"/>
          <p:cNvSpPr/>
          <p:nvPr/>
        </p:nvSpPr>
        <p:spPr>
          <a:xfrm flipV="1">
            <a:off x="609480" y="171864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ec4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7" name="Freeform 10"/>
          <p:cNvSpPr/>
          <p:nvPr/>
        </p:nvSpPr>
        <p:spPr>
          <a:xfrm>
            <a:off x="6988320" y="2908440"/>
            <a:ext cx="243828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1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8" name="Freeform 11"/>
          <p:cNvSpPr/>
          <p:nvPr/>
        </p:nvSpPr>
        <p:spPr>
          <a:xfrm flipV="1">
            <a:off x="48625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c218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9" name="Freeform 12"/>
          <p:cNvSpPr/>
          <p:nvPr/>
        </p:nvSpPr>
        <p:spPr>
          <a:xfrm flipV="1">
            <a:off x="911556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880e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10" name="Group 13"/>
          <p:cNvGrpSpPr/>
          <p:nvPr/>
        </p:nvGrpSpPr>
        <p:grpSpPr>
          <a:xfrm>
            <a:off x="1046160" y="2612880"/>
            <a:ext cx="1546200" cy="649440"/>
            <a:chOff x="1046160" y="2612880"/>
            <a:chExt cx="1546200" cy="649440"/>
          </a:xfrm>
        </p:grpSpPr>
        <p:sp>
          <p:nvSpPr>
            <p:cNvPr id="811" name="Text Placeholder 33"/>
            <p:cNvSpPr/>
            <p:nvPr/>
          </p:nvSpPr>
          <p:spPr>
            <a:xfrm>
              <a:off x="106380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2" name="Text Placeholder 32"/>
            <p:cNvSpPr/>
            <p:nvPr/>
          </p:nvSpPr>
          <p:spPr>
            <a:xfrm>
              <a:off x="104616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3" name="Group 16"/>
          <p:cNvGrpSpPr/>
          <p:nvPr/>
        </p:nvGrpSpPr>
        <p:grpSpPr>
          <a:xfrm>
            <a:off x="3192480" y="2612880"/>
            <a:ext cx="1546200" cy="649440"/>
            <a:chOff x="3192480" y="2612880"/>
            <a:chExt cx="1546200" cy="649440"/>
          </a:xfrm>
        </p:grpSpPr>
        <p:sp>
          <p:nvSpPr>
            <p:cNvPr id="814" name="Text Placeholder 33"/>
            <p:cNvSpPr/>
            <p:nvPr/>
          </p:nvSpPr>
          <p:spPr>
            <a:xfrm>
              <a:off x="321012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5" name="Text Placeholder 32"/>
            <p:cNvSpPr/>
            <p:nvPr/>
          </p:nvSpPr>
          <p:spPr>
            <a:xfrm>
              <a:off x="319248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6" name="Group 19"/>
          <p:cNvGrpSpPr/>
          <p:nvPr/>
        </p:nvGrpSpPr>
        <p:grpSpPr>
          <a:xfrm>
            <a:off x="5318280" y="2619360"/>
            <a:ext cx="1546200" cy="647640"/>
            <a:chOff x="5318280" y="2619360"/>
            <a:chExt cx="1546200" cy="647640"/>
          </a:xfrm>
        </p:grpSpPr>
        <p:sp>
          <p:nvSpPr>
            <p:cNvPr id="817" name="Text Placeholder 33"/>
            <p:cNvSpPr/>
            <p:nvPr/>
          </p:nvSpPr>
          <p:spPr>
            <a:xfrm>
              <a:off x="5335920" y="261936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8" name="Text Placeholder 32"/>
            <p:cNvSpPr/>
            <p:nvPr/>
          </p:nvSpPr>
          <p:spPr>
            <a:xfrm>
              <a:off x="5318280" y="285192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9" name="Group 22"/>
          <p:cNvGrpSpPr/>
          <p:nvPr/>
        </p:nvGrpSpPr>
        <p:grpSpPr>
          <a:xfrm>
            <a:off x="7469280" y="2612880"/>
            <a:ext cx="1550880" cy="649440"/>
            <a:chOff x="7469280" y="2612880"/>
            <a:chExt cx="1550880" cy="649440"/>
          </a:xfrm>
        </p:grpSpPr>
        <p:sp>
          <p:nvSpPr>
            <p:cNvPr id="820" name="Text Placeholder 33"/>
            <p:cNvSpPr/>
            <p:nvPr/>
          </p:nvSpPr>
          <p:spPr>
            <a:xfrm>
              <a:off x="746928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1" name="Text Placeholder 32"/>
            <p:cNvSpPr/>
            <p:nvPr/>
          </p:nvSpPr>
          <p:spPr>
            <a:xfrm>
              <a:off x="7473600" y="2846160"/>
              <a:ext cx="15465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2" name="Group 25"/>
          <p:cNvGrpSpPr/>
          <p:nvPr/>
        </p:nvGrpSpPr>
        <p:grpSpPr>
          <a:xfrm>
            <a:off x="9596520" y="2620800"/>
            <a:ext cx="1544400" cy="648000"/>
            <a:chOff x="9596520" y="2620800"/>
            <a:chExt cx="1544400" cy="648000"/>
          </a:xfrm>
        </p:grpSpPr>
        <p:sp>
          <p:nvSpPr>
            <p:cNvPr id="823" name="Text Placeholder 33"/>
            <p:cNvSpPr/>
            <p:nvPr/>
          </p:nvSpPr>
          <p:spPr>
            <a:xfrm>
              <a:off x="9614160" y="2620800"/>
              <a:ext cx="15174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4" name="Text Placeholder 32"/>
            <p:cNvSpPr/>
            <p:nvPr/>
          </p:nvSpPr>
          <p:spPr>
            <a:xfrm>
              <a:off x="9596520" y="2853720"/>
              <a:ext cx="15444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5" name="Group 28"/>
          <p:cNvGrpSpPr/>
          <p:nvPr/>
        </p:nvGrpSpPr>
        <p:grpSpPr>
          <a:xfrm>
            <a:off x="644400" y="4540320"/>
            <a:ext cx="2146320" cy="871560"/>
            <a:chOff x="644400" y="4540320"/>
            <a:chExt cx="2146320" cy="871560"/>
          </a:xfrm>
        </p:grpSpPr>
        <p:sp>
          <p:nvSpPr>
            <p:cNvPr id="826" name="Oval 29"/>
            <p:cNvSpPr/>
            <p:nvPr/>
          </p:nvSpPr>
          <p:spPr>
            <a:xfrm>
              <a:off x="644400" y="4556880"/>
              <a:ext cx="180000" cy="179640"/>
            </a:xfrm>
            <a:prstGeom prst="ellipse">
              <a:avLst/>
            </a:prstGeom>
            <a:solidFill>
              <a:srgbClr val="ec4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7" name="Text Placeholder 32"/>
            <p:cNvSpPr/>
            <p:nvPr/>
          </p:nvSpPr>
          <p:spPr>
            <a:xfrm>
              <a:off x="963000" y="4730400"/>
              <a:ext cx="16290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8" name="Text Placeholder 33"/>
            <p:cNvSpPr/>
            <p:nvPr/>
          </p:nvSpPr>
          <p:spPr>
            <a:xfrm>
              <a:off x="963000" y="4540320"/>
              <a:ext cx="18277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2928960" y="4533840"/>
            <a:ext cx="1967040" cy="878040"/>
            <a:chOff x="2928960" y="4533840"/>
            <a:chExt cx="1967040" cy="878040"/>
          </a:xfrm>
        </p:grpSpPr>
        <p:sp>
          <p:nvSpPr>
            <p:cNvPr id="830" name="Oval 33"/>
            <p:cNvSpPr/>
            <p:nvPr/>
          </p:nvSpPr>
          <p:spPr>
            <a:xfrm>
              <a:off x="2928960" y="4550400"/>
              <a:ext cx="180000" cy="179640"/>
            </a:xfrm>
            <a:prstGeom prst="ellipse">
              <a:avLst/>
            </a:prstGeom>
            <a:solidFill>
              <a:srgbClr val="e91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1" name="Text Placeholder 32"/>
            <p:cNvSpPr/>
            <p:nvPr/>
          </p:nvSpPr>
          <p:spPr>
            <a:xfrm>
              <a:off x="3247920" y="4723920"/>
              <a:ext cx="16480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2" name="Text Placeholder 33"/>
            <p:cNvSpPr/>
            <p:nvPr/>
          </p:nvSpPr>
          <p:spPr>
            <a:xfrm>
              <a:off x="3247920" y="4533840"/>
              <a:ext cx="1648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33" name="Group 36"/>
          <p:cNvGrpSpPr/>
          <p:nvPr/>
        </p:nvGrpSpPr>
        <p:grpSpPr>
          <a:xfrm>
            <a:off x="7139160" y="4527720"/>
            <a:ext cx="1976400" cy="879480"/>
            <a:chOff x="7139160" y="4527720"/>
            <a:chExt cx="1976400" cy="879480"/>
          </a:xfrm>
        </p:grpSpPr>
        <p:sp>
          <p:nvSpPr>
            <p:cNvPr id="834" name="Oval 37"/>
            <p:cNvSpPr/>
            <p:nvPr/>
          </p:nvSpPr>
          <p:spPr>
            <a:xfrm>
              <a:off x="7139160" y="4544280"/>
              <a:ext cx="180000" cy="180000"/>
            </a:xfrm>
            <a:prstGeom prst="ellipse">
              <a:avLst/>
            </a:prstGeom>
            <a:solidFill>
              <a:srgbClr val="ad1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5" name="Text Placeholder 32"/>
            <p:cNvSpPr/>
            <p:nvPr/>
          </p:nvSpPr>
          <p:spPr>
            <a:xfrm>
              <a:off x="7458120" y="4718160"/>
              <a:ext cx="1657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6" name="Text Placeholder 33"/>
            <p:cNvSpPr/>
            <p:nvPr/>
          </p:nvSpPr>
          <p:spPr>
            <a:xfrm>
              <a:off x="7458120" y="4527720"/>
              <a:ext cx="1657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37" name="Group 40"/>
          <p:cNvGrpSpPr/>
          <p:nvPr/>
        </p:nvGrpSpPr>
        <p:grpSpPr>
          <a:xfrm>
            <a:off x="9416880" y="4527720"/>
            <a:ext cx="2021040" cy="861840"/>
            <a:chOff x="9416880" y="4527720"/>
            <a:chExt cx="2021040" cy="861840"/>
          </a:xfrm>
        </p:grpSpPr>
        <p:sp>
          <p:nvSpPr>
            <p:cNvPr id="838" name="Oval 41"/>
            <p:cNvSpPr/>
            <p:nvPr/>
          </p:nvSpPr>
          <p:spPr>
            <a:xfrm>
              <a:off x="9416880" y="4544280"/>
              <a:ext cx="180000" cy="179640"/>
            </a:xfrm>
            <a:prstGeom prst="ellipse">
              <a:avLst/>
            </a:prstGeom>
            <a:solidFill>
              <a:srgbClr val="880e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9" name="Text Placeholder 32"/>
            <p:cNvSpPr/>
            <p:nvPr/>
          </p:nvSpPr>
          <p:spPr>
            <a:xfrm>
              <a:off x="9735840" y="4717800"/>
              <a:ext cx="15627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0" name="Text Placeholder 33"/>
            <p:cNvSpPr/>
            <p:nvPr/>
          </p:nvSpPr>
          <p:spPr>
            <a:xfrm>
              <a:off x="9735840" y="4527720"/>
              <a:ext cx="1702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41" name="Group 44"/>
          <p:cNvGrpSpPr/>
          <p:nvPr/>
        </p:nvGrpSpPr>
        <p:grpSpPr>
          <a:xfrm>
            <a:off x="5033880" y="4527720"/>
            <a:ext cx="1878120" cy="879480"/>
            <a:chOff x="5033880" y="4527720"/>
            <a:chExt cx="1878120" cy="879480"/>
          </a:xfrm>
        </p:grpSpPr>
        <p:sp>
          <p:nvSpPr>
            <p:cNvPr id="842" name="Oval 45"/>
            <p:cNvSpPr/>
            <p:nvPr/>
          </p:nvSpPr>
          <p:spPr>
            <a:xfrm>
              <a:off x="5033880" y="4544280"/>
              <a:ext cx="180000" cy="180000"/>
            </a:xfrm>
            <a:prstGeom prst="ellipse">
              <a:avLst/>
            </a:prstGeom>
            <a:solidFill>
              <a:srgbClr val="c21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3" name="Text Placeholder 32"/>
            <p:cNvSpPr/>
            <p:nvPr/>
          </p:nvSpPr>
          <p:spPr>
            <a:xfrm>
              <a:off x="5352840" y="4718160"/>
              <a:ext cx="15591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4" name="Text Placeholder 33"/>
            <p:cNvSpPr/>
            <p:nvPr/>
          </p:nvSpPr>
          <p:spPr>
            <a:xfrm>
              <a:off x="5352840" y="4527720"/>
              <a:ext cx="1559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Box 1"/>
          <p:cNvSpPr/>
          <p:nvPr/>
        </p:nvSpPr>
        <p:spPr>
          <a:xfrm>
            <a:off x="2723040" y="538200"/>
            <a:ext cx="6761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Arrows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c407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847" name="Group 3" descr=""/>
          <p:cNvPicPr/>
          <p:nvPr/>
        </p:nvPicPr>
        <p:blipFill>
          <a:blip r:embed="rId1"/>
          <a:stretch/>
        </p:blipFill>
        <p:spPr>
          <a:xfrm>
            <a:off x="8637480" y="1700280"/>
            <a:ext cx="2713320" cy="2543040"/>
          </a:xfrm>
          <a:prstGeom prst="rect">
            <a:avLst/>
          </a:prstGeom>
          <a:ln w="0">
            <a:noFill/>
          </a:ln>
        </p:spPr>
      </p:pic>
      <p:pic>
        <p:nvPicPr>
          <p:cNvPr id="848" name="Group 10" descr=""/>
          <p:cNvPicPr/>
          <p:nvPr/>
        </p:nvPicPr>
        <p:blipFill>
          <a:blip r:embed="rId2"/>
          <a:stretch/>
        </p:blipFill>
        <p:spPr>
          <a:xfrm>
            <a:off x="6729480" y="3529080"/>
            <a:ext cx="2706480" cy="2547720"/>
          </a:xfrm>
          <a:prstGeom prst="rect">
            <a:avLst/>
          </a:prstGeom>
          <a:ln w="0">
            <a:noFill/>
          </a:ln>
        </p:spPr>
      </p:pic>
      <p:pic>
        <p:nvPicPr>
          <p:cNvPr id="849" name="Group 16" descr=""/>
          <p:cNvPicPr/>
          <p:nvPr/>
        </p:nvPicPr>
        <p:blipFill>
          <a:blip r:embed="rId3"/>
          <a:stretch/>
        </p:blipFill>
        <p:spPr>
          <a:xfrm>
            <a:off x="4827600" y="1700280"/>
            <a:ext cx="2712960" cy="2543040"/>
          </a:xfrm>
          <a:prstGeom prst="rect">
            <a:avLst/>
          </a:prstGeom>
          <a:ln w="0">
            <a:noFill/>
          </a:ln>
        </p:spPr>
      </p:pic>
      <p:pic>
        <p:nvPicPr>
          <p:cNvPr id="850" name="Group 22" descr=""/>
          <p:cNvPicPr/>
          <p:nvPr/>
        </p:nvPicPr>
        <p:blipFill>
          <a:blip r:embed="rId4"/>
          <a:stretch/>
        </p:blipFill>
        <p:spPr>
          <a:xfrm>
            <a:off x="2925720" y="3529080"/>
            <a:ext cx="2712960" cy="2547720"/>
          </a:xfrm>
          <a:prstGeom prst="rect">
            <a:avLst/>
          </a:prstGeom>
          <a:ln w="0">
            <a:noFill/>
          </a:ln>
        </p:spPr>
      </p:pic>
      <p:pic>
        <p:nvPicPr>
          <p:cNvPr id="851" name="Group 28" descr=""/>
          <p:cNvPicPr/>
          <p:nvPr/>
        </p:nvPicPr>
        <p:blipFill>
          <a:blip r:embed="rId5"/>
          <a:stretch/>
        </p:blipFill>
        <p:spPr>
          <a:xfrm>
            <a:off x="1023840" y="1700280"/>
            <a:ext cx="2712960" cy="2543040"/>
          </a:xfrm>
          <a:prstGeom prst="rect">
            <a:avLst/>
          </a:prstGeom>
          <a:ln w="0">
            <a:noFill/>
          </a:ln>
        </p:spPr>
      </p:pic>
      <p:grpSp>
        <p:nvGrpSpPr>
          <p:cNvPr id="852" name="Group 34"/>
          <p:cNvGrpSpPr/>
          <p:nvPr/>
        </p:nvGrpSpPr>
        <p:grpSpPr>
          <a:xfrm>
            <a:off x="1717560" y="2606760"/>
            <a:ext cx="1125720" cy="1892160"/>
            <a:chOff x="1717560" y="2606760"/>
            <a:chExt cx="1125720" cy="1892160"/>
          </a:xfrm>
        </p:grpSpPr>
        <p:grpSp>
          <p:nvGrpSpPr>
            <p:cNvPr id="853" name="Group 35"/>
            <p:cNvGrpSpPr/>
            <p:nvPr/>
          </p:nvGrpSpPr>
          <p:grpSpPr>
            <a:xfrm>
              <a:off x="1717560" y="2606760"/>
              <a:ext cx="1125720" cy="1892160"/>
              <a:chOff x="1717560" y="2606760"/>
              <a:chExt cx="1125720" cy="1892160"/>
            </a:xfrm>
          </p:grpSpPr>
          <p:sp>
            <p:nvSpPr>
              <p:cNvPr id="854" name="Text Placeholder 32"/>
              <p:cNvSpPr/>
              <p:nvPr/>
            </p:nvSpPr>
            <p:spPr>
              <a:xfrm>
                <a:off x="1717560" y="3706200"/>
                <a:ext cx="11124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55" name="Text Placeholder 33"/>
              <p:cNvSpPr/>
              <p:nvPr/>
            </p:nvSpPr>
            <p:spPr>
              <a:xfrm>
                <a:off x="1730880" y="3412080"/>
                <a:ext cx="111240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0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tom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56" name="Oval 39"/>
              <p:cNvSpPr/>
              <p:nvPr/>
            </p:nvSpPr>
            <p:spPr>
              <a:xfrm>
                <a:off x="1981080" y="2606760"/>
                <a:ext cx="612000" cy="611640"/>
              </a:xfrm>
              <a:prstGeom prst="ellipse">
                <a:avLst/>
              </a:prstGeom>
              <a:solidFill>
                <a:srgbClr val="ec407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57" name="Shape 2778"/>
            <p:cNvSpPr/>
            <p:nvPr/>
          </p:nvSpPr>
          <p:spPr>
            <a:xfrm>
              <a:off x="2153160" y="2773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58" name="Group 40"/>
          <p:cNvGrpSpPr/>
          <p:nvPr/>
        </p:nvGrpSpPr>
        <p:grpSpPr>
          <a:xfrm>
            <a:off x="3652920" y="3405240"/>
            <a:ext cx="1206360" cy="1714320"/>
            <a:chOff x="3652920" y="3405240"/>
            <a:chExt cx="1206360" cy="1714320"/>
          </a:xfrm>
        </p:grpSpPr>
        <p:grpSp>
          <p:nvGrpSpPr>
            <p:cNvPr id="859" name="Group 41"/>
            <p:cNvGrpSpPr/>
            <p:nvPr/>
          </p:nvGrpSpPr>
          <p:grpSpPr>
            <a:xfrm>
              <a:off x="3652920" y="3405240"/>
              <a:ext cx="1206360" cy="1714320"/>
              <a:chOff x="3652920" y="3405240"/>
              <a:chExt cx="1206360" cy="1714320"/>
            </a:xfrm>
          </p:grpSpPr>
          <p:sp>
            <p:nvSpPr>
              <p:cNvPr id="860" name="Text Placeholder 32"/>
              <p:cNvSpPr/>
              <p:nvPr/>
            </p:nvSpPr>
            <p:spPr>
              <a:xfrm>
                <a:off x="3652920" y="3699000"/>
                <a:ext cx="120636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1" name="Text Placeholder 33"/>
              <p:cNvSpPr/>
              <p:nvPr/>
            </p:nvSpPr>
            <p:spPr>
              <a:xfrm>
                <a:off x="3652920" y="3405240"/>
                <a:ext cx="11109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Presentation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2" name="Oval 45"/>
              <p:cNvSpPr/>
              <p:nvPr/>
            </p:nvSpPr>
            <p:spPr>
              <a:xfrm>
                <a:off x="3864960" y="4508280"/>
                <a:ext cx="610920" cy="611280"/>
              </a:xfrm>
              <a:prstGeom prst="ellipse">
                <a:avLst/>
              </a:prstGeom>
              <a:solidFill>
                <a:srgbClr val="e91e63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63" name="Shape 2774"/>
            <p:cNvSpPr/>
            <p:nvPr/>
          </p:nvSpPr>
          <p:spPr>
            <a:xfrm>
              <a:off x="4047480" y="46742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64" name="Group 46"/>
          <p:cNvGrpSpPr/>
          <p:nvPr/>
        </p:nvGrpSpPr>
        <p:grpSpPr>
          <a:xfrm>
            <a:off x="5508720" y="2606760"/>
            <a:ext cx="1112760" cy="1892160"/>
            <a:chOff x="5508720" y="2606760"/>
            <a:chExt cx="1112760" cy="1892160"/>
          </a:xfrm>
        </p:grpSpPr>
        <p:grpSp>
          <p:nvGrpSpPr>
            <p:cNvPr id="865" name="Group 47"/>
            <p:cNvGrpSpPr/>
            <p:nvPr/>
          </p:nvGrpSpPr>
          <p:grpSpPr>
            <a:xfrm>
              <a:off x="5508720" y="2606760"/>
              <a:ext cx="1112760" cy="1892160"/>
              <a:chOff x="5508720" y="2606760"/>
              <a:chExt cx="1112760" cy="1892160"/>
            </a:xfrm>
          </p:grpSpPr>
          <p:sp>
            <p:nvSpPr>
              <p:cNvPr id="866" name="Text Placeholder 32"/>
              <p:cNvSpPr/>
              <p:nvPr/>
            </p:nvSpPr>
            <p:spPr>
              <a:xfrm>
                <a:off x="5508720" y="3727440"/>
                <a:ext cx="111276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8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7" name="Text Placeholder 33"/>
              <p:cNvSpPr/>
              <p:nvPr/>
            </p:nvSpPr>
            <p:spPr>
              <a:xfrm>
                <a:off x="5508720" y="341208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Target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8" name="Oval 51"/>
              <p:cNvSpPr/>
              <p:nvPr/>
            </p:nvSpPr>
            <p:spPr>
              <a:xfrm>
                <a:off x="5758920" y="2606760"/>
                <a:ext cx="612000" cy="611640"/>
              </a:xfrm>
              <a:prstGeom prst="ellipse">
                <a:avLst/>
              </a:prstGeom>
              <a:solidFill>
                <a:srgbClr val="c2185b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69" name="Shape 2748"/>
            <p:cNvSpPr/>
            <p:nvPr/>
          </p:nvSpPr>
          <p:spPr>
            <a:xfrm>
              <a:off x="5935680" y="27727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70" name="Group 52"/>
          <p:cNvGrpSpPr/>
          <p:nvPr/>
        </p:nvGrpSpPr>
        <p:grpSpPr>
          <a:xfrm>
            <a:off x="7429680" y="3421080"/>
            <a:ext cx="1136520" cy="1698480"/>
            <a:chOff x="7429680" y="3421080"/>
            <a:chExt cx="1136520" cy="1698480"/>
          </a:xfrm>
        </p:grpSpPr>
        <p:grpSp>
          <p:nvGrpSpPr>
            <p:cNvPr id="871" name="Group 53"/>
            <p:cNvGrpSpPr/>
            <p:nvPr/>
          </p:nvGrpSpPr>
          <p:grpSpPr>
            <a:xfrm>
              <a:off x="7429680" y="3421080"/>
              <a:ext cx="1136520" cy="1698480"/>
              <a:chOff x="7429680" y="3421080"/>
              <a:chExt cx="1136520" cy="1698480"/>
            </a:xfrm>
          </p:grpSpPr>
          <p:sp>
            <p:nvSpPr>
              <p:cNvPr id="872" name="Text Placeholder 32"/>
              <p:cNvSpPr/>
              <p:nvPr/>
            </p:nvSpPr>
            <p:spPr>
              <a:xfrm>
                <a:off x="7453080" y="3652560"/>
                <a:ext cx="111312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3" name="Text Placeholder 33"/>
              <p:cNvSpPr/>
              <p:nvPr/>
            </p:nvSpPr>
            <p:spPr>
              <a:xfrm>
                <a:off x="7429680" y="3421080"/>
                <a:ext cx="1113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Layers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4" name="Oval 57"/>
              <p:cNvSpPr/>
              <p:nvPr/>
            </p:nvSpPr>
            <p:spPr>
              <a:xfrm>
                <a:off x="7681320" y="4507920"/>
                <a:ext cx="612000" cy="611640"/>
              </a:xfrm>
              <a:prstGeom prst="ellipse">
                <a:avLst/>
              </a:prstGeom>
              <a:solidFill>
                <a:srgbClr val="ad1457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75" name="Shape 2784"/>
            <p:cNvSpPr/>
            <p:nvPr/>
          </p:nvSpPr>
          <p:spPr>
            <a:xfrm>
              <a:off x="7846200" y="4673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76" name="Group 58"/>
          <p:cNvGrpSpPr/>
          <p:nvPr/>
        </p:nvGrpSpPr>
        <p:grpSpPr>
          <a:xfrm>
            <a:off x="9326520" y="2606760"/>
            <a:ext cx="1181160" cy="1725480"/>
            <a:chOff x="9326520" y="2606760"/>
            <a:chExt cx="1181160" cy="1725480"/>
          </a:xfrm>
        </p:grpSpPr>
        <p:grpSp>
          <p:nvGrpSpPr>
            <p:cNvPr id="877" name="Group 59"/>
            <p:cNvGrpSpPr/>
            <p:nvPr/>
          </p:nvGrpSpPr>
          <p:grpSpPr>
            <a:xfrm>
              <a:off x="9326520" y="2606760"/>
              <a:ext cx="1181160" cy="1725480"/>
              <a:chOff x="9326520" y="2606760"/>
              <a:chExt cx="1181160" cy="1725480"/>
            </a:xfrm>
          </p:grpSpPr>
          <p:sp>
            <p:nvSpPr>
              <p:cNvPr id="878" name="Text Placeholder 32"/>
              <p:cNvSpPr/>
              <p:nvPr/>
            </p:nvSpPr>
            <p:spPr>
              <a:xfrm>
                <a:off x="9394920" y="3652560"/>
                <a:ext cx="11127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2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9" name="Text Placeholder 33"/>
              <p:cNvSpPr/>
              <p:nvPr/>
            </p:nvSpPr>
            <p:spPr>
              <a:xfrm>
                <a:off x="9326520" y="341172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Video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80" name="Oval 63"/>
              <p:cNvSpPr/>
              <p:nvPr/>
            </p:nvSpPr>
            <p:spPr>
              <a:xfrm>
                <a:off x="9576720" y="2606760"/>
                <a:ext cx="612000" cy="611280"/>
              </a:xfrm>
              <a:prstGeom prst="ellipse">
                <a:avLst/>
              </a:prstGeom>
              <a:solidFill>
                <a:srgbClr val="880e4f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81" name="Shape 2543"/>
            <p:cNvSpPr/>
            <p:nvPr/>
          </p:nvSpPr>
          <p:spPr>
            <a:xfrm>
              <a:off x="9749160" y="27727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Box 1"/>
          <p:cNvSpPr/>
          <p:nvPr/>
        </p:nvSpPr>
        <p:spPr>
          <a:xfrm>
            <a:off x="2477160" y="538200"/>
            <a:ext cx="72536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Approach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83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c407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84" name="Freeform 3"/>
          <p:cNvSpPr/>
          <p:nvPr/>
        </p:nvSpPr>
        <p:spPr>
          <a:xfrm>
            <a:off x="-84240" y="235116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656d7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85" name="Group 4"/>
          <p:cNvGrpSpPr/>
          <p:nvPr/>
        </p:nvGrpSpPr>
        <p:grpSpPr>
          <a:xfrm>
            <a:off x="1760400" y="3745080"/>
            <a:ext cx="995400" cy="993600"/>
            <a:chOff x="1760400" y="3745080"/>
            <a:chExt cx="995400" cy="993600"/>
          </a:xfrm>
        </p:grpSpPr>
        <p:sp>
          <p:nvSpPr>
            <p:cNvPr id="886" name="Oval 19"/>
            <p:cNvSpPr/>
            <p:nvPr/>
          </p:nvSpPr>
          <p:spPr>
            <a:xfrm>
              <a:off x="1760400" y="3745080"/>
              <a:ext cx="995400" cy="993600"/>
            </a:xfrm>
            <a:prstGeom prst="ellipse">
              <a:avLst/>
            </a:prstGeom>
            <a:gradFill rotWithShape="0">
              <a:gsLst>
                <a:gs pos="0">
                  <a:srgbClr val="f05e8a"/>
                </a:gs>
                <a:gs pos="100000">
                  <a:srgbClr val="e3266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87" name="Shape 2778"/>
            <p:cNvSpPr/>
            <p:nvPr/>
          </p:nvSpPr>
          <p:spPr>
            <a:xfrm>
              <a:off x="2118600" y="4102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88" name="Group 7"/>
          <p:cNvGrpSpPr/>
          <p:nvPr/>
        </p:nvGrpSpPr>
        <p:grpSpPr>
          <a:xfrm>
            <a:off x="3657600" y="4365720"/>
            <a:ext cx="996840" cy="993600"/>
            <a:chOff x="3657600" y="4365720"/>
            <a:chExt cx="996840" cy="993600"/>
          </a:xfrm>
        </p:grpSpPr>
        <p:sp>
          <p:nvSpPr>
            <p:cNvPr id="889" name="Oval 19"/>
            <p:cNvSpPr/>
            <p:nvPr/>
          </p:nvSpPr>
          <p:spPr>
            <a:xfrm>
              <a:off x="3657600" y="436572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ee4d77"/>
                </a:gs>
                <a:gs pos="100000">
                  <a:srgbClr val="e3065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0" name="Shape 2774"/>
            <p:cNvSpPr/>
            <p:nvPr/>
          </p:nvSpPr>
          <p:spPr>
            <a:xfrm>
              <a:off x="4030200" y="4724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91" name="Group 10"/>
          <p:cNvGrpSpPr/>
          <p:nvPr/>
        </p:nvGrpSpPr>
        <p:grpSpPr>
          <a:xfrm>
            <a:off x="5556240" y="3009960"/>
            <a:ext cx="996840" cy="993600"/>
            <a:chOff x="5556240" y="3009960"/>
            <a:chExt cx="996840" cy="993600"/>
          </a:xfrm>
        </p:grpSpPr>
        <p:sp>
          <p:nvSpPr>
            <p:cNvPr id="892" name="Oval 11"/>
            <p:cNvSpPr/>
            <p:nvPr/>
          </p:nvSpPr>
          <p:spPr>
            <a:xfrm>
              <a:off x="5556240" y="300996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e14a73"/>
                </a:gs>
                <a:gs pos="100000">
                  <a:srgbClr val="d0065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3" name="Shape 2748"/>
            <p:cNvSpPr/>
            <p:nvPr/>
          </p:nvSpPr>
          <p:spPr>
            <a:xfrm>
              <a:off x="5922720" y="3342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94" name="Group 13"/>
          <p:cNvGrpSpPr/>
          <p:nvPr/>
        </p:nvGrpSpPr>
        <p:grpSpPr>
          <a:xfrm>
            <a:off x="7454880" y="3537000"/>
            <a:ext cx="995400" cy="992160"/>
            <a:chOff x="7454880" y="3537000"/>
            <a:chExt cx="995400" cy="992160"/>
          </a:xfrm>
        </p:grpSpPr>
        <p:sp>
          <p:nvSpPr>
            <p:cNvPr id="895" name="Oval 19"/>
            <p:cNvSpPr/>
            <p:nvPr/>
          </p:nvSpPr>
          <p:spPr>
            <a:xfrm>
              <a:off x="7454880" y="3537000"/>
              <a:ext cx="995400" cy="992160"/>
            </a:xfrm>
            <a:prstGeom prst="ellipse">
              <a:avLst/>
            </a:prstGeom>
            <a:gradFill rotWithShape="0">
              <a:gsLst>
                <a:gs pos="0">
                  <a:srgbClr val="cc4970"/>
                </a:gs>
                <a:gs pos="100000">
                  <a:srgbClr val="bb054d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6" name="Shape 2784"/>
            <p:cNvSpPr/>
            <p:nvPr/>
          </p:nvSpPr>
          <p:spPr>
            <a:xfrm>
              <a:off x="7813080" y="38934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897" name="Shape 2587"/>
          <p:cNvSpPr/>
          <p:nvPr/>
        </p:nvSpPr>
        <p:spPr>
          <a:xfrm>
            <a:off x="9656640" y="1619280"/>
            <a:ext cx="800280" cy="79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81" y="19846"/>
                </a:moveTo>
                <a:lnTo>
                  <a:pt x="9413" y="12882"/>
                </a:lnTo>
                <a:lnTo>
                  <a:pt x="19655" y="2640"/>
                </a:lnTo>
                <a:cubicBezTo>
                  <a:pt x="19655" y="2640"/>
                  <a:pt x="12281" y="19846"/>
                  <a:pt x="12281" y="19846"/>
                </a:cubicBezTo>
                <a:close/>
                <a:moveTo>
                  <a:pt x="1755" y="9320"/>
                </a:moveTo>
                <a:lnTo>
                  <a:pt x="18960" y="1945"/>
                </a:lnTo>
                <a:lnTo>
                  <a:pt x="8719" y="12187"/>
                </a:lnTo>
                <a:cubicBezTo>
                  <a:pt x="8719" y="12187"/>
                  <a:pt x="1755" y="9320"/>
                  <a:pt x="1755" y="9320"/>
                </a:cubicBezTo>
                <a:close/>
                <a:moveTo>
                  <a:pt x="21600" y="491"/>
                </a:moveTo>
                <a:cubicBezTo>
                  <a:pt x="21600" y="220"/>
                  <a:pt x="21380" y="0"/>
                  <a:pt x="21109" y="0"/>
                </a:cubicBezTo>
                <a:cubicBezTo>
                  <a:pt x="21034" y="0"/>
                  <a:pt x="20964" y="20"/>
                  <a:pt x="20900" y="52"/>
                </a:cubicBezTo>
                <a:lnTo>
                  <a:pt x="20898" y="48"/>
                </a:lnTo>
                <a:lnTo>
                  <a:pt x="302" y="8875"/>
                </a:lnTo>
                <a:cubicBezTo>
                  <a:pt x="301" y="8875"/>
                  <a:pt x="299" y="8876"/>
                  <a:pt x="297" y="8877"/>
                </a:cubicBezTo>
                <a:lnTo>
                  <a:pt x="280" y="8885"/>
                </a:lnTo>
                <a:lnTo>
                  <a:pt x="281" y="8887"/>
                </a:lnTo>
                <a:cubicBezTo>
                  <a:pt x="116" y="8967"/>
                  <a:pt x="0" y="9132"/>
                  <a:pt x="0" y="9327"/>
                </a:cubicBezTo>
                <a:cubicBezTo>
                  <a:pt x="0" y="9550"/>
                  <a:pt x="151" y="9731"/>
                  <a:pt x="355" y="9791"/>
                </a:cubicBezTo>
                <a:lnTo>
                  <a:pt x="353" y="9799"/>
                </a:lnTo>
                <a:lnTo>
                  <a:pt x="8462" y="13138"/>
                </a:lnTo>
                <a:lnTo>
                  <a:pt x="11801" y="21248"/>
                </a:lnTo>
                <a:lnTo>
                  <a:pt x="11809" y="21245"/>
                </a:lnTo>
                <a:cubicBezTo>
                  <a:pt x="11869" y="21449"/>
                  <a:pt x="12050" y="21600"/>
                  <a:pt x="12273" y="21600"/>
                </a:cubicBezTo>
                <a:cubicBezTo>
                  <a:pt x="12468" y="21600"/>
                  <a:pt x="12634" y="21484"/>
                  <a:pt x="12713" y="21319"/>
                </a:cubicBezTo>
                <a:lnTo>
                  <a:pt x="12716" y="21320"/>
                </a:lnTo>
                <a:lnTo>
                  <a:pt x="12723" y="21303"/>
                </a:lnTo>
                <a:cubicBezTo>
                  <a:pt x="12724" y="21301"/>
                  <a:pt x="12725" y="21300"/>
                  <a:pt x="12725" y="21298"/>
                </a:cubicBezTo>
                <a:lnTo>
                  <a:pt x="21553" y="702"/>
                </a:lnTo>
                <a:lnTo>
                  <a:pt x="21547" y="699"/>
                </a:lnTo>
                <a:cubicBezTo>
                  <a:pt x="21578" y="636"/>
                  <a:pt x="21600" y="567"/>
                  <a:pt x="21600" y="491"/>
                </a:cubicBezTo>
                <a:moveTo>
                  <a:pt x="7855" y="16200"/>
                </a:moveTo>
                <a:cubicBezTo>
                  <a:pt x="7719" y="16200"/>
                  <a:pt x="7596" y="16255"/>
                  <a:pt x="7507" y="16344"/>
                </a:cubicBezTo>
                <a:lnTo>
                  <a:pt x="6035" y="17817"/>
                </a:lnTo>
                <a:cubicBezTo>
                  <a:pt x="5946" y="17905"/>
                  <a:pt x="5891" y="18029"/>
                  <a:pt x="5891" y="18164"/>
                </a:cubicBezTo>
                <a:cubicBezTo>
                  <a:pt x="5891" y="18435"/>
                  <a:pt x="6111" y="18655"/>
                  <a:pt x="6382" y="18655"/>
                </a:cubicBezTo>
                <a:cubicBezTo>
                  <a:pt x="6517" y="18655"/>
                  <a:pt x="6640" y="18600"/>
                  <a:pt x="6729" y="18511"/>
                </a:cubicBezTo>
                <a:lnTo>
                  <a:pt x="8202" y="17038"/>
                </a:lnTo>
                <a:cubicBezTo>
                  <a:pt x="8291" y="16950"/>
                  <a:pt x="8345" y="16827"/>
                  <a:pt x="8345" y="16691"/>
                </a:cubicBezTo>
                <a:cubicBezTo>
                  <a:pt x="8345" y="16420"/>
                  <a:pt x="8126" y="16200"/>
                  <a:pt x="7855" y="16200"/>
                </a:cubicBezTo>
                <a:moveTo>
                  <a:pt x="7855" y="14237"/>
                </a:moveTo>
                <a:cubicBezTo>
                  <a:pt x="7855" y="13966"/>
                  <a:pt x="7635" y="13745"/>
                  <a:pt x="7364" y="13745"/>
                </a:cubicBezTo>
                <a:cubicBezTo>
                  <a:pt x="7228" y="13745"/>
                  <a:pt x="7105" y="13801"/>
                  <a:pt x="7017" y="13889"/>
                </a:cubicBezTo>
                <a:lnTo>
                  <a:pt x="2107" y="18798"/>
                </a:lnTo>
                <a:cubicBezTo>
                  <a:pt x="2019" y="18888"/>
                  <a:pt x="1964" y="19011"/>
                  <a:pt x="1964" y="19145"/>
                </a:cubicBezTo>
                <a:cubicBezTo>
                  <a:pt x="1964" y="19417"/>
                  <a:pt x="2184" y="19636"/>
                  <a:pt x="2455" y="19636"/>
                </a:cubicBezTo>
                <a:cubicBezTo>
                  <a:pt x="2590" y="19636"/>
                  <a:pt x="2713" y="19582"/>
                  <a:pt x="2802" y="19493"/>
                </a:cubicBezTo>
                <a:lnTo>
                  <a:pt x="7711" y="14583"/>
                </a:lnTo>
                <a:cubicBezTo>
                  <a:pt x="7800" y="14495"/>
                  <a:pt x="7855" y="14372"/>
                  <a:pt x="7855" y="14237"/>
                </a:cubicBezTo>
                <a:moveTo>
                  <a:pt x="4765" y="14583"/>
                </a:moveTo>
                <a:lnTo>
                  <a:pt x="5256" y="14093"/>
                </a:lnTo>
                <a:cubicBezTo>
                  <a:pt x="5345" y="14004"/>
                  <a:pt x="5400" y="13881"/>
                  <a:pt x="5400" y="13745"/>
                </a:cubicBezTo>
                <a:cubicBezTo>
                  <a:pt x="5400" y="13475"/>
                  <a:pt x="5180" y="13255"/>
                  <a:pt x="4909" y="13255"/>
                </a:cubicBezTo>
                <a:cubicBezTo>
                  <a:pt x="4774" y="13255"/>
                  <a:pt x="4651" y="13310"/>
                  <a:pt x="4562" y="13398"/>
                </a:cubicBezTo>
                <a:lnTo>
                  <a:pt x="4071" y="13889"/>
                </a:lnTo>
                <a:cubicBezTo>
                  <a:pt x="3982" y="13979"/>
                  <a:pt x="3927" y="14101"/>
                  <a:pt x="3927" y="14237"/>
                </a:cubicBezTo>
                <a:cubicBezTo>
                  <a:pt x="3927" y="14507"/>
                  <a:pt x="4147" y="14727"/>
                  <a:pt x="4418" y="14727"/>
                </a:cubicBezTo>
                <a:cubicBezTo>
                  <a:pt x="4554" y="14727"/>
                  <a:pt x="4676" y="14673"/>
                  <a:pt x="4765" y="14583"/>
                </a:cubicBezTo>
              </a:path>
            </a:pathLst>
          </a:custGeom>
          <a:solidFill>
            <a:srgbClr val="ec4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98" name="Group 17"/>
          <p:cNvGrpSpPr/>
          <p:nvPr/>
        </p:nvGrpSpPr>
        <p:grpSpPr>
          <a:xfrm>
            <a:off x="1611360" y="2933640"/>
            <a:ext cx="1573200" cy="628560"/>
            <a:chOff x="1611360" y="2933640"/>
            <a:chExt cx="1573200" cy="628560"/>
          </a:xfrm>
        </p:grpSpPr>
        <p:sp>
          <p:nvSpPr>
            <p:cNvPr id="899" name="Rectangle 18"/>
            <p:cNvSpPr/>
            <p:nvPr/>
          </p:nvSpPr>
          <p:spPr>
            <a:xfrm>
              <a:off x="1957320" y="293364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0" name="Shape 2778"/>
            <p:cNvSpPr/>
            <p:nvPr/>
          </p:nvSpPr>
          <p:spPr>
            <a:xfrm>
              <a:off x="1611360" y="3089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1" name="Group 20"/>
          <p:cNvGrpSpPr/>
          <p:nvPr/>
        </p:nvGrpSpPr>
        <p:grpSpPr>
          <a:xfrm>
            <a:off x="3382920" y="5478480"/>
            <a:ext cx="1575000" cy="628560"/>
            <a:chOff x="3382920" y="5478480"/>
            <a:chExt cx="1575000" cy="628560"/>
          </a:xfrm>
        </p:grpSpPr>
        <p:sp>
          <p:nvSpPr>
            <p:cNvPr id="902" name="Rectangle 21"/>
            <p:cNvSpPr/>
            <p:nvPr/>
          </p:nvSpPr>
          <p:spPr>
            <a:xfrm>
              <a:off x="3730320" y="547848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3" name="Shape 2748"/>
            <p:cNvSpPr/>
            <p:nvPr/>
          </p:nvSpPr>
          <p:spPr>
            <a:xfrm>
              <a:off x="3382920" y="56059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4" name="Group 23"/>
          <p:cNvGrpSpPr/>
          <p:nvPr/>
        </p:nvGrpSpPr>
        <p:grpSpPr>
          <a:xfrm>
            <a:off x="5353200" y="4243320"/>
            <a:ext cx="1576080" cy="628560"/>
            <a:chOff x="5353200" y="4243320"/>
            <a:chExt cx="1576080" cy="628560"/>
          </a:xfrm>
        </p:grpSpPr>
        <p:sp>
          <p:nvSpPr>
            <p:cNvPr id="905" name="Rectangle 24"/>
            <p:cNvSpPr/>
            <p:nvPr/>
          </p:nvSpPr>
          <p:spPr>
            <a:xfrm>
              <a:off x="5701680" y="424332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6" name="Shape 2774"/>
            <p:cNvSpPr/>
            <p:nvPr/>
          </p:nvSpPr>
          <p:spPr>
            <a:xfrm>
              <a:off x="5353200" y="43902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7" name="Group 26"/>
          <p:cNvGrpSpPr/>
          <p:nvPr/>
        </p:nvGrpSpPr>
        <p:grpSpPr>
          <a:xfrm>
            <a:off x="7164360" y="2736720"/>
            <a:ext cx="1576440" cy="628560"/>
            <a:chOff x="7164360" y="2736720"/>
            <a:chExt cx="1576440" cy="628560"/>
          </a:xfrm>
        </p:grpSpPr>
        <p:sp>
          <p:nvSpPr>
            <p:cNvPr id="908" name="Rectangle 27"/>
            <p:cNvSpPr/>
            <p:nvPr/>
          </p:nvSpPr>
          <p:spPr>
            <a:xfrm>
              <a:off x="7512120" y="273672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9" name="Shape 2784"/>
            <p:cNvSpPr/>
            <p:nvPr/>
          </p:nvSpPr>
          <p:spPr>
            <a:xfrm>
              <a:off x="7164360" y="28890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Box 1"/>
          <p:cNvSpPr/>
          <p:nvPr/>
        </p:nvSpPr>
        <p:spPr>
          <a:xfrm>
            <a:off x="3543840" y="538200"/>
            <a:ext cx="51199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Smart Business Path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c407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912" name="Group 3"/>
          <p:cNvGrpSpPr/>
          <p:nvPr/>
        </p:nvGrpSpPr>
        <p:grpSpPr>
          <a:xfrm>
            <a:off x="2513160" y="2107800"/>
            <a:ext cx="261720" cy="1166760"/>
            <a:chOff x="2513160" y="2107800"/>
            <a:chExt cx="261720" cy="1166760"/>
          </a:xfrm>
        </p:grpSpPr>
        <p:sp>
          <p:nvSpPr>
            <p:cNvPr id="913" name="Straight Connector 4"/>
            <p:cNvSpPr/>
            <p:nvPr/>
          </p:nvSpPr>
          <p:spPr>
            <a:xfrm flipV="1">
              <a:off x="2513160" y="2107800"/>
              <a:ext cx="0" cy="11667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14" name="Straight Connector 5"/>
            <p:cNvSpPr/>
            <p:nvPr/>
          </p:nvSpPr>
          <p:spPr>
            <a:xfrm>
              <a:off x="2513160" y="210816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15" name="Group 6"/>
          <p:cNvGrpSpPr/>
          <p:nvPr/>
        </p:nvGrpSpPr>
        <p:grpSpPr>
          <a:xfrm>
            <a:off x="7921800" y="2377800"/>
            <a:ext cx="261720" cy="1700280"/>
            <a:chOff x="7921800" y="2377800"/>
            <a:chExt cx="261720" cy="1700280"/>
          </a:xfrm>
        </p:grpSpPr>
        <p:sp>
          <p:nvSpPr>
            <p:cNvPr id="916" name="Straight Connector 7"/>
            <p:cNvSpPr/>
            <p:nvPr/>
          </p:nvSpPr>
          <p:spPr>
            <a:xfrm flipV="1">
              <a:off x="7921800" y="2377800"/>
              <a:ext cx="0" cy="170028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17" name="Straight Connector 8"/>
            <p:cNvSpPr/>
            <p:nvPr/>
          </p:nvSpPr>
          <p:spPr>
            <a:xfrm>
              <a:off x="7921800" y="237816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18" name="Group 9"/>
          <p:cNvGrpSpPr/>
          <p:nvPr/>
        </p:nvGrpSpPr>
        <p:grpSpPr>
          <a:xfrm>
            <a:off x="9834480" y="1698480"/>
            <a:ext cx="262080" cy="1508400"/>
            <a:chOff x="9834480" y="1698480"/>
            <a:chExt cx="262080" cy="1508400"/>
          </a:xfrm>
        </p:grpSpPr>
        <p:sp>
          <p:nvSpPr>
            <p:cNvPr id="919" name="Straight Connector 10"/>
            <p:cNvSpPr/>
            <p:nvPr/>
          </p:nvSpPr>
          <p:spPr>
            <a:xfrm flipV="1">
              <a:off x="9834480" y="1698480"/>
              <a:ext cx="0" cy="150840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0" name="Straight Connector 11"/>
            <p:cNvSpPr/>
            <p:nvPr/>
          </p:nvSpPr>
          <p:spPr>
            <a:xfrm>
              <a:off x="9834480" y="1698480"/>
              <a:ext cx="2620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1" name="Group 12"/>
          <p:cNvGrpSpPr/>
          <p:nvPr/>
        </p:nvGrpSpPr>
        <p:grpSpPr>
          <a:xfrm>
            <a:off x="336600" y="2933640"/>
            <a:ext cx="261720" cy="1166760"/>
            <a:chOff x="336600" y="2933640"/>
            <a:chExt cx="261720" cy="1166760"/>
          </a:xfrm>
        </p:grpSpPr>
        <p:sp>
          <p:nvSpPr>
            <p:cNvPr id="922" name="Straight Connector 13"/>
            <p:cNvSpPr/>
            <p:nvPr/>
          </p:nvSpPr>
          <p:spPr>
            <a:xfrm>
              <a:off x="336600" y="2933640"/>
              <a:ext cx="0" cy="11667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3" name="Straight Connector 14"/>
            <p:cNvSpPr/>
            <p:nvPr/>
          </p:nvSpPr>
          <p:spPr>
            <a:xfrm>
              <a:off x="336600" y="410004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4" name="Group 15"/>
          <p:cNvGrpSpPr/>
          <p:nvPr/>
        </p:nvGrpSpPr>
        <p:grpSpPr>
          <a:xfrm>
            <a:off x="5962680" y="3589200"/>
            <a:ext cx="260280" cy="1167120"/>
            <a:chOff x="5962680" y="3589200"/>
            <a:chExt cx="260280" cy="1167120"/>
          </a:xfrm>
        </p:grpSpPr>
        <p:sp>
          <p:nvSpPr>
            <p:cNvPr id="925" name="Straight Connector 16"/>
            <p:cNvSpPr/>
            <p:nvPr/>
          </p:nvSpPr>
          <p:spPr>
            <a:xfrm flipV="1">
              <a:off x="5962680" y="3589200"/>
              <a:ext cx="0" cy="116712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6" name="Straight Connector 17"/>
            <p:cNvSpPr/>
            <p:nvPr/>
          </p:nvSpPr>
          <p:spPr>
            <a:xfrm>
              <a:off x="5962680" y="3589200"/>
              <a:ext cx="2602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7" name="Group 18"/>
          <p:cNvGrpSpPr/>
          <p:nvPr/>
        </p:nvGrpSpPr>
        <p:grpSpPr>
          <a:xfrm>
            <a:off x="11326320" y="2906640"/>
            <a:ext cx="352440" cy="1569960"/>
            <a:chOff x="11326320" y="2906640"/>
            <a:chExt cx="352440" cy="1569960"/>
          </a:xfrm>
        </p:grpSpPr>
        <p:sp>
          <p:nvSpPr>
            <p:cNvPr id="928" name="Straight Connector 19"/>
            <p:cNvSpPr/>
            <p:nvPr/>
          </p:nvSpPr>
          <p:spPr>
            <a:xfrm>
              <a:off x="11678760" y="2906640"/>
              <a:ext cx="0" cy="15699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9" name="Straight Connector 20"/>
            <p:cNvSpPr/>
            <p:nvPr/>
          </p:nvSpPr>
          <p:spPr>
            <a:xfrm flipH="1">
              <a:off x="11326320" y="4476240"/>
              <a:ext cx="35244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30" name="Group 21"/>
          <p:cNvGrpSpPr/>
          <p:nvPr/>
        </p:nvGrpSpPr>
        <p:grpSpPr>
          <a:xfrm>
            <a:off x="4386240" y="2533320"/>
            <a:ext cx="262080" cy="1446120"/>
            <a:chOff x="4386240" y="2533320"/>
            <a:chExt cx="262080" cy="1446120"/>
          </a:xfrm>
        </p:grpSpPr>
        <p:sp>
          <p:nvSpPr>
            <p:cNvPr id="931" name="Straight Connector 22"/>
            <p:cNvSpPr/>
            <p:nvPr/>
          </p:nvSpPr>
          <p:spPr>
            <a:xfrm flipV="1">
              <a:off x="4386240" y="2533320"/>
              <a:ext cx="0" cy="144612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32" name="Straight Connector 23"/>
            <p:cNvSpPr/>
            <p:nvPr/>
          </p:nvSpPr>
          <p:spPr>
            <a:xfrm>
              <a:off x="4386240" y="2533680"/>
              <a:ext cx="2620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933" name="Rectangle 24"/>
          <p:cNvSpPr/>
          <p:nvPr/>
        </p:nvSpPr>
        <p:spPr>
          <a:xfrm>
            <a:off x="220680" y="423216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4" name="Rectangle 25"/>
          <p:cNvSpPr/>
          <p:nvPr/>
        </p:nvSpPr>
        <p:spPr>
          <a:xfrm>
            <a:off x="2854440" y="181764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5" name="Rectangle 26"/>
          <p:cNvSpPr/>
          <p:nvPr/>
        </p:nvSpPr>
        <p:spPr>
          <a:xfrm>
            <a:off x="4727520" y="2239920"/>
            <a:ext cx="2102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6" name="Rectangle 27"/>
          <p:cNvSpPr/>
          <p:nvPr/>
        </p:nvSpPr>
        <p:spPr>
          <a:xfrm>
            <a:off x="6275520" y="3305160"/>
            <a:ext cx="1747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7" name="Rectangle 28"/>
          <p:cNvSpPr/>
          <p:nvPr/>
        </p:nvSpPr>
        <p:spPr>
          <a:xfrm>
            <a:off x="8285040" y="2112840"/>
            <a:ext cx="14065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8" name="Rectangle 29"/>
          <p:cNvSpPr/>
          <p:nvPr/>
        </p:nvSpPr>
        <p:spPr>
          <a:xfrm>
            <a:off x="10190160" y="1438200"/>
            <a:ext cx="1960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9" name="Rectangle 30"/>
          <p:cNvSpPr/>
          <p:nvPr/>
        </p:nvSpPr>
        <p:spPr>
          <a:xfrm>
            <a:off x="9317160" y="4203720"/>
            <a:ext cx="1962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940" name="Group 31"/>
          <p:cNvGrpSpPr/>
          <p:nvPr/>
        </p:nvGrpSpPr>
        <p:grpSpPr>
          <a:xfrm>
            <a:off x="-6840" y="2197080"/>
            <a:ext cx="2056320" cy="851040"/>
            <a:chOff x="-6840" y="2197080"/>
            <a:chExt cx="2056320" cy="851040"/>
          </a:xfrm>
        </p:grpSpPr>
        <p:grpSp>
          <p:nvGrpSpPr>
            <p:cNvPr id="941" name="Group 32"/>
            <p:cNvGrpSpPr/>
            <p:nvPr/>
          </p:nvGrpSpPr>
          <p:grpSpPr>
            <a:xfrm>
              <a:off x="-6840" y="2197080"/>
              <a:ext cx="2056320" cy="851040"/>
              <a:chOff x="-6840" y="2197080"/>
              <a:chExt cx="2056320" cy="851040"/>
            </a:xfrm>
          </p:grpSpPr>
          <p:sp>
            <p:nvSpPr>
              <p:cNvPr id="942" name="Round Single Corner Rectangle 34"/>
              <p:cNvSpPr/>
              <p:nvPr/>
            </p:nvSpPr>
            <p:spPr>
              <a:xfrm>
                <a:off x="1135440" y="2197080"/>
                <a:ext cx="91404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3" name="Rectangle 35"/>
              <p:cNvSpPr/>
              <p:nvPr/>
            </p:nvSpPr>
            <p:spPr>
              <a:xfrm flipH="1">
                <a:off x="-6840" y="2197080"/>
                <a:ext cx="1141920" cy="851040"/>
              </a:xfrm>
              <a:prstGeom prst="rect">
                <a:avLst/>
              </a:prstGeom>
              <a:solidFill>
                <a:srgbClr val="820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44" name="Shape 2543"/>
            <p:cNvSpPr/>
            <p:nvPr/>
          </p:nvSpPr>
          <p:spPr>
            <a:xfrm>
              <a:off x="391680" y="2482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45" name="Group 36"/>
          <p:cNvGrpSpPr/>
          <p:nvPr/>
        </p:nvGrpSpPr>
        <p:grpSpPr>
          <a:xfrm>
            <a:off x="2964960" y="3858840"/>
            <a:ext cx="2719800" cy="849600"/>
            <a:chOff x="2964960" y="3858840"/>
            <a:chExt cx="2719800" cy="849600"/>
          </a:xfrm>
        </p:grpSpPr>
        <p:grpSp>
          <p:nvGrpSpPr>
            <p:cNvPr id="946" name="Group 37"/>
            <p:cNvGrpSpPr/>
            <p:nvPr/>
          </p:nvGrpSpPr>
          <p:grpSpPr>
            <a:xfrm>
              <a:off x="3858120" y="3859200"/>
              <a:ext cx="1826640" cy="849240"/>
              <a:chOff x="3858120" y="3859200"/>
              <a:chExt cx="1826640" cy="849240"/>
            </a:xfrm>
          </p:grpSpPr>
          <p:sp>
            <p:nvSpPr>
              <p:cNvPr id="947" name="Rectangle 40"/>
              <p:cNvSpPr/>
              <p:nvPr/>
            </p:nvSpPr>
            <p:spPr>
              <a:xfrm>
                <a:off x="3858120" y="3859200"/>
                <a:ext cx="913320" cy="849240"/>
              </a:xfrm>
              <a:prstGeom prst="rect">
                <a:avLst/>
              </a:prstGeom>
              <a:solidFill>
                <a:srgbClr val="cd1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8" name="Round Single Corner Rectangle 41"/>
              <p:cNvSpPr/>
              <p:nvPr/>
            </p:nvSpPr>
            <p:spPr>
              <a:xfrm>
                <a:off x="4771440" y="3859200"/>
                <a:ext cx="91332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4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9" name="Isosceles Triangle 42"/>
              <p:cNvSpPr/>
              <p:nvPr/>
            </p:nvSpPr>
            <p:spPr>
              <a:xfrm rot="5400000">
                <a:off x="4726080" y="42224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cd1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50" name="Round Single Corner Rectangle 38"/>
            <p:cNvSpPr/>
            <p:nvPr/>
          </p:nvSpPr>
          <p:spPr>
            <a:xfrm flipH="1" flipV="1">
              <a:off x="2964600" y="3858480"/>
              <a:ext cx="913320" cy="849240"/>
            </a:xfrm>
            <a:custGeom>
              <a:avLst/>
              <a:gdLst/>
              <a:ahLst/>
              <a:rect l="l" t="t" r="r" b="b"/>
              <a:pathLst>
                <a:path w="913710" h="850209">
                  <a:moveTo>
                    <a:pt x="0" y="0"/>
                  </a:moveTo>
                  <a:lnTo>
                    <a:pt x="488606" y="0"/>
                  </a:lnTo>
                  <a:cubicBezTo>
                    <a:pt x="723385" y="0"/>
                    <a:pt x="913711" y="190326"/>
                    <a:pt x="913711" y="425105"/>
                  </a:cubicBezTo>
                  <a:cubicBezTo>
                    <a:pt x="913711" y="566806"/>
                    <a:pt x="913710" y="708508"/>
                    <a:pt x="913710" y="850209"/>
                  </a:cubicBezTo>
                  <a:lnTo>
                    <a:pt x="0" y="8502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4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51" name="Shape 2563"/>
            <p:cNvSpPr/>
            <p:nvPr/>
          </p:nvSpPr>
          <p:spPr>
            <a:xfrm>
              <a:off x="4171320" y="41443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2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4354" y="17673"/>
                  </a:moveTo>
                  <a:lnTo>
                    <a:pt x="7369" y="13149"/>
                  </a:lnTo>
                  <a:lnTo>
                    <a:pt x="8875" y="15407"/>
                  </a:lnTo>
                  <a:cubicBezTo>
                    <a:pt x="8949" y="15584"/>
                    <a:pt x="9123" y="15709"/>
                    <a:pt x="9327" y="15709"/>
                  </a:cubicBezTo>
                  <a:cubicBezTo>
                    <a:pt x="9463" y="15709"/>
                    <a:pt x="9586" y="15655"/>
                    <a:pt x="9674" y="15565"/>
                  </a:cubicBezTo>
                  <a:lnTo>
                    <a:pt x="11198" y="14042"/>
                  </a:lnTo>
                  <a:lnTo>
                    <a:pt x="13376" y="17673"/>
                  </a:lnTo>
                  <a:cubicBezTo>
                    <a:pt x="13376" y="17673"/>
                    <a:pt x="4354" y="17673"/>
                    <a:pt x="4354" y="17673"/>
                  </a:cubicBezTo>
                  <a:close/>
                  <a:moveTo>
                    <a:pt x="14692" y="17982"/>
                  </a:moveTo>
                  <a:lnTo>
                    <a:pt x="14690" y="17977"/>
                  </a:lnTo>
                  <a:cubicBezTo>
                    <a:pt x="14685" y="17967"/>
                    <a:pt x="14677" y="17959"/>
                    <a:pt x="14673" y="17949"/>
                  </a:cubicBezTo>
                  <a:lnTo>
                    <a:pt x="11747" y="13073"/>
                  </a:lnTo>
                  <a:lnTo>
                    <a:pt x="11745" y="13073"/>
                  </a:lnTo>
                  <a:cubicBezTo>
                    <a:pt x="11673" y="12892"/>
                    <a:pt x="11498" y="12764"/>
                    <a:pt x="11291" y="12764"/>
                  </a:cubicBezTo>
                  <a:cubicBezTo>
                    <a:pt x="11155" y="12764"/>
                    <a:pt x="11033" y="12819"/>
                    <a:pt x="10944" y="12908"/>
                  </a:cubicBezTo>
                  <a:lnTo>
                    <a:pt x="9397" y="14454"/>
                  </a:lnTo>
                  <a:lnTo>
                    <a:pt x="7816" y="12084"/>
                  </a:lnTo>
                  <a:cubicBezTo>
                    <a:pt x="7742" y="11907"/>
                    <a:pt x="7568" y="11782"/>
                    <a:pt x="7364" y="11782"/>
                  </a:cubicBezTo>
                  <a:cubicBezTo>
                    <a:pt x="7193" y="11782"/>
                    <a:pt x="7051" y="11874"/>
                    <a:pt x="6963" y="12006"/>
                  </a:cubicBezTo>
                  <a:lnTo>
                    <a:pt x="6955" y="12000"/>
                  </a:lnTo>
                  <a:lnTo>
                    <a:pt x="3028" y="17891"/>
                  </a:lnTo>
                  <a:lnTo>
                    <a:pt x="3036" y="17897"/>
                  </a:lnTo>
                  <a:cubicBezTo>
                    <a:pt x="2983" y="17974"/>
                    <a:pt x="2945" y="18063"/>
                    <a:pt x="2945" y="18164"/>
                  </a:cubicBezTo>
                  <a:cubicBezTo>
                    <a:pt x="2945" y="18435"/>
                    <a:pt x="3165" y="18655"/>
                    <a:pt x="3436" y="18655"/>
                  </a:cubicBezTo>
                  <a:lnTo>
                    <a:pt x="14236" y="18655"/>
                  </a:lnTo>
                  <a:cubicBezTo>
                    <a:pt x="14508" y="18655"/>
                    <a:pt x="14727" y="18435"/>
                    <a:pt x="14727" y="18164"/>
                  </a:cubicBezTo>
                  <a:cubicBezTo>
                    <a:pt x="14727" y="18099"/>
                    <a:pt x="14713" y="18039"/>
                    <a:pt x="14691" y="17983"/>
                  </a:cubicBezTo>
                  <a:cubicBezTo>
                    <a:pt x="14691" y="17983"/>
                    <a:pt x="14692" y="17982"/>
                    <a:pt x="14692" y="17982"/>
                  </a:cubicBezTo>
                  <a:close/>
                  <a:moveTo>
                    <a:pt x="4909" y="7855"/>
                  </a:moveTo>
                  <a:cubicBezTo>
                    <a:pt x="5451" y="7855"/>
                    <a:pt x="5891" y="8295"/>
                    <a:pt x="5891" y="8836"/>
                  </a:cubicBezTo>
                  <a:cubicBezTo>
                    <a:pt x="5891" y="9379"/>
                    <a:pt x="5451" y="9818"/>
                    <a:pt x="4909" y="9818"/>
                  </a:cubicBezTo>
                  <a:cubicBezTo>
                    <a:pt x="4367" y="9818"/>
                    <a:pt x="3927" y="9379"/>
                    <a:pt x="3927" y="8836"/>
                  </a:cubicBezTo>
                  <a:cubicBezTo>
                    <a:pt x="3927" y="8295"/>
                    <a:pt x="4367" y="7855"/>
                    <a:pt x="4909" y="7855"/>
                  </a:cubicBezTo>
                  <a:moveTo>
                    <a:pt x="4909" y="10800"/>
                  </a:moveTo>
                  <a:cubicBezTo>
                    <a:pt x="5994" y="10800"/>
                    <a:pt x="6873" y="9921"/>
                    <a:pt x="6873" y="8836"/>
                  </a:cubicBezTo>
                  <a:cubicBezTo>
                    <a:pt x="6873" y="7752"/>
                    <a:pt x="5994" y="6873"/>
                    <a:pt x="4909" y="6873"/>
                  </a:cubicBezTo>
                  <a:cubicBezTo>
                    <a:pt x="3825" y="6873"/>
                    <a:pt x="2945" y="7752"/>
                    <a:pt x="2945" y="8836"/>
                  </a:cubicBezTo>
                  <a:cubicBezTo>
                    <a:pt x="2945" y="9921"/>
                    <a:pt x="3825" y="10800"/>
                    <a:pt x="4909" y="10800"/>
                  </a:cubicBezTo>
                  <a:moveTo>
                    <a:pt x="16691" y="19636"/>
                  </a:moveTo>
                  <a:cubicBezTo>
                    <a:pt x="16691" y="20179"/>
                    <a:pt x="16251" y="20619"/>
                    <a:pt x="15709" y="20619"/>
                  </a:cubicBezTo>
                  <a:lnTo>
                    <a:pt x="1964" y="20619"/>
                  </a:lnTo>
                  <a:cubicBezTo>
                    <a:pt x="1422" y="20619"/>
                    <a:pt x="982" y="20179"/>
                    <a:pt x="982" y="19636"/>
                  </a:cubicBez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9636"/>
                    <a:pt x="16691" y="19636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52" name="Group 43"/>
          <p:cNvGrpSpPr/>
          <p:nvPr/>
        </p:nvGrpSpPr>
        <p:grpSpPr>
          <a:xfrm>
            <a:off x="1149480" y="3022200"/>
            <a:ext cx="2730240" cy="849600"/>
            <a:chOff x="1149480" y="3022200"/>
            <a:chExt cx="2730240" cy="849600"/>
          </a:xfrm>
        </p:grpSpPr>
        <p:grpSp>
          <p:nvGrpSpPr>
            <p:cNvPr id="953" name="Group 44"/>
            <p:cNvGrpSpPr/>
            <p:nvPr/>
          </p:nvGrpSpPr>
          <p:grpSpPr>
            <a:xfrm>
              <a:off x="1149480" y="3022200"/>
              <a:ext cx="2730240" cy="849600"/>
              <a:chOff x="1149480" y="3022200"/>
              <a:chExt cx="2730240" cy="849600"/>
            </a:xfrm>
          </p:grpSpPr>
          <p:sp>
            <p:nvSpPr>
              <p:cNvPr id="954" name="Round Single Corner Rectangle 46"/>
              <p:cNvSpPr/>
              <p:nvPr/>
            </p:nvSpPr>
            <p:spPr>
              <a:xfrm flipH="1" flipV="1">
                <a:off x="1149480" y="302184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1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5" name="Rectangle 47"/>
              <p:cNvSpPr/>
              <p:nvPr/>
            </p:nvSpPr>
            <p:spPr>
              <a:xfrm flipV="1">
                <a:off x="2052360" y="3021840"/>
                <a:ext cx="913680" cy="849240"/>
              </a:xfrm>
              <a:prstGeom prst="rect">
                <a:avLst/>
              </a:prstGeom>
              <a:solidFill>
                <a:srgbClr val="c21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6" name="Round Single Corner Rectangle 48"/>
              <p:cNvSpPr/>
              <p:nvPr/>
            </p:nvSpPr>
            <p:spPr>
              <a:xfrm>
                <a:off x="2966040" y="302256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1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7" name="Isosceles Triangle 49"/>
              <p:cNvSpPr/>
              <p:nvPr/>
            </p:nvSpPr>
            <p:spPr>
              <a:xfrm flipV="1" rot="16200000">
                <a:off x="2923200" y="33728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c21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58" name="Shape 2570"/>
            <p:cNvSpPr/>
            <p:nvPr/>
          </p:nvSpPr>
          <p:spPr>
            <a:xfrm>
              <a:off x="2369520" y="3375720"/>
              <a:ext cx="279000" cy="272520"/>
            </a:xfrm>
            <a:custGeom>
              <a:avLst/>
              <a:gdLst/>
              <a:ahLst/>
              <a:rect l="l" t="t" r="r" b="b"/>
              <a:pathLst>
                <a:path w="21600" h="21319">
                  <a:moveTo>
                    <a:pt x="7530" y="4197"/>
                  </a:moveTo>
                  <a:lnTo>
                    <a:pt x="6680" y="3701"/>
                  </a:lnTo>
                  <a:lnTo>
                    <a:pt x="6189" y="4560"/>
                  </a:lnTo>
                  <a:lnTo>
                    <a:pt x="7040" y="5056"/>
                  </a:lnTo>
                  <a:cubicBezTo>
                    <a:pt x="7040" y="5056"/>
                    <a:pt x="7530" y="4197"/>
                    <a:pt x="7530" y="4197"/>
                  </a:cubicBezTo>
                  <a:close/>
                  <a:moveTo>
                    <a:pt x="8512" y="2479"/>
                  </a:moveTo>
                  <a:lnTo>
                    <a:pt x="7662" y="1984"/>
                  </a:lnTo>
                  <a:lnTo>
                    <a:pt x="7171" y="2843"/>
                  </a:lnTo>
                  <a:lnTo>
                    <a:pt x="8021" y="3339"/>
                  </a:lnTo>
                  <a:cubicBezTo>
                    <a:pt x="8021" y="3339"/>
                    <a:pt x="8512" y="2479"/>
                    <a:pt x="8512" y="2479"/>
                  </a:cubicBezTo>
                  <a:close/>
                  <a:moveTo>
                    <a:pt x="20618" y="8428"/>
                  </a:moveTo>
                  <a:lnTo>
                    <a:pt x="982" y="8428"/>
                  </a:lnTo>
                  <a:lnTo>
                    <a:pt x="982" y="6445"/>
                  </a:lnTo>
                  <a:lnTo>
                    <a:pt x="20618" y="6445"/>
                  </a:lnTo>
                  <a:cubicBezTo>
                    <a:pt x="20618" y="6445"/>
                    <a:pt x="20618" y="8428"/>
                    <a:pt x="20618" y="8428"/>
                  </a:cubicBezTo>
                  <a:close/>
                  <a:moveTo>
                    <a:pt x="18655" y="20327"/>
                  </a:moveTo>
                  <a:lnTo>
                    <a:pt x="2945" y="20327"/>
                  </a:lnTo>
                  <a:lnTo>
                    <a:pt x="2945" y="9420"/>
                  </a:lnTo>
                  <a:lnTo>
                    <a:pt x="18655" y="9420"/>
                  </a:lnTo>
                  <a:cubicBezTo>
                    <a:pt x="18655" y="9420"/>
                    <a:pt x="18655" y="20327"/>
                    <a:pt x="18655" y="20327"/>
                  </a:cubicBezTo>
                  <a:close/>
                  <a:moveTo>
                    <a:pt x="6811" y="1488"/>
                  </a:moveTo>
                  <a:cubicBezTo>
                    <a:pt x="7083" y="1014"/>
                    <a:pt x="7683" y="851"/>
                    <a:pt x="8153" y="1125"/>
                  </a:cubicBezTo>
                  <a:lnTo>
                    <a:pt x="9854" y="2117"/>
                  </a:lnTo>
                  <a:lnTo>
                    <a:pt x="7946" y="5454"/>
                  </a:lnTo>
                  <a:lnTo>
                    <a:pt x="5759" y="5454"/>
                  </a:lnTo>
                  <a:lnTo>
                    <a:pt x="5698" y="5419"/>
                  </a:lnTo>
                  <a:lnTo>
                    <a:pt x="5678" y="5454"/>
                  </a:lnTo>
                  <a:lnTo>
                    <a:pt x="4545" y="5454"/>
                  </a:lnTo>
                  <a:cubicBezTo>
                    <a:pt x="4545" y="5454"/>
                    <a:pt x="6811" y="1488"/>
                    <a:pt x="6811" y="1488"/>
                  </a:cubicBezTo>
                  <a:close/>
                  <a:moveTo>
                    <a:pt x="15577" y="5454"/>
                  </a:moveTo>
                  <a:lnTo>
                    <a:pt x="9079" y="5454"/>
                  </a:lnTo>
                  <a:lnTo>
                    <a:pt x="10704" y="2612"/>
                  </a:lnTo>
                  <a:cubicBezTo>
                    <a:pt x="10704" y="2612"/>
                    <a:pt x="15577" y="5454"/>
                    <a:pt x="15577" y="5454"/>
                  </a:cubicBezTo>
                  <a:close/>
                  <a:moveTo>
                    <a:pt x="15930" y="2759"/>
                  </a:moveTo>
                  <a:cubicBezTo>
                    <a:pt x="16454" y="2617"/>
                    <a:pt x="16991" y="2931"/>
                    <a:pt x="17132" y="3460"/>
                  </a:cubicBezTo>
                  <a:lnTo>
                    <a:pt x="17661" y="5454"/>
                  </a:lnTo>
                  <a:lnTo>
                    <a:pt x="17540" y="5454"/>
                  </a:lnTo>
                  <a:lnTo>
                    <a:pt x="16279" y="4718"/>
                  </a:lnTo>
                  <a:lnTo>
                    <a:pt x="16438" y="4674"/>
                  </a:lnTo>
                  <a:lnTo>
                    <a:pt x="16184" y="3716"/>
                  </a:lnTo>
                  <a:lnTo>
                    <a:pt x="15236" y="3973"/>
                  </a:lnTo>
                  <a:lnTo>
                    <a:pt x="15279" y="4135"/>
                  </a:lnTo>
                  <a:lnTo>
                    <a:pt x="14076" y="3434"/>
                  </a:lnTo>
                  <a:lnTo>
                    <a:pt x="14033" y="3272"/>
                  </a:lnTo>
                  <a:cubicBezTo>
                    <a:pt x="14033" y="3272"/>
                    <a:pt x="15930" y="2759"/>
                    <a:pt x="15930" y="2759"/>
                  </a:cubicBezTo>
                  <a:close/>
                  <a:moveTo>
                    <a:pt x="20618" y="5454"/>
                  </a:moveTo>
                  <a:lnTo>
                    <a:pt x="18678" y="5454"/>
                  </a:lnTo>
                  <a:lnTo>
                    <a:pt x="18081" y="3203"/>
                  </a:lnTo>
                  <a:cubicBezTo>
                    <a:pt x="17800" y="2145"/>
                    <a:pt x="16724" y="1518"/>
                    <a:pt x="15676" y="1801"/>
                  </a:cubicBezTo>
                  <a:lnTo>
                    <a:pt x="12671" y="2615"/>
                  </a:lnTo>
                  <a:lnTo>
                    <a:pt x="8644" y="266"/>
                  </a:lnTo>
                  <a:cubicBezTo>
                    <a:pt x="7704" y="-281"/>
                    <a:pt x="6504" y="44"/>
                    <a:pt x="5961" y="992"/>
                  </a:cubicBezTo>
                  <a:lnTo>
                    <a:pt x="3410" y="5454"/>
                  </a:lnTo>
                  <a:lnTo>
                    <a:pt x="982" y="5454"/>
                  </a:lnTo>
                  <a:cubicBezTo>
                    <a:pt x="440" y="5454"/>
                    <a:pt x="0" y="5898"/>
                    <a:pt x="0" y="6445"/>
                  </a:cubicBezTo>
                  <a:lnTo>
                    <a:pt x="0" y="8428"/>
                  </a:lnTo>
                  <a:cubicBezTo>
                    <a:pt x="0" y="8977"/>
                    <a:pt x="440" y="9420"/>
                    <a:pt x="982" y="9420"/>
                  </a:cubicBezTo>
                  <a:lnTo>
                    <a:pt x="1964" y="9420"/>
                  </a:lnTo>
                  <a:lnTo>
                    <a:pt x="1964" y="20327"/>
                  </a:lnTo>
                  <a:cubicBezTo>
                    <a:pt x="1964" y="20875"/>
                    <a:pt x="2403" y="21319"/>
                    <a:pt x="2945" y="21319"/>
                  </a:cubicBezTo>
                  <a:lnTo>
                    <a:pt x="18655" y="21319"/>
                  </a:lnTo>
                  <a:cubicBezTo>
                    <a:pt x="19197" y="21319"/>
                    <a:pt x="19636" y="20875"/>
                    <a:pt x="19636" y="20327"/>
                  </a:cubicBezTo>
                  <a:lnTo>
                    <a:pt x="19636" y="9420"/>
                  </a:lnTo>
                  <a:lnTo>
                    <a:pt x="20618" y="9420"/>
                  </a:lnTo>
                  <a:cubicBezTo>
                    <a:pt x="21160" y="9420"/>
                    <a:pt x="21600" y="8977"/>
                    <a:pt x="21600" y="8428"/>
                  </a:cubicBezTo>
                  <a:lnTo>
                    <a:pt x="21600" y="6445"/>
                  </a:lnTo>
                  <a:cubicBezTo>
                    <a:pt x="21600" y="5898"/>
                    <a:pt x="21160" y="5454"/>
                    <a:pt x="20618" y="5454"/>
                  </a:cubicBezTo>
                  <a:moveTo>
                    <a:pt x="7855" y="12395"/>
                  </a:moveTo>
                  <a:lnTo>
                    <a:pt x="13745" y="12395"/>
                  </a:lnTo>
                  <a:lnTo>
                    <a:pt x="13745" y="13386"/>
                  </a:lnTo>
                  <a:lnTo>
                    <a:pt x="7855" y="13386"/>
                  </a:lnTo>
                  <a:cubicBezTo>
                    <a:pt x="7855" y="13386"/>
                    <a:pt x="7855" y="12395"/>
                    <a:pt x="7855" y="12395"/>
                  </a:cubicBezTo>
                  <a:close/>
                  <a:moveTo>
                    <a:pt x="7855" y="14378"/>
                  </a:moveTo>
                  <a:lnTo>
                    <a:pt x="13745" y="14378"/>
                  </a:lnTo>
                  <a:cubicBezTo>
                    <a:pt x="14288" y="14378"/>
                    <a:pt x="14727" y="13934"/>
                    <a:pt x="14727" y="13386"/>
                  </a:cubicBezTo>
                  <a:lnTo>
                    <a:pt x="14727" y="12395"/>
                  </a:lnTo>
                  <a:cubicBezTo>
                    <a:pt x="14727" y="11847"/>
                    <a:pt x="14288" y="11403"/>
                    <a:pt x="13745" y="11403"/>
                  </a:cubicBezTo>
                  <a:lnTo>
                    <a:pt x="7855" y="11403"/>
                  </a:lnTo>
                  <a:cubicBezTo>
                    <a:pt x="7312" y="11403"/>
                    <a:pt x="6873" y="11847"/>
                    <a:pt x="6873" y="12395"/>
                  </a:cubicBezTo>
                  <a:lnTo>
                    <a:pt x="6873" y="13386"/>
                  </a:lnTo>
                  <a:cubicBezTo>
                    <a:pt x="6873" y="13934"/>
                    <a:pt x="7312" y="14378"/>
                    <a:pt x="7855" y="143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59" name="Group 50"/>
          <p:cNvGrpSpPr/>
          <p:nvPr/>
        </p:nvGrpSpPr>
        <p:grpSpPr>
          <a:xfrm>
            <a:off x="4772160" y="4708440"/>
            <a:ext cx="2741400" cy="851040"/>
            <a:chOff x="4772160" y="4708440"/>
            <a:chExt cx="2741400" cy="851040"/>
          </a:xfrm>
        </p:grpSpPr>
        <p:grpSp>
          <p:nvGrpSpPr>
            <p:cNvPr id="960" name="Group 51"/>
            <p:cNvGrpSpPr/>
            <p:nvPr/>
          </p:nvGrpSpPr>
          <p:grpSpPr>
            <a:xfrm>
              <a:off x="4772160" y="4708440"/>
              <a:ext cx="2741400" cy="851040"/>
              <a:chOff x="4772160" y="4708440"/>
              <a:chExt cx="2741400" cy="851040"/>
            </a:xfrm>
          </p:grpSpPr>
          <p:sp>
            <p:nvSpPr>
              <p:cNvPr id="961" name="Rectangle 53"/>
              <p:cNvSpPr/>
              <p:nvPr/>
            </p:nvSpPr>
            <p:spPr>
              <a:xfrm>
                <a:off x="5685840" y="4708440"/>
                <a:ext cx="913680" cy="851040"/>
              </a:xfrm>
              <a:prstGeom prst="rect">
                <a:avLst/>
              </a:prstGeom>
              <a:solidFill>
                <a:srgbClr val="e91e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2" name="Round Single Corner Rectangle 54"/>
              <p:cNvSpPr/>
              <p:nvPr/>
            </p:nvSpPr>
            <p:spPr>
              <a:xfrm flipH="1" flipV="1">
                <a:off x="477216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3" name="Round Single Corner Rectangle 55"/>
              <p:cNvSpPr/>
              <p:nvPr/>
            </p:nvSpPr>
            <p:spPr>
              <a:xfrm flipV="1">
                <a:off x="659988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4" name="Isosceles Triangle 56"/>
              <p:cNvSpPr/>
              <p:nvPr/>
            </p:nvSpPr>
            <p:spPr>
              <a:xfrm rot="5400000">
                <a:off x="6556680" y="5094720"/>
                <a:ext cx="208440" cy="122400"/>
              </a:xfrm>
              <a:prstGeom prst="triangle">
                <a:avLst>
                  <a:gd name="adj" fmla="val 50000"/>
                </a:avLst>
              </a:prstGeom>
              <a:solidFill>
                <a:srgbClr val="e91e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65" name="Shape 2599"/>
            <p:cNvSpPr/>
            <p:nvPr/>
          </p:nvSpPr>
          <p:spPr>
            <a:xfrm>
              <a:off x="5962680" y="5016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82" y="7855"/>
                  </a:moveTo>
                  <a:cubicBezTo>
                    <a:pt x="6653" y="7855"/>
                    <a:pt x="6873" y="7635"/>
                    <a:pt x="6873" y="7364"/>
                  </a:cubicBezTo>
                  <a:cubicBezTo>
                    <a:pt x="6873" y="7092"/>
                    <a:pt x="6653" y="6873"/>
                    <a:pt x="6382" y="6873"/>
                  </a:cubicBezTo>
                  <a:cubicBezTo>
                    <a:pt x="6111" y="6873"/>
                    <a:pt x="5891" y="7092"/>
                    <a:pt x="5891" y="7364"/>
                  </a:cubicBezTo>
                  <a:cubicBezTo>
                    <a:pt x="5891" y="7635"/>
                    <a:pt x="6111" y="7855"/>
                    <a:pt x="6382" y="7855"/>
                  </a:cubicBezTo>
                  <a:moveTo>
                    <a:pt x="6873" y="10800"/>
                  </a:moveTo>
                  <a:lnTo>
                    <a:pt x="10800" y="10800"/>
                  </a:lnTo>
                  <a:lnTo>
                    <a:pt x="10800" y="13746"/>
                  </a:lnTo>
                  <a:lnTo>
                    <a:pt x="6873" y="13746"/>
                  </a:lnTo>
                  <a:cubicBezTo>
                    <a:pt x="6873" y="13746"/>
                    <a:pt x="6873" y="10800"/>
                    <a:pt x="6873" y="10800"/>
                  </a:cubicBezTo>
                  <a:close/>
                  <a:moveTo>
                    <a:pt x="6382" y="14727"/>
                  </a:moveTo>
                  <a:lnTo>
                    <a:pt x="11291" y="14727"/>
                  </a:lnTo>
                  <a:cubicBezTo>
                    <a:pt x="11562" y="14727"/>
                    <a:pt x="11782" y="14508"/>
                    <a:pt x="11782" y="14236"/>
                  </a:cubicBezTo>
                  <a:lnTo>
                    <a:pt x="11782" y="10309"/>
                  </a:lnTo>
                  <a:cubicBezTo>
                    <a:pt x="11782" y="10038"/>
                    <a:pt x="11562" y="9818"/>
                    <a:pt x="11291" y="9818"/>
                  </a:cubicBezTo>
                  <a:lnTo>
                    <a:pt x="6382" y="9818"/>
                  </a:lnTo>
                  <a:cubicBezTo>
                    <a:pt x="6111" y="9818"/>
                    <a:pt x="5891" y="10038"/>
                    <a:pt x="5891" y="10309"/>
                  </a:cubicBezTo>
                  <a:lnTo>
                    <a:pt x="5891" y="14236"/>
                  </a:lnTo>
                  <a:cubicBezTo>
                    <a:pt x="5891" y="14508"/>
                    <a:pt x="6111" y="14727"/>
                    <a:pt x="6382" y="14727"/>
                  </a:cubicBezTo>
                  <a:moveTo>
                    <a:pt x="8345" y="7855"/>
                  </a:moveTo>
                  <a:cubicBezTo>
                    <a:pt x="8616" y="7855"/>
                    <a:pt x="8836" y="7635"/>
                    <a:pt x="8836" y="7364"/>
                  </a:cubicBezTo>
                  <a:cubicBezTo>
                    <a:pt x="8836" y="7092"/>
                    <a:pt x="8616" y="6873"/>
                    <a:pt x="8345" y="6873"/>
                  </a:cubicBezTo>
                  <a:cubicBezTo>
                    <a:pt x="8075" y="6873"/>
                    <a:pt x="7855" y="7092"/>
                    <a:pt x="7855" y="7364"/>
                  </a:cubicBezTo>
                  <a:cubicBezTo>
                    <a:pt x="7855" y="7635"/>
                    <a:pt x="8075" y="7855"/>
                    <a:pt x="8345" y="7855"/>
                  </a:cubicBezTo>
                  <a:moveTo>
                    <a:pt x="20618" y="20618"/>
                  </a:moveTo>
                  <a:lnTo>
                    <a:pt x="2945" y="20618"/>
                  </a:lnTo>
                  <a:cubicBezTo>
                    <a:pt x="1861" y="20618"/>
                    <a:pt x="982" y="19739"/>
                    <a:pt x="982" y="18655"/>
                  </a:cubicBezTo>
                  <a:lnTo>
                    <a:pt x="982" y="7855"/>
                  </a:lnTo>
                  <a:lnTo>
                    <a:pt x="2945" y="7855"/>
                  </a:lnTo>
                  <a:lnTo>
                    <a:pt x="2945" y="18164"/>
                  </a:lnTo>
                  <a:cubicBezTo>
                    <a:pt x="2945" y="18435"/>
                    <a:pt x="3166" y="18655"/>
                    <a:pt x="3436" y="18655"/>
                  </a:cubicBezTo>
                  <a:cubicBezTo>
                    <a:pt x="3707" y="18655"/>
                    <a:pt x="3927" y="18435"/>
                    <a:pt x="3927" y="18164"/>
                  </a:cubicBezTo>
                  <a:lnTo>
                    <a:pt x="3927" y="4909"/>
                  </a:lnTo>
                  <a:lnTo>
                    <a:pt x="20618" y="4909"/>
                  </a:lnTo>
                  <a:cubicBezTo>
                    <a:pt x="20618" y="4909"/>
                    <a:pt x="20618" y="20618"/>
                    <a:pt x="20618" y="20618"/>
                  </a:cubicBezTo>
                  <a:close/>
                  <a:moveTo>
                    <a:pt x="20618" y="3927"/>
                  </a:moveTo>
                  <a:lnTo>
                    <a:pt x="3927" y="3927"/>
                  </a:lnTo>
                  <a:cubicBezTo>
                    <a:pt x="3385" y="3927"/>
                    <a:pt x="2945" y="4367"/>
                    <a:pt x="2945" y="4909"/>
                  </a:cubicBezTo>
                  <a:lnTo>
                    <a:pt x="2945" y="6873"/>
                  </a:lnTo>
                  <a:lnTo>
                    <a:pt x="982" y="6873"/>
                  </a:lnTo>
                  <a:cubicBezTo>
                    <a:pt x="440" y="6873"/>
                    <a:pt x="0" y="7313"/>
                    <a:pt x="0" y="7855"/>
                  </a:cubicBezTo>
                  <a:lnTo>
                    <a:pt x="0" y="18655"/>
                  </a:lnTo>
                  <a:cubicBezTo>
                    <a:pt x="0" y="20282"/>
                    <a:pt x="1319" y="21600"/>
                    <a:pt x="2945" y="21600"/>
                  </a:cubicBezTo>
                  <a:lnTo>
                    <a:pt x="20618" y="21600"/>
                  </a:lnTo>
                  <a:cubicBezTo>
                    <a:pt x="21160" y="21600"/>
                    <a:pt x="21600" y="21160"/>
                    <a:pt x="21600" y="20618"/>
                  </a:cubicBezTo>
                  <a:lnTo>
                    <a:pt x="21600" y="4909"/>
                  </a:lnTo>
                  <a:cubicBezTo>
                    <a:pt x="21600" y="4367"/>
                    <a:pt x="21160" y="3927"/>
                    <a:pt x="20618" y="3927"/>
                  </a:cubicBezTo>
                  <a:moveTo>
                    <a:pt x="6382" y="16691"/>
                  </a:moveTo>
                  <a:lnTo>
                    <a:pt x="18164" y="16691"/>
                  </a:lnTo>
                  <a:cubicBezTo>
                    <a:pt x="18434" y="16691"/>
                    <a:pt x="18655" y="16472"/>
                    <a:pt x="18655" y="16200"/>
                  </a:cubicBezTo>
                  <a:cubicBezTo>
                    <a:pt x="18655" y="15929"/>
                    <a:pt x="18434" y="15710"/>
                    <a:pt x="18164" y="15710"/>
                  </a:cubicBezTo>
                  <a:lnTo>
                    <a:pt x="6382" y="15710"/>
                  </a:lnTo>
                  <a:cubicBezTo>
                    <a:pt x="6111" y="15710"/>
                    <a:pt x="5891" y="15929"/>
                    <a:pt x="5891" y="16200"/>
                  </a:cubicBezTo>
                  <a:cubicBezTo>
                    <a:pt x="5891" y="16472"/>
                    <a:pt x="6111" y="16691"/>
                    <a:pt x="6382" y="16691"/>
                  </a:cubicBezTo>
                  <a:moveTo>
                    <a:pt x="10309" y="7855"/>
                  </a:moveTo>
                  <a:lnTo>
                    <a:pt x="14236" y="7855"/>
                  </a:lnTo>
                  <a:cubicBezTo>
                    <a:pt x="14507" y="7855"/>
                    <a:pt x="14727" y="7635"/>
                    <a:pt x="14727" y="7364"/>
                  </a:cubicBezTo>
                  <a:cubicBezTo>
                    <a:pt x="14727" y="7092"/>
                    <a:pt x="14507" y="6873"/>
                    <a:pt x="14236" y="6873"/>
                  </a:cubicBezTo>
                  <a:lnTo>
                    <a:pt x="10309" y="6873"/>
                  </a:lnTo>
                  <a:cubicBezTo>
                    <a:pt x="10038" y="6873"/>
                    <a:pt x="9818" y="7092"/>
                    <a:pt x="9818" y="7364"/>
                  </a:cubicBezTo>
                  <a:cubicBezTo>
                    <a:pt x="9818" y="7635"/>
                    <a:pt x="10038" y="7855"/>
                    <a:pt x="10309" y="7855"/>
                  </a:cubicBezTo>
                  <a:moveTo>
                    <a:pt x="6382" y="18655"/>
                  </a:moveTo>
                  <a:lnTo>
                    <a:pt x="18164" y="18655"/>
                  </a:lnTo>
                  <a:cubicBezTo>
                    <a:pt x="18434" y="18655"/>
                    <a:pt x="18655" y="18435"/>
                    <a:pt x="18655" y="18164"/>
                  </a:cubicBezTo>
                  <a:cubicBezTo>
                    <a:pt x="18655" y="17893"/>
                    <a:pt x="18434" y="17673"/>
                    <a:pt x="18164" y="17673"/>
                  </a:cubicBezTo>
                  <a:lnTo>
                    <a:pt x="6382" y="17673"/>
                  </a:lnTo>
                  <a:cubicBezTo>
                    <a:pt x="6111" y="17673"/>
                    <a:pt x="5891" y="17893"/>
                    <a:pt x="5891" y="18164"/>
                  </a:cubicBezTo>
                  <a:cubicBezTo>
                    <a:pt x="5891" y="18435"/>
                    <a:pt x="6111" y="18655"/>
                    <a:pt x="6382" y="18655"/>
                  </a:cubicBezTo>
                  <a:moveTo>
                    <a:pt x="4909" y="2945"/>
                  </a:moveTo>
                  <a:lnTo>
                    <a:pt x="20127" y="2945"/>
                  </a:lnTo>
                  <a:cubicBezTo>
                    <a:pt x="20398" y="2945"/>
                    <a:pt x="20618" y="2726"/>
                    <a:pt x="20618" y="2455"/>
                  </a:cubicBezTo>
                  <a:cubicBezTo>
                    <a:pt x="20618" y="2184"/>
                    <a:pt x="20398" y="1964"/>
                    <a:pt x="20127" y="1964"/>
                  </a:cubicBezTo>
                  <a:lnTo>
                    <a:pt x="4909" y="1964"/>
                  </a:lnTo>
                  <a:cubicBezTo>
                    <a:pt x="4638" y="1964"/>
                    <a:pt x="4418" y="2184"/>
                    <a:pt x="4418" y="2455"/>
                  </a:cubicBezTo>
                  <a:cubicBezTo>
                    <a:pt x="4418" y="2726"/>
                    <a:pt x="4638" y="2945"/>
                    <a:pt x="4909" y="2945"/>
                  </a:cubicBezTo>
                  <a:moveTo>
                    <a:pt x="18164" y="11783"/>
                  </a:moveTo>
                  <a:lnTo>
                    <a:pt x="14236" y="11783"/>
                  </a:lnTo>
                  <a:cubicBezTo>
                    <a:pt x="13966" y="11783"/>
                    <a:pt x="13745" y="12001"/>
                    <a:pt x="13745" y="12273"/>
                  </a:cubicBezTo>
                  <a:cubicBezTo>
                    <a:pt x="13745" y="12544"/>
                    <a:pt x="13966" y="12764"/>
                    <a:pt x="14236" y="12764"/>
                  </a:cubicBezTo>
                  <a:lnTo>
                    <a:pt x="18164" y="12764"/>
                  </a:lnTo>
                  <a:cubicBezTo>
                    <a:pt x="18434" y="12764"/>
                    <a:pt x="18655" y="12544"/>
                    <a:pt x="18655" y="12273"/>
                  </a:cubicBezTo>
                  <a:cubicBezTo>
                    <a:pt x="18655" y="12001"/>
                    <a:pt x="18434" y="11783"/>
                    <a:pt x="18164" y="11783"/>
                  </a:cubicBezTo>
                  <a:moveTo>
                    <a:pt x="6382" y="982"/>
                  </a:moveTo>
                  <a:lnTo>
                    <a:pt x="19145" y="982"/>
                  </a:lnTo>
                  <a:cubicBezTo>
                    <a:pt x="19416" y="982"/>
                    <a:pt x="19636" y="762"/>
                    <a:pt x="19636" y="491"/>
                  </a:cubicBezTo>
                  <a:cubicBezTo>
                    <a:pt x="19636" y="220"/>
                    <a:pt x="19416" y="0"/>
                    <a:pt x="19145" y="0"/>
                  </a:cubicBezTo>
                  <a:lnTo>
                    <a:pt x="6382" y="0"/>
                  </a:lnTo>
                  <a:cubicBezTo>
                    <a:pt x="6111" y="0"/>
                    <a:pt x="5891" y="220"/>
                    <a:pt x="5891" y="491"/>
                  </a:cubicBezTo>
                  <a:cubicBezTo>
                    <a:pt x="5891" y="762"/>
                    <a:pt x="6111" y="982"/>
                    <a:pt x="6382" y="982"/>
                  </a:cubicBezTo>
                  <a:moveTo>
                    <a:pt x="18164" y="13746"/>
                  </a:moveTo>
                  <a:lnTo>
                    <a:pt x="14236" y="13746"/>
                  </a:lnTo>
                  <a:cubicBezTo>
                    <a:pt x="13966" y="13746"/>
                    <a:pt x="13745" y="13965"/>
                    <a:pt x="13745" y="14236"/>
                  </a:cubicBezTo>
                  <a:cubicBezTo>
                    <a:pt x="13745" y="14508"/>
                    <a:pt x="13966" y="14727"/>
                    <a:pt x="14236" y="14727"/>
                  </a:cubicBezTo>
                  <a:lnTo>
                    <a:pt x="18164" y="14727"/>
                  </a:lnTo>
                  <a:cubicBezTo>
                    <a:pt x="18434" y="14727"/>
                    <a:pt x="18655" y="14508"/>
                    <a:pt x="18655" y="14236"/>
                  </a:cubicBezTo>
                  <a:cubicBezTo>
                    <a:pt x="18655" y="13965"/>
                    <a:pt x="18434" y="13746"/>
                    <a:pt x="18164" y="13746"/>
                  </a:cubicBezTo>
                  <a:moveTo>
                    <a:pt x="16200" y="7855"/>
                  </a:moveTo>
                  <a:cubicBezTo>
                    <a:pt x="16471" y="7855"/>
                    <a:pt x="16691" y="7635"/>
                    <a:pt x="16691" y="7364"/>
                  </a:cubicBezTo>
                  <a:cubicBezTo>
                    <a:pt x="16691" y="7092"/>
                    <a:pt x="16471" y="6873"/>
                    <a:pt x="16200" y="6873"/>
                  </a:cubicBezTo>
                  <a:cubicBezTo>
                    <a:pt x="15929" y="6873"/>
                    <a:pt x="15709" y="7092"/>
                    <a:pt x="15709" y="7364"/>
                  </a:cubicBezTo>
                  <a:cubicBezTo>
                    <a:pt x="15709" y="7635"/>
                    <a:pt x="15929" y="7855"/>
                    <a:pt x="16200" y="7855"/>
                  </a:cubicBezTo>
                  <a:moveTo>
                    <a:pt x="18164" y="7855"/>
                  </a:moveTo>
                  <a:cubicBezTo>
                    <a:pt x="18434" y="7855"/>
                    <a:pt x="18655" y="7635"/>
                    <a:pt x="18655" y="7364"/>
                  </a:cubicBezTo>
                  <a:cubicBezTo>
                    <a:pt x="18655" y="7092"/>
                    <a:pt x="18434" y="6873"/>
                    <a:pt x="18164" y="6873"/>
                  </a:cubicBezTo>
                  <a:cubicBezTo>
                    <a:pt x="17893" y="6873"/>
                    <a:pt x="17673" y="7092"/>
                    <a:pt x="17673" y="7364"/>
                  </a:cubicBezTo>
                  <a:cubicBezTo>
                    <a:pt x="17673" y="7635"/>
                    <a:pt x="17893" y="7855"/>
                    <a:pt x="18164" y="7855"/>
                  </a:cubicBezTo>
                  <a:moveTo>
                    <a:pt x="18164" y="9818"/>
                  </a:moveTo>
                  <a:lnTo>
                    <a:pt x="14236" y="9818"/>
                  </a:lnTo>
                  <a:cubicBezTo>
                    <a:pt x="13966" y="9818"/>
                    <a:pt x="13745" y="10038"/>
                    <a:pt x="13745" y="10309"/>
                  </a:cubicBezTo>
                  <a:cubicBezTo>
                    <a:pt x="13745" y="10581"/>
                    <a:pt x="13966" y="10800"/>
                    <a:pt x="14236" y="10800"/>
                  </a:cubicBezTo>
                  <a:lnTo>
                    <a:pt x="18164" y="10800"/>
                  </a:lnTo>
                  <a:cubicBezTo>
                    <a:pt x="18434" y="10800"/>
                    <a:pt x="18655" y="10581"/>
                    <a:pt x="18655" y="10309"/>
                  </a:cubicBezTo>
                  <a:cubicBezTo>
                    <a:pt x="18655" y="10038"/>
                    <a:pt x="18434" y="9818"/>
                    <a:pt x="18164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66" name="Group 57"/>
          <p:cNvGrpSpPr/>
          <p:nvPr/>
        </p:nvGrpSpPr>
        <p:grpSpPr>
          <a:xfrm>
            <a:off x="10256400" y="2157480"/>
            <a:ext cx="1935720" cy="850680"/>
            <a:chOff x="10256400" y="2157480"/>
            <a:chExt cx="1935720" cy="850680"/>
          </a:xfrm>
        </p:grpSpPr>
        <p:grpSp>
          <p:nvGrpSpPr>
            <p:cNvPr id="967" name="Group 58"/>
            <p:cNvGrpSpPr/>
            <p:nvPr/>
          </p:nvGrpSpPr>
          <p:grpSpPr>
            <a:xfrm>
              <a:off x="10256400" y="2157480"/>
              <a:ext cx="1935720" cy="850680"/>
              <a:chOff x="10256400" y="2157480"/>
              <a:chExt cx="1935720" cy="850680"/>
            </a:xfrm>
          </p:grpSpPr>
          <p:sp>
            <p:nvSpPr>
              <p:cNvPr id="968" name="Round Single Corner Rectangle 60"/>
              <p:cNvSpPr/>
              <p:nvPr/>
            </p:nvSpPr>
            <p:spPr>
              <a:xfrm flipH="1">
                <a:off x="10256040" y="2157480"/>
                <a:ext cx="914040" cy="85068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9" name="Rectangle 61"/>
              <p:cNvSpPr/>
              <p:nvPr/>
            </p:nvSpPr>
            <p:spPr>
              <a:xfrm>
                <a:off x="11170800" y="2157480"/>
                <a:ext cx="1021320" cy="850680"/>
              </a:xfrm>
              <a:prstGeom prst="rect">
                <a:avLst/>
              </a:prstGeom>
              <a:solidFill>
                <a:srgbClr val="820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70" name="Shape 2604"/>
            <p:cNvSpPr/>
            <p:nvPr/>
          </p:nvSpPr>
          <p:spPr>
            <a:xfrm>
              <a:off x="11512440" y="2421000"/>
              <a:ext cx="27936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71" name="Group 62"/>
          <p:cNvGrpSpPr/>
          <p:nvPr/>
        </p:nvGrpSpPr>
        <p:grpSpPr>
          <a:xfrm>
            <a:off x="6598800" y="3858840"/>
            <a:ext cx="2742120" cy="849600"/>
            <a:chOff x="6598800" y="3858840"/>
            <a:chExt cx="2742120" cy="849600"/>
          </a:xfrm>
        </p:grpSpPr>
        <p:grpSp>
          <p:nvGrpSpPr>
            <p:cNvPr id="972" name="Group 63"/>
            <p:cNvGrpSpPr/>
            <p:nvPr/>
          </p:nvGrpSpPr>
          <p:grpSpPr>
            <a:xfrm>
              <a:off x="6598800" y="3858840"/>
              <a:ext cx="2742120" cy="849600"/>
              <a:chOff x="6598800" y="3858840"/>
              <a:chExt cx="2742120" cy="849600"/>
            </a:xfrm>
          </p:grpSpPr>
          <p:sp>
            <p:nvSpPr>
              <p:cNvPr id="973" name="Round Single Corner Rectangle 65"/>
              <p:cNvSpPr/>
              <p:nvPr/>
            </p:nvSpPr>
            <p:spPr>
              <a:xfrm flipH="1">
                <a:off x="6598440" y="385920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1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4" name="Rectangle 66"/>
              <p:cNvSpPr/>
              <p:nvPr/>
            </p:nvSpPr>
            <p:spPr>
              <a:xfrm>
                <a:off x="7512840" y="3859200"/>
                <a:ext cx="914040" cy="849240"/>
              </a:xfrm>
              <a:prstGeom prst="rect">
                <a:avLst/>
              </a:prstGeom>
              <a:solidFill>
                <a:srgbClr val="a21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5" name="Round Single Corner Rectangle 67"/>
              <p:cNvSpPr/>
              <p:nvPr/>
            </p:nvSpPr>
            <p:spPr>
              <a:xfrm flipV="1">
                <a:off x="8426880" y="385848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1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6" name="Isosceles Triangle 68"/>
              <p:cNvSpPr/>
              <p:nvPr/>
            </p:nvSpPr>
            <p:spPr>
              <a:xfrm rot="5400000">
                <a:off x="8384040" y="4222080"/>
                <a:ext cx="208080" cy="122760"/>
              </a:xfrm>
              <a:prstGeom prst="triangle">
                <a:avLst>
                  <a:gd name="adj" fmla="val 50000"/>
                </a:avLst>
              </a:prstGeom>
              <a:solidFill>
                <a:srgbClr val="a21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77" name="Shape 2619"/>
            <p:cNvSpPr/>
            <p:nvPr/>
          </p:nvSpPr>
          <p:spPr>
            <a:xfrm>
              <a:off x="7792560" y="4182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78" name="Group 69"/>
          <p:cNvGrpSpPr/>
          <p:nvPr/>
        </p:nvGrpSpPr>
        <p:grpSpPr>
          <a:xfrm>
            <a:off x="8426520" y="3008160"/>
            <a:ext cx="2744640" cy="851040"/>
            <a:chOff x="8426520" y="3008160"/>
            <a:chExt cx="2744640" cy="851040"/>
          </a:xfrm>
        </p:grpSpPr>
        <p:grpSp>
          <p:nvGrpSpPr>
            <p:cNvPr id="979" name="Group 70"/>
            <p:cNvGrpSpPr/>
            <p:nvPr/>
          </p:nvGrpSpPr>
          <p:grpSpPr>
            <a:xfrm>
              <a:off x="8426520" y="3008160"/>
              <a:ext cx="2744640" cy="851040"/>
              <a:chOff x="8426520" y="3008160"/>
              <a:chExt cx="2744640" cy="851040"/>
            </a:xfrm>
          </p:grpSpPr>
          <p:sp>
            <p:nvSpPr>
              <p:cNvPr id="980" name="Round Single Corner Rectangle 72"/>
              <p:cNvSpPr/>
              <p:nvPr/>
            </p:nvSpPr>
            <p:spPr>
              <a:xfrm flipH="1">
                <a:off x="842652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1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1" name="Rectangle 73"/>
              <p:cNvSpPr/>
              <p:nvPr/>
            </p:nvSpPr>
            <p:spPr>
              <a:xfrm>
                <a:off x="9330480" y="3008160"/>
                <a:ext cx="961920" cy="851040"/>
              </a:xfrm>
              <a:prstGeom prst="rect">
                <a:avLst/>
              </a:prstGeom>
              <a:solidFill>
                <a:srgbClr val="c21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2" name="Round Single Corner Rectangle 74"/>
              <p:cNvSpPr/>
              <p:nvPr/>
            </p:nvSpPr>
            <p:spPr>
              <a:xfrm flipV="1">
                <a:off x="1025748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1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3" name="Isosceles Triangle 75"/>
              <p:cNvSpPr/>
              <p:nvPr/>
            </p:nvSpPr>
            <p:spPr>
              <a:xfrm rot="5400000">
                <a:off x="10213920" y="3385080"/>
                <a:ext cx="208440" cy="122760"/>
              </a:xfrm>
              <a:prstGeom prst="triangle">
                <a:avLst>
                  <a:gd name="adj" fmla="val 50000"/>
                </a:avLst>
              </a:prstGeom>
              <a:solidFill>
                <a:srgbClr val="c21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84" name="Shape 2620"/>
            <p:cNvSpPr/>
            <p:nvPr/>
          </p:nvSpPr>
          <p:spPr>
            <a:xfrm>
              <a:off x="9692280" y="332748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5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4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9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Box 1"/>
          <p:cNvSpPr/>
          <p:nvPr/>
        </p:nvSpPr>
        <p:spPr>
          <a:xfrm>
            <a:off x="3898440" y="538200"/>
            <a:ext cx="44114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Ranking Analysi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ec407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7" name="Rectangle 3"/>
          <p:cNvSpPr/>
          <p:nvPr/>
        </p:nvSpPr>
        <p:spPr>
          <a:xfrm>
            <a:off x="1230480" y="4199040"/>
            <a:ext cx="9753480" cy="63360"/>
          </a:xfrm>
          <a:prstGeom prst="rect">
            <a:avLst/>
          </a:prstGeom>
          <a:solidFill>
            <a:srgbClr val="cd1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8" name="Freeform 4"/>
          <p:cNvSpPr/>
          <p:nvPr/>
        </p:nvSpPr>
        <p:spPr>
          <a:xfrm>
            <a:off x="1509840" y="4105440"/>
            <a:ext cx="763560" cy="936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ec4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9" name="Freeform 6"/>
          <p:cNvSpPr/>
          <p:nvPr/>
        </p:nvSpPr>
        <p:spPr>
          <a:xfrm>
            <a:off x="2273400" y="3968640"/>
            <a:ext cx="765000" cy="2304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e91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0" name="Freeform 6"/>
          <p:cNvSpPr/>
          <p:nvPr/>
        </p:nvSpPr>
        <p:spPr>
          <a:xfrm>
            <a:off x="3038400" y="3871800"/>
            <a:ext cx="763560" cy="3272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d81b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1" name="Freeform 6"/>
          <p:cNvSpPr/>
          <p:nvPr/>
        </p:nvSpPr>
        <p:spPr>
          <a:xfrm>
            <a:off x="3801960" y="3703680"/>
            <a:ext cx="765360" cy="4953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c218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2" name="Freeform 8"/>
          <p:cNvSpPr/>
          <p:nvPr/>
        </p:nvSpPr>
        <p:spPr>
          <a:xfrm>
            <a:off x="4567320" y="3559320"/>
            <a:ext cx="763560" cy="63972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ad1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3" name="Freeform 6"/>
          <p:cNvSpPr/>
          <p:nvPr/>
        </p:nvSpPr>
        <p:spPr>
          <a:xfrm>
            <a:off x="5330880" y="3398760"/>
            <a:ext cx="765000" cy="8002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880e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4" name="Freeform 6"/>
          <p:cNvSpPr/>
          <p:nvPr/>
        </p:nvSpPr>
        <p:spPr>
          <a:xfrm>
            <a:off x="6095880" y="3286080"/>
            <a:ext cx="765360" cy="9129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ec4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5" name="Freeform 6"/>
          <p:cNvSpPr/>
          <p:nvPr/>
        </p:nvSpPr>
        <p:spPr>
          <a:xfrm>
            <a:off x="6861240" y="3029040"/>
            <a:ext cx="763560" cy="11700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e91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6" name="Freeform 6"/>
          <p:cNvSpPr/>
          <p:nvPr/>
        </p:nvSpPr>
        <p:spPr>
          <a:xfrm>
            <a:off x="7624800" y="2774880"/>
            <a:ext cx="765000" cy="14241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d81b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7" name="Freeform 6"/>
          <p:cNvSpPr/>
          <p:nvPr/>
        </p:nvSpPr>
        <p:spPr>
          <a:xfrm>
            <a:off x="8389800" y="2435400"/>
            <a:ext cx="763560" cy="17636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c218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8" name="Freeform 6"/>
          <p:cNvSpPr/>
          <p:nvPr/>
        </p:nvSpPr>
        <p:spPr>
          <a:xfrm>
            <a:off x="9153360" y="2081160"/>
            <a:ext cx="765360" cy="21178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ad1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9" name="Freeform 6"/>
          <p:cNvSpPr/>
          <p:nvPr/>
        </p:nvSpPr>
        <p:spPr>
          <a:xfrm>
            <a:off x="9918720" y="1744560"/>
            <a:ext cx="763560" cy="24544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880e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00" name="Group 16" descr=""/>
          <p:cNvPicPr/>
          <p:nvPr/>
        </p:nvPicPr>
        <p:blipFill>
          <a:blip r:embed="rId1"/>
          <a:stretch/>
        </p:blipFill>
        <p:spPr>
          <a:xfrm>
            <a:off x="1657440" y="3352680"/>
            <a:ext cx="463320" cy="554040"/>
          </a:xfrm>
          <a:prstGeom prst="rect">
            <a:avLst/>
          </a:prstGeom>
          <a:ln w="0">
            <a:noFill/>
          </a:ln>
        </p:spPr>
      </p:pic>
      <p:grpSp>
        <p:nvGrpSpPr>
          <p:cNvPr id="1001" name="Group 19"/>
          <p:cNvGrpSpPr/>
          <p:nvPr/>
        </p:nvGrpSpPr>
        <p:grpSpPr>
          <a:xfrm>
            <a:off x="9975960" y="876600"/>
            <a:ext cx="648720" cy="649080"/>
            <a:chOff x="9975960" y="876600"/>
            <a:chExt cx="648720" cy="649080"/>
          </a:xfrm>
        </p:grpSpPr>
        <p:sp>
          <p:nvSpPr>
            <p:cNvPr id="1002" name="Teardrop 20"/>
            <p:cNvSpPr/>
            <p:nvPr/>
          </p:nvSpPr>
          <p:spPr>
            <a:xfrm rot="8100000">
              <a:off x="10070640" y="971640"/>
              <a:ext cx="459000" cy="458640"/>
            </a:xfrm>
            <a:custGeom>
              <a:avLst/>
              <a:gdLst/>
              <a:ahLst/>
              <a:rect l="l" t="t" r="r" b="b"/>
              <a:pathLst>
                <a:path w="458437" h="458438">
                  <a:moveTo>
                    <a:pt x="0" y="229219"/>
                  </a:moveTo>
                  <a:cubicBezTo>
                    <a:pt x="0" y="102625"/>
                    <a:pt x="102625" y="0"/>
                    <a:pt x="229219" y="0"/>
                  </a:cubicBezTo>
                  <a:lnTo>
                    <a:pt x="458437" y="0"/>
                  </a:lnTo>
                  <a:lnTo>
                    <a:pt x="458437" y="229219"/>
                  </a:lnTo>
                  <a:cubicBezTo>
                    <a:pt x="458437" y="355813"/>
                    <a:pt x="355812" y="458438"/>
                    <a:pt x="229218" y="458438"/>
                  </a:cubicBezTo>
                  <a:cubicBezTo>
                    <a:pt x="102624" y="458438"/>
                    <a:pt x="-1" y="355813"/>
                    <a:pt x="-1" y="229219"/>
                  </a:cubicBezTo>
                  <a:lnTo>
                    <a:pt x="0" y="229219"/>
                  </a:lnTo>
                  <a:close/>
                </a:path>
              </a:pathLst>
            </a:custGeom>
            <a:solidFill>
              <a:srgbClr val="880e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3" name="TextBox 21"/>
            <p:cNvSpPr/>
            <p:nvPr/>
          </p:nvSpPr>
          <p:spPr>
            <a:xfrm>
              <a:off x="10099800" y="104076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Source Sans Pro"/>
                  <a:ea typeface="Source Sans Pro"/>
                </a:rPr>
                <a:t>8K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004" name="Oval 22"/>
          <p:cNvSpPr/>
          <p:nvPr/>
        </p:nvSpPr>
        <p:spPr>
          <a:xfrm>
            <a:off x="1260360" y="1797120"/>
            <a:ext cx="179640" cy="179280"/>
          </a:xfrm>
          <a:prstGeom prst="ellipse">
            <a:avLst/>
          </a:prstGeom>
          <a:solidFill>
            <a:srgbClr val="ec4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05" name="Rectangle 23"/>
          <p:cNvSpPr/>
          <p:nvPr/>
        </p:nvSpPr>
        <p:spPr>
          <a:xfrm>
            <a:off x="1449360" y="1676520"/>
            <a:ext cx="6637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006" name="Group 24"/>
          <p:cNvGrpSpPr/>
          <p:nvPr/>
        </p:nvGrpSpPr>
        <p:grpSpPr>
          <a:xfrm>
            <a:off x="1230480" y="4805280"/>
            <a:ext cx="1963440" cy="797040"/>
            <a:chOff x="1230480" y="4805280"/>
            <a:chExt cx="1963440" cy="797040"/>
          </a:xfrm>
        </p:grpSpPr>
        <p:sp>
          <p:nvSpPr>
            <p:cNvPr id="1007" name="Oval 25"/>
            <p:cNvSpPr/>
            <p:nvPr/>
          </p:nvSpPr>
          <p:spPr>
            <a:xfrm>
              <a:off x="1230480" y="4820400"/>
              <a:ext cx="164520" cy="164160"/>
            </a:xfrm>
            <a:prstGeom prst="ellipse">
              <a:avLst/>
            </a:prstGeom>
            <a:solidFill>
              <a:srgbClr val="ec4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8" name="Text Placeholder 32"/>
            <p:cNvSpPr/>
            <p:nvPr/>
          </p:nvSpPr>
          <p:spPr>
            <a:xfrm>
              <a:off x="1522080" y="4979160"/>
              <a:ext cx="151560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9" name="Text Placeholder 33"/>
            <p:cNvSpPr/>
            <p:nvPr/>
          </p:nvSpPr>
          <p:spPr>
            <a:xfrm>
              <a:off x="1522080" y="4805280"/>
              <a:ext cx="16718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0" name="Group 28"/>
          <p:cNvGrpSpPr/>
          <p:nvPr/>
        </p:nvGrpSpPr>
        <p:grpSpPr>
          <a:xfrm>
            <a:off x="3321000" y="4799160"/>
            <a:ext cx="1800360" cy="803160"/>
            <a:chOff x="3321000" y="4799160"/>
            <a:chExt cx="1800360" cy="803160"/>
          </a:xfrm>
        </p:grpSpPr>
        <p:sp>
          <p:nvSpPr>
            <p:cNvPr id="1011" name="Oval 29"/>
            <p:cNvSpPr/>
            <p:nvPr/>
          </p:nvSpPr>
          <p:spPr>
            <a:xfrm>
              <a:off x="3321000" y="4814280"/>
              <a:ext cx="164520" cy="164520"/>
            </a:xfrm>
            <a:prstGeom prst="ellipse">
              <a:avLst/>
            </a:prstGeom>
            <a:solidFill>
              <a:srgbClr val="e91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2" name="Text Placeholder 32"/>
            <p:cNvSpPr/>
            <p:nvPr/>
          </p:nvSpPr>
          <p:spPr>
            <a:xfrm>
              <a:off x="3612960" y="4973040"/>
              <a:ext cx="150840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3" name="Text Placeholder 33"/>
            <p:cNvSpPr/>
            <p:nvPr/>
          </p:nvSpPr>
          <p:spPr>
            <a:xfrm>
              <a:off x="3612960" y="4799160"/>
              <a:ext cx="1508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4" name="Group 32"/>
          <p:cNvGrpSpPr/>
          <p:nvPr/>
        </p:nvGrpSpPr>
        <p:grpSpPr>
          <a:xfrm>
            <a:off x="7174080" y="4792680"/>
            <a:ext cx="1806480" cy="804960"/>
            <a:chOff x="7174080" y="4792680"/>
            <a:chExt cx="1806480" cy="804960"/>
          </a:xfrm>
        </p:grpSpPr>
        <p:sp>
          <p:nvSpPr>
            <p:cNvPr id="1015" name="Oval 33"/>
            <p:cNvSpPr/>
            <p:nvPr/>
          </p:nvSpPr>
          <p:spPr>
            <a:xfrm>
              <a:off x="7174080" y="4807800"/>
              <a:ext cx="164520" cy="164520"/>
            </a:xfrm>
            <a:prstGeom prst="ellipse">
              <a:avLst/>
            </a:prstGeom>
            <a:solidFill>
              <a:srgbClr val="ad1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6" name="Text Placeholder 32"/>
            <p:cNvSpPr/>
            <p:nvPr/>
          </p:nvSpPr>
          <p:spPr>
            <a:xfrm>
              <a:off x="7465680" y="4966920"/>
              <a:ext cx="151488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7" name="Text Placeholder 33"/>
            <p:cNvSpPr/>
            <p:nvPr/>
          </p:nvSpPr>
          <p:spPr>
            <a:xfrm>
              <a:off x="7465680" y="4792680"/>
              <a:ext cx="151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8" name="Group 36"/>
          <p:cNvGrpSpPr/>
          <p:nvPr/>
        </p:nvGrpSpPr>
        <p:grpSpPr>
          <a:xfrm>
            <a:off x="9258480" y="4792680"/>
            <a:ext cx="1847520" cy="789120"/>
            <a:chOff x="9258480" y="4792680"/>
            <a:chExt cx="1847520" cy="789120"/>
          </a:xfrm>
        </p:grpSpPr>
        <p:sp>
          <p:nvSpPr>
            <p:cNvPr id="1019" name="Oval 37"/>
            <p:cNvSpPr/>
            <p:nvPr/>
          </p:nvSpPr>
          <p:spPr>
            <a:xfrm>
              <a:off x="9258480" y="4807800"/>
              <a:ext cx="164520" cy="164520"/>
            </a:xfrm>
            <a:prstGeom prst="ellipse">
              <a:avLst/>
            </a:prstGeom>
            <a:solidFill>
              <a:srgbClr val="880e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0" name="Text Placeholder 32"/>
            <p:cNvSpPr/>
            <p:nvPr/>
          </p:nvSpPr>
          <p:spPr>
            <a:xfrm>
              <a:off x="9550080" y="4966920"/>
              <a:ext cx="15559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1" name="Text Placeholder 33"/>
            <p:cNvSpPr/>
            <p:nvPr/>
          </p:nvSpPr>
          <p:spPr>
            <a:xfrm>
              <a:off x="9550080" y="4792680"/>
              <a:ext cx="15559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22" name="Group 40"/>
          <p:cNvGrpSpPr/>
          <p:nvPr/>
        </p:nvGrpSpPr>
        <p:grpSpPr>
          <a:xfrm>
            <a:off x="5248440" y="4792680"/>
            <a:ext cx="1798560" cy="804960"/>
            <a:chOff x="5248440" y="4792680"/>
            <a:chExt cx="1798560" cy="804960"/>
          </a:xfrm>
        </p:grpSpPr>
        <p:sp>
          <p:nvSpPr>
            <p:cNvPr id="1023" name="Oval 41"/>
            <p:cNvSpPr/>
            <p:nvPr/>
          </p:nvSpPr>
          <p:spPr>
            <a:xfrm>
              <a:off x="5248440" y="4807800"/>
              <a:ext cx="164520" cy="164880"/>
            </a:xfrm>
            <a:prstGeom prst="ellipse">
              <a:avLst/>
            </a:prstGeom>
            <a:solidFill>
              <a:srgbClr val="c21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4" name="Text Placeholder 32"/>
            <p:cNvSpPr/>
            <p:nvPr/>
          </p:nvSpPr>
          <p:spPr>
            <a:xfrm>
              <a:off x="5540040" y="4966920"/>
              <a:ext cx="15069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5" name="Text Placeholder 33"/>
            <p:cNvSpPr/>
            <p:nvPr/>
          </p:nvSpPr>
          <p:spPr>
            <a:xfrm>
              <a:off x="5540040" y="4792680"/>
              <a:ext cx="142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5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9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3T10:43:23Z</dcterms:created>
  <dc:creator>Sandra</dc:creator>
  <dc:description/>
  <dc:language>en-US</dc:language>
  <cp:lastModifiedBy>Microsoft Office User</cp:lastModifiedBy>
  <dcterms:modified xsi:type="dcterms:W3CDTF">2018-03-10T12:33:10Z</dcterms:modified>
  <cp:revision>539</cp:revision>
  <dc:subject/>
  <dc:title>PowerPoint Presentation</dc:title>
</cp:coreProperties>
</file>