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AB1D-22DA-4492-B721-5699C77C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98C3-E506-4568-812C-213D93337E42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0F3-54F7-4774-8D65-0EFF3AC93E1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6E4F-4D5A-4B57-B807-734E6874D4AE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A082-EB86-4C03-B72A-DD1AD78493D2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AE71-949D-4638-A985-43FA779C7C81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F45-1544-4988-B6D4-608B40182A6A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4DE2-BA74-4C7C-973F-AD142A1267D5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C533-1C7A-4B7D-9F76-2478E3EF7F9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3699-E612-491E-8772-A6524012823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1DFA-4009-4889-BFE1-C8B6391874F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FE4-3D93-41CC-8859-39D47E1A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9A1-567E-4279-A2E4-7F92A8A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611-677E-4FB3-BD31-0AF9053C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D6D-297A-4D55-B044-5A7ECE0D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232-64C6-49E0-AC86-DDF7692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D58-99C9-4F3B-8C7C-D7EDC5D5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DD2-DFEA-4FD5-A8E0-0FE06B7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F31-C69F-4AAD-A647-8A4F1634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FBB-1CCC-4F30-A4A4-7E242FB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CB7-9400-43D1-8AD1-3378C5F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777-8A35-4A9A-A652-649B147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5EB-48E7-4BBF-9DC3-A969740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85F-73DE-47EA-AAB3-3660E166BADD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0ED-9FD6-48C5-98FD-DFF79EB10662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504-888E-4D3A-936F-318DB1AA5E9A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A82-DC75-4E28-A141-E7D136441028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B7E-0902-4064-A2B0-94B5B7BE76AA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59E-48E4-4B25-A417-44F15CEB12A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3A9-E155-4BC5-8128-3B18E45F696F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232-FB20-4400-97FD-B796679C9A7D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6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6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6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36CA-29A2-4093-84B3-7CB231C03AE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83593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5c6bc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5c6bc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5c6bc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5c6bc0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27dc7"/>
                </a:gs>
                <a:gs pos="100000">
                  <a:srgbClr val="4757b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a4e8e"/>
                </a:gs>
                <a:gs pos="100000">
                  <a:srgbClr val="0d177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35cab"/>
                </a:gs>
                <a:gs pos="100000">
                  <a:srgbClr val="20309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6a0"/>
                </a:gs>
                <a:gs pos="100000">
                  <a:srgbClr val="19278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c68bf"/>
                </a:gs>
                <a:gs pos="100000">
                  <a:srgbClr val="2c40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2b6"/>
                </a:gs>
                <a:gs pos="100000">
                  <a:srgbClr val="2738a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5c6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30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3f5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394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5c6bc0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5c6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727dc7"/>
                </a:gs>
                <a:gs pos="100000">
                  <a:srgbClr val="4757b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5c68bf"/>
                </a:gs>
                <a:gs pos="100000">
                  <a:srgbClr val="2c40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727dc7"/>
                </a:gs>
                <a:gs pos="100000">
                  <a:srgbClr val="4757b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5c68bf"/>
                </a:gs>
                <a:gs pos="100000">
                  <a:srgbClr val="2c40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30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303f9f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5c6bc0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3f5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3f51b5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394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3949ab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727dc7"/>
                </a:gs>
                <a:gs pos="100000">
                  <a:srgbClr val="4757b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5c68bf"/>
                </a:gs>
                <a:gs pos="100000">
                  <a:srgbClr val="2c40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303f9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303f9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3949a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949a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3f51b5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727dc7"/>
                  </a:gs>
                  <a:gs pos="100000">
                    <a:srgbClr val="4757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5c68bf"/>
                  </a:gs>
                  <a:gs pos="100000">
                    <a:srgbClr val="2c40ab"/>
                  </a:gs>
                </a:gsLst>
                <a:lin ang="5400000"/>
              </a:gradFill>
              <a:ln w="6480">
                <a:solidFill>
                  <a:srgbClr val="3f51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5056a0"/>
                  </a:gs>
                  <a:gs pos="100000">
                    <a:srgbClr val="19278b"/>
                  </a:gs>
                </a:gsLst>
                <a:lin ang="16200000"/>
              </a:gradFill>
              <a:ln w="6480">
                <a:solidFill>
                  <a:srgbClr val="2835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535cab"/>
                  </a:gs>
                  <a:gs pos="100000">
                    <a:srgbClr val="203096"/>
                  </a:gs>
                </a:gsLst>
                <a:lin ang="16200000"/>
              </a:gradFill>
              <a:ln w="6480">
                <a:solidFill>
                  <a:srgbClr val="303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5862b6"/>
                  </a:gs>
                  <a:gs pos="100000">
                    <a:srgbClr val="2738a1"/>
                  </a:gs>
                </a:gsLst>
                <a:lin ang="16200000"/>
              </a:gradFill>
              <a:ln w="6480">
                <a:solidFill>
                  <a:srgbClr val="3949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1a237e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283593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83593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83593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83593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83593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83593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3f51b5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3f51b5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3f51b5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3f51b5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5c6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5c6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5c6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5c6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f5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28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03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a23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5c6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3f5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283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1a2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30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5c6bc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3f51b5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303f9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283593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1a237e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727dc7"/>
                </a:gs>
                <a:gs pos="100000">
                  <a:srgbClr val="4757b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5c68bf"/>
                </a:gs>
                <a:gs pos="100000">
                  <a:srgbClr val="2c40a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5862b6"/>
                </a:gs>
                <a:gs pos="100000">
                  <a:srgbClr val="2738a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535cab"/>
                </a:gs>
                <a:gs pos="100000">
                  <a:srgbClr val="20309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3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1e2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3b4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6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3b4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6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303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303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3f5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d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3f5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83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1e2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2b3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4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2b3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303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303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5c6bc0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3b4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f5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94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03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8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a23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f5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94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03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83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a23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1a2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5c6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5c6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3f5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283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1a2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30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2:25Z</dcterms:modified>
  <cp:revision>539</cp:revision>
  <dc:subject/>
  <dc:title>PowerPoint Presentation</dc:title>
</cp:coreProperties>
</file>