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 id="284" r:id="rId77"/>
    <p:sldId id="285" r:id="rId78"/>
    <p:sldId id="286" r:id="rId79"/>
    <p:sldId id="287" r:id="rId80"/>
    <p:sldId id="288" r:id="rId81"/>
    <p:sldId id="289" r:id="rId82"/>
    <p:sldId id="290" r:id="rId83"/>
    <p:sldId id="291" r:id="rId84"/>
    <p:sldId id="292" r:id="rId85"/>
  </p:sldIdLst>
  <p:sldSz cx="24379238"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slide" Target="slides/slide29.xml"/><Relationship Id="rId78" Type="http://schemas.openxmlformats.org/officeDocument/2006/relationships/slide" Target="slides/slide30.xml"/><Relationship Id="rId79" Type="http://schemas.openxmlformats.org/officeDocument/2006/relationships/slide" Target="slides/slide31.xml"/><Relationship Id="rId80" Type="http://schemas.openxmlformats.org/officeDocument/2006/relationships/slide" Target="slides/slide32.xml"/><Relationship Id="rId81" Type="http://schemas.openxmlformats.org/officeDocument/2006/relationships/slide" Target="slides/slide33.xml"/><Relationship Id="rId82" Type="http://schemas.openxmlformats.org/officeDocument/2006/relationships/slide" Target="slides/slide34.xml"/><Relationship Id="rId83" Type="http://schemas.openxmlformats.org/officeDocument/2006/relationships/slide" Target="slides/slide35.xml"/><Relationship Id="rId84" Type="http://schemas.openxmlformats.org/officeDocument/2006/relationships/slide" Target="slides/slide36.xml"/><Relationship Id="rId85" Type="http://schemas.openxmlformats.org/officeDocument/2006/relationships/slide" Target="slides/slide37.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4B8A7-279B-496F-86E3-D15C31406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55992-A01A-4530-BE2B-A15F5010C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4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4D42AC-8518-4F17-97E1-8F1C64C713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99994-FC95-4DE4-8CB9-3FCBF4DC9E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9E2CE-AFA6-4206-8DA0-52E71CD67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4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0E2D01-40A9-410B-A48D-2D5FC4F75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9CED3-D024-4ED4-BC7F-48C25470D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5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2C6AA5-1B1C-4E9F-801D-77078E93C5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3E203-F8C1-409D-BD62-AD27998792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362D2C-0E74-41ED-8002-71EE6F839D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6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AD5F22-8B5E-4E17-B0E5-D1C655EFFB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AAC75-17BB-47FD-9FFC-5A38C1FBE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7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7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8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8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9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0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5"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6"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7"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8"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9"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6F9E2-09BC-4594-BE78-01E46EFFF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0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0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1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1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18"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0"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2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2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3"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37"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AB3EB-362C-4598-9814-B491FF2DC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39"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0"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5"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47"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8"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49"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0"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1"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52"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56"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58"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6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DEE6A-AF4F-4286-868F-C63455514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6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1"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7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5"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77"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78"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3"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85"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6"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7"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8"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89"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90"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4"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6"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49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9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81DB1-8175-47FF-B9C7-EB80C9675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0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09"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3"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5"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6"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1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1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1"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23"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4"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5"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6"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7"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28"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2"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4"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07E49-FDFE-482B-9C3E-633085EFF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3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3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47"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4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1"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53"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4"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59"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61"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2"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3"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4"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5"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66"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74594-B88D-4F05-A554-24DD9FBCB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0"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2"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7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8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5"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8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9"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1"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2"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7"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3C92A-F477-46D8-95DF-BDB97412B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99"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0"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1"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2"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3"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04"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0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1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1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2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2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EC1CE-DB3F-47CE-886F-3FB947719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3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4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4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4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5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C916-CC2F-4D61-A7C5-5EAB76663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3"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10D70-D220-47F7-9B9E-68DF20AA9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6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7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7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8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8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8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7"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C1640-FCAB-4BB5-A46D-811A375A6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0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1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1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69"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0"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0B524-6FA2-409F-952E-F0E664386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3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3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4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5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5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6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6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5"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BD913-EF04-4369-A858-A7769C710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7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8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8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9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77"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8"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9"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1"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EC2F8-549D-4B72-8A9A-E69B5738A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0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0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1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1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2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8FBAD6-9602-434F-9258-6562D67412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3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3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3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4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4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4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5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5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5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A1EF1-1B74-4146-A745-87A4AFB26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6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6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7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7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8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8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8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9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76E1A3-0E9C-44D3-9118-0C5E02007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9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89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0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0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1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1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2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2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9BD626-3D34-4FC7-853F-001EBECAA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2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3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3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4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4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5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5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F2A17-22CB-4C01-8D2A-0696253D8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8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8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9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0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8"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7DA77-419E-491D-8287-379C935B2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BDB7F-F191-407F-833F-DC1315D70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1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1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3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3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D4D3A-5D5D-439F-9818-9A5A4DECF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4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5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5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EC30C-D4F5-4ABE-8BBC-C3BA17FFA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7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7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8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9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387A9-031B-4C7D-9877-8EDB98299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0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1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1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2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2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ABE50-2109-4E5D-A606-AA90FDF73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6EB80-933E-45AE-9846-2305957EB6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1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765BCC-ED90-4BD3-8029-3B0F2F65E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1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1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2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2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5ED0BE-4D0D-4801-B06C-9D40BAE5C1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3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3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4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4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5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FFEC9-5B9C-4304-A706-D73FAD603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6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7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8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28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29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0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ABFA7-07B0-42A7-A21D-86930C793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0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0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1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1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1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2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2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3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3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2864-B603-4624-B259-55BCAD163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A5747-B72E-49B5-B187-1D66823B2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4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4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4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5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5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6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6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6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7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7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93323-E22F-4386-B843-9C78CABFC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3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3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050E4-5C07-4826-8396-3B6B046FC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1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1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2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17A0F-5022-426A-9DE8-E91164EBA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3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3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4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4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5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5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2FA8A-D65C-495F-9B7E-E8C680786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6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7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7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7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8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8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8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9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88968-37A2-4908-A400-42A9FC5A6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4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49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0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0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1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1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2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2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2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1AD10-FA9D-445E-8EA7-EE60CC3B4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3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3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4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4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5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5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5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6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6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D7DF64-FFEA-4666-9E29-92B559D68C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6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6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7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7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8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8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9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1F39B3-94A3-4F12-BF28-CFF97E3968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9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59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0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0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1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1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1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04B742-5168-4091-A83F-921E6606D1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2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2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3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3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4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4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5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169B-8578-472E-845E-1F91E31D4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62563-5A21-4AEE-8C7A-7157AFA63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5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5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6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6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7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7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1"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3"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85"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8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0F274-44F2-43D7-B3B9-05E7742EC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1"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2"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4"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6"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69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9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0"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02"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3"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0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6"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08"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10"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1"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2"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3"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4"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15"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1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3C2A0B-BB8F-4168-BBD1-260CDC06B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3"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24"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28"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29"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0"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32"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4"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3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38"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0"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1"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5"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6"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48"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49"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0"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1"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2"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53"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0F1688-DE46-484B-B675-2E2AC672D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5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6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6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6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7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7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8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7F13B-AF38-4CE8-9771-7795592E15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8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8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9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9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79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0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0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0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F267EA-6C26-42CB-BA8E-70AE984B1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1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1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2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2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3"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5"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37"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38"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0"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3"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4"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46E4D-5C2B-4885-B0D9-C5467D730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46"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7"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48"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0"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2"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4"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5"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57"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8"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59"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0"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862"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3"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4"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5"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6"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867"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F2D08-1A8F-4BD2-9BB8-1DC086F7F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9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5FE3D5-E5A0-4FB0-9714-16213D45A2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14A427-A60C-42E5-8DA3-2C5A5C8574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1265E-8202-42F6-B369-3F4E4C42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0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9B06FB-669D-483C-B8FE-0131C1054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D490F9-FA7C-4DDF-BCE5-E9FAB5D35D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1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A8ED27-2704-45F9-B78B-3B805DD72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1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912C0-BC52-434C-AEB1-245A87F8FC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2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C68EC-9C26-4E89-AC30-551C1D4533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E7131-3482-4B76-9571-C5BD40457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4904A4-8AB9-4809-B2C9-EE772A7EC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2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2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FEDD1-73EC-4087-822B-772C464E1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BF0BA-966A-48D4-A14C-E51B77FDC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42DB4-13BE-4B20-BF1E-3AA173817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5"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6"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17"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E6C0-8BE6-4469-8C23-90DA841C3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3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16FB1D-6067-4B9F-9BE5-079DD52CF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4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FC8089-C32E-42F1-BD71-A9A78539BF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4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A35056-94BC-4D72-AED6-37A658B79B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5"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7"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5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0"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6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5"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6"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19"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1"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D92AB-1440-467F-8669-E7D6D304D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68"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69"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0"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2"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3"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4"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6"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77"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79"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0"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1"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2"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84"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5"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6"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7"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8"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89"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ADF31-82F4-4E81-9D5B-FF76174767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97"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BF12DA-B43C-41EF-83C7-2B25030DD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99"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87238-D822-4F48-BB37-95A0C9A2E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1"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2"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87343D-89C2-4CE7-8A99-77E839275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5B4101-3485-4E5C-8B28-241F03C872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23"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4"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25"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6145-9797-4E62-A153-E73D642E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676520" y="729720"/>
            <a:ext cx="21024720" cy="1229148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09E176-FE0F-4CEE-BE22-91E62B416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06"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7" name="PlaceHolder 3"/>
          <p:cNvSpPr>
            <a:spLocks noGrp="1"/>
          </p:cNvSpPr>
          <p:nvPr>
            <p:ph/>
          </p:nvPr>
        </p:nvSpPr>
        <p:spPr>
          <a:xfrm>
            <a:off x="1244988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08"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773A8-8FAE-470F-82F3-821F9FEF6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0" name="PlaceHolder 2"/>
          <p:cNvSpPr>
            <a:spLocks noGrp="1"/>
          </p:cNvSpPr>
          <p:nvPr>
            <p:ph/>
          </p:nvPr>
        </p:nvSpPr>
        <p:spPr>
          <a:xfrm>
            <a:off x="1676520" y="3651120"/>
            <a:ext cx="1026000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1"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2" name="PlaceHolder 4"/>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11CDD-BA5D-4B23-9F71-591DADFED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4"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5"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6" name="PlaceHolder 4"/>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0686E-8F6F-40EF-96C1-F9F0848D8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18" name="PlaceHolder 2"/>
          <p:cNvSpPr>
            <a:spLocks noGrp="1"/>
          </p:cNvSpPr>
          <p:nvPr>
            <p:ph/>
          </p:nvPr>
        </p:nvSpPr>
        <p:spPr>
          <a:xfrm>
            <a:off x="1676520" y="365112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19" name="PlaceHolder 3"/>
          <p:cNvSpPr>
            <a:spLocks noGrp="1"/>
          </p:cNvSpPr>
          <p:nvPr>
            <p:ph/>
          </p:nvPr>
        </p:nvSpPr>
        <p:spPr>
          <a:xfrm>
            <a:off x="1676520" y="8196480"/>
            <a:ext cx="2102472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36B301-A201-4F5E-811F-FE309AE0E8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21" name="PlaceHolder 2"/>
          <p:cNvSpPr>
            <a:spLocks noGrp="1"/>
          </p:cNvSpPr>
          <p:nvPr>
            <p:ph/>
          </p:nvPr>
        </p:nvSpPr>
        <p:spPr>
          <a:xfrm>
            <a:off x="167652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2" name="PlaceHolder 3"/>
          <p:cNvSpPr>
            <a:spLocks noGrp="1"/>
          </p:cNvSpPr>
          <p:nvPr>
            <p:ph/>
          </p:nvPr>
        </p:nvSpPr>
        <p:spPr>
          <a:xfrm>
            <a:off x="12449880" y="365112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3" name="PlaceHolder 4"/>
          <p:cNvSpPr>
            <a:spLocks noGrp="1"/>
          </p:cNvSpPr>
          <p:nvPr>
            <p:ph/>
          </p:nvPr>
        </p:nvSpPr>
        <p:spPr>
          <a:xfrm>
            <a:off x="167652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4" name="PlaceHolder 5"/>
          <p:cNvSpPr>
            <a:spLocks noGrp="1"/>
          </p:cNvSpPr>
          <p:nvPr>
            <p:ph/>
          </p:nvPr>
        </p:nvSpPr>
        <p:spPr>
          <a:xfrm>
            <a:off x="12449880" y="8196480"/>
            <a:ext cx="102600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486FE6-B001-4B4E-BE01-9EEF51AF55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26" name="PlaceHolder 2"/>
          <p:cNvSpPr>
            <a:spLocks noGrp="1"/>
          </p:cNvSpPr>
          <p:nvPr>
            <p:ph/>
          </p:nvPr>
        </p:nvSpPr>
        <p:spPr>
          <a:xfrm>
            <a:off x="167652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7" name="PlaceHolder 3"/>
          <p:cNvSpPr>
            <a:spLocks noGrp="1"/>
          </p:cNvSpPr>
          <p:nvPr>
            <p:ph/>
          </p:nvPr>
        </p:nvSpPr>
        <p:spPr>
          <a:xfrm>
            <a:off x="878508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8" name="PlaceHolder 4"/>
          <p:cNvSpPr>
            <a:spLocks noGrp="1"/>
          </p:cNvSpPr>
          <p:nvPr>
            <p:ph/>
          </p:nvPr>
        </p:nvSpPr>
        <p:spPr>
          <a:xfrm>
            <a:off x="15894000" y="365112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29" name="PlaceHolder 5"/>
          <p:cNvSpPr>
            <a:spLocks noGrp="1"/>
          </p:cNvSpPr>
          <p:nvPr>
            <p:ph/>
          </p:nvPr>
        </p:nvSpPr>
        <p:spPr>
          <a:xfrm>
            <a:off x="167652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0" name="PlaceHolder 6"/>
          <p:cNvSpPr>
            <a:spLocks noGrp="1"/>
          </p:cNvSpPr>
          <p:nvPr>
            <p:ph/>
          </p:nvPr>
        </p:nvSpPr>
        <p:spPr>
          <a:xfrm>
            <a:off x="878508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331" name="PlaceHolder 7"/>
          <p:cNvSpPr>
            <a:spLocks noGrp="1"/>
          </p:cNvSpPr>
          <p:nvPr>
            <p:ph/>
          </p:nvPr>
        </p:nvSpPr>
        <p:spPr>
          <a:xfrm>
            <a:off x="15894000" y="8196480"/>
            <a:ext cx="6769800" cy="415080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D40546-22DA-4FE1-8F66-0D68BF4CE5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4E8322-9F6E-487F-992A-FE92573D1F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39" name="PlaceHolder 2"/>
          <p:cNvSpPr>
            <a:spLocks noGrp="1"/>
          </p:cNvSpPr>
          <p:nvPr>
            <p:ph type="subTitle"/>
          </p:nvPr>
        </p:nvSpPr>
        <p:spPr>
          <a:xfrm>
            <a:off x="1676520" y="3651120"/>
            <a:ext cx="21024720" cy="870264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30209-DEDD-4B65-B681-218AAE37FE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00000"/>
              </a:solidFill>
              <a:latin typeface="Montserrat Semi Bold"/>
            </a:endParaRPr>
          </a:p>
        </p:txBody>
      </p:sp>
      <p:sp>
        <p:nvSpPr>
          <p:cNvPr id="341" name="PlaceHolder 2"/>
          <p:cNvSpPr>
            <a:spLocks noGrp="1"/>
          </p:cNvSpPr>
          <p:nvPr>
            <p:ph/>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endParaRPr b="0" lang="en-US" sz="2800" spc="-1" strike="noStrike">
              <a:solidFill>
                <a:srgbClr val="000000"/>
              </a:solidFill>
              <a:latin typeface="Open Sans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ED0F9-277C-4621-B68D-11F8F3D540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 name="PlaceHolder 3"/>
          <p:cNvSpPr>
            <a:spLocks noGrp="1"/>
          </p:cNvSpPr>
          <p:nvPr>
            <p:ph type="dt" idx="1"/>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 name="PlaceHolder 5"/>
          <p:cNvSpPr>
            <a:spLocks noGrp="1"/>
          </p:cNvSpPr>
          <p:nvPr>
            <p:ph type="sldNum" idx="3"/>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9959B4C5-46CE-4164-A942-9F60CE448A34}"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37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2" name="Straight Connector 6"/>
          <p:cNvSpPr/>
          <p:nvPr/>
        </p:nvSpPr>
        <p:spPr>
          <a:xfrm>
            <a:off x="1676520" y="21430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41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1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415" name="PlaceHolder 3"/>
          <p:cNvSpPr>
            <a:spLocks noGrp="1"/>
          </p:cNvSpPr>
          <p:nvPr>
            <p:ph type="dt" idx="25"/>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416" name="PlaceHolder 4"/>
          <p:cNvSpPr>
            <a:spLocks noGrp="1"/>
          </p:cNvSpPr>
          <p:nvPr>
            <p:ph type="ftr" idx="26"/>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5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9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530"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568"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5" name="Shape 106"/>
          <p:cNvSpPr/>
          <p:nvPr/>
        </p:nvSpPr>
        <p:spPr>
          <a:xfrm>
            <a:off x="2425680" y="5821200"/>
            <a:ext cx="8658360" cy="287496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60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0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4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68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20" name="Shape 335"/>
          <p:cNvSpPr/>
          <p:nvPr/>
        </p:nvSpPr>
        <p:spPr>
          <a:xfrm>
            <a:off x="17694360" y="11939760"/>
            <a:ext cx="237960" cy="66960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1" name="Shape 336"/>
          <p:cNvSpPr/>
          <p:nvPr/>
        </p:nvSpPr>
        <p:spPr>
          <a:xfrm>
            <a:off x="12192120" y="11939760"/>
            <a:ext cx="237960" cy="66960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2" name="Shape 337"/>
          <p:cNvSpPr/>
          <p:nvPr/>
        </p:nvSpPr>
        <p:spPr>
          <a:xfrm>
            <a:off x="6700680" y="11939760"/>
            <a:ext cx="238320" cy="66960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3" name="Shape 338"/>
          <p:cNvSpPr/>
          <p:nvPr/>
        </p:nvSpPr>
        <p:spPr>
          <a:xfrm>
            <a:off x="9380520" y="9036000"/>
            <a:ext cx="238320" cy="66996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4" name="Shape 339"/>
          <p:cNvSpPr/>
          <p:nvPr/>
        </p:nvSpPr>
        <p:spPr>
          <a:xfrm>
            <a:off x="12192120" y="6195960"/>
            <a:ext cx="237960" cy="673200"/>
          </a:xfrm>
          <a:prstGeom prst="rect">
            <a:avLst/>
          </a:prstGeom>
          <a:solidFill>
            <a:srgbClr val="a6a6a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5" name="Shape 354"/>
          <p:cNvSpPr/>
          <p:nvPr/>
        </p:nvSpPr>
        <p:spPr>
          <a:xfrm flipH="1">
            <a:off x="6468840" y="7488360"/>
            <a:ext cx="11512440" cy="0"/>
          </a:xfrm>
          <a:prstGeom prst="line">
            <a:avLst/>
          </a:prstGeom>
          <a:ln w="19080">
            <a:solidFill>
              <a:srgbClr val="d9d9d9"/>
            </a:solidFill>
            <a:miter/>
          </a:ln>
        </p:spPr>
        <p:style>
          <a:lnRef idx="0"/>
          <a:fillRef idx="0"/>
          <a:effectRef idx="0"/>
          <a:fontRef idx="minor"/>
        </p:style>
        <p:txBody>
          <a:bodyPr lIns="0" rIns="0" tIns="0" bIns="0" anchor="t">
            <a:noAutofit/>
          </a:bodyPr>
          <a:p>
            <a:endParaRPr b="0" lang="en-US" sz="3500" spc="-1" strike="noStrike">
              <a:solidFill>
                <a:srgbClr val="000000"/>
              </a:solidFill>
              <a:latin typeface="Open Sans Light"/>
            </a:endParaRPr>
          </a:p>
        </p:txBody>
      </p:sp>
      <p:sp>
        <p:nvSpPr>
          <p:cNvPr id="726" name="Shape 355"/>
          <p:cNvSpPr/>
          <p:nvPr/>
        </p:nvSpPr>
        <p:spPr>
          <a:xfrm flipH="1">
            <a:off x="3884400" y="10360080"/>
            <a:ext cx="16681320" cy="0"/>
          </a:xfrm>
          <a:prstGeom prst="line">
            <a:avLst/>
          </a:prstGeom>
          <a:ln w="19080">
            <a:solidFill>
              <a:srgbClr val="d9d9d9"/>
            </a:solidFill>
            <a:miter/>
          </a:ln>
        </p:spPr>
        <p:style>
          <a:lnRef idx="0"/>
          <a:fillRef idx="0"/>
          <a:effectRef idx="0"/>
          <a:fontRef idx="minor"/>
        </p:style>
        <p:txBody>
          <a:bodyPr lIns="0" rIns="0" tIns="0" bIns="0" anchor="t">
            <a:noAutofit/>
          </a:bodyPr>
          <a:p>
            <a:endParaRPr b="0" lang="en-US" sz="3500" spc="-1" strike="noStrike">
              <a:solidFill>
                <a:srgbClr val="000000"/>
              </a:solidFill>
              <a:latin typeface="Open Sans Light"/>
            </a:endParaRPr>
          </a:p>
        </p:txBody>
      </p:sp>
      <p:sp>
        <p:nvSpPr>
          <p:cNvPr id="727" name="Shape 338"/>
          <p:cNvSpPr/>
          <p:nvPr/>
        </p:nvSpPr>
        <p:spPr>
          <a:xfrm>
            <a:off x="14648040" y="9036000"/>
            <a:ext cx="237960" cy="66996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2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72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 name="Rectangle 6"/>
          <p:cNvSpPr/>
          <p:nvPr/>
        </p:nvSpPr>
        <p:spPr>
          <a:xfrm>
            <a:off x="11449080" y="5305320"/>
            <a:ext cx="1552680" cy="92160"/>
          </a:xfrm>
          <a:prstGeom prst="rect">
            <a:avLst/>
          </a:prstGeom>
          <a:solidFill>
            <a:srgbClr val="b2b2b2"/>
          </a:solidFill>
          <a:ln w="0">
            <a:noFill/>
          </a:ln>
        </p:spPr>
        <p:style>
          <a:lnRef idx="0"/>
          <a:fillRef idx="0"/>
          <a:effectRef idx="0"/>
          <a:fontRef idx="minor"/>
        </p:style>
        <p:txBody>
          <a:bodyPr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4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44" name="PlaceHolder 3"/>
          <p:cNvSpPr>
            <a:spLocks noGrp="1"/>
          </p:cNvSpPr>
          <p:nvPr>
            <p:ph type="dt" idx="4"/>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45" name="PlaceHolder 4"/>
          <p:cNvSpPr>
            <a:spLocks noGrp="1"/>
          </p:cNvSpPr>
          <p:nvPr>
            <p:ph type="ftr" idx="5"/>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46" name="PlaceHolder 5"/>
          <p:cNvSpPr>
            <a:spLocks noGrp="1"/>
          </p:cNvSpPr>
          <p:nvPr>
            <p:ph type="sldNum" idx="6"/>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C73180EA-5A41-469A-BF3D-99EEE358A7E1}"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66" name="Shape 216"/>
          <p:cNvSpPr/>
          <p:nvPr/>
        </p:nvSpPr>
        <p:spPr>
          <a:xfrm>
            <a:off x="2425680" y="9286920"/>
            <a:ext cx="8658360" cy="2874960"/>
          </a:xfrm>
          <a:prstGeom prst="rect">
            <a:avLst/>
          </a:prstGeom>
          <a:solidFill>
            <a:srgbClr val="b2b2b2"/>
          </a:solidFill>
          <a:ln w="0">
            <a:noFill/>
          </a:ln>
        </p:spPr>
        <p:style>
          <a:lnRef idx="0"/>
          <a:fillRef idx="0"/>
          <a:effectRef idx="0"/>
          <a:fontRef idx="minor"/>
        </p:style>
        <p:txBody>
          <a:bodyPr lIns="122040" rIns="122040" tIns="122040" bIns="12204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67" name="Shape 217"/>
          <p:cNvSpPr/>
          <p:nvPr/>
        </p:nvSpPr>
        <p:spPr>
          <a:xfrm>
            <a:off x="9434520" y="9840960"/>
            <a:ext cx="646200" cy="611280"/>
          </a:xfrm>
          <a:custGeom>
            <a:avLst/>
            <a:gdLst/>
            <a:ahLst/>
            <a:rect l="l" t="t" r="r" b="b"/>
            <a:pathLst>
              <a:path w="21431" h="16923">
                <a:moveTo>
                  <a:pt x="20819" y="3166"/>
                </a:moveTo>
                <a:cubicBezTo>
                  <a:pt x="7236" y="7712"/>
                  <a:pt x="12737" y="-4524"/>
                  <a:pt x="2202" y="1917"/>
                </a:cubicBezTo>
                <a:lnTo>
                  <a:pt x="0" y="2579"/>
                </a:lnTo>
                <a:lnTo>
                  <a:pt x="4363" y="16923"/>
                </a:lnTo>
                <a:lnTo>
                  <a:pt x="6767" y="16923"/>
                </a:lnTo>
                <a:lnTo>
                  <a:pt x="4629" y="9897"/>
                </a:lnTo>
                <a:cubicBezTo>
                  <a:pt x="14029" y="3309"/>
                  <a:pt x="10224" y="17076"/>
                  <a:pt x="21342" y="3569"/>
                </a:cubicBezTo>
                <a:cubicBezTo>
                  <a:pt x="21600" y="3255"/>
                  <a:pt x="21254" y="3020"/>
                  <a:pt x="20819" y="3166"/>
                </a:cubicBezTo>
                <a:close/>
              </a:path>
            </a:pathLst>
          </a:custGeom>
          <a:solidFill>
            <a:srgbClr val="ffffff"/>
          </a:solidFill>
          <a:ln w="0">
            <a:noFill/>
          </a:ln>
        </p:spPr>
        <p:style>
          <a:lnRef idx="0"/>
          <a:fillRef idx="0"/>
          <a:effectRef idx="0"/>
          <a:fontRef idx="minor"/>
        </p:style>
        <p:txBody>
          <a:bodyPr lIns="109440" rIns="109440" tIns="109440" bIns="109440" anchor="ctr">
            <a:noAutofit/>
          </a:bodyPr>
          <a:p>
            <a:endParaRPr b="0" lang="en-US" sz="3500" spc="-1" strike="noStrike">
              <a:solidFill>
                <a:srgbClr val="000000"/>
              </a:solidFill>
              <a:latin typeface="Open Sans Light"/>
            </a:endParaRPr>
          </a:p>
        </p:txBody>
      </p:sp>
      <p:sp>
        <p:nvSpPr>
          <p:cNvPr id="768" name="Shape 213"/>
          <p:cNvSpPr/>
          <p:nvPr/>
        </p:nvSpPr>
        <p:spPr>
          <a:xfrm>
            <a:off x="2425680" y="5146560"/>
            <a:ext cx="8658360" cy="2874960"/>
          </a:xfrm>
          <a:prstGeom prst="rect">
            <a:avLst/>
          </a:prstGeom>
          <a:solidFill>
            <a:srgbClr val="b2b2b2"/>
          </a:solidFill>
          <a:ln w="0">
            <a:noFill/>
          </a:ln>
        </p:spPr>
        <p:style>
          <a:lnRef idx="0"/>
          <a:fillRef idx="0"/>
          <a:effectRef idx="0"/>
          <a:fontRef idx="minor"/>
        </p:style>
        <p:txBody>
          <a:bodyPr lIns="122040" rIns="122040" tIns="122040" bIns="12204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769" name="Shape 214"/>
          <p:cNvSpPr/>
          <p:nvPr/>
        </p:nvSpPr>
        <p:spPr>
          <a:xfrm>
            <a:off x="9434520" y="5703840"/>
            <a:ext cx="646200" cy="619200"/>
          </a:xfrm>
          <a:custGeom>
            <a:avLst/>
            <a:gdLst/>
            <a:ahLst/>
            <a:rect l="l" t="t" r="r" b="b"/>
            <a:pathLst>
              <a:path w="21401" h="21363">
                <a:moveTo>
                  <a:pt x="7274" y="21020"/>
                </a:moveTo>
                <a:cubicBezTo>
                  <a:pt x="7274" y="21376"/>
                  <a:pt x="7435" y="21475"/>
                  <a:pt x="7659" y="21222"/>
                </a:cubicBezTo>
                <a:cubicBezTo>
                  <a:pt x="7951" y="20894"/>
                  <a:pt x="10973" y="17529"/>
                  <a:pt x="10973" y="17529"/>
                </a:cubicBezTo>
                <a:lnTo>
                  <a:pt x="7274" y="15153"/>
                </a:lnTo>
                <a:cubicBezTo>
                  <a:pt x="7274" y="15153"/>
                  <a:pt x="7274" y="21020"/>
                  <a:pt x="7274" y="21020"/>
                </a:cubicBezTo>
                <a:close/>
                <a:moveTo>
                  <a:pt x="20812" y="50"/>
                </a:moveTo>
                <a:cubicBezTo>
                  <a:pt x="20412" y="224"/>
                  <a:pt x="667" y="8860"/>
                  <a:pt x="277" y="9030"/>
                </a:cubicBezTo>
                <a:cubicBezTo>
                  <a:pt x="-53" y="9174"/>
                  <a:pt x="-126" y="9528"/>
                  <a:pt x="266" y="9723"/>
                </a:cubicBezTo>
                <a:cubicBezTo>
                  <a:pt x="733" y="9955"/>
                  <a:pt x="4681" y="11919"/>
                  <a:pt x="4681" y="11919"/>
                </a:cubicBezTo>
                <a:lnTo>
                  <a:pt x="7298" y="13221"/>
                </a:lnTo>
                <a:cubicBezTo>
                  <a:pt x="7298" y="13221"/>
                  <a:pt x="19903" y="1732"/>
                  <a:pt x="20073" y="1577"/>
                </a:cubicBezTo>
                <a:cubicBezTo>
                  <a:pt x="20246" y="1420"/>
                  <a:pt x="20443" y="1713"/>
                  <a:pt x="20319" y="1881"/>
                </a:cubicBezTo>
                <a:cubicBezTo>
                  <a:pt x="20194" y="2050"/>
                  <a:pt x="11163" y="14170"/>
                  <a:pt x="11163" y="14170"/>
                </a:cubicBezTo>
                <a:cubicBezTo>
                  <a:pt x="11163" y="14170"/>
                  <a:pt x="11163" y="14170"/>
                  <a:pt x="11163" y="14171"/>
                </a:cubicBezTo>
                <a:lnTo>
                  <a:pt x="10637" y="14898"/>
                </a:lnTo>
                <a:lnTo>
                  <a:pt x="11333" y="15363"/>
                </a:lnTo>
                <a:cubicBezTo>
                  <a:pt x="11333" y="15363"/>
                  <a:pt x="16742" y="18976"/>
                  <a:pt x="17127" y="19234"/>
                </a:cubicBezTo>
                <a:cubicBezTo>
                  <a:pt x="17464" y="19459"/>
                  <a:pt x="17904" y="19272"/>
                  <a:pt x="18001" y="18750"/>
                </a:cubicBezTo>
                <a:cubicBezTo>
                  <a:pt x="18117" y="18135"/>
                  <a:pt x="21310" y="1052"/>
                  <a:pt x="21382" y="671"/>
                </a:cubicBezTo>
                <a:cubicBezTo>
                  <a:pt x="21474" y="177"/>
                  <a:pt x="21211" y="-125"/>
                  <a:pt x="20812" y="50"/>
                </a:cubicBezTo>
                <a:close/>
              </a:path>
            </a:pathLst>
          </a:custGeom>
          <a:solidFill>
            <a:srgbClr val="ffffff"/>
          </a:solidFill>
          <a:ln w="0">
            <a:noFill/>
          </a:ln>
        </p:spPr>
        <p:style>
          <a:lnRef idx="0"/>
          <a:fillRef idx="0"/>
          <a:effectRef idx="0"/>
          <a:fontRef idx="minor"/>
        </p:style>
        <p:txBody>
          <a:bodyPr lIns="109440" rIns="109440" tIns="109440" bIns="109440" anchor="ctr">
            <a:noAutofit/>
          </a:bodyPr>
          <a:p>
            <a:endParaRPr b="0" lang="en-US" sz="3500" spc="-1" strike="noStrike">
              <a:solidFill>
                <a:srgbClr val="000000"/>
              </a:solidFill>
              <a:latin typeface="Open Sans Light"/>
            </a:endParaRPr>
          </a:p>
        </p:txBody>
      </p:sp>
      <p:sp>
        <p:nvSpPr>
          <p:cNvPr id="77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77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0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4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8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92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60" name="Group 12"/>
          <p:cNvGrpSpPr/>
          <p:nvPr/>
        </p:nvGrpSpPr>
        <p:grpSpPr>
          <a:xfrm>
            <a:off x="3141720" y="11587320"/>
            <a:ext cx="476280" cy="480960"/>
            <a:chOff x="3141720" y="11587320"/>
            <a:chExt cx="476280" cy="480960"/>
          </a:xfrm>
        </p:grpSpPr>
        <p:sp>
          <p:nvSpPr>
            <p:cNvPr id="961" name="Shape 486"/>
            <p:cNvSpPr/>
            <p:nvPr/>
          </p:nvSpPr>
          <p:spPr>
            <a:xfrm>
              <a:off x="3141720" y="11587320"/>
              <a:ext cx="476280" cy="48096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2" name="Shape 487"/>
            <p:cNvSpPr/>
            <p:nvPr/>
          </p:nvSpPr>
          <p:spPr>
            <a:xfrm>
              <a:off x="3317400" y="11717640"/>
              <a:ext cx="117000" cy="210600"/>
            </a:xfrm>
            <a:custGeom>
              <a:avLst/>
              <a:gdLst/>
              <a:ahLst/>
              <a:rect l="l" t="t" r="r" b="b"/>
              <a:pathLst>
                <a:path w="21600" h="21600">
                  <a:moveTo>
                    <a:pt x="21600" y="3757"/>
                  </a:moveTo>
                  <a:lnTo>
                    <a:pt x="15430" y="3757"/>
                  </a:lnTo>
                  <a:cubicBezTo>
                    <a:pt x="14702" y="3757"/>
                    <a:pt x="13885" y="4288"/>
                    <a:pt x="13885" y="5002"/>
                  </a:cubicBezTo>
                  <a:lnTo>
                    <a:pt x="13885" y="7478"/>
                  </a:lnTo>
                  <a:lnTo>
                    <a:pt x="21600" y="7478"/>
                  </a:lnTo>
                  <a:lnTo>
                    <a:pt x="21600" y="11004"/>
                  </a:lnTo>
                  <a:lnTo>
                    <a:pt x="13885" y="11004"/>
                  </a:lnTo>
                  <a:lnTo>
                    <a:pt x="13885" y="21600"/>
                  </a:lnTo>
                  <a:lnTo>
                    <a:pt x="6602" y="21600"/>
                  </a:lnTo>
                  <a:lnTo>
                    <a:pt x="6602" y="11004"/>
                  </a:lnTo>
                  <a:lnTo>
                    <a:pt x="0" y="11004"/>
                  </a:lnTo>
                  <a:lnTo>
                    <a:pt x="0" y="7478"/>
                  </a:lnTo>
                  <a:lnTo>
                    <a:pt x="6602" y="7478"/>
                  </a:lnTo>
                  <a:lnTo>
                    <a:pt x="6602" y="5401"/>
                  </a:lnTo>
                  <a:cubicBezTo>
                    <a:pt x="6602" y="2424"/>
                    <a:pt x="10324" y="0"/>
                    <a:pt x="15430" y="0"/>
                  </a:cubicBezTo>
                  <a:lnTo>
                    <a:pt x="21600" y="0"/>
                  </a:lnTo>
                  <a:cubicBezTo>
                    <a:pt x="21600" y="0"/>
                    <a:pt x="21600" y="3757"/>
                    <a:pt x="21600" y="375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grpSp>
        <p:nvGrpSpPr>
          <p:cNvPr id="963" name="Group 15"/>
          <p:cNvGrpSpPr/>
          <p:nvPr/>
        </p:nvGrpSpPr>
        <p:grpSpPr>
          <a:xfrm>
            <a:off x="3141720" y="12276000"/>
            <a:ext cx="476280" cy="481320"/>
            <a:chOff x="3141720" y="12276000"/>
            <a:chExt cx="476280" cy="481320"/>
          </a:xfrm>
        </p:grpSpPr>
        <p:sp>
          <p:nvSpPr>
            <p:cNvPr id="964" name="Shape 490"/>
            <p:cNvSpPr/>
            <p:nvPr/>
          </p:nvSpPr>
          <p:spPr>
            <a:xfrm>
              <a:off x="3141720" y="12276000"/>
              <a:ext cx="476280" cy="48132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5" name="Shape 491"/>
            <p:cNvSpPr/>
            <p:nvPr/>
          </p:nvSpPr>
          <p:spPr>
            <a:xfrm>
              <a:off x="3281040" y="12419280"/>
              <a:ext cx="217800" cy="177120"/>
            </a:xfrm>
            <a:custGeom>
              <a:avLst/>
              <a:gdLst/>
              <a:ahLst/>
              <a:rect l="l" t="t" r="r" b="b"/>
              <a:pathLst>
                <a:path w="21600" h="21600">
                  <a:moveTo>
                    <a:pt x="21600" y="2557"/>
                  </a:moveTo>
                  <a:cubicBezTo>
                    <a:pt x="20804" y="2992"/>
                    <a:pt x="19950" y="3284"/>
                    <a:pt x="19054" y="3416"/>
                  </a:cubicBezTo>
                  <a:cubicBezTo>
                    <a:pt x="19970" y="2741"/>
                    <a:pt x="20673" y="1673"/>
                    <a:pt x="21003" y="400"/>
                  </a:cubicBezTo>
                  <a:cubicBezTo>
                    <a:pt x="20147" y="1023"/>
                    <a:pt x="19198" y="1478"/>
                    <a:pt x="18189" y="1722"/>
                  </a:cubicBezTo>
                  <a:cubicBezTo>
                    <a:pt x="17381" y="661"/>
                    <a:pt x="16229" y="0"/>
                    <a:pt x="14955" y="0"/>
                  </a:cubicBezTo>
                  <a:cubicBezTo>
                    <a:pt x="12507" y="0"/>
                    <a:pt x="10524" y="2442"/>
                    <a:pt x="10524" y="5451"/>
                  </a:cubicBezTo>
                  <a:cubicBezTo>
                    <a:pt x="10524" y="5879"/>
                    <a:pt x="10562" y="6297"/>
                    <a:pt x="10638" y="6697"/>
                  </a:cubicBezTo>
                  <a:cubicBezTo>
                    <a:pt x="6956" y="6467"/>
                    <a:pt x="3689" y="4296"/>
                    <a:pt x="1504" y="998"/>
                  </a:cubicBezTo>
                  <a:cubicBezTo>
                    <a:pt x="1122" y="1802"/>
                    <a:pt x="903" y="2741"/>
                    <a:pt x="903" y="3740"/>
                  </a:cubicBezTo>
                  <a:cubicBezTo>
                    <a:pt x="903" y="5632"/>
                    <a:pt x="1686" y="7299"/>
                    <a:pt x="2875" y="8280"/>
                  </a:cubicBezTo>
                  <a:cubicBezTo>
                    <a:pt x="2150" y="8248"/>
                    <a:pt x="1466" y="8005"/>
                    <a:pt x="868" y="7598"/>
                  </a:cubicBezTo>
                  <a:cubicBezTo>
                    <a:pt x="868" y="7619"/>
                    <a:pt x="868" y="7643"/>
                    <a:pt x="868" y="7664"/>
                  </a:cubicBezTo>
                  <a:cubicBezTo>
                    <a:pt x="868" y="10308"/>
                    <a:pt x="2396" y="12510"/>
                    <a:pt x="4423" y="13011"/>
                  </a:cubicBezTo>
                  <a:cubicBezTo>
                    <a:pt x="4051" y="13136"/>
                    <a:pt x="3660" y="13202"/>
                    <a:pt x="3255" y="13202"/>
                  </a:cubicBezTo>
                  <a:cubicBezTo>
                    <a:pt x="2970" y="13202"/>
                    <a:pt x="2693" y="13167"/>
                    <a:pt x="2421" y="13105"/>
                  </a:cubicBezTo>
                  <a:cubicBezTo>
                    <a:pt x="2985" y="15272"/>
                    <a:pt x="4622" y="16848"/>
                    <a:pt x="6560" y="16893"/>
                  </a:cubicBezTo>
                  <a:cubicBezTo>
                    <a:pt x="5043" y="18354"/>
                    <a:pt x="3134" y="19227"/>
                    <a:pt x="1057" y="19227"/>
                  </a:cubicBezTo>
                  <a:cubicBezTo>
                    <a:pt x="700" y="19227"/>
                    <a:pt x="348" y="19200"/>
                    <a:pt x="0" y="19151"/>
                  </a:cubicBezTo>
                  <a:cubicBezTo>
                    <a:pt x="1961" y="20699"/>
                    <a:pt x="4290" y="21600"/>
                    <a:pt x="6793" y="21600"/>
                  </a:cubicBezTo>
                  <a:cubicBezTo>
                    <a:pt x="14944" y="21600"/>
                    <a:pt x="19402" y="13293"/>
                    <a:pt x="19402" y="6084"/>
                  </a:cubicBezTo>
                  <a:cubicBezTo>
                    <a:pt x="19402" y="5848"/>
                    <a:pt x="19398" y="5615"/>
                    <a:pt x="19389" y="5378"/>
                  </a:cubicBezTo>
                  <a:cubicBezTo>
                    <a:pt x="20254" y="4609"/>
                    <a:pt x="21005" y="3649"/>
                    <a:pt x="21600" y="2557"/>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sp>
        <p:nvSpPr>
          <p:cNvPr id="966" name="Rectangle 12"/>
          <p:cNvSpPr/>
          <p:nvPr/>
        </p:nvSpPr>
        <p:spPr>
          <a:xfrm>
            <a:off x="9802800" y="7078680"/>
            <a:ext cx="4367160" cy="130320"/>
          </a:xfrm>
          <a:prstGeom prst="rect">
            <a:avLst/>
          </a:prstGeom>
          <a:solidFill>
            <a:srgbClr val="404040"/>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7" name="Rectangle 13"/>
          <p:cNvSpPr/>
          <p:nvPr/>
        </p:nvSpPr>
        <p:spPr>
          <a:xfrm>
            <a:off x="9802800" y="7077240"/>
            <a:ext cx="3257640" cy="129960"/>
          </a:xfrm>
          <a:prstGeom prst="rect">
            <a:avLst/>
          </a:prstGeom>
          <a:solidFill>
            <a:srgbClr val="dddddd"/>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8" name="Rectangle 14"/>
          <p:cNvSpPr/>
          <p:nvPr/>
        </p:nvSpPr>
        <p:spPr>
          <a:xfrm>
            <a:off x="9802800" y="8413920"/>
            <a:ext cx="4367160" cy="129960"/>
          </a:xfrm>
          <a:prstGeom prst="rect">
            <a:avLst/>
          </a:prstGeom>
          <a:solidFill>
            <a:srgbClr val="404040"/>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69" name="Rectangle 15"/>
          <p:cNvSpPr/>
          <p:nvPr/>
        </p:nvSpPr>
        <p:spPr>
          <a:xfrm>
            <a:off x="9802800" y="8412120"/>
            <a:ext cx="2395440" cy="130320"/>
          </a:xfrm>
          <a:prstGeom prst="rect">
            <a:avLst/>
          </a:prstGeom>
          <a:solidFill>
            <a:srgbClr val="dddddd"/>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0" name="Rectangle 16"/>
          <p:cNvSpPr/>
          <p:nvPr/>
        </p:nvSpPr>
        <p:spPr>
          <a:xfrm>
            <a:off x="9802800" y="9728280"/>
            <a:ext cx="4367160" cy="129960"/>
          </a:xfrm>
          <a:prstGeom prst="rect">
            <a:avLst/>
          </a:prstGeom>
          <a:solidFill>
            <a:srgbClr val="404040"/>
          </a:solidFill>
          <a:ln w="0">
            <a:noFill/>
          </a:ln>
        </p:spPr>
        <p:style>
          <a:lnRef idx="0"/>
          <a:fillRef idx="0"/>
          <a:effectRef idx="0"/>
          <a:fontRef idx="minor"/>
        </p:style>
        <p:txBody>
          <a:bodyPr lIns="171000" rIns="171000" tIns="44280" bIns="4428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1" name="Rectangle 17"/>
          <p:cNvSpPr/>
          <p:nvPr/>
        </p:nvSpPr>
        <p:spPr>
          <a:xfrm>
            <a:off x="9802800" y="9726480"/>
            <a:ext cx="4033800" cy="130320"/>
          </a:xfrm>
          <a:prstGeom prst="rect">
            <a:avLst/>
          </a:prstGeom>
          <a:solidFill>
            <a:srgbClr val="dddddd"/>
          </a:solidFill>
          <a:ln w="0">
            <a:noFill/>
          </a:ln>
        </p:spPr>
        <p:style>
          <a:lnRef idx="0"/>
          <a:fillRef idx="0"/>
          <a:effectRef idx="0"/>
          <a:fontRef idx="minor"/>
        </p:style>
        <p:txBody>
          <a:bodyPr lIns="171000" rIns="171000" tIns="44640" bIns="4464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grpSp>
        <p:nvGrpSpPr>
          <p:cNvPr id="972" name="Group 18"/>
          <p:cNvGrpSpPr/>
          <p:nvPr/>
        </p:nvGrpSpPr>
        <p:grpSpPr>
          <a:xfrm>
            <a:off x="9736200" y="11587320"/>
            <a:ext cx="476280" cy="480960"/>
            <a:chOff x="9736200" y="11587320"/>
            <a:chExt cx="476280" cy="480960"/>
          </a:xfrm>
        </p:grpSpPr>
        <p:sp>
          <p:nvSpPr>
            <p:cNvPr id="973" name="Shape 486"/>
            <p:cNvSpPr/>
            <p:nvPr/>
          </p:nvSpPr>
          <p:spPr>
            <a:xfrm>
              <a:off x="9736200" y="11587320"/>
              <a:ext cx="476280" cy="48096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4" name="Shape 1186"/>
            <p:cNvSpPr/>
            <p:nvPr/>
          </p:nvSpPr>
          <p:spPr>
            <a:xfrm>
              <a:off x="9843480" y="11685960"/>
              <a:ext cx="275400" cy="242280"/>
            </a:xfrm>
            <a:custGeom>
              <a:avLst/>
              <a:gdLst/>
              <a:ahLst/>
              <a:rect l="l" t="t" r="r" b="b"/>
              <a:pathLst>
                <a:path w="21600" h="21600">
                  <a:moveTo>
                    <a:pt x="11041" y="15188"/>
                  </a:moveTo>
                  <a:cubicBezTo>
                    <a:pt x="8905" y="14174"/>
                    <a:pt x="8222" y="13317"/>
                    <a:pt x="8222" y="11485"/>
                  </a:cubicBezTo>
                  <a:cubicBezTo>
                    <a:pt x="8222" y="10385"/>
                    <a:pt x="8875" y="10744"/>
                    <a:pt x="9161" y="8730"/>
                  </a:cubicBezTo>
                  <a:cubicBezTo>
                    <a:pt x="9279" y="7894"/>
                    <a:pt x="9855" y="8716"/>
                    <a:pt x="9966" y="6808"/>
                  </a:cubicBezTo>
                  <a:cubicBezTo>
                    <a:pt x="9966" y="6047"/>
                    <a:pt x="9651" y="5858"/>
                    <a:pt x="9651" y="5858"/>
                  </a:cubicBezTo>
                  <a:cubicBezTo>
                    <a:pt x="9651" y="5858"/>
                    <a:pt x="9811" y="4733"/>
                    <a:pt x="9873" y="3867"/>
                  </a:cubicBezTo>
                  <a:cubicBezTo>
                    <a:pt x="9951" y="2788"/>
                    <a:pt x="9396" y="0"/>
                    <a:pt x="6431" y="0"/>
                  </a:cubicBezTo>
                  <a:cubicBezTo>
                    <a:pt x="3466" y="0"/>
                    <a:pt x="2909" y="2788"/>
                    <a:pt x="2987" y="3867"/>
                  </a:cubicBezTo>
                  <a:cubicBezTo>
                    <a:pt x="3050" y="4733"/>
                    <a:pt x="3210" y="5858"/>
                    <a:pt x="3210" y="5858"/>
                  </a:cubicBezTo>
                  <a:cubicBezTo>
                    <a:pt x="3210" y="5858"/>
                    <a:pt x="2895" y="6047"/>
                    <a:pt x="2895" y="6808"/>
                  </a:cubicBezTo>
                  <a:cubicBezTo>
                    <a:pt x="3005" y="8716"/>
                    <a:pt x="3582" y="7894"/>
                    <a:pt x="3700" y="8730"/>
                  </a:cubicBezTo>
                  <a:cubicBezTo>
                    <a:pt x="3987" y="10744"/>
                    <a:pt x="4639" y="10385"/>
                    <a:pt x="4639" y="11485"/>
                  </a:cubicBezTo>
                  <a:cubicBezTo>
                    <a:pt x="4639" y="13317"/>
                    <a:pt x="3956" y="14174"/>
                    <a:pt x="1819" y="15188"/>
                  </a:cubicBezTo>
                  <a:cubicBezTo>
                    <a:pt x="1169" y="15497"/>
                    <a:pt x="0" y="15976"/>
                    <a:pt x="0" y="17129"/>
                  </a:cubicBezTo>
                  <a:lnTo>
                    <a:pt x="0" y="21600"/>
                  </a:lnTo>
                  <a:lnTo>
                    <a:pt x="15005" y="21600"/>
                  </a:lnTo>
                  <a:cubicBezTo>
                    <a:pt x="15005" y="21600"/>
                    <a:pt x="15005" y="18955"/>
                    <a:pt x="15005" y="18248"/>
                  </a:cubicBezTo>
                  <a:cubicBezTo>
                    <a:pt x="15005" y="17196"/>
                    <a:pt x="13184" y="16207"/>
                    <a:pt x="11041" y="15188"/>
                  </a:cubicBezTo>
                  <a:close/>
                  <a:moveTo>
                    <a:pt x="21600" y="21600"/>
                  </a:moveTo>
                  <a:cubicBezTo>
                    <a:pt x="21600" y="21600"/>
                    <a:pt x="21557" y="16953"/>
                    <a:pt x="21307" y="16471"/>
                  </a:cubicBezTo>
                  <a:cubicBezTo>
                    <a:pt x="20935" y="15754"/>
                    <a:pt x="20071" y="15261"/>
                    <a:pt x="18463" y="14498"/>
                  </a:cubicBezTo>
                  <a:cubicBezTo>
                    <a:pt x="16861" y="13736"/>
                    <a:pt x="16349" y="13094"/>
                    <a:pt x="16349" y="11720"/>
                  </a:cubicBezTo>
                  <a:cubicBezTo>
                    <a:pt x="16349" y="10894"/>
                    <a:pt x="16838" y="11164"/>
                    <a:pt x="17053" y="9653"/>
                  </a:cubicBezTo>
                  <a:cubicBezTo>
                    <a:pt x="17142" y="9026"/>
                    <a:pt x="17574" y="9643"/>
                    <a:pt x="17657" y="8212"/>
                  </a:cubicBezTo>
                  <a:cubicBezTo>
                    <a:pt x="17657" y="7642"/>
                    <a:pt x="17420" y="7499"/>
                    <a:pt x="17420" y="7499"/>
                  </a:cubicBezTo>
                  <a:cubicBezTo>
                    <a:pt x="17420" y="7499"/>
                    <a:pt x="17541" y="6656"/>
                    <a:pt x="17588" y="6006"/>
                  </a:cubicBezTo>
                  <a:cubicBezTo>
                    <a:pt x="17646" y="5197"/>
                    <a:pt x="17229" y="3106"/>
                    <a:pt x="15005" y="3106"/>
                  </a:cubicBezTo>
                  <a:cubicBezTo>
                    <a:pt x="12781" y="3106"/>
                    <a:pt x="12365" y="5197"/>
                    <a:pt x="12422" y="6006"/>
                  </a:cubicBezTo>
                  <a:cubicBezTo>
                    <a:pt x="12469" y="6656"/>
                    <a:pt x="12589" y="7499"/>
                    <a:pt x="12589" y="7499"/>
                  </a:cubicBezTo>
                  <a:cubicBezTo>
                    <a:pt x="12589" y="7499"/>
                    <a:pt x="12353" y="7642"/>
                    <a:pt x="12353" y="8212"/>
                  </a:cubicBezTo>
                  <a:cubicBezTo>
                    <a:pt x="12437" y="9643"/>
                    <a:pt x="12868" y="9026"/>
                    <a:pt x="12957" y="9653"/>
                  </a:cubicBezTo>
                  <a:cubicBezTo>
                    <a:pt x="13173" y="11164"/>
                    <a:pt x="13662" y="10894"/>
                    <a:pt x="13662" y="11720"/>
                  </a:cubicBezTo>
                  <a:cubicBezTo>
                    <a:pt x="13662" y="12655"/>
                    <a:pt x="13424" y="13250"/>
                    <a:pt x="12768" y="13776"/>
                  </a:cubicBezTo>
                  <a:cubicBezTo>
                    <a:pt x="16268" y="15766"/>
                    <a:pt x="16737" y="16172"/>
                    <a:pt x="16737" y="17952"/>
                  </a:cubicBezTo>
                  <a:lnTo>
                    <a:pt x="16737" y="21600"/>
                  </a:lnTo>
                  <a:cubicBezTo>
                    <a:pt x="16737" y="21600"/>
                    <a:pt x="21600" y="21600"/>
                    <a:pt x="21600" y="2160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grpSp>
        <p:nvGrpSpPr>
          <p:cNvPr id="975" name="Group 21"/>
          <p:cNvGrpSpPr/>
          <p:nvPr/>
        </p:nvGrpSpPr>
        <p:grpSpPr>
          <a:xfrm>
            <a:off x="9736200" y="12276000"/>
            <a:ext cx="476280" cy="481320"/>
            <a:chOff x="9736200" y="12276000"/>
            <a:chExt cx="476280" cy="481320"/>
          </a:xfrm>
        </p:grpSpPr>
        <p:sp>
          <p:nvSpPr>
            <p:cNvPr id="976" name="Shape 490"/>
            <p:cNvSpPr/>
            <p:nvPr/>
          </p:nvSpPr>
          <p:spPr>
            <a:xfrm>
              <a:off x="9736200" y="12276000"/>
              <a:ext cx="476280" cy="481320"/>
            </a:xfrm>
            <a:prstGeom prst="ellipse">
              <a:avLst/>
            </a:prstGeom>
            <a:solidFill>
              <a:srgbClr val="dddddd"/>
            </a:solidFill>
            <a:ln w="0">
              <a:noFill/>
            </a:ln>
          </p:spPr>
          <p:style>
            <a:lnRef idx="0"/>
            <a:fillRef idx="0"/>
            <a:effectRef idx="0"/>
            <a:fontRef idx="minor"/>
          </p:style>
          <p:txBody>
            <a:bodyPr lIns="50760" rIns="50760" tIns="50760" bIns="50760" anchor="ctr">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977" name="Shape 384"/>
            <p:cNvSpPr/>
            <p:nvPr/>
          </p:nvSpPr>
          <p:spPr>
            <a:xfrm>
              <a:off x="9881640" y="12424320"/>
              <a:ext cx="190440" cy="195120"/>
            </a:xfrm>
            <a:custGeom>
              <a:avLst/>
              <a:gdLst/>
              <a:ahLst/>
              <a:rect l="l" t="t" r="r" b="b"/>
              <a:pathLst>
                <a:path w="21600" h="21600">
                  <a:moveTo>
                    <a:pt x="1735" y="3821"/>
                  </a:moveTo>
                  <a:lnTo>
                    <a:pt x="4745" y="3821"/>
                  </a:lnTo>
                  <a:cubicBezTo>
                    <a:pt x="4832" y="6659"/>
                    <a:pt x="5371" y="8569"/>
                    <a:pt x="6052" y="9978"/>
                  </a:cubicBezTo>
                  <a:cubicBezTo>
                    <a:pt x="3968" y="8590"/>
                    <a:pt x="2022" y="6988"/>
                    <a:pt x="1735" y="3821"/>
                  </a:cubicBezTo>
                  <a:close/>
                  <a:moveTo>
                    <a:pt x="10800" y="1439"/>
                  </a:moveTo>
                  <a:cubicBezTo>
                    <a:pt x="14079" y="1438"/>
                    <a:pt x="15359" y="2749"/>
                    <a:pt x="15358" y="3236"/>
                  </a:cubicBezTo>
                  <a:cubicBezTo>
                    <a:pt x="15358" y="3725"/>
                    <a:pt x="14080" y="5035"/>
                    <a:pt x="10800" y="5038"/>
                  </a:cubicBezTo>
                  <a:cubicBezTo>
                    <a:pt x="7521" y="5035"/>
                    <a:pt x="6242" y="3725"/>
                    <a:pt x="6242" y="3236"/>
                  </a:cubicBezTo>
                  <a:cubicBezTo>
                    <a:pt x="6241" y="2749"/>
                    <a:pt x="7521" y="1438"/>
                    <a:pt x="10800" y="1439"/>
                  </a:cubicBezTo>
                  <a:close/>
                  <a:moveTo>
                    <a:pt x="15548" y="9978"/>
                  </a:moveTo>
                  <a:cubicBezTo>
                    <a:pt x="16230" y="8569"/>
                    <a:pt x="16768" y="6659"/>
                    <a:pt x="16855" y="3821"/>
                  </a:cubicBezTo>
                  <a:lnTo>
                    <a:pt x="19866" y="3821"/>
                  </a:lnTo>
                  <a:cubicBezTo>
                    <a:pt x="19580" y="6988"/>
                    <a:pt x="17632" y="8590"/>
                    <a:pt x="15548" y="9978"/>
                  </a:cubicBezTo>
                  <a:close/>
                  <a:moveTo>
                    <a:pt x="12216" y="15911"/>
                  </a:moveTo>
                  <a:cubicBezTo>
                    <a:pt x="12216" y="14207"/>
                    <a:pt x="13537" y="13266"/>
                    <a:pt x="15690" y="11871"/>
                  </a:cubicBezTo>
                  <a:cubicBezTo>
                    <a:pt x="18323" y="10163"/>
                    <a:pt x="21600" y="8040"/>
                    <a:pt x="21600" y="2998"/>
                  </a:cubicBezTo>
                  <a:cubicBezTo>
                    <a:pt x="21600" y="2544"/>
                    <a:pt x="21220" y="2177"/>
                    <a:pt x="20750" y="2177"/>
                  </a:cubicBezTo>
                  <a:lnTo>
                    <a:pt x="16635" y="2177"/>
                  </a:lnTo>
                  <a:cubicBezTo>
                    <a:pt x="16053" y="1125"/>
                    <a:pt x="14320" y="0"/>
                    <a:pt x="10800" y="0"/>
                  </a:cubicBezTo>
                  <a:cubicBezTo>
                    <a:pt x="7281" y="0"/>
                    <a:pt x="5547" y="1125"/>
                    <a:pt x="4966" y="2177"/>
                  </a:cubicBezTo>
                  <a:lnTo>
                    <a:pt x="850" y="2177"/>
                  </a:lnTo>
                  <a:cubicBezTo>
                    <a:pt x="380" y="2177"/>
                    <a:pt x="0" y="2544"/>
                    <a:pt x="0" y="2998"/>
                  </a:cubicBezTo>
                  <a:cubicBezTo>
                    <a:pt x="0" y="8040"/>
                    <a:pt x="3277" y="10163"/>
                    <a:pt x="5912" y="11871"/>
                  </a:cubicBezTo>
                  <a:cubicBezTo>
                    <a:pt x="8065" y="13266"/>
                    <a:pt x="9384" y="14207"/>
                    <a:pt x="9384" y="15911"/>
                  </a:cubicBezTo>
                  <a:lnTo>
                    <a:pt x="9384" y="17450"/>
                  </a:lnTo>
                  <a:cubicBezTo>
                    <a:pt x="7122" y="17696"/>
                    <a:pt x="5461" y="18514"/>
                    <a:pt x="5461" y="19487"/>
                  </a:cubicBezTo>
                  <a:cubicBezTo>
                    <a:pt x="5461" y="20654"/>
                    <a:pt x="7851" y="21600"/>
                    <a:pt x="10800" y="21600"/>
                  </a:cubicBezTo>
                  <a:cubicBezTo>
                    <a:pt x="13749" y="21600"/>
                    <a:pt x="16139" y="20654"/>
                    <a:pt x="16139" y="19487"/>
                  </a:cubicBezTo>
                  <a:cubicBezTo>
                    <a:pt x="16139" y="18514"/>
                    <a:pt x="14478" y="17696"/>
                    <a:pt x="12216" y="17450"/>
                  </a:cubicBezTo>
                  <a:cubicBezTo>
                    <a:pt x="12216" y="17450"/>
                    <a:pt x="12216" y="15911"/>
                    <a:pt x="12216" y="15911"/>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3500" spc="-1" strike="noStrike">
                <a:solidFill>
                  <a:srgbClr val="000000"/>
                </a:solidFill>
                <a:latin typeface="Open Sans Light"/>
              </a:endParaRPr>
            </a:p>
          </p:txBody>
        </p:sp>
      </p:grpSp>
      <p:sp>
        <p:nvSpPr>
          <p:cNvPr id="9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97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1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5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09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13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3" name="Freeform 6"/>
          <p:cNvSpPr/>
          <p:nvPr/>
        </p:nvSpPr>
        <p:spPr>
          <a:xfrm>
            <a:off x="1131840" y="4202280"/>
            <a:ext cx="5442120" cy="5813280"/>
          </a:xfrm>
          <a:custGeom>
            <a:avLst/>
            <a:gdLst/>
            <a:ahLst/>
            <a:rect l="l" t="t" r="r" b="b"/>
            <a:pathLst>
              <a:path w="2144" h="2290">
                <a:moveTo>
                  <a:pt x="1790" y="202"/>
                </a:moveTo>
                <a:lnTo>
                  <a:pt x="1790" y="202"/>
                </a:lnTo>
                <a:lnTo>
                  <a:pt x="1758" y="178"/>
                </a:lnTo>
                <a:lnTo>
                  <a:pt x="1724" y="156"/>
                </a:lnTo>
                <a:lnTo>
                  <a:pt x="1688" y="134"/>
                </a:lnTo>
                <a:lnTo>
                  <a:pt x="1650" y="114"/>
                </a:lnTo>
                <a:lnTo>
                  <a:pt x="1612" y="96"/>
                </a:lnTo>
                <a:lnTo>
                  <a:pt x="1574" y="80"/>
                </a:lnTo>
                <a:lnTo>
                  <a:pt x="1532" y="64"/>
                </a:lnTo>
                <a:lnTo>
                  <a:pt x="1490" y="50"/>
                </a:lnTo>
                <a:lnTo>
                  <a:pt x="1448" y="38"/>
                </a:lnTo>
                <a:lnTo>
                  <a:pt x="1402" y="28"/>
                </a:lnTo>
                <a:lnTo>
                  <a:pt x="1356" y="20"/>
                </a:lnTo>
                <a:lnTo>
                  <a:pt x="1310" y="12"/>
                </a:lnTo>
                <a:lnTo>
                  <a:pt x="1262" y="6"/>
                </a:lnTo>
                <a:lnTo>
                  <a:pt x="1212" y="4"/>
                </a:lnTo>
                <a:lnTo>
                  <a:pt x="1160" y="0"/>
                </a:lnTo>
                <a:lnTo>
                  <a:pt x="1108" y="0"/>
                </a:lnTo>
                <a:lnTo>
                  <a:pt x="1108" y="0"/>
                </a:lnTo>
                <a:lnTo>
                  <a:pt x="1042" y="0"/>
                </a:lnTo>
                <a:lnTo>
                  <a:pt x="976" y="4"/>
                </a:lnTo>
                <a:lnTo>
                  <a:pt x="914" y="10"/>
                </a:lnTo>
                <a:lnTo>
                  <a:pt x="854" y="18"/>
                </a:lnTo>
                <a:lnTo>
                  <a:pt x="796" y="28"/>
                </a:lnTo>
                <a:lnTo>
                  <a:pt x="740" y="40"/>
                </a:lnTo>
                <a:lnTo>
                  <a:pt x="686" y="56"/>
                </a:lnTo>
                <a:lnTo>
                  <a:pt x="636" y="72"/>
                </a:lnTo>
                <a:lnTo>
                  <a:pt x="586" y="92"/>
                </a:lnTo>
                <a:lnTo>
                  <a:pt x="538" y="114"/>
                </a:lnTo>
                <a:lnTo>
                  <a:pt x="494" y="138"/>
                </a:lnTo>
                <a:lnTo>
                  <a:pt x="452" y="164"/>
                </a:lnTo>
                <a:lnTo>
                  <a:pt x="410" y="192"/>
                </a:lnTo>
                <a:lnTo>
                  <a:pt x="372" y="222"/>
                </a:lnTo>
                <a:lnTo>
                  <a:pt x="336" y="256"/>
                </a:lnTo>
                <a:lnTo>
                  <a:pt x="302" y="292"/>
                </a:lnTo>
                <a:lnTo>
                  <a:pt x="302" y="292"/>
                </a:lnTo>
                <a:lnTo>
                  <a:pt x="270" y="328"/>
                </a:lnTo>
                <a:lnTo>
                  <a:pt x="240" y="366"/>
                </a:lnTo>
                <a:lnTo>
                  <a:pt x="212" y="406"/>
                </a:lnTo>
                <a:lnTo>
                  <a:pt x="186" y="448"/>
                </a:lnTo>
                <a:lnTo>
                  <a:pt x="160" y="492"/>
                </a:lnTo>
                <a:lnTo>
                  <a:pt x="136" y="536"/>
                </a:lnTo>
                <a:lnTo>
                  <a:pt x="116" y="582"/>
                </a:lnTo>
                <a:lnTo>
                  <a:pt x="96" y="628"/>
                </a:lnTo>
                <a:lnTo>
                  <a:pt x="78" y="678"/>
                </a:lnTo>
                <a:lnTo>
                  <a:pt x="62" y="728"/>
                </a:lnTo>
                <a:lnTo>
                  <a:pt x="46" y="780"/>
                </a:lnTo>
                <a:lnTo>
                  <a:pt x="34" y="832"/>
                </a:lnTo>
                <a:lnTo>
                  <a:pt x="24" y="888"/>
                </a:lnTo>
                <a:lnTo>
                  <a:pt x="14" y="944"/>
                </a:lnTo>
                <a:lnTo>
                  <a:pt x="6" y="1000"/>
                </a:lnTo>
                <a:lnTo>
                  <a:pt x="0" y="1060"/>
                </a:lnTo>
                <a:lnTo>
                  <a:pt x="754" y="1168"/>
                </a:lnTo>
                <a:lnTo>
                  <a:pt x="754" y="1168"/>
                </a:lnTo>
                <a:lnTo>
                  <a:pt x="760" y="1104"/>
                </a:lnTo>
                <a:lnTo>
                  <a:pt x="770" y="1046"/>
                </a:lnTo>
                <a:lnTo>
                  <a:pt x="782" y="994"/>
                </a:lnTo>
                <a:lnTo>
                  <a:pt x="794" y="946"/>
                </a:lnTo>
                <a:lnTo>
                  <a:pt x="810" y="902"/>
                </a:lnTo>
                <a:lnTo>
                  <a:pt x="828" y="864"/>
                </a:lnTo>
                <a:lnTo>
                  <a:pt x="848" y="830"/>
                </a:lnTo>
                <a:lnTo>
                  <a:pt x="868" y="802"/>
                </a:lnTo>
                <a:lnTo>
                  <a:pt x="868" y="802"/>
                </a:lnTo>
                <a:lnTo>
                  <a:pt x="892" y="776"/>
                </a:lnTo>
                <a:lnTo>
                  <a:pt x="916" y="756"/>
                </a:lnTo>
                <a:lnTo>
                  <a:pt x="944" y="738"/>
                </a:lnTo>
                <a:lnTo>
                  <a:pt x="970" y="722"/>
                </a:lnTo>
                <a:lnTo>
                  <a:pt x="1000" y="710"/>
                </a:lnTo>
                <a:lnTo>
                  <a:pt x="1030" y="702"/>
                </a:lnTo>
                <a:lnTo>
                  <a:pt x="1062" y="698"/>
                </a:lnTo>
                <a:lnTo>
                  <a:pt x="1096" y="696"/>
                </a:lnTo>
                <a:lnTo>
                  <a:pt x="1096" y="696"/>
                </a:lnTo>
                <a:lnTo>
                  <a:pt x="1128" y="698"/>
                </a:lnTo>
                <a:lnTo>
                  <a:pt x="1156" y="700"/>
                </a:lnTo>
                <a:lnTo>
                  <a:pt x="1184" y="706"/>
                </a:lnTo>
                <a:lnTo>
                  <a:pt x="1208" y="714"/>
                </a:lnTo>
                <a:lnTo>
                  <a:pt x="1232" y="722"/>
                </a:lnTo>
                <a:lnTo>
                  <a:pt x="1252" y="734"/>
                </a:lnTo>
                <a:lnTo>
                  <a:pt x="1270" y="748"/>
                </a:lnTo>
                <a:lnTo>
                  <a:pt x="1288" y="764"/>
                </a:lnTo>
                <a:lnTo>
                  <a:pt x="1288" y="764"/>
                </a:lnTo>
                <a:lnTo>
                  <a:pt x="1302" y="782"/>
                </a:lnTo>
                <a:lnTo>
                  <a:pt x="1316" y="802"/>
                </a:lnTo>
                <a:lnTo>
                  <a:pt x="1326" y="822"/>
                </a:lnTo>
                <a:lnTo>
                  <a:pt x="1334" y="846"/>
                </a:lnTo>
                <a:lnTo>
                  <a:pt x="1342" y="870"/>
                </a:lnTo>
                <a:lnTo>
                  <a:pt x="1346" y="898"/>
                </a:lnTo>
                <a:lnTo>
                  <a:pt x="1350" y="926"/>
                </a:lnTo>
                <a:lnTo>
                  <a:pt x="1350" y="956"/>
                </a:lnTo>
                <a:lnTo>
                  <a:pt x="1350" y="956"/>
                </a:lnTo>
                <a:lnTo>
                  <a:pt x="1350" y="970"/>
                </a:lnTo>
                <a:lnTo>
                  <a:pt x="1348" y="986"/>
                </a:lnTo>
                <a:lnTo>
                  <a:pt x="1340" y="1018"/>
                </a:lnTo>
                <a:lnTo>
                  <a:pt x="1328" y="1050"/>
                </a:lnTo>
                <a:lnTo>
                  <a:pt x="1312" y="1084"/>
                </a:lnTo>
                <a:lnTo>
                  <a:pt x="1290" y="1118"/>
                </a:lnTo>
                <a:lnTo>
                  <a:pt x="1262" y="1152"/>
                </a:lnTo>
                <a:lnTo>
                  <a:pt x="1230" y="1188"/>
                </a:lnTo>
                <a:lnTo>
                  <a:pt x="1194" y="1226"/>
                </a:lnTo>
                <a:lnTo>
                  <a:pt x="1194" y="1226"/>
                </a:lnTo>
                <a:lnTo>
                  <a:pt x="1060" y="1356"/>
                </a:lnTo>
                <a:lnTo>
                  <a:pt x="952" y="1464"/>
                </a:lnTo>
                <a:lnTo>
                  <a:pt x="870" y="1552"/>
                </a:lnTo>
                <a:lnTo>
                  <a:pt x="838" y="1588"/>
                </a:lnTo>
                <a:lnTo>
                  <a:pt x="814" y="1618"/>
                </a:lnTo>
                <a:lnTo>
                  <a:pt x="814" y="1618"/>
                </a:lnTo>
                <a:lnTo>
                  <a:pt x="794" y="1646"/>
                </a:lnTo>
                <a:lnTo>
                  <a:pt x="774" y="1676"/>
                </a:lnTo>
                <a:lnTo>
                  <a:pt x="758" y="1704"/>
                </a:lnTo>
                <a:lnTo>
                  <a:pt x="740" y="1736"/>
                </a:lnTo>
                <a:lnTo>
                  <a:pt x="726" y="1766"/>
                </a:lnTo>
                <a:lnTo>
                  <a:pt x="712" y="1798"/>
                </a:lnTo>
                <a:lnTo>
                  <a:pt x="698" y="1832"/>
                </a:lnTo>
                <a:lnTo>
                  <a:pt x="688" y="1864"/>
                </a:lnTo>
                <a:lnTo>
                  <a:pt x="688" y="1864"/>
                </a:lnTo>
                <a:lnTo>
                  <a:pt x="678" y="1900"/>
                </a:lnTo>
                <a:lnTo>
                  <a:pt x="668" y="1938"/>
                </a:lnTo>
                <a:lnTo>
                  <a:pt x="662" y="1978"/>
                </a:lnTo>
                <a:lnTo>
                  <a:pt x="656" y="2020"/>
                </a:lnTo>
                <a:lnTo>
                  <a:pt x="650" y="2066"/>
                </a:lnTo>
                <a:lnTo>
                  <a:pt x="648" y="2112"/>
                </a:lnTo>
                <a:lnTo>
                  <a:pt x="646" y="2164"/>
                </a:lnTo>
                <a:lnTo>
                  <a:pt x="644" y="2216"/>
                </a:lnTo>
                <a:lnTo>
                  <a:pt x="644" y="2290"/>
                </a:lnTo>
                <a:lnTo>
                  <a:pt x="1382" y="2290"/>
                </a:lnTo>
                <a:lnTo>
                  <a:pt x="1382" y="2290"/>
                </a:lnTo>
                <a:lnTo>
                  <a:pt x="1384" y="2250"/>
                </a:lnTo>
                <a:lnTo>
                  <a:pt x="1386" y="2210"/>
                </a:lnTo>
                <a:lnTo>
                  <a:pt x="1390" y="2174"/>
                </a:lnTo>
                <a:lnTo>
                  <a:pt x="1396" y="2138"/>
                </a:lnTo>
                <a:lnTo>
                  <a:pt x="1402" y="2106"/>
                </a:lnTo>
                <a:lnTo>
                  <a:pt x="1412" y="2074"/>
                </a:lnTo>
                <a:lnTo>
                  <a:pt x="1422" y="2046"/>
                </a:lnTo>
                <a:lnTo>
                  <a:pt x="1434" y="2018"/>
                </a:lnTo>
                <a:lnTo>
                  <a:pt x="1434" y="2018"/>
                </a:lnTo>
                <a:lnTo>
                  <a:pt x="1448" y="1990"/>
                </a:lnTo>
                <a:lnTo>
                  <a:pt x="1468" y="1960"/>
                </a:lnTo>
                <a:lnTo>
                  <a:pt x="1492" y="1928"/>
                </a:lnTo>
                <a:lnTo>
                  <a:pt x="1520" y="1892"/>
                </a:lnTo>
                <a:lnTo>
                  <a:pt x="1554" y="1856"/>
                </a:lnTo>
                <a:lnTo>
                  <a:pt x="1592" y="1816"/>
                </a:lnTo>
                <a:lnTo>
                  <a:pt x="1634" y="1776"/>
                </a:lnTo>
                <a:lnTo>
                  <a:pt x="1680" y="1732"/>
                </a:lnTo>
                <a:lnTo>
                  <a:pt x="1680" y="1732"/>
                </a:lnTo>
                <a:lnTo>
                  <a:pt x="1748" y="1670"/>
                </a:lnTo>
                <a:lnTo>
                  <a:pt x="1810" y="1610"/>
                </a:lnTo>
                <a:lnTo>
                  <a:pt x="1864" y="1552"/>
                </a:lnTo>
                <a:lnTo>
                  <a:pt x="1914" y="1496"/>
                </a:lnTo>
                <a:lnTo>
                  <a:pt x="1958" y="1444"/>
                </a:lnTo>
                <a:lnTo>
                  <a:pt x="1996" y="1394"/>
                </a:lnTo>
                <a:lnTo>
                  <a:pt x="2028" y="1346"/>
                </a:lnTo>
                <a:lnTo>
                  <a:pt x="2052" y="1300"/>
                </a:lnTo>
                <a:lnTo>
                  <a:pt x="2052" y="1300"/>
                </a:lnTo>
                <a:lnTo>
                  <a:pt x="2074" y="1256"/>
                </a:lnTo>
                <a:lnTo>
                  <a:pt x="2092" y="1212"/>
                </a:lnTo>
                <a:lnTo>
                  <a:pt x="2108" y="1166"/>
                </a:lnTo>
                <a:lnTo>
                  <a:pt x="2122" y="1122"/>
                </a:lnTo>
                <a:lnTo>
                  <a:pt x="2132" y="1076"/>
                </a:lnTo>
                <a:lnTo>
                  <a:pt x="2138" y="1028"/>
                </a:lnTo>
                <a:lnTo>
                  <a:pt x="2142" y="982"/>
                </a:lnTo>
                <a:lnTo>
                  <a:pt x="2144" y="934"/>
                </a:lnTo>
                <a:lnTo>
                  <a:pt x="2144" y="934"/>
                </a:lnTo>
                <a:lnTo>
                  <a:pt x="2142" y="878"/>
                </a:lnTo>
                <a:lnTo>
                  <a:pt x="2138" y="824"/>
                </a:lnTo>
                <a:lnTo>
                  <a:pt x="2132" y="770"/>
                </a:lnTo>
                <a:lnTo>
                  <a:pt x="2122" y="718"/>
                </a:lnTo>
                <a:lnTo>
                  <a:pt x="2110" y="666"/>
                </a:lnTo>
                <a:lnTo>
                  <a:pt x="2094" y="618"/>
                </a:lnTo>
                <a:lnTo>
                  <a:pt x="2076" y="570"/>
                </a:lnTo>
                <a:lnTo>
                  <a:pt x="2056" y="524"/>
                </a:lnTo>
                <a:lnTo>
                  <a:pt x="2032" y="478"/>
                </a:lnTo>
                <a:lnTo>
                  <a:pt x="2006" y="434"/>
                </a:lnTo>
                <a:lnTo>
                  <a:pt x="1978" y="392"/>
                </a:lnTo>
                <a:lnTo>
                  <a:pt x="1946" y="352"/>
                </a:lnTo>
                <a:lnTo>
                  <a:pt x="1910" y="312"/>
                </a:lnTo>
                <a:lnTo>
                  <a:pt x="1874" y="274"/>
                </a:lnTo>
                <a:lnTo>
                  <a:pt x="1834" y="238"/>
                </a:lnTo>
                <a:lnTo>
                  <a:pt x="1790" y="202"/>
                </a:lnTo>
              </a:path>
            </a:pathLst>
          </a:custGeom>
          <a:noFill/>
          <a:ln w="0">
            <a:noFill/>
          </a:ln>
        </p:spPr>
        <p:style>
          <a:lnRef idx="0"/>
          <a:fillRef idx="0"/>
          <a:effectRef idx="0"/>
          <a:fontRef idx="minor"/>
        </p:style>
        <p:txBody>
          <a:bodyPr anchor="t">
            <a:noAutofit/>
          </a:bodyPr>
          <a:p>
            <a:endParaRPr b="0" lang="en-US" sz="3500" spc="-1" strike="noStrike">
              <a:solidFill>
                <a:srgbClr val="000000"/>
              </a:solidFill>
              <a:latin typeface="Open Sans Light"/>
            </a:endParaRPr>
          </a:p>
        </p:txBody>
      </p:sp>
      <p:sp>
        <p:nvSpPr>
          <p:cNvPr id="84" name="Freeform 7"/>
          <p:cNvSpPr/>
          <p:nvPr/>
        </p:nvSpPr>
        <p:spPr>
          <a:xfrm>
            <a:off x="0" y="3968640"/>
            <a:ext cx="6777000" cy="6224760"/>
          </a:xfrm>
          <a:custGeom>
            <a:avLst/>
            <a:gdLst/>
            <a:ahLst/>
            <a:rect l="l" t="t" r="r" b="b"/>
            <a:pathLst>
              <a:path w="2670" h="2452">
                <a:moveTo>
                  <a:pt x="2282" y="218"/>
                </a:moveTo>
                <a:lnTo>
                  <a:pt x="2282" y="218"/>
                </a:lnTo>
                <a:lnTo>
                  <a:pt x="2246" y="192"/>
                </a:lnTo>
                <a:lnTo>
                  <a:pt x="2210" y="168"/>
                </a:lnTo>
                <a:lnTo>
                  <a:pt x="2172" y="144"/>
                </a:lnTo>
                <a:lnTo>
                  <a:pt x="2132" y="124"/>
                </a:lnTo>
                <a:lnTo>
                  <a:pt x="2090" y="104"/>
                </a:lnTo>
                <a:lnTo>
                  <a:pt x="2048" y="86"/>
                </a:lnTo>
                <a:lnTo>
                  <a:pt x="2004" y="70"/>
                </a:lnTo>
                <a:lnTo>
                  <a:pt x="1960" y="54"/>
                </a:lnTo>
                <a:lnTo>
                  <a:pt x="1914" y="42"/>
                </a:lnTo>
                <a:lnTo>
                  <a:pt x="1866" y="30"/>
                </a:lnTo>
                <a:lnTo>
                  <a:pt x="1818" y="22"/>
                </a:lnTo>
                <a:lnTo>
                  <a:pt x="1768" y="14"/>
                </a:lnTo>
                <a:lnTo>
                  <a:pt x="1716" y="8"/>
                </a:lnTo>
                <a:lnTo>
                  <a:pt x="1664" y="4"/>
                </a:lnTo>
                <a:lnTo>
                  <a:pt x="1610" y="0"/>
                </a:lnTo>
                <a:lnTo>
                  <a:pt x="1554" y="0"/>
                </a:lnTo>
                <a:lnTo>
                  <a:pt x="1554" y="0"/>
                </a:lnTo>
                <a:lnTo>
                  <a:pt x="1484" y="2"/>
                </a:lnTo>
                <a:lnTo>
                  <a:pt x="1416" y="4"/>
                </a:lnTo>
                <a:lnTo>
                  <a:pt x="1350" y="12"/>
                </a:lnTo>
                <a:lnTo>
                  <a:pt x="1286" y="20"/>
                </a:lnTo>
                <a:lnTo>
                  <a:pt x="1224" y="30"/>
                </a:lnTo>
                <a:lnTo>
                  <a:pt x="1164" y="44"/>
                </a:lnTo>
                <a:lnTo>
                  <a:pt x="1106" y="60"/>
                </a:lnTo>
                <a:lnTo>
                  <a:pt x="1052" y="80"/>
                </a:lnTo>
                <a:lnTo>
                  <a:pt x="998" y="100"/>
                </a:lnTo>
                <a:lnTo>
                  <a:pt x="948" y="124"/>
                </a:lnTo>
                <a:lnTo>
                  <a:pt x="900" y="150"/>
                </a:lnTo>
                <a:lnTo>
                  <a:pt x="854" y="178"/>
                </a:lnTo>
                <a:lnTo>
                  <a:pt x="810" y="210"/>
                </a:lnTo>
                <a:lnTo>
                  <a:pt x="768" y="242"/>
                </a:lnTo>
                <a:lnTo>
                  <a:pt x="730" y="278"/>
                </a:lnTo>
                <a:lnTo>
                  <a:pt x="692" y="316"/>
                </a:lnTo>
                <a:lnTo>
                  <a:pt x="692" y="316"/>
                </a:lnTo>
                <a:lnTo>
                  <a:pt x="658" y="356"/>
                </a:lnTo>
                <a:lnTo>
                  <a:pt x="626" y="398"/>
                </a:lnTo>
                <a:lnTo>
                  <a:pt x="596" y="442"/>
                </a:lnTo>
                <a:lnTo>
                  <a:pt x="566" y="486"/>
                </a:lnTo>
                <a:lnTo>
                  <a:pt x="540" y="532"/>
                </a:lnTo>
                <a:lnTo>
                  <a:pt x="514" y="580"/>
                </a:lnTo>
                <a:lnTo>
                  <a:pt x="492" y="630"/>
                </a:lnTo>
                <a:lnTo>
                  <a:pt x="470" y="682"/>
                </a:lnTo>
                <a:lnTo>
                  <a:pt x="450" y="734"/>
                </a:lnTo>
                <a:lnTo>
                  <a:pt x="432" y="788"/>
                </a:lnTo>
                <a:lnTo>
                  <a:pt x="416" y="844"/>
                </a:lnTo>
                <a:lnTo>
                  <a:pt x="404" y="900"/>
                </a:lnTo>
                <a:lnTo>
                  <a:pt x="392" y="958"/>
                </a:lnTo>
                <a:lnTo>
                  <a:pt x="382" y="1018"/>
                </a:lnTo>
                <a:lnTo>
                  <a:pt x="374" y="1080"/>
                </a:lnTo>
                <a:lnTo>
                  <a:pt x="368" y="1144"/>
                </a:lnTo>
                <a:lnTo>
                  <a:pt x="360" y="1232"/>
                </a:lnTo>
                <a:lnTo>
                  <a:pt x="1270" y="1362"/>
                </a:lnTo>
                <a:lnTo>
                  <a:pt x="1278" y="1270"/>
                </a:lnTo>
                <a:lnTo>
                  <a:pt x="1278" y="1270"/>
                </a:lnTo>
                <a:lnTo>
                  <a:pt x="1286" y="1214"/>
                </a:lnTo>
                <a:lnTo>
                  <a:pt x="1292" y="1164"/>
                </a:lnTo>
                <a:lnTo>
                  <a:pt x="1302" y="1118"/>
                </a:lnTo>
                <a:lnTo>
                  <a:pt x="1314" y="1078"/>
                </a:lnTo>
                <a:lnTo>
                  <a:pt x="1326" y="1040"/>
                </a:lnTo>
                <a:lnTo>
                  <a:pt x="1340" y="1008"/>
                </a:lnTo>
                <a:lnTo>
                  <a:pt x="1354" y="980"/>
                </a:lnTo>
                <a:lnTo>
                  <a:pt x="1372" y="958"/>
                </a:lnTo>
                <a:lnTo>
                  <a:pt x="1372" y="958"/>
                </a:lnTo>
                <a:lnTo>
                  <a:pt x="1390" y="940"/>
                </a:lnTo>
                <a:lnTo>
                  <a:pt x="1408" y="924"/>
                </a:lnTo>
                <a:lnTo>
                  <a:pt x="1426" y="910"/>
                </a:lnTo>
                <a:lnTo>
                  <a:pt x="1448" y="900"/>
                </a:lnTo>
                <a:lnTo>
                  <a:pt x="1470" y="890"/>
                </a:lnTo>
                <a:lnTo>
                  <a:pt x="1492" y="884"/>
                </a:lnTo>
                <a:lnTo>
                  <a:pt x="1516" y="882"/>
                </a:lnTo>
                <a:lnTo>
                  <a:pt x="1542" y="880"/>
                </a:lnTo>
                <a:lnTo>
                  <a:pt x="1542" y="880"/>
                </a:lnTo>
                <a:lnTo>
                  <a:pt x="1566" y="880"/>
                </a:lnTo>
                <a:lnTo>
                  <a:pt x="1586" y="882"/>
                </a:lnTo>
                <a:lnTo>
                  <a:pt x="1606" y="886"/>
                </a:lnTo>
                <a:lnTo>
                  <a:pt x="1624" y="892"/>
                </a:lnTo>
                <a:lnTo>
                  <a:pt x="1640" y="898"/>
                </a:lnTo>
                <a:lnTo>
                  <a:pt x="1656" y="904"/>
                </a:lnTo>
                <a:lnTo>
                  <a:pt x="1668" y="914"/>
                </a:lnTo>
                <a:lnTo>
                  <a:pt x="1678" y="924"/>
                </a:lnTo>
                <a:lnTo>
                  <a:pt x="1678" y="924"/>
                </a:lnTo>
                <a:lnTo>
                  <a:pt x="1688" y="934"/>
                </a:lnTo>
                <a:lnTo>
                  <a:pt x="1696" y="946"/>
                </a:lnTo>
                <a:lnTo>
                  <a:pt x="1702" y="960"/>
                </a:lnTo>
                <a:lnTo>
                  <a:pt x="1708" y="974"/>
                </a:lnTo>
                <a:lnTo>
                  <a:pt x="1712" y="990"/>
                </a:lnTo>
                <a:lnTo>
                  <a:pt x="1714" y="1008"/>
                </a:lnTo>
                <a:lnTo>
                  <a:pt x="1716" y="1026"/>
                </a:lnTo>
                <a:lnTo>
                  <a:pt x="1716" y="1048"/>
                </a:lnTo>
                <a:lnTo>
                  <a:pt x="1716" y="1048"/>
                </a:lnTo>
                <a:lnTo>
                  <a:pt x="1714" y="1068"/>
                </a:lnTo>
                <a:lnTo>
                  <a:pt x="1708" y="1088"/>
                </a:lnTo>
                <a:lnTo>
                  <a:pt x="1698" y="1112"/>
                </a:lnTo>
                <a:lnTo>
                  <a:pt x="1684" y="1136"/>
                </a:lnTo>
                <a:lnTo>
                  <a:pt x="1666" y="1162"/>
                </a:lnTo>
                <a:lnTo>
                  <a:pt x="1644" y="1190"/>
                </a:lnTo>
                <a:lnTo>
                  <a:pt x="1618" y="1218"/>
                </a:lnTo>
                <a:lnTo>
                  <a:pt x="1588" y="1246"/>
                </a:lnTo>
                <a:lnTo>
                  <a:pt x="1588" y="1246"/>
                </a:lnTo>
                <a:lnTo>
                  <a:pt x="1452" y="1380"/>
                </a:lnTo>
                <a:lnTo>
                  <a:pt x="1342" y="1490"/>
                </a:lnTo>
                <a:lnTo>
                  <a:pt x="1296" y="1538"/>
                </a:lnTo>
                <a:lnTo>
                  <a:pt x="1258" y="1580"/>
                </a:lnTo>
                <a:lnTo>
                  <a:pt x="1226" y="1618"/>
                </a:lnTo>
                <a:lnTo>
                  <a:pt x="1200" y="1650"/>
                </a:lnTo>
                <a:lnTo>
                  <a:pt x="1200" y="1650"/>
                </a:lnTo>
                <a:lnTo>
                  <a:pt x="1178" y="1680"/>
                </a:lnTo>
                <a:lnTo>
                  <a:pt x="1156" y="1714"/>
                </a:lnTo>
                <a:lnTo>
                  <a:pt x="1136" y="1746"/>
                </a:lnTo>
                <a:lnTo>
                  <a:pt x="1118" y="1780"/>
                </a:lnTo>
                <a:lnTo>
                  <a:pt x="1100" y="1816"/>
                </a:lnTo>
                <a:lnTo>
                  <a:pt x="1084" y="1852"/>
                </a:lnTo>
                <a:lnTo>
                  <a:pt x="1070" y="1888"/>
                </a:lnTo>
                <a:lnTo>
                  <a:pt x="1058" y="1926"/>
                </a:lnTo>
                <a:lnTo>
                  <a:pt x="1058" y="1926"/>
                </a:lnTo>
                <a:lnTo>
                  <a:pt x="1048" y="1964"/>
                </a:lnTo>
                <a:lnTo>
                  <a:pt x="1038" y="2006"/>
                </a:lnTo>
                <a:lnTo>
                  <a:pt x="1030" y="2050"/>
                </a:lnTo>
                <a:lnTo>
                  <a:pt x="1022" y="2096"/>
                </a:lnTo>
                <a:lnTo>
                  <a:pt x="1018" y="2146"/>
                </a:lnTo>
                <a:lnTo>
                  <a:pt x="1014" y="2198"/>
                </a:lnTo>
                <a:lnTo>
                  <a:pt x="1012" y="2252"/>
                </a:lnTo>
                <a:lnTo>
                  <a:pt x="1010" y="2308"/>
                </a:lnTo>
                <a:lnTo>
                  <a:pt x="1010" y="2382"/>
                </a:lnTo>
                <a:lnTo>
                  <a:pt x="1010" y="2382"/>
                </a:lnTo>
                <a:lnTo>
                  <a:pt x="1010" y="2412"/>
                </a:lnTo>
                <a:lnTo>
                  <a:pt x="0" y="2412"/>
                </a:lnTo>
                <a:lnTo>
                  <a:pt x="0" y="2452"/>
                </a:lnTo>
                <a:lnTo>
                  <a:pt x="1050" y="2452"/>
                </a:lnTo>
                <a:lnTo>
                  <a:pt x="1050" y="2382"/>
                </a:lnTo>
                <a:lnTo>
                  <a:pt x="1050" y="2382"/>
                </a:lnTo>
                <a:lnTo>
                  <a:pt x="1050" y="2308"/>
                </a:lnTo>
                <a:lnTo>
                  <a:pt x="1050" y="2308"/>
                </a:lnTo>
                <a:lnTo>
                  <a:pt x="1052" y="2254"/>
                </a:lnTo>
                <a:lnTo>
                  <a:pt x="1054" y="2202"/>
                </a:lnTo>
                <a:lnTo>
                  <a:pt x="1058" y="2152"/>
                </a:lnTo>
                <a:lnTo>
                  <a:pt x="1062" y="2104"/>
                </a:lnTo>
                <a:lnTo>
                  <a:pt x="1068" y="2060"/>
                </a:lnTo>
                <a:lnTo>
                  <a:pt x="1076" y="2018"/>
                </a:lnTo>
                <a:lnTo>
                  <a:pt x="1086" y="1978"/>
                </a:lnTo>
                <a:lnTo>
                  <a:pt x="1096" y="1940"/>
                </a:lnTo>
                <a:lnTo>
                  <a:pt x="1096" y="1940"/>
                </a:lnTo>
                <a:lnTo>
                  <a:pt x="1108" y="1906"/>
                </a:lnTo>
                <a:lnTo>
                  <a:pt x="1122" y="1872"/>
                </a:lnTo>
                <a:lnTo>
                  <a:pt x="1136" y="1838"/>
                </a:lnTo>
                <a:lnTo>
                  <a:pt x="1152" y="1804"/>
                </a:lnTo>
                <a:lnTo>
                  <a:pt x="1170" y="1772"/>
                </a:lnTo>
                <a:lnTo>
                  <a:pt x="1188" y="1740"/>
                </a:lnTo>
                <a:lnTo>
                  <a:pt x="1208" y="1710"/>
                </a:lnTo>
                <a:lnTo>
                  <a:pt x="1230" y="1680"/>
                </a:lnTo>
                <a:lnTo>
                  <a:pt x="1230" y="1680"/>
                </a:lnTo>
                <a:lnTo>
                  <a:pt x="1256" y="1648"/>
                </a:lnTo>
                <a:lnTo>
                  <a:pt x="1286" y="1612"/>
                </a:lnTo>
                <a:lnTo>
                  <a:pt x="1324" y="1570"/>
                </a:lnTo>
                <a:lnTo>
                  <a:pt x="1370" y="1524"/>
                </a:lnTo>
                <a:lnTo>
                  <a:pt x="1478" y="1414"/>
                </a:lnTo>
                <a:lnTo>
                  <a:pt x="1614" y="1282"/>
                </a:lnTo>
                <a:lnTo>
                  <a:pt x="1614" y="1282"/>
                </a:lnTo>
                <a:lnTo>
                  <a:pt x="1648" y="1248"/>
                </a:lnTo>
                <a:lnTo>
                  <a:pt x="1676" y="1216"/>
                </a:lnTo>
                <a:lnTo>
                  <a:pt x="1700" y="1186"/>
                </a:lnTo>
                <a:lnTo>
                  <a:pt x="1720" y="1156"/>
                </a:lnTo>
                <a:lnTo>
                  <a:pt x="1736" y="1128"/>
                </a:lnTo>
                <a:lnTo>
                  <a:pt x="1748" y="1100"/>
                </a:lnTo>
                <a:lnTo>
                  <a:pt x="1754" y="1072"/>
                </a:lnTo>
                <a:lnTo>
                  <a:pt x="1756" y="1048"/>
                </a:lnTo>
                <a:lnTo>
                  <a:pt x="1756" y="1048"/>
                </a:lnTo>
                <a:lnTo>
                  <a:pt x="1756" y="1022"/>
                </a:lnTo>
                <a:lnTo>
                  <a:pt x="1754" y="998"/>
                </a:lnTo>
                <a:lnTo>
                  <a:pt x="1750" y="976"/>
                </a:lnTo>
                <a:lnTo>
                  <a:pt x="1744" y="956"/>
                </a:lnTo>
                <a:lnTo>
                  <a:pt x="1738" y="938"/>
                </a:lnTo>
                <a:lnTo>
                  <a:pt x="1728" y="920"/>
                </a:lnTo>
                <a:lnTo>
                  <a:pt x="1718" y="904"/>
                </a:lnTo>
                <a:lnTo>
                  <a:pt x="1706" y="890"/>
                </a:lnTo>
                <a:lnTo>
                  <a:pt x="1706" y="890"/>
                </a:lnTo>
                <a:lnTo>
                  <a:pt x="1692" y="876"/>
                </a:lnTo>
                <a:lnTo>
                  <a:pt x="1676" y="866"/>
                </a:lnTo>
                <a:lnTo>
                  <a:pt x="1660" y="856"/>
                </a:lnTo>
                <a:lnTo>
                  <a:pt x="1640" y="848"/>
                </a:lnTo>
                <a:lnTo>
                  <a:pt x="1618" y="842"/>
                </a:lnTo>
                <a:lnTo>
                  <a:pt x="1594" y="838"/>
                </a:lnTo>
                <a:lnTo>
                  <a:pt x="1570" y="836"/>
                </a:lnTo>
                <a:lnTo>
                  <a:pt x="1542" y="834"/>
                </a:lnTo>
                <a:lnTo>
                  <a:pt x="1542" y="834"/>
                </a:lnTo>
                <a:lnTo>
                  <a:pt x="1512" y="836"/>
                </a:lnTo>
                <a:lnTo>
                  <a:pt x="1484" y="840"/>
                </a:lnTo>
                <a:lnTo>
                  <a:pt x="1458" y="846"/>
                </a:lnTo>
                <a:lnTo>
                  <a:pt x="1432" y="856"/>
                </a:lnTo>
                <a:lnTo>
                  <a:pt x="1408" y="870"/>
                </a:lnTo>
                <a:lnTo>
                  <a:pt x="1386" y="886"/>
                </a:lnTo>
                <a:lnTo>
                  <a:pt x="1364" y="904"/>
                </a:lnTo>
                <a:lnTo>
                  <a:pt x="1344" y="926"/>
                </a:lnTo>
                <a:lnTo>
                  <a:pt x="1344" y="926"/>
                </a:lnTo>
                <a:lnTo>
                  <a:pt x="1324" y="952"/>
                </a:lnTo>
                <a:lnTo>
                  <a:pt x="1306" y="982"/>
                </a:lnTo>
                <a:lnTo>
                  <a:pt x="1290" y="1018"/>
                </a:lnTo>
                <a:lnTo>
                  <a:pt x="1278" y="1058"/>
                </a:lnTo>
                <a:lnTo>
                  <a:pt x="1264" y="1102"/>
                </a:lnTo>
                <a:lnTo>
                  <a:pt x="1254" y="1152"/>
                </a:lnTo>
                <a:lnTo>
                  <a:pt x="1246" y="1206"/>
                </a:lnTo>
                <a:lnTo>
                  <a:pt x="1240" y="1264"/>
                </a:lnTo>
                <a:lnTo>
                  <a:pt x="1234" y="1310"/>
                </a:lnTo>
                <a:lnTo>
                  <a:pt x="404" y="1192"/>
                </a:lnTo>
                <a:lnTo>
                  <a:pt x="408" y="1148"/>
                </a:lnTo>
                <a:lnTo>
                  <a:pt x="408" y="1148"/>
                </a:lnTo>
                <a:lnTo>
                  <a:pt x="412" y="1086"/>
                </a:lnTo>
                <a:lnTo>
                  <a:pt x="420" y="1028"/>
                </a:lnTo>
                <a:lnTo>
                  <a:pt x="430" y="970"/>
                </a:lnTo>
                <a:lnTo>
                  <a:pt x="442" y="912"/>
                </a:lnTo>
                <a:lnTo>
                  <a:pt x="456" y="858"/>
                </a:lnTo>
                <a:lnTo>
                  <a:pt x="470" y="804"/>
                </a:lnTo>
                <a:lnTo>
                  <a:pt x="488" y="752"/>
                </a:lnTo>
                <a:lnTo>
                  <a:pt x="506" y="702"/>
                </a:lnTo>
                <a:lnTo>
                  <a:pt x="526" y="652"/>
                </a:lnTo>
                <a:lnTo>
                  <a:pt x="548" y="604"/>
                </a:lnTo>
                <a:lnTo>
                  <a:pt x="572" y="558"/>
                </a:lnTo>
                <a:lnTo>
                  <a:pt x="598" y="514"/>
                </a:lnTo>
                <a:lnTo>
                  <a:pt x="626" y="470"/>
                </a:lnTo>
                <a:lnTo>
                  <a:pt x="656" y="428"/>
                </a:lnTo>
                <a:lnTo>
                  <a:pt x="688" y="388"/>
                </a:lnTo>
                <a:lnTo>
                  <a:pt x="720" y="350"/>
                </a:lnTo>
                <a:lnTo>
                  <a:pt x="720" y="350"/>
                </a:lnTo>
                <a:lnTo>
                  <a:pt x="756" y="314"/>
                </a:lnTo>
                <a:lnTo>
                  <a:pt x="794" y="278"/>
                </a:lnTo>
                <a:lnTo>
                  <a:pt x="834" y="246"/>
                </a:lnTo>
                <a:lnTo>
                  <a:pt x="876" y="218"/>
                </a:lnTo>
                <a:lnTo>
                  <a:pt x="920" y="190"/>
                </a:lnTo>
                <a:lnTo>
                  <a:pt x="966" y="166"/>
                </a:lnTo>
                <a:lnTo>
                  <a:pt x="1016" y="142"/>
                </a:lnTo>
                <a:lnTo>
                  <a:pt x="1066" y="122"/>
                </a:lnTo>
                <a:lnTo>
                  <a:pt x="1120" y="104"/>
                </a:lnTo>
                <a:lnTo>
                  <a:pt x="1176" y="88"/>
                </a:lnTo>
                <a:lnTo>
                  <a:pt x="1234" y="76"/>
                </a:lnTo>
                <a:lnTo>
                  <a:pt x="1294" y="64"/>
                </a:lnTo>
                <a:lnTo>
                  <a:pt x="1356" y="56"/>
                </a:lnTo>
                <a:lnTo>
                  <a:pt x="1420" y="50"/>
                </a:lnTo>
                <a:lnTo>
                  <a:pt x="1486" y="48"/>
                </a:lnTo>
                <a:lnTo>
                  <a:pt x="1554" y="46"/>
                </a:lnTo>
                <a:lnTo>
                  <a:pt x="1554" y="46"/>
                </a:lnTo>
                <a:lnTo>
                  <a:pt x="1608" y="46"/>
                </a:lnTo>
                <a:lnTo>
                  <a:pt x="1660" y="50"/>
                </a:lnTo>
                <a:lnTo>
                  <a:pt x="1712" y="54"/>
                </a:lnTo>
                <a:lnTo>
                  <a:pt x="1762" y="60"/>
                </a:lnTo>
                <a:lnTo>
                  <a:pt x="1810" y="66"/>
                </a:lnTo>
                <a:lnTo>
                  <a:pt x="1856" y="76"/>
                </a:lnTo>
                <a:lnTo>
                  <a:pt x="1904" y="86"/>
                </a:lnTo>
                <a:lnTo>
                  <a:pt x="1948" y="98"/>
                </a:lnTo>
                <a:lnTo>
                  <a:pt x="1992" y="112"/>
                </a:lnTo>
                <a:lnTo>
                  <a:pt x="2034" y="128"/>
                </a:lnTo>
                <a:lnTo>
                  <a:pt x="2074" y="146"/>
                </a:lnTo>
                <a:lnTo>
                  <a:pt x="2114" y="164"/>
                </a:lnTo>
                <a:lnTo>
                  <a:pt x="2152" y="186"/>
                </a:lnTo>
                <a:lnTo>
                  <a:pt x="2190" y="208"/>
                </a:lnTo>
                <a:lnTo>
                  <a:pt x="2226" y="232"/>
                </a:lnTo>
                <a:lnTo>
                  <a:pt x="2260" y="256"/>
                </a:lnTo>
                <a:lnTo>
                  <a:pt x="2260" y="256"/>
                </a:lnTo>
                <a:lnTo>
                  <a:pt x="2304" y="294"/>
                </a:lnTo>
                <a:lnTo>
                  <a:pt x="2346" y="332"/>
                </a:lnTo>
                <a:lnTo>
                  <a:pt x="2384" y="372"/>
                </a:lnTo>
                <a:lnTo>
                  <a:pt x="2422" y="412"/>
                </a:lnTo>
                <a:lnTo>
                  <a:pt x="2454" y="456"/>
                </a:lnTo>
                <a:lnTo>
                  <a:pt x="2484" y="500"/>
                </a:lnTo>
                <a:lnTo>
                  <a:pt x="2512" y="546"/>
                </a:lnTo>
                <a:lnTo>
                  <a:pt x="2536" y="594"/>
                </a:lnTo>
                <a:lnTo>
                  <a:pt x="2558" y="642"/>
                </a:lnTo>
                <a:lnTo>
                  <a:pt x="2578" y="694"/>
                </a:lnTo>
                <a:lnTo>
                  <a:pt x="2594" y="746"/>
                </a:lnTo>
                <a:lnTo>
                  <a:pt x="2606" y="798"/>
                </a:lnTo>
                <a:lnTo>
                  <a:pt x="2616" y="854"/>
                </a:lnTo>
                <a:lnTo>
                  <a:pt x="2624" y="910"/>
                </a:lnTo>
                <a:lnTo>
                  <a:pt x="2628" y="968"/>
                </a:lnTo>
                <a:lnTo>
                  <a:pt x="2630" y="1026"/>
                </a:lnTo>
                <a:lnTo>
                  <a:pt x="2630" y="1026"/>
                </a:lnTo>
                <a:lnTo>
                  <a:pt x="2628" y="1078"/>
                </a:lnTo>
                <a:lnTo>
                  <a:pt x="2624" y="1128"/>
                </a:lnTo>
                <a:lnTo>
                  <a:pt x="2616" y="1176"/>
                </a:lnTo>
                <a:lnTo>
                  <a:pt x="2606" y="1226"/>
                </a:lnTo>
                <a:lnTo>
                  <a:pt x="2592" y="1274"/>
                </a:lnTo>
                <a:lnTo>
                  <a:pt x="2576" y="1322"/>
                </a:lnTo>
                <a:lnTo>
                  <a:pt x="2556" y="1370"/>
                </a:lnTo>
                <a:lnTo>
                  <a:pt x="2534" y="1416"/>
                </a:lnTo>
                <a:lnTo>
                  <a:pt x="2534" y="1416"/>
                </a:lnTo>
                <a:lnTo>
                  <a:pt x="2506" y="1464"/>
                </a:lnTo>
                <a:lnTo>
                  <a:pt x="2474" y="1514"/>
                </a:lnTo>
                <a:lnTo>
                  <a:pt x="2436" y="1566"/>
                </a:lnTo>
                <a:lnTo>
                  <a:pt x="2390" y="1620"/>
                </a:lnTo>
                <a:lnTo>
                  <a:pt x="2340" y="1676"/>
                </a:lnTo>
                <a:lnTo>
                  <a:pt x="2284" y="1734"/>
                </a:lnTo>
                <a:lnTo>
                  <a:pt x="2220" y="1796"/>
                </a:lnTo>
                <a:lnTo>
                  <a:pt x="2152" y="1860"/>
                </a:lnTo>
                <a:lnTo>
                  <a:pt x="2152" y="1860"/>
                </a:lnTo>
                <a:lnTo>
                  <a:pt x="2106" y="1902"/>
                </a:lnTo>
                <a:lnTo>
                  <a:pt x="2066" y="1942"/>
                </a:lnTo>
                <a:lnTo>
                  <a:pt x="2030" y="1980"/>
                </a:lnTo>
                <a:lnTo>
                  <a:pt x="1998" y="2014"/>
                </a:lnTo>
                <a:lnTo>
                  <a:pt x="1970" y="2048"/>
                </a:lnTo>
                <a:lnTo>
                  <a:pt x="1946" y="2078"/>
                </a:lnTo>
                <a:lnTo>
                  <a:pt x="1928" y="2106"/>
                </a:lnTo>
                <a:lnTo>
                  <a:pt x="1914" y="2132"/>
                </a:lnTo>
                <a:lnTo>
                  <a:pt x="1914" y="2132"/>
                </a:lnTo>
                <a:lnTo>
                  <a:pt x="1904" y="2158"/>
                </a:lnTo>
                <a:lnTo>
                  <a:pt x="1894" y="2184"/>
                </a:lnTo>
                <a:lnTo>
                  <a:pt x="1886" y="2212"/>
                </a:lnTo>
                <a:lnTo>
                  <a:pt x="1880" y="2242"/>
                </a:lnTo>
                <a:lnTo>
                  <a:pt x="1876" y="2274"/>
                </a:lnTo>
                <a:lnTo>
                  <a:pt x="1872" y="2308"/>
                </a:lnTo>
                <a:lnTo>
                  <a:pt x="1868" y="2344"/>
                </a:lnTo>
                <a:lnTo>
                  <a:pt x="1868" y="2382"/>
                </a:lnTo>
                <a:lnTo>
                  <a:pt x="1908" y="2382"/>
                </a:lnTo>
                <a:lnTo>
                  <a:pt x="1908" y="2382"/>
                </a:lnTo>
                <a:lnTo>
                  <a:pt x="1908" y="2348"/>
                </a:lnTo>
                <a:lnTo>
                  <a:pt x="1912" y="2314"/>
                </a:lnTo>
                <a:lnTo>
                  <a:pt x="1914" y="2284"/>
                </a:lnTo>
                <a:lnTo>
                  <a:pt x="1920" y="2254"/>
                </a:lnTo>
                <a:lnTo>
                  <a:pt x="1924" y="2226"/>
                </a:lnTo>
                <a:lnTo>
                  <a:pt x="1932" y="2200"/>
                </a:lnTo>
                <a:lnTo>
                  <a:pt x="1940" y="2176"/>
                </a:lnTo>
                <a:lnTo>
                  <a:pt x="1950" y="2154"/>
                </a:lnTo>
                <a:lnTo>
                  <a:pt x="1950" y="2154"/>
                </a:lnTo>
                <a:lnTo>
                  <a:pt x="1958" y="2138"/>
                </a:lnTo>
                <a:lnTo>
                  <a:pt x="1972" y="2116"/>
                </a:lnTo>
                <a:lnTo>
                  <a:pt x="1990" y="2090"/>
                </a:lnTo>
                <a:lnTo>
                  <a:pt x="2014" y="2062"/>
                </a:lnTo>
                <a:lnTo>
                  <a:pt x="2042" y="2028"/>
                </a:lnTo>
                <a:lnTo>
                  <a:pt x="2080" y="1988"/>
                </a:lnTo>
                <a:lnTo>
                  <a:pt x="2124" y="1946"/>
                </a:lnTo>
                <a:lnTo>
                  <a:pt x="2176" y="1896"/>
                </a:lnTo>
                <a:lnTo>
                  <a:pt x="2176" y="1896"/>
                </a:lnTo>
                <a:lnTo>
                  <a:pt x="2246" y="1830"/>
                </a:lnTo>
                <a:lnTo>
                  <a:pt x="2310" y="1768"/>
                </a:lnTo>
                <a:lnTo>
                  <a:pt x="2368" y="1708"/>
                </a:lnTo>
                <a:lnTo>
                  <a:pt x="2420" y="1650"/>
                </a:lnTo>
                <a:lnTo>
                  <a:pt x="2466" y="1594"/>
                </a:lnTo>
                <a:lnTo>
                  <a:pt x="2506" y="1540"/>
                </a:lnTo>
                <a:lnTo>
                  <a:pt x="2540" y="1490"/>
                </a:lnTo>
                <a:lnTo>
                  <a:pt x="2568" y="1440"/>
                </a:lnTo>
                <a:lnTo>
                  <a:pt x="2568" y="1440"/>
                </a:lnTo>
                <a:lnTo>
                  <a:pt x="2592" y="1390"/>
                </a:lnTo>
                <a:lnTo>
                  <a:pt x="2612" y="1340"/>
                </a:lnTo>
                <a:lnTo>
                  <a:pt x="2630" y="1290"/>
                </a:lnTo>
                <a:lnTo>
                  <a:pt x="2644" y="1238"/>
                </a:lnTo>
                <a:lnTo>
                  <a:pt x="2656" y="1186"/>
                </a:lnTo>
                <a:lnTo>
                  <a:pt x="2664" y="1134"/>
                </a:lnTo>
                <a:lnTo>
                  <a:pt x="2668" y="1080"/>
                </a:lnTo>
                <a:lnTo>
                  <a:pt x="2670" y="1026"/>
                </a:lnTo>
                <a:lnTo>
                  <a:pt x="2670" y="1026"/>
                </a:lnTo>
                <a:lnTo>
                  <a:pt x="2668" y="964"/>
                </a:lnTo>
                <a:lnTo>
                  <a:pt x="2664" y="904"/>
                </a:lnTo>
                <a:lnTo>
                  <a:pt x="2656" y="844"/>
                </a:lnTo>
                <a:lnTo>
                  <a:pt x="2646" y="788"/>
                </a:lnTo>
                <a:lnTo>
                  <a:pt x="2632" y="730"/>
                </a:lnTo>
                <a:lnTo>
                  <a:pt x="2616" y="676"/>
                </a:lnTo>
                <a:lnTo>
                  <a:pt x="2596" y="624"/>
                </a:lnTo>
                <a:lnTo>
                  <a:pt x="2572" y="572"/>
                </a:lnTo>
                <a:lnTo>
                  <a:pt x="2546" y="522"/>
                </a:lnTo>
                <a:lnTo>
                  <a:pt x="2518" y="474"/>
                </a:lnTo>
                <a:lnTo>
                  <a:pt x="2486" y="428"/>
                </a:lnTo>
                <a:lnTo>
                  <a:pt x="2452" y="382"/>
                </a:lnTo>
                <a:lnTo>
                  <a:pt x="2414" y="338"/>
                </a:lnTo>
                <a:lnTo>
                  <a:pt x="2372" y="298"/>
                </a:lnTo>
                <a:lnTo>
                  <a:pt x="2328" y="258"/>
                </a:lnTo>
                <a:lnTo>
                  <a:pt x="2282" y="218"/>
                </a:lnTo>
              </a:path>
            </a:pathLst>
          </a:custGeom>
          <a:noFill/>
          <a:ln w="0">
            <a:noFill/>
          </a:ln>
        </p:spPr>
        <p:style>
          <a:lnRef idx="0"/>
          <a:fillRef idx="0"/>
          <a:effectRef idx="0"/>
          <a:fontRef idx="minor"/>
        </p:style>
        <p:txBody>
          <a:bodyPr anchor="t">
            <a:noAutofit/>
          </a:bodyPr>
          <a:p>
            <a:endParaRPr b="0" lang="en-US" sz="3500" spc="-1" strike="noStrike">
              <a:solidFill>
                <a:srgbClr val="000000"/>
              </a:solidFill>
              <a:latin typeface="Open Sans Light"/>
            </a:endParaRPr>
          </a:p>
        </p:txBody>
      </p:sp>
      <p:sp>
        <p:nvSpPr>
          <p:cNvPr id="85"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86"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87" name="PlaceHolder 3"/>
          <p:cNvSpPr>
            <a:spLocks noGrp="1"/>
          </p:cNvSpPr>
          <p:nvPr>
            <p:ph type="dt" idx="7"/>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88" name="PlaceHolder 4"/>
          <p:cNvSpPr>
            <a:spLocks noGrp="1"/>
          </p:cNvSpPr>
          <p:nvPr>
            <p:ph type="ftr" idx="8"/>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89" name="PlaceHolder 5"/>
          <p:cNvSpPr>
            <a:spLocks noGrp="1"/>
          </p:cNvSpPr>
          <p:nvPr>
            <p:ph type="sldNum" idx="9"/>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3F09F684-4F04-4838-9872-24F1915DCB0F}"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168" name="Shape 700"/>
          <p:cNvSpPr/>
          <p:nvPr/>
        </p:nvSpPr>
        <p:spPr>
          <a:xfrm>
            <a:off x="3807000" y="5538960"/>
            <a:ext cx="620640" cy="96012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69" name="Shape 697"/>
          <p:cNvSpPr/>
          <p:nvPr/>
        </p:nvSpPr>
        <p:spPr>
          <a:xfrm>
            <a:off x="3813120" y="9391680"/>
            <a:ext cx="614520" cy="96192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0" name="Shape 698"/>
          <p:cNvSpPr/>
          <p:nvPr/>
        </p:nvSpPr>
        <p:spPr>
          <a:xfrm>
            <a:off x="13901760" y="5538960"/>
            <a:ext cx="620640" cy="96012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1" name="Shape 699"/>
          <p:cNvSpPr/>
          <p:nvPr/>
        </p:nvSpPr>
        <p:spPr>
          <a:xfrm>
            <a:off x="13909680" y="9394920"/>
            <a:ext cx="612720" cy="96192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1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17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1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48" name="Shape 717"/>
          <p:cNvSpPr/>
          <p:nvPr/>
        </p:nvSpPr>
        <p:spPr>
          <a:xfrm>
            <a:off x="17667360" y="9586800"/>
            <a:ext cx="333360" cy="168768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49" name="Shape 723"/>
          <p:cNvSpPr/>
          <p:nvPr/>
        </p:nvSpPr>
        <p:spPr>
          <a:xfrm>
            <a:off x="6410160" y="6186600"/>
            <a:ext cx="333720" cy="168732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0" name="Shape 724"/>
          <p:cNvSpPr/>
          <p:nvPr/>
        </p:nvSpPr>
        <p:spPr>
          <a:xfrm>
            <a:off x="17667360" y="6186600"/>
            <a:ext cx="333360" cy="168732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1" name="Shape 735"/>
          <p:cNvSpPr/>
          <p:nvPr/>
        </p:nvSpPr>
        <p:spPr>
          <a:xfrm>
            <a:off x="6410160" y="9586800"/>
            <a:ext cx="333720" cy="168768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5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90" name="Shape 575"/>
          <p:cNvSpPr/>
          <p:nvPr/>
        </p:nvSpPr>
        <p:spPr>
          <a:xfrm>
            <a:off x="2463840" y="3789360"/>
            <a:ext cx="465120" cy="222120"/>
          </a:xfrm>
          <a:prstGeom prst="rect">
            <a:avLst/>
          </a:prstGeom>
          <a:solidFill>
            <a:srgbClr val="a6a6a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1" name="Shape 576"/>
          <p:cNvSpPr/>
          <p:nvPr/>
        </p:nvSpPr>
        <p:spPr>
          <a:xfrm>
            <a:off x="8980560" y="3789360"/>
            <a:ext cx="465120" cy="222120"/>
          </a:xfrm>
          <a:prstGeom prst="rect">
            <a:avLst/>
          </a:prstGeom>
          <a:solidFill>
            <a:srgbClr val="5f5f5f"/>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2" name="Shape 577"/>
          <p:cNvSpPr/>
          <p:nvPr/>
        </p:nvSpPr>
        <p:spPr>
          <a:xfrm>
            <a:off x="15522480" y="3789360"/>
            <a:ext cx="465120" cy="222120"/>
          </a:xfrm>
          <a:prstGeom prst="rect">
            <a:avLst/>
          </a:prstGeom>
          <a:solidFill>
            <a:srgbClr val="969696"/>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3" name="Shape 578"/>
          <p:cNvSpPr/>
          <p:nvPr/>
        </p:nvSpPr>
        <p:spPr>
          <a:xfrm>
            <a:off x="2463840" y="11847600"/>
            <a:ext cx="465120" cy="269640"/>
          </a:xfrm>
          <a:prstGeom prst="rect">
            <a:avLst/>
          </a:prstGeom>
          <a:solidFill>
            <a:srgbClr val="b2b2b2"/>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4" name="Shape 579"/>
          <p:cNvSpPr/>
          <p:nvPr/>
        </p:nvSpPr>
        <p:spPr>
          <a:xfrm>
            <a:off x="8980560" y="11847600"/>
            <a:ext cx="465120" cy="269640"/>
          </a:xfrm>
          <a:prstGeom prst="rect">
            <a:avLst/>
          </a:prstGeom>
          <a:solidFill>
            <a:srgbClr val="808080"/>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5" name="Shape 580"/>
          <p:cNvSpPr/>
          <p:nvPr/>
        </p:nvSpPr>
        <p:spPr>
          <a:xfrm>
            <a:off x="15522480" y="11847600"/>
            <a:ext cx="465120" cy="269640"/>
          </a:xfrm>
          <a:prstGeom prst="rect">
            <a:avLst/>
          </a:prstGeom>
          <a:solidFill>
            <a:srgbClr val="dddddd"/>
          </a:solidFill>
          <a:ln w="0">
            <a:noFill/>
          </a:ln>
        </p:spPr>
        <p:style>
          <a:lnRef idx="0"/>
          <a:fillRef idx="0"/>
          <a:effectRef idx="0"/>
          <a:fontRef idx="minor"/>
        </p:style>
        <p:txBody>
          <a:bodyPr lIns="47520" rIns="47520" tIns="47520" bIns="47520" anchor="ctr">
            <a:noAutofit/>
          </a:bodyPr>
          <a:p>
            <a:pPr>
              <a:lnSpc>
                <a:spcPct val="100000"/>
              </a:lnSpc>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0" lang="en-US" sz="3500" spc="-1" strike="noStrike">
              <a:solidFill>
                <a:srgbClr val="000000"/>
              </a:solidFill>
              <a:latin typeface="Open Sans Light"/>
            </a:endParaRPr>
          </a:p>
        </p:txBody>
      </p:sp>
      <p:sp>
        <p:nvSpPr>
          <p:cNvPr id="129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9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33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37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1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4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48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52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26" name="Straight Connector 6"/>
          <p:cNvSpPr/>
          <p:nvPr/>
        </p:nvSpPr>
        <p:spPr>
          <a:xfrm>
            <a:off x="1676520" y="24004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127"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28"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129" name="PlaceHolder 3"/>
          <p:cNvSpPr>
            <a:spLocks noGrp="1"/>
          </p:cNvSpPr>
          <p:nvPr>
            <p:ph type="dt" idx="10"/>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130" name="PlaceHolder 4"/>
          <p:cNvSpPr>
            <a:spLocks noGrp="1"/>
          </p:cNvSpPr>
          <p:nvPr>
            <p:ph type="ftr" idx="11"/>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31" name="PlaceHolder 5"/>
          <p:cNvSpPr>
            <a:spLocks noGrp="1"/>
          </p:cNvSpPr>
          <p:nvPr>
            <p:ph type="sldNum" idx="12"/>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A95E6903-416F-41D8-84E8-254831C1BE08}"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1562" name="Picture 6" descr=""/>
          <p:cNvPicPr/>
          <p:nvPr/>
        </p:nvPicPr>
        <p:blipFill>
          <a:blip r:embed="rId2"/>
          <a:stretch/>
        </p:blipFill>
        <p:spPr>
          <a:xfrm>
            <a:off x="514440" y="3627360"/>
            <a:ext cx="13316040" cy="10363320"/>
          </a:xfrm>
          <a:prstGeom prst="rect">
            <a:avLst/>
          </a:prstGeom>
          <a:ln w="0">
            <a:noFill/>
          </a:ln>
        </p:spPr>
      </p:pic>
      <p:sp>
        <p:nvSpPr>
          <p:cNvPr id="1563" name="Rectangle 7"/>
          <p:cNvSpPr/>
          <p:nvPr/>
        </p:nvSpPr>
        <p:spPr>
          <a:xfrm>
            <a:off x="2711520" y="5543640"/>
            <a:ext cx="8824680" cy="546552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56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56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0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4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78"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679"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17"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55"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9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831"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68" name="Rectangle 6"/>
          <p:cNvSpPr/>
          <p:nvPr/>
        </p:nvSpPr>
        <p:spPr>
          <a:xfrm>
            <a:off x="0" y="1457280"/>
            <a:ext cx="22737600" cy="108727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69"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170"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171" name="PlaceHolder 3"/>
          <p:cNvSpPr>
            <a:spLocks noGrp="1"/>
          </p:cNvSpPr>
          <p:nvPr>
            <p:ph type="dt" idx="13"/>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172" name="PlaceHolder 4"/>
          <p:cNvSpPr>
            <a:spLocks noGrp="1"/>
          </p:cNvSpPr>
          <p:nvPr>
            <p:ph type="ftr" idx="14"/>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73" name="PlaceHolder 5"/>
          <p:cNvSpPr>
            <a:spLocks noGrp="1"/>
          </p:cNvSpPr>
          <p:nvPr>
            <p:ph type="sldNum" idx="15"/>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21C1B7C6-ED5B-49B2-9BE8-8842256C689E}"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0" name="Straight Connector 6"/>
          <p:cNvSpPr/>
          <p:nvPr/>
        </p:nvSpPr>
        <p:spPr>
          <a:xfrm>
            <a:off x="1676520" y="2371680"/>
            <a:ext cx="54846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1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1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13" name="PlaceHolder 3"/>
          <p:cNvSpPr>
            <a:spLocks noGrp="1"/>
          </p:cNvSpPr>
          <p:nvPr>
            <p:ph type="dt" idx="16"/>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214" name="PlaceHolder 4"/>
          <p:cNvSpPr>
            <a:spLocks noGrp="1"/>
          </p:cNvSpPr>
          <p:nvPr>
            <p:ph type="ftr" idx="17"/>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5" name="PlaceHolder 5"/>
          <p:cNvSpPr>
            <a:spLocks noGrp="1"/>
          </p:cNvSpPr>
          <p:nvPr>
            <p:ph type="sldNum" idx="18"/>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0466FCA6-7D8C-4BC9-8390-7D4983C7B862}"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53"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0" name="Rectangle 6"/>
          <p:cNvSpPr/>
          <p:nvPr/>
        </p:nvSpPr>
        <p:spPr>
          <a:xfrm>
            <a:off x="12188880" y="0"/>
            <a:ext cx="1218888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91"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292"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293" name="PlaceHolder 3"/>
          <p:cNvSpPr>
            <a:spLocks noGrp="1"/>
          </p:cNvSpPr>
          <p:nvPr>
            <p:ph type="dt" idx="19"/>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294" name="PlaceHolder 4"/>
          <p:cNvSpPr>
            <a:spLocks noGrp="1"/>
          </p:cNvSpPr>
          <p:nvPr>
            <p:ph type="ftr" idx="20"/>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95" name="PlaceHolder 5"/>
          <p:cNvSpPr>
            <a:spLocks noGrp="1"/>
          </p:cNvSpPr>
          <p:nvPr>
            <p:ph type="sldNum" idx="21"/>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3E11C7C6-3BB3-46A3-B9A6-534CF1E35C06}"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2" name="Rectangle 6"/>
          <p:cNvSpPr/>
          <p:nvPr/>
        </p:nvSpPr>
        <p:spPr>
          <a:xfrm>
            <a:off x="0" y="0"/>
            <a:ext cx="1218888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333" name="PlaceHolder 1"/>
          <p:cNvSpPr>
            <a:spLocks noGrp="1"/>
          </p:cNvSpPr>
          <p:nvPr>
            <p:ph type="title"/>
          </p:nvPr>
        </p:nvSpPr>
        <p:spPr>
          <a:xfrm>
            <a:off x="1676520" y="729720"/>
            <a:ext cx="21024720" cy="2651400"/>
          </a:xfrm>
          <a:prstGeom prst="rect">
            <a:avLst/>
          </a:prstGeom>
          <a:noFill/>
          <a:ln w="0">
            <a:noFill/>
          </a:ln>
        </p:spPr>
        <p:txBody>
          <a:bodyPr lIns="90000" rIns="90000" tIns="46800" bIns="46800" anchor="ctr">
            <a:noAutofit/>
          </a:bodyPr>
          <a:p>
            <a:pPr indent="0">
              <a:lnSpc>
                <a:spcPct val="90000"/>
              </a:lnSpc>
              <a:buNone/>
              <a:tabLst>
                <a:tab algn="l" pos="0"/>
                <a:tab algn="l" pos="1827360"/>
                <a:tab algn="l" pos="3654360"/>
                <a:tab algn="l" pos="5481720"/>
                <a:tab algn="l" pos="7308720"/>
                <a:tab algn="l" pos="9136080"/>
                <a:tab algn="l" pos="10963440"/>
              </a:tabLst>
            </a:pPr>
            <a:r>
              <a:rPr b="0" lang="en-US" sz="8700" spc="-1" strike="noStrike">
                <a:solidFill>
                  <a:srgbClr val="000000"/>
                </a:solidFill>
                <a:latin typeface="Montserrat Semi Bold"/>
              </a:rPr>
              <a:t>Click to edit the title text format</a:t>
            </a:r>
            <a:endParaRPr b="0" lang="en-US" sz="8700" spc="-1" strike="noStrike">
              <a:solidFill>
                <a:srgbClr val="000000"/>
              </a:solidFill>
              <a:latin typeface="Montserrat Semi Bold"/>
            </a:endParaRPr>
          </a:p>
        </p:txBody>
      </p:sp>
      <p:sp>
        <p:nvSpPr>
          <p:cNvPr id="334" name="PlaceHolder 2"/>
          <p:cNvSpPr>
            <a:spLocks noGrp="1"/>
          </p:cNvSpPr>
          <p:nvPr>
            <p:ph type="body"/>
          </p:nvPr>
        </p:nvSpPr>
        <p:spPr>
          <a:xfrm>
            <a:off x="1676520" y="3651120"/>
            <a:ext cx="21024720" cy="8702640"/>
          </a:xfrm>
          <a:prstGeom prst="rect">
            <a:avLst/>
          </a:prstGeom>
          <a:noFill/>
          <a:ln w="0">
            <a:noFill/>
          </a:ln>
        </p:spPr>
        <p:txBody>
          <a:bodyPr lIns="90000" rIns="90000" tIns="46800" bIns="46800" anchor="t">
            <a:normAutofit/>
          </a:bodyPr>
          <a:p>
            <a:pPr indent="0">
              <a:lnSpc>
                <a:spcPct val="90000"/>
              </a:lnSpc>
              <a:spcBef>
                <a:spcPts val="2001"/>
              </a:spcBef>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Click to edit the outline text format</a:t>
            </a:r>
            <a:endParaRPr b="0" lang="en-US" sz="2800" spc="-1" strike="noStrike">
              <a:solidFill>
                <a:srgbClr val="000000"/>
              </a:solidFill>
              <a:latin typeface="Open Sans Light"/>
            </a:endParaRPr>
          </a:p>
          <a:p>
            <a:pPr lvl="1" marL="9129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cond Outline Level</a:t>
            </a:r>
            <a:endParaRPr b="0" lang="en-US" sz="2800" spc="-1" strike="noStrike">
              <a:solidFill>
                <a:srgbClr val="000000"/>
              </a:solidFill>
              <a:latin typeface="Open Sans Light"/>
            </a:endParaRPr>
          </a:p>
          <a:p>
            <a:pPr lvl="2" marL="18273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Third Outline Level</a:t>
            </a:r>
            <a:endParaRPr b="0" lang="en-US" sz="2800" spc="-1" strike="noStrike">
              <a:solidFill>
                <a:srgbClr val="000000"/>
              </a:solidFill>
              <a:latin typeface="Open Sans Light"/>
            </a:endParaRPr>
          </a:p>
          <a:p>
            <a:pPr lvl="3" marL="27417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ourth Outline Level</a:t>
            </a:r>
            <a:endParaRPr b="0" lang="en-US" sz="2800" spc="-1" strike="noStrike">
              <a:solidFill>
                <a:srgbClr val="000000"/>
              </a:solidFill>
              <a:latin typeface="Open Sans Light"/>
            </a:endParaRPr>
          </a:p>
          <a:p>
            <a:pPr lvl="4"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Fifth Outline Level</a:t>
            </a:r>
            <a:endParaRPr b="0" lang="en-US" sz="2800" spc="-1" strike="noStrike">
              <a:solidFill>
                <a:srgbClr val="000000"/>
              </a:solidFill>
              <a:latin typeface="Open Sans Light"/>
            </a:endParaRPr>
          </a:p>
          <a:p>
            <a:pPr lvl="5"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ixth Outline Level</a:t>
            </a:r>
            <a:endParaRPr b="0" lang="en-US" sz="2800" spc="-1" strike="noStrike">
              <a:solidFill>
                <a:srgbClr val="000000"/>
              </a:solidFill>
              <a:latin typeface="Open Sans Light"/>
            </a:endParaRPr>
          </a:p>
          <a:p>
            <a:pPr lvl="6" marL="3656160">
              <a:lnSpc>
                <a:spcPct val="90000"/>
              </a:lnSpc>
              <a:spcBef>
                <a:spcPts val="2001"/>
              </a:spcBef>
              <a:buClr>
                <a:srgbClr val="000000"/>
              </a:buClr>
              <a:buFont typeface="Arial"/>
              <a:buChar char="»"/>
              <a:tabLst>
                <a:tab algn="l" pos="0"/>
                <a:tab algn="l" pos="1827360"/>
                <a:tab algn="l" pos="3654360"/>
                <a:tab algn="l" pos="5481720"/>
                <a:tab algn="l" pos="7308720"/>
                <a:tab algn="l" pos="9136080"/>
                <a:tab algn="l" pos="10963440"/>
              </a:tabLst>
            </a:pPr>
            <a:r>
              <a:rPr b="0" lang="en-US" sz="2800" spc="-1" strike="noStrike">
                <a:solidFill>
                  <a:srgbClr val="000000"/>
                </a:solidFill>
                <a:latin typeface="Open Sans Light"/>
              </a:rPr>
              <a:t>Seventh Outline Level</a:t>
            </a:r>
            <a:endParaRPr b="0" lang="en-US" sz="2800" spc="-1" strike="noStrike">
              <a:solidFill>
                <a:srgbClr val="000000"/>
              </a:solidFill>
              <a:latin typeface="Open Sans Light"/>
            </a:endParaRPr>
          </a:p>
        </p:txBody>
      </p:sp>
      <p:sp>
        <p:nvSpPr>
          <p:cNvPr id="335" name="PlaceHolder 3"/>
          <p:cNvSpPr>
            <a:spLocks noGrp="1"/>
          </p:cNvSpPr>
          <p:nvPr>
            <p:ph type="dt" idx="22"/>
          </p:nvPr>
        </p:nvSpPr>
        <p:spPr>
          <a:xfrm>
            <a:off x="1676160" y="12712320"/>
            <a:ext cx="5484600" cy="730440"/>
          </a:xfrm>
          <a:prstGeom prst="rect">
            <a:avLst/>
          </a:prstGeom>
          <a:noFill/>
          <a:ln w="0">
            <a:noFill/>
          </a:ln>
        </p:spPr>
        <p:txBody>
          <a:bodyPr lIns="90000" rIns="90000" tIns="46800" bIns="46800" anchor="ctr">
            <a:noAutofit/>
          </a:bodyPr>
          <a:lstStyle>
            <a:lvl1pPr indent="0">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buNone/>
              <a:tabLst>
                <a:tab algn="l" pos="0"/>
                <a:tab algn="l" pos="1827360"/>
                <a:tab algn="l" pos="3654360"/>
                <a:tab algn="l" pos="5481720"/>
                <a:tab algn="l" pos="7308720"/>
                <a:tab algn="l" pos="9136080"/>
                <a:tab algn="l" pos="10963440"/>
              </a:tabLst>
            </a:pPr>
            <a:r>
              <a:rPr b="0" lang="en-AU" sz="2300" spc="-1" strike="noStrike">
                <a:solidFill>
                  <a:srgbClr val="898989"/>
                </a:solidFill>
                <a:latin typeface="Times New Roman"/>
              </a:rPr>
              <a:t>&lt;date/time&gt;</a:t>
            </a:r>
            <a:endParaRPr b="0" lang="en-US" sz="2300" spc="-1" strike="noStrike">
              <a:solidFill>
                <a:srgbClr val="000000"/>
              </a:solidFill>
              <a:latin typeface="Times New Roman"/>
            </a:endParaRPr>
          </a:p>
        </p:txBody>
      </p:sp>
      <p:sp>
        <p:nvSpPr>
          <p:cNvPr id="336" name="PlaceHolder 4"/>
          <p:cNvSpPr>
            <a:spLocks noGrp="1"/>
          </p:cNvSpPr>
          <p:nvPr>
            <p:ph type="ftr" idx="23"/>
          </p:nvPr>
        </p:nvSpPr>
        <p:spPr>
          <a:xfrm>
            <a:off x="8075160" y="12712320"/>
            <a:ext cx="8226360" cy="730440"/>
          </a:xfrm>
          <a:prstGeom prst="rect">
            <a:avLst/>
          </a:prstGeom>
          <a:noFill/>
          <a:ln w="0">
            <a:noFill/>
          </a:ln>
        </p:spPr>
        <p:txBody>
          <a:bodyPr lIns="90000" rIns="90000" tIns="46800" bIns="46800" anchor="ctr">
            <a:noAutofit/>
          </a:bodyPr>
          <a:p>
            <a:pPr indent="0">
              <a:buNone/>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337" name="PlaceHolder 5"/>
          <p:cNvSpPr>
            <a:spLocks noGrp="1"/>
          </p:cNvSpPr>
          <p:nvPr>
            <p:ph type="sldNum" idx="24"/>
          </p:nvPr>
        </p:nvSpPr>
        <p:spPr>
          <a:xfrm>
            <a:off x="17216280" y="12712320"/>
            <a:ext cx="5484960" cy="730440"/>
          </a:xfrm>
          <a:prstGeom prst="rect">
            <a:avLst/>
          </a:prstGeom>
          <a:noFill/>
          <a:ln w="0">
            <a:noFill/>
          </a:ln>
        </p:spPr>
        <p:txBody>
          <a:bodyPr lIns="90000" rIns="90000" tIns="46800" bIns="46800" anchor="ctr">
            <a:noAutofit/>
          </a:bodyPr>
          <a:lstStyle>
            <a:lvl1pPr indent="0" algn="r">
              <a:buNone/>
              <a:tabLst>
                <a:tab algn="l" pos="0"/>
                <a:tab algn="l" pos="1827360"/>
                <a:tab algn="l" pos="3654360"/>
                <a:tab algn="l" pos="5481720"/>
                <a:tab algn="l" pos="7308720"/>
                <a:tab algn="l" pos="9136080"/>
                <a:tab algn="l" pos="10963440"/>
              </a:tabLst>
              <a:defRPr b="0" lang="en-AU" sz="2300" spc="-1" strike="noStrike">
                <a:solidFill>
                  <a:srgbClr val="898989"/>
                </a:solidFill>
                <a:latin typeface="Times New Roman"/>
              </a:defRPr>
            </a:lvl1pPr>
          </a:lstStyle>
          <a:p>
            <a:pPr indent="0" algn="r">
              <a:buNone/>
              <a:tabLst>
                <a:tab algn="l" pos="0"/>
                <a:tab algn="l" pos="1827360"/>
                <a:tab algn="l" pos="3654360"/>
                <a:tab algn="l" pos="5481720"/>
                <a:tab algn="l" pos="7308720"/>
                <a:tab algn="l" pos="9136080"/>
                <a:tab algn="l" pos="10963440"/>
              </a:tabLst>
            </a:pPr>
            <a:fld id="{090FF19C-EDD3-4061-A95E-9A3A701DD6C0}" type="slidenum">
              <a:rPr b="0" lang="en-AU" sz="2300" spc="-1" strike="noStrike">
                <a:solidFill>
                  <a:srgbClr val="898989"/>
                </a:solidFill>
                <a:latin typeface="Times New Roman"/>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25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26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5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0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37.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49.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36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8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97.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40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2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3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45.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57.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469.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8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05.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7.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slideLayout" Target="../slideLayouts/slideLayout529.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54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1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32"/>
          <p:cNvSpPr/>
          <p:nvPr/>
        </p:nvSpPr>
        <p:spPr>
          <a:xfrm>
            <a:off x="932040" y="5481720"/>
            <a:ext cx="4620960" cy="444492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69" name="Rectangle 13"/>
          <p:cNvSpPr/>
          <p:nvPr/>
        </p:nvSpPr>
        <p:spPr>
          <a:xfrm>
            <a:off x="13741560" y="0"/>
            <a:ext cx="10636200" cy="13716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pic>
        <p:nvPicPr>
          <p:cNvPr id="1870" name="Group 27" descr=""/>
          <p:cNvPicPr/>
          <p:nvPr/>
        </p:nvPicPr>
        <p:blipFill>
          <a:blip r:embed="rId1"/>
          <a:stretch/>
        </p:blipFill>
        <p:spPr>
          <a:xfrm>
            <a:off x="14911560" y="9820440"/>
            <a:ext cx="8246880" cy="109440"/>
          </a:xfrm>
          <a:prstGeom prst="rect">
            <a:avLst/>
          </a:prstGeom>
          <a:ln w="0">
            <a:noFill/>
          </a:ln>
        </p:spPr>
      </p:pic>
      <p:sp>
        <p:nvSpPr>
          <p:cNvPr id="1871" name="Rectangle 26"/>
          <p:cNvSpPr/>
          <p:nvPr/>
        </p:nvSpPr>
        <p:spPr>
          <a:xfrm>
            <a:off x="20946960" y="7486560"/>
            <a:ext cx="4621320" cy="44449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72" name="Rectangle 23"/>
          <p:cNvSpPr/>
          <p:nvPr/>
        </p:nvSpPr>
        <p:spPr>
          <a:xfrm>
            <a:off x="13106520" y="2685960"/>
            <a:ext cx="4620960" cy="4444920"/>
          </a:xfrm>
          <a:prstGeom prst="rect">
            <a:avLst/>
          </a:prstGeom>
          <a:solidFill>
            <a:srgbClr val="4d4d4d"/>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873" name="Text Placeholder 1"/>
          <p:cNvSpPr/>
          <p:nvPr/>
        </p:nvSpPr>
        <p:spPr>
          <a:xfrm>
            <a:off x="1671480" y="10901520"/>
            <a:ext cx="9761760" cy="1325520"/>
          </a:xfrm>
          <a:prstGeom prst="rect">
            <a:avLst/>
          </a:prstGeom>
          <a:noFill/>
          <a:ln w="0">
            <a:noFill/>
          </a:ln>
        </p:spPr>
        <p:style>
          <a:lnRef idx="0"/>
          <a:fillRef idx="0"/>
          <a:effectRef idx="0"/>
          <a:fontRef idx="minor"/>
        </p:style>
        <p:txBody>
          <a:bodyPr lIns="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Open Sans Light"/>
              </a:rPr>
              <a:t>BODY TEXT HERE OR LOREM IPSUM DOLOR SIT AMET, LOREM CONSE CTETUR BARAKA TAU LANI KAMU</a:t>
            </a:r>
            <a:endParaRPr b="0" lang="en-US" sz="2400" spc="-1" strike="noStrike">
              <a:solidFill>
                <a:srgbClr val="000000"/>
              </a:solidFill>
              <a:latin typeface="Open Sans Light"/>
            </a:endParaRPr>
          </a:p>
        </p:txBody>
      </p:sp>
      <p:sp>
        <p:nvSpPr>
          <p:cNvPr id="1874" name="Text Placeholder 1"/>
          <p:cNvSpPr/>
          <p:nvPr/>
        </p:nvSpPr>
        <p:spPr>
          <a:xfrm>
            <a:off x="1663560" y="10348920"/>
            <a:ext cx="8683920" cy="552600"/>
          </a:xfrm>
          <a:prstGeom prst="rect">
            <a:avLst/>
          </a:prstGeom>
          <a:noFill/>
          <a:ln w="0">
            <a:noFill/>
          </a:ln>
        </p:spPr>
        <p:style>
          <a:lnRef idx="0"/>
          <a:fillRef idx="0"/>
          <a:effectRef idx="0"/>
          <a:fontRef idx="minor"/>
        </p:style>
        <p:txBody>
          <a:bodyPr lIns="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Open Sans Light"/>
              </a:rPr>
              <a:t>PRESENTED BY :</a:t>
            </a:r>
            <a:endParaRPr b="0" lang="en-US" sz="2000" spc="-1" strike="noStrike">
              <a:solidFill>
                <a:srgbClr val="000000"/>
              </a:solidFill>
              <a:latin typeface="Open Sans Light"/>
            </a:endParaRPr>
          </a:p>
        </p:txBody>
      </p:sp>
      <p:sp>
        <p:nvSpPr>
          <p:cNvPr id="1875" name="Text Placeholder 1"/>
          <p:cNvSpPr/>
          <p:nvPr/>
        </p:nvSpPr>
        <p:spPr>
          <a:xfrm>
            <a:off x="1663560" y="6222960"/>
            <a:ext cx="10252080" cy="3022560"/>
          </a:xfrm>
          <a:prstGeom prst="rect">
            <a:avLst/>
          </a:prstGeom>
          <a:noFill/>
          <a:ln w="0">
            <a:noFill/>
          </a:ln>
        </p:spPr>
        <p:style>
          <a:lnRef idx="0"/>
          <a:fillRef idx="0"/>
          <a:effectRef idx="0"/>
          <a:fontRef idx="minor"/>
        </p:style>
        <p:txBody>
          <a:bodyPr lIns="0" rIns="0" tIns="0" bIns="0"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4d4d4d"/>
                </a:solidFill>
                <a:latin typeface="Montserrat Semi Bold"/>
              </a:rPr>
              <a:t>MULTI</a:t>
            </a:r>
            <a:endParaRPr b="0" lang="en-US" sz="7200" spc="-1" strike="noStrike">
              <a:solidFill>
                <a:srgbClr val="000000"/>
              </a:solidFill>
              <a:latin typeface="Open Sans Light"/>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4d4d4d"/>
                </a:solidFill>
                <a:latin typeface="Montserrat Semi Bold"/>
              </a:rPr>
              <a:t>PRESENTATION</a:t>
            </a:r>
            <a:endParaRPr b="0" lang="en-US" sz="7200" spc="-1" strike="noStrike">
              <a:solidFill>
                <a:srgbClr val="000000"/>
              </a:solidFill>
              <a:latin typeface="Open Sans Light"/>
            </a:endParaRPr>
          </a:p>
        </p:txBody>
      </p:sp>
      <p:sp>
        <p:nvSpPr>
          <p:cNvPr id="1876" name="TextBox 31"/>
          <p:cNvSpPr/>
          <p:nvPr/>
        </p:nvSpPr>
        <p:spPr>
          <a:xfrm>
            <a:off x="1663560" y="8845560"/>
            <a:ext cx="777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5f5f5f"/>
                </a:solidFill>
                <a:latin typeface="Open Sans Light"/>
                <a:ea typeface="Open Sans Extrabold"/>
              </a:rPr>
              <a:t>POWERPOINT TEMPLATE</a:t>
            </a:r>
            <a:endParaRPr b="0" lang="en-US" sz="2400" spc="-1" strike="noStrike">
              <a:solidFill>
                <a:srgbClr val="000000"/>
              </a:solidFill>
              <a:latin typeface="Open Sans Light"/>
            </a:endParaRPr>
          </a:p>
        </p:txBody>
      </p:sp>
      <p:pic>
        <p:nvPicPr>
          <p:cNvPr id="1877" name="" descr=""/>
          <p:cNvPicPr/>
          <p:nvPr/>
        </p:nvPicPr>
        <p:blipFill>
          <a:blip r:embed="rId2"/>
          <a:stretch/>
        </p:blipFill>
        <p:spPr>
          <a:xfrm>
            <a:off x="14932080" y="4114800"/>
            <a:ext cx="8229600" cy="5486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874">
                                            <p:txEl>
                                              <p:pRg st="0" end="0"/>
                                            </p:txEl>
                                          </p:spTgt>
                                        </p:tgtEl>
                                        <p:attrNameLst>
                                          <p:attrName>style.visibility</p:attrName>
                                        </p:attrNameLst>
                                      </p:cBhvr>
                                      <p:to>
                                        <p:strVal val="visible"/>
                                      </p:to>
                                    </p:set>
                                    <p:animEffect filter="fade" transition="in">
                                      <p:cBhvr additive="repl">
                                        <p:cTn id="7" dur="500"/>
                                        <p:tgtEl>
                                          <p:spTgt spid="1874">
                                            <p:txEl>
                                              <p:pRg st="0" end="0"/>
                                            </p:txEl>
                                          </p:spTgt>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1873">
                                            <p:txEl>
                                              <p:pRg st="0" end="0"/>
                                            </p:txEl>
                                          </p:spTgt>
                                        </p:tgtEl>
                                        <p:attrNameLst>
                                          <p:attrName>style.visibility</p:attrName>
                                        </p:attrNameLst>
                                      </p:cBhvr>
                                      <p:to>
                                        <p:strVal val="visible"/>
                                      </p:to>
                                    </p:set>
                                    <p:animEffect filter="fade" transition="in">
                                      <p:cBhvr additive="repl">
                                        <p:cTn id="11" dur="500"/>
                                        <p:tgtEl>
                                          <p:spTgt spid="1873">
                                            <p:txEl>
                                              <p:pRg st="0" end="0"/>
                                            </p:txEl>
                                          </p:spTgt>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1875">
                                            <p:txEl>
                                              <p:pRg st="0" end="0"/>
                                            </p:txEl>
                                          </p:spTgt>
                                        </p:tgtEl>
                                        <p:attrNameLst>
                                          <p:attrName>style.visibility</p:attrName>
                                        </p:attrNameLst>
                                      </p:cBhvr>
                                      <p:to>
                                        <p:strVal val="visible"/>
                                      </p:to>
                                    </p:set>
                                    <p:animEffect filter="fade" transition="in">
                                      <p:cBhvr additive="repl">
                                        <p:cTn id="15" dur="500"/>
                                        <p:tgtEl>
                                          <p:spTgt spid="187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875">
                                            <p:txEl>
                                              <p:pRg st="1" end="1"/>
                                            </p:txEl>
                                          </p:spTgt>
                                        </p:tgtEl>
                                        <p:attrNameLst>
                                          <p:attrName>style.visibility</p:attrName>
                                        </p:attrNameLst>
                                      </p:cBhvr>
                                      <p:to>
                                        <p:strVal val="visible"/>
                                      </p:to>
                                    </p:set>
                                    <p:animEffect filter="fade" transition="in">
                                      <p:cBhvr additive="repl">
                                        <p:cTn id="20" dur="500"/>
                                        <p:tgtEl>
                                          <p:spTgt spid="18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27"/>
          <p:cNvSpPr/>
          <p:nvPr/>
        </p:nvSpPr>
        <p:spPr>
          <a:xfrm>
            <a:off x="12371400" y="6378480"/>
            <a:ext cx="12006360" cy="2559240"/>
          </a:xfrm>
          <a:prstGeom prst="rect">
            <a:avLst/>
          </a:prstGeom>
          <a:solidFill>
            <a:srgbClr val="b2b2b2">
              <a:alpha val="9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pic>
        <p:nvPicPr>
          <p:cNvPr id="1995" name="TextBox 28" descr=""/>
          <p:cNvPicPr/>
          <p:nvPr/>
        </p:nvPicPr>
        <p:blipFill>
          <a:blip r:embed="rId1"/>
          <a:stretch/>
        </p:blipFill>
        <p:spPr>
          <a:xfrm>
            <a:off x="2401920" y="3517920"/>
            <a:ext cx="19573920" cy="9191520"/>
          </a:xfrm>
          <a:prstGeom prst="rect">
            <a:avLst/>
          </a:prstGeom>
          <a:ln w="0">
            <a:noFill/>
          </a:ln>
        </p:spPr>
      </p:pic>
      <p:sp>
        <p:nvSpPr>
          <p:cNvPr id="1996"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1997" name="Group 10"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49">
                                  <p:stCondLst>
                                    <p:cond delay="0"/>
                                  </p:stCondLst>
                                  <p:childTnLst>
                                    <p:set>
                                      <p:cBhvr>
                                        <p:cTn id="104" dur="1" fill="hold">
                                          <p:stCondLst>
                                            <p:cond delay="0"/>
                                          </p:stCondLst>
                                        </p:cTn>
                                        <p:tgtEl>
                                          <p:spTgt spid="1997"/>
                                        </p:tgtEl>
                                        <p:attrNameLst>
                                          <p:attrName>style.visibility</p:attrName>
                                        </p:attrNameLst>
                                      </p:cBhvr>
                                      <p:to>
                                        <p:strVal val="visible"/>
                                      </p:to>
                                    </p:set>
                                    <p:anim calcmode="lin" valueType="num">
                                      <p:cBhvr additive="repl">
                                        <p:cTn id="105" dur="500" fill="hold"/>
                                        <p:tgtEl>
                                          <p:spTgt spid="1997"/>
                                        </p:tgtEl>
                                        <p:attrNameLst>
                                          <p:attrName>ppt_w</p:attrName>
                                        </p:attrNameLst>
                                      </p:cBhvr>
                                      <p:tavLst>
                                        <p:tav tm="0">
                                          <p:val>
                                            <p:fltVal val="0"/>
                                          </p:val>
                                        </p:tav>
                                        <p:tav tm="100000">
                                          <p:val>
                                            <p:strVal val="#ppt_w"/>
                                          </p:val>
                                        </p:tav>
                                      </p:tavLst>
                                    </p:anim>
                                    <p:anim calcmode="lin" valueType="num">
                                      <p:cBhvr additive="repl">
                                        <p:cTn id="106" dur="500" fill="hold"/>
                                        <p:tgtEl>
                                          <p:spTgt spid="1997"/>
                                        </p:tgtEl>
                                        <p:attrNameLst>
                                          <p:attrName>ppt_h</p:attrName>
                                        </p:attrNameLst>
                                      </p:cBhvr>
                                      <p:tavLst>
                                        <p:tav tm="0">
                                          <p:val>
                                            <p:fltVal val="0"/>
                                          </p:val>
                                        </p:tav>
                                        <p:tav tm="100000">
                                          <p:val>
                                            <p:strVal val="#ppt_h"/>
                                          </p:val>
                                        </p:tav>
                                      </p:tavLst>
                                    </p:anim>
                                    <p:anim calcmode="lin" valueType="num">
                                      <p:cBhvr additive="repl">
                                        <p:cTn id="107" dur="500" fill="hold"/>
                                        <p:tgtEl>
                                          <p:spTgt spid="1997"/>
                                        </p:tgtEl>
                                        <p:attrNameLst>
                                          <p:attrName>r</p:attrName>
                                        </p:attrNameLst>
                                      </p:cBhvr>
                                      <p:tavLst>
                                        <p:tav tm="0">
                                          <p:val>
                                            <p:strVal val="360"/>
                                          </p:val>
                                        </p:tav>
                                        <p:tav tm="100000">
                                          <p:val>
                                            <p:strVal val="0"/>
                                          </p:val>
                                        </p:tav>
                                      </p:tavLst>
                                    </p:anim>
                                    <p:animEffect filter="fade" transition="in">
                                      <p:cBhvr additive="repl">
                                        <p:cTn id="108" dur="500"/>
                                        <p:tgtEl>
                                          <p:spTgt spid="1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8" name="TextBox 28" descr=""/>
          <p:cNvPicPr/>
          <p:nvPr/>
        </p:nvPicPr>
        <p:blipFill>
          <a:blip r:embed="rId1"/>
          <a:stretch/>
        </p:blipFill>
        <p:spPr>
          <a:xfrm>
            <a:off x="2401920" y="3517920"/>
            <a:ext cx="19573920" cy="9191520"/>
          </a:xfrm>
          <a:prstGeom prst="rect">
            <a:avLst/>
          </a:prstGeom>
          <a:ln w="0">
            <a:noFill/>
          </a:ln>
        </p:spPr>
      </p:pic>
      <p:sp>
        <p:nvSpPr>
          <p:cNvPr id="1999"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2000" name="Group 9"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9">
                                  <p:stCondLst>
                                    <p:cond delay="0"/>
                                  </p:stCondLst>
                                  <p:childTnLst>
                                    <p:set>
                                      <p:cBhvr>
                                        <p:cTn id="114" dur="1" fill="hold">
                                          <p:stCondLst>
                                            <p:cond delay="0"/>
                                          </p:stCondLst>
                                        </p:cTn>
                                        <p:tgtEl>
                                          <p:spTgt spid="2000"/>
                                        </p:tgtEl>
                                        <p:attrNameLst>
                                          <p:attrName>style.visibility</p:attrName>
                                        </p:attrNameLst>
                                      </p:cBhvr>
                                      <p:to>
                                        <p:strVal val="visible"/>
                                      </p:to>
                                    </p:set>
                                    <p:anim calcmode="lin" valueType="num">
                                      <p:cBhvr additive="repl">
                                        <p:cTn id="115" dur="500" fill="hold"/>
                                        <p:tgtEl>
                                          <p:spTgt spid="2000"/>
                                        </p:tgtEl>
                                        <p:attrNameLst>
                                          <p:attrName>ppt_w</p:attrName>
                                        </p:attrNameLst>
                                      </p:cBhvr>
                                      <p:tavLst>
                                        <p:tav tm="0">
                                          <p:val>
                                            <p:fltVal val="0"/>
                                          </p:val>
                                        </p:tav>
                                        <p:tav tm="100000">
                                          <p:val>
                                            <p:strVal val="#ppt_w"/>
                                          </p:val>
                                        </p:tav>
                                      </p:tavLst>
                                    </p:anim>
                                    <p:anim calcmode="lin" valueType="num">
                                      <p:cBhvr additive="repl">
                                        <p:cTn id="116" dur="500" fill="hold"/>
                                        <p:tgtEl>
                                          <p:spTgt spid="2000"/>
                                        </p:tgtEl>
                                        <p:attrNameLst>
                                          <p:attrName>ppt_h</p:attrName>
                                        </p:attrNameLst>
                                      </p:cBhvr>
                                      <p:tavLst>
                                        <p:tav tm="0">
                                          <p:val>
                                            <p:fltVal val="0"/>
                                          </p:val>
                                        </p:tav>
                                        <p:tav tm="100000">
                                          <p:val>
                                            <p:strVal val="#ppt_h"/>
                                          </p:val>
                                        </p:tav>
                                      </p:tavLst>
                                    </p:anim>
                                    <p:anim calcmode="lin" valueType="num">
                                      <p:cBhvr additive="repl">
                                        <p:cTn id="117" dur="500" fill="hold"/>
                                        <p:tgtEl>
                                          <p:spTgt spid="2000"/>
                                        </p:tgtEl>
                                        <p:attrNameLst>
                                          <p:attrName>r</p:attrName>
                                        </p:attrNameLst>
                                      </p:cBhvr>
                                      <p:tavLst>
                                        <p:tav tm="0">
                                          <p:val>
                                            <p:strVal val="360"/>
                                          </p:val>
                                        </p:tav>
                                        <p:tav tm="100000">
                                          <p:val>
                                            <p:strVal val="0"/>
                                          </p:val>
                                        </p:tav>
                                      </p:tavLst>
                                    </p:anim>
                                    <p:animEffect filter="fade" transition="in">
                                      <p:cBhvr additive="repl">
                                        <p:cTn id="118" dur="500"/>
                                        <p:tgtEl>
                                          <p:spTgt spid="2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TextBox 28"/>
          <p:cNvSpPr/>
          <p:nvPr/>
        </p:nvSpPr>
        <p:spPr>
          <a:xfrm>
            <a:off x="12553920" y="3994200"/>
            <a:ext cx="93283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a:t>
            </a:r>
            <a:endParaRPr b="0" lang="en-US" sz="2400" spc="-1" strike="noStrike">
              <a:solidFill>
                <a:srgbClr val="000000"/>
              </a:solidFill>
              <a:latin typeface="Open Sans Light"/>
            </a:endParaRPr>
          </a:p>
        </p:txBody>
      </p:sp>
      <p:sp>
        <p:nvSpPr>
          <p:cNvPr id="2002" name="TextBox 29"/>
          <p:cNvSpPr/>
          <p:nvPr/>
        </p:nvSpPr>
        <p:spPr>
          <a:xfrm>
            <a:off x="7035840" y="1371600"/>
            <a:ext cx="10306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PARAGRAPH STYLES</a:t>
            </a:r>
            <a:endParaRPr b="0" lang="en-US" sz="6600" spc="-1" strike="noStrike">
              <a:solidFill>
                <a:srgbClr val="000000"/>
              </a:solidFill>
              <a:latin typeface="Open Sans Light"/>
            </a:endParaRPr>
          </a:p>
        </p:txBody>
      </p:sp>
      <p:pic>
        <p:nvPicPr>
          <p:cNvPr id="2003" name="TextBox 16" descr=""/>
          <p:cNvPicPr/>
          <p:nvPr/>
        </p:nvPicPr>
        <p:blipFill>
          <a:blip r:embed="rId1"/>
          <a:stretch/>
        </p:blipFill>
        <p:spPr>
          <a:xfrm>
            <a:off x="12460320" y="7089840"/>
            <a:ext cx="9515520" cy="5400720"/>
          </a:xfrm>
          <a:prstGeom prst="rect">
            <a:avLst/>
          </a:prstGeom>
          <a:ln w="0">
            <a:noFill/>
          </a:ln>
        </p:spPr>
      </p:pic>
      <p:pic>
        <p:nvPicPr>
          <p:cNvPr id="2004" name="Group 11" descr=""/>
          <p:cNvPicPr/>
          <p:nvPr/>
        </p:nvPicPr>
        <p:blipFill>
          <a:blip r:embed="rId2"/>
          <a:stretch/>
        </p:blipFill>
        <p:spPr>
          <a:xfrm>
            <a:off x="11271240" y="2651040"/>
            <a:ext cx="1828800" cy="111240"/>
          </a:xfrm>
          <a:prstGeom prst="rect">
            <a:avLst/>
          </a:prstGeom>
          <a:ln w="0">
            <a:noFill/>
          </a:ln>
        </p:spPr>
      </p:pic>
      <p:pic>
        <p:nvPicPr>
          <p:cNvPr id="2005" name="" descr=""/>
          <p:cNvPicPr/>
          <p:nvPr/>
        </p:nvPicPr>
        <p:blipFill>
          <a:blip r:embed="rId3"/>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49">
                                  <p:stCondLst>
                                    <p:cond delay="0"/>
                                  </p:stCondLst>
                                  <p:childTnLst>
                                    <p:set>
                                      <p:cBhvr>
                                        <p:cTn id="124" dur="1" fill="hold">
                                          <p:stCondLst>
                                            <p:cond delay="0"/>
                                          </p:stCondLst>
                                        </p:cTn>
                                        <p:tgtEl>
                                          <p:spTgt spid="2004"/>
                                        </p:tgtEl>
                                        <p:attrNameLst>
                                          <p:attrName>style.visibility</p:attrName>
                                        </p:attrNameLst>
                                      </p:cBhvr>
                                      <p:to>
                                        <p:strVal val="visible"/>
                                      </p:to>
                                    </p:set>
                                    <p:anim calcmode="lin" valueType="num">
                                      <p:cBhvr additive="repl">
                                        <p:cTn id="125" dur="500" fill="hold"/>
                                        <p:tgtEl>
                                          <p:spTgt spid="2004"/>
                                        </p:tgtEl>
                                        <p:attrNameLst>
                                          <p:attrName>ppt_w</p:attrName>
                                        </p:attrNameLst>
                                      </p:cBhvr>
                                      <p:tavLst>
                                        <p:tav tm="0">
                                          <p:val>
                                            <p:fltVal val="0"/>
                                          </p:val>
                                        </p:tav>
                                        <p:tav tm="100000">
                                          <p:val>
                                            <p:strVal val="#ppt_w"/>
                                          </p:val>
                                        </p:tav>
                                      </p:tavLst>
                                    </p:anim>
                                    <p:anim calcmode="lin" valueType="num">
                                      <p:cBhvr additive="repl">
                                        <p:cTn id="126" dur="500" fill="hold"/>
                                        <p:tgtEl>
                                          <p:spTgt spid="2004"/>
                                        </p:tgtEl>
                                        <p:attrNameLst>
                                          <p:attrName>ppt_h</p:attrName>
                                        </p:attrNameLst>
                                      </p:cBhvr>
                                      <p:tavLst>
                                        <p:tav tm="0">
                                          <p:val>
                                            <p:fltVal val="0"/>
                                          </p:val>
                                        </p:tav>
                                        <p:tav tm="100000">
                                          <p:val>
                                            <p:strVal val="#ppt_h"/>
                                          </p:val>
                                        </p:tav>
                                      </p:tavLst>
                                    </p:anim>
                                    <p:anim calcmode="lin" valueType="num">
                                      <p:cBhvr additive="repl">
                                        <p:cTn id="127" dur="500" fill="hold"/>
                                        <p:tgtEl>
                                          <p:spTgt spid="2004"/>
                                        </p:tgtEl>
                                        <p:attrNameLst>
                                          <p:attrName>r</p:attrName>
                                        </p:attrNameLst>
                                      </p:cBhvr>
                                      <p:tavLst>
                                        <p:tav tm="0">
                                          <p:val>
                                            <p:strVal val="360"/>
                                          </p:val>
                                        </p:tav>
                                        <p:tav tm="100000">
                                          <p:val>
                                            <p:strVal val="0"/>
                                          </p:val>
                                        </p:tav>
                                      </p:tavLst>
                                    </p:anim>
                                    <p:animEffect filter="fade" transition="in">
                                      <p:cBhvr additive="repl">
                                        <p:cTn id="128" dur="500"/>
                                        <p:tgtEl>
                                          <p:spTgt spid="20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007"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10101"/>
                </a:solidFill>
                <a:latin typeface="Montserrat Semi Bold"/>
              </a:rPr>
              <a:t>OUR TEAM</a:t>
            </a:r>
            <a:endParaRPr b="0" lang="en-US" sz="10500" spc="-1" strike="noStrike">
              <a:solidFill>
                <a:srgbClr val="000000"/>
              </a:solidFill>
              <a:latin typeface="Open Sans Light"/>
            </a:endParaRPr>
          </a:p>
        </p:txBody>
      </p:sp>
      <p:pic>
        <p:nvPicPr>
          <p:cNvPr id="2008" name="Group 20" descr=""/>
          <p:cNvPicPr/>
          <p:nvPr/>
        </p:nvPicPr>
        <p:blipFill>
          <a:blip r:embed="rId1"/>
          <a:stretch/>
        </p:blipFill>
        <p:spPr>
          <a:xfrm>
            <a:off x="11271240" y="12026880"/>
            <a:ext cx="1828800" cy="104760"/>
          </a:xfrm>
          <a:prstGeom prst="rect">
            <a:avLst/>
          </a:prstGeom>
          <a:ln w="0">
            <a:noFill/>
          </a:ln>
        </p:spPr>
      </p:pic>
      <p:pic>
        <p:nvPicPr>
          <p:cNvPr id="2009"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2006"/>
                                        </p:tgtEl>
                                        <p:attrNameLst>
                                          <p:attrName>style.visibility</p:attrName>
                                        </p:attrNameLst>
                                      </p:cBhvr>
                                      <p:to>
                                        <p:strVal val="visible"/>
                                      </p:to>
                                    </p:set>
                                    <p:animEffect filter="fade" transition="in">
                                      <p:cBhvr additive="repl">
                                        <p:cTn id="135" dur="500"/>
                                        <p:tgtEl>
                                          <p:spTgt spid="2006"/>
                                        </p:tgtEl>
                                      </p:cBhvr>
                                    </p:animEffect>
                                  </p:childTnLst>
                                </p:cTn>
                              </p:par>
                            </p:childTnLst>
                          </p:cTn>
                        </p:par>
                        <p:par>
                          <p:cTn id="136" fill="hold">
                            <p:stCondLst>
                              <p:cond delay="500"/>
                            </p:stCondLst>
                            <p:childTnLst>
                              <p:par>
                                <p:cTn id="137" nodeType="afterEffect" fill="hold" presetClass="entr" presetID="10">
                                  <p:stCondLst>
                                    <p:cond delay="0"/>
                                  </p:stCondLst>
                                  <p:childTnLst>
                                    <p:set>
                                      <p:cBhvr>
                                        <p:cTn id="138" dur="1" fill="hold">
                                          <p:stCondLst>
                                            <p:cond delay="0"/>
                                          </p:stCondLst>
                                        </p:cTn>
                                        <p:tgtEl>
                                          <p:spTgt spid="2007"/>
                                        </p:tgtEl>
                                        <p:attrNameLst>
                                          <p:attrName>style.visibility</p:attrName>
                                        </p:attrNameLst>
                                      </p:cBhvr>
                                      <p:to>
                                        <p:strVal val="visible"/>
                                      </p:to>
                                    </p:set>
                                    <p:animEffect filter="fade" transition="in">
                                      <p:cBhvr additive="repl">
                                        <p:cTn id="139" dur="500"/>
                                        <p:tgtEl>
                                          <p:spTgt spid="2007"/>
                                        </p:tgtEl>
                                      </p:cBhvr>
                                    </p:animEffect>
                                  </p:childTnLst>
                                </p:cTn>
                              </p:par>
                            </p:childTnLst>
                          </p:cTn>
                        </p:par>
                        <p:par>
                          <p:cTn id="140" fill="hold">
                            <p:stCondLst>
                              <p:cond delay="1000"/>
                            </p:stCondLst>
                            <p:childTnLst>
                              <p:par>
                                <p:cTn id="141" nodeType="afterEffect" fill="hold" presetClass="entr" presetID="49">
                                  <p:stCondLst>
                                    <p:cond delay="0"/>
                                  </p:stCondLst>
                                  <p:childTnLst>
                                    <p:set>
                                      <p:cBhvr>
                                        <p:cTn id="142" dur="1" fill="hold">
                                          <p:stCondLst>
                                            <p:cond delay="0"/>
                                          </p:stCondLst>
                                        </p:cTn>
                                        <p:tgtEl>
                                          <p:spTgt spid="2008"/>
                                        </p:tgtEl>
                                        <p:attrNameLst>
                                          <p:attrName>style.visibility</p:attrName>
                                        </p:attrNameLst>
                                      </p:cBhvr>
                                      <p:to>
                                        <p:strVal val="visible"/>
                                      </p:to>
                                    </p:set>
                                    <p:anim calcmode="lin" valueType="num">
                                      <p:cBhvr additive="repl">
                                        <p:cTn id="143" dur="500" fill="hold"/>
                                        <p:tgtEl>
                                          <p:spTgt spid="2008"/>
                                        </p:tgtEl>
                                        <p:attrNameLst>
                                          <p:attrName>ppt_w</p:attrName>
                                        </p:attrNameLst>
                                      </p:cBhvr>
                                      <p:tavLst>
                                        <p:tav tm="0">
                                          <p:val>
                                            <p:fltVal val="0"/>
                                          </p:val>
                                        </p:tav>
                                        <p:tav tm="100000">
                                          <p:val>
                                            <p:strVal val="#ppt_w"/>
                                          </p:val>
                                        </p:tav>
                                      </p:tavLst>
                                    </p:anim>
                                    <p:anim calcmode="lin" valueType="num">
                                      <p:cBhvr additive="repl">
                                        <p:cTn id="144" dur="500" fill="hold"/>
                                        <p:tgtEl>
                                          <p:spTgt spid="2008"/>
                                        </p:tgtEl>
                                        <p:attrNameLst>
                                          <p:attrName>ppt_h</p:attrName>
                                        </p:attrNameLst>
                                      </p:cBhvr>
                                      <p:tavLst>
                                        <p:tav tm="0">
                                          <p:val>
                                            <p:fltVal val="0"/>
                                          </p:val>
                                        </p:tav>
                                        <p:tav tm="100000">
                                          <p:val>
                                            <p:strVal val="#ppt_h"/>
                                          </p:val>
                                        </p:tav>
                                      </p:tavLst>
                                    </p:anim>
                                    <p:anim calcmode="lin" valueType="num">
                                      <p:cBhvr additive="repl">
                                        <p:cTn id="145" dur="500" fill="hold"/>
                                        <p:tgtEl>
                                          <p:spTgt spid="2008"/>
                                        </p:tgtEl>
                                        <p:attrNameLst>
                                          <p:attrName>r</p:attrName>
                                        </p:attrNameLst>
                                      </p:cBhvr>
                                      <p:tavLst>
                                        <p:tav tm="0">
                                          <p:val>
                                            <p:strVal val="360"/>
                                          </p:val>
                                        </p:tav>
                                        <p:tav tm="100000">
                                          <p:val>
                                            <p:strVal val="0"/>
                                          </p:val>
                                        </p:tav>
                                      </p:tavLst>
                                    </p:anim>
                                    <p:animEffect filter="fade" transition="in">
                                      <p:cBhvr additive="repl">
                                        <p:cTn id="146" dur="500"/>
                                        <p:tgtEl>
                                          <p:spTgt spid="2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6"/>
          <p:cNvSpPr/>
          <p:nvPr/>
        </p:nvSpPr>
        <p:spPr>
          <a:xfrm>
            <a:off x="12174480" y="10045800"/>
            <a:ext cx="8213760" cy="896760"/>
          </a:xfrm>
          <a:prstGeom prst="rect">
            <a:avLst/>
          </a:prstGeom>
          <a:solidFill>
            <a:srgbClr val="4d4d4d"/>
          </a:solidFill>
          <a:ln w="0">
            <a:noFill/>
          </a:ln>
        </p:spPr>
        <p:style>
          <a:lnRef idx="0"/>
          <a:fillRef idx="0"/>
          <a:effectRef idx="0"/>
          <a:fontRef idx="minor"/>
        </p:style>
        <p:txBody>
          <a:bodyPr lIns="90000" rIns="90000" tIns="46800" bIns="46800" anchor="ctr">
            <a:noAutofit/>
          </a:bodyPr>
          <a:p>
            <a:pPr>
              <a:lnSpc>
                <a:spcPct val="100000"/>
              </a:lnSpc>
              <a:tabLst>
                <a:tab algn="l" pos="0"/>
                <a:tab algn="l" pos="1827360"/>
                <a:tab algn="l" pos="3654360"/>
                <a:tab algn="l" pos="5481720"/>
                <a:tab algn="l" pos="7308720"/>
                <a:tab algn="l" pos="9136080"/>
                <a:tab algn="l" pos="10963440"/>
              </a:tabLst>
            </a:pPr>
            <a:r>
              <a:rPr b="0" i="1" lang="en-US" sz="2800" spc="-1" strike="noStrike">
                <a:solidFill>
                  <a:srgbClr val="ffffff"/>
                </a:solidFill>
                <a:latin typeface="Montserrat Semi Bold"/>
                <a:ea typeface="Open Sans"/>
              </a:rPr>
              <a:t>A TEAM WITH PASSION OF CONQUERING …</a:t>
            </a:r>
            <a:endParaRPr b="0" lang="en-US" sz="2800" spc="-1" strike="noStrike">
              <a:solidFill>
                <a:srgbClr val="000000"/>
              </a:solidFill>
              <a:latin typeface="Open Sans Light"/>
            </a:endParaRPr>
          </a:p>
        </p:txBody>
      </p:sp>
      <p:sp>
        <p:nvSpPr>
          <p:cNvPr id="2011" name="Title 2"/>
          <p:cNvSpPr/>
          <p:nvPr/>
        </p:nvSpPr>
        <p:spPr>
          <a:xfrm>
            <a:off x="1216080" y="1006560"/>
            <a:ext cx="21945600" cy="161928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1827360"/>
                <a:tab algn="l" pos="3654360"/>
                <a:tab algn="l" pos="5481720"/>
                <a:tab algn="l" pos="7308720"/>
                <a:tab algn="l" pos="9136080"/>
                <a:tab algn="l" pos="10963440"/>
              </a:tabLst>
            </a:pPr>
            <a:r>
              <a:rPr b="0" lang="en-US" sz="6000" spc="-1" strike="noStrike">
                <a:solidFill>
                  <a:srgbClr val="010101"/>
                </a:solidFill>
                <a:latin typeface="Montserrat Semi Bold"/>
                <a:ea typeface="Open Sans Extrabold"/>
              </a:rPr>
              <a:t>A TEAM WITH PASSION</a:t>
            </a:r>
            <a:endParaRPr b="0" lang="en-US" sz="6000" spc="-1" strike="noStrike">
              <a:solidFill>
                <a:srgbClr val="000000"/>
              </a:solidFill>
              <a:latin typeface="Open Sans Light"/>
            </a:endParaRPr>
          </a:p>
          <a:p>
            <a:pPr algn="ctr">
              <a:lnSpc>
                <a:spcPct val="100000"/>
              </a:lnSpc>
              <a:tabLst>
                <a:tab algn="l" pos="0"/>
                <a:tab algn="l" pos="1827360"/>
                <a:tab algn="l" pos="3654360"/>
                <a:tab algn="l" pos="5481720"/>
                <a:tab algn="l" pos="7308720"/>
                <a:tab algn="l" pos="9136080"/>
                <a:tab algn="l" pos="10963440"/>
              </a:tabLst>
            </a:pPr>
            <a:r>
              <a:rPr b="0" lang="en-US" sz="6000" spc="-1" strike="noStrike">
                <a:solidFill>
                  <a:srgbClr val="010101"/>
                </a:solidFill>
                <a:latin typeface="Montserrat Semi Bold"/>
                <a:ea typeface="Open Sans Extrabold"/>
              </a:rPr>
              <a:t>OF CONQUERING THE WORLD</a:t>
            </a:r>
            <a:endParaRPr b="0" lang="en-US" sz="6000" spc="-1" strike="noStrike">
              <a:solidFill>
                <a:srgbClr val="000000"/>
              </a:solidFill>
              <a:latin typeface="Open Sans Light"/>
            </a:endParaRPr>
          </a:p>
        </p:txBody>
      </p:sp>
      <p:sp>
        <p:nvSpPr>
          <p:cNvPr id="2012" name="Rectangle 8"/>
          <p:cNvSpPr/>
          <p:nvPr/>
        </p:nvSpPr>
        <p:spPr>
          <a:xfrm>
            <a:off x="4788000" y="318924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013" name=""/>
          <p:cNvSpPr txBox="1"/>
          <p:nvPr/>
        </p:nvSpPr>
        <p:spPr>
          <a:xfrm>
            <a:off x="12174480" y="572436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100" spc="-1" strike="noStrike">
                <a:solidFill>
                  <a:srgbClr val="595959"/>
                </a:solidFill>
                <a:latin typeface="Source Sans Pro Light"/>
              </a:rPr>
              <a:t>SAMPLE TEXT RUNS HERE</a:t>
            </a:r>
            <a:endParaRPr b="0" lang="en-US" sz="2100" spc="-1" strike="noStrike">
              <a:solidFill>
                <a:srgbClr val="000000"/>
              </a:solidFill>
              <a:latin typeface="Open Sans Light"/>
            </a:endParaRPr>
          </a:p>
        </p:txBody>
      </p:sp>
      <p:sp>
        <p:nvSpPr>
          <p:cNvPr id="2014" name="PlaceHolder 1"/>
          <p:cNvSpPr>
            <a:spLocks noGrp="1"/>
          </p:cNvSpPr>
          <p:nvPr>
            <p:ph/>
          </p:nvPr>
        </p:nvSpPr>
        <p:spPr>
          <a:xfrm>
            <a:off x="12174120" y="6586200"/>
            <a:ext cx="10377720" cy="225252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r>
              <a:rPr b="0" i="1" lang="en-US" sz="2400" spc="-1" strike="noStrike">
                <a:solidFill>
                  <a:srgbClr val="595959"/>
                </a:solidFill>
                <a:latin typeface="Open Sans Light"/>
                <a:ea typeface="Open Sans Light"/>
              </a:rPr>
              <a:t>Donec quam felis, ultricies nec, pellentesque.</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pic>
        <p:nvPicPr>
          <p:cNvPr id="2015" name="Group 16" descr=""/>
          <p:cNvPicPr/>
          <p:nvPr/>
        </p:nvPicPr>
        <p:blipFill>
          <a:blip r:embed="rId1"/>
          <a:stretch/>
        </p:blipFill>
        <p:spPr>
          <a:xfrm>
            <a:off x="11271240" y="2919240"/>
            <a:ext cx="1828800" cy="109800"/>
          </a:xfrm>
          <a:prstGeom prst="rect">
            <a:avLst/>
          </a:prstGeom>
          <a:ln w="0">
            <a:noFill/>
          </a:ln>
        </p:spPr>
      </p:pic>
      <p:pic>
        <p:nvPicPr>
          <p:cNvPr id="2016" name="" descr=""/>
          <p:cNvPicPr/>
          <p:nvPr/>
        </p:nvPicPr>
        <p:blipFill>
          <a:blip r:embed="rId2"/>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49">
                                  <p:stCondLst>
                                    <p:cond delay="0"/>
                                  </p:stCondLst>
                                  <p:childTnLst>
                                    <p:set>
                                      <p:cBhvr>
                                        <p:cTn id="152" dur="1" fill="hold">
                                          <p:stCondLst>
                                            <p:cond delay="0"/>
                                          </p:stCondLst>
                                        </p:cTn>
                                        <p:tgtEl>
                                          <p:spTgt spid="2015"/>
                                        </p:tgtEl>
                                        <p:attrNameLst>
                                          <p:attrName>style.visibility</p:attrName>
                                        </p:attrNameLst>
                                      </p:cBhvr>
                                      <p:to>
                                        <p:strVal val="visible"/>
                                      </p:to>
                                    </p:set>
                                    <p:anim calcmode="lin" valueType="num">
                                      <p:cBhvr additive="repl">
                                        <p:cTn id="153" dur="500" fill="hold"/>
                                        <p:tgtEl>
                                          <p:spTgt spid="2015"/>
                                        </p:tgtEl>
                                        <p:attrNameLst>
                                          <p:attrName>ppt_w</p:attrName>
                                        </p:attrNameLst>
                                      </p:cBhvr>
                                      <p:tavLst>
                                        <p:tav tm="0">
                                          <p:val>
                                            <p:fltVal val="0"/>
                                          </p:val>
                                        </p:tav>
                                        <p:tav tm="100000">
                                          <p:val>
                                            <p:strVal val="#ppt_w"/>
                                          </p:val>
                                        </p:tav>
                                      </p:tavLst>
                                    </p:anim>
                                    <p:anim calcmode="lin" valueType="num">
                                      <p:cBhvr additive="repl">
                                        <p:cTn id="154" dur="500" fill="hold"/>
                                        <p:tgtEl>
                                          <p:spTgt spid="2015"/>
                                        </p:tgtEl>
                                        <p:attrNameLst>
                                          <p:attrName>ppt_h</p:attrName>
                                        </p:attrNameLst>
                                      </p:cBhvr>
                                      <p:tavLst>
                                        <p:tav tm="0">
                                          <p:val>
                                            <p:fltVal val="0"/>
                                          </p:val>
                                        </p:tav>
                                        <p:tav tm="100000">
                                          <p:val>
                                            <p:strVal val="#ppt_h"/>
                                          </p:val>
                                        </p:tav>
                                      </p:tavLst>
                                    </p:anim>
                                    <p:anim calcmode="lin" valueType="num">
                                      <p:cBhvr additive="repl">
                                        <p:cTn id="155" dur="500" fill="hold"/>
                                        <p:tgtEl>
                                          <p:spTgt spid="2015"/>
                                        </p:tgtEl>
                                        <p:attrNameLst>
                                          <p:attrName>r</p:attrName>
                                        </p:attrNameLst>
                                      </p:cBhvr>
                                      <p:tavLst>
                                        <p:tav tm="0">
                                          <p:val>
                                            <p:strVal val="360"/>
                                          </p:val>
                                        </p:tav>
                                        <p:tav tm="100000">
                                          <p:val>
                                            <p:strVal val="0"/>
                                          </p:val>
                                        </p:tav>
                                      </p:tavLst>
                                    </p:anim>
                                    <p:animEffect filter="fade" transition="in">
                                      <p:cBhvr additive="repl">
                                        <p:cTn id="156" dur="500"/>
                                        <p:tgtEl>
                                          <p:spTgt spid="2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p:nvPr>
        </p:nvSpPr>
        <p:spPr>
          <a:xfrm>
            <a:off x="3065400" y="5688000"/>
            <a:ext cx="4237200" cy="595440"/>
          </a:xfrm>
          <a:prstGeom prst="rect">
            <a:avLst/>
          </a:prstGeom>
          <a:noFill/>
          <a:ln w="0">
            <a:noFill/>
          </a:ln>
        </p:spPr>
        <p:txBody>
          <a:bodyPr lIns="0" rIns="0" tIns="0" bIns="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r>
              <a:rPr b="0" lang="en-US" sz="3300" spc="-1" strike="noStrike">
                <a:solidFill>
                  <a:srgbClr val="010101"/>
                </a:solidFill>
                <a:latin typeface="Montserrat Semi Bold"/>
              </a:rPr>
              <a:t>JOHN DOE</a:t>
            </a:r>
            <a:endParaRPr b="0" lang="en-US" sz="3300" spc="-1" strike="noStrike">
              <a:solidFill>
                <a:srgbClr val="000000"/>
              </a:solidFill>
              <a:latin typeface="Open Sans Light"/>
            </a:endParaRPr>
          </a:p>
        </p:txBody>
      </p:sp>
      <p:sp>
        <p:nvSpPr>
          <p:cNvPr id="2018" name="PlaceHolder 2"/>
          <p:cNvSpPr>
            <a:spLocks noGrp="1"/>
          </p:cNvSpPr>
          <p:nvPr>
            <p:ph/>
          </p:nvPr>
        </p:nvSpPr>
        <p:spPr>
          <a:xfrm>
            <a:off x="3974760" y="6618240"/>
            <a:ext cx="4738680" cy="3379680"/>
          </a:xfrm>
          <a:prstGeom prst="rect">
            <a:avLst/>
          </a:prstGeom>
          <a:noFill/>
          <a:ln w="0">
            <a:noFill/>
          </a:ln>
        </p:spPr>
        <p:txBody>
          <a:bodyPr lIns="0" rIns="0" tIns="0" bIns="0" anchor="t">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sp>
        <p:nvSpPr>
          <p:cNvPr id="2019" name="PlaceHolder 3"/>
          <p:cNvSpPr>
            <a:spLocks noGrp="1"/>
          </p:cNvSpPr>
          <p:nvPr>
            <p:ph/>
          </p:nvPr>
        </p:nvSpPr>
        <p:spPr>
          <a:xfrm>
            <a:off x="9865800" y="5748480"/>
            <a:ext cx="2497320" cy="404640"/>
          </a:xfrm>
          <a:prstGeom prst="rect">
            <a:avLst/>
          </a:prstGeom>
          <a:noFill/>
          <a:ln w="0">
            <a:noFill/>
          </a:ln>
        </p:spPr>
        <p:txBody>
          <a:bodyPr lIns="0" rIns="0" tIns="0" bIns="0" anchor="t">
            <a:normAutofit/>
          </a:bodyPr>
          <a:p>
            <a:pPr indent="0">
              <a:lnSpc>
                <a:spcPct val="90000"/>
              </a:lnSpc>
              <a:spcBef>
                <a:spcPts val="2001"/>
              </a:spcBef>
              <a:buNone/>
              <a:tabLst>
                <a:tab algn="l" pos="0"/>
                <a:tab algn="l" pos="1827360"/>
                <a:tab algn="l" pos="3654360"/>
                <a:tab algn="l" pos="5481720"/>
                <a:tab algn="l" pos="7308720"/>
                <a:tab algn="l" pos="9136080"/>
                <a:tab algn="l" pos="10963440"/>
              </a:tabLst>
            </a:pPr>
            <a:r>
              <a:rPr b="1" lang="en-US" sz="2800" spc="-1" strike="noStrike">
                <a:solidFill>
                  <a:srgbClr val="010101"/>
                </a:solidFill>
                <a:latin typeface="Montserrat Semi Bold"/>
              </a:rPr>
              <a:t>SKILLS</a:t>
            </a:r>
            <a:endParaRPr b="0" lang="en-US" sz="2800" spc="-1" strike="noStrike">
              <a:solidFill>
                <a:srgbClr val="000000"/>
              </a:solidFill>
              <a:latin typeface="Open Sans Light"/>
            </a:endParaRPr>
          </a:p>
        </p:txBody>
      </p:sp>
      <p:sp>
        <p:nvSpPr>
          <p:cNvPr id="2020" name="PlaceHolder 4"/>
          <p:cNvSpPr>
            <a:spLocks noGrp="1"/>
          </p:cNvSpPr>
          <p:nvPr>
            <p:ph/>
          </p:nvPr>
        </p:nvSpPr>
        <p:spPr>
          <a:xfrm>
            <a:off x="9815040" y="6626160"/>
            <a:ext cx="2598840" cy="4240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Financial Strategies</a:t>
            </a:r>
            <a:endParaRPr b="0" lang="en-US" sz="1900" spc="-1" strike="noStrike">
              <a:solidFill>
                <a:srgbClr val="000000"/>
              </a:solidFill>
              <a:latin typeface="Open Sans Light"/>
            </a:endParaRPr>
          </a:p>
        </p:txBody>
      </p:sp>
      <p:sp>
        <p:nvSpPr>
          <p:cNvPr id="2021" name="PlaceHolder 5"/>
          <p:cNvSpPr>
            <a:spLocks noGrp="1"/>
          </p:cNvSpPr>
          <p:nvPr>
            <p:ph/>
          </p:nvPr>
        </p:nvSpPr>
        <p:spPr>
          <a:xfrm>
            <a:off x="12658680" y="7387920"/>
            <a:ext cx="851040" cy="3301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89%</a:t>
            </a:r>
            <a:endParaRPr b="0" lang="en-US" sz="1900" spc="-1" strike="noStrike">
              <a:solidFill>
                <a:srgbClr val="000000"/>
              </a:solidFill>
              <a:latin typeface="Open Sans Light"/>
            </a:endParaRPr>
          </a:p>
        </p:txBody>
      </p:sp>
      <p:sp>
        <p:nvSpPr>
          <p:cNvPr id="2022" name="PlaceHolder 6"/>
          <p:cNvSpPr>
            <a:spLocks noGrp="1"/>
          </p:cNvSpPr>
          <p:nvPr>
            <p:ph/>
          </p:nvPr>
        </p:nvSpPr>
        <p:spPr>
          <a:xfrm>
            <a:off x="3935520" y="11620440"/>
            <a:ext cx="2371680" cy="39528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a:t>
            </a:r>
            <a:endParaRPr b="0" lang="en-US" sz="1900" spc="-1" strike="noStrike">
              <a:solidFill>
                <a:srgbClr val="000000"/>
              </a:solidFill>
              <a:latin typeface="Open Sans Light"/>
            </a:endParaRPr>
          </a:p>
        </p:txBody>
      </p:sp>
      <p:sp>
        <p:nvSpPr>
          <p:cNvPr id="2023" name="PlaceHolder 7"/>
          <p:cNvSpPr>
            <a:spLocks noGrp="1"/>
          </p:cNvSpPr>
          <p:nvPr>
            <p:ph/>
          </p:nvPr>
        </p:nvSpPr>
        <p:spPr>
          <a:xfrm>
            <a:off x="3935520" y="12326400"/>
            <a:ext cx="2828880" cy="39564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_IN</a:t>
            </a:r>
            <a:endParaRPr b="0" lang="en-US" sz="1900" spc="-1" strike="noStrike">
              <a:solidFill>
                <a:srgbClr val="000000"/>
              </a:solidFill>
              <a:latin typeface="Open Sans Light"/>
            </a:endParaRPr>
          </a:p>
        </p:txBody>
      </p:sp>
      <p:sp>
        <p:nvSpPr>
          <p:cNvPr id="2024" name="PlaceHolder 8"/>
          <p:cNvSpPr>
            <a:spLocks noGrp="1"/>
          </p:cNvSpPr>
          <p:nvPr>
            <p:ph/>
          </p:nvPr>
        </p:nvSpPr>
        <p:spPr>
          <a:xfrm>
            <a:off x="9815040" y="7961040"/>
            <a:ext cx="2598840" cy="4222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Marketing</a:t>
            </a:r>
            <a:endParaRPr b="0" lang="en-US" sz="1900" spc="-1" strike="noStrike">
              <a:solidFill>
                <a:srgbClr val="000000"/>
              </a:solidFill>
              <a:latin typeface="Open Sans Light"/>
            </a:endParaRPr>
          </a:p>
        </p:txBody>
      </p:sp>
      <p:sp>
        <p:nvSpPr>
          <p:cNvPr id="2025" name="PlaceHolder 9"/>
          <p:cNvSpPr>
            <a:spLocks noGrp="1"/>
          </p:cNvSpPr>
          <p:nvPr>
            <p:ph/>
          </p:nvPr>
        </p:nvSpPr>
        <p:spPr>
          <a:xfrm>
            <a:off x="11772720" y="8721720"/>
            <a:ext cx="850680" cy="3319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60%</a:t>
            </a:r>
            <a:endParaRPr b="0" lang="en-US" sz="1900" spc="-1" strike="noStrike">
              <a:solidFill>
                <a:srgbClr val="000000"/>
              </a:solidFill>
              <a:latin typeface="Open Sans Light"/>
            </a:endParaRPr>
          </a:p>
        </p:txBody>
      </p:sp>
      <p:sp>
        <p:nvSpPr>
          <p:cNvPr id="2026" name="PlaceHolder 10"/>
          <p:cNvSpPr>
            <a:spLocks noGrp="1"/>
          </p:cNvSpPr>
          <p:nvPr>
            <p:ph/>
          </p:nvPr>
        </p:nvSpPr>
        <p:spPr>
          <a:xfrm>
            <a:off x="9815040" y="9275400"/>
            <a:ext cx="2598840" cy="422280"/>
          </a:xfrm>
          <a:prstGeom prst="rect">
            <a:avLst/>
          </a:prstGeom>
          <a:noFill/>
          <a:ln w="0">
            <a:noFill/>
          </a:ln>
        </p:spPr>
        <p:txBody>
          <a:bodyPr lIns="0" rIns="0" tIns="0" bIns="0" anchor="t">
            <a:normAutofit/>
          </a:bodyPr>
          <a:p>
            <a:pPr indent="0">
              <a:lnSpc>
                <a:spcPct val="100000"/>
              </a:lnSpc>
              <a:spcBef>
                <a:spcPts val="374"/>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Strategy Solutions</a:t>
            </a:r>
            <a:endParaRPr b="0" lang="en-US" sz="1900" spc="-1" strike="noStrike">
              <a:solidFill>
                <a:srgbClr val="000000"/>
              </a:solidFill>
              <a:latin typeface="Open Sans Light"/>
            </a:endParaRPr>
          </a:p>
        </p:txBody>
      </p:sp>
      <p:sp>
        <p:nvSpPr>
          <p:cNvPr id="2027" name="PlaceHolder 11"/>
          <p:cNvSpPr>
            <a:spLocks noGrp="1"/>
          </p:cNvSpPr>
          <p:nvPr>
            <p:ph/>
          </p:nvPr>
        </p:nvSpPr>
        <p:spPr>
          <a:xfrm>
            <a:off x="13396680" y="10036080"/>
            <a:ext cx="850680" cy="331920"/>
          </a:xfrm>
          <a:prstGeom prst="rect">
            <a:avLst/>
          </a:prstGeom>
          <a:noFill/>
          <a:ln w="0">
            <a:noFill/>
          </a:ln>
        </p:spPr>
        <p:txBody>
          <a:bodyPr lIns="0" rIns="0" tIns="0" bIns="0" anchor="t">
            <a:normAutofit fontScale="99000"/>
          </a:bodyPr>
          <a:p>
            <a:pPr indent="0" algn="ctr">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95%</a:t>
            </a:r>
            <a:endParaRPr b="0" lang="en-US" sz="1900" spc="-1" strike="noStrike">
              <a:solidFill>
                <a:srgbClr val="000000"/>
              </a:solidFill>
              <a:latin typeface="Open Sans Light"/>
            </a:endParaRPr>
          </a:p>
        </p:txBody>
      </p:sp>
      <p:sp>
        <p:nvSpPr>
          <p:cNvPr id="2028" name="PlaceHolder 12"/>
          <p:cNvSpPr>
            <a:spLocks noGrp="1"/>
          </p:cNvSpPr>
          <p:nvPr>
            <p:ph/>
          </p:nvPr>
        </p:nvSpPr>
        <p:spPr>
          <a:xfrm>
            <a:off x="10527840" y="11620440"/>
            <a:ext cx="2373480" cy="39528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IN</a:t>
            </a:r>
            <a:endParaRPr b="0" lang="en-US" sz="1900" spc="-1" strike="noStrike">
              <a:solidFill>
                <a:srgbClr val="000000"/>
              </a:solidFill>
              <a:latin typeface="Open Sans Light"/>
            </a:endParaRPr>
          </a:p>
        </p:txBody>
      </p:sp>
      <p:sp>
        <p:nvSpPr>
          <p:cNvPr id="2029" name="PlaceHolder 13"/>
          <p:cNvSpPr>
            <a:spLocks noGrp="1"/>
          </p:cNvSpPr>
          <p:nvPr>
            <p:ph/>
          </p:nvPr>
        </p:nvSpPr>
        <p:spPr>
          <a:xfrm>
            <a:off x="10527840" y="12326400"/>
            <a:ext cx="2830680" cy="395640"/>
          </a:xfrm>
          <a:prstGeom prst="rect">
            <a:avLst/>
          </a:prstGeom>
          <a:noFill/>
          <a:ln w="0">
            <a:noFill/>
          </a:ln>
        </p:spPr>
        <p:txBody>
          <a:bodyPr lIns="0" rIns="0" tIns="0" bIns="0" anchor="t">
            <a:normAutofit/>
          </a:bodyPr>
          <a:p>
            <a:pPr indent="0">
              <a:lnSpc>
                <a:spcPts val="2625"/>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000000"/>
                </a:solidFill>
                <a:latin typeface="Open Sans Light"/>
              </a:rPr>
              <a:t>1studioCOM</a:t>
            </a:r>
            <a:endParaRPr b="0" lang="en-US" sz="1900" spc="-1" strike="noStrike">
              <a:solidFill>
                <a:srgbClr val="000000"/>
              </a:solidFill>
              <a:latin typeface="Open Sans Light"/>
            </a:endParaRPr>
          </a:p>
        </p:txBody>
      </p:sp>
      <p:sp>
        <p:nvSpPr>
          <p:cNvPr id="203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MEET OUR BOSS</a:t>
            </a:r>
            <a:endParaRPr b="0" lang="en-US" sz="6600" spc="-1" strike="noStrike">
              <a:solidFill>
                <a:srgbClr val="000000"/>
              </a:solidFill>
              <a:latin typeface="Open Sans Light"/>
            </a:endParaRPr>
          </a:p>
        </p:txBody>
      </p:sp>
      <p:sp>
        <p:nvSpPr>
          <p:cNvPr id="2031" name="Rectangle 2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032" name="Group 38" descr=""/>
          <p:cNvPicPr/>
          <p:nvPr/>
        </p:nvPicPr>
        <p:blipFill>
          <a:blip r:embed="rId1"/>
          <a:stretch/>
        </p:blipFill>
        <p:spPr>
          <a:xfrm>
            <a:off x="11271240" y="2651040"/>
            <a:ext cx="1828800" cy="111240"/>
          </a:xfrm>
          <a:prstGeom prst="rect">
            <a:avLst/>
          </a:prstGeom>
          <a:ln w="0">
            <a:noFill/>
          </a:ln>
        </p:spPr>
      </p:pic>
      <p:pic>
        <p:nvPicPr>
          <p:cNvPr id="2033" name="" descr=""/>
          <p:cNvPicPr/>
          <p:nvPr/>
        </p:nvPicPr>
        <p:blipFill>
          <a:blip r:embed="rId2"/>
          <a:stretch/>
        </p:blipFill>
        <p:spPr>
          <a:xfrm>
            <a:off x="15224040" y="5617800"/>
            <a:ext cx="6107040" cy="6111720"/>
          </a:xfrm>
          <a:prstGeom prst="rect">
            <a:avLst/>
          </a:prstGeom>
          <a:ln w="38160">
            <a:solidFill>
              <a:srgbClr val="dddddd"/>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49">
                                  <p:stCondLst>
                                    <p:cond delay="0"/>
                                  </p:stCondLst>
                                  <p:childTnLst>
                                    <p:set>
                                      <p:cBhvr>
                                        <p:cTn id="162" dur="1" fill="hold">
                                          <p:stCondLst>
                                            <p:cond delay="0"/>
                                          </p:stCondLst>
                                        </p:cTn>
                                        <p:tgtEl>
                                          <p:spTgt spid="2032"/>
                                        </p:tgtEl>
                                        <p:attrNameLst>
                                          <p:attrName>style.visibility</p:attrName>
                                        </p:attrNameLst>
                                      </p:cBhvr>
                                      <p:to>
                                        <p:strVal val="visible"/>
                                      </p:to>
                                    </p:set>
                                    <p:anim calcmode="lin" valueType="num">
                                      <p:cBhvr additive="repl">
                                        <p:cTn id="163" dur="500" fill="hold"/>
                                        <p:tgtEl>
                                          <p:spTgt spid="2032"/>
                                        </p:tgtEl>
                                        <p:attrNameLst>
                                          <p:attrName>ppt_w</p:attrName>
                                        </p:attrNameLst>
                                      </p:cBhvr>
                                      <p:tavLst>
                                        <p:tav tm="0">
                                          <p:val>
                                            <p:fltVal val="0"/>
                                          </p:val>
                                        </p:tav>
                                        <p:tav tm="100000">
                                          <p:val>
                                            <p:strVal val="#ppt_w"/>
                                          </p:val>
                                        </p:tav>
                                      </p:tavLst>
                                    </p:anim>
                                    <p:anim calcmode="lin" valueType="num">
                                      <p:cBhvr additive="repl">
                                        <p:cTn id="164" dur="500" fill="hold"/>
                                        <p:tgtEl>
                                          <p:spTgt spid="2032"/>
                                        </p:tgtEl>
                                        <p:attrNameLst>
                                          <p:attrName>ppt_h</p:attrName>
                                        </p:attrNameLst>
                                      </p:cBhvr>
                                      <p:tavLst>
                                        <p:tav tm="0">
                                          <p:val>
                                            <p:fltVal val="0"/>
                                          </p:val>
                                        </p:tav>
                                        <p:tav tm="100000">
                                          <p:val>
                                            <p:strVal val="#ppt_h"/>
                                          </p:val>
                                        </p:tav>
                                      </p:tavLst>
                                    </p:anim>
                                    <p:anim calcmode="lin" valueType="num">
                                      <p:cBhvr additive="repl">
                                        <p:cTn id="165" dur="500" fill="hold"/>
                                        <p:tgtEl>
                                          <p:spTgt spid="2032"/>
                                        </p:tgtEl>
                                        <p:attrNameLst>
                                          <p:attrName>r</p:attrName>
                                        </p:attrNameLst>
                                      </p:cBhvr>
                                      <p:tavLst>
                                        <p:tav tm="0">
                                          <p:val>
                                            <p:strVal val="360"/>
                                          </p:val>
                                        </p:tav>
                                        <p:tav tm="100000">
                                          <p:val>
                                            <p:strVal val="0"/>
                                          </p:val>
                                        </p:tav>
                                      </p:tavLst>
                                    </p:anim>
                                    <p:animEffect filter="fade" transition="in">
                                      <p:cBhvr additive="repl">
                                        <p:cTn id="166" dur="500"/>
                                        <p:tgtEl>
                                          <p:spTgt spid="2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6"/>
          <p:cNvSpPr/>
          <p:nvPr/>
        </p:nvSpPr>
        <p:spPr>
          <a:xfrm>
            <a:off x="12160080" y="1440"/>
            <a:ext cx="12217680" cy="682632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35" name="Rectangle 7"/>
          <p:cNvSpPr/>
          <p:nvPr/>
        </p:nvSpPr>
        <p:spPr>
          <a:xfrm>
            <a:off x="0" y="6816600"/>
            <a:ext cx="12192120" cy="6897960"/>
          </a:xfrm>
          <a:prstGeom prst="rect">
            <a:avLst/>
          </a:prstGeom>
          <a:solidFill>
            <a:srgbClr val="e5e5e5"/>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36" name="Content Placeholder 2"/>
          <p:cNvSpPr/>
          <p:nvPr/>
        </p:nvSpPr>
        <p:spPr>
          <a:xfrm>
            <a:off x="6242040" y="3243240"/>
            <a:ext cx="4137120" cy="103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37" name="Group 13"/>
          <p:cNvGrpSpPr/>
          <p:nvPr/>
        </p:nvGrpSpPr>
        <p:grpSpPr>
          <a:xfrm>
            <a:off x="6245280" y="4635360"/>
            <a:ext cx="2054160" cy="628920"/>
            <a:chOff x="6245280" y="4635360"/>
            <a:chExt cx="2054160" cy="628920"/>
          </a:xfrm>
        </p:grpSpPr>
        <p:sp>
          <p:nvSpPr>
            <p:cNvPr id="2038" name="Freeform 78"/>
            <p:cNvSpPr/>
            <p:nvPr/>
          </p:nvSpPr>
          <p:spPr>
            <a:xfrm>
              <a:off x="7671600" y="4635360"/>
              <a:ext cx="627840" cy="61812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39" name="Freeform 79"/>
            <p:cNvSpPr/>
            <p:nvPr/>
          </p:nvSpPr>
          <p:spPr>
            <a:xfrm>
              <a:off x="6951240" y="4646160"/>
              <a:ext cx="627840" cy="61812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0" name="Freeform 86"/>
            <p:cNvSpPr/>
            <p:nvPr/>
          </p:nvSpPr>
          <p:spPr>
            <a:xfrm>
              <a:off x="6245280" y="4646160"/>
              <a:ext cx="627840" cy="61812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41" name="Content Placeholder 2"/>
          <p:cNvSpPr/>
          <p:nvPr/>
        </p:nvSpPr>
        <p:spPr>
          <a:xfrm>
            <a:off x="6242040" y="9929880"/>
            <a:ext cx="4137120" cy="103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42" name="Group 47"/>
          <p:cNvGrpSpPr/>
          <p:nvPr/>
        </p:nvGrpSpPr>
        <p:grpSpPr>
          <a:xfrm>
            <a:off x="6245280" y="11322000"/>
            <a:ext cx="2054160" cy="628560"/>
            <a:chOff x="6245280" y="11322000"/>
            <a:chExt cx="2054160" cy="628560"/>
          </a:xfrm>
        </p:grpSpPr>
        <p:sp>
          <p:nvSpPr>
            <p:cNvPr id="2043" name="Freeform 78"/>
            <p:cNvSpPr/>
            <p:nvPr/>
          </p:nvSpPr>
          <p:spPr>
            <a:xfrm>
              <a:off x="7671600" y="11322000"/>
              <a:ext cx="627840" cy="61776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4" name="Freeform 79"/>
            <p:cNvSpPr/>
            <p:nvPr/>
          </p:nvSpPr>
          <p:spPr>
            <a:xfrm>
              <a:off x="6951240" y="11332800"/>
              <a:ext cx="627840" cy="61776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5" name="Freeform 86"/>
            <p:cNvSpPr/>
            <p:nvPr/>
          </p:nvSpPr>
          <p:spPr>
            <a:xfrm>
              <a:off x="6245280" y="11332800"/>
              <a:ext cx="627840" cy="61776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46" name="Content Placeholder 2"/>
          <p:cNvSpPr/>
          <p:nvPr/>
        </p:nvSpPr>
        <p:spPr>
          <a:xfrm>
            <a:off x="13555800" y="3243240"/>
            <a:ext cx="4363920" cy="1031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47" name="Group 52"/>
          <p:cNvGrpSpPr/>
          <p:nvPr/>
        </p:nvGrpSpPr>
        <p:grpSpPr>
          <a:xfrm>
            <a:off x="15860880" y="4635360"/>
            <a:ext cx="2054160" cy="628920"/>
            <a:chOff x="15860880" y="4635360"/>
            <a:chExt cx="2054160" cy="628920"/>
          </a:xfrm>
        </p:grpSpPr>
        <p:sp>
          <p:nvSpPr>
            <p:cNvPr id="2048" name="Freeform 78"/>
            <p:cNvSpPr/>
            <p:nvPr/>
          </p:nvSpPr>
          <p:spPr>
            <a:xfrm>
              <a:off x="17287200" y="4635360"/>
              <a:ext cx="627840" cy="61812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49" name="Freeform 79"/>
            <p:cNvSpPr/>
            <p:nvPr/>
          </p:nvSpPr>
          <p:spPr>
            <a:xfrm>
              <a:off x="16566840" y="4646160"/>
              <a:ext cx="627840" cy="61812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0" name="Freeform 86"/>
            <p:cNvSpPr/>
            <p:nvPr/>
          </p:nvSpPr>
          <p:spPr>
            <a:xfrm>
              <a:off x="15860880" y="4646160"/>
              <a:ext cx="627840" cy="61812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2051" name="Content Placeholder 2"/>
          <p:cNvSpPr/>
          <p:nvPr/>
        </p:nvSpPr>
        <p:spPr>
          <a:xfrm>
            <a:off x="13555800" y="9929880"/>
            <a:ext cx="4363920" cy="1031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tserrat Semi Bold"/>
                <a:ea typeface="Lato Regular"/>
              </a:rPr>
              <a:t>ANGEL BINDER</a:t>
            </a:r>
            <a:endParaRPr b="0" lang="en-US" sz="2800" spc="-1" strike="noStrike">
              <a:solidFill>
                <a:srgbClr val="000000"/>
              </a:solidFill>
              <a:latin typeface="Open Sans Ligh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Light"/>
                <a:ea typeface="Lato Regular"/>
              </a:rPr>
              <a:t>MARKETING</a:t>
            </a:r>
            <a:endParaRPr b="0" lang="en-US" sz="2400" spc="-1" strike="noStrike">
              <a:solidFill>
                <a:srgbClr val="000000"/>
              </a:solidFill>
              <a:latin typeface="Open Sans Light"/>
            </a:endParaRPr>
          </a:p>
        </p:txBody>
      </p:sp>
      <p:grpSp>
        <p:nvGrpSpPr>
          <p:cNvPr id="2052" name="Group 57"/>
          <p:cNvGrpSpPr/>
          <p:nvPr/>
        </p:nvGrpSpPr>
        <p:grpSpPr>
          <a:xfrm>
            <a:off x="15860880" y="11322000"/>
            <a:ext cx="2054160" cy="628560"/>
            <a:chOff x="15860880" y="11322000"/>
            <a:chExt cx="2054160" cy="628560"/>
          </a:xfrm>
        </p:grpSpPr>
        <p:sp>
          <p:nvSpPr>
            <p:cNvPr id="2053" name="Freeform 78"/>
            <p:cNvSpPr/>
            <p:nvPr/>
          </p:nvSpPr>
          <p:spPr>
            <a:xfrm>
              <a:off x="17287200" y="11322000"/>
              <a:ext cx="627840" cy="617760"/>
            </a:xfrm>
            <a:custGeom>
              <a:avLst/>
              <a:gdLst/>
              <a:ahLst/>
              <a:rect l="l" t="t" r="r" b="b"/>
              <a:pathLst>
                <a:path w="479" h="471">
                  <a:moveTo>
                    <a:pt x="212" y="169"/>
                  </a:moveTo>
                  <a:lnTo>
                    <a:pt x="212" y="169"/>
                  </a:lnTo>
                  <a:cubicBezTo>
                    <a:pt x="212" y="142"/>
                    <a:pt x="203" y="142"/>
                    <a:pt x="185" y="142"/>
                  </a:cubicBezTo>
                  <a:cubicBezTo>
                    <a:pt x="185" y="142"/>
                    <a:pt x="185" y="142"/>
                    <a:pt x="177" y="142"/>
                  </a:cubicBezTo>
                  <a:cubicBezTo>
                    <a:pt x="177" y="142"/>
                    <a:pt x="168" y="151"/>
                    <a:pt x="168" y="160"/>
                  </a:cubicBezTo>
                  <a:cubicBezTo>
                    <a:pt x="159" y="160"/>
                    <a:pt x="159" y="169"/>
                    <a:pt x="168" y="187"/>
                  </a:cubicBezTo>
                  <a:cubicBezTo>
                    <a:pt x="168" y="195"/>
                    <a:pt x="185" y="213"/>
                    <a:pt x="194" y="213"/>
                  </a:cubicBezTo>
                  <a:cubicBezTo>
                    <a:pt x="194" y="213"/>
                    <a:pt x="194" y="213"/>
                    <a:pt x="203" y="213"/>
                  </a:cubicBezTo>
                  <a:cubicBezTo>
                    <a:pt x="212" y="204"/>
                    <a:pt x="221" y="187"/>
                    <a:pt x="212" y="169"/>
                  </a:cubicBezTo>
                  <a:close/>
                  <a:moveTo>
                    <a:pt x="238" y="0"/>
                  </a:moveTo>
                  <a:lnTo>
                    <a:pt x="238" y="0"/>
                  </a:lnTo>
                  <a:cubicBezTo>
                    <a:pt x="106" y="0"/>
                    <a:pt x="0" y="107"/>
                    <a:pt x="0" y="231"/>
                  </a:cubicBezTo>
                  <a:cubicBezTo>
                    <a:pt x="0" y="363"/>
                    <a:pt x="106" y="470"/>
                    <a:pt x="238" y="470"/>
                  </a:cubicBezTo>
                  <a:cubicBezTo>
                    <a:pt x="372" y="470"/>
                    <a:pt x="478" y="363"/>
                    <a:pt x="478" y="231"/>
                  </a:cubicBezTo>
                  <a:cubicBezTo>
                    <a:pt x="478" y="107"/>
                    <a:pt x="372" y="0"/>
                    <a:pt x="238" y="0"/>
                  </a:cubicBezTo>
                  <a:close/>
                  <a:moveTo>
                    <a:pt x="221" y="338"/>
                  </a:moveTo>
                  <a:lnTo>
                    <a:pt x="221" y="338"/>
                  </a:lnTo>
                  <a:cubicBezTo>
                    <a:pt x="212" y="346"/>
                    <a:pt x="194" y="346"/>
                    <a:pt x="185" y="346"/>
                  </a:cubicBezTo>
                  <a:lnTo>
                    <a:pt x="185" y="346"/>
                  </a:lnTo>
                  <a:lnTo>
                    <a:pt x="185" y="346"/>
                  </a:lnTo>
                  <a:cubicBezTo>
                    <a:pt x="177" y="346"/>
                    <a:pt x="124" y="346"/>
                    <a:pt x="124" y="301"/>
                  </a:cubicBezTo>
                  <a:cubicBezTo>
                    <a:pt x="124" y="257"/>
                    <a:pt x="177" y="248"/>
                    <a:pt x="194" y="248"/>
                  </a:cubicBezTo>
                  <a:lnTo>
                    <a:pt x="194" y="248"/>
                  </a:lnTo>
                  <a:cubicBezTo>
                    <a:pt x="185" y="240"/>
                    <a:pt x="185" y="231"/>
                    <a:pt x="185" y="231"/>
                  </a:cubicBezTo>
                  <a:lnTo>
                    <a:pt x="185" y="231"/>
                  </a:lnTo>
                  <a:cubicBezTo>
                    <a:pt x="177" y="231"/>
                    <a:pt x="168" y="222"/>
                    <a:pt x="159" y="222"/>
                  </a:cubicBezTo>
                  <a:cubicBezTo>
                    <a:pt x="141" y="213"/>
                    <a:pt x="141" y="195"/>
                    <a:pt x="141" y="178"/>
                  </a:cubicBezTo>
                  <a:cubicBezTo>
                    <a:pt x="141" y="125"/>
                    <a:pt x="194" y="125"/>
                    <a:pt x="194" y="125"/>
                  </a:cubicBezTo>
                  <a:cubicBezTo>
                    <a:pt x="256" y="125"/>
                    <a:pt x="256" y="125"/>
                    <a:pt x="256" y="125"/>
                  </a:cubicBezTo>
                  <a:lnTo>
                    <a:pt x="256" y="125"/>
                  </a:lnTo>
                  <a:cubicBezTo>
                    <a:pt x="256" y="134"/>
                    <a:pt x="238" y="134"/>
                    <a:pt x="238" y="134"/>
                  </a:cubicBezTo>
                  <a:cubicBezTo>
                    <a:pt x="230" y="134"/>
                    <a:pt x="230" y="134"/>
                    <a:pt x="221" y="134"/>
                  </a:cubicBezTo>
                  <a:cubicBezTo>
                    <a:pt x="238" y="142"/>
                    <a:pt x="238" y="160"/>
                    <a:pt x="238" y="178"/>
                  </a:cubicBezTo>
                  <a:cubicBezTo>
                    <a:pt x="238" y="195"/>
                    <a:pt x="230" y="204"/>
                    <a:pt x="230" y="213"/>
                  </a:cubicBezTo>
                  <a:cubicBezTo>
                    <a:pt x="221" y="222"/>
                    <a:pt x="212" y="222"/>
                    <a:pt x="212" y="231"/>
                  </a:cubicBezTo>
                  <a:cubicBezTo>
                    <a:pt x="212" y="231"/>
                    <a:pt x="221" y="240"/>
                    <a:pt x="230" y="240"/>
                  </a:cubicBezTo>
                  <a:cubicBezTo>
                    <a:pt x="238" y="248"/>
                    <a:pt x="256" y="266"/>
                    <a:pt x="256" y="284"/>
                  </a:cubicBezTo>
                  <a:cubicBezTo>
                    <a:pt x="256" y="310"/>
                    <a:pt x="247" y="328"/>
                    <a:pt x="221" y="338"/>
                  </a:cubicBezTo>
                  <a:close/>
                  <a:moveTo>
                    <a:pt x="354" y="231"/>
                  </a:moveTo>
                  <a:lnTo>
                    <a:pt x="354" y="231"/>
                  </a:lnTo>
                  <a:cubicBezTo>
                    <a:pt x="310" y="231"/>
                    <a:pt x="310" y="231"/>
                    <a:pt x="310" y="231"/>
                  </a:cubicBezTo>
                  <a:cubicBezTo>
                    <a:pt x="310" y="275"/>
                    <a:pt x="310" y="275"/>
                    <a:pt x="310" y="275"/>
                  </a:cubicBezTo>
                  <a:cubicBezTo>
                    <a:pt x="291" y="275"/>
                    <a:pt x="291" y="275"/>
                    <a:pt x="291" y="275"/>
                  </a:cubicBezTo>
                  <a:cubicBezTo>
                    <a:pt x="291" y="231"/>
                    <a:pt x="291" y="231"/>
                    <a:pt x="291" y="231"/>
                  </a:cubicBezTo>
                  <a:cubicBezTo>
                    <a:pt x="256" y="231"/>
                    <a:pt x="256" y="231"/>
                    <a:pt x="256" y="231"/>
                  </a:cubicBezTo>
                  <a:cubicBezTo>
                    <a:pt x="256" y="213"/>
                    <a:pt x="256" y="213"/>
                    <a:pt x="256" y="213"/>
                  </a:cubicBezTo>
                  <a:cubicBezTo>
                    <a:pt x="291" y="213"/>
                    <a:pt x="291" y="213"/>
                    <a:pt x="291" y="213"/>
                  </a:cubicBezTo>
                  <a:cubicBezTo>
                    <a:pt x="291" y="169"/>
                    <a:pt x="291" y="169"/>
                    <a:pt x="291" y="169"/>
                  </a:cubicBezTo>
                  <a:cubicBezTo>
                    <a:pt x="310" y="169"/>
                    <a:pt x="310" y="169"/>
                    <a:pt x="310" y="169"/>
                  </a:cubicBezTo>
                  <a:cubicBezTo>
                    <a:pt x="310" y="213"/>
                    <a:pt x="310" y="213"/>
                    <a:pt x="310" y="213"/>
                  </a:cubicBezTo>
                  <a:cubicBezTo>
                    <a:pt x="354" y="213"/>
                    <a:pt x="354" y="213"/>
                    <a:pt x="354" y="213"/>
                  </a:cubicBezTo>
                  <a:lnTo>
                    <a:pt x="354" y="231"/>
                  </a:lnTo>
                  <a:close/>
                  <a:moveTo>
                    <a:pt x="194" y="266"/>
                  </a:moveTo>
                  <a:lnTo>
                    <a:pt x="194" y="266"/>
                  </a:lnTo>
                  <a:lnTo>
                    <a:pt x="194" y="266"/>
                  </a:lnTo>
                  <a:cubicBezTo>
                    <a:pt x="177" y="266"/>
                    <a:pt x="168" y="266"/>
                    <a:pt x="159" y="275"/>
                  </a:cubicBezTo>
                  <a:cubicBezTo>
                    <a:pt x="159" y="284"/>
                    <a:pt x="150" y="293"/>
                    <a:pt x="150" y="301"/>
                  </a:cubicBezTo>
                  <a:cubicBezTo>
                    <a:pt x="150" y="319"/>
                    <a:pt x="168" y="328"/>
                    <a:pt x="194" y="328"/>
                  </a:cubicBezTo>
                  <a:cubicBezTo>
                    <a:pt x="221" y="319"/>
                    <a:pt x="230" y="310"/>
                    <a:pt x="230" y="293"/>
                  </a:cubicBezTo>
                  <a:cubicBezTo>
                    <a:pt x="230" y="275"/>
                    <a:pt x="212" y="266"/>
                    <a:pt x="194" y="266"/>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4" name="Freeform 79"/>
            <p:cNvSpPr/>
            <p:nvPr/>
          </p:nvSpPr>
          <p:spPr>
            <a:xfrm>
              <a:off x="16566840" y="11332800"/>
              <a:ext cx="627840" cy="617760"/>
            </a:xfrm>
            <a:custGeom>
              <a:avLst/>
              <a:gdLst/>
              <a:ahLst/>
              <a:rect l="l" t="t" r="r" b="b"/>
              <a:pathLst>
                <a:path w="479" h="471">
                  <a:moveTo>
                    <a:pt x="240" y="0"/>
                  </a:moveTo>
                  <a:lnTo>
                    <a:pt x="240" y="0"/>
                  </a:lnTo>
                  <a:cubicBezTo>
                    <a:pt x="106" y="0"/>
                    <a:pt x="0" y="107"/>
                    <a:pt x="0" y="231"/>
                  </a:cubicBezTo>
                  <a:cubicBezTo>
                    <a:pt x="0" y="363"/>
                    <a:pt x="106" y="470"/>
                    <a:pt x="240" y="470"/>
                  </a:cubicBezTo>
                  <a:cubicBezTo>
                    <a:pt x="372" y="470"/>
                    <a:pt x="478" y="363"/>
                    <a:pt x="478" y="231"/>
                  </a:cubicBezTo>
                  <a:cubicBezTo>
                    <a:pt x="478" y="107"/>
                    <a:pt x="372" y="0"/>
                    <a:pt x="240" y="0"/>
                  </a:cubicBezTo>
                  <a:close/>
                  <a:moveTo>
                    <a:pt x="293" y="160"/>
                  </a:moveTo>
                  <a:lnTo>
                    <a:pt x="293" y="160"/>
                  </a:lnTo>
                  <a:cubicBezTo>
                    <a:pt x="257" y="160"/>
                    <a:pt x="257" y="160"/>
                    <a:pt x="257" y="160"/>
                  </a:cubicBezTo>
                  <a:cubicBezTo>
                    <a:pt x="257" y="160"/>
                    <a:pt x="249" y="169"/>
                    <a:pt x="249" y="178"/>
                  </a:cubicBezTo>
                  <a:cubicBezTo>
                    <a:pt x="249" y="195"/>
                    <a:pt x="249" y="195"/>
                    <a:pt x="249" y="195"/>
                  </a:cubicBezTo>
                  <a:cubicBezTo>
                    <a:pt x="293" y="195"/>
                    <a:pt x="293" y="195"/>
                    <a:pt x="293" y="195"/>
                  </a:cubicBezTo>
                  <a:cubicBezTo>
                    <a:pt x="293" y="240"/>
                    <a:pt x="293" y="240"/>
                    <a:pt x="293" y="240"/>
                  </a:cubicBezTo>
                  <a:cubicBezTo>
                    <a:pt x="249" y="240"/>
                    <a:pt x="249" y="240"/>
                    <a:pt x="249" y="240"/>
                  </a:cubicBezTo>
                  <a:cubicBezTo>
                    <a:pt x="249" y="346"/>
                    <a:pt x="249" y="346"/>
                    <a:pt x="249" y="346"/>
                  </a:cubicBezTo>
                  <a:cubicBezTo>
                    <a:pt x="213" y="346"/>
                    <a:pt x="213" y="346"/>
                    <a:pt x="213" y="346"/>
                  </a:cubicBezTo>
                  <a:cubicBezTo>
                    <a:pt x="213" y="240"/>
                    <a:pt x="213" y="240"/>
                    <a:pt x="213" y="240"/>
                  </a:cubicBezTo>
                  <a:cubicBezTo>
                    <a:pt x="169" y="240"/>
                    <a:pt x="169" y="240"/>
                    <a:pt x="169" y="240"/>
                  </a:cubicBezTo>
                  <a:cubicBezTo>
                    <a:pt x="169" y="195"/>
                    <a:pt x="169" y="195"/>
                    <a:pt x="169" y="195"/>
                  </a:cubicBezTo>
                  <a:cubicBezTo>
                    <a:pt x="213" y="195"/>
                    <a:pt x="213" y="195"/>
                    <a:pt x="213" y="195"/>
                  </a:cubicBezTo>
                  <a:cubicBezTo>
                    <a:pt x="213" y="178"/>
                    <a:pt x="213" y="178"/>
                    <a:pt x="213" y="178"/>
                  </a:cubicBezTo>
                  <a:cubicBezTo>
                    <a:pt x="213" y="151"/>
                    <a:pt x="230" y="125"/>
                    <a:pt x="257" y="125"/>
                  </a:cubicBezTo>
                  <a:cubicBezTo>
                    <a:pt x="293" y="125"/>
                    <a:pt x="293" y="125"/>
                    <a:pt x="293" y="125"/>
                  </a:cubicBezTo>
                  <a:lnTo>
                    <a:pt x="293" y="16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sp>
          <p:nvSpPr>
            <p:cNvPr id="2055" name="Freeform 86"/>
            <p:cNvSpPr/>
            <p:nvPr/>
          </p:nvSpPr>
          <p:spPr>
            <a:xfrm>
              <a:off x="15860880" y="11332800"/>
              <a:ext cx="627840" cy="617760"/>
            </a:xfrm>
            <a:custGeom>
              <a:avLst/>
              <a:gdLst/>
              <a:ahLst/>
              <a:rect l="l" t="t" r="r" b="b"/>
              <a:pathLst>
                <a:path w="480" h="471">
                  <a:moveTo>
                    <a:pt x="239" y="0"/>
                  </a:moveTo>
                  <a:lnTo>
                    <a:pt x="239" y="0"/>
                  </a:lnTo>
                  <a:cubicBezTo>
                    <a:pt x="107" y="0"/>
                    <a:pt x="0" y="107"/>
                    <a:pt x="0" y="231"/>
                  </a:cubicBezTo>
                  <a:cubicBezTo>
                    <a:pt x="0" y="363"/>
                    <a:pt x="107" y="470"/>
                    <a:pt x="239" y="470"/>
                  </a:cubicBezTo>
                  <a:cubicBezTo>
                    <a:pt x="372" y="470"/>
                    <a:pt x="479" y="363"/>
                    <a:pt x="479" y="231"/>
                  </a:cubicBezTo>
                  <a:cubicBezTo>
                    <a:pt x="479" y="107"/>
                    <a:pt x="372" y="0"/>
                    <a:pt x="239" y="0"/>
                  </a:cubicBezTo>
                  <a:close/>
                  <a:moveTo>
                    <a:pt x="337" y="195"/>
                  </a:moveTo>
                  <a:lnTo>
                    <a:pt x="337" y="195"/>
                  </a:lnTo>
                  <a:lnTo>
                    <a:pt x="337" y="195"/>
                  </a:lnTo>
                  <a:cubicBezTo>
                    <a:pt x="337" y="257"/>
                    <a:pt x="292" y="328"/>
                    <a:pt x="204" y="328"/>
                  </a:cubicBezTo>
                  <a:cubicBezTo>
                    <a:pt x="178" y="328"/>
                    <a:pt x="151" y="319"/>
                    <a:pt x="133" y="310"/>
                  </a:cubicBezTo>
                  <a:lnTo>
                    <a:pt x="142" y="310"/>
                  </a:lnTo>
                  <a:cubicBezTo>
                    <a:pt x="160" y="310"/>
                    <a:pt x="186" y="301"/>
                    <a:pt x="204" y="293"/>
                  </a:cubicBezTo>
                  <a:cubicBezTo>
                    <a:pt x="178" y="293"/>
                    <a:pt x="160" y="275"/>
                    <a:pt x="160" y="257"/>
                  </a:cubicBezTo>
                  <a:cubicBezTo>
                    <a:pt x="160" y="257"/>
                    <a:pt x="160" y="257"/>
                    <a:pt x="169" y="257"/>
                  </a:cubicBezTo>
                  <a:lnTo>
                    <a:pt x="178" y="257"/>
                  </a:lnTo>
                  <a:cubicBezTo>
                    <a:pt x="160" y="248"/>
                    <a:pt x="142" y="231"/>
                    <a:pt x="142" y="213"/>
                  </a:cubicBezTo>
                  <a:lnTo>
                    <a:pt x="142" y="213"/>
                  </a:lnTo>
                  <a:cubicBezTo>
                    <a:pt x="142" y="213"/>
                    <a:pt x="151" y="213"/>
                    <a:pt x="160" y="213"/>
                  </a:cubicBezTo>
                  <a:cubicBezTo>
                    <a:pt x="151" y="204"/>
                    <a:pt x="142" y="195"/>
                    <a:pt x="142" y="178"/>
                  </a:cubicBezTo>
                  <a:cubicBezTo>
                    <a:pt x="142" y="169"/>
                    <a:pt x="142" y="160"/>
                    <a:pt x="151" y="151"/>
                  </a:cubicBezTo>
                  <a:cubicBezTo>
                    <a:pt x="169" y="178"/>
                    <a:pt x="204" y="204"/>
                    <a:pt x="239" y="204"/>
                  </a:cubicBezTo>
                  <a:cubicBezTo>
                    <a:pt x="239" y="195"/>
                    <a:pt x="239" y="195"/>
                    <a:pt x="239" y="195"/>
                  </a:cubicBezTo>
                  <a:cubicBezTo>
                    <a:pt x="239" y="169"/>
                    <a:pt x="266" y="142"/>
                    <a:pt x="292" y="142"/>
                  </a:cubicBezTo>
                  <a:cubicBezTo>
                    <a:pt x="301" y="142"/>
                    <a:pt x="319" y="151"/>
                    <a:pt x="319" y="160"/>
                  </a:cubicBezTo>
                  <a:cubicBezTo>
                    <a:pt x="337" y="160"/>
                    <a:pt x="346" y="151"/>
                    <a:pt x="355" y="151"/>
                  </a:cubicBezTo>
                  <a:cubicBezTo>
                    <a:pt x="346" y="160"/>
                    <a:pt x="346" y="169"/>
                    <a:pt x="337" y="178"/>
                  </a:cubicBezTo>
                  <a:cubicBezTo>
                    <a:pt x="346" y="178"/>
                    <a:pt x="355" y="169"/>
                    <a:pt x="364" y="169"/>
                  </a:cubicBezTo>
                  <a:cubicBezTo>
                    <a:pt x="355" y="178"/>
                    <a:pt x="346" y="187"/>
                    <a:pt x="337" y="195"/>
                  </a:cubicBez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pic>
        <p:nvPicPr>
          <p:cNvPr id="2056" name="" descr=""/>
          <p:cNvPicPr/>
          <p:nvPr/>
        </p:nvPicPr>
        <p:blipFill>
          <a:blip r:embed="rId1"/>
          <a:stretch/>
        </p:blipFill>
        <p:spPr>
          <a:xfrm>
            <a:off x="1196640" y="1149480"/>
            <a:ext cx="4414680" cy="4114800"/>
          </a:xfrm>
          <a:prstGeom prst="rect">
            <a:avLst/>
          </a:prstGeom>
          <a:ln w="0">
            <a:noFill/>
          </a:ln>
        </p:spPr>
      </p:pic>
      <p:pic>
        <p:nvPicPr>
          <p:cNvPr id="2057" name="" descr=""/>
          <p:cNvPicPr/>
          <p:nvPr/>
        </p:nvPicPr>
        <p:blipFill>
          <a:blip r:embed="rId2"/>
          <a:stretch/>
        </p:blipFill>
        <p:spPr>
          <a:xfrm>
            <a:off x="18614880" y="1130400"/>
            <a:ext cx="4415040" cy="4114800"/>
          </a:xfrm>
          <a:prstGeom prst="rect">
            <a:avLst/>
          </a:prstGeom>
          <a:ln w="0">
            <a:noFill/>
          </a:ln>
        </p:spPr>
      </p:pic>
      <p:pic>
        <p:nvPicPr>
          <p:cNvPr id="2058" name="" descr=""/>
          <p:cNvPicPr/>
          <p:nvPr/>
        </p:nvPicPr>
        <p:blipFill>
          <a:blip r:embed="rId3"/>
          <a:stretch/>
        </p:blipFill>
        <p:spPr>
          <a:xfrm>
            <a:off x="18603720" y="7835760"/>
            <a:ext cx="4416120" cy="4114800"/>
          </a:xfrm>
          <a:prstGeom prst="rect">
            <a:avLst/>
          </a:prstGeom>
          <a:ln w="0">
            <a:noFill/>
          </a:ln>
        </p:spPr>
      </p:pic>
      <p:pic>
        <p:nvPicPr>
          <p:cNvPr id="2059" name="" descr=""/>
          <p:cNvPicPr/>
          <p:nvPr/>
        </p:nvPicPr>
        <p:blipFill>
          <a:blip r:embed="rId4"/>
          <a:stretch/>
        </p:blipFill>
        <p:spPr>
          <a:xfrm>
            <a:off x="1347480" y="7790040"/>
            <a:ext cx="44146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061"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OUR SERVICES</a:t>
            </a:r>
            <a:endParaRPr b="0" lang="en-US" sz="10500" spc="-1" strike="noStrike">
              <a:solidFill>
                <a:srgbClr val="000000"/>
              </a:solidFill>
              <a:latin typeface="Open Sans Light"/>
            </a:endParaRPr>
          </a:p>
        </p:txBody>
      </p:sp>
      <p:pic>
        <p:nvPicPr>
          <p:cNvPr id="2062" name="Group 20" descr=""/>
          <p:cNvPicPr/>
          <p:nvPr/>
        </p:nvPicPr>
        <p:blipFill>
          <a:blip r:embed="rId1"/>
          <a:stretch/>
        </p:blipFill>
        <p:spPr>
          <a:xfrm>
            <a:off x="11271240" y="12026880"/>
            <a:ext cx="1828800" cy="104760"/>
          </a:xfrm>
          <a:prstGeom prst="rect">
            <a:avLst/>
          </a:prstGeom>
          <a:ln w="0">
            <a:noFill/>
          </a:ln>
        </p:spPr>
      </p:pic>
      <p:pic>
        <p:nvPicPr>
          <p:cNvPr id="2063"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0">
                                  <p:stCondLst>
                                    <p:cond delay="0"/>
                                  </p:stCondLst>
                                  <p:childTnLst>
                                    <p:set>
                                      <p:cBhvr>
                                        <p:cTn id="172" dur="1" fill="hold">
                                          <p:stCondLst>
                                            <p:cond delay="0"/>
                                          </p:stCondLst>
                                        </p:cTn>
                                        <p:tgtEl>
                                          <p:spTgt spid="2060"/>
                                        </p:tgtEl>
                                        <p:attrNameLst>
                                          <p:attrName>style.visibility</p:attrName>
                                        </p:attrNameLst>
                                      </p:cBhvr>
                                      <p:to>
                                        <p:strVal val="visible"/>
                                      </p:to>
                                    </p:set>
                                    <p:animEffect filter="fade" transition="in">
                                      <p:cBhvr additive="repl">
                                        <p:cTn id="173" dur="500"/>
                                        <p:tgtEl>
                                          <p:spTgt spid="2060"/>
                                        </p:tgtEl>
                                      </p:cBhvr>
                                    </p:animEffect>
                                  </p:childTnLst>
                                </p:cTn>
                              </p:par>
                            </p:childTnLst>
                          </p:cTn>
                        </p:par>
                        <p:par>
                          <p:cTn id="174" fill="hold">
                            <p:stCondLst>
                              <p:cond delay="500"/>
                            </p:stCondLst>
                            <p:childTnLst>
                              <p:par>
                                <p:cTn id="175" nodeType="afterEffect" fill="hold" presetClass="entr" presetID="10">
                                  <p:stCondLst>
                                    <p:cond delay="0"/>
                                  </p:stCondLst>
                                  <p:childTnLst>
                                    <p:set>
                                      <p:cBhvr>
                                        <p:cTn id="176" dur="1" fill="hold">
                                          <p:stCondLst>
                                            <p:cond delay="0"/>
                                          </p:stCondLst>
                                        </p:cTn>
                                        <p:tgtEl>
                                          <p:spTgt spid="2061"/>
                                        </p:tgtEl>
                                        <p:attrNameLst>
                                          <p:attrName>style.visibility</p:attrName>
                                        </p:attrNameLst>
                                      </p:cBhvr>
                                      <p:to>
                                        <p:strVal val="visible"/>
                                      </p:to>
                                    </p:set>
                                    <p:animEffect filter="fade" transition="in">
                                      <p:cBhvr additive="repl">
                                        <p:cTn id="177" dur="500"/>
                                        <p:tgtEl>
                                          <p:spTgt spid="2061"/>
                                        </p:tgtEl>
                                      </p:cBhvr>
                                    </p:animEffect>
                                  </p:childTnLst>
                                </p:cTn>
                              </p:par>
                            </p:childTnLst>
                          </p:cTn>
                        </p:par>
                        <p:par>
                          <p:cTn id="178" fill="hold">
                            <p:stCondLst>
                              <p:cond delay="1000"/>
                            </p:stCondLst>
                            <p:childTnLst>
                              <p:par>
                                <p:cTn id="179" nodeType="afterEffect" fill="hold" presetClass="entr" presetID="49">
                                  <p:stCondLst>
                                    <p:cond delay="0"/>
                                  </p:stCondLst>
                                  <p:childTnLst>
                                    <p:set>
                                      <p:cBhvr>
                                        <p:cTn id="180" dur="1" fill="hold">
                                          <p:stCondLst>
                                            <p:cond delay="0"/>
                                          </p:stCondLst>
                                        </p:cTn>
                                        <p:tgtEl>
                                          <p:spTgt spid="2062"/>
                                        </p:tgtEl>
                                        <p:attrNameLst>
                                          <p:attrName>style.visibility</p:attrName>
                                        </p:attrNameLst>
                                      </p:cBhvr>
                                      <p:to>
                                        <p:strVal val="visible"/>
                                      </p:to>
                                    </p:set>
                                    <p:anim calcmode="lin" valueType="num">
                                      <p:cBhvr additive="repl">
                                        <p:cTn id="181" dur="500" fill="hold"/>
                                        <p:tgtEl>
                                          <p:spTgt spid="2062"/>
                                        </p:tgtEl>
                                        <p:attrNameLst>
                                          <p:attrName>ppt_w</p:attrName>
                                        </p:attrNameLst>
                                      </p:cBhvr>
                                      <p:tavLst>
                                        <p:tav tm="0">
                                          <p:val>
                                            <p:fltVal val="0"/>
                                          </p:val>
                                        </p:tav>
                                        <p:tav tm="100000">
                                          <p:val>
                                            <p:strVal val="#ppt_w"/>
                                          </p:val>
                                        </p:tav>
                                      </p:tavLst>
                                    </p:anim>
                                    <p:anim calcmode="lin" valueType="num">
                                      <p:cBhvr additive="repl">
                                        <p:cTn id="182" dur="500" fill="hold"/>
                                        <p:tgtEl>
                                          <p:spTgt spid="2062"/>
                                        </p:tgtEl>
                                        <p:attrNameLst>
                                          <p:attrName>ppt_h</p:attrName>
                                        </p:attrNameLst>
                                      </p:cBhvr>
                                      <p:tavLst>
                                        <p:tav tm="0">
                                          <p:val>
                                            <p:fltVal val="0"/>
                                          </p:val>
                                        </p:tav>
                                        <p:tav tm="100000">
                                          <p:val>
                                            <p:strVal val="#ppt_h"/>
                                          </p:val>
                                        </p:tav>
                                      </p:tavLst>
                                    </p:anim>
                                    <p:anim calcmode="lin" valueType="num">
                                      <p:cBhvr additive="repl">
                                        <p:cTn id="183" dur="500" fill="hold"/>
                                        <p:tgtEl>
                                          <p:spTgt spid="2062"/>
                                        </p:tgtEl>
                                        <p:attrNameLst>
                                          <p:attrName>r</p:attrName>
                                        </p:attrNameLst>
                                      </p:cBhvr>
                                      <p:tavLst>
                                        <p:tav tm="0">
                                          <p:val>
                                            <p:strVal val="360"/>
                                          </p:val>
                                        </p:tav>
                                        <p:tav tm="100000">
                                          <p:val>
                                            <p:strVal val="0"/>
                                          </p:val>
                                        </p:tav>
                                      </p:tavLst>
                                    </p:anim>
                                    <p:animEffect filter="fade" transition="in">
                                      <p:cBhvr additive="repl">
                                        <p:cTn id="184" dur="500"/>
                                        <p:tgtEl>
                                          <p:spTgt spid="2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Oval 38"/>
          <p:cNvSpPr/>
          <p:nvPr/>
        </p:nvSpPr>
        <p:spPr>
          <a:xfrm>
            <a:off x="15216120" y="6140520"/>
            <a:ext cx="1365480" cy="13651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65" name="TextBox 39"/>
          <p:cNvSpPr/>
          <p:nvPr/>
        </p:nvSpPr>
        <p:spPr>
          <a:xfrm>
            <a:off x="15530040" y="611496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2</a:t>
            </a:r>
            <a:endParaRPr b="0" lang="en-US" sz="8600" spc="-1" strike="noStrike">
              <a:solidFill>
                <a:srgbClr val="000000"/>
              </a:solidFill>
              <a:latin typeface="Open Sans Light"/>
            </a:endParaRPr>
          </a:p>
        </p:txBody>
      </p:sp>
      <p:sp>
        <p:nvSpPr>
          <p:cNvPr id="2066" name="TextBox 40"/>
          <p:cNvSpPr/>
          <p:nvPr/>
        </p:nvSpPr>
        <p:spPr>
          <a:xfrm>
            <a:off x="17017560" y="6140520"/>
            <a:ext cx="282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COMMITMENTS</a:t>
            </a:r>
            <a:endParaRPr b="0" lang="en-US" sz="2800" spc="-1" strike="noStrike">
              <a:solidFill>
                <a:srgbClr val="000000"/>
              </a:solidFill>
              <a:latin typeface="Open Sans Light"/>
            </a:endParaRPr>
          </a:p>
        </p:txBody>
      </p:sp>
      <p:sp>
        <p:nvSpPr>
          <p:cNvPr id="2067" name="TextBox 41"/>
          <p:cNvSpPr/>
          <p:nvPr/>
        </p:nvSpPr>
        <p:spPr>
          <a:xfrm>
            <a:off x="16678440" y="6675480"/>
            <a:ext cx="472752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68" name="Oval 42"/>
          <p:cNvSpPr/>
          <p:nvPr/>
        </p:nvSpPr>
        <p:spPr>
          <a:xfrm>
            <a:off x="15216120" y="9051840"/>
            <a:ext cx="136548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69" name="TextBox 43"/>
          <p:cNvSpPr/>
          <p:nvPr/>
        </p:nvSpPr>
        <p:spPr>
          <a:xfrm>
            <a:off x="15530040" y="902808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4</a:t>
            </a:r>
            <a:endParaRPr b="0" lang="en-US" sz="8600" spc="-1" strike="noStrike">
              <a:solidFill>
                <a:srgbClr val="000000"/>
              </a:solidFill>
              <a:latin typeface="Open Sans Light"/>
            </a:endParaRPr>
          </a:p>
        </p:txBody>
      </p:sp>
      <p:sp>
        <p:nvSpPr>
          <p:cNvPr id="2070" name="TextBox 44"/>
          <p:cNvSpPr/>
          <p:nvPr/>
        </p:nvSpPr>
        <p:spPr>
          <a:xfrm>
            <a:off x="16971120" y="9051840"/>
            <a:ext cx="177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DELIVERY</a:t>
            </a:r>
            <a:endParaRPr b="0" lang="en-US" sz="2800" spc="-1" strike="noStrike">
              <a:solidFill>
                <a:srgbClr val="000000"/>
              </a:solidFill>
              <a:latin typeface="Open Sans Light"/>
            </a:endParaRPr>
          </a:p>
        </p:txBody>
      </p:sp>
      <p:sp>
        <p:nvSpPr>
          <p:cNvPr id="2071" name="TextBox 45"/>
          <p:cNvSpPr/>
          <p:nvPr/>
        </p:nvSpPr>
        <p:spPr>
          <a:xfrm>
            <a:off x="16678440" y="9601200"/>
            <a:ext cx="454500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72" name="Oval 46"/>
          <p:cNvSpPr/>
          <p:nvPr/>
        </p:nvSpPr>
        <p:spPr>
          <a:xfrm>
            <a:off x="7713720" y="6222960"/>
            <a:ext cx="136692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73" name="TextBox 47"/>
          <p:cNvSpPr/>
          <p:nvPr/>
        </p:nvSpPr>
        <p:spPr>
          <a:xfrm>
            <a:off x="8027280" y="611496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1</a:t>
            </a:r>
            <a:endParaRPr b="0" lang="en-US" sz="8600" spc="-1" strike="noStrike">
              <a:solidFill>
                <a:srgbClr val="000000"/>
              </a:solidFill>
              <a:latin typeface="Open Sans Light"/>
            </a:endParaRPr>
          </a:p>
        </p:txBody>
      </p:sp>
      <p:sp>
        <p:nvSpPr>
          <p:cNvPr id="2074" name="TextBox 48"/>
          <p:cNvSpPr/>
          <p:nvPr/>
        </p:nvSpPr>
        <p:spPr>
          <a:xfrm>
            <a:off x="4989960" y="6140520"/>
            <a:ext cx="22640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LEADERSHIP</a:t>
            </a:r>
            <a:endParaRPr b="0" lang="en-US" sz="2800" spc="-1" strike="noStrike">
              <a:solidFill>
                <a:srgbClr val="000000"/>
              </a:solidFill>
              <a:latin typeface="Open Sans Light"/>
            </a:endParaRPr>
          </a:p>
        </p:txBody>
      </p:sp>
      <p:sp>
        <p:nvSpPr>
          <p:cNvPr id="2075" name="TextBox 49"/>
          <p:cNvSpPr/>
          <p:nvPr/>
        </p:nvSpPr>
        <p:spPr>
          <a:xfrm>
            <a:off x="3255840" y="6675480"/>
            <a:ext cx="4361040" cy="137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76" name="Oval 50"/>
          <p:cNvSpPr/>
          <p:nvPr/>
        </p:nvSpPr>
        <p:spPr>
          <a:xfrm>
            <a:off x="7713720" y="9051840"/>
            <a:ext cx="1366920" cy="1366920"/>
          </a:xfrm>
          <a:prstGeom prst="ellipse">
            <a:avLst/>
          </a:prstGeom>
          <a:solidFill>
            <a:srgbClr val="ffffff"/>
          </a:solidFill>
          <a:ln w="12600">
            <a:solidFill>
              <a:srgbClr val="dddddd"/>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077" name="TextBox 51"/>
          <p:cNvSpPr/>
          <p:nvPr/>
        </p:nvSpPr>
        <p:spPr>
          <a:xfrm>
            <a:off x="8027280" y="9028080"/>
            <a:ext cx="80568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600" spc="-1" strike="noStrike">
                <a:solidFill>
                  <a:srgbClr val="595959"/>
                </a:solidFill>
                <a:latin typeface="Montserrat Semi Bold"/>
                <a:ea typeface="Open Sans Extrabold"/>
              </a:rPr>
              <a:t>3</a:t>
            </a:r>
            <a:endParaRPr b="0" lang="en-US" sz="8600" spc="-1" strike="noStrike">
              <a:solidFill>
                <a:srgbClr val="000000"/>
              </a:solidFill>
              <a:latin typeface="Open Sans Light"/>
            </a:endParaRPr>
          </a:p>
        </p:txBody>
      </p:sp>
      <p:sp>
        <p:nvSpPr>
          <p:cNvPr id="2078" name="TextBox 52"/>
          <p:cNvSpPr/>
          <p:nvPr/>
        </p:nvSpPr>
        <p:spPr>
          <a:xfrm>
            <a:off x="5371200" y="9051840"/>
            <a:ext cx="1997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PLANNING</a:t>
            </a:r>
            <a:endParaRPr b="0" lang="en-US" sz="2800" spc="-1" strike="noStrike">
              <a:solidFill>
                <a:srgbClr val="000000"/>
              </a:solidFill>
              <a:latin typeface="Open Sans Light"/>
            </a:endParaRPr>
          </a:p>
        </p:txBody>
      </p:sp>
      <p:sp>
        <p:nvSpPr>
          <p:cNvPr id="2079" name="TextBox 53"/>
          <p:cNvSpPr/>
          <p:nvPr/>
        </p:nvSpPr>
        <p:spPr>
          <a:xfrm>
            <a:off x="3071880" y="9601200"/>
            <a:ext cx="4545000" cy="1374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Open Sans Light"/>
              </a:rPr>
              <a:t>Lorem ipsum dolor sit amet, consectetuer adipiscing elit. Aenean commodo ligula eget dolor. Aenean massa.</a:t>
            </a:r>
            <a:endParaRPr b="0" lang="en-US" sz="2100" spc="-1" strike="noStrike">
              <a:solidFill>
                <a:srgbClr val="000000"/>
              </a:solidFill>
              <a:latin typeface="Open Sans Light"/>
            </a:endParaRPr>
          </a:p>
        </p:txBody>
      </p:sp>
      <p:sp>
        <p:nvSpPr>
          <p:cNvPr id="208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STRATEGY</a:t>
            </a:r>
            <a:endParaRPr b="0" lang="en-US" sz="6600" spc="-1" strike="noStrike">
              <a:solidFill>
                <a:srgbClr val="000000"/>
              </a:solidFill>
              <a:latin typeface="Open Sans Light"/>
            </a:endParaRPr>
          </a:p>
        </p:txBody>
      </p:sp>
      <p:sp>
        <p:nvSpPr>
          <p:cNvPr id="2081" name="Rectangle 57"/>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082" name="Group 26" descr=""/>
          <p:cNvPicPr/>
          <p:nvPr/>
        </p:nvPicPr>
        <p:blipFill>
          <a:blip r:embed="rId1"/>
          <a:stretch/>
        </p:blipFill>
        <p:spPr>
          <a:xfrm>
            <a:off x="11271240" y="2651040"/>
            <a:ext cx="1828800" cy="111240"/>
          </a:xfrm>
          <a:prstGeom prst="rect">
            <a:avLst/>
          </a:prstGeom>
          <a:ln w="0">
            <a:noFill/>
          </a:ln>
        </p:spPr>
      </p:pic>
      <p:pic>
        <p:nvPicPr>
          <p:cNvPr id="2083" name="" descr=""/>
          <p:cNvPicPr/>
          <p:nvPr/>
        </p:nvPicPr>
        <p:blipFill>
          <a:blip r:embed="rId2"/>
          <a:stretch/>
        </p:blipFill>
        <p:spPr>
          <a:xfrm>
            <a:off x="9629280" y="5029200"/>
            <a:ext cx="5118120" cy="8686800"/>
          </a:xfrm>
          <a:prstGeom prst="rect">
            <a:avLst/>
          </a:prstGeom>
          <a:ln w="0">
            <a:noFill/>
          </a:ln>
        </p:spPr>
      </p:pic>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49">
                                  <p:stCondLst>
                                    <p:cond delay="0"/>
                                  </p:stCondLst>
                                  <p:childTnLst>
                                    <p:set>
                                      <p:cBhvr>
                                        <p:cTn id="190" dur="1" fill="hold">
                                          <p:stCondLst>
                                            <p:cond delay="0"/>
                                          </p:stCondLst>
                                        </p:cTn>
                                        <p:tgtEl>
                                          <p:spTgt spid="2082"/>
                                        </p:tgtEl>
                                        <p:attrNameLst>
                                          <p:attrName>style.visibility</p:attrName>
                                        </p:attrNameLst>
                                      </p:cBhvr>
                                      <p:to>
                                        <p:strVal val="visible"/>
                                      </p:to>
                                    </p:set>
                                    <p:anim calcmode="lin" valueType="num">
                                      <p:cBhvr additive="repl">
                                        <p:cTn id="191" dur="500" fill="hold"/>
                                        <p:tgtEl>
                                          <p:spTgt spid="2082"/>
                                        </p:tgtEl>
                                        <p:attrNameLst>
                                          <p:attrName>ppt_w</p:attrName>
                                        </p:attrNameLst>
                                      </p:cBhvr>
                                      <p:tavLst>
                                        <p:tav tm="0">
                                          <p:val>
                                            <p:fltVal val="0"/>
                                          </p:val>
                                        </p:tav>
                                        <p:tav tm="100000">
                                          <p:val>
                                            <p:strVal val="#ppt_w"/>
                                          </p:val>
                                        </p:tav>
                                      </p:tavLst>
                                    </p:anim>
                                    <p:anim calcmode="lin" valueType="num">
                                      <p:cBhvr additive="repl">
                                        <p:cTn id="192" dur="500" fill="hold"/>
                                        <p:tgtEl>
                                          <p:spTgt spid="2082"/>
                                        </p:tgtEl>
                                        <p:attrNameLst>
                                          <p:attrName>ppt_h</p:attrName>
                                        </p:attrNameLst>
                                      </p:cBhvr>
                                      <p:tavLst>
                                        <p:tav tm="0">
                                          <p:val>
                                            <p:fltVal val="0"/>
                                          </p:val>
                                        </p:tav>
                                        <p:tav tm="100000">
                                          <p:val>
                                            <p:strVal val="#ppt_h"/>
                                          </p:val>
                                        </p:tav>
                                      </p:tavLst>
                                    </p:anim>
                                    <p:anim calcmode="lin" valueType="num">
                                      <p:cBhvr additive="repl">
                                        <p:cTn id="193" dur="500" fill="hold"/>
                                        <p:tgtEl>
                                          <p:spTgt spid="2082"/>
                                        </p:tgtEl>
                                        <p:attrNameLst>
                                          <p:attrName>r</p:attrName>
                                        </p:attrNameLst>
                                      </p:cBhvr>
                                      <p:tavLst>
                                        <p:tav tm="0">
                                          <p:val>
                                            <p:strVal val="360"/>
                                          </p:val>
                                        </p:tav>
                                        <p:tav tm="100000">
                                          <p:val>
                                            <p:strVal val="0"/>
                                          </p:val>
                                        </p:tav>
                                      </p:tavLst>
                                    </p:anim>
                                    <p:animEffect filter="fade" transition="in">
                                      <p:cBhvr additive="repl">
                                        <p:cTn id="194" dur="500"/>
                                        <p:tgtEl>
                                          <p:spTgt spid="2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4" name="Group 24"/>
          <p:cNvGrpSpPr/>
          <p:nvPr/>
        </p:nvGrpSpPr>
        <p:grpSpPr>
          <a:xfrm>
            <a:off x="8001000" y="4521240"/>
            <a:ext cx="8375400" cy="8372160"/>
            <a:chOff x="8001000" y="4521240"/>
            <a:chExt cx="8375400" cy="8372160"/>
          </a:xfrm>
        </p:grpSpPr>
        <p:sp>
          <p:nvSpPr>
            <p:cNvPr id="2085" name="Rectangle 12"/>
            <p:cNvSpPr/>
            <p:nvPr/>
          </p:nvSpPr>
          <p:spPr>
            <a:xfrm>
              <a:off x="9769680" y="11096280"/>
              <a:ext cx="2905560" cy="141768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606060"/>
                </a:gs>
                <a:gs pos="100000">
                  <a:srgbClr val="808080"/>
                </a:gs>
              </a:gsLst>
              <a:lin ang="54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6" name="Rectangle 12"/>
            <p:cNvSpPr/>
            <p:nvPr/>
          </p:nvSpPr>
          <p:spPr>
            <a:xfrm rot="5400000">
              <a:off x="7660080" y="7027560"/>
              <a:ext cx="2840400" cy="141732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555555"/>
                </a:gs>
                <a:gs pos="100000">
                  <a:srgbClr val="969696"/>
                </a:gs>
              </a:gsLst>
              <a:lin ang="189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7" name="Rectangle 12"/>
            <p:cNvSpPr/>
            <p:nvPr/>
          </p:nvSpPr>
          <p:spPr>
            <a:xfrm rot="10800000">
              <a:off x="11702160" y="4900680"/>
              <a:ext cx="2905560" cy="141768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a6a6a6"/>
                </a:gs>
                <a:gs pos="100000">
                  <a:srgbClr val="dddddd"/>
                </a:gs>
              </a:gsLst>
              <a:lin ang="135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88" name="Rectangle 12"/>
            <p:cNvSpPr/>
            <p:nvPr/>
          </p:nvSpPr>
          <p:spPr>
            <a:xfrm rot="16200000">
              <a:off x="13902480" y="8995320"/>
              <a:ext cx="2840400" cy="1417320"/>
            </a:xfrm>
            <a:custGeom>
              <a:avLst/>
              <a:gdLst/>
              <a:ahLst/>
              <a:rect l="l" t="t" r="r" b="b"/>
              <a:pathLst>
                <a:path w="1583255" h="1124712">
                  <a:moveTo>
                    <a:pt x="0" y="1124712"/>
                  </a:moveTo>
                  <a:lnTo>
                    <a:pt x="0" y="0"/>
                  </a:lnTo>
                  <a:lnTo>
                    <a:pt x="1583255" y="0"/>
                  </a:lnTo>
                  <a:lnTo>
                    <a:pt x="1583255" y="1124712"/>
                  </a:lnTo>
                  <a:lnTo>
                    <a:pt x="0" y="1124712"/>
                  </a:lnTo>
                  <a:close/>
                </a:path>
              </a:pathLst>
            </a:custGeom>
            <a:gradFill rotWithShape="0">
              <a:gsLst>
                <a:gs pos="0">
                  <a:srgbClr val="868686"/>
                </a:gs>
                <a:gs pos="100000">
                  <a:srgbClr val="b2b2b2"/>
                </a:gs>
              </a:gsLst>
              <a:lin ang="81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grpSp>
          <p:nvGrpSpPr>
            <p:cNvPr id="2089" name="Group 11"/>
            <p:cNvGrpSpPr/>
            <p:nvPr/>
          </p:nvGrpSpPr>
          <p:grpSpPr>
            <a:xfrm>
              <a:off x="8372160" y="4521240"/>
              <a:ext cx="4254840" cy="2170440"/>
              <a:chOff x="8372160" y="4521240"/>
              <a:chExt cx="4254840" cy="2170440"/>
            </a:xfrm>
          </p:grpSpPr>
          <p:sp>
            <p:nvSpPr>
              <p:cNvPr id="2090" name="Right Arrow 7"/>
              <p:cNvSpPr/>
              <p:nvPr/>
            </p:nvSpPr>
            <p:spPr>
              <a:xfrm>
                <a:off x="8372160" y="4521240"/>
                <a:ext cx="4254840" cy="217044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555555"/>
                  </a:gs>
                  <a:gs pos="100000">
                    <a:srgbClr val="969696"/>
                  </a:gs>
                </a:gsLst>
                <a:lin ang="27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1" name="TextBox 13"/>
              <p:cNvSpPr/>
              <p:nvPr/>
            </p:nvSpPr>
            <p:spPr>
              <a:xfrm>
                <a:off x="9045000" y="5269680"/>
                <a:ext cx="29088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ALES</a:t>
                </a:r>
                <a:endParaRPr b="0" lang="en-US" sz="3800" spc="-1" strike="noStrike">
                  <a:solidFill>
                    <a:srgbClr val="000000"/>
                  </a:solidFill>
                  <a:latin typeface="Open Sans Light"/>
                </a:endParaRPr>
              </a:p>
            </p:txBody>
          </p:sp>
        </p:grpSp>
        <p:grpSp>
          <p:nvGrpSpPr>
            <p:cNvPr id="2092" name="Group 14"/>
            <p:cNvGrpSpPr/>
            <p:nvPr/>
          </p:nvGrpSpPr>
          <p:grpSpPr>
            <a:xfrm>
              <a:off x="14206680" y="4900680"/>
              <a:ext cx="2169720" cy="4255920"/>
              <a:chOff x="14206680" y="4900680"/>
              <a:chExt cx="2169720" cy="4255920"/>
            </a:xfrm>
          </p:grpSpPr>
          <p:sp>
            <p:nvSpPr>
              <p:cNvPr id="2093" name="Right Arrow 7"/>
              <p:cNvSpPr/>
              <p:nvPr/>
            </p:nvSpPr>
            <p:spPr>
              <a:xfrm rot="5400000">
                <a:off x="13163400" y="5943600"/>
                <a:ext cx="4255920" cy="216972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a6a6a6"/>
                  </a:gs>
                  <a:gs pos="100000">
                    <a:srgbClr val="dddddd"/>
                  </a:gs>
                </a:gsLst>
                <a:lin ang="189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4" name="TextBox 16"/>
              <p:cNvSpPr/>
              <p:nvPr/>
            </p:nvSpPr>
            <p:spPr>
              <a:xfrm rot="5400000">
                <a:off x="13830840" y="6878880"/>
                <a:ext cx="290628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ERVICE</a:t>
                </a:r>
                <a:endParaRPr b="0" lang="en-US" sz="3800" spc="-1" strike="noStrike">
                  <a:solidFill>
                    <a:srgbClr val="000000"/>
                  </a:solidFill>
                  <a:latin typeface="Open Sans Light"/>
                </a:endParaRPr>
              </a:p>
            </p:txBody>
          </p:sp>
        </p:grpSp>
        <p:grpSp>
          <p:nvGrpSpPr>
            <p:cNvPr id="2095" name="Group 17"/>
            <p:cNvGrpSpPr/>
            <p:nvPr/>
          </p:nvGrpSpPr>
          <p:grpSpPr>
            <a:xfrm>
              <a:off x="11776320" y="10722960"/>
              <a:ext cx="4254840" cy="2170440"/>
              <a:chOff x="11776320" y="10722960"/>
              <a:chExt cx="4254840" cy="2170440"/>
            </a:xfrm>
          </p:grpSpPr>
          <p:sp>
            <p:nvSpPr>
              <p:cNvPr id="2096" name="Right Arrow 7"/>
              <p:cNvSpPr/>
              <p:nvPr/>
            </p:nvSpPr>
            <p:spPr>
              <a:xfrm rot="10800000">
                <a:off x="11776320" y="10722960"/>
                <a:ext cx="4254840" cy="217044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868686"/>
                  </a:gs>
                  <a:gs pos="100000">
                    <a:srgbClr val="b2b2b2"/>
                  </a:gs>
                </a:gsLst>
                <a:lin ang="135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097" name="TextBox 19"/>
              <p:cNvSpPr/>
              <p:nvPr/>
            </p:nvSpPr>
            <p:spPr>
              <a:xfrm>
                <a:off x="12151800" y="11485440"/>
                <a:ext cx="322344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SUPPORT</a:t>
                </a:r>
                <a:endParaRPr b="0" lang="en-US" sz="3800" spc="-1" strike="noStrike">
                  <a:solidFill>
                    <a:srgbClr val="000000"/>
                  </a:solidFill>
                  <a:latin typeface="Open Sans Light"/>
                </a:endParaRPr>
              </a:p>
            </p:txBody>
          </p:sp>
        </p:grpSp>
        <p:grpSp>
          <p:nvGrpSpPr>
            <p:cNvPr id="2098" name="Group 20"/>
            <p:cNvGrpSpPr/>
            <p:nvPr/>
          </p:nvGrpSpPr>
          <p:grpSpPr>
            <a:xfrm>
              <a:off x="8001000" y="8258040"/>
              <a:ext cx="2169720" cy="4255920"/>
              <a:chOff x="8001000" y="8258040"/>
              <a:chExt cx="2169720" cy="4255920"/>
            </a:xfrm>
          </p:grpSpPr>
          <p:sp>
            <p:nvSpPr>
              <p:cNvPr id="2099" name="Right Arrow 7"/>
              <p:cNvSpPr/>
              <p:nvPr/>
            </p:nvSpPr>
            <p:spPr>
              <a:xfrm rot="16200000">
                <a:off x="6957720" y="9300960"/>
                <a:ext cx="4255920" cy="2169720"/>
              </a:xfrm>
              <a:custGeom>
                <a:avLst/>
                <a:gdLst/>
                <a:ahLst/>
                <a:rect l="l" t="t" r="r" b="b"/>
                <a:pathLst>
                  <a:path w="3376062" h="1721621">
                    <a:moveTo>
                      <a:pt x="2566108" y="0"/>
                    </a:moveTo>
                    <a:lnTo>
                      <a:pt x="3376062" y="860811"/>
                    </a:lnTo>
                    <a:lnTo>
                      <a:pt x="2566108" y="1721621"/>
                    </a:lnTo>
                    <a:lnTo>
                      <a:pt x="2566108" y="1423953"/>
                    </a:lnTo>
                    <a:lnTo>
                      <a:pt x="0" y="1423953"/>
                    </a:lnTo>
                    <a:lnTo>
                      <a:pt x="0" y="1422191"/>
                    </a:lnTo>
                    <a:lnTo>
                      <a:pt x="1124523" y="297668"/>
                    </a:lnTo>
                    <a:lnTo>
                      <a:pt x="2566108" y="297668"/>
                    </a:lnTo>
                    <a:lnTo>
                      <a:pt x="2566108" y="0"/>
                    </a:lnTo>
                    <a:close/>
                  </a:path>
                </a:pathLst>
              </a:custGeom>
              <a:gradFill rotWithShape="0">
                <a:gsLst>
                  <a:gs pos="0">
                    <a:srgbClr val="606060"/>
                  </a:gs>
                  <a:gs pos="100000">
                    <a:srgbClr val="808080"/>
                  </a:gs>
                </a:gsLst>
                <a:lin ang="10800000"/>
              </a:gra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00" name="TextBox 22"/>
              <p:cNvSpPr/>
              <p:nvPr/>
            </p:nvSpPr>
            <p:spPr>
              <a:xfrm rot="16200000">
                <a:off x="7408800" y="9698040"/>
                <a:ext cx="3317400" cy="67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827360"/>
                    <a:tab algn="l" pos="3654360"/>
                    <a:tab algn="l" pos="5481720"/>
                    <a:tab algn="l" pos="7308720"/>
                    <a:tab algn="l" pos="9136080"/>
                    <a:tab algn="l" pos="10963440"/>
                  </a:tabLst>
                </a:pPr>
                <a:r>
                  <a:rPr b="0" lang="en-US" sz="3800" spc="-1" strike="noStrike">
                    <a:solidFill>
                      <a:srgbClr val="ffffff"/>
                    </a:solidFill>
                    <a:latin typeface="Montserrat Semi Bold"/>
                    <a:ea typeface="Kozuka Gothic Pro M"/>
                  </a:rPr>
                  <a:t>QUALITY</a:t>
                </a:r>
                <a:endParaRPr b="0" lang="en-US" sz="3800" spc="-1" strike="noStrike">
                  <a:solidFill>
                    <a:srgbClr val="000000"/>
                  </a:solidFill>
                  <a:latin typeface="Open Sans Light"/>
                </a:endParaRPr>
              </a:p>
            </p:txBody>
          </p:sp>
        </p:grpSp>
      </p:grpSp>
      <p:sp>
        <p:nvSpPr>
          <p:cNvPr id="210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PROCESS</a:t>
            </a:r>
            <a:endParaRPr b="0" lang="en-US" sz="6600" spc="-1" strike="noStrike">
              <a:solidFill>
                <a:srgbClr val="000000"/>
              </a:solidFill>
              <a:latin typeface="Open Sans Light"/>
            </a:endParaRPr>
          </a:p>
        </p:txBody>
      </p:sp>
      <p:sp>
        <p:nvSpPr>
          <p:cNvPr id="2102" name="Rectangle 2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sp>
        <p:nvSpPr>
          <p:cNvPr id="2103" name="Rectangle 34"/>
          <p:cNvSpPr/>
          <p:nvPr/>
        </p:nvSpPr>
        <p:spPr>
          <a:xfrm>
            <a:off x="16943400" y="6697800"/>
            <a:ext cx="5303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4" name="Rectangle 35"/>
          <p:cNvSpPr/>
          <p:nvPr/>
        </p:nvSpPr>
        <p:spPr>
          <a:xfrm>
            <a:off x="17296200" y="6234120"/>
            <a:ext cx="25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5" name="Rectangle 37"/>
          <p:cNvSpPr/>
          <p:nvPr/>
        </p:nvSpPr>
        <p:spPr>
          <a:xfrm>
            <a:off x="16943400" y="9947160"/>
            <a:ext cx="5303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6" name="Rectangle 38"/>
          <p:cNvSpPr/>
          <p:nvPr/>
        </p:nvSpPr>
        <p:spPr>
          <a:xfrm>
            <a:off x="17296200" y="9418680"/>
            <a:ext cx="25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7" name="Rectangle 40"/>
          <p:cNvSpPr/>
          <p:nvPr/>
        </p:nvSpPr>
        <p:spPr>
          <a:xfrm>
            <a:off x="2263680" y="6697800"/>
            <a:ext cx="535320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08" name="Rectangle 41"/>
          <p:cNvSpPr/>
          <p:nvPr/>
        </p:nvSpPr>
        <p:spPr>
          <a:xfrm>
            <a:off x="4665960" y="6172200"/>
            <a:ext cx="2555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sp>
        <p:nvSpPr>
          <p:cNvPr id="2109" name="Rectangle 43"/>
          <p:cNvSpPr/>
          <p:nvPr/>
        </p:nvSpPr>
        <p:spPr>
          <a:xfrm>
            <a:off x="2446200" y="9947160"/>
            <a:ext cx="517068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rPr>
              <a:t>Lorem ipsum dolor sit amet, consectetur adipiscing elit. Etiam luctus lectus vel</a:t>
            </a:r>
            <a:endParaRPr b="0" lang="en-US" sz="2600" spc="-1" strike="noStrike">
              <a:solidFill>
                <a:srgbClr val="000000"/>
              </a:solidFill>
              <a:latin typeface="Open Sans Light"/>
            </a:endParaRPr>
          </a:p>
        </p:txBody>
      </p:sp>
      <p:sp>
        <p:nvSpPr>
          <p:cNvPr id="2110" name="Rectangle 44"/>
          <p:cNvSpPr/>
          <p:nvPr/>
        </p:nvSpPr>
        <p:spPr>
          <a:xfrm>
            <a:off x="4665960" y="9418680"/>
            <a:ext cx="2555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rPr>
              <a:t>SUB HEADING</a:t>
            </a:r>
            <a:endParaRPr b="0" lang="en-US" sz="2800" spc="-1" strike="noStrike">
              <a:solidFill>
                <a:srgbClr val="000000"/>
              </a:solidFill>
              <a:latin typeface="Open Sans Light"/>
            </a:endParaRPr>
          </a:p>
        </p:txBody>
      </p:sp>
      <p:pic>
        <p:nvPicPr>
          <p:cNvPr id="2111" name="Group 36"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49">
                                  <p:stCondLst>
                                    <p:cond delay="0"/>
                                  </p:stCondLst>
                                  <p:childTnLst>
                                    <p:set>
                                      <p:cBhvr>
                                        <p:cTn id="200" dur="1" fill="hold">
                                          <p:stCondLst>
                                            <p:cond delay="0"/>
                                          </p:stCondLst>
                                        </p:cTn>
                                        <p:tgtEl>
                                          <p:spTgt spid="2111"/>
                                        </p:tgtEl>
                                        <p:attrNameLst>
                                          <p:attrName>style.visibility</p:attrName>
                                        </p:attrNameLst>
                                      </p:cBhvr>
                                      <p:to>
                                        <p:strVal val="visible"/>
                                      </p:to>
                                    </p:set>
                                    <p:anim calcmode="lin" valueType="num">
                                      <p:cBhvr additive="repl">
                                        <p:cTn id="201" dur="500" fill="hold"/>
                                        <p:tgtEl>
                                          <p:spTgt spid="2111"/>
                                        </p:tgtEl>
                                        <p:attrNameLst>
                                          <p:attrName>ppt_w</p:attrName>
                                        </p:attrNameLst>
                                      </p:cBhvr>
                                      <p:tavLst>
                                        <p:tav tm="0">
                                          <p:val>
                                            <p:fltVal val="0"/>
                                          </p:val>
                                        </p:tav>
                                        <p:tav tm="100000">
                                          <p:val>
                                            <p:strVal val="#ppt_w"/>
                                          </p:val>
                                        </p:tav>
                                      </p:tavLst>
                                    </p:anim>
                                    <p:anim calcmode="lin" valueType="num">
                                      <p:cBhvr additive="repl">
                                        <p:cTn id="202" dur="500" fill="hold"/>
                                        <p:tgtEl>
                                          <p:spTgt spid="2111"/>
                                        </p:tgtEl>
                                        <p:attrNameLst>
                                          <p:attrName>ppt_h</p:attrName>
                                        </p:attrNameLst>
                                      </p:cBhvr>
                                      <p:tavLst>
                                        <p:tav tm="0">
                                          <p:val>
                                            <p:fltVal val="0"/>
                                          </p:val>
                                        </p:tav>
                                        <p:tav tm="100000">
                                          <p:val>
                                            <p:strVal val="#ppt_h"/>
                                          </p:val>
                                        </p:tav>
                                      </p:tavLst>
                                    </p:anim>
                                    <p:anim calcmode="lin" valueType="num">
                                      <p:cBhvr additive="repl">
                                        <p:cTn id="203" dur="500" fill="hold"/>
                                        <p:tgtEl>
                                          <p:spTgt spid="2111"/>
                                        </p:tgtEl>
                                        <p:attrNameLst>
                                          <p:attrName>r</p:attrName>
                                        </p:attrNameLst>
                                      </p:cBhvr>
                                      <p:tavLst>
                                        <p:tav tm="0">
                                          <p:val>
                                            <p:strVal val="360"/>
                                          </p:val>
                                        </p:tav>
                                        <p:tav tm="100000">
                                          <p:val>
                                            <p:strVal val="0"/>
                                          </p:val>
                                        </p:tav>
                                      </p:tavLst>
                                    </p:anim>
                                    <p:animEffect filter="fade" transition="in">
                                      <p:cBhvr additive="repl">
                                        <p:cTn id="204" dur="500"/>
                                        <p:tgtEl>
                                          <p:spTgt spid="2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4"/>
          <p:cNvSpPr/>
          <p:nvPr/>
        </p:nvSpPr>
        <p:spPr>
          <a:xfrm>
            <a:off x="3959280" y="4114800"/>
            <a:ext cx="879156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a:t>
            </a: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 Lorem ipsum dolor sit amet, consectetuer adipiscing elit. Aenean commodo ligula eget dolor. Aenean massa. Cum sociis natoque penatibus et magnis dis parturient montes, nascetur ridiculus mus. Donec quam felis, ultricies nec, pellentesque eu, pretium quis, sem. Nulla consequat massa quis enim.</a:t>
            </a:r>
            <a:endParaRPr b="0" lang="en-US" sz="2400" spc="-1" strike="noStrike">
              <a:solidFill>
                <a:srgbClr val="000000"/>
              </a:solidFill>
              <a:latin typeface="Open Sans Light"/>
            </a:endParaRPr>
          </a:p>
          <a:p>
            <a:pPr>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pic>
        <p:nvPicPr>
          <p:cNvPr id="1879" name="Picture 5" descr="Signature.png"/>
          <p:cNvPicPr/>
          <p:nvPr/>
        </p:nvPicPr>
        <p:blipFill>
          <a:blip r:embed="rId1"/>
          <a:stretch/>
        </p:blipFill>
        <p:spPr>
          <a:xfrm>
            <a:off x="3959280" y="11064960"/>
            <a:ext cx="3981240" cy="1541520"/>
          </a:xfrm>
          <a:prstGeom prst="rect">
            <a:avLst/>
          </a:prstGeom>
          <a:ln w="0">
            <a:noFill/>
          </a:ln>
        </p:spPr>
      </p:pic>
      <p:sp>
        <p:nvSpPr>
          <p:cNvPr id="1880" name="TextBox 6"/>
          <p:cNvSpPr/>
          <p:nvPr/>
        </p:nvSpPr>
        <p:spPr>
          <a:xfrm>
            <a:off x="4135320" y="2120760"/>
            <a:ext cx="6541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6600" spc="-1" strike="noStrike">
                <a:solidFill>
                  <a:srgbClr val="010101"/>
                </a:solidFill>
                <a:latin typeface="Montserrat Semi Bold"/>
                <a:ea typeface="Open Sans Extrabold"/>
              </a:rPr>
              <a:t>INTRODUCTION</a:t>
            </a:r>
            <a:endParaRPr b="0" lang="en-US" sz="6600" spc="-1" strike="noStrike">
              <a:solidFill>
                <a:srgbClr val="000000"/>
              </a:solidFill>
              <a:latin typeface="Open Sans Light"/>
            </a:endParaRPr>
          </a:p>
        </p:txBody>
      </p:sp>
      <p:pic>
        <p:nvPicPr>
          <p:cNvPr id="1881" name="Group 22" descr=""/>
          <p:cNvPicPr/>
          <p:nvPr/>
        </p:nvPicPr>
        <p:blipFill>
          <a:blip r:embed="rId2"/>
          <a:stretch/>
        </p:blipFill>
        <p:spPr>
          <a:xfrm>
            <a:off x="4121280" y="3352680"/>
            <a:ext cx="1828800" cy="109800"/>
          </a:xfrm>
          <a:prstGeom prst="rect">
            <a:avLst/>
          </a:prstGeom>
          <a:ln w="0">
            <a:noFill/>
          </a:ln>
        </p:spPr>
      </p:pic>
      <p:pic>
        <p:nvPicPr>
          <p:cNvPr id="1882" name="" descr=""/>
          <p:cNvPicPr/>
          <p:nvPr/>
        </p:nvPicPr>
        <p:blipFill>
          <a:blip r:embed="rId3"/>
          <a:stretch/>
        </p:blipFill>
        <p:spPr>
          <a:xfrm>
            <a:off x="15235200" y="4297320"/>
            <a:ext cx="9142560" cy="5486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49">
                                  <p:stCondLst>
                                    <p:cond delay="0"/>
                                  </p:stCondLst>
                                  <p:childTnLst>
                                    <p:set>
                                      <p:cBhvr>
                                        <p:cTn id="26" dur="1" fill="hold">
                                          <p:stCondLst>
                                            <p:cond delay="0"/>
                                          </p:stCondLst>
                                        </p:cTn>
                                        <p:tgtEl>
                                          <p:spTgt spid="1881"/>
                                        </p:tgtEl>
                                        <p:attrNameLst>
                                          <p:attrName>style.visibility</p:attrName>
                                        </p:attrNameLst>
                                      </p:cBhvr>
                                      <p:to>
                                        <p:strVal val="visible"/>
                                      </p:to>
                                    </p:set>
                                    <p:anim calcmode="lin" valueType="num">
                                      <p:cBhvr additive="repl">
                                        <p:cTn id="27" dur="500" fill="hold"/>
                                        <p:tgtEl>
                                          <p:spTgt spid="1881"/>
                                        </p:tgtEl>
                                        <p:attrNameLst>
                                          <p:attrName>ppt_w</p:attrName>
                                        </p:attrNameLst>
                                      </p:cBhvr>
                                      <p:tavLst>
                                        <p:tav tm="0">
                                          <p:val>
                                            <p:fltVal val="0"/>
                                          </p:val>
                                        </p:tav>
                                        <p:tav tm="100000">
                                          <p:val>
                                            <p:strVal val="#ppt_w"/>
                                          </p:val>
                                        </p:tav>
                                      </p:tavLst>
                                    </p:anim>
                                    <p:anim calcmode="lin" valueType="num">
                                      <p:cBhvr additive="repl">
                                        <p:cTn id="28" dur="500" fill="hold"/>
                                        <p:tgtEl>
                                          <p:spTgt spid="1881"/>
                                        </p:tgtEl>
                                        <p:attrNameLst>
                                          <p:attrName>ppt_h</p:attrName>
                                        </p:attrNameLst>
                                      </p:cBhvr>
                                      <p:tavLst>
                                        <p:tav tm="0">
                                          <p:val>
                                            <p:fltVal val="0"/>
                                          </p:val>
                                        </p:tav>
                                        <p:tav tm="100000">
                                          <p:val>
                                            <p:strVal val="#ppt_h"/>
                                          </p:val>
                                        </p:tav>
                                      </p:tavLst>
                                    </p:anim>
                                    <p:anim calcmode="lin" valueType="num">
                                      <p:cBhvr additive="repl">
                                        <p:cTn id="29" dur="500" fill="hold"/>
                                        <p:tgtEl>
                                          <p:spTgt spid="1881"/>
                                        </p:tgtEl>
                                        <p:attrNameLst>
                                          <p:attrName>r</p:attrName>
                                        </p:attrNameLst>
                                      </p:cBhvr>
                                      <p:tavLst>
                                        <p:tav tm="0">
                                          <p:val>
                                            <p:strVal val="360"/>
                                          </p:val>
                                        </p:tav>
                                        <p:tav tm="100000">
                                          <p:val>
                                            <p:strVal val="0"/>
                                          </p:val>
                                        </p:tav>
                                      </p:tavLst>
                                    </p:anim>
                                    <p:animEffect filter="fade" transition="in">
                                      <p:cBhvr additive="repl">
                                        <p:cTn id="30" dur="500"/>
                                        <p:tgtEl>
                                          <p:spTgt spid="1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2" name="Group 4"/>
          <p:cNvGrpSpPr/>
          <p:nvPr/>
        </p:nvGrpSpPr>
        <p:grpSpPr>
          <a:xfrm>
            <a:off x="3419640" y="5382720"/>
            <a:ext cx="17538480" cy="3853440"/>
            <a:chOff x="3419640" y="5382720"/>
            <a:chExt cx="17538480" cy="3853440"/>
          </a:xfrm>
        </p:grpSpPr>
        <p:sp>
          <p:nvSpPr>
            <p:cNvPr id="2113" name="Block Arc 5"/>
            <p:cNvSpPr/>
            <p:nvPr/>
          </p:nvSpPr>
          <p:spPr>
            <a:xfrm rot="10800000">
              <a:off x="13656960" y="5382720"/>
              <a:ext cx="3888360" cy="3853080"/>
            </a:xfrm>
            <a:custGeom>
              <a:avLst/>
              <a:gdLst/>
              <a:ahLst/>
              <a:rect l="l" t="t" r="r" b="b"/>
              <a:pathLst>
                <a:path w="2376264" h="2354537">
                  <a:moveTo>
                    <a:pt x="0" y="1177269"/>
                  </a:moveTo>
                  <a:cubicBezTo>
                    <a:pt x="0" y="529534"/>
                    <a:pt x="528088" y="3474"/>
                    <a:pt x="1181790" y="17"/>
                  </a:cubicBezTo>
                  <a:cubicBezTo>
                    <a:pt x="1835401" y="-3440"/>
                    <a:pt x="2369087" y="516863"/>
                    <a:pt x="2376194" y="1164469"/>
                  </a:cubicBezTo>
                  <a:lnTo>
                    <a:pt x="2083448" y="1167622"/>
                  </a:lnTo>
                  <a:cubicBezTo>
                    <a:pt x="2078076" y="681080"/>
                    <a:pt x="1675907" y="290187"/>
                    <a:pt x="1183367" y="292776"/>
                  </a:cubicBezTo>
                  <a:cubicBezTo>
                    <a:pt x="690735" y="295366"/>
                    <a:pt x="292763" y="690607"/>
                    <a:pt x="292763" y="1177269"/>
                  </a:cubicBezTo>
                  <a:lnTo>
                    <a:pt x="0" y="1177269"/>
                  </a:ln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4" name="Block Arc 6"/>
            <p:cNvSpPr/>
            <p:nvPr/>
          </p:nvSpPr>
          <p:spPr>
            <a:xfrm>
              <a:off x="1706976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5f5f5f"/>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5" name="Block Arc 7"/>
            <p:cNvSpPr/>
            <p:nvPr/>
          </p:nvSpPr>
          <p:spPr>
            <a:xfrm>
              <a:off x="1024452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969696"/>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6" name="Block Arc 8"/>
            <p:cNvSpPr/>
            <p:nvPr/>
          </p:nvSpPr>
          <p:spPr>
            <a:xfrm rot="10800000">
              <a:off x="6831720" y="5382720"/>
              <a:ext cx="3888360" cy="3853080"/>
            </a:xfrm>
            <a:custGeom>
              <a:avLst/>
              <a:gdLst/>
              <a:ahLst/>
              <a:rect l="l" t="t" r="r" b="b"/>
              <a:pathLst>
                <a:path w="2376264" h="2354537">
                  <a:moveTo>
                    <a:pt x="0" y="1177269"/>
                  </a:moveTo>
                  <a:cubicBezTo>
                    <a:pt x="0" y="529534"/>
                    <a:pt x="528088" y="3474"/>
                    <a:pt x="1181790" y="17"/>
                  </a:cubicBezTo>
                  <a:cubicBezTo>
                    <a:pt x="1835401" y="-3440"/>
                    <a:pt x="2369087" y="516863"/>
                    <a:pt x="2376194" y="1164469"/>
                  </a:cubicBezTo>
                  <a:lnTo>
                    <a:pt x="2083448" y="1167622"/>
                  </a:lnTo>
                  <a:cubicBezTo>
                    <a:pt x="2078076" y="681080"/>
                    <a:pt x="1675907" y="290187"/>
                    <a:pt x="1183367" y="292776"/>
                  </a:cubicBezTo>
                  <a:cubicBezTo>
                    <a:pt x="690735" y="295366"/>
                    <a:pt x="292763" y="690607"/>
                    <a:pt x="292763" y="1177269"/>
                  </a:cubicBezTo>
                  <a:lnTo>
                    <a:pt x="0" y="1177269"/>
                  </a:lnTo>
                  <a:close/>
                </a:path>
              </a:pathLst>
            </a:custGeom>
            <a:solidFill>
              <a:srgbClr val="b2b2b2"/>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7" name="Block Arc 9"/>
            <p:cNvSpPr/>
            <p:nvPr/>
          </p:nvSpPr>
          <p:spPr>
            <a:xfrm>
              <a:off x="3419640" y="5383080"/>
              <a:ext cx="3888360" cy="3853080"/>
            </a:xfrm>
            <a:custGeom>
              <a:avLst/>
              <a:gdLst/>
              <a:ahLst/>
              <a:rect l="l" t="t" r="r" b="b"/>
              <a:pathLst>
                <a:path w="2376264" h="2354537">
                  <a:moveTo>
                    <a:pt x="0" y="1177269"/>
                  </a:moveTo>
                  <a:cubicBezTo>
                    <a:pt x="0" y="751804"/>
                    <a:pt x="231682" y="359444"/>
                    <a:pt x="606003" y="150986"/>
                  </a:cubicBezTo>
                  <a:cubicBezTo>
                    <a:pt x="975916" y="-55017"/>
                    <a:pt x="1428629" y="-49906"/>
                    <a:pt x="1793709" y="164395"/>
                  </a:cubicBezTo>
                  <a:cubicBezTo>
                    <a:pt x="2163254" y="381317"/>
                    <a:pt x="2385869" y="778980"/>
                    <a:pt x="2375946" y="1204464"/>
                  </a:cubicBezTo>
                  <a:lnTo>
                    <a:pt x="2083449" y="1197767"/>
                  </a:lnTo>
                  <a:cubicBezTo>
                    <a:pt x="2090961" y="877584"/>
                    <a:pt x="1922716" y="578391"/>
                    <a:pt x="1643568" y="415518"/>
                  </a:cubicBezTo>
                  <a:cubicBezTo>
                    <a:pt x="1368892" y="255254"/>
                    <a:pt x="1028654" y="251430"/>
                    <a:pt x="750358" y="405479"/>
                  </a:cubicBezTo>
                  <a:cubicBezTo>
                    <a:pt x="467649" y="561971"/>
                    <a:pt x="292576" y="857132"/>
                    <a:pt x="292576" y="1177268"/>
                  </a:cubicBezTo>
                  <a:lnTo>
                    <a:pt x="0" y="1177269"/>
                  </a:ln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grpSp>
      <p:sp>
        <p:nvSpPr>
          <p:cNvPr id="2118" name="Teardrop 26"/>
          <p:cNvSpPr/>
          <p:nvPr/>
        </p:nvSpPr>
        <p:spPr>
          <a:xfrm rot="8228400">
            <a:off x="4920840" y="705456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dddddd"/>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19" name="TextBox 27"/>
          <p:cNvSpPr/>
          <p:nvPr/>
        </p:nvSpPr>
        <p:spPr>
          <a:xfrm>
            <a:off x="5006160" y="72151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0" name="Teardrop 24"/>
          <p:cNvSpPr/>
          <p:nvPr/>
        </p:nvSpPr>
        <p:spPr>
          <a:xfrm rot="8228400">
            <a:off x="8424360" y="565740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b2b2b2"/>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1" name="TextBox 25"/>
          <p:cNvSpPr/>
          <p:nvPr/>
        </p:nvSpPr>
        <p:spPr>
          <a:xfrm>
            <a:off x="8515080" y="58183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2" name="Teardrop 22"/>
          <p:cNvSpPr/>
          <p:nvPr/>
        </p:nvSpPr>
        <p:spPr>
          <a:xfrm rot="8228400">
            <a:off x="11750760" y="7054920"/>
            <a:ext cx="87624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969696"/>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3" name="TextBox 23"/>
          <p:cNvSpPr/>
          <p:nvPr/>
        </p:nvSpPr>
        <p:spPr>
          <a:xfrm>
            <a:off x="11831400" y="72151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4" name="Teardrop 20"/>
          <p:cNvSpPr/>
          <p:nvPr/>
        </p:nvSpPr>
        <p:spPr>
          <a:xfrm rot="8228400">
            <a:off x="15169680" y="5657400"/>
            <a:ext cx="87480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808080"/>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5" name="TextBox 21"/>
          <p:cNvSpPr/>
          <p:nvPr/>
        </p:nvSpPr>
        <p:spPr>
          <a:xfrm>
            <a:off x="15243840" y="581832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6" name="Teardrop 18"/>
          <p:cNvSpPr/>
          <p:nvPr/>
        </p:nvSpPr>
        <p:spPr>
          <a:xfrm rot="8228400">
            <a:off x="18576360" y="7054920"/>
            <a:ext cx="874440" cy="874800"/>
          </a:xfrm>
          <a:custGeom>
            <a:avLst/>
            <a:gdLst/>
            <a:ahLst/>
            <a:rect l="l" t="t" r="r" b="b"/>
            <a:pathLst>
              <a:path w="875191" h="875191">
                <a:moveTo>
                  <a:pt x="0" y="437596"/>
                </a:moveTo>
                <a:cubicBezTo>
                  <a:pt x="0" y="195918"/>
                  <a:pt x="195918" y="0"/>
                  <a:pt x="437596" y="0"/>
                </a:cubicBezTo>
                <a:lnTo>
                  <a:pt x="875191" y="0"/>
                </a:lnTo>
                <a:lnTo>
                  <a:pt x="875191" y="437596"/>
                </a:lnTo>
                <a:cubicBezTo>
                  <a:pt x="875191" y="679274"/>
                  <a:pt x="679273" y="875192"/>
                  <a:pt x="437595" y="875192"/>
                </a:cubicBezTo>
                <a:cubicBezTo>
                  <a:pt x="195917" y="875192"/>
                  <a:pt x="-1" y="679274"/>
                  <a:pt x="-1" y="437596"/>
                </a:cubicBezTo>
                <a:lnTo>
                  <a:pt x="0" y="437596"/>
                </a:lnTo>
                <a:close/>
              </a:path>
            </a:pathLst>
          </a:custGeom>
          <a:solidFill>
            <a:srgbClr val="f2f2f2"/>
          </a:solidFill>
          <a:ln w="38160">
            <a:solidFill>
              <a:srgbClr val="5f5f5f"/>
            </a:solidFill>
            <a:miter/>
          </a:ln>
        </p:spPr>
        <p:style>
          <a:lnRef idx="0"/>
          <a:fillRef idx="0"/>
          <a:effectRef idx="0"/>
          <a:fontRef idx="minor"/>
        </p:style>
        <p:txBody>
          <a:bodyPr lIns="90000" rIns="90000" tIns="46800" bIns="46800" anchor="ctr">
            <a:noAutofit/>
          </a:bodyPr>
          <a:p>
            <a:endParaRPr b="0" lang="en-US" sz="3500" spc="-1" strike="noStrike">
              <a:solidFill>
                <a:srgbClr val="000000"/>
              </a:solidFill>
              <a:latin typeface="Open Sans Light"/>
            </a:endParaRPr>
          </a:p>
        </p:txBody>
      </p:sp>
      <p:sp>
        <p:nvSpPr>
          <p:cNvPr id="2127" name="TextBox 19"/>
          <p:cNvSpPr/>
          <p:nvPr/>
        </p:nvSpPr>
        <p:spPr>
          <a:xfrm>
            <a:off x="18656280" y="7209000"/>
            <a:ext cx="706680" cy="41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827360"/>
                <a:tab algn="l" pos="3654360"/>
                <a:tab algn="l" pos="5481720"/>
                <a:tab algn="l" pos="7308720"/>
                <a:tab algn="l" pos="9136080"/>
                <a:tab algn="l" pos="10963440"/>
              </a:tabLst>
            </a:pPr>
            <a:r>
              <a:rPr b="0" lang="en-US" sz="2100" spc="-1" strike="noStrike">
                <a:solidFill>
                  <a:srgbClr val="7f7f7f"/>
                </a:solidFill>
                <a:latin typeface="Open Sans Light"/>
                <a:ea typeface="Arial"/>
              </a:rPr>
              <a:t>86%</a:t>
            </a:r>
            <a:endParaRPr b="0" lang="en-US" sz="2100" spc="-1" strike="noStrike">
              <a:solidFill>
                <a:srgbClr val="000000"/>
              </a:solidFill>
              <a:latin typeface="Open Sans Light"/>
            </a:endParaRPr>
          </a:p>
        </p:txBody>
      </p:sp>
      <p:sp>
        <p:nvSpPr>
          <p:cNvPr id="2128" name="TextBox 15"/>
          <p:cNvSpPr/>
          <p:nvPr/>
        </p:nvSpPr>
        <p:spPr>
          <a:xfrm>
            <a:off x="1162656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3</a:t>
            </a:r>
            <a:endParaRPr b="0" lang="en-US" sz="2800" spc="-1" strike="noStrike">
              <a:solidFill>
                <a:srgbClr val="000000"/>
              </a:solidFill>
              <a:latin typeface="Open Sans Light"/>
            </a:endParaRPr>
          </a:p>
        </p:txBody>
      </p:sp>
      <p:sp>
        <p:nvSpPr>
          <p:cNvPr id="2129" name="TextBox 16"/>
          <p:cNvSpPr/>
          <p:nvPr/>
        </p:nvSpPr>
        <p:spPr>
          <a:xfrm>
            <a:off x="8258400" y="671364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2</a:t>
            </a:r>
            <a:endParaRPr b="0" lang="en-US" sz="2800" spc="-1" strike="noStrike">
              <a:solidFill>
                <a:srgbClr val="000000"/>
              </a:solidFill>
              <a:latin typeface="Open Sans Light"/>
            </a:endParaRPr>
          </a:p>
        </p:txBody>
      </p:sp>
      <p:sp>
        <p:nvSpPr>
          <p:cNvPr id="2130" name="TextBox 17"/>
          <p:cNvSpPr/>
          <p:nvPr/>
        </p:nvSpPr>
        <p:spPr>
          <a:xfrm>
            <a:off x="15046560" y="671364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4</a:t>
            </a:r>
            <a:endParaRPr b="0" lang="en-US" sz="2800" spc="-1" strike="noStrike">
              <a:solidFill>
                <a:srgbClr val="000000"/>
              </a:solidFill>
              <a:latin typeface="Open Sans Light"/>
            </a:endParaRPr>
          </a:p>
        </p:txBody>
      </p:sp>
      <p:sp>
        <p:nvSpPr>
          <p:cNvPr id="213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INFOGRAPHIC ELEMENTS</a:t>
            </a:r>
            <a:endParaRPr b="0" lang="en-US" sz="6600" spc="-1" strike="noStrike">
              <a:solidFill>
                <a:srgbClr val="000000"/>
              </a:solidFill>
              <a:latin typeface="Open Sans Light"/>
            </a:endParaRPr>
          </a:p>
        </p:txBody>
      </p:sp>
      <p:sp>
        <p:nvSpPr>
          <p:cNvPr id="2132" name="Rectangle 34"/>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sp>
        <p:nvSpPr>
          <p:cNvPr id="2133" name="Rectangle 41"/>
          <p:cNvSpPr/>
          <p:nvPr/>
        </p:nvSpPr>
        <p:spPr>
          <a:xfrm>
            <a:off x="1216080" y="10515600"/>
            <a:ext cx="21945600" cy="2138400"/>
          </a:xfrm>
          <a:prstGeom prst="rect">
            <a:avLst/>
          </a:prstGeom>
          <a:solidFill>
            <a:srgbClr val="b2b2b2">
              <a:alpha val="34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34" name="TextBox 42"/>
          <p:cNvSpPr/>
          <p:nvPr/>
        </p:nvSpPr>
        <p:spPr>
          <a:xfrm>
            <a:off x="3319560" y="10985400"/>
            <a:ext cx="1773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Arial"/>
              </a:rPr>
              <a:t>Lorem ipsum dolor sit amet, consectetur adipiscing elit. Fusce id urna blandit, eleifend nulla ac, fringilla purus Nulla iaculis tempor felis ut cursus. Fusce fringilla risus non odio sollicitudin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Arial"/>
              </a:rPr>
              <a:t>at gravida nibh volutpat. Nullam ut venenatis lectus</a:t>
            </a:r>
            <a:endParaRPr b="0" lang="en-US" sz="2400" spc="-1" strike="noStrike">
              <a:solidFill>
                <a:srgbClr val="000000"/>
              </a:solidFill>
              <a:latin typeface="Open Sans Light"/>
            </a:endParaRPr>
          </a:p>
        </p:txBody>
      </p:sp>
      <p:sp>
        <p:nvSpPr>
          <p:cNvPr id="2135" name="TextBox 43"/>
          <p:cNvSpPr/>
          <p:nvPr/>
        </p:nvSpPr>
        <p:spPr>
          <a:xfrm>
            <a:off x="1833984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5</a:t>
            </a:r>
            <a:endParaRPr b="0" lang="en-US" sz="2800" spc="-1" strike="noStrike">
              <a:solidFill>
                <a:srgbClr val="000000"/>
              </a:solidFill>
              <a:latin typeface="Open Sans Light"/>
            </a:endParaRPr>
          </a:p>
        </p:txBody>
      </p:sp>
      <p:sp>
        <p:nvSpPr>
          <p:cNvPr id="2136" name="TextBox 44"/>
          <p:cNvSpPr/>
          <p:nvPr/>
        </p:nvSpPr>
        <p:spPr>
          <a:xfrm>
            <a:off x="4696200" y="8062920"/>
            <a:ext cx="121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7f7f7f"/>
                </a:solidFill>
                <a:latin typeface="Montserrat Semi Bold"/>
                <a:ea typeface="Arial"/>
              </a:rPr>
              <a:t>Step 1</a:t>
            </a:r>
            <a:endParaRPr b="0" lang="en-US" sz="2800" spc="-1" strike="noStrike">
              <a:solidFill>
                <a:srgbClr val="000000"/>
              </a:solidFill>
              <a:latin typeface="Open Sans Light"/>
            </a:endParaRPr>
          </a:p>
        </p:txBody>
      </p:sp>
      <p:pic>
        <p:nvPicPr>
          <p:cNvPr id="2137" name="Group 4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4" presetSubtype="10">
                                  <p:stCondLst>
                                    <p:cond delay="0"/>
                                  </p:stCondLst>
                                  <p:childTnLst>
                                    <p:set>
                                      <p:cBhvr>
                                        <p:cTn id="210" dur="1" fill="hold">
                                          <p:stCondLst>
                                            <p:cond delay="0"/>
                                          </p:stCondLst>
                                        </p:cTn>
                                        <p:tgtEl>
                                          <p:spTgt spid="2134"/>
                                        </p:tgtEl>
                                        <p:attrNameLst>
                                          <p:attrName>style.visibility</p:attrName>
                                        </p:attrNameLst>
                                      </p:cBhvr>
                                      <p:to>
                                        <p:strVal val="visible"/>
                                      </p:to>
                                    </p:set>
                                    <p:animEffect filter="randombar(horizontal)" transition="in">
                                      <p:cBhvr additive="repl">
                                        <p:cTn id="211" dur="500"/>
                                        <p:tgtEl>
                                          <p:spTgt spid="2134"/>
                                        </p:tgtEl>
                                      </p:cBhvr>
                                    </p:animEffect>
                                  </p:childTnLst>
                                </p:cTn>
                              </p:par>
                            </p:childTnLst>
                          </p:cTn>
                        </p:par>
                        <p:par>
                          <p:cTn id="212" fill="hold">
                            <p:stCondLst>
                              <p:cond delay="500"/>
                            </p:stCondLst>
                            <p:childTnLst>
                              <p:par>
                                <p:cTn id="213" nodeType="afterEffect" fill="hold" presetClass="entr" presetID="16" presetSubtype="37">
                                  <p:stCondLst>
                                    <p:cond delay="0"/>
                                  </p:stCondLst>
                                  <p:childTnLst>
                                    <p:set>
                                      <p:cBhvr>
                                        <p:cTn id="214" dur="1" fill="hold">
                                          <p:stCondLst>
                                            <p:cond delay="0"/>
                                          </p:stCondLst>
                                        </p:cTn>
                                        <p:tgtEl>
                                          <p:spTgt spid="2133"/>
                                        </p:tgtEl>
                                        <p:attrNameLst>
                                          <p:attrName>style.visibility</p:attrName>
                                        </p:attrNameLst>
                                      </p:cBhvr>
                                      <p:to>
                                        <p:strVal val="visible"/>
                                      </p:to>
                                    </p:set>
                                    <p:animEffect filter="barn(outVertical)" transition="in">
                                      <p:cBhvr additive="repl">
                                        <p:cTn id="215" dur="500"/>
                                        <p:tgtEl>
                                          <p:spTgt spid="2133"/>
                                        </p:tgtEl>
                                      </p:cBhvr>
                                    </p:animEffect>
                                  </p:childTnLst>
                                </p:cTn>
                              </p:par>
                            </p:childTnLst>
                          </p:cTn>
                        </p:par>
                        <p:par>
                          <p:cTn id="216" fill="hold">
                            <p:stCondLst>
                              <p:cond delay="1000"/>
                            </p:stCondLst>
                            <p:childTnLst>
                              <p:par>
                                <p:cTn id="217" nodeType="afterEffect" fill="hold" presetClass="entr" presetID="49">
                                  <p:stCondLst>
                                    <p:cond delay="0"/>
                                  </p:stCondLst>
                                  <p:childTnLst>
                                    <p:set>
                                      <p:cBhvr>
                                        <p:cTn id="218" dur="1" fill="hold">
                                          <p:stCondLst>
                                            <p:cond delay="0"/>
                                          </p:stCondLst>
                                        </p:cTn>
                                        <p:tgtEl>
                                          <p:spTgt spid="2137"/>
                                        </p:tgtEl>
                                        <p:attrNameLst>
                                          <p:attrName>style.visibility</p:attrName>
                                        </p:attrNameLst>
                                      </p:cBhvr>
                                      <p:to>
                                        <p:strVal val="visible"/>
                                      </p:to>
                                    </p:set>
                                    <p:anim calcmode="lin" valueType="num">
                                      <p:cBhvr additive="repl">
                                        <p:cTn id="219" dur="500" fill="hold"/>
                                        <p:tgtEl>
                                          <p:spTgt spid="2137"/>
                                        </p:tgtEl>
                                        <p:attrNameLst>
                                          <p:attrName>ppt_w</p:attrName>
                                        </p:attrNameLst>
                                      </p:cBhvr>
                                      <p:tavLst>
                                        <p:tav tm="0">
                                          <p:val>
                                            <p:fltVal val="0"/>
                                          </p:val>
                                        </p:tav>
                                        <p:tav tm="100000">
                                          <p:val>
                                            <p:strVal val="#ppt_w"/>
                                          </p:val>
                                        </p:tav>
                                      </p:tavLst>
                                    </p:anim>
                                    <p:anim calcmode="lin" valueType="num">
                                      <p:cBhvr additive="repl">
                                        <p:cTn id="220" dur="500" fill="hold"/>
                                        <p:tgtEl>
                                          <p:spTgt spid="2137"/>
                                        </p:tgtEl>
                                        <p:attrNameLst>
                                          <p:attrName>ppt_h</p:attrName>
                                        </p:attrNameLst>
                                      </p:cBhvr>
                                      <p:tavLst>
                                        <p:tav tm="0">
                                          <p:val>
                                            <p:fltVal val="0"/>
                                          </p:val>
                                        </p:tav>
                                        <p:tav tm="100000">
                                          <p:val>
                                            <p:strVal val="#ppt_h"/>
                                          </p:val>
                                        </p:tav>
                                      </p:tavLst>
                                    </p:anim>
                                    <p:anim calcmode="lin" valueType="num">
                                      <p:cBhvr additive="repl">
                                        <p:cTn id="221" dur="500" fill="hold"/>
                                        <p:tgtEl>
                                          <p:spTgt spid="2137"/>
                                        </p:tgtEl>
                                        <p:attrNameLst>
                                          <p:attrName>r</p:attrName>
                                        </p:attrNameLst>
                                      </p:cBhvr>
                                      <p:tavLst>
                                        <p:tav tm="0">
                                          <p:val>
                                            <p:strVal val="360"/>
                                          </p:val>
                                        </p:tav>
                                        <p:tav tm="100000">
                                          <p:val>
                                            <p:strVal val="0"/>
                                          </p:val>
                                        </p:tav>
                                      </p:tavLst>
                                    </p:anim>
                                    <p:animEffect filter="fade" transition="in">
                                      <p:cBhvr additive="repl">
                                        <p:cTn id="222" dur="500"/>
                                        <p:tgtEl>
                                          <p:spTgt spid="2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
          <p:cNvSpPr txBox="1"/>
          <p:nvPr/>
        </p:nvSpPr>
        <p:spPr>
          <a:xfrm>
            <a:off x="4916520" y="1105848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THREE</a:t>
            </a:r>
            <a:endParaRPr b="0" lang="en-US" sz="2800" spc="-1" strike="noStrike">
              <a:solidFill>
                <a:srgbClr val="000000"/>
              </a:solidFill>
              <a:latin typeface="Open Sans Light"/>
            </a:endParaRPr>
          </a:p>
        </p:txBody>
      </p:sp>
      <p:sp>
        <p:nvSpPr>
          <p:cNvPr id="2139" name="PlaceHolder 1"/>
          <p:cNvSpPr>
            <a:spLocks noGrp="1"/>
          </p:cNvSpPr>
          <p:nvPr>
            <p:ph/>
          </p:nvPr>
        </p:nvSpPr>
        <p:spPr>
          <a:xfrm>
            <a:off x="4946760" y="925668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0" name="PlaceHolder 2"/>
          <p:cNvSpPr>
            <a:spLocks noGrp="1"/>
          </p:cNvSpPr>
          <p:nvPr>
            <p:ph/>
          </p:nvPr>
        </p:nvSpPr>
        <p:spPr>
          <a:xfrm>
            <a:off x="4916160" y="1152216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SJ INTERNATIONAL</a:t>
            </a:r>
            <a:endParaRPr b="0" lang="en-US" sz="1900" spc="-1" strike="noStrike">
              <a:solidFill>
                <a:srgbClr val="000000"/>
              </a:solidFill>
              <a:latin typeface="Open Sans Light"/>
            </a:endParaRPr>
          </a:p>
        </p:txBody>
      </p:sp>
      <p:sp>
        <p:nvSpPr>
          <p:cNvPr id="2141" name=""/>
          <p:cNvSpPr txBox="1"/>
          <p:nvPr/>
        </p:nvSpPr>
        <p:spPr>
          <a:xfrm>
            <a:off x="4946760" y="724212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ONE</a:t>
            </a:r>
            <a:endParaRPr b="0" lang="en-US" sz="2800" spc="-1" strike="noStrike">
              <a:solidFill>
                <a:srgbClr val="000000"/>
              </a:solidFill>
              <a:latin typeface="Open Sans Light"/>
            </a:endParaRPr>
          </a:p>
        </p:txBody>
      </p:sp>
      <p:sp>
        <p:nvSpPr>
          <p:cNvPr id="2142" name="PlaceHolder 3"/>
          <p:cNvSpPr>
            <a:spLocks noGrp="1"/>
          </p:cNvSpPr>
          <p:nvPr>
            <p:ph/>
          </p:nvPr>
        </p:nvSpPr>
        <p:spPr>
          <a:xfrm>
            <a:off x="4946760" y="541656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3" name="PlaceHolder 4"/>
          <p:cNvSpPr>
            <a:spLocks noGrp="1"/>
          </p:cNvSpPr>
          <p:nvPr>
            <p:ph/>
          </p:nvPr>
        </p:nvSpPr>
        <p:spPr>
          <a:xfrm>
            <a:off x="4946400" y="768024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MIDAS TOUCH</a:t>
            </a:r>
            <a:endParaRPr b="0" lang="en-US" sz="1900" spc="-1" strike="noStrike">
              <a:solidFill>
                <a:srgbClr val="000000"/>
              </a:solidFill>
              <a:latin typeface="Open Sans Light"/>
            </a:endParaRPr>
          </a:p>
        </p:txBody>
      </p:sp>
      <p:sp>
        <p:nvSpPr>
          <p:cNvPr id="2144" name=""/>
          <p:cNvSpPr txBox="1"/>
          <p:nvPr/>
        </p:nvSpPr>
        <p:spPr>
          <a:xfrm>
            <a:off x="14995440" y="1105848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FOUR</a:t>
            </a:r>
            <a:endParaRPr b="0" lang="en-US" sz="2800" spc="-1" strike="noStrike">
              <a:solidFill>
                <a:srgbClr val="000000"/>
              </a:solidFill>
              <a:latin typeface="Open Sans Light"/>
            </a:endParaRPr>
          </a:p>
        </p:txBody>
      </p:sp>
      <p:sp>
        <p:nvSpPr>
          <p:cNvPr id="2145" name="PlaceHolder 5"/>
          <p:cNvSpPr>
            <a:spLocks noGrp="1"/>
          </p:cNvSpPr>
          <p:nvPr>
            <p:ph/>
          </p:nvPr>
        </p:nvSpPr>
        <p:spPr>
          <a:xfrm>
            <a:off x="15025680" y="925668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6" name="PlaceHolder 6"/>
          <p:cNvSpPr>
            <a:spLocks noGrp="1"/>
          </p:cNvSpPr>
          <p:nvPr>
            <p:ph/>
          </p:nvPr>
        </p:nvSpPr>
        <p:spPr>
          <a:xfrm>
            <a:off x="14995440" y="11522160"/>
            <a:ext cx="316728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OMOTTO CRUSH</a:t>
            </a:r>
            <a:endParaRPr b="0" lang="en-US" sz="1900" spc="-1" strike="noStrike">
              <a:solidFill>
                <a:srgbClr val="000000"/>
              </a:solidFill>
              <a:latin typeface="Open Sans Light"/>
            </a:endParaRPr>
          </a:p>
        </p:txBody>
      </p:sp>
      <p:sp>
        <p:nvSpPr>
          <p:cNvPr id="2147" name=""/>
          <p:cNvSpPr txBox="1"/>
          <p:nvPr/>
        </p:nvSpPr>
        <p:spPr>
          <a:xfrm>
            <a:off x="15025680" y="7242120"/>
            <a:ext cx="32004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CLIENT TWO</a:t>
            </a:r>
            <a:endParaRPr b="0" lang="en-US" sz="2800" spc="-1" strike="noStrike">
              <a:solidFill>
                <a:srgbClr val="000000"/>
              </a:solidFill>
              <a:latin typeface="Open Sans Light"/>
            </a:endParaRPr>
          </a:p>
        </p:txBody>
      </p:sp>
      <p:sp>
        <p:nvSpPr>
          <p:cNvPr id="2148" name="PlaceHolder 7"/>
          <p:cNvSpPr>
            <a:spLocks noGrp="1"/>
          </p:cNvSpPr>
          <p:nvPr>
            <p:ph/>
          </p:nvPr>
        </p:nvSpPr>
        <p:spPr>
          <a:xfrm>
            <a:off x="15025680" y="5416560"/>
            <a:ext cx="7122960" cy="1371600"/>
          </a:xfrm>
          <a:prstGeom prst="rect">
            <a:avLst/>
          </a:prstGeom>
          <a:noFill/>
          <a:ln w="0">
            <a:noFill/>
          </a:ln>
        </p:spPr>
        <p:txBody>
          <a:bodyPr lIns="0" rIns="0" tIns="0" bIns="0" anchor="t">
            <a:normAutofit fontScale="96000"/>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149" name="PlaceHolder 8"/>
          <p:cNvSpPr>
            <a:spLocks noGrp="1"/>
          </p:cNvSpPr>
          <p:nvPr>
            <p:ph/>
          </p:nvPr>
        </p:nvSpPr>
        <p:spPr>
          <a:xfrm>
            <a:off x="15025320" y="7680240"/>
            <a:ext cx="3166920" cy="457200"/>
          </a:xfrm>
          <a:prstGeom prst="rect">
            <a:avLst/>
          </a:prstGeom>
          <a:noFill/>
          <a:ln w="0">
            <a:noFill/>
          </a:ln>
        </p:spPr>
        <p:txBody>
          <a:bodyPr lIns="0" rIns="0" tIns="0" bIns="0" anchor="t">
            <a:normAutofit/>
          </a:bodyPr>
          <a:p>
            <a:pPr indent="0">
              <a:lnSpc>
                <a:spcPts val="2812"/>
              </a:lnSpc>
              <a:spcBef>
                <a:spcPts val="2001"/>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SERMARAJ ARTS</a:t>
            </a:r>
            <a:endParaRPr b="0" lang="en-US" sz="1900" spc="-1" strike="noStrike">
              <a:solidFill>
                <a:srgbClr val="000000"/>
              </a:solidFill>
              <a:latin typeface="Open Sans Light"/>
            </a:endParaRPr>
          </a:p>
        </p:txBody>
      </p:sp>
      <p:sp>
        <p:nvSpPr>
          <p:cNvPr id="2150"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ESTIMONIALS</a:t>
            </a:r>
            <a:endParaRPr b="0" lang="en-US" sz="6600" spc="-1" strike="noStrike">
              <a:solidFill>
                <a:srgbClr val="000000"/>
              </a:solidFill>
              <a:latin typeface="Open Sans Light"/>
            </a:endParaRPr>
          </a:p>
        </p:txBody>
      </p:sp>
      <p:sp>
        <p:nvSpPr>
          <p:cNvPr id="2151" name="Rectangle 21"/>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152" name="Group 28"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49">
                                  <p:stCondLst>
                                    <p:cond delay="0"/>
                                  </p:stCondLst>
                                  <p:childTnLst>
                                    <p:set>
                                      <p:cBhvr>
                                        <p:cTn id="228" dur="1" fill="hold">
                                          <p:stCondLst>
                                            <p:cond delay="0"/>
                                          </p:stCondLst>
                                        </p:cTn>
                                        <p:tgtEl>
                                          <p:spTgt spid="2152"/>
                                        </p:tgtEl>
                                        <p:attrNameLst>
                                          <p:attrName>style.visibility</p:attrName>
                                        </p:attrNameLst>
                                      </p:cBhvr>
                                      <p:to>
                                        <p:strVal val="visible"/>
                                      </p:to>
                                    </p:set>
                                    <p:anim calcmode="lin" valueType="num">
                                      <p:cBhvr additive="repl">
                                        <p:cTn id="229" dur="500" fill="hold"/>
                                        <p:tgtEl>
                                          <p:spTgt spid="2152"/>
                                        </p:tgtEl>
                                        <p:attrNameLst>
                                          <p:attrName>ppt_w</p:attrName>
                                        </p:attrNameLst>
                                      </p:cBhvr>
                                      <p:tavLst>
                                        <p:tav tm="0">
                                          <p:val>
                                            <p:fltVal val="0"/>
                                          </p:val>
                                        </p:tav>
                                        <p:tav tm="100000">
                                          <p:val>
                                            <p:strVal val="#ppt_w"/>
                                          </p:val>
                                        </p:tav>
                                      </p:tavLst>
                                    </p:anim>
                                    <p:anim calcmode="lin" valueType="num">
                                      <p:cBhvr additive="repl">
                                        <p:cTn id="230" dur="500" fill="hold"/>
                                        <p:tgtEl>
                                          <p:spTgt spid="2152"/>
                                        </p:tgtEl>
                                        <p:attrNameLst>
                                          <p:attrName>ppt_h</p:attrName>
                                        </p:attrNameLst>
                                      </p:cBhvr>
                                      <p:tavLst>
                                        <p:tav tm="0">
                                          <p:val>
                                            <p:fltVal val="0"/>
                                          </p:val>
                                        </p:tav>
                                        <p:tav tm="100000">
                                          <p:val>
                                            <p:strVal val="#ppt_h"/>
                                          </p:val>
                                        </p:tav>
                                      </p:tavLst>
                                    </p:anim>
                                    <p:anim calcmode="lin" valueType="num">
                                      <p:cBhvr additive="repl">
                                        <p:cTn id="231" dur="500" fill="hold"/>
                                        <p:tgtEl>
                                          <p:spTgt spid="2152"/>
                                        </p:tgtEl>
                                        <p:attrNameLst>
                                          <p:attrName>r</p:attrName>
                                        </p:attrNameLst>
                                      </p:cBhvr>
                                      <p:tavLst>
                                        <p:tav tm="0">
                                          <p:val>
                                            <p:strVal val="360"/>
                                          </p:val>
                                        </p:tav>
                                        <p:tav tm="100000">
                                          <p:val>
                                            <p:strVal val="0"/>
                                          </p:val>
                                        </p:tav>
                                      </p:tavLst>
                                    </p:anim>
                                    <p:animEffect filter="fade" transition="in">
                                      <p:cBhvr additive="repl">
                                        <p:cTn id="232"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154"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OUR PORTFOLIO</a:t>
            </a:r>
            <a:endParaRPr b="0" lang="en-US" sz="10500" spc="-1" strike="noStrike">
              <a:solidFill>
                <a:srgbClr val="000000"/>
              </a:solidFill>
              <a:latin typeface="Open Sans Light"/>
            </a:endParaRPr>
          </a:p>
        </p:txBody>
      </p:sp>
      <p:pic>
        <p:nvPicPr>
          <p:cNvPr id="2155" name="Group 14" descr=""/>
          <p:cNvPicPr/>
          <p:nvPr/>
        </p:nvPicPr>
        <p:blipFill>
          <a:blip r:embed="rId1"/>
          <a:stretch/>
        </p:blipFill>
        <p:spPr>
          <a:xfrm>
            <a:off x="11271240" y="12026880"/>
            <a:ext cx="1828800" cy="104760"/>
          </a:xfrm>
          <a:prstGeom prst="rect">
            <a:avLst/>
          </a:prstGeom>
          <a:ln w="0">
            <a:noFill/>
          </a:ln>
        </p:spPr>
      </p:pic>
      <p:pic>
        <p:nvPicPr>
          <p:cNvPr id="2156"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2153"/>
                                        </p:tgtEl>
                                        <p:attrNameLst>
                                          <p:attrName>style.visibility</p:attrName>
                                        </p:attrNameLst>
                                      </p:cBhvr>
                                      <p:to>
                                        <p:strVal val="visible"/>
                                      </p:to>
                                    </p:set>
                                    <p:animEffect filter="fade" transition="in">
                                      <p:cBhvr additive="repl">
                                        <p:cTn id="239" dur="500"/>
                                        <p:tgtEl>
                                          <p:spTgt spid="2153"/>
                                        </p:tgtEl>
                                      </p:cBhvr>
                                    </p:animEffect>
                                  </p:childTnLst>
                                </p:cTn>
                              </p:par>
                            </p:childTnLst>
                          </p:cTn>
                        </p:par>
                        <p:par>
                          <p:cTn id="240" fill="hold">
                            <p:stCondLst>
                              <p:cond delay="500"/>
                            </p:stCondLst>
                            <p:childTnLst>
                              <p:par>
                                <p:cTn id="241" nodeType="afterEffect" fill="hold" presetClass="entr" presetID="10">
                                  <p:stCondLst>
                                    <p:cond delay="0"/>
                                  </p:stCondLst>
                                  <p:childTnLst>
                                    <p:set>
                                      <p:cBhvr>
                                        <p:cTn id="242" dur="1" fill="hold">
                                          <p:stCondLst>
                                            <p:cond delay="0"/>
                                          </p:stCondLst>
                                        </p:cTn>
                                        <p:tgtEl>
                                          <p:spTgt spid="2154"/>
                                        </p:tgtEl>
                                        <p:attrNameLst>
                                          <p:attrName>style.visibility</p:attrName>
                                        </p:attrNameLst>
                                      </p:cBhvr>
                                      <p:to>
                                        <p:strVal val="visible"/>
                                      </p:to>
                                    </p:set>
                                    <p:animEffect filter="fade" transition="in">
                                      <p:cBhvr additive="repl">
                                        <p:cTn id="243" dur="500"/>
                                        <p:tgtEl>
                                          <p:spTgt spid="2154"/>
                                        </p:tgtEl>
                                      </p:cBhvr>
                                    </p:animEffect>
                                  </p:childTnLst>
                                </p:cTn>
                              </p:par>
                            </p:childTnLst>
                          </p:cTn>
                        </p:par>
                        <p:par>
                          <p:cTn id="244" fill="hold">
                            <p:stCondLst>
                              <p:cond delay="1000"/>
                            </p:stCondLst>
                            <p:childTnLst>
                              <p:par>
                                <p:cTn id="245" nodeType="afterEffect" fill="hold" presetClass="entr" presetID="49">
                                  <p:stCondLst>
                                    <p:cond delay="0"/>
                                  </p:stCondLst>
                                  <p:childTnLst>
                                    <p:set>
                                      <p:cBhvr>
                                        <p:cTn id="246" dur="1" fill="hold">
                                          <p:stCondLst>
                                            <p:cond delay="0"/>
                                          </p:stCondLst>
                                        </p:cTn>
                                        <p:tgtEl>
                                          <p:spTgt spid="2155"/>
                                        </p:tgtEl>
                                        <p:attrNameLst>
                                          <p:attrName>style.visibility</p:attrName>
                                        </p:attrNameLst>
                                      </p:cBhvr>
                                      <p:to>
                                        <p:strVal val="visible"/>
                                      </p:to>
                                    </p:set>
                                    <p:anim calcmode="lin" valueType="num">
                                      <p:cBhvr additive="repl">
                                        <p:cTn id="247" dur="500" fill="hold"/>
                                        <p:tgtEl>
                                          <p:spTgt spid="2155"/>
                                        </p:tgtEl>
                                        <p:attrNameLst>
                                          <p:attrName>ppt_w</p:attrName>
                                        </p:attrNameLst>
                                      </p:cBhvr>
                                      <p:tavLst>
                                        <p:tav tm="0">
                                          <p:val>
                                            <p:fltVal val="0"/>
                                          </p:val>
                                        </p:tav>
                                        <p:tav tm="100000">
                                          <p:val>
                                            <p:strVal val="#ppt_w"/>
                                          </p:val>
                                        </p:tav>
                                      </p:tavLst>
                                    </p:anim>
                                    <p:anim calcmode="lin" valueType="num">
                                      <p:cBhvr additive="repl">
                                        <p:cTn id="248" dur="500" fill="hold"/>
                                        <p:tgtEl>
                                          <p:spTgt spid="2155"/>
                                        </p:tgtEl>
                                        <p:attrNameLst>
                                          <p:attrName>ppt_h</p:attrName>
                                        </p:attrNameLst>
                                      </p:cBhvr>
                                      <p:tavLst>
                                        <p:tav tm="0">
                                          <p:val>
                                            <p:fltVal val="0"/>
                                          </p:val>
                                        </p:tav>
                                        <p:tav tm="100000">
                                          <p:val>
                                            <p:strVal val="#ppt_h"/>
                                          </p:val>
                                        </p:tav>
                                      </p:tavLst>
                                    </p:anim>
                                    <p:anim calcmode="lin" valueType="num">
                                      <p:cBhvr additive="repl">
                                        <p:cTn id="249" dur="500" fill="hold"/>
                                        <p:tgtEl>
                                          <p:spTgt spid="2155"/>
                                        </p:tgtEl>
                                        <p:attrNameLst>
                                          <p:attrName>r</p:attrName>
                                        </p:attrNameLst>
                                      </p:cBhvr>
                                      <p:tavLst>
                                        <p:tav tm="0">
                                          <p:val>
                                            <p:strVal val="360"/>
                                          </p:val>
                                        </p:tav>
                                        <p:tav tm="100000">
                                          <p:val>
                                            <p:strVal val="0"/>
                                          </p:val>
                                        </p:tav>
                                      </p:tavLst>
                                    </p:anim>
                                    <p:animEffect filter="fade" transition="in">
                                      <p:cBhvr additive="repl">
                                        <p:cTn id="250" dur="500"/>
                                        <p:tgtEl>
                                          <p:spTgt spid="2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
          <p:cNvSpPr txBox="1"/>
          <p:nvPr/>
        </p:nvSpPr>
        <p:spPr>
          <a:xfrm>
            <a:off x="3328560" y="6157800"/>
            <a:ext cx="2459160" cy="457200"/>
          </a:xfrm>
          <a:prstGeom prst="rect">
            <a:avLst/>
          </a:prstGeom>
          <a:noFill/>
          <a:ln w="0">
            <a:noFill/>
          </a:ln>
        </p:spPr>
        <p:txBody>
          <a:bodyPr lIns="0" rIns="0" tIns="0" bIns="0" anchor="ctr">
            <a:normAutofit/>
          </a:bodyPr>
          <a:p>
            <a:pPr algn="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1</a:t>
            </a:r>
            <a:endParaRPr b="0" lang="en-US" sz="2800" spc="-1" strike="noStrike">
              <a:solidFill>
                <a:srgbClr val="000000"/>
              </a:solidFill>
              <a:latin typeface="Open Sans Light"/>
            </a:endParaRPr>
          </a:p>
        </p:txBody>
      </p:sp>
      <p:sp>
        <p:nvSpPr>
          <p:cNvPr id="2158" name="PlaceHolder 1"/>
          <p:cNvSpPr>
            <a:spLocks noGrp="1"/>
          </p:cNvSpPr>
          <p:nvPr>
            <p:ph/>
          </p:nvPr>
        </p:nvSpPr>
        <p:spPr>
          <a:xfrm>
            <a:off x="2739600" y="6770160"/>
            <a:ext cx="3048120" cy="1676520"/>
          </a:xfrm>
          <a:prstGeom prst="rect">
            <a:avLst/>
          </a:prstGeom>
          <a:noFill/>
          <a:ln w="0">
            <a:noFill/>
          </a:ln>
        </p:spPr>
        <p:txBody>
          <a:bodyPr lIns="0" rIns="0" tIns="0" bIns="0" anchor="t">
            <a:normAutofit/>
          </a:bodyPr>
          <a:p>
            <a:pPr indent="0" algn="r">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59" name="PlaceHolder 2"/>
          <p:cNvSpPr>
            <a:spLocks noGrp="1"/>
          </p:cNvSpPr>
          <p:nvPr>
            <p:ph/>
          </p:nvPr>
        </p:nvSpPr>
        <p:spPr>
          <a:xfrm>
            <a:off x="2739600" y="10170720"/>
            <a:ext cx="3048120" cy="1676520"/>
          </a:xfrm>
          <a:prstGeom prst="rect">
            <a:avLst/>
          </a:prstGeom>
          <a:noFill/>
          <a:ln w="0">
            <a:noFill/>
          </a:ln>
        </p:spPr>
        <p:txBody>
          <a:bodyPr lIns="0" rIns="0" tIns="0" bIns="0" anchor="t">
            <a:normAutofit/>
          </a:bodyPr>
          <a:p>
            <a:pPr indent="0" algn="r">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0" name=""/>
          <p:cNvSpPr txBox="1"/>
          <p:nvPr/>
        </p:nvSpPr>
        <p:spPr>
          <a:xfrm>
            <a:off x="3328560" y="9558360"/>
            <a:ext cx="2459160" cy="457200"/>
          </a:xfrm>
          <a:prstGeom prst="rect">
            <a:avLst/>
          </a:prstGeom>
          <a:noFill/>
          <a:ln w="0">
            <a:noFill/>
          </a:ln>
        </p:spPr>
        <p:txBody>
          <a:bodyPr lIns="0" rIns="0" tIns="0" bIns="0" anchor="ctr">
            <a:normAutofit/>
          </a:bodyPr>
          <a:p>
            <a:pPr algn="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2</a:t>
            </a:r>
            <a:endParaRPr b="0" lang="en-US" sz="2800" spc="-1" strike="noStrike">
              <a:solidFill>
                <a:srgbClr val="000000"/>
              </a:solidFill>
              <a:latin typeface="Open Sans Light"/>
            </a:endParaRPr>
          </a:p>
        </p:txBody>
      </p:sp>
      <p:sp>
        <p:nvSpPr>
          <p:cNvPr id="2161" name="PlaceHolder 3"/>
          <p:cNvSpPr>
            <a:spLocks noGrp="1"/>
          </p:cNvSpPr>
          <p:nvPr>
            <p:ph/>
          </p:nvPr>
        </p:nvSpPr>
        <p:spPr>
          <a:xfrm>
            <a:off x="18589320" y="6770160"/>
            <a:ext cx="3048120" cy="167652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2" name=""/>
          <p:cNvSpPr txBox="1"/>
          <p:nvPr/>
        </p:nvSpPr>
        <p:spPr>
          <a:xfrm>
            <a:off x="18589320" y="6157800"/>
            <a:ext cx="245916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3</a:t>
            </a:r>
            <a:endParaRPr b="0" lang="en-US" sz="2800" spc="-1" strike="noStrike">
              <a:solidFill>
                <a:srgbClr val="000000"/>
              </a:solidFill>
              <a:latin typeface="Open Sans Light"/>
            </a:endParaRPr>
          </a:p>
        </p:txBody>
      </p:sp>
      <p:sp>
        <p:nvSpPr>
          <p:cNvPr id="2163" name="PlaceHolder 4"/>
          <p:cNvSpPr>
            <a:spLocks noGrp="1"/>
          </p:cNvSpPr>
          <p:nvPr>
            <p:ph/>
          </p:nvPr>
        </p:nvSpPr>
        <p:spPr>
          <a:xfrm>
            <a:off x="18589320" y="10170720"/>
            <a:ext cx="3048120" cy="167652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1900" spc="-1" strike="noStrike">
                <a:solidFill>
                  <a:srgbClr val="595959"/>
                </a:solidFill>
                <a:latin typeface="Open Sans Light"/>
              </a:rPr>
              <a:t>The standard chunk of Lorem Ipsum used since the 1500s is reproduced below for those interested.</a:t>
            </a:r>
            <a:endParaRPr b="0" lang="en-US" sz="1900" spc="-1" strike="noStrike">
              <a:solidFill>
                <a:srgbClr val="000000"/>
              </a:solidFill>
              <a:latin typeface="Open Sans Light"/>
            </a:endParaRPr>
          </a:p>
        </p:txBody>
      </p:sp>
      <p:sp>
        <p:nvSpPr>
          <p:cNvPr id="2164" name=""/>
          <p:cNvSpPr txBox="1"/>
          <p:nvPr/>
        </p:nvSpPr>
        <p:spPr>
          <a:xfrm>
            <a:off x="18589320" y="9558360"/>
            <a:ext cx="245916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DESIGN 4</a:t>
            </a:r>
            <a:endParaRPr b="0" lang="en-US" sz="2800" spc="-1" strike="noStrike">
              <a:solidFill>
                <a:srgbClr val="000000"/>
              </a:solidFill>
              <a:latin typeface="Open Sans Light"/>
            </a:endParaRPr>
          </a:p>
        </p:txBody>
      </p:sp>
      <p:sp>
        <p:nvSpPr>
          <p:cNvPr id="2165"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WO COLUMN</a:t>
            </a:r>
            <a:endParaRPr b="0" lang="en-US" sz="6600" spc="-1" strike="noStrike">
              <a:solidFill>
                <a:srgbClr val="000000"/>
              </a:solidFill>
              <a:latin typeface="Open Sans Light"/>
            </a:endParaRPr>
          </a:p>
        </p:txBody>
      </p:sp>
      <p:sp>
        <p:nvSpPr>
          <p:cNvPr id="2166" name="Rectangle 1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167" name="Group 25" descr=""/>
          <p:cNvPicPr/>
          <p:nvPr/>
        </p:nvPicPr>
        <p:blipFill>
          <a:blip r:embed="rId1"/>
          <a:stretch/>
        </p:blipFill>
        <p:spPr>
          <a:xfrm>
            <a:off x="11271240" y="2651040"/>
            <a:ext cx="1828800" cy="111240"/>
          </a:xfrm>
          <a:prstGeom prst="rect">
            <a:avLst/>
          </a:prstGeom>
          <a:ln w="0">
            <a:noFill/>
          </a:ln>
        </p:spPr>
      </p:pic>
      <p:pic>
        <p:nvPicPr>
          <p:cNvPr id="2168" name="" descr=""/>
          <p:cNvPicPr/>
          <p:nvPr/>
        </p:nvPicPr>
        <p:blipFill>
          <a:blip r:embed="rId2"/>
          <a:stretch/>
        </p:blipFill>
        <p:spPr>
          <a:xfrm>
            <a:off x="6730560" y="5441760"/>
            <a:ext cx="5348520" cy="3176280"/>
          </a:xfrm>
          <a:prstGeom prst="rect">
            <a:avLst/>
          </a:prstGeom>
          <a:ln w="0">
            <a:noFill/>
          </a:ln>
        </p:spPr>
      </p:pic>
      <p:pic>
        <p:nvPicPr>
          <p:cNvPr id="2169" name="" descr=""/>
          <p:cNvPicPr/>
          <p:nvPr/>
        </p:nvPicPr>
        <p:blipFill>
          <a:blip r:embed="rId3"/>
          <a:stretch/>
        </p:blipFill>
        <p:spPr>
          <a:xfrm>
            <a:off x="12322080" y="5441760"/>
            <a:ext cx="5345280" cy="3176280"/>
          </a:xfrm>
          <a:prstGeom prst="rect">
            <a:avLst/>
          </a:prstGeom>
          <a:ln w="0">
            <a:noFill/>
          </a:ln>
        </p:spPr>
      </p:pic>
      <p:pic>
        <p:nvPicPr>
          <p:cNvPr id="2170" name="" descr=""/>
          <p:cNvPicPr/>
          <p:nvPr/>
        </p:nvPicPr>
        <p:blipFill>
          <a:blip r:embed="rId4"/>
          <a:stretch/>
        </p:blipFill>
        <p:spPr>
          <a:xfrm>
            <a:off x="12322080" y="8801280"/>
            <a:ext cx="5345280" cy="3178080"/>
          </a:xfrm>
          <a:prstGeom prst="rect">
            <a:avLst/>
          </a:prstGeom>
          <a:ln w="0">
            <a:noFill/>
          </a:ln>
        </p:spPr>
      </p:pic>
      <p:pic>
        <p:nvPicPr>
          <p:cNvPr id="2171" name="" descr=""/>
          <p:cNvPicPr/>
          <p:nvPr/>
        </p:nvPicPr>
        <p:blipFill>
          <a:blip r:embed="rId5"/>
          <a:stretch/>
        </p:blipFill>
        <p:spPr>
          <a:xfrm>
            <a:off x="6737040" y="8801280"/>
            <a:ext cx="5335560" cy="31780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9">
                                  <p:stCondLst>
                                    <p:cond delay="0"/>
                                  </p:stCondLst>
                                  <p:childTnLst>
                                    <p:set>
                                      <p:cBhvr>
                                        <p:cTn id="256" dur="1" fill="hold">
                                          <p:stCondLst>
                                            <p:cond delay="0"/>
                                          </p:stCondLst>
                                        </p:cTn>
                                        <p:tgtEl>
                                          <p:spTgt spid="2167"/>
                                        </p:tgtEl>
                                        <p:attrNameLst>
                                          <p:attrName>style.visibility</p:attrName>
                                        </p:attrNameLst>
                                      </p:cBhvr>
                                      <p:to>
                                        <p:strVal val="visible"/>
                                      </p:to>
                                    </p:set>
                                    <p:anim calcmode="lin" valueType="num">
                                      <p:cBhvr additive="repl">
                                        <p:cTn id="257" dur="500" fill="hold"/>
                                        <p:tgtEl>
                                          <p:spTgt spid="2167"/>
                                        </p:tgtEl>
                                        <p:attrNameLst>
                                          <p:attrName>ppt_w</p:attrName>
                                        </p:attrNameLst>
                                      </p:cBhvr>
                                      <p:tavLst>
                                        <p:tav tm="0">
                                          <p:val>
                                            <p:fltVal val="0"/>
                                          </p:val>
                                        </p:tav>
                                        <p:tav tm="100000">
                                          <p:val>
                                            <p:strVal val="#ppt_w"/>
                                          </p:val>
                                        </p:tav>
                                      </p:tavLst>
                                    </p:anim>
                                    <p:anim calcmode="lin" valueType="num">
                                      <p:cBhvr additive="repl">
                                        <p:cTn id="258" dur="500" fill="hold"/>
                                        <p:tgtEl>
                                          <p:spTgt spid="2167"/>
                                        </p:tgtEl>
                                        <p:attrNameLst>
                                          <p:attrName>ppt_h</p:attrName>
                                        </p:attrNameLst>
                                      </p:cBhvr>
                                      <p:tavLst>
                                        <p:tav tm="0">
                                          <p:val>
                                            <p:fltVal val="0"/>
                                          </p:val>
                                        </p:tav>
                                        <p:tav tm="100000">
                                          <p:val>
                                            <p:strVal val="#ppt_h"/>
                                          </p:val>
                                        </p:tav>
                                      </p:tavLst>
                                    </p:anim>
                                    <p:anim calcmode="lin" valueType="num">
                                      <p:cBhvr additive="repl">
                                        <p:cTn id="259" dur="500" fill="hold"/>
                                        <p:tgtEl>
                                          <p:spTgt spid="2167"/>
                                        </p:tgtEl>
                                        <p:attrNameLst>
                                          <p:attrName>r</p:attrName>
                                        </p:attrNameLst>
                                      </p:cBhvr>
                                      <p:tavLst>
                                        <p:tav tm="0">
                                          <p:val>
                                            <p:strVal val="360"/>
                                          </p:val>
                                        </p:tav>
                                        <p:tav tm="100000">
                                          <p:val>
                                            <p:strVal val="0"/>
                                          </p:val>
                                        </p:tav>
                                      </p:tavLst>
                                    </p:anim>
                                    <p:animEffect filter="fade" transition="in">
                                      <p:cBhvr additive="repl">
                                        <p:cTn id="260"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p:nvPr>
        </p:nvSpPr>
        <p:spPr>
          <a:xfrm>
            <a:off x="9877320" y="3565440"/>
            <a:ext cx="337824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2</a:t>
            </a:r>
            <a:endParaRPr b="0" lang="en-US" sz="2600" spc="-1" strike="noStrike">
              <a:solidFill>
                <a:srgbClr val="000000"/>
              </a:solidFill>
              <a:latin typeface="Open Sans Light"/>
            </a:endParaRPr>
          </a:p>
        </p:txBody>
      </p:sp>
      <p:sp>
        <p:nvSpPr>
          <p:cNvPr id="2173" name="PlaceHolder 2"/>
          <p:cNvSpPr>
            <a:spLocks noGrp="1"/>
          </p:cNvSpPr>
          <p:nvPr>
            <p:ph/>
          </p:nvPr>
        </p:nvSpPr>
        <p:spPr>
          <a:xfrm>
            <a:off x="3349800" y="3565440"/>
            <a:ext cx="337968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1</a:t>
            </a:r>
            <a:endParaRPr b="0" lang="en-US" sz="2600" spc="-1" strike="noStrike">
              <a:solidFill>
                <a:srgbClr val="000000"/>
              </a:solidFill>
              <a:latin typeface="Open Sans Light"/>
            </a:endParaRPr>
          </a:p>
        </p:txBody>
      </p:sp>
      <p:sp>
        <p:nvSpPr>
          <p:cNvPr id="2174" name="PlaceHolder 3"/>
          <p:cNvSpPr>
            <a:spLocks noGrp="1"/>
          </p:cNvSpPr>
          <p:nvPr>
            <p:ph/>
          </p:nvPr>
        </p:nvSpPr>
        <p:spPr>
          <a:xfrm>
            <a:off x="9877320" y="11690280"/>
            <a:ext cx="337824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5</a:t>
            </a:r>
            <a:endParaRPr b="0" lang="en-US" sz="2600" spc="-1" strike="noStrike">
              <a:solidFill>
                <a:srgbClr val="000000"/>
              </a:solidFill>
              <a:latin typeface="Open Sans Light"/>
            </a:endParaRPr>
          </a:p>
        </p:txBody>
      </p:sp>
      <p:sp>
        <p:nvSpPr>
          <p:cNvPr id="2175" name="PlaceHolder 4"/>
          <p:cNvSpPr>
            <a:spLocks noGrp="1"/>
          </p:cNvSpPr>
          <p:nvPr>
            <p:ph/>
          </p:nvPr>
        </p:nvSpPr>
        <p:spPr>
          <a:xfrm>
            <a:off x="3349800" y="11690280"/>
            <a:ext cx="3379680" cy="549360"/>
          </a:xfrm>
          <a:prstGeom prst="rect">
            <a:avLst/>
          </a:prstGeom>
          <a:noFill/>
          <a:ln w="0">
            <a:noFill/>
          </a:ln>
        </p:spPr>
        <p:txBody>
          <a:bodyPr lIns="0" rIns="0" tIns="0" bIns="0" anchor="ctr">
            <a:normAutofit/>
          </a:bodyPr>
          <a:p>
            <a:pPr indent="0">
              <a:lnSpc>
                <a:spcPct val="100000"/>
              </a:lnSpc>
              <a:spcBef>
                <a:spcPts val="2001"/>
              </a:spcBef>
              <a:buNone/>
              <a:tabLst>
                <a:tab algn="l" pos="0"/>
                <a:tab algn="l" pos="1827360"/>
                <a:tab algn="l" pos="3654360"/>
                <a:tab algn="l" pos="5481720"/>
                <a:tab algn="l" pos="7308720"/>
                <a:tab algn="l" pos="9136080"/>
                <a:tab algn="l" pos="10963440"/>
              </a:tabLst>
            </a:pPr>
            <a:r>
              <a:rPr b="0" lang="en-US" sz="2600" spc="-1" strike="noStrike">
                <a:solidFill>
                  <a:srgbClr val="595959"/>
                </a:solidFill>
                <a:latin typeface="Montserrat Semi Bold"/>
              </a:rPr>
              <a:t>DESIGN 4</a:t>
            </a:r>
            <a:endParaRPr b="0" lang="en-US" sz="2600" spc="-1" strike="noStrike">
              <a:solidFill>
                <a:srgbClr val="000000"/>
              </a:solidFill>
              <a:latin typeface="Open Sans Light"/>
            </a:endParaRPr>
          </a:p>
        </p:txBody>
      </p:sp>
      <p:sp>
        <p:nvSpPr>
          <p:cNvPr id="2176" name="PlaceHolder 5"/>
          <p:cNvSpPr>
            <a:spLocks noGrp="1"/>
          </p:cNvSpPr>
          <p:nvPr>
            <p:ph/>
          </p:nvPr>
        </p:nvSpPr>
        <p:spPr>
          <a:xfrm>
            <a:off x="16378200" y="3565440"/>
            <a:ext cx="3378240" cy="549360"/>
          </a:xfrm>
          <a:prstGeom prst="rect">
            <a:avLst/>
          </a:prstGeom>
          <a:noFill/>
          <a:ln w="0">
            <a:noFill/>
          </a:ln>
        </p:spPr>
        <p:txBody>
          <a:bodyPr lIns="0" rIns="0" tIns="0" bIns="0" anchor="ctr">
            <a:normAutofit/>
          </a:bodyPr>
          <a:p>
            <a:pPr indent="0">
              <a:lnSpc>
                <a:spcPct val="130000"/>
              </a:lnSpc>
              <a:spcBef>
                <a:spcPts val="2001"/>
              </a:spcBef>
              <a:buNone/>
              <a:tabLst>
                <a:tab algn="l" pos="0"/>
                <a:tab algn="l" pos="1827360"/>
                <a:tab algn="l" pos="3654360"/>
                <a:tab algn="l" pos="5481720"/>
                <a:tab algn="l" pos="7308720"/>
                <a:tab algn="l" pos="9136080"/>
                <a:tab algn="l" pos="10963440"/>
              </a:tabLst>
            </a:pPr>
            <a:r>
              <a:rPr b="0" lang="en-US" sz="2700" spc="-1" strike="noStrike">
                <a:solidFill>
                  <a:srgbClr val="595959"/>
                </a:solidFill>
                <a:latin typeface="Montserrat Semi Bold"/>
              </a:rPr>
              <a:t>DESIGN 3</a:t>
            </a:r>
            <a:endParaRPr b="0" lang="en-US" sz="2700" spc="-1" strike="noStrike">
              <a:solidFill>
                <a:srgbClr val="000000"/>
              </a:solidFill>
              <a:latin typeface="Open Sans Light"/>
            </a:endParaRPr>
          </a:p>
        </p:txBody>
      </p:sp>
      <p:sp>
        <p:nvSpPr>
          <p:cNvPr id="2177" name="PlaceHolder 6"/>
          <p:cNvSpPr>
            <a:spLocks noGrp="1"/>
          </p:cNvSpPr>
          <p:nvPr>
            <p:ph/>
          </p:nvPr>
        </p:nvSpPr>
        <p:spPr>
          <a:xfrm>
            <a:off x="16378200" y="11690280"/>
            <a:ext cx="3378240" cy="549360"/>
          </a:xfrm>
          <a:prstGeom prst="rect">
            <a:avLst/>
          </a:prstGeom>
          <a:noFill/>
          <a:ln w="0">
            <a:noFill/>
          </a:ln>
        </p:spPr>
        <p:txBody>
          <a:bodyPr lIns="0" rIns="0" tIns="0" bIns="0" anchor="ctr">
            <a:normAutofit/>
          </a:bodyPr>
          <a:p>
            <a:pPr indent="0">
              <a:lnSpc>
                <a:spcPct val="130000"/>
              </a:lnSpc>
              <a:spcBef>
                <a:spcPts val="2001"/>
              </a:spcBef>
              <a:buNone/>
              <a:tabLst>
                <a:tab algn="l" pos="0"/>
                <a:tab algn="l" pos="1827360"/>
                <a:tab algn="l" pos="3654360"/>
                <a:tab algn="l" pos="5481720"/>
                <a:tab algn="l" pos="7308720"/>
                <a:tab algn="l" pos="9136080"/>
                <a:tab algn="l" pos="10963440"/>
              </a:tabLst>
            </a:pPr>
            <a:r>
              <a:rPr b="0" lang="en-US" sz="2700" spc="-1" strike="noStrike">
                <a:solidFill>
                  <a:srgbClr val="595959"/>
                </a:solidFill>
                <a:latin typeface="Montserrat Semi Bold"/>
              </a:rPr>
              <a:t>DESIGN 6</a:t>
            </a:r>
            <a:endParaRPr b="0" lang="en-US" sz="2700" spc="-1" strike="noStrike">
              <a:solidFill>
                <a:srgbClr val="000000"/>
              </a:solidFill>
              <a:latin typeface="Open Sans Light"/>
            </a:endParaRPr>
          </a:p>
        </p:txBody>
      </p:sp>
      <p:sp>
        <p:nvSpPr>
          <p:cNvPr id="217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THREE COLUMN</a:t>
            </a:r>
            <a:endParaRPr b="0" lang="en-US" sz="6600" spc="-1" strike="noStrike">
              <a:solidFill>
                <a:srgbClr val="000000"/>
              </a:solidFill>
              <a:latin typeface="Open Sans Light"/>
            </a:endParaRPr>
          </a:p>
        </p:txBody>
      </p:sp>
      <p:pic>
        <p:nvPicPr>
          <p:cNvPr id="2179" name="Group 25" descr=""/>
          <p:cNvPicPr/>
          <p:nvPr/>
        </p:nvPicPr>
        <p:blipFill>
          <a:blip r:embed="rId1"/>
          <a:stretch/>
        </p:blipFill>
        <p:spPr>
          <a:xfrm>
            <a:off x="11271240" y="2651040"/>
            <a:ext cx="1828800" cy="111240"/>
          </a:xfrm>
          <a:prstGeom prst="rect">
            <a:avLst/>
          </a:prstGeom>
          <a:ln w="0">
            <a:noFill/>
          </a:ln>
        </p:spPr>
      </p:pic>
      <p:pic>
        <p:nvPicPr>
          <p:cNvPr id="2180" name="" descr=""/>
          <p:cNvPicPr/>
          <p:nvPr/>
        </p:nvPicPr>
        <p:blipFill>
          <a:blip r:embed="rId2"/>
          <a:stretch/>
        </p:blipFill>
        <p:spPr>
          <a:xfrm>
            <a:off x="2450880" y="4419360"/>
            <a:ext cx="6419880" cy="3475080"/>
          </a:xfrm>
          <a:prstGeom prst="rect">
            <a:avLst/>
          </a:prstGeom>
          <a:ln w="0">
            <a:noFill/>
          </a:ln>
        </p:spPr>
      </p:pic>
      <p:pic>
        <p:nvPicPr>
          <p:cNvPr id="2181" name="" descr=""/>
          <p:cNvPicPr/>
          <p:nvPr/>
        </p:nvPicPr>
        <p:blipFill>
          <a:blip r:embed="rId3"/>
          <a:stretch/>
        </p:blipFill>
        <p:spPr>
          <a:xfrm>
            <a:off x="8976960" y="4419360"/>
            <a:ext cx="6419880" cy="3475080"/>
          </a:xfrm>
          <a:prstGeom prst="rect">
            <a:avLst/>
          </a:prstGeom>
          <a:ln w="0">
            <a:noFill/>
          </a:ln>
        </p:spPr>
      </p:pic>
      <p:pic>
        <p:nvPicPr>
          <p:cNvPr id="2182" name="" descr=""/>
          <p:cNvPicPr/>
          <p:nvPr/>
        </p:nvPicPr>
        <p:blipFill>
          <a:blip r:embed="rId4"/>
          <a:stretch/>
        </p:blipFill>
        <p:spPr>
          <a:xfrm>
            <a:off x="15509880" y="4419360"/>
            <a:ext cx="6418080" cy="3475080"/>
          </a:xfrm>
          <a:prstGeom prst="rect">
            <a:avLst/>
          </a:prstGeom>
          <a:ln w="0">
            <a:noFill/>
          </a:ln>
        </p:spPr>
      </p:pic>
      <p:pic>
        <p:nvPicPr>
          <p:cNvPr id="2183" name="" descr=""/>
          <p:cNvPicPr/>
          <p:nvPr/>
        </p:nvPicPr>
        <p:blipFill>
          <a:blip r:embed="rId5"/>
          <a:stretch/>
        </p:blipFill>
        <p:spPr>
          <a:xfrm>
            <a:off x="15509880" y="8024400"/>
            <a:ext cx="6418080" cy="3475080"/>
          </a:xfrm>
          <a:prstGeom prst="rect">
            <a:avLst/>
          </a:prstGeom>
          <a:ln w="0">
            <a:noFill/>
          </a:ln>
        </p:spPr>
      </p:pic>
      <p:pic>
        <p:nvPicPr>
          <p:cNvPr id="2184" name="" descr=""/>
          <p:cNvPicPr/>
          <p:nvPr/>
        </p:nvPicPr>
        <p:blipFill>
          <a:blip r:embed="rId6"/>
          <a:stretch/>
        </p:blipFill>
        <p:spPr>
          <a:xfrm>
            <a:off x="8976960" y="8024400"/>
            <a:ext cx="6419880" cy="3475080"/>
          </a:xfrm>
          <a:prstGeom prst="rect">
            <a:avLst/>
          </a:prstGeom>
          <a:ln w="0">
            <a:noFill/>
          </a:ln>
        </p:spPr>
      </p:pic>
      <p:pic>
        <p:nvPicPr>
          <p:cNvPr id="2185" name="" descr=""/>
          <p:cNvPicPr/>
          <p:nvPr/>
        </p:nvPicPr>
        <p:blipFill>
          <a:blip r:embed="rId7"/>
          <a:stretch/>
        </p:blipFill>
        <p:spPr>
          <a:xfrm>
            <a:off x="2450880" y="8024400"/>
            <a:ext cx="6419880" cy="3475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49">
                                  <p:stCondLst>
                                    <p:cond delay="0"/>
                                  </p:stCondLst>
                                  <p:childTnLst>
                                    <p:set>
                                      <p:cBhvr>
                                        <p:cTn id="266" dur="1" fill="hold">
                                          <p:stCondLst>
                                            <p:cond delay="0"/>
                                          </p:stCondLst>
                                        </p:cTn>
                                        <p:tgtEl>
                                          <p:spTgt spid="2179"/>
                                        </p:tgtEl>
                                        <p:attrNameLst>
                                          <p:attrName>style.visibility</p:attrName>
                                        </p:attrNameLst>
                                      </p:cBhvr>
                                      <p:to>
                                        <p:strVal val="visible"/>
                                      </p:to>
                                    </p:set>
                                    <p:anim calcmode="lin" valueType="num">
                                      <p:cBhvr additive="repl">
                                        <p:cTn id="267" dur="500" fill="hold"/>
                                        <p:tgtEl>
                                          <p:spTgt spid="2179"/>
                                        </p:tgtEl>
                                        <p:attrNameLst>
                                          <p:attrName>ppt_w</p:attrName>
                                        </p:attrNameLst>
                                      </p:cBhvr>
                                      <p:tavLst>
                                        <p:tav tm="0">
                                          <p:val>
                                            <p:fltVal val="0"/>
                                          </p:val>
                                        </p:tav>
                                        <p:tav tm="100000">
                                          <p:val>
                                            <p:strVal val="#ppt_w"/>
                                          </p:val>
                                        </p:tav>
                                      </p:tavLst>
                                    </p:anim>
                                    <p:anim calcmode="lin" valueType="num">
                                      <p:cBhvr additive="repl">
                                        <p:cTn id="268" dur="500" fill="hold"/>
                                        <p:tgtEl>
                                          <p:spTgt spid="2179"/>
                                        </p:tgtEl>
                                        <p:attrNameLst>
                                          <p:attrName>ppt_h</p:attrName>
                                        </p:attrNameLst>
                                      </p:cBhvr>
                                      <p:tavLst>
                                        <p:tav tm="0">
                                          <p:val>
                                            <p:fltVal val="0"/>
                                          </p:val>
                                        </p:tav>
                                        <p:tav tm="100000">
                                          <p:val>
                                            <p:strVal val="#ppt_h"/>
                                          </p:val>
                                        </p:tav>
                                      </p:tavLst>
                                    </p:anim>
                                    <p:anim calcmode="lin" valueType="num">
                                      <p:cBhvr additive="repl">
                                        <p:cTn id="269" dur="500" fill="hold"/>
                                        <p:tgtEl>
                                          <p:spTgt spid="2179"/>
                                        </p:tgtEl>
                                        <p:attrNameLst>
                                          <p:attrName>r</p:attrName>
                                        </p:attrNameLst>
                                      </p:cBhvr>
                                      <p:tavLst>
                                        <p:tav tm="0">
                                          <p:val>
                                            <p:strVal val="360"/>
                                          </p:val>
                                        </p:tav>
                                        <p:tav tm="100000">
                                          <p:val>
                                            <p:strVal val="0"/>
                                          </p:val>
                                        </p:tav>
                                      </p:tavLst>
                                    </p:anim>
                                    <p:animEffect filter="fade" transition="in">
                                      <p:cBhvr additive="repl">
                                        <p:cTn id="270" dur="5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LARGE DESIGN</a:t>
            </a:r>
            <a:endParaRPr b="0" lang="en-US" sz="6600" spc="-1" strike="noStrike">
              <a:solidFill>
                <a:srgbClr val="000000"/>
              </a:solidFill>
              <a:latin typeface="Open Sans Light"/>
            </a:endParaRPr>
          </a:p>
        </p:txBody>
      </p:sp>
      <p:sp>
        <p:nvSpPr>
          <p:cNvPr id="2187" name="Rectangle 16"/>
          <p:cNvSpPr/>
          <p:nvPr/>
        </p:nvSpPr>
        <p:spPr>
          <a:xfrm>
            <a:off x="4788000" y="2997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188" name="Rectangle 26"/>
          <p:cNvSpPr/>
          <p:nvPr/>
        </p:nvSpPr>
        <p:spPr>
          <a:xfrm>
            <a:off x="3376440" y="5187960"/>
            <a:ext cx="5986800" cy="8012160"/>
          </a:xfrm>
          <a:prstGeom prst="rec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189" name="Rectángulo 25"/>
          <p:cNvSpPr/>
          <p:nvPr/>
        </p:nvSpPr>
        <p:spPr>
          <a:xfrm>
            <a:off x="3963960" y="5958000"/>
            <a:ext cx="489888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s-MX" sz="2600" spc="-1" strike="noStrike">
                <a:solidFill>
                  <a:srgbClr val="ffffff"/>
                </a:solidFill>
                <a:latin typeface="Open Sans Light"/>
              </a:rPr>
              <a:t>Consectetur adipiscing elit. Sed a ultricies eros, eu aliquam tortor. Phasellus ac magna viverra, auctor enim at, lobortis tellus. Nam ac fringilla enim ultricies eros, eu aliquam tortor. </a:t>
            </a:r>
            <a:endParaRPr b="0" lang="en-US" sz="2600" spc="-1" strike="noStrike">
              <a:solidFill>
                <a:srgbClr val="000000"/>
              </a:solidFill>
              <a:latin typeface="Open Sans Light"/>
            </a:endParaRPr>
          </a:p>
        </p:txBody>
      </p:sp>
      <p:pic>
        <p:nvPicPr>
          <p:cNvPr id="2190" name="Group 12" descr=""/>
          <p:cNvPicPr/>
          <p:nvPr/>
        </p:nvPicPr>
        <p:blipFill>
          <a:blip r:embed="rId1"/>
          <a:stretch/>
        </p:blipFill>
        <p:spPr>
          <a:xfrm>
            <a:off x="11271240" y="2651040"/>
            <a:ext cx="1828800" cy="111240"/>
          </a:xfrm>
          <a:prstGeom prst="rect">
            <a:avLst/>
          </a:prstGeom>
          <a:ln w="0">
            <a:noFill/>
          </a:ln>
        </p:spPr>
      </p:pic>
      <p:pic>
        <p:nvPicPr>
          <p:cNvPr id="2191" name="" descr=""/>
          <p:cNvPicPr/>
          <p:nvPr/>
        </p:nvPicPr>
        <p:blipFill>
          <a:blip r:embed="rId2"/>
          <a:stretch/>
        </p:blipFill>
        <p:spPr>
          <a:xfrm>
            <a:off x="1500120" y="4012920"/>
            <a:ext cx="21404160" cy="832644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49">
                                  <p:stCondLst>
                                    <p:cond delay="0"/>
                                  </p:stCondLst>
                                  <p:childTnLst>
                                    <p:set>
                                      <p:cBhvr>
                                        <p:cTn id="276" dur="1" fill="hold">
                                          <p:stCondLst>
                                            <p:cond delay="0"/>
                                          </p:stCondLst>
                                        </p:cTn>
                                        <p:tgtEl>
                                          <p:spTgt spid="2190"/>
                                        </p:tgtEl>
                                        <p:attrNameLst>
                                          <p:attrName>style.visibility</p:attrName>
                                        </p:attrNameLst>
                                      </p:cBhvr>
                                      <p:to>
                                        <p:strVal val="visible"/>
                                      </p:to>
                                    </p:set>
                                    <p:anim calcmode="lin" valueType="num">
                                      <p:cBhvr additive="repl">
                                        <p:cTn id="277" dur="500" fill="hold"/>
                                        <p:tgtEl>
                                          <p:spTgt spid="2190"/>
                                        </p:tgtEl>
                                        <p:attrNameLst>
                                          <p:attrName>ppt_w</p:attrName>
                                        </p:attrNameLst>
                                      </p:cBhvr>
                                      <p:tavLst>
                                        <p:tav tm="0">
                                          <p:val>
                                            <p:fltVal val="0"/>
                                          </p:val>
                                        </p:tav>
                                        <p:tav tm="100000">
                                          <p:val>
                                            <p:strVal val="#ppt_w"/>
                                          </p:val>
                                        </p:tav>
                                      </p:tavLst>
                                    </p:anim>
                                    <p:anim calcmode="lin" valueType="num">
                                      <p:cBhvr additive="repl">
                                        <p:cTn id="278" dur="500" fill="hold"/>
                                        <p:tgtEl>
                                          <p:spTgt spid="2190"/>
                                        </p:tgtEl>
                                        <p:attrNameLst>
                                          <p:attrName>ppt_h</p:attrName>
                                        </p:attrNameLst>
                                      </p:cBhvr>
                                      <p:tavLst>
                                        <p:tav tm="0">
                                          <p:val>
                                            <p:fltVal val="0"/>
                                          </p:val>
                                        </p:tav>
                                        <p:tav tm="100000">
                                          <p:val>
                                            <p:strVal val="#ppt_h"/>
                                          </p:val>
                                        </p:tav>
                                      </p:tavLst>
                                    </p:anim>
                                    <p:anim calcmode="lin" valueType="num">
                                      <p:cBhvr additive="repl">
                                        <p:cTn id="279" dur="500" fill="hold"/>
                                        <p:tgtEl>
                                          <p:spTgt spid="2190"/>
                                        </p:tgtEl>
                                        <p:attrNameLst>
                                          <p:attrName>r</p:attrName>
                                        </p:attrNameLst>
                                      </p:cBhvr>
                                      <p:tavLst>
                                        <p:tav tm="0">
                                          <p:val>
                                            <p:strVal val="360"/>
                                          </p:val>
                                        </p:tav>
                                        <p:tav tm="100000">
                                          <p:val>
                                            <p:strVal val="0"/>
                                          </p:val>
                                        </p:tav>
                                      </p:tavLst>
                                    </p:anim>
                                    <p:animEffect filter="fade" transition="in">
                                      <p:cBhvr additive="repl">
                                        <p:cTn id="280" dur="500"/>
                                        <p:tgtEl>
                                          <p:spTgt spid="2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hape 101"/>
          <p:cNvSpPr/>
          <p:nvPr/>
        </p:nvSpPr>
        <p:spPr>
          <a:xfrm>
            <a:off x="8988480" y="8093160"/>
            <a:ext cx="6400800" cy="1150920"/>
          </a:xfrm>
          <a:prstGeom prst="rect">
            <a:avLst/>
          </a:prstGeom>
          <a:solidFill>
            <a:srgbClr val="6f6f6f"/>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Open Sans"/>
                <a:ea typeface="Open Sans"/>
              </a:rPr>
              <a:t>Now… Lets talk about…</a:t>
            </a:r>
            <a:endParaRPr b="0" lang="en-US" sz="3600" spc="-1" strike="noStrike">
              <a:solidFill>
                <a:srgbClr val="000000"/>
              </a:solidFill>
              <a:latin typeface="Open Sans Light"/>
            </a:endParaRPr>
          </a:p>
        </p:txBody>
      </p:sp>
      <p:sp>
        <p:nvSpPr>
          <p:cNvPr id="2193"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CHARTS &amp; OBJECTS</a:t>
            </a:r>
            <a:endParaRPr b="0" lang="en-US" sz="10500" spc="-1" strike="noStrike">
              <a:solidFill>
                <a:srgbClr val="000000"/>
              </a:solidFill>
              <a:latin typeface="Open Sans Light"/>
            </a:endParaRPr>
          </a:p>
        </p:txBody>
      </p:sp>
      <p:pic>
        <p:nvPicPr>
          <p:cNvPr id="2194" name="Group 14" descr=""/>
          <p:cNvPicPr/>
          <p:nvPr/>
        </p:nvPicPr>
        <p:blipFill>
          <a:blip r:embed="rId1"/>
          <a:stretch/>
        </p:blipFill>
        <p:spPr>
          <a:xfrm>
            <a:off x="11271240" y="12026880"/>
            <a:ext cx="1828800" cy="104760"/>
          </a:xfrm>
          <a:prstGeom prst="rect">
            <a:avLst/>
          </a:prstGeom>
          <a:ln w="0">
            <a:noFill/>
          </a:ln>
        </p:spPr>
      </p:pic>
      <p:pic>
        <p:nvPicPr>
          <p:cNvPr id="2195"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192"/>
                                        </p:tgtEl>
                                        <p:attrNameLst>
                                          <p:attrName>style.visibility</p:attrName>
                                        </p:attrNameLst>
                                      </p:cBhvr>
                                      <p:to>
                                        <p:strVal val="visible"/>
                                      </p:to>
                                    </p:set>
                                    <p:animEffect filter="fade" transition="in">
                                      <p:cBhvr additive="repl">
                                        <p:cTn id="287" dur="500"/>
                                        <p:tgtEl>
                                          <p:spTgt spid="2192"/>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193"/>
                                        </p:tgtEl>
                                        <p:attrNameLst>
                                          <p:attrName>style.visibility</p:attrName>
                                        </p:attrNameLst>
                                      </p:cBhvr>
                                      <p:to>
                                        <p:strVal val="visible"/>
                                      </p:to>
                                    </p:set>
                                    <p:animEffect filter="fade" transition="in">
                                      <p:cBhvr additive="repl">
                                        <p:cTn id="291" dur="500"/>
                                        <p:tgtEl>
                                          <p:spTgt spid="2193"/>
                                        </p:tgtEl>
                                      </p:cBhvr>
                                    </p:animEffect>
                                  </p:childTnLst>
                                </p:cTn>
                              </p:par>
                            </p:childTnLst>
                          </p:cTn>
                        </p:par>
                        <p:par>
                          <p:cTn id="292" fill="hold">
                            <p:stCondLst>
                              <p:cond delay="1000"/>
                            </p:stCondLst>
                            <p:childTnLst>
                              <p:par>
                                <p:cTn id="293" nodeType="afterEffect" fill="hold" presetClass="entr" presetID="49">
                                  <p:stCondLst>
                                    <p:cond delay="0"/>
                                  </p:stCondLst>
                                  <p:childTnLst>
                                    <p:set>
                                      <p:cBhvr>
                                        <p:cTn id="294" dur="1" fill="hold">
                                          <p:stCondLst>
                                            <p:cond delay="0"/>
                                          </p:stCondLst>
                                        </p:cTn>
                                        <p:tgtEl>
                                          <p:spTgt spid="2194"/>
                                        </p:tgtEl>
                                        <p:attrNameLst>
                                          <p:attrName>style.visibility</p:attrName>
                                        </p:attrNameLst>
                                      </p:cBhvr>
                                      <p:to>
                                        <p:strVal val="visible"/>
                                      </p:to>
                                    </p:set>
                                    <p:anim calcmode="lin" valueType="num">
                                      <p:cBhvr additive="repl">
                                        <p:cTn id="295" dur="500" fill="hold"/>
                                        <p:tgtEl>
                                          <p:spTgt spid="2194"/>
                                        </p:tgtEl>
                                        <p:attrNameLst>
                                          <p:attrName>ppt_w</p:attrName>
                                        </p:attrNameLst>
                                      </p:cBhvr>
                                      <p:tavLst>
                                        <p:tav tm="0">
                                          <p:val>
                                            <p:fltVal val="0"/>
                                          </p:val>
                                        </p:tav>
                                        <p:tav tm="100000">
                                          <p:val>
                                            <p:strVal val="#ppt_w"/>
                                          </p:val>
                                        </p:tav>
                                      </p:tavLst>
                                    </p:anim>
                                    <p:anim calcmode="lin" valueType="num">
                                      <p:cBhvr additive="repl">
                                        <p:cTn id="296" dur="500" fill="hold"/>
                                        <p:tgtEl>
                                          <p:spTgt spid="2194"/>
                                        </p:tgtEl>
                                        <p:attrNameLst>
                                          <p:attrName>ppt_h</p:attrName>
                                        </p:attrNameLst>
                                      </p:cBhvr>
                                      <p:tavLst>
                                        <p:tav tm="0">
                                          <p:val>
                                            <p:fltVal val="0"/>
                                          </p:val>
                                        </p:tav>
                                        <p:tav tm="100000">
                                          <p:val>
                                            <p:strVal val="#ppt_h"/>
                                          </p:val>
                                        </p:tav>
                                      </p:tavLst>
                                    </p:anim>
                                    <p:anim calcmode="lin" valueType="num">
                                      <p:cBhvr additive="repl">
                                        <p:cTn id="297" dur="500" fill="hold"/>
                                        <p:tgtEl>
                                          <p:spTgt spid="2194"/>
                                        </p:tgtEl>
                                        <p:attrNameLst>
                                          <p:attrName>r</p:attrName>
                                        </p:attrNameLst>
                                      </p:cBhvr>
                                      <p:tavLst>
                                        <p:tav tm="0">
                                          <p:val>
                                            <p:strVal val="360"/>
                                          </p:val>
                                        </p:tav>
                                        <p:tav tm="100000">
                                          <p:val>
                                            <p:strVal val="0"/>
                                          </p:val>
                                        </p:tav>
                                      </p:tavLst>
                                    </p:anim>
                                    <p:animEffect filter="fade" transition="in">
                                      <p:cBhvr additive="repl">
                                        <p:cTn id="298" dur="500"/>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TextBox 3"/>
          <p:cNvSpPr/>
          <p:nvPr/>
        </p:nvSpPr>
        <p:spPr>
          <a:xfrm flipH="1">
            <a:off x="2130480" y="4846680"/>
            <a:ext cx="5805360" cy="16005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b2b2b2"/>
                </a:solidFill>
                <a:latin typeface="Montserrat Semi Bold"/>
              </a:rPr>
              <a:t>TITLE GOES HERE</a:t>
            </a:r>
            <a:endParaRPr b="0" lang="en-US" sz="2800" spc="-1" strike="noStrike">
              <a:solidFill>
                <a:srgbClr val="000000"/>
              </a:solidFill>
              <a:latin typeface="Open Sans Light"/>
            </a:endParaRPr>
          </a:p>
          <a:p>
            <a:pPr algn="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7" name="TextBox 4"/>
          <p:cNvSpPr/>
          <p:nvPr/>
        </p:nvSpPr>
        <p:spPr>
          <a:xfrm>
            <a:off x="16943400" y="2103480"/>
            <a:ext cx="5805360" cy="16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969696"/>
                </a:solidFill>
                <a:latin typeface="Montserrat Semi Bold"/>
              </a:rPr>
              <a:t>TITLE GOES HERE</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8" name="TextBox 5"/>
          <p:cNvSpPr/>
          <p:nvPr/>
        </p:nvSpPr>
        <p:spPr>
          <a:xfrm>
            <a:off x="14430240" y="10509120"/>
            <a:ext cx="5805720" cy="160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808080"/>
                </a:solidFill>
                <a:latin typeface="Montserrat Semi Bold"/>
              </a:rPr>
              <a:t>TITLE GOES HERE</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199" name="TextBox 6"/>
          <p:cNvSpPr/>
          <p:nvPr/>
        </p:nvSpPr>
        <p:spPr>
          <a:xfrm flipH="1">
            <a:off x="2862360" y="10515600"/>
            <a:ext cx="5805360" cy="16005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dddddd"/>
                </a:solidFill>
                <a:latin typeface="Montserrat Semi Bold"/>
              </a:rPr>
              <a:t>TITLE GOES HERE</a:t>
            </a:r>
            <a:endParaRPr b="0" lang="en-US" sz="2800" spc="-1" strike="noStrike">
              <a:solidFill>
                <a:srgbClr val="000000"/>
              </a:solidFill>
              <a:latin typeface="Open Sans Light"/>
            </a:endParaRPr>
          </a:p>
          <a:p>
            <a:pPr algn="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200" name="Freeform 245"/>
          <p:cNvSpPr/>
          <p:nvPr/>
        </p:nvSpPr>
        <p:spPr>
          <a:xfrm>
            <a:off x="6600960" y="9221760"/>
            <a:ext cx="1083960" cy="1084320"/>
          </a:xfrm>
          <a:custGeom>
            <a:avLst/>
            <a:gdLst/>
            <a:ahLst/>
            <a:rect l="l" t="t" r="r" b="b"/>
            <a:pathLst>
              <a:path w="68" h="68">
                <a:moveTo>
                  <a:pt x="68" y="3"/>
                </a:moveTo>
                <a:cubicBezTo>
                  <a:pt x="58" y="61"/>
                  <a:pt x="58" y="61"/>
                  <a:pt x="58" y="61"/>
                </a:cubicBezTo>
                <a:cubicBezTo>
                  <a:pt x="58" y="62"/>
                  <a:pt x="57" y="62"/>
                  <a:pt x="57" y="63"/>
                </a:cubicBezTo>
                <a:cubicBezTo>
                  <a:pt x="56" y="63"/>
                  <a:pt x="56" y="63"/>
                  <a:pt x="56" y="63"/>
                </a:cubicBezTo>
                <a:cubicBezTo>
                  <a:pt x="55" y="63"/>
                  <a:pt x="55" y="63"/>
                  <a:pt x="55" y="63"/>
                </a:cubicBezTo>
                <a:cubicBezTo>
                  <a:pt x="38" y="56"/>
                  <a:pt x="38" y="56"/>
                  <a:pt x="38" y="56"/>
                </a:cubicBezTo>
                <a:cubicBezTo>
                  <a:pt x="28" y="67"/>
                  <a:pt x="28" y="67"/>
                  <a:pt x="28" y="67"/>
                </a:cubicBezTo>
                <a:cubicBezTo>
                  <a:pt x="28" y="67"/>
                  <a:pt x="27" y="68"/>
                  <a:pt x="26" y="68"/>
                </a:cubicBezTo>
                <a:cubicBezTo>
                  <a:pt x="26" y="68"/>
                  <a:pt x="26" y="68"/>
                  <a:pt x="26" y="68"/>
                </a:cubicBezTo>
                <a:cubicBezTo>
                  <a:pt x="25" y="67"/>
                  <a:pt x="24" y="66"/>
                  <a:pt x="24" y="65"/>
                </a:cubicBezTo>
                <a:cubicBezTo>
                  <a:pt x="24" y="52"/>
                  <a:pt x="24" y="52"/>
                  <a:pt x="24" y="52"/>
                </a:cubicBezTo>
                <a:cubicBezTo>
                  <a:pt x="57" y="12"/>
                  <a:pt x="57" y="12"/>
                  <a:pt x="57" y="12"/>
                </a:cubicBezTo>
                <a:cubicBezTo>
                  <a:pt x="16" y="47"/>
                  <a:pt x="16" y="47"/>
                  <a:pt x="16" y="47"/>
                </a:cubicBezTo>
                <a:cubicBezTo>
                  <a:pt x="1" y="41"/>
                  <a:pt x="1" y="41"/>
                  <a:pt x="1" y="41"/>
                </a:cubicBezTo>
                <a:cubicBezTo>
                  <a:pt x="0" y="40"/>
                  <a:pt x="0" y="40"/>
                  <a:pt x="0" y="39"/>
                </a:cubicBezTo>
                <a:cubicBezTo>
                  <a:pt x="0" y="38"/>
                  <a:pt x="0" y="37"/>
                  <a:pt x="1" y="36"/>
                </a:cubicBezTo>
                <a:cubicBezTo>
                  <a:pt x="64" y="0"/>
                  <a:pt x="64" y="0"/>
                  <a:pt x="64" y="0"/>
                </a:cubicBezTo>
                <a:cubicBezTo>
                  <a:pt x="65" y="0"/>
                  <a:pt x="65" y="0"/>
                  <a:pt x="65" y="0"/>
                </a:cubicBezTo>
                <a:cubicBezTo>
                  <a:pt x="66" y="0"/>
                  <a:pt x="66" y="0"/>
                  <a:pt x="67" y="0"/>
                </a:cubicBezTo>
                <a:cubicBezTo>
                  <a:pt x="68" y="1"/>
                  <a:pt x="68" y="2"/>
                  <a:pt x="68" y="3"/>
                </a:cubicBezTo>
                <a:close/>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1" name="Freeform 119"/>
          <p:cNvSpPr/>
          <p:nvPr/>
        </p:nvSpPr>
        <p:spPr>
          <a:xfrm>
            <a:off x="5958000" y="3510000"/>
            <a:ext cx="957240" cy="1182600"/>
          </a:xfrm>
          <a:custGeom>
            <a:avLst/>
            <a:gdLst/>
            <a:ahLst/>
            <a:rect l="l" t="t" r="r" b="b"/>
            <a:pathLst>
              <a:path w="41" h="51">
                <a:moveTo>
                  <a:pt x="41" y="47"/>
                </a:moveTo>
                <a:cubicBezTo>
                  <a:pt x="41" y="49"/>
                  <a:pt x="39" y="51"/>
                  <a:pt x="37" y="51"/>
                </a:cubicBezTo>
                <a:cubicBezTo>
                  <a:pt x="3" y="51"/>
                  <a:pt x="3" y="51"/>
                  <a:pt x="3" y="51"/>
                </a:cubicBezTo>
                <a:cubicBezTo>
                  <a:pt x="1" y="51"/>
                  <a:pt x="0" y="49"/>
                  <a:pt x="0" y="47"/>
                </a:cubicBezTo>
                <a:cubicBezTo>
                  <a:pt x="0" y="27"/>
                  <a:pt x="0" y="27"/>
                  <a:pt x="0" y="27"/>
                </a:cubicBezTo>
                <a:cubicBezTo>
                  <a:pt x="0" y="25"/>
                  <a:pt x="1" y="23"/>
                  <a:pt x="3" y="23"/>
                </a:cubicBezTo>
                <a:cubicBezTo>
                  <a:pt x="4" y="23"/>
                  <a:pt x="4" y="23"/>
                  <a:pt x="4" y="23"/>
                </a:cubicBezTo>
                <a:cubicBezTo>
                  <a:pt x="4" y="16"/>
                  <a:pt x="4" y="16"/>
                  <a:pt x="4" y="16"/>
                </a:cubicBezTo>
                <a:cubicBezTo>
                  <a:pt x="4" y="8"/>
                  <a:pt x="12" y="0"/>
                  <a:pt x="20" y="0"/>
                </a:cubicBezTo>
                <a:cubicBezTo>
                  <a:pt x="29" y="0"/>
                  <a:pt x="36" y="8"/>
                  <a:pt x="36" y="16"/>
                </a:cubicBezTo>
                <a:cubicBezTo>
                  <a:pt x="36" y="23"/>
                  <a:pt x="36" y="23"/>
                  <a:pt x="36" y="23"/>
                </a:cubicBezTo>
                <a:cubicBezTo>
                  <a:pt x="37" y="23"/>
                  <a:pt x="37" y="23"/>
                  <a:pt x="37" y="23"/>
                </a:cubicBezTo>
                <a:cubicBezTo>
                  <a:pt x="39" y="23"/>
                  <a:pt x="41" y="25"/>
                  <a:pt x="41" y="27"/>
                </a:cubicBezTo>
                <a:lnTo>
                  <a:pt x="41" y="47"/>
                </a:lnTo>
                <a:close/>
                <a:moveTo>
                  <a:pt x="29" y="23"/>
                </a:moveTo>
                <a:cubicBezTo>
                  <a:pt x="29" y="16"/>
                  <a:pt x="29" y="16"/>
                  <a:pt x="29" y="16"/>
                </a:cubicBezTo>
                <a:cubicBezTo>
                  <a:pt x="29" y="11"/>
                  <a:pt x="25" y="7"/>
                  <a:pt x="20" y="7"/>
                </a:cubicBezTo>
                <a:cubicBezTo>
                  <a:pt x="15" y="7"/>
                  <a:pt x="11" y="11"/>
                  <a:pt x="11" y="16"/>
                </a:cubicBezTo>
                <a:cubicBezTo>
                  <a:pt x="11" y="23"/>
                  <a:pt x="11" y="23"/>
                  <a:pt x="11" y="23"/>
                </a:cubicBezTo>
                <a:lnTo>
                  <a:pt x="29" y="23"/>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2" name="Freeform 145"/>
          <p:cNvSpPr/>
          <p:nvPr/>
        </p:nvSpPr>
        <p:spPr>
          <a:xfrm>
            <a:off x="17714880" y="863640"/>
            <a:ext cx="1206360" cy="1039680"/>
          </a:xfrm>
          <a:custGeom>
            <a:avLst/>
            <a:gdLst/>
            <a:ahLst/>
            <a:rect l="l" t="t" r="r" b="b"/>
            <a:pathLst>
              <a:path w="64" h="55">
                <a:moveTo>
                  <a:pt x="64" y="51"/>
                </a:moveTo>
                <a:cubicBezTo>
                  <a:pt x="64" y="53"/>
                  <a:pt x="62" y="55"/>
                  <a:pt x="60" y="55"/>
                </a:cubicBezTo>
                <a:cubicBezTo>
                  <a:pt x="49" y="55"/>
                  <a:pt x="49" y="55"/>
                  <a:pt x="49" y="55"/>
                </a:cubicBezTo>
                <a:cubicBezTo>
                  <a:pt x="47" y="55"/>
                  <a:pt x="45" y="53"/>
                  <a:pt x="45" y="51"/>
                </a:cubicBezTo>
                <a:cubicBezTo>
                  <a:pt x="45" y="40"/>
                  <a:pt x="45" y="40"/>
                  <a:pt x="45" y="40"/>
                </a:cubicBezTo>
                <a:cubicBezTo>
                  <a:pt x="45" y="38"/>
                  <a:pt x="47" y="36"/>
                  <a:pt x="49" y="36"/>
                </a:cubicBezTo>
                <a:cubicBezTo>
                  <a:pt x="52" y="36"/>
                  <a:pt x="52" y="36"/>
                  <a:pt x="52" y="36"/>
                </a:cubicBezTo>
                <a:cubicBezTo>
                  <a:pt x="52" y="30"/>
                  <a:pt x="52" y="30"/>
                  <a:pt x="52" y="30"/>
                </a:cubicBezTo>
                <a:cubicBezTo>
                  <a:pt x="34" y="30"/>
                  <a:pt x="34" y="30"/>
                  <a:pt x="34" y="30"/>
                </a:cubicBezTo>
                <a:cubicBezTo>
                  <a:pt x="34" y="36"/>
                  <a:pt x="34" y="36"/>
                  <a:pt x="34" y="36"/>
                </a:cubicBezTo>
                <a:cubicBezTo>
                  <a:pt x="37" y="36"/>
                  <a:pt x="37" y="36"/>
                  <a:pt x="37" y="36"/>
                </a:cubicBezTo>
                <a:cubicBezTo>
                  <a:pt x="39" y="36"/>
                  <a:pt x="41" y="38"/>
                  <a:pt x="41" y="40"/>
                </a:cubicBezTo>
                <a:cubicBezTo>
                  <a:pt x="41" y="51"/>
                  <a:pt x="41" y="51"/>
                  <a:pt x="41" y="51"/>
                </a:cubicBezTo>
                <a:cubicBezTo>
                  <a:pt x="41" y="53"/>
                  <a:pt x="39" y="55"/>
                  <a:pt x="37" y="55"/>
                </a:cubicBezTo>
                <a:cubicBezTo>
                  <a:pt x="26" y="55"/>
                  <a:pt x="26" y="55"/>
                  <a:pt x="26" y="55"/>
                </a:cubicBezTo>
                <a:cubicBezTo>
                  <a:pt x="24" y="55"/>
                  <a:pt x="23" y="53"/>
                  <a:pt x="23" y="51"/>
                </a:cubicBezTo>
                <a:cubicBezTo>
                  <a:pt x="23" y="40"/>
                  <a:pt x="23" y="40"/>
                  <a:pt x="23" y="40"/>
                </a:cubicBezTo>
                <a:cubicBezTo>
                  <a:pt x="23" y="38"/>
                  <a:pt x="24" y="36"/>
                  <a:pt x="26" y="36"/>
                </a:cubicBezTo>
                <a:cubicBezTo>
                  <a:pt x="29" y="36"/>
                  <a:pt x="29" y="36"/>
                  <a:pt x="29" y="36"/>
                </a:cubicBezTo>
                <a:cubicBezTo>
                  <a:pt x="29" y="30"/>
                  <a:pt x="29" y="30"/>
                  <a:pt x="29" y="30"/>
                </a:cubicBezTo>
                <a:cubicBezTo>
                  <a:pt x="11" y="30"/>
                  <a:pt x="11" y="30"/>
                  <a:pt x="11" y="30"/>
                </a:cubicBezTo>
                <a:cubicBezTo>
                  <a:pt x="11" y="36"/>
                  <a:pt x="11" y="36"/>
                  <a:pt x="11" y="36"/>
                </a:cubicBezTo>
                <a:cubicBezTo>
                  <a:pt x="15" y="36"/>
                  <a:pt x="15" y="36"/>
                  <a:pt x="15" y="36"/>
                </a:cubicBezTo>
                <a:cubicBezTo>
                  <a:pt x="17" y="36"/>
                  <a:pt x="18" y="38"/>
                  <a:pt x="18" y="40"/>
                </a:cubicBezTo>
                <a:cubicBezTo>
                  <a:pt x="18" y="51"/>
                  <a:pt x="18" y="51"/>
                  <a:pt x="18" y="51"/>
                </a:cubicBezTo>
                <a:cubicBezTo>
                  <a:pt x="18" y="53"/>
                  <a:pt x="17" y="55"/>
                  <a:pt x="15" y="55"/>
                </a:cubicBezTo>
                <a:cubicBezTo>
                  <a:pt x="3" y="55"/>
                  <a:pt x="3" y="55"/>
                  <a:pt x="3" y="55"/>
                </a:cubicBezTo>
                <a:cubicBezTo>
                  <a:pt x="1" y="55"/>
                  <a:pt x="0" y="53"/>
                  <a:pt x="0" y="51"/>
                </a:cubicBezTo>
                <a:cubicBezTo>
                  <a:pt x="0" y="40"/>
                  <a:pt x="0" y="40"/>
                  <a:pt x="0" y="40"/>
                </a:cubicBezTo>
                <a:cubicBezTo>
                  <a:pt x="0" y="38"/>
                  <a:pt x="1" y="36"/>
                  <a:pt x="3" y="36"/>
                </a:cubicBezTo>
                <a:cubicBezTo>
                  <a:pt x="7" y="36"/>
                  <a:pt x="7" y="36"/>
                  <a:pt x="7" y="36"/>
                </a:cubicBezTo>
                <a:cubicBezTo>
                  <a:pt x="7" y="30"/>
                  <a:pt x="7" y="30"/>
                  <a:pt x="7" y="30"/>
                </a:cubicBezTo>
                <a:cubicBezTo>
                  <a:pt x="7" y="27"/>
                  <a:pt x="9" y="25"/>
                  <a:pt x="11" y="25"/>
                </a:cubicBezTo>
                <a:cubicBezTo>
                  <a:pt x="29" y="25"/>
                  <a:pt x="29" y="25"/>
                  <a:pt x="29" y="25"/>
                </a:cubicBezTo>
                <a:cubicBezTo>
                  <a:pt x="29" y="18"/>
                  <a:pt x="29" y="18"/>
                  <a:pt x="29" y="18"/>
                </a:cubicBezTo>
                <a:cubicBezTo>
                  <a:pt x="26" y="18"/>
                  <a:pt x="26" y="18"/>
                  <a:pt x="26" y="18"/>
                </a:cubicBezTo>
                <a:cubicBezTo>
                  <a:pt x="24" y="18"/>
                  <a:pt x="23" y="17"/>
                  <a:pt x="23" y="15"/>
                </a:cubicBezTo>
                <a:cubicBezTo>
                  <a:pt x="23" y="3"/>
                  <a:pt x="23" y="3"/>
                  <a:pt x="23" y="3"/>
                </a:cubicBezTo>
                <a:cubicBezTo>
                  <a:pt x="23" y="1"/>
                  <a:pt x="24" y="0"/>
                  <a:pt x="26" y="0"/>
                </a:cubicBezTo>
                <a:cubicBezTo>
                  <a:pt x="37" y="0"/>
                  <a:pt x="37" y="0"/>
                  <a:pt x="37" y="0"/>
                </a:cubicBezTo>
                <a:cubicBezTo>
                  <a:pt x="39" y="0"/>
                  <a:pt x="41" y="1"/>
                  <a:pt x="41" y="3"/>
                </a:cubicBezTo>
                <a:cubicBezTo>
                  <a:pt x="41" y="15"/>
                  <a:pt x="41" y="15"/>
                  <a:pt x="41" y="15"/>
                </a:cubicBezTo>
                <a:cubicBezTo>
                  <a:pt x="41" y="17"/>
                  <a:pt x="39" y="18"/>
                  <a:pt x="37" y="18"/>
                </a:cubicBezTo>
                <a:cubicBezTo>
                  <a:pt x="34" y="18"/>
                  <a:pt x="34" y="18"/>
                  <a:pt x="34" y="18"/>
                </a:cubicBezTo>
                <a:cubicBezTo>
                  <a:pt x="34" y="25"/>
                  <a:pt x="34" y="25"/>
                  <a:pt x="34" y="25"/>
                </a:cubicBezTo>
                <a:cubicBezTo>
                  <a:pt x="52" y="25"/>
                  <a:pt x="52" y="25"/>
                  <a:pt x="52" y="25"/>
                </a:cubicBezTo>
                <a:cubicBezTo>
                  <a:pt x="55" y="25"/>
                  <a:pt x="57" y="27"/>
                  <a:pt x="57" y="30"/>
                </a:cubicBezTo>
                <a:cubicBezTo>
                  <a:pt x="57" y="36"/>
                  <a:pt x="57" y="36"/>
                  <a:pt x="57" y="36"/>
                </a:cubicBezTo>
                <a:cubicBezTo>
                  <a:pt x="60" y="36"/>
                  <a:pt x="60" y="36"/>
                  <a:pt x="60" y="36"/>
                </a:cubicBezTo>
                <a:cubicBezTo>
                  <a:pt x="62" y="36"/>
                  <a:pt x="64" y="38"/>
                  <a:pt x="64" y="40"/>
                </a:cubicBezTo>
                <a:lnTo>
                  <a:pt x="64" y="51"/>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3" name="Freeform 69"/>
          <p:cNvSpPr/>
          <p:nvPr/>
        </p:nvSpPr>
        <p:spPr>
          <a:xfrm>
            <a:off x="15262200" y="9250200"/>
            <a:ext cx="1101600" cy="1111320"/>
          </a:xfrm>
          <a:custGeom>
            <a:avLst/>
            <a:gdLst/>
            <a:ahLst/>
            <a:rect l="l" t="t" r="r" b="b"/>
            <a:pathLst>
              <a:path w="58" h="58">
                <a:moveTo>
                  <a:pt x="29" y="58"/>
                </a:moveTo>
                <a:cubicBezTo>
                  <a:pt x="20" y="58"/>
                  <a:pt x="12" y="54"/>
                  <a:pt x="6" y="47"/>
                </a:cubicBezTo>
                <a:cubicBezTo>
                  <a:pt x="6" y="47"/>
                  <a:pt x="6" y="46"/>
                  <a:pt x="7" y="46"/>
                </a:cubicBezTo>
                <a:cubicBezTo>
                  <a:pt x="12" y="40"/>
                  <a:pt x="12" y="40"/>
                  <a:pt x="12" y="40"/>
                </a:cubicBezTo>
                <a:cubicBezTo>
                  <a:pt x="12" y="40"/>
                  <a:pt x="12" y="40"/>
                  <a:pt x="13" y="40"/>
                </a:cubicBezTo>
                <a:cubicBezTo>
                  <a:pt x="13" y="40"/>
                  <a:pt x="13" y="40"/>
                  <a:pt x="14" y="41"/>
                </a:cubicBezTo>
                <a:cubicBezTo>
                  <a:pt x="17" y="45"/>
                  <a:pt x="23" y="48"/>
                  <a:pt x="29" y="48"/>
                </a:cubicBezTo>
                <a:cubicBezTo>
                  <a:pt x="40" y="48"/>
                  <a:pt x="48" y="39"/>
                  <a:pt x="48" y="29"/>
                </a:cubicBezTo>
                <a:cubicBezTo>
                  <a:pt x="48" y="18"/>
                  <a:pt x="40" y="9"/>
                  <a:pt x="29" y="9"/>
                </a:cubicBezTo>
                <a:cubicBezTo>
                  <a:pt x="24" y="9"/>
                  <a:pt x="19" y="11"/>
                  <a:pt x="16" y="14"/>
                </a:cubicBezTo>
                <a:cubicBezTo>
                  <a:pt x="21" y="20"/>
                  <a:pt x="21" y="20"/>
                  <a:pt x="21" y="20"/>
                </a:cubicBezTo>
                <a:cubicBezTo>
                  <a:pt x="22" y="20"/>
                  <a:pt x="22" y="21"/>
                  <a:pt x="21" y="22"/>
                </a:cubicBezTo>
                <a:cubicBezTo>
                  <a:pt x="21" y="23"/>
                  <a:pt x="20" y="24"/>
                  <a:pt x="19" y="24"/>
                </a:cubicBezTo>
                <a:cubicBezTo>
                  <a:pt x="2" y="24"/>
                  <a:pt x="2" y="24"/>
                  <a:pt x="2" y="24"/>
                </a:cubicBezTo>
                <a:cubicBezTo>
                  <a:pt x="1" y="24"/>
                  <a:pt x="0" y="23"/>
                  <a:pt x="0" y="21"/>
                </a:cubicBezTo>
                <a:cubicBezTo>
                  <a:pt x="0" y="4"/>
                  <a:pt x="0" y="4"/>
                  <a:pt x="0" y="4"/>
                </a:cubicBezTo>
                <a:cubicBezTo>
                  <a:pt x="0" y="3"/>
                  <a:pt x="0" y="3"/>
                  <a:pt x="1" y="2"/>
                </a:cubicBezTo>
                <a:cubicBezTo>
                  <a:pt x="2" y="2"/>
                  <a:pt x="3" y="2"/>
                  <a:pt x="4" y="3"/>
                </a:cubicBezTo>
                <a:cubicBezTo>
                  <a:pt x="9" y="8"/>
                  <a:pt x="9" y="8"/>
                  <a:pt x="9" y="8"/>
                </a:cubicBezTo>
                <a:cubicBezTo>
                  <a:pt x="14" y="3"/>
                  <a:pt x="21" y="0"/>
                  <a:pt x="29" y="0"/>
                </a:cubicBezTo>
                <a:cubicBezTo>
                  <a:pt x="45" y="0"/>
                  <a:pt x="58" y="13"/>
                  <a:pt x="58" y="29"/>
                </a:cubicBezTo>
                <a:cubicBezTo>
                  <a:pt x="58" y="45"/>
                  <a:pt x="45" y="58"/>
                  <a:pt x="29" y="58"/>
                </a:cubicBezTo>
                <a:close/>
                <a:moveTo>
                  <a:pt x="34" y="35"/>
                </a:moveTo>
                <a:cubicBezTo>
                  <a:pt x="34" y="35"/>
                  <a:pt x="33" y="36"/>
                  <a:pt x="33" y="36"/>
                </a:cubicBezTo>
                <a:cubicBezTo>
                  <a:pt x="20" y="36"/>
                  <a:pt x="20" y="36"/>
                  <a:pt x="20" y="36"/>
                </a:cubicBezTo>
                <a:cubicBezTo>
                  <a:pt x="20" y="36"/>
                  <a:pt x="19" y="35"/>
                  <a:pt x="19" y="35"/>
                </a:cubicBezTo>
                <a:cubicBezTo>
                  <a:pt x="19" y="32"/>
                  <a:pt x="19" y="32"/>
                  <a:pt x="19" y="32"/>
                </a:cubicBezTo>
                <a:cubicBezTo>
                  <a:pt x="19" y="32"/>
                  <a:pt x="20" y="31"/>
                  <a:pt x="20" y="31"/>
                </a:cubicBezTo>
                <a:cubicBezTo>
                  <a:pt x="29" y="31"/>
                  <a:pt x="29" y="31"/>
                  <a:pt x="29" y="31"/>
                </a:cubicBezTo>
                <a:cubicBezTo>
                  <a:pt x="29" y="18"/>
                  <a:pt x="29" y="18"/>
                  <a:pt x="29" y="18"/>
                </a:cubicBezTo>
                <a:cubicBezTo>
                  <a:pt x="29" y="17"/>
                  <a:pt x="29" y="17"/>
                  <a:pt x="30" y="17"/>
                </a:cubicBezTo>
                <a:cubicBezTo>
                  <a:pt x="33" y="17"/>
                  <a:pt x="33" y="17"/>
                  <a:pt x="33" y="17"/>
                </a:cubicBezTo>
                <a:cubicBezTo>
                  <a:pt x="33" y="17"/>
                  <a:pt x="34" y="17"/>
                  <a:pt x="34" y="18"/>
                </a:cubicBezTo>
                <a:lnTo>
                  <a:pt x="34" y="35"/>
                </a:lnTo>
                <a:close/>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4" name="TextBox 17"/>
          <p:cNvSpPr/>
          <p:nvPr/>
        </p:nvSpPr>
        <p:spPr>
          <a:xfrm>
            <a:off x="2442960" y="639720"/>
            <a:ext cx="54324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INFOGRAPHICS</a:t>
            </a:r>
            <a:endParaRPr b="0" lang="en-US" sz="5700" spc="-1" strike="noStrike">
              <a:solidFill>
                <a:srgbClr val="000000"/>
              </a:solidFill>
              <a:latin typeface="Open Sans Light"/>
            </a:endParaRPr>
          </a:p>
        </p:txBody>
      </p:sp>
      <p:sp>
        <p:nvSpPr>
          <p:cNvPr id="2205" name="AutoShape 4"/>
          <p:cNvSpPr/>
          <p:nvPr/>
        </p:nvSpPr>
        <p:spPr>
          <a:xfrm>
            <a:off x="7361280" y="1847880"/>
            <a:ext cx="9655200" cy="10023480"/>
          </a:xfrm>
          <a:prstGeom prst="rect">
            <a:avLst/>
          </a:pr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6" name="Freeform 6"/>
          <p:cNvSpPr/>
          <p:nvPr/>
        </p:nvSpPr>
        <p:spPr>
          <a:xfrm>
            <a:off x="14951160" y="6370560"/>
            <a:ext cx="731880" cy="841320"/>
          </a:xfrm>
          <a:custGeom>
            <a:avLst/>
            <a:gdLst/>
            <a:ahLst/>
            <a:rect l="l" t="t" r="r" b="b"/>
            <a:pathLst>
              <a:path w="177" h="205">
                <a:moveTo>
                  <a:pt x="176" y="113"/>
                </a:moveTo>
                <a:cubicBezTo>
                  <a:pt x="174" y="106"/>
                  <a:pt x="171" y="99"/>
                  <a:pt x="169" y="93"/>
                </a:cubicBezTo>
                <a:cubicBezTo>
                  <a:pt x="168" y="90"/>
                  <a:pt x="167" y="87"/>
                  <a:pt x="167" y="85"/>
                </a:cubicBezTo>
                <a:cubicBezTo>
                  <a:pt x="166" y="84"/>
                  <a:pt x="167" y="82"/>
                  <a:pt x="167" y="81"/>
                </a:cubicBezTo>
                <a:cubicBezTo>
                  <a:pt x="169" y="79"/>
                  <a:pt x="168" y="77"/>
                  <a:pt x="168" y="74"/>
                </a:cubicBezTo>
                <a:cubicBezTo>
                  <a:pt x="165" y="64"/>
                  <a:pt x="162" y="54"/>
                  <a:pt x="157" y="45"/>
                </a:cubicBezTo>
                <a:cubicBezTo>
                  <a:pt x="157" y="44"/>
                  <a:pt x="156" y="43"/>
                  <a:pt x="156" y="42"/>
                </a:cubicBezTo>
                <a:cubicBezTo>
                  <a:pt x="157" y="41"/>
                  <a:pt x="159" y="40"/>
                  <a:pt x="160" y="39"/>
                </a:cubicBezTo>
                <a:cubicBezTo>
                  <a:pt x="156" y="32"/>
                  <a:pt x="151" y="25"/>
                  <a:pt x="144" y="19"/>
                </a:cubicBezTo>
                <a:cubicBezTo>
                  <a:pt x="146" y="18"/>
                  <a:pt x="147" y="18"/>
                  <a:pt x="148" y="17"/>
                </a:cubicBezTo>
                <a:cubicBezTo>
                  <a:pt x="148" y="17"/>
                  <a:pt x="148" y="17"/>
                  <a:pt x="148" y="17"/>
                </a:cubicBezTo>
                <a:cubicBezTo>
                  <a:pt x="144" y="15"/>
                  <a:pt x="141" y="12"/>
                  <a:pt x="137" y="10"/>
                </a:cubicBezTo>
                <a:cubicBezTo>
                  <a:pt x="124" y="4"/>
                  <a:pt x="111" y="1"/>
                  <a:pt x="97" y="0"/>
                </a:cubicBezTo>
                <a:cubicBezTo>
                  <a:pt x="96" y="0"/>
                  <a:pt x="96" y="0"/>
                  <a:pt x="95" y="0"/>
                </a:cubicBezTo>
                <a:cubicBezTo>
                  <a:pt x="92" y="0"/>
                  <a:pt x="89" y="0"/>
                  <a:pt x="86" y="0"/>
                </a:cubicBezTo>
                <a:cubicBezTo>
                  <a:pt x="84" y="0"/>
                  <a:pt x="81" y="0"/>
                  <a:pt x="78" y="0"/>
                </a:cubicBezTo>
                <a:cubicBezTo>
                  <a:pt x="62" y="2"/>
                  <a:pt x="47" y="6"/>
                  <a:pt x="33" y="15"/>
                </a:cubicBezTo>
                <a:cubicBezTo>
                  <a:pt x="21" y="23"/>
                  <a:pt x="13" y="33"/>
                  <a:pt x="7" y="46"/>
                </a:cubicBezTo>
                <a:cubicBezTo>
                  <a:pt x="3" y="54"/>
                  <a:pt x="1" y="62"/>
                  <a:pt x="0" y="71"/>
                </a:cubicBezTo>
                <a:cubicBezTo>
                  <a:pt x="0" y="71"/>
                  <a:pt x="0" y="72"/>
                  <a:pt x="0" y="72"/>
                </a:cubicBezTo>
                <a:cubicBezTo>
                  <a:pt x="0" y="75"/>
                  <a:pt x="0" y="78"/>
                  <a:pt x="0" y="80"/>
                </a:cubicBezTo>
                <a:cubicBezTo>
                  <a:pt x="1" y="84"/>
                  <a:pt x="1" y="89"/>
                  <a:pt x="2" y="93"/>
                </a:cubicBezTo>
                <a:cubicBezTo>
                  <a:pt x="3" y="98"/>
                  <a:pt x="5" y="104"/>
                  <a:pt x="8" y="109"/>
                </a:cubicBezTo>
                <a:cubicBezTo>
                  <a:pt x="10" y="111"/>
                  <a:pt x="11" y="114"/>
                  <a:pt x="13" y="116"/>
                </a:cubicBezTo>
                <a:cubicBezTo>
                  <a:pt x="17" y="123"/>
                  <a:pt x="21" y="130"/>
                  <a:pt x="27" y="137"/>
                </a:cubicBezTo>
                <a:cubicBezTo>
                  <a:pt x="36" y="147"/>
                  <a:pt x="42" y="159"/>
                  <a:pt x="44" y="173"/>
                </a:cubicBezTo>
                <a:cubicBezTo>
                  <a:pt x="45" y="176"/>
                  <a:pt x="46" y="180"/>
                  <a:pt x="46" y="183"/>
                </a:cubicBezTo>
                <a:cubicBezTo>
                  <a:pt x="46" y="189"/>
                  <a:pt x="46" y="196"/>
                  <a:pt x="46" y="202"/>
                </a:cubicBezTo>
                <a:cubicBezTo>
                  <a:pt x="46" y="203"/>
                  <a:pt x="46" y="203"/>
                  <a:pt x="46" y="205"/>
                </a:cubicBezTo>
                <a:cubicBezTo>
                  <a:pt x="75" y="205"/>
                  <a:pt x="105" y="205"/>
                  <a:pt x="134" y="205"/>
                </a:cubicBezTo>
                <a:cubicBezTo>
                  <a:pt x="134" y="204"/>
                  <a:pt x="134" y="203"/>
                  <a:pt x="134" y="203"/>
                </a:cubicBezTo>
                <a:cubicBezTo>
                  <a:pt x="135" y="195"/>
                  <a:pt x="135" y="188"/>
                  <a:pt x="135" y="181"/>
                </a:cubicBezTo>
                <a:cubicBezTo>
                  <a:pt x="135" y="179"/>
                  <a:pt x="135" y="177"/>
                  <a:pt x="136" y="175"/>
                </a:cubicBezTo>
                <a:cubicBezTo>
                  <a:pt x="136" y="172"/>
                  <a:pt x="138" y="171"/>
                  <a:pt x="140" y="170"/>
                </a:cubicBezTo>
                <a:cubicBezTo>
                  <a:pt x="144" y="169"/>
                  <a:pt x="147" y="169"/>
                  <a:pt x="151" y="169"/>
                </a:cubicBezTo>
                <a:cubicBezTo>
                  <a:pt x="153" y="169"/>
                  <a:pt x="155" y="170"/>
                  <a:pt x="157" y="170"/>
                </a:cubicBezTo>
                <a:cubicBezTo>
                  <a:pt x="161" y="171"/>
                  <a:pt x="168" y="168"/>
                  <a:pt x="168" y="163"/>
                </a:cubicBezTo>
                <a:cubicBezTo>
                  <a:pt x="168" y="162"/>
                  <a:pt x="168" y="161"/>
                  <a:pt x="168" y="159"/>
                </a:cubicBezTo>
                <a:cubicBezTo>
                  <a:pt x="167" y="157"/>
                  <a:pt x="168" y="155"/>
                  <a:pt x="169" y="152"/>
                </a:cubicBezTo>
                <a:cubicBezTo>
                  <a:pt x="172" y="148"/>
                  <a:pt x="172" y="145"/>
                  <a:pt x="167" y="142"/>
                </a:cubicBezTo>
                <a:cubicBezTo>
                  <a:pt x="167" y="141"/>
                  <a:pt x="167" y="141"/>
                  <a:pt x="167" y="141"/>
                </a:cubicBezTo>
                <a:cubicBezTo>
                  <a:pt x="168" y="140"/>
                  <a:pt x="169" y="140"/>
                  <a:pt x="170" y="139"/>
                </a:cubicBezTo>
                <a:cubicBezTo>
                  <a:pt x="172" y="137"/>
                  <a:pt x="172" y="136"/>
                  <a:pt x="172" y="133"/>
                </a:cubicBezTo>
                <a:cubicBezTo>
                  <a:pt x="171" y="130"/>
                  <a:pt x="170" y="126"/>
                  <a:pt x="170" y="123"/>
                </a:cubicBezTo>
                <a:cubicBezTo>
                  <a:pt x="169" y="122"/>
                  <a:pt x="170" y="121"/>
                  <a:pt x="171" y="121"/>
                </a:cubicBezTo>
                <a:cubicBezTo>
                  <a:pt x="172" y="120"/>
                  <a:pt x="173" y="120"/>
                  <a:pt x="175" y="119"/>
                </a:cubicBezTo>
                <a:cubicBezTo>
                  <a:pt x="177" y="117"/>
                  <a:pt x="177" y="116"/>
                  <a:pt x="176" y="113"/>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7" name="Freeform 7"/>
          <p:cNvSpPr/>
          <p:nvPr/>
        </p:nvSpPr>
        <p:spPr>
          <a:xfrm>
            <a:off x="8634240" y="7494480"/>
            <a:ext cx="381240" cy="639720"/>
          </a:xfrm>
          <a:custGeom>
            <a:avLst/>
            <a:gdLst/>
            <a:ahLst/>
            <a:rect l="l" t="t" r="r" b="b"/>
            <a:pathLst>
              <a:path w="92" h="156">
                <a:moveTo>
                  <a:pt x="92" y="0"/>
                </a:moveTo>
                <a:cubicBezTo>
                  <a:pt x="92" y="30"/>
                  <a:pt x="92" y="60"/>
                  <a:pt x="92" y="90"/>
                </a:cubicBezTo>
                <a:cubicBezTo>
                  <a:pt x="92" y="91"/>
                  <a:pt x="91" y="92"/>
                  <a:pt x="91" y="93"/>
                </a:cubicBezTo>
                <a:cubicBezTo>
                  <a:pt x="70" y="114"/>
                  <a:pt x="49" y="134"/>
                  <a:pt x="28" y="155"/>
                </a:cubicBezTo>
                <a:cubicBezTo>
                  <a:pt x="28" y="156"/>
                  <a:pt x="28" y="156"/>
                  <a:pt x="27" y="156"/>
                </a:cubicBezTo>
                <a:cubicBezTo>
                  <a:pt x="24" y="153"/>
                  <a:pt x="21" y="149"/>
                  <a:pt x="18" y="146"/>
                </a:cubicBezTo>
                <a:cubicBezTo>
                  <a:pt x="8" y="132"/>
                  <a:pt x="2" y="116"/>
                  <a:pt x="1" y="99"/>
                </a:cubicBezTo>
                <a:cubicBezTo>
                  <a:pt x="1" y="98"/>
                  <a:pt x="0" y="98"/>
                  <a:pt x="0" y="97"/>
                </a:cubicBezTo>
                <a:cubicBezTo>
                  <a:pt x="0" y="93"/>
                  <a:pt x="0" y="89"/>
                  <a:pt x="0" y="86"/>
                </a:cubicBezTo>
                <a:cubicBezTo>
                  <a:pt x="0" y="85"/>
                  <a:pt x="1" y="85"/>
                  <a:pt x="1" y="84"/>
                </a:cubicBezTo>
                <a:cubicBezTo>
                  <a:pt x="2" y="67"/>
                  <a:pt x="8" y="51"/>
                  <a:pt x="18" y="38"/>
                </a:cubicBezTo>
                <a:cubicBezTo>
                  <a:pt x="32" y="18"/>
                  <a:pt x="52" y="6"/>
                  <a:pt x="76" y="1"/>
                </a:cubicBezTo>
                <a:cubicBezTo>
                  <a:pt x="79" y="1"/>
                  <a:pt x="83" y="0"/>
                  <a:pt x="86" y="0"/>
                </a:cubicBezTo>
                <a:cubicBezTo>
                  <a:pt x="88" y="0"/>
                  <a:pt x="90" y="0"/>
                  <a:pt x="92"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8" name="Freeform 8"/>
          <p:cNvSpPr/>
          <p:nvPr/>
        </p:nvSpPr>
        <p:spPr>
          <a:xfrm>
            <a:off x="9064800" y="7494480"/>
            <a:ext cx="372960" cy="373320"/>
          </a:xfrm>
          <a:custGeom>
            <a:avLst/>
            <a:gdLst/>
            <a:ahLst/>
            <a:rect l="l" t="t" r="r" b="b"/>
            <a:pathLst>
              <a:path w="91" h="91">
                <a:moveTo>
                  <a:pt x="6" y="0"/>
                </a:moveTo>
                <a:cubicBezTo>
                  <a:pt x="9" y="0"/>
                  <a:pt x="13" y="1"/>
                  <a:pt x="16" y="1"/>
                </a:cubicBezTo>
                <a:cubicBezTo>
                  <a:pt x="43" y="7"/>
                  <a:pt x="64" y="21"/>
                  <a:pt x="79" y="45"/>
                </a:cubicBezTo>
                <a:cubicBezTo>
                  <a:pt x="87" y="58"/>
                  <a:pt x="91" y="73"/>
                  <a:pt x="91" y="89"/>
                </a:cubicBezTo>
                <a:cubicBezTo>
                  <a:pt x="91" y="90"/>
                  <a:pt x="91" y="91"/>
                  <a:pt x="91" y="91"/>
                </a:cubicBezTo>
                <a:cubicBezTo>
                  <a:pt x="61" y="91"/>
                  <a:pt x="31" y="91"/>
                  <a:pt x="0" y="91"/>
                </a:cubicBezTo>
                <a:cubicBezTo>
                  <a:pt x="0" y="61"/>
                  <a:pt x="0" y="30"/>
                  <a:pt x="0" y="0"/>
                </a:cubicBezTo>
                <a:cubicBezTo>
                  <a:pt x="2" y="0"/>
                  <a:pt x="4" y="0"/>
                  <a:pt x="6"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09" name="Freeform 9"/>
          <p:cNvSpPr/>
          <p:nvPr/>
        </p:nvSpPr>
        <p:spPr>
          <a:xfrm>
            <a:off x="8778960" y="7913520"/>
            <a:ext cx="644400" cy="411480"/>
          </a:xfrm>
          <a:custGeom>
            <a:avLst/>
            <a:gdLst/>
            <a:ahLst/>
            <a:rect l="l" t="t" r="r" b="b"/>
            <a:pathLst>
              <a:path w="156" h="100">
                <a:moveTo>
                  <a:pt x="156" y="0"/>
                </a:moveTo>
                <a:cubicBezTo>
                  <a:pt x="156" y="33"/>
                  <a:pt x="137" y="69"/>
                  <a:pt x="100" y="85"/>
                </a:cubicBezTo>
                <a:cubicBezTo>
                  <a:pt x="63" y="100"/>
                  <a:pt x="23" y="89"/>
                  <a:pt x="0" y="65"/>
                </a:cubicBezTo>
                <a:cubicBezTo>
                  <a:pt x="0" y="65"/>
                  <a:pt x="1" y="64"/>
                  <a:pt x="1" y="64"/>
                </a:cubicBezTo>
                <a:cubicBezTo>
                  <a:pt x="22" y="43"/>
                  <a:pt x="43" y="22"/>
                  <a:pt x="64" y="2"/>
                </a:cubicBezTo>
                <a:cubicBezTo>
                  <a:pt x="64" y="1"/>
                  <a:pt x="65" y="0"/>
                  <a:pt x="66" y="0"/>
                </a:cubicBezTo>
                <a:cubicBezTo>
                  <a:pt x="96" y="0"/>
                  <a:pt x="125" y="0"/>
                  <a:pt x="154" y="0"/>
                </a:cubicBezTo>
                <a:cubicBezTo>
                  <a:pt x="155" y="0"/>
                  <a:pt x="155" y="0"/>
                  <a:pt x="156" y="0"/>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0" name="Freeform 10"/>
          <p:cNvSpPr/>
          <p:nvPr/>
        </p:nvSpPr>
        <p:spPr>
          <a:xfrm>
            <a:off x="16067160" y="4994280"/>
            <a:ext cx="530280" cy="595440"/>
          </a:xfrm>
          <a:custGeom>
            <a:avLst/>
            <a:gdLst/>
            <a:ahLst/>
            <a:rect l="l" t="t" r="r" b="b"/>
            <a:pathLst>
              <a:path w="128" h="144">
                <a:moveTo>
                  <a:pt x="106" y="144"/>
                </a:moveTo>
                <a:cubicBezTo>
                  <a:pt x="74" y="144"/>
                  <a:pt x="43" y="144"/>
                  <a:pt x="12" y="144"/>
                </a:cubicBezTo>
                <a:cubicBezTo>
                  <a:pt x="12" y="100"/>
                  <a:pt x="12" y="57"/>
                  <a:pt x="12" y="14"/>
                </a:cubicBezTo>
                <a:cubicBezTo>
                  <a:pt x="8" y="14"/>
                  <a:pt x="4" y="14"/>
                  <a:pt x="0" y="14"/>
                </a:cubicBezTo>
                <a:cubicBezTo>
                  <a:pt x="0" y="9"/>
                  <a:pt x="0" y="4"/>
                  <a:pt x="0" y="0"/>
                </a:cubicBezTo>
                <a:cubicBezTo>
                  <a:pt x="43" y="0"/>
                  <a:pt x="85" y="0"/>
                  <a:pt x="128" y="0"/>
                </a:cubicBezTo>
                <a:cubicBezTo>
                  <a:pt x="128" y="4"/>
                  <a:pt x="128" y="9"/>
                  <a:pt x="128" y="14"/>
                </a:cubicBezTo>
                <a:cubicBezTo>
                  <a:pt x="121" y="14"/>
                  <a:pt x="114" y="14"/>
                  <a:pt x="106" y="14"/>
                </a:cubicBezTo>
                <a:cubicBezTo>
                  <a:pt x="106" y="57"/>
                  <a:pt x="106" y="100"/>
                  <a:pt x="106" y="144"/>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1" name="Freeform 11"/>
          <p:cNvSpPr/>
          <p:nvPr/>
        </p:nvSpPr>
        <p:spPr>
          <a:xfrm>
            <a:off x="16414920" y="4721400"/>
            <a:ext cx="539640" cy="868320"/>
          </a:xfrm>
          <a:custGeom>
            <a:avLst/>
            <a:gdLst/>
            <a:ahLst/>
            <a:rect l="l" t="t" r="r" b="b"/>
            <a:pathLst>
              <a:path w="131" h="211">
                <a:moveTo>
                  <a:pt x="0" y="19"/>
                </a:moveTo>
                <a:cubicBezTo>
                  <a:pt x="6" y="12"/>
                  <a:pt x="12" y="6"/>
                  <a:pt x="18" y="0"/>
                </a:cubicBezTo>
                <a:cubicBezTo>
                  <a:pt x="29" y="10"/>
                  <a:pt x="40" y="20"/>
                  <a:pt x="51" y="30"/>
                </a:cubicBezTo>
                <a:cubicBezTo>
                  <a:pt x="50" y="31"/>
                  <a:pt x="49" y="32"/>
                  <a:pt x="48" y="33"/>
                </a:cubicBezTo>
                <a:cubicBezTo>
                  <a:pt x="49" y="34"/>
                  <a:pt x="49" y="35"/>
                  <a:pt x="50" y="36"/>
                </a:cubicBezTo>
                <a:cubicBezTo>
                  <a:pt x="49" y="37"/>
                  <a:pt x="48" y="37"/>
                  <a:pt x="46" y="39"/>
                </a:cubicBezTo>
                <a:cubicBezTo>
                  <a:pt x="51" y="39"/>
                  <a:pt x="55" y="40"/>
                  <a:pt x="60" y="41"/>
                </a:cubicBezTo>
                <a:cubicBezTo>
                  <a:pt x="70" y="42"/>
                  <a:pt x="80" y="41"/>
                  <a:pt x="89" y="35"/>
                </a:cubicBezTo>
                <a:cubicBezTo>
                  <a:pt x="92" y="32"/>
                  <a:pt x="95" y="30"/>
                  <a:pt x="96" y="26"/>
                </a:cubicBezTo>
                <a:cubicBezTo>
                  <a:pt x="100" y="18"/>
                  <a:pt x="107" y="15"/>
                  <a:pt x="115" y="15"/>
                </a:cubicBezTo>
                <a:cubicBezTo>
                  <a:pt x="122" y="16"/>
                  <a:pt x="129" y="23"/>
                  <a:pt x="131" y="30"/>
                </a:cubicBezTo>
                <a:cubicBezTo>
                  <a:pt x="131" y="31"/>
                  <a:pt x="131" y="32"/>
                  <a:pt x="131" y="33"/>
                </a:cubicBezTo>
                <a:cubicBezTo>
                  <a:pt x="129" y="59"/>
                  <a:pt x="128" y="84"/>
                  <a:pt x="122" y="109"/>
                </a:cubicBezTo>
                <a:cubicBezTo>
                  <a:pt x="121" y="114"/>
                  <a:pt x="120" y="118"/>
                  <a:pt x="119" y="122"/>
                </a:cubicBezTo>
                <a:cubicBezTo>
                  <a:pt x="118" y="127"/>
                  <a:pt x="114" y="130"/>
                  <a:pt x="110" y="132"/>
                </a:cubicBezTo>
                <a:cubicBezTo>
                  <a:pt x="93" y="140"/>
                  <a:pt x="75" y="142"/>
                  <a:pt x="57" y="140"/>
                </a:cubicBezTo>
                <a:cubicBezTo>
                  <a:pt x="57" y="140"/>
                  <a:pt x="56" y="140"/>
                  <a:pt x="56" y="140"/>
                </a:cubicBezTo>
                <a:cubicBezTo>
                  <a:pt x="56" y="140"/>
                  <a:pt x="56" y="140"/>
                  <a:pt x="55" y="140"/>
                </a:cubicBezTo>
                <a:cubicBezTo>
                  <a:pt x="55" y="142"/>
                  <a:pt x="55" y="144"/>
                  <a:pt x="55" y="145"/>
                </a:cubicBezTo>
                <a:cubicBezTo>
                  <a:pt x="53" y="162"/>
                  <a:pt x="53" y="178"/>
                  <a:pt x="55" y="195"/>
                </a:cubicBezTo>
                <a:cubicBezTo>
                  <a:pt x="56" y="202"/>
                  <a:pt x="52" y="208"/>
                  <a:pt x="46" y="209"/>
                </a:cubicBezTo>
                <a:cubicBezTo>
                  <a:pt x="39" y="211"/>
                  <a:pt x="32" y="207"/>
                  <a:pt x="31" y="200"/>
                </a:cubicBezTo>
                <a:cubicBezTo>
                  <a:pt x="30" y="190"/>
                  <a:pt x="29" y="180"/>
                  <a:pt x="29" y="170"/>
                </a:cubicBezTo>
                <a:cubicBezTo>
                  <a:pt x="28" y="159"/>
                  <a:pt x="29" y="148"/>
                  <a:pt x="31" y="138"/>
                </a:cubicBezTo>
                <a:cubicBezTo>
                  <a:pt x="32" y="135"/>
                  <a:pt x="33" y="133"/>
                  <a:pt x="34" y="130"/>
                </a:cubicBezTo>
                <a:cubicBezTo>
                  <a:pt x="37" y="122"/>
                  <a:pt x="44" y="118"/>
                  <a:pt x="52" y="116"/>
                </a:cubicBezTo>
                <a:cubicBezTo>
                  <a:pt x="61" y="113"/>
                  <a:pt x="71" y="112"/>
                  <a:pt x="80" y="111"/>
                </a:cubicBezTo>
                <a:cubicBezTo>
                  <a:pt x="84" y="111"/>
                  <a:pt x="84" y="111"/>
                  <a:pt x="85" y="107"/>
                </a:cubicBezTo>
                <a:cubicBezTo>
                  <a:pt x="88" y="92"/>
                  <a:pt x="90" y="77"/>
                  <a:pt x="92" y="62"/>
                </a:cubicBezTo>
                <a:cubicBezTo>
                  <a:pt x="92" y="61"/>
                  <a:pt x="92" y="61"/>
                  <a:pt x="92" y="60"/>
                </a:cubicBezTo>
                <a:cubicBezTo>
                  <a:pt x="88" y="61"/>
                  <a:pt x="85" y="62"/>
                  <a:pt x="82" y="63"/>
                </a:cubicBezTo>
                <a:cubicBezTo>
                  <a:pt x="72" y="65"/>
                  <a:pt x="63" y="65"/>
                  <a:pt x="53" y="63"/>
                </a:cubicBezTo>
                <a:cubicBezTo>
                  <a:pt x="47" y="63"/>
                  <a:pt x="42" y="62"/>
                  <a:pt x="36" y="60"/>
                </a:cubicBezTo>
                <a:cubicBezTo>
                  <a:pt x="28" y="59"/>
                  <a:pt x="25" y="54"/>
                  <a:pt x="27" y="46"/>
                </a:cubicBezTo>
                <a:cubicBezTo>
                  <a:pt x="27" y="45"/>
                  <a:pt x="27" y="44"/>
                  <a:pt x="26" y="43"/>
                </a:cubicBezTo>
                <a:cubicBezTo>
                  <a:pt x="18" y="36"/>
                  <a:pt x="10" y="28"/>
                  <a:pt x="2" y="21"/>
                </a:cubicBezTo>
                <a:cubicBezTo>
                  <a:pt x="1" y="20"/>
                  <a:pt x="1" y="20"/>
                  <a:pt x="0" y="19"/>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2" name="Freeform 12"/>
          <p:cNvSpPr/>
          <p:nvPr/>
        </p:nvSpPr>
        <p:spPr>
          <a:xfrm>
            <a:off x="16657560" y="5056200"/>
            <a:ext cx="358920" cy="514440"/>
          </a:xfrm>
          <a:custGeom>
            <a:avLst/>
            <a:gdLst/>
            <a:ahLst/>
            <a:rect l="l" t="t" r="r" b="b"/>
            <a:pathLst>
              <a:path w="87" h="125">
                <a:moveTo>
                  <a:pt x="39" y="108"/>
                </a:moveTo>
                <a:cubicBezTo>
                  <a:pt x="43" y="109"/>
                  <a:pt x="46" y="110"/>
                  <a:pt x="48" y="111"/>
                </a:cubicBezTo>
                <a:cubicBezTo>
                  <a:pt x="52" y="112"/>
                  <a:pt x="53" y="115"/>
                  <a:pt x="52" y="118"/>
                </a:cubicBezTo>
                <a:cubicBezTo>
                  <a:pt x="52" y="120"/>
                  <a:pt x="51" y="120"/>
                  <a:pt x="50" y="119"/>
                </a:cubicBezTo>
                <a:cubicBezTo>
                  <a:pt x="48" y="119"/>
                  <a:pt x="47" y="119"/>
                  <a:pt x="46" y="118"/>
                </a:cubicBezTo>
                <a:cubicBezTo>
                  <a:pt x="46" y="118"/>
                  <a:pt x="45" y="118"/>
                  <a:pt x="45" y="118"/>
                </a:cubicBezTo>
                <a:cubicBezTo>
                  <a:pt x="45" y="120"/>
                  <a:pt x="44" y="123"/>
                  <a:pt x="44" y="125"/>
                </a:cubicBezTo>
                <a:cubicBezTo>
                  <a:pt x="38" y="122"/>
                  <a:pt x="36" y="120"/>
                  <a:pt x="34" y="114"/>
                </a:cubicBezTo>
                <a:cubicBezTo>
                  <a:pt x="30" y="119"/>
                  <a:pt x="26" y="123"/>
                  <a:pt x="20" y="125"/>
                </a:cubicBezTo>
                <a:cubicBezTo>
                  <a:pt x="18" y="122"/>
                  <a:pt x="19" y="117"/>
                  <a:pt x="22" y="115"/>
                </a:cubicBezTo>
                <a:cubicBezTo>
                  <a:pt x="25" y="113"/>
                  <a:pt x="28" y="111"/>
                  <a:pt x="31" y="109"/>
                </a:cubicBezTo>
                <a:cubicBezTo>
                  <a:pt x="32" y="109"/>
                  <a:pt x="33" y="108"/>
                  <a:pt x="33" y="107"/>
                </a:cubicBezTo>
                <a:cubicBezTo>
                  <a:pt x="33" y="99"/>
                  <a:pt x="33" y="90"/>
                  <a:pt x="33" y="81"/>
                </a:cubicBezTo>
                <a:cubicBezTo>
                  <a:pt x="33" y="81"/>
                  <a:pt x="33" y="81"/>
                  <a:pt x="33" y="80"/>
                </a:cubicBezTo>
                <a:cubicBezTo>
                  <a:pt x="31" y="81"/>
                  <a:pt x="29" y="81"/>
                  <a:pt x="27" y="81"/>
                </a:cubicBezTo>
                <a:cubicBezTo>
                  <a:pt x="20" y="81"/>
                  <a:pt x="13" y="81"/>
                  <a:pt x="7" y="81"/>
                </a:cubicBezTo>
                <a:cubicBezTo>
                  <a:pt x="2" y="81"/>
                  <a:pt x="0" y="78"/>
                  <a:pt x="1" y="73"/>
                </a:cubicBezTo>
                <a:cubicBezTo>
                  <a:pt x="3" y="68"/>
                  <a:pt x="7" y="65"/>
                  <a:pt x="12" y="65"/>
                </a:cubicBezTo>
                <a:cubicBezTo>
                  <a:pt x="23" y="66"/>
                  <a:pt x="33" y="65"/>
                  <a:pt x="43" y="62"/>
                </a:cubicBezTo>
                <a:cubicBezTo>
                  <a:pt x="58" y="57"/>
                  <a:pt x="67" y="46"/>
                  <a:pt x="70" y="31"/>
                </a:cubicBezTo>
                <a:cubicBezTo>
                  <a:pt x="72" y="24"/>
                  <a:pt x="72" y="18"/>
                  <a:pt x="73" y="11"/>
                </a:cubicBezTo>
                <a:cubicBezTo>
                  <a:pt x="73" y="6"/>
                  <a:pt x="76" y="2"/>
                  <a:pt x="81" y="1"/>
                </a:cubicBezTo>
                <a:cubicBezTo>
                  <a:pt x="84" y="0"/>
                  <a:pt x="87" y="2"/>
                  <a:pt x="87" y="5"/>
                </a:cubicBezTo>
                <a:cubicBezTo>
                  <a:pt x="87" y="11"/>
                  <a:pt x="87" y="17"/>
                  <a:pt x="86" y="23"/>
                </a:cubicBezTo>
                <a:cubicBezTo>
                  <a:pt x="84" y="36"/>
                  <a:pt x="80" y="48"/>
                  <a:pt x="72" y="58"/>
                </a:cubicBezTo>
                <a:cubicBezTo>
                  <a:pt x="66" y="64"/>
                  <a:pt x="59" y="69"/>
                  <a:pt x="52" y="73"/>
                </a:cubicBezTo>
                <a:cubicBezTo>
                  <a:pt x="48" y="74"/>
                  <a:pt x="45" y="76"/>
                  <a:pt x="41" y="77"/>
                </a:cubicBezTo>
                <a:cubicBezTo>
                  <a:pt x="40" y="78"/>
                  <a:pt x="39" y="79"/>
                  <a:pt x="39" y="79"/>
                </a:cubicBezTo>
                <a:cubicBezTo>
                  <a:pt x="39" y="89"/>
                  <a:pt x="39" y="99"/>
                  <a:pt x="39" y="108"/>
                </a:cubicBez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3" name="Freeform 13"/>
          <p:cNvSpPr/>
          <p:nvPr/>
        </p:nvSpPr>
        <p:spPr>
          <a:xfrm>
            <a:off x="16738560" y="4572000"/>
            <a:ext cx="177840" cy="174600"/>
          </a:xfrm>
          <a:custGeom>
            <a:avLst/>
            <a:gdLst/>
            <a:ahLst/>
            <a:rect l="l" t="t" r="r" b="b"/>
            <a:pathLst>
              <a:path w="43" h="43">
                <a:moveTo>
                  <a:pt x="22" y="1"/>
                </a:moveTo>
                <a:cubicBezTo>
                  <a:pt x="34" y="1"/>
                  <a:pt x="43" y="10"/>
                  <a:pt x="43" y="22"/>
                </a:cubicBezTo>
                <a:cubicBezTo>
                  <a:pt x="42" y="34"/>
                  <a:pt x="33" y="43"/>
                  <a:pt x="22" y="43"/>
                </a:cubicBezTo>
                <a:cubicBezTo>
                  <a:pt x="10" y="42"/>
                  <a:pt x="0" y="33"/>
                  <a:pt x="1" y="21"/>
                </a:cubicBezTo>
                <a:cubicBezTo>
                  <a:pt x="1" y="10"/>
                  <a:pt x="11" y="0"/>
                  <a:pt x="22" y="1"/>
                </a:cubicBezTo>
                <a:close/>
              </a:path>
            </a:pathLst>
          </a:custGeom>
          <a:solidFill>
            <a:srgbClr val="969696"/>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214" name="Freeform 14"/>
          <p:cNvSpPr/>
          <p:nvPr/>
        </p:nvSpPr>
        <p:spPr>
          <a:xfrm>
            <a:off x="15514560" y="6118200"/>
            <a:ext cx="301680" cy="293760"/>
          </a:xfrm>
          <a:custGeom>
            <a:avLst/>
            <a:gdLst/>
            <a:ahLst/>
            <a:rect l="l" t="t" r="r" b="b"/>
            <a:pathLst>
              <a:path w="79" h="77">
                <a:moveTo>
                  <a:pt x="79" y="32"/>
                </a:moveTo>
                <a:lnTo>
                  <a:pt x="49" y="32"/>
                </a:lnTo>
                <a:lnTo>
                  <a:pt x="49" y="0"/>
                </a:lnTo>
                <a:lnTo>
                  <a:pt x="33" y="0"/>
                </a:lnTo>
                <a:lnTo>
                  <a:pt x="33" y="32"/>
                </a:lnTo>
                <a:lnTo>
                  <a:pt x="0" y="32"/>
                </a:lnTo>
                <a:lnTo>
                  <a:pt x="0" y="48"/>
                </a:lnTo>
                <a:lnTo>
                  <a:pt x="33" y="48"/>
                </a:lnTo>
                <a:lnTo>
                  <a:pt x="33" y="77"/>
                </a:lnTo>
                <a:lnTo>
                  <a:pt x="49" y="77"/>
                </a:lnTo>
                <a:lnTo>
                  <a:pt x="49" y="48"/>
                </a:lnTo>
                <a:lnTo>
                  <a:pt x="79" y="48"/>
                </a:lnTo>
                <a:lnTo>
                  <a:pt x="79" y="3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15" name="Oval 20"/>
          <p:cNvSpPr/>
          <p:nvPr/>
        </p:nvSpPr>
        <p:spPr>
          <a:xfrm>
            <a:off x="7677000" y="7067520"/>
            <a:ext cx="13032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6" name="Oval 21"/>
          <p:cNvSpPr/>
          <p:nvPr/>
        </p:nvSpPr>
        <p:spPr>
          <a:xfrm>
            <a:off x="7723080" y="7242120"/>
            <a:ext cx="13032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7" name="Oval 22"/>
          <p:cNvSpPr/>
          <p:nvPr/>
        </p:nvSpPr>
        <p:spPr>
          <a:xfrm>
            <a:off x="7804080" y="7418520"/>
            <a:ext cx="12852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8" name="Oval 23"/>
          <p:cNvSpPr/>
          <p:nvPr/>
        </p:nvSpPr>
        <p:spPr>
          <a:xfrm>
            <a:off x="7918560" y="7562880"/>
            <a:ext cx="13320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19" name="Oval 24"/>
          <p:cNvSpPr/>
          <p:nvPr/>
        </p:nvSpPr>
        <p:spPr>
          <a:xfrm>
            <a:off x="8082000" y="7688160"/>
            <a:ext cx="13320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0" name="Oval 25"/>
          <p:cNvSpPr/>
          <p:nvPr/>
        </p:nvSpPr>
        <p:spPr>
          <a:xfrm>
            <a:off x="8272440" y="7780320"/>
            <a:ext cx="13320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1" name="Oval 26"/>
          <p:cNvSpPr/>
          <p:nvPr/>
        </p:nvSpPr>
        <p:spPr>
          <a:xfrm>
            <a:off x="13968360" y="7497720"/>
            <a:ext cx="128520" cy="130320"/>
          </a:xfrm>
          <a:prstGeom prst="ellipse">
            <a:avLst/>
          </a:prstGeom>
          <a:solidFill>
            <a:srgbClr val="b2b2b2"/>
          </a:solidFill>
          <a:ln w="0">
            <a:noFill/>
          </a:ln>
        </p:spPr>
        <p:style>
          <a:lnRef idx="0"/>
          <a:fillRef idx="0"/>
          <a:effectRef idx="0"/>
          <a:fontRef idx="minor"/>
        </p:style>
        <p:txBody>
          <a:bodyPr lIns="219600" rIns="219600" tIns="-17640" bIns="-17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2" name="Oval 27"/>
          <p:cNvSpPr/>
          <p:nvPr/>
        </p:nvSpPr>
        <p:spPr>
          <a:xfrm>
            <a:off x="14067000" y="7296120"/>
            <a:ext cx="12996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3" name="Oval 28"/>
          <p:cNvSpPr/>
          <p:nvPr/>
        </p:nvSpPr>
        <p:spPr>
          <a:xfrm>
            <a:off x="14189040" y="7132680"/>
            <a:ext cx="13356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4" name="Oval 29"/>
          <p:cNvSpPr/>
          <p:nvPr/>
        </p:nvSpPr>
        <p:spPr>
          <a:xfrm>
            <a:off x="14341320" y="7007400"/>
            <a:ext cx="1335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5" name="Oval 30"/>
          <p:cNvSpPr/>
          <p:nvPr/>
        </p:nvSpPr>
        <p:spPr>
          <a:xfrm>
            <a:off x="14505120" y="6942240"/>
            <a:ext cx="1299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6" name="Oval 31"/>
          <p:cNvSpPr/>
          <p:nvPr/>
        </p:nvSpPr>
        <p:spPr>
          <a:xfrm>
            <a:off x="14687640" y="6896160"/>
            <a:ext cx="133200" cy="129960"/>
          </a:xfrm>
          <a:prstGeom prst="ellipse">
            <a:avLst/>
          </a:prstGeom>
          <a:solidFill>
            <a:srgbClr val="b2b2b2"/>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7" name="Oval 32"/>
          <p:cNvSpPr/>
          <p:nvPr/>
        </p:nvSpPr>
        <p:spPr>
          <a:xfrm>
            <a:off x="15792480" y="6458040"/>
            <a:ext cx="127080" cy="129960"/>
          </a:xfrm>
          <a:prstGeom prst="ellipse">
            <a:avLst/>
          </a:prstGeom>
          <a:solidFill>
            <a:srgbClr val="b2b2b2"/>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8" name="Oval 33"/>
          <p:cNvSpPr/>
          <p:nvPr/>
        </p:nvSpPr>
        <p:spPr>
          <a:xfrm>
            <a:off x="16002000" y="6343560"/>
            <a:ext cx="12708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29" name="Oval 34"/>
          <p:cNvSpPr/>
          <p:nvPr/>
        </p:nvSpPr>
        <p:spPr>
          <a:xfrm>
            <a:off x="16162200" y="6226200"/>
            <a:ext cx="13356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0" name="Oval 35"/>
          <p:cNvSpPr/>
          <p:nvPr/>
        </p:nvSpPr>
        <p:spPr>
          <a:xfrm>
            <a:off x="16292520" y="6060960"/>
            <a:ext cx="125280" cy="133560"/>
          </a:xfrm>
          <a:prstGeom prst="ellipse">
            <a:avLst/>
          </a:prstGeom>
          <a:solidFill>
            <a:srgbClr val="b2b2b2"/>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1" name="Oval 36"/>
          <p:cNvSpPr/>
          <p:nvPr/>
        </p:nvSpPr>
        <p:spPr>
          <a:xfrm>
            <a:off x="16368840" y="5894280"/>
            <a:ext cx="133200" cy="128520"/>
          </a:xfrm>
          <a:prstGeom prst="ellipse">
            <a:avLst/>
          </a:prstGeom>
          <a:solidFill>
            <a:srgbClr val="b2b2b2"/>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2" name="Oval 37"/>
          <p:cNvSpPr/>
          <p:nvPr/>
        </p:nvSpPr>
        <p:spPr>
          <a:xfrm>
            <a:off x="16406640" y="5715000"/>
            <a:ext cx="128880" cy="133200"/>
          </a:xfrm>
          <a:prstGeom prst="ellipse">
            <a:avLst/>
          </a:prstGeom>
          <a:solidFill>
            <a:srgbClr val="b2b2b2"/>
          </a:solidFill>
          <a:ln w="0">
            <a:noFill/>
          </a:ln>
        </p:spPr>
        <p:style>
          <a:lnRef idx="0"/>
          <a:fillRef idx="0"/>
          <a:effectRef idx="0"/>
          <a:fontRef idx="minor"/>
        </p:style>
        <p:txBody>
          <a:bodyPr lIns="219600" rIns="219600" tIns="-15480" bIns="-154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3" name="Oval 38"/>
          <p:cNvSpPr/>
          <p:nvPr/>
        </p:nvSpPr>
        <p:spPr>
          <a:xfrm>
            <a:off x="16440120" y="4476600"/>
            <a:ext cx="13032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4" name="Oval 39"/>
          <p:cNvSpPr/>
          <p:nvPr/>
        </p:nvSpPr>
        <p:spPr>
          <a:xfrm>
            <a:off x="16433640" y="4245120"/>
            <a:ext cx="133560" cy="128520"/>
          </a:xfrm>
          <a:prstGeom prst="ellipse">
            <a:avLst/>
          </a:prstGeom>
          <a:solidFill>
            <a:srgbClr val="969696"/>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5" name="Oval 40"/>
          <p:cNvSpPr/>
          <p:nvPr/>
        </p:nvSpPr>
        <p:spPr>
          <a:xfrm>
            <a:off x="16371720" y="4035600"/>
            <a:ext cx="133560" cy="128520"/>
          </a:xfrm>
          <a:prstGeom prst="ellipse">
            <a:avLst/>
          </a:prstGeom>
          <a:solidFill>
            <a:srgbClr val="969696"/>
          </a:solidFill>
          <a:ln w="0">
            <a:noFill/>
          </a:ln>
        </p:spPr>
        <p:style>
          <a:lnRef idx="0"/>
          <a:fillRef idx="0"/>
          <a:effectRef idx="0"/>
          <a:fontRef idx="minor"/>
        </p:style>
        <p:txBody>
          <a:bodyPr lIns="219600" rIns="219600" tIns="-18720" bIns="-187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6" name="Oval 41"/>
          <p:cNvSpPr/>
          <p:nvPr/>
        </p:nvSpPr>
        <p:spPr>
          <a:xfrm>
            <a:off x="16281360" y="3855960"/>
            <a:ext cx="13356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7" name="Oval 42"/>
          <p:cNvSpPr/>
          <p:nvPr/>
        </p:nvSpPr>
        <p:spPr>
          <a:xfrm>
            <a:off x="16151400" y="3726000"/>
            <a:ext cx="129960" cy="129960"/>
          </a:xfrm>
          <a:prstGeom prst="ellipse">
            <a:avLst/>
          </a:prstGeom>
          <a:solidFill>
            <a:srgbClr val="969696"/>
          </a:solidFill>
          <a:ln w="0">
            <a:noFill/>
          </a:ln>
        </p:spPr>
        <p:style>
          <a:lnRef idx="0"/>
          <a:fillRef idx="0"/>
          <a:effectRef idx="0"/>
          <a:fontRef idx="minor"/>
        </p:style>
        <p:txBody>
          <a:bodyPr lIns="219600" rIns="219600" tIns="-18000" bIns="-18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8" name="Oval 43"/>
          <p:cNvSpPr/>
          <p:nvPr/>
        </p:nvSpPr>
        <p:spPr>
          <a:xfrm>
            <a:off x="16002000" y="3611520"/>
            <a:ext cx="127080" cy="133560"/>
          </a:xfrm>
          <a:prstGeom prst="ellipse">
            <a:avLst/>
          </a:prstGeom>
          <a:solidFill>
            <a:srgbClr val="969696"/>
          </a:solidFill>
          <a:ln w="0">
            <a:noFill/>
          </a:ln>
        </p:spPr>
        <p:style>
          <a:lnRef idx="0"/>
          <a:fillRef idx="0"/>
          <a:effectRef idx="0"/>
          <a:fontRef idx="minor"/>
        </p:style>
        <p:txBody>
          <a:bodyPr lIns="219600" rIns="219600" tIns="-15120" bIns="-15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39" name="Freeform 95"/>
          <p:cNvSpPr/>
          <p:nvPr/>
        </p:nvSpPr>
        <p:spPr>
          <a:xfrm>
            <a:off x="11628360" y="5769000"/>
            <a:ext cx="1787760" cy="2612880"/>
          </a:xfrm>
          <a:custGeom>
            <a:avLst/>
            <a:gdLst/>
            <a:ahLst/>
            <a:rect l="l" t="t" r="r" b="b"/>
            <a:pathLst>
              <a:path w="433" h="635">
                <a:moveTo>
                  <a:pt x="293" y="94"/>
                </a:moveTo>
                <a:cubicBezTo>
                  <a:pt x="304" y="84"/>
                  <a:pt x="318" y="79"/>
                  <a:pt x="334" y="80"/>
                </a:cubicBezTo>
                <a:cubicBezTo>
                  <a:pt x="360" y="81"/>
                  <a:pt x="391" y="108"/>
                  <a:pt x="401" y="118"/>
                </a:cubicBezTo>
                <a:cubicBezTo>
                  <a:pt x="433" y="118"/>
                  <a:pt x="433" y="118"/>
                  <a:pt x="433" y="118"/>
                </a:cubicBezTo>
                <a:cubicBezTo>
                  <a:pt x="433" y="0"/>
                  <a:pt x="433" y="0"/>
                  <a:pt x="433" y="0"/>
                </a:cubicBezTo>
                <a:cubicBezTo>
                  <a:pt x="0" y="0"/>
                  <a:pt x="0" y="0"/>
                  <a:pt x="0" y="0"/>
                </a:cubicBezTo>
                <a:cubicBezTo>
                  <a:pt x="0" y="463"/>
                  <a:pt x="0" y="463"/>
                  <a:pt x="0" y="463"/>
                </a:cubicBezTo>
                <a:cubicBezTo>
                  <a:pt x="158" y="463"/>
                  <a:pt x="158" y="463"/>
                  <a:pt x="158" y="463"/>
                </a:cubicBezTo>
                <a:cubicBezTo>
                  <a:pt x="164" y="463"/>
                  <a:pt x="169" y="468"/>
                  <a:pt x="169" y="474"/>
                </a:cubicBezTo>
                <a:cubicBezTo>
                  <a:pt x="169" y="528"/>
                  <a:pt x="169" y="528"/>
                  <a:pt x="169" y="528"/>
                </a:cubicBezTo>
                <a:cubicBezTo>
                  <a:pt x="169" y="532"/>
                  <a:pt x="168" y="535"/>
                  <a:pt x="165" y="537"/>
                </a:cubicBezTo>
                <a:cubicBezTo>
                  <a:pt x="156" y="544"/>
                  <a:pt x="130" y="568"/>
                  <a:pt x="129" y="586"/>
                </a:cubicBezTo>
                <a:cubicBezTo>
                  <a:pt x="129" y="598"/>
                  <a:pt x="133" y="611"/>
                  <a:pt x="141" y="619"/>
                </a:cubicBezTo>
                <a:cubicBezTo>
                  <a:pt x="151" y="630"/>
                  <a:pt x="166" y="635"/>
                  <a:pt x="183" y="635"/>
                </a:cubicBezTo>
                <a:cubicBezTo>
                  <a:pt x="207" y="635"/>
                  <a:pt x="248" y="630"/>
                  <a:pt x="250" y="594"/>
                </a:cubicBezTo>
                <a:cubicBezTo>
                  <a:pt x="253" y="560"/>
                  <a:pt x="210" y="533"/>
                  <a:pt x="210" y="533"/>
                </a:cubicBezTo>
                <a:cubicBezTo>
                  <a:pt x="206" y="531"/>
                  <a:pt x="204" y="527"/>
                  <a:pt x="204" y="524"/>
                </a:cubicBezTo>
                <a:cubicBezTo>
                  <a:pt x="204" y="471"/>
                  <a:pt x="204" y="471"/>
                  <a:pt x="204" y="471"/>
                </a:cubicBezTo>
                <a:cubicBezTo>
                  <a:pt x="204" y="465"/>
                  <a:pt x="209" y="460"/>
                  <a:pt x="215" y="460"/>
                </a:cubicBezTo>
                <a:cubicBezTo>
                  <a:pt x="433" y="460"/>
                  <a:pt x="433" y="460"/>
                  <a:pt x="433" y="460"/>
                </a:cubicBezTo>
                <a:cubicBezTo>
                  <a:pt x="433" y="199"/>
                  <a:pt x="433" y="199"/>
                  <a:pt x="433" y="199"/>
                </a:cubicBezTo>
                <a:cubicBezTo>
                  <a:pt x="410" y="199"/>
                  <a:pt x="410" y="199"/>
                  <a:pt x="410" y="199"/>
                </a:cubicBezTo>
                <a:cubicBezTo>
                  <a:pt x="399" y="211"/>
                  <a:pt x="368" y="243"/>
                  <a:pt x="338" y="243"/>
                </a:cubicBezTo>
                <a:cubicBezTo>
                  <a:pt x="305" y="243"/>
                  <a:pt x="270" y="222"/>
                  <a:pt x="270" y="161"/>
                </a:cubicBezTo>
                <a:cubicBezTo>
                  <a:pt x="270" y="124"/>
                  <a:pt x="282" y="104"/>
                  <a:pt x="293" y="94"/>
                </a:cubicBez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0" name="Freeform 96"/>
          <p:cNvSpPr/>
          <p:nvPr/>
        </p:nvSpPr>
        <p:spPr>
          <a:xfrm>
            <a:off x="9747360" y="5769000"/>
            <a:ext cx="1793880" cy="1905120"/>
          </a:xfrm>
          <a:custGeom>
            <a:avLst/>
            <a:gdLst/>
            <a:ahLst/>
            <a:rect l="l" t="t" r="r" b="b"/>
            <a:pathLst>
              <a:path w="435" h="463">
                <a:moveTo>
                  <a:pt x="435" y="0"/>
                </a:moveTo>
                <a:cubicBezTo>
                  <a:pt x="2" y="0"/>
                  <a:pt x="2" y="0"/>
                  <a:pt x="2" y="0"/>
                </a:cubicBezTo>
                <a:cubicBezTo>
                  <a:pt x="2" y="113"/>
                  <a:pt x="2" y="113"/>
                  <a:pt x="2" y="113"/>
                </a:cubicBezTo>
                <a:cubicBezTo>
                  <a:pt x="32" y="113"/>
                  <a:pt x="32" y="113"/>
                  <a:pt x="32" y="113"/>
                </a:cubicBezTo>
                <a:cubicBezTo>
                  <a:pt x="40" y="99"/>
                  <a:pt x="61" y="69"/>
                  <a:pt x="104" y="70"/>
                </a:cubicBezTo>
                <a:cubicBezTo>
                  <a:pt x="166" y="72"/>
                  <a:pt x="166" y="134"/>
                  <a:pt x="166" y="154"/>
                </a:cubicBezTo>
                <a:cubicBezTo>
                  <a:pt x="166" y="184"/>
                  <a:pt x="159" y="205"/>
                  <a:pt x="145" y="219"/>
                </a:cubicBezTo>
                <a:cubicBezTo>
                  <a:pt x="134" y="229"/>
                  <a:pt x="119" y="234"/>
                  <a:pt x="100" y="234"/>
                </a:cubicBezTo>
                <a:cubicBezTo>
                  <a:pt x="63" y="233"/>
                  <a:pt x="42" y="209"/>
                  <a:pt x="34" y="192"/>
                </a:cubicBezTo>
                <a:cubicBezTo>
                  <a:pt x="0" y="192"/>
                  <a:pt x="0" y="192"/>
                  <a:pt x="0" y="192"/>
                </a:cubicBezTo>
                <a:cubicBezTo>
                  <a:pt x="0" y="442"/>
                  <a:pt x="0" y="442"/>
                  <a:pt x="0" y="442"/>
                </a:cubicBezTo>
                <a:cubicBezTo>
                  <a:pt x="4" y="449"/>
                  <a:pt x="7" y="456"/>
                  <a:pt x="9" y="463"/>
                </a:cubicBezTo>
                <a:cubicBezTo>
                  <a:pt x="435" y="463"/>
                  <a:pt x="435" y="463"/>
                  <a:pt x="435" y="463"/>
                </a:cubicBezTo>
                <a:lnTo>
                  <a:pt x="435"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1" name="Freeform 97"/>
          <p:cNvSpPr/>
          <p:nvPr/>
        </p:nvSpPr>
        <p:spPr>
          <a:xfrm>
            <a:off x="9753480" y="1844640"/>
            <a:ext cx="4591080" cy="2533680"/>
          </a:xfrm>
          <a:custGeom>
            <a:avLst/>
            <a:gdLst/>
            <a:ahLst/>
            <a:rect l="l" t="t" r="r" b="b"/>
            <a:pathLst>
              <a:path w="1114" h="616">
                <a:moveTo>
                  <a:pt x="0" y="445"/>
                </a:moveTo>
                <a:cubicBezTo>
                  <a:pt x="186" y="445"/>
                  <a:pt x="186" y="445"/>
                  <a:pt x="186" y="445"/>
                </a:cubicBezTo>
                <a:cubicBezTo>
                  <a:pt x="192" y="445"/>
                  <a:pt x="197" y="449"/>
                  <a:pt x="197" y="456"/>
                </a:cubicBezTo>
                <a:cubicBezTo>
                  <a:pt x="197" y="511"/>
                  <a:pt x="197" y="511"/>
                  <a:pt x="197" y="511"/>
                </a:cubicBezTo>
                <a:cubicBezTo>
                  <a:pt x="197" y="515"/>
                  <a:pt x="196" y="519"/>
                  <a:pt x="192" y="521"/>
                </a:cubicBezTo>
                <a:cubicBezTo>
                  <a:pt x="184" y="526"/>
                  <a:pt x="161" y="546"/>
                  <a:pt x="161" y="565"/>
                </a:cubicBezTo>
                <a:cubicBezTo>
                  <a:pt x="161" y="591"/>
                  <a:pt x="179" y="616"/>
                  <a:pt x="213" y="616"/>
                </a:cubicBezTo>
                <a:cubicBezTo>
                  <a:pt x="249" y="616"/>
                  <a:pt x="278" y="597"/>
                  <a:pt x="279" y="571"/>
                </a:cubicBezTo>
                <a:cubicBezTo>
                  <a:pt x="280" y="534"/>
                  <a:pt x="240" y="519"/>
                  <a:pt x="240" y="519"/>
                </a:cubicBezTo>
                <a:cubicBezTo>
                  <a:pt x="235" y="517"/>
                  <a:pt x="232" y="513"/>
                  <a:pt x="233" y="508"/>
                </a:cubicBezTo>
                <a:cubicBezTo>
                  <a:pt x="234" y="458"/>
                  <a:pt x="234" y="458"/>
                  <a:pt x="234" y="458"/>
                </a:cubicBezTo>
                <a:cubicBezTo>
                  <a:pt x="234" y="452"/>
                  <a:pt x="239" y="448"/>
                  <a:pt x="245" y="448"/>
                </a:cubicBezTo>
                <a:cubicBezTo>
                  <a:pt x="647" y="448"/>
                  <a:pt x="647" y="448"/>
                  <a:pt x="647" y="448"/>
                </a:cubicBezTo>
                <a:cubicBezTo>
                  <a:pt x="647" y="412"/>
                  <a:pt x="647" y="412"/>
                  <a:pt x="647" y="412"/>
                </a:cubicBezTo>
                <a:cubicBezTo>
                  <a:pt x="634" y="404"/>
                  <a:pt x="605" y="380"/>
                  <a:pt x="605" y="339"/>
                </a:cubicBezTo>
                <a:cubicBezTo>
                  <a:pt x="605" y="298"/>
                  <a:pt x="646" y="279"/>
                  <a:pt x="683" y="279"/>
                </a:cubicBezTo>
                <a:cubicBezTo>
                  <a:pt x="722" y="279"/>
                  <a:pt x="767" y="294"/>
                  <a:pt x="767" y="338"/>
                </a:cubicBezTo>
                <a:cubicBezTo>
                  <a:pt x="767" y="378"/>
                  <a:pt x="739" y="404"/>
                  <a:pt x="728" y="413"/>
                </a:cubicBezTo>
                <a:cubicBezTo>
                  <a:pt x="728" y="446"/>
                  <a:pt x="728" y="446"/>
                  <a:pt x="728" y="446"/>
                </a:cubicBezTo>
                <a:cubicBezTo>
                  <a:pt x="1114" y="446"/>
                  <a:pt x="1114" y="446"/>
                  <a:pt x="1114" y="446"/>
                </a:cubicBezTo>
                <a:cubicBezTo>
                  <a:pt x="1078" y="356"/>
                  <a:pt x="1025" y="265"/>
                  <a:pt x="952" y="204"/>
                </a:cubicBezTo>
                <a:cubicBezTo>
                  <a:pt x="809" y="83"/>
                  <a:pt x="677" y="5"/>
                  <a:pt x="460" y="2"/>
                </a:cubicBezTo>
                <a:cubicBezTo>
                  <a:pt x="326" y="0"/>
                  <a:pt x="149" y="37"/>
                  <a:pt x="0" y="148"/>
                </a:cubicBezTo>
                <a:lnTo>
                  <a:pt x="0" y="445"/>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2" name="Freeform 98"/>
          <p:cNvSpPr/>
          <p:nvPr/>
        </p:nvSpPr>
        <p:spPr>
          <a:xfrm>
            <a:off x="11628360" y="3083040"/>
            <a:ext cx="2462400" cy="2597040"/>
          </a:xfrm>
          <a:custGeom>
            <a:avLst/>
            <a:gdLst/>
            <a:ahLst/>
            <a:rect l="l" t="t" r="r" b="b"/>
            <a:pathLst>
              <a:path w="597" h="631">
                <a:moveTo>
                  <a:pt x="433" y="422"/>
                </a:moveTo>
                <a:cubicBezTo>
                  <a:pt x="433" y="416"/>
                  <a:pt x="438" y="411"/>
                  <a:pt x="445" y="411"/>
                </a:cubicBezTo>
                <a:cubicBezTo>
                  <a:pt x="492" y="411"/>
                  <a:pt x="492" y="411"/>
                  <a:pt x="492" y="411"/>
                </a:cubicBezTo>
                <a:cubicBezTo>
                  <a:pt x="496" y="411"/>
                  <a:pt x="499" y="413"/>
                  <a:pt x="501" y="415"/>
                </a:cubicBezTo>
                <a:cubicBezTo>
                  <a:pt x="509" y="425"/>
                  <a:pt x="533" y="451"/>
                  <a:pt x="556" y="451"/>
                </a:cubicBezTo>
                <a:cubicBezTo>
                  <a:pt x="587" y="451"/>
                  <a:pt x="597" y="419"/>
                  <a:pt x="597" y="389"/>
                </a:cubicBezTo>
                <a:cubicBezTo>
                  <a:pt x="597" y="356"/>
                  <a:pt x="583" y="336"/>
                  <a:pt x="557" y="334"/>
                </a:cubicBezTo>
                <a:cubicBezTo>
                  <a:pt x="540" y="333"/>
                  <a:pt x="513" y="358"/>
                  <a:pt x="499" y="374"/>
                </a:cubicBezTo>
                <a:cubicBezTo>
                  <a:pt x="497" y="376"/>
                  <a:pt x="494" y="377"/>
                  <a:pt x="491" y="377"/>
                </a:cubicBezTo>
                <a:cubicBezTo>
                  <a:pt x="441" y="377"/>
                  <a:pt x="441" y="377"/>
                  <a:pt x="441" y="377"/>
                </a:cubicBezTo>
                <a:cubicBezTo>
                  <a:pt x="435" y="377"/>
                  <a:pt x="430" y="372"/>
                  <a:pt x="430" y="366"/>
                </a:cubicBezTo>
                <a:cubicBezTo>
                  <a:pt x="430" y="167"/>
                  <a:pt x="430" y="167"/>
                  <a:pt x="430" y="167"/>
                </a:cubicBezTo>
                <a:cubicBezTo>
                  <a:pt x="261" y="167"/>
                  <a:pt x="261" y="167"/>
                  <a:pt x="261" y="167"/>
                </a:cubicBezTo>
                <a:cubicBezTo>
                  <a:pt x="255" y="167"/>
                  <a:pt x="250" y="162"/>
                  <a:pt x="250" y="156"/>
                </a:cubicBezTo>
                <a:cubicBezTo>
                  <a:pt x="250" y="107"/>
                  <a:pt x="250" y="107"/>
                  <a:pt x="250" y="107"/>
                </a:cubicBezTo>
                <a:cubicBezTo>
                  <a:pt x="250" y="103"/>
                  <a:pt x="252" y="100"/>
                  <a:pt x="256" y="98"/>
                </a:cubicBezTo>
                <a:cubicBezTo>
                  <a:pt x="256" y="97"/>
                  <a:pt x="290" y="75"/>
                  <a:pt x="290" y="37"/>
                </a:cubicBezTo>
                <a:cubicBezTo>
                  <a:pt x="290" y="2"/>
                  <a:pt x="238" y="0"/>
                  <a:pt x="228" y="0"/>
                </a:cubicBezTo>
                <a:cubicBezTo>
                  <a:pt x="207" y="0"/>
                  <a:pt x="172" y="8"/>
                  <a:pt x="172" y="38"/>
                </a:cubicBezTo>
                <a:cubicBezTo>
                  <a:pt x="172" y="76"/>
                  <a:pt x="206" y="95"/>
                  <a:pt x="208" y="96"/>
                </a:cubicBezTo>
                <a:cubicBezTo>
                  <a:pt x="211" y="97"/>
                  <a:pt x="214" y="101"/>
                  <a:pt x="214" y="105"/>
                </a:cubicBezTo>
                <a:cubicBezTo>
                  <a:pt x="214" y="158"/>
                  <a:pt x="214" y="158"/>
                  <a:pt x="214" y="158"/>
                </a:cubicBezTo>
                <a:cubicBezTo>
                  <a:pt x="214" y="164"/>
                  <a:pt x="209" y="169"/>
                  <a:pt x="203" y="169"/>
                </a:cubicBezTo>
                <a:cubicBezTo>
                  <a:pt x="0" y="169"/>
                  <a:pt x="0" y="169"/>
                  <a:pt x="0" y="169"/>
                </a:cubicBezTo>
                <a:cubicBezTo>
                  <a:pt x="0" y="631"/>
                  <a:pt x="0" y="631"/>
                  <a:pt x="0" y="631"/>
                </a:cubicBezTo>
                <a:cubicBezTo>
                  <a:pt x="433" y="631"/>
                  <a:pt x="433" y="631"/>
                  <a:pt x="433" y="631"/>
                </a:cubicBezTo>
                <a:lnTo>
                  <a:pt x="433" y="422"/>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3" name="Freeform 99"/>
          <p:cNvSpPr/>
          <p:nvPr/>
        </p:nvSpPr>
        <p:spPr>
          <a:xfrm>
            <a:off x="12833280" y="3780000"/>
            <a:ext cx="1720800" cy="3725640"/>
          </a:xfrm>
          <a:custGeom>
            <a:avLst/>
            <a:gdLst/>
            <a:ahLst/>
            <a:rect l="l" t="t" r="r" b="b"/>
            <a:pathLst>
              <a:path w="418" h="906">
                <a:moveTo>
                  <a:pt x="160" y="0"/>
                </a:moveTo>
                <a:cubicBezTo>
                  <a:pt x="160" y="186"/>
                  <a:pt x="160" y="186"/>
                  <a:pt x="160" y="186"/>
                </a:cubicBezTo>
                <a:cubicBezTo>
                  <a:pt x="194" y="186"/>
                  <a:pt x="194" y="186"/>
                  <a:pt x="194" y="186"/>
                </a:cubicBezTo>
                <a:cubicBezTo>
                  <a:pt x="205" y="174"/>
                  <a:pt x="238" y="142"/>
                  <a:pt x="266" y="143"/>
                </a:cubicBezTo>
                <a:cubicBezTo>
                  <a:pt x="296" y="145"/>
                  <a:pt x="328" y="166"/>
                  <a:pt x="328" y="220"/>
                </a:cubicBezTo>
                <a:cubicBezTo>
                  <a:pt x="328" y="271"/>
                  <a:pt x="303" y="304"/>
                  <a:pt x="264" y="304"/>
                </a:cubicBezTo>
                <a:cubicBezTo>
                  <a:pt x="232" y="304"/>
                  <a:pt x="205" y="275"/>
                  <a:pt x="195" y="264"/>
                </a:cubicBezTo>
                <a:cubicBezTo>
                  <a:pt x="164" y="264"/>
                  <a:pt x="164" y="264"/>
                  <a:pt x="164" y="264"/>
                </a:cubicBezTo>
                <a:cubicBezTo>
                  <a:pt x="164" y="613"/>
                  <a:pt x="164" y="613"/>
                  <a:pt x="164" y="613"/>
                </a:cubicBezTo>
                <a:cubicBezTo>
                  <a:pt x="164" y="619"/>
                  <a:pt x="159" y="624"/>
                  <a:pt x="153" y="624"/>
                </a:cubicBezTo>
                <a:cubicBezTo>
                  <a:pt x="105" y="624"/>
                  <a:pt x="105" y="624"/>
                  <a:pt x="105" y="624"/>
                </a:cubicBezTo>
                <a:cubicBezTo>
                  <a:pt x="102" y="624"/>
                  <a:pt x="99" y="623"/>
                  <a:pt x="97" y="621"/>
                </a:cubicBezTo>
                <a:cubicBezTo>
                  <a:pt x="88" y="611"/>
                  <a:pt x="59" y="587"/>
                  <a:pt x="40" y="586"/>
                </a:cubicBezTo>
                <a:cubicBezTo>
                  <a:pt x="31" y="585"/>
                  <a:pt x="22" y="588"/>
                  <a:pt x="16" y="594"/>
                </a:cubicBezTo>
                <a:cubicBezTo>
                  <a:pt x="5" y="604"/>
                  <a:pt x="0" y="622"/>
                  <a:pt x="0" y="645"/>
                </a:cubicBezTo>
                <a:cubicBezTo>
                  <a:pt x="0" y="683"/>
                  <a:pt x="16" y="705"/>
                  <a:pt x="46" y="705"/>
                </a:cubicBezTo>
                <a:cubicBezTo>
                  <a:pt x="66" y="705"/>
                  <a:pt x="96" y="675"/>
                  <a:pt x="104" y="665"/>
                </a:cubicBezTo>
                <a:cubicBezTo>
                  <a:pt x="106" y="662"/>
                  <a:pt x="109" y="661"/>
                  <a:pt x="113" y="661"/>
                </a:cubicBezTo>
                <a:cubicBezTo>
                  <a:pt x="153" y="661"/>
                  <a:pt x="153" y="661"/>
                  <a:pt x="153" y="661"/>
                </a:cubicBezTo>
                <a:cubicBezTo>
                  <a:pt x="159" y="661"/>
                  <a:pt x="164" y="666"/>
                  <a:pt x="164" y="672"/>
                </a:cubicBezTo>
                <a:cubicBezTo>
                  <a:pt x="164" y="906"/>
                  <a:pt x="164" y="906"/>
                  <a:pt x="164" y="906"/>
                </a:cubicBezTo>
                <a:cubicBezTo>
                  <a:pt x="207" y="808"/>
                  <a:pt x="270" y="669"/>
                  <a:pt x="318" y="573"/>
                </a:cubicBezTo>
                <a:cubicBezTo>
                  <a:pt x="393" y="422"/>
                  <a:pt x="418" y="329"/>
                  <a:pt x="418" y="210"/>
                </a:cubicBezTo>
                <a:cubicBezTo>
                  <a:pt x="418" y="156"/>
                  <a:pt x="404" y="79"/>
                  <a:pt x="376" y="0"/>
                </a:cubicBezTo>
                <a:lnTo>
                  <a:pt x="160"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4" name="Freeform 100"/>
          <p:cNvSpPr/>
          <p:nvPr/>
        </p:nvSpPr>
        <p:spPr>
          <a:xfrm>
            <a:off x="9823320" y="7753320"/>
            <a:ext cx="3573720" cy="1474920"/>
          </a:xfrm>
          <a:custGeom>
            <a:avLst/>
            <a:gdLst/>
            <a:ahLst/>
            <a:rect l="l" t="t" r="r" b="b"/>
            <a:pathLst>
              <a:path w="868" h="358">
                <a:moveTo>
                  <a:pt x="665" y="0"/>
                </a:moveTo>
                <a:cubicBezTo>
                  <a:pt x="665" y="36"/>
                  <a:pt x="665" y="36"/>
                  <a:pt x="665" y="36"/>
                </a:cubicBezTo>
                <a:cubicBezTo>
                  <a:pt x="679" y="46"/>
                  <a:pt x="715" y="75"/>
                  <a:pt x="712" y="114"/>
                </a:cubicBezTo>
                <a:cubicBezTo>
                  <a:pt x="709" y="152"/>
                  <a:pt x="675" y="175"/>
                  <a:pt x="622" y="175"/>
                </a:cubicBezTo>
                <a:cubicBezTo>
                  <a:pt x="592" y="175"/>
                  <a:pt x="574" y="163"/>
                  <a:pt x="564" y="153"/>
                </a:cubicBezTo>
                <a:cubicBezTo>
                  <a:pt x="552" y="139"/>
                  <a:pt x="545" y="121"/>
                  <a:pt x="546" y="103"/>
                </a:cubicBezTo>
                <a:cubicBezTo>
                  <a:pt x="548" y="77"/>
                  <a:pt x="575" y="51"/>
                  <a:pt x="586" y="41"/>
                </a:cubicBezTo>
                <a:cubicBezTo>
                  <a:pt x="586" y="3"/>
                  <a:pt x="586" y="3"/>
                  <a:pt x="586" y="3"/>
                </a:cubicBezTo>
                <a:cubicBezTo>
                  <a:pt x="0" y="3"/>
                  <a:pt x="0" y="3"/>
                  <a:pt x="0" y="3"/>
                </a:cubicBezTo>
                <a:cubicBezTo>
                  <a:pt x="16" y="45"/>
                  <a:pt x="26" y="81"/>
                  <a:pt x="26" y="104"/>
                </a:cubicBezTo>
                <a:cubicBezTo>
                  <a:pt x="18" y="303"/>
                  <a:pt x="126" y="358"/>
                  <a:pt x="167" y="358"/>
                </a:cubicBezTo>
                <a:cubicBezTo>
                  <a:pt x="315" y="358"/>
                  <a:pt x="651" y="358"/>
                  <a:pt x="700" y="358"/>
                </a:cubicBezTo>
                <a:cubicBezTo>
                  <a:pt x="750" y="358"/>
                  <a:pt x="799" y="291"/>
                  <a:pt x="821" y="241"/>
                </a:cubicBezTo>
                <a:cubicBezTo>
                  <a:pt x="844" y="190"/>
                  <a:pt x="829" y="88"/>
                  <a:pt x="845" y="51"/>
                </a:cubicBezTo>
                <a:cubicBezTo>
                  <a:pt x="849" y="43"/>
                  <a:pt x="857" y="25"/>
                  <a:pt x="868" y="0"/>
                </a:cubicBezTo>
                <a:lnTo>
                  <a:pt x="66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5" name="Freeform 101"/>
          <p:cNvSpPr/>
          <p:nvPr/>
        </p:nvSpPr>
        <p:spPr>
          <a:xfrm>
            <a:off x="8280360" y="2522520"/>
            <a:ext cx="2060640" cy="4865760"/>
          </a:xfrm>
          <a:custGeom>
            <a:avLst/>
            <a:gdLst/>
            <a:ahLst/>
            <a:rect l="l" t="t" r="r" b="b"/>
            <a:pathLst>
              <a:path w="500" h="1182">
                <a:moveTo>
                  <a:pt x="334" y="970"/>
                </a:moveTo>
                <a:cubicBezTo>
                  <a:pt x="334" y="964"/>
                  <a:pt x="339" y="959"/>
                  <a:pt x="345" y="959"/>
                </a:cubicBezTo>
                <a:cubicBezTo>
                  <a:pt x="398" y="959"/>
                  <a:pt x="398" y="959"/>
                  <a:pt x="398" y="959"/>
                </a:cubicBezTo>
                <a:cubicBezTo>
                  <a:pt x="403" y="959"/>
                  <a:pt x="407" y="963"/>
                  <a:pt x="409" y="967"/>
                </a:cubicBezTo>
                <a:cubicBezTo>
                  <a:pt x="409" y="969"/>
                  <a:pt x="418" y="999"/>
                  <a:pt x="457" y="1001"/>
                </a:cubicBezTo>
                <a:cubicBezTo>
                  <a:pt x="470" y="1001"/>
                  <a:pt x="479" y="998"/>
                  <a:pt x="486" y="992"/>
                </a:cubicBezTo>
                <a:cubicBezTo>
                  <a:pt x="495" y="983"/>
                  <a:pt x="500" y="966"/>
                  <a:pt x="500" y="943"/>
                </a:cubicBezTo>
                <a:cubicBezTo>
                  <a:pt x="500" y="907"/>
                  <a:pt x="493" y="882"/>
                  <a:pt x="460" y="881"/>
                </a:cubicBezTo>
                <a:cubicBezTo>
                  <a:pt x="420" y="880"/>
                  <a:pt x="406" y="916"/>
                  <a:pt x="405" y="917"/>
                </a:cubicBezTo>
                <a:cubicBezTo>
                  <a:pt x="403" y="921"/>
                  <a:pt x="399" y="924"/>
                  <a:pt x="395" y="924"/>
                </a:cubicBezTo>
                <a:cubicBezTo>
                  <a:pt x="347" y="924"/>
                  <a:pt x="347" y="924"/>
                  <a:pt x="347" y="924"/>
                </a:cubicBezTo>
                <a:cubicBezTo>
                  <a:pt x="341" y="924"/>
                  <a:pt x="336" y="919"/>
                  <a:pt x="336" y="913"/>
                </a:cubicBezTo>
                <a:cubicBezTo>
                  <a:pt x="336" y="783"/>
                  <a:pt x="336" y="783"/>
                  <a:pt x="336" y="783"/>
                </a:cubicBezTo>
                <a:cubicBezTo>
                  <a:pt x="335" y="782"/>
                  <a:pt x="334" y="780"/>
                  <a:pt x="334" y="778"/>
                </a:cubicBezTo>
                <a:cubicBezTo>
                  <a:pt x="334" y="776"/>
                  <a:pt x="335" y="774"/>
                  <a:pt x="336" y="772"/>
                </a:cubicBezTo>
                <a:cubicBezTo>
                  <a:pt x="336" y="0"/>
                  <a:pt x="336" y="0"/>
                  <a:pt x="336" y="0"/>
                </a:cubicBezTo>
                <a:cubicBezTo>
                  <a:pt x="254" y="67"/>
                  <a:pt x="182" y="159"/>
                  <a:pt x="134" y="281"/>
                </a:cubicBezTo>
                <a:cubicBezTo>
                  <a:pt x="0" y="619"/>
                  <a:pt x="191" y="899"/>
                  <a:pt x="221" y="959"/>
                </a:cubicBezTo>
                <a:cubicBezTo>
                  <a:pt x="238" y="992"/>
                  <a:pt x="290" y="1088"/>
                  <a:pt x="334" y="1182"/>
                </a:cubicBezTo>
                <a:lnTo>
                  <a:pt x="334" y="97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6" name="Freeform 102"/>
          <p:cNvSpPr/>
          <p:nvPr/>
        </p:nvSpPr>
        <p:spPr>
          <a:xfrm>
            <a:off x="9753480" y="3763800"/>
            <a:ext cx="1787760" cy="1916280"/>
          </a:xfrm>
          <a:custGeom>
            <a:avLst/>
            <a:gdLst/>
            <a:ahLst/>
            <a:rect l="l" t="t" r="r" b="b"/>
            <a:pathLst>
              <a:path w="433" h="465">
                <a:moveTo>
                  <a:pt x="433" y="3"/>
                </a:moveTo>
                <a:cubicBezTo>
                  <a:pt x="256" y="3"/>
                  <a:pt x="256" y="3"/>
                  <a:pt x="256" y="3"/>
                </a:cubicBezTo>
                <a:cubicBezTo>
                  <a:pt x="255" y="34"/>
                  <a:pt x="255" y="34"/>
                  <a:pt x="255" y="34"/>
                </a:cubicBezTo>
                <a:cubicBezTo>
                  <a:pt x="270" y="42"/>
                  <a:pt x="302" y="63"/>
                  <a:pt x="301" y="105"/>
                </a:cubicBezTo>
                <a:cubicBezTo>
                  <a:pt x="300" y="142"/>
                  <a:pt x="261" y="172"/>
                  <a:pt x="213" y="172"/>
                </a:cubicBezTo>
                <a:cubicBezTo>
                  <a:pt x="165" y="172"/>
                  <a:pt x="139" y="134"/>
                  <a:pt x="139" y="98"/>
                </a:cubicBezTo>
                <a:cubicBezTo>
                  <a:pt x="139" y="70"/>
                  <a:pt x="164" y="47"/>
                  <a:pt x="175" y="39"/>
                </a:cubicBezTo>
                <a:cubicBezTo>
                  <a:pt x="175" y="0"/>
                  <a:pt x="175" y="0"/>
                  <a:pt x="175" y="0"/>
                </a:cubicBezTo>
                <a:cubicBezTo>
                  <a:pt x="0" y="0"/>
                  <a:pt x="0" y="0"/>
                  <a:pt x="0" y="0"/>
                </a:cubicBezTo>
                <a:cubicBezTo>
                  <a:pt x="0" y="465"/>
                  <a:pt x="0" y="465"/>
                  <a:pt x="0" y="465"/>
                </a:cubicBezTo>
                <a:cubicBezTo>
                  <a:pt x="433" y="465"/>
                  <a:pt x="433" y="465"/>
                  <a:pt x="433" y="465"/>
                </a:cubicBezTo>
                <a:lnTo>
                  <a:pt x="433" y="3"/>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7" name="Freeform 103"/>
          <p:cNvSpPr/>
          <p:nvPr/>
        </p:nvSpPr>
        <p:spPr>
          <a:xfrm>
            <a:off x="11925360" y="4164120"/>
            <a:ext cx="1166760" cy="1170000"/>
          </a:xfrm>
          <a:custGeom>
            <a:avLst/>
            <a:gdLst/>
            <a:ahLst/>
            <a:rect l="l" t="t" r="r" b="b"/>
            <a:pathLst>
              <a:path w="283" h="284">
                <a:moveTo>
                  <a:pt x="133" y="0"/>
                </a:moveTo>
                <a:cubicBezTo>
                  <a:pt x="139" y="0"/>
                  <a:pt x="144" y="0"/>
                  <a:pt x="150" y="0"/>
                </a:cubicBezTo>
                <a:cubicBezTo>
                  <a:pt x="154" y="1"/>
                  <a:pt x="157" y="1"/>
                  <a:pt x="161" y="2"/>
                </a:cubicBezTo>
                <a:cubicBezTo>
                  <a:pt x="189" y="6"/>
                  <a:pt x="214" y="17"/>
                  <a:pt x="235" y="36"/>
                </a:cubicBezTo>
                <a:cubicBezTo>
                  <a:pt x="260" y="58"/>
                  <a:pt x="275" y="85"/>
                  <a:pt x="281" y="118"/>
                </a:cubicBezTo>
                <a:cubicBezTo>
                  <a:pt x="282" y="123"/>
                  <a:pt x="283" y="129"/>
                  <a:pt x="283" y="134"/>
                </a:cubicBezTo>
                <a:cubicBezTo>
                  <a:pt x="283" y="139"/>
                  <a:pt x="283" y="145"/>
                  <a:pt x="283" y="151"/>
                </a:cubicBezTo>
                <a:cubicBezTo>
                  <a:pt x="283" y="151"/>
                  <a:pt x="283" y="152"/>
                  <a:pt x="283" y="153"/>
                </a:cubicBezTo>
                <a:cubicBezTo>
                  <a:pt x="282" y="159"/>
                  <a:pt x="282" y="164"/>
                  <a:pt x="281" y="169"/>
                </a:cubicBezTo>
                <a:cubicBezTo>
                  <a:pt x="275" y="197"/>
                  <a:pt x="263" y="221"/>
                  <a:pt x="242" y="242"/>
                </a:cubicBezTo>
                <a:cubicBezTo>
                  <a:pt x="221" y="263"/>
                  <a:pt x="196" y="277"/>
                  <a:pt x="166" y="282"/>
                </a:cubicBezTo>
                <a:cubicBezTo>
                  <a:pt x="161" y="283"/>
                  <a:pt x="155" y="283"/>
                  <a:pt x="150" y="284"/>
                </a:cubicBezTo>
                <a:cubicBezTo>
                  <a:pt x="144" y="284"/>
                  <a:pt x="139" y="284"/>
                  <a:pt x="133" y="284"/>
                </a:cubicBezTo>
                <a:cubicBezTo>
                  <a:pt x="129" y="284"/>
                  <a:pt x="126" y="283"/>
                  <a:pt x="122" y="283"/>
                </a:cubicBezTo>
                <a:cubicBezTo>
                  <a:pt x="94" y="279"/>
                  <a:pt x="69" y="268"/>
                  <a:pt x="48" y="249"/>
                </a:cubicBezTo>
                <a:cubicBezTo>
                  <a:pt x="23" y="227"/>
                  <a:pt x="8" y="199"/>
                  <a:pt x="2" y="167"/>
                </a:cubicBezTo>
                <a:cubicBezTo>
                  <a:pt x="1" y="161"/>
                  <a:pt x="0" y="156"/>
                  <a:pt x="0" y="151"/>
                </a:cubicBezTo>
                <a:cubicBezTo>
                  <a:pt x="0" y="145"/>
                  <a:pt x="0" y="139"/>
                  <a:pt x="0" y="134"/>
                </a:cubicBezTo>
                <a:cubicBezTo>
                  <a:pt x="0" y="133"/>
                  <a:pt x="0" y="132"/>
                  <a:pt x="0" y="131"/>
                </a:cubicBezTo>
                <a:cubicBezTo>
                  <a:pt x="1" y="126"/>
                  <a:pt x="1" y="121"/>
                  <a:pt x="2" y="116"/>
                </a:cubicBezTo>
                <a:cubicBezTo>
                  <a:pt x="8" y="87"/>
                  <a:pt x="20" y="63"/>
                  <a:pt x="41" y="43"/>
                </a:cubicBezTo>
                <a:cubicBezTo>
                  <a:pt x="62" y="21"/>
                  <a:pt x="87" y="8"/>
                  <a:pt x="117" y="3"/>
                </a:cubicBezTo>
                <a:cubicBezTo>
                  <a:pt x="122" y="2"/>
                  <a:pt x="128" y="1"/>
                  <a:pt x="133" y="0"/>
                </a:cubicBezTo>
                <a:close/>
                <a:moveTo>
                  <a:pt x="168" y="263"/>
                </a:moveTo>
                <a:cubicBezTo>
                  <a:pt x="166" y="262"/>
                  <a:pt x="164" y="263"/>
                  <a:pt x="162" y="262"/>
                </a:cubicBezTo>
                <a:cubicBezTo>
                  <a:pt x="153" y="260"/>
                  <a:pt x="147" y="254"/>
                  <a:pt x="140" y="249"/>
                </a:cubicBezTo>
                <a:cubicBezTo>
                  <a:pt x="136" y="246"/>
                  <a:pt x="133" y="242"/>
                  <a:pt x="132" y="237"/>
                </a:cubicBezTo>
                <a:cubicBezTo>
                  <a:pt x="132" y="236"/>
                  <a:pt x="132" y="235"/>
                  <a:pt x="132" y="233"/>
                </a:cubicBezTo>
                <a:cubicBezTo>
                  <a:pt x="130" y="222"/>
                  <a:pt x="128" y="210"/>
                  <a:pt x="126" y="199"/>
                </a:cubicBezTo>
                <a:cubicBezTo>
                  <a:pt x="125" y="194"/>
                  <a:pt x="123" y="189"/>
                  <a:pt x="119" y="185"/>
                </a:cubicBezTo>
                <a:cubicBezTo>
                  <a:pt x="117" y="181"/>
                  <a:pt x="113" y="179"/>
                  <a:pt x="108" y="179"/>
                </a:cubicBezTo>
                <a:cubicBezTo>
                  <a:pt x="103" y="178"/>
                  <a:pt x="97" y="178"/>
                  <a:pt x="92" y="176"/>
                </a:cubicBezTo>
                <a:cubicBezTo>
                  <a:pt x="78" y="174"/>
                  <a:pt x="68" y="163"/>
                  <a:pt x="66" y="150"/>
                </a:cubicBezTo>
                <a:cubicBezTo>
                  <a:pt x="64" y="139"/>
                  <a:pt x="67" y="129"/>
                  <a:pt x="73" y="119"/>
                </a:cubicBezTo>
                <a:cubicBezTo>
                  <a:pt x="79" y="110"/>
                  <a:pt x="89" y="108"/>
                  <a:pt x="99" y="104"/>
                </a:cubicBezTo>
                <a:cubicBezTo>
                  <a:pt x="99" y="104"/>
                  <a:pt x="99" y="104"/>
                  <a:pt x="99" y="104"/>
                </a:cubicBezTo>
                <a:cubicBezTo>
                  <a:pt x="106" y="103"/>
                  <a:pt x="112" y="106"/>
                  <a:pt x="117" y="110"/>
                </a:cubicBezTo>
                <a:cubicBezTo>
                  <a:pt x="122" y="113"/>
                  <a:pt x="127" y="117"/>
                  <a:pt x="132" y="121"/>
                </a:cubicBezTo>
                <a:cubicBezTo>
                  <a:pt x="136" y="125"/>
                  <a:pt x="141" y="127"/>
                  <a:pt x="147" y="127"/>
                </a:cubicBezTo>
                <a:cubicBezTo>
                  <a:pt x="148" y="128"/>
                  <a:pt x="149" y="127"/>
                  <a:pt x="150" y="127"/>
                </a:cubicBezTo>
                <a:cubicBezTo>
                  <a:pt x="153" y="125"/>
                  <a:pt x="156" y="123"/>
                  <a:pt x="159" y="122"/>
                </a:cubicBezTo>
                <a:cubicBezTo>
                  <a:pt x="163" y="119"/>
                  <a:pt x="169" y="117"/>
                  <a:pt x="173" y="114"/>
                </a:cubicBezTo>
                <a:cubicBezTo>
                  <a:pt x="176" y="113"/>
                  <a:pt x="178" y="111"/>
                  <a:pt x="179" y="109"/>
                </a:cubicBezTo>
                <a:cubicBezTo>
                  <a:pt x="174" y="107"/>
                  <a:pt x="173" y="106"/>
                  <a:pt x="177" y="102"/>
                </a:cubicBezTo>
                <a:cubicBezTo>
                  <a:pt x="179" y="100"/>
                  <a:pt x="181" y="99"/>
                  <a:pt x="183" y="97"/>
                </a:cubicBezTo>
                <a:cubicBezTo>
                  <a:pt x="184" y="95"/>
                  <a:pt x="185" y="93"/>
                  <a:pt x="183" y="92"/>
                </a:cubicBezTo>
                <a:cubicBezTo>
                  <a:pt x="181" y="91"/>
                  <a:pt x="179" y="89"/>
                  <a:pt x="177" y="89"/>
                </a:cubicBezTo>
                <a:cubicBezTo>
                  <a:pt x="170" y="90"/>
                  <a:pt x="163" y="94"/>
                  <a:pt x="162" y="102"/>
                </a:cubicBezTo>
                <a:cubicBezTo>
                  <a:pt x="161" y="105"/>
                  <a:pt x="162" y="108"/>
                  <a:pt x="163" y="111"/>
                </a:cubicBezTo>
                <a:cubicBezTo>
                  <a:pt x="160" y="111"/>
                  <a:pt x="158" y="111"/>
                  <a:pt x="155" y="111"/>
                </a:cubicBezTo>
                <a:cubicBezTo>
                  <a:pt x="150" y="109"/>
                  <a:pt x="147" y="106"/>
                  <a:pt x="144" y="102"/>
                </a:cubicBezTo>
                <a:cubicBezTo>
                  <a:pt x="141" y="98"/>
                  <a:pt x="138" y="95"/>
                  <a:pt x="134" y="91"/>
                </a:cubicBezTo>
                <a:cubicBezTo>
                  <a:pt x="130" y="86"/>
                  <a:pt x="124" y="86"/>
                  <a:pt x="119" y="89"/>
                </a:cubicBezTo>
                <a:cubicBezTo>
                  <a:pt x="118" y="89"/>
                  <a:pt x="117" y="90"/>
                  <a:pt x="117" y="91"/>
                </a:cubicBezTo>
                <a:cubicBezTo>
                  <a:pt x="115" y="99"/>
                  <a:pt x="105" y="103"/>
                  <a:pt x="98" y="98"/>
                </a:cubicBezTo>
                <a:cubicBezTo>
                  <a:pt x="96" y="97"/>
                  <a:pt x="96" y="95"/>
                  <a:pt x="98" y="94"/>
                </a:cubicBezTo>
                <a:cubicBezTo>
                  <a:pt x="100" y="93"/>
                  <a:pt x="101" y="93"/>
                  <a:pt x="103" y="92"/>
                </a:cubicBezTo>
                <a:cubicBezTo>
                  <a:pt x="107" y="91"/>
                  <a:pt x="108" y="90"/>
                  <a:pt x="105" y="86"/>
                </a:cubicBezTo>
                <a:cubicBezTo>
                  <a:pt x="104" y="85"/>
                  <a:pt x="102" y="84"/>
                  <a:pt x="101" y="82"/>
                </a:cubicBezTo>
                <a:cubicBezTo>
                  <a:pt x="100" y="81"/>
                  <a:pt x="100" y="81"/>
                  <a:pt x="99" y="80"/>
                </a:cubicBezTo>
                <a:cubicBezTo>
                  <a:pt x="100" y="80"/>
                  <a:pt x="101" y="80"/>
                  <a:pt x="102" y="80"/>
                </a:cubicBezTo>
                <a:cubicBezTo>
                  <a:pt x="109" y="79"/>
                  <a:pt x="116" y="77"/>
                  <a:pt x="122" y="72"/>
                </a:cubicBezTo>
                <a:cubicBezTo>
                  <a:pt x="123" y="71"/>
                  <a:pt x="125" y="70"/>
                  <a:pt x="123" y="68"/>
                </a:cubicBezTo>
                <a:cubicBezTo>
                  <a:pt x="126" y="66"/>
                  <a:pt x="129" y="66"/>
                  <a:pt x="132" y="68"/>
                </a:cubicBezTo>
                <a:cubicBezTo>
                  <a:pt x="134" y="69"/>
                  <a:pt x="137" y="70"/>
                  <a:pt x="139" y="72"/>
                </a:cubicBezTo>
                <a:cubicBezTo>
                  <a:pt x="146" y="75"/>
                  <a:pt x="150" y="74"/>
                  <a:pt x="153" y="68"/>
                </a:cubicBezTo>
                <a:cubicBezTo>
                  <a:pt x="154" y="66"/>
                  <a:pt x="155" y="64"/>
                  <a:pt x="156" y="63"/>
                </a:cubicBezTo>
                <a:cubicBezTo>
                  <a:pt x="157" y="58"/>
                  <a:pt x="155" y="55"/>
                  <a:pt x="150" y="55"/>
                </a:cubicBezTo>
                <a:cubicBezTo>
                  <a:pt x="149" y="55"/>
                  <a:pt x="147" y="56"/>
                  <a:pt x="146" y="56"/>
                </a:cubicBezTo>
                <a:cubicBezTo>
                  <a:pt x="144" y="57"/>
                  <a:pt x="142" y="58"/>
                  <a:pt x="141" y="58"/>
                </a:cubicBezTo>
                <a:cubicBezTo>
                  <a:pt x="139" y="56"/>
                  <a:pt x="140" y="54"/>
                  <a:pt x="141" y="52"/>
                </a:cubicBezTo>
                <a:cubicBezTo>
                  <a:pt x="144" y="47"/>
                  <a:pt x="148" y="43"/>
                  <a:pt x="153" y="40"/>
                </a:cubicBezTo>
                <a:cubicBezTo>
                  <a:pt x="159" y="36"/>
                  <a:pt x="165" y="32"/>
                  <a:pt x="173" y="31"/>
                </a:cubicBezTo>
                <a:cubicBezTo>
                  <a:pt x="174" y="31"/>
                  <a:pt x="176" y="32"/>
                  <a:pt x="177" y="33"/>
                </a:cubicBezTo>
                <a:cubicBezTo>
                  <a:pt x="179" y="34"/>
                  <a:pt x="182" y="36"/>
                  <a:pt x="184" y="37"/>
                </a:cubicBezTo>
                <a:cubicBezTo>
                  <a:pt x="189" y="38"/>
                  <a:pt x="193" y="37"/>
                  <a:pt x="195" y="33"/>
                </a:cubicBezTo>
                <a:cubicBezTo>
                  <a:pt x="195" y="31"/>
                  <a:pt x="195" y="30"/>
                  <a:pt x="193" y="29"/>
                </a:cubicBezTo>
                <a:cubicBezTo>
                  <a:pt x="178" y="22"/>
                  <a:pt x="162" y="19"/>
                  <a:pt x="146" y="18"/>
                </a:cubicBezTo>
                <a:cubicBezTo>
                  <a:pt x="124" y="18"/>
                  <a:pt x="104" y="22"/>
                  <a:pt x="85" y="32"/>
                </a:cubicBezTo>
                <a:cubicBezTo>
                  <a:pt x="79" y="35"/>
                  <a:pt x="73" y="39"/>
                  <a:pt x="67" y="42"/>
                </a:cubicBezTo>
                <a:cubicBezTo>
                  <a:pt x="69" y="43"/>
                  <a:pt x="70" y="44"/>
                  <a:pt x="71" y="45"/>
                </a:cubicBezTo>
                <a:cubicBezTo>
                  <a:pt x="74" y="47"/>
                  <a:pt x="74" y="49"/>
                  <a:pt x="72" y="52"/>
                </a:cubicBezTo>
                <a:cubicBezTo>
                  <a:pt x="71" y="52"/>
                  <a:pt x="71" y="53"/>
                  <a:pt x="70" y="54"/>
                </a:cubicBezTo>
                <a:cubicBezTo>
                  <a:pt x="67" y="61"/>
                  <a:pt x="63" y="67"/>
                  <a:pt x="57" y="71"/>
                </a:cubicBezTo>
                <a:cubicBezTo>
                  <a:pt x="51" y="77"/>
                  <a:pt x="44" y="81"/>
                  <a:pt x="36" y="80"/>
                </a:cubicBezTo>
                <a:cubicBezTo>
                  <a:pt x="35" y="80"/>
                  <a:pt x="34" y="81"/>
                  <a:pt x="33" y="82"/>
                </a:cubicBezTo>
                <a:cubicBezTo>
                  <a:pt x="26" y="94"/>
                  <a:pt x="22" y="108"/>
                  <a:pt x="19" y="122"/>
                </a:cubicBezTo>
                <a:cubicBezTo>
                  <a:pt x="19" y="124"/>
                  <a:pt x="19" y="125"/>
                  <a:pt x="21" y="126"/>
                </a:cubicBezTo>
                <a:cubicBezTo>
                  <a:pt x="26" y="127"/>
                  <a:pt x="30" y="130"/>
                  <a:pt x="32" y="134"/>
                </a:cubicBezTo>
                <a:cubicBezTo>
                  <a:pt x="33" y="137"/>
                  <a:pt x="33" y="139"/>
                  <a:pt x="31" y="141"/>
                </a:cubicBezTo>
                <a:cubicBezTo>
                  <a:pt x="25" y="146"/>
                  <a:pt x="21" y="154"/>
                  <a:pt x="19" y="162"/>
                </a:cubicBezTo>
                <a:cubicBezTo>
                  <a:pt x="19" y="162"/>
                  <a:pt x="19" y="163"/>
                  <a:pt x="19" y="164"/>
                </a:cubicBezTo>
                <a:cubicBezTo>
                  <a:pt x="23" y="185"/>
                  <a:pt x="31" y="204"/>
                  <a:pt x="45" y="220"/>
                </a:cubicBezTo>
                <a:cubicBezTo>
                  <a:pt x="77" y="258"/>
                  <a:pt x="117" y="272"/>
                  <a:pt x="166" y="264"/>
                </a:cubicBezTo>
                <a:cubicBezTo>
                  <a:pt x="167" y="264"/>
                  <a:pt x="167" y="263"/>
                  <a:pt x="168" y="263"/>
                </a:cubicBezTo>
                <a:cubicBezTo>
                  <a:pt x="169" y="263"/>
                  <a:pt x="170" y="263"/>
                  <a:pt x="171" y="263"/>
                </a:cubicBezTo>
                <a:cubicBezTo>
                  <a:pt x="174" y="262"/>
                  <a:pt x="176" y="261"/>
                  <a:pt x="179" y="261"/>
                </a:cubicBezTo>
                <a:cubicBezTo>
                  <a:pt x="214" y="249"/>
                  <a:pt x="239" y="226"/>
                  <a:pt x="255" y="193"/>
                </a:cubicBezTo>
                <a:cubicBezTo>
                  <a:pt x="258" y="185"/>
                  <a:pt x="261" y="177"/>
                  <a:pt x="263" y="168"/>
                </a:cubicBezTo>
                <a:cubicBezTo>
                  <a:pt x="262" y="168"/>
                  <a:pt x="262" y="168"/>
                  <a:pt x="262" y="169"/>
                </a:cubicBezTo>
                <a:cubicBezTo>
                  <a:pt x="258" y="172"/>
                  <a:pt x="256" y="172"/>
                  <a:pt x="255" y="167"/>
                </a:cubicBezTo>
                <a:cubicBezTo>
                  <a:pt x="254" y="164"/>
                  <a:pt x="254" y="162"/>
                  <a:pt x="253" y="159"/>
                </a:cubicBezTo>
                <a:cubicBezTo>
                  <a:pt x="252" y="153"/>
                  <a:pt x="249" y="151"/>
                  <a:pt x="243" y="151"/>
                </a:cubicBezTo>
                <a:cubicBezTo>
                  <a:pt x="240" y="150"/>
                  <a:pt x="238" y="151"/>
                  <a:pt x="235" y="150"/>
                </a:cubicBezTo>
                <a:cubicBezTo>
                  <a:pt x="231" y="150"/>
                  <a:pt x="227" y="149"/>
                  <a:pt x="222" y="148"/>
                </a:cubicBezTo>
                <a:cubicBezTo>
                  <a:pt x="222" y="148"/>
                  <a:pt x="221" y="148"/>
                  <a:pt x="220" y="148"/>
                </a:cubicBezTo>
                <a:cubicBezTo>
                  <a:pt x="216" y="150"/>
                  <a:pt x="212" y="150"/>
                  <a:pt x="208" y="149"/>
                </a:cubicBezTo>
                <a:cubicBezTo>
                  <a:pt x="204" y="148"/>
                  <a:pt x="199" y="147"/>
                  <a:pt x="195" y="146"/>
                </a:cubicBezTo>
                <a:cubicBezTo>
                  <a:pt x="188" y="145"/>
                  <a:pt x="186" y="148"/>
                  <a:pt x="186" y="154"/>
                </a:cubicBezTo>
                <a:cubicBezTo>
                  <a:pt x="186" y="155"/>
                  <a:pt x="186" y="156"/>
                  <a:pt x="186" y="156"/>
                </a:cubicBezTo>
                <a:cubicBezTo>
                  <a:pt x="187" y="161"/>
                  <a:pt x="189" y="163"/>
                  <a:pt x="193" y="162"/>
                </a:cubicBezTo>
                <a:cubicBezTo>
                  <a:pt x="196" y="162"/>
                  <a:pt x="199" y="161"/>
                  <a:pt x="202" y="160"/>
                </a:cubicBezTo>
                <a:cubicBezTo>
                  <a:pt x="205" y="160"/>
                  <a:pt x="208" y="158"/>
                  <a:pt x="210" y="158"/>
                </a:cubicBezTo>
                <a:cubicBezTo>
                  <a:pt x="213" y="157"/>
                  <a:pt x="214" y="158"/>
                  <a:pt x="213" y="161"/>
                </a:cubicBezTo>
                <a:cubicBezTo>
                  <a:pt x="213" y="163"/>
                  <a:pt x="212" y="165"/>
                  <a:pt x="211" y="166"/>
                </a:cubicBezTo>
                <a:cubicBezTo>
                  <a:pt x="203" y="180"/>
                  <a:pt x="196" y="193"/>
                  <a:pt x="189" y="206"/>
                </a:cubicBezTo>
                <a:cubicBezTo>
                  <a:pt x="183" y="216"/>
                  <a:pt x="179" y="226"/>
                  <a:pt x="177" y="237"/>
                </a:cubicBezTo>
                <a:cubicBezTo>
                  <a:pt x="176" y="242"/>
                  <a:pt x="176" y="247"/>
                  <a:pt x="176" y="252"/>
                </a:cubicBezTo>
                <a:cubicBezTo>
                  <a:pt x="176" y="258"/>
                  <a:pt x="173" y="262"/>
                  <a:pt x="168" y="263"/>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8" name="Freeform 104"/>
          <p:cNvSpPr/>
          <p:nvPr/>
        </p:nvSpPr>
        <p:spPr>
          <a:xfrm>
            <a:off x="8908920" y="4727520"/>
            <a:ext cx="578160" cy="843120"/>
          </a:xfrm>
          <a:custGeom>
            <a:avLst/>
            <a:gdLst/>
            <a:ahLst/>
            <a:rect l="l" t="t" r="r" b="b"/>
            <a:pathLst>
              <a:path w="141" h="205">
                <a:moveTo>
                  <a:pt x="74" y="0"/>
                </a:moveTo>
                <a:cubicBezTo>
                  <a:pt x="78" y="1"/>
                  <a:pt x="83" y="1"/>
                  <a:pt x="88" y="3"/>
                </a:cubicBezTo>
                <a:cubicBezTo>
                  <a:pt x="100" y="6"/>
                  <a:pt x="110" y="12"/>
                  <a:pt x="119" y="21"/>
                </a:cubicBezTo>
                <a:cubicBezTo>
                  <a:pt x="128" y="30"/>
                  <a:pt x="134" y="40"/>
                  <a:pt x="137" y="53"/>
                </a:cubicBezTo>
                <a:cubicBezTo>
                  <a:pt x="141" y="70"/>
                  <a:pt x="139" y="86"/>
                  <a:pt x="130" y="102"/>
                </a:cubicBezTo>
                <a:cubicBezTo>
                  <a:pt x="128" y="107"/>
                  <a:pt x="125" y="112"/>
                  <a:pt x="122" y="117"/>
                </a:cubicBezTo>
                <a:cubicBezTo>
                  <a:pt x="119" y="123"/>
                  <a:pt x="117" y="130"/>
                  <a:pt x="117" y="138"/>
                </a:cubicBezTo>
                <a:cubicBezTo>
                  <a:pt x="117" y="139"/>
                  <a:pt x="116" y="139"/>
                  <a:pt x="116" y="140"/>
                </a:cubicBezTo>
                <a:cubicBezTo>
                  <a:pt x="116" y="142"/>
                  <a:pt x="115" y="147"/>
                  <a:pt x="116" y="149"/>
                </a:cubicBezTo>
                <a:cubicBezTo>
                  <a:pt x="117" y="153"/>
                  <a:pt x="116" y="156"/>
                  <a:pt x="115" y="160"/>
                </a:cubicBezTo>
                <a:cubicBezTo>
                  <a:pt x="115" y="160"/>
                  <a:pt x="114" y="161"/>
                  <a:pt x="115" y="162"/>
                </a:cubicBezTo>
                <a:cubicBezTo>
                  <a:pt x="118" y="171"/>
                  <a:pt x="115" y="181"/>
                  <a:pt x="106" y="186"/>
                </a:cubicBezTo>
                <a:cubicBezTo>
                  <a:pt x="105" y="186"/>
                  <a:pt x="104" y="187"/>
                  <a:pt x="104" y="188"/>
                </a:cubicBezTo>
                <a:cubicBezTo>
                  <a:pt x="100" y="198"/>
                  <a:pt x="93" y="204"/>
                  <a:pt x="82" y="204"/>
                </a:cubicBezTo>
                <a:cubicBezTo>
                  <a:pt x="74" y="205"/>
                  <a:pt x="65" y="205"/>
                  <a:pt x="56" y="204"/>
                </a:cubicBezTo>
                <a:cubicBezTo>
                  <a:pt x="46" y="203"/>
                  <a:pt x="40" y="198"/>
                  <a:pt x="37" y="189"/>
                </a:cubicBezTo>
                <a:cubicBezTo>
                  <a:pt x="36" y="187"/>
                  <a:pt x="35" y="186"/>
                  <a:pt x="33" y="185"/>
                </a:cubicBezTo>
                <a:cubicBezTo>
                  <a:pt x="25" y="181"/>
                  <a:pt x="22" y="171"/>
                  <a:pt x="25" y="163"/>
                </a:cubicBezTo>
                <a:cubicBezTo>
                  <a:pt x="25" y="161"/>
                  <a:pt x="26" y="161"/>
                  <a:pt x="25" y="159"/>
                </a:cubicBezTo>
                <a:cubicBezTo>
                  <a:pt x="23" y="155"/>
                  <a:pt x="23" y="151"/>
                  <a:pt x="25" y="146"/>
                </a:cubicBezTo>
                <a:cubicBezTo>
                  <a:pt x="25" y="145"/>
                  <a:pt x="25" y="144"/>
                  <a:pt x="25" y="143"/>
                </a:cubicBezTo>
                <a:cubicBezTo>
                  <a:pt x="24" y="140"/>
                  <a:pt x="23" y="137"/>
                  <a:pt x="23" y="133"/>
                </a:cubicBezTo>
                <a:cubicBezTo>
                  <a:pt x="22" y="126"/>
                  <a:pt x="19" y="119"/>
                  <a:pt x="15" y="113"/>
                </a:cubicBezTo>
                <a:cubicBezTo>
                  <a:pt x="12" y="107"/>
                  <a:pt x="9" y="101"/>
                  <a:pt x="6" y="94"/>
                </a:cubicBezTo>
                <a:cubicBezTo>
                  <a:pt x="1" y="83"/>
                  <a:pt x="0" y="70"/>
                  <a:pt x="2" y="58"/>
                </a:cubicBezTo>
                <a:cubicBezTo>
                  <a:pt x="7" y="33"/>
                  <a:pt x="21" y="16"/>
                  <a:pt x="43" y="6"/>
                </a:cubicBezTo>
                <a:cubicBezTo>
                  <a:pt x="50" y="3"/>
                  <a:pt x="57" y="1"/>
                  <a:pt x="64" y="0"/>
                </a:cubicBezTo>
                <a:cubicBezTo>
                  <a:pt x="65" y="0"/>
                  <a:pt x="65" y="0"/>
                  <a:pt x="66" y="0"/>
                </a:cubicBezTo>
                <a:cubicBezTo>
                  <a:pt x="69" y="0"/>
                  <a:pt x="71" y="0"/>
                  <a:pt x="74" y="0"/>
                </a:cubicBezTo>
                <a:close/>
                <a:moveTo>
                  <a:pt x="70" y="141"/>
                </a:moveTo>
                <a:cubicBezTo>
                  <a:pt x="79" y="141"/>
                  <a:pt x="88" y="141"/>
                  <a:pt x="97" y="141"/>
                </a:cubicBezTo>
                <a:cubicBezTo>
                  <a:pt x="102" y="141"/>
                  <a:pt x="103" y="140"/>
                  <a:pt x="104" y="135"/>
                </a:cubicBezTo>
                <a:cubicBezTo>
                  <a:pt x="105" y="129"/>
                  <a:pt x="106" y="123"/>
                  <a:pt x="108" y="118"/>
                </a:cubicBezTo>
                <a:cubicBezTo>
                  <a:pt x="111" y="110"/>
                  <a:pt x="115" y="104"/>
                  <a:pt x="118" y="97"/>
                </a:cubicBezTo>
                <a:cubicBezTo>
                  <a:pt x="122" y="90"/>
                  <a:pt x="125" y="82"/>
                  <a:pt x="126" y="74"/>
                </a:cubicBezTo>
                <a:cubicBezTo>
                  <a:pt x="127" y="55"/>
                  <a:pt x="120" y="38"/>
                  <a:pt x="105" y="26"/>
                </a:cubicBezTo>
                <a:cubicBezTo>
                  <a:pt x="86" y="10"/>
                  <a:pt x="61" y="9"/>
                  <a:pt x="40" y="21"/>
                </a:cubicBezTo>
                <a:cubicBezTo>
                  <a:pt x="21" y="34"/>
                  <a:pt x="11" y="56"/>
                  <a:pt x="15" y="80"/>
                </a:cubicBezTo>
                <a:cubicBezTo>
                  <a:pt x="16" y="88"/>
                  <a:pt x="20" y="95"/>
                  <a:pt x="24" y="102"/>
                </a:cubicBezTo>
                <a:cubicBezTo>
                  <a:pt x="30" y="113"/>
                  <a:pt x="35" y="124"/>
                  <a:pt x="36" y="136"/>
                </a:cubicBezTo>
                <a:cubicBezTo>
                  <a:pt x="36" y="140"/>
                  <a:pt x="38" y="141"/>
                  <a:pt x="42" y="141"/>
                </a:cubicBezTo>
                <a:cubicBezTo>
                  <a:pt x="52" y="141"/>
                  <a:pt x="61" y="141"/>
                  <a:pt x="70" y="141"/>
                </a:cubicBezTo>
                <a:close/>
                <a:moveTo>
                  <a:pt x="70" y="147"/>
                </a:moveTo>
                <a:cubicBezTo>
                  <a:pt x="61" y="147"/>
                  <a:pt x="52" y="147"/>
                  <a:pt x="43" y="147"/>
                </a:cubicBezTo>
                <a:cubicBezTo>
                  <a:pt x="40" y="147"/>
                  <a:pt x="38" y="148"/>
                  <a:pt x="37" y="150"/>
                </a:cubicBezTo>
                <a:cubicBezTo>
                  <a:pt x="35" y="154"/>
                  <a:pt x="38" y="158"/>
                  <a:pt x="43" y="158"/>
                </a:cubicBezTo>
                <a:cubicBezTo>
                  <a:pt x="55" y="158"/>
                  <a:pt x="68" y="158"/>
                  <a:pt x="81" y="158"/>
                </a:cubicBezTo>
                <a:cubicBezTo>
                  <a:pt x="86" y="158"/>
                  <a:pt x="92" y="158"/>
                  <a:pt x="97" y="158"/>
                </a:cubicBezTo>
                <a:cubicBezTo>
                  <a:pt x="100" y="158"/>
                  <a:pt x="102" y="157"/>
                  <a:pt x="103" y="155"/>
                </a:cubicBezTo>
                <a:cubicBezTo>
                  <a:pt x="105" y="151"/>
                  <a:pt x="102" y="147"/>
                  <a:pt x="97" y="147"/>
                </a:cubicBezTo>
                <a:cubicBezTo>
                  <a:pt x="88" y="147"/>
                  <a:pt x="79" y="147"/>
                  <a:pt x="70" y="147"/>
                </a:cubicBezTo>
                <a:close/>
                <a:moveTo>
                  <a:pt x="70" y="164"/>
                </a:moveTo>
                <a:cubicBezTo>
                  <a:pt x="61" y="164"/>
                  <a:pt x="52" y="164"/>
                  <a:pt x="43" y="164"/>
                </a:cubicBezTo>
                <a:cubicBezTo>
                  <a:pt x="40" y="164"/>
                  <a:pt x="38" y="165"/>
                  <a:pt x="37" y="167"/>
                </a:cubicBezTo>
                <a:cubicBezTo>
                  <a:pt x="35" y="171"/>
                  <a:pt x="38" y="175"/>
                  <a:pt x="43" y="175"/>
                </a:cubicBezTo>
                <a:cubicBezTo>
                  <a:pt x="55" y="175"/>
                  <a:pt x="68" y="175"/>
                  <a:pt x="81" y="175"/>
                </a:cubicBezTo>
                <a:cubicBezTo>
                  <a:pt x="86" y="175"/>
                  <a:pt x="92" y="175"/>
                  <a:pt x="97" y="175"/>
                </a:cubicBezTo>
                <a:cubicBezTo>
                  <a:pt x="100" y="175"/>
                  <a:pt x="102" y="174"/>
                  <a:pt x="103" y="171"/>
                </a:cubicBezTo>
                <a:cubicBezTo>
                  <a:pt x="105" y="168"/>
                  <a:pt x="102" y="164"/>
                  <a:pt x="97" y="164"/>
                </a:cubicBezTo>
                <a:cubicBezTo>
                  <a:pt x="88" y="164"/>
                  <a:pt x="79" y="164"/>
                  <a:pt x="70" y="164"/>
                </a:cubicBezTo>
                <a:close/>
                <a:moveTo>
                  <a:pt x="48" y="181"/>
                </a:moveTo>
                <a:cubicBezTo>
                  <a:pt x="48" y="186"/>
                  <a:pt x="52" y="191"/>
                  <a:pt x="58" y="191"/>
                </a:cubicBezTo>
                <a:cubicBezTo>
                  <a:pt x="66" y="192"/>
                  <a:pt x="74" y="192"/>
                  <a:pt x="82" y="191"/>
                </a:cubicBezTo>
                <a:cubicBezTo>
                  <a:pt x="88" y="191"/>
                  <a:pt x="92" y="186"/>
                  <a:pt x="92" y="181"/>
                </a:cubicBezTo>
                <a:cubicBezTo>
                  <a:pt x="77" y="181"/>
                  <a:pt x="63" y="181"/>
                  <a:pt x="48" y="181"/>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49" name="Freeform 105"/>
          <p:cNvSpPr/>
          <p:nvPr/>
        </p:nvSpPr>
        <p:spPr>
          <a:xfrm>
            <a:off x="10485360" y="6743880"/>
            <a:ext cx="766800" cy="552240"/>
          </a:xfrm>
          <a:custGeom>
            <a:avLst/>
            <a:gdLst/>
            <a:ahLst/>
            <a:rect l="l" t="t" r="r" b="b"/>
            <a:pathLst>
              <a:path w="186" h="134">
                <a:moveTo>
                  <a:pt x="177" y="0"/>
                </a:moveTo>
                <a:cubicBezTo>
                  <a:pt x="180" y="1"/>
                  <a:pt x="183" y="3"/>
                  <a:pt x="185" y="6"/>
                </a:cubicBezTo>
                <a:cubicBezTo>
                  <a:pt x="185" y="8"/>
                  <a:pt x="186" y="10"/>
                  <a:pt x="186" y="12"/>
                </a:cubicBezTo>
                <a:cubicBezTo>
                  <a:pt x="186" y="49"/>
                  <a:pt x="186" y="86"/>
                  <a:pt x="186" y="122"/>
                </a:cubicBezTo>
                <a:cubicBezTo>
                  <a:pt x="186" y="129"/>
                  <a:pt x="181" y="134"/>
                  <a:pt x="174" y="134"/>
                </a:cubicBezTo>
                <a:cubicBezTo>
                  <a:pt x="120" y="134"/>
                  <a:pt x="66" y="134"/>
                  <a:pt x="13" y="134"/>
                </a:cubicBezTo>
                <a:cubicBezTo>
                  <a:pt x="6" y="134"/>
                  <a:pt x="3" y="132"/>
                  <a:pt x="1" y="125"/>
                </a:cubicBezTo>
                <a:cubicBezTo>
                  <a:pt x="0" y="125"/>
                  <a:pt x="0" y="125"/>
                  <a:pt x="0" y="125"/>
                </a:cubicBezTo>
                <a:cubicBezTo>
                  <a:pt x="0" y="86"/>
                  <a:pt x="0" y="48"/>
                  <a:pt x="0" y="9"/>
                </a:cubicBezTo>
                <a:cubicBezTo>
                  <a:pt x="1" y="9"/>
                  <a:pt x="1" y="8"/>
                  <a:pt x="1" y="7"/>
                </a:cubicBezTo>
                <a:cubicBezTo>
                  <a:pt x="3" y="3"/>
                  <a:pt x="5" y="2"/>
                  <a:pt x="9" y="0"/>
                </a:cubicBezTo>
                <a:cubicBezTo>
                  <a:pt x="65" y="0"/>
                  <a:pt x="121" y="0"/>
                  <a:pt x="177" y="0"/>
                </a:cubicBezTo>
                <a:close/>
                <a:moveTo>
                  <a:pt x="174" y="122"/>
                </a:moveTo>
                <a:cubicBezTo>
                  <a:pt x="174" y="85"/>
                  <a:pt x="174" y="49"/>
                  <a:pt x="174" y="12"/>
                </a:cubicBezTo>
                <a:cubicBezTo>
                  <a:pt x="120" y="12"/>
                  <a:pt x="66" y="12"/>
                  <a:pt x="12" y="12"/>
                </a:cubicBezTo>
                <a:cubicBezTo>
                  <a:pt x="12" y="49"/>
                  <a:pt x="12" y="85"/>
                  <a:pt x="12" y="122"/>
                </a:cubicBezTo>
                <a:cubicBezTo>
                  <a:pt x="66" y="122"/>
                  <a:pt x="120" y="122"/>
                  <a:pt x="174" y="122"/>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0" name="Freeform 106"/>
          <p:cNvSpPr/>
          <p:nvPr/>
        </p:nvSpPr>
        <p:spPr>
          <a:xfrm>
            <a:off x="10680840" y="7342200"/>
            <a:ext cx="376200" cy="166680"/>
          </a:xfrm>
          <a:custGeom>
            <a:avLst/>
            <a:gdLst/>
            <a:ahLst/>
            <a:rect l="l" t="t" r="r" b="b"/>
            <a:pathLst>
              <a:path w="92" h="41">
                <a:moveTo>
                  <a:pt x="29" y="0"/>
                </a:moveTo>
                <a:cubicBezTo>
                  <a:pt x="40" y="0"/>
                  <a:pt x="52" y="0"/>
                  <a:pt x="63" y="0"/>
                </a:cubicBezTo>
                <a:cubicBezTo>
                  <a:pt x="63" y="1"/>
                  <a:pt x="63" y="2"/>
                  <a:pt x="63" y="2"/>
                </a:cubicBezTo>
                <a:cubicBezTo>
                  <a:pt x="63" y="7"/>
                  <a:pt x="63" y="12"/>
                  <a:pt x="63" y="17"/>
                </a:cubicBezTo>
                <a:cubicBezTo>
                  <a:pt x="64" y="24"/>
                  <a:pt x="68" y="29"/>
                  <a:pt x="76" y="29"/>
                </a:cubicBezTo>
                <a:cubicBezTo>
                  <a:pt x="79" y="29"/>
                  <a:pt x="83" y="29"/>
                  <a:pt x="86" y="29"/>
                </a:cubicBezTo>
                <a:cubicBezTo>
                  <a:pt x="90" y="29"/>
                  <a:pt x="92" y="32"/>
                  <a:pt x="92" y="35"/>
                </a:cubicBezTo>
                <a:cubicBezTo>
                  <a:pt x="92" y="38"/>
                  <a:pt x="90" y="41"/>
                  <a:pt x="86" y="41"/>
                </a:cubicBezTo>
                <a:cubicBezTo>
                  <a:pt x="59" y="41"/>
                  <a:pt x="33" y="41"/>
                  <a:pt x="6" y="41"/>
                </a:cubicBezTo>
                <a:cubicBezTo>
                  <a:pt x="2" y="41"/>
                  <a:pt x="0" y="38"/>
                  <a:pt x="0" y="35"/>
                </a:cubicBezTo>
                <a:cubicBezTo>
                  <a:pt x="0" y="32"/>
                  <a:pt x="2" y="29"/>
                  <a:pt x="6" y="29"/>
                </a:cubicBezTo>
                <a:cubicBezTo>
                  <a:pt x="10" y="29"/>
                  <a:pt x="13" y="29"/>
                  <a:pt x="17" y="29"/>
                </a:cubicBezTo>
                <a:cubicBezTo>
                  <a:pt x="24" y="29"/>
                  <a:pt x="29" y="24"/>
                  <a:pt x="29" y="17"/>
                </a:cubicBezTo>
                <a:cubicBezTo>
                  <a:pt x="29" y="12"/>
                  <a:pt x="29" y="6"/>
                  <a:pt x="29" y="0"/>
                </a:cubicBezTo>
                <a:close/>
              </a:path>
            </a:pathLst>
          </a:custGeom>
          <a:solidFill>
            <a:srgbClr val="ffffff"/>
          </a:solidFill>
          <a:ln w="0">
            <a:noFill/>
          </a:ln>
        </p:spPr>
        <p:style>
          <a:lnRef idx="0"/>
          <a:fillRef idx="0"/>
          <a:effectRef idx="0"/>
          <a:fontRef idx="minor"/>
        </p:style>
        <p:txBody>
          <a:bodyPr lIns="219240" rIns="219240" tIns="57240" bIns="57240" anchor="t">
            <a:noAutofit/>
          </a:bodyPr>
          <a:p>
            <a:endParaRPr b="0" lang="en-US" sz="3500" spc="-1" strike="noStrike">
              <a:solidFill>
                <a:srgbClr val="000000"/>
              </a:solidFill>
              <a:latin typeface="Open Sans Light"/>
            </a:endParaRPr>
          </a:p>
        </p:txBody>
      </p:sp>
      <p:sp>
        <p:nvSpPr>
          <p:cNvPr id="2251" name="Freeform 107"/>
          <p:cNvSpPr/>
          <p:nvPr/>
        </p:nvSpPr>
        <p:spPr>
          <a:xfrm>
            <a:off x="10561680" y="7947000"/>
            <a:ext cx="628560" cy="1003320"/>
          </a:xfrm>
          <a:custGeom>
            <a:avLst/>
            <a:gdLst/>
            <a:ahLst/>
            <a:rect l="l" t="t" r="r" b="b"/>
            <a:pathLst>
              <a:path w="152" h="244">
                <a:moveTo>
                  <a:pt x="139" y="0"/>
                </a:moveTo>
                <a:cubicBezTo>
                  <a:pt x="144" y="2"/>
                  <a:pt x="148" y="4"/>
                  <a:pt x="150" y="9"/>
                </a:cubicBezTo>
                <a:cubicBezTo>
                  <a:pt x="151" y="11"/>
                  <a:pt x="152" y="14"/>
                  <a:pt x="152" y="17"/>
                </a:cubicBezTo>
                <a:cubicBezTo>
                  <a:pt x="152" y="58"/>
                  <a:pt x="152" y="100"/>
                  <a:pt x="152" y="141"/>
                </a:cubicBezTo>
                <a:cubicBezTo>
                  <a:pt x="152" y="170"/>
                  <a:pt x="152" y="198"/>
                  <a:pt x="152" y="227"/>
                </a:cubicBezTo>
                <a:cubicBezTo>
                  <a:pt x="152" y="238"/>
                  <a:pt x="146" y="244"/>
                  <a:pt x="135" y="244"/>
                </a:cubicBezTo>
                <a:cubicBezTo>
                  <a:pt x="96" y="244"/>
                  <a:pt x="56" y="244"/>
                  <a:pt x="17" y="244"/>
                </a:cubicBezTo>
                <a:cubicBezTo>
                  <a:pt x="6" y="244"/>
                  <a:pt x="0" y="238"/>
                  <a:pt x="0" y="227"/>
                </a:cubicBezTo>
                <a:cubicBezTo>
                  <a:pt x="0" y="158"/>
                  <a:pt x="0" y="89"/>
                  <a:pt x="0" y="19"/>
                </a:cubicBezTo>
                <a:cubicBezTo>
                  <a:pt x="0" y="8"/>
                  <a:pt x="2" y="4"/>
                  <a:pt x="12" y="0"/>
                </a:cubicBezTo>
                <a:cubicBezTo>
                  <a:pt x="55" y="0"/>
                  <a:pt x="97" y="0"/>
                  <a:pt x="139" y="0"/>
                </a:cubicBezTo>
                <a:close/>
                <a:moveTo>
                  <a:pt x="137" y="206"/>
                </a:moveTo>
                <a:cubicBezTo>
                  <a:pt x="137" y="150"/>
                  <a:pt x="137" y="94"/>
                  <a:pt x="137" y="39"/>
                </a:cubicBezTo>
                <a:cubicBezTo>
                  <a:pt x="96" y="39"/>
                  <a:pt x="55" y="39"/>
                  <a:pt x="15" y="39"/>
                </a:cubicBezTo>
                <a:cubicBezTo>
                  <a:pt x="15" y="95"/>
                  <a:pt x="15" y="150"/>
                  <a:pt x="15" y="206"/>
                </a:cubicBezTo>
                <a:cubicBezTo>
                  <a:pt x="56" y="206"/>
                  <a:pt x="96" y="206"/>
                  <a:pt x="137" y="206"/>
                </a:cubicBezTo>
                <a:close/>
                <a:moveTo>
                  <a:pt x="76" y="16"/>
                </a:moveTo>
                <a:cubicBezTo>
                  <a:pt x="68" y="16"/>
                  <a:pt x="60" y="16"/>
                  <a:pt x="52" y="16"/>
                </a:cubicBezTo>
                <a:cubicBezTo>
                  <a:pt x="51" y="16"/>
                  <a:pt x="50" y="16"/>
                  <a:pt x="49" y="16"/>
                </a:cubicBezTo>
                <a:cubicBezTo>
                  <a:pt x="47" y="16"/>
                  <a:pt x="45" y="17"/>
                  <a:pt x="45" y="19"/>
                </a:cubicBezTo>
                <a:cubicBezTo>
                  <a:pt x="45" y="21"/>
                  <a:pt x="47" y="23"/>
                  <a:pt x="49" y="23"/>
                </a:cubicBezTo>
                <a:cubicBezTo>
                  <a:pt x="50" y="23"/>
                  <a:pt x="50" y="23"/>
                  <a:pt x="51" y="23"/>
                </a:cubicBezTo>
                <a:cubicBezTo>
                  <a:pt x="68" y="23"/>
                  <a:pt x="84" y="23"/>
                  <a:pt x="101" y="23"/>
                </a:cubicBezTo>
                <a:cubicBezTo>
                  <a:pt x="102" y="23"/>
                  <a:pt x="103" y="23"/>
                  <a:pt x="103" y="23"/>
                </a:cubicBezTo>
                <a:cubicBezTo>
                  <a:pt x="105" y="23"/>
                  <a:pt x="106" y="21"/>
                  <a:pt x="106" y="19"/>
                </a:cubicBezTo>
                <a:cubicBezTo>
                  <a:pt x="106" y="18"/>
                  <a:pt x="105" y="16"/>
                  <a:pt x="103" y="16"/>
                </a:cubicBezTo>
                <a:cubicBezTo>
                  <a:pt x="103" y="16"/>
                  <a:pt x="102" y="16"/>
                  <a:pt x="101" y="16"/>
                </a:cubicBezTo>
                <a:cubicBezTo>
                  <a:pt x="92" y="16"/>
                  <a:pt x="84" y="16"/>
                  <a:pt x="76" y="16"/>
                </a:cubicBezTo>
                <a:close/>
                <a:moveTo>
                  <a:pt x="87" y="225"/>
                </a:moveTo>
                <a:cubicBezTo>
                  <a:pt x="87" y="219"/>
                  <a:pt x="82" y="214"/>
                  <a:pt x="76" y="214"/>
                </a:cubicBezTo>
                <a:cubicBezTo>
                  <a:pt x="70" y="214"/>
                  <a:pt x="65" y="219"/>
                  <a:pt x="64" y="225"/>
                </a:cubicBezTo>
                <a:cubicBezTo>
                  <a:pt x="64" y="231"/>
                  <a:pt x="70" y="237"/>
                  <a:pt x="76" y="237"/>
                </a:cubicBezTo>
                <a:cubicBezTo>
                  <a:pt x="82" y="237"/>
                  <a:pt x="87" y="231"/>
                  <a:pt x="87" y="22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2" name="Freeform 108"/>
          <p:cNvSpPr/>
          <p:nvPr/>
        </p:nvSpPr>
        <p:spPr>
          <a:xfrm>
            <a:off x="8972640" y="3978360"/>
            <a:ext cx="549360" cy="539640"/>
          </a:xfrm>
          <a:custGeom>
            <a:avLst/>
            <a:gdLst/>
            <a:ahLst/>
            <a:rect l="l" t="t" r="r" b="b"/>
            <a:pathLst>
              <a:path w="133" h="131">
                <a:moveTo>
                  <a:pt x="67" y="130"/>
                </a:moveTo>
                <a:cubicBezTo>
                  <a:pt x="65" y="130"/>
                  <a:pt x="63" y="130"/>
                  <a:pt x="60" y="130"/>
                </a:cubicBezTo>
                <a:cubicBezTo>
                  <a:pt x="59" y="130"/>
                  <a:pt x="58" y="130"/>
                  <a:pt x="57" y="128"/>
                </a:cubicBezTo>
                <a:cubicBezTo>
                  <a:pt x="56" y="126"/>
                  <a:pt x="55" y="124"/>
                  <a:pt x="54" y="122"/>
                </a:cubicBezTo>
                <a:cubicBezTo>
                  <a:pt x="52" y="119"/>
                  <a:pt x="51" y="117"/>
                  <a:pt x="50" y="114"/>
                </a:cubicBezTo>
                <a:cubicBezTo>
                  <a:pt x="50" y="113"/>
                  <a:pt x="49" y="113"/>
                  <a:pt x="48" y="112"/>
                </a:cubicBezTo>
                <a:cubicBezTo>
                  <a:pt x="46" y="111"/>
                  <a:pt x="44" y="111"/>
                  <a:pt x="41" y="112"/>
                </a:cubicBezTo>
                <a:cubicBezTo>
                  <a:pt x="37" y="114"/>
                  <a:pt x="33" y="115"/>
                  <a:pt x="29" y="117"/>
                </a:cubicBezTo>
                <a:cubicBezTo>
                  <a:pt x="27" y="118"/>
                  <a:pt x="26" y="117"/>
                  <a:pt x="24" y="116"/>
                </a:cubicBezTo>
                <a:cubicBezTo>
                  <a:pt x="21" y="113"/>
                  <a:pt x="18" y="110"/>
                  <a:pt x="15" y="107"/>
                </a:cubicBezTo>
                <a:cubicBezTo>
                  <a:pt x="14" y="106"/>
                  <a:pt x="14" y="105"/>
                  <a:pt x="14" y="103"/>
                </a:cubicBezTo>
                <a:cubicBezTo>
                  <a:pt x="15" y="101"/>
                  <a:pt x="16" y="98"/>
                  <a:pt x="17" y="96"/>
                </a:cubicBezTo>
                <a:cubicBezTo>
                  <a:pt x="18" y="93"/>
                  <a:pt x="19" y="91"/>
                  <a:pt x="20" y="88"/>
                </a:cubicBezTo>
                <a:cubicBezTo>
                  <a:pt x="20" y="87"/>
                  <a:pt x="20" y="86"/>
                  <a:pt x="20" y="86"/>
                </a:cubicBezTo>
                <a:cubicBezTo>
                  <a:pt x="19" y="83"/>
                  <a:pt x="18" y="82"/>
                  <a:pt x="15" y="81"/>
                </a:cubicBezTo>
                <a:cubicBezTo>
                  <a:pt x="11" y="80"/>
                  <a:pt x="7" y="78"/>
                  <a:pt x="4" y="76"/>
                </a:cubicBezTo>
                <a:cubicBezTo>
                  <a:pt x="1" y="75"/>
                  <a:pt x="0" y="74"/>
                  <a:pt x="0" y="71"/>
                </a:cubicBezTo>
                <a:cubicBezTo>
                  <a:pt x="1" y="67"/>
                  <a:pt x="0" y="63"/>
                  <a:pt x="0" y="59"/>
                </a:cubicBezTo>
                <a:cubicBezTo>
                  <a:pt x="0" y="57"/>
                  <a:pt x="1" y="56"/>
                  <a:pt x="2" y="56"/>
                </a:cubicBezTo>
                <a:cubicBezTo>
                  <a:pt x="4" y="54"/>
                  <a:pt x="6" y="53"/>
                  <a:pt x="9" y="52"/>
                </a:cubicBezTo>
                <a:cubicBezTo>
                  <a:pt x="11" y="51"/>
                  <a:pt x="14" y="50"/>
                  <a:pt x="17" y="49"/>
                </a:cubicBezTo>
                <a:cubicBezTo>
                  <a:pt x="18" y="49"/>
                  <a:pt x="18" y="48"/>
                  <a:pt x="19" y="47"/>
                </a:cubicBezTo>
                <a:cubicBezTo>
                  <a:pt x="20" y="45"/>
                  <a:pt x="20" y="43"/>
                  <a:pt x="19" y="41"/>
                </a:cubicBezTo>
                <a:cubicBezTo>
                  <a:pt x="17" y="37"/>
                  <a:pt x="16" y="33"/>
                  <a:pt x="14" y="29"/>
                </a:cubicBezTo>
                <a:cubicBezTo>
                  <a:pt x="13" y="27"/>
                  <a:pt x="14" y="25"/>
                  <a:pt x="15" y="24"/>
                </a:cubicBezTo>
                <a:cubicBezTo>
                  <a:pt x="18" y="21"/>
                  <a:pt x="21" y="18"/>
                  <a:pt x="24" y="15"/>
                </a:cubicBezTo>
                <a:cubicBezTo>
                  <a:pt x="25" y="14"/>
                  <a:pt x="27" y="13"/>
                  <a:pt x="29" y="14"/>
                </a:cubicBezTo>
                <a:cubicBezTo>
                  <a:pt x="34" y="16"/>
                  <a:pt x="38" y="18"/>
                  <a:pt x="43" y="19"/>
                </a:cubicBezTo>
                <a:cubicBezTo>
                  <a:pt x="44" y="20"/>
                  <a:pt x="45" y="20"/>
                  <a:pt x="46" y="19"/>
                </a:cubicBezTo>
                <a:cubicBezTo>
                  <a:pt x="49" y="19"/>
                  <a:pt x="50" y="17"/>
                  <a:pt x="51" y="15"/>
                </a:cubicBezTo>
                <a:cubicBezTo>
                  <a:pt x="52" y="11"/>
                  <a:pt x="54" y="7"/>
                  <a:pt x="56" y="3"/>
                </a:cubicBezTo>
                <a:cubicBezTo>
                  <a:pt x="56" y="1"/>
                  <a:pt x="58" y="0"/>
                  <a:pt x="61" y="0"/>
                </a:cubicBezTo>
                <a:cubicBezTo>
                  <a:pt x="65" y="0"/>
                  <a:pt x="69" y="0"/>
                  <a:pt x="73" y="0"/>
                </a:cubicBezTo>
                <a:cubicBezTo>
                  <a:pt x="75" y="0"/>
                  <a:pt x="76" y="1"/>
                  <a:pt x="77" y="3"/>
                </a:cubicBezTo>
                <a:cubicBezTo>
                  <a:pt x="78" y="5"/>
                  <a:pt x="79" y="8"/>
                  <a:pt x="80" y="10"/>
                </a:cubicBezTo>
                <a:cubicBezTo>
                  <a:pt x="81" y="12"/>
                  <a:pt x="82" y="15"/>
                  <a:pt x="83" y="17"/>
                </a:cubicBezTo>
                <a:cubicBezTo>
                  <a:pt x="84" y="17"/>
                  <a:pt x="84" y="18"/>
                  <a:pt x="85" y="18"/>
                </a:cubicBezTo>
                <a:cubicBezTo>
                  <a:pt x="87" y="20"/>
                  <a:pt x="89" y="20"/>
                  <a:pt x="92" y="18"/>
                </a:cubicBezTo>
                <a:cubicBezTo>
                  <a:pt x="96" y="17"/>
                  <a:pt x="100" y="15"/>
                  <a:pt x="104" y="14"/>
                </a:cubicBezTo>
                <a:cubicBezTo>
                  <a:pt x="106" y="13"/>
                  <a:pt x="108" y="13"/>
                  <a:pt x="109" y="15"/>
                </a:cubicBezTo>
                <a:cubicBezTo>
                  <a:pt x="112" y="18"/>
                  <a:pt x="115" y="20"/>
                  <a:pt x="118" y="23"/>
                </a:cubicBezTo>
                <a:cubicBezTo>
                  <a:pt x="119" y="25"/>
                  <a:pt x="120" y="26"/>
                  <a:pt x="119" y="29"/>
                </a:cubicBezTo>
                <a:cubicBezTo>
                  <a:pt x="117" y="33"/>
                  <a:pt x="116" y="37"/>
                  <a:pt x="114" y="42"/>
                </a:cubicBezTo>
                <a:cubicBezTo>
                  <a:pt x="113" y="43"/>
                  <a:pt x="113" y="44"/>
                  <a:pt x="114" y="46"/>
                </a:cubicBezTo>
                <a:cubicBezTo>
                  <a:pt x="114" y="48"/>
                  <a:pt x="115" y="49"/>
                  <a:pt x="117" y="49"/>
                </a:cubicBezTo>
                <a:cubicBezTo>
                  <a:pt x="122" y="51"/>
                  <a:pt x="126" y="53"/>
                  <a:pt x="130" y="54"/>
                </a:cubicBezTo>
                <a:cubicBezTo>
                  <a:pt x="132" y="55"/>
                  <a:pt x="133" y="57"/>
                  <a:pt x="133" y="59"/>
                </a:cubicBezTo>
                <a:cubicBezTo>
                  <a:pt x="133" y="63"/>
                  <a:pt x="133" y="68"/>
                  <a:pt x="133" y="72"/>
                </a:cubicBezTo>
                <a:cubicBezTo>
                  <a:pt x="133" y="73"/>
                  <a:pt x="132" y="74"/>
                  <a:pt x="131" y="75"/>
                </a:cubicBezTo>
                <a:cubicBezTo>
                  <a:pt x="129" y="76"/>
                  <a:pt x="127" y="77"/>
                  <a:pt x="125" y="78"/>
                </a:cubicBezTo>
                <a:cubicBezTo>
                  <a:pt x="122" y="79"/>
                  <a:pt x="119" y="81"/>
                  <a:pt x="116" y="82"/>
                </a:cubicBezTo>
                <a:cubicBezTo>
                  <a:pt x="115" y="82"/>
                  <a:pt x="115" y="83"/>
                  <a:pt x="114" y="83"/>
                </a:cubicBezTo>
                <a:cubicBezTo>
                  <a:pt x="113" y="86"/>
                  <a:pt x="113" y="88"/>
                  <a:pt x="114" y="90"/>
                </a:cubicBezTo>
                <a:cubicBezTo>
                  <a:pt x="116" y="94"/>
                  <a:pt x="118" y="98"/>
                  <a:pt x="119" y="101"/>
                </a:cubicBezTo>
                <a:cubicBezTo>
                  <a:pt x="120" y="104"/>
                  <a:pt x="120" y="105"/>
                  <a:pt x="118" y="107"/>
                </a:cubicBezTo>
                <a:cubicBezTo>
                  <a:pt x="115" y="110"/>
                  <a:pt x="112" y="112"/>
                  <a:pt x="110" y="115"/>
                </a:cubicBezTo>
                <a:cubicBezTo>
                  <a:pt x="108" y="117"/>
                  <a:pt x="106" y="117"/>
                  <a:pt x="104" y="117"/>
                </a:cubicBezTo>
                <a:cubicBezTo>
                  <a:pt x="99" y="115"/>
                  <a:pt x="95" y="113"/>
                  <a:pt x="90" y="111"/>
                </a:cubicBezTo>
                <a:cubicBezTo>
                  <a:pt x="89" y="111"/>
                  <a:pt x="88" y="111"/>
                  <a:pt x="87" y="111"/>
                </a:cubicBezTo>
                <a:cubicBezTo>
                  <a:pt x="85" y="112"/>
                  <a:pt x="83" y="113"/>
                  <a:pt x="83" y="116"/>
                </a:cubicBezTo>
                <a:cubicBezTo>
                  <a:pt x="81" y="120"/>
                  <a:pt x="79" y="124"/>
                  <a:pt x="78" y="127"/>
                </a:cubicBezTo>
                <a:cubicBezTo>
                  <a:pt x="77" y="129"/>
                  <a:pt x="75" y="131"/>
                  <a:pt x="73" y="130"/>
                </a:cubicBezTo>
                <a:cubicBezTo>
                  <a:pt x="71" y="130"/>
                  <a:pt x="69" y="130"/>
                  <a:pt x="67" y="130"/>
                </a:cubicBezTo>
                <a:close/>
                <a:moveTo>
                  <a:pt x="112" y="28"/>
                </a:moveTo>
                <a:cubicBezTo>
                  <a:pt x="111" y="27"/>
                  <a:pt x="111" y="27"/>
                  <a:pt x="111" y="27"/>
                </a:cubicBezTo>
                <a:cubicBezTo>
                  <a:pt x="109" y="25"/>
                  <a:pt x="107" y="24"/>
                  <a:pt x="106" y="22"/>
                </a:cubicBezTo>
                <a:cubicBezTo>
                  <a:pt x="105" y="21"/>
                  <a:pt x="104" y="21"/>
                  <a:pt x="103" y="21"/>
                </a:cubicBezTo>
                <a:cubicBezTo>
                  <a:pt x="99" y="23"/>
                  <a:pt x="95" y="25"/>
                  <a:pt x="91" y="27"/>
                </a:cubicBezTo>
                <a:cubicBezTo>
                  <a:pt x="89" y="28"/>
                  <a:pt x="88" y="28"/>
                  <a:pt x="86" y="27"/>
                </a:cubicBezTo>
                <a:cubicBezTo>
                  <a:pt x="84" y="26"/>
                  <a:pt x="82" y="25"/>
                  <a:pt x="80" y="25"/>
                </a:cubicBezTo>
                <a:cubicBezTo>
                  <a:pt x="79" y="24"/>
                  <a:pt x="78" y="23"/>
                  <a:pt x="77" y="21"/>
                </a:cubicBezTo>
                <a:cubicBezTo>
                  <a:pt x="75" y="17"/>
                  <a:pt x="74" y="13"/>
                  <a:pt x="72" y="9"/>
                </a:cubicBezTo>
                <a:cubicBezTo>
                  <a:pt x="71" y="8"/>
                  <a:pt x="71" y="8"/>
                  <a:pt x="70" y="8"/>
                </a:cubicBezTo>
                <a:cubicBezTo>
                  <a:pt x="68" y="8"/>
                  <a:pt x="65" y="8"/>
                  <a:pt x="63" y="8"/>
                </a:cubicBezTo>
                <a:cubicBezTo>
                  <a:pt x="62" y="8"/>
                  <a:pt x="61" y="8"/>
                  <a:pt x="61" y="9"/>
                </a:cubicBezTo>
                <a:cubicBezTo>
                  <a:pt x="59" y="13"/>
                  <a:pt x="58" y="17"/>
                  <a:pt x="56" y="22"/>
                </a:cubicBezTo>
                <a:cubicBezTo>
                  <a:pt x="55" y="23"/>
                  <a:pt x="55" y="24"/>
                  <a:pt x="53" y="24"/>
                </a:cubicBezTo>
                <a:cubicBezTo>
                  <a:pt x="51" y="25"/>
                  <a:pt x="49" y="26"/>
                  <a:pt x="47" y="27"/>
                </a:cubicBezTo>
                <a:cubicBezTo>
                  <a:pt x="45" y="28"/>
                  <a:pt x="44" y="28"/>
                  <a:pt x="42" y="27"/>
                </a:cubicBezTo>
                <a:cubicBezTo>
                  <a:pt x="38" y="25"/>
                  <a:pt x="34" y="24"/>
                  <a:pt x="29" y="22"/>
                </a:cubicBezTo>
                <a:cubicBezTo>
                  <a:pt x="29" y="21"/>
                  <a:pt x="28" y="22"/>
                  <a:pt x="27" y="22"/>
                </a:cubicBezTo>
                <a:cubicBezTo>
                  <a:pt x="26" y="24"/>
                  <a:pt x="24" y="26"/>
                  <a:pt x="22" y="27"/>
                </a:cubicBezTo>
                <a:cubicBezTo>
                  <a:pt x="22" y="28"/>
                  <a:pt x="21" y="28"/>
                  <a:pt x="22" y="29"/>
                </a:cubicBezTo>
                <a:cubicBezTo>
                  <a:pt x="24" y="33"/>
                  <a:pt x="25" y="37"/>
                  <a:pt x="27" y="42"/>
                </a:cubicBezTo>
                <a:cubicBezTo>
                  <a:pt x="28" y="43"/>
                  <a:pt x="28" y="44"/>
                  <a:pt x="27" y="46"/>
                </a:cubicBezTo>
                <a:cubicBezTo>
                  <a:pt x="27" y="48"/>
                  <a:pt x="26" y="50"/>
                  <a:pt x="25" y="52"/>
                </a:cubicBezTo>
                <a:cubicBezTo>
                  <a:pt x="24" y="54"/>
                  <a:pt x="23" y="54"/>
                  <a:pt x="22" y="55"/>
                </a:cubicBezTo>
                <a:cubicBezTo>
                  <a:pt x="17" y="57"/>
                  <a:pt x="13" y="59"/>
                  <a:pt x="9" y="60"/>
                </a:cubicBezTo>
                <a:cubicBezTo>
                  <a:pt x="8" y="61"/>
                  <a:pt x="8" y="61"/>
                  <a:pt x="8" y="62"/>
                </a:cubicBezTo>
                <a:cubicBezTo>
                  <a:pt x="8" y="64"/>
                  <a:pt x="8" y="67"/>
                  <a:pt x="8" y="69"/>
                </a:cubicBezTo>
                <a:cubicBezTo>
                  <a:pt x="8" y="70"/>
                  <a:pt x="8" y="70"/>
                  <a:pt x="9" y="71"/>
                </a:cubicBezTo>
                <a:cubicBezTo>
                  <a:pt x="13" y="72"/>
                  <a:pt x="17" y="74"/>
                  <a:pt x="22" y="76"/>
                </a:cubicBezTo>
                <a:cubicBezTo>
                  <a:pt x="23" y="76"/>
                  <a:pt x="24" y="77"/>
                  <a:pt x="25" y="79"/>
                </a:cubicBezTo>
                <a:cubicBezTo>
                  <a:pt x="26" y="81"/>
                  <a:pt x="27" y="83"/>
                  <a:pt x="27" y="85"/>
                </a:cubicBezTo>
                <a:cubicBezTo>
                  <a:pt x="28" y="86"/>
                  <a:pt x="28" y="88"/>
                  <a:pt x="27" y="89"/>
                </a:cubicBezTo>
                <a:cubicBezTo>
                  <a:pt x="26" y="93"/>
                  <a:pt x="24" y="98"/>
                  <a:pt x="22" y="102"/>
                </a:cubicBezTo>
                <a:cubicBezTo>
                  <a:pt x="22" y="103"/>
                  <a:pt x="22" y="103"/>
                  <a:pt x="23" y="104"/>
                </a:cubicBezTo>
                <a:cubicBezTo>
                  <a:pt x="24" y="105"/>
                  <a:pt x="26" y="107"/>
                  <a:pt x="28" y="109"/>
                </a:cubicBezTo>
                <a:cubicBezTo>
                  <a:pt x="28" y="109"/>
                  <a:pt x="29" y="110"/>
                  <a:pt x="30" y="109"/>
                </a:cubicBezTo>
                <a:cubicBezTo>
                  <a:pt x="34" y="107"/>
                  <a:pt x="38" y="106"/>
                  <a:pt x="42" y="104"/>
                </a:cubicBezTo>
                <a:cubicBezTo>
                  <a:pt x="44" y="103"/>
                  <a:pt x="45" y="103"/>
                  <a:pt x="47" y="104"/>
                </a:cubicBezTo>
                <a:cubicBezTo>
                  <a:pt x="49" y="105"/>
                  <a:pt x="51" y="105"/>
                  <a:pt x="53" y="106"/>
                </a:cubicBezTo>
                <a:cubicBezTo>
                  <a:pt x="55" y="107"/>
                  <a:pt x="56" y="108"/>
                  <a:pt x="56" y="109"/>
                </a:cubicBezTo>
                <a:cubicBezTo>
                  <a:pt x="58" y="113"/>
                  <a:pt x="60" y="118"/>
                  <a:pt x="61" y="122"/>
                </a:cubicBezTo>
                <a:cubicBezTo>
                  <a:pt x="62" y="123"/>
                  <a:pt x="62" y="123"/>
                  <a:pt x="63" y="123"/>
                </a:cubicBezTo>
                <a:cubicBezTo>
                  <a:pt x="66" y="123"/>
                  <a:pt x="68" y="123"/>
                  <a:pt x="71" y="123"/>
                </a:cubicBezTo>
                <a:cubicBezTo>
                  <a:pt x="72" y="123"/>
                  <a:pt x="72" y="123"/>
                  <a:pt x="72" y="122"/>
                </a:cubicBezTo>
                <a:cubicBezTo>
                  <a:pt x="74" y="118"/>
                  <a:pt x="76" y="113"/>
                  <a:pt x="77" y="109"/>
                </a:cubicBezTo>
                <a:cubicBezTo>
                  <a:pt x="78" y="108"/>
                  <a:pt x="79" y="107"/>
                  <a:pt x="80" y="106"/>
                </a:cubicBezTo>
                <a:cubicBezTo>
                  <a:pt x="82" y="105"/>
                  <a:pt x="85" y="104"/>
                  <a:pt x="87" y="104"/>
                </a:cubicBezTo>
                <a:cubicBezTo>
                  <a:pt x="88" y="103"/>
                  <a:pt x="89" y="103"/>
                  <a:pt x="91" y="104"/>
                </a:cubicBezTo>
                <a:cubicBezTo>
                  <a:pt x="95" y="105"/>
                  <a:pt x="100" y="107"/>
                  <a:pt x="104" y="109"/>
                </a:cubicBezTo>
                <a:cubicBezTo>
                  <a:pt x="105" y="109"/>
                  <a:pt x="105" y="109"/>
                  <a:pt x="106" y="108"/>
                </a:cubicBezTo>
                <a:cubicBezTo>
                  <a:pt x="108" y="107"/>
                  <a:pt x="109" y="105"/>
                  <a:pt x="111" y="103"/>
                </a:cubicBezTo>
                <a:cubicBezTo>
                  <a:pt x="112" y="103"/>
                  <a:pt x="112" y="102"/>
                  <a:pt x="112" y="101"/>
                </a:cubicBezTo>
                <a:cubicBezTo>
                  <a:pt x="110" y="97"/>
                  <a:pt x="108" y="93"/>
                  <a:pt x="106" y="89"/>
                </a:cubicBezTo>
                <a:cubicBezTo>
                  <a:pt x="105" y="88"/>
                  <a:pt x="105" y="86"/>
                  <a:pt x="106" y="85"/>
                </a:cubicBezTo>
                <a:cubicBezTo>
                  <a:pt x="107" y="83"/>
                  <a:pt x="108" y="81"/>
                  <a:pt x="108" y="79"/>
                </a:cubicBezTo>
                <a:cubicBezTo>
                  <a:pt x="109" y="77"/>
                  <a:pt x="110" y="76"/>
                  <a:pt x="111" y="76"/>
                </a:cubicBezTo>
                <a:cubicBezTo>
                  <a:pt x="116" y="74"/>
                  <a:pt x="120" y="72"/>
                  <a:pt x="125" y="70"/>
                </a:cubicBezTo>
                <a:cubicBezTo>
                  <a:pt x="125" y="70"/>
                  <a:pt x="126" y="69"/>
                  <a:pt x="126" y="69"/>
                </a:cubicBezTo>
                <a:cubicBezTo>
                  <a:pt x="126" y="66"/>
                  <a:pt x="126" y="64"/>
                  <a:pt x="126" y="62"/>
                </a:cubicBezTo>
                <a:cubicBezTo>
                  <a:pt x="126" y="61"/>
                  <a:pt x="125" y="60"/>
                  <a:pt x="124" y="60"/>
                </a:cubicBezTo>
                <a:cubicBezTo>
                  <a:pt x="120" y="58"/>
                  <a:pt x="116" y="57"/>
                  <a:pt x="111" y="55"/>
                </a:cubicBezTo>
                <a:cubicBezTo>
                  <a:pt x="110" y="54"/>
                  <a:pt x="109" y="53"/>
                  <a:pt x="108" y="52"/>
                </a:cubicBezTo>
                <a:cubicBezTo>
                  <a:pt x="108" y="50"/>
                  <a:pt x="107" y="48"/>
                  <a:pt x="106" y="46"/>
                </a:cubicBezTo>
                <a:cubicBezTo>
                  <a:pt x="105" y="44"/>
                  <a:pt x="105" y="43"/>
                  <a:pt x="106" y="42"/>
                </a:cubicBezTo>
                <a:cubicBezTo>
                  <a:pt x="108" y="37"/>
                  <a:pt x="109" y="33"/>
                  <a:pt x="111" y="29"/>
                </a:cubicBezTo>
                <a:cubicBezTo>
                  <a:pt x="111" y="29"/>
                  <a:pt x="111" y="28"/>
                  <a:pt x="112" y="28"/>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3" name="Freeform 109"/>
          <p:cNvSpPr/>
          <p:nvPr/>
        </p:nvSpPr>
        <p:spPr>
          <a:xfrm>
            <a:off x="9148680" y="4152960"/>
            <a:ext cx="193680" cy="193680"/>
          </a:xfrm>
          <a:custGeom>
            <a:avLst/>
            <a:gdLst/>
            <a:ahLst/>
            <a:rect l="l" t="t" r="r" b="b"/>
            <a:pathLst>
              <a:path w="47" h="47">
                <a:moveTo>
                  <a:pt x="24" y="47"/>
                </a:moveTo>
                <a:cubicBezTo>
                  <a:pt x="11" y="47"/>
                  <a:pt x="0" y="36"/>
                  <a:pt x="0" y="23"/>
                </a:cubicBezTo>
                <a:cubicBezTo>
                  <a:pt x="0" y="11"/>
                  <a:pt x="10" y="0"/>
                  <a:pt x="24" y="0"/>
                </a:cubicBezTo>
                <a:cubicBezTo>
                  <a:pt x="37" y="0"/>
                  <a:pt x="47" y="10"/>
                  <a:pt x="47" y="23"/>
                </a:cubicBezTo>
                <a:cubicBezTo>
                  <a:pt x="47" y="36"/>
                  <a:pt x="37" y="47"/>
                  <a:pt x="24" y="47"/>
                </a:cubicBezTo>
                <a:close/>
                <a:moveTo>
                  <a:pt x="40" y="23"/>
                </a:moveTo>
                <a:cubicBezTo>
                  <a:pt x="40" y="15"/>
                  <a:pt x="33" y="7"/>
                  <a:pt x="24" y="7"/>
                </a:cubicBezTo>
                <a:cubicBezTo>
                  <a:pt x="15" y="7"/>
                  <a:pt x="7" y="14"/>
                  <a:pt x="7" y="23"/>
                </a:cubicBezTo>
                <a:cubicBezTo>
                  <a:pt x="7" y="32"/>
                  <a:pt x="15" y="39"/>
                  <a:pt x="24" y="39"/>
                </a:cubicBezTo>
                <a:cubicBezTo>
                  <a:pt x="33" y="39"/>
                  <a:pt x="40" y="32"/>
                  <a:pt x="40" y="23"/>
                </a:cubicBezTo>
                <a:close/>
              </a:path>
            </a:pathLst>
          </a:custGeom>
          <a:solidFill>
            <a:srgbClr val="ffffff"/>
          </a:solidFill>
          <a:ln w="0">
            <a:noFill/>
          </a:ln>
        </p:spPr>
        <p:style>
          <a:lnRef idx="0"/>
          <a:fillRef idx="0"/>
          <a:effectRef idx="0"/>
          <a:fontRef idx="minor"/>
        </p:style>
        <p:txBody>
          <a:bodyPr lIns="219240" rIns="219240" tIns="84240" bIns="84240" anchor="t">
            <a:noAutofit/>
          </a:bodyPr>
          <a:p>
            <a:endParaRPr b="0" lang="en-US" sz="3500" spc="-1" strike="noStrike">
              <a:solidFill>
                <a:srgbClr val="000000"/>
              </a:solidFill>
              <a:latin typeface="Open Sans Light"/>
            </a:endParaRPr>
          </a:p>
        </p:txBody>
      </p:sp>
      <p:sp>
        <p:nvSpPr>
          <p:cNvPr id="2254" name="Freeform 110"/>
          <p:cNvSpPr/>
          <p:nvPr/>
        </p:nvSpPr>
        <p:spPr>
          <a:xfrm>
            <a:off x="10455120" y="4898880"/>
            <a:ext cx="441360" cy="641520"/>
          </a:xfrm>
          <a:custGeom>
            <a:avLst/>
            <a:gdLst/>
            <a:ahLst/>
            <a:rect l="l" t="t" r="r" b="b"/>
            <a:pathLst>
              <a:path w="107" h="155">
                <a:moveTo>
                  <a:pt x="0" y="155"/>
                </a:moveTo>
                <a:cubicBezTo>
                  <a:pt x="0" y="123"/>
                  <a:pt x="0" y="91"/>
                  <a:pt x="0" y="60"/>
                </a:cubicBezTo>
                <a:cubicBezTo>
                  <a:pt x="0" y="34"/>
                  <a:pt x="17" y="13"/>
                  <a:pt x="42" y="7"/>
                </a:cubicBezTo>
                <a:cubicBezTo>
                  <a:pt x="74" y="0"/>
                  <a:pt x="105" y="23"/>
                  <a:pt x="107" y="56"/>
                </a:cubicBezTo>
                <a:cubicBezTo>
                  <a:pt x="107" y="58"/>
                  <a:pt x="107" y="60"/>
                  <a:pt x="107" y="62"/>
                </a:cubicBezTo>
                <a:cubicBezTo>
                  <a:pt x="107" y="93"/>
                  <a:pt x="107" y="124"/>
                  <a:pt x="107" y="155"/>
                </a:cubicBezTo>
                <a:cubicBezTo>
                  <a:pt x="72" y="155"/>
                  <a:pt x="36" y="155"/>
                  <a:pt x="0" y="15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5" name="Freeform 111"/>
          <p:cNvSpPr/>
          <p:nvPr/>
        </p:nvSpPr>
        <p:spPr>
          <a:xfrm>
            <a:off x="10523520" y="4606920"/>
            <a:ext cx="304920" cy="281160"/>
          </a:xfrm>
          <a:custGeom>
            <a:avLst/>
            <a:gdLst/>
            <a:ahLst/>
            <a:rect l="l" t="t" r="r" b="b"/>
            <a:pathLst>
              <a:path w="74" h="69">
                <a:moveTo>
                  <a:pt x="42" y="0"/>
                </a:moveTo>
                <a:cubicBezTo>
                  <a:pt x="44" y="1"/>
                  <a:pt x="47" y="1"/>
                  <a:pt x="49" y="2"/>
                </a:cubicBezTo>
                <a:cubicBezTo>
                  <a:pt x="65" y="8"/>
                  <a:pt x="74" y="24"/>
                  <a:pt x="71" y="40"/>
                </a:cubicBezTo>
                <a:cubicBezTo>
                  <a:pt x="69" y="56"/>
                  <a:pt x="54" y="68"/>
                  <a:pt x="38" y="69"/>
                </a:cubicBezTo>
                <a:cubicBezTo>
                  <a:pt x="21" y="69"/>
                  <a:pt x="7" y="57"/>
                  <a:pt x="4" y="41"/>
                </a:cubicBezTo>
                <a:cubicBezTo>
                  <a:pt x="0" y="22"/>
                  <a:pt x="13" y="4"/>
                  <a:pt x="32" y="1"/>
                </a:cubicBezTo>
                <a:cubicBezTo>
                  <a:pt x="32" y="0"/>
                  <a:pt x="33" y="0"/>
                  <a:pt x="33" y="0"/>
                </a:cubicBezTo>
                <a:cubicBezTo>
                  <a:pt x="36" y="0"/>
                  <a:pt x="39" y="0"/>
                  <a:pt x="42"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6" name="Freeform 112"/>
          <p:cNvSpPr/>
          <p:nvPr/>
        </p:nvSpPr>
        <p:spPr>
          <a:xfrm>
            <a:off x="10215720" y="2217600"/>
            <a:ext cx="947520" cy="574920"/>
          </a:xfrm>
          <a:custGeom>
            <a:avLst/>
            <a:gdLst/>
            <a:ahLst/>
            <a:rect l="l" t="t" r="r" b="b"/>
            <a:pathLst>
              <a:path w="230" h="140">
                <a:moveTo>
                  <a:pt x="31" y="62"/>
                </a:moveTo>
                <a:cubicBezTo>
                  <a:pt x="31" y="62"/>
                  <a:pt x="3" y="70"/>
                  <a:pt x="1" y="92"/>
                </a:cubicBezTo>
                <a:cubicBezTo>
                  <a:pt x="0" y="115"/>
                  <a:pt x="19" y="140"/>
                  <a:pt x="39" y="140"/>
                </a:cubicBezTo>
                <a:cubicBezTo>
                  <a:pt x="60" y="140"/>
                  <a:pt x="179" y="140"/>
                  <a:pt x="191" y="140"/>
                </a:cubicBezTo>
                <a:cubicBezTo>
                  <a:pt x="202" y="140"/>
                  <a:pt x="230" y="118"/>
                  <a:pt x="229" y="92"/>
                </a:cubicBezTo>
                <a:cubicBezTo>
                  <a:pt x="227" y="49"/>
                  <a:pt x="173" y="40"/>
                  <a:pt x="173" y="40"/>
                </a:cubicBezTo>
                <a:cubicBezTo>
                  <a:pt x="173" y="40"/>
                  <a:pt x="173" y="0"/>
                  <a:pt x="121" y="2"/>
                </a:cubicBezTo>
                <a:cubicBezTo>
                  <a:pt x="76" y="3"/>
                  <a:pt x="71" y="35"/>
                  <a:pt x="71" y="35"/>
                </a:cubicBezTo>
                <a:cubicBezTo>
                  <a:pt x="71" y="35"/>
                  <a:pt x="53" y="26"/>
                  <a:pt x="38" y="38"/>
                </a:cubicBezTo>
                <a:cubicBezTo>
                  <a:pt x="23" y="49"/>
                  <a:pt x="31" y="62"/>
                  <a:pt x="31" y="62"/>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7" name="Freeform 113"/>
          <p:cNvSpPr/>
          <p:nvPr/>
        </p:nvSpPr>
        <p:spPr>
          <a:xfrm>
            <a:off x="11883960" y="6778800"/>
            <a:ext cx="743040" cy="718920"/>
          </a:xfrm>
          <a:custGeom>
            <a:avLst/>
            <a:gdLst/>
            <a:ahLst/>
            <a:rect l="l" t="t" r="r" b="b"/>
            <a:pathLst>
              <a:path w="195" h="189">
                <a:moveTo>
                  <a:pt x="195" y="79"/>
                </a:moveTo>
                <a:lnTo>
                  <a:pt x="119" y="79"/>
                </a:lnTo>
                <a:lnTo>
                  <a:pt x="119" y="0"/>
                </a:lnTo>
                <a:lnTo>
                  <a:pt x="82" y="0"/>
                </a:lnTo>
                <a:lnTo>
                  <a:pt x="82" y="79"/>
                </a:lnTo>
                <a:lnTo>
                  <a:pt x="0" y="79"/>
                </a:lnTo>
                <a:lnTo>
                  <a:pt x="0" y="117"/>
                </a:lnTo>
                <a:lnTo>
                  <a:pt x="82" y="117"/>
                </a:lnTo>
                <a:lnTo>
                  <a:pt x="82" y="189"/>
                </a:lnTo>
                <a:lnTo>
                  <a:pt x="119" y="189"/>
                </a:lnTo>
                <a:lnTo>
                  <a:pt x="119" y="117"/>
                </a:lnTo>
                <a:lnTo>
                  <a:pt x="195" y="117"/>
                </a:lnTo>
                <a:lnTo>
                  <a:pt x="195" y="7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8" name="Freeform 114"/>
          <p:cNvSpPr/>
          <p:nvPr/>
        </p:nvSpPr>
        <p:spPr>
          <a:xfrm>
            <a:off x="10264680" y="9228240"/>
            <a:ext cx="2648160" cy="2422440"/>
          </a:xfrm>
          <a:custGeom>
            <a:avLst/>
            <a:gdLst/>
            <a:ahLst/>
            <a:rect l="l" t="t" r="r" b="b"/>
            <a:pathLst>
              <a:path w="642" h="589">
                <a:moveTo>
                  <a:pt x="7" y="0"/>
                </a:moveTo>
                <a:cubicBezTo>
                  <a:pt x="627" y="0"/>
                  <a:pt x="627" y="0"/>
                  <a:pt x="627" y="0"/>
                </a:cubicBezTo>
                <a:cubicBezTo>
                  <a:pt x="627" y="51"/>
                  <a:pt x="627" y="51"/>
                  <a:pt x="627" y="51"/>
                </a:cubicBezTo>
                <a:cubicBezTo>
                  <a:pt x="627" y="51"/>
                  <a:pt x="642" y="62"/>
                  <a:pt x="642" y="82"/>
                </a:cubicBezTo>
                <a:cubicBezTo>
                  <a:pt x="642" y="101"/>
                  <a:pt x="612" y="115"/>
                  <a:pt x="612" y="129"/>
                </a:cubicBezTo>
                <a:cubicBezTo>
                  <a:pt x="612" y="144"/>
                  <a:pt x="637" y="152"/>
                  <a:pt x="637" y="171"/>
                </a:cubicBezTo>
                <a:cubicBezTo>
                  <a:pt x="637" y="190"/>
                  <a:pt x="610" y="206"/>
                  <a:pt x="612" y="225"/>
                </a:cubicBezTo>
                <a:cubicBezTo>
                  <a:pt x="613" y="244"/>
                  <a:pt x="637" y="246"/>
                  <a:pt x="635" y="261"/>
                </a:cubicBezTo>
                <a:cubicBezTo>
                  <a:pt x="634" y="277"/>
                  <a:pt x="612" y="292"/>
                  <a:pt x="612" y="306"/>
                </a:cubicBezTo>
                <a:cubicBezTo>
                  <a:pt x="612" y="320"/>
                  <a:pt x="635" y="331"/>
                  <a:pt x="635" y="347"/>
                </a:cubicBezTo>
                <a:cubicBezTo>
                  <a:pt x="635" y="363"/>
                  <a:pt x="612" y="378"/>
                  <a:pt x="610" y="394"/>
                </a:cubicBezTo>
                <a:cubicBezTo>
                  <a:pt x="608" y="409"/>
                  <a:pt x="626" y="413"/>
                  <a:pt x="626" y="424"/>
                </a:cubicBezTo>
                <a:cubicBezTo>
                  <a:pt x="626" y="435"/>
                  <a:pt x="618" y="459"/>
                  <a:pt x="575" y="495"/>
                </a:cubicBezTo>
                <a:cubicBezTo>
                  <a:pt x="532" y="532"/>
                  <a:pt x="467" y="589"/>
                  <a:pt x="467" y="589"/>
                </a:cubicBezTo>
                <a:cubicBezTo>
                  <a:pt x="174" y="589"/>
                  <a:pt x="174" y="589"/>
                  <a:pt x="174" y="589"/>
                </a:cubicBezTo>
                <a:cubicBezTo>
                  <a:pt x="39" y="476"/>
                  <a:pt x="39" y="476"/>
                  <a:pt x="39" y="476"/>
                </a:cubicBezTo>
                <a:cubicBezTo>
                  <a:pt x="35" y="462"/>
                  <a:pt x="35" y="438"/>
                  <a:pt x="32" y="429"/>
                </a:cubicBezTo>
                <a:cubicBezTo>
                  <a:pt x="29" y="419"/>
                  <a:pt x="2" y="405"/>
                  <a:pt x="2" y="389"/>
                </a:cubicBezTo>
                <a:cubicBezTo>
                  <a:pt x="2" y="373"/>
                  <a:pt x="26" y="366"/>
                  <a:pt x="26" y="355"/>
                </a:cubicBezTo>
                <a:cubicBezTo>
                  <a:pt x="26" y="344"/>
                  <a:pt x="0" y="316"/>
                  <a:pt x="2" y="295"/>
                </a:cubicBezTo>
                <a:cubicBezTo>
                  <a:pt x="3" y="274"/>
                  <a:pt x="21" y="269"/>
                  <a:pt x="23" y="258"/>
                </a:cubicBezTo>
                <a:cubicBezTo>
                  <a:pt x="24" y="247"/>
                  <a:pt x="5" y="230"/>
                  <a:pt x="5" y="214"/>
                </a:cubicBezTo>
                <a:cubicBezTo>
                  <a:pt x="5" y="198"/>
                  <a:pt x="24" y="182"/>
                  <a:pt x="24" y="168"/>
                </a:cubicBezTo>
                <a:cubicBezTo>
                  <a:pt x="24" y="153"/>
                  <a:pt x="3" y="144"/>
                  <a:pt x="2" y="120"/>
                </a:cubicBezTo>
                <a:cubicBezTo>
                  <a:pt x="0" y="96"/>
                  <a:pt x="7" y="0"/>
                  <a:pt x="7" y="0"/>
                </a:cubicBezTo>
                <a:close/>
              </a:path>
            </a:pathLst>
          </a:custGeom>
          <a:solidFill>
            <a:srgbClr val="44444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59" name="Freeform 115"/>
          <p:cNvSpPr/>
          <p:nvPr/>
        </p:nvSpPr>
        <p:spPr>
          <a:xfrm>
            <a:off x="11007720" y="11723760"/>
            <a:ext cx="1096920" cy="147600"/>
          </a:xfrm>
          <a:custGeom>
            <a:avLst/>
            <a:gdLst/>
            <a:ahLst/>
            <a:rect l="l" t="t" r="r" b="b"/>
            <a:pathLst>
              <a:path w="266" h="36">
                <a:moveTo>
                  <a:pt x="0" y="0"/>
                </a:moveTo>
                <a:cubicBezTo>
                  <a:pt x="266" y="0"/>
                  <a:pt x="266" y="0"/>
                  <a:pt x="266" y="0"/>
                </a:cubicBezTo>
                <a:cubicBezTo>
                  <a:pt x="266" y="0"/>
                  <a:pt x="237" y="36"/>
                  <a:pt x="223" y="36"/>
                </a:cubicBezTo>
                <a:cubicBezTo>
                  <a:pt x="209" y="36"/>
                  <a:pt x="62" y="36"/>
                  <a:pt x="50" y="36"/>
                </a:cubicBezTo>
                <a:cubicBezTo>
                  <a:pt x="37" y="36"/>
                  <a:pt x="0" y="0"/>
                  <a:pt x="0" y="0"/>
                </a:cubicBezTo>
                <a:close/>
              </a:path>
            </a:pathLst>
          </a:custGeom>
          <a:solidFill>
            <a:srgbClr val="444444"/>
          </a:solidFill>
          <a:ln w="0">
            <a:noFill/>
          </a:ln>
        </p:spPr>
        <p:style>
          <a:lnRef idx="0"/>
          <a:fillRef idx="0"/>
          <a:effectRef idx="0"/>
          <a:fontRef idx="minor"/>
        </p:style>
        <p:txBody>
          <a:bodyPr lIns="219240" rIns="219240" tIns="38160" bIns="38160" anchor="t">
            <a:noAutofit/>
          </a:bodyPr>
          <a:p>
            <a:endParaRPr b="0" lang="en-US" sz="3500" spc="-1" strike="noStrike">
              <a:solidFill>
                <a:srgbClr val="000000"/>
              </a:solidFill>
              <a:latin typeface="Open Sans Light"/>
            </a:endParaRPr>
          </a:p>
        </p:txBody>
      </p:sp>
      <p:sp>
        <p:nvSpPr>
          <p:cNvPr id="2260" name="Freeform 116"/>
          <p:cNvSpPr/>
          <p:nvPr/>
        </p:nvSpPr>
        <p:spPr>
          <a:xfrm>
            <a:off x="9968040" y="2941560"/>
            <a:ext cx="163440" cy="228600"/>
          </a:xfrm>
          <a:custGeom>
            <a:avLst/>
            <a:gdLst/>
            <a:ahLst/>
            <a:rect l="l" t="t" r="r" b="b"/>
            <a:pathLst>
              <a:path w="40" h="55">
                <a:moveTo>
                  <a:pt x="20" y="55"/>
                </a:moveTo>
                <a:cubicBezTo>
                  <a:pt x="14" y="55"/>
                  <a:pt x="9" y="53"/>
                  <a:pt x="5" y="49"/>
                </a:cubicBezTo>
                <a:cubicBezTo>
                  <a:pt x="0" y="43"/>
                  <a:pt x="0" y="37"/>
                  <a:pt x="0" y="27"/>
                </a:cubicBezTo>
                <a:cubicBezTo>
                  <a:pt x="0" y="18"/>
                  <a:pt x="0" y="11"/>
                  <a:pt x="5" y="6"/>
                </a:cubicBezTo>
                <a:cubicBezTo>
                  <a:pt x="9" y="2"/>
                  <a:pt x="14" y="0"/>
                  <a:pt x="20" y="0"/>
                </a:cubicBezTo>
                <a:cubicBezTo>
                  <a:pt x="30" y="0"/>
                  <a:pt x="38" y="6"/>
                  <a:pt x="40" y="17"/>
                </a:cubicBezTo>
                <a:cubicBezTo>
                  <a:pt x="29" y="17"/>
                  <a:pt x="29" y="17"/>
                  <a:pt x="29" y="17"/>
                </a:cubicBezTo>
                <a:cubicBezTo>
                  <a:pt x="28" y="13"/>
                  <a:pt x="25" y="9"/>
                  <a:pt x="20" y="9"/>
                </a:cubicBezTo>
                <a:cubicBezTo>
                  <a:pt x="17" y="9"/>
                  <a:pt x="15" y="10"/>
                  <a:pt x="13" y="12"/>
                </a:cubicBezTo>
                <a:cubicBezTo>
                  <a:pt x="11" y="14"/>
                  <a:pt x="10" y="17"/>
                  <a:pt x="10" y="27"/>
                </a:cubicBezTo>
                <a:cubicBezTo>
                  <a:pt x="10" y="38"/>
                  <a:pt x="11" y="40"/>
                  <a:pt x="13" y="43"/>
                </a:cubicBezTo>
                <a:cubicBezTo>
                  <a:pt x="15" y="44"/>
                  <a:pt x="17" y="45"/>
                  <a:pt x="20" y="45"/>
                </a:cubicBezTo>
                <a:cubicBezTo>
                  <a:pt x="25" y="45"/>
                  <a:pt x="28" y="42"/>
                  <a:pt x="29" y="38"/>
                </a:cubicBezTo>
                <a:cubicBezTo>
                  <a:pt x="40" y="38"/>
                  <a:pt x="40" y="38"/>
                  <a:pt x="40" y="38"/>
                </a:cubicBezTo>
                <a:cubicBezTo>
                  <a:pt x="38" y="49"/>
                  <a:pt x="30" y="55"/>
                  <a:pt x="20" y="55"/>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1" name="Freeform 117"/>
          <p:cNvSpPr/>
          <p:nvPr/>
        </p:nvSpPr>
        <p:spPr>
          <a:xfrm>
            <a:off x="10169640" y="2941560"/>
            <a:ext cx="168120" cy="223920"/>
          </a:xfrm>
          <a:custGeom>
            <a:avLst/>
            <a:gdLst/>
            <a:ahLst/>
            <a:rect l="l" t="t" r="r" b="b"/>
            <a:pathLst>
              <a:path w="41" h="54">
                <a:moveTo>
                  <a:pt x="29" y="54"/>
                </a:moveTo>
                <a:cubicBezTo>
                  <a:pt x="18" y="33"/>
                  <a:pt x="18" y="33"/>
                  <a:pt x="18" y="33"/>
                </a:cubicBezTo>
                <a:cubicBezTo>
                  <a:pt x="10" y="33"/>
                  <a:pt x="10" y="33"/>
                  <a:pt x="10" y="33"/>
                </a:cubicBezTo>
                <a:cubicBezTo>
                  <a:pt x="10" y="54"/>
                  <a:pt x="10" y="54"/>
                  <a:pt x="10" y="54"/>
                </a:cubicBezTo>
                <a:cubicBezTo>
                  <a:pt x="0" y="54"/>
                  <a:pt x="0" y="54"/>
                  <a:pt x="0" y="54"/>
                </a:cubicBezTo>
                <a:cubicBezTo>
                  <a:pt x="0" y="0"/>
                  <a:pt x="0" y="0"/>
                  <a:pt x="0" y="0"/>
                </a:cubicBezTo>
                <a:cubicBezTo>
                  <a:pt x="21" y="0"/>
                  <a:pt x="21" y="0"/>
                  <a:pt x="21" y="0"/>
                </a:cubicBezTo>
                <a:cubicBezTo>
                  <a:pt x="32" y="0"/>
                  <a:pt x="39" y="8"/>
                  <a:pt x="39" y="17"/>
                </a:cubicBezTo>
                <a:cubicBezTo>
                  <a:pt x="39" y="24"/>
                  <a:pt x="34" y="29"/>
                  <a:pt x="29" y="31"/>
                </a:cubicBezTo>
                <a:cubicBezTo>
                  <a:pt x="41" y="54"/>
                  <a:pt x="41" y="54"/>
                  <a:pt x="41" y="54"/>
                </a:cubicBezTo>
                <a:lnTo>
                  <a:pt x="29" y="54"/>
                </a:lnTo>
                <a:close/>
                <a:moveTo>
                  <a:pt x="20" y="10"/>
                </a:moveTo>
                <a:cubicBezTo>
                  <a:pt x="10" y="10"/>
                  <a:pt x="10" y="10"/>
                  <a:pt x="10" y="10"/>
                </a:cubicBezTo>
                <a:cubicBezTo>
                  <a:pt x="10" y="24"/>
                  <a:pt x="10" y="24"/>
                  <a:pt x="10" y="24"/>
                </a:cubicBezTo>
                <a:cubicBezTo>
                  <a:pt x="20" y="24"/>
                  <a:pt x="20" y="24"/>
                  <a:pt x="20" y="24"/>
                </a:cubicBezTo>
                <a:cubicBezTo>
                  <a:pt x="25" y="24"/>
                  <a:pt x="28" y="21"/>
                  <a:pt x="28" y="17"/>
                </a:cubicBezTo>
                <a:cubicBezTo>
                  <a:pt x="28" y="13"/>
                  <a:pt x="25" y="10"/>
                  <a:pt x="20" y="1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2" name="Freeform 118"/>
          <p:cNvSpPr/>
          <p:nvPr/>
        </p:nvSpPr>
        <p:spPr>
          <a:xfrm>
            <a:off x="10375920" y="2941560"/>
            <a:ext cx="139680" cy="223920"/>
          </a:xfrm>
          <a:custGeom>
            <a:avLst/>
            <a:gdLst/>
            <a:ahLst/>
            <a:rect l="l" t="t" r="r" b="b"/>
            <a:pathLst>
              <a:path w="37" h="59">
                <a:moveTo>
                  <a:pt x="0" y="59"/>
                </a:moveTo>
                <a:lnTo>
                  <a:pt x="0" y="0"/>
                </a:lnTo>
                <a:lnTo>
                  <a:pt x="37" y="0"/>
                </a:lnTo>
                <a:lnTo>
                  <a:pt x="37" y="11"/>
                </a:lnTo>
                <a:lnTo>
                  <a:pt x="10" y="11"/>
                </a:lnTo>
                <a:lnTo>
                  <a:pt x="10" y="24"/>
                </a:lnTo>
                <a:lnTo>
                  <a:pt x="34" y="24"/>
                </a:lnTo>
                <a:lnTo>
                  <a:pt x="34" y="35"/>
                </a:lnTo>
                <a:lnTo>
                  <a:pt x="10" y="35"/>
                </a:lnTo>
                <a:lnTo>
                  <a:pt x="10" y="49"/>
                </a:lnTo>
                <a:lnTo>
                  <a:pt x="37" y="49"/>
                </a:lnTo>
                <a:lnTo>
                  <a:pt x="37" y="59"/>
                </a:lnTo>
                <a:lnTo>
                  <a:pt x="0"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3" name="Freeform 119"/>
          <p:cNvSpPr/>
          <p:nvPr/>
        </p:nvSpPr>
        <p:spPr>
          <a:xfrm>
            <a:off x="10539360" y="2941560"/>
            <a:ext cx="198360" cy="223920"/>
          </a:xfrm>
          <a:custGeom>
            <a:avLst/>
            <a:gdLst/>
            <a:ahLst/>
            <a:rect l="l" t="t" r="r" b="b"/>
            <a:pathLst>
              <a:path w="52" h="59">
                <a:moveTo>
                  <a:pt x="40" y="59"/>
                </a:moveTo>
                <a:lnTo>
                  <a:pt x="36" y="49"/>
                </a:lnTo>
                <a:lnTo>
                  <a:pt x="15" y="49"/>
                </a:lnTo>
                <a:lnTo>
                  <a:pt x="12" y="59"/>
                </a:lnTo>
                <a:lnTo>
                  <a:pt x="0" y="59"/>
                </a:lnTo>
                <a:lnTo>
                  <a:pt x="21" y="0"/>
                </a:lnTo>
                <a:lnTo>
                  <a:pt x="30" y="0"/>
                </a:lnTo>
                <a:lnTo>
                  <a:pt x="52" y="59"/>
                </a:lnTo>
                <a:lnTo>
                  <a:pt x="40" y="59"/>
                </a:lnTo>
                <a:close/>
                <a:moveTo>
                  <a:pt x="26" y="18"/>
                </a:moveTo>
                <a:lnTo>
                  <a:pt x="18" y="39"/>
                </a:lnTo>
                <a:lnTo>
                  <a:pt x="33" y="39"/>
                </a:lnTo>
                <a:lnTo>
                  <a:pt x="26" y="18"/>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4" name="Freeform 120"/>
          <p:cNvSpPr/>
          <p:nvPr/>
        </p:nvSpPr>
        <p:spPr>
          <a:xfrm>
            <a:off x="10729800" y="2941560"/>
            <a:ext cx="160560" cy="223920"/>
          </a:xfrm>
          <a:custGeom>
            <a:avLst/>
            <a:gdLst/>
            <a:ahLst/>
            <a:rect l="l" t="t" r="r" b="b"/>
            <a:pathLst>
              <a:path w="42" h="59">
                <a:moveTo>
                  <a:pt x="27" y="11"/>
                </a:moveTo>
                <a:lnTo>
                  <a:pt x="27" y="59"/>
                </a:lnTo>
                <a:lnTo>
                  <a:pt x="15" y="59"/>
                </a:lnTo>
                <a:lnTo>
                  <a:pt x="15" y="11"/>
                </a:lnTo>
                <a:lnTo>
                  <a:pt x="0" y="11"/>
                </a:lnTo>
                <a:lnTo>
                  <a:pt x="0" y="0"/>
                </a:lnTo>
                <a:lnTo>
                  <a:pt x="42" y="0"/>
                </a:lnTo>
                <a:lnTo>
                  <a:pt x="42" y="11"/>
                </a:lnTo>
                <a:lnTo>
                  <a:pt x="27" y="11"/>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5" name="Rectangle 121"/>
          <p:cNvSpPr/>
          <p:nvPr/>
        </p:nvSpPr>
        <p:spPr>
          <a:xfrm>
            <a:off x="10920240" y="2941560"/>
            <a:ext cx="46080" cy="22392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66" name="Freeform 122"/>
          <p:cNvSpPr/>
          <p:nvPr/>
        </p:nvSpPr>
        <p:spPr>
          <a:xfrm>
            <a:off x="10991880" y="2941560"/>
            <a:ext cx="179280" cy="223920"/>
          </a:xfrm>
          <a:custGeom>
            <a:avLst/>
            <a:gdLst/>
            <a:ahLst/>
            <a:rect l="l" t="t" r="r" b="b"/>
            <a:pathLst>
              <a:path w="47" h="59">
                <a:moveTo>
                  <a:pt x="28" y="59"/>
                </a:moveTo>
                <a:lnTo>
                  <a:pt x="19" y="59"/>
                </a:lnTo>
                <a:lnTo>
                  <a:pt x="0" y="0"/>
                </a:lnTo>
                <a:lnTo>
                  <a:pt x="12" y="0"/>
                </a:lnTo>
                <a:lnTo>
                  <a:pt x="24" y="39"/>
                </a:lnTo>
                <a:lnTo>
                  <a:pt x="36" y="0"/>
                </a:lnTo>
                <a:lnTo>
                  <a:pt x="47" y="0"/>
                </a:lnTo>
                <a:lnTo>
                  <a:pt x="28"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67" name="Freeform 123"/>
          <p:cNvSpPr/>
          <p:nvPr/>
        </p:nvSpPr>
        <p:spPr>
          <a:xfrm>
            <a:off x="11201400" y="2941560"/>
            <a:ext cx="149400" cy="223920"/>
          </a:xfrm>
          <a:custGeom>
            <a:avLst/>
            <a:gdLst/>
            <a:ahLst/>
            <a:rect l="l" t="t" r="r" b="b"/>
            <a:pathLst>
              <a:path w="39" h="59">
                <a:moveTo>
                  <a:pt x="0" y="59"/>
                </a:moveTo>
                <a:lnTo>
                  <a:pt x="0" y="0"/>
                </a:lnTo>
                <a:lnTo>
                  <a:pt x="39" y="0"/>
                </a:lnTo>
                <a:lnTo>
                  <a:pt x="39" y="11"/>
                </a:lnTo>
                <a:lnTo>
                  <a:pt x="11" y="11"/>
                </a:lnTo>
                <a:lnTo>
                  <a:pt x="11" y="24"/>
                </a:lnTo>
                <a:lnTo>
                  <a:pt x="35" y="24"/>
                </a:lnTo>
                <a:lnTo>
                  <a:pt x="35" y="35"/>
                </a:lnTo>
                <a:lnTo>
                  <a:pt x="11" y="35"/>
                </a:lnTo>
                <a:lnTo>
                  <a:pt x="11" y="49"/>
                </a:lnTo>
                <a:lnTo>
                  <a:pt x="39" y="49"/>
                </a:lnTo>
                <a:lnTo>
                  <a:pt x="39" y="59"/>
                </a:lnTo>
                <a:lnTo>
                  <a:pt x="0" y="59"/>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pic>
        <p:nvPicPr>
          <p:cNvPr id="2268" name="Group 84"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49">
                                  <p:stCondLst>
                                    <p:cond delay="0"/>
                                  </p:stCondLst>
                                  <p:childTnLst>
                                    <p:set>
                                      <p:cBhvr>
                                        <p:cTn id="304" dur="1" fill="hold">
                                          <p:stCondLst>
                                            <p:cond delay="0"/>
                                          </p:stCondLst>
                                        </p:cTn>
                                        <p:tgtEl>
                                          <p:spTgt spid="2268"/>
                                        </p:tgtEl>
                                        <p:attrNameLst>
                                          <p:attrName>style.visibility</p:attrName>
                                        </p:attrNameLst>
                                      </p:cBhvr>
                                      <p:to>
                                        <p:strVal val="visible"/>
                                      </p:to>
                                    </p:set>
                                    <p:anim calcmode="lin" valueType="num">
                                      <p:cBhvr additive="repl">
                                        <p:cTn id="305" dur="500" fill="hold"/>
                                        <p:tgtEl>
                                          <p:spTgt spid="2268"/>
                                        </p:tgtEl>
                                        <p:attrNameLst>
                                          <p:attrName>ppt_w</p:attrName>
                                        </p:attrNameLst>
                                      </p:cBhvr>
                                      <p:tavLst>
                                        <p:tav tm="0">
                                          <p:val>
                                            <p:fltVal val="0"/>
                                          </p:val>
                                        </p:tav>
                                        <p:tav tm="100000">
                                          <p:val>
                                            <p:strVal val="#ppt_w"/>
                                          </p:val>
                                        </p:tav>
                                      </p:tavLst>
                                    </p:anim>
                                    <p:anim calcmode="lin" valueType="num">
                                      <p:cBhvr additive="repl">
                                        <p:cTn id="306" dur="500" fill="hold"/>
                                        <p:tgtEl>
                                          <p:spTgt spid="2268"/>
                                        </p:tgtEl>
                                        <p:attrNameLst>
                                          <p:attrName>ppt_h</p:attrName>
                                        </p:attrNameLst>
                                      </p:cBhvr>
                                      <p:tavLst>
                                        <p:tav tm="0">
                                          <p:val>
                                            <p:fltVal val="0"/>
                                          </p:val>
                                        </p:tav>
                                        <p:tav tm="100000">
                                          <p:val>
                                            <p:strVal val="#ppt_h"/>
                                          </p:val>
                                        </p:tav>
                                      </p:tavLst>
                                    </p:anim>
                                    <p:anim calcmode="lin" valueType="num">
                                      <p:cBhvr additive="repl">
                                        <p:cTn id="307" dur="500" fill="hold"/>
                                        <p:tgtEl>
                                          <p:spTgt spid="2268"/>
                                        </p:tgtEl>
                                        <p:attrNameLst>
                                          <p:attrName>r</p:attrName>
                                        </p:attrNameLst>
                                      </p:cBhvr>
                                      <p:tavLst>
                                        <p:tav tm="0">
                                          <p:val>
                                            <p:strVal val="360"/>
                                          </p:val>
                                        </p:tav>
                                        <p:tav tm="100000">
                                          <p:val>
                                            <p:strVal val="0"/>
                                          </p:val>
                                        </p:tav>
                                      </p:tavLst>
                                    </p:anim>
                                    <p:animEffect filter="fade" transition="in">
                                      <p:cBhvr additive="repl">
                                        <p:cTn id="308"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Freeform 1036"/>
          <p:cNvSpPr/>
          <p:nvPr/>
        </p:nvSpPr>
        <p:spPr>
          <a:xfrm>
            <a:off x="10915560" y="9742320"/>
            <a:ext cx="6280200" cy="2640240"/>
          </a:xfrm>
          <a:custGeom>
            <a:avLst/>
            <a:gdLst/>
            <a:ahLst/>
            <a:rect l="l" t="t" r="r" b="b"/>
            <a:pathLst>
              <a:path w="1400" h="589">
                <a:moveTo>
                  <a:pt x="852" y="175"/>
                </a:moveTo>
                <a:cubicBezTo>
                  <a:pt x="10" y="175"/>
                  <a:pt x="10" y="175"/>
                  <a:pt x="10" y="175"/>
                </a:cubicBezTo>
                <a:cubicBezTo>
                  <a:pt x="0" y="408"/>
                  <a:pt x="0" y="408"/>
                  <a:pt x="0" y="408"/>
                </a:cubicBezTo>
                <a:cubicBezTo>
                  <a:pt x="852" y="408"/>
                  <a:pt x="852" y="408"/>
                  <a:pt x="852" y="408"/>
                </a:cubicBezTo>
                <a:cubicBezTo>
                  <a:pt x="852" y="534"/>
                  <a:pt x="852" y="534"/>
                  <a:pt x="852" y="534"/>
                </a:cubicBezTo>
                <a:cubicBezTo>
                  <a:pt x="852" y="575"/>
                  <a:pt x="894" y="589"/>
                  <a:pt x="921" y="575"/>
                </a:cubicBezTo>
                <a:cubicBezTo>
                  <a:pt x="1364" y="336"/>
                  <a:pt x="1364" y="336"/>
                  <a:pt x="1364" y="336"/>
                </a:cubicBezTo>
                <a:cubicBezTo>
                  <a:pt x="1400" y="317"/>
                  <a:pt x="1395" y="271"/>
                  <a:pt x="1363" y="253"/>
                </a:cubicBezTo>
                <a:cubicBezTo>
                  <a:pt x="922" y="15"/>
                  <a:pt x="922" y="15"/>
                  <a:pt x="922" y="15"/>
                </a:cubicBezTo>
                <a:cubicBezTo>
                  <a:pt x="894" y="0"/>
                  <a:pt x="852" y="15"/>
                  <a:pt x="852" y="58"/>
                </a:cubicBezTo>
                <a:cubicBezTo>
                  <a:pt x="852" y="175"/>
                  <a:pt x="852" y="175"/>
                  <a:pt x="852" y="175"/>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0" name="Freeform 1039"/>
          <p:cNvSpPr/>
          <p:nvPr/>
        </p:nvSpPr>
        <p:spPr>
          <a:xfrm>
            <a:off x="7905600" y="9163080"/>
            <a:ext cx="5715000" cy="3798720"/>
          </a:xfrm>
          <a:custGeom>
            <a:avLst/>
            <a:gdLst/>
            <a:ahLst/>
            <a:rect l="l" t="t" r="r" b="b"/>
            <a:pathLst>
              <a:path w="1274" h="848">
                <a:moveTo>
                  <a:pt x="485" y="254"/>
                </a:moveTo>
                <a:cubicBezTo>
                  <a:pt x="9" y="254"/>
                  <a:pt x="9" y="254"/>
                  <a:pt x="9" y="254"/>
                </a:cubicBezTo>
                <a:cubicBezTo>
                  <a:pt x="0" y="593"/>
                  <a:pt x="0" y="593"/>
                  <a:pt x="0" y="593"/>
                </a:cubicBezTo>
                <a:cubicBezTo>
                  <a:pt x="485" y="593"/>
                  <a:pt x="485" y="593"/>
                  <a:pt x="485" y="593"/>
                </a:cubicBezTo>
                <a:cubicBezTo>
                  <a:pt x="485" y="767"/>
                  <a:pt x="485" y="767"/>
                  <a:pt x="485" y="767"/>
                </a:cubicBezTo>
                <a:cubicBezTo>
                  <a:pt x="485" y="827"/>
                  <a:pt x="546" y="848"/>
                  <a:pt x="586" y="826"/>
                </a:cubicBezTo>
                <a:cubicBezTo>
                  <a:pt x="1223" y="482"/>
                  <a:pt x="1223" y="482"/>
                  <a:pt x="1223" y="482"/>
                </a:cubicBezTo>
                <a:cubicBezTo>
                  <a:pt x="1274" y="455"/>
                  <a:pt x="1267" y="389"/>
                  <a:pt x="1221" y="364"/>
                </a:cubicBezTo>
                <a:cubicBezTo>
                  <a:pt x="587" y="22"/>
                  <a:pt x="587" y="22"/>
                  <a:pt x="587" y="22"/>
                </a:cubicBezTo>
                <a:cubicBezTo>
                  <a:pt x="546" y="0"/>
                  <a:pt x="485" y="21"/>
                  <a:pt x="485" y="83"/>
                </a:cubicBezTo>
                <a:cubicBezTo>
                  <a:pt x="485" y="254"/>
                  <a:pt x="485" y="254"/>
                  <a:pt x="485" y="254"/>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1" name="Freeform 1042"/>
          <p:cNvSpPr/>
          <p:nvPr/>
        </p:nvSpPr>
        <p:spPr>
          <a:xfrm>
            <a:off x="5384880" y="4030560"/>
            <a:ext cx="4686120" cy="7979040"/>
          </a:xfrm>
          <a:custGeom>
            <a:avLst/>
            <a:gdLst/>
            <a:ahLst/>
            <a:rect l="l" t="t" r="r" b="b"/>
            <a:pathLst>
              <a:path w="1045" h="1781">
                <a:moveTo>
                  <a:pt x="316" y="0"/>
                </a:moveTo>
                <a:cubicBezTo>
                  <a:pt x="316" y="809"/>
                  <a:pt x="316" y="809"/>
                  <a:pt x="316" y="809"/>
                </a:cubicBezTo>
                <a:cubicBezTo>
                  <a:pt x="99" y="809"/>
                  <a:pt x="99" y="809"/>
                  <a:pt x="99" y="809"/>
                </a:cubicBezTo>
                <a:cubicBezTo>
                  <a:pt x="25" y="809"/>
                  <a:pt x="0" y="884"/>
                  <a:pt x="27" y="933"/>
                </a:cubicBezTo>
                <a:cubicBezTo>
                  <a:pt x="450" y="1718"/>
                  <a:pt x="450" y="1718"/>
                  <a:pt x="450" y="1718"/>
                </a:cubicBezTo>
                <a:cubicBezTo>
                  <a:pt x="484" y="1781"/>
                  <a:pt x="566" y="1772"/>
                  <a:pt x="597" y="1715"/>
                </a:cubicBezTo>
                <a:cubicBezTo>
                  <a:pt x="1018" y="934"/>
                  <a:pt x="1018" y="934"/>
                  <a:pt x="1018" y="934"/>
                </a:cubicBezTo>
                <a:cubicBezTo>
                  <a:pt x="1045" y="883"/>
                  <a:pt x="1019" y="809"/>
                  <a:pt x="943" y="809"/>
                </a:cubicBezTo>
                <a:cubicBezTo>
                  <a:pt x="724" y="809"/>
                  <a:pt x="724" y="809"/>
                  <a:pt x="724" y="809"/>
                </a:cubicBezTo>
                <a:cubicBezTo>
                  <a:pt x="724" y="6"/>
                  <a:pt x="724" y="6"/>
                  <a:pt x="724" y="6"/>
                </a:cubicBezTo>
                <a:cubicBezTo>
                  <a:pt x="316" y="0"/>
                  <a:pt x="316" y="0"/>
                  <a:pt x="316"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2" name="Freeform 1043"/>
          <p:cNvSpPr/>
          <p:nvPr/>
        </p:nvSpPr>
        <p:spPr>
          <a:xfrm>
            <a:off x="5815080" y="2198520"/>
            <a:ext cx="9615600" cy="5146920"/>
          </a:xfrm>
          <a:custGeom>
            <a:avLst/>
            <a:gdLst/>
            <a:ahLst/>
            <a:rect l="l" t="t" r="r" b="b"/>
            <a:pathLst>
              <a:path w="2145" h="1149">
                <a:moveTo>
                  <a:pt x="2141" y="333"/>
                </a:moveTo>
                <a:cubicBezTo>
                  <a:pt x="1068" y="333"/>
                  <a:pt x="1068" y="333"/>
                  <a:pt x="1068" y="333"/>
                </a:cubicBezTo>
                <a:cubicBezTo>
                  <a:pt x="1068" y="112"/>
                  <a:pt x="1068" y="112"/>
                  <a:pt x="1068" y="112"/>
                </a:cubicBezTo>
                <a:cubicBezTo>
                  <a:pt x="1068" y="29"/>
                  <a:pt x="987" y="0"/>
                  <a:pt x="931" y="30"/>
                </a:cubicBezTo>
                <a:cubicBezTo>
                  <a:pt x="72" y="494"/>
                  <a:pt x="72" y="494"/>
                  <a:pt x="72" y="494"/>
                </a:cubicBezTo>
                <a:cubicBezTo>
                  <a:pt x="9" y="527"/>
                  <a:pt x="0" y="617"/>
                  <a:pt x="69" y="654"/>
                </a:cubicBezTo>
                <a:cubicBezTo>
                  <a:pt x="932" y="1120"/>
                  <a:pt x="932" y="1120"/>
                  <a:pt x="932" y="1120"/>
                </a:cubicBezTo>
                <a:cubicBezTo>
                  <a:pt x="986" y="1149"/>
                  <a:pt x="1068" y="1122"/>
                  <a:pt x="1068" y="1040"/>
                </a:cubicBezTo>
                <a:cubicBezTo>
                  <a:pt x="1068" y="813"/>
                  <a:pt x="1068" y="813"/>
                  <a:pt x="1068" y="813"/>
                </a:cubicBezTo>
                <a:cubicBezTo>
                  <a:pt x="2145" y="813"/>
                  <a:pt x="2145" y="813"/>
                  <a:pt x="2145" y="813"/>
                </a:cubicBezTo>
                <a:cubicBezTo>
                  <a:pt x="2141" y="333"/>
                  <a:pt x="2141" y="333"/>
                  <a:pt x="2141" y="333"/>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3" name="Freeform 1044"/>
          <p:cNvSpPr/>
          <p:nvPr/>
        </p:nvSpPr>
        <p:spPr>
          <a:xfrm>
            <a:off x="11464920" y="1994040"/>
            <a:ext cx="11696760" cy="6103800"/>
          </a:xfrm>
          <a:custGeom>
            <a:avLst/>
            <a:gdLst/>
            <a:ahLst/>
            <a:rect l="l" t="t" r="r" b="b"/>
            <a:pathLst>
              <a:path w="15536" h="10000">
                <a:moveTo>
                  <a:pt x="488" y="5690"/>
                </a:moveTo>
                <a:cubicBezTo>
                  <a:pt x="0" y="5367"/>
                  <a:pt x="66" y="4589"/>
                  <a:pt x="512" y="4295"/>
                </a:cubicBezTo>
                <a:lnTo>
                  <a:pt x="6575" y="257"/>
                </a:lnTo>
                <a:cubicBezTo>
                  <a:pt x="6968" y="0"/>
                  <a:pt x="7546" y="242"/>
                  <a:pt x="7546" y="977"/>
                </a:cubicBezTo>
                <a:lnTo>
                  <a:pt x="7546" y="2834"/>
                </a:lnTo>
                <a:lnTo>
                  <a:pt x="15536" y="2861"/>
                </a:lnTo>
                <a:lnTo>
                  <a:pt x="15536" y="7191"/>
                </a:lnTo>
                <a:lnTo>
                  <a:pt x="7546" y="7166"/>
                </a:lnTo>
                <a:lnTo>
                  <a:pt x="7546" y="9046"/>
                </a:lnTo>
                <a:cubicBezTo>
                  <a:pt x="7546" y="9758"/>
                  <a:pt x="6968" y="10000"/>
                  <a:pt x="6587" y="9743"/>
                </a:cubicBezTo>
                <a:lnTo>
                  <a:pt x="488" y="5690"/>
                </a:ln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4" name="Freeform 1037"/>
          <p:cNvSpPr/>
          <p:nvPr/>
        </p:nvSpPr>
        <p:spPr>
          <a:xfrm>
            <a:off x="12452400" y="9928080"/>
            <a:ext cx="4564080" cy="2266920"/>
          </a:xfrm>
          <a:custGeom>
            <a:avLst/>
            <a:gdLst/>
            <a:ahLst/>
            <a:rect l="l" t="t" r="r" b="b"/>
            <a:pathLst>
              <a:path w="1198" h="595">
                <a:moveTo>
                  <a:pt x="686" y="11"/>
                </a:moveTo>
                <a:lnTo>
                  <a:pt x="686" y="6"/>
                </a:lnTo>
                <a:lnTo>
                  <a:pt x="688" y="4"/>
                </a:lnTo>
                <a:lnTo>
                  <a:pt x="686" y="6"/>
                </a:lnTo>
                <a:lnTo>
                  <a:pt x="686" y="3"/>
                </a:lnTo>
                <a:lnTo>
                  <a:pt x="687" y="3"/>
                </a:lnTo>
                <a:lnTo>
                  <a:pt x="687" y="3"/>
                </a:lnTo>
                <a:lnTo>
                  <a:pt x="687" y="4"/>
                </a:lnTo>
                <a:lnTo>
                  <a:pt x="687" y="4"/>
                </a:lnTo>
                <a:lnTo>
                  <a:pt x="687" y="4"/>
                </a:lnTo>
                <a:lnTo>
                  <a:pt x="688" y="4"/>
                </a:lnTo>
                <a:lnTo>
                  <a:pt x="689" y="5"/>
                </a:lnTo>
                <a:lnTo>
                  <a:pt x="687" y="11"/>
                </a:lnTo>
                <a:lnTo>
                  <a:pt x="686" y="11"/>
                </a:lnTo>
                <a:close/>
                <a:moveTo>
                  <a:pt x="705" y="20"/>
                </a:moveTo>
                <a:lnTo>
                  <a:pt x="708" y="14"/>
                </a:lnTo>
                <a:lnTo>
                  <a:pt x="714" y="18"/>
                </a:lnTo>
                <a:lnTo>
                  <a:pt x="711" y="24"/>
                </a:lnTo>
                <a:lnTo>
                  <a:pt x="705" y="20"/>
                </a:lnTo>
                <a:close/>
                <a:moveTo>
                  <a:pt x="728" y="33"/>
                </a:moveTo>
                <a:lnTo>
                  <a:pt x="732" y="27"/>
                </a:lnTo>
                <a:lnTo>
                  <a:pt x="738" y="30"/>
                </a:lnTo>
                <a:lnTo>
                  <a:pt x="734" y="37"/>
                </a:lnTo>
                <a:lnTo>
                  <a:pt x="728" y="33"/>
                </a:lnTo>
                <a:close/>
                <a:moveTo>
                  <a:pt x="753" y="46"/>
                </a:moveTo>
                <a:lnTo>
                  <a:pt x="755" y="40"/>
                </a:lnTo>
                <a:lnTo>
                  <a:pt x="761" y="43"/>
                </a:lnTo>
                <a:lnTo>
                  <a:pt x="759" y="49"/>
                </a:lnTo>
                <a:lnTo>
                  <a:pt x="753" y="46"/>
                </a:lnTo>
                <a:close/>
                <a:moveTo>
                  <a:pt x="776" y="58"/>
                </a:moveTo>
                <a:lnTo>
                  <a:pt x="780" y="52"/>
                </a:lnTo>
                <a:lnTo>
                  <a:pt x="786" y="56"/>
                </a:lnTo>
                <a:lnTo>
                  <a:pt x="782" y="61"/>
                </a:lnTo>
                <a:lnTo>
                  <a:pt x="776" y="58"/>
                </a:lnTo>
                <a:close/>
                <a:moveTo>
                  <a:pt x="800" y="71"/>
                </a:moveTo>
                <a:lnTo>
                  <a:pt x="803" y="65"/>
                </a:lnTo>
                <a:lnTo>
                  <a:pt x="809" y="69"/>
                </a:lnTo>
                <a:lnTo>
                  <a:pt x="806" y="74"/>
                </a:lnTo>
                <a:lnTo>
                  <a:pt x="800" y="71"/>
                </a:lnTo>
                <a:close/>
                <a:moveTo>
                  <a:pt x="825" y="84"/>
                </a:moveTo>
                <a:lnTo>
                  <a:pt x="827" y="78"/>
                </a:lnTo>
                <a:lnTo>
                  <a:pt x="833" y="81"/>
                </a:lnTo>
                <a:lnTo>
                  <a:pt x="831" y="87"/>
                </a:lnTo>
                <a:lnTo>
                  <a:pt x="825" y="84"/>
                </a:lnTo>
                <a:close/>
                <a:moveTo>
                  <a:pt x="848" y="97"/>
                </a:moveTo>
                <a:lnTo>
                  <a:pt x="852" y="91"/>
                </a:lnTo>
                <a:lnTo>
                  <a:pt x="858" y="94"/>
                </a:lnTo>
                <a:lnTo>
                  <a:pt x="854" y="100"/>
                </a:lnTo>
                <a:lnTo>
                  <a:pt x="848" y="97"/>
                </a:lnTo>
                <a:close/>
                <a:moveTo>
                  <a:pt x="872" y="110"/>
                </a:moveTo>
                <a:lnTo>
                  <a:pt x="875" y="104"/>
                </a:lnTo>
                <a:lnTo>
                  <a:pt x="881" y="106"/>
                </a:lnTo>
                <a:lnTo>
                  <a:pt x="878" y="112"/>
                </a:lnTo>
                <a:lnTo>
                  <a:pt x="872" y="110"/>
                </a:lnTo>
                <a:close/>
                <a:moveTo>
                  <a:pt x="896" y="123"/>
                </a:moveTo>
                <a:lnTo>
                  <a:pt x="899" y="116"/>
                </a:lnTo>
                <a:lnTo>
                  <a:pt x="905" y="119"/>
                </a:lnTo>
                <a:lnTo>
                  <a:pt x="902" y="125"/>
                </a:lnTo>
                <a:lnTo>
                  <a:pt x="896" y="123"/>
                </a:lnTo>
                <a:close/>
                <a:moveTo>
                  <a:pt x="920" y="134"/>
                </a:moveTo>
                <a:lnTo>
                  <a:pt x="924" y="128"/>
                </a:lnTo>
                <a:lnTo>
                  <a:pt x="929" y="132"/>
                </a:lnTo>
                <a:lnTo>
                  <a:pt x="926" y="138"/>
                </a:lnTo>
                <a:lnTo>
                  <a:pt x="920" y="134"/>
                </a:lnTo>
                <a:close/>
                <a:moveTo>
                  <a:pt x="944" y="147"/>
                </a:moveTo>
                <a:lnTo>
                  <a:pt x="947" y="141"/>
                </a:lnTo>
                <a:lnTo>
                  <a:pt x="953" y="145"/>
                </a:lnTo>
                <a:lnTo>
                  <a:pt x="949" y="151"/>
                </a:lnTo>
                <a:lnTo>
                  <a:pt x="944" y="147"/>
                </a:lnTo>
                <a:close/>
                <a:moveTo>
                  <a:pt x="968" y="160"/>
                </a:moveTo>
                <a:lnTo>
                  <a:pt x="971" y="154"/>
                </a:lnTo>
                <a:lnTo>
                  <a:pt x="976" y="158"/>
                </a:lnTo>
                <a:lnTo>
                  <a:pt x="974" y="164"/>
                </a:lnTo>
                <a:lnTo>
                  <a:pt x="968" y="160"/>
                </a:lnTo>
                <a:close/>
                <a:moveTo>
                  <a:pt x="992" y="173"/>
                </a:moveTo>
                <a:lnTo>
                  <a:pt x="995" y="167"/>
                </a:lnTo>
                <a:lnTo>
                  <a:pt x="1001" y="170"/>
                </a:lnTo>
                <a:lnTo>
                  <a:pt x="998" y="177"/>
                </a:lnTo>
                <a:lnTo>
                  <a:pt x="992" y="173"/>
                </a:lnTo>
                <a:close/>
                <a:moveTo>
                  <a:pt x="1015" y="186"/>
                </a:moveTo>
                <a:lnTo>
                  <a:pt x="1019" y="180"/>
                </a:lnTo>
                <a:lnTo>
                  <a:pt x="1025" y="183"/>
                </a:lnTo>
                <a:lnTo>
                  <a:pt x="1021" y="188"/>
                </a:lnTo>
                <a:lnTo>
                  <a:pt x="1015" y="186"/>
                </a:lnTo>
                <a:close/>
                <a:moveTo>
                  <a:pt x="1040" y="198"/>
                </a:moveTo>
                <a:lnTo>
                  <a:pt x="1042" y="192"/>
                </a:lnTo>
                <a:lnTo>
                  <a:pt x="1048" y="196"/>
                </a:lnTo>
                <a:lnTo>
                  <a:pt x="1046" y="201"/>
                </a:lnTo>
                <a:lnTo>
                  <a:pt x="1040" y="198"/>
                </a:lnTo>
                <a:close/>
                <a:moveTo>
                  <a:pt x="1064" y="211"/>
                </a:moveTo>
                <a:lnTo>
                  <a:pt x="1067" y="205"/>
                </a:lnTo>
                <a:lnTo>
                  <a:pt x="1073" y="208"/>
                </a:lnTo>
                <a:lnTo>
                  <a:pt x="1069" y="214"/>
                </a:lnTo>
                <a:lnTo>
                  <a:pt x="1064" y="211"/>
                </a:lnTo>
                <a:close/>
                <a:moveTo>
                  <a:pt x="1087" y="224"/>
                </a:moveTo>
                <a:lnTo>
                  <a:pt x="1091" y="218"/>
                </a:lnTo>
                <a:lnTo>
                  <a:pt x="1097" y="221"/>
                </a:lnTo>
                <a:lnTo>
                  <a:pt x="1093" y="227"/>
                </a:lnTo>
                <a:lnTo>
                  <a:pt x="1087" y="224"/>
                </a:lnTo>
                <a:close/>
                <a:moveTo>
                  <a:pt x="1112" y="237"/>
                </a:moveTo>
                <a:lnTo>
                  <a:pt x="1114" y="231"/>
                </a:lnTo>
                <a:lnTo>
                  <a:pt x="1120" y="234"/>
                </a:lnTo>
                <a:lnTo>
                  <a:pt x="1118" y="240"/>
                </a:lnTo>
                <a:lnTo>
                  <a:pt x="1112" y="237"/>
                </a:lnTo>
                <a:close/>
                <a:moveTo>
                  <a:pt x="1135" y="250"/>
                </a:moveTo>
                <a:lnTo>
                  <a:pt x="1139" y="244"/>
                </a:lnTo>
                <a:lnTo>
                  <a:pt x="1145" y="246"/>
                </a:lnTo>
                <a:lnTo>
                  <a:pt x="1141" y="252"/>
                </a:lnTo>
                <a:lnTo>
                  <a:pt x="1135" y="250"/>
                </a:lnTo>
                <a:close/>
                <a:moveTo>
                  <a:pt x="1159" y="263"/>
                </a:moveTo>
                <a:lnTo>
                  <a:pt x="1162" y="255"/>
                </a:lnTo>
                <a:lnTo>
                  <a:pt x="1168" y="259"/>
                </a:lnTo>
                <a:lnTo>
                  <a:pt x="1165" y="265"/>
                </a:lnTo>
                <a:lnTo>
                  <a:pt x="1159" y="263"/>
                </a:lnTo>
                <a:close/>
                <a:moveTo>
                  <a:pt x="1181" y="275"/>
                </a:moveTo>
                <a:lnTo>
                  <a:pt x="1181" y="275"/>
                </a:lnTo>
                <a:lnTo>
                  <a:pt x="1182" y="275"/>
                </a:lnTo>
                <a:lnTo>
                  <a:pt x="1182" y="275"/>
                </a:lnTo>
                <a:lnTo>
                  <a:pt x="1182" y="277"/>
                </a:lnTo>
                <a:lnTo>
                  <a:pt x="1182" y="277"/>
                </a:lnTo>
                <a:lnTo>
                  <a:pt x="1182" y="277"/>
                </a:lnTo>
                <a:lnTo>
                  <a:pt x="1182" y="277"/>
                </a:lnTo>
                <a:lnTo>
                  <a:pt x="1184" y="277"/>
                </a:lnTo>
                <a:lnTo>
                  <a:pt x="1184" y="277"/>
                </a:lnTo>
                <a:lnTo>
                  <a:pt x="1184" y="278"/>
                </a:lnTo>
                <a:lnTo>
                  <a:pt x="1184" y="278"/>
                </a:lnTo>
                <a:lnTo>
                  <a:pt x="1184" y="278"/>
                </a:lnTo>
                <a:lnTo>
                  <a:pt x="1184" y="278"/>
                </a:lnTo>
                <a:lnTo>
                  <a:pt x="1184" y="278"/>
                </a:lnTo>
                <a:lnTo>
                  <a:pt x="1185" y="278"/>
                </a:lnTo>
                <a:lnTo>
                  <a:pt x="1185" y="279"/>
                </a:lnTo>
                <a:lnTo>
                  <a:pt x="1185" y="279"/>
                </a:lnTo>
                <a:lnTo>
                  <a:pt x="1185" y="279"/>
                </a:lnTo>
                <a:lnTo>
                  <a:pt x="1185" y="279"/>
                </a:lnTo>
                <a:lnTo>
                  <a:pt x="1185" y="279"/>
                </a:lnTo>
                <a:lnTo>
                  <a:pt x="1185" y="279"/>
                </a:lnTo>
                <a:lnTo>
                  <a:pt x="1185" y="280"/>
                </a:lnTo>
                <a:lnTo>
                  <a:pt x="1186" y="280"/>
                </a:lnTo>
                <a:lnTo>
                  <a:pt x="1186" y="280"/>
                </a:lnTo>
                <a:lnTo>
                  <a:pt x="1191" y="277"/>
                </a:lnTo>
                <a:lnTo>
                  <a:pt x="1191" y="277"/>
                </a:lnTo>
                <a:lnTo>
                  <a:pt x="1191" y="275"/>
                </a:lnTo>
                <a:lnTo>
                  <a:pt x="1191" y="275"/>
                </a:lnTo>
                <a:lnTo>
                  <a:pt x="1191" y="275"/>
                </a:lnTo>
                <a:lnTo>
                  <a:pt x="1191" y="275"/>
                </a:lnTo>
                <a:lnTo>
                  <a:pt x="1191" y="274"/>
                </a:lnTo>
                <a:lnTo>
                  <a:pt x="1190" y="274"/>
                </a:lnTo>
                <a:lnTo>
                  <a:pt x="1190" y="274"/>
                </a:lnTo>
                <a:lnTo>
                  <a:pt x="1190" y="274"/>
                </a:lnTo>
                <a:lnTo>
                  <a:pt x="1190" y="274"/>
                </a:lnTo>
                <a:lnTo>
                  <a:pt x="1190" y="273"/>
                </a:lnTo>
                <a:lnTo>
                  <a:pt x="1188" y="273"/>
                </a:lnTo>
                <a:lnTo>
                  <a:pt x="1188" y="273"/>
                </a:lnTo>
                <a:lnTo>
                  <a:pt x="1188" y="273"/>
                </a:lnTo>
                <a:lnTo>
                  <a:pt x="1188" y="273"/>
                </a:lnTo>
                <a:lnTo>
                  <a:pt x="1188" y="272"/>
                </a:lnTo>
                <a:lnTo>
                  <a:pt x="1188" y="272"/>
                </a:lnTo>
                <a:lnTo>
                  <a:pt x="1187" y="272"/>
                </a:lnTo>
                <a:lnTo>
                  <a:pt x="1187" y="272"/>
                </a:lnTo>
                <a:lnTo>
                  <a:pt x="1187" y="272"/>
                </a:lnTo>
                <a:lnTo>
                  <a:pt x="1187" y="271"/>
                </a:lnTo>
                <a:lnTo>
                  <a:pt x="1187" y="271"/>
                </a:lnTo>
                <a:lnTo>
                  <a:pt x="1187" y="271"/>
                </a:lnTo>
                <a:lnTo>
                  <a:pt x="1186" y="271"/>
                </a:lnTo>
                <a:lnTo>
                  <a:pt x="1181" y="275"/>
                </a:lnTo>
                <a:close/>
                <a:moveTo>
                  <a:pt x="1191" y="298"/>
                </a:moveTo>
                <a:lnTo>
                  <a:pt x="1191" y="298"/>
                </a:lnTo>
                <a:lnTo>
                  <a:pt x="1191" y="298"/>
                </a:lnTo>
                <a:lnTo>
                  <a:pt x="1191" y="298"/>
                </a:lnTo>
                <a:lnTo>
                  <a:pt x="1191" y="298"/>
                </a:lnTo>
                <a:lnTo>
                  <a:pt x="1191" y="299"/>
                </a:lnTo>
                <a:lnTo>
                  <a:pt x="1191" y="299"/>
                </a:lnTo>
                <a:lnTo>
                  <a:pt x="1191" y="299"/>
                </a:lnTo>
                <a:lnTo>
                  <a:pt x="1191" y="299"/>
                </a:lnTo>
                <a:lnTo>
                  <a:pt x="1191" y="299"/>
                </a:lnTo>
                <a:lnTo>
                  <a:pt x="1191" y="300"/>
                </a:lnTo>
                <a:lnTo>
                  <a:pt x="1191" y="300"/>
                </a:lnTo>
                <a:lnTo>
                  <a:pt x="1191" y="300"/>
                </a:lnTo>
                <a:lnTo>
                  <a:pt x="1191" y="300"/>
                </a:lnTo>
                <a:lnTo>
                  <a:pt x="1191" y="300"/>
                </a:lnTo>
                <a:lnTo>
                  <a:pt x="1191" y="301"/>
                </a:lnTo>
                <a:lnTo>
                  <a:pt x="1191" y="301"/>
                </a:lnTo>
                <a:lnTo>
                  <a:pt x="1191" y="301"/>
                </a:lnTo>
                <a:lnTo>
                  <a:pt x="1191" y="301"/>
                </a:lnTo>
                <a:lnTo>
                  <a:pt x="1191" y="301"/>
                </a:lnTo>
                <a:lnTo>
                  <a:pt x="1191" y="303"/>
                </a:lnTo>
                <a:lnTo>
                  <a:pt x="1191" y="303"/>
                </a:lnTo>
                <a:lnTo>
                  <a:pt x="1191" y="303"/>
                </a:lnTo>
                <a:lnTo>
                  <a:pt x="1191" y="303"/>
                </a:lnTo>
                <a:lnTo>
                  <a:pt x="1191" y="303"/>
                </a:lnTo>
                <a:lnTo>
                  <a:pt x="1191" y="304"/>
                </a:lnTo>
                <a:lnTo>
                  <a:pt x="1191" y="304"/>
                </a:lnTo>
                <a:lnTo>
                  <a:pt x="1198" y="305"/>
                </a:lnTo>
                <a:lnTo>
                  <a:pt x="1198" y="305"/>
                </a:lnTo>
                <a:lnTo>
                  <a:pt x="1198" y="305"/>
                </a:lnTo>
                <a:lnTo>
                  <a:pt x="1198" y="304"/>
                </a:lnTo>
                <a:lnTo>
                  <a:pt x="1198" y="304"/>
                </a:lnTo>
                <a:lnTo>
                  <a:pt x="1198" y="304"/>
                </a:lnTo>
                <a:lnTo>
                  <a:pt x="1198" y="304"/>
                </a:lnTo>
                <a:lnTo>
                  <a:pt x="1198" y="303"/>
                </a:lnTo>
                <a:lnTo>
                  <a:pt x="1198" y="303"/>
                </a:lnTo>
                <a:lnTo>
                  <a:pt x="1198" y="303"/>
                </a:lnTo>
                <a:lnTo>
                  <a:pt x="1198" y="303"/>
                </a:lnTo>
                <a:lnTo>
                  <a:pt x="1198" y="301"/>
                </a:lnTo>
                <a:lnTo>
                  <a:pt x="1198" y="301"/>
                </a:lnTo>
                <a:lnTo>
                  <a:pt x="1198" y="301"/>
                </a:lnTo>
                <a:lnTo>
                  <a:pt x="1198" y="300"/>
                </a:lnTo>
                <a:lnTo>
                  <a:pt x="1198" y="300"/>
                </a:lnTo>
                <a:lnTo>
                  <a:pt x="1198" y="300"/>
                </a:lnTo>
                <a:lnTo>
                  <a:pt x="1198" y="300"/>
                </a:lnTo>
                <a:lnTo>
                  <a:pt x="1198" y="299"/>
                </a:lnTo>
                <a:lnTo>
                  <a:pt x="1198" y="299"/>
                </a:lnTo>
                <a:lnTo>
                  <a:pt x="1198" y="299"/>
                </a:lnTo>
                <a:lnTo>
                  <a:pt x="1198" y="299"/>
                </a:lnTo>
                <a:lnTo>
                  <a:pt x="1198" y="298"/>
                </a:lnTo>
                <a:lnTo>
                  <a:pt x="1198" y="298"/>
                </a:lnTo>
                <a:lnTo>
                  <a:pt x="1198" y="298"/>
                </a:lnTo>
                <a:lnTo>
                  <a:pt x="1198" y="298"/>
                </a:lnTo>
                <a:lnTo>
                  <a:pt x="1198" y="298"/>
                </a:lnTo>
                <a:lnTo>
                  <a:pt x="1191" y="298"/>
                </a:lnTo>
                <a:close/>
                <a:moveTo>
                  <a:pt x="1181" y="319"/>
                </a:moveTo>
                <a:lnTo>
                  <a:pt x="1181" y="319"/>
                </a:lnTo>
                <a:lnTo>
                  <a:pt x="1181" y="319"/>
                </a:lnTo>
                <a:lnTo>
                  <a:pt x="1181" y="319"/>
                </a:lnTo>
                <a:lnTo>
                  <a:pt x="1181" y="319"/>
                </a:lnTo>
                <a:lnTo>
                  <a:pt x="1181" y="320"/>
                </a:lnTo>
                <a:lnTo>
                  <a:pt x="1180" y="320"/>
                </a:lnTo>
                <a:lnTo>
                  <a:pt x="1180" y="320"/>
                </a:lnTo>
                <a:lnTo>
                  <a:pt x="1180" y="320"/>
                </a:lnTo>
                <a:lnTo>
                  <a:pt x="1180" y="320"/>
                </a:lnTo>
                <a:lnTo>
                  <a:pt x="1180" y="320"/>
                </a:lnTo>
                <a:lnTo>
                  <a:pt x="1179" y="320"/>
                </a:lnTo>
                <a:lnTo>
                  <a:pt x="1179" y="321"/>
                </a:lnTo>
                <a:lnTo>
                  <a:pt x="1179" y="321"/>
                </a:lnTo>
                <a:lnTo>
                  <a:pt x="1179" y="321"/>
                </a:lnTo>
                <a:lnTo>
                  <a:pt x="1179" y="321"/>
                </a:lnTo>
                <a:lnTo>
                  <a:pt x="1178" y="321"/>
                </a:lnTo>
                <a:lnTo>
                  <a:pt x="1178" y="321"/>
                </a:lnTo>
                <a:lnTo>
                  <a:pt x="1178" y="321"/>
                </a:lnTo>
                <a:lnTo>
                  <a:pt x="1178" y="323"/>
                </a:lnTo>
                <a:lnTo>
                  <a:pt x="1178" y="323"/>
                </a:lnTo>
                <a:lnTo>
                  <a:pt x="1177" y="323"/>
                </a:lnTo>
                <a:lnTo>
                  <a:pt x="1177" y="323"/>
                </a:lnTo>
                <a:lnTo>
                  <a:pt x="1180" y="328"/>
                </a:lnTo>
                <a:lnTo>
                  <a:pt x="1180" y="328"/>
                </a:lnTo>
                <a:lnTo>
                  <a:pt x="1181" y="328"/>
                </a:lnTo>
                <a:lnTo>
                  <a:pt x="1181" y="327"/>
                </a:lnTo>
                <a:lnTo>
                  <a:pt x="1181" y="327"/>
                </a:lnTo>
                <a:lnTo>
                  <a:pt x="1181" y="327"/>
                </a:lnTo>
                <a:lnTo>
                  <a:pt x="1182" y="327"/>
                </a:lnTo>
                <a:lnTo>
                  <a:pt x="1182" y="327"/>
                </a:lnTo>
                <a:lnTo>
                  <a:pt x="1182" y="327"/>
                </a:lnTo>
                <a:lnTo>
                  <a:pt x="1182" y="326"/>
                </a:lnTo>
                <a:lnTo>
                  <a:pt x="1184" y="326"/>
                </a:lnTo>
                <a:lnTo>
                  <a:pt x="1184" y="326"/>
                </a:lnTo>
                <a:lnTo>
                  <a:pt x="1184" y="326"/>
                </a:lnTo>
                <a:lnTo>
                  <a:pt x="1184" y="326"/>
                </a:lnTo>
                <a:lnTo>
                  <a:pt x="1185" y="326"/>
                </a:lnTo>
                <a:lnTo>
                  <a:pt x="1185" y="325"/>
                </a:lnTo>
                <a:lnTo>
                  <a:pt x="1185" y="325"/>
                </a:lnTo>
                <a:lnTo>
                  <a:pt x="1185" y="325"/>
                </a:lnTo>
                <a:lnTo>
                  <a:pt x="1185" y="325"/>
                </a:lnTo>
                <a:lnTo>
                  <a:pt x="1186" y="325"/>
                </a:lnTo>
                <a:lnTo>
                  <a:pt x="1186" y="324"/>
                </a:lnTo>
                <a:lnTo>
                  <a:pt x="1186" y="324"/>
                </a:lnTo>
                <a:lnTo>
                  <a:pt x="1186" y="324"/>
                </a:lnTo>
                <a:lnTo>
                  <a:pt x="1181" y="319"/>
                </a:lnTo>
                <a:close/>
                <a:moveTo>
                  <a:pt x="1159" y="332"/>
                </a:moveTo>
                <a:lnTo>
                  <a:pt x="1162" y="338"/>
                </a:lnTo>
                <a:lnTo>
                  <a:pt x="1157" y="341"/>
                </a:lnTo>
                <a:lnTo>
                  <a:pt x="1153" y="335"/>
                </a:lnTo>
                <a:lnTo>
                  <a:pt x="1159" y="332"/>
                </a:lnTo>
                <a:close/>
                <a:moveTo>
                  <a:pt x="1135" y="345"/>
                </a:moveTo>
                <a:lnTo>
                  <a:pt x="1139" y="351"/>
                </a:lnTo>
                <a:lnTo>
                  <a:pt x="1132" y="354"/>
                </a:lnTo>
                <a:lnTo>
                  <a:pt x="1129" y="348"/>
                </a:lnTo>
                <a:lnTo>
                  <a:pt x="1135" y="345"/>
                </a:lnTo>
                <a:close/>
                <a:moveTo>
                  <a:pt x="1111" y="358"/>
                </a:moveTo>
                <a:lnTo>
                  <a:pt x="1114" y="364"/>
                </a:lnTo>
                <a:lnTo>
                  <a:pt x="1108" y="367"/>
                </a:lnTo>
                <a:lnTo>
                  <a:pt x="1105" y="361"/>
                </a:lnTo>
                <a:lnTo>
                  <a:pt x="1111" y="358"/>
                </a:lnTo>
                <a:close/>
                <a:moveTo>
                  <a:pt x="1087" y="371"/>
                </a:moveTo>
                <a:lnTo>
                  <a:pt x="1091" y="377"/>
                </a:lnTo>
                <a:lnTo>
                  <a:pt x="1085" y="379"/>
                </a:lnTo>
                <a:lnTo>
                  <a:pt x="1081" y="373"/>
                </a:lnTo>
                <a:lnTo>
                  <a:pt x="1087" y="371"/>
                </a:lnTo>
                <a:close/>
                <a:moveTo>
                  <a:pt x="1064" y="384"/>
                </a:moveTo>
                <a:lnTo>
                  <a:pt x="1067" y="390"/>
                </a:lnTo>
                <a:lnTo>
                  <a:pt x="1060" y="392"/>
                </a:lnTo>
                <a:lnTo>
                  <a:pt x="1058" y="386"/>
                </a:lnTo>
                <a:lnTo>
                  <a:pt x="1064" y="384"/>
                </a:lnTo>
                <a:close/>
                <a:moveTo>
                  <a:pt x="1040" y="395"/>
                </a:moveTo>
                <a:lnTo>
                  <a:pt x="1042" y="401"/>
                </a:lnTo>
                <a:lnTo>
                  <a:pt x="1037" y="405"/>
                </a:lnTo>
                <a:lnTo>
                  <a:pt x="1033" y="399"/>
                </a:lnTo>
                <a:lnTo>
                  <a:pt x="1040" y="395"/>
                </a:lnTo>
                <a:close/>
                <a:moveTo>
                  <a:pt x="1015" y="408"/>
                </a:moveTo>
                <a:lnTo>
                  <a:pt x="1019" y="414"/>
                </a:lnTo>
                <a:lnTo>
                  <a:pt x="1013" y="418"/>
                </a:lnTo>
                <a:lnTo>
                  <a:pt x="1009" y="412"/>
                </a:lnTo>
                <a:lnTo>
                  <a:pt x="1015" y="408"/>
                </a:lnTo>
                <a:close/>
                <a:moveTo>
                  <a:pt x="992" y="421"/>
                </a:moveTo>
                <a:lnTo>
                  <a:pt x="995" y="427"/>
                </a:lnTo>
                <a:lnTo>
                  <a:pt x="989" y="431"/>
                </a:lnTo>
                <a:lnTo>
                  <a:pt x="986" y="425"/>
                </a:lnTo>
                <a:lnTo>
                  <a:pt x="992" y="421"/>
                </a:lnTo>
                <a:close/>
                <a:moveTo>
                  <a:pt x="968" y="434"/>
                </a:moveTo>
                <a:lnTo>
                  <a:pt x="971" y="440"/>
                </a:lnTo>
                <a:lnTo>
                  <a:pt x="965" y="444"/>
                </a:lnTo>
                <a:lnTo>
                  <a:pt x="962" y="438"/>
                </a:lnTo>
                <a:lnTo>
                  <a:pt x="968" y="434"/>
                </a:lnTo>
                <a:close/>
                <a:moveTo>
                  <a:pt x="944" y="447"/>
                </a:moveTo>
                <a:lnTo>
                  <a:pt x="947" y="453"/>
                </a:lnTo>
                <a:lnTo>
                  <a:pt x="941" y="457"/>
                </a:lnTo>
                <a:lnTo>
                  <a:pt x="938" y="451"/>
                </a:lnTo>
                <a:lnTo>
                  <a:pt x="944" y="447"/>
                </a:lnTo>
                <a:close/>
                <a:moveTo>
                  <a:pt x="920" y="460"/>
                </a:moveTo>
                <a:lnTo>
                  <a:pt x="924" y="466"/>
                </a:lnTo>
                <a:lnTo>
                  <a:pt x="918" y="470"/>
                </a:lnTo>
                <a:lnTo>
                  <a:pt x="914" y="462"/>
                </a:lnTo>
                <a:lnTo>
                  <a:pt x="920" y="460"/>
                </a:lnTo>
                <a:close/>
                <a:moveTo>
                  <a:pt x="896" y="473"/>
                </a:moveTo>
                <a:lnTo>
                  <a:pt x="899" y="479"/>
                </a:lnTo>
                <a:lnTo>
                  <a:pt x="893" y="481"/>
                </a:lnTo>
                <a:lnTo>
                  <a:pt x="891" y="475"/>
                </a:lnTo>
                <a:lnTo>
                  <a:pt x="896" y="473"/>
                </a:lnTo>
                <a:close/>
                <a:moveTo>
                  <a:pt x="872" y="485"/>
                </a:moveTo>
                <a:lnTo>
                  <a:pt x="875" y="492"/>
                </a:lnTo>
                <a:lnTo>
                  <a:pt x="869" y="494"/>
                </a:lnTo>
                <a:lnTo>
                  <a:pt x="866" y="488"/>
                </a:lnTo>
                <a:lnTo>
                  <a:pt x="872" y="485"/>
                </a:lnTo>
                <a:close/>
                <a:moveTo>
                  <a:pt x="848" y="498"/>
                </a:moveTo>
                <a:lnTo>
                  <a:pt x="852" y="504"/>
                </a:lnTo>
                <a:lnTo>
                  <a:pt x="846" y="507"/>
                </a:lnTo>
                <a:lnTo>
                  <a:pt x="842" y="501"/>
                </a:lnTo>
                <a:lnTo>
                  <a:pt x="848" y="498"/>
                </a:lnTo>
                <a:close/>
                <a:moveTo>
                  <a:pt x="825" y="511"/>
                </a:moveTo>
                <a:lnTo>
                  <a:pt x="827" y="517"/>
                </a:lnTo>
                <a:lnTo>
                  <a:pt x="821" y="520"/>
                </a:lnTo>
                <a:lnTo>
                  <a:pt x="819" y="514"/>
                </a:lnTo>
                <a:lnTo>
                  <a:pt x="825" y="511"/>
                </a:lnTo>
                <a:close/>
                <a:moveTo>
                  <a:pt x="800" y="524"/>
                </a:moveTo>
                <a:lnTo>
                  <a:pt x="803" y="529"/>
                </a:lnTo>
                <a:lnTo>
                  <a:pt x="798" y="533"/>
                </a:lnTo>
                <a:lnTo>
                  <a:pt x="794" y="527"/>
                </a:lnTo>
                <a:lnTo>
                  <a:pt x="800" y="524"/>
                </a:lnTo>
                <a:close/>
                <a:moveTo>
                  <a:pt x="776" y="537"/>
                </a:moveTo>
                <a:lnTo>
                  <a:pt x="780" y="542"/>
                </a:lnTo>
                <a:lnTo>
                  <a:pt x="774" y="546"/>
                </a:lnTo>
                <a:lnTo>
                  <a:pt x="771" y="540"/>
                </a:lnTo>
                <a:lnTo>
                  <a:pt x="776" y="537"/>
                </a:lnTo>
                <a:close/>
                <a:moveTo>
                  <a:pt x="753" y="549"/>
                </a:moveTo>
                <a:lnTo>
                  <a:pt x="755" y="555"/>
                </a:lnTo>
                <a:lnTo>
                  <a:pt x="749" y="559"/>
                </a:lnTo>
                <a:lnTo>
                  <a:pt x="747" y="553"/>
                </a:lnTo>
                <a:lnTo>
                  <a:pt x="753" y="549"/>
                </a:lnTo>
                <a:close/>
                <a:moveTo>
                  <a:pt x="728" y="562"/>
                </a:moveTo>
                <a:lnTo>
                  <a:pt x="732" y="568"/>
                </a:lnTo>
                <a:lnTo>
                  <a:pt x="726" y="572"/>
                </a:lnTo>
                <a:lnTo>
                  <a:pt x="722" y="565"/>
                </a:lnTo>
                <a:lnTo>
                  <a:pt x="728" y="562"/>
                </a:lnTo>
                <a:close/>
                <a:moveTo>
                  <a:pt x="705" y="575"/>
                </a:moveTo>
                <a:lnTo>
                  <a:pt x="708" y="581"/>
                </a:lnTo>
                <a:lnTo>
                  <a:pt x="702" y="584"/>
                </a:lnTo>
                <a:lnTo>
                  <a:pt x="699" y="578"/>
                </a:lnTo>
                <a:lnTo>
                  <a:pt x="705" y="575"/>
                </a:lnTo>
                <a:close/>
                <a:moveTo>
                  <a:pt x="6" y="412"/>
                </a:moveTo>
                <a:lnTo>
                  <a:pt x="6" y="419"/>
                </a:lnTo>
                <a:lnTo>
                  <a:pt x="0" y="419"/>
                </a:lnTo>
                <a:lnTo>
                  <a:pt x="0" y="412"/>
                </a:lnTo>
                <a:lnTo>
                  <a:pt x="6" y="412"/>
                </a:lnTo>
                <a:close/>
                <a:moveTo>
                  <a:pt x="686" y="3"/>
                </a:moveTo>
                <a:lnTo>
                  <a:pt x="686" y="6"/>
                </a:lnTo>
                <a:lnTo>
                  <a:pt x="685" y="10"/>
                </a:lnTo>
                <a:lnTo>
                  <a:pt x="686" y="6"/>
                </a:lnTo>
                <a:lnTo>
                  <a:pt x="686" y="11"/>
                </a:lnTo>
                <a:lnTo>
                  <a:pt x="685" y="10"/>
                </a:lnTo>
                <a:lnTo>
                  <a:pt x="685" y="10"/>
                </a:lnTo>
                <a:lnTo>
                  <a:pt x="685" y="10"/>
                </a:lnTo>
                <a:lnTo>
                  <a:pt x="683" y="10"/>
                </a:lnTo>
                <a:lnTo>
                  <a:pt x="683" y="10"/>
                </a:lnTo>
                <a:lnTo>
                  <a:pt x="683" y="10"/>
                </a:lnTo>
                <a:lnTo>
                  <a:pt x="683" y="9"/>
                </a:lnTo>
                <a:lnTo>
                  <a:pt x="683" y="9"/>
                </a:lnTo>
                <a:lnTo>
                  <a:pt x="682" y="9"/>
                </a:lnTo>
                <a:lnTo>
                  <a:pt x="682" y="9"/>
                </a:lnTo>
                <a:lnTo>
                  <a:pt x="682" y="9"/>
                </a:lnTo>
                <a:lnTo>
                  <a:pt x="682" y="9"/>
                </a:lnTo>
                <a:lnTo>
                  <a:pt x="682" y="9"/>
                </a:lnTo>
                <a:lnTo>
                  <a:pt x="681" y="9"/>
                </a:lnTo>
                <a:lnTo>
                  <a:pt x="681" y="9"/>
                </a:lnTo>
                <a:lnTo>
                  <a:pt x="681" y="9"/>
                </a:lnTo>
                <a:lnTo>
                  <a:pt x="681" y="9"/>
                </a:lnTo>
                <a:lnTo>
                  <a:pt x="681" y="9"/>
                </a:lnTo>
                <a:lnTo>
                  <a:pt x="683" y="1"/>
                </a:lnTo>
                <a:lnTo>
                  <a:pt x="683" y="1"/>
                </a:lnTo>
                <a:lnTo>
                  <a:pt x="683" y="1"/>
                </a:lnTo>
                <a:lnTo>
                  <a:pt x="683" y="1"/>
                </a:lnTo>
                <a:lnTo>
                  <a:pt x="685" y="3"/>
                </a:lnTo>
                <a:lnTo>
                  <a:pt x="685" y="3"/>
                </a:lnTo>
                <a:lnTo>
                  <a:pt x="685" y="3"/>
                </a:lnTo>
                <a:lnTo>
                  <a:pt x="685" y="3"/>
                </a:lnTo>
                <a:lnTo>
                  <a:pt x="686" y="3"/>
                </a:lnTo>
                <a:lnTo>
                  <a:pt x="686" y="3"/>
                </a:lnTo>
                <a:lnTo>
                  <a:pt x="686" y="3"/>
                </a:lnTo>
                <a:lnTo>
                  <a:pt x="686" y="3"/>
                </a:lnTo>
                <a:lnTo>
                  <a:pt x="686" y="3"/>
                </a:lnTo>
                <a:close/>
                <a:moveTo>
                  <a:pt x="2" y="180"/>
                </a:moveTo>
                <a:lnTo>
                  <a:pt x="2" y="173"/>
                </a:lnTo>
                <a:lnTo>
                  <a:pt x="9" y="173"/>
                </a:lnTo>
                <a:lnTo>
                  <a:pt x="9" y="180"/>
                </a:lnTo>
                <a:lnTo>
                  <a:pt x="2" y="180"/>
                </a:lnTo>
                <a:close/>
                <a:moveTo>
                  <a:pt x="29" y="180"/>
                </a:moveTo>
                <a:lnTo>
                  <a:pt x="29" y="173"/>
                </a:lnTo>
                <a:lnTo>
                  <a:pt x="36" y="173"/>
                </a:lnTo>
                <a:lnTo>
                  <a:pt x="36" y="180"/>
                </a:lnTo>
                <a:lnTo>
                  <a:pt x="29" y="180"/>
                </a:lnTo>
                <a:close/>
                <a:moveTo>
                  <a:pt x="56" y="180"/>
                </a:moveTo>
                <a:lnTo>
                  <a:pt x="56" y="173"/>
                </a:lnTo>
                <a:lnTo>
                  <a:pt x="63" y="173"/>
                </a:lnTo>
                <a:lnTo>
                  <a:pt x="63" y="180"/>
                </a:lnTo>
                <a:lnTo>
                  <a:pt x="56" y="180"/>
                </a:lnTo>
                <a:close/>
                <a:moveTo>
                  <a:pt x="83" y="180"/>
                </a:moveTo>
                <a:lnTo>
                  <a:pt x="83" y="173"/>
                </a:lnTo>
                <a:lnTo>
                  <a:pt x="90" y="173"/>
                </a:lnTo>
                <a:lnTo>
                  <a:pt x="90" y="180"/>
                </a:lnTo>
                <a:lnTo>
                  <a:pt x="83" y="180"/>
                </a:lnTo>
                <a:close/>
                <a:moveTo>
                  <a:pt x="110" y="180"/>
                </a:moveTo>
                <a:lnTo>
                  <a:pt x="110" y="173"/>
                </a:lnTo>
                <a:lnTo>
                  <a:pt x="117" y="173"/>
                </a:lnTo>
                <a:lnTo>
                  <a:pt x="117" y="180"/>
                </a:lnTo>
                <a:lnTo>
                  <a:pt x="110" y="180"/>
                </a:lnTo>
                <a:close/>
                <a:moveTo>
                  <a:pt x="137" y="180"/>
                </a:moveTo>
                <a:lnTo>
                  <a:pt x="137" y="173"/>
                </a:lnTo>
                <a:lnTo>
                  <a:pt x="144" y="173"/>
                </a:lnTo>
                <a:lnTo>
                  <a:pt x="144" y="180"/>
                </a:lnTo>
                <a:lnTo>
                  <a:pt x="137" y="180"/>
                </a:lnTo>
                <a:close/>
                <a:moveTo>
                  <a:pt x="164" y="180"/>
                </a:moveTo>
                <a:lnTo>
                  <a:pt x="164" y="173"/>
                </a:lnTo>
                <a:lnTo>
                  <a:pt x="171" y="173"/>
                </a:lnTo>
                <a:lnTo>
                  <a:pt x="171" y="180"/>
                </a:lnTo>
                <a:lnTo>
                  <a:pt x="164" y="180"/>
                </a:lnTo>
                <a:close/>
                <a:moveTo>
                  <a:pt x="191" y="180"/>
                </a:moveTo>
                <a:lnTo>
                  <a:pt x="191" y="173"/>
                </a:lnTo>
                <a:lnTo>
                  <a:pt x="199" y="173"/>
                </a:lnTo>
                <a:lnTo>
                  <a:pt x="199" y="180"/>
                </a:lnTo>
                <a:lnTo>
                  <a:pt x="191" y="180"/>
                </a:lnTo>
                <a:close/>
                <a:moveTo>
                  <a:pt x="219" y="180"/>
                </a:moveTo>
                <a:lnTo>
                  <a:pt x="219" y="173"/>
                </a:lnTo>
                <a:lnTo>
                  <a:pt x="226" y="173"/>
                </a:lnTo>
                <a:lnTo>
                  <a:pt x="226" y="180"/>
                </a:lnTo>
                <a:lnTo>
                  <a:pt x="219" y="180"/>
                </a:lnTo>
                <a:close/>
                <a:moveTo>
                  <a:pt x="246" y="180"/>
                </a:moveTo>
                <a:lnTo>
                  <a:pt x="246" y="173"/>
                </a:lnTo>
                <a:lnTo>
                  <a:pt x="253" y="173"/>
                </a:lnTo>
                <a:lnTo>
                  <a:pt x="253" y="180"/>
                </a:lnTo>
                <a:lnTo>
                  <a:pt x="246" y="180"/>
                </a:lnTo>
                <a:close/>
                <a:moveTo>
                  <a:pt x="273" y="180"/>
                </a:moveTo>
                <a:lnTo>
                  <a:pt x="273" y="173"/>
                </a:lnTo>
                <a:lnTo>
                  <a:pt x="280" y="173"/>
                </a:lnTo>
                <a:lnTo>
                  <a:pt x="280" y="180"/>
                </a:lnTo>
                <a:lnTo>
                  <a:pt x="273" y="180"/>
                </a:lnTo>
                <a:close/>
                <a:moveTo>
                  <a:pt x="301" y="180"/>
                </a:moveTo>
                <a:lnTo>
                  <a:pt x="301" y="173"/>
                </a:lnTo>
                <a:lnTo>
                  <a:pt x="307" y="173"/>
                </a:lnTo>
                <a:lnTo>
                  <a:pt x="307" y="180"/>
                </a:lnTo>
                <a:lnTo>
                  <a:pt x="301" y="180"/>
                </a:lnTo>
                <a:close/>
                <a:moveTo>
                  <a:pt x="328" y="180"/>
                </a:moveTo>
                <a:lnTo>
                  <a:pt x="328" y="173"/>
                </a:lnTo>
                <a:lnTo>
                  <a:pt x="334" y="173"/>
                </a:lnTo>
                <a:lnTo>
                  <a:pt x="334" y="180"/>
                </a:lnTo>
                <a:lnTo>
                  <a:pt x="328" y="180"/>
                </a:lnTo>
                <a:close/>
                <a:moveTo>
                  <a:pt x="355" y="180"/>
                </a:moveTo>
                <a:lnTo>
                  <a:pt x="355" y="173"/>
                </a:lnTo>
                <a:lnTo>
                  <a:pt x="361" y="173"/>
                </a:lnTo>
                <a:lnTo>
                  <a:pt x="361" y="180"/>
                </a:lnTo>
                <a:lnTo>
                  <a:pt x="355" y="180"/>
                </a:lnTo>
                <a:close/>
                <a:moveTo>
                  <a:pt x="382" y="180"/>
                </a:moveTo>
                <a:lnTo>
                  <a:pt x="382" y="173"/>
                </a:lnTo>
                <a:lnTo>
                  <a:pt x="388" y="173"/>
                </a:lnTo>
                <a:lnTo>
                  <a:pt x="388" y="180"/>
                </a:lnTo>
                <a:lnTo>
                  <a:pt x="382" y="180"/>
                </a:lnTo>
                <a:close/>
                <a:moveTo>
                  <a:pt x="409" y="180"/>
                </a:moveTo>
                <a:lnTo>
                  <a:pt x="409" y="173"/>
                </a:lnTo>
                <a:lnTo>
                  <a:pt x="415" y="173"/>
                </a:lnTo>
                <a:lnTo>
                  <a:pt x="415" y="180"/>
                </a:lnTo>
                <a:lnTo>
                  <a:pt x="409" y="180"/>
                </a:lnTo>
                <a:close/>
                <a:moveTo>
                  <a:pt x="436" y="180"/>
                </a:moveTo>
                <a:lnTo>
                  <a:pt x="436" y="173"/>
                </a:lnTo>
                <a:lnTo>
                  <a:pt x="442" y="173"/>
                </a:lnTo>
                <a:lnTo>
                  <a:pt x="442" y="180"/>
                </a:lnTo>
                <a:lnTo>
                  <a:pt x="436" y="180"/>
                </a:lnTo>
                <a:close/>
                <a:moveTo>
                  <a:pt x="463" y="180"/>
                </a:moveTo>
                <a:lnTo>
                  <a:pt x="463" y="173"/>
                </a:lnTo>
                <a:lnTo>
                  <a:pt x="470" y="173"/>
                </a:lnTo>
                <a:lnTo>
                  <a:pt x="470" y="180"/>
                </a:lnTo>
                <a:lnTo>
                  <a:pt x="463" y="180"/>
                </a:lnTo>
                <a:close/>
                <a:moveTo>
                  <a:pt x="490" y="180"/>
                </a:moveTo>
                <a:lnTo>
                  <a:pt x="490" y="173"/>
                </a:lnTo>
                <a:lnTo>
                  <a:pt x="497" y="173"/>
                </a:lnTo>
                <a:lnTo>
                  <a:pt x="497" y="180"/>
                </a:lnTo>
                <a:lnTo>
                  <a:pt x="490" y="180"/>
                </a:lnTo>
                <a:close/>
                <a:moveTo>
                  <a:pt x="517" y="180"/>
                </a:moveTo>
                <a:lnTo>
                  <a:pt x="517" y="173"/>
                </a:lnTo>
                <a:lnTo>
                  <a:pt x="525" y="173"/>
                </a:lnTo>
                <a:lnTo>
                  <a:pt x="525" y="180"/>
                </a:lnTo>
                <a:lnTo>
                  <a:pt x="517" y="180"/>
                </a:lnTo>
                <a:close/>
                <a:moveTo>
                  <a:pt x="545" y="180"/>
                </a:moveTo>
                <a:lnTo>
                  <a:pt x="545" y="173"/>
                </a:lnTo>
                <a:lnTo>
                  <a:pt x="552" y="173"/>
                </a:lnTo>
                <a:lnTo>
                  <a:pt x="552" y="180"/>
                </a:lnTo>
                <a:lnTo>
                  <a:pt x="545" y="180"/>
                </a:lnTo>
                <a:close/>
                <a:moveTo>
                  <a:pt x="572" y="180"/>
                </a:moveTo>
                <a:lnTo>
                  <a:pt x="572" y="173"/>
                </a:lnTo>
                <a:lnTo>
                  <a:pt x="579" y="173"/>
                </a:lnTo>
                <a:lnTo>
                  <a:pt x="579" y="180"/>
                </a:lnTo>
                <a:lnTo>
                  <a:pt x="572" y="180"/>
                </a:lnTo>
                <a:close/>
                <a:moveTo>
                  <a:pt x="599" y="180"/>
                </a:moveTo>
                <a:lnTo>
                  <a:pt x="599" y="173"/>
                </a:lnTo>
                <a:lnTo>
                  <a:pt x="606" y="173"/>
                </a:lnTo>
                <a:lnTo>
                  <a:pt x="606" y="180"/>
                </a:lnTo>
                <a:lnTo>
                  <a:pt x="599" y="180"/>
                </a:lnTo>
                <a:close/>
                <a:moveTo>
                  <a:pt x="626" y="180"/>
                </a:moveTo>
                <a:lnTo>
                  <a:pt x="626" y="173"/>
                </a:lnTo>
                <a:lnTo>
                  <a:pt x="633" y="173"/>
                </a:lnTo>
                <a:lnTo>
                  <a:pt x="633" y="180"/>
                </a:lnTo>
                <a:lnTo>
                  <a:pt x="626" y="180"/>
                </a:lnTo>
                <a:close/>
                <a:moveTo>
                  <a:pt x="639" y="159"/>
                </a:moveTo>
                <a:lnTo>
                  <a:pt x="632" y="159"/>
                </a:lnTo>
                <a:lnTo>
                  <a:pt x="632" y="152"/>
                </a:lnTo>
                <a:lnTo>
                  <a:pt x="639" y="152"/>
                </a:lnTo>
                <a:lnTo>
                  <a:pt x="639" y="159"/>
                </a:lnTo>
                <a:close/>
                <a:moveTo>
                  <a:pt x="639" y="132"/>
                </a:moveTo>
                <a:lnTo>
                  <a:pt x="632" y="132"/>
                </a:lnTo>
                <a:lnTo>
                  <a:pt x="632" y="125"/>
                </a:lnTo>
                <a:lnTo>
                  <a:pt x="639" y="125"/>
                </a:lnTo>
                <a:lnTo>
                  <a:pt x="639" y="132"/>
                </a:lnTo>
                <a:close/>
                <a:moveTo>
                  <a:pt x="639" y="105"/>
                </a:moveTo>
                <a:lnTo>
                  <a:pt x="632" y="105"/>
                </a:lnTo>
                <a:lnTo>
                  <a:pt x="632" y="98"/>
                </a:lnTo>
                <a:lnTo>
                  <a:pt x="639" y="98"/>
                </a:lnTo>
                <a:lnTo>
                  <a:pt x="639" y="105"/>
                </a:lnTo>
                <a:close/>
                <a:moveTo>
                  <a:pt x="639" y="78"/>
                </a:moveTo>
                <a:lnTo>
                  <a:pt x="632" y="78"/>
                </a:lnTo>
                <a:lnTo>
                  <a:pt x="632" y="71"/>
                </a:lnTo>
                <a:lnTo>
                  <a:pt x="639" y="71"/>
                </a:lnTo>
                <a:lnTo>
                  <a:pt x="639" y="78"/>
                </a:lnTo>
                <a:close/>
                <a:moveTo>
                  <a:pt x="639" y="51"/>
                </a:moveTo>
                <a:lnTo>
                  <a:pt x="632" y="51"/>
                </a:lnTo>
                <a:lnTo>
                  <a:pt x="632" y="44"/>
                </a:lnTo>
                <a:lnTo>
                  <a:pt x="639" y="44"/>
                </a:lnTo>
                <a:lnTo>
                  <a:pt x="639" y="51"/>
                </a:lnTo>
                <a:close/>
                <a:moveTo>
                  <a:pt x="641" y="25"/>
                </a:moveTo>
                <a:lnTo>
                  <a:pt x="641" y="25"/>
                </a:lnTo>
                <a:lnTo>
                  <a:pt x="641" y="25"/>
                </a:lnTo>
                <a:lnTo>
                  <a:pt x="641" y="25"/>
                </a:lnTo>
                <a:lnTo>
                  <a:pt x="641" y="24"/>
                </a:lnTo>
                <a:lnTo>
                  <a:pt x="641" y="24"/>
                </a:lnTo>
                <a:lnTo>
                  <a:pt x="641" y="24"/>
                </a:lnTo>
                <a:lnTo>
                  <a:pt x="641" y="24"/>
                </a:lnTo>
                <a:lnTo>
                  <a:pt x="641" y="23"/>
                </a:lnTo>
                <a:lnTo>
                  <a:pt x="641" y="23"/>
                </a:lnTo>
                <a:lnTo>
                  <a:pt x="641" y="23"/>
                </a:lnTo>
                <a:lnTo>
                  <a:pt x="641" y="23"/>
                </a:lnTo>
                <a:lnTo>
                  <a:pt x="642" y="23"/>
                </a:lnTo>
                <a:lnTo>
                  <a:pt x="642" y="21"/>
                </a:lnTo>
                <a:lnTo>
                  <a:pt x="642" y="21"/>
                </a:lnTo>
                <a:lnTo>
                  <a:pt x="642" y="21"/>
                </a:lnTo>
                <a:lnTo>
                  <a:pt x="642" y="21"/>
                </a:lnTo>
                <a:lnTo>
                  <a:pt x="642" y="21"/>
                </a:lnTo>
                <a:lnTo>
                  <a:pt x="642" y="20"/>
                </a:lnTo>
                <a:lnTo>
                  <a:pt x="642" y="20"/>
                </a:lnTo>
                <a:lnTo>
                  <a:pt x="642" y="20"/>
                </a:lnTo>
                <a:lnTo>
                  <a:pt x="642" y="20"/>
                </a:lnTo>
                <a:lnTo>
                  <a:pt x="643" y="20"/>
                </a:lnTo>
                <a:lnTo>
                  <a:pt x="643" y="20"/>
                </a:lnTo>
                <a:lnTo>
                  <a:pt x="643" y="20"/>
                </a:lnTo>
                <a:lnTo>
                  <a:pt x="638" y="17"/>
                </a:lnTo>
                <a:lnTo>
                  <a:pt x="638" y="17"/>
                </a:lnTo>
                <a:lnTo>
                  <a:pt x="638" y="17"/>
                </a:lnTo>
                <a:lnTo>
                  <a:pt x="638" y="17"/>
                </a:lnTo>
                <a:lnTo>
                  <a:pt x="636" y="17"/>
                </a:lnTo>
                <a:lnTo>
                  <a:pt x="636" y="18"/>
                </a:lnTo>
                <a:lnTo>
                  <a:pt x="636" y="18"/>
                </a:lnTo>
                <a:lnTo>
                  <a:pt x="636" y="18"/>
                </a:lnTo>
                <a:lnTo>
                  <a:pt x="636" y="18"/>
                </a:lnTo>
                <a:lnTo>
                  <a:pt x="636" y="18"/>
                </a:lnTo>
                <a:lnTo>
                  <a:pt x="636" y="19"/>
                </a:lnTo>
                <a:lnTo>
                  <a:pt x="635" y="19"/>
                </a:lnTo>
                <a:lnTo>
                  <a:pt x="635" y="19"/>
                </a:lnTo>
                <a:lnTo>
                  <a:pt x="635" y="19"/>
                </a:lnTo>
                <a:lnTo>
                  <a:pt x="635" y="20"/>
                </a:lnTo>
                <a:lnTo>
                  <a:pt x="635" y="20"/>
                </a:lnTo>
                <a:lnTo>
                  <a:pt x="635" y="20"/>
                </a:lnTo>
                <a:lnTo>
                  <a:pt x="635" y="20"/>
                </a:lnTo>
                <a:lnTo>
                  <a:pt x="635" y="21"/>
                </a:lnTo>
                <a:lnTo>
                  <a:pt x="635" y="21"/>
                </a:lnTo>
                <a:lnTo>
                  <a:pt x="634" y="21"/>
                </a:lnTo>
                <a:lnTo>
                  <a:pt x="634" y="23"/>
                </a:lnTo>
                <a:lnTo>
                  <a:pt x="634" y="23"/>
                </a:lnTo>
                <a:lnTo>
                  <a:pt x="634" y="23"/>
                </a:lnTo>
                <a:lnTo>
                  <a:pt x="634" y="23"/>
                </a:lnTo>
                <a:lnTo>
                  <a:pt x="641" y="25"/>
                </a:lnTo>
                <a:close/>
                <a:moveTo>
                  <a:pt x="656" y="9"/>
                </a:moveTo>
                <a:lnTo>
                  <a:pt x="656" y="9"/>
                </a:lnTo>
                <a:lnTo>
                  <a:pt x="658" y="9"/>
                </a:lnTo>
                <a:lnTo>
                  <a:pt x="658" y="9"/>
                </a:lnTo>
                <a:lnTo>
                  <a:pt x="658" y="7"/>
                </a:lnTo>
                <a:lnTo>
                  <a:pt x="658" y="7"/>
                </a:lnTo>
                <a:lnTo>
                  <a:pt x="658" y="7"/>
                </a:lnTo>
                <a:lnTo>
                  <a:pt x="659" y="7"/>
                </a:lnTo>
                <a:lnTo>
                  <a:pt x="659" y="7"/>
                </a:lnTo>
                <a:lnTo>
                  <a:pt x="659" y="7"/>
                </a:lnTo>
                <a:lnTo>
                  <a:pt x="659" y="7"/>
                </a:lnTo>
                <a:lnTo>
                  <a:pt x="659" y="7"/>
                </a:lnTo>
                <a:lnTo>
                  <a:pt x="660" y="7"/>
                </a:lnTo>
                <a:lnTo>
                  <a:pt x="660" y="7"/>
                </a:lnTo>
                <a:lnTo>
                  <a:pt x="660" y="7"/>
                </a:lnTo>
                <a:lnTo>
                  <a:pt x="660" y="7"/>
                </a:lnTo>
                <a:lnTo>
                  <a:pt x="660" y="7"/>
                </a:lnTo>
                <a:lnTo>
                  <a:pt x="661" y="7"/>
                </a:lnTo>
                <a:lnTo>
                  <a:pt x="661" y="7"/>
                </a:lnTo>
                <a:lnTo>
                  <a:pt x="661" y="7"/>
                </a:lnTo>
                <a:lnTo>
                  <a:pt x="661" y="7"/>
                </a:lnTo>
                <a:lnTo>
                  <a:pt x="661" y="6"/>
                </a:lnTo>
                <a:lnTo>
                  <a:pt x="662" y="6"/>
                </a:lnTo>
                <a:lnTo>
                  <a:pt x="662" y="6"/>
                </a:lnTo>
                <a:lnTo>
                  <a:pt x="662" y="6"/>
                </a:lnTo>
                <a:lnTo>
                  <a:pt x="662" y="6"/>
                </a:lnTo>
                <a:lnTo>
                  <a:pt x="662" y="6"/>
                </a:lnTo>
                <a:lnTo>
                  <a:pt x="661" y="0"/>
                </a:lnTo>
                <a:lnTo>
                  <a:pt x="661" y="0"/>
                </a:lnTo>
                <a:lnTo>
                  <a:pt x="661" y="0"/>
                </a:lnTo>
                <a:lnTo>
                  <a:pt x="661" y="0"/>
                </a:lnTo>
                <a:lnTo>
                  <a:pt x="660" y="0"/>
                </a:lnTo>
                <a:lnTo>
                  <a:pt x="660" y="0"/>
                </a:lnTo>
                <a:lnTo>
                  <a:pt x="660" y="0"/>
                </a:lnTo>
                <a:lnTo>
                  <a:pt x="660" y="0"/>
                </a:lnTo>
                <a:lnTo>
                  <a:pt x="659" y="0"/>
                </a:lnTo>
                <a:lnTo>
                  <a:pt x="659" y="0"/>
                </a:lnTo>
                <a:lnTo>
                  <a:pt x="659" y="0"/>
                </a:lnTo>
                <a:lnTo>
                  <a:pt x="659" y="0"/>
                </a:lnTo>
                <a:lnTo>
                  <a:pt x="658" y="0"/>
                </a:lnTo>
                <a:lnTo>
                  <a:pt x="658" y="0"/>
                </a:lnTo>
                <a:lnTo>
                  <a:pt x="658" y="0"/>
                </a:lnTo>
                <a:lnTo>
                  <a:pt x="658" y="0"/>
                </a:lnTo>
                <a:lnTo>
                  <a:pt x="656" y="1"/>
                </a:lnTo>
                <a:lnTo>
                  <a:pt x="656" y="1"/>
                </a:lnTo>
                <a:lnTo>
                  <a:pt x="656" y="1"/>
                </a:lnTo>
                <a:lnTo>
                  <a:pt x="656" y="1"/>
                </a:lnTo>
                <a:lnTo>
                  <a:pt x="656" y="1"/>
                </a:lnTo>
                <a:lnTo>
                  <a:pt x="655" y="1"/>
                </a:lnTo>
                <a:lnTo>
                  <a:pt x="655" y="1"/>
                </a:lnTo>
                <a:lnTo>
                  <a:pt x="655" y="1"/>
                </a:lnTo>
                <a:lnTo>
                  <a:pt x="655" y="1"/>
                </a:lnTo>
                <a:lnTo>
                  <a:pt x="654" y="1"/>
                </a:lnTo>
                <a:lnTo>
                  <a:pt x="654" y="1"/>
                </a:lnTo>
                <a:lnTo>
                  <a:pt x="656" y="9"/>
                </a:lnTo>
                <a:close/>
                <a:moveTo>
                  <a:pt x="681" y="587"/>
                </a:moveTo>
                <a:lnTo>
                  <a:pt x="681" y="587"/>
                </a:lnTo>
                <a:lnTo>
                  <a:pt x="681" y="587"/>
                </a:lnTo>
                <a:lnTo>
                  <a:pt x="681" y="587"/>
                </a:lnTo>
                <a:lnTo>
                  <a:pt x="680" y="587"/>
                </a:lnTo>
                <a:lnTo>
                  <a:pt x="680" y="587"/>
                </a:lnTo>
                <a:lnTo>
                  <a:pt x="680" y="588"/>
                </a:lnTo>
                <a:lnTo>
                  <a:pt x="680" y="588"/>
                </a:lnTo>
                <a:lnTo>
                  <a:pt x="680" y="588"/>
                </a:lnTo>
                <a:lnTo>
                  <a:pt x="679" y="588"/>
                </a:lnTo>
                <a:lnTo>
                  <a:pt x="679" y="588"/>
                </a:lnTo>
                <a:lnTo>
                  <a:pt x="679" y="588"/>
                </a:lnTo>
                <a:lnTo>
                  <a:pt x="679" y="588"/>
                </a:lnTo>
                <a:lnTo>
                  <a:pt x="679" y="588"/>
                </a:lnTo>
                <a:lnTo>
                  <a:pt x="678" y="588"/>
                </a:lnTo>
                <a:lnTo>
                  <a:pt x="678" y="588"/>
                </a:lnTo>
                <a:lnTo>
                  <a:pt x="678" y="588"/>
                </a:lnTo>
                <a:lnTo>
                  <a:pt x="678" y="588"/>
                </a:lnTo>
                <a:lnTo>
                  <a:pt x="678" y="588"/>
                </a:lnTo>
                <a:lnTo>
                  <a:pt x="676" y="588"/>
                </a:lnTo>
                <a:lnTo>
                  <a:pt x="676" y="588"/>
                </a:lnTo>
                <a:lnTo>
                  <a:pt x="676" y="588"/>
                </a:lnTo>
                <a:lnTo>
                  <a:pt x="676" y="588"/>
                </a:lnTo>
                <a:lnTo>
                  <a:pt x="676" y="589"/>
                </a:lnTo>
                <a:lnTo>
                  <a:pt x="675" y="589"/>
                </a:lnTo>
                <a:lnTo>
                  <a:pt x="675" y="589"/>
                </a:lnTo>
                <a:lnTo>
                  <a:pt x="675" y="589"/>
                </a:lnTo>
                <a:lnTo>
                  <a:pt x="675" y="589"/>
                </a:lnTo>
                <a:lnTo>
                  <a:pt x="676" y="595"/>
                </a:lnTo>
                <a:lnTo>
                  <a:pt x="676" y="595"/>
                </a:lnTo>
                <a:lnTo>
                  <a:pt x="676" y="595"/>
                </a:lnTo>
                <a:lnTo>
                  <a:pt x="678" y="595"/>
                </a:lnTo>
                <a:lnTo>
                  <a:pt x="678" y="595"/>
                </a:lnTo>
                <a:lnTo>
                  <a:pt x="678" y="595"/>
                </a:lnTo>
                <a:lnTo>
                  <a:pt x="678" y="595"/>
                </a:lnTo>
                <a:lnTo>
                  <a:pt x="679" y="595"/>
                </a:lnTo>
                <a:lnTo>
                  <a:pt x="679" y="595"/>
                </a:lnTo>
                <a:lnTo>
                  <a:pt x="679" y="595"/>
                </a:lnTo>
                <a:lnTo>
                  <a:pt x="679" y="595"/>
                </a:lnTo>
                <a:lnTo>
                  <a:pt x="680" y="595"/>
                </a:lnTo>
                <a:lnTo>
                  <a:pt x="680" y="595"/>
                </a:lnTo>
                <a:lnTo>
                  <a:pt x="680" y="595"/>
                </a:lnTo>
                <a:lnTo>
                  <a:pt x="680" y="595"/>
                </a:lnTo>
                <a:lnTo>
                  <a:pt x="681" y="594"/>
                </a:lnTo>
                <a:lnTo>
                  <a:pt x="681" y="594"/>
                </a:lnTo>
                <a:lnTo>
                  <a:pt x="681" y="594"/>
                </a:lnTo>
                <a:lnTo>
                  <a:pt x="681" y="594"/>
                </a:lnTo>
                <a:lnTo>
                  <a:pt x="681" y="594"/>
                </a:lnTo>
                <a:lnTo>
                  <a:pt x="682" y="594"/>
                </a:lnTo>
                <a:lnTo>
                  <a:pt x="682" y="594"/>
                </a:lnTo>
                <a:lnTo>
                  <a:pt x="682" y="594"/>
                </a:lnTo>
                <a:lnTo>
                  <a:pt x="682" y="594"/>
                </a:lnTo>
                <a:lnTo>
                  <a:pt x="683" y="594"/>
                </a:lnTo>
                <a:lnTo>
                  <a:pt x="683" y="594"/>
                </a:lnTo>
                <a:lnTo>
                  <a:pt x="683" y="594"/>
                </a:lnTo>
                <a:lnTo>
                  <a:pt x="683" y="594"/>
                </a:lnTo>
                <a:lnTo>
                  <a:pt x="681" y="587"/>
                </a:lnTo>
                <a:close/>
                <a:moveTo>
                  <a:pt x="658" y="587"/>
                </a:moveTo>
                <a:lnTo>
                  <a:pt x="658" y="587"/>
                </a:lnTo>
                <a:lnTo>
                  <a:pt x="656" y="587"/>
                </a:lnTo>
                <a:lnTo>
                  <a:pt x="656" y="587"/>
                </a:lnTo>
                <a:lnTo>
                  <a:pt x="656" y="587"/>
                </a:lnTo>
                <a:lnTo>
                  <a:pt x="656" y="587"/>
                </a:lnTo>
                <a:lnTo>
                  <a:pt x="656" y="587"/>
                </a:lnTo>
                <a:lnTo>
                  <a:pt x="655" y="587"/>
                </a:lnTo>
                <a:lnTo>
                  <a:pt x="655" y="587"/>
                </a:lnTo>
                <a:lnTo>
                  <a:pt x="655" y="587"/>
                </a:lnTo>
                <a:lnTo>
                  <a:pt x="655" y="587"/>
                </a:lnTo>
                <a:lnTo>
                  <a:pt x="655" y="587"/>
                </a:lnTo>
                <a:lnTo>
                  <a:pt x="655" y="586"/>
                </a:lnTo>
                <a:lnTo>
                  <a:pt x="654" y="586"/>
                </a:lnTo>
                <a:lnTo>
                  <a:pt x="654" y="586"/>
                </a:lnTo>
                <a:lnTo>
                  <a:pt x="654" y="586"/>
                </a:lnTo>
                <a:lnTo>
                  <a:pt x="654" y="586"/>
                </a:lnTo>
                <a:lnTo>
                  <a:pt x="654" y="586"/>
                </a:lnTo>
                <a:lnTo>
                  <a:pt x="653" y="586"/>
                </a:lnTo>
                <a:lnTo>
                  <a:pt x="653" y="586"/>
                </a:lnTo>
                <a:lnTo>
                  <a:pt x="653" y="586"/>
                </a:lnTo>
                <a:lnTo>
                  <a:pt x="653" y="586"/>
                </a:lnTo>
                <a:lnTo>
                  <a:pt x="653" y="586"/>
                </a:lnTo>
                <a:lnTo>
                  <a:pt x="653" y="585"/>
                </a:lnTo>
                <a:lnTo>
                  <a:pt x="652" y="585"/>
                </a:lnTo>
                <a:lnTo>
                  <a:pt x="652" y="585"/>
                </a:lnTo>
                <a:lnTo>
                  <a:pt x="652" y="585"/>
                </a:lnTo>
                <a:lnTo>
                  <a:pt x="652" y="585"/>
                </a:lnTo>
                <a:lnTo>
                  <a:pt x="648" y="591"/>
                </a:lnTo>
                <a:lnTo>
                  <a:pt x="648" y="591"/>
                </a:lnTo>
                <a:lnTo>
                  <a:pt x="648" y="591"/>
                </a:lnTo>
                <a:lnTo>
                  <a:pt x="648" y="591"/>
                </a:lnTo>
                <a:lnTo>
                  <a:pt x="649" y="591"/>
                </a:lnTo>
                <a:lnTo>
                  <a:pt x="649" y="592"/>
                </a:lnTo>
                <a:lnTo>
                  <a:pt x="649" y="592"/>
                </a:lnTo>
                <a:lnTo>
                  <a:pt x="649" y="592"/>
                </a:lnTo>
                <a:lnTo>
                  <a:pt x="650" y="592"/>
                </a:lnTo>
                <a:lnTo>
                  <a:pt x="650" y="592"/>
                </a:lnTo>
                <a:lnTo>
                  <a:pt x="650" y="592"/>
                </a:lnTo>
                <a:lnTo>
                  <a:pt x="650" y="592"/>
                </a:lnTo>
                <a:lnTo>
                  <a:pt x="650" y="592"/>
                </a:lnTo>
                <a:lnTo>
                  <a:pt x="652" y="592"/>
                </a:lnTo>
                <a:lnTo>
                  <a:pt x="652" y="593"/>
                </a:lnTo>
                <a:lnTo>
                  <a:pt x="652" y="593"/>
                </a:lnTo>
                <a:lnTo>
                  <a:pt x="652" y="593"/>
                </a:lnTo>
                <a:lnTo>
                  <a:pt x="653" y="593"/>
                </a:lnTo>
                <a:lnTo>
                  <a:pt x="653" y="593"/>
                </a:lnTo>
                <a:lnTo>
                  <a:pt x="653" y="593"/>
                </a:lnTo>
                <a:lnTo>
                  <a:pt x="653" y="593"/>
                </a:lnTo>
                <a:lnTo>
                  <a:pt x="653" y="593"/>
                </a:lnTo>
                <a:lnTo>
                  <a:pt x="654" y="593"/>
                </a:lnTo>
                <a:lnTo>
                  <a:pt x="654" y="593"/>
                </a:lnTo>
                <a:lnTo>
                  <a:pt x="654" y="594"/>
                </a:lnTo>
                <a:lnTo>
                  <a:pt x="654" y="594"/>
                </a:lnTo>
                <a:lnTo>
                  <a:pt x="655" y="594"/>
                </a:lnTo>
                <a:lnTo>
                  <a:pt x="655" y="594"/>
                </a:lnTo>
                <a:lnTo>
                  <a:pt x="658" y="587"/>
                </a:lnTo>
                <a:close/>
                <a:moveTo>
                  <a:pt x="641" y="571"/>
                </a:moveTo>
                <a:lnTo>
                  <a:pt x="641" y="571"/>
                </a:lnTo>
                <a:lnTo>
                  <a:pt x="640" y="571"/>
                </a:lnTo>
                <a:lnTo>
                  <a:pt x="640" y="571"/>
                </a:lnTo>
                <a:lnTo>
                  <a:pt x="640" y="571"/>
                </a:lnTo>
                <a:lnTo>
                  <a:pt x="640" y="569"/>
                </a:lnTo>
                <a:lnTo>
                  <a:pt x="640" y="569"/>
                </a:lnTo>
                <a:lnTo>
                  <a:pt x="640" y="569"/>
                </a:lnTo>
                <a:lnTo>
                  <a:pt x="640" y="569"/>
                </a:lnTo>
                <a:lnTo>
                  <a:pt x="640" y="568"/>
                </a:lnTo>
                <a:lnTo>
                  <a:pt x="640" y="568"/>
                </a:lnTo>
                <a:lnTo>
                  <a:pt x="640" y="568"/>
                </a:lnTo>
                <a:lnTo>
                  <a:pt x="640" y="568"/>
                </a:lnTo>
                <a:lnTo>
                  <a:pt x="640" y="567"/>
                </a:lnTo>
                <a:lnTo>
                  <a:pt x="640" y="567"/>
                </a:lnTo>
                <a:lnTo>
                  <a:pt x="640" y="567"/>
                </a:lnTo>
                <a:lnTo>
                  <a:pt x="640" y="567"/>
                </a:lnTo>
                <a:lnTo>
                  <a:pt x="640" y="567"/>
                </a:lnTo>
                <a:lnTo>
                  <a:pt x="640" y="566"/>
                </a:lnTo>
                <a:lnTo>
                  <a:pt x="639" y="566"/>
                </a:lnTo>
                <a:lnTo>
                  <a:pt x="639" y="566"/>
                </a:lnTo>
                <a:lnTo>
                  <a:pt x="639" y="566"/>
                </a:lnTo>
                <a:lnTo>
                  <a:pt x="639" y="565"/>
                </a:lnTo>
                <a:lnTo>
                  <a:pt x="639" y="565"/>
                </a:lnTo>
                <a:lnTo>
                  <a:pt x="633" y="566"/>
                </a:lnTo>
                <a:lnTo>
                  <a:pt x="633" y="566"/>
                </a:lnTo>
                <a:lnTo>
                  <a:pt x="633" y="567"/>
                </a:lnTo>
                <a:lnTo>
                  <a:pt x="633" y="567"/>
                </a:lnTo>
                <a:lnTo>
                  <a:pt x="633" y="567"/>
                </a:lnTo>
                <a:lnTo>
                  <a:pt x="633" y="567"/>
                </a:lnTo>
                <a:lnTo>
                  <a:pt x="633" y="568"/>
                </a:lnTo>
                <a:lnTo>
                  <a:pt x="633" y="568"/>
                </a:lnTo>
                <a:lnTo>
                  <a:pt x="633" y="568"/>
                </a:lnTo>
                <a:lnTo>
                  <a:pt x="633" y="569"/>
                </a:lnTo>
                <a:lnTo>
                  <a:pt x="633" y="569"/>
                </a:lnTo>
                <a:lnTo>
                  <a:pt x="633" y="569"/>
                </a:lnTo>
                <a:lnTo>
                  <a:pt x="633" y="569"/>
                </a:lnTo>
                <a:lnTo>
                  <a:pt x="633" y="571"/>
                </a:lnTo>
                <a:lnTo>
                  <a:pt x="633" y="571"/>
                </a:lnTo>
                <a:lnTo>
                  <a:pt x="634" y="571"/>
                </a:lnTo>
                <a:lnTo>
                  <a:pt x="634" y="571"/>
                </a:lnTo>
                <a:lnTo>
                  <a:pt x="634" y="572"/>
                </a:lnTo>
                <a:lnTo>
                  <a:pt x="634" y="572"/>
                </a:lnTo>
                <a:lnTo>
                  <a:pt x="634" y="572"/>
                </a:lnTo>
                <a:lnTo>
                  <a:pt x="634" y="573"/>
                </a:lnTo>
                <a:lnTo>
                  <a:pt x="634" y="573"/>
                </a:lnTo>
                <a:lnTo>
                  <a:pt x="634" y="573"/>
                </a:lnTo>
                <a:lnTo>
                  <a:pt x="634" y="573"/>
                </a:lnTo>
                <a:lnTo>
                  <a:pt x="641" y="571"/>
                </a:lnTo>
                <a:close/>
                <a:moveTo>
                  <a:pt x="639" y="545"/>
                </a:moveTo>
                <a:lnTo>
                  <a:pt x="632" y="545"/>
                </a:lnTo>
                <a:lnTo>
                  <a:pt x="632" y="539"/>
                </a:lnTo>
                <a:lnTo>
                  <a:pt x="639" y="539"/>
                </a:lnTo>
                <a:lnTo>
                  <a:pt x="639" y="545"/>
                </a:lnTo>
                <a:close/>
                <a:moveTo>
                  <a:pt x="639" y="518"/>
                </a:moveTo>
                <a:lnTo>
                  <a:pt x="632" y="518"/>
                </a:lnTo>
                <a:lnTo>
                  <a:pt x="632" y="512"/>
                </a:lnTo>
                <a:lnTo>
                  <a:pt x="639" y="512"/>
                </a:lnTo>
                <a:lnTo>
                  <a:pt x="639" y="518"/>
                </a:lnTo>
                <a:close/>
                <a:moveTo>
                  <a:pt x="639" y="491"/>
                </a:moveTo>
                <a:lnTo>
                  <a:pt x="632" y="491"/>
                </a:lnTo>
                <a:lnTo>
                  <a:pt x="632" y="485"/>
                </a:lnTo>
                <a:lnTo>
                  <a:pt x="639" y="485"/>
                </a:lnTo>
                <a:lnTo>
                  <a:pt x="639" y="491"/>
                </a:lnTo>
                <a:close/>
                <a:moveTo>
                  <a:pt x="639" y="464"/>
                </a:moveTo>
                <a:lnTo>
                  <a:pt x="632" y="464"/>
                </a:lnTo>
                <a:lnTo>
                  <a:pt x="632" y="458"/>
                </a:lnTo>
                <a:lnTo>
                  <a:pt x="639" y="458"/>
                </a:lnTo>
                <a:lnTo>
                  <a:pt x="639" y="464"/>
                </a:lnTo>
                <a:close/>
                <a:moveTo>
                  <a:pt x="639" y="437"/>
                </a:moveTo>
                <a:lnTo>
                  <a:pt x="632" y="437"/>
                </a:lnTo>
                <a:lnTo>
                  <a:pt x="632" y="430"/>
                </a:lnTo>
                <a:lnTo>
                  <a:pt x="639" y="430"/>
                </a:lnTo>
                <a:lnTo>
                  <a:pt x="639" y="437"/>
                </a:lnTo>
                <a:close/>
                <a:moveTo>
                  <a:pt x="629" y="412"/>
                </a:moveTo>
                <a:lnTo>
                  <a:pt x="629" y="419"/>
                </a:lnTo>
                <a:lnTo>
                  <a:pt x="622" y="419"/>
                </a:lnTo>
                <a:lnTo>
                  <a:pt x="622" y="412"/>
                </a:lnTo>
                <a:lnTo>
                  <a:pt x="629" y="412"/>
                </a:lnTo>
                <a:close/>
                <a:moveTo>
                  <a:pt x="602" y="412"/>
                </a:moveTo>
                <a:lnTo>
                  <a:pt x="602" y="419"/>
                </a:lnTo>
                <a:lnTo>
                  <a:pt x="595" y="419"/>
                </a:lnTo>
                <a:lnTo>
                  <a:pt x="595" y="412"/>
                </a:lnTo>
                <a:lnTo>
                  <a:pt x="602" y="412"/>
                </a:lnTo>
                <a:close/>
                <a:moveTo>
                  <a:pt x="575" y="412"/>
                </a:moveTo>
                <a:lnTo>
                  <a:pt x="575" y="419"/>
                </a:lnTo>
                <a:lnTo>
                  <a:pt x="568" y="419"/>
                </a:lnTo>
                <a:lnTo>
                  <a:pt x="568" y="412"/>
                </a:lnTo>
                <a:lnTo>
                  <a:pt x="575" y="412"/>
                </a:lnTo>
                <a:close/>
                <a:moveTo>
                  <a:pt x="548" y="412"/>
                </a:moveTo>
                <a:lnTo>
                  <a:pt x="548" y="419"/>
                </a:lnTo>
                <a:lnTo>
                  <a:pt x="541" y="419"/>
                </a:lnTo>
                <a:lnTo>
                  <a:pt x="541" y="412"/>
                </a:lnTo>
                <a:lnTo>
                  <a:pt x="548" y="412"/>
                </a:lnTo>
                <a:close/>
                <a:moveTo>
                  <a:pt x="521" y="412"/>
                </a:moveTo>
                <a:lnTo>
                  <a:pt x="521" y="419"/>
                </a:lnTo>
                <a:lnTo>
                  <a:pt x="514" y="419"/>
                </a:lnTo>
                <a:lnTo>
                  <a:pt x="514" y="412"/>
                </a:lnTo>
                <a:lnTo>
                  <a:pt x="521" y="412"/>
                </a:lnTo>
                <a:close/>
                <a:moveTo>
                  <a:pt x="494" y="412"/>
                </a:moveTo>
                <a:lnTo>
                  <a:pt x="494" y="419"/>
                </a:lnTo>
                <a:lnTo>
                  <a:pt x="487" y="419"/>
                </a:lnTo>
                <a:lnTo>
                  <a:pt x="487" y="412"/>
                </a:lnTo>
                <a:lnTo>
                  <a:pt x="494" y="412"/>
                </a:lnTo>
                <a:close/>
                <a:moveTo>
                  <a:pt x="467" y="412"/>
                </a:moveTo>
                <a:lnTo>
                  <a:pt x="467" y="419"/>
                </a:lnTo>
                <a:lnTo>
                  <a:pt x="460" y="419"/>
                </a:lnTo>
                <a:lnTo>
                  <a:pt x="460" y="412"/>
                </a:lnTo>
                <a:lnTo>
                  <a:pt x="467" y="412"/>
                </a:lnTo>
                <a:close/>
                <a:moveTo>
                  <a:pt x="440" y="412"/>
                </a:moveTo>
                <a:lnTo>
                  <a:pt x="440" y="419"/>
                </a:lnTo>
                <a:lnTo>
                  <a:pt x="433" y="419"/>
                </a:lnTo>
                <a:lnTo>
                  <a:pt x="433" y="412"/>
                </a:lnTo>
                <a:lnTo>
                  <a:pt x="440" y="412"/>
                </a:lnTo>
                <a:close/>
                <a:moveTo>
                  <a:pt x="413" y="412"/>
                </a:moveTo>
                <a:lnTo>
                  <a:pt x="413" y="419"/>
                </a:lnTo>
                <a:lnTo>
                  <a:pt x="406" y="419"/>
                </a:lnTo>
                <a:lnTo>
                  <a:pt x="406" y="412"/>
                </a:lnTo>
                <a:lnTo>
                  <a:pt x="413" y="412"/>
                </a:lnTo>
                <a:close/>
                <a:moveTo>
                  <a:pt x="386" y="412"/>
                </a:moveTo>
                <a:lnTo>
                  <a:pt x="386" y="419"/>
                </a:lnTo>
                <a:lnTo>
                  <a:pt x="379" y="419"/>
                </a:lnTo>
                <a:lnTo>
                  <a:pt x="379" y="412"/>
                </a:lnTo>
                <a:lnTo>
                  <a:pt x="386" y="412"/>
                </a:lnTo>
                <a:close/>
                <a:moveTo>
                  <a:pt x="359" y="412"/>
                </a:moveTo>
                <a:lnTo>
                  <a:pt x="359" y="419"/>
                </a:lnTo>
                <a:lnTo>
                  <a:pt x="352" y="419"/>
                </a:lnTo>
                <a:lnTo>
                  <a:pt x="352" y="412"/>
                </a:lnTo>
                <a:lnTo>
                  <a:pt x="359" y="412"/>
                </a:lnTo>
                <a:close/>
                <a:moveTo>
                  <a:pt x="332" y="412"/>
                </a:moveTo>
                <a:lnTo>
                  <a:pt x="332" y="419"/>
                </a:lnTo>
                <a:lnTo>
                  <a:pt x="324" y="419"/>
                </a:lnTo>
                <a:lnTo>
                  <a:pt x="324" y="412"/>
                </a:lnTo>
                <a:lnTo>
                  <a:pt x="332" y="412"/>
                </a:lnTo>
                <a:close/>
                <a:moveTo>
                  <a:pt x="304" y="412"/>
                </a:moveTo>
                <a:lnTo>
                  <a:pt x="304" y="419"/>
                </a:lnTo>
                <a:lnTo>
                  <a:pt x="297" y="419"/>
                </a:lnTo>
                <a:lnTo>
                  <a:pt x="297" y="412"/>
                </a:lnTo>
                <a:lnTo>
                  <a:pt x="304" y="412"/>
                </a:lnTo>
                <a:close/>
                <a:moveTo>
                  <a:pt x="277" y="412"/>
                </a:moveTo>
                <a:lnTo>
                  <a:pt x="277" y="419"/>
                </a:lnTo>
                <a:lnTo>
                  <a:pt x="270" y="419"/>
                </a:lnTo>
                <a:lnTo>
                  <a:pt x="270" y="412"/>
                </a:lnTo>
                <a:lnTo>
                  <a:pt x="277" y="412"/>
                </a:lnTo>
                <a:close/>
                <a:moveTo>
                  <a:pt x="250" y="412"/>
                </a:moveTo>
                <a:lnTo>
                  <a:pt x="250" y="419"/>
                </a:lnTo>
                <a:lnTo>
                  <a:pt x="243" y="419"/>
                </a:lnTo>
                <a:lnTo>
                  <a:pt x="243" y="412"/>
                </a:lnTo>
                <a:lnTo>
                  <a:pt x="250" y="412"/>
                </a:lnTo>
                <a:close/>
                <a:moveTo>
                  <a:pt x="223" y="412"/>
                </a:moveTo>
                <a:lnTo>
                  <a:pt x="223" y="419"/>
                </a:lnTo>
                <a:lnTo>
                  <a:pt x="216" y="419"/>
                </a:lnTo>
                <a:lnTo>
                  <a:pt x="216" y="412"/>
                </a:lnTo>
                <a:lnTo>
                  <a:pt x="223" y="412"/>
                </a:lnTo>
                <a:close/>
                <a:moveTo>
                  <a:pt x="196" y="412"/>
                </a:moveTo>
                <a:lnTo>
                  <a:pt x="196" y="419"/>
                </a:lnTo>
                <a:lnTo>
                  <a:pt x="189" y="419"/>
                </a:lnTo>
                <a:lnTo>
                  <a:pt x="189" y="412"/>
                </a:lnTo>
                <a:lnTo>
                  <a:pt x="196" y="412"/>
                </a:lnTo>
                <a:close/>
                <a:moveTo>
                  <a:pt x="169" y="412"/>
                </a:moveTo>
                <a:lnTo>
                  <a:pt x="169" y="419"/>
                </a:lnTo>
                <a:lnTo>
                  <a:pt x="162" y="419"/>
                </a:lnTo>
                <a:lnTo>
                  <a:pt x="162" y="412"/>
                </a:lnTo>
                <a:lnTo>
                  <a:pt x="169" y="412"/>
                </a:lnTo>
                <a:close/>
                <a:moveTo>
                  <a:pt x="141" y="412"/>
                </a:moveTo>
                <a:lnTo>
                  <a:pt x="141" y="419"/>
                </a:lnTo>
                <a:lnTo>
                  <a:pt x="135" y="419"/>
                </a:lnTo>
                <a:lnTo>
                  <a:pt x="135" y="412"/>
                </a:lnTo>
                <a:lnTo>
                  <a:pt x="141" y="412"/>
                </a:lnTo>
                <a:close/>
                <a:moveTo>
                  <a:pt x="114" y="412"/>
                </a:moveTo>
                <a:lnTo>
                  <a:pt x="114" y="419"/>
                </a:lnTo>
                <a:lnTo>
                  <a:pt x="108" y="419"/>
                </a:lnTo>
                <a:lnTo>
                  <a:pt x="108" y="412"/>
                </a:lnTo>
                <a:lnTo>
                  <a:pt x="114" y="412"/>
                </a:lnTo>
                <a:close/>
                <a:moveTo>
                  <a:pt x="87" y="412"/>
                </a:moveTo>
                <a:lnTo>
                  <a:pt x="87" y="419"/>
                </a:lnTo>
                <a:lnTo>
                  <a:pt x="81" y="419"/>
                </a:lnTo>
                <a:lnTo>
                  <a:pt x="81" y="412"/>
                </a:lnTo>
                <a:lnTo>
                  <a:pt x="87" y="412"/>
                </a:lnTo>
                <a:close/>
                <a:moveTo>
                  <a:pt x="60" y="412"/>
                </a:moveTo>
                <a:lnTo>
                  <a:pt x="60" y="419"/>
                </a:lnTo>
                <a:lnTo>
                  <a:pt x="54" y="419"/>
                </a:lnTo>
                <a:lnTo>
                  <a:pt x="54" y="412"/>
                </a:lnTo>
                <a:lnTo>
                  <a:pt x="60" y="412"/>
                </a:lnTo>
                <a:close/>
                <a:moveTo>
                  <a:pt x="33" y="412"/>
                </a:moveTo>
                <a:lnTo>
                  <a:pt x="33" y="419"/>
                </a:lnTo>
                <a:lnTo>
                  <a:pt x="27" y="419"/>
                </a:lnTo>
                <a:lnTo>
                  <a:pt x="27" y="412"/>
                </a:lnTo>
                <a:lnTo>
                  <a:pt x="33" y="41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5" name="Freeform 1038"/>
          <p:cNvSpPr/>
          <p:nvPr/>
        </p:nvSpPr>
        <p:spPr>
          <a:xfrm>
            <a:off x="12452400" y="9928080"/>
            <a:ext cx="4564080" cy="2266920"/>
          </a:xfrm>
          <a:custGeom>
            <a:avLst/>
            <a:gdLst/>
            <a:ahLst/>
            <a:rect l="l" t="t" r="r" b="b"/>
            <a:pathLst>
              <a:path w="1198" h="595">
                <a:moveTo>
                  <a:pt x="686" y="11"/>
                </a:moveTo>
                <a:lnTo>
                  <a:pt x="686" y="6"/>
                </a:lnTo>
                <a:lnTo>
                  <a:pt x="688" y="4"/>
                </a:lnTo>
                <a:lnTo>
                  <a:pt x="686" y="6"/>
                </a:lnTo>
                <a:lnTo>
                  <a:pt x="686" y="3"/>
                </a:lnTo>
                <a:lnTo>
                  <a:pt x="687" y="3"/>
                </a:lnTo>
                <a:lnTo>
                  <a:pt x="687" y="3"/>
                </a:lnTo>
                <a:lnTo>
                  <a:pt x="687" y="4"/>
                </a:lnTo>
                <a:lnTo>
                  <a:pt x="687" y="4"/>
                </a:lnTo>
                <a:lnTo>
                  <a:pt x="687" y="4"/>
                </a:lnTo>
                <a:lnTo>
                  <a:pt x="688" y="4"/>
                </a:lnTo>
                <a:lnTo>
                  <a:pt x="689" y="5"/>
                </a:lnTo>
                <a:lnTo>
                  <a:pt x="687" y="11"/>
                </a:lnTo>
                <a:lnTo>
                  <a:pt x="686" y="11"/>
                </a:lnTo>
                <a:moveTo>
                  <a:pt x="705" y="20"/>
                </a:moveTo>
                <a:lnTo>
                  <a:pt x="708" y="14"/>
                </a:lnTo>
                <a:lnTo>
                  <a:pt x="714" y="18"/>
                </a:lnTo>
                <a:lnTo>
                  <a:pt x="711" y="24"/>
                </a:lnTo>
                <a:lnTo>
                  <a:pt x="705" y="20"/>
                </a:lnTo>
                <a:moveTo>
                  <a:pt x="728" y="33"/>
                </a:moveTo>
                <a:lnTo>
                  <a:pt x="732" y="27"/>
                </a:lnTo>
                <a:lnTo>
                  <a:pt x="738" y="30"/>
                </a:lnTo>
                <a:lnTo>
                  <a:pt x="734" y="37"/>
                </a:lnTo>
                <a:lnTo>
                  <a:pt x="728" y="33"/>
                </a:lnTo>
                <a:moveTo>
                  <a:pt x="753" y="46"/>
                </a:moveTo>
                <a:lnTo>
                  <a:pt x="755" y="40"/>
                </a:lnTo>
                <a:lnTo>
                  <a:pt x="761" y="43"/>
                </a:lnTo>
                <a:lnTo>
                  <a:pt x="759" y="49"/>
                </a:lnTo>
                <a:lnTo>
                  <a:pt x="753" y="46"/>
                </a:lnTo>
                <a:moveTo>
                  <a:pt x="776" y="58"/>
                </a:moveTo>
                <a:lnTo>
                  <a:pt x="780" y="52"/>
                </a:lnTo>
                <a:lnTo>
                  <a:pt x="786" y="56"/>
                </a:lnTo>
                <a:lnTo>
                  <a:pt x="782" y="61"/>
                </a:lnTo>
                <a:lnTo>
                  <a:pt x="776" y="58"/>
                </a:lnTo>
                <a:moveTo>
                  <a:pt x="800" y="71"/>
                </a:moveTo>
                <a:lnTo>
                  <a:pt x="803" y="65"/>
                </a:lnTo>
                <a:lnTo>
                  <a:pt x="809" y="69"/>
                </a:lnTo>
                <a:lnTo>
                  <a:pt x="806" y="74"/>
                </a:lnTo>
                <a:lnTo>
                  <a:pt x="800" y="71"/>
                </a:lnTo>
                <a:moveTo>
                  <a:pt x="825" y="84"/>
                </a:moveTo>
                <a:lnTo>
                  <a:pt x="827" y="78"/>
                </a:lnTo>
                <a:lnTo>
                  <a:pt x="833" y="81"/>
                </a:lnTo>
                <a:lnTo>
                  <a:pt x="831" y="87"/>
                </a:lnTo>
                <a:lnTo>
                  <a:pt x="825" y="84"/>
                </a:lnTo>
                <a:moveTo>
                  <a:pt x="848" y="97"/>
                </a:moveTo>
                <a:lnTo>
                  <a:pt x="852" y="91"/>
                </a:lnTo>
                <a:lnTo>
                  <a:pt x="858" y="94"/>
                </a:lnTo>
                <a:lnTo>
                  <a:pt x="854" y="100"/>
                </a:lnTo>
                <a:lnTo>
                  <a:pt x="848" y="97"/>
                </a:lnTo>
                <a:moveTo>
                  <a:pt x="872" y="110"/>
                </a:moveTo>
                <a:lnTo>
                  <a:pt x="875" y="104"/>
                </a:lnTo>
                <a:lnTo>
                  <a:pt x="881" y="106"/>
                </a:lnTo>
                <a:lnTo>
                  <a:pt x="878" y="112"/>
                </a:lnTo>
                <a:lnTo>
                  <a:pt x="872" y="110"/>
                </a:lnTo>
                <a:moveTo>
                  <a:pt x="896" y="123"/>
                </a:moveTo>
                <a:lnTo>
                  <a:pt x="899" y="116"/>
                </a:lnTo>
                <a:lnTo>
                  <a:pt x="905" y="119"/>
                </a:lnTo>
                <a:lnTo>
                  <a:pt x="902" y="125"/>
                </a:lnTo>
                <a:lnTo>
                  <a:pt x="896" y="123"/>
                </a:lnTo>
                <a:moveTo>
                  <a:pt x="920" y="134"/>
                </a:moveTo>
                <a:lnTo>
                  <a:pt x="924" y="128"/>
                </a:lnTo>
                <a:lnTo>
                  <a:pt x="929" y="132"/>
                </a:lnTo>
                <a:lnTo>
                  <a:pt x="926" y="138"/>
                </a:lnTo>
                <a:lnTo>
                  <a:pt x="920" y="134"/>
                </a:lnTo>
                <a:moveTo>
                  <a:pt x="944" y="147"/>
                </a:moveTo>
                <a:lnTo>
                  <a:pt x="947" y="141"/>
                </a:lnTo>
                <a:lnTo>
                  <a:pt x="953" y="145"/>
                </a:lnTo>
                <a:lnTo>
                  <a:pt x="949" y="151"/>
                </a:lnTo>
                <a:lnTo>
                  <a:pt x="944" y="147"/>
                </a:lnTo>
                <a:moveTo>
                  <a:pt x="968" y="160"/>
                </a:moveTo>
                <a:lnTo>
                  <a:pt x="971" y="154"/>
                </a:lnTo>
                <a:lnTo>
                  <a:pt x="976" y="158"/>
                </a:lnTo>
                <a:lnTo>
                  <a:pt x="974" y="164"/>
                </a:lnTo>
                <a:lnTo>
                  <a:pt x="968" y="160"/>
                </a:lnTo>
                <a:moveTo>
                  <a:pt x="992" y="173"/>
                </a:moveTo>
                <a:lnTo>
                  <a:pt x="995" y="167"/>
                </a:lnTo>
                <a:lnTo>
                  <a:pt x="1001" y="170"/>
                </a:lnTo>
                <a:lnTo>
                  <a:pt x="998" y="177"/>
                </a:lnTo>
                <a:lnTo>
                  <a:pt x="992" y="173"/>
                </a:lnTo>
                <a:moveTo>
                  <a:pt x="1015" y="186"/>
                </a:moveTo>
                <a:lnTo>
                  <a:pt x="1019" y="180"/>
                </a:lnTo>
                <a:lnTo>
                  <a:pt x="1025" y="183"/>
                </a:lnTo>
                <a:lnTo>
                  <a:pt x="1021" y="188"/>
                </a:lnTo>
                <a:lnTo>
                  <a:pt x="1015" y="186"/>
                </a:lnTo>
                <a:moveTo>
                  <a:pt x="1040" y="198"/>
                </a:moveTo>
                <a:lnTo>
                  <a:pt x="1042" y="192"/>
                </a:lnTo>
                <a:lnTo>
                  <a:pt x="1048" y="196"/>
                </a:lnTo>
                <a:lnTo>
                  <a:pt x="1046" y="201"/>
                </a:lnTo>
                <a:lnTo>
                  <a:pt x="1040" y="198"/>
                </a:lnTo>
                <a:moveTo>
                  <a:pt x="1064" y="211"/>
                </a:moveTo>
                <a:lnTo>
                  <a:pt x="1067" y="205"/>
                </a:lnTo>
                <a:lnTo>
                  <a:pt x="1073" y="208"/>
                </a:lnTo>
                <a:lnTo>
                  <a:pt x="1069" y="214"/>
                </a:lnTo>
                <a:lnTo>
                  <a:pt x="1064" y="211"/>
                </a:lnTo>
                <a:moveTo>
                  <a:pt x="1087" y="224"/>
                </a:moveTo>
                <a:lnTo>
                  <a:pt x="1091" y="218"/>
                </a:lnTo>
                <a:lnTo>
                  <a:pt x="1097" y="221"/>
                </a:lnTo>
                <a:lnTo>
                  <a:pt x="1093" y="227"/>
                </a:lnTo>
                <a:lnTo>
                  <a:pt x="1087" y="224"/>
                </a:lnTo>
                <a:moveTo>
                  <a:pt x="1112" y="237"/>
                </a:moveTo>
                <a:lnTo>
                  <a:pt x="1114" y="231"/>
                </a:lnTo>
                <a:lnTo>
                  <a:pt x="1120" y="234"/>
                </a:lnTo>
                <a:lnTo>
                  <a:pt x="1118" y="240"/>
                </a:lnTo>
                <a:lnTo>
                  <a:pt x="1112" y="237"/>
                </a:lnTo>
                <a:moveTo>
                  <a:pt x="1135" y="250"/>
                </a:moveTo>
                <a:lnTo>
                  <a:pt x="1139" y="244"/>
                </a:lnTo>
                <a:lnTo>
                  <a:pt x="1145" y="246"/>
                </a:lnTo>
                <a:lnTo>
                  <a:pt x="1141" y="252"/>
                </a:lnTo>
                <a:lnTo>
                  <a:pt x="1135" y="250"/>
                </a:lnTo>
                <a:moveTo>
                  <a:pt x="1159" y="263"/>
                </a:moveTo>
                <a:lnTo>
                  <a:pt x="1162" y="255"/>
                </a:lnTo>
                <a:lnTo>
                  <a:pt x="1168" y="259"/>
                </a:lnTo>
                <a:lnTo>
                  <a:pt x="1165" y="265"/>
                </a:lnTo>
                <a:lnTo>
                  <a:pt x="1159" y="263"/>
                </a:lnTo>
                <a:moveTo>
                  <a:pt x="1181" y="275"/>
                </a:moveTo>
                <a:lnTo>
                  <a:pt x="1181" y="275"/>
                </a:lnTo>
                <a:lnTo>
                  <a:pt x="1182" y="275"/>
                </a:lnTo>
                <a:lnTo>
                  <a:pt x="1182" y="275"/>
                </a:lnTo>
                <a:lnTo>
                  <a:pt x="1182" y="277"/>
                </a:lnTo>
                <a:lnTo>
                  <a:pt x="1182" y="277"/>
                </a:lnTo>
                <a:lnTo>
                  <a:pt x="1182" y="277"/>
                </a:lnTo>
                <a:lnTo>
                  <a:pt x="1182" y="277"/>
                </a:lnTo>
                <a:lnTo>
                  <a:pt x="1184" y="277"/>
                </a:lnTo>
                <a:lnTo>
                  <a:pt x="1184" y="277"/>
                </a:lnTo>
                <a:lnTo>
                  <a:pt x="1184" y="278"/>
                </a:lnTo>
                <a:lnTo>
                  <a:pt x="1184" y="278"/>
                </a:lnTo>
                <a:lnTo>
                  <a:pt x="1184" y="278"/>
                </a:lnTo>
                <a:lnTo>
                  <a:pt x="1184" y="278"/>
                </a:lnTo>
                <a:lnTo>
                  <a:pt x="1184" y="278"/>
                </a:lnTo>
                <a:lnTo>
                  <a:pt x="1185" y="278"/>
                </a:lnTo>
                <a:lnTo>
                  <a:pt x="1185" y="279"/>
                </a:lnTo>
                <a:lnTo>
                  <a:pt x="1185" y="279"/>
                </a:lnTo>
                <a:lnTo>
                  <a:pt x="1185" y="279"/>
                </a:lnTo>
                <a:lnTo>
                  <a:pt x="1185" y="279"/>
                </a:lnTo>
                <a:lnTo>
                  <a:pt x="1185" y="279"/>
                </a:lnTo>
                <a:lnTo>
                  <a:pt x="1185" y="279"/>
                </a:lnTo>
                <a:lnTo>
                  <a:pt x="1185" y="280"/>
                </a:lnTo>
                <a:lnTo>
                  <a:pt x="1186" y="280"/>
                </a:lnTo>
                <a:lnTo>
                  <a:pt x="1186" y="280"/>
                </a:lnTo>
                <a:lnTo>
                  <a:pt x="1191" y="277"/>
                </a:lnTo>
                <a:lnTo>
                  <a:pt x="1191" y="277"/>
                </a:lnTo>
                <a:lnTo>
                  <a:pt x="1191" y="275"/>
                </a:lnTo>
                <a:lnTo>
                  <a:pt x="1191" y="275"/>
                </a:lnTo>
                <a:lnTo>
                  <a:pt x="1191" y="275"/>
                </a:lnTo>
                <a:lnTo>
                  <a:pt x="1191" y="275"/>
                </a:lnTo>
                <a:lnTo>
                  <a:pt x="1191" y="274"/>
                </a:lnTo>
                <a:lnTo>
                  <a:pt x="1190" y="274"/>
                </a:lnTo>
                <a:lnTo>
                  <a:pt x="1190" y="274"/>
                </a:lnTo>
                <a:lnTo>
                  <a:pt x="1190" y="274"/>
                </a:lnTo>
                <a:lnTo>
                  <a:pt x="1190" y="274"/>
                </a:lnTo>
                <a:lnTo>
                  <a:pt x="1190" y="273"/>
                </a:lnTo>
                <a:lnTo>
                  <a:pt x="1188" y="273"/>
                </a:lnTo>
                <a:lnTo>
                  <a:pt x="1188" y="273"/>
                </a:lnTo>
                <a:lnTo>
                  <a:pt x="1188" y="273"/>
                </a:lnTo>
                <a:lnTo>
                  <a:pt x="1188" y="273"/>
                </a:lnTo>
                <a:lnTo>
                  <a:pt x="1188" y="272"/>
                </a:lnTo>
                <a:lnTo>
                  <a:pt x="1188" y="272"/>
                </a:lnTo>
                <a:lnTo>
                  <a:pt x="1187" y="272"/>
                </a:lnTo>
                <a:lnTo>
                  <a:pt x="1187" y="272"/>
                </a:lnTo>
                <a:lnTo>
                  <a:pt x="1187" y="272"/>
                </a:lnTo>
                <a:lnTo>
                  <a:pt x="1187" y="271"/>
                </a:lnTo>
                <a:lnTo>
                  <a:pt x="1187" y="271"/>
                </a:lnTo>
                <a:lnTo>
                  <a:pt x="1187" y="271"/>
                </a:lnTo>
                <a:lnTo>
                  <a:pt x="1186" y="271"/>
                </a:lnTo>
                <a:lnTo>
                  <a:pt x="1181" y="275"/>
                </a:lnTo>
                <a:moveTo>
                  <a:pt x="1191" y="298"/>
                </a:moveTo>
                <a:lnTo>
                  <a:pt x="1191" y="298"/>
                </a:lnTo>
                <a:lnTo>
                  <a:pt x="1191" y="298"/>
                </a:lnTo>
                <a:lnTo>
                  <a:pt x="1191" y="298"/>
                </a:lnTo>
                <a:lnTo>
                  <a:pt x="1191" y="298"/>
                </a:lnTo>
                <a:lnTo>
                  <a:pt x="1191" y="299"/>
                </a:lnTo>
                <a:lnTo>
                  <a:pt x="1191" y="299"/>
                </a:lnTo>
                <a:lnTo>
                  <a:pt x="1191" y="299"/>
                </a:lnTo>
                <a:lnTo>
                  <a:pt x="1191" y="299"/>
                </a:lnTo>
                <a:lnTo>
                  <a:pt x="1191" y="299"/>
                </a:lnTo>
                <a:lnTo>
                  <a:pt x="1191" y="300"/>
                </a:lnTo>
                <a:lnTo>
                  <a:pt x="1191" y="300"/>
                </a:lnTo>
                <a:lnTo>
                  <a:pt x="1191" y="300"/>
                </a:lnTo>
                <a:lnTo>
                  <a:pt x="1191" y="300"/>
                </a:lnTo>
                <a:lnTo>
                  <a:pt x="1191" y="300"/>
                </a:lnTo>
                <a:lnTo>
                  <a:pt x="1191" y="301"/>
                </a:lnTo>
                <a:lnTo>
                  <a:pt x="1191" y="301"/>
                </a:lnTo>
                <a:lnTo>
                  <a:pt x="1191" y="301"/>
                </a:lnTo>
                <a:lnTo>
                  <a:pt x="1191" y="301"/>
                </a:lnTo>
                <a:lnTo>
                  <a:pt x="1191" y="301"/>
                </a:lnTo>
                <a:lnTo>
                  <a:pt x="1191" y="303"/>
                </a:lnTo>
                <a:lnTo>
                  <a:pt x="1191" y="303"/>
                </a:lnTo>
                <a:lnTo>
                  <a:pt x="1191" y="303"/>
                </a:lnTo>
                <a:lnTo>
                  <a:pt x="1191" y="303"/>
                </a:lnTo>
                <a:lnTo>
                  <a:pt x="1191" y="303"/>
                </a:lnTo>
                <a:lnTo>
                  <a:pt x="1191" y="304"/>
                </a:lnTo>
                <a:lnTo>
                  <a:pt x="1191" y="304"/>
                </a:lnTo>
                <a:lnTo>
                  <a:pt x="1198" y="305"/>
                </a:lnTo>
                <a:lnTo>
                  <a:pt x="1198" y="305"/>
                </a:lnTo>
                <a:lnTo>
                  <a:pt x="1198" y="305"/>
                </a:lnTo>
                <a:lnTo>
                  <a:pt x="1198" y="304"/>
                </a:lnTo>
                <a:lnTo>
                  <a:pt x="1198" y="304"/>
                </a:lnTo>
                <a:lnTo>
                  <a:pt x="1198" y="304"/>
                </a:lnTo>
                <a:lnTo>
                  <a:pt x="1198" y="304"/>
                </a:lnTo>
                <a:lnTo>
                  <a:pt x="1198" y="303"/>
                </a:lnTo>
                <a:lnTo>
                  <a:pt x="1198" y="303"/>
                </a:lnTo>
                <a:lnTo>
                  <a:pt x="1198" y="303"/>
                </a:lnTo>
                <a:lnTo>
                  <a:pt x="1198" y="303"/>
                </a:lnTo>
                <a:lnTo>
                  <a:pt x="1198" y="301"/>
                </a:lnTo>
                <a:lnTo>
                  <a:pt x="1198" y="301"/>
                </a:lnTo>
                <a:lnTo>
                  <a:pt x="1198" y="301"/>
                </a:lnTo>
                <a:lnTo>
                  <a:pt x="1198" y="300"/>
                </a:lnTo>
                <a:lnTo>
                  <a:pt x="1198" y="300"/>
                </a:lnTo>
                <a:lnTo>
                  <a:pt x="1198" y="300"/>
                </a:lnTo>
                <a:lnTo>
                  <a:pt x="1198" y="300"/>
                </a:lnTo>
                <a:lnTo>
                  <a:pt x="1198" y="299"/>
                </a:lnTo>
                <a:lnTo>
                  <a:pt x="1198" y="299"/>
                </a:lnTo>
                <a:lnTo>
                  <a:pt x="1198" y="299"/>
                </a:lnTo>
                <a:lnTo>
                  <a:pt x="1198" y="299"/>
                </a:lnTo>
                <a:lnTo>
                  <a:pt x="1198" y="298"/>
                </a:lnTo>
                <a:lnTo>
                  <a:pt x="1198" y="298"/>
                </a:lnTo>
                <a:lnTo>
                  <a:pt x="1198" y="298"/>
                </a:lnTo>
                <a:lnTo>
                  <a:pt x="1198" y="298"/>
                </a:lnTo>
                <a:lnTo>
                  <a:pt x="1198" y="298"/>
                </a:lnTo>
                <a:lnTo>
                  <a:pt x="1191" y="298"/>
                </a:lnTo>
                <a:moveTo>
                  <a:pt x="1181" y="319"/>
                </a:moveTo>
                <a:lnTo>
                  <a:pt x="1181" y="319"/>
                </a:lnTo>
                <a:lnTo>
                  <a:pt x="1181" y="319"/>
                </a:lnTo>
                <a:lnTo>
                  <a:pt x="1181" y="319"/>
                </a:lnTo>
                <a:lnTo>
                  <a:pt x="1181" y="319"/>
                </a:lnTo>
                <a:lnTo>
                  <a:pt x="1181" y="320"/>
                </a:lnTo>
                <a:lnTo>
                  <a:pt x="1180" y="320"/>
                </a:lnTo>
                <a:lnTo>
                  <a:pt x="1180" y="320"/>
                </a:lnTo>
                <a:lnTo>
                  <a:pt x="1180" y="320"/>
                </a:lnTo>
                <a:lnTo>
                  <a:pt x="1180" y="320"/>
                </a:lnTo>
                <a:lnTo>
                  <a:pt x="1180" y="320"/>
                </a:lnTo>
                <a:lnTo>
                  <a:pt x="1179" y="320"/>
                </a:lnTo>
                <a:lnTo>
                  <a:pt x="1179" y="321"/>
                </a:lnTo>
                <a:lnTo>
                  <a:pt x="1179" y="321"/>
                </a:lnTo>
                <a:lnTo>
                  <a:pt x="1179" y="321"/>
                </a:lnTo>
                <a:lnTo>
                  <a:pt x="1179" y="321"/>
                </a:lnTo>
                <a:lnTo>
                  <a:pt x="1178" y="321"/>
                </a:lnTo>
                <a:lnTo>
                  <a:pt x="1178" y="321"/>
                </a:lnTo>
                <a:lnTo>
                  <a:pt x="1178" y="321"/>
                </a:lnTo>
                <a:lnTo>
                  <a:pt x="1178" y="323"/>
                </a:lnTo>
                <a:lnTo>
                  <a:pt x="1178" y="323"/>
                </a:lnTo>
                <a:lnTo>
                  <a:pt x="1177" y="323"/>
                </a:lnTo>
                <a:lnTo>
                  <a:pt x="1177" y="323"/>
                </a:lnTo>
                <a:lnTo>
                  <a:pt x="1180" y="328"/>
                </a:lnTo>
                <a:lnTo>
                  <a:pt x="1180" y="328"/>
                </a:lnTo>
                <a:lnTo>
                  <a:pt x="1181" y="328"/>
                </a:lnTo>
                <a:lnTo>
                  <a:pt x="1181" y="327"/>
                </a:lnTo>
                <a:lnTo>
                  <a:pt x="1181" y="327"/>
                </a:lnTo>
                <a:lnTo>
                  <a:pt x="1181" y="327"/>
                </a:lnTo>
                <a:lnTo>
                  <a:pt x="1182" y="327"/>
                </a:lnTo>
                <a:lnTo>
                  <a:pt x="1182" y="327"/>
                </a:lnTo>
                <a:lnTo>
                  <a:pt x="1182" y="327"/>
                </a:lnTo>
                <a:lnTo>
                  <a:pt x="1182" y="326"/>
                </a:lnTo>
                <a:lnTo>
                  <a:pt x="1184" y="326"/>
                </a:lnTo>
                <a:lnTo>
                  <a:pt x="1184" y="326"/>
                </a:lnTo>
                <a:lnTo>
                  <a:pt x="1184" y="326"/>
                </a:lnTo>
                <a:lnTo>
                  <a:pt x="1184" y="326"/>
                </a:lnTo>
                <a:lnTo>
                  <a:pt x="1185" y="326"/>
                </a:lnTo>
                <a:lnTo>
                  <a:pt x="1185" y="325"/>
                </a:lnTo>
                <a:lnTo>
                  <a:pt x="1185" y="325"/>
                </a:lnTo>
                <a:lnTo>
                  <a:pt x="1185" y="325"/>
                </a:lnTo>
                <a:lnTo>
                  <a:pt x="1185" y="325"/>
                </a:lnTo>
                <a:lnTo>
                  <a:pt x="1186" y="325"/>
                </a:lnTo>
                <a:lnTo>
                  <a:pt x="1186" y="324"/>
                </a:lnTo>
                <a:lnTo>
                  <a:pt x="1186" y="324"/>
                </a:lnTo>
                <a:lnTo>
                  <a:pt x="1186" y="324"/>
                </a:lnTo>
                <a:lnTo>
                  <a:pt x="1181" y="319"/>
                </a:lnTo>
                <a:moveTo>
                  <a:pt x="1159" y="332"/>
                </a:moveTo>
                <a:lnTo>
                  <a:pt x="1162" y="338"/>
                </a:lnTo>
                <a:lnTo>
                  <a:pt x="1157" y="341"/>
                </a:lnTo>
                <a:lnTo>
                  <a:pt x="1153" y="335"/>
                </a:lnTo>
                <a:lnTo>
                  <a:pt x="1159" y="332"/>
                </a:lnTo>
                <a:moveTo>
                  <a:pt x="1135" y="345"/>
                </a:moveTo>
                <a:lnTo>
                  <a:pt x="1139" y="351"/>
                </a:lnTo>
                <a:lnTo>
                  <a:pt x="1132" y="354"/>
                </a:lnTo>
                <a:lnTo>
                  <a:pt x="1129" y="348"/>
                </a:lnTo>
                <a:lnTo>
                  <a:pt x="1135" y="345"/>
                </a:lnTo>
                <a:moveTo>
                  <a:pt x="1111" y="358"/>
                </a:moveTo>
                <a:lnTo>
                  <a:pt x="1114" y="364"/>
                </a:lnTo>
                <a:lnTo>
                  <a:pt x="1108" y="367"/>
                </a:lnTo>
                <a:lnTo>
                  <a:pt x="1105" y="361"/>
                </a:lnTo>
                <a:lnTo>
                  <a:pt x="1111" y="358"/>
                </a:lnTo>
                <a:moveTo>
                  <a:pt x="1087" y="371"/>
                </a:moveTo>
                <a:lnTo>
                  <a:pt x="1091" y="377"/>
                </a:lnTo>
                <a:lnTo>
                  <a:pt x="1085" y="379"/>
                </a:lnTo>
                <a:lnTo>
                  <a:pt x="1081" y="373"/>
                </a:lnTo>
                <a:lnTo>
                  <a:pt x="1087" y="371"/>
                </a:lnTo>
                <a:moveTo>
                  <a:pt x="1064" y="384"/>
                </a:moveTo>
                <a:lnTo>
                  <a:pt x="1067" y="390"/>
                </a:lnTo>
                <a:lnTo>
                  <a:pt x="1060" y="392"/>
                </a:lnTo>
                <a:lnTo>
                  <a:pt x="1058" y="386"/>
                </a:lnTo>
                <a:lnTo>
                  <a:pt x="1064" y="384"/>
                </a:lnTo>
                <a:moveTo>
                  <a:pt x="1040" y="395"/>
                </a:moveTo>
                <a:lnTo>
                  <a:pt x="1042" y="401"/>
                </a:lnTo>
                <a:lnTo>
                  <a:pt x="1037" y="405"/>
                </a:lnTo>
                <a:lnTo>
                  <a:pt x="1033" y="399"/>
                </a:lnTo>
                <a:lnTo>
                  <a:pt x="1040" y="395"/>
                </a:lnTo>
                <a:moveTo>
                  <a:pt x="1015" y="408"/>
                </a:moveTo>
                <a:lnTo>
                  <a:pt x="1019" y="414"/>
                </a:lnTo>
                <a:lnTo>
                  <a:pt x="1013" y="418"/>
                </a:lnTo>
                <a:lnTo>
                  <a:pt x="1009" y="412"/>
                </a:lnTo>
                <a:lnTo>
                  <a:pt x="1015" y="408"/>
                </a:lnTo>
                <a:moveTo>
                  <a:pt x="992" y="421"/>
                </a:moveTo>
                <a:lnTo>
                  <a:pt x="995" y="427"/>
                </a:lnTo>
                <a:lnTo>
                  <a:pt x="989" y="431"/>
                </a:lnTo>
                <a:lnTo>
                  <a:pt x="986" y="425"/>
                </a:lnTo>
                <a:lnTo>
                  <a:pt x="992" y="421"/>
                </a:lnTo>
                <a:moveTo>
                  <a:pt x="968" y="434"/>
                </a:moveTo>
                <a:lnTo>
                  <a:pt x="971" y="440"/>
                </a:lnTo>
                <a:lnTo>
                  <a:pt x="965" y="444"/>
                </a:lnTo>
                <a:lnTo>
                  <a:pt x="962" y="438"/>
                </a:lnTo>
                <a:lnTo>
                  <a:pt x="968" y="434"/>
                </a:lnTo>
                <a:moveTo>
                  <a:pt x="944" y="447"/>
                </a:moveTo>
                <a:lnTo>
                  <a:pt x="947" y="453"/>
                </a:lnTo>
                <a:lnTo>
                  <a:pt x="941" y="457"/>
                </a:lnTo>
                <a:lnTo>
                  <a:pt x="938" y="451"/>
                </a:lnTo>
                <a:lnTo>
                  <a:pt x="944" y="447"/>
                </a:lnTo>
                <a:moveTo>
                  <a:pt x="920" y="460"/>
                </a:moveTo>
                <a:lnTo>
                  <a:pt x="924" y="466"/>
                </a:lnTo>
                <a:lnTo>
                  <a:pt x="918" y="470"/>
                </a:lnTo>
                <a:lnTo>
                  <a:pt x="914" y="462"/>
                </a:lnTo>
                <a:lnTo>
                  <a:pt x="920" y="460"/>
                </a:lnTo>
                <a:moveTo>
                  <a:pt x="896" y="473"/>
                </a:moveTo>
                <a:lnTo>
                  <a:pt x="899" y="479"/>
                </a:lnTo>
                <a:lnTo>
                  <a:pt x="893" y="481"/>
                </a:lnTo>
                <a:lnTo>
                  <a:pt x="891" y="475"/>
                </a:lnTo>
                <a:lnTo>
                  <a:pt x="896" y="473"/>
                </a:lnTo>
                <a:moveTo>
                  <a:pt x="872" y="485"/>
                </a:moveTo>
                <a:lnTo>
                  <a:pt x="875" y="492"/>
                </a:lnTo>
                <a:lnTo>
                  <a:pt x="869" y="494"/>
                </a:lnTo>
                <a:lnTo>
                  <a:pt x="866" y="488"/>
                </a:lnTo>
                <a:lnTo>
                  <a:pt x="872" y="485"/>
                </a:lnTo>
                <a:moveTo>
                  <a:pt x="848" y="498"/>
                </a:moveTo>
                <a:lnTo>
                  <a:pt x="852" y="504"/>
                </a:lnTo>
                <a:lnTo>
                  <a:pt x="846" y="507"/>
                </a:lnTo>
                <a:lnTo>
                  <a:pt x="842" y="501"/>
                </a:lnTo>
                <a:lnTo>
                  <a:pt x="848" y="498"/>
                </a:lnTo>
                <a:moveTo>
                  <a:pt x="825" y="511"/>
                </a:moveTo>
                <a:lnTo>
                  <a:pt x="827" y="517"/>
                </a:lnTo>
                <a:lnTo>
                  <a:pt x="821" y="520"/>
                </a:lnTo>
                <a:lnTo>
                  <a:pt x="819" y="514"/>
                </a:lnTo>
                <a:lnTo>
                  <a:pt x="825" y="511"/>
                </a:lnTo>
                <a:moveTo>
                  <a:pt x="800" y="524"/>
                </a:moveTo>
                <a:lnTo>
                  <a:pt x="803" y="529"/>
                </a:lnTo>
                <a:lnTo>
                  <a:pt x="798" y="533"/>
                </a:lnTo>
                <a:lnTo>
                  <a:pt x="794" y="527"/>
                </a:lnTo>
                <a:lnTo>
                  <a:pt x="800" y="524"/>
                </a:lnTo>
                <a:moveTo>
                  <a:pt x="776" y="537"/>
                </a:moveTo>
                <a:lnTo>
                  <a:pt x="780" y="542"/>
                </a:lnTo>
                <a:lnTo>
                  <a:pt x="774" y="546"/>
                </a:lnTo>
                <a:lnTo>
                  <a:pt x="771" y="540"/>
                </a:lnTo>
                <a:lnTo>
                  <a:pt x="776" y="537"/>
                </a:lnTo>
                <a:moveTo>
                  <a:pt x="753" y="549"/>
                </a:moveTo>
                <a:lnTo>
                  <a:pt x="755" y="555"/>
                </a:lnTo>
                <a:lnTo>
                  <a:pt x="749" y="559"/>
                </a:lnTo>
                <a:lnTo>
                  <a:pt x="747" y="553"/>
                </a:lnTo>
                <a:lnTo>
                  <a:pt x="753" y="549"/>
                </a:lnTo>
                <a:moveTo>
                  <a:pt x="728" y="562"/>
                </a:moveTo>
                <a:lnTo>
                  <a:pt x="732" y="568"/>
                </a:lnTo>
                <a:lnTo>
                  <a:pt x="726" y="572"/>
                </a:lnTo>
                <a:lnTo>
                  <a:pt x="722" y="565"/>
                </a:lnTo>
                <a:lnTo>
                  <a:pt x="728" y="562"/>
                </a:lnTo>
                <a:moveTo>
                  <a:pt x="705" y="575"/>
                </a:moveTo>
                <a:lnTo>
                  <a:pt x="708" y="581"/>
                </a:lnTo>
                <a:lnTo>
                  <a:pt x="702" y="584"/>
                </a:lnTo>
                <a:lnTo>
                  <a:pt x="699" y="578"/>
                </a:lnTo>
                <a:lnTo>
                  <a:pt x="705" y="575"/>
                </a:lnTo>
                <a:moveTo>
                  <a:pt x="6" y="412"/>
                </a:moveTo>
                <a:lnTo>
                  <a:pt x="6" y="419"/>
                </a:lnTo>
                <a:lnTo>
                  <a:pt x="0" y="419"/>
                </a:lnTo>
                <a:lnTo>
                  <a:pt x="0" y="412"/>
                </a:lnTo>
                <a:lnTo>
                  <a:pt x="6" y="412"/>
                </a:lnTo>
                <a:moveTo>
                  <a:pt x="686" y="3"/>
                </a:moveTo>
                <a:lnTo>
                  <a:pt x="686" y="6"/>
                </a:lnTo>
                <a:lnTo>
                  <a:pt x="685" y="10"/>
                </a:lnTo>
                <a:lnTo>
                  <a:pt x="686" y="6"/>
                </a:lnTo>
                <a:lnTo>
                  <a:pt x="686" y="11"/>
                </a:lnTo>
                <a:lnTo>
                  <a:pt x="685" y="10"/>
                </a:lnTo>
                <a:lnTo>
                  <a:pt x="685" y="10"/>
                </a:lnTo>
                <a:lnTo>
                  <a:pt x="685" y="10"/>
                </a:lnTo>
                <a:lnTo>
                  <a:pt x="683" y="10"/>
                </a:lnTo>
                <a:lnTo>
                  <a:pt x="683" y="10"/>
                </a:lnTo>
                <a:lnTo>
                  <a:pt x="683" y="10"/>
                </a:lnTo>
                <a:lnTo>
                  <a:pt x="683" y="9"/>
                </a:lnTo>
                <a:lnTo>
                  <a:pt x="683" y="9"/>
                </a:lnTo>
                <a:lnTo>
                  <a:pt x="682" y="9"/>
                </a:lnTo>
                <a:lnTo>
                  <a:pt x="682" y="9"/>
                </a:lnTo>
                <a:lnTo>
                  <a:pt x="682" y="9"/>
                </a:lnTo>
                <a:lnTo>
                  <a:pt x="682" y="9"/>
                </a:lnTo>
                <a:lnTo>
                  <a:pt x="682" y="9"/>
                </a:lnTo>
                <a:lnTo>
                  <a:pt x="681" y="9"/>
                </a:lnTo>
                <a:lnTo>
                  <a:pt x="681" y="9"/>
                </a:lnTo>
                <a:lnTo>
                  <a:pt x="681" y="9"/>
                </a:lnTo>
                <a:lnTo>
                  <a:pt x="681" y="9"/>
                </a:lnTo>
                <a:lnTo>
                  <a:pt x="681" y="9"/>
                </a:lnTo>
                <a:lnTo>
                  <a:pt x="683" y="1"/>
                </a:lnTo>
                <a:lnTo>
                  <a:pt x="683" y="1"/>
                </a:lnTo>
                <a:lnTo>
                  <a:pt x="683" y="1"/>
                </a:lnTo>
                <a:lnTo>
                  <a:pt x="683" y="1"/>
                </a:lnTo>
                <a:lnTo>
                  <a:pt x="685" y="3"/>
                </a:lnTo>
                <a:lnTo>
                  <a:pt x="685" y="3"/>
                </a:lnTo>
                <a:lnTo>
                  <a:pt x="685" y="3"/>
                </a:lnTo>
                <a:lnTo>
                  <a:pt x="685" y="3"/>
                </a:lnTo>
                <a:lnTo>
                  <a:pt x="686" y="3"/>
                </a:lnTo>
                <a:lnTo>
                  <a:pt x="686" y="3"/>
                </a:lnTo>
                <a:lnTo>
                  <a:pt x="686" y="3"/>
                </a:lnTo>
                <a:lnTo>
                  <a:pt x="686" y="3"/>
                </a:lnTo>
                <a:lnTo>
                  <a:pt x="686" y="3"/>
                </a:lnTo>
                <a:moveTo>
                  <a:pt x="2" y="180"/>
                </a:moveTo>
                <a:lnTo>
                  <a:pt x="2" y="173"/>
                </a:lnTo>
                <a:lnTo>
                  <a:pt x="9" y="173"/>
                </a:lnTo>
                <a:lnTo>
                  <a:pt x="9" y="180"/>
                </a:lnTo>
                <a:lnTo>
                  <a:pt x="2" y="180"/>
                </a:lnTo>
                <a:moveTo>
                  <a:pt x="29" y="180"/>
                </a:moveTo>
                <a:lnTo>
                  <a:pt x="29" y="173"/>
                </a:lnTo>
                <a:lnTo>
                  <a:pt x="36" y="173"/>
                </a:lnTo>
                <a:lnTo>
                  <a:pt x="36" y="180"/>
                </a:lnTo>
                <a:lnTo>
                  <a:pt x="29" y="180"/>
                </a:lnTo>
                <a:moveTo>
                  <a:pt x="56" y="180"/>
                </a:moveTo>
                <a:lnTo>
                  <a:pt x="56" y="173"/>
                </a:lnTo>
                <a:lnTo>
                  <a:pt x="63" y="173"/>
                </a:lnTo>
                <a:lnTo>
                  <a:pt x="63" y="180"/>
                </a:lnTo>
                <a:lnTo>
                  <a:pt x="56" y="180"/>
                </a:lnTo>
                <a:moveTo>
                  <a:pt x="83" y="180"/>
                </a:moveTo>
                <a:lnTo>
                  <a:pt x="83" y="173"/>
                </a:lnTo>
                <a:lnTo>
                  <a:pt x="90" y="173"/>
                </a:lnTo>
                <a:lnTo>
                  <a:pt x="90" y="180"/>
                </a:lnTo>
                <a:lnTo>
                  <a:pt x="83" y="180"/>
                </a:lnTo>
                <a:moveTo>
                  <a:pt x="110" y="180"/>
                </a:moveTo>
                <a:lnTo>
                  <a:pt x="110" y="173"/>
                </a:lnTo>
                <a:lnTo>
                  <a:pt x="117" y="173"/>
                </a:lnTo>
                <a:lnTo>
                  <a:pt x="117" y="180"/>
                </a:lnTo>
                <a:lnTo>
                  <a:pt x="110" y="180"/>
                </a:lnTo>
                <a:moveTo>
                  <a:pt x="137" y="180"/>
                </a:moveTo>
                <a:lnTo>
                  <a:pt x="137" y="173"/>
                </a:lnTo>
                <a:lnTo>
                  <a:pt x="144" y="173"/>
                </a:lnTo>
                <a:lnTo>
                  <a:pt x="144" y="180"/>
                </a:lnTo>
                <a:lnTo>
                  <a:pt x="137" y="180"/>
                </a:lnTo>
                <a:moveTo>
                  <a:pt x="164" y="180"/>
                </a:moveTo>
                <a:lnTo>
                  <a:pt x="164" y="173"/>
                </a:lnTo>
                <a:lnTo>
                  <a:pt x="171" y="173"/>
                </a:lnTo>
                <a:lnTo>
                  <a:pt x="171" y="180"/>
                </a:lnTo>
                <a:lnTo>
                  <a:pt x="164" y="180"/>
                </a:lnTo>
                <a:moveTo>
                  <a:pt x="191" y="180"/>
                </a:moveTo>
                <a:lnTo>
                  <a:pt x="191" y="173"/>
                </a:lnTo>
                <a:lnTo>
                  <a:pt x="199" y="173"/>
                </a:lnTo>
                <a:lnTo>
                  <a:pt x="199" y="180"/>
                </a:lnTo>
                <a:lnTo>
                  <a:pt x="191" y="180"/>
                </a:lnTo>
                <a:moveTo>
                  <a:pt x="219" y="180"/>
                </a:moveTo>
                <a:lnTo>
                  <a:pt x="219" y="173"/>
                </a:lnTo>
                <a:lnTo>
                  <a:pt x="226" y="173"/>
                </a:lnTo>
                <a:lnTo>
                  <a:pt x="226" y="180"/>
                </a:lnTo>
                <a:lnTo>
                  <a:pt x="219" y="180"/>
                </a:lnTo>
                <a:moveTo>
                  <a:pt x="246" y="180"/>
                </a:moveTo>
                <a:lnTo>
                  <a:pt x="246" y="173"/>
                </a:lnTo>
                <a:lnTo>
                  <a:pt x="253" y="173"/>
                </a:lnTo>
                <a:lnTo>
                  <a:pt x="253" y="180"/>
                </a:lnTo>
                <a:lnTo>
                  <a:pt x="246" y="180"/>
                </a:lnTo>
                <a:moveTo>
                  <a:pt x="273" y="180"/>
                </a:moveTo>
                <a:lnTo>
                  <a:pt x="273" y="173"/>
                </a:lnTo>
                <a:lnTo>
                  <a:pt x="280" y="173"/>
                </a:lnTo>
                <a:lnTo>
                  <a:pt x="280" y="180"/>
                </a:lnTo>
                <a:lnTo>
                  <a:pt x="273" y="180"/>
                </a:lnTo>
                <a:moveTo>
                  <a:pt x="301" y="180"/>
                </a:moveTo>
                <a:lnTo>
                  <a:pt x="301" y="173"/>
                </a:lnTo>
                <a:lnTo>
                  <a:pt x="307" y="173"/>
                </a:lnTo>
                <a:lnTo>
                  <a:pt x="307" y="180"/>
                </a:lnTo>
                <a:lnTo>
                  <a:pt x="301" y="180"/>
                </a:lnTo>
                <a:moveTo>
                  <a:pt x="328" y="180"/>
                </a:moveTo>
                <a:lnTo>
                  <a:pt x="328" y="173"/>
                </a:lnTo>
                <a:lnTo>
                  <a:pt x="334" y="173"/>
                </a:lnTo>
                <a:lnTo>
                  <a:pt x="334" y="180"/>
                </a:lnTo>
                <a:lnTo>
                  <a:pt x="328" y="180"/>
                </a:lnTo>
                <a:moveTo>
                  <a:pt x="355" y="180"/>
                </a:moveTo>
                <a:lnTo>
                  <a:pt x="355" y="173"/>
                </a:lnTo>
                <a:lnTo>
                  <a:pt x="361" y="173"/>
                </a:lnTo>
                <a:lnTo>
                  <a:pt x="361" y="180"/>
                </a:lnTo>
                <a:lnTo>
                  <a:pt x="355" y="180"/>
                </a:lnTo>
                <a:moveTo>
                  <a:pt x="382" y="180"/>
                </a:moveTo>
                <a:lnTo>
                  <a:pt x="382" y="173"/>
                </a:lnTo>
                <a:lnTo>
                  <a:pt x="388" y="173"/>
                </a:lnTo>
                <a:lnTo>
                  <a:pt x="388" y="180"/>
                </a:lnTo>
                <a:lnTo>
                  <a:pt x="382" y="180"/>
                </a:lnTo>
                <a:moveTo>
                  <a:pt x="409" y="180"/>
                </a:moveTo>
                <a:lnTo>
                  <a:pt x="409" y="173"/>
                </a:lnTo>
                <a:lnTo>
                  <a:pt x="415" y="173"/>
                </a:lnTo>
                <a:lnTo>
                  <a:pt x="415" y="180"/>
                </a:lnTo>
                <a:lnTo>
                  <a:pt x="409" y="180"/>
                </a:lnTo>
                <a:moveTo>
                  <a:pt x="436" y="180"/>
                </a:moveTo>
                <a:lnTo>
                  <a:pt x="436" y="173"/>
                </a:lnTo>
                <a:lnTo>
                  <a:pt x="442" y="173"/>
                </a:lnTo>
                <a:lnTo>
                  <a:pt x="442" y="180"/>
                </a:lnTo>
                <a:lnTo>
                  <a:pt x="436" y="180"/>
                </a:lnTo>
                <a:moveTo>
                  <a:pt x="463" y="180"/>
                </a:moveTo>
                <a:lnTo>
                  <a:pt x="463" y="173"/>
                </a:lnTo>
                <a:lnTo>
                  <a:pt x="470" y="173"/>
                </a:lnTo>
                <a:lnTo>
                  <a:pt x="470" y="180"/>
                </a:lnTo>
                <a:lnTo>
                  <a:pt x="463" y="180"/>
                </a:lnTo>
                <a:moveTo>
                  <a:pt x="490" y="180"/>
                </a:moveTo>
                <a:lnTo>
                  <a:pt x="490" y="173"/>
                </a:lnTo>
                <a:lnTo>
                  <a:pt x="497" y="173"/>
                </a:lnTo>
                <a:lnTo>
                  <a:pt x="497" y="180"/>
                </a:lnTo>
                <a:lnTo>
                  <a:pt x="490" y="180"/>
                </a:lnTo>
                <a:moveTo>
                  <a:pt x="517" y="180"/>
                </a:moveTo>
                <a:lnTo>
                  <a:pt x="517" y="173"/>
                </a:lnTo>
                <a:lnTo>
                  <a:pt x="525" y="173"/>
                </a:lnTo>
                <a:lnTo>
                  <a:pt x="525" y="180"/>
                </a:lnTo>
                <a:lnTo>
                  <a:pt x="517" y="180"/>
                </a:lnTo>
                <a:moveTo>
                  <a:pt x="545" y="180"/>
                </a:moveTo>
                <a:lnTo>
                  <a:pt x="545" y="173"/>
                </a:lnTo>
                <a:lnTo>
                  <a:pt x="552" y="173"/>
                </a:lnTo>
                <a:lnTo>
                  <a:pt x="552" y="180"/>
                </a:lnTo>
                <a:lnTo>
                  <a:pt x="545" y="180"/>
                </a:lnTo>
                <a:moveTo>
                  <a:pt x="572" y="180"/>
                </a:moveTo>
                <a:lnTo>
                  <a:pt x="572" y="173"/>
                </a:lnTo>
                <a:lnTo>
                  <a:pt x="579" y="173"/>
                </a:lnTo>
                <a:lnTo>
                  <a:pt x="579" y="180"/>
                </a:lnTo>
                <a:lnTo>
                  <a:pt x="572" y="180"/>
                </a:lnTo>
                <a:moveTo>
                  <a:pt x="599" y="180"/>
                </a:moveTo>
                <a:lnTo>
                  <a:pt x="599" y="173"/>
                </a:lnTo>
                <a:lnTo>
                  <a:pt x="606" y="173"/>
                </a:lnTo>
                <a:lnTo>
                  <a:pt x="606" y="180"/>
                </a:lnTo>
                <a:lnTo>
                  <a:pt x="599" y="180"/>
                </a:lnTo>
                <a:moveTo>
                  <a:pt x="626" y="180"/>
                </a:moveTo>
                <a:lnTo>
                  <a:pt x="626" y="173"/>
                </a:lnTo>
                <a:lnTo>
                  <a:pt x="633" y="173"/>
                </a:lnTo>
                <a:lnTo>
                  <a:pt x="633" y="180"/>
                </a:lnTo>
                <a:lnTo>
                  <a:pt x="626" y="180"/>
                </a:lnTo>
                <a:moveTo>
                  <a:pt x="639" y="159"/>
                </a:moveTo>
                <a:lnTo>
                  <a:pt x="632" y="159"/>
                </a:lnTo>
                <a:lnTo>
                  <a:pt x="632" y="152"/>
                </a:lnTo>
                <a:lnTo>
                  <a:pt x="639" y="152"/>
                </a:lnTo>
                <a:lnTo>
                  <a:pt x="639" y="159"/>
                </a:lnTo>
                <a:moveTo>
                  <a:pt x="639" y="132"/>
                </a:moveTo>
                <a:lnTo>
                  <a:pt x="632" y="132"/>
                </a:lnTo>
                <a:lnTo>
                  <a:pt x="632" y="125"/>
                </a:lnTo>
                <a:lnTo>
                  <a:pt x="639" y="125"/>
                </a:lnTo>
                <a:lnTo>
                  <a:pt x="639" y="132"/>
                </a:lnTo>
                <a:moveTo>
                  <a:pt x="639" y="105"/>
                </a:moveTo>
                <a:lnTo>
                  <a:pt x="632" y="105"/>
                </a:lnTo>
                <a:lnTo>
                  <a:pt x="632" y="98"/>
                </a:lnTo>
                <a:lnTo>
                  <a:pt x="639" y="98"/>
                </a:lnTo>
                <a:lnTo>
                  <a:pt x="639" y="105"/>
                </a:lnTo>
                <a:moveTo>
                  <a:pt x="639" y="78"/>
                </a:moveTo>
                <a:lnTo>
                  <a:pt x="632" y="78"/>
                </a:lnTo>
                <a:lnTo>
                  <a:pt x="632" y="71"/>
                </a:lnTo>
                <a:lnTo>
                  <a:pt x="639" y="71"/>
                </a:lnTo>
                <a:lnTo>
                  <a:pt x="639" y="78"/>
                </a:lnTo>
                <a:moveTo>
                  <a:pt x="639" y="51"/>
                </a:moveTo>
                <a:lnTo>
                  <a:pt x="632" y="51"/>
                </a:lnTo>
                <a:lnTo>
                  <a:pt x="632" y="44"/>
                </a:lnTo>
                <a:lnTo>
                  <a:pt x="639" y="44"/>
                </a:lnTo>
                <a:lnTo>
                  <a:pt x="639" y="51"/>
                </a:lnTo>
                <a:moveTo>
                  <a:pt x="641" y="25"/>
                </a:moveTo>
                <a:lnTo>
                  <a:pt x="641" y="25"/>
                </a:lnTo>
                <a:lnTo>
                  <a:pt x="641" y="25"/>
                </a:lnTo>
                <a:lnTo>
                  <a:pt x="641" y="25"/>
                </a:lnTo>
                <a:lnTo>
                  <a:pt x="641" y="24"/>
                </a:lnTo>
                <a:lnTo>
                  <a:pt x="641" y="24"/>
                </a:lnTo>
                <a:lnTo>
                  <a:pt x="641" y="24"/>
                </a:lnTo>
                <a:lnTo>
                  <a:pt x="641" y="24"/>
                </a:lnTo>
                <a:lnTo>
                  <a:pt x="641" y="23"/>
                </a:lnTo>
                <a:lnTo>
                  <a:pt x="641" y="23"/>
                </a:lnTo>
                <a:lnTo>
                  <a:pt x="641" y="23"/>
                </a:lnTo>
                <a:lnTo>
                  <a:pt x="641" y="23"/>
                </a:lnTo>
                <a:lnTo>
                  <a:pt x="642" y="23"/>
                </a:lnTo>
                <a:lnTo>
                  <a:pt x="642" y="21"/>
                </a:lnTo>
                <a:lnTo>
                  <a:pt x="642" y="21"/>
                </a:lnTo>
                <a:lnTo>
                  <a:pt x="642" y="21"/>
                </a:lnTo>
                <a:lnTo>
                  <a:pt x="642" y="21"/>
                </a:lnTo>
                <a:lnTo>
                  <a:pt x="642" y="21"/>
                </a:lnTo>
                <a:lnTo>
                  <a:pt x="642" y="20"/>
                </a:lnTo>
                <a:lnTo>
                  <a:pt x="642" y="20"/>
                </a:lnTo>
                <a:lnTo>
                  <a:pt x="642" y="20"/>
                </a:lnTo>
                <a:lnTo>
                  <a:pt x="642" y="20"/>
                </a:lnTo>
                <a:lnTo>
                  <a:pt x="643" y="20"/>
                </a:lnTo>
                <a:lnTo>
                  <a:pt x="643" y="20"/>
                </a:lnTo>
                <a:lnTo>
                  <a:pt x="643" y="20"/>
                </a:lnTo>
                <a:lnTo>
                  <a:pt x="638" y="17"/>
                </a:lnTo>
                <a:lnTo>
                  <a:pt x="638" y="17"/>
                </a:lnTo>
                <a:lnTo>
                  <a:pt x="638" y="17"/>
                </a:lnTo>
                <a:lnTo>
                  <a:pt x="638" y="17"/>
                </a:lnTo>
                <a:lnTo>
                  <a:pt x="636" y="17"/>
                </a:lnTo>
                <a:lnTo>
                  <a:pt x="636" y="18"/>
                </a:lnTo>
                <a:lnTo>
                  <a:pt x="636" y="18"/>
                </a:lnTo>
                <a:lnTo>
                  <a:pt x="636" y="18"/>
                </a:lnTo>
                <a:lnTo>
                  <a:pt x="636" y="18"/>
                </a:lnTo>
                <a:lnTo>
                  <a:pt x="636" y="18"/>
                </a:lnTo>
                <a:lnTo>
                  <a:pt x="636" y="19"/>
                </a:lnTo>
                <a:lnTo>
                  <a:pt x="635" y="19"/>
                </a:lnTo>
                <a:lnTo>
                  <a:pt x="635" y="19"/>
                </a:lnTo>
                <a:lnTo>
                  <a:pt x="635" y="19"/>
                </a:lnTo>
                <a:lnTo>
                  <a:pt x="635" y="20"/>
                </a:lnTo>
                <a:lnTo>
                  <a:pt x="635" y="20"/>
                </a:lnTo>
                <a:lnTo>
                  <a:pt x="635" y="20"/>
                </a:lnTo>
                <a:lnTo>
                  <a:pt x="635" y="20"/>
                </a:lnTo>
                <a:lnTo>
                  <a:pt x="635" y="21"/>
                </a:lnTo>
                <a:lnTo>
                  <a:pt x="635" y="21"/>
                </a:lnTo>
                <a:lnTo>
                  <a:pt x="634" y="21"/>
                </a:lnTo>
                <a:lnTo>
                  <a:pt x="634" y="23"/>
                </a:lnTo>
                <a:lnTo>
                  <a:pt x="634" y="23"/>
                </a:lnTo>
                <a:lnTo>
                  <a:pt x="634" y="23"/>
                </a:lnTo>
                <a:lnTo>
                  <a:pt x="634" y="23"/>
                </a:lnTo>
                <a:lnTo>
                  <a:pt x="641" y="25"/>
                </a:lnTo>
                <a:moveTo>
                  <a:pt x="656" y="9"/>
                </a:moveTo>
                <a:lnTo>
                  <a:pt x="656" y="9"/>
                </a:lnTo>
                <a:lnTo>
                  <a:pt x="658" y="9"/>
                </a:lnTo>
                <a:lnTo>
                  <a:pt x="658" y="9"/>
                </a:lnTo>
                <a:lnTo>
                  <a:pt x="658" y="7"/>
                </a:lnTo>
                <a:lnTo>
                  <a:pt x="658" y="7"/>
                </a:lnTo>
                <a:lnTo>
                  <a:pt x="658" y="7"/>
                </a:lnTo>
                <a:lnTo>
                  <a:pt x="659" y="7"/>
                </a:lnTo>
                <a:lnTo>
                  <a:pt x="659" y="7"/>
                </a:lnTo>
                <a:lnTo>
                  <a:pt x="659" y="7"/>
                </a:lnTo>
                <a:lnTo>
                  <a:pt x="659" y="7"/>
                </a:lnTo>
                <a:lnTo>
                  <a:pt x="659" y="7"/>
                </a:lnTo>
                <a:lnTo>
                  <a:pt x="660" y="7"/>
                </a:lnTo>
                <a:lnTo>
                  <a:pt x="660" y="7"/>
                </a:lnTo>
                <a:lnTo>
                  <a:pt x="660" y="7"/>
                </a:lnTo>
                <a:lnTo>
                  <a:pt x="660" y="7"/>
                </a:lnTo>
                <a:lnTo>
                  <a:pt x="660" y="7"/>
                </a:lnTo>
                <a:lnTo>
                  <a:pt x="661" y="7"/>
                </a:lnTo>
                <a:lnTo>
                  <a:pt x="661" y="7"/>
                </a:lnTo>
                <a:lnTo>
                  <a:pt x="661" y="7"/>
                </a:lnTo>
                <a:lnTo>
                  <a:pt x="661" y="7"/>
                </a:lnTo>
                <a:lnTo>
                  <a:pt x="661" y="6"/>
                </a:lnTo>
                <a:lnTo>
                  <a:pt x="662" y="6"/>
                </a:lnTo>
                <a:lnTo>
                  <a:pt x="662" y="6"/>
                </a:lnTo>
                <a:lnTo>
                  <a:pt x="662" y="6"/>
                </a:lnTo>
                <a:lnTo>
                  <a:pt x="662" y="6"/>
                </a:lnTo>
                <a:lnTo>
                  <a:pt x="662" y="6"/>
                </a:lnTo>
                <a:lnTo>
                  <a:pt x="661" y="0"/>
                </a:lnTo>
                <a:lnTo>
                  <a:pt x="661" y="0"/>
                </a:lnTo>
                <a:lnTo>
                  <a:pt x="661" y="0"/>
                </a:lnTo>
                <a:lnTo>
                  <a:pt x="661" y="0"/>
                </a:lnTo>
                <a:lnTo>
                  <a:pt x="660" y="0"/>
                </a:lnTo>
                <a:lnTo>
                  <a:pt x="660" y="0"/>
                </a:lnTo>
                <a:lnTo>
                  <a:pt x="660" y="0"/>
                </a:lnTo>
                <a:lnTo>
                  <a:pt x="660" y="0"/>
                </a:lnTo>
                <a:lnTo>
                  <a:pt x="659" y="0"/>
                </a:lnTo>
                <a:lnTo>
                  <a:pt x="659" y="0"/>
                </a:lnTo>
                <a:lnTo>
                  <a:pt x="659" y="0"/>
                </a:lnTo>
                <a:lnTo>
                  <a:pt x="659" y="0"/>
                </a:lnTo>
                <a:lnTo>
                  <a:pt x="658" y="0"/>
                </a:lnTo>
                <a:lnTo>
                  <a:pt x="658" y="0"/>
                </a:lnTo>
                <a:lnTo>
                  <a:pt x="658" y="0"/>
                </a:lnTo>
                <a:lnTo>
                  <a:pt x="658" y="0"/>
                </a:lnTo>
                <a:lnTo>
                  <a:pt x="656" y="1"/>
                </a:lnTo>
                <a:lnTo>
                  <a:pt x="656" y="1"/>
                </a:lnTo>
                <a:lnTo>
                  <a:pt x="656" y="1"/>
                </a:lnTo>
                <a:lnTo>
                  <a:pt x="656" y="1"/>
                </a:lnTo>
                <a:lnTo>
                  <a:pt x="656" y="1"/>
                </a:lnTo>
                <a:lnTo>
                  <a:pt x="655" y="1"/>
                </a:lnTo>
                <a:lnTo>
                  <a:pt x="655" y="1"/>
                </a:lnTo>
                <a:lnTo>
                  <a:pt x="655" y="1"/>
                </a:lnTo>
                <a:lnTo>
                  <a:pt x="655" y="1"/>
                </a:lnTo>
                <a:lnTo>
                  <a:pt x="654" y="1"/>
                </a:lnTo>
                <a:lnTo>
                  <a:pt x="654" y="1"/>
                </a:lnTo>
                <a:lnTo>
                  <a:pt x="656" y="9"/>
                </a:lnTo>
                <a:moveTo>
                  <a:pt x="681" y="587"/>
                </a:moveTo>
                <a:lnTo>
                  <a:pt x="681" y="587"/>
                </a:lnTo>
                <a:lnTo>
                  <a:pt x="681" y="587"/>
                </a:lnTo>
                <a:lnTo>
                  <a:pt x="681" y="587"/>
                </a:lnTo>
                <a:lnTo>
                  <a:pt x="680" y="587"/>
                </a:lnTo>
                <a:lnTo>
                  <a:pt x="680" y="587"/>
                </a:lnTo>
                <a:lnTo>
                  <a:pt x="680" y="588"/>
                </a:lnTo>
                <a:lnTo>
                  <a:pt x="680" y="588"/>
                </a:lnTo>
                <a:lnTo>
                  <a:pt x="680" y="588"/>
                </a:lnTo>
                <a:lnTo>
                  <a:pt x="679" y="588"/>
                </a:lnTo>
                <a:lnTo>
                  <a:pt x="679" y="588"/>
                </a:lnTo>
                <a:lnTo>
                  <a:pt x="679" y="588"/>
                </a:lnTo>
                <a:lnTo>
                  <a:pt x="679" y="588"/>
                </a:lnTo>
                <a:lnTo>
                  <a:pt x="679" y="588"/>
                </a:lnTo>
                <a:lnTo>
                  <a:pt x="678" y="588"/>
                </a:lnTo>
                <a:lnTo>
                  <a:pt x="678" y="588"/>
                </a:lnTo>
                <a:lnTo>
                  <a:pt x="678" y="588"/>
                </a:lnTo>
                <a:lnTo>
                  <a:pt x="678" y="588"/>
                </a:lnTo>
                <a:lnTo>
                  <a:pt x="678" y="588"/>
                </a:lnTo>
                <a:lnTo>
                  <a:pt x="676" y="588"/>
                </a:lnTo>
                <a:lnTo>
                  <a:pt x="676" y="588"/>
                </a:lnTo>
                <a:lnTo>
                  <a:pt x="676" y="588"/>
                </a:lnTo>
                <a:lnTo>
                  <a:pt x="676" y="588"/>
                </a:lnTo>
                <a:lnTo>
                  <a:pt x="676" y="589"/>
                </a:lnTo>
                <a:lnTo>
                  <a:pt x="675" y="589"/>
                </a:lnTo>
                <a:lnTo>
                  <a:pt x="675" y="589"/>
                </a:lnTo>
                <a:lnTo>
                  <a:pt x="675" y="589"/>
                </a:lnTo>
                <a:lnTo>
                  <a:pt x="675" y="589"/>
                </a:lnTo>
                <a:lnTo>
                  <a:pt x="676" y="595"/>
                </a:lnTo>
                <a:lnTo>
                  <a:pt x="676" y="595"/>
                </a:lnTo>
                <a:lnTo>
                  <a:pt x="676" y="595"/>
                </a:lnTo>
                <a:lnTo>
                  <a:pt x="678" y="595"/>
                </a:lnTo>
                <a:lnTo>
                  <a:pt x="678" y="595"/>
                </a:lnTo>
                <a:lnTo>
                  <a:pt x="678" y="595"/>
                </a:lnTo>
                <a:lnTo>
                  <a:pt x="678" y="595"/>
                </a:lnTo>
                <a:lnTo>
                  <a:pt x="679" y="595"/>
                </a:lnTo>
                <a:lnTo>
                  <a:pt x="679" y="595"/>
                </a:lnTo>
                <a:lnTo>
                  <a:pt x="679" y="595"/>
                </a:lnTo>
                <a:lnTo>
                  <a:pt x="679" y="595"/>
                </a:lnTo>
                <a:lnTo>
                  <a:pt x="680" y="595"/>
                </a:lnTo>
                <a:lnTo>
                  <a:pt x="680" y="595"/>
                </a:lnTo>
                <a:lnTo>
                  <a:pt x="680" y="595"/>
                </a:lnTo>
                <a:lnTo>
                  <a:pt x="680" y="595"/>
                </a:lnTo>
                <a:lnTo>
                  <a:pt x="681" y="594"/>
                </a:lnTo>
                <a:lnTo>
                  <a:pt x="681" y="594"/>
                </a:lnTo>
                <a:lnTo>
                  <a:pt x="681" y="594"/>
                </a:lnTo>
                <a:lnTo>
                  <a:pt x="681" y="594"/>
                </a:lnTo>
                <a:lnTo>
                  <a:pt x="681" y="594"/>
                </a:lnTo>
                <a:lnTo>
                  <a:pt x="682" y="594"/>
                </a:lnTo>
                <a:lnTo>
                  <a:pt x="682" y="594"/>
                </a:lnTo>
                <a:lnTo>
                  <a:pt x="682" y="594"/>
                </a:lnTo>
                <a:lnTo>
                  <a:pt x="682" y="594"/>
                </a:lnTo>
                <a:lnTo>
                  <a:pt x="683" y="594"/>
                </a:lnTo>
                <a:lnTo>
                  <a:pt x="683" y="594"/>
                </a:lnTo>
                <a:lnTo>
                  <a:pt x="683" y="594"/>
                </a:lnTo>
                <a:lnTo>
                  <a:pt x="683" y="594"/>
                </a:lnTo>
                <a:lnTo>
                  <a:pt x="681" y="587"/>
                </a:lnTo>
                <a:moveTo>
                  <a:pt x="658" y="587"/>
                </a:moveTo>
                <a:lnTo>
                  <a:pt x="658" y="587"/>
                </a:lnTo>
                <a:lnTo>
                  <a:pt x="656" y="587"/>
                </a:lnTo>
                <a:lnTo>
                  <a:pt x="656" y="587"/>
                </a:lnTo>
                <a:lnTo>
                  <a:pt x="656" y="587"/>
                </a:lnTo>
                <a:lnTo>
                  <a:pt x="656" y="587"/>
                </a:lnTo>
                <a:lnTo>
                  <a:pt x="656" y="587"/>
                </a:lnTo>
                <a:lnTo>
                  <a:pt x="655" y="587"/>
                </a:lnTo>
                <a:lnTo>
                  <a:pt x="655" y="587"/>
                </a:lnTo>
                <a:lnTo>
                  <a:pt x="655" y="587"/>
                </a:lnTo>
                <a:lnTo>
                  <a:pt x="655" y="587"/>
                </a:lnTo>
                <a:lnTo>
                  <a:pt x="655" y="587"/>
                </a:lnTo>
                <a:lnTo>
                  <a:pt x="655" y="586"/>
                </a:lnTo>
                <a:lnTo>
                  <a:pt x="654" y="586"/>
                </a:lnTo>
                <a:lnTo>
                  <a:pt x="654" y="586"/>
                </a:lnTo>
                <a:lnTo>
                  <a:pt x="654" y="586"/>
                </a:lnTo>
                <a:lnTo>
                  <a:pt x="654" y="586"/>
                </a:lnTo>
                <a:lnTo>
                  <a:pt x="654" y="586"/>
                </a:lnTo>
                <a:lnTo>
                  <a:pt x="653" y="586"/>
                </a:lnTo>
                <a:lnTo>
                  <a:pt x="653" y="586"/>
                </a:lnTo>
                <a:lnTo>
                  <a:pt x="653" y="586"/>
                </a:lnTo>
                <a:lnTo>
                  <a:pt x="653" y="586"/>
                </a:lnTo>
                <a:lnTo>
                  <a:pt x="653" y="586"/>
                </a:lnTo>
                <a:lnTo>
                  <a:pt x="653" y="585"/>
                </a:lnTo>
                <a:lnTo>
                  <a:pt x="652" y="585"/>
                </a:lnTo>
                <a:lnTo>
                  <a:pt x="652" y="585"/>
                </a:lnTo>
                <a:lnTo>
                  <a:pt x="652" y="585"/>
                </a:lnTo>
                <a:lnTo>
                  <a:pt x="652" y="585"/>
                </a:lnTo>
                <a:lnTo>
                  <a:pt x="648" y="591"/>
                </a:lnTo>
                <a:lnTo>
                  <a:pt x="648" y="591"/>
                </a:lnTo>
                <a:lnTo>
                  <a:pt x="648" y="591"/>
                </a:lnTo>
                <a:lnTo>
                  <a:pt x="648" y="591"/>
                </a:lnTo>
                <a:lnTo>
                  <a:pt x="649" y="591"/>
                </a:lnTo>
                <a:lnTo>
                  <a:pt x="649" y="592"/>
                </a:lnTo>
                <a:lnTo>
                  <a:pt x="649" y="592"/>
                </a:lnTo>
                <a:lnTo>
                  <a:pt x="649" y="592"/>
                </a:lnTo>
                <a:lnTo>
                  <a:pt x="650" y="592"/>
                </a:lnTo>
                <a:lnTo>
                  <a:pt x="650" y="592"/>
                </a:lnTo>
                <a:lnTo>
                  <a:pt x="650" y="592"/>
                </a:lnTo>
                <a:lnTo>
                  <a:pt x="650" y="592"/>
                </a:lnTo>
                <a:lnTo>
                  <a:pt x="650" y="592"/>
                </a:lnTo>
                <a:lnTo>
                  <a:pt x="652" y="592"/>
                </a:lnTo>
                <a:lnTo>
                  <a:pt x="652" y="593"/>
                </a:lnTo>
                <a:lnTo>
                  <a:pt x="652" y="593"/>
                </a:lnTo>
                <a:lnTo>
                  <a:pt x="652" y="593"/>
                </a:lnTo>
                <a:lnTo>
                  <a:pt x="653" y="593"/>
                </a:lnTo>
                <a:lnTo>
                  <a:pt x="653" y="593"/>
                </a:lnTo>
                <a:lnTo>
                  <a:pt x="653" y="593"/>
                </a:lnTo>
                <a:lnTo>
                  <a:pt x="653" y="593"/>
                </a:lnTo>
                <a:lnTo>
                  <a:pt x="653" y="593"/>
                </a:lnTo>
                <a:lnTo>
                  <a:pt x="654" y="593"/>
                </a:lnTo>
                <a:lnTo>
                  <a:pt x="654" y="593"/>
                </a:lnTo>
                <a:lnTo>
                  <a:pt x="654" y="594"/>
                </a:lnTo>
                <a:lnTo>
                  <a:pt x="654" y="594"/>
                </a:lnTo>
                <a:lnTo>
                  <a:pt x="655" y="594"/>
                </a:lnTo>
                <a:lnTo>
                  <a:pt x="655" y="594"/>
                </a:lnTo>
                <a:lnTo>
                  <a:pt x="658" y="587"/>
                </a:lnTo>
                <a:moveTo>
                  <a:pt x="641" y="571"/>
                </a:moveTo>
                <a:lnTo>
                  <a:pt x="641" y="571"/>
                </a:lnTo>
                <a:lnTo>
                  <a:pt x="640" y="571"/>
                </a:lnTo>
                <a:lnTo>
                  <a:pt x="640" y="571"/>
                </a:lnTo>
                <a:lnTo>
                  <a:pt x="640" y="571"/>
                </a:lnTo>
                <a:lnTo>
                  <a:pt x="640" y="569"/>
                </a:lnTo>
                <a:lnTo>
                  <a:pt x="640" y="569"/>
                </a:lnTo>
                <a:lnTo>
                  <a:pt x="640" y="569"/>
                </a:lnTo>
                <a:lnTo>
                  <a:pt x="640" y="569"/>
                </a:lnTo>
                <a:lnTo>
                  <a:pt x="640" y="568"/>
                </a:lnTo>
                <a:lnTo>
                  <a:pt x="640" y="568"/>
                </a:lnTo>
                <a:lnTo>
                  <a:pt x="640" y="568"/>
                </a:lnTo>
                <a:lnTo>
                  <a:pt x="640" y="568"/>
                </a:lnTo>
                <a:lnTo>
                  <a:pt x="640" y="567"/>
                </a:lnTo>
                <a:lnTo>
                  <a:pt x="640" y="567"/>
                </a:lnTo>
                <a:lnTo>
                  <a:pt x="640" y="567"/>
                </a:lnTo>
                <a:lnTo>
                  <a:pt x="640" y="567"/>
                </a:lnTo>
                <a:lnTo>
                  <a:pt x="640" y="567"/>
                </a:lnTo>
                <a:lnTo>
                  <a:pt x="640" y="566"/>
                </a:lnTo>
                <a:lnTo>
                  <a:pt x="639" y="566"/>
                </a:lnTo>
                <a:lnTo>
                  <a:pt x="639" y="566"/>
                </a:lnTo>
                <a:lnTo>
                  <a:pt x="639" y="566"/>
                </a:lnTo>
                <a:lnTo>
                  <a:pt x="639" y="565"/>
                </a:lnTo>
                <a:lnTo>
                  <a:pt x="639" y="565"/>
                </a:lnTo>
                <a:lnTo>
                  <a:pt x="633" y="566"/>
                </a:lnTo>
                <a:lnTo>
                  <a:pt x="633" y="566"/>
                </a:lnTo>
                <a:lnTo>
                  <a:pt x="633" y="567"/>
                </a:lnTo>
                <a:lnTo>
                  <a:pt x="633" y="567"/>
                </a:lnTo>
                <a:lnTo>
                  <a:pt x="633" y="567"/>
                </a:lnTo>
                <a:lnTo>
                  <a:pt x="633" y="567"/>
                </a:lnTo>
                <a:lnTo>
                  <a:pt x="633" y="568"/>
                </a:lnTo>
                <a:lnTo>
                  <a:pt x="633" y="568"/>
                </a:lnTo>
                <a:lnTo>
                  <a:pt x="633" y="568"/>
                </a:lnTo>
                <a:lnTo>
                  <a:pt x="633" y="569"/>
                </a:lnTo>
                <a:lnTo>
                  <a:pt x="633" y="569"/>
                </a:lnTo>
                <a:lnTo>
                  <a:pt x="633" y="569"/>
                </a:lnTo>
                <a:lnTo>
                  <a:pt x="633" y="569"/>
                </a:lnTo>
                <a:lnTo>
                  <a:pt x="633" y="571"/>
                </a:lnTo>
                <a:lnTo>
                  <a:pt x="633" y="571"/>
                </a:lnTo>
                <a:lnTo>
                  <a:pt x="634" y="571"/>
                </a:lnTo>
                <a:lnTo>
                  <a:pt x="634" y="571"/>
                </a:lnTo>
                <a:lnTo>
                  <a:pt x="634" y="572"/>
                </a:lnTo>
                <a:lnTo>
                  <a:pt x="634" y="572"/>
                </a:lnTo>
                <a:lnTo>
                  <a:pt x="634" y="572"/>
                </a:lnTo>
                <a:lnTo>
                  <a:pt x="634" y="573"/>
                </a:lnTo>
                <a:lnTo>
                  <a:pt x="634" y="573"/>
                </a:lnTo>
                <a:lnTo>
                  <a:pt x="634" y="573"/>
                </a:lnTo>
                <a:lnTo>
                  <a:pt x="634" y="573"/>
                </a:lnTo>
                <a:lnTo>
                  <a:pt x="641" y="571"/>
                </a:lnTo>
                <a:moveTo>
                  <a:pt x="639" y="545"/>
                </a:moveTo>
                <a:lnTo>
                  <a:pt x="632" y="545"/>
                </a:lnTo>
                <a:lnTo>
                  <a:pt x="632" y="539"/>
                </a:lnTo>
                <a:lnTo>
                  <a:pt x="639" y="539"/>
                </a:lnTo>
                <a:lnTo>
                  <a:pt x="639" y="545"/>
                </a:lnTo>
                <a:moveTo>
                  <a:pt x="639" y="518"/>
                </a:moveTo>
                <a:lnTo>
                  <a:pt x="632" y="518"/>
                </a:lnTo>
                <a:lnTo>
                  <a:pt x="632" y="512"/>
                </a:lnTo>
                <a:lnTo>
                  <a:pt x="639" y="512"/>
                </a:lnTo>
                <a:lnTo>
                  <a:pt x="639" y="518"/>
                </a:lnTo>
                <a:moveTo>
                  <a:pt x="639" y="491"/>
                </a:moveTo>
                <a:lnTo>
                  <a:pt x="632" y="491"/>
                </a:lnTo>
                <a:lnTo>
                  <a:pt x="632" y="485"/>
                </a:lnTo>
                <a:lnTo>
                  <a:pt x="639" y="485"/>
                </a:lnTo>
                <a:lnTo>
                  <a:pt x="639" y="491"/>
                </a:lnTo>
                <a:moveTo>
                  <a:pt x="639" y="464"/>
                </a:moveTo>
                <a:lnTo>
                  <a:pt x="632" y="464"/>
                </a:lnTo>
                <a:lnTo>
                  <a:pt x="632" y="458"/>
                </a:lnTo>
                <a:lnTo>
                  <a:pt x="639" y="458"/>
                </a:lnTo>
                <a:lnTo>
                  <a:pt x="639" y="464"/>
                </a:lnTo>
                <a:moveTo>
                  <a:pt x="639" y="437"/>
                </a:moveTo>
                <a:lnTo>
                  <a:pt x="632" y="437"/>
                </a:lnTo>
                <a:lnTo>
                  <a:pt x="632" y="430"/>
                </a:lnTo>
                <a:lnTo>
                  <a:pt x="639" y="430"/>
                </a:lnTo>
                <a:lnTo>
                  <a:pt x="639" y="437"/>
                </a:lnTo>
                <a:moveTo>
                  <a:pt x="629" y="412"/>
                </a:moveTo>
                <a:lnTo>
                  <a:pt x="629" y="419"/>
                </a:lnTo>
                <a:lnTo>
                  <a:pt x="622" y="419"/>
                </a:lnTo>
                <a:lnTo>
                  <a:pt x="622" y="412"/>
                </a:lnTo>
                <a:lnTo>
                  <a:pt x="629" y="412"/>
                </a:lnTo>
                <a:moveTo>
                  <a:pt x="602" y="412"/>
                </a:moveTo>
                <a:lnTo>
                  <a:pt x="602" y="419"/>
                </a:lnTo>
                <a:lnTo>
                  <a:pt x="595" y="419"/>
                </a:lnTo>
                <a:lnTo>
                  <a:pt x="595" y="412"/>
                </a:lnTo>
                <a:lnTo>
                  <a:pt x="602" y="412"/>
                </a:lnTo>
                <a:moveTo>
                  <a:pt x="575" y="412"/>
                </a:moveTo>
                <a:lnTo>
                  <a:pt x="575" y="419"/>
                </a:lnTo>
                <a:lnTo>
                  <a:pt x="568" y="419"/>
                </a:lnTo>
                <a:lnTo>
                  <a:pt x="568" y="412"/>
                </a:lnTo>
                <a:lnTo>
                  <a:pt x="575" y="412"/>
                </a:lnTo>
                <a:moveTo>
                  <a:pt x="548" y="412"/>
                </a:moveTo>
                <a:lnTo>
                  <a:pt x="548" y="419"/>
                </a:lnTo>
                <a:lnTo>
                  <a:pt x="541" y="419"/>
                </a:lnTo>
                <a:lnTo>
                  <a:pt x="541" y="412"/>
                </a:lnTo>
                <a:lnTo>
                  <a:pt x="548" y="412"/>
                </a:lnTo>
                <a:moveTo>
                  <a:pt x="521" y="412"/>
                </a:moveTo>
                <a:lnTo>
                  <a:pt x="521" y="419"/>
                </a:lnTo>
                <a:lnTo>
                  <a:pt x="514" y="419"/>
                </a:lnTo>
                <a:lnTo>
                  <a:pt x="514" y="412"/>
                </a:lnTo>
                <a:lnTo>
                  <a:pt x="521" y="412"/>
                </a:lnTo>
                <a:moveTo>
                  <a:pt x="494" y="412"/>
                </a:moveTo>
                <a:lnTo>
                  <a:pt x="494" y="419"/>
                </a:lnTo>
                <a:lnTo>
                  <a:pt x="487" y="419"/>
                </a:lnTo>
                <a:lnTo>
                  <a:pt x="487" y="412"/>
                </a:lnTo>
                <a:lnTo>
                  <a:pt x="494" y="412"/>
                </a:lnTo>
                <a:moveTo>
                  <a:pt x="467" y="412"/>
                </a:moveTo>
                <a:lnTo>
                  <a:pt x="467" y="419"/>
                </a:lnTo>
                <a:lnTo>
                  <a:pt x="460" y="419"/>
                </a:lnTo>
                <a:lnTo>
                  <a:pt x="460" y="412"/>
                </a:lnTo>
                <a:lnTo>
                  <a:pt x="467" y="412"/>
                </a:lnTo>
                <a:moveTo>
                  <a:pt x="440" y="412"/>
                </a:moveTo>
                <a:lnTo>
                  <a:pt x="440" y="419"/>
                </a:lnTo>
                <a:lnTo>
                  <a:pt x="433" y="419"/>
                </a:lnTo>
                <a:lnTo>
                  <a:pt x="433" y="412"/>
                </a:lnTo>
                <a:lnTo>
                  <a:pt x="440" y="412"/>
                </a:lnTo>
                <a:moveTo>
                  <a:pt x="413" y="412"/>
                </a:moveTo>
                <a:lnTo>
                  <a:pt x="413" y="419"/>
                </a:lnTo>
                <a:lnTo>
                  <a:pt x="406" y="419"/>
                </a:lnTo>
                <a:lnTo>
                  <a:pt x="406" y="412"/>
                </a:lnTo>
                <a:lnTo>
                  <a:pt x="413" y="412"/>
                </a:lnTo>
                <a:moveTo>
                  <a:pt x="386" y="412"/>
                </a:moveTo>
                <a:lnTo>
                  <a:pt x="386" y="419"/>
                </a:lnTo>
                <a:lnTo>
                  <a:pt x="379" y="419"/>
                </a:lnTo>
                <a:lnTo>
                  <a:pt x="379" y="412"/>
                </a:lnTo>
                <a:lnTo>
                  <a:pt x="386" y="412"/>
                </a:lnTo>
                <a:moveTo>
                  <a:pt x="359" y="412"/>
                </a:moveTo>
                <a:lnTo>
                  <a:pt x="359" y="419"/>
                </a:lnTo>
                <a:lnTo>
                  <a:pt x="352" y="419"/>
                </a:lnTo>
                <a:lnTo>
                  <a:pt x="352" y="412"/>
                </a:lnTo>
                <a:lnTo>
                  <a:pt x="359" y="412"/>
                </a:lnTo>
                <a:moveTo>
                  <a:pt x="332" y="412"/>
                </a:moveTo>
                <a:lnTo>
                  <a:pt x="332" y="419"/>
                </a:lnTo>
                <a:lnTo>
                  <a:pt x="324" y="419"/>
                </a:lnTo>
                <a:lnTo>
                  <a:pt x="324" y="412"/>
                </a:lnTo>
                <a:lnTo>
                  <a:pt x="332" y="412"/>
                </a:lnTo>
                <a:moveTo>
                  <a:pt x="304" y="412"/>
                </a:moveTo>
                <a:lnTo>
                  <a:pt x="304" y="419"/>
                </a:lnTo>
                <a:lnTo>
                  <a:pt x="297" y="419"/>
                </a:lnTo>
                <a:lnTo>
                  <a:pt x="297" y="412"/>
                </a:lnTo>
                <a:lnTo>
                  <a:pt x="304" y="412"/>
                </a:lnTo>
                <a:moveTo>
                  <a:pt x="277" y="412"/>
                </a:moveTo>
                <a:lnTo>
                  <a:pt x="277" y="419"/>
                </a:lnTo>
                <a:lnTo>
                  <a:pt x="270" y="419"/>
                </a:lnTo>
                <a:lnTo>
                  <a:pt x="270" y="412"/>
                </a:lnTo>
                <a:lnTo>
                  <a:pt x="277" y="412"/>
                </a:lnTo>
                <a:moveTo>
                  <a:pt x="250" y="412"/>
                </a:moveTo>
                <a:lnTo>
                  <a:pt x="250" y="419"/>
                </a:lnTo>
                <a:lnTo>
                  <a:pt x="243" y="419"/>
                </a:lnTo>
                <a:lnTo>
                  <a:pt x="243" y="412"/>
                </a:lnTo>
                <a:lnTo>
                  <a:pt x="250" y="412"/>
                </a:lnTo>
                <a:moveTo>
                  <a:pt x="223" y="412"/>
                </a:moveTo>
                <a:lnTo>
                  <a:pt x="223" y="419"/>
                </a:lnTo>
                <a:lnTo>
                  <a:pt x="216" y="419"/>
                </a:lnTo>
                <a:lnTo>
                  <a:pt x="216" y="412"/>
                </a:lnTo>
                <a:lnTo>
                  <a:pt x="223" y="412"/>
                </a:lnTo>
                <a:moveTo>
                  <a:pt x="196" y="412"/>
                </a:moveTo>
                <a:lnTo>
                  <a:pt x="196" y="419"/>
                </a:lnTo>
                <a:lnTo>
                  <a:pt x="189" y="419"/>
                </a:lnTo>
                <a:lnTo>
                  <a:pt x="189" y="412"/>
                </a:lnTo>
                <a:lnTo>
                  <a:pt x="196" y="412"/>
                </a:lnTo>
                <a:moveTo>
                  <a:pt x="169" y="412"/>
                </a:moveTo>
                <a:lnTo>
                  <a:pt x="169" y="419"/>
                </a:lnTo>
                <a:lnTo>
                  <a:pt x="162" y="419"/>
                </a:lnTo>
                <a:lnTo>
                  <a:pt x="162" y="412"/>
                </a:lnTo>
                <a:lnTo>
                  <a:pt x="169" y="412"/>
                </a:lnTo>
                <a:moveTo>
                  <a:pt x="141" y="412"/>
                </a:moveTo>
                <a:lnTo>
                  <a:pt x="141" y="419"/>
                </a:lnTo>
                <a:lnTo>
                  <a:pt x="135" y="419"/>
                </a:lnTo>
                <a:lnTo>
                  <a:pt x="135" y="412"/>
                </a:lnTo>
                <a:lnTo>
                  <a:pt x="141" y="412"/>
                </a:lnTo>
                <a:moveTo>
                  <a:pt x="114" y="412"/>
                </a:moveTo>
                <a:lnTo>
                  <a:pt x="114" y="419"/>
                </a:lnTo>
                <a:lnTo>
                  <a:pt x="108" y="419"/>
                </a:lnTo>
                <a:lnTo>
                  <a:pt x="108" y="412"/>
                </a:lnTo>
                <a:lnTo>
                  <a:pt x="114" y="412"/>
                </a:lnTo>
                <a:moveTo>
                  <a:pt x="87" y="412"/>
                </a:moveTo>
                <a:lnTo>
                  <a:pt x="87" y="419"/>
                </a:lnTo>
                <a:lnTo>
                  <a:pt x="81" y="419"/>
                </a:lnTo>
                <a:lnTo>
                  <a:pt x="81" y="412"/>
                </a:lnTo>
                <a:lnTo>
                  <a:pt x="87" y="412"/>
                </a:lnTo>
                <a:moveTo>
                  <a:pt x="60" y="412"/>
                </a:moveTo>
                <a:lnTo>
                  <a:pt x="60" y="419"/>
                </a:lnTo>
                <a:lnTo>
                  <a:pt x="54" y="419"/>
                </a:lnTo>
                <a:lnTo>
                  <a:pt x="54" y="412"/>
                </a:lnTo>
                <a:lnTo>
                  <a:pt x="60" y="412"/>
                </a:lnTo>
                <a:moveTo>
                  <a:pt x="33" y="412"/>
                </a:moveTo>
                <a:lnTo>
                  <a:pt x="33" y="419"/>
                </a:lnTo>
                <a:lnTo>
                  <a:pt x="27" y="419"/>
                </a:lnTo>
                <a:lnTo>
                  <a:pt x="27" y="412"/>
                </a:lnTo>
                <a:lnTo>
                  <a:pt x="33" y="412"/>
                </a:lnTo>
              </a:path>
            </a:pathLst>
          </a:cu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6" name="Freeform 1040"/>
          <p:cNvSpPr/>
          <p:nvPr/>
        </p:nvSpPr>
        <p:spPr>
          <a:xfrm>
            <a:off x="7856640" y="9429840"/>
            <a:ext cx="5467320" cy="3265560"/>
          </a:xfrm>
          <a:custGeom>
            <a:avLst/>
            <a:gdLst/>
            <a:ahLst/>
            <a:rect l="l" t="t" r="r" b="b"/>
            <a:pathLst>
              <a:path w="1435" h="857">
                <a:moveTo>
                  <a:pt x="9" y="595"/>
                </a:moveTo>
                <a:lnTo>
                  <a:pt x="9" y="602"/>
                </a:lnTo>
                <a:lnTo>
                  <a:pt x="0" y="602"/>
                </a:lnTo>
                <a:lnTo>
                  <a:pt x="0" y="595"/>
                </a:lnTo>
                <a:lnTo>
                  <a:pt x="9" y="595"/>
                </a:lnTo>
                <a:close/>
                <a:moveTo>
                  <a:pt x="20" y="258"/>
                </a:moveTo>
                <a:lnTo>
                  <a:pt x="20" y="251"/>
                </a:lnTo>
                <a:lnTo>
                  <a:pt x="29" y="251"/>
                </a:lnTo>
                <a:lnTo>
                  <a:pt x="29" y="258"/>
                </a:lnTo>
                <a:lnTo>
                  <a:pt x="20" y="258"/>
                </a:lnTo>
                <a:close/>
                <a:moveTo>
                  <a:pt x="52" y="258"/>
                </a:moveTo>
                <a:lnTo>
                  <a:pt x="52" y="251"/>
                </a:lnTo>
                <a:lnTo>
                  <a:pt x="60" y="251"/>
                </a:lnTo>
                <a:lnTo>
                  <a:pt x="60" y="258"/>
                </a:lnTo>
                <a:lnTo>
                  <a:pt x="52" y="258"/>
                </a:lnTo>
                <a:close/>
                <a:moveTo>
                  <a:pt x="84" y="258"/>
                </a:moveTo>
                <a:lnTo>
                  <a:pt x="84" y="251"/>
                </a:lnTo>
                <a:lnTo>
                  <a:pt x="92" y="251"/>
                </a:lnTo>
                <a:lnTo>
                  <a:pt x="92" y="258"/>
                </a:lnTo>
                <a:lnTo>
                  <a:pt x="84" y="258"/>
                </a:lnTo>
                <a:close/>
                <a:moveTo>
                  <a:pt x="116" y="258"/>
                </a:moveTo>
                <a:lnTo>
                  <a:pt x="116" y="251"/>
                </a:lnTo>
                <a:lnTo>
                  <a:pt x="123" y="251"/>
                </a:lnTo>
                <a:lnTo>
                  <a:pt x="123" y="258"/>
                </a:lnTo>
                <a:lnTo>
                  <a:pt x="116" y="258"/>
                </a:lnTo>
                <a:close/>
                <a:moveTo>
                  <a:pt x="148" y="258"/>
                </a:moveTo>
                <a:lnTo>
                  <a:pt x="148" y="251"/>
                </a:lnTo>
                <a:lnTo>
                  <a:pt x="155" y="251"/>
                </a:lnTo>
                <a:lnTo>
                  <a:pt x="155" y="258"/>
                </a:lnTo>
                <a:lnTo>
                  <a:pt x="148" y="258"/>
                </a:lnTo>
                <a:close/>
                <a:moveTo>
                  <a:pt x="179" y="258"/>
                </a:moveTo>
                <a:lnTo>
                  <a:pt x="179" y="251"/>
                </a:lnTo>
                <a:lnTo>
                  <a:pt x="186" y="251"/>
                </a:lnTo>
                <a:lnTo>
                  <a:pt x="186" y="258"/>
                </a:lnTo>
                <a:lnTo>
                  <a:pt x="179" y="258"/>
                </a:lnTo>
                <a:close/>
                <a:moveTo>
                  <a:pt x="210" y="258"/>
                </a:moveTo>
                <a:lnTo>
                  <a:pt x="210" y="251"/>
                </a:lnTo>
                <a:lnTo>
                  <a:pt x="218" y="251"/>
                </a:lnTo>
                <a:lnTo>
                  <a:pt x="218" y="258"/>
                </a:lnTo>
                <a:lnTo>
                  <a:pt x="210" y="258"/>
                </a:lnTo>
                <a:close/>
                <a:moveTo>
                  <a:pt x="242" y="258"/>
                </a:moveTo>
                <a:lnTo>
                  <a:pt x="242" y="251"/>
                </a:lnTo>
                <a:lnTo>
                  <a:pt x="250" y="251"/>
                </a:lnTo>
                <a:lnTo>
                  <a:pt x="250" y="258"/>
                </a:lnTo>
                <a:lnTo>
                  <a:pt x="242" y="258"/>
                </a:lnTo>
                <a:close/>
                <a:moveTo>
                  <a:pt x="274" y="258"/>
                </a:moveTo>
                <a:lnTo>
                  <a:pt x="274" y="251"/>
                </a:lnTo>
                <a:lnTo>
                  <a:pt x="282" y="251"/>
                </a:lnTo>
                <a:lnTo>
                  <a:pt x="282" y="258"/>
                </a:lnTo>
                <a:lnTo>
                  <a:pt x="274" y="258"/>
                </a:lnTo>
                <a:close/>
                <a:moveTo>
                  <a:pt x="305" y="258"/>
                </a:moveTo>
                <a:lnTo>
                  <a:pt x="305" y="251"/>
                </a:lnTo>
                <a:lnTo>
                  <a:pt x="314" y="251"/>
                </a:lnTo>
                <a:lnTo>
                  <a:pt x="314" y="258"/>
                </a:lnTo>
                <a:lnTo>
                  <a:pt x="305" y="258"/>
                </a:lnTo>
                <a:close/>
                <a:moveTo>
                  <a:pt x="337" y="258"/>
                </a:moveTo>
                <a:lnTo>
                  <a:pt x="337" y="251"/>
                </a:lnTo>
                <a:lnTo>
                  <a:pt x="345" y="251"/>
                </a:lnTo>
                <a:lnTo>
                  <a:pt x="345" y="258"/>
                </a:lnTo>
                <a:lnTo>
                  <a:pt x="337" y="258"/>
                </a:lnTo>
                <a:close/>
                <a:moveTo>
                  <a:pt x="369" y="258"/>
                </a:moveTo>
                <a:lnTo>
                  <a:pt x="369" y="251"/>
                </a:lnTo>
                <a:lnTo>
                  <a:pt x="377" y="251"/>
                </a:lnTo>
                <a:lnTo>
                  <a:pt x="377" y="258"/>
                </a:lnTo>
                <a:lnTo>
                  <a:pt x="369" y="258"/>
                </a:lnTo>
                <a:close/>
                <a:moveTo>
                  <a:pt x="401" y="258"/>
                </a:moveTo>
                <a:lnTo>
                  <a:pt x="401" y="251"/>
                </a:lnTo>
                <a:lnTo>
                  <a:pt x="408" y="251"/>
                </a:lnTo>
                <a:lnTo>
                  <a:pt x="408" y="258"/>
                </a:lnTo>
                <a:lnTo>
                  <a:pt x="401" y="258"/>
                </a:lnTo>
                <a:close/>
                <a:moveTo>
                  <a:pt x="432" y="258"/>
                </a:moveTo>
                <a:lnTo>
                  <a:pt x="432" y="251"/>
                </a:lnTo>
                <a:lnTo>
                  <a:pt x="439" y="251"/>
                </a:lnTo>
                <a:lnTo>
                  <a:pt x="439" y="258"/>
                </a:lnTo>
                <a:lnTo>
                  <a:pt x="432" y="258"/>
                </a:lnTo>
                <a:close/>
                <a:moveTo>
                  <a:pt x="463" y="258"/>
                </a:moveTo>
                <a:lnTo>
                  <a:pt x="463" y="251"/>
                </a:lnTo>
                <a:lnTo>
                  <a:pt x="471" y="251"/>
                </a:lnTo>
                <a:lnTo>
                  <a:pt x="471" y="258"/>
                </a:lnTo>
                <a:lnTo>
                  <a:pt x="463" y="258"/>
                </a:lnTo>
                <a:close/>
                <a:moveTo>
                  <a:pt x="495" y="258"/>
                </a:moveTo>
                <a:lnTo>
                  <a:pt x="495" y="251"/>
                </a:lnTo>
                <a:lnTo>
                  <a:pt x="503" y="251"/>
                </a:lnTo>
                <a:lnTo>
                  <a:pt x="503" y="258"/>
                </a:lnTo>
                <a:lnTo>
                  <a:pt x="495" y="258"/>
                </a:lnTo>
                <a:close/>
                <a:moveTo>
                  <a:pt x="527" y="258"/>
                </a:moveTo>
                <a:lnTo>
                  <a:pt x="527" y="251"/>
                </a:lnTo>
                <a:lnTo>
                  <a:pt x="535" y="251"/>
                </a:lnTo>
                <a:lnTo>
                  <a:pt x="535" y="258"/>
                </a:lnTo>
                <a:lnTo>
                  <a:pt x="527" y="258"/>
                </a:lnTo>
                <a:close/>
                <a:moveTo>
                  <a:pt x="558" y="258"/>
                </a:moveTo>
                <a:lnTo>
                  <a:pt x="558" y="251"/>
                </a:lnTo>
                <a:lnTo>
                  <a:pt x="567" y="251"/>
                </a:lnTo>
                <a:lnTo>
                  <a:pt x="567" y="258"/>
                </a:lnTo>
                <a:lnTo>
                  <a:pt x="558" y="258"/>
                </a:lnTo>
                <a:close/>
                <a:moveTo>
                  <a:pt x="590" y="258"/>
                </a:moveTo>
                <a:lnTo>
                  <a:pt x="590" y="251"/>
                </a:lnTo>
                <a:lnTo>
                  <a:pt x="598" y="251"/>
                </a:lnTo>
                <a:lnTo>
                  <a:pt x="598" y="258"/>
                </a:lnTo>
                <a:lnTo>
                  <a:pt x="590" y="258"/>
                </a:lnTo>
                <a:close/>
                <a:moveTo>
                  <a:pt x="622" y="258"/>
                </a:moveTo>
                <a:lnTo>
                  <a:pt x="622" y="251"/>
                </a:lnTo>
                <a:lnTo>
                  <a:pt x="627" y="251"/>
                </a:lnTo>
                <a:lnTo>
                  <a:pt x="627" y="251"/>
                </a:lnTo>
                <a:lnTo>
                  <a:pt x="630" y="251"/>
                </a:lnTo>
                <a:lnTo>
                  <a:pt x="630" y="255"/>
                </a:lnTo>
                <a:lnTo>
                  <a:pt x="630" y="258"/>
                </a:lnTo>
                <a:lnTo>
                  <a:pt x="627" y="258"/>
                </a:lnTo>
                <a:lnTo>
                  <a:pt x="622" y="258"/>
                </a:lnTo>
                <a:close/>
                <a:moveTo>
                  <a:pt x="630" y="228"/>
                </a:moveTo>
                <a:lnTo>
                  <a:pt x="622" y="228"/>
                </a:lnTo>
                <a:lnTo>
                  <a:pt x="622" y="220"/>
                </a:lnTo>
                <a:lnTo>
                  <a:pt x="630" y="220"/>
                </a:lnTo>
                <a:lnTo>
                  <a:pt x="630" y="228"/>
                </a:lnTo>
                <a:close/>
                <a:moveTo>
                  <a:pt x="630" y="196"/>
                </a:moveTo>
                <a:lnTo>
                  <a:pt x="622" y="196"/>
                </a:lnTo>
                <a:lnTo>
                  <a:pt x="622" y="188"/>
                </a:lnTo>
                <a:lnTo>
                  <a:pt x="630" y="188"/>
                </a:lnTo>
                <a:lnTo>
                  <a:pt x="630" y="196"/>
                </a:lnTo>
                <a:close/>
                <a:moveTo>
                  <a:pt x="630" y="164"/>
                </a:moveTo>
                <a:lnTo>
                  <a:pt x="622" y="164"/>
                </a:lnTo>
                <a:lnTo>
                  <a:pt x="622" y="156"/>
                </a:lnTo>
                <a:lnTo>
                  <a:pt x="630" y="156"/>
                </a:lnTo>
                <a:lnTo>
                  <a:pt x="630" y="164"/>
                </a:lnTo>
                <a:close/>
                <a:moveTo>
                  <a:pt x="630" y="132"/>
                </a:moveTo>
                <a:lnTo>
                  <a:pt x="622" y="132"/>
                </a:lnTo>
                <a:lnTo>
                  <a:pt x="622" y="125"/>
                </a:lnTo>
                <a:lnTo>
                  <a:pt x="630" y="125"/>
                </a:lnTo>
                <a:lnTo>
                  <a:pt x="630" y="132"/>
                </a:lnTo>
                <a:close/>
                <a:moveTo>
                  <a:pt x="630" y="101"/>
                </a:moveTo>
                <a:lnTo>
                  <a:pt x="622" y="101"/>
                </a:lnTo>
                <a:lnTo>
                  <a:pt x="622" y="94"/>
                </a:lnTo>
                <a:lnTo>
                  <a:pt x="630" y="94"/>
                </a:lnTo>
                <a:lnTo>
                  <a:pt x="630" y="101"/>
                </a:lnTo>
                <a:close/>
                <a:moveTo>
                  <a:pt x="630" y="70"/>
                </a:moveTo>
                <a:lnTo>
                  <a:pt x="622" y="70"/>
                </a:lnTo>
                <a:lnTo>
                  <a:pt x="622" y="62"/>
                </a:lnTo>
                <a:lnTo>
                  <a:pt x="630" y="62"/>
                </a:lnTo>
                <a:lnTo>
                  <a:pt x="630" y="70"/>
                </a:lnTo>
                <a:close/>
                <a:moveTo>
                  <a:pt x="632" y="40"/>
                </a:moveTo>
                <a:lnTo>
                  <a:pt x="632" y="38"/>
                </a:lnTo>
                <a:lnTo>
                  <a:pt x="632" y="38"/>
                </a:lnTo>
                <a:lnTo>
                  <a:pt x="632" y="38"/>
                </a:lnTo>
                <a:lnTo>
                  <a:pt x="632" y="37"/>
                </a:lnTo>
                <a:lnTo>
                  <a:pt x="632" y="37"/>
                </a:lnTo>
                <a:lnTo>
                  <a:pt x="632" y="37"/>
                </a:lnTo>
                <a:lnTo>
                  <a:pt x="632" y="36"/>
                </a:lnTo>
                <a:lnTo>
                  <a:pt x="632" y="36"/>
                </a:lnTo>
                <a:lnTo>
                  <a:pt x="632" y="36"/>
                </a:lnTo>
                <a:lnTo>
                  <a:pt x="634" y="35"/>
                </a:lnTo>
                <a:lnTo>
                  <a:pt x="634" y="35"/>
                </a:lnTo>
                <a:lnTo>
                  <a:pt x="634" y="35"/>
                </a:lnTo>
                <a:lnTo>
                  <a:pt x="634" y="34"/>
                </a:lnTo>
                <a:lnTo>
                  <a:pt x="634" y="34"/>
                </a:lnTo>
                <a:lnTo>
                  <a:pt x="634" y="34"/>
                </a:lnTo>
                <a:lnTo>
                  <a:pt x="634" y="33"/>
                </a:lnTo>
                <a:lnTo>
                  <a:pt x="634" y="33"/>
                </a:lnTo>
                <a:lnTo>
                  <a:pt x="635" y="33"/>
                </a:lnTo>
                <a:lnTo>
                  <a:pt x="635" y="33"/>
                </a:lnTo>
                <a:lnTo>
                  <a:pt x="627" y="29"/>
                </a:lnTo>
                <a:lnTo>
                  <a:pt x="627" y="29"/>
                </a:lnTo>
                <a:lnTo>
                  <a:pt x="627" y="29"/>
                </a:lnTo>
                <a:lnTo>
                  <a:pt x="627" y="30"/>
                </a:lnTo>
                <a:lnTo>
                  <a:pt x="627" y="30"/>
                </a:lnTo>
                <a:lnTo>
                  <a:pt x="627" y="31"/>
                </a:lnTo>
                <a:lnTo>
                  <a:pt x="627" y="31"/>
                </a:lnTo>
                <a:lnTo>
                  <a:pt x="627" y="31"/>
                </a:lnTo>
                <a:lnTo>
                  <a:pt x="625" y="33"/>
                </a:lnTo>
                <a:lnTo>
                  <a:pt x="625" y="33"/>
                </a:lnTo>
                <a:lnTo>
                  <a:pt x="625" y="33"/>
                </a:lnTo>
                <a:lnTo>
                  <a:pt x="625" y="34"/>
                </a:lnTo>
                <a:lnTo>
                  <a:pt x="625" y="34"/>
                </a:lnTo>
                <a:lnTo>
                  <a:pt x="625" y="35"/>
                </a:lnTo>
                <a:lnTo>
                  <a:pt x="625" y="35"/>
                </a:lnTo>
                <a:lnTo>
                  <a:pt x="624" y="35"/>
                </a:lnTo>
                <a:lnTo>
                  <a:pt x="624" y="36"/>
                </a:lnTo>
                <a:lnTo>
                  <a:pt x="624" y="36"/>
                </a:lnTo>
                <a:lnTo>
                  <a:pt x="624" y="37"/>
                </a:lnTo>
                <a:lnTo>
                  <a:pt x="624" y="37"/>
                </a:lnTo>
                <a:lnTo>
                  <a:pt x="632" y="40"/>
                </a:lnTo>
                <a:close/>
                <a:moveTo>
                  <a:pt x="648" y="16"/>
                </a:moveTo>
                <a:lnTo>
                  <a:pt x="648" y="16"/>
                </a:lnTo>
                <a:lnTo>
                  <a:pt x="648" y="16"/>
                </a:lnTo>
                <a:lnTo>
                  <a:pt x="649" y="15"/>
                </a:lnTo>
                <a:lnTo>
                  <a:pt x="649" y="15"/>
                </a:lnTo>
                <a:lnTo>
                  <a:pt x="649" y="15"/>
                </a:lnTo>
                <a:lnTo>
                  <a:pt x="649" y="15"/>
                </a:lnTo>
                <a:lnTo>
                  <a:pt x="650" y="15"/>
                </a:lnTo>
                <a:lnTo>
                  <a:pt x="650" y="15"/>
                </a:lnTo>
                <a:lnTo>
                  <a:pt x="650" y="14"/>
                </a:lnTo>
                <a:lnTo>
                  <a:pt x="650" y="14"/>
                </a:lnTo>
                <a:lnTo>
                  <a:pt x="651" y="14"/>
                </a:lnTo>
                <a:lnTo>
                  <a:pt x="651" y="14"/>
                </a:lnTo>
                <a:lnTo>
                  <a:pt x="651" y="14"/>
                </a:lnTo>
                <a:lnTo>
                  <a:pt x="652" y="14"/>
                </a:lnTo>
                <a:lnTo>
                  <a:pt x="652" y="14"/>
                </a:lnTo>
                <a:lnTo>
                  <a:pt x="652" y="13"/>
                </a:lnTo>
                <a:lnTo>
                  <a:pt x="652" y="13"/>
                </a:lnTo>
                <a:lnTo>
                  <a:pt x="654" y="13"/>
                </a:lnTo>
                <a:lnTo>
                  <a:pt x="654" y="13"/>
                </a:lnTo>
                <a:lnTo>
                  <a:pt x="654" y="13"/>
                </a:lnTo>
                <a:lnTo>
                  <a:pt x="654" y="13"/>
                </a:lnTo>
                <a:lnTo>
                  <a:pt x="654" y="13"/>
                </a:lnTo>
                <a:lnTo>
                  <a:pt x="651" y="5"/>
                </a:lnTo>
                <a:lnTo>
                  <a:pt x="650" y="5"/>
                </a:lnTo>
                <a:lnTo>
                  <a:pt x="650" y="5"/>
                </a:lnTo>
                <a:lnTo>
                  <a:pt x="650" y="5"/>
                </a:lnTo>
                <a:lnTo>
                  <a:pt x="649" y="5"/>
                </a:lnTo>
                <a:lnTo>
                  <a:pt x="649" y="5"/>
                </a:lnTo>
                <a:lnTo>
                  <a:pt x="649" y="5"/>
                </a:lnTo>
                <a:lnTo>
                  <a:pt x="649" y="7"/>
                </a:lnTo>
                <a:lnTo>
                  <a:pt x="648" y="7"/>
                </a:lnTo>
                <a:lnTo>
                  <a:pt x="648" y="7"/>
                </a:lnTo>
                <a:lnTo>
                  <a:pt x="648" y="7"/>
                </a:lnTo>
                <a:lnTo>
                  <a:pt x="647" y="7"/>
                </a:lnTo>
                <a:lnTo>
                  <a:pt x="647" y="8"/>
                </a:lnTo>
                <a:lnTo>
                  <a:pt x="647" y="8"/>
                </a:lnTo>
                <a:lnTo>
                  <a:pt x="645" y="8"/>
                </a:lnTo>
                <a:lnTo>
                  <a:pt x="645" y="8"/>
                </a:lnTo>
                <a:lnTo>
                  <a:pt x="645" y="8"/>
                </a:lnTo>
                <a:lnTo>
                  <a:pt x="645" y="8"/>
                </a:lnTo>
                <a:lnTo>
                  <a:pt x="644" y="9"/>
                </a:lnTo>
                <a:lnTo>
                  <a:pt x="644" y="9"/>
                </a:lnTo>
                <a:lnTo>
                  <a:pt x="644" y="9"/>
                </a:lnTo>
                <a:lnTo>
                  <a:pt x="643" y="9"/>
                </a:lnTo>
                <a:lnTo>
                  <a:pt x="643" y="9"/>
                </a:lnTo>
                <a:lnTo>
                  <a:pt x="648" y="16"/>
                </a:lnTo>
                <a:close/>
                <a:moveTo>
                  <a:pt x="675" y="8"/>
                </a:moveTo>
                <a:lnTo>
                  <a:pt x="675" y="8"/>
                </a:lnTo>
                <a:lnTo>
                  <a:pt x="676" y="8"/>
                </a:lnTo>
                <a:lnTo>
                  <a:pt x="676" y="8"/>
                </a:lnTo>
                <a:lnTo>
                  <a:pt x="676" y="8"/>
                </a:lnTo>
                <a:lnTo>
                  <a:pt x="677" y="8"/>
                </a:lnTo>
                <a:lnTo>
                  <a:pt x="677" y="8"/>
                </a:lnTo>
                <a:lnTo>
                  <a:pt x="677" y="8"/>
                </a:lnTo>
                <a:lnTo>
                  <a:pt x="678" y="8"/>
                </a:lnTo>
                <a:lnTo>
                  <a:pt x="678" y="8"/>
                </a:lnTo>
                <a:lnTo>
                  <a:pt x="678" y="8"/>
                </a:lnTo>
                <a:lnTo>
                  <a:pt x="680" y="8"/>
                </a:lnTo>
                <a:lnTo>
                  <a:pt x="680" y="8"/>
                </a:lnTo>
                <a:lnTo>
                  <a:pt x="680" y="8"/>
                </a:lnTo>
                <a:lnTo>
                  <a:pt x="680" y="8"/>
                </a:lnTo>
                <a:lnTo>
                  <a:pt x="681" y="8"/>
                </a:lnTo>
                <a:lnTo>
                  <a:pt x="681" y="8"/>
                </a:lnTo>
                <a:lnTo>
                  <a:pt x="681" y="8"/>
                </a:lnTo>
                <a:lnTo>
                  <a:pt x="682" y="8"/>
                </a:lnTo>
                <a:lnTo>
                  <a:pt x="682" y="8"/>
                </a:lnTo>
                <a:lnTo>
                  <a:pt x="682" y="8"/>
                </a:lnTo>
                <a:lnTo>
                  <a:pt x="683" y="8"/>
                </a:lnTo>
                <a:lnTo>
                  <a:pt x="683" y="8"/>
                </a:lnTo>
                <a:lnTo>
                  <a:pt x="684" y="1"/>
                </a:lnTo>
                <a:lnTo>
                  <a:pt x="684" y="1"/>
                </a:lnTo>
                <a:lnTo>
                  <a:pt x="683" y="1"/>
                </a:lnTo>
                <a:lnTo>
                  <a:pt x="683" y="1"/>
                </a:lnTo>
                <a:lnTo>
                  <a:pt x="683" y="1"/>
                </a:lnTo>
                <a:lnTo>
                  <a:pt x="682" y="1"/>
                </a:lnTo>
                <a:lnTo>
                  <a:pt x="682" y="0"/>
                </a:lnTo>
                <a:lnTo>
                  <a:pt x="682" y="0"/>
                </a:lnTo>
                <a:lnTo>
                  <a:pt x="681" y="0"/>
                </a:lnTo>
                <a:lnTo>
                  <a:pt x="681" y="0"/>
                </a:lnTo>
                <a:lnTo>
                  <a:pt x="680" y="0"/>
                </a:lnTo>
                <a:lnTo>
                  <a:pt x="680" y="0"/>
                </a:lnTo>
                <a:lnTo>
                  <a:pt x="680" y="0"/>
                </a:lnTo>
                <a:lnTo>
                  <a:pt x="678" y="0"/>
                </a:lnTo>
                <a:lnTo>
                  <a:pt x="678" y="0"/>
                </a:lnTo>
                <a:lnTo>
                  <a:pt x="678" y="0"/>
                </a:lnTo>
                <a:lnTo>
                  <a:pt x="677" y="0"/>
                </a:lnTo>
                <a:lnTo>
                  <a:pt x="677" y="0"/>
                </a:lnTo>
                <a:lnTo>
                  <a:pt x="677" y="0"/>
                </a:lnTo>
                <a:lnTo>
                  <a:pt x="676" y="0"/>
                </a:lnTo>
                <a:lnTo>
                  <a:pt x="676" y="0"/>
                </a:lnTo>
                <a:lnTo>
                  <a:pt x="676" y="0"/>
                </a:lnTo>
                <a:lnTo>
                  <a:pt x="676" y="0"/>
                </a:lnTo>
                <a:lnTo>
                  <a:pt x="675" y="8"/>
                </a:lnTo>
                <a:close/>
                <a:moveTo>
                  <a:pt x="703" y="16"/>
                </a:moveTo>
                <a:lnTo>
                  <a:pt x="707" y="9"/>
                </a:lnTo>
                <a:lnTo>
                  <a:pt x="714" y="13"/>
                </a:lnTo>
                <a:lnTo>
                  <a:pt x="710" y="20"/>
                </a:lnTo>
                <a:lnTo>
                  <a:pt x="703" y="16"/>
                </a:lnTo>
                <a:close/>
                <a:moveTo>
                  <a:pt x="731" y="31"/>
                </a:moveTo>
                <a:lnTo>
                  <a:pt x="735" y="24"/>
                </a:lnTo>
                <a:lnTo>
                  <a:pt x="742" y="28"/>
                </a:lnTo>
                <a:lnTo>
                  <a:pt x="738" y="35"/>
                </a:lnTo>
                <a:lnTo>
                  <a:pt x="731" y="31"/>
                </a:lnTo>
                <a:close/>
                <a:moveTo>
                  <a:pt x="760" y="47"/>
                </a:moveTo>
                <a:lnTo>
                  <a:pt x="763" y="40"/>
                </a:lnTo>
                <a:lnTo>
                  <a:pt x="770" y="43"/>
                </a:lnTo>
                <a:lnTo>
                  <a:pt x="767" y="50"/>
                </a:lnTo>
                <a:lnTo>
                  <a:pt x="760" y="47"/>
                </a:lnTo>
                <a:close/>
                <a:moveTo>
                  <a:pt x="788" y="61"/>
                </a:moveTo>
                <a:lnTo>
                  <a:pt x="791" y="54"/>
                </a:lnTo>
                <a:lnTo>
                  <a:pt x="798" y="57"/>
                </a:lnTo>
                <a:lnTo>
                  <a:pt x="794" y="64"/>
                </a:lnTo>
                <a:lnTo>
                  <a:pt x="788" y="61"/>
                </a:lnTo>
                <a:close/>
                <a:moveTo>
                  <a:pt x="815" y="76"/>
                </a:moveTo>
                <a:lnTo>
                  <a:pt x="818" y="69"/>
                </a:lnTo>
                <a:lnTo>
                  <a:pt x="825" y="73"/>
                </a:lnTo>
                <a:lnTo>
                  <a:pt x="822" y="80"/>
                </a:lnTo>
                <a:lnTo>
                  <a:pt x="815" y="76"/>
                </a:lnTo>
                <a:close/>
                <a:moveTo>
                  <a:pt x="843" y="90"/>
                </a:moveTo>
                <a:lnTo>
                  <a:pt x="847" y="83"/>
                </a:lnTo>
                <a:lnTo>
                  <a:pt x="854" y="88"/>
                </a:lnTo>
                <a:lnTo>
                  <a:pt x="850" y="95"/>
                </a:lnTo>
                <a:lnTo>
                  <a:pt x="843" y="90"/>
                </a:lnTo>
                <a:close/>
                <a:moveTo>
                  <a:pt x="871" y="105"/>
                </a:moveTo>
                <a:lnTo>
                  <a:pt x="875" y="98"/>
                </a:lnTo>
                <a:lnTo>
                  <a:pt x="882" y="102"/>
                </a:lnTo>
                <a:lnTo>
                  <a:pt x="878" y="109"/>
                </a:lnTo>
                <a:lnTo>
                  <a:pt x="871" y="105"/>
                </a:lnTo>
                <a:close/>
                <a:moveTo>
                  <a:pt x="898" y="121"/>
                </a:moveTo>
                <a:lnTo>
                  <a:pt x="903" y="114"/>
                </a:lnTo>
                <a:lnTo>
                  <a:pt x="910" y="117"/>
                </a:lnTo>
                <a:lnTo>
                  <a:pt x="906" y="124"/>
                </a:lnTo>
                <a:lnTo>
                  <a:pt x="898" y="121"/>
                </a:lnTo>
                <a:close/>
                <a:moveTo>
                  <a:pt x="927" y="135"/>
                </a:moveTo>
                <a:lnTo>
                  <a:pt x="930" y="128"/>
                </a:lnTo>
                <a:lnTo>
                  <a:pt x="937" y="131"/>
                </a:lnTo>
                <a:lnTo>
                  <a:pt x="934" y="138"/>
                </a:lnTo>
                <a:lnTo>
                  <a:pt x="927" y="135"/>
                </a:lnTo>
                <a:close/>
                <a:moveTo>
                  <a:pt x="955" y="150"/>
                </a:moveTo>
                <a:lnTo>
                  <a:pt x="958" y="143"/>
                </a:lnTo>
                <a:lnTo>
                  <a:pt x="966" y="147"/>
                </a:lnTo>
                <a:lnTo>
                  <a:pt x="962" y="154"/>
                </a:lnTo>
                <a:lnTo>
                  <a:pt x="955" y="150"/>
                </a:lnTo>
                <a:close/>
                <a:moveTo>
                  <a:pt x="983" y="165"/>
                </a:moveTo>
                <a:lnTo>
                  <a:pt x="987" y="158"/>
                </a:lnTo>
                <a:lnTo>
                  <a:pt x="994" y="162"/>
                </a:lnTo>
                <a:lnTo>
                  <a:pt x="990" y="169"/>
                </a:lnTo>
                <a:lnTo>
                  <a:pt x="983" y="165"/>
                </a:lnTo>
                <a:close/>
                <a:moveTo>
                  <a:pt x="1010" y="180"/>
                </a:moveTo>
                <a:lnTo>
                  <a:pt x="1015" y="172"/>
                </a:lnTo>
                <a:lnTo>
                  <a:pt x="1021" y="176"/>
                </a:lnTo>
                <a:lnTo>
                  <a:pt x="1017" y="183"/>
                </a:lnTo>
                <a:lnTo>
                  <a:pt x="1010" y="180"/>
                </a:lnTo>
                <a:close/>
                <a:moveTo>
                  <a:pt x="1039" y="195"/>
                </a:moveTo>
                <a:lnTo>
                  <a:pt x="1042" y="188"/>
                </a:lnTo>
                <a:lnTo>
                  <a:pt x="1049" y="191"/>
                </a:lnTo>
                <a:lnTo>
                  <a:pt x="1046" y="198"/>
                </a:lnTo>
                <a:lnTo>
                  <a:pt x="1039" y="195"/>
                </a:lnTo>
                <a:close/>
                <a:moveTo>
                  <a:pt x="1067" y="209"/>
                </a:moveTo>
                <a:lnTo>
                  <a:pt x="1070" y="202"/>
                </a:lnTo>
                <a:lnTo>
                  <a:pt x="1077" y="207"/>
                </a:lnTo>
                <a:lnTo>
                  <a:pt x="1074" y="214"/>
                </a:lnTo>
                <a:lnTo>
                  <a:pt x="1067" y="209"/>
                </a:lnTo>
                <a:close/>
                <a:moveTo>
                  <a:pt x="1095" y="224"/>
                </a:moveTo>
                <a:lnTo>
                  <a:pt x="1099" y="217"/>
                </a:lnTo>
                <a:lnTo>
                  <a:pt x="1106" y="221"/>
                </a:lnTo>
                <a:lnTo>
                  <a:pt x="1102" y="228"/>
                </a:lnTo>
                <a:lnTo>
                  <a:pt x="1095" y="224"/>
                </a:lnTo>
                <a:close/>
                <a:moveTo>
                  <a:pt x="1122" y="240"/>
                </a:moveTo>
                <a:lnTo>
                  <a:pt x="1126" y="232"/>
                </a:lnTo>
                <a:lnTo>
                  <a:pt x="1133" y="236"/>
                </a:lnTo>
                <a:lnTo>
                  <a:pt x="1129" y="243"/>
                </a:lnTo>
                <a:lnTo>
                  <a:pt x="1122" y="240"/>
                </a:lnTo>
                <a:close/>
                <a:moveTo>
                  <a:pt x="1150" y="254"/>
                </a:moveTo>
                <a:lnTo>
                  <a:pt x="1154" y="247"/>
                </a:lnTo>
                <a:lnTo>
                  <a:pt x="1161" y="250"/>
                </a:lnTo>
                <a:lnTo>
                  <a:pt x="1157" y="257"/>
                </a:lnTo>
                <a:lnTo>
                  <a:pt x="1150" y="254"/>
                </a:lnTo>
                <a:close/>
                <a:moveTo>
                  <a:pt x="1179" y="269"/>
                </a:moveTo>
                <a:lnTo>
                  <a:pt x="1182" y="262"/>
                </a:lnTo>
                <a:lnTo>
                  <a:pt x="1189" y="265"/>
                </a:lnTo>
                <a:lnTo>
                  <a:pt x="1186" y="272"/>
                </a:lnTo>
                <a:lnTo>
                  <a:pt x="1179" y="269"/>
                </a:lnTo>
                <a:close/>
                <a:moveTo>
                  <a:pt x="1207" y="283"/>
                </a:moveTo>
                <a:lnTo>
                  <a:pt x="1210" y="277"/>
                </a:lnTo>
                <a:lnTo>
                  <a:pt x="1217" y="281"/>
                </a:lnTo>
                <a:lnTo>
                  <a:pt x="1213" y="288"/>
                </a:lnTo>
                <a:lnTo>
                  <a:pt x="1207" y="283"/>
                </a:lnTo>
                <a:close/>
                <a:moveTo>
                  <a:pt x="1234" y="298"/>
                </a:moveTo>
                <a:lnTo>
                  <a:pt x="1237" y="291"/>
                </a:lnTo>
                <a:lnTo>
                  <a:pt x="1244" y="295"/>
                </a:lnTo>
                <a:lnTo>
                  <a:pt x="1241" y="302"/>
                </a:lnTo>
                <a:lnTo>
                  <a:pt x="1234" y="298"/>
                </a:lnTo>
                <a:close/>
                <a:moveTo>
                  <a:pt x="1262" y="314"/>
                </a:moveTo>
                <a:lnTo>
                  <a:pt x="1266" y="307"/>
                </a:lnTo>
                <a:lnTo>
                  <a:pt x="1273" y="310"/>
                </a:lnTo>
                <a:lnTo>
                  <a:pt x="1269" y="317"/>
                </a:lnTo>
                <a:lnTo>
                  <a:pt x="1262" y="314"/>
                </a:lnTo>
                <a:close/>
                <a:moveTo>
                  <a:pt x="1290" y="328"/>
                </a:moveTo>
                <a:lnTo>
                  <a:pt x="1294" y="321"/>
                </a:lnTo>
                <a:lnTo>
                  <a:pt x="1301" y="325"/>
                </a:lnTo>
                <a:lnTo>
                  <a:pt x="1297" y="332"/>
                </a:lnTo>
                <a:lnTo>
                  <a:pt x="1290" y="328"/>
                </a:lnTo>
                <a:close/>
                <a:moveTo>
                  <a:pt x="1317" y="343"/>
                </a:moveTo>
                <a:lnTo>
                  <a:pt x="1322" y="336"/>
                </a:lnTo>
                <a:lnTo>
                  <a:pt x="1329" y="339"/>
                </a:lnTo>
                <a:lnTo>
                  <a:pt x="1325" y="347"/>
                </a:lnTo>
                <a:lnTo>
                  <a:pt x="1317" y="343"/>
                </a:lnTo>
                <a:close/>
                <a:moveTo>
                  <a:pt x="1346" y="358"/>
                </a:moveTo>
                <a:lnTo>
                  <a:pt x="1349" y="351"/>
                </a:lnTo>
                <a:lnTo>
                  <a:pt x="1356" y="355"/>
                </a:lnTo>
                <a:lnTo>
                  <a:pt x="1353" y="362"/>
                </a:lnTo>
                <a:lnTo>
                  <a:pt x="1346" y="358"/>
                </a:lnTo>
                <a:close/>
                <a:moveTo>
                  <a:pt x="1374" y="372"/>
                </a:moveTo>
                <a:lnTo>
                  <a:pt x="1377" y="365"/>
                </a:lnTo>
                <a:lnTo>
                  <a:pt x="1385" y="369"/>
                </a:lnTo>
                <a:lnTo>
                  <a:pt x="1381" y="376"/>
                </a:lnTo>
                <a:lnTo>
                  <a:pt x="1374" y="372"/>
                </a:lnTo>
                <a:close/>
                <a:moveTo>
                  <a:pt x="1402" y="388"/>
                </a:moveTo>
                <a:lnTo>
                  <a:pt x="1406" y="381"/>
                </a:lnTo>
                <a:lnTo>
                  <a:pt x="1406" y="381"/>
                </a:lnTo>
                <a:lnTo>
                  <a:pt x="1406" y="381"/>
                </a:lnTo>
                <a:lnTo>
                  <a:pt x="1407" y="381"/>
                </a:lnTo>
                <a:lnTo>
                  <a:pt x="1407" y="382"/>
                </a:lnTo>
                <a:lnTo>
                  <a:pt x="1408" y="382"/>
                </a:lnTo>
                <a:lnTo>
                  <a:pt x="1408" y="382"/>
                </a:lnTo>
                <a:lnTo>
                  <a:pt x="1408" y="382"/>
                </a:lnTo>
                <a:lnTo>
                  <a:pt x="1409" y="382"/>
                </a:lnTo>
                <a:lnTo>
                  <a:pt x="1409" y="383"/>
                </a:lnTo>
                <a:lnTo>
                  <a:pt x="1409" y="383"/>
                </a:lnTo>
                <a:lnTo>
                  <a:pt x="1410" y="383"/>
                </a:lnTo>
                <a:lnTo>
                  <a:pt x="1410" y="383"/>
                </a:lnTo>
                <a:lnTo>
                  <a:pt x="1410" y="384"/>
                </a:lnTo>
                <a:lnTo>
                  <a:pt x="1412" y="384"/>
                </a:lnTo>
                <a:lnTo>
                  <a:pt x="1412" y="384"/>
                </a:lnTo>
                <a:lnTo>
                  <a:pt x="1412" y="384"/>
                </a:lnTo>
                <a:lnTo>
                  <a:pt x="1413" y="384"/>
                </a:lnTo>
                <a:lnTo>
                  <a:pt x="1413" y="385"/>
                </a:lnTo>
                <a:lnTo>
                  <a:pt x="1413" y="385"/>
                </a:lnTo>
                <a:lnTo>
                  <a:pt x="1408" y="391"/>
                </a:lnTo>
                <a:lnTo>
                  <a:pt x="1408" y="391"/>
                </a:lnTo>
                <a:lnTo>
                  <a:pt x="1408" y="391"/>
                </a:lnTo>
                <a:lnTo>
                  <a:pt x="1407" y="391"/>
                </a:lnTo>
                <a:lnTo>
                  <a:pt x="1407" y="391"/>
                </a:lnTo>
                <a:lnTo>
                  <a:pt x="1407" y="390"/>
                </a:lnTo>
                <a:lnTo>
                  <a:pt x="1407" y="390"/>
                </a:lnTo>
                <a:lnTo>
                  <a:pt x="1406" y="390"/>
                </a:lnTo>
                <a:lnTo>
                  <a:pt x="1406" y="390"/>
                </a:lnTo>
                <a:lnTo>
                  <a:pt x="1406" y="390"/>
                </a:lnTo>
                <a:lnTo>
                  <a:pt x="1405" y="389"/>
                </a:lnTo>
                <a:lnTo>
                  <a:pt x="1405" y="389"/>
                </a:lnTo>
                <a:lnTo>
                  <a:pt x="1405" y="389"/>
                </a:lnTo>
                <a:lnTo>
                  <a:pt x="1403" y="389"/>
                </a:lnTo>
                <a:lnTo>
                  <a:pt x="1403" y="389"/>
                </a:lnTo>
                <a:lnTo>
                  <a:pt x="1403" y="389"/>
                </a:lnTo>
                <a:lnTo>
                  <a:pt x="1403" y="388"/>
                </a:lnTo>
                <a:lnTo>
                  <a:pt x="1402" y="388"/>
                </a:lnTo>
                <a:lnTo>
                  <a:pt x="1402" y="388"/>
                </a:lnTo>
                <a:lnTo>
                  <a:pt x="1402" y="388"/>
                </a:lnTo>
                <a:close/>
                <a:moveTo>
                  <a:pt x="1422" y="408"/>
                </a:moveTo>
                <a:lnTo>
                  <a:pt x="1422" y="408"/>
                </a:lnTo>
                <a:lnTo>
                  <a:pt x="1422" y="409"/>
                </a:lnTo>
                <a:lnTo>
                  <a:pt x="1422" y="409"/>
                </a:lnTo>
                <a:lnTo>
                  <a:pt x="1423" y="409"/>
                </a:lnTo>
                <a:lnTo>
                  <a:pt x="1423" y="409"/>
                </a:lnTo>
                <a:lnTo>
                  <a:pt x="1423" y="410"/>
                </a:lnTo>
                <a:lnTo>
                  <a:pt x="1423" y="410"/>
                </a:lnTo>
                <a:lnTo>
                  <a:pt x="1423" y="410"/>
                </a:lnTo>
                <a:lnTo>
                  <a:pt x="1423" y="411"/>
                </a:lnTo>
                <a:lnTo>
                  <a:pt x="1423" y="411"/>
                </a:lnTo>
                <a:lnTo>
                  <a:pt x="1423" y="411"/>
                </a:lnTo>
                <a:lnTo>
                  <a:pt x="1425" y="411"/>
                </a:lnTo>
                <a:lnTo>
                  <a:pt x="1425" y="412"/>
                </a:lnTo>
                <a:lnTo>
                  <a:pt x="1425" y="412"/>
                </a:lnTo>
                <a:lnTo>
                  <a:pt x="1425" y="412"/>
                </a:lnTo>
                <a:lnTo>
                  <a:pt x="1425" y="414"/>
                </a:lnTo>
                <a:lnTo>
                  <a:pt x="1425" y="414"/>
                </a:lnTo>
                <a:lnTo>
                  <a:pt x="1425" y="414"/>
                </a:lnTo>
                <a:lnTo>
                  <a:pt x="1425" y="415"/>
                </a:lnTo>
                <a:lnTo>
                  <a:pt x="1425" y="415"/>
                </a:lnTo>
                <a:lnTo>
                  <a:pt x="1425" y="415"/>
                </a:lnTo>
                <a:lnTo>
                  <a:pt x="1433" y="412"/>
                </a:lnTo>
                <a:lnTo>
                  <a:pt x="1433" y="412"/>
                </a:lnTo>
                <a:lnTo>
                  <a:pt x="1433" y="411"/>
                </a:lnTo>
                <a:lnTo>
                  <a:pt x="1433" y="411"/>
                </a:lnTo>
                <a:lnTo>
                  <a:pt x="1432" y="411"/>
                </a:lnTo>
                <a:lnTo>
                  <a:pt x="1432" y="410"/>
                </a:lnTo>
                <a:lnTo>
                  <a:pt x="1432" y="410"/>
                </a:lnTo>
                <a:lnTo>
                  <a:pt x="1432" y="410"/>
                </a:lnTo>
                <a:lnTo>
                  <a:pt x="1432" y="409"/>
                </a:lnTo>
                <a:lnTo>
                  <a:pt x="1432" y="409"/>
                </a:lnTo>
                <a:lnTo>
                  <a:pt x="1432" y="409"/>
                </a:lnTo>
                <a:lnTo>
                  <a:pt x="1430" y="408"/>
                </a:lnTo>
                <a:lnTo>
                  <a:pt x="1430" y="408"/>
                </a:lnTo>
                <a:lnTo>
                  <a:pt x="1430" y="408"/>
                </a:lnTo>
                <a:lnTo>
                  <a:pt x="1430" y="406"/>
                </a:lnTo>
                <a:lnTo>
                  <a:pt x="1430" y="406"/>
                </a:lnTo>
                <a:lnTo>
                  <a:pt x="1430" y="406"/>
                </a:lnTo>
                <a:lnTo>
                  <a:pt x="1430" y="405"/>
                </a:lnTo>
                <a:lnTo>
                  <a:pt x="1429" y="405"/>
                </a:lnTo>
                <a:lnTo>
                  <a:pt x="1429" y="405"/>
                </a:lnTo>
                <a:lnTo>
                  <a:pt x="1429" y="404"/>
                </a:lnTo>
                <a:lnTo>
                  <a:pt x="1429" y="404"/>
                </a:lnTo>
                <a:lnTo>
                  <a:pt x="1422" y="408"/>
                </a:lnTo>
                <a:close/>
                <a:moveTo>
                  <a:pt x="1427" y="436"/>
                </a:moveTo>
                <a:lnTo>
                  <a:pt x="1427" y="436"/>
                </a:lnTo>
                <a:lnTo>
                  <a:pt x="1427" y="437"/>
                </a:lnTo>
                <a:lnTo>
                  <a:pt x="1427" y="437"/>
                </a:lnTo>
                <a:lnTo>
                  <a:pt x="1427" y="437"/>
                </a:lnTo>
                <a:lnTo>
                  <a:pt x="1427" y="438"/>
                </a:lnTo>
                <a:lnTo>
                  <a:pt x="1427" y="438"/>
                </a:lnTo>
                <a:lnTo>
                  <a:pt x="1426" y="438"/>
                </a:lnTo>
                <a:lnTo>
                  <a:pt x="1426" y="438"/>
                </a:lnTo>
                <a:lnTo>
                  <a:pt x="1426" y="439"/>
                </a:lnTo>
                <a:lnTo>
                  <a:pt x="1426" y="439"/>
                </a:lnTo>
                <a:lnTo>
                  <a:pt x="1426" y="439"/>
                </a:lnTo>
                <a:lnTo>
                  <a:pt x="1426" y="441"/>
                </a:lnTo>
                <a:lnTo>
                  <a:pt x="1426" y="441"/>
                </a:lnTo>
                <a:lnTo>
                  <a:pt x="1426" y="441"/>
                </a:lnTo>
                <a:lnTo>
                  <a:pt x="1426" y="441"/>
                </a:lnTo>
                <a:lnTo>
                  <a:pt x="1426" y="442"/>
                </a:lnTo>
                <a:lnTo>
                  <a:pt x="1426" y="442"/>
                </a:lnTo>
                <a:lnTo>
                  <a:pt x="1426" y="442"/>
                </a:lnTo>
                <a:lnTo>
                  <a:pt x="1425" y="443"/>
                </a:lnTo>
                <a:lnTo>
                  <a:pt x="1425" y="443"/>
                </a:lnTo>
                <a:lnTo>
                  <a:pt x="1425" y="443"/>
                </a:lnTo>
                <a:lnTo>
                  <a:pt x="1433" y="445"/>
                </a:lnTo>
                <a:lnTo>
                  <a:pt x="1433" y="445"/>
                </a:lnTo>
                <a:lnTo>
                  <a:pt x="1433" y="445"/>
                </a:lnTo>
                <a:lnTo>
                  <a:pt x="1433" y="445"/>
                </a:lnTo>
                <a:lnTo>
                  <a:pt x="1433" y="444"/>
                </a:lnTo>
                <a:lnTo>
                  <a:pt x="1433" y="444"/>
                </a:lnTo>
                <a:lnTo>
                  <a:pt x="1433" y="443"/>
                </a:lnTo>
                <a:lnTo>
                  <a:pt x="1433" y="443"/>
                </a:lnTo>
                <a:lnTo>
                  <a:pt x="1433" y="443"/>
                </a:lnTo>
                <a:lnTo>
                  <a:pt x="1434" y="442"/>
                </a:lnTo>
                <a:lnTo>
                  <a:pt x="1434" y="442"/>
                </a:lnTo>
                <a:lnTo>
                  <a:pt x="1434" y="442"/>
                </a:lnTo>
                <a:lnTo>
                  <a:pt x="1434" y="441"/>
                </a:lnTo>
                <a:lnTo>
                  <a:pt x="1434" y="441"/>
                </a:lnTo>
                <a:lnTo>
                  <a:pt x="1434" y="441"/>
                </a:lnTo>
                <a:lnTo>
                  <a:pt x="1434" y="439"/>
                </a:lnTo>
                <a:lnTo>
                  <a:pt x="1434" y="439"/>
                </a:lnTo>
                <a:lnTo>
                  <a:pt x="1434" y="439"/>
                </a:lnTo>
                <a:lnTo>
                  <a:pt x="1434" y="438"/>
                </a:lnTo>
                <a:lnTo>
                  <a:pt x="1434" y="438"/>
                </a:lnTo>
                <a:lnTo>
                  <a:pt x="1434" y="438"/>
                </a:lnTo>
                <a:lnTo>
                  <a:pt x="1435" y="437"/>
                </a:lnTo>
                <a:lnTo>
                  <a:pt x="1427" y="436"/>
                </a:lnTo>
                <a:close/>
                <a:moveTo>
                  <a:pt x="1413" y="461"/>
                </a:moveTo>
                <a:lnTo>
                  <a:pt x="1413" y="461"/>
                </a:lnTo>
                <a:lnTo>
                  <a:pt x="1412" y="461"/>
                </a:lnTo>
                <a:lnTo>
                  <a:pt x="1412" y="462"/>
                </a:lnTo>
                <a:lnTo>
                  <a:pt x="1412" y="462"/>
                </a:lnTo>
                <a:lnTo>
                  <a:pt x="1412" y="462"/>
                </a:lnTo>
                <a:lnTo>
                  <a:pt x="1410" y="462"/>
                </a:lnTo>
                <a:lnTo>
                  <a:pt x="1410" y="462"/>
                </a:lnTo>
                <a:lnTo>
                  <a:pt x="1410" y="463"/>
                </a:lnTo>
                <a:lnTo>
                  <a:pt x="1409" y="463"/>
                </a:lnTo>
                <a:lnTo>
                  <a:pt x="1409" y="463"/>
                </a:lnTo>
                <a:lnTo>
                  <a:pt x="1409" y="463"/>
                </a:lnTo>
                <a:lnTo>
                  <a:pt x="1409" y="463"/>
                </a:lnTo>
                <a:lnTo>
                  <a:pt x="1408" y="464"/>
                </a:lnTo>
                <a:lnTo>
                  <a:pt x="1408" y="464"/>
                </a:lnTo>
                <a:lnTo>
                  <a:pt x="1408" y="464"/>
                </a:lnTo>
                <a:lnTo>
                  <a:pt x="1407" y="464"/>
                </a:lnTo>
                <a:lnTo>
                  <a:pt x="1407" y="464"/>
                </a:lnTo>
                <a:lnTo>
                  <a:pt x="1407" y="465"/>
                </a:lnTo>
                <a:lnTo>
                  <a:pt x="1410" y="471"/>
                </a:lnTo>
                <a:lnTo>
                  <a:pt x="1412" y="471"/>
                </a:lnTo>
                <a:lnTo>
                  <a:pt x="1412" y="471"/>
                </a:lnTo>
                <a:lnTo>
                  <a:pt x="1412" y="471"/>
                </a:lnTo>
                <a:lnTo>
                  <a:pt x="1413" y="470"/>
                </a:lnTo>
                <a:lnTo>
                  <a:pt x="1413" y="470"/>
                </a:lnTo>
                <a:lnTo>
                  <a:pt x="1413" y="470"/>
                </a:lnTo>
                <a:lnTo>
                  <a:pt x="1414" y="470"/>
                </a:lnTo>
                <a:lnTo>
                  <a:pt x="1414" y="470"/>
                </a:lnTo>
                <a:lnTo>
                  <a:pt x="1414" y="469"/>
                </a:lnTo>
                <a:lnTo>
                  <a:pt x="1415" y="469"/>
                </a:lnTo>
                <a:lnTo>
                  <a:pt x="1415" y="469"/>
                </a:lnTo>
                <a:lnTo>
                  <a:pt x="1415" y="469"/>
                </a:lnTo>
                <a:lnTo>
                  <a:pt x="1416" y="468"/>
                </a:lnTo>
                <a:lnTo>
                  <a:pt x="1416" y="468"/>
                </a:lnTo>
                <a:lnTo>
                  <a:pt x="1416" y="468"/>
                </a:lnTo>
                <a:lnTo>
                  <a:pt x="1417" y="468"/>
                </a:lnTo>
                <a:lnTo>
                  <a:pt x="1417" y="466"/>
                </a:lnTo>
                <a:lnTo>
                  <a:pt x="1417" y="466"/>
                </a:lnTo>
                <a:lnTo>
                  <a:pt x="1413" y="461"/>
                </a:lnTo>
                <a:close/>
                <a:moveTo>
                  <a:pt x="1386" y="476"/>
                </a:moveTo>
                <a:lnTo>
                  <a:pt x="1390" y="483"/>
                </a:lnTo>
                <a:lnTo>
                  <a:pt x="1383" y="486"/>
                </a:lnTo>
                <a:lnTo>
                  <a:pt x="1379" y="479"/>
                </a:lnTo>
                <a:lnTo>
                  <a:pt x="1386" y="476"/>
                </a:lnTo>
                <a:close/>
                <a:moveTo>
                  <a:pt x="1359" y="491"/>
                </a:moveTo>
                <a:lnTo>
                  <a:pt x="1362" y="498"/>
                </a:lnTo>
                <a:lnTo>
                  <a:pt x="1355" y="502"/>
                </a:lnTo>
                <a:lnTo>
                  <a:pt x="1352" y="495"/>
                </a:lnTo>
                <a:lnTo>
                  <a:pt x="1359" y="491"/>
                </a:lnTo>
                <a:close/>
                <a:moveTo>
                  <a:pt x="1330" y="505"/>
                </a:moveTo>
                <a:lnTo>
                  <a:pt x="1334" y="512"/>
                </a:lnTo>
                <a:lnTo>
                  <a:pt x="1327" y="517"/>
                </a:lnTo>
                <a:lnTo>
                  <a:pt x="1323" y="510"/>
                </a:lnTo>
                <a:lnTo>
                  <a:pt x="1330" y="505"/>
                </a:lnTo>
                <a:close/>
                <a:moveTo>
                  <a:pt x="1302" y="521"/>
                </a:moveTo>
                <a:lnTo>
                  <a:pt x="1306" y="528"/>
                </a:lnTo>
                <a:lnTo>
                  <a:pt x="1300" y="531"/>
                </a:lnTo>
                <a:lnTo>
                  <a:pt x="1295" y="524"/>
                </a:lnTo>
                <a:lnTo>
                  <a:pt x="1302" y="521"/>
                </a:lnTo>
                <a:close/>
                <a:moveTo>
                  <a:pt x="1275" y="536"/>
                </a:moveTo>
                <a:lnTo>
                  <a:pt x="1279" y="543"/>
                </a:lnTo>
                <a:lnTo>
                  <a:pt x="1272" y="546"/>
                </a:lnTo>
                <a:lnTo>
                  <a:pt x="1268" y="539"/>
                </a:lnTo>
                <a:lnTo>
                  <a:pt x="1275" y="536"/>
                </a:lnTo>
                <a:close/>
                <a:moveTo>
                  <a:pt x="1247" y="550"/>
                </a:moveTo>
                <a:lnTo>
                  <a:pt x="1250" y="557"/>
                </a:lnTo>
                <a:lnTo>
                  <a:pt x="1243" y="562"/>
                </a:lnTo>
                <a:lnTo>
                  <a:pt x="1240" y="555"/>
                </a:lnTo>
                <a:lnTo>
                  <a:pt x="1247" y="550"/>
                </a:lnTo>
                <a:close/>
                <a:moveTo>
                  <a:pt x="1219" y="565"/>
                </a:moveTo>
                <a:lnTo>
                  <a:pt x="1222" y="572"/>
                </a:lnTo>
                <a:lnTo>
                  <a:pt x="1215" y="576"/>
                </a:lnTo>
                <a:lnTo>
                  <a:pt x="1212" y="569"/>
                </a:lnTo>
                <a:lnTo>
                  <a:pt x="1219" y="565"/>
                </a:lnTo>
                <a:close/>
                <a:moveTo>
                  <a:pt x="1190" y="581"/>
                </a:moveTo>
                <a:lnTo>
                  <a:pt x="1195" y="588"/>
                </a:lnTo>
                <a:lnTo>
                  <a:pt x="1188" y="591"/>
                </a:lnTo>
                <a:lnTo>
                  <a:pt x="1184" y="584"/>
                </a:lnTo>
                <a:lnTo>
                  <a:pt x="1190" y="581"/>
                </a:lnTo>
                <a:close/>
                <a:moveTo>
                  <a:pt x="1163" y="596"/>
                </a:moveTo>
                <a:lnTo>
                  <a:pt x="1167" y="602"/>
                </a:lnTo>
                <a:lnTo>
                  <a:pt x="1160" y="606"/>
                </a:lnTo>
                <a:lnTo>
                  <a:pt x="1156" y="599"/>
                </a:lnTo>
                <a:lnTo>
                  <a:pt x="1163" y="596"/>
                </a:lnTo>
                <a:close/>
                <a:moveTo>
                  <a:pt x="1135" y="610"/>
                </a:moveTo>
                <a:lnTo>
                  <a:pt x="1139" y="617"/>
                </a:lnTo>
                <a:lnTo>
                  <a:pt x="1131" y="621"/>
                </a:lnTo>
                <a:lnTo>
                  <a:pt x="1128" y="613"/>
                </a:lnTo>
                <a:lnTo>
                  <a:pt x="1135" y="610"/>
                </a:lnTo>
                <a:close/>
                <a:moveTo>
                  <a:pt x="1107" y="625"/>
                </a:moveTo>
                <a:lnTo>
                  <a:pt x="1111" y="632"/>
                </a:lnTo>
                <a:lnTo>
                  <a:pt x="1104" y="636"/>
                </a:lnTo>
                <a:lnTo>
                  <a:pt x="1100" y="629"/>
                </a:lnTo>
                <a:lnTo>
                  <a:pt x="1107" y="625"/>
                </a:lnTo>
                <a:close/>
                <a:moveTo>
                  <a:pt x="1080" y="641"/>
                </a:moveTo>
                <a:lnTo>
                  <a:pt x="1083" y="648"/>
                </a:lnTo>
                <a:lnTo>
                  <a:pt x="1076" y="651"/>
                </a:lnTo>
                <a:lnTo>
                  <a:pt x="1073" y="644"/>
                </a:lnTo>
                <a:lnTo>
                  <a:pt x="1080" y="641"/>
                </a:lnTo>
                <a:close/>
                <a:moveTo>
                  <a:pt x="1051" y="655"/>
                </a:moveTo>
                <a:lnTo>
                  <a:pt x="1055" y="662"/>
                </a:lnTo>
                <a:lnTo>
                  <a:pt x="1048" y="665"/>
                </a:lnTo>
                <a:lnTo>
                  <a:pt x="1044" y="658"/>
                </a:lnTo>
                <a:lnTo>
                  <a:pt x="1051" y="655"/>
                </a:lnTo>
                <a:close/>
                <a:moveTo>
                  <a:pt x="1023" y="670"/>
                </a:moveTo>
                <a:lnTo>
                  <a:pt x="1027" y="677"/>
                </a:lnTo>
                <a:lnTo>
                  <a:pt x="1020" y="680"/>
                </a:lnTo>
                <a:lnTo>
                  <a:pt x="1016" y="673"/>
                </a:lnTo>
                <a:lnTo>
                  <a:pt x="1023" y="670"/>
                </a:lnTo>
                <a:close/>
                <a:moveTo>
                  <a:pt x="996" y="685"/>
                </a:moveTo>
                <a:lnTo>
                  <a:pt x="1000" y="692"/>
                </a:lnTo>
                <a:lnTo>
                  <a:pt x="993" y="696"/>
                </a:lnTo>
                <a:lnTo>
                  <a:pt x="989" y="689"/>
                </a:lnTo>
                <a:lnTo>
                  <a:pt x="996" y="685"/>
                </a:lnTo>
                <a:close/>
                <a:moveTo>
                  <a:pt x="968" y="699"/>
                </a:moveTo>
                <a:lnTo>
                  <a:pt x="971" y="706"/>
                </a:lnTo>
                <a:lnTo>
                  <a:pt x="964" y="710"/>
                </a:lnTo>
                <a:lnTo>
                  <a:pt x="961" y="703"/>
                </a:lnTo>
                <a:lnTo>
                  <a:pt x="968" y="699"/>
                </a:lnTo>
                <a:close/>
                <a:moveTo>
                  <a:pt x="940" y="715"/>
                </a:moveTo>
                <a:lnTo>
                  <a:pt x="943" y="722"/>
                </a:lnTo>
                <a:lnTo>
                  <a:pt x="936" y="725"/>
                </a:lnTo>
                <a:lnTo>
                  <a:pt x="933" y="718"/>
                </a:lnTo>
                <a:lnTo>
                  <a:pt x="940" y="715"/>
                </a:lnTo>
                <a:close/>
                <a:moveTo>
                  <a:pt x="911" y="730"/>
                </a:moveTo>
                <a:lnTo>
                  <a:pt x="916" y="737"/>
                </a:lnTo>
                <a:lnTo>
                  <a:pt x="909" y="740"/>
                </a:lnTo>
                <a:lnTo>
                  <a:pt x="906" y="733"/>
                </a:lnTo>
                <a:lnTo>
                  <a:pt x="911" y="730"/>
                </a:lnTo>
                <a:close/>
                <a:moveTo>
                  <a:pt x="884" y="744"/>
                </a:moveTo>
                <a:lnTo>
                  <a:pt x="888" y="751"/>
                </a:lnTo>
                <a:lnTo>
                  <a:pt x="881" y="755"/>
                </a:lnTo>
                <a:lnTo>
                  <a:pt x="877" y="749"/>
                </a:lnTo>
                <a:lnTo>
                  <a:pt x="884" y="744"/>
                </a:lnTo>
                <a:close/>
                <a:moveTo>
                  <a:pt x="856" y="759"/>
                </a:moveTo>
                <a:lnTo>
                  <a:pt x="860" y="766"/>
                </a:lnTo>
                <a:lnTo>
                  <a:pt x="853" y="770"/>
                </a:lnTo>
                <a:lnTo>
                  <a:pt x="849" y="763"/>
                </a:lnTo>
                <a:lnTo>
                  <a:pt x="856" y="759"/>
                </a:lnTo>
                <a:close/>
                <a:moveTo>
                  <a:pt x="828" y="775"/>
                </a:moveTo>
                <a:lnTo>
                  <a:pt x="833" y="782"/>
                </a:lnTo>
                <a:lnTo>
                  <a:pt x="825" y="785"/>
                </a:lnTo>
                <a:lnTo>
                  <a:pt x="821" y="778"/>
                </a:lnTo>
                <a:lnTo>
                  <a:pt x="828" y="775"/>
                </a:lnTo>
                <a:close/>
                <a:moveTo>
                  <a:pt x="801" y="789"/>
                </a:moveTo>
                <a:lnTo>
                  <a:pt x="804" y="796"/>
                </a:lnTo>
                <a:lnTo>
                  <a:pt x="797" y="799"/>
                </a:lnTo>
                <a:lnTo>
                  <a:pt x="794" y="793"/>
                </a:lnTo>
                <a:lnTo>
                  <a:pt x="801" y="789"/>
                </a:lnTo>
                <a:close/>
                <a:moveTo>
                  <a:pt x="773" y="804"/>
                </a:moveTo>
                <a:lnTo>
                  <a:pt x="776" y="811"/>
                </a:lnTo>
                <a:lnTo>
                  <a:pt x="769" y="815"/>
                </a:lnTo>
                <a:lnTo>
                  <a:pt x="765" y="807"/>
                </a:lnTo>
                <a:lnTo>
                  <a:pt x="773" y="804"/>
                </a:lnTo>
                <a:close/>
                <a:moveTo>
                  <a:pt x="744" y="819"/>
                </a:moveTo>
                <a:lnTo>
                  <a:pt x="748" y="826"/>
                </a:lnTo>
                <a:lnTo>
                  <a:pt x="741" y="830"/>
                </a:lnTo>
                <a:lnTo>
                  <a:pt x="737" y="823"/>
                </a:lnTo>
                <a:lnTo>
                  <a:pt x="744" y="819"/>
                </a:lnTo>
                <a:close/>
                <a:moveTo>
                  <a:pt x="717" y="833"/>
                </a:moveTo>
                <a:lnTo>
                  <a:pt x="721" y="840"/>
                </a:lnTo>
                <a:lnTo>
                  <a:pt x="714" y="845"/>
                </a:lnTo>
                <a:lnTo>
                  <a:pt x="710" y="838"/>
                </a:lnTo>
                <a:lnTo>
                  <a:pt x="717" y="833"/>
                </a:lnTo>
                <a:close/>
                <a:moveTo>
                  <a:pt x="689" y="847"/>
                </a:moveTo>
                <a:lnTo>
                  <a:pt x="689" y="847"/>
                </a:lnTo>
                <a:lnTo>
                  <a:pt x="689" y="847"/>
                </a:lnTo>
                <a:lnTo>
                  <a:pt x="688" y="847"/>
                </a:lnTo>
                <a:lnTo>
                  <a:pt x="688" y="849"/>
                </a:lnTo>
                <a:lnTo>
                  <a:pt x="688" y="849"/>
                </a:lnTo>
                <a:lnTo>
                  <a:pt x="687" y="849"/>
                </a:lnTo>
                <a:lnTo>
                  <a:pt x="687" y="849"/>
                </a:lnTo>
                <a:lnTo>
                  <a:pt x="687" y="849"/>
                </a:lnTo>
                <a:lnTo>
                  <a:pt x="687" y="849"/>
                </a:lnTo>
                <a:lnTo>
                  <a:pt x="685" y="849"/>
                </a:lnTo>
                <a:lnTo>
                  <a:pt x="685" y="849"/>
                </a:lnTo>
                <a:lnTo>
                  <a:pt x="685" y="849"/>
                </a:lnTo>
                <a:lnTo>
                  <a:pt x="684" y="849"/>
                </a:lnTo>
                <a:lnTo>
                  <a:pt x="684" y="849"/>
                </a:lnTo>
                <a:lnTo>
                  <a:pt x="684" y="849"/>
                </a:lnTo>
                <a:lnTo>
                  <a:pt x="683" y="849"/>
                </a:lnTo>
                <a:lnTo>
                  <a:pt x="683" y="849"/>
                </a:lnTo>
                <a:lnTo>
                  <a:pt x="683" y="849"/>
                </a:lnTo>
                <a:lnTo>
                  <a:pt x="683" y="850"/>
                </a:lnTo>
                <a:lnTo>
                  <a:pt x="682" y="850"/>
                </a:lnTo>
                <a:lnTo>
                  <a:pt x="682" y="850"/>
                </a:lnTo>
                <a:lnTo>
                  <a:pt x="683" y="857"/>
                </a:lnTo>
                <a:lnTo>
                  <a:pt x="683" y="857"/>
                </a:lnTo>
                <a:lnTo>
                  <a:pt x="684" y="857"/>
                </a:lnTo>
                <a:lnTo>
                  <a:pt x="684" y="857"/>
                </a:lnTo>
                <a:lnTo>
                  <a:pt x="684" y="857"/>
                </a:lnTo>
                <a:lnTo>
                  <a:pt x="685" y="857"/>
                </a:lnTo>
                <a:lnTo>
                  <a:pt x="685" y="857"/>
                </a:lnTo>
                <a:lnTo>
                  <a:pt x="685" y="857"/>
                </a:lnTo>
                <a:lnTo>
                  <a:pt x="687" y="857"/>
                </a:lnTo>
                <a:lnTo>
                  <a:pt x="687" y="857"/>
                </a:lnTo>
                <a:lnTo>
                  <a:pt x="687" y="857"/>
                </a:lnTo>
                <a:lnTo>
                  <a:pt x="688" y="857"/>
                </a:lnTo>
                <a:lnTo>
                  <a:pt x="688" y="856"/>
                </a:lnTo>
                <a:lnTo>
                  <a:pt x="688" y="856"/>
                </a:lnTo>
                <a:lnTo>
                  <a:pt x="689" y="856"/>
                </a:lnTo>
                <a:lnTo>
                  <a:pt x="689" y="856"/>
                </a:lnTo>
                <a:lnTo>
                  <a:pt x="689" y="856"/>
                </a:lnTo>
                <a:lnTo>
                  <a:pt x="690" y="856"/>
                </a:lnTo>
                <a:lnTo>
                  <a:pt x="690" y="856"/>
                </a:lnTo>
                <a:lnTo>
                  <a:pt x="690" y="856"/>
                </a:lnTo>
                <a:lnTo>
                  <a:pt x="691" y="856"/>
                </a:lnTo>
                <a:lnTo>
                  <a:pt x="691" y="856"/>
                </a:lnTo>
                <a:lnTo>
                  <a:pt x="689" y="847"/>
                </a:lnTo>
                <a:close/>
                <a:moveTo>
                  <a:pt x="661" y="847"/>
                </a:moveTo>
                <a:lnTo>
                  <a:pt x="661" y="847"/>
                </a:lnTo>
                <a:lnTo>
                  <a:pt x="660" y="847"/>
                </a:lnTo>
                <a:lnTo>
                  <a:pt x="660" y="847"/>
                </a:lnTo>
                <a:lnTo>
                  <a:pt x="660" y="847"/>
                </a:lnTo>
                <a:lnTo>
                  <a:pt x="658" y="847"/>
                </a:lnTo>
                <a:lnTo>
                  <a:pt x="658" y="847"/>
                </a:lnTo>
                <a:lnTo>
                  <a:pt x="658" y="847"/>
                </a:lnTo>
                <a:lnTo>
                  <a:pt x="658" y="847"/>
                </a:lnTo>
                <a:lnTo>
                  <a:pt x="657" y="847"/>
                </a:lnTo>
                <a:lnTo>
                  <a:pt x="657" y="846"/>
                </a:lnTo>
                <a:lnTo>
                  <a:pt x="657" y="846"/>
                </a:lnTo>
                <a:lnTo>
                  <a:pt x="656" y="846"/>
                </a:lnTo>
                <a:lnTo>
                  <a:pt x="656" y="846"/>
                </a:lnTo>
                <a:lnTo>
                  <a:pt x="656" y="846"/>
                </a:lnTo>
                <a:lnTo>
                  <a:pt x="656" y="846"/>
                </a:lnTo>
                <a:lnTo>
                  <a:pt x="655" y="846"/>
                </a:lnTo>
                <a:lnTo>
                  <a:pt x="655" y="846"/>
                </a:lnTo>
                <a:lnTo>
                  <a:pt x="655" y="846"/>
                </a:lnTo>
                <a:lnTo>
                  <a:pt x="655" y="845"/>
                </a:lnTo>
                <a:lnTo>
                  <a:pt x="654" y="845"/>
                </a:lnTo>
                <a:lnTo>
                  <a:pt x="654" y="845"/>
                </a:lnTo>
                <a:lnTo>
                  <a:pt x="654" y="845"/>
                </a:lnTo>
                <a:lnTo>
                  <a:pt x="650" y="852"/>
                </a:lnTo>
                <a:lnTo>
                  <a:pt x="650" y="852"/>
                </a:lnTo>
                <a:lnTo>
                  <a:pt x="650" y="852"/>
                </a:lnTo>
                <a:lnTo>
                  <a:pt x="651" y="853"/>
                </a:lnTo>
                <a:lnTo>
                  <a:pt x="651" y="853"/>
                </a:lnTo>
                <a:lnTo>
                  <a:pt x="651" y="853"/>
                </a:lnTo>
                <a:lnTo>
                  <a:pt x="652" y="853"/>
                </a:lnTo>
                <a:lnTo>
                  <a:pt x="652" y="853"/>
                </a:lnTo>
                <a:lnTo>
                  <a:pt x="652" y="853"/>
                </a:lnTo>
                <a:lnTo>
                  <a:pt x="654" y="853"/>
                </a:lnTo>
                <a:lnTo>
                  <a:pt x="654" y="853"/>
                </a:lnTo>
                <a:lnTo>
                  <a:pt x="654" y="855"/>
                </a:lnTo>
                <a:lnTo>
                  <a:pt x="655" y="855"/>
                </a:lnTo>
                <a:lnTo>
                  <a:pt x="655" y="855"/>
                </a:lnTo>
                <a:lnTo>
                  <a:pt x="655" y="855"/>
                </a:lnTo>
                <a:lnTo>
                  <a:pt x="656" y="855"/>
                </a:lnTo>
                <a:lnTo>
                  <a:pt x="656" y="855"/>
                </a:lnTo>
                <a:lnTo>
                  <a:pt x="656" y="855"/>
                </a:lnTo>
                <a:lnTo>
                  <a:pt x="657" y="855"/>
                </a:lnTo>
                <a:lnTo>
                  <a:pt x="657" y="856"/>
                </a:lnTo>
                <a:lnTo>
                  <a:pt x="657" y="856"/>
                </a:lnTo>
                <a:lnTo>
                  <a:pt x="658" y="856"/>
                </a:lnTo>
                <a:lnTo>
                  <a:pt x="658" y="856"/>
                </a:lnTo>
                <a:lnTo>
                  <a:pt x="661" y="847"/>
                </a:lnTo>
                <a:close/>
                <a:moveTo>
                  <a:pt x="637" y="831"/>
                </a:moveTo>
                <a:lnTo>
                  <a:pt x="637" y="831"/>
                </a:lnTo>
                <a:lnTo>
                  <a:pt x="637" y="831"/>
                </a:lnTo>
                <a:lnTo>
                  <a:pt x="637" y="830"/>
                </a:lnTo>
                <a:lnTo>
                  <a:pt x="637" y="830"/>
                </a:lnTo>
                <a:lnTo>
                  <a:pt x="636" y="830"/>
                </a:lnTo>
                <a:lnTo>
                  <a:pt x="636" y="830"/>
                </a:lnTo>
                <a:lnTo>
                  <a:pt x="636" y="829"/>
                </a:lnTo>
                <a:lnTo>
                  <a:pt x="636" y="829"/>
                </a:lnTo>
                <a:lnTo>
                  <a:pt x="636" y="829"/>
                </a:lnTo>
                <a:lnTo>
                  <a:pt x="636" y="829"/>
                </a:lnTo>
                <a:lnTo>
                  <a:pt x="635" y="827"/>
                </a:lnTo>
                <a:lnTo>
                  <a:pt x="635" y="827"/>
                </a:lnTo>
                <a:lnTo>
                  <a:pt x="635" y="827"/>
                </a:lnTo>
                <a:lnTo>
                  <a:pt x="635" y="826"/>
                </a:lnTo>
                <a:lnTo>
                  <a:pt x="635" y="826"/>
                </a:lnTo>
                <a:lnTo>
                  <a:pt x="635" y="826"/>
                </a:lnTo>
                <a:lnTo>
                  <a:pt x="635" y="826"/>
                </a:lnTo>
                <a:lnTo>
                  <a:pt x="634" y="825"/>
                </a:lnTo>
                <a:lnTo>
                  <a:pt x="634" y="825"/>
                </a:lnTo>
                <a:lnTo>
                  <a:pt x="634" y="825"/>
                </a:lnTo>
                <a:lnTo>
                  <a:pt x="627" y="827"/>
                </a:lnTo>
                <a:lnTo>
                  <a:pt x="627" y="829"/>
                </a:lnTo>
                <a:lnTo>
                  <a:pt x="627" y="829"/>
                </a:lnTo>
                <a:lnTo>
                  <a:pt x="627" y="829"/>
                </a:lnTo>
                <a:lnTo>
                  <a:pt x="628" y="830"/>
                </a:lnTo>
                <a:lnTo>
                  <a:pt x="628" y="830"/>
                </a:lnTo>
                <a:lnTo>
                  <a:pt x="628" y="830"/>
                </a:lnTo>
                <a:lnTo>
                  <a:pt x="628" y="831"/>
                </a:lnTo>
                <a:lnTo>
                  <a:pt x="628" y="831"/>
                </a:lnTo>
                <a:lnTo>
                  <a:pt x="628" y="831"/>
                </a:lnTo>
                <a:lnTo>
                  <a:pt x="629" y="832"/>
                </a:lnTo>
                <a:lnTo>
                  <a:pt x="629" y="832"/>
                </a:lnTo>
                <a:lnTo>
                  <a:pt x="629" y="832"/>
                </a:lnTo>
                <a:lnTo>
                  <a:pt x="629" y="833"/>
                </a:lnTo>
                <a:lnTo>
                  <a:pt x="629" y="833"/>
                </a:lnTo>
                <a:lnTo>
                  <a:pt x="630" y="833"/>
                </a:lnTo>
                <a:lnTo>
                  <a:pt x="630" y="835"/>
                </a:lnTo>
                <a:lnTo>
                  <a:pt x="630" y="835"/>
                </a:lnTo>
                <a:lnTo>
                  <a:pt x="630" y="835"/>
                </a:lnTo>
                <a:lnTo>
                  <a:pt x="630" y="836"/>
                </a:lnTo>
                <a:lnTo>
                  <a:pt x="631" y="836"/>
                </a:lnTo>
                <a:lnTo>
                  <a:pt x="637" y="831"/>
                </a:lnTo>
                <a:close/>
                <a:moveTo>
                  <a:pt x="630" y="803"/>
                </a:moveTo>
                <a:lnTo>
                  <a:pt x="622" y="803"/>
                </a:lnTo>
                <a:lnTo>
                  <a:pt x="622" y="796"/>
                </a:lnTo>
                <a:lnTo>
                  <a:pt x="630" y="796"/>
                </a:lnTo>
                <a:lnTo>
                  <a:pt x="630" y="803"/>
                </a:lnTo>
                <a:close/>
                <a:moveTo>
                  <a:pt x="630" y="772"/>
                </a:moveTo>
                <a:lnTo>
                  <a:pt x="622" y="772"/>
                </a:lnTo>
                <a:lnTo>
                  <a:pt x="622" y="764"/>
                </a:lnTo>
                <a:lnTo>
                  <a:pt x="630" y="764"/>
                </a:lnTo>
                <a:lnTo>
                  <a:pt x="630" y="772"/>
                </a:lnTo>
                <a:close/>
                <a:moveTo>
                  <a:pt x="630" y="740"/>
                </a:moveTo>
                <a:lnTo>
                  <a:pt x="622" y="740"/>
                </a:lnTo>
                <a:lnTo>
                  <a:pt x="622" y="732"/>
                </a:lnTo>
                <a:lnTo>
                  <a:pt x="630" y="732"/>
                </a:lnTo>
                <a:lnTo>
                  <a:pt x="630" y="740"/>
                </a:lnTo>
                <a:close/>
                <a:moveTo>
                  <a:pt x="630" y="709"/>
                </a:moveTo>
                <a:lnTo>
                  <a:pt x="622" y="709"/>
                </a:lnTo>
                <a:lnTo>
                  <a:pt x="622" y="700"/>
                </a:lnTo>
                <a:lnTo>
                  <a:pt x="630" y="700"/>
                </a:lnTo>
                <a:lnTo>
                  <a:pt x="630" y="709"/>
                </a:lnTo>
                <a:close/>
                <a:moveTo>
                  <a:pt x="630" y="677"/>
                </a:moveTo>
                <a:lnTo>
                  <a:pt x="622" y="677"/>
                </a:lnTo>
                <a:lnTo>
                  <a:pt x="622" y="669"/>
                </a:lnTo>
                <a:lnTo>
                  <a:pt x="630" y="669"/>
                </a:lnTo>
                <a:lnTo>
                  <a:pt x="630" y="677"/>
                </a:lnTo>
                <a:close/>
                <a:moveTo>
                  <a:pt x="630" y="645"/>
                </a:moveTo>
                <a:lnTo>
                  <a:pt x="622" y="645"/>
                </a:lnTo>
                <a:lnTo>
                  <a:pt x="622" y="637"/>
                </a:lnTo>
                <a:lnTo>
                  <a:pt x="630" y="637"/>
                </a:lnTo>
                <a:lnTo>
                  <a:pt x="630" y="645"/>
                </a:lnTo>
                <a:close/>
                <a:moveTo>
                  <a:pt x="630" y="613"/>
                </a:moveTo>
                <a:lnTo>
                  <a:pt x="622" y="613"/>
                </a:lnTo>
                <a:lnTo>
                  <a:pt x="622" y="605"/>
                </a:lnTo>
                <a:lnTo>
                  <a:pt x="630" y="605"/>
                </a:lnTo>
                <a:lnTo>
                  <a:pt x="630" y="613"/>
                </a:lnTo>
                <a:close/>
                <a:moveTo>
                  <a:pt x="610" y="595"/>
                </a:moveTo>
                <a:lnTo>
                  <a:pt x="610" y="602"/>
                </a:lnTo>
                <a:lnTo>
                  <a:pt x="602" y="602"/>
                </a:lnTo>
                <a:lnTo>
                  <a:pt x="602" y="595"/>
                </a:lnTo>
                <a:lnTo>
                  <a:pt x="610" y="595"/>
                </a:lnTo>
                <a:close/>
                <a:moveTo>
                  <a:pt x="578" y="595"/>
                </a:moveTo>
                <a:lnTo>
                  <a:pt x="578" y="602"/>
                </a:lnTo>
                <a:lnTo>
                  <a:pt x="570" y="602"/>
                </a:lnTo>
                <a:lnTo>
                  <a:pt x="570" y="595"/>
                </a:lnTo>
                <a:lnTo>
                  <a:pt x="578" y="595"/>
                </a:lnTo>
                <a:close/>
                <a:moveTo>
                  <a:pt x="547" y="595"/>
                </a:moveTo>
                <a:lnTo>
                  <a:pt x="547" y="602"/>
                </a:lnTo>
                <a:lnTo>
                  <a:pt x="538" y="602"/>
                </a:lnTo>
                <a:lnTo>
                  <a:pt x="538" y="595"/>
                </a:lnTo>
                <a:lnTo>
                  <a:pt x="547" y="595"/>
                </a:lnTo>
                <a:close/>
                <a:moveTo>
                  <a:pt x="515" y="595"/>
                </a:moveTo>
                <a:lnTo>
                  <a:pt x="515" y="602"/>
                </a:lnTo>
                <a:lnTo>
                  <a:pt x="507" y="602"/>
                </a:lnTo>
                <a:lnTo>
                  <a:pt x="507" y="595"/>
                </a:lnTo>
                <a:lnTo>
                  <a:pt x="515" y="595"/>
                </a:lnTo>
                <a:close/>
                <a:moveTo>
                  <a:pt x="483" y="595"/>
                </a:moveTo>
                <a:lnTo>
                  <a:pt x="483" y="602"/>
                </a:lnTo>
                <a:lnTo>
                  <a:pt x="476" y="602"/>
                </a:lnTo>
                <a:lnTo>
                  <a:pt x="476" y="595"/>
                </a:lnTo>
                <a:lnTo>
                  <a:pt x="483" y="595"/>
                </a:lnTo>
                <a:close/>
                <a:moveTo>
                  <a:pt x="451" y="595"/>
                </a:moveTo>
                <a:lnTo>
                  <a:pt x="451" y="602"/>
                </a:lnTo>
                <a:lnTo>
                  <a:pt x="444" y="602"/>
                </a:lnTo>
                <a:lnTo>
                  <a:pt x="444" y="595"/>
                </a:lnTo>
                <a:lnTo>
                  <a:pt x="451" y="595"/>
                </a:lnTo>
                <a:close/>
                <a:moveTo>
                  <a:pt x="421" y="595"/>
                </a:moveTo>
                <a:lnTo>
                  <a:pt x="421" y="602"/>
                </a:lnTo>
                <a:lnTo>
                  <a:pt x="412" y="602"/>
                </a:lnTo>
                <a:lnTo>
                  <a:pt x="412" y="595"/>
                </a:lnTo>
                <a:lnTo>
                  <a:pt x="421" y="595"/>
                </a:lnTo>
                <a:close/>
                <a:moveTo>
                  <a:pt x="389" y="595"/>
                </a:moveTo>
                <a:lnTo>
                  <a:pt x="389" y="602"/>
                </a:lnTo>
                <a:lnTo>
                  <a:pt x="381" y="602"/>
                </a:lnTo>
                <a:lnTo>
                  <a:pt x="381" y="595"/>
                </a:lnTo>
                <a:lnTo>
                  <a:pt x="389" y="595"/>
                </a:lnTo>
                <a:close/>
                <a:moveTo>
                  <a:pt x="357" y="595"/>
                </a:moveTo>
                <a:lnTo>
                  <a:pt x="357" y="602"/>
                </a:lnTo>
                <a:lnTo>
                  <a:pt x="349" y="602"/>
                </a:lnTo>
                <a:lnTo>
                  <a:pt x="349" y="595"/>
                </a:lnTo>
                <a:lnTo>
                  <a:pt x="357" y="595"/>
                </a:lnTo>
                <a:close/>
                <a:moveTo>
                  <a:pt x="325" y="595"/>
                </a:moveTo>
                <a:lnTo>
                  <a:pt x="325" y="602"/>
                </a:lnTo>
                <a:lnTo>
                  <a:pt x="317" y="602"/>
                </a:lnTo>
                <a:lnTo>
                  <a:pt x="317" y="595"/>
                </a:lnTo>
                <a:lnTo>
                  <a:pt x="325" y="595"/>
                </a:lnTo>
                <a:close/>
                <a:moveTo>
                  <a:pt x="294" y="595"/>
                </a:moveTo>
                <a:lnTo>
                  <a:pt x="294" y="602"/>
                </a:lnTo>
                <a:lnTo>
                  <a:pt x="285" y="602"/>
                </a:lnTo>
                <a:lnTo>
                  <a:pt x="285" y="595"/>
                </a:lnTo>
                <a:lnTo>
                  <a:pt x="294" y="595"/>
                </a:lnTo>
                <a:close/>
                <a:moveTo>
                  <a:pt x="262" y="595"/>
                </a:moveTo>
                <a:lnTo>
                  <a:pt x="262" y="602"/>
                </a:lnTo>
                <a:lnTo>
                  <a:pt x="254" y="602"/>
                </a:lnTo>
                <a:lnTo>
                  <a:pt x="254" y="595"/>
                </a:lnTo>
                <a:lnTo>
                  <a:pt x="262" y="595"/>
                </a:lnTo>
                <a:close/>
                <a:moveTo>
                  <a:pt x="230" y="595"/>
                </a:moveTo>
                <a:lnTo>
                  <a:pt x="230" y="602"/>
                </a:lnTo>
                <a:lnTo>
                  <a:pt x="223" y="602"/>
                </a:lnTo>
                <a:lnTo>
                  <a:pt x="223" y="595"/>
                </a:lnTo>
                <a:lnTo>
                  <a:pt x="230" y="595"/>
                </a:lnTo>
                <a:close/>
                <a:moveTo>
                  <a:pt x="198" y="595"/>
                </a:moveTo>
                <a:lnTo>
                  <a:pt x="198" y="602"/>
                </a:lnTo>
                <a:lnTo>
                  <a:pt x="191" y="602"/>
                </a:lnTo>
                <a:lnTo>
                  <a:pt x="191" y="595"/>
                </a:lnTo>
                <a:lnTo>
                  <a:pt x="198" y="595"/>
                </a:lnTo>
                <a:close/>
                <a:moveTo>
                  <a:pt x="166" y="595"/>
                </a:moveTo>
                <a:lnTo>
                  <a:pt x="166" y="602"/>
                </a:lnTo>
                <a:lnTo>
                  <a:pt x="159" y="602"/>
                </a:lnTo>
                <a:lnTo>
                  <a:pt x="159" y="595"/>
                </a:lnTo>
                <a:lnTo>
                  <a:pt x="166" y="595"/>
                </a:lnTo>
                <a:close/>
                <a:moveTo>
                  <a:pt x="136" y="595"/>
                </a:moveTo>
                <a:lnTo>
                  <a:pt x="136" y="602"/>
                </a:lnTo>
                <a:lnTo>
                  <a:pt x="128" y="602"/>
                </a:lnTo>
                <a:lnTo>
                  <a:pt x="128" y="595"/>
                </a:lnTo>
                <a:lnTo>
                  <a:pt x="136" y="595"/>
                </a:lnTo>
                <a:close/>
                <a:moveTo>
                  <a:pt x="104" y="595"/>
                </a:moveTo>
                <a:lnTo>
                  <a:pt x="104" y="602"/>
                </a:lnTo>
                <a:lnTo>
                  <a:pt x="96" y="602"/>
                </a:lnTo>
                <a:lnTo>
                  <a:pt x="96" y="595"/>
                </a:lnTo>
                <a:lnTo>
                  <a:pt x="104" y="595"/>
                </a:lnTo>
                <a:close/>
                <a:moveTo>
                  <a:pt x="72" y="595"/>
                </a:moveTo>
                <a:lnTo>
                  <a:pt x="72" y="602"/>
                </a:lnTo>
                <a:lnTo>
                  <a:pt x="64" y="602"/>
                </a:lnTo>
                <a:lnTo>
                  <a:pt x="64" y="595"/>
                </a:lnTo>
                <a:lnTo>
                  <a:pt x="72" y="595"/>
                </a:lnTo>
                <a:close/>
                <a:moveTo>
                  <a:pt x="40" y="595"/>
                </a:moveTo>
                <a:lnTo>
                  <a:pt x="40" y="602"/>
                </a:lnTo>
                <a:lnTo>
                  <a:pt x="32" y="602"/>
                </a:lnTo>
                <a:lnTo>
                  <a:pt x="32" y="595"/>
                </a:lnTo>
                <a:lnTo>
                  <a:pt x="40" y="595"/>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7" name="Freeform 1041"/>
          <p:cNvSpPr/>
          <p:nvPr/>
        </p:nvSpPr>
        <p:spPr>
          <a:xfrm>
            <a:off x="7856640" y="9429840"/>
            <a:ext cx="5467320" cy="3265560"/>
          </a:xfrm>
          <a:custGeom>
            <a:avLst/>
            <a:gdLst/>
            <a:ahLst/>
            <a:rect l="l" t="t" r="r" b="b"/>
            <a:pathLst>
              <a:path w="1435" h="857">
                <a:moveTo>
                  <a:pt x="9" y="595"/>
                </a:moveTo>
                <a:lnTo>
                  <a:pt x="9" y="602"/>
                </a:lnTo>
                <a:lnTo>
                  <a:pt x="0" y="602"/>
                </a:lnTo>
                <a:lnTo>
                  <a:pt x="0" y="595"/>
                </a:lnTo>
                <a:lnTo>
                  <a:pt x="9" y="595"/>
                </a:lnTo>
                <a:moveTo>
                  <a:pt x="20" y="258"/>
                </a:moveTo>
                <a:lnTo>
                  <a:pt x="20" y="251"/>
                </a:lnTo>
                <a:lnTo>
                  <a:pt x="29" y="251"/>
                </a:lnTo>
                <a:lnTo>
                  <a:pt x="29" y="258"/>
                </a:lnTo>
                <a:lnTo>
                  <a:pt x="20" y="258"/>
                </a:lnTo>
                <a:moveTo>
                  <a:pt x="52" y="258"/>
                </a:moveTo>
                <a:lnTo>
                  <a:pt x="52" y="251"/>
                </a:lnTo>
                <a:lnTo>
                  <a:pt x="60" y="251"/>
                </a:lnTo>
                <a:lnTo>
                  <a:pt x="60" y="258"/>
                </a:lnTo>
                <a:lnTo>
                  <a:pt x="52" y="258"/>
                </a:lnTo>
                <a:moveTo>
                  <a:pt x="84" y="258"/>
                </a:moveTo>
                <a:lnTo>
                  <a:pt x="84" y="251"/>
                </a:lnTo>
                <a:lnTo>
                  <a:pt x="92" y="251"/>
                </a:lnTo>
                <a:lnTo>
                  <a:pt x="92" y="258"/>
                </a:lnTo>
                <a:lnTo>
                  <a:pt x="84" y="258"/>
                </a:lnTo>
                <a:moveTo>
                  <a:pt x="116" y="258"/>
                </a:moveTo>
                <a:lnTo>
                  <a:pt x="116" y="251"/>
                </a:lnTo>
                <a:lnTo>
                  <a:pt x="123" y="251"/>
                </a:lnTo>
                <a:lnTo>
                  <a:pt x="123" y="258"/>
                </a:lnTo>
                <a:lnTo>
                  <a:pt x="116" y="258"/>
                </a:lnTo>
                <a:moveTo>
                  <a:pt x="148" y="258"/>
                </a:moveTo>
                <a:lnTo>
                  <a:pt x="148" y="251"/>
                </a:lnTo>
                <a:lnTo>
                  <a:pt x="155" y="251"/>
                </a:lnTo>
                <a:lnTo>
                  <a:pt x="155" y="258"/>
                </a:lnTo>
                <a:lnTo>
                  <a:pt x="148" y="258"/>
                </a:lnTo>
                <a:moveTo>
                  <a:pt x="179" y="258"/>
                </a:moveTo>
                <a:lnTo>
                  <a:pt x="179" y="251"/>
                </a:lnTo>
                <a:lnTo>
                  <a:pt x="186" y="251"/>
                </a:lnTo>
                <a:lnTo>
                  <a:pt x="186" y="258"/>
                </a:lnTo>
                <a:lnTo>
                  <a:pt x="179" y="258"/>
                </a:lnTo>
                <a:moveTo>
                  <a:pt x="210" y="258"/>
                </a:moveTo>
                <a:lnTo>
                  <a:pt x="210" y="251"/>
                </a:lnTo>
                <a:lnTo>
                  <a:pt x="218" y="251"/>
                </a:lnTo>
                <a:lnTo>
                  <a:pt x="218" y="258"/>
                </a:lnTo>
                <a:lnTo>
                  <a:pt x="210" y="258"/>
                </a:lnTo>
                <a:moveTo>
                  <a:pt x="242" y="258"/>
                </a:moveTo>
                <a:lnTo>
                  <a:pt x="242" y="251"/>
                </a:lnTo>
                <a:lnTo>
                  <a:pt x="250" y="251"/>
                </a:lnTo>
                <a:lnTo>
                  <a:pt x="250" y="258"/>
                </a:lnTo>
                <a:lnTo>
                  <a:pt x="242" y="258"/>
                </a:lnTo>
                <a:moveTo>
                  <a:pt x="274" y="258"/>
                </a:moveTo>
                <a:lnTo>
                  <a:pt x="274" y="251"/>
                </a:lnTo>
                <a:lnTo>
                  <a:pt x="282" y="251"/>
                </a:lnTo>
                <a:lnTo>
                  <a:pt x="282" y="258"/>
                </a:lnTo>
                <a:lnTo>
                  <a:pt x="274" y="258"/>
                </a:lnTo>
                <a:moveTo>
                  <a:pt x="305" y="258"/>
                </a:moveTo>
                <a:lnTo>
                  <a:pt x="305" y="251"/>
                </a:lnTo>
                <a:lnTo>
                  <a:pt x="314" y="251"/>
                </a:lnTo>
                <a:lnTo>
                  <a:pt x="314" y="258"/>
                </a:lnTo>
                <a:lnTo>
                  <a:pt x="305" y="258"/>
                </a:lnTo>
                <a:moveTo>
                  <a:pt x="337" y="258"/>
                </a:moveTo>
                <a:lnTo>
                  <a:pt x="337" y="251"/>
                </a:lnTo>
                <a:lnTo>
                  <a:pt x="345" y="251"/>
                </a:lnTo>
                <a:lnTo>
                  <a:pt x="345" y="258"/>
                </a:lnTo>
                <a:lnTo>
                  <a:pt x="337" y="258"/>
                </a:lnTo>
                <a:moveTo>
                  <a:pt x="369" y="258"/>
                </a:moveTo>
                <a:lnTo>
                  <a:pt x="369" y="251"/>
                </a:lnTo>
                <a:lnTo>
                  <a:pt x="377" y="251"/>
                </a:lnTo>
                <a:lnTo>
                  <a:pt x="377" y="258"/>
                </a:lnTo>
                <a:lnTo>
                  <a:pt x="369" y="258"/>
                </a:lnTo>
                <a:moveTo>
                  <a:pt x="401" y="258"/>
                </a:moveTo>
                <a:lnTo>
                  <a:pt x="401" y="251"/>
                </a:lnTo>
                <a:lnTo>
                  <a:pt x="408" y="251"/>
                </a:lnTo>
                <a:lnTo>
                  <a:pt x="408" y="258"/>
                </a:lnTo>
                <a:lnTo>
                  <a:pt x="401" y="258"/>
                </a:lnTo>
                <a:moveTo>
                  <a:pt x="432" y="258"/>
                </a:moveTo>
                <a:lnTo>
                  <a:pt x="432" y="251"/>
                </a:lnTo>
                <a:lnTo>
                  <a:pt x="439" y="251"/>
                </a:lnTo>
                <a:lnTo>
                  <a:pt x="439" y="258"/>
                </a:lnTo>
                <a:lnTo>
                  <a:pt x="432" y="258"/>
                </a:lnTo>
                <a:moveTo>
                  <a:pt x="463" y="258"/>
                </a:moveTo>
                <a:lnTo>
                  <a:pt x="463" y="251"/>
                </a:lnTo>
                <a:lnTo>
                  <a:pt x="471" y="251"/>
                </a:lnTo>
                <a:lnTo>
                  <a:pt x="471" y="258"/>
                </a:lnTo>
                <a:lnTo>
                  <a:pt x="463" y="258"/>
                </a:lnTo>
                <a:moveTo>
                  <a:pt x="495" y="258"/>
                </a:moveTo>
                <a:lnTo>
                  <a:pt x="495" y="251"/>
                </a:lnTo>
                <a:lnTo>
                  <a:pt x="503" y="251"/>
                </a:lnTo>
                <a:lnTo>
                  <a:pt x="503" y="258"/>
                </a:lnTo>
                <a:lnTo>
                  <a:pt x="495" y="258"/>
                </a:lnTo>
                <a:moveTo>
                  <a:pt x="527" y="258"/>
                </a:moveTo>
                <a:lnTo>
                  <a:pt x="527" y="251"/>
                </a:lnTo>
                <a:lnTo>
                  <a:pt x="535" y="251"/>
                </a:lnTo>
                <a:lnTo>
                  <a:pt x="535" y="258"/>
                </a:lnTo>
                <a:lnTo>
                  <a:pt x="527" y="258"/>
                </a:lnTo>
                <a:moveTo>
                  <a:pt x="558" y="258"/>
                </a:moveTo>
                <a:lnTo>
                  <a:pt x="558" y="251"/>
                </a:lnTo>
                <a:lnTo>
                  <a:pt x="567" y="251"/>
                </a:lnTo>
                <a:lnTo>
                  <a:pt x="567" y="258"/>
                </a:lnTo>
                <a:lnTo>
                  <a:pt x="558" y="258"/>
                </a:lnTo>
                <a:moveTo>
                  <a:pt x="590" y="258"/>
                </a:moveTo>
                <a:lnTo>
                  <a:pt x="590" y="251"/>
                </a:lnTo>
                <a:lnTo>
                  <a:pt x="598" y="251"/>
                </a:lnTo>
                <a:lnTo>
                  <a:pt x="598" y="258"/>
                </a:lnTo>
                <a:lnTo>
                  <a:pt x="590" y="258"/>
                </a:lnTo>
                <a:moveTo>
                  <a:pt x="622" y="258"/>
                </a:moveTo>
                <a:lnTo>
                  <a:pt x="622" y="251"/>
                </a:lnTo>
                <a:lnTo>
                  <a:pt x="627" y="251"/>
                </a:lnTo>
                <a:lnTo>
                  <a:pt x="627" y="251"/>
                </a:lnTo>
                <a:lnTo>
                  <a:pt x="630" y="251"/>
                </a:lnTo>
                <a:lnTo>
                  <a:pt x="630" y="255"/>
                </a:lnTo>
                <a:lnTo>
                  <a:pt x="630" y="258"/>
                </a:lnTo>
                <a:lnTo>
                  <a:pt x="627" y="258"/>
                </a:lnTo>
                <a:lnTo>
                  <a:pt x="622" y="258"/>
                </a:lnTo>
                <a:moveTo>
                  <a:pt x="630" y="228"/>
                </a:moveTo>
                <a:lnTo>
                  <a:pt x="622" y="228"/>
                </a:lnTo>
                <a:lnTo>
                  <a:pt x="622" y="220"/>
                </a:lnTo>
                <a:lnTo>
                  <a:pt x="630" y="220"/>
                </a:lnTo>
                <a:lnTo>
                  <a:pt x="630" y="228"/>
                </a:lnTo>
                <a:moveTo>
                  <a:pt x="630" y="196"/>
                </a:moveTo>
                <a:lnTo>
                  <a:pt x="622" y="196"/>
                </a:lnTo>
                <a:lnTo>
                  <a:pt x="622" y="188"/>
                </a:lnTo>
                <a:lnTo>
                  <a:pt x="630" y="188"/>
                </a:lnTo>
                <a:lnTo>
                  <a:pt x="630" y="196"/>
                </a:lnTo>
                <a:moveTo>
                  <a:pt x="630" y="164"/>
                </a:moveTo>
                <a:lnTo>
                  <a:pt x="622" y="164"/>
                </a:lnTo>
                <a:lnTo>
                  <a:pt x="622" y="156"/>
                </a:lnTo>
                <a:lnTo>
                  <a:pt x="630" y="156"/>
                </a:lnTo>
                <a:lnTo>
                  <a:pt x="630" y="164"/>
                </a:lnTo>
                <a:moveTo>
                  <a:pt x="630" y="132"/>
                </a:moveTo>
                <a:lnTo>
                  <a:pt x="622" y="132"/>
                </a:lnTo>
                <a:lnTo>
                  <a:pt x="622" y="125"/>
                </a:lnTo>
                <a:lnTo>
                  <a:pt x="630" y="125"/>
                </a:lnTo>
                <a:lnTo>
                  <a:pt x="630" y="132"/>
                </a:lnTo>
                <a:moveTo>
                  <a:pt x="630" y="101"/>
                </a:moveTo>
                <a:lnTo>
                  <a:pt x="622" y="101"/>
                </a:lnTo>
                <a:lnTo>
                  <a:pt x="622" y="94"/>
                </a:lnTo>
                <a:lnTo>
                  <a:pt x="630" y="94"/>
                </a:lnTo>
                <a:lnTo>
                  <a:pt x="630" y="101"/>
                </a:lnTo>
                <a:moveTo>
                  <a:pt x="630" y="70"/>
                </a:moveTo>
                <a:lnTo>
                  <a:pt x="622" y="70"/>
                </a:lnTo>
                <a:lnTo>
                  <a:pt x="622" y="62"/>
                </a:lnTo>
                <a:lnTo>
                  <a:pt x="630" y="62"/>
                </a:lnTo>
                <a:lnTo>
                  <a:pt x="630" y="70"/>
                </a:lnTo>
                <a:moveTo>
                  <a:pt x="632" y="40"/>
                </a:moveTo>
                <a:lnTo>
                  <a:pt x="632" y="38"/>
                </a:lnTo>
                <a:lnTo>
                  <a:pt x="632" y="38"/>
                </a:lnTo>
                <a:lnTo>
                  <a:pt x="632" y="38"/>
                </a:lnTo>
                <a:lnTo>
                  <a:pt x="632" y="37"/>
                </a:lnTo>
                <a:lnTo>
                  <a:pt x="632" y="37"/>
                </a:lnTo>
                <a:lnTo>
                  <a:pt x="632" y="37"/>
                </a:lnTo>
                <a:lnTo>
                  <a:pt x="632" y="36"/>
                </a:lnTo>
                <a:lnTo>
                  <a:pt x="632" y="36"/>
                </a:lnTo>
                <a:lnTo>
                  <a:pt x="632" y="36"/>
                </a:lnTo>
                <a:lnTo>
                  <a:pt x="634" y="35"/>
                </a:lnTo>
                <a:lnTo>
                  <a:pt x="634" y="35"/>
                </a:lnTo>
                <a:lnTo>
                  <a:pt x="634" y="35"/>
                </a:lnTo>
                <a:lnTo>
                  <a:pt x="634" y="34"/>
                </a:lnTo>
                <a:lnTo>
                  <a:pt x="634" y="34"/>
                </a:lnTo>
                <a:lnTo>
                  <a:pt x="634" y="34"/>
                </a:lnTo>
                <a:lnTo>
                  <a:pt x="634" y="33"/>
                </a:lnTo>
                <a:lnTo>
                  <a:pt x="634" y="33"/>
                </a:lnTo>
                <a:lnTo>
                  <a:pt x="635" y="33"/>
                </a:lnTo>
                <a:lnTo>
                  <a:pt x="635" y="33"/>
                </a:lnTo>
                <a:lnTo>
                  <a:pt x="627" y="29"/>
                </a:lnTo>
                <a:lnTo>
                  <a:pt x="627" y="29"/>
                </a:lnTo>
                <a:lnTo>
                  <a:pt x="627" y="29"/>
                </a:lnTo>
                <a:lnTo>
                  <a:pt x="627" y="30"/>
                </a:lnTo>
                <a:lnTo>
                  <a:pt x="627" y="30"/>
                </a:lnTo>
                <a:lnTo>
                  <a:pt x="627" y="31"/>
                </a:lnTo>
                <a:lnTo>
                  <a:pt x="627" y="31"/>
                </a:lnTo>
                <a:lnTo>
                  <a:pt x="627" y="31"/>
                </a:lnTo>
                <a:lnTo>
                  <a:pt x="625" y="33"/>
                </a:lnTo>
                <a:lnTo>
                  <a:pt x="625" y="33"/>
                </a:lnTo>
                <a:lnTo>
                  <a:pt x="625" y="33"/>
                </a:lnTo>
                <a:lnTo>
                  <a:pt x="625" y="34"/>
                </a:lnTo>
                <a:lnTo>
                  <a:pt x="625" y="34"/>
                </a:lnTo>
                <a:lnTo>
                  <a:pt x="625" y="35"/>
                </a:lnTo>
                <a:lnTo>
                  <a:pt x="625" y="35"/>
                </a:lnTo>
                <a:lnTo>
                  <a:pt x="624" y="35"/>
                </a:lnTo>
                <a:lnTo>
                  <a:pt x="624" y="36"/>
                </a:lnTo>
                <a:lnTo>
                  <a:pt x="624" y="36"/>
                </a:lnTo>
                <a:lnTo>
                  <a:pt x="624" y="37"/>
                </a:lnTo>
                <a:lnTo>
                  <a:pt x="624" y="37"/>
                </a:lnTo>
                <a:lnTo>
                  <a:pt x="632" y="40"/>
                </a:lnTo>
                <a:moveTo>
                  <a:pt x="648" y="16"/>
                </a:moveTo>
                <a:lnTo>
                  <a:pt x="648" y="16"/>
                </a:lnTo>
                <a:lnTo>
                  <a:pt x="648" y="16"/>
                </a:lnTo>
                <a:lnTo>
                  <a:pt x="649" y="15"/>
                </a:lnTo>
                <a:lnTo>
                  <a:pt x="649" y="15"/>
                </a:lnTo>
                <a:lnTo>
                  <a:pt x="649" y="15"/>
                </a:lnTo>
                <a:lnTo>
                  <a:pt x="649" y="15"/>
                </a:lnTo>
                <a:lnTo>
                  <a:pt x="650" y="15"/>
                </a:lnTo>
                <a:lnTo>
                  <a:pt x="650" y="15"/>
                </a:lnTo>
                <a:lnTo>
                  <a:pt x="650" y="14"/>
                </a:lnTo>
                <a:lnTo>
                  <a:pt x="650" y="14"/>
                </a:lnTo>
                <a:lnTo>
                  <a:pt x="651" y="14"/>
                </a:lnTo>
                <a:lnTo>
                  <a:pt x="651" y="14"/>
                </a:lnTo>
                <a:lnTo>
                  <a:pt x="651" y="14"/>
                </a:lnTo>
                <a:lnTo>
                  <a:pt x="652" y="14"/>
                </a:lnTo>
                <a:lnTo>
                  <a:pt x="652" y="14"/>
                </a:lnTo>
                <a:lnTo>
                  <a:pt x="652" y="13"/>
                </a:lnTo>
                <a:lnTo>
                  <a:pt x="652" y="13"/>
                </a:lnTo>
                <a:lnTo>
                  <a:pt x="654" y="13"/>
                </a:lnTo>
                <a:lnTo>
                  <a:pt x="654" y="13"/>
                </a:lnTo>
                <a:lnTo>
                  <a:pt x="654" y="13"/>
                </a:lnTo>
                <a:lnTo>
                  <a:pt x="654" y="13"/>
                </a:lnTo>
                <a:lnTo>
                  <a:pt x="654" y="13"/>
                </a:lnTo>
                <a:lnTo>
                  <a:pt x="651" y="5"/>
                </a:lnTo>
                <a:lnTo>
                  <a:pt x="650" y="5"/>
                </a:lnTo>
                <a:lnTo>
                  <a:pt x="650" y="5"/>
                </a:lnTo>
                <a:lnTo>
                  <a:pt x="650" y="5"/>
                </a:lnTo>
                <a:lnTo>
                  <a:pt x="649" y="5"/>
                </a:lnTo>
                <a:lnTo>
                  <a:pt x="649" y="5"/>
                </a:lnTo>
                <a:lnTo>
                  <a:pt x="649" y="5"/>
                </a:lnTo>
                <a:lnTo>
                  <a:pt x="649" y="7"/>
                </a:lnTo>
                <a:lnTo>
                  <a:pt x="648" y="7"/>
                </a:lnTo>
                <a:lnTo>
                  <a:pt x="648" y="7"/>
                </a:lnTo>
                <a:lnTo>
                  <a:pt x="648" y="7"/>
                </a:lnTo>
                <a:lnTo>
                  <a:pt x="647" y="7"/>
                </a:lnTo>
                <a:lnTo>
                  <a:pt x="647" y="8"/>
                </a:lnTo>
                <a:lnTo>
                  <a:pt x="647" y="8"/>
                </a:lnTo>
                <a:lnTo>
                  <a:pt x="645" y="8"/>
                </a:lnTo>
                <a:lnTo>
                  <a:pt x="645" y="8"/>
                </a:lnTo>
                <a:lnTo>
                  <a:pt x="645" y="8"/>
                </a:lnTo>
                <a:lnTo>
                  <a:pt x="645" y="8"/>
                </a:lnTo>
                <a:lnTo>
                  <a:pt x="644" y="9"/>
                </a:lnTo>
                <a:lnTo>
                  <a:pt x="644" y="9"/>
                </a:lnTo>
                <a:lnTo>
                  <a:pt x="644" y="9"/>
                </a:lnTo>
                <a:lnTo>
                  <a:pt x="643" y="9"/>
                </a:lnTo>
                <a:lnTo>
                  <a:pt x="643" y="9"/>
                </a:lnTo>
                <a:lnTo>
                  <a:pt x="648" y="16"/>
                </a:lnTo>
                <a:moveTo>
                  <a:pt x="675" y="8"/>
                </a:moveTo>
                <a:lnTo>
                  <a:pt x="675" y="8"/>
                </a:lnTo>
                <a:lnTo>
                  <a:pt x="676" y="8"/>
                </a:lnTo>
                <a:lnTo>
                  <a:pt x="676" y="8"/>
                </a:lnTo>
                <a:lnTo>
                  <a:pt x="676" y="8"/>
                </a:lnTo>
                <a:lnTo>
                  <a:pt x="677" y="8"/>
                </a:lnTo>
                <a:lnTo>
                  <a:pt x="677" y="8"/>
                </a:lnTo>
                <a:lnTo>
                  <a:pt x="677" y="8"/>
                </a:lnTo>
                <a:lnTo>
                  <a:pt x="678" y="8"/>
                </a:lnTo>
                <a:lnTo>
                  <a:pt x="678" y="8"/>
                </a:lnTo>
                <a:lnTo>
                  <a:pt x="678" y="8"/>
                </a:lnTo>
                <a:lnTo>
                  <a:pt x="680" y="8"/>
                </a:lnTo>
                <a:lnTo>
                  <a:pt x="680" y="8"/>
                </a:lnTo>
                <a:lnTo>
                  <a:pt x="680" y="8"/>
                </a:lnTo>
                <a:lnTo>
                  <a:pt x="680" y="8"/>
                </a:lnTo>
                <a:lnTo>
                  <a:pt x="681" y="8"/>
                </a:lnTo>
                <a:lnTo>
                  <a:pt x="681" y="8"/>
                </a:lnTo>
                <a:lnTo>
                  <a:pt x="681" y="8"/>
                </a:lnTo>
                <a:lnTo>
                  <a:pt x="682" y="8"/>
                </a:lnTo>
                <a:lnTo>
                  <a:pt x="682" y="8"/>
                </a:lnTo>
                <a:lnTo>
                  <a:pt x="682" y="8"/>
                </a:lnTo>
                <a:lnTo>
                  <a:pt x="683" y="8"/>
                </a:lnTo>
                <a:lnTo>
                  <a:pt x="683" y="8"/>
                </a:lnTo>
                <a:lnTo>
                  <a:pt x="684" y="1"/>
                </a:lnTo>
                <a:lnTo>
                  <a:pt x="684" y="1"/>
                </a:lnTo>
                <a:lnTo>
                  <a:pt x="683" y="1"/>
                </a:lnTo>
                <a:lnTo>
                  <a:pt x="683" y="1"/>
                </a:lnTo>
                <a:lnTo>
                  <a:pt x="683" y="1"/>
                </a:lnTo>
                <a:lnTo>
                  <a:pt x="682" y="1"/>
                </a:lnTo>
                <a:lnTo>
                  <a:pt x="682" y="0"/>
                </a:lnTo>
                <a:lnTo>
                  <a:pt x="682" y="0"/>
                </a:lnTo>
                <a:lnTo>
                  <a:pt x="681" y="0"/>
                </a:lnTo>
                <a:lnTo>
                  <a:pt x="681" y="0"/>
                </a:lnTo>
                <a:lnTo>
                  <a:pt x="680" y="0"/>
                </a:lnTo>
                <a:lnTo>
                  <a:pt x="680" y="0"/>
                </a:lnTo>
                <a:lnTo>
                  <a:pt x="680" y="0"/>
                </a:lnTo>
                <a:lnTo>
                  <a:pt x="678" y="0"/>
                </a:lnTo>
                <a:lnTo>
                  <a:pt x="678" y="0"/>
                </a:lnTo>
                <a:lnTo>
                  <a:pt x="678" y="0"/>
                </a:lnTo>
                <a:lnTo>
                  <a:pt x="677" y="0"/>
                </a:lnTo>
                <a:lnTo>
                  <a:pt x="677" y="0"/>
                </a:lnTo>
                <a:lnTo>
                  <a:pt x="677" y="0"/>
                </a:lnTo>
                <a:lnTo>
                  <a:pt x="676" y="0"/>
                </a:lnTo>
                <a:lnTo>
                  <a:pt x="676" y="0"/>
                </a:lnTo>
                <a:lnTo>
                  <a:pt x="676" y="0"/>
                </a:lnTo>
                <a:lnTo>
                  <a:pt x="676" y="0"/>
                </a:lnTo>
                <a:lnTo>
                  <a:pt x="675" y="8"/>
                </a:lnTo>
                <a:moveTo>
                  <a:pt x="703" y="16"/>
                </a:moveTo>
                <a:lnTo>
                  <a:pt x="707" y="9"/>
                </a:lnTo>
                <a:lnTo>
                  <a:pt x="714" y="13"/>
                </a:lnTo>
                <a:lnTo>
                  <a:pt x="710" y="20"/>
                </a:lnTo>
                <a:lnTo>
                  <a:pt x="703" y="16"/>
                </a:lnTo>
                <a:moveTo>
                  <a:pt x="731" y="31"/>
                </a:moveTo>
                <a:lnTo>
                  <a:pt x="735" y="24"/>
                </a:lnTo>
                <a:lnTo>
                  <a:pt x="742" y="28"/>
                </a:lnTo>
                <a:lnTo>
                  <a:pt x="738" y="35"/>
                </a:lnTo>
                <a:lnTo>
                  <a:pt x="731" y="31"/>
                </a:lnTo>
                <a:moveTo>
                  <a:pt x="760" y="47"/>
                </a:moveTo>
                <a:lnTo>
                  <a:pt x="763" y="40"/>
                </a:lnTo>
                <a:lnTo>
                  <a:pt x="770" y="43"/>
                </a:lnTo>
                <a:lnTo>
                  <a:pt x="767" y="50"/>
                </a:lnTo>
                <a:lnTo>
                  <a:pt x="760" y="47"/>
                </a:lnTo>
                <a:moveTo>
                  <a:pt x="788" y="61"/>
                </a:moveTo>
                <a:lnTo>
                  <a:pt x="791" y="54"/>
                </a:lnTo>
                <a:lnTo>
                  <a:pt x="798" y="57"/>
                </a:lnTo>
                <a:lnTo>
                  <a:pt x="794" y="64"/>
                </a:lnTo>
                <a:lnTo>
                  <a:pt x="788" y="61"/>
                </a:lnTo>
                <a:moveTo>
                  <a:pt x="815" y="76"/>
                </a:moveTo>
                <a:lnTo>
                  <a:pt x="818" y="69"/>
                </a:lnTo>
                <a:lnTo>
                  <a:pt x="825" y="73"/>
                </a:lnTo>
                <a:lnTo>
                  <a:pt x="822" y="80"/>
                </a:lnTo>
                <a:lnTo>
                  <a:pt x="815" y="76"/>
                </a:lnTo>
                <a:moveTo>
                  <a:pt x="843" y="90"/>
                </a:moveTo>
                <a:lnTo>
                  <a:pt x="847" y="83"/>
                </a:lnTo>
                <a:lnTo>
                  <a:pt x="854" y="88"/>
                </a:lnTo>
                <a:lnTo>
                  <a:pt x="850" y="95"/>
                </a:lnTo>
                <a:lnTo>
                  <a:pt x="843" y="90"/>
                </a:lnTo>
                <a:moveTo>
                  <a:pt x="871" y="105"/>
                </a:moveTo>
                <a:lnTo>
                  <a:pt x="875" y="98"/>
                </a:lnTo>
                <a:lnTo>
                  <a:pt x="882" y="102"/>
                </a:lnTo>
                <a:lnTo>
                  <a:pt x="878" y="109"/>
                </a:lnTo>
                <a:lnTo>
                  <a:pt x="871" y="105"/>
                </a:lnTo>
                <a:moveTo>
                  <a:pt x="898" y="121"/>
                </a:moveTo>
                <a:lnTo>
                  <a:pt x="903" y="114"/>
                </a:lnTo>
                <a:lnTo>
                  <a:pt x="910" y="117"/>
                </a:lnTo>
                <a:lnTo>
                  <a:pt x="906" y="124"/>
                </a:lnTo>
                <a:lnTo>
                  <a:pt x="898" y="121"/>
                </a:lnTo>
                <a:moveTo>
                  <a:pt x="927" y="135"/>
                </a:moveTo>
                <a:lnTo>
                  <a:pt x="930" y="128"/>
                </a:lnTo>
                <a:lnTo>
                  <a:pt x="937" y="131"/>
                </a:lnTo>
                <a:lnTo>
                  <a:pt x="934" y="138"/>
                </a:lnTo>
                <a:lnTo>
                  <a:pt x="927" y="135"/>
                </a:lnTo>
                <a:moveTo>
                  <a:pt x="955" y="150"/>
                </a:moveTo>
                <a:lnTo>
                  <a:pt x="958" y="143"/>
                </a:lnTo>
                <a:lnTo>
                  <a:pt x="966" y="147"/>
                </a:lnTo>
                <a:lnTo>
                  <a:pt x="962" y="154"/>
                </a:lnTo>
                <a:lnTo>
                  <a:pt x="955" y="150"/>
                </a:lnTo>
                <a:moveTo>
                  <a:pt x="983" y="165"/>
                </a:moveTo>
                <a:lnTo>
                  <a:pt x="987" y="158"/>
                </a:lnTo>
                <a:lnTo>
                  <a:pt x="994" y="162"/>
                </a:lnTo>
                <a:lnTo>
                  <a:pt x="990" y="169"/>
                </a:lnTo>
                <a:lnTo>
                  <a:pt x="983" y="165"/>
                </a:lnTo>
                <a:moveTo>
                  <a:pt x="1010" y="180"/>
                </a:moveTo>
                <a:lnTo>
                  <a:pt x="1015" y="172"/>
                </a:lnTo>
                <a:lnTo>
                  <a:pt x="1021" y="176"/>
                </a:lnTo>
                <a:lnTo>
                  <a:pt x="1017" y="183"/>
                </a:lnTo>
                <a:lnTo>
                  <a:pt x="1010" y="180"/>
                </a:lnTo>
                <a:moveTo>
                  <a:pt x="1039" y="195"/>
                </a:moveTo>
                <a:lnTo>
                  <a:pt x="1042" y="188"/>
                </a:lnTo>
                <a:lnTo>
                  <a:pt x="1049" y="191"/>
                </a:lnTo>
                <a:lnTo>
                  <a:pt x="1046" y="198"/>
                </a:lnTo>
                <a:lnTo>
                  <a:pt x="1039" y="195"/>
                </a:lnTo>
                <a:moveTo>
                  <a:pt x="1067" y="209"/>
                </a:moveTo>
                <a:lnTo>
                  <a:pt x="1070" y="202"/>
                </a:lnTo>
                <a:lnTo>
                  <a:pt x="1077" y="207"/>
                </a:lnTo>
                <a:lnTo>
                  <a:pt x="1074" y="214"/>
                </a:lnTo>
                <a:lnTo>
                  <a:pt x="1067" y="209"/>
                </a:lnTo>
                <a:moveTo>
                  <a:pt x="1095" y="224"/>
                </a:moveTo>
                <a:lnTo>
                  <a:pt x="1099" y="217"/>
                </a:lnTo>
                <a:lnTo>
                  <a:pt x="1106" y="221"/>
                </a:lnTo>
                <a:lnTo>
                  <a:pt x="1102" y="228"/>
                </a:lnTo>
                <a:lnTo>
                  <a:pt x="1095" y="224"/>
                </a:lnTo>
                <a:moveTo>
                  <a:pt x="1122" y="240"/>
                </a:moveTo>
                <a:lnTo>
                  <a:pt x="1126" y="232"/>
                </a:lnTo>
                <a:lnTo>
                  <a:pt x="1133" y="236"/>
                </a:lnTo>
                <a:lnTo>
                  <a:pt x="1129" y="243"/>
                </a:lnTo>
                <a:lnTo>
                  <a:pt x="1122" y="240"/>
                </a:lnTo>
                <a:moveTo>
                  <a:pt x="1150" y="254"/>
                </a:moveTo>
                <a:lnTo>
                  <a:pt x="1154" y="247"/>
                </a:lnTo>
                <a:lnTo>
                  <a:pt x="1161" y="250"/>
                </a:lnTo>
                <a:lnTo>
                  <a:pt x="1157" y="257"/>
                </a:lnTo>
                <a:lnTo>
                  <a:pt x="1150" y="254"/>
                </a:lnTo>
                <a:moveTo>
                  <a:pt x="1179" y="269"/>
                </a:moveTo>
                <a:lnTo>
                  <a:pt x="1182" y="262"/>
                </a:lnTo>
                <a:lnTo>
                  <a:pt x="1189" y="265"/>
                </a:lnTo>
                <a:lnTo>
                  <a:pt x="1186" y="272"/>
                </a:lnTo>
                <a:lnTo>
                  <a:pt x="1179" y="269"/>
                </a:lnTo>
                <a:moveTo>
                  <a:pt x="1207" y="283"/>
                </a:moveTo>
                <a:lnTo>
                  <a:pt x="1210" y="277"/>
                </a:lnTo>
                <a:lnTo>
                  <a:pt x="1217" y="281"/>
                </a:lnTo>
                <a:lnTo>
                  <a:pt x="1213" y="288"/>
                </a:lnTo>
                <a:lnTo>
                  <a:pt x="1207" y="283"/>
                </a:lnTo>
                <a:moveTo>
                  <a:pt x="1234" y="298"/>
                </a:moveTo>
                <a:lnTo>
                  <a:pt x="1237" y="291"/>
                </a:lnTo>
                <a:lnTo>
                  <a:pt x="1244" y="295"/>
                </a:lnTo>
                <a:lnTo>
                  <a:pt x="1241" y="302"/>
                </a:lnTo>
                <a:lnTo>
                  <a:pt x="1234" y="298"/>
                </a:lnTo>
                <a:moveTo>
                  <a:pt x="1262" y="314"/>
                </a:moveTo>
                <a:lnTo>
                  <a:pt x="1266" y="307"/>
                </a:lnTo>
                <a:lnTo>
                  <a:pt x="1273" y="310"/>
                </a:lnTo>
                <a:lnTo>
                  <a:pt x="1269" y="317"/>
                </a:lnTo>
                <a:lnTo>
                  <a:pt x="1262" y="314"/>
                </a:lnTo>
                <a:moveTo>
                  <a:pt x="1290" y="328"/>
                </a:moveTo>
                <a:lnTo>
                  <a:pt x="1294" y="321"/>
                </a:lnTo>
                <a:lnTo>
                  <a:pt x="1301" y="325"/>
                </a:lnTo>
                <a:lnTo>
                  <a:pt x="1297" y="332"/>
                </a:lnTo>
                <a:lnTo>
                  <a:pt x="1290" y="328"/>
                </a:lnTo>
                <a:moveTo>
                  <a:pt x="1317" y="343"/>
                </a:moveTo>
                <a:lnTo>
                  <a:pt x="1322" y="336"/>
                </a:lnTo>
                <a:lnTo>
                  <a:pt x="1329" y="339"/>
                </a:lnTo>
                <a:lnTo>
                  <a:pt x="1325" y="347"/>
                </a:lnTo>
                <a:lnTo>
                  <a:pt x="1317" y="343"/>
                </a:lnTo>
                <a:moveTo>
                  <a:pt x="1346" y="358"/>
                </a:moveTo>
                <a:lnTo>
                  <a:pt x="1349" y="351"/>
                </a:lnTo>
                <a:lnTo>
                  <a:pt x="1356" y="355"/>
                </a:lnTo>
                <a:lnTo>
                  <a:pt x="1353" y="362"/>
                </a:lnTo>
                <a:lnTo>
                  <a:pt x="1346" y="358"/>
                </a:lnTo>
                <a:moveTo>
                  <a:pt x="1374" y="372"/>
                </a:moveTo>
                <a:lnTo>
                  <a:pt x="1377" y="365"/>
                </a:lnTo>
                <a:lnTo>
                  <a:pt x="1385" y="369"/>
                </a:lnTo>
                <a:lnTo>
                  <a:pt x="1381" y="376"/>
                </a:lnTo>
                <a:lnTo>
                  <a:pt x="1374" y="372"/>
                </a:lnTo>
                <a:moveTo>
                  <a:pt x="1402" y="388"/>
                </a:moveTo>
                <a:lnTo>
                  <a:pt x="1406" y="381"/>
                </a:lnTo>
                <a:lnTo>
                  <a:pt x="1406" y="381"/>
                </a:lnTo>
                <a:lnTo>
                  <a:pt x="1406" y="381"/>
                </a:lnTo>
                <a:lnTo>
                  <a:pt x="1407" y="381"/>
                </a:lnTo>
                <a:lnTo>
                  <a:pt x="1407" y="382"/>
                </a:lnTo>
                <a:lnTo>
                  <a:pt x="1408" y="382"/>
                </a:lnTo>
                <a:lnTo>
                  <a:pt x="1408" y="382"/>
                </a:lnTo>
                <a:lnTo>
                  <a:pt x="1408" y="382"/>
                </a:lnTo>
                <a:lnTo>
                  <a:pt x="1409" y="382"/>
                </a:lnTo>
                <a:lnTo>
                  <a:pt x="1409" y="383"/>
                </a:lnTo>
                <a:lnTo>
                  <a:pt x="1409" y="383"/>
                </a:lnTo>
                <a:lnTo>
                  <a:pt x="1410" y="383"/>
                </a:lnTo>
                <a:lnTo>
                  <a:pt x="1410" y="383"/>
                </a:lnTo>
                <a:lnTo>
                  <a:pt x="1410" y="384"/>
                </a:lnTo>
                <a:lnTo>
                  <a:pt x="1412" y="384"/>
                </a:lnTo>
                <a:lnTo>
                  <a:pt x="1412" y="384"/>
                </a:lnTo>
                <a:lnTo>
                  <a:pt x="1412" y="384"/>
                </a:lnTo>
                <a:lnTo>
                  <a:pt x="1413" y="384"/>
                </a:lnTo>
                <a:lnTo>
                  <a:pt x="1413" y="385"/>
                </a:lnTo>
                <a:lnTo>
                  <a:pt x="1413" y="385"/>
                </a:lnTo>
                <a:lnTo>
                  <a:pt x="1408" y="391"/>
                </a:lnTo>
                <a:lnTo>
                  <a:pt x="1408" y="391"/>
                </a:lnTo>
                <a:lnTo>
                  <a:pt x="1408" y="391"/>
                </a:lnTo>
                <a:lnTo>
                  <a:pt x="1407" y="391"/>
                </a:lnTo>
                <a:lnTo>
                  <a:pt x="1407" y="391"/>
                </a:lnTo>
                <a:lnTo>
                  <a:pt x="1407" y="390"/>
                </a:lnTo>
                <a:lnTo>
                  <a:pt x="1407" y="390"/>
                </a:lnTo>
                <a:lnTo>
                  <a:pt x="1406" y="390"/>
                </a:lnTo>
                <a:lnTo>
                  <a:pt x="1406" y="390"/>
                </a:lnTo>
                <a:lnTo>
                  <a:pt x="1406" y="390"/>
                </a:lnTo>
                <a:lnTo>
                  <a:pt x="1405" y="389"/>
                </a:lnTo>
                <a:lnTo>
                  <a:pt x="1405" y="389"/>
                </a:lnTo>
                <a:lnTo>
                  <a:pt x="1405" y="389"/>
                </a:lnTo>
                <a:lnTo>
                  <a:pt x="1403" y="389"/>
                </a:lnTo>
                <a:lnTo>
                  <a:pt x="1403" y="389"/>
                </a:lnTo>
                <a:lnTo>
                  <a:pt x="1403" y="389"/>
                </a:lnTo>
                <a:lnTo>
                  <a:pt x="1403" y="388"/>
                </a:lnTo>
                <a:lnTo>
                  <a:pt x="1402" y="388"/>
                </a:lnTo>
                <a:lnTo>
                  <a:pt x="1402" y="388"/>
                </a:lnTo>
                <a:lnTo>
                  <a:pt x="1402" y="388"/>
                </a:lnTo>
                <a:moveTo>
                  <a:pt x="1422" y="408"/>
                </a:moveTo>
                <a:lnTo>
                  <a:pt x="1422" y="408"/>
                </a:lnTo>
                <a:lnTo>
                  <a:pt x="1422" y="409"/>
                </a:lnTo>
                <a:lnTo>
                  <a:pt x="1422" y="409"/>
                </a:lnTo>
                <a:lnTo>
                  <a:pt x="1423" y="409"/>
                </a:lnTo>
                <a:lnTo>
                  <a:pt x="1423" y="409"/>
                </a:lnTo>
                <a:lnTo>
                  <a:pt x="1423" y="410"/>
                </a:lnTo>
                <a:lnTo>
                  <a:pt x="1423" y="410"/>
                </a:lnTo>
                <a:lnTo>
                  <a:pt x="1423" y="410"/>
                </a:lnTo>
                <a:lnTo>
                  <a:pt x="1423" y="411"/>
                </a:lnTo>
                <a:lnTo>
                  <a:pt x="1423" y="411"/>
                </a:lnTo>
                <a:lnTo>
                  <a:pt x="1423" y="411"/>
                </a:lnTo>
                <a:lnTo>
                  <a:pt x="1425" y="411"/>
                </a:lnTo>
                <a:lnTo>
                  <a:pt x="1425" y="412"/>
                </a:lnTo>
                <a:lnTo>
                  <a:pt x="1425" y="412"/>
                </a:lnTo>
                <a:lnTo>
                  <a:pt x="1425" y="412"/>
                </a:lnTo>
                <a:lnTo>
                  <a:pt x="1425" y="414"/>
                </a:lnTo>
                <a:lnTo>
                  <a:pt x="1425" y="414"/>
                </a:lnTo>
                <a:lnTo>
                  <a:pt x="1425" y="414"/>
                </a:lnTo>
                <a:lnTo>
                  <a:pt x="1425" y="415"/>
                </a:lnTo>
                <a:lnTo>
                  <a:pt x="1425" y="415"/>
                </a:lnTo>
                <a:lnTo>
                  <a:pt x="1425" y="415"/>
                </a:lnTo>
                <a:lnTo>
                  <a:pt x="1433" y="412"/>
                </a:lnTo>
                <a:lnTo>
                  <a:pt x="1433" y="412"/>
                </a:lnTo>
                <a:lnTo>
                  <a:pt x="1433" y="411"/>
                </a:lnTo>
                <a:lnTo>
                  <a:pt x="1433" y="411"/>
                </a:lnTo>
                <a:lnTo>
                  <a:pt x="1432" y="411"/>
                </a:lnTo>
                <a:lnTo>
                  <a:pt x="1432" y="410"/>
                </a:lnTo>
                <a:lnTo>
                  <a:pt x="1432" y="410"/>
                </a:lnTo>
                <a:lnTo>
                  <a:pt x="1432" y="410"/>
                </a:lnTo>
                <a:lnTo>
                  <a:pt x="1432" y="409"/>
                </a:lnTo>
                <a:lnTo>
                  <a:pt x="1432" y="409"/>
                </a:lnTo>
                <a:lnTo>
                  <a:pt x="1432" y="409"/>
                </a:lnTo>
                <a:lnTo>
                  <a:pt x="1430" y="408"/>
                </a:lnTo>
                <a:lnTo>
                  <a:pt x="1430" y="408"/>
                </a:lnTo>
                <a:lnTo>
                  <a:pt x="1430" y="408"/>
                </a:lnTo>
                <a:lnTo>
                  <a:pt x="1430" y="406"/>
                </a:lnTo>
                <a:lnTo>
                  <a:pt x="1430" y="406"/>
                </a:lnTo>
                <a:lnTo>
                  <a:pt x="1430" y="406"/>
                </a:lnTo>
                <a:lnTo>
                  <a:pt x="1430" y="405"/>
                </a:lnTo>
                <a:lnTo>
                  <a:pt x="1429" y="405"/>
                </a:lnTo>
                <a:lnTo>
                  <a:pt x="1429" y="405"/>
                </a:lnTo>
                <a:lnTo>
                  <a:pt x="1429" y="404"/>
                </a:lnTo>
                <a:lnTo>
                  <a:pt x="1429" y="404"/>
                </a:lnTo>
                <a:lnTo>
                  <a:pt x="1422" y="408"/>
                </a:lnTo>
                <a:moveTo>
                  <a:pt x="1427" y="436"/>
                </a:moveTo>
                <a:lnTo>
                  <a:pt x="1427" y="436"/>
                </a:lnTo>
                <a:lnTo>
                  <a:pt x="1427" y="437"/>
                </a:lnTo>
                <a:lnTo>
                  <a:pt x="1427" y="437"/>
                </a:lnTo>
                <a:lnTo>
                  <a:pt x="1427" y="437"/>
                </a:lnTo>
                <a:lnTo>
                  <a:pt x="1427" y="438"/>
                </a:lnTo>
                <a:lnTo>
                  <a:pt x="1427" y="438"/>
                </a:lnTo>
                <a:lnTo>
                  <a:pt x="1426" y="438"/>
                </a:lnTo>
                <a:lnTo>
                  <a:pt x="1426" y="438"/>
                </a:lnTo>
                <a:lnTo>
                  <a:pt x="1426" y="439"/>
                </a:lnTo>
                <a:lnTo>
                  <a:pt x="1426" y="439"/>
                </a:lnTo>
                <a:lnTo>
                  <a:pt x="1426" y="439"/>
                </a:lnTo>
                <a:lnTo>
                  <a:pt x="1426" y="441"/>
                </a:lnTo>
                <a:lnTo>
                  <a:pt x="1426" y="441"/>
                </a:lnTo>
                <a:lnTo>
                  <a:pt x="1426" y="441"/>
                </a:lnTo>
                <a:lnTo>
                  <a:pt x="1426" y="441"/>
                </a:lnTo>
                <a:lnTo>
                  <a:pt x="1426" y="442"/>
                </a:lnTo>
                <a:lnTo>
                  <a:pt x="1426" y="442"/>
                </a:lnTo>
                <a:lnTo>
                  <a:pt x="1426" y="442"/>
                </a:lnTo>
                <a:lnTo>
                  <a:pt x="1425" y="443"/>
                </a:lnTo>
                <a:lnTo>
                  <a:pt x="1425" y="443"/>
                </a:lnTo>
                <a:lnTo>
                  <a:pt x="1425" y="443"/>
                </a:lnTo>
                <a:lnTo>
                  <a:pt x="1433" y="445"/>
                </a:lnTo>
                <a:lnTo>
                  <a:pt x="1433" y="445"/>
                </a:lnTo>
                <a:lnTo>
                  <a:pt x="1433" y="445"/>
                </a:lnTo>
                <a:lnTo>
                  <a:pt x="1433" y="445"/>
                </a:lnTo>
                <a:lnTo>
                  <a:pt x="1433" y="444"/>
                </a:lnTo>
                <a:lnTo>
                  <a:pt x="1433" y="444"/>
                </a:lnTo>
                <a:lnTo>
                  <a:pt x="1433" y="443"/>
                </a:lnTo>
                <a:lnTo>
                  <a:pt x="1433" y="443"/>
                </a:lnTo>
                <a:lnTo>
                  <a:pt x="1433" y="443"/>
                </a:lnTo>
                <a:lnTo>
                  <a:pt x="1434" y="442"/>
                </a:lnTo>
                <a:lnTo>
                  <a:pt x="1434" y="442"/>
                </a:lnTo>
                <a:lnTo>
                  <a:pt x="1434" y="442"/>
                </a:lnTo>
                <a:lnTo>
                  <a:pt x="1434" y="441"/>
                </a:lnTo>
                <a:lnTo>
                  <a:pt x="1434" y="441"/>
                </a:lnTo>
                <a:lnTo>
                  <a:pt x="1434" y="441"/>
                </a:lnTo>
                <a:lnTo>
                  <a:pt x="1434" y="439"/>
                </a:lnTo>
                <a:lnTo>
                  <a:pt x="1434" y="439"/>
                </a:lnTo>
                <a:lnTo>
                  <a:pt x="1434" y="439"/>
                </a:lnTo>
                <a:lnTo>
                  <a:pt x="1434" y="438"/>
                </a:lnTo>
                <a:lnTo>
                  <a:pt x="1434" y="438"/>
                </a:lnTo>
                <a:lnTo>
                  <a:pt x="1434" y="438"/>
                </a:lnTo>
                <a:lnTo>
                  <a:pt x="1435" y="437"/>
                </a:lnTo>
                <a:lnTo>
                  <a:pt x="1427" y="436"/>
                </a:lnTo>
                <a:moveTo>
                  <a:pt x="1413" y="461"/>
                </a:moveTo>
                <a:lnTo>
                  <a:pt x="1413" y="461"/>
                </a:lnTo>
                <a:lnTo>
                  <a:pt x="1412" y="461"/>
                </a:lnTo>
                <a:lnTo>
                  <a:pt x="1412" y="462"/>
                </a:lnTo>
                <a:lnTo>
                  <a:pt x="1412" y="462"/>
                </a:lnTo>
                <a:lnTo>
                  <a:pt x="1412" y="462"/>
                </a:lnTo>
                <a:lnTo>
                  <a:pt x="1410" y="462"/>
                </a:lnTo>
                <a:lnTo>
                  <a:pt x="1410" y="462"/>
                </a:lnTo>
                <a:lnTo>
                  <a:pt x="1410" y="463"/>
                </a:lnTo>
                <a:lnTo>
                  <a:pt x="1409" y="463"/>
                </a:lnTo>
                <a:lnTo>
                  <a:pt x="1409" y="463"/>
                </a:lnTo>
                <a:lnTo>
                  <a:pt x="1409" y="463"/>
                </a:lnTo>
                <a:lnTo>
                  <a:pt x="1409" y="463"/>
                </a:lnTo>
                <a:lnTo>
                  <a:pt x="1408" y="464"/>
                </a:lnTo>
                <a:lnTo>
                  <a:pt x="1408" y="464"/>
                </a:lnTo>
                <a:lnTo>
                  <a:pt x="1408" y="464"/>
                </a:lnTo>
                <a:lnTo>
                  <a:pt x="1407" y="464"/>
                </a:lnTo>
                <a:lnTo>
                  <a:pt x="1407" y="464"/>
                </a:lnTo>
                <a:lnTo>
                  <a:pt x="1407" y="465"/>
                </a:lnTo>
                <a:lnTo>
                  <a:pt x="1410" y="471"/>
                </a:lnTo>
                <a:lnTo>
                  <a:pt x="1412" y="471"/>
                </a:lnTo>
                <a:lnTo>
                  <a:pt x="1412" y="471"/>
                </a:lnTo>
                <a:lnTo>
                  <a:pt x="1412" y="471"/>
                </a:lnTo>
                <a:lnTo>
                  <a:pt x="1413" y="470"/>
                </a:lnTo>
                <a:lnTo>
                  <a:pt x="1413" y="470"/>
                </a:lnTo>
                <a:lnTo>
                  <a:pt x="1413" y="470"/>
                </a:lnTo>
                <a:lnTo>
                  <a:pt x="1414" y="470"/>
                </a:lnTo>
                <a:lnTo>
                  <a:pt x="1414" y="470"/>
                </a:lnTo>
                <a:lnTo>
                  <a:pt x="1414" y="469"/>
                </a:lnTo>
                <a:lnTo>
                  <a:pt x="1415" y="469"/>
                </a:lnTo>
                <a:lnTo>
                  <a:pt x="1415" y="469"/>
                </a:lnTo>
                <a:lnTo>
                  <a:pt x="1415" y="469"/>
                </a:lnTo>
                <a:lnTo>
                  <a:pt x="1416" y="468"/>
                </a:lnTo>
                <a:lnTo>
                  <a:pt x="1416" y="468"/>
                </a:lnTo>
                <a:lnTo>
                  <a:pt x="1416" y="468"/>
                </a:lnTo>
                <a:lnTo>
                  <a:pt x="1417" y="468"/>
                </a:lnTo>
                <a:lnTo>
                  <a:pt x="1417" y="466"/>
                </a:lnTo>
                <a:lnTo>
                  <a:pt x="1417" y="466"/>
                </a:lnTo>
                <a:lnTo>
                  <a:pt x="1413" y="461"/>
                </a:lnTo>
                <a:moveTo>
                  <a:pt x="1386" y="476"/>
                </a:moveTo>
                <a:lnTo>
                  <a:pt x="1390" y="483"/>
                </a:lnTo>
                <a:lnTo>
                  <a:pt x="1383" y="486"/>
                </a:lnTo>
                <a:lnTo>
                  <a:pt x="1379" y="479"/>
                </a:lnTo>
                <a:lnTo>
                  <a:pt x="1386" y="476"/>
                </a:lnTo>
                <a:moveTo>
                  <a:pt x="1359" y="491"/>
                </a:moveTo>
                <a:lnTo>
                  <a:pt x="1362" y="498"/>
                </a:lnTo>
                <a:lnTo>
                  <a:pt x="1355" y="502"/>
                </a:lnTo>
                <a:lnTo>
                  <a:pt x="1352" y="495"/>
                </a:lnTo>
                <a:lnTo>
                  <a:pt x="1359" y="491"/>
                </a:lnTo>
                <a:moveTo>
                  <a:pt x="1330" y="505"/>
                </a:moveTo>
                <a:lnTo>
                  <a:pt x="1334" y="512"/>
                </a:lnTo>
                <a:lnTo>
                  <a:pt x="1327" y="517"/>
                </a:lnTo>
                <a:lnTo>
                  <a:pt x="1323" y="510"/>
                </a:lnTo>
                <a:lnTo>
                  <a:pt x="1330" y="505"/>
                </a:lnTo>
                <a:moveTo>
                  <a:pt x="1302" y="521"/>
                </a:moveTo>
                <a:lnTo>
                  <a:pt x="1306" y="528"/>
                </a:lnTo>
                <a:lnTo>
                  <a:pt x="1300" y="531"/>
                </a:lnTo>
                <a:lnTo>
                  <a:pt x="1295" y="524"/>
                </a:lnTo>
                <a:lnTo>
                  <a:pt x="1302" y="521"/>
                </a:lnTo>
                <a:moveTo>
                  <a:pt x="1275" y="536"/>
                </a:moveTo>
                <a:lnTo>
                  <a:pt x="1279" y="543"/>
                </a:lnTo>
                <a:lnTo>
                  <a:pt x="1272" y="546"/>
                </a:lnTo>
                <a:lnTo>
                  <a:pt x="1268" y="539"/>
                </a:lnTo>
                <a:lnTo>
                  <a:pt x="1275" y="536"/>
                </a:lnTo>
                <a:moveTo>
                  <a:pt x="1247" y="550"/>
                </a:moveTo>
                <a:lnTo>
                  <a:pt x="1250" y="557"/>
                </a:lnTo>
                <a:lnTo>
                  <a:pt x="1243" y="562"/>
                </a:lnTo>
                <a:lnTo>
                  <a:pt x="1240" y="555"/>
                </a:lnTo>
                <a:lnTo>
                  <a:pt x="1247" y="550"/>
                </a:lnTo>
                <a:moveTo>
                  <a:pt x="1219" y="565"/>
                </a:moveTo>
                <a:lnTo>
                  <a:pt x="1222" y="572"/>
                </a:lnTo>
                <a:lnTo>
                  <a:pt x="1215" y="576"/>
                </a:lnTo>
                <a:lnTo>
                  <a:pt x="1212" y="569"/>
                </a:lnTo>
                <a:lnTo>
                  <a:pt x="1219" y="565"/>
                </a:lnTo>
                <a:moveTo>
                  <a:pt x="1190" y="581"/>
                </a:moveTo>
                <a:lnTo>
                  <a:pt x="1195" y="588"/>
                </a:lnTo>
                <a:lnTo>
                  <a:pt x="1188" y="591"/>
                </a:lnTo>
                <a:lnTo>
                  <a:pt x="1184" y="584"/>
                </a:lnTo>
                <a:lnTo>
                  <a:pt x="1190" y="581"/>
                </a:lnTo>
                <a:moveTo>
                  <a:pt x="1163" y="596"/>
                </a:moveTo>
                <a:lnTo>
                  <a:pt x="1167" y="602"/>
                </a:lnTo>
                <a:lnTo>
                  <a:pt x="1160" y="606"/>
                </a:lnTo>
                <a:lnTo>
                  <a:pt x="1156" y="599"/>
                </a:lnTo>
                <a:lnTo>
                  <a:pt x="1163" y="596"/>
                </a:lnTo>
                <a:moveTo>
                  <a:pt x="1135" y="610"/>
                </a:moveTo>
                <a:lnTo>
                  <a:pt x="1139" y="617"/>
                </a:lnTo>
                <a:lnTo>
                  <a:pt x="1131" y="621"/>
                </a:lnTo>
                <a:lnTo>
                  <a:pt x="1128" y="613"/>
                </a:lnTo>
                <a:lnTo>
                  <a:pt x="1135" y="610"/>
                </a:lnTo>
                <a:moveTo>
                  <a:pt x="1107" y="625"/>
                </a:moveTo>
                <a:lnTo>
                  <a:pt x="1111" y="632"/>
                </a:lnTo>
                <a:lnTo>
                  <a:pt x="1104" y="636"/>
                </a:lnTo>
                <a:lnTo>
                  <a:pt x="1100" y="629"/>
                </a:lnTo>
                <a:lnTo>
                  <a:pt x="1107" y="625"/>
                </a:lnTo>
                <a:moveTo>
                  <a:pt x="1080" y="641"/>
                </a:moveTo>
                <a:lnTo>
                  <a:pt x="1083" y="648"/>
                </a:lnTo>
                <a:lnTo>
                  <a:pt x="1076" y="651"/>
                </a:lnTo>
                <a:lnTo>
                  <a:pt x="1073" y="644"/>
                </a:lnTo>
                <a:lnTo>
                  <a:pt x="1080" y="641"/>
                </a:lnTo>
                <a:moveTo>
                  <a:pt x="1051" y="655"/>
                </a:moveTo>
                <a:lnTo>
                  <a:pt x="1055" y="662"/>
                </a:lnTo>
                <a:lnTo>
                  <a:pt x="1048" y="665"/>
                </a:lnTo>
                <a:lnTo>
                  <a:pt x="1044" y="658"/>
                </a:lnTo>
                <a:lnTo>
                  <a:pt x="1051" y="655"/>
                </a:lnTo>
                <a:moveTo>
                  <a:pt x="1023" y="670"/>
                </a:moveTo>
                <a:lnTo>
                  <a:pt x="1027" y="677"/>
                </a:lnTo>
                <a:lnTo>
                  <a:pt x="1020" y="680"/>
                </a:lnTo>
                <a:lnTo>
                  <a:pt x="1016" y="673"/>
                </a:lnTo>
                <a:lnTo>
                  <a:pt x="1023" y="670"/>
                </a:lnTo>
                <a:moveTo>
                  <a:pt x="996" y="685"/>
                </a:moveTo>
                <a:lnTo>
                  <a:pt x="1000" y="692"/>
                </a:lnTo>
                <a:lnTo>
                  <a:pt x="993" y="696"/>
                </a:lnTo>
                <a:lnTo>
                  <a:pt x="989" y="689"/>
                </a:lnTo>
                <a:lnTo>
                  <a:pt x="996" y="685"/>
                </a:lnTo>
                <a:moveTo>
                  <a:pt x="968" y="699"/>
                </a:moveTo>
                <a:lnTo>
                  <a:pt x="971" y="706"/>
                </a:lnTo>
                <a:lnTo>
                  <a:pt x="964" y="710"/>
                </a:lnTo>
                <a:lnTo>
                  <a:pt x="961" y="703"/>
                </a:lnTo>
                <a:lnTo>
                  <a:pt x="968" y="699"/>
                </a:lnTo>
                <a:moveTo>
                  <a:pt x="940" y="715"/>
                </a:moveTo>
                <a:lnTo>
                  <a:pt x="943" y="722"/>
                </a:lnTo>
                <a:lnTo>
                  <a:pt x="936" y="725"/>
                </a:lnTo>
                <a:lnTo>
                  <a:pt x="933" y="718"/>
                </a:lnTo>
                <a:lnTo>
                  <a:pt x="940" y="715"/>
                </a:lnTo>
                <a:moveTo>
                  <a:pt x="911" y="730"/>
                </a:moveTo>
                <a:lnTo>
                  <a:pt x="916" y="737"/>
                </a:lnTo>
                <a:lnTo>
                  <a:pt x="909" y="740"/>
                </a:lnTo>
                <a:lnTo>
                  <a:pt x="906" y="733"/>
                </a:lnTo>
                <a:lnTo>
                  <a:pt x="911" y="730"/>
                </a:lnTo>
                <a:moveTo>
                  <a:pt x="884" y="744"/>
                </a:moveTo>
                <a:lnTo>
                  <a:pt x="888" y="751"/>
                </a:lnTo>
                <a:lnTo>
                  <a:pt x="881" y="755"/>
                </a:lnTo>
                <a:lnTo>
                  <a:pt x="877" y="749"/>
                </a:lnTo>
                <a:lnTo>
                  <a:pt x="884" y="744"/>
                </a:lnTo>
                <a:moveTo>
                  <a:pt x="856" y="759"/>
                </a:moveTo>
                <a:lnTo>
                  <a:pt x="860" y="766"/>
                </a:lnTo>
                <a:lnTo>
                  <a:pt x="853" y="770"/>
                </a:lnTo>
                <a:lnTo>
                  <a:pt x="849" y="763"/>
                </a:lnTo>
                <a:lnTo>
                  <a:pt x="856" y="759"/>
                </a:lnTo>
                <a:moveTo>
                  <a:pt x="828" y="775"/>
                </a:moveTo>
                <a:lnTo>
                  <a:pt x="833" y="782"/>
                </a:lnTo>
                <a:lnTo>
                  <a:pt x="825" y="785"/>
                </a:lnTo>
                <a:lnTo>
                  <a:pt x="821" y="778"/>
                </a:lnTo>
                <a:lnTo>
                  <a:pt x="828" y="775"/>
                </a:lnTo>
                <a:moveTo>
                  <a:pt x="801" y="789"/>
                </a:moveTo>
                <a:lnTo>
                  <a:pt x="804" y="796"/>
                </a:lnTo>
                <a:lnTo>
                  <a:pt x="797" y="799"/>
                </a:lnTo>
                <a:lnTo>
                  <a:pt x="794" y="793"/>
                </a:lnTo>
                <a:lnTo>
                  <a:pt x="801" y="789"/>
                </a:lnTo>
                <a:moveTo>
                  <a:pt x="773" y="804"/>
                </a:moveTo>
                <a:lnTo>
                  <a:pt x="776" y="811"/>
                </a:lnTo>
                <a:lnTo>
                  <a:pt x="769" y="815"/>
                </a:lnTo>
                <a:lnTo>
                  <a:pt x="765" y="807"/>
                </a:lnTo>
                <a:lnTo>
                  <a:pt x="773" y="804"/>
                </a:lnTo>
                <a:moveTo>
                  <a:pt x="744" y="819"/>
                </a:moveTo>
                <a:lnTo>
                  <a:pt x="748" y="826"/>
                </a:lnTo>
                <a:lnTo>
                  <a:pt x="741" y="830"/>
                </a:lnTo>
                <a:lnTo>
                  <a:pt x="737" y="823"/>
                </a:lnTo>
                <a:lnTo>
                  <a:pt x="744" y="819"/>
                </a:lnTo>
                <a:moveTo>
                  <a:pt x="717" y="833"/>
                </a:moveTo>
                <a:lnTo>
                  <a:pt x="721" y="840"/>
                </a:lnTo>
                <a:lnTo>
                  <a:pt x="714" y="845"/>
                </a:lnTo>
                <a:lnTo>
                  <a:pt x="710" y="838"/>
                </a:lnTo>
                <a:lnTo>
                  <a:pt x="717" y="833"/>
                </a:lnTo>
                <a:moveTo>
                  <a:pt x="689" y="847"/>
                </a:moveTo>
                <a:lnTo>
                  <a:pt x="689" y="847"/>
                </a:lnTo>
                <a:lnTo>
                  <a:pt x="689" y="847"/>
                </a:lnTo>
                <a:lnTo>
                  <a:pt x="688" y="847"/>
                </a:lnTo>
                <a:lnTo>
                  <a:pt x="688" y="849"/>
                </a:lnTo>
                <a:lnTo>
                  <a:pt x="688" y="849"/>
                </a:lnTo>
                <a:lnTo>
                  <a:pt x="687" y="849"/>
                </a:lnTo>
                <a:lnTo>
                  <a:pt x="687" y="849"/>
                </a:lnTo>
                <a:lnTo>
                  <a:pt x="687" y="849"/>
                </a:lnTo>
                <a:lnTo>
                  <a:pt x="687" y="849"/>
                </a:lnTo>
                <a:lnTo>
                  <a:pt x="685" y="849"/>
                </a:lnTo>
                <a:lnTo>
                  <a:pt x="685" y="849"/>
                </a:lnTo>
                <a:lnTo>
                  <a:pt x="685" y="849"/>
                </a:lnTo>
                <a:lnTo>
                  <a:pt x="684" y="849"/>
                </a:lnTo>
                <a:lnTo>
                  <a:pt x="684" y="849"/>
                </a:lnTo>
                <a:lnTo>
                  <a:pt x="684" y="849"/>
                </a:lnTo>
                <a:lnTo>
                  <a:pt x="683" y="849"/>
                </a:lnTo>
                <a:lnTo>
                  <a:pt x="683" y="849"/>
                </a:lnTo>
                <a:lnTo>
                  <a:pt x="683" y="849"/>
                </a:lnTo>
                <a:lnTo>
                  <a:pt x="683" y="850"/>
                </a:lnTo>
                <a:lnTo>
                  <a:pt x="682" y="850"/>
                </a:lnTo>
                <a:lnTo>
                  <a:pt x="682" y="850"/>
                </a:lnTo>
                <a:lnTo>
                  <a:pt x="683" y="857"/>
                </a:lnTo>
                <a:lnTo>
                  <a:pt x="683" y="857"/>
                </a:lnTo>
                <a:lnTo>
                  <a:pt x="684" y="857"/>
                </a:lnTo>
                <a:lnTo>
                  <a:pt x="684" y="857"/>
                </a:lnTo>
                <a:lnTo>
                  <a:pt x="684" y="857"/>
                </a:lnTo>
                <a:lnTo>
                  <a:pt x="685" y="857"/>
                </a:lnTo>
                <a:lnTo>
                  <a:pt x="685" y="857"/>
                </a:lnTo>
                <a:lnTo>
                  <a:pt x="685" y="857"/>
                </a:lnTo>
                <a:lnTo>
                  <a:pt x="687" y="857"/>
                </a:lnTo>
                <a:lnTo>
                  <a:pt x="687" y="857"/>
                </a:lnTo>
                <a:lnTo>
                  <a:pt x="687" y="857"/>
                </a:lnTo>
                <a:lnTo>
                  <a:pt x="688" y="857"/>
                </a:lnTo>
                <a:lnTo>
                  <a:pt x="688" y="856"/>
                </a:lnTo>
                <a:lnTo>
                  <a:pt x="688" y="856"/>
                </a:lnTo>
                <a:lnTo>
                  <a:pt x="689" y="856"/>
                </a:lnTo>
                <a:lnTo>
                  <a:pt x="689" y="856"/>
                </a:lnTo>
                <a:lnTo>
                  <a:pt x="689" y="856"/>
                </a:lnTo>
                <a:lnTo>
                  <a:pt x="690" y="856"/>
                </a:lnTo>
                <a:lnTo>
                  <a:pt x="690" y="856"/>
                </a:lnTo>
                <a:lnTo>
                  <a:pt x="690" y="856"/>
                </a:lnTo>
                <a:lnTo>
                  <a:pt x="691" y="856"/>
                </a:lnTo>
                <a:lnTo>
                  <a:pt x="691" y="856"/>
                </a:lnTo>
                <a:lnTo>
                  <a:pt x="689" y="847"/>
                </a:lnTo>
                <a:moveTo>
                  <a:pt x="661" y="847"/>
                </a:moveTo>
                <a:lnTo>
                  <a:pt x="661" y="847"/>
                </a:lnTo>
                <a:lnTo>
                  <a:pt x="660" y="847"/>
                </a:lnTo>
                <a:lnTo>
                  <a:pt x="660" y="847"/>
                </a:lnTo>
                <a:lnTo>
                  <a:pt x="660" y="847"/>
                </a:lnTo>
                <a:lnTo>
                  <a:pt x="658" y="847"/>
                </a:lnTo>
                <a:lnTo>
                  <a:pt x="658" y="847"/>
                </a:lnTo>
                <a:lnTo>
                  <a:pt x="658" y="847"/>
                </a:lnTo>
                <a:lnTo>
                  <a:pt x="658" y="847"/>
                </a:lnTo>
                <a:lnTo>
                  <a:pt x="657" y="847"/>
                </a:lnTo>
                <a:lnTo>
                  <a:pt x="657" y="846"/>
                </a:lnTo>
                <a:lnTo>
                  <a:pt x="657" y="846"/>
                </a:lnTo>
                <a:lnTo>
                  <a:pt x="656" y="846"/>
                </a:lnTo>
                <a:lnTo>
                  <a:pt x="656" y="846"/>
                </a:lnTo>
                <a:lnTo>
                  <a:pt x="656" y="846"/>
                </a:lnTo>
                <a:lnTo>
                  <a:pt x="656" y="846"/>
                </a:lnTo>
                <a:lnTo>
                  <a:pt x="655" y="846"/>
                </a:lnTo>
                <a:lnTo>
                  <a:pt x="655" y="846"/>
                </a:lnTo>
                <a:lnTo>
                  <a:pt x="655" y="846"/>
                </a:lnTo>
                <a:lnTo>
                  <a:pt x="655" y="845"/>
                </a:lnTo>
                <a:lnTo>
                  <a:pt x="654" y="845"/>
                </a:lnTo>
                <a:lnTo>
                  <a:pt x="654" y="845"/>
                </a:lnTo>
                <a:lnTo>
                  <a:pt x="654" y="845"/>
                </a:lnTo>
                <a:lnTo>
                  <a:pt x="650" y="852"/>
                </a:lnTo>
                <a:lnTo>
                  <a:pt x="650" y="852"/>
                </a:lnTo>
                <a:lnTo>
                  <a:pt x="650" y="852"/>
                </a:lnTo>
                <a:lnTo>
                  <a:pt x="651" y="853"/>
                </a:lnTo>
                <a:lnTo>
                  <a:pt x="651" y="853"/>
                </a:lnTo>
                <a:lnTo>
                  <a:pt x="651" y="853"/>
                </a:lnTo>
                <a:lnTo>
                  <a:pt x="652" y="853"/>
                </a:lnTo>
                <a:lnTo>
                  <a:pt x="652" y="853"/>
                </a:lnTo>
                <a:lnTo>
                  <a:pt x="652" y="853"/>
                </a:lnTo>
                <a:lnTo>
                  <a:pt x="654" y="853"/>
                </a:lnTo>
                <a:lnTo>
                  <a:pt x="654" y="853"/>
                </a:lnTo>
                <a:lnTo>
                  <a:pt x="654" y="855"/>
                </a:lnTo>
                <a:lnTo>
                  <a:pt x="655" y="855"/>
                </a:lnTo>
                <a:lnTo>
                  <a:pt x="655" y="855"/>
                </a:lnTo>
                <a:lnTo>
                  <a:pt x="655" y="855"/>
                </a:lnTo>
                <a:lnTo>
                  <a:pt x="656" y="855"/>
                </a:lnTo>
                <a:lnTo>
                  <a:pt x="656" y="855"/>
                </a:lnTo>
                <a:lnTo>
                  <a:pt x="656" y="855"/>
                </a:lnTo>
                <a:lnTo>
                  <a:pt x="657" y="855"/>
                </a:lnTo>
                <a:lnTo>
                  <a:pt x="657" y="856"/>
                </a:lnTo>
                <a:lnTo>
                  <a:pt x="657" y="856"/>
                </a:lnTo>
                <a:lnTo>
                  <a:pt x="658" y="856"/>
                </a:lnTo>
                <a:lnTo>
                  <a:pt x="658" y="856"/>
                </a:lnTo>
                <a:lnTo>
                  <a:pt x="661" y="847"/>
                </a:lnTo>
                <a:moveTo>
                  <a:pt x="637" y="831"/>
                </a:moveTo>
                <a:lnTo>
                  <a:pt x="637" y="831"/>
                </a:lnTo>
                <a:lnTo>
                  <a:pt x="637" y="831"/>
                </a:lnTo>
                <a:lnTo>
                  <a:pt x="637" y="830"/>
                </a:lnTo>
                <a:lnTo>
                  <a:pt x="637" y="830"/>
                </a:lnTo>
                <a:lnTo>
                  <a:pt x="636" y="830"/>
                </a:lnTo>
                <a:lnTo>
                  <a:pt x="636" y="830"/>
                </a:lnTo>
                <a:lnTo>
                  <a:pt x="636" y="829"/>
                </a:lnTo>
                <a:lnTo>
                  <a:pt x="636" y="829"/>
                </a:lnTo>
                <a:lnTo>
                  <a:pt x="636" y="829"/>
                </a:lnTo>
                <a:lnTo>
                  <a:pt x="636" y="829"/>
                </a:lnTo>
                <a:lnTo>
                  <a:pt x="635" y="827"/>
                </a:lnTo>
                <a:lnTo>
                  <a:pt x="635" y="827"/>
                </a:lnTo>
                <a:lnTo>
                  <a:pt x="635" y="827"/>
                </a:lnTo>
                <a:lnTo>
                  <a:pt x="635" y="826"/>
                </a:lnTo>
                <a:lnTo>
                  <a:pt x="635" y="826"/>
                </a:lnTo>
                <a:lnTo>
                  <a:pt x="635" y="826"/>
                </a:lnTo>
                <a:lnTo>
                  <a:pt x="635" y="826"/>
                </a:lnTo>
                <a:lnTo>
                  <a:pt x="634" y="825"/>
                </a:lnTo>
                <a:lnTo>
                  <a:pt x="634" y="825"/>
                </a:lnTo>
                <a:lnTo>
                  <a:pt x="634" y="825"/>
                </a:lnTo>
                <a:lnTo>
                  <a:pt x="627" y="827"/>
                </a:lnTo>
                <a:lnTo>
                  <a:pt x="627" y="829"/>
                </a:lnTo>
                <a:lnTo>
                  <a:pt x="627" y="829"/>
                </a:lnTo>
                <a:lnTo>
                  <a:pt x="627" y="829"/>
                </a:lnTo>
                <a:lnTo>
                  <a:pt x="628" y="830"/>
                </a:lnTo>
                <a:lnTo>
                  <a:pt x="628" y="830"/>
                </a:lnTo>
                <a:lnTo>
                  <a:pt x="628" y="830"/>
                </a:lnTo>
                <a:lnTo>
                  <a:pt x="628" y="831"/>
                </a:lnTo>
                <a:lnTo>
                  <a:pt x="628" y="831"/>
                </a:lnTo>
                <a:lnTo>
                  <a:pt x="628" y="831"/>
                </a:lnTo>
                <a:lnTo>
                  <a:pt x="629" y="832"/>
                </a:lnTo>
                <a:lnTo>
                  <a:pt x="629" y="832"/>
                </a:lnTo>
                <a:lnTo>
                  <a:pt x="629" y="832"/>
                </a:lnTo>
                <a:lnTo>
                  <a:pt x="629" y="833"/>
                </a:lnTo>
                <a:lnTo>
                  <a:pt x="629" y="833"/>
                </a:lnTo>
                <a:lnTo>
                  <a:pt x="630" y="833"/>
                </a:lnTo>
                <a:lnTo>
                  <a:pt x="630" y="835"/>
                </a:lnTo>
                <a:lnTo>
                  <a:pt x="630" y="835"/>
                </a:lnTo>
                <a:lnTo>
                  <a:pt x="630" y="835"/>
                </a:lnTo>
                <a:lnTo>
                  <a:pt x="630" y="836"/>
                </a:lnTo>
                <a:lnTo>
                  <a:pt x="631" y="836"/>
                </a:lnTo>
                <a:lnTo>
                  <a:pt x="637" y="831"/>
                </a:lnTo>
                <a:moveTo>
                  <a:pt x="630" y="803"/>
                </a:moveTo>
                <a:lnTo>
                  <a:pt x="622" y="803"/>
                </a:lnTo>
                <a:lnTo>
                  <a:pt x="622" y="796"/>
                </a:lnTo>
                <a:lnTo>
                  <a:pt x="630" y="796"/>
                </a:lnTo>
                <a:lnTo>
                  <a:pt x="630" y="803"/>
                </a:lnTo>
                <a:moveTo>
                  <a:pt x="630" y="772"/>
                </a:moveTo>
                <a:lnTo>
                  <a:pt x="622" y="772"/>
                </a:lnTo>
                <a:lnTo>
                  <a:pt x="622" y="764"/>
                </a:lnTo>
                <a:lnTo>
                  <a:pt x="630" y="764"/>
                </a:lnTo>
                <a:lnTo>
                  <a:pt x="630" y="772"/>
                </a:lnTo>
                <a:moveTo>
                  <a:pt x="630" y="740"/>
                </a:moveTo>
                <a:lnTo>
                  <a:pt x="622" y="740"/>
                </a:lnTo>
                <a:lnTo>
                  <a:pt x="622" y="732"/>
                </a:lnTo>
                <a:lnTo>
                  <a:pt x="630" y="732"/>
                </a:lnTo>
                <a:lnTo>
                  <a:pt x="630" y="740"/>
                </a:lnTo>
                <a:moveTo>
                  <a:pt x="630" y="709"/>
                </a:moveTo>
                <a:lnTo>
                  <a:pt x="622" y="709"/>
                </a:lnTo>
                <a:lnTo>
                  <a:pt x="622" y="700"/>
                </a:lnTo>
                <a:lnTo>
                  <a:pt x="630" y="700"/>
                </a:lnTo>
                <a:lnTo>
                  <a:pt x="630" y="709"/>
                </a:lnTo>
                <a:moveTo>
                  <a:pt x="630" y="677"/>
                </a:moveTo>
                <a:lnTo>
                  <a:pt x="622" y="677"/>
                </a:lnTo>
                <a:lnTo>
                  <a:pt x="622" y="669"/>
                </a:lnTo>
                <a:lnTo>
                  <a:pt x="630" y="669"/>
                </a:lnTo>
                <a:lnTo>
                  <a:pt x="630" y="677"/>
                </a:lnTo>
                <a:moveTo>
                  <a:pt x="630" y="645"/>
                </a:moveTo>
                <a:lnTo>
                  <a:pt x="622" y="645"/>
                </a:lnTo>
                <a:lnTo>
                  <a:pt x="622" y="637"/>
                </a:lnTo>
                <a:lnTo>
                  <a:pt x="630" y="637"/>
                </a:lnTo>
                <a:lnTo>
                  <a:pt x="630" y="645"/>
                </a:lnTo>
                <a:moveTo>
                  <a:pt x="630" y="613"/>
                </a:moveTo>
                <a:lnTo>
                  <a:pt x="622" y="613"/>
                </a:lnTo>
                <a:lnTo>
                  <a:pt x="622" y="605"/>
                </a:lnTo>
                <a:lnTo>
                  <a:pt x="630" y="605"/>
                </a:lnTo>
                <a:lnTo>
                  <a:pt x="630" y="613"/>
                </a:lnTo>
                <a:moveTo>
                  <a:pt x="610" y="595"/>
                </a:moveTo>
                <a:lnTo>
                  <a:pt x="610" y="602"/>
                </a:lnTo>
                <a:lnTo>
                  <a:pt x="602" y="602"/>
                </a:lnTo>
                <a:lnTo>
                  <a:pt x="602" y="595"/>
                </a:lnTo>
                <a:lnTo>
                  <a:pt x="610" y="595"/>
                </a:lnTo>
                <a:moveTo>
                  <a:pt x="578" y="595"/>
                </a:moveTo>
                <a:lnTo>
                  <a:pt x="578" y="602"/>
                </a:lnTo>
                <a:lnTo>
                  <a:pt x="570" y="602"/>
                </a:lnTo>
                <a:lnTo>
                  <a:pt x="570" y="595"/>
                </a:lnTo>
                <a:lnTo>
                  <a:pt x="578" y="595"/>
                </a:lnTo>
                <a:moveTo>
                  <a:pt x="547" y="595"/>
                </a:moveTo>
                <a:lnTo>
                  <a:pt x="547" y="602"/>
                </a:lnTo>
                <a:lnTo>
                  <a:pt x="538" y="602"/>
                </a:lnTo>
                <a:lnTo>
                  <a:pt x="538" y="595"/>
                </a:lnTo>
                <a:lnTo>
                  <a:pt x="547" y="595"/>
                </a:lnTo>
                <a:moveTo>
                  <a:pt x="515" y="595"/>
                </a:moveTo>
                <a:lnTo>
                  <a:pt x="515" y="602"/>
                </a:lnTo>
                <a:lnTo>
                  <a:pt x="507" y="602"/>
                </a:lnTo>
                <a:lnTo>
                  <a:pt x="507" y="595"/>
                </a:lnTo>
                <a:lnTo>
                  <a:pt x="515" y="595"/>
                </a:lnTo>
                <a:moveTo>
                  <a:pt x="483" y="595"/>
                </a:moveTo>
                <a:lnTo>
                  <a:pt x="483" y="602"/>
                </a:lnTo>
                <a:lnTo>
                  <a:pt x="476" y="602"/>
                </a:lnTo>
                <a:lnTo>
                  <a:pt x="476" y="595"/>
                </a:lnTo>
                <a:lnTo>
                  <a:pt x="483" y="595"/>
                </a:lnTo>
                <a:moveTo>
                  <a:pt x="451" y="595"/>
                </a:moveTo>
                <a:lnTo>
                  <a:pt x="451" y="602"/>
                </a:lnTo>
                <a:lnTo>
                  <a:pt x="444" y="602"/>
                </a:lnTo>
                <a:lnTo>
                  <a:pt x="444" y="595"/>
                </a:lnTo>
                <a:lnTo>
                  <a:pt x="451" y="595"/>
                </a:lnTo>
                <a:moveTo>
                  <a:pt x="421" y="595"/>
                </a:moveTo>
                <a:lnTo>
                  <a:pt x="421" y="602"/>
                </a:lnTo>
                <a:lnTo>
                  <a:pt x="412" y="602"/>
                </a:lnTo>
                <a:lnTo>
                  <a:pt x="412" y="595"/>
                </a:lnTo>
                <a:lnTo>
                  <a:pt x="421" y="595"/>
                </a:lnTo>
                <a:moveTo>
                  <a:pt x="389" y="595"/>
                </a:moveTo>
                <a:lnTo>
                  <a:pt x="389" y="602"/>
                </a:lnTo>
                <a:lnTo>
                  <a:pt x="381" y="602"/>
                </a:lnTo>
                <a:lnTo>
                  <a:pt x="381" y="595"/>
                </a:lnTo>
                <a:lnTo>
                  <a:pt x="389" y="595"/>
                </a:lnTo>
                <a:moveTo>
                  <a:pt x="357" y="595"/>
                </a:moveTo>
                <a:lnTo>
                  <a:pt x="357" y="602"/>
                </a:lnTo>
                <a:lnTo>
                  <a:pt x="349" y="602"/>
                </a:lnTo>
                <a:lnTo>
                  <a:pt x="349" y="595"/>
                </a:lnTo>
                <a:lnTo>
                  <a:pt x="357" y="595"/>
                </a:lnTo>
                <a:moveTo>
                  <a:pt x="325" y="595"/>
                </a:moveTo>
                <a:lnTo>
                  <a:pt x="325" y="602"/>
                </a:lnTo>
                <a:lnTo>
                  <a:pt x="317" y="602"/>
                </a:lnTo>
                <a:lnTo>
                  <a:pt x="317" y="595"/>
                </a:lnTo>
                <a:lnTo>
                  <a:pt x="325" y="595"/>
                </a:lnTo>
                <a:moveTo>
                  <a:pt x="294" y="595"/>
                </a:moveTo>
                <a:lnTo>
                  <a:pt x="294" y="602"/>
                </a:lnTo>
                <a:lnTo>
                  <a:pt x="285" y="602"/>
                </a:lnTo>
                <a:lnTo>
                  <a:pt x="285" y="595"/>
                </a:lnTo>
                <a:lnTo>
                  <a:pt x="294" y="595"/>
                </a:lnTo>
                <a:moveTo>
                  <a:pt x="262" y="595"/>
                </a:moveTo>
                <a:lnTo>
                  <a:pt x="262" y="602"/>
                </a:lnTo>
                <a:lnTo>
                  <a:pt x="254" y="602"/>
                </a:lnTo>
                <a:lnTo>
                  <a:pt x="254" y="595"/>
                </a:lnTo>
                <a:lnTo>
                  <a:pt x="262" y="595"/>
                </a:lnTo>
                <a:moveTo>
                  <a:pt x="230" y="595"/>
                </a:moveTo>
                <a:lnTo>
                  <a:pt x="230" y="602"/>
                </a:lnTo>
                <a:lnTo>
                  <a:pt x="223" y="602"/>
                </a:lnTo>
                <a:lnTo>
                  <a:pt x="223" y="595"/>
                </a:lnTo>
                <a:lnTo>
                  <a:pt x="230" y="595"/>
                </a:lnTo>
                <a:moveTo>
                  <a:pt x="198" y="595"/>
                </a:moveTo>
                <a:lnTo>
                  <a:pt x="198" y="602"/>
                </a:lnTo>
                <a:lnTo>
                  <a:pt x="191" y="602"/>
                </a:lnTo>
                <a:lnTo>
                  <a:pt x="191" y="595"/>
                </a:lnTo>
                <a:lnTo>
                  <a:pt x="198" y="595"/>
                </a:lnTo>
                <a:moveTo>
                  <a:pt x="166" y="595"/>
                </a:moveTo>
                <a:lnTo>
                  <a:pt x="166" y="602"/>
                </a:lnTo>
                <a:lnTo>
                  <a:pt x="159" y="602"/>
                </a:lnTo>
                <a:lnTo>
                  <a:pt x="159" y="595"/>
                </a:lnTo>
                <a:lnTo>
                  <a:pt x="166" y="595"/>
                </a:lnTo>
                <a:moveTo>
                  <a:pt x="136" y="595"/>
                </a:moveTo>
                <a:lnTo>
                  <a:pt x="136" y="602"/>
                </a:lnTo>
                <a:lnTo>
                  <a:pt x="128" y="602"/>
                </a:lnTo>
                <a:lnTo>
                  <a:pt x="128" y="595"/>
                </a:lnTo>
                <a:lnTo>
                  <a:pt x="136" y="595"/>
                </a:lnTo>
                <a:moveTo>
                  <a:pt x="104" y="595"/>
                </a:moveTo>
                <a:lnTo>
                  <a:pt x="104" y="602"/>
                </a:lnTo>
                <a:lnTo>
                  <a:pt x="96" y="602"/>
                </a:lnTo>
                <a:lnTo>
                  <a:pt x="96" y="595"/>
                </a:lnTo>
                <a:lnTo>
                  <a:pt x="104" y="595"/>
                </a:lnTo>
                <a:moveTo>
                  <a:pt x="72" y="595"/>
                </a:moveTo>
                <a:lnTo>
                  <a:pt x="72" y="602"/>
                </a:lnTo>
                <a:lnTo>
                  <a:pt x="64" y="602"/>
                </a:lnTo>
                <a:lnTo>
                  <a:pt x="64" y="595"/>
                </a:lnTo>
                <a:lnTo>
                  <a:pt x="72" y="595"/>
                </a:lnTo>
                <a:moveTo>
                  <a:pt x="40" y="595"/>
                </a:moveTo>
                <a:lnTo>
                  <a:pt x="40" y="602"/>
                </a:lnTo>
                <a:lnTo>
                  <a:pt x="32" y="602"/>
                </a:lnTo>
                <a:lnTo>
                  <a:pt x="32" y="595"/>
                </a:lnTo>
                <a:lnTo>
                  <a:pt x="40" y="595"/>
                </a:lnTo>
              </a:path>
            </a:pathLst>
          </a:custGeom>
          <a:no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8" name="Freeform 1045"/>
          <p:cNvSpPr/>
          <p:nvPr/>
        </p:nvSpPr>
        <p:spPr>
          <a:xfrm>
            <a:off x="11849040" y="2400480"/>
            <a:ext cx="7143840" cy="5330520"/>
          </a:xfrm>
          <a:custGeom>
            <a:avLst/>
            <a:gdLst/>
            <a:ahLst/>
            <a:rect l="l" t="t" r="r" b="b"/>
            <a:pathLst>
              <a:path w="1875" h="1399">
                <a:moveTo>
                  <a:pt x="1863" y="982"/>
                </a:moveTo>
                <a:lnTo>
                  <a:pt x="1863" y="971"/>
                </a:lnTo>
                <a:lnTo>
                  <a:pt x="1875" y="971"/>
                </a:lnTo>
                <a:lnTo>
                  <a:pt x="1875" y="982"/>
                </a:lnTo>
                <a:lnTo>
                  <a:pt x="1863" y="982"/>
                </a:lnTo>
                <a:close/>
                <a:moveTo>
                  <a:pt x="1869" y="409"/>
                </a:moveTo>
                <a:lnTo>
                  <a:pt x="1869" y="421"/>
                </a:lnTo>
                <a:lnTo>
                  <a:pt x="1858" y="421"/>
                </a:lnTo>
                <a:lnTo>
                  <a:pt x="1858" y="409"/>
                </a:lnTo>
                <a:lnTo>
                  <a:pt x="1869" y="409"/>
                </a:lnTo>
                <a:close/>
                <a:moveTo>
                  <a:pt x="1824" y="409"/>
                </a:moveTo>
                <a:lnTo>
                  <a:pt x="1824" y="421"/>
                </a:lnTo>
                <a:lnTo>
                  <a:pt x="1812" y="421"/>
                </a:lnTo>
                <a:lnTo>
                  <a:pt x="1812" y="409"/>
                </a:lnTo>
                <a:lnTo>
                  <a:pt x="1824" y="409"/>
                </a:lnTo>
                <a:close/>
                <a:moveTo>
                  <a:pt x="1778" y="409"/>
                </a:moveTo>
                <a:lnTo>
                  <a:pt x="1778" y="421"/>
                </a:lnTo>
                <a:lnTo>
                  <a:pt x="1768" y="421"/>
                </a:lnTo>
                <a:lnTo>
                  <a:pt x="1768" y="409"/>
                </a:lnTo>
                <a:lnTo>
                  <a:pt x="1778" y="409"/>
                </a:lnTo>
                <a:close/>
                <a:moveTo>
                  <a:pt x="1734" y="409"/>
                </a:moveTo>
                <a:lnTo>
                  <a:pt x="1734" y="421"/>
                </a:lnTo>
                <a:lnTo>
                  <a:pt x="1722" y="421"/>
                </a:lnTo>
                <a:lnTo>
                  <a:pt x="1722" y="409"/>
                </a:lnTo>
                <a:lnTo>
                  <a:pt x="1734" y="409"/>
                </a:lnTo>
                <a:close/>
                <a:moveTo>
                  <a:pt x="1689" y="409"/>
                </a:moveTo>
                <a:lnTo>
                  <a:pt x="1689" y="421"/>
                </a:lnTo>
                <a:lnTo>
                  <a:pt x="1677" y="421"/>
                </a:lnTo>
                <a:lnTo>
                  <a:pt x="1677" y="409"/>
                </a:lnTo>
                <a:lnTo>
                  <a:pt x="1689" y="409"/>
                </a:lnTo>
                <a:close/>
                <a:moveTo>
                  <a:pt x="1643" y="409"/>
                </a:moveTo>
                <a:lnTo>
                  <a:pt x="1643" y="421"/>
                </a:lnTo>
                <a:lnTo>
                  <a:pt x="1632" y="421"/>
                </a:lnTo>
                <a:lnTo>
                  <a:pt x="1632" y="409"/>
                </a:lnTo>
                <a:lnTo>
                  <a:pt x="1643" y="409"/>
                </a:lnTo>
                <a:close/>
                <a:moveTo>
                  <a:pt x="1598" y="409"/>
                </a:moveTo>
                <a:lnTo>
                  <a:pt x="1598" y="421"/>
                </a:lnTo>
                <a:lnTo>
                  <a:pt x="1586" y="421"/>
                </a:lnTo>
                <a:lnTo>
                  <a:pt x="1586" y="409"/>
                </a:lnTo>
                <a:lnTo>
                  <a:pt x="1598" y="409"/>
                </a:lnTo>
                <a:close/>
                <a:moveTo>
                  <a:pt x="1552" y="409"/>
                </a:moveTo>
                <a:lnTo>
                  <a:pt x="1552" y="421"/>
                </a:lnTo>
                <a:lnTo>
                  <a:pt x="1542" y="421"/>
                </a:lnTo>
                <a:lnTo>
                  <a:pt x="1542" y="409"/>
                </a:lnTo>
                <a:lnTo>
                  <a:pt x="1552" y="409"/>
                </a:lnTo>
                <a:close/>
                <a:moveTo>
                  <a:pt x="1508" y="409"/>
                </a:moveTo>
                <a:lnTo>
                  <a:pt x="1508" y="421"/>
                </a:lnTo>
                <a:lnTo>
                  <a:pt x="1496" y="421"/>
                </a:lnTo>
                <a:lnTo>
                  <a:pt x="1496" y="409"/>
                </a:lnTo>
                <a:lnTo>
                  <a:pt x="1508" y="409"/>
                </a:lnTo>
                <a:close/>
                <a:moveTo>
                  <a:pt x="1463" y="409"/>
                </a:moveTo>
                <a:lnTo>
                  <a:pt x="1463" y="421"/>
                </a:lnTo>
                <a:lnTo>
                  <a:pt x="1451" y="421"/>
                </a:lnTo>
                <a:lnTo>
                  <a:pt x="1451" y="409"/>
                </a:lnTo>
                <a:lnTo>
                  <a:pt x="1463" y="409"/>
                </a:lnTo>
                <a:close/>
                <a:moveTo>
                  <a:pt x="1417" y="409"/>
                </a:moveTo>
                <a:lnTo>
                  <a:pt x="1417" y="421"/>
                </a:lnTo>
                <a:lnTo>
                  <a:pt x="1406" y="421"/>
                </a:lnTo>
                <a:lnTo>
                  <a:pt x="1406" y="409"/>
                </a:lnTo>
                <a:lnTo>
                  <a:pt x="1417" y="409"/>
                </a:lnTo>
                <a:close/>
                <a:moveTo>
                  <a:pt x="1372" y="409"/>
                </a:moveTo>
                <a:lnTo>
                  <a:pt x="1372" y="421"/>
                </a:lnTo>
                <a:lnTo>
                  <a:pt x="1360" y="421"/>
                </a:lnTo>
                <a:lnTo>
                  <a:pt x="1360" y="409"/>
                </a:lnTo>
                <a:lnTo>
                  <a:pt x="1372" y="409"/>
                </a:lnTo>
                <a:close/>
                <a:moveTo>
                  <a:pt x="1326" y="415"/>
                </a:moveTo>
                <a:lnTo>
                  <a:pt x="1326" y="421"/>
                </a:lnTo>
                <a:lnTo>
                  <a:pt x="1322" y="421"/>
                </a:lnTo>
                <a:lnTo>
                  <a:pt x="1316" y="421"/>
                </a:lnTo>
                <a:lnTo>
                  <a:pt x="1316" y="415"/>
                </a:lnTo>
                <a:lnTo>
                  <a:pt x="1316" y="409"/>
                </a:lnTo>
                <a:lnTo>
                  <a:pt x="1328" y="409"/>
                </a:lnTo>
                <a:lnTo>
                  <a:pt x="1328" y="415"/>
                </a:lnTo>
                <a:lnTo>
                  <a:pt x="1326" y="415"/>
                </a:lnTo>
                <a:close/>
                <a:moveTo>
                  <a:pt x="1328" y="375"/>
                </a:moveTo>
                <a:lnTo>
                  <a:pt x="1316" y="375"/>
                </a:lnTo>
                <a:lnTo>
                  <a:pt x="1316" y="364"/>
                </a:lnTo>
                <a:lnTo>
                  <a:pt x="1328" y="364"/>
                </a:lnTo>
                <a:lnTo>
                  <a:pt x="1328" y="375"/>
                </a:lnTo>
                <a:close/>
                <a:moveTo>
                  <a:pt x="1328" y="330"/>
                </a:moveTo>
                <a:lnTo>
                  <a:pt x="1316" y="330"/>
                </a:lnTo>
                <a:lnTo>
                  <a:pt x="1316" y="319"/>
                </a:lnTo>
                <a:lnTo>
                  <a:pt x="1328" y="319"/>
                </a:lnTo>
                <a:lnTo>
                  <a:pt x="1328" y="330"/>
                </a:lnTo>
                <a:close/>
                <a:moveTo>
                  <a:pt x="1328" y="286"/>
                </a:moveTo>
                <a:lnTo>
                  <a:pt x="1316" y="286"/>
                </a:lnTo>
                <a:lnTo>
                  <a:pt x="1316" y="274"/>
                </a:lnTo>
                <a:lnTo>
                  <a:pt x="1328" y="274"/>
                </a:lnTo>
                <a:lnTo>
                  <a:pt x="1328" y="286"/>
                </a:lnTo>
                <a:close/>
                <a:moveTo>
                  <a:pt x="1328" y="240"/>
                </a:moveTo>
                <a:lnTo>
                  <a:pt x="1316" y="240"/>
                </a:lnTo>
                <a:lnTo>
                  <a:pt x="1316" y="229"/>
                </a:lnTo>
                <a:lnTo>
                  <a:pt x="1328" y="229"/>
                </a:lnTo>
                <a:lnTo>
                  <a:pt x="1328" y="240"/>
                </a:lnTo>
                <a:close/>
                <a:moveTo>
                  <a:pt x="1328" y="195"/>
                </a:moveTo>
                <a:lnTo>
                  <a:pt x="1316" y="195"/>
                </a:lnTo>
                <a:lnTo>
                  <a:pt x="1316" y="183"/>
                </a:lnTo>
                <a:lnTo>
                  <a:pt x="1328" y="183"/>
                </a:lnTo>
                <a:lnTo>
                  <a:pt x="1328" y="195"/>
                </a:lnTo>
                <a:close/>
                <a:moveTo>
                  <a:pt x="1328" y="149"/>
                </a:moveTo>
                <a:lnTo>
                  <a:pt x="1316" y="149"/>
                </a:lnTo>
                <a:lnTo>
                  <a:pt x="1316" y="139"/>
                </a:lnTo>
                <a:lnTo>
                  <a:pt x="1328" y="139"/>
                </a:lnTo>
                <a:lnTo>
                  <a:pt x="1328" y="149"/>
                </a:lnTo>
                <a:close/>
                <a:moveTo>
                  <a:pt x="1328" y="105"/>
                </a:moveTo>
                <a:lnTo>
                  <a:pt x="1316" y="105"/>
                </a:lnTo>
                <a:lnTo>
                  <a:pt x="1316" y="93"/>
                </a:lnTo>
                <a:lnTo>
                  <a:pt x="1328" y="93"/>
                </a:lnTo>
                <a:lnTo>
                  <a:pt x="1328" y="105"/>
                </a:lnTo>
                <a:close/>
                <a:moveTo>
                  <a:pt x="1323" y="59"/>
                </a:moveTo>
                <a:lnTo>
                  <a:pt x="1323" y="58"/>
                </a:lnTo>
                <a:lnTo>
                  <a:pt x="1323" y="56"/>
                </a:lnTo>
                <a:lnTo>
                  <a:pt x="1323" y="56"/>
                </a:lnTo>
                <a:lnTo>
                  <a:pt x="1323" y="55"/>
                </a:lnTo>
                <a:lnTo>
                  <a:pt x="1322" y="55"/>
                </a:lnTo>
                <a:lnTo>
                  <a:pt x="1322" y="54"/>
                </a:lnTo>
                <a:lnTo>
                  <a:pt x="1322" y="53"/>
                </a:lnTo>
                <a:lnTo>
                  <a:pt x="1322" y="53"/>
                </a:lnTo>
                <a:lnTo>
                  <a:pt x="1322" y="52"/>
                </a:lnTo>
                <a:lnTo>
                  <a:pt x="1320" y="52"/>
                </a:lnTo>
                <a:lnTo>
                  <a:pt x="1320" y="50"/>
                </a:lnTo>
                <a:lnTo>
                  <a:pt x="1320" y="49"/>
                </a:lnTo>
                <a:lnTo>
                  <a:pt x="1320" y="49"/>
                </a:lnTo>
                <a:lnTo>
                  <a:pt x="1319" y="48"/>
                </a:lnTo>
                <a:lnTo>
                  <a:pt x="1319" y="48"/>
                </a:lnTo>
                <a:lnTo>
                  <a:pt x="1319" y="47"/>
                </a:lnTo>
                <a:lnTo>
                  <a:pt x="1319" y="47"/>
                </a:lnTo>
                <a:lnTo>
                  <a:pt x="1309" y="52"/>
                </a:lnTo>
                <a:lnTo>
                  <a:pt x="1309" y="52"/>
                </a:lnTo>
                <a:lnTo>
                  <a:pt x="1309" y="52"/>
                </a:lnTo>
                <a:lnTo>
                  <a:pt x="1310" y="53"/>
                </a:lnTo>
                <a:lnTo>
                  <a:pt x="1310" y="53"/>
                </a:lnTo>
                <a:lnTo>
                  <a:pt x="1310" y="54"/>
                </a:lnTo>
                <a:lnTo>
                  <a:pt x="1310" y="54"/>
                </a:lnTo>
                <a:lnTo>
                  <a:pt x="1310" y="55"/>
                </a:lnTo>
                <a:lnTo>
                  <a:pt x="1311" y="56"/>
                </a:lnTo>
                <a:lnTo>
                  <a:pt x="1311" y="56"/>
                </a:lnTo>
                <a:lnTo>
                  <a:pt x="1311" y="58"/>
                </a:lnTo>
                <a:lnTo>
                  <a:pt x="1311" y="58"/>
                </a:lnTo>
                <a:lnTo>
                  <a:pt x="1311" y="59"/>
                </a:lnTo>
                <a:lnTo>
                  <a:pt x="1312" y="59"/>
                </a:lnTo>
                <a:lnTo>
                  <a:pt x="1312" y="60"/>
                </a:lnTo>
                <a:lnTo>
                  <a:pt x="1312" y="60"/>
                </a:lnTo>
                <a:lnTo>
                  <a:pt x="1312" y="61"/>
                </a:lnTo>
                <a:lnTo>
                  <a:pt x="1312" y="61"/>
                </a:lnTo>
                <a:lnTo>
                  <a:pt x="1323" y="59"/>
                </a:lnTo>
                <a:close/>
                <a:moveTo>
                  <a:pt x="1297" y="19"/>
                </a:moveTo>
                <a:lnTo>
                  <a:pt x="1297" y="18"/>
                </a:lnTo>
                <a:lnTo>
                  <a:pt x="1297" y="18"/>
                </a:lnTo>
                <a:lnTo>
                  <a:pt x="1296" y="18"/>
                </a:lnTo>
                <a:lnTo>
                  <a:pt x="1296" y="16"/>
                </a:lnTo>
                <a:lnTo>
                  <a:pt x="1295" y="16"/>
                </a:lnTo>
                <a:lnTo>
                  <a:pt x="1295" y="16"/>
                </a:lnTo>
                <a:lnTo>
                  <a:pt x="1293" y="15"/>
                </a:lnTo>
                <a:lnTo>
                  <a:pt x="1293" y="15"/>
                </a:lnTo>
                <a:lnTo>
                  <a:pt x="1292" y="15"/>
                </a:lnTo>
                <a:lnTo>
                  <a:pt x="1292" y="14"/>
                </a:lnTo>
                <a:lnTo>
                  <a:pt x="1291" y="14"/>
                </a:lnTo>
                <a:lnTo>
                  <a:pt x="1291" y="14"/>
                </a:lnTo>
                <a:lnTo>
                  <a:pt x="1290" y="13"/>
                </a:lnTo>
                <a:lnTo>
                  <a:pt x="1290" y="13"/>
                </a:lnTo>
                <a:lnTo>
                  <a:pt x="1290" y="13"/>
                </a:lnTo>
                <a:lnTo>
                  <a:pt x="1289" y="12"/>
                </a:lnTo>
                <a:lnTo>
                  <a:pt x="1289" y="12"/>
                </a:lnTo>
                <a:lnTo>
                  <a:pt x="1287" y="12"/>
                </a:lnTo>
                <a:lnTo>
                  <a:pt x="1287" y="12"/>
                </a:lnTo>
                <a:lnTo>
                  <a:pt x="1282" y="21"/>
                </a:lnTo>
                <a:lnTo>
                  <a:pt x="1282" y="21"/>
                </a:lnTo>
                <a:lnTo>
                  <a:pt x="1283" y="21"/>
                </a:lnTo>
                <a:lnTo>
                  <a:pt x="1283" y="22"/>
                </a:lnTo>
                <a:lnTo>
                  <a:pt x="1283" y="22"/>
                </a:lnTo>
                <a:lnTo>
                  <a:pt x="1284" y="22"/>
                </a:lnTo>
                <a:lnTo>
                  <a:pt x="1284" y="22"/>
                </a:lnTo>
                <a:lnTo>
                  <a:pt x="1285" y="23"/>
                </a:lnTo>
                <a:lnTo>
                  <a:pt x="1285" y="23"/>
                </a:lnTo>
                <a:lnTo>
                  <a:pt x="1285" y="23"/>
                </a:lnTo>
                <a:lnTo>
                  <a:pt x="1286" y="25"/>
                </a:lnTo>
                <a:lnTo>
                  <a:pt x="1286" y="25"/>
                </a:lnTo>
                <a:lnTo>
                  <a:pt x="1287" y="25"/>
                </a:lnTo>
                <a:lnTo>
                  <a:pt x="1287" y="25"/>
                </a:lnTo>
                <a:lnTo>
                  <a:pt x="1287" y="26"/>
                </a:lnTo>
                <a:lnTo>
                  <a:pt x="1289" y="26"/>
                </a:lnTo>
                <a:lnTo>
                  <a:pt x="1289" y="26"/>
                </a:lnTo>
                <a:lnTo>
                  <a:pt x="1290" y="27"/>
                </a:lnTo>
                <a:lnTo>
                  <a:pt x="1290" y="27"/>
                </a:lnTo>
                <a:lnTo>
                  <a:pt x="1290" y="27"/>
                </a:lnTo>
                <a:lnTo>
                  <a:pt x="1297" y="19"/>
                </a:lnTo>
                <a:close/>
                <a:moveTo>
                  <a:pt x="1253" y="0"/>
                </a:moveTo>
                <a:lnTo>
                  <a:pt x="1253" y="0"/>
                </a:lnTo>
                <a:lnTo>
                  <a:pt x="1252" y="0"/>
                </a:lnTo>
                <a:lnTo>
                  <a:pt x="1251" y="0"/>
                </a:lnTo>
                <a:lnTo>
                  <a:pt x="1251" y="0"/>
                </a:lnTo>
                <a:lnTo>
                  <a:pt x="1250" y="0"/>
                </a:lnTo>
                <a:lnTo>
                  <a:pt x="1250" y="0"/>
                </a:lnTo>
                <a:lnTo>
                  <a:pt x="1249" y="0"/>
                </a:lnTo>
                <a:lnTo>
                  <a:pt x="1249" y="0"/>
                </a:lnTo>
                <a:lnTo>
                  <a:pt x="1247" y="0"/>
                </a:lnTo>
                <a:lnTo>
                  <a:pt x="1246" y="0"/>
                </a:lnTo>
                <a:lnTo>
                  <a:pt x="1246" y="0"/>
                </a:lnTo>
                <a:lnTo>
                  <a:pt x="1245" y="0"/>
                </a:lnTo>
                <a:lnTo>
                  <a:pt x="1245" y="0"/>
                </a:lnTo>
                <a:lnTo>
                  <a:pt x="1244" y="0"/>
                </a:lnTo>
                <a:lnTo>
                  <a:pt x="1244" y="0"/>
                </a:lnTo>
                <a:lnTo>
                  <a:pt x="1243" y="0"/>
                </a:lnTo>
                <a:lnTo>
                  <a:pt x="1242" y="0"/>
                </a:lnTo>
                <a:lnTo>
                  <a:pt x="1242" y="0"/>
                </a:lnTo>
                <a:lnTo>
                  <a:pt x="1240" y="0"/>
                </a:lnTo>
                <a:lnTo>
                  <a:pt x="1242" y="10"/>
                </a:lnTo>
                <a:lnTo>
                  <a:pt x="1242" y="10"/>
                </a:lnTo>
                <a:lnTo>
                  <a:pt x="1242" y="10"/>
                </a:lnTo>
                <a:lnTo>
                  <a:pt x="1243" y="10"/>
                </a:lnTo>
                <a:lnTo>
                  <a:pt x="1243" y="10"/>
                </a:lnTo>
                <a:lnTo>
                  <a:pt x="1244" y="10"/>
                </a:lnTo>
                <a:lnTo>
                  <a:pt x="1244" y="10"/>
                </a:lnTo>
                <a:lnTo>
                  <a:pt x="1245" y="10"/>
                </a:lnTo>
                <a:lnTo>
                  <a:pt x="1245" y="10"/>
                </a:lnTo>
                <a:lnTo>
                  <a:pt x="1246" y="10"/>
                </a:lnTo>
                <a:lnTo>
                  <a:pt x="1246" y="10"/>
                </a:lnTo>
                <a:lnTo>
                  <a:pt x="1247" y="10"/>
                </a:lnTo>
                <a:lnTo>
                  <a:pt x="1247" y="10"/>
                </a:lnTo>
                <a:lnTo>
                  <a:pt x="1249" y="10"/>
                </a:lnTo>
                <a:lnTo>
                  <a:pt x="1249" y="10"/>
                </a:lnTo>
                <a:lnTo>
                  <a:pt x="1250" y="10"/>
                </a:lnTo>
                <a:lnTo>
                  <a:pt x="1250" y="10"/>
                </a:lnTo>
                <a:lnTo>
                  <a:pt x="1251" y="12"/>
                </a:lnTo>
                <a:lnTo>
                  <a:pt x="1251" y="12"/>
                </a:lnTo>
                <a:lnTo>
                  <a:pt x="1252" y="12"/>
                </a:lnTo>
                <a:lnTo>
                  <a:pt x="1253" y="0"/>
                </a:lnTo>
                <a:close/>
                <a:moveTo>
                  <a:pt x="1206" y="7"/>
                </a:moveTo>
                <a:lnTo>
                  <a:pt x="1205" y="7"/>
                </a:lnTo>
                <a:lnTo>
                  <a:pt x="1205" y="7"/>
                </a:lnTo>
                <a:lnTo>
                  <a:pt x="1204" y="7"/>
                </a:lnTo>
                <a:lnTo>
                  <a:pt x="1203" y="8"/>
                </a:lnTo>
                <a:lnTo>
                  <a:pt x="1203" y="8"/>
                </a:lnTo>
                <a:lnTo>
                  <a:pt x="1202" y="8"/>
                </a:lnTo>
                <a:lnTo>
                  <a:pt x="1202" y="8"/>
                </a:lnTo>
                <a:lnTo>
                  <a:pt x="1200" y="9"/>
                </a:lnTo>
                <a:lnTo>
                  <a:pt x="1200" y="9"/>
                </a:lnTo>
                <a:lnTo>
                  <a:pt x="1199" y="9"/>
                </a:lnTo>
                <a:lnTo>
                  <a:pt x="1199" y="10"/>
                </a:lnTo>
                <a:lnTo>
                  <a:pt x="1196" y="12"/>
                </a:lnTo>
                <a:lnTo>
                  <a:pt x="1200" y="22"/>
                </a:lnTo>
                <a:lnTo>
                  <a:pt x="1204" y="20"/>
                </a:lnTo>
                <a:lnTo>
                  <a:pt x="1205" y="20"/>
                </a:lnTo>
                <a:lnTo>
                  <a:pt x="1205" y="20"/>
                </a:lnTo>
                <a:lnTo>
                  <a:pt x="1206" y="19"/>
                </a:lnTo>
                <a:lnTo>
                  <a:pt x="1206" y="19"/>
                </a:lnTo>
                <a:lnTo>
                  <a:pt x="1207" y="19"/>
                </a:lnTo>
                <a:lnTo>
                  <a:pt x="1207" y="19"/>
                </a:lnTo>
                <a:lnTo>
                  <a:pt x="1209" y="18"/>
                </a:lnTo>
                <a:lnTo>
                  <a:pt x="1209" y="18"/>
                </a:lnTo>
                <a:lnTo>
                  <a:pt x="1209" y="18"/>
                </a:lnTo>
                <a:lnTo>
                  <a:pt x="1210" y="18"/>
                </a:lnTo>
                <a:lnTo>
                  <a:pt x="1210" y="18"/>
                </a:lnTo>
                <a:lnTo>
                  <a:pt x="1206" y="7"/>
                </a:lnTo>
                <a:close/>
                <a:moveTo>
                  <a:pt x="1165" y="28"/>
                </a:moveTo>
                <a:lnTo>
                  <a:pt x="1171" y="38"/>
                </a:lnTo>
                <a:lnTo>
                  <a:pt x="1160" y="43"/>
                </a:lnTo>
                <a:lnTo>
                  <a:pt x="1156" y="33"/>
                </a:lnTo>
                <a:lnTo>
                  <a:pt x="1165" y="28"/>
                </a:lnTo>
                <a:close/>
                <a:moveTo>
                  <a:pt x="1125" y="49"/>
                </a:moveTo>
                <a:lnTo>
                  <a:pt x="1131" y="59"/>
                </a:lnTo>
                <a:lnTo>
                  <a:pt x="1120" y="65"/>
                </a:lnTo>
                <a:lnTo>
                  <a:pt x="1116" y="54"/>
                </a:lnTo>
                <a:lnTo>
                  <a:pt x="1125" y="49"/>
                </a:lnTo>
                <a:close/>
                <a:moveTo>
                  <a:pt x="1085" y="70"/>
                </a:moveTo>
                <a:lnTo>
                  <a:pt x="1091" y="80"/>
                </a:lnTo>
                <a:lnTo>
                  <a:pt x="1080" y="86"/>
                </a:lnTo>
                <a:lnTo>
                  <a:pt x="1076" y="75"/>
                </a:lnTo>
                <a:lnTo>
                  <a:pt x="1085" y="70"/>
                </a:lnTo>
                <a:close/>
                <a:moveTo>
                  <a:pt x="1045" y="92"/>
                </a:moveTo>
                <a:lnTo>
                  <a:pt x="1051" y="101"/>
                </a:lnTo>
                <a:lnTo>
                  <a:pt x="1042" y="107"/>
                </a:lnTo>
                <a:lnTo>
                  <a:pt x="1036" y="96"/>
                </a:lnTo>
                <a:lnTo>
                  <a:pt x="1045" y="92"/>
                </a:lnTo>
                <a:close/>
                <a:moveTo>
                  <a:pt x="1006" y="113"/>
                </a:moveTo>
                <a:lnTo>
                  <a:pt x="1011" y="122"/>
                </a:lnTo>
                <a:lnTo>
                  <a:pt x="1001" y="128"/>
                </a:lnTo>
                <a:lnTo>
                  <a:pt x="996" y="117"/>
                </a:lnTo>
                <a:lnTo>
                  <a:pt x="1006" y="113"/>
                </a:lnTo>
                <a:close/>
                <a:moveTo>
                  <a:pt x="966" y="134"/>
                </a:moveTo>
                <a:lnTo>
                  <a:pt x="971" y="143"/>
                </a:lnTo>
                <a:lnTo>
                  <a:pt x="961" y="149"/>
                </a:lnTo>
                <a:lnTo>
                  <a:pt x="956" y="139"/>
                </a:lnTo>
                <a:lnTo>
                  <a:pt x="966" y="134"/>
                </a:lnTo>
                <a:close/>
                <a:moveTo>
                  <a:pt x="926" y="155"/>
                </a:moveTo>
                <a:lnTo>
                  <a:pt x="931" y="165"/>
                </a:lnTo>
                <a:lnTo>
                  <a:pt x="921" y="170"/>
                </a:lnTo>
                <a:lnTo>
                  <a:pt x="916" y="160"/>
                </a:lnTo>
                <a:lnTo>
                  <a:pt x="926" y="155"/>
                </a:lnTo>
                <a:close/>
                <a:moveTo>
                  <a:pt x="886" y="176"/>
                </a:moveTo>
                <a:lnTo>
                  <a:pt x="891" y="186"/>
                </a:lnTo>
                <a:lnTo>
                  <a:pt x="881" y="192"/>
                </a:lnTo>
                <a:lnTo>
                  <a:pt x="876" y="181"/>
                </a:lnTo>
                <a:lnTo>
                  <a:pt x="886" y="176"/>
                </a:lnTo>
                <a:close/>
                <a:moveTo>
                  <a:pt x="846" y="197"/>
                </a:moveTo>
                <a:lnTo>
                  <a:pt x="851" y="207"/>
                </a:lnTo>
                <a:lnTo>
                  <a:pt x="841" y="213"/>
                </a:lnTo>
                <a:lnTo>
                  <a:pt x="836" y="203"/>
                </a:lnTo>
                <a:lnTo>
                  <a:pt x="846" y="197"/>
                </a:lnTo>
                <a:close/>
                <a:moveTo>
                  <a:pt x="806" y="219"/>
                </a:moveTo>
                <a:lnTo>
                  <a:pt x="812" y="229"/>
                </a:lnTo>
                <a:lnTo>
                  <a:pt x="801" y="234"/>
                </a:lnTo>
                <a:lnTo>
                  <a:pt x="797" y="225"/>
                </a:lnTo>
                <a:lnTo>
                  <a:pt x="806" y="219"/>
                </a:lnTo>
                <a:close/>
                <a:moveTo>
                  <a:pt x="766" y="240"/>
                </a:moveTo>
                <a:lnTo>
                  <a:pt x="772" y="250"/>
                </a:lnTo>
                <a:lnTo>
                  <a:pt x="761" y="255"/>
                </a:lnTo>
                <a:lnTo>
                  <a:pt x="757" y="246"/>
                </a:lnTo>
                <a:lnTo>
                  <a:pt x="766" y="240"/>
                </a:lnTo>
                <a:close/>
                <a:moveTo>
                  <a:pt x="726" y="261"/>
                </a:moveTo>
                <a:lnTo>
                  <a:pt x="732" y="272"/>
                </a:lnTo>
                <a:lnTo>
                  <a:pt x="721" y="276"/>
                </a:lnTo>
                <a:lnTo>
                  <a:pt x="717" y="267"/>
                </a:lnTo>
                <a:lnTo>
                  <a:pt x="726" y="261"/>
                </a:lnTo>
                <a:close/>
                <a:moveTo>
                  <a:pt x="686" y="282"/>
                </a:moveTo>
                <a:lnTo>
                  <a:pt x="692" y="293"/>
                </a:lnTo>
                <a:lnTo>
                  <a:pt x="681" y="297"/>
                </a:lnTo>
                <a:lnTo>
                  <a:pt x="677" y="288"/>
                </a:lnTo>
                <a:lnTo>
                  <a:pt x="686" y="282"/>
                </a:lnTo>
                <a:close/>
                <a:moveTo>
                  <a:pt x="646" y="303"/>
                </a:moveTo>
                <a:lnTo>
                  <a:pt x="652" y="314"/>
                </a:lnTo>
                <a:lnTo>
                  <a:pt x="641" y="319"/>
                </a:lnTo>
                <a:lnTo>
                  <a:pt x="637" y="309"/>
                </a:lnTo>
                <a:lnTo>
                  <a:pt x="646" y="303"/>
                </a:lnTo>
                <a:close/>
                <a:moveTo>
                  <a:pt x="607" y="324"/>
                </a:moveTo>
                <a:lnTo>
                  <a:pt x="612" y="335"/>
                </a:lnTo>
                <a:lnTo>
                  <a:pt x="603" y="340"/>
                </a:lnTo>
                <a:lnTo>
                  <a:pt x="597" y="330"/>
                </a:lnTo>
                <a:lnTo>
                  <a:pt x="607" y="324"/>
                </a:lnTo>
                <a:close/>
                <a:moveTo>
                  <a:pt x="567" y="346"/>
                </a:moveTo>
                <a:lnTo>
                  <a:pt x="572" y="356"/>
                </a:lnTo>
                <a:lnTo>
                  <a:pt x="563" y="361"/>
                </a:lnTo>
                <a:lnTo>
                  <a:pt x="557" y="352"/>
                </a:lnTo>
                <a:lnTo>
                  <a:pt x="567" y="346"/>
                </a:lnTo>
                <a:close/>
                <a:moveTo>
                  <a:pt x="527" y="367"/>
                </a:moveTo>
                <a:lnTo>
                  <a:pt x="532" y="377"/>
                </a:lnTo>
                <a:lnTo>
                  <a:pt x="522" y="382"/>
                </a:lnTo>
                <a:lnTo>
                  <a:pt x="517" y="373"/>
                </a:lnTo>
                <a:lnTo>
                  <a:pt x="527" y="367"/>
                </a:lnTo>
                <a:close/>
                <a:moveTo>
                  <a:pt x="487" y="388"/>
                </a:moveTo>
                <a:lnTo>
                  <a:pt x="492" y="399"/>
                </a:lnTo>
                <a:lnTo>
                  <a:pt x="482" y="403"/>
                </a:lnTo>
                <a:lnTo>
                  <a:pt x="477" y="394"/>
                </a:lnTo>
                <a:lnTo>
                  <a:pt x="487" y="388"/>
                </a:lnTo>
                <a:close/>
                <a:moveTo>
                  <a:pt x="447" y="409"/>
                </a:moveTo>
                <a:lnTo>
                  <a:pt x="452" y="420"/>
                </a:lnTo>
                <a:lnTo>
                  <a:pt x="442" y="424"/>
                </a:lnTo>
                <a:lnTo>
                  <a:pt x="437" y="415"/>
                </a:lnTo>
                <a:lnTo>
                  <a:pt x="447" y="409"/>
                </a:lnTo>
                <a:close/>
                <a:moveTo>
                  <a:pt x="407" y="430"/>
                </a:moveTo>
                <a:lnTo>
                  <a:pt x="413" y="441"/>
                </a:lnTo>
                <a:lnTo>
                  <a:pt x="402" y="446"/>
                </a:lnTo>
                <a:lnTo>
                  <a:pt x="398" y="436"/>
                </a:lnTo>
                <a:lnTo>
                  <a:pt x="407" y="430"/>
                </a:lnTo>
                <a:close/>
                <a:moveTo>
                  <a:pt x="367" y="451"/>
                </a:moveTo>
                <a:lnTo>
                  <a:pt x="373" y="462"/>
                </a:lnTo>
                <a:lnTo>
                  <a:pt x="362" y="467"/>
                </a:lnTo>
                <a:lnTo>
                  <a:pt x="358" y="457"/>
                </a:lnTo>
                <a:lnTo>
                  <a:pt x="367" y="451"/>
                </a:lnTo>
                <a:close/>
                <a:moveTo>
                  <a:pt x="327" y="473"/>
                </a:moveTo>
                <a:lnTo>
                  <a:pt x="333" y="483"/>
                </a:lnTo>
                <a:lnTo>
                  <a:pt x="322" y="488"/>
                </a:lnTo>
                <a:lnTo>
                  <a:pt x="318" y="479"/>
                </a:lnTo>
                <a:lnTo>
                  <a:pt x="327" y="473"/>
                </a:lnTo>
                <a:close/>
                <a:moveTo>
                  <a:pt x="287" y="494"/>
                </a:moveTo>
                <a:lnTo>
                  <a:pt x="293" y="504"/>
                </a:lnTo>
                <a:lnTo>
                  <a:pt x="282" y="509"/>
                </a:lnTo>
                <a:lnTo>
                  <a:pt x="278" y="500"/>
                </a:lnTo>
                <a:lnTo>
                  <a:pt x="287" y="494"/>
                </a:lnTo>
                <a:close/>
                <a:moveTo>
                  <a:pt x="247" y="516"/>
                </a:moveTo>
                <a:lnTo>
                  <a:pt x="253" y="526"/>
                </a:lnTo>
                <a:lnTo>
                  <a:pt x="242" y="531"/>
                </a:lnTo>
                <a:lnTo>
                  <a:pt x="238" y="521"/>
                </a:lnTo>
                <a:lnTo>
                  <a:pt x="247" y="516"/>
                </a:lnTo>
                <a:close/>
                <a:moveTo>
                  <a:pt x="208" y="537"/>
                </a:moveTo>
                <a:lnTo>
                  <a:pt x="213" y="547"/>
                </a:lnTo>
                <a:lnTo>
                  <a:pt x="204" y="553"/>
                </a:lnTo>
                <a:lnTo>
                  <a:pt x="198" y="542"/>
                </a:lnTo>
                <a:lnTo>
                  <a:pt x="208" y="537"/>
                </a:lnTo>
                <a:close/>
                <a:moveTo>
                  <a:pt x="168" y="558"/>
                </a:moveTo>
                <a:lnTo>
                  <a:pt x="173" y="568"/>
                </a:lnTo>
                <a:lnTo>
                  <a:pt x="164" y="574"/>
                </a:lnTo>
                <a:lnTo>
                  <a:pt x="158" y="563"/>
                </a:lnTo>
                <a:lnTo>
                  <a:pt x="168" y="558"/>
                </a:lnTo>
                <a:close/>
                <a:moveTo>
                  <a:pt x="128" y="580"/>
                </a:moveTo>
                <a:lnTo>
                  <a:pt x="133" y="589"/>
                </a:lnTo>
                <a:lnTo>
                  <a:pt x="124" y="595"/>
                </a:lnTo>
                <a:lnTo>
                  <a:pt x="118" y="584"/>
                </a:lnTo>
                <a:lnTo>
                  <a:pt x="128" y="580"/>
                </a:lnTo>
                <a:close/>
                <a:moveTo>
                  <a:pt x="88" y="601"/>
                </a:moveTo>
                <a:lnTo>
                  <a:pt x="93" y="610"/>
                </a:lnTo>
                <a:lnTo>
                  <a:pt x="83" y="616"/>
                </a:lnTo>
                <a:lnTo>
                  <a:pt x="78" y="606"/>
                </a:lnTo>
                <a:lnTo>
                  <a:pt x="88" y="601"/>
                </a:lnTo>
                <a:close/>
                <a:moveTo>
                  <a:pt x="48" y="622"/>
                </a:moveTo>
                <a:lnTo>
                  <a:pt x="53" y="631"/>
                </a:lnTo>
                <a:lnTo>
                  <a:pt x="53" y="631"/>
                </a:lnTo>
                <a:lnTo>
                  <a:pt x="53" y="633"/>
                </a:lnTo>
                <a:lnTo>
                  <a:pt x="52" y="633"/>
                </a:lnTo>
                <a:lnTo>
                  <a:pt x="52" y="633"/>
                </a:lnTo>
                <a:lnTo>
                  <a:pt x="51" y="633"/>
                </a:lnTo>
                <a:lnTo>
                  <a:pt x="51" y="634"/>
                </a:lnTo>
                <a:lnTo>
                  <a:pt x="49" y="634"/>
                </a:lnTo>
                <a:lnTo>
                  <a:pt x="49" y="634"/>
                </a:lnTo>
                <a:lnTo>
                  <a:pt x="48" y="635"/>
                </a:lnTo>
                <a:lnTo>
                  <a:pt x="48" y="635"/>
                </a:lnTo>
                <a:lnTo>
                  <a:pt x="47" y="635"/>
                </a:lnTo>
                <a:lnTo>
                  <a:pt x="47" y="636"/>
                </a:lnTo>
                <a:lnTo>
                  <a:pt x="46" y="636"/>
                </a:lnTo>
                <a:lnTo>
                  <a:pt x="46" y="636"/>
                </a:lnTo>
                <a:lnTo>
                  <a:pt x="45" y="636"/>
                </a:lnTo>
                <a:lnTo>
                  <a:pt x="45" y="637"/>
                </a:lnTo>
                <a:lnTo>
                  <a:pt x="45" y="637"/>
                </a:lnTo>
                <a:lnTo>
                  <a:pt x="38" y="628"/>
                </a:lnTo>
                <a:lnTo>
                  <a:pt x="38" y="628"/>
                </a:lnTo>
                <a:lnTo>
                  <a:pt x="39" y="628"/>
                </a:lnTo>
                <a:lnTo>
                  <a:pt x="39" y="627"/>
                </a:lnTo>
                <a:lnTo>
                  <a:pt x="40" y="627"/>
                </a:lnTo>
                <a:lnTo>
                  <a:pt x="40" y="626"/>
                </a:lnTo>
                <a:lnTo>
                  <a:pt x="41" y="626"/>
                </a:lnTo>
                <a:lnTo>
                  <a:pt x="42" y="626"/>
                </a:lnTo>
                <a:lnTo>
                  <a:pt x="42" y="624"/>
                </a:lnTo>
                <a:lnTo>
                  <a:pt x="43" y="624"/>
                </a:lnTo>
                <a:lnTo>
                  <a:pt x="43" y="624"/>
                </a:lnTo>
                <a:lnTo>
                  <a:pt x="45" y="623"/>
                </a:lnTo>
                <a:lnTo>
                  <a:pt x="45" y="623"/>
                </a:lnTo>
                <a:lnTo>
                  <a:pt x="46" y="623"/>
                </a:lnTo>
                <a:lnTo>
                  <a:pt x="46" y="622"/>
                </a:lnTo>
                <a:lnTo>
                  <a:pt x="47" y="622"/>
                </a:lnTo>
                <a:lnTo>
                  <a:pt x="48" y="622"/>
                </a:lnTo>
                <a:lnTo>
                  <a:pt x="48" y="622"/>
                </a:lnTo>
                <a:close/>
                <a:moveTo>
                  <a:pt x="13" y="654"/>
                </a:moveTo>
                <a:lnTo>
                  <a:pt x="13" y="654"/>
                </a:lnTo>
                <a:lnTo>
                  <a:pt x="13" y="655"/>
                </a:lnTo>
                <a:lnTo>
                  <a:pt x="13" y="655"/>
                </a:lnTo>
                <a:lnTo>
                  <a:pt x="12" y="656"/>
                </a:lnTo>
                <a:lnTo>
                  <a:pt x="12" y="656"/>
                </a:lnTo>
                <a:lnTo>
                  <a:pt x="12" y="657"/>
                </a:lnTo>
                <a:lnTo>
                  <a:pt x="11" y="657"/>
                </a:lnTo>
                <a:lnTo>
                  <a:pt x="11" y="658"/>
                </a:lnTo>
                <a:lnTo>
                  <a:pt x="11" y="658"/>
                </a:lnTo>
                <a:lnTo>
                  <a:pt x="11" y="660"/>
                </a:lnTo>
                <a:lnTo>
                  <a:pt x="9" y="660"/>
                </a:lnTo>
                <a:lnTo>
                  <a:pt x="9" y="661"/>
                </a:lnTo>
                <a:lnTo>
                  <a:pt x="9" y="662"/>
                </a:lnTo>
                <a:lnTo>
                  <a:pt x="9" y="662"/>
                </a:lnTo>
                <a:lnTo>
                  <a:pt x="8" y="663"/>
                </a:lnTo>
                <a:lnTo>
                  <a:pt x="8" y="663"/>
                </a:lnTo>
                <a:lnTo>
                  <a:pt x="8" y="664"/>
                </a:lnTo>
                <a:lnTo>
                  <a:pt x="8" y="664"/>
                </a:lnTo>
                <a:lnTo>
                  <a:pt x="7" y="664"/>
                </a:lnTo>
                <a:lnTo>
                  <a:pt x="18" y="669"/>
                </a:lnTo>
                <a:lnTo>
                  <a:pt x="18" y="669"/>
                </a:lnTo>
                <a:lnTo>
                  <a:pt x="18" y="669"/>
                </a:lnTo>
                <a:lnTo>
                  <a:pt x="19" y="668"/>
                </a:lnTo>
                <a:lnTo>
                  <a:pt x="19" y="668"/>
                </a:lnTo>
                <a:lnTo>
                  <a:pt x="19" y="667"/>
                </a:lnTo>
                <a:lnTo>
                  <a:pt x="19" y="667"/>
                </a:lnTo>
                <a:lnTo>
                  <a:pt x="20" y="665"/>
                </a:lnTo>
                <a:lnTo>
                  <a:pt x="20" y="665"/>
                </a:lnTo>
                <a:lnTo>
                  <a:pt x="20" y="664"/>
                </a:lnTo>
                <a:lnTo>
                  <a:pt x="20" y="664"/>
                </a:lnTo>
                <a:lnTo>
                  <a:pt x="21" y="663"/>
                </a:lnTo>
                <a:lnTo>
                  <a:pt x="21" y="663"/>
                </a:lnTo>
                <a:lnTo>
                  <a:pt x="21" y="663"/>
                </a:lnTo>
                <a:lnTo>
                  <a:pt x="21" y="662"/>
                </a:lnTo>
                <a:lnTo>
                  <a:pt x="22" y="662"/>
                </a:lnTo>
                <a:lnTo>
                  <a:pt x="22" y="661"/>
                </a:lnTo>
                <a:lnTo>
                  <a:pt x="22" y="661"/>
                </a:lnTo>
                <a:lnTo>
                  <a:pt x="22" y="660"/>
                </a:lnTo>
                <a:lnTo>
                  <a:pt x="22" y="660"/>
                </a:lnTo>
                <a:lnTo>
                  <a:pt x="13" y="654"/>
                </a:lnTo>
                <a:close/>
                <a:moveTo>
                  <a:pt x="0" y="700"/>
                </a:moveTo>
                <a:lnTo>
                  <a:pt x="0" y="701"/>
                </a:lnTo>
                <a:lnTo>
                  <a:pt x="0" y="701"/>
                </a:lnTo>
                <a:lnTo>
                  <a:pt x="0" y="702"/>
                </a:lnTo>
                <a:lnTo>
                  <a:pt x="0" y="702"/>
                </a:lnTo>
                <a:lnTo>
                  <a:pt x="0" y="703"/>
                </a:lnTo>
                <a:lnTo>
                  <a:pt x="0" y="703"/>
                </a:lnTo>
                <a:lnTo>
                  <a:pt x="0" y="704"/>
                </a:lnTo>
                <a:lnTo>
                  <a:pt x="0" y="705"/>
                </a:lnTo>
                <a:lnTo>
                  <a:pt x="0" y="705"/>
                </a:lnTo>
                <a:lnTo>
                  <a:pt x="0" y="707"/>
                </a:lnTo>
                <a:lnTo>
                  <a:pt x="0" y="707"/>
                </a:lnTo>
                <a:lnTo>
                  <a:pt x="0" y="708"/>
                </a:lnTo>
                <a:lnTo>
                  <a:pt x="1" y="709"/>
                </a:lnTo>
                <a:lnTo>
                  <a:pt x="1" y="709"/>
                </a:lnTo>
                <a:lnTo>
                  <a:pt x="1" y="710"/>
                </a:lnTo>
                <a:lnTo>
                  <a:pt x="1" y="710"/>
                </a:lnTo>
                <a:lnTo>
                  <a:pt x="1" y="711"/>
                </a:lnTo>
                <a:lnTo>
                  <a:pt x="1" y="711"/>
                </a:lnTo>
                <a:lnTo>
                  <a:pt x="1" y="713"/>
                </a:lnTo>
                <a:lnTo>
                  <a:pt x="12" y="710"/>
                </a:lnTo>
                <a:lnTo>
                  <a:pt x="12" y="710"/>
                </a:lnTo>
                <a:lnTo>
                  <a:pt x="12" y="710"/>
                </a:lnTo>
                <a:lnTo>
                  <a:pt x="12" y="709"/>
                </a:lnTo>
                <a:lnTo>
                  <a:pt x="12" y="709"/>
                </a:lnTo>
                <a:lnTo>
                  <a:pt x="12" y="708"/>
                </a:lnTo>
                <a:lnTo>
                  <a:pt x="12" y="708"/>
                </a:lnTo>
                <a:lnTo>
                  <a:pt x="12" y="707"/>
                </a:lnTo>
                <a:lnTo>
                  <a:pt x="12" y="707"/>
                </a:lnTo>
                <a:lnTo>
                  <a:pt x="12" y="705"/>
                </a:lnTo>
                <a:lnTo>
                  <a:pt x="12" y="705"/>
                </a:lnTo>
                <a:lnTo>
                  <a:pt x="12" y="704"/>
                </a:lnTo>
                <a:lnTo>
                  <a:pt x="12" y="704"/>
                </a:lnTo>
                <a:lnTo>
                  <a:pt x="12" y="703"/>
                </a:lnTo>
                <a:lnTo>
                  <a:pt x="12" y="703"/>
                </a:lnTo>
                <a:lnTo>
                  <a:pt x="12" y="702"/>
                </a:lnTo>
                <a:lnTo>
                  <a:pt x="12" y="701"/>
                </a:lnTo>
                <a:lnTo>
                  <a:pt x="12" y="701"/>
                </a:lnTo>
                <a:lnTo>
                  <a:pt x="12" y="700"/>
                </a:lnTo>
                <a:lnTo>
                  <a:pt x="12" y="700"/>
                </a:lnTo>
                <a:lnTo>
                  <a:pt x="0" y="700"/>
                </a:lnTo>
                <a:close/>
                <a:moveTo>
                  <a:pt x="14" y="745"/>
                </a:moveTo>
                <a:lnTo>
                  <a:pt x="14" y="745"/>
                </a:lnTo>
                <a:lnTo>
                  <a:pt x="15" y="747"/>
                </a:lnTo>
                <a:lnTo>
                  <a:pt x="15" y="747"/>
                </a:lnTo>
                <a:lnTo>
                  <a:pt x="16" y="748"/>
                </a:lnTo>
                <a:lnTo>
                  <a:pt x="16" y="748"/>
                </a:lnTo>
                <a:lnTo>
                  <a:pt x="16" y="749"/>
                </a:lnTo>
                <a:lnTo>
                  <a:pt x="18" y="749"/>
                </a:lnTo>
                <a:lnTo>
                  <a:pt x="18" y="750"/>
                </a:lnTo>
                <a:lnTo>
                  <a:pt x="18" y="750"/>
                </a:lnTo>
                <a:lnTo>
                  <a:pt x="19" y="751"/>
                </a:lnTo>
                <a:lnTo>
                  <a:pt x="19" y="751"/>
                </a:lnTo>
                <a:lnTo>
                  <a:pt x="20" y="753"/>
                </a:lnTo>
                <a:lnTo>
                  <a:pt x="20" y="753"/>
                </a:lnTo>
                <a:lnTo>
                  <a:pt x="21" y="753"/>
                </a:lnTo>
                <a:lnTo>
                  <a:pt x="21" y="754"/>
                </a:lnTo>
                <a:lnTo>
                  <a:pt x="21" y="754"/>
                </a:lnTo>
                <a:lnTo>
                  <a:pt x="22" y="755"/>
                </a:lnTo>
                <a:lnTo>
                  <a:pt x="22" y="755"/>
                </a:lnTo>
                <a:lnTo>
                  <a:pt x="31" y="747"/>
                </a:lnTo>
                <a:lnTo>
                  <a:pt x="31" y="747"/>
                </a:lnTo>
                <a:lnTo>
                  <a:pt x="29" y="747"/>
                </a:lnTo>
                <a:lnTo>
                  <a:pt x="29" y="745"/>
                </a:lnTo>
                <a:lnTo>
                  <a:pt x="29" y="745"/>
                </a:lnTo>
                <a:lnTo>
                  <a:pt x="28" y="745"/>
                </a:lnTo>
                <a:lnTo>
                  <a:pt x="28" y="744"/>
                </a:lnTo>
                <a:lnTo>
                  <a:pt x="28" y="744"/>
                </a:lnTo>
                <a:lnTo>
                  <a:pt x="27" y="743"/>
                </a:lnTo>
                <a:lnTo>
                  <a:pt x="27" y="743"/>
                </a:lnTo>
                <a:lnTo>
                  <a:pt x="27" y="743"/>
                </a:lnTo>
                <a:lnTo>
                  <a:pt x="26" y="742"/>
                </a:lnTo>
                <a:lnTo>
                  <a:pt x="26" y="742"/>
                </a:lnTo>
                <a:lnTo>
                  <a:pt x="26" y="741"/>
                </a:lnTo>
                <a:lnTo>
                  <a:pt x="25" y="741"/>
                </a:lnTo>
                <a:lnTo>
                  <a:pt x="25" y="740"/>
                </a:lnTo>
                <a:lnTo>
                  <a:pt x="25" y="740"/>
                </a:lnTo>
                <a:lnTo>
                  <a:pt x="23" y="740"/>
                </a:lnTo>
                <a:lnTo>
                  <a:pt x="23" y="738"/>
                </a:lnTo>
                <a:lnTo>
                  <a:pt x="14" y="745"/>
                </a:lnTo>
                <a:close/>
                <a:moveTo>
                  <a:pt x="52" y="775"/>
                </a:moveTo>
                <a:lnTo>
                  <a:pt x="56" y="765"/>
                </a:lnTo>
                <a:lnTo>
                  <a:pt x="67" y="770"/>
                </a:lnTo>
                <a:lnTo>
                  <a:pt x="61" y="781"/>
                </a:lnTo>
                <a:lnTo>
                  <a:pt x="52" y="775"/>
                </a:lnTo>
                <a:close/>
                <a:moveTo>
                  <a:pt x="91" y="796"/>
                </a:moveTo>
                <a:lnTo>
                  <a:pt x="96" y="787"/>
                </a:lnTo>
                <a:lnTo>
                  <a:pt x="106" y="792"/>
                </a:lnTo>
                <a:lnTo>
                  <a:pt x="101" y="802"/>
                </a:lnTo>
                <a:lnTo>
                  <a:pt x="91" y="796"/>
                </a:lnTo>
                <a:close/>
                <a:moveTo>
                  <a:pt x="131" y="818"/>
                </a:moveTo>
                <a:lnTo>
                  <a:pt x="136" y="808"/>
                </a:lnTo>
                <a:lnTo>
                  <a:pt x="146" y="814"/>
                </a:lnTo>
                <a:lnTo>
                  <a:pt x="141" y="823"/>
                </a:lnTo>
                <a:lnTo>
                  <a:pt x="131" y="818"/>
                </a:lnTo>
                <a:close/>
                <a:moveTo>
                  <a:pt x="171" y="840"/>
                </a:moveTo>
                <a:lnTo>
                  <a:pt x="176" y="829"/>
                </a:lnTo>
                <a:lnTo>
                  <a:pt x="186" y="835"/>
                </a:lnTo>
                <a:lnTo>
                  <a:pt x="181" y="844"/>
                </a:lnTo>
                <a:lnTo>
                  <a:pt x="171" y="840"/>
                </a:lnTo>
                <a:close/>
                <a:moveTo>
                  <a:pt x="211" y="861"/>
                </a:moveTo>
                <a:lnTo>
                  <a:pt x="216" y="850"/>
                </a:lnTo>
                <a:lnTo>
                  <a:pt x="226" y="856"/>
                </a:lnTo>
                <a:lnTo>
                  <a:pt x="220" y="865"/>
                </a:lnTo>
                <a:lnTo>
                  <a:pt x="211" y="861"/>
                </a:lnTo>
                <a:close/>
                <a:moveTo>
                  <a:pt x="251" y="882"/>
                </a:moveTo>
                <a:lnTo>
                  <a:pt x="255" y="871"/>
                </a:lnTo>
                <a:lnTo>
                  <a:pt x="266" y="877"/>
                </a:lnTo>
                <a:lnTo>
                  <a:pt x="260" y="887"/>
                </a:lnTo>
                <a:lnTo>
                  <a:pt x="251" y="882"/>
                </a:lnTo>
                <a:close/>
                <a:moveTo>
                  <a:pt x="291" y="903"/>
                </a:moveTo>
                <a:lnTo>
                  <a:pt x="295" y="894"/>
                </a:lnTo>
                <a:lnTo>
                  <a:pt x="306" y="898"/>
                </a:lnTo>
                <a:lnTo>
                  <a:pt x="300" y="909"/>
                </a:lnTo>
                <a:lnTo>
                  <a:pt x="291" y="903"/>
                </a:lnTo>
                <a:close/>
                <a:moveTo>
                  <a:pt x="331" y="924"/>
                </a:moveTo>
                <a:lnTo>
                  <a:pt x="335" y="915"/>
                </a:lnTo>
                <a:lnTo>
                  <a:pt x="346" y="919"/>
                </a:lnTo>
                <a:lnTo>
                  <a:pt x="340" y="930"/>
                </a:lnTo>
                <a:lnTo>
                  <a:pt x="331" y="924"/>
                </a:lnTo>
                <a:close/>
                <a:moveTo>
                  <a:pt x="369" y="945"/>
                </a:moveTo>
                <a:lnTo>
                  <a:pt x="375" y="936"/>
                </a:lnTo>
                <a:lnTo>
                  <a:pt x="385" y="941"/>
                </a:lnTo>
                <a:lnTo>
                  <a:pt x="380" y="951"/>
                </a:lnTo>
                <a:lnTo>
                  <a:pt x="369" y="945"/>
                </a:lnTo>
                <a:close/>
                <a:moveTo>
                  <a:pt x="410" y="967"/>
                </a:moveTo>
                <a:lnTo>
                  <a:pt x="415" y="957"/>
                </a:lnTo>
                <a:lnTo>
                  <a:pt x="425" y="962"/>
                </a:lnTo>
                <a:lnTo>
                  <a:pt x="420" y="972"/>
                </a:lnTo>
                <a:lnTo>
                  <a:pt x="410" y="967"/>
                </a:lnTo>
                <a:close/>
                <a:moveTo>
                  <a:pt x="450" y="989"/>
                </a:moveTo>
                <a:lnTo>
                  <a:pt x="455" y="978"/>
                </a:lnTo>
                <a:lnTo>
                  <a:pt x="465" y="984"/>
                </a:lnTo>
                <a:lnTo>
                  <a:pt x="460" y="994"/>
                </a:lnTo>
                <a:lnTo>
                  <a:pt x="450" y="989"/>
                </a:lnTo>
                <a:close/>
                <a:moveTo>
                  <a:pt x="490" y="1010"/>
                </a:moveTo>
                <a:lnTo>
                  <a:pt x="495" y="999"/>
                </a:lnTo>
                <a:lnTo>
                  <a:pt x="505" y="1005"/>
                </a:lnTo>
                <a:lnTo>
                  <a:pt x="500" y="1015"/>
                </a:lnTo>
                <a:lnTo>
                  <a:pt x="490" y="1010"/>
                </a:lnTo>
                <a:close/>
                <a:moveTo>
                  <a:pt x="530" y="1031"/>
                </a:moveTo>
                <a:lnTo>
                  <a:pt x="534" y="1021"/>
                </a:lnTo>
                <a:lnTo>
                  <a:pt x="545" y="1027"/>
                </a:lnTo>
                <a:lnTo>
                  <a:pt x="539" y="1036"/>
                </a:lnTo>
                <a:lnTo>
                  <a:pt x="530" y="1031"/>
                </a:lnTo>
                <a:close/>
                <a:moveTo>
                  <a:pt x="570" y="1052"/>
                </a:moveTo>
                <a:lnTo>
                  <a:pt x="574" y="1042"/>
                </a:lnTo>
                <a:lnTo>
                  <a:pt x="585" y="1048"/>
                </a:lnTo>
                <a:lnTo>
                  <a:pt x="579" y="1057"/>
                </a:lnTo>
                <a:lnTo>
                  <a:pt x="570" y="1052"/>
                </a:lnTo>
                <a:close/>
                <a:moveTo>
                  <a:pt x="610" y="1074"/>
                </a:moveTo>
                <a:lnTo>
                  <a:pt x="614" y="1064"/>
                </a:lnTo>
                <a:lnTo>
                  <a:pt x="625" y="1069"/>
                </a:lnTo>
                <a:lnTo>
                  <a:pt x="619" y="1079"/>
                </a:lnTo>
                <a:lnTo>
                  <a:pt x="610" y="1074"/>
                </a:lnTo>
                <a:close/>
                <a:moveTo>
                  <a:pt x="648" y="1095"/>
                </a:moveTo>
                <a:lnTo>
                  <a:pt x="654" y="1085"/>
                </a:lnTo>
                <a:lnTo>
                  <a:pt x="664" y="1090"/>
                </a:lnTo>
                <a:lnTo>
                  <a:pt x="659" y="1101"/>
                </a:lnTo>
                <a:lnTo>
                  <a:pt x="648" y="1095"/>
                </a:lnTo>
                <a:close/>
                <a:moveTo>
                  <a:pt x="688" y="1116"/>
                </a:moveTo>
                <a:lnTo>
                  <a:pt x="694" y="1106"/>
                </a:lnTo>
                <a:lnTo>
                  <a:pt x="704" y="1111"/>
                </a:lnTo>
                <a:lnTo>
                  <a:pt x="699" y="1122"/>
                </a:lnTo>
                <a:lnTo>
                  <a:pt x="688" y="1116"/>
                </a:lnTo>
                <a:close/>
                <a:moveTo>
                  <a:pt x="728" y="1137"/>
                </a:moveTo>
                <a:lnTo>
                  <a:pt x="734" y="1128"/>
                </a:lnTo>
                <a:lnTo>
                  <a:pt x="744" y="1132"/>
                </a:lnTo>
                <a:lnTo>
                  <a:pt x="739" y="1143"/>
                </a:lnTo>
                <a:lnTo>
                  <a:pt x="728" y="1137"/>
                </a:lnTo>
                <a:close/>
                <a:moveTo>
                  <a:pt x="768" y="1158"/>
                </a:moveTo>
                <a:lnTo>
                  <a:pt x="774" y="1149"/>
                </a:lnTo>
                <a:lnTo>
                  <a:pt x="784" y="1155"/>
                </a:lnTo>
                <a:lnTo>
                  <a:pt x="779" y="1164"/>
                </a:lnTo>
                <a:lnTo>
                  <a:pt x="768" y="1158"/>
                </a:lnTo>
                <a:close/>
                <a:moveTo>
                  <a:pt x="808" y="1181"/>
                </a:moveTo>
                <a:lnTo>
                  <a:pt x="813" y="1170"/>
                </a:lnTo>
                <a:lnTo>
                  <a:pt x="824" y="1176"/>
                </a:lnTo>
                <a:lnTo>
                  <a:pt x="818" y="1185"/>
                </a:lnTo>
                <a:lnTo>
                  <a:pt x="808" y="1181"/>
                </a:lnTo>
                <a:close/>
                <a:moveTo>
                  <a:pt x="848" y="1202"/>
                </a:moveTo>
                <a:lnTo>
                  <a:pt x="853" y="1191"/>
                </a:lnTo>
                <a:lnTo>
                  <a:pt x="864" y="1197"/>
                </a:lnTo>
                <a:lnTo>
                  <a:pt x="858" y="1206"/>
                </a:lnTo>
                <a:lnTo>
                  <a:pt x="848" y="1202"/>
                </a:lnTo>
                <a:close/>
                <a:moveTo>
                  <a:pt x="889" y="1223"/>
                </a:moveTo>
                <a:lnTo>
                  <a:pt x="893" y="1212"/>
                </a:lnTo>
                <a:lnTo>
                  <a:pt x="904" y="1218"/>
                </a:lnTo>
                <a:lnTo>
                  <a:pt x="898" y="1228"/>
                </a:lnTo>
                <a:lnTo>
                  <a:pt x="889" y="1223"/>
                </a:lnTo>
                <a:close/>
                <a:moveTo>
                  <a:pt x="927" y="1244"/>
                </a:moveTo>
                <a:lnTo>
                  <a:pt x="933" y="1233"/>
                </a:lnTo>
                <a:lnTo>
                  <a:pt x="943" y="1239"/>
                </a:lnTo>
                <a:lnTo>
                  <a:pt x="938" y="1249"/>
                </a:lnTo>
                <a:lnTo>
                  <a:pt x="927" y="1244"/>
                </a:lnTo>
                <a:close/>
                <a:moveTo>
                  <a:pt x="967" y="1265"/>
                </a:moveTo>
                <a:lnTo>
                  <a:pt x="973" y="1256"/>
                </a:lnTo>
                <a:lnTo>
                  <a:pt x="983" y="1261"/>
                </a:lnTo>
                <a:lnTo>
                  <a:pt x="978" y="1271"/>
                </a:lnTo>
                <a:lnTo>
                  <a:pt x="967" y="1265"/>
                </a:lnTo>
                <a:close/>
                <a:moveTo>
                  <a:pt x="1007" y="1286"/>
                </a:moveTo>
                <a:lnTo>
                  <a:pt x="1013" y="1277"/>
                </a:lnTo>
                <a:lnTo>
                  <a:pt x="1023" y="1282"/>
                </a:lnTo>
                <a:lnTo>
                  <a:pt x="1018" y="1292"/>
                </a:lnTo>
                <a:lnTo>
                  <a:pt x="1007" y="1286"/>
                </a:lnTo>
                <a:close/>
                <a:moveTo>
                  <a:pt x="1047" y="1308"/>
                </a:moveTo>
                <a:lnTo>
                  <a:pt x="1053" y="1298"/>
                </a:lnTo>
                <a:lnTo>
                  <a:pt x="1063" y="1303"/>
                </a:lnTo>
                <a:lnTo>
                  <a:pt x="1058" y="1313"/>
                </a:lnTo>
                <a:lnTo>
                  <a:pt x="1047" y="1308"/>
                </a:lnTo>
                <a:close/>
                <a:moveTo>
                  <a:pt x="1087" y="1329"/>
                </a:moveTo>
                <a:lnTo>
                  <a:pt x="1092" y="1319"/>
                </a:lnTo>
                <a:lnTo>
                  <a:pt x="1103" y="1324"/>
                </a:lnTo>
                <a:lnTo>
                  <a:pt x="1097" y="1335"/>
                </a:lnTo>
                <a:lnTo>
                  <a:pt x="1087" y="1329"/>
                </a:lnTo>
                <a:close/>
                <a:moveTo>
                  <a:pt x="1127" y="1350"/>
                </a:moveTo>
                <a:lnTo>
                  <a:pt x="1132" y="1340"/>
                </a:lnTo>
                <a:lnTo>
                  <a:pt x="1143" y="1346"/>
                </a:lnTo>
                <a:lnTo>
                  <a:pt x="1137" y="1356"/>
                </a:lnTo>
                <a:lnTo>
                  <a:pt x="1127" y="1350"/>
                </a:lnTo>
                <a:close/>
                <a:moveTo>
                  <a:pt x="1167" y="1372"/>
                </a:moveTo>
                <a:lnTo>
                  <a:pt x="1172" y="1362"/>
                </a:lnTo>
                <a:lnTo>
                  <a:pt x="1183" y="1368"/>
                </a:lnTo>
                <a:lnTo>
                  <a:pt x="1177" y="1377"/>
                </a:lnTo>
                <a:lnTo>
                  <a:pt x="1167" y="1372"/>
                </a:lnTo>
                <a:close/>
                <a:moveTo>
                  <a:pt x="1207" y="1393"/>
                </a:moveTo>
                <a:lnTo>
                  <a:pt x="1207" y="1393"/>
                </a:lnTo>
                <a:lnTo>
                  <a:pt x="1209" y="1393"/>
                </a:lnTo>
                <a:lnTo>
                  <a:pt x="1210" y="1393"/>
                </a:lnTo>
                <a:lnTo>
                  <a:pt x="1210" y="1393"/>
                </a:lnTo>
                <a:lnTo>
                  <a:pt x="1211" y="1395"/>
                </a:lnTo>
                <a:lnTo>
                  <a:pt x="1211" y="1395"/>
                </a:lnTo>
                <a:lnTo>
                  <a:pt x="1212" y="1395"/>
                </a:lnTo>
                <a:lnTo>
                  <a:pt x="1212" y="1395"/>
                </a:lnTo>
                <a:lnTo>
                  <a:pt x="1213" y="1395"/>
                </a:lnTo>
                <a:lnTo>
                  <a:pt x="1213" y="1396"/>
                </a:lnTo>
                <a:lnTo>
                  <a:pt x="1215" y="1396"/>
                </a:lnTo>
                <a:lnTo>
                  <a:pt x="1215" y="1396"/>
                </a:lnTo>
                <a:lnTo>
                  <a:pt x="1216" y="1396"/>
                </a:lnTo>
                <a:lnTo>
                  <a:pt x="1216" y="1396"/>
                </a:lnTo>
                <a:lnTo>
                  <a:pt x="1217" y="1396"/>
                </a:lnTo>
                <a:lnTo>
                  <a:pt x="1218" y="1397"/>
                </a:lnTo>
                <a:lnTo>
                  <a:pt x="1218" y="1397"/>
                </a:lnTo>
                <a:lnTo>
                  <a:pt x="1219" y="1397"/>
                </a:lnTo>
                <a:lnTo>
                  <a:pt x="1219" y="1397"/>
                </a:lnTo>
                <a:lnTo>
                  <a:pt x="1222" y="1386"/>
                </a:lnTo>
                <a:lnTo>
                  <a:pt x="1222" y="1386"/>
                </a:lnTo>
                <a:lnTo>
                  <a:pt x="1222" y="1385"/>
                </a:lnTo>
                <a:lnTo>
                  <a:pt x="1220" y="1385"/>
                </a:lnTo>
                <a:lnTo>
                  <a:pt x="1220" y="1385"/>
                </a:lnTo>
                <a:lnTo>
                  <a:pt x="1219" y="1385"/>
                </a:lnTo>
                <a:lnTo>
                  <a:pt x="1219" y="1385"/>
                </a:lnTo>
                <a:lnTo>
                  <a:pt x="1218" y="1385"/>
                </a:lnTo>
                <a:lnTo>
                  <a:pt x="1218" y="1385"/>
                </a:lnTo>
                <a:lnTo>
                  <a:pt x="1217" y="1384"/>
                </a:lnTo>
                <a:lnTo>
                  <a:pt x="1217" y="1384"/>
                </a:lnTo>
                <a:lnTo>
                  <a:pt x="1216" y="1384"/>
                </a:lnTo>
                <a:lnTo>
                  <a:pt x="1216" y="1384"/>
                </a:lnTo>
                <a:lnTo>
                  <a:pt x="1215" y="1384"/>
                </a:lnTo>
                <a:lnTo>
                  <a:pt x="1215" y="1384"/>
                </a:lnTo>
                <a:lnTo>
                  <a:pt x="1213" y="1383"/>
                </a:lnTo>
                <a:lnTo>
                  <a:pt x="1213" y="1383"/>
                </a:lnTo>
                <a:lnTo>
                  <a:pt x="1213" y="1383"/>
                </a:lnTo>
                <a:lnTo>
                  <a:pt x="1212" y="1383"/>
                </a:lnTo>
                <a:lnTo>
                  <a:pt x="1212" y="1383"/>
                </a:lnTo>
                <a:lnTo>
                  <a:pt x="1207" y="1393"/>
                </a:lnTo>
                <a:close/>
                <a:moveTo>
                  <a:pt x="1255" y="1399"/>
                </a:moveTo>
                <a:lnTo>
                  <a:pt x="1255" y="1399"/>
                </a:lnTo>
                <a:lnTo>
                  <a:pt x="1256" y="1399"/>
                </a:lnTo>
                <a:lnTo>
                  <a:pt x="1257" y="1399"/>
                </a:lnTo>
                <a:lnTo>
                  <a:pt x="1257" y="1399"/>
                </a:lnTo>
                <a:lnTo>
                  <a:pt x="1258" y="1398"/>
                </a:lnTo>
                <a:lnTo>
                  <a:pt x="1258" y="1398"/>
                </a:lnTo>
                <a:lnTo>
                  <a:pt x="1259" y="1398"/>
                </a:lnTo>
                <a:lnTo>
                  <a:pt x="1259" y="1398"/>
                </a:lnTo>
                <a:lnTo>
                  <a:pt x="1260" y="1398"/>
                </a:lnTo>
                <a:lnTo>
                  <a:pt x="1260" y="1398"/>
                </a:lnTo>
                <a:lnTo>
                  <a:pt x="1262" y="1398"/>
                </a:lnTo>
                <a:lnTo>
                  <a:pt x="1263" y="1398"/>
                </a:lnTo>
                <a:lnTo>
                  <a:pt x="1263" y="1398"/>
                </a:lnTo>
                <a:lnTo>
                  <a:pt x="1264" y="1397"/>
                </a:lnTo>
                <a:lnTo>
                  <a:pt x="1264" y="1397"/>
                </a:lnTo>
                <a:lnTo>
                  <a:pt x="1265" y="1397"/>
                </a:lnTo>
                <a:lnTo>
                  <a:pt x="1265" y="1397"/>
                </a:lnTo>
                <a:lnTo>
                  <a:pt x="1266" y="1397"/>
                </a:lnTo>
                <a:lnTo>
                  <a:pt x="1266" y="1397"/>
                </a:lnTo>
                <a:lnTo>
                  <a:pt x="1264" y="1386"/>
                </a:lnTo>
                <a:lnTo>
                  <a:pt x="1263" y="1386"/>
                </a:lnTo>
                <a:lnTo>
                  <a:pt x="1263" y="1386"/>
                </a:lnTo>
                <a:lnTo>
                  <a:pt x="1262" y="1386"/>
                </a:lnTo>
                <a:lnTo>
                  <a:pt x="1262" y="1386"/>
                </a:lnTo>
                <a:lnTo>
                  <a:pt x="1260" y="1386"/>
                </a:lnTo>
                <a:lnTo>
                  <a:pt x="1260" y="1386"/>
                </a:lnTo>
                <a:lnTo>
                  <a:pt x="1260" y="1386"/>
                </a:lnTo>
                <a:lnTo>
                  <a:pt x="1259" y="1386"/>
                </a:lnTo>
                <a:lnTo>
                  <a:pt x="1259" y="1388"/>
                </a:lnTo>
                <a:lnTo>
                  <a:pt x="1258" y="1388"/>
                </a:lnTo>
                <a:lnTo>
                  <a:pt x="1258" y="1388"/>
                </a:lnTo>
                <a:lnTo>
                  <a:pt x="1257" y="1388"/>
                </a:lnTo>
                <a:lnTo>
                  <a:pt x="1257" y="1388"/>
                </a:lnTo>
                <a:lnTo>
                  <a:pt x="1256" y="1388"/>
                </a:lnTo>
                <a:lnTo>
                  <a:pt x="1256" y="1388"/>
                </a:lnTo>
                <a:lnTo>
                  <a:pt x="1255" y="1388"/>
                </a:lnTo>
                <a:lnTo>
                  <a:pt x="1255" y="1388"/>
                </a:lnTo>
                <a:lnTo>
                  <a:pt x="1253" y="1388"/>
                </a:lnTo>
                <a:lnTo>
                  <a:pt x="1253" y="1388"/>
                </a:lnTo>
                <a:lnTo>
                  <a:pt x="1255" y="1399"/>
                </a:lnTo>
                <a:close/>
                <a:moveTo>
                  <a:pt x="1298" y="1380"/>
                </a:moveTo>
                <a:lnTo>
                  <a:pt x="1299" y="1379"/>
                </a:lnTo>
                <a:lnTo>
                  <a:pt x="1299" y="1379"/>
                </a:lnTo>
                <a:lnTo>
                  <a:pt x="1300" y="1379"/>
                </a:lnTo>
                <a:lnTo>
                  <a:pt x="1300" y="1378"/>
                </a:lnTo>
                <a:lnTo>
                  <a:pt x="1302" y="1378"/>
                </a:lnTo>
                <a:lnTo>
                  <a:pt x="1302" y="1378"/>
                </a:lnTo>
                <a:lnTo>
                  <a:pt x="1302" y="1377"/>
                </a:lnTo>
                <a:lnTo>
                  <a:pt x="1303" y="1377"/>
                </a:lnTo>
                <a:lnTo>
                  <a:pt x="1303" y="1376"/>
                </a:lnTo>
                <a:lnTo>
                  <a:pt x="1304" y="1376"/>
                </a:lnTo>
                <a:lnTo>
                  <a:pt x="1304" y="1376"/>
                </a:lnTo>
                <a:lnTo>
                  <a:pt x="1304" y="1375"/>
                </a:lnTo>
                <a:lnTo>
                  <a:pt x="1305" y="1375"/>
                </a:lnTo>
                <a:lnTo>
                  <a:pt x="1305" y="1373"/>
                </a:lnTo>
                <a:lnTo>
                  <a:pt x="1306" y="1373"/>
                </a:lnTo>
                <a:lnTo>
                  <a:pt x="1306" y="1372"/>
                </a:lnTo>
                <a:lnTo>
                  <a:pt x="1306" y="1372"/>
                </a:lnTo>
                <a:lnTo>
                  <a:pt x="1307" y="1372"/>
                </a:lnTo>
                <a:lnTo>
                  <a:pt x="1307" y="1371"/>
                </a:lnTo>
                <a:lnTo>
                  <a:pt x="1299" y="1364"/>
                </a:lnTo>
                <a:lnTo>
                  <a:pt x="1299" y="1364"/>
                </a:lnTo>
                <a:lnTo>
                  <a:pt x="1298" y="1365"/>
                </a:lnTo>
                <a:lnTo>
                  <a:pt x="1298" y="1365"/>
                </a:lnTo>
                <a:lnTo>
                  <a:pt x="1298" y="1365"/>
                </a:lnTo>
                <a:lnTo>
                  <a:pt x="1297" y="1366"/>
                </a:lnTo>
                <a:lnTo>
                  <a:pt x="1297" y="1366"/>
                </a:lnTo>
                <a:lnTo>
                  <a:pt x="1297" y="1366"/>
                </a:lnTo>
                <a:lnTo>
                  <a:pt x="1296" y="1368"/>
                </a:lnTo>
                <a:lnTo>
                  <a:pt x="1296" y="1368"/>
                </a:lnTo>
                <a:lnTo>
                  <a:pt x="1295" y="1369"/>
                </a:lnTo>
                <a:lnTo>
                  <a:pt x="1295" y="1369"/>
                </a:lnTo>
                <a:lnTo>
                  <a:pt x="1295" y="1369"/>
                </a:lnTo>
                <a:lnTo>
                  <a:pt x="1293" y="1370"/>
                </a:lnTo>
                <a:lnTo>
                  <a:pt x="1293" y="1370"/>
                </a:lnTo>
                <a:lnTo>
                  <a:pt x="1293" y="1370"/>
                </a:lnTo>
                <a:lnTo>
                  <a:pt x="1292" y="1371"/>
                </a:lnTo>
                <a:lnTo>
                  <a:pt x="1292" y="1371"/>
                </a:lnTo>
                <a:lnTo>
                  <a:pt x="1292" y="1371"/>
                </a:lnTo>
                <a:lnTo>
                  <a:pt x="1291" y="1371"/>
                </a:lnTo>
                <a:lnTo>
                  <a:pt x="1298" y="1380"/>
                </a:lnTo>
                <a:close/>
                <a:moveTo>
                  <a:pt x="1324" y="1339"/>
                </a:moveTo>
                <a:lnTo>
                  <a:pt x="1324" y="1339"/>
                </a:lnTo>
                <a:lnTo>
                  <a:pt x="1324" y="1338"/>
                </a:lnTo>
                <a:lnTo>
                  <a:pt x="1324" y="1338"/>
                </a:lnTo>
                <a:lnTo>
                  <a:pt x="1325" y="1337"/>
                </a:lnTo>
                <a:lnTo>
                  <a:pt x="1325" y="1336"/>
                </a:lnTo>
                <a:lnTo>
                  <a:pt x="1325" y="1336"/>
                </a:lnTo>
                <a:lnTo>
                  <a:pt x="1325" y="1335"/>
                </a:lnTo>
                <a:lnTo>
                  <a:pt x="1325" y="1333"/>
                </a:lnTo>
                <a:lnTo>
                  <a:pt x="1325" y="1333"/>
                </a:lnTo>
                <a:lnTo>
                  <a:pt x="1325" y="1332"/>
                </a:lnTo>
                <a:lnTo>
                  <a:pt x="1325" y="1331"/>
                </a:lnTo>
                <a:lnTo>
                  <a:pt x="1326" y="1331"/>
                </a:lnTo>
                <a:lnTo>
                  <a:pt x="1326" y="1330"/>
                </a:lnTo>
                <a:lnTo>
                  <a:pt x="1326" y="1329"/>
                </a:lnTo>
                <a:lnTo>
                  <a:pt x="1326" y="1329"/>
                </a:lnTo>
                <a:lnTo>
                  <a:pt x="1326" y="1328"/>
                </a:lnTo>
                <a:lnTo>
                  <a:pt x="1315" y="1326"/>
                </a:lnTo>
                <a:lnTo>
                  <a:pt x="1315" y="1326"/>
                </a:lnTo>
                <a:lnTo>
                  <a:pt x="1315" y="1328"/>
                </a:lnTo>
                <a:lnTo>
                  <a:pt x="1315" y="1329"/>
                </a:lnTo>
                <a:lnTo>
                  <a:pt x="1315" y="1329"/>
                </a:lnTo>
                <a:lnTo>
                  <a:pt x="1315" y="1330"/>
                </a:lnTo>
                <a:lnTo>
                  <a:pt x="1315" y="1330"/>
                </a:lnTo>
                <a:lnTo>
                  <a:pt x="1315" y="1331"/>
                </a:lnTo>
                <a:lnTo>
                  <a:pt x="1315" y="1332"/>
                </a:lnTo>
                <a:lnTo>
                  <a:pt x="1315" y="1332"/>
                </a:lnTo>
                <a:lnTo>
                  <a:pt x="1313" y="1333"/>
                </a:lnTo>
                <a:lnTo>
                  <a:pt x="1313" y="1333"/>
                </a:lnTo>
                <a:lnTo>
                  <a:pt x="1313" y="1335"/>
                </a:lnTo>
                <a:lnTo>
                  <a:pt x="1313" y="1335"/>
                </a:lnTo>
                <a:lnTo>
                  <a:pt x="1313" y="1336"/>
                </a:lnTo>
                <a:lnTo>
                  <a:pt x="1313" y="1337"/>
                </a:lnTo>
                <a:lnTo>
                  <a:pt x="1313" y="1337"/>
                </a:lnTo>
                <a:lnTo>
                  <a:pt x="1324" y="1339"/>
                </a:lnTo>
                <a:close/>
                <a:moveTo>
                  <a:pt x="1328" y="1293"/>
                </a:moveTo>
                <a:lnTo>
                  <a:pt x="1316" y="1293"/>
                </a:lnTo>
                <a:lnTo>
                  <a:pt x="1316" y="1282"/>
                </a:lnTo>
                <a:lnTo>
                  <a:pt x="1328" y="1282"/>
                </a:lnTo>
                <a:lnTo>
                  <a:pt x="1328" y="1293"/>
                </a:lnTo>
                <a:close/>
                <a:moveTo>
                  <a:pt x="1328" y="1248"/>
                </a:moveTo>
                <a:lnTo>
                  <a:pt x="1316" y="1248"/>
                </a:lnTo>
                <a:lnTo>
                  <a:pt x="1316" y="1237"/>
                </a:lnTo>
                <a:lnTo>
                  <a:pt x="1328" y="1237"/>
                </a:lnTo>
                <a:lnTo>
                  <a:pt x="1328" y="1248"/>
                </a:lnTo>
                <a:close/>
                <a:moveTo>
                  <a:pt x="1328" y="1203"/>
                </a:moveTo>
                <a:lnTo>
                  <a:pt x="1316" y="1203"/>
                </a:lnTo>
                <a:lnTo>
                  <a:pt x="1316" y="1191"/>
                </a:lnTo>
                <a:lnTo>
                  <a:pt x="1328" y="1191"/>
                </a:lnTo>
                <a:lnTo>
                  <a:pt x="1328" y="1203"/>
                </a:lnTo>
                <a:close/>
                <a:moveTo>
                  <a:pt x="1328" y="1158"/>
                </a:moveTo>
                <a:lnTo>
                  <a:pt x="1316" y="1158"/>
                </a:lnTo>
                <a:lnTo>
                  <a:pt x="1316" y="1146"/>
                </a:lnTo>
                <a:lnTo>
                  <a:pt x="1328" y="1146"/>
                </a:lnTo>
                <a:lnTo>
                  <a:pt x="1328" y="1158"/>
                </a:lnTo>
                <a:close/>
                <a:moveTo>
                  <a:pt x="1328" y="1112"/>
                </a:moveTo>
                <a:lnTo>
                  <a:pt x="1316" y="1112"/>
                </a:lnTo>
                <a:lnTo>
                  <a:pt x="1316" y="1102"/>
                </a:lnTo>
                <a:lnTo>
                  <a:pt x="1328" y="1102"/>
                </a:lnTo>
                <a:lnTo>
                  <a:pt x="1328" y="1112"/>
                </a:lnTo>
                <a:close/>
                <a:moveTo>
                  <a:pt x="1328" y="1068"/>
                </a:moveTo>
                <a:lnTo>
                  <a:pt x="1316" y="1068"/>
                </a:lnTo>
                <a:lnTo>
                  <a:pt x="1316" y="1056"/>
                </a:lnTo>
                <a:lnTo>
                  <a:pt x="1328" y="1056"/>
                </a:lnTo>
                <a:lnTo>
                  <a:pt x="1328" y="1068"/>
                </a:lnTo>
                <a:close/>
                <a:moveTo>
                  <a:pt x="1328" y="1022"/>
                </a:moveTo>
                <a:lnTo>
                  <a:pt x="1316" y="1022"/>
                </a:lnTo>
                <a:lnTo>
                  <a:pt x="1316" y="1011"/>
                </a:lnTo>
                <a:lnTo>
                  <a:pt x="1328" y="1011"/>
                </a:lnTo>
                <a:lnTo>
                  <a:pt x="1328" y="1022"/>
                </a:lnTo>
                <a:close/>
                <a:moveTo>
                  <a:pt x="1317" y="977"/>
                </a:moveTo>
                <a:lnTo>
                  <a:pt x="1316" y="977"/>
                </a:lnTo>
                <a:lnTo>
                  <a:pt x="1316" y="976"/>
                </a:lnTo>
                <a:lnTo>
                  <a:pt x="1316" y="971"/>
                </a:lnTo>
                <a:lnTo>
                  <a:pt x="1322" y="971"/>
                </a:lnTo>
                <a:lnTo>
                  <a:pt x="1332" y="971"/>
                </a:lnTo>
                <a:lnTo>
                  <a:pt x="1332" y="982"/>
                </a:lnTo>
                <a:lnTo>
                  <a:pt x="1322" y="982"/>
                </a:lnTo>
                <a:lnTo>
                  <a:pt x="1317" y="977"/>
                </a:lnTo>
                <a:close/>
                <a:moveTo>
                  <a:pt x="1366" y="982"/>
                </a:moveTo>
                <a:lnTo>
                  <a:pt x="1366" y="971"/>
                </a:lnTo>
                <a:lnTo>
                  <a:pt x="1377" y="971"/>
                </a:lnTo>
                <a:lnTo>
                  <a:pt x="1377" y="982"/>
                </a:lnTo>
                <a:lnTo>
                  <a:pt x="1366" y="982"/>
                </a:lnTo>
                <a:close/>
                <a:moveTo>
                  <a:pt x="1411" y="982"/>
                </a:moveTo>
                <a:lnTo>
                  <a:pt x="1411" y="971"/>
                </a:lnTo>
                <a:lnTo>
                  <a:pt x="1423" y="971"/>
                </a:lnTo>
                <a:lnTo>
                  <a:pt x="1423" y="982"/>
                </a:lnTo>
                <a:lnTo>
                  <a:pt x="1411" y="982"/>
                </a:lnTo>
                <a:close/>
                <a:moveTo>
                  <a:pt x="1456" y="982"/>
                </a:moveTo>
                <a:lnTo>
                  <a:pt x="1456" y="971"/>
                </a:lnTo>
                <a:lnTo>
                  <a:pt x="1468" y="971"/>
                </a:lnTo>
                <a:lnTo>
                  <a:pt x="1468" y="982"/>
                </a:lnTo>
                <a:lnTo>
                  <a:pt x="1456" y="982"/>
                </a:lnTo>
                <a:close/>
                <a:moveTo>
                  <a:pt x="1502" y="982"/>
                </a:moveTo>
                <a:lnTo>
                  <a:pt x="1502" y="971"/>
                </a:lnTo>
                <a:lnTo>
                  <a:pt x="1512" y="971"/>
                </a:lnTo>
                <a:lnTo>
                  <a:pt x="1512" y="982"/>
                </a:lnTo>
                <a:lnTo>
                  <a:pt x="1502" y="982"/>
                </a:lnTo>
                <a:close/>
                <a:moveTo>
                  <a:pt x="1546" y="982"/>
                </a:moveTo>
                <a:lnTo>
                  <a:pt x="1546" y="971"/>
                </a:lnTo>
                <a:lnTo>
                  <a:pt x="1558" y="971"/>
                </a:lnTo>
                <a:lnTo>
                  <a:pt x="1558" y="982"/>
                </a:lnTo>
                <a:lnTo>
                  <a:pt x="1546" y="982"/>
                </a:lnTo>
                <a:close/>
                <a:moveTo>
                  <a:pt x="1592" y="982"/>
                </a:moveTo>
                <a:lnTo>
                  <a:pt x="1592" y="971"/>
                </a:lnTo>
                <a:lnTo>
                  <a:pt x="1603" y="971"/>
                </a:lnTo>
                <a:lnTo>
                  <a:pt x="1603" y="982"/>
                </a:lnTo>
                <a:lnTo>
                  <a:pt x="1592" y="982"/>
                </a:lnTo>
                <a:close/>
                <a:moveTo>
                  <a:pt x="1637" y="982"/>
                </a:moveTo>
                <a:lnTo>
                  <a:pt x="1637" y="971"/>
                </a:lnTo>
                <a:lnTo>
                  <a:pt x="1649" y="971"/>
                </a:lnTo>
                <a:lnTo>
                  <a:pt x="1649" y="982"/>
                </a:lnTo>
                <a:lnTo>
                  <a:pt x="1637" y="982"/>
                </a:lnTo>
                <a:close/>
                <a:moveTo>
                  <a:pt x="1682" y="982"/>
                </a:moveTo>
                <a:lnTo>
                  <a:pt x="1682" y="971"/>
                </a:lnTo>
                <a:lnTo>
                  <a:pt x="1694" y="971"/>
                </a:lnTo>
                <a:lnTo>
                  <a:pt x="1694" y="982"/>
                </a:lnTo>
                <a:lnTo>
                  <a:pt x="1682" y="982"/>
                </a:lnTo>
                <a:close/>
                <a:moveTo>
                  <a:pt x="1728" y="982"/>
                </a:moveTo>
                <a:lnTo>
                  <a:pt x="1728" y="971"/>
                </a:lnTo>
                <a:lnTo>
                  <a:pt x="1738" y="971"/>
                </a:lnTo>
                <a:lnTo>
                  <a:pt x="1738" y="982"/>
                </a:lnTo>
                <a:lnTo>
                  <a:pt x="1728" y="982"/>
                </a:lnTo>
                <a:close/>
                <a:moveTo>
                  <a:pt x="1772" y="982"/>
                </a:moveTo>
                <a:lnTo>
                  <a:pt x="1772" y="971"/>
                </a:lnTo>
                <a:lnTo>
                  <a:pt x="1784" y="971"/>
                </a:lnTo>
                <a:lnTo>
                  <a:pt x="1784" y="982"/>
                </a:lnTo>
                <a:lnTo>
                  <a:pt x="1772" y="982"/>
                </a:lnTo>
                <a:close/>
                <a:moveTo>
                  <a:pt x="1818" y="982"/>
                </a:moveTo>
                <a:lnTo>
                  <a:pt x="1818" y="971"/>
                </a:lnTo>
                <a:lnTo>
                  <a:pt x="1829" y="971"/>
                </a:lnTo>
                <a:lnTo>
                  <a:pt x="1829" y="982"/>
                </a:lnTo>
                <a:lnTo>
                  <a:pt x="1818" y="98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79" name="Freeform 1064"/>
          <p:cNvSpPr/>
          <p:nvPr/>
        </p:nvSpPr>
        <p:spPr>
          <a:xfrm>
            <a:off x="6191280" y="2541600"/>
            <a:ext cx="6427800" cy="4460760"/>
          </a:xfrm>
          <a:custGeom>
            <a:avLst/>
            <a:gdLst/>
            <a:ahLst/>
            <a:rect l="l" t="t" r="r" b="b"/>
            <a:pathLst>
              <a:path w="1687" h="1171">
                <a:moveTo>
                  <a:pt x="1677" y="822"/>
                </a:moveTo>
                <a:lnTo>
                  <a:pt x="1677" y="813"/>
                </a:lnTo>
                <a:lnTo>
                  <a:pt x="1687" y="813"/>
                </a:lnTo>
                <a:lnTo>
                  <a:pt x="1687" y="822"/>
                </a:lnTo>
                <a:lnTo>
                  <a:pt x="1677" y="822"/>
                </a:lnTo>
                <a:close/>
                <a:moveTo>
                  <a:pt x="1674" y="344"/>
                </a:moveTo>
                <a:lnTo>
                  <a:pt x="1674" y="353"/>
                </a:lnTo>
                <a:lnTo>
                  <a:pt x="1664" y="353"/>
                </a:lnTo>
                <a:lnTo>
                  <a:pt x="1664" y="344"/>
                </a:lnTo>
                <a:lnTo>
                  <a:pt x="1674" y="344"/>
                </a:lnTo>
                <a:close/>
                <a:moveTo>
                  <a:pt x="1634" y="344"/>
                </a:moveTo>
                <a:lnTo>
                  <a:pt x="1634" y="353"/>
                </a:lnTo>
                <a:lnTo>
                  <a:pt x="1624" y="353"/>
                </a:lnTo>
                <a:lnTo>
                  <a:pt x="1624" y="344"/>
                </a:lnTo>
                <a:lnTo>
                  <a:pt x="1634" y="344"/>
                </a:lnTo>
                <a:close/>
                <a:moveTo>
                  <a:pt x="1593" y="344"/>
                </a:moveTo>
                <a:lnTo>
                  <a:pt x="1593" y="353"/>
                </a:lnTo>
                <a:lnTo>
                  <a:pt x="1583" y="353"/>
                </a:lnTo>
                <a:lnTo>
                  <a:pt x="1583" y="344"/>
                </a:lnTo>
                <a:lnTo>
                  <a:pt x="1593" y="344"/>
                </a:lnTo>
                <a:close/>
                <a:moveTo>
                  <a:pt x="1552" y="344"/>
                </a:moveTo>
                <a:lnTo>
                  <a:pt x="1552" y="353"/>
                </a:lnTo>
                <a:lnTo>
                  <a:pt x="1543" y="353"/>
                </a:lnTo>
                <a:lnTo>
                  <a:pt x="1543" y="344"/>
                </a:lnTo>
                <a:lnTo>
                  <a:pt x="1552" y="344"/>
                </a:lnTo>
                <a:close/>
                <a:moveTo>
                  <a:pt x="1512" y="344"/>
                </a:moveTo>
                <a:lnTo>
                  <a:pt x="1512" y="353"/>
                </a:lnTo>
                <a:lnTo>
                  <a:pt x="1501" y="353"/>
                </a:lnTo>
                <a:lnTo>
                  <a:pt x="1501" y="344"/>
                </a:lnTo>
                <a:lnTo>
                  <a:pt x="1512" y="344"/>
                </a:lnTo>
                <a:close/>
                <a:moveTo>
                  <a:pt x="1471" y="344"/>
                </a:moveTo>
                <a:lnTo>
                  <a:pt x="1471" y="353"/>
                </a:lnTo>
                <a:lnTo>
                  <a:pt x="1461" y="353"/>
                </a:lnTo>
                <a:lnTo>
                  <a:pt x="1461" y="344"/>
                </a:lnTo>
                <a:lnTo>
                  <a:pt x="1471" y="344"/>
                </a:lnTo>
                <a:close/>
                <a:moveTo>
                  <a:pt x="1431" y="344"/>
                </a:moveTo>
                <a:lnTo>
                  <a:pt x="1431" y="353"/>
                </a:lnTo>
                <a:lnTo>
                  <a:pt x="1420" y="353"/>
                </a:lnTo>
                <a:lnTo>
                  <a:pt x="1420" y="344"/>
                </a:lnTo>
                <a:lnTo>
                  <a:pt x="1431" y="344"/>
                </a:lnTo>
                <a:close/>
                <a:moveTo>
                  <a:pt x="1390" y="344"/>
                </a:moveTo>
                <a:lnTo>
                  <a:pt x="1390" y="353"/>
                </a:lnTo>
                <a:lnTo>
                  <a:pt x="1380" y="353"/>
                </a:lnTo>
                <a:lnTo>
                  <a:pt x="1380" y="344"/>
                </a:lnTo>
                <a:lnTo>
                  <a:pt x="1390" y="344"/>
                </a:lnTo>
                <a:close/>
                <a:moveTo>
                  <a:pt x="1350" y="344"/>
                </a:moveTo>
                <a:lnTo>
                  <a:pt x="1350" y="353"/>
                </a:lnTo>
                <a:lnTo>
                  <a:pt x="1339" y="353"/>
                </a:lnTo>
                <a:lnTo>
                  <a:pt x="1339" y="344"/>
                </a:lnTo>
                <a:lnTo>
                  <a:pt x="1350" y="344"/>
                </a:lnTo>
                <a:close/>
                <a:moveTo>
                  <a:pt x="1308" y="344"/>
                </a:moveTo>
                <a:lnTo>
                  <a:pt x="1308" y="353"/>
                </a:lnTo>
                <a:lnTo>
                  <a:pt x="1298" y="353"/>
                </a:lnTo>
                <a:lnTo>
                  <a:pt x="1298" y="344"/>
                </a:lnTo>
                <a:lnTo>
                  <a:pt x="1308" y="344"/>
                </a:lnTo>
                <a:close/>
                <a:moveTo>
                  <a:pt x="1268" y="344"/>
                </a:moveTo>
                <a:lnTo>
                  <a:pt x="1268" y="353"/>
                </a:lnTo>
                <a:lnTo>
                  <a:pt x="1258" y="353"/>
                </a:lnTo>
                <a:lnTo>
                  <a:pt x="1258" y="344"/>
                </a:lnTo>
                <a:lnTo>
                  <a:pt x="1268" y="344"/>
                </a:lnTo>
                <a:close/>
                <a:moveTo>
                  <a:pt x="1227" y="344"/>
                </a:moveTo>
                <a:lnTo>
                  <a:pt x="1227" y="353"/>
                </a:lnTo>
                <a:lnTo>
                  <a:pt x="1217" y="353"/>
                </a:lnTo>
                <a:lnTo>
                  <a:pt x="1217" y="344"/>
                </a:lnTo>
                <a:lnTo>
                  <a:pt x="1227" y="344"/>
                </a:lnTo>
                <a:close/>
                <a:moveTo>
                  <a:pt x="1186" y="344"/>
                </a:moveTo>
                <a:lnTo>
                  <a:pt x="1186" y="353"/>
                </a:lnTo>
                <a:lnTo>
                  <a:pt x="1177" y="353"/>
                </a:lnTo>
                <a:lnTo>
                  <a:pt x="1177" y="344"/>
                </a:lnTo>
                <a:lnTo>
                  <a:pt x="1186" y="344"/>
                </a:lnTo>
                <a:close/>
                <a:moveTo>
                  <a:pt x="1146" y="344"/>
                </a:moveTo>
                <a:lnTo>
                  <a:pt x="1146" y="353"/>
                </a:lnTo>
                <a:lnTo>
                  <a:pt x="1135" y="353"/>
                </a:lnTo>
                <a:lnTo>
                  <a:pt x="1135" y="344"/>
                </a:lnTo>
                <a:lnTo>
                  <a:pt x="1146" y="344"/>
                </a:lnTo>
                <a:close/>
                <a:moveTo>
                  <a:pt x="1105" y="353"/>
                </a:moveTo>
                <a:lnTo>
                  <a:pt x="1105" y="353"/>
                </a:lnTo>
                <a:lnTo>
                  <a:pt x="1105" y="353"/>
                </a:lnTo>
                <a:lnTo>
                  <a:pt x="1099" y="353"/>
                </a:lnTo>
                <a:lnTo>
                  <a:pt x="1099" y="348"/>
                </a:lnTo>
                <a:lnTo>
                  <a:pt x="1099" y="339"/>
                </a:lnTo>
                <a:lnTo>
                  <a:pt x="1109" y="339"/>
                </a:lnTo>
                <a:lnTo>
                  <a:pt x="1109" y="348"/>
                </a:lnTo>
                <a:lnTo>
                  <a:pt x="1105" y="353"/>
                </a:lnTo>
                <a:close/>
                <a:moveTo>
                  <a:pt x="1109" y="308"/>
                </a:moveTo>
                <a:lnTo>
                  <a:pt x="1099" y="308"/>
                </a:lnTo>
                <a:lnTo>
                  <a:pt x="1099" y="298"/>
                </a:lnTo>
                <a:lnTo>
                  <a:pt x="1109" y="298"/>
                </a:lnTo>
                <a:lnTo>
                  <a:pt x="1109" y="308"/>
                </a:lnTo>
                <a:close/>
                <a:moveTo>
                  <a:pt x="1109" y="268"/>
                </a:moveTo>
                <a:lnTo>
                  <a:pt x="1099" y="268"/>
                </a:lnTo>
                <a:lnTo>
                  <a:pt x="1099" y="258"/>
                </a:lnTo>
                <a:lnTo>
                  <a:pt x="1109" y="258"/>
                </a:lnTo>
                <a:lnTo>
                  <a:pt x="1109" y="268"/>
                </a:lnTo>
                <a:close/>
                <a:moveTo>
                  <a:pt x="1109" y="227"/>
                </a:moveTo>
                <a:lnTo>
                  <a:pt x="1099" y="227"/>
                </a:lnTo>
                <a:lnTo>
                  <a:pt x="1099" y="217"/>
                </a:lnTo>
                <a:lnTo>
                  <a:pt x="1109" y="217"/>
                </a:lnTo>
                <a:lnTo>
                  <a:pt x="1109" y="227"/>
                </a:lnTo>
                <a:close/>
                <a:moveTo>
                  <a:pt x="1109" y="186"/>
                </a:moveTo>
                <a:lnTo>
                  <a:pt x="1099" y="186"/>
                </a:lnTo>
                <a:lnTo>
                  <a:pt x="1099" y="177"/>
                </a:lnTo>
                <a:lnTo>
                  <a:pt x="1109" y="177"/>
                </a:lnTo>
                <a:lnTo>
                  <a:pt x="1109" y="186"/>
                </a:lnTo>
                <a:close/>
                <a:moveTo>
                  <a:pt x="1109" y="146"/>
                </a:moveTo>
                <a:lnTo>
                  <a:pt x="1099" y="146"/>
                </a:lnTo>
                <a:lnTo>
                  <a:pt x="1099" y="135"/>
                </a:lnTo>
                <a:lnTo>
                  <a:pt x="1109" y="135"/>
                </a:lnTo>
                <a:lnTo>
                  <a:pt x="1109" y="146"/>
                </a:lnTo>
                <a:close/>
                <a:moveTo>
                  <a:pt x="1109" y="105"/>
                </a:moveTo>
                <a:lnTo>
                  <a:pt x="1099" y="105"/>
                </a:lnTo>
                <a:lnTo>
                  <a:pt x="1099" y="95"/>
                </a:lnTo>
                <a:lnTo>
                  <a:pt x="1109" y="95"/>
                </a:lnTo>
                <a:lnTo>
                  <a:pt x="1109" y="105"/>
                </a:lnTo>
                <a:close/>
                <a:moveTo>
                  <a:pt x="1109" y="64"/>
                </a:moveTo>
                <a:lnTo>
                  <a:pt x="1109" y="64"/>
                </a:lnTo>
                <a:lnTo>
                  <a:pt x="1109" y="64"/>
                </a:lnTo>
                <a:lnTo>
                  <a:pt x="1108" y="62"/>
                </a:lnTo>
                <a:lnTo>
                  <a:pt x="1108" y="61"/>
                </a:lnTo>
                <a:lnTo>
                  <a:pt x="1108" y="61"/>
                </a:lnTo>
                <a:lnTo>
                  <a:pt x="1108" y="60"/>
                </a:lnTo>
                <a:lnTo>
                  <a:pt x="1108" y="60"/>
                </a:lnTo>
                <a:lnTo>
                  <a:pt x="1108" y="59"/>
                </a:lnTo>
                <a:lnTo>
                  <a:pt x="1108" y="59"/>
                </a:lnTo>
                <a:lnTo>
                  <a:pt x="1108" y="58"/>
                </a:lnTo>
                <a:lnTo>
                  <a:pt x="1108" y="57"/>
                </a:lnTo>
                <a:lnTo>
                  <a:pt x="1108" y="57"/>
                </a:lnTo>
                <a:lnTo>
                  <a:pt x="1108" y="55"/>
                </a:lnTo>
                <a:lnTo>
                  <a:pt x="1107" y="55"/>
                </a:lnTo>
                <a:lnTo>
                  <a:pt x="1107" y="54"/>
                </a:lnTo>
                <a:lnTo>
                  <a:pt x="1107" y="54"/>
                </a:lnTo>
                <a:lnTo>
                  <a:pt x="1107" y="53"/>
                </a:lnTo>
                <a:lnTo>
                  <a:pt x="1098" y="55"/>
                </a:lnTo>
                <a:lnTo>
                  <a:pt x="1098" y="57"/>
                </a:lnTo>
                <a:lnTo>
                  <a:pt x="1098" y="57"/>
                </a:lnTo>
                <a:lnTo>
                  <a:pt x="1098" y="57"/>
                </a:lnTo>
                <a:lnTo>
                  <a:pt x="1098" y="58"/>
                </a:lnTo>
                <a:lnTo>
                  <a:pt x="1098" y="58"/>
                </a:lnTo>
                <a:lnTo>
                  <a:pt x="1098" y="59"/>
                </a:lnTo>
                <a:lnTo>
                  <a:pt x="1098" y="59"/>
                </a:lnTo>
                <a:lnTo>
                  <a:pt x="1098" y="60"/>
                </a:lnTo>
                <a:lnTo>
                  <a:pt x="1099" y="60"/>
                </a:lnTo>
                <a:lnTo>
                  <a:pt x="1099" y="61"/>
                </a:lnTo>
                <a:lnTo>
                  <a:pt x="1099" y="62"/>
                </a:lnTo>
                <a:lnTo>
                  <a:pt x="1099" y="62"/>
                </a:lnTo>
                <a:lnTo>
                  <a:pt x="1099" y="64"/>
                </a:lnTo>
                <a:lnTo>
                  <a:pt x="1099" y="64"/>
                </a:lnTo>
                <a:lnTo>
                  <a:pt x="1099" y="65"/>
                </a:lnTo>
                <a:lnTo>
                  <a:pt x="1099" y="65"/>
                </a:lnTo>
                <a:lnTo>
                  <a:pt x="1099" y="65"/>
                </a:lnTo>
                <a:lnTo>
                  <a:pt x="1109" y="64"/>
                </a:lnTo>
                <a:close/>
                <a:moveTo>
                  <a:pt x="1093" y="24"/>
                </a:moveTo>
                <a:lnTo>
                  <a:pt x="1093" y="24"/>
                </a:lnTo>
                <a:lnTo>
                  <a:pt x="1092" y="24"/>
                </a:lnTo>
                <a:lnTo>
                  <a:pt x="1092" y="24"/>
                </a:lnTo>
                <a:lnTo>
                  <a:pt x="1092" y="22"/>
                </a:lnTo>
                <a:lnTo>
                  <a:pt x="1091" y="22"/>
                </a:lnTo>
                <a:lnTo>
                  <a:pt x="1091" y="22"/>
                </a:lnTo>
                <a:lnTo>
                  <a:pt x="1091" y="21"/>
                </a:lnTo>
                <a:lnTo>
                  <a:pt x="1089" y="21"/>
                </a:lnTo>
                <a:lnTo>
                  <a:pt x="1089" y="20"/>
                </a:lnTo>
                <a:lnTo>
                  <a:pt x="1089" y="20"/>
                </a:lnTo>
                <a:lnTo>
                  <a:pt x="1088" y="20"/>
                </a:lnTo>
                <a:lnTo>
                  <a:pt x="1088" y="19"/>
                </a:lnTo>
                <a:lnTo>
                  <a:pt x="1087" y="19"/>
                </a:lnTo>
                <a:lnTo>
                  <a:pt x="1087" y="19"/>
                </a:lnTo>
                <a:lnTo>
                  <a:pt x="1087" y="18"/>
                </a:lnTo>
                <a:lnTo>
                  <a:pt x="1086" y="18"/>
                </a:lnTo>
                <a:lnTo>
                  <a:pt x="1086" y="18"/>
                </a:lnTo>
                <a:lnTo>
                  <a:pt x="1086" y="17"/>
                </a:lnTo>
                <a:lnTo>
                  <a:pt x="1085" y="17"/>
                </a:lnTo>
                <a:lnTo>
                  <a:pt x="1085" y="17"/>
                </a:lnTo>
                <a:lnTo>
                  <a:pt x="1078" y="25"/>
                </a:lnTo>
                <a:lnTo>
                  <a:pt x="1079" y="25"/>
                </a:lnTo>
                <a:lnTo>
                  <a:pt x="1079" y="25"/>
                </a:lnTo>
                <a:lnTo>
                  <a:pt x="1079" y="25"/>
                </a:lnTo>
                <a:lnTo>
                  <a:pt x="1080" y="26"/>
                </a:lnTo>
                <a:lnTo>
                  <a:pt x="1080" y="26"/>
                </a:lnTo>
                <a:lnTo>
                  <a:pt x="1080" y="26"/>
                </a:lnTo>
                <a:lnTo>
                  <a:pt x="1081" y="26"/>
                </a:lnTo>
                <a:lnTo>
                  <a:pt x="1081" y="27"/>
                </a:lnTo>
                <a:lnTo>
                  <a:pt x="1081" y="27"/>
                </a:lnTo>
                <a:lnTo>
                  <a:pt x="1081" y="27"/>
                </a:lnTo>
                <a:lnTo>
                  <a:pt x="1082" y="28"/>
                </a:lnTo>
                <a:lnTo>
                  <a:pt x="1082" y="28"/>
                </a:lnTo>
                <a:lnTo>
                  <a:pt x="1082" y="28"/>
                </a:lnTo>
                <a:lnTo>
                  <a:pt x="1084" y="28"/>
                </a:lnTo>
                <a:lnTo>
                  <a:pt x="1084" y="30"/>
                </a:lnTo>
                <a:lnTo>
                  <a:pt x="1084" y="30"/>
                </a:lnTo>
                <a:lnTo>
                  <a:pt x="1084" y="30"/>
                </a:lnTo>
                <a:lnTo>
                  <a:pt x="1085" y="31"/>
                </a:lnTo>
                <a:lnTo>
                  <a:pt x="1085" y="31"/>
                </a:lnTo>
                <a:lnTo>
                  <a:pt x="1085" y="31"/>
                </a:lnTo>
                <a:lnTo>
                  <a:pt x="1093" y="24"/>
                </a:lnTo>
                <a:close/>
                <a:moveTo>
                  <a:pt x="1055" y="2"/>
                </a:moveTo>
                <a:lnTo>
                  <a:pt x="1055" y="2"/>
                </a:lnTo>
                <a:lnTo>
                  <a:pt x="1055" y="2"/>
                </a:lnTo>
                <a:lnTo>
                  <a:pt x="1054" y="2"/>
                </a:lnTo>
                <a:lnTo>
                  <a:pt x="1054" y="1"/>
                </a:lnTo>
                <a:lnTo>
                  <a:pt x="1053" y="1"/>
                </a:lnTo>
                <a:lnTo>
                  <a:pt x="1053" y="1"/>
                </a:lnTo>
                <a:lnTo>
                  <a:pt x="1052" y="1"/>
                </a:lnTo>
                <a:lnTo>
                  <a:pt x="1052" y="1"/>
                </a:lnTo>
                <a:lnTo>
                  <a:pt x="1051" y="1"/>
                </a:lnTo>
                <a:lnTo>
                  <a:pt x="1051" y="1"/>
                </a:lnTo>
                <a:lnTo>
                  <a:pt x="1049" y="1"/>
                </a:lnTo>
                <a:lnTo>
                  <a:pt x="1049" y="1"/>
                </a:lnTo>
                <a:lnTo>
                  <a:pt x="1048" y="1"/>
                </a:lnTo>
                <a:lnTo>
                  <a:pt x="1048" y="1"/>
                </a:lnTo>
                <a:lnTo>
                  <a:pt x="1047" y="1"/>
                </a:lnTo>
                <a:lnTo>
                  <a:pt x="1047" y="1"/>
                </a:lnTo>
                <a:lnTo>
                  <a:pt x="1047" y="0"/>
                </a:lnTo>
                <a:lnTo>
                  <a:pt x="1046" y="0"/>
                </a:lnTo>
                <a:lnTo>
                  <a:pt x="1046" y="0"/>
                </a:lnTo>
                <a:lnTo>
                  <a:pt x="1045" y="0"/>
                </a:lnTo>
                <a:lnTo>
                  <a:pt x="1045" y="0"/>
                </a:lnTo>
                <a:lnTo>
                  <a:pt x="1044" y="11"/>
                </a:lnTo>
                <a:lnTo>
                  <a:pt x="1044" y="11"/>
                </a:lnTo>
                <a:lnTo>
                  <a:pt x="1045" y="11"/>
                </a:lnTo>
                <a:lnTo>
                  <a:pt x="1045" y="11"/>
                </a:lnTo>
                <a:lnTo>
                  <a:pt x="1046" y="11"/>
                </a:lnTo>
                <a:lnTo>
                  <a:pt x="1046" y="11"/>
                </a:lnTo>
                <a:lnTo>
                  <a:pt x="1046" y="11"/>
                </a:lnTo>
                <a:lnTo>
                  <a:pt x="1047" y="11"/>
                </a:lnTo>
                <a:lnTo>
                  <a:pt x="1047" y="11"/>
                </a:lnTo>
                <a:lnTo>
                  <a:pt x="1048" y="11"/>
                </a:lnTo>
                <a:lnTo>
                  <a:pt x="1048" y="11"/>
                </a:lnTo>
                <a:lnTo>
                  <a:pt x="1049" y="11"/>
                </a:lnTo>
                <a:lnTo>
                  <a:pt x="1049" y="12"/>
                </a:lnTo>
                <a:lnTo>
                  <a:pt x="1049" y="12"/>
                </a:lnTo>
                <a:lnTo>
                  <a:pt x="1051" y="12"/>
                </a:lnTo>
                <a:lnTo>
                  <a:pt x="1051" y="12"/>
                </a:lnTo>
                <a:lnTo>
                  <a:pt x="1052" y="12"/>
                </a:lnTo>
                <a:lnTo>
                  <a:pt x="1052" y="12"/>
                </a:lnTo>
                <a:lnTo>
                  <a:pt x="1052" y="12"/>
                </a:lnTo>
                <a:lnTo>
                  <a:pt x="1053" y="12"/>
                </a:lnTo>
                <a:lnTo>
                  <a:pt x="1053" y="12"/>
                </a:lnTo>
                <a:lnTo>
                  <a:pt x="1053" y="12"/>
                </a:lnTo>
                <a:lnTo>
                  <a:pt x="1055" y="2"/>
                </a:lnTo>
                <a:close/>
                <a:moveTo>
                  <a:pt x="1013" y="5"/>
                </a:moveTo>
                <a:lnTo>
                  <a:pt x="1013" y="5"/>
                </a:lnTo>
                <a:lnTo>
                  <a:pt x="1012" y="5"/>
                </a:lnTo>
                <a:lnTo>
                  <a:pt x="1012" y="5"/>
                </a:lnTo>
                <a:lnTo>
                  <a:pt x="1011" y="5"/>
                </a:lnTo>
                <a:lnTo>
                  <a:pt x="1011" y="5"/>
                </a:lnTo>
                <a:lnTo>
                  <a:pt x="1009" y="6"/>
                </a:lnTo>
                <a:lnTo>
                  <a:pt x="1009" y="6"/>
                </a:lnTo>
                <a:lnTo>
                  <a:pt x="1008" y="6"/>
                </a:lnTo>
                <a:lnTo>
                  <a:pt x="1008" y="6"/>
                </a:lnTo>
                <a:lnTo>
                  <a:pt x="1007" y="6"/>
                </a:lnTo>
                <a:lnTo>
                  <a:pt x="1007" y="7"/>
                </a:lnTo>
                <a:lnTo>
                  <a:pt x="1007" y="7"/>
                </a:lnTo>
                <a:lnTo>
                  <a:pt x="1006" y="7"/>
                </a:lnTo>
                <a:lnTo>
                  <a:pt x="1006" y="7"/>
                </a:lnTo>
                <a:lnTo>
                  <a:pt x="1005" y="7"/>
                </a:lnTo>
                <a:lnTo>
                  <a:pt x="1005" y="8"/>
                </a:lnTo>
                <a:lnTo>
                  <a:pt x="1004" y="8"/>
                </a:lnTo>
                <a:lnTo>
                  <a:pt x="1004" y="8"/>
                </a:lnTo>
                <a:lnTo>
                  <a:pt x="1004" y="8"/>
                </a:lnTo>
                <a:lnTo>
                  <a:pt x="1002" y="8"/>
                </a:lnTo>
                <a:lnTo>
                  <a:pt x="1007" y="18"/>
                </a:lnTo>
                <a:lnTo>
                  <a:pt x="1007" y="18"/>
                </a:lnTo>
                <a:lnTo>
                  <a:pt x="1008" y="18"/>
                </a:lnTo>
                <a:lnTo>
                  <a:pt x="1008" y="18"/>
                </a:lnTo>
                <a:lnTo>
                  <a:pt x="1009" y="17"/>
                </a:lnTo>
                <a:lnTo>
                  <a:pt x="1009" y="17"/>
                </a:lnTo>
                <a:lnTo>
                  <a:pt x="1009" y="17"/>
                </a:lnTo>
                <a:lnTo>
                  <a:pt x="1011" y="17"/>
                </a:lnTo>
                <a:lnTo>
                  <a:pt x="1011" y="17"/>
                </a:lnTo>
                <a:lnTo>
                  <a:pt x="1012" y="15"/>
                </a:lnTo>
                <a:lnTo>
                  <a:pt x="1012" y="15"/>
                </a:lnTo>
                <a:lnTo>
                  <a:pt x="1012" y="15"/>
                </a:lnTo>
                <a:lnTo>
                  <a:pt x="1013" y="15"/>
                </a:lnTo>
                <a:lnTo>
                  <a:pt x="1013" y="15"/>
                </a:lnTo>
                <a:lnTo>
                  <a:pt x="1013" y="15"/>
                </a:lnTo>
                <a:lnTo>
                  <a:pt x="1014" y="14"/>
                </a:lnTo>
                <a:lnTo>
                  <a:pt x="1014" y="14"/>
                </a:lnTo>
                <a:lnTo>
                  <a:pt x="1015" y="14"/>
                </a:lnTo>
                <a:lnTo>
                  <a:pt x="1015" y="14"/>
                </a:lnTo>
                <a:lnTo>
                  <a:pt x="1015" y="14"/>
                </a:lnTo>
                <a:lnTo>
                  <a:pt x="1017" y="14"/>
                </a:lnTo>
                <a:lnTo>
                  <a:pt x="1013" y="5"/>
                </a:lnTo>
                <a:close/>
                <a:moveTo>
                  <a:pt x="975" y="24"/>
                </a:moveTo>
                <a:lnTo>
                  <a:pt x="980" y="32"/>
                </a:lnTo>
                <a:lnTo>
                  <a:pt x="972" y="37"/>
                </a:lnTo>
                <a:lnTo>
                  <a:pt x="967" y="28"/>
                </a:lnTo>
                <a:lnTo>
                  <a:pt x="975" y="24"/>
                </a:lnTo>
                <a:close/>
                <a:moveTo>
                  <a:pt x="940" y="42"/>
                </a:moveTo>
                <a:lnTo>
                  <a:pt x="945" y="51"/>
                </a:lnTo>
                <a:lnTo>
                  <a:pt x="935" y="55"/>
                </a:lnTo>
                <a:lnTo>
                  <a:pt x="931" y="47"/>
                </a:lnTo>
                <a:lnTo>
                  <a:pt x="940" y="42"/>
                </a:lnTo>
                <a:close/>
                <a:moveTo>
                  <a:pt x="904" y="61"/>
                </a:moveTo>
                <a:lnTo>
                  <a:pt x="908" y="71"/>
                </a:lnTo>
                <a:lnTo>
                  <a:pt x="900" y="75"/>
                </a:lnTo>
                <a:lnTo>
                  <a:pt x="895" y="66"/>
                </a:lnTo>
                <a:lnTo>
                  <a:pt x="904" y="61"/>
                </a:lnTo>
                <a:close/>
                <a:moveTo>
                  <a:pt x="868" y="80"/>
                </a:moveTo>
                <a:lnTo>
                  <a:pt x="873" y="90"/>
                </a:lnTo>
                <a:lnTo>
                  <a:pt x="864" y="94"/>
                </a:lnTo>
                <a:lnTo>
                  <a:pt x="859" y="85"/>
                </a:lnTo>
                <a:lnTo>
                  <a:pt x="868" y="80"/>
                </a:lnTo>
                <a:close/>
                <a:moveTo>
                  <a:pt x="832" y="99"/>
                </a:moveTo>
                <a:lnTo>
                  <a:pt x="836" y="108"/>
                </a:lnTo>
                <a:lnTo>
                  <a:pt x="828" y="113"/>
                </a:lnTo>
                <a:lnTo>
                  <a:pt x="824" y="105"/>
                </a:lnTo>
                <a:lnTo>
                  <a:pt x="832" y="99"/>
                </a:lnTo>
                <a:close/>
                <a:moveTo>
                  <a:pt x="796" y="119"/>
                </a:moveTo>
                <a:lnTo>
                  <a:pt x="801" y="127"/>
                </a:lnTo>
                <a:lnTo>
                  <a:pt x="792" y="132"/>
                </a:lnTo>
                <a:lnTo>
                  <a:pt x="787" y="124"/>
                </a:lnTo>
                <a:lnTo>
                  <a:pt x="796" y="119"/>
                </a:lnTo>
                <a:close/>
                <a:moveTo>
                  <a:pt x="760" y="138"/>
                </a:moveTo>
                <a:lnTo>
                  <a:pt x="765" y="147"/>
                </a:lnTo>
                <a:lnTo>
                  <a:pt x="756" y="152"/>
                </a:lnTo>
                <a:lnTo>
                  <a:pt x="752" y="142"/>
                </a:lnTo>
                <a:lnTo>
                  <a:pt x="760" y="138"/>
                </a:lnTo>
                <a:close/>
                <a:moveTo>
                  <a:pt x="725" y="157"/>
                </a:moveTo>
                <a:lnTo>
                  <a:pt x="729" y="166"/>
                </a:lnTo>
                <a:lnTo>
                  <a:pt x="720" y="171"/>
                </a:lnTo>
                <a:lnTo>
                  <a:pt x="715" y="161"/>
                </a:lnTo>
                <a:lnTo>
                  <a:pt x="725" y="157"/>
                </a:lnTo>
                <a:close/>
                <a:moveTo>
                  <a:pt x="688" y="175"/>
                </a:moveTo>
                <a:lnTo>
                  <a:pt x="693" y="185"/>
                </a:lnTo>
                <a:lnTo>
                  <a:pt x="685" y="189"/>
                </a:lnTo>
                <a:lnTo>
                  <a:pt x="680" y="180"/>
                </a:lnTo>
                <a:lnTo>
                  <a:pt x="688" y="175"/>
                </a:lnTo>
                <a:close/>
                <a:moveTo>
                  <a:pt x="653" y="195"/>
                </a:moveTo>
                <a:lnTo>
                  <a:pt x="658" y="204"/>
                </a:lnTo>
                <a:lnTo>
                  <a:pt x="648" y="208"/>
                </a:lnTo>
                <a:lnTo>
                  <a:pt x="643" y="200"/>
                </a:lnTo>
                <a:lnTo>
                  <a:pt x="653" y="195"/>
                </a:lnTo>
                <a:close/>
                <a:moveTo>
                  <a:pt x="616" y="214"/>
                </a:moveTo>
                <a:lnTo>
                  <a:pt x="621" y="222"/>
                </a:lnTo>
                <a:lnTo>
                  <a:pt x="613" y="228"/>
                </a:lnTo>
                <a:lnTo>
                  <a:pt x="607" y="219"/>
                </a:lnTo>
                <a:lnTo>
                  <a:pt x="616" y="214"/>
                </a:lnTo>
                <a:close/>
                <a:moveTo>
                  <a:pt x="581" y="233"/>
                </a:moveTo>
                <a:lnTo>
                  <a:pt x="586" y="242"/>
                </a:lnTo>
                <a:lnTo>
                  <a:pt x="576" y="247"/>
                </a:lnTo>
                <a:lnTo>
                  <a:pt x="572" y="238"/>
                </a:lnTo>
                <a:lnTo>
                  <a:pt x="581" y="233"/>
                </a:lnTo>
                <a:close/>
                <a:moveTo>
                  <a:pt x="545" y="252"/>
                </a:moveTo>
                <a:lnTo>
                  <a:pt x="549" y="261"/>
                </a:lnTo>
                <a:lnTo>
                  <a:pt x="541" y="266"/>
                </a:lnTo>
                <a:lnTo>
                  <a:pt x="535" y="256"/>
                </a:lnTo>
                <a:lnTo>
                  <a:pt x="545" y="252"/>
                </a:lnTo>
                <a:close/>
                <a:moveTo>
                  <a:pt x="509" y="272"/>
                </a:moveTo>
                <a:lnTo>
                  <a:pt x="514" y="280"/>
                </a:lnTo>
                <a:lnTo>
                  <a:pt x="505" y="285"/>
                </a:lnTo>
                <a:lnTo>
                  <a:pt x="500" y="276"/>
                </a:lnTo>
                <a:lnTo>
                  <a:pt x="509" y="272"/>
                </a:lnTo>
                <a:close/>
                <a:moveTo>
                  <a:pt x="473" y="291"/>
                </a:moveTo>
                <a:lnTo>
                  <a:pt x="477" y="299"/>
                </a:lnTo>
                <a:lnTo>
                  <a:pt x="468" y="304"/>
                </a:lnTo>
                <a:lnTo>
                  <a:pt x="463" y="295"/>
                </a:lnTo>
                <a:lnTo>
                  <a:pt x="473" y="291"/>
                </a:lnTo>
                <a:close/>
                <a:moveTo>
                  <a:pt x="437" y="309"/>
                </a:moveTo>
                <a:lnTo>
                  <a:pt x="442" y="319"/>
                </a:lnTo>
                <a:lnTo>
                  <a:pt x="433" y="324"/>
                </a:lnTo>
                <a:lnTo>
                  <a:pt x="428" y="314"/>
                </a:lnTo>
                <a:lnTo>
                  <a:pt x="437" y="309"/>
                </a:lnTo>
                <a:close/>
                <a:moveTo>
                  <a:pt x="401" y="328"/>
                </a:moveTo>
                <a:lnTo>
                  <a:pt x="406" y="338"/>
                </a:lnTo>
                <a:lnTo>
                  <a:pt x="396" y="342"/>
                </a:lnTo>
                <a:lnTo>
                  <a:pt x="392" y="333"/>
                </a:lnTo>
                <a:lnTo>
                  <a:pt x="401" y="328"/>
                </a:lnTo>
                <a:close/>
                <a:moveTo>
                  <a:pt x="366" y="347"/>
                </a:moveTo>
                <a:lnTo>
                  <a:pt x="370" y="356"/>
                </a:lnTo>
                <a:lnTo>
                  <a:pt x="361" y="361"/>
                </a:lnTo>
                <a:lnTo>
                  <a:pt x="356" y="353"/>
                </a:lnTo>
                <a:lnTo>
                  <a:pt x="366" y="347"/>
                </a:lnTo>
                <a:close/>
                <a:moveTo>
                  <a:pt x="329" y="367"/>
                </a:moveTo>
                <a:lnTo>
                  <a:pt x="334" y="375"/>
                </a:lnTo>
                <a:lnTo>
                  <a:pt x="324" y="380"/>
                </a:lnTo>
                <a:lnTo>
                  <a:pt x="320" y="372"/>
                </a:lnTo>
                <a:lnTo>
                  <a:pt x="329" y="367"/>
                </a:lnTo>
                <a:close/>
                <a:moveTo>
                  <a:pt x="294" y="386"/>
                </a:moveTo>
                <a:lnTo>
                  <a:pt x="299" y="395"/>
                </a:lnTo>
                <a:lnTo>
                  <a:pt x="289" y="400"/>
                </a:lnTo>
                <a:lnTo>
                  <a:pt x="284" y="391"/>
                </a:lnTo>
                <a:lnTo>
                  <a:pt x="294" y="386"/>
                </a:lnTo>
                <a:close/>
                <a:moveTo>
                  <a:pt x="257" y="405"/>
                </a:moveTo>
                <a:lnTo>
                  <a:pt x="262" y="414"/>
                </a:lnTo>
                <a:lnTo>
                  <a:pt x="253" y="419"/>
                </a:lnTo>
                <a:lnTo>
                  <a:pt x="248" y="409"/>
                </a:lnTo>
                <a:lnTo>
                  <a:pt x="257" y="405"/>
                </a:lnTo>
                <a:close/>
                <a:moveTo>
                  <a:pt x="221" y="423"/>
                </a:moveTo>
                <a:lnTo>
                  <a:pt x="227" y="433"/>
                </a:lnTo>
                <a:lnTo>
                  <a:pt x="217" y="438"/>
                </a:lnTo>
                <a:lnTo>
                  <a:pt x="213" y="428"/>
                </a:lnTo>
                <a:lnTo>
                  <a:pt x="221" y="423"/>
                </a:lnTo>
                <a:close/>
                <a:moveTo>
                  <a:pt x="186" y="443"/>
                </a:moveTo>
                <a:lnTo>
                  <a:pt x="190" y="452"/>
                </a:lnTo>
                <a:lnTo>
                  <a:pt x="181" y="456"/>
                </a:lnTo>
                <a:lnTo>
                  <a:pt x="176" y="448"/>
                </a:lnTo>
                <a:lnTo>
                  <a:pt x="186" y="443"/>
                </a:lnTo>
                <a:close/>
                <a:moveTo>
                  <a:pt x="149" y="462"/>
                </a:moveTo>
                <a:lnTo>
                  <a:pt x="155" y="471"/>
                </a:lnTo>
                <a:lnTo>
                  <a:pt x="146" y="476"/>
                </a:lnTo>
                <a:lnTo>
                  <a:pt x="141" y="467"/>
                </a:lnTo>
                <a:lnTo>
                  <a:pt x="149" y="462"/>
                </a:lnTo>
                <a:close/>
                <a:moveTo>
                  <a:pt x="114" y="481"/>
                </a:moveTo>
                <a:lnTo>
                  <a:pt x="119" y="491"/>
                </a:lnTo>
                <a:lnTo>
                  <a:pt x="109" y="495"/>
                </a:lnTo>
                <a:lnTo>
                  <a:pt x="104" y="486"/>
                </a:lnTo>
                <a:lnTo>
                  <a:pt x="114" y="481"/>
                </a:lnTo>
                <a:close/>
                <a:moveTo>
                  <a:pt x="77" y="500"/>
                </a:moveTo>
                <a:lnTo>
                  <a:pt x="82" y="509"/>
                </a:lnTo>
                <a:lnTo>
                  <a:pt x="74" y="514"/>
                </a:lnTo>
                <a:lnTo>
                  <a:pt x="69" y="505"/>
                </a:lnTo>
                <a:lnTo>
                  <a:pt x="77" y="500"/>
                </a:lnTo>
                <a:close/>
                <a:moveTo>
                  <a:pt x="42" y="520"/>
                </a:moveTo>
                <a:lnTo>
                  <a:pt x="47" y="528"/>
                </a:lnTo>
                <a:lnTo>
                  <a:pt x="44" y="529"/>
                </a:lnTo>
                <a:lnTo>
                  <a:pt x="44" y="529"/>
                </a:lnTo>
                <a:lnTo>
                  <a:pt x="43" y="530"/>
                </a:lnTo>
                <a:lnTo>
                  <a:pt x="43" y="530"/>
                </a:lnTo>
                <a:lnTo>
                  <a:pt x="42" y="530"/>
                </a:lnTo>
                <a:lnTo>
                  <a:pt x="42" y="530"/>
                </a:lnTo>
                <a:lnTo>
                  <a:pt x="42" y="532"/>
                </a:lnTo>
                <a:lnTo>
                  <a:pt x="41" y="532"/>
                </a:lnTo>
                <a:lnTo>
                  <a:pt x="41" y="532"/>
                </a:lnTo>
                <a:lnTo>
                  <a:pt x="40" y="532"/>
                </a:lnTo>
                <a:lnTo>
                  <a:pt x="40" y="533"/>
                </a:lnTo>
                <a:lnTo>
                  <a:pt x="40" y="533"/>
                </a:lnTo>
                <a:lnTo>
                  <a:pt x="39" y="533"/>
                </a:lnTo>
                <a:lnTo>
                  <a:pt x="39" y="533"/>
                </a:lnTo>
                <a:lnTo>
                  <a:pt x="33" y="525"/>
                </a:lnTo>
                <a:lnTo>
                  <a:pt x="33" y="525"/>
                </a:lnTo>
                <a:lnTo>
                  <a:pt x="34" y="525"/>
                </a:lnTo>
                <a:lnTo>
                  <a:pt x="34" y="523"/>
                </a:lnTo>
                <a:lnTo>
                  <a:pt x="35" y="523"/>
                </a:lnTo>
                <a:lnTo>
                  <a:pt x="35" y="523"/>
                </a:lnTo>
                <a:lnTo>
                  <a:pt x="36" y="522"/>
                </a:lnTo>
                <a:lnTo>
                  <a:pt x="36" y="522"/>
                </a:lnTo>
                <a:lnTo>
                  <a:pt x="37" y="522"/>
                </a:lnTo>
                <a:lnTo>
                  <a:pt x="37" y="522"/>
                </a:lnTo>
                <a:lnTo>
                  <a:pt x="39" y="521"/>
                </a:lnTo>
                <a:lnTo>
                  <a:pt x="39" y="521"/>
                </a:lnTo>
                <a:lnTo>
                  <a:pt x="40" y="521"/>
                </a:lnTo>
                <a:lnTo>
                  <a:pt x="40" y="520"/>
                </a:lnTo>
                <a:lnTo>
                  <a:pt x="42" y="520"/>
                </a:lnTo>
                <a:close/>
                <a:moveTo>
                  <a:pt x="10" y="548"/>
                </a:moveTo>
                <a:lnTo>
                  <a:pt x="10" y="548"/>
                </a:lnTo>
                <a:lnTo>
                  <a:pt x="10" y="549"/>
                </a:lnTo>
                <a:lnTo>
                  <a:pt x="9" y="549"/>
                </a:lnTo>
                <a:lnTo>
                  <a:pt x="9" y="550"/>
                </a:lnTo>
                <a:lnTo>
                  <a:pt x="9" y="550"/>
                </a:lnTo>
                <a:lnTo>
                  <a:pt x="9" y="552"/>
                </a:lnTo>
                <a:lnTo>
                  <a:pt x="8" y="552"/>
                </a:lnTo>
                <a:lnTo>
                  <a:pt x="8" y="552"/>
                </a:lnTo>
                <a:lnTo>
                  <a:pt x="8" y="553"/>
                </a:lnTo>
                <a:lnTo>
                  <a:pt x="8" y="553"/>
                </a:lnTo>
                <a:lnTo>
                  <a:pt x="8" y="554"/>
                </a:lnTo>
                <a:lnTo>
                  <a:pt x="7" y="554"/>
                </a:lnTo>
                <a:lnTo>
                  <a:pt x="7" y="555"/>
                </a:lnTo>
                <a:lnTo>
                  <a:pt x="7" y="555"/>
                </a:lnTo>
                <a:lnTo>
                  <a:pt x="7" y="556"/>
                </a:lnTo>
                <a:lnTo>
                  <a:pt x="6" y="556"/>
                </a:lnTo>
                <a:lnTo>
                  <a:pt x="6" y="558"/>
                </a:lnTo>
                <a:lnTo>
                  <a:pt x="6" y="558"/>
                </a:lnTo>
                <a:lnTo>
                  <a:pt x="6" y="558"/>
                </a:lnTo>
                <a:lnTo>
                  <a:pt x="15" y="562"/>
                </a:lnTo>
                <a:lnTo>
                  <a:pt x="15" y="561"/>
                </a:lnTo>
                <a:lnTo>
                  <a:pt x="15" y="561"/>
                </a:lnTo>
                <a:lnTo>
                  <a:pt x="15" y="561"/>
                </a:lnTo>
                <a:lnTo>
                  <a:pt x="16" y="560"/>
                </a:lnTo>
                <a:lnTo>
                  <a:pt x="16" y="560"/>
                </a:lnTo>
                <a:lnTo>
                  <a:pt x="16" y="559"/>
                </a:lnTo>
                <a:lnTo>
                  <a:pt x="16" y="559"/>
                </a:lnTo>
                <a:lnTo>
                  <a:pt x="16" y="559"/>
                </a:lnTo>
                <a:lnTo>
                  <a:pt x="16" y="558"/>
                </a:lnTo>
                <a:lnTo>
                  <a:pt x="17" y="558"/>
                </a:lnTo>
                <a:lnTo>
                  <a:pt x="17" y="556"/>
                </a:lnTo>
                <a:lnTo>
                  <a:pt x="17" y="556"/>
                </a:lnTo>
                <a:lnTo>
                  <a:pt x="17" y="556"/>
                </a:lnTo>
                <a:lnTo>
                  <a:pt x="17" y="555"/>
                </a:lnTo>
                <a:lnTo>
                  <a:pt x="18" y="555"/>
                </a:lnTo>
                <a:lnTo>
                  <a:pt x="18" y="555"/>
                </a:lnTo>
                <a:lnTo>
                  <a:pt x="18" y="554"/>
                </a:lnTo>
                <a:lnTo>
                  <a:pt x="18" y="554"/>
                </a:lnTo>
                <a:lnTo>
                  <a:pt x="18" y="554"/>
                </a:lnTo>
                <a:lnTo>
                  <a:pt x="10" y="548"/>
                </a:lnTo>
                <a:close/>
                <a:moveTo>
                  <a:pt x="0" y="590"/>
                </a:moveTo>
                <a:lnTo>
                  <a:pt x="0" y="590"/>
                </a:lnTo>
                <a:lnTo>
                  <a:pt x="0" y="590"/>
                </a:lnTo>
                <a:lnTo>
                  <a:pt x="0" y="592"/>
                </a:lnTo>
                <a:lnTo>
                  <a:pt x="0" y="592"/>
                </a:lnTo>
                <a:lnTo>
                  <a:pt x="0" y="593"/>
                </a:lnTo>
                <a:lnTo>
                  <a:pt x="0" y="593"/>
                </a:lnTo>
                <a:lnTo>
                  <a:pt x="0" y="594"/>
                </a:lnTo>
                <a:lnTo>
                  <a:pt x="1" y="594"/>
                </a:lnTo>
                <a:lnTo>
                  <a:pt x="1" y="595"/>
                </a:lnTo>
                <a:lnTo>
                  <a:pt x="1" y="595"/>
                </a:lnTo>
                <a:lnTo>
                  <a:pt x="1" y="596"/>
                </a:lnTo>
                <a:lnTo>
                  <a:pt x="1" y="596"/>
                </a:lnTo>
                <a:lnTo>
                  <a:pt x="1" y="598"/>
                </a:lnTo>
                <a:lnTo>
                  <a:pt x="1" y="598"/>
                </a:lnTo>
                <a:lnTo>
                  <a:pt x="1" y="599"/>
                </a:lnTo>
                <a:lnTo>
                  <a:pt x="1" y="599"/>
                </a:lnTo>
                <a:lnTo>
                  <a:pt x="1" y="600"/>
                </a:lnTo>
                <a:lnTo>
                  <a:pt x="1" y="600"/>
                </a:lnTo>
                <a:lnTo>
                  <a:pt x="1" y="601"/>
                </a:lnTo>
                <a:lnTo>
                  <a:pt x="2" y="601"/>
                </a:lnTo>
                <a:lnTo>
                  <a:pt x="11" y="599"/>
                </a:lnTo>
                <a:lnTo>
                  <a:pt x="11" y="599"/>
                </a:lnTo>
                <a:lnTo>
                  <a:pt x="11" y="598"/>
                </a:lnTo>
                <a:lnTo>
                  <a:pt x="11" y="598"/>
                </a:lnTo>
                <a:lnTo>
                  <a:pt x="11" y="598"/>
                </a:lnTo>
                <a:lnTo>
                  <a:pt x="11" y="596"/>
                </a:lnTo>
                <a:lnTo>
                  <a:pt x="11" y="596"/>
                </a:lnTo>
                <a:lnTo>
                  <a:pt x="10" y="595"/>
                </a:lnTo>
                <a:lnTo>
                  <a:pt x="10" y="595"/>
                </a:lnTo>
                <a:lnTo>
                  <a:pt x="10" y="595"/>
                </a:lnTo>
                <a:lnTo>
                  <a:pt x="10" y="594"/>
                </a:lnTo>
                <a:lnTo>
                  <a:pt x="10" y="594"/>
                </a:lnTo>
                <a:lnTo>
                  <a:pt x="10" y="593"/>
                </a:lnTo>
                <a:lnTo>
                  <a:pt x="10" y="593"/>
                </a:lnTo>
                <a:lnTo>
                  <a:pt x="10" y="593"/>
                </a:lnTo>
                <a:lnTo>
                  <a:pt x="10" y="592"/>
                </a:lnTo>
                <a:lnTo>
                  <a:pt x="10" y="592"/>
                </a:lnTo>
                <a:lnTo>
                  <a:pt x="10" y="590"/>
                </a:lnTo>
                <a:lnTo>
                  <a:pt x="10" y="590"/>
                </a:lnTo>
                <a:lnTo>
                  <a:pt x="10" y="589"/>
                </a:lnTo>
                <a:lnTo>
                  <a:pt x="10" y="589"/>
                </a:lnTo>
                <a:lnTo>
                  <a:pt x="0" y="590"/>
                </a:lnTo>
                <a:close/>
                <a:moveTo>
                  <a:pt x="16" y="630"/>
                </a:moveTo>
                <a:lnTo>
                  <a:pt x="16" y="630"/>
                </a:lnTo>
                <a:lnTo>
                  <a:pt x="17" y="630"/>
                </a:lnTo>
                <a:lnTo>
                  <a:pt x="17" y="632"/>
                </a:lnTo>
                <a:lnTo>
                  <a:pt x="17" y="632"/>
                </a:lnTo>
                <a:lnTo>
                  <a:pt x="18" y="632"/>
                </a:lnTo>
                <a:lnTo>
                  <a:pt x="18" y="633"/>
                </a:lnTo>
                <a:lnTo>
                  <a:pt x="20" y="633"/>
                </a:lnTo>
                <a:lnTo>
                  <a:pt x="20" y="634"/>
                </a:lnTo>
                <a:lnTo>
                  <a:pt x="20" y="634"/>
                </a:lnTo>
                <a:lnTo>
                  <a:pt x="21" y="634"/>
                </a:lnTo>
                <a:lnTo>
                  <a:pt x="21" y="635"/>
                </a:lnTo>
                <a:lnTo>
                  <a:pt x="22" y="635"/>
                </a:lnTo>
                <a:lnTo>
                  <a:pt x="22" y="636"/>
                </a:lnTo>
                <a:lnTo>
                  <a:pt x="22" y="636"/>
                </a:lnTo>
                <a:lnTo>
                  <a:pt x="23" y="636"/>
                </a:lnTo>
                <a:lnTo>
                  <a:pt x="23" y="638"/>
                </a:lnTo>
                <a:lnTo>
                  <a:pt x="24" y="638"/>
                </a:lnTo>
                <a:lnTo>
                  <a:pt x="24" y="638"/>
                </a:lnTo>
                <a:lnTo>
                  <a:pt x="30" y="629"/>
                </a:lnTo>
                <a:lnTo>
                  <a:pt x="30" y="629"/>
                </a:lnTo>
                <a:lnTo>
                  <a:pt x="30" y="629"/>
                </a:lnTo>
                <a:lnTo>
                  <a:pt x="29" y="629"/>
                </a:lnTo>
                <a:lnTo>
                  <a:pt x="29" y="628"/>
                </a:lnTo>
                <a:lnTo>
                  <a:pt x="29" y="628"/>
                </a:lnTo>
                <a:lnTo>
                  <a:pt x="28" y="628"/>
                </a:lnTo>
                <a:lnTo>
                  <a:pt x="28" y="627"/>
                </a:lnTo>
                <a:lnTo>
                  <a:pt x="28" y="627"/>
                </a:lnTo>
                <a:lnTo>
                  <a:pt x="27" y="627"/>
                </a:lnTo>
                <a:lnTo>
                  <a:pt x="27" y="627"/>
                </a:lnTo>
                <a:lnTo>
                  <a:pt x="27" y="626"/>
                </a:lnTo>
                <a:lnTo>
                  <a:pt x="26" y="626"/>
                </a:lnTo>
                <a:lnTo>
                  <a:pt x="26" y="626"/>
                </a:lnTo>
                <a:lnTo>
                  <a:pt x="26" y="625"/>
                </a:lnTo>
                <a:lnTo>
                  <a:pt x="24" y="625"/>
                </a:lnTo>
                <a:lnTo>
                  <a:pt x="24" y="625"/>
                </a:lnTo>
                <a:lnTo>
                  <a:pt x="24" y="623"/>
                </a:lnTo>
                <a:lnTo>
                  <a:pt x="24" y="623"/>
                </a:lnTo>
                <a:lnTo>
                  <a:pt x="16" y="630"/>
                </a:lnTo>
                <a:close/>
                <a:moveTo>
                  <a:pt x="51" y="654"/>
                </a:moveTo>
                <a:lnTo>
                  <a:pt x="56" y="645"/>
                </a:lnTo>
                <a:lnTo>
                  <a:pt x="64" y="649"/>
                </a:lnTo>
                <a:lnTo>
                  <a:pt x="60" y="659"/>
                </a:lnTo>
                <a:lnTo>
                  <a:pt x="51" y="654"/>
                </a:lnTo>
                <a:close/>
                <a:moveTo>
                  <a:pt x="87" y="673"/>
                </a:moveTo>
                <a:lnTo>
                  <a:pt x="91" y="665"/>
                </a:lnTo>
                <a:lnTo>
                  <a:pt x="101" y="669"/>
                </a:lnTo>
                <a:lnTo>
                  <a:pt x="96" y="677"/>
                </a:lnTo>
                <a:lnTo>
                  <a:pt x="87" y="673"/>
                </a:lnTo>
                <a:close/>
                <a:moveTo>
                  <a:pt x="123" y="693"/>
                </a:moveTo>
                <a:lnTo>
                  <a:pt x="128" y="683"/>
                </a:lnTo>
                <a:lnTo>
                  <a:pt x="136" y="688"/>
                </a:lnTo>
                <a:lnTo>
                  <a:pt x="131" y="697"/>
                </a:lnTo>
                <a:lnTo>
                  <a:pt x="123" y="693"/>
                </a:lnTo>
                <a:close/>
                <a:moveTo>
                  <a:pt x="159" y="712"/>
                </a:moveTo>
                <a:lnTo>
                  <a:pt x="163" y="702"/>
                </a:lnTo>
                <a:lnTo>
                  <a:pt x="173" y="707"/>
                </a:lnTo>
                <a:lnTo>
                  <a:pt x="168" y="716"/>
                </a:lnTo>
                <a:lnTo>
                  <a:pt x="159" y="712"/>
                </a:lnTo>
                <a:close/>
                <a:moveTo>
                  <a:pt x="195" y="730"/>
                </a:moveTo>
                <a:lnTo>
                  <a:pt x="200" y="722"/>
                </a:lnTo>
                <a:lnTo>
                  <a:pt x="208" y="727"/>
                </a:lnTo>
                <a:lnTo>
                  <a:pt x="203" y="735"/>
                </a:lnTo>
                <a:lnTo>
                  <a:pt x="195" y="730"/>
                </a:lnTo>
                <a:close/>
                <a:moveTo>
                  <a:pt x="230" y="749"/>
                </a:moveTo>
                <a:lnTo>
                  <a:pt x="235" y="741"/>
                </a:lnTo>
                <a:lnTo>
                  <a:pt x="244" y="746"/>
                </a:lnTo>
                <a:lnTo>
                  <a:pt x="240" y="755"/>
                </a:lnTo>
                <a:lnTo>
                  <a:pt x="230" y="749"/>
                </a:lnTo>
                <a:close/>
                <a:moveTo>
                  <a:pt x="267" y="769"/>
                </a:moveTo>
                <a:lnTo>
                  <a:pt x="272" y="760"/>
                </a:lnTo>
                <a:lnTo>
                  <a:pt x="280" y="765"/>
                </a:lnTo>
                <a:lnTo>
                  <a:pt x="275" y="774"/>
                </a:lnTo>
                <a:lnTo>
                  <a:pt x="267" y="769"/>
                </a:lnTo>
                <a:close/>
                <a:moveTo>
                  <a:pt x="302" y="788"/>
                </a:moveTo>
                <a:lnTo>
                  <a:pt x="307" y="779"/>
                </a:lnTo>
                <a:lnTo>
                  <a:pt x="316" y="785"/>
                </a:lnTo>
                <a:lnTo>
                  <a:pt x="312" y="793"/>
                </a:lnTo>
                <a:lnTo>
                  <a:pt x="302" y="788"/>
                </a:lnTo>
                <a:close/>
                <a:moveTo>
                  <a:pt x="337" y="807"/>
                </a:moveTo>
                <a:lnTo>
                  <a:pt x="343" y="799"/>
                </a:lnTo>
                <a:lnTo>
                  <a:pt x="352" y="803"/>
                </a:lnTo>
                <a:lnTo>
                  <a:pt x="347" y="812"/>
                </a:lnTo>
                <a:lnTo>
                  <a:pt x="337" y="807"/>
                </a:lnTo>
                <a:close/>
                <a:moveTo>
                  <a:pt x="374" y="827"/>
                </a:moveTo>
                <a:lnTo>
                  <a:pt x="379" y="817"/>
                </a:lnTo>
                <a:lnTo>
                  <a:pt x="388" y="822"/>
                </a:lnTo>
                <a:lnTo>
                  <a:pt x="383" y="832"/>
                </a:lnTo>
                <a:lnTo>
                  <a:pt x="374" y="827"/>
                </a:lnTo>
                <a:close/>
                <a:moveTo>
                  <a:pt x="409" y="846"/>
                </a:moveTo>
                <a:lnTo>
                  <a:pt x="414" y="836"/>
                </a:lnTo>
                <a:lnTo>
                  <a:pt x="423" y="841"/>
                </a:lnTo>
                <a:lnTo>
                  <a:pt x="419" y="850"/>
                </a:lnTo>
                <a:lnTo>
                  <a:pt x="409" y="846"/>
                </a:lnTo>
                <a:close/>
                <a:moveTo>
                  <a:pt x="446" y="864"/>
                </a:moveTo>
                <a:lnTo>
                  <a:pt x="450" y="856"/>
                </a:lnTo>
                <a:lnTo>
                  <a:pt x="460" y="861"/>
                </a:lnTo>
                <a:lnTo>
                  <a:pt x="454" y="869"/>
                </a:lnTo>
                <a:lnTo>
                  <a:pt x="446" y="864"/>
                </a:lnTo>
                <a:close/>
                <a:moveTo>
                  <a:pt x="481" y="884"/>
                </a:moveTo>
                <a:lnTo>
                  <a:pt x="486" y="875"/>
                </a:lnTo>
                <a:lnTo>
                  <a:pt x="495" y="880"/>
                </a:lnTo>
                <a:lnTo>
                  <a:pt x="490" y="889"/>
                </a:lnTo>
                <a:lnTo>
                  <a:pt x="481" y="884"/>
                </a:lnTo>
                <a:close/>
                <a:moveTo>
                  <a:pt x="518" y="903"/>
                </a:moveTo>
                <a:lnTo>
                  <a:pt x="522" y="894"/>
                </a:lnTo>
                <a:lnTo>
                  <a:pt x="532" y="899"/>
                </a:lnTo>
                <a:lnTo>
                  <a:pt x="526" y="908"/>
                </a:lnTo>
                <a:lnTo>
                  <a:pt x="518" y="903"/>
                </a:lnTo>
                <a:close/>
                <a:moveTo>
                  <a:pt x="553" y="922"/>
                </a:moveTo>
                <a:lnTo>
                  <a:pt x="558" y="914"/>
                </a:lnTo>
                <a:lnTo>
                  <a:pt x="567" y="919"/>
                </a:lnTo>
                <a:lnTo>
                  <a:pt x="562" y="927"/>
                </a:lnTo>
                <a:lnTo>
                  <a:pt x="553" y="922"/>
                </a:lnTo>
                <a:close/>
                <a:moveTo>
                  <a:pt x="589" y="941"/>
                </a:moveTo>
                <a:lnTo>
                  <a:pt x="594" y="933"/>
                </a:lnTo>
                <a:lnTo>
                  <a:pt x="602" y="937"/>
                </a:lnTo>
                <a:lnTo>
                  <a:pt x="598" y="947"/>
                </a:lnTo>
                <a:lnTo>
                  <a:pt x="589" y="941"/>
                </a:lnTo>
                <a:close/>
                <a:moveTo>
                  <a:pt x="625" y="961"/>
                </a:moveTo>
                <a:lnTo>
                  <a:pt x="629" y="951"/>
                </a:lnTo>
                <a:lnTo>
                  <a:pt x="639" y="956"/>
                </a:lnTo>
                <a:lnTo>
                  <a:pt x="634" y="966"/>
                </a:lnTo>
                <a:lnTo>
                  <a:pt x="625" y="961"/>
                </a:lnTo>
                <a:close/>
                <a:moveTo>
                  <a:pt x="661" y="980"/>
                </a:moveTo>
                <a:lnTo>
                  <a:pt x="666" y="970"/>
                </a:lnTo>
                <a:lnTo>
                  <a:pt x="674" y="976"/>
                </a:lnTo>
                <a:lnTo>
                  <a:pt x="669" y="984"/>
                </a:lnTo>
                <a:lnTo>
                  <a:pt x="661" y="980"/>
                </a:lnTo>
                <a:close/>
                <a:moveTo>
                  <a:pt x="696" y="999"/>
                </a:moveTo>
                <a:lnTo>
                  <a:pt x="701" y="990"/>
                </a:lnTo>
                <a:lnTo>
                  <a:pt x="711" y="995"/>
                </a:lnTo>
                <a:lnTo>
                  <a:pt x="706" y="1003"/>
                </a:lnTo>
                <a:lnTo>
                  <a:pt x="696" y="999"/>
                </a:lnTo>
                <a:close/>
                <a:moveTo>
                  <a:pt x="733" y="1019"/>
                </a:moveTo>
                <a:lnTo>
                  <a:pt x="738" y="1009"/>
                </a:lnTo>
                <a:lnTo>
                  <a:pt x="746" y="1014"/>
                </a:lnTo>
                <a:lnTo>
                  <a:pt x="741" y="1023"/>
                </a:lnTo>
                <a:lnTo>
                  <a:pt x="733" y="1019"/>
                </a:lnTo>
                <a:close/>
                <a:moveTo>
                  <a:pt x="768" y="1037"/>
                </a:moveTo>
                <a:lnTo>
                  <a:pt x="773" y="1028"/>
                </a:lnTo>
                <a:lnTo>
                  <a:pt x="782" y="1033"/>
                </a:lnTo>
                <a:lnTo>
                  <a:pt x="778" y="1042"/>
                </a:lnTo>
                <a:lnTo>
                  <a:pt x="768" y="1037"/>
                </a:lnTo>
                <a:close/>
                <a:moveTo>
                  <a:pt x="805" y="1056"/>
                </a:moveTo>
                <a:lnTo>
                  <a:pt x="809" y="1048"/>
                </a:lnTo>
                <a:lnTo>
                  <a:pt x="818" y="1053"/>
                </a:lnTo>
                <a:lnTo>
                  <a:pt x="813" y="1061"/>
                </a:lnTo>
                <a:lnTo>
                  <a:pt x="805" y="1056"/>
                </a:lnTo>
                <a:close/>
                <a:moveTo>
                  <a:pt x="840" y="1076"/>
                </a:moveTo>
                <a:lnTo>
                  <a:pt x="845" y="1067"/>
                </a:lnTo>
                <a:lnTo>
                  <a:pt x="854" y="1071"/>
                </a:lnTo>
                <a:lnTo>
                  <a:pt x="849" y="1081"/>
                </a:lnTo>
                <a:lnTo>
                  <a:pt x="840" y="1076"/>
                </a:lnTo>
                <a:close/>
                <a:moveTo>
                  <a:pt x="876" y="1095"/>
                </a:moveTo>
                <a:lnTo>
                  <a:pt x="881" y="1086"/>
                </a:lnTo>
                <a:lnTo>
                  <a:pt x="889" y="1090"/>
                </a:lnTo>
                <a:lnTo>
                  <a:pt x="885" y="1100"/>
                </a:lnTo>
                <a:lnTo>
                  <a:pt x="876" y="1095"/>
                </a:lnTo>
                <a:close/>
                <a:moveTo>
                  <a:pt x="912" y="1114"/>
                </a:moveTo>
                <a:lnTo>
                  <a:pt x="916" y="1106"/>
                </a:lnTo>
                <a:lnTo>
                  <a:pt x="926" y="1110"/>
                </a:lnTo>
                <a:lnTo>
                  <a:pt x="921" y="1118"/>
                </a:lnTo>
                <a:lnTo>
                  <a:pt x="912" y="1114"/>
                </a:lnTo>
                <a:close/>
                <a:moveTo>
                  <a:pt x="947" y="1134"/>
                </a:moveTo>
                <a:lnTo>
                  <a:pt x="953" y="1124"/>
                </a:lnTo>
                <a:lnTo>
                  <a:pt x="961" y="1129"/>
                </a:lnTo>
                <a:lnTo>
                  <a:pt x="956" y="1138"/>
                </a:lnTo>
                <a:lnTo>
                  <a:pt x="947" y="1134"/>
                </a:lnTo>
                <a:close/>
                <a:moveTo>
                  <a:pt x="984" y="1153"/>
                </a:moveTo>
                <a:lnTo>
                  <a:pt x="988" y="1143"/>
                </a:lnTo>
                <a:lnTo>
                  <a:pt x="998" y="1148"/>
                </a:lnTo>
                <a:lnTo>
                  <a:pt x="993" y="1157"/>
                </a:lnTo>
                <a:lnTo>
                  <a:pt x="984" y="1153"/>
                </a:lnTo>
                <a:close/>
                <a:moveTo>
                  <a:pt x="1021" y="1170"/>
                </a:moveTo>
                <a:lnTo>
                  <a:pt x="1022" y="1170"/>
                </a:lnTo>
                <a:lnTo>
                  <a:pt x="1022" y="1170"/>
                </a:lnTo>
                <a:lnTo>
                  <a:pt x="1022" y="1170"/>
                </a:lnTo>
                <a:lnTo>
                  <a:pt x="1024" y="1170"/>
                </a:lnTo>
                <a:lnTo>
                  <a:pt x="1024" y="1170"/>
                </a:lnTo>
                <a:lnTo>
                  <a:pt x="1025" y="1170"/>
                </a:lnTo>
                <a:lnTo>
                  <a:pt x="1025" y="1170"/>
                </a:lnTo>
                <a:lnTo>
                  <a:pt x="1026" y="1170"/>
                </a:lnTo>
                <a:lnTo>
                  <a:pt x="1026" y="1170"/>
                </a:lnTo>
                <a:lnTo>
                  <a:pt x="1027" y="1170"/>
                </a:lnTo>
                <a:lnTo>
                  <a:pt x="1027" y="1170"/>
                </a:lnTo>
                <a:lnTo>
                  <a:pt x="1028" y="1170"/>
                </a:lnTo>
                <a:lnTo>
                  <a:pt x="1028" y="1171"/>
                </a:lnTo>
                <a:lnTo>
                  <a:pt x="1029" y="1171"/>
                </a:lnTo>
                <a:lnTo>
                  <a:pt x="1029" y="1171"/>
                </a:lnTo>
                <a:lnTo>
                  <a:pt x="1031" y="1171"/>
                </a:lnTo>
                <a:lnTo>
                  <a:pt x="1031" y="1171"/>
                </a:lnTo>
                <a:lnTo>
                  <a:pt x="1031" y="1171"/>
                </a:lnTo>
                <a:lnTo>
                  <a:pt x="1032" y="1171"/>
                </a:lnTo>
                <a:lnTo>
                  <a:pt x="1032" y="1171"/>
                </a:lnTo>
                <a:lnTo>
                  <a:pt x="1033" y="1171"/>
                </a:lnTo>
                <a:lnTo>
                  <a:pt x="1033" y="1161"/>
                </a:lnTo>
                <a:lnTo>
                  <a:pt x="1033" y="1161"/>
                </a:lnTo>
                <a:lnTo>
                  <a:pt x="1033" y="1161"/>
                </a:lnTo>
                <a:lnTo>
                  <a:pt x="1032" y="1161"/>
                </a:lnTo>
                <a:lnTo>
                  <a:pt x="1032" y="1161"/>
                </a:lnTo>
                <a:lnTo>
                  <a:pt x="1031" y="1161"/>
                </a:lnTo>
                <a:lnTo>
                  <a:pt x="1031" y="1161"/>
                </a:lnTo>
                <a:lnTo>
                  <a:pt x="1031" y="1161"/>
                </a:lnTo>
                <a:lnTo>
                  <a:pt x="1029" y="1161"/>
                </a:lnTo>
                <a:lnTo>
                  <a:pt x="1029" y="1161"/>
                </a:lnTo>
                <a:lnTo>
                  <a:pt x="1028" y="1161"/>
                </a:lnTo>
                <a:lnTo>
                  <a:pt x="1028" y="1161"/>
                </a:lnTo>
                <a:lnTo>
                  <a:pt x="1028" y="1161"/>
                </a:lnTo>
                <a:lnTo>
                  <a:pt x="1027" y="1161"/>
                </a:lnTo>
                <a:lnTo>
                  <a:pt x="1027" y="1161"/>
                </a:lnTo>
                <a:lnTo>
                  <a:pt x="1026" y="1161"/>
                </a:lnTo>
                <a:lnTo>
                  <a:pt x="1026" y="1160"/>
                </a:lnTo>
                <a:lnTo>
                  <a:pt x="1026" y="1160"/>
                </a:lnTo>
                <a:lnTo>
                  <a:pt x="1025" y="1160"/>
                </a:lnTo>
                <a:lnTo>
                  <a:pt x="1025" y="1160"/>
                </a:lnTo>
                <a:lnTo>
                  <a:pt x="1024" y="1160"/>
                </a:lnTo>
                <a:lnTo>
                  <a:pt x="1024" y="1160"/>
                </a:lnTo>
                <a:lnTo>
                  <a:pt x="1021" y="1170"/>
                </a:lnTo>
                <a:close/>
                <a:moveTo>
                  <a:pt x="1065" y="1167"/>
                </a:moveTo>
                <a:lnTo>
                  <a:pt x="1065" y="1167"/>
                </a:lnTo>
                <a:lnTo>
                  <a:pt x="1065" y="1167"/>
                </a:lnTo>
                <a:lnTo>
                  <a:pt x="1066" y="1167"/>
                </a:lnTo>
                <a:lnTo>
                  <a:pt x="1066" y="1167"/>
                </a:lnTo>
                <a:lnTo>
                  <a:pt x="1067" y="1167"/>
                </a:lnTo>
                <a:lnTo>
                  <a:pt x="1067" y="1166"/>
                </a:lnTo>
                <a:lnTo>
                  <a:pt x="1068" y="1166"/>
                </a:lnTo>
                <a:lnTo>
                  <a:pt x="1068" y="1166"/>
                </a:lnTo>
                <a:lnTo>
                  <a:pt x="1068" y="1166"/>
                </a:lnTo>
                <a:lnTo>
                  <a:pt x="1069" y="1166"/>
                </a:lnTo>
                <a:lnTo>
                  <a:pt x="1069" y="1164"/>
                </a:lnTo>
                <a:lnTo>
                  <a:pt x="1071" y="1164"/>
                </a:lnTo>
                <a:lnTo>
                  <a:pt x="1071" y="1164"/>
                </a:lnTo>
                <a:lnTo>
                  <a:pt x="1072" y="1164"/>
                </a:lnTo>
                <a:lnTo>
                  <a:pt x="1072" y="1164"/>
                </a:lnTo>
                <a:lnTo>
                  <a:pt x="1072" y="1163"/>
                </a:lnTo>
                <a:lnTo>
                  <a:pt x="1073" y="1163"/>
                </a:lnTo>
                <a:lnTo>
                  <a:pt x="1073" y="1163"/>
                </a:lnTo>
                <a:lnTo>
                  <a:pt x="1074" y="1163"/>
                </a:lnTo>
                <a:lnTo>
                  <a:pt x="1074" y="1163"/>
                </a:lnTo>
                <a:lnTo>
                  <a:pt x="1074" y="1162"/>
                </a:lnTo>
                <a:lnTo>
                  <a:pt x="1069" y="1154"/>
                </a:lnTo>
                <a:lnTo>
                  <a:pt x="1069" y="1154"/>
                </a:lnTo>
                <a:lnTo>
                  <a:pt x="1069" y="1154"/>
                </a:lnTo>
                <a:lnTo>
                  <a:pt x="1068" y="1154"/>
                </a:lnTo>
                <a:lnTo>
                  <a:pt x="1068" y="1155"/>
                </a:lnTo>
                <a:lnTo>
                  <a:pt x="1068" y="1155"/>
                </a:lnTo>
                <a:lnTo>
                  <a:pt x="1067" y="1155"/>
                </a:lnTo>
                <a:lnTo>
                  <a:pt x="1067" y="1155"/>
                </a:lnTo>
                <a:lnTo>
                  <a:pt x="1066" y="1155"/>
                </a:lnTo>
                <a:lnTo>
                  <a:pt x="1066" y="1155"/>
                </a:lnTo>
                <a:lnTo>
                  <a:pt x="1066" y="1156"/>
                </a:lnTo>
                <a:lnTo>
                  <a:pt x="1065" y="1156"/>
                </a:lnTo>
                <a:lnTo>
                  <a:pt x="1065" y="1156"/>
                </a:lnTo>
                <a:lnTo>
                  <a:pt x="1065" y="1156"/>
                </a:lnTo>
                <a:lnTo>
                  <a:pt x="1064" y="1156"/>
                </a:lnTo>
                <a:lnTo>
                  <a:pt x="1064" y="1156"/>
                </a:lnTo>
                <a:lnTo>
                  <a:pt x="1064" y="1157"/>
                </a:lnTo>
                <a:lnTo>
                  <a:pt x="1062" y="1157"/>
                </a:lnTo>
                <a:lnTo>
                  <a:pt x="1062" y="1157"/>
                </a:lnTo>
                <a:lnTo>
                  <a:pt x="1061" y="1157"/>
                </a:lnTo>
                <a:lnTo>
                  <a:pt x="1061" y="1157"/>
                </a:lnTo>
                <a:lnTo>
                  <a:pt x="1061" y="1157"/>
                </a:lnTo>
                <a:lnTo>
                  <a:pt x="1065" y="1167"/>
                </a:lnTo>
                <a:close/>
                <a:moveTo>
                  <a:pt x="1099" y="1141"/>
                </a:moveTo>
                <a:lnTo>
                  <a:pt x="1099" y="1140"/>
                </a:lnTo>
                <a:lnTo>
                  <a:pt x="1099" y="1140"/>
                </a:lnTo>
                <a:lnTo>
                  <a:pt x="1099" y="1138"/>
                </a:lnTo>
                <a:lnTo>
                  <a:pt x="1100" y="1138"/>
                </a:lnTo>
                <a:lnTo>
                  <a:pt x="1100" y="1137"/>
                </a:lnTo>
                <a:lnTo>
                  <a:pt x="1100" y="1137"/>
                </a:lnTo>
                <a:lnTo>
                  <a:pt x="1100" y="1137"/>
                </a:lnTo>
                <a:lnTo>
                  <a:pt x="1101" y="1136"/>
                </a:lnTo>
                <a:lnTo>
                  <a:pt x="1101" y="1136"/>
                </a:lnTo>
                <a:lnTo>
                  <a:pt x="1101" y="1135"/>
                </a:lnTo>
                <a:lnTo>
                  <a:pt x="1101" y="1135"/>
                </a:lnTo>
                <a:lnTo>
                  <a:pt x="1102" y="1134"/>
                </a:lnTo>
                <a:lnTo>
                  <a:pt x="1102" y="1134"/>
                </a:lnTo>
                <a:lnTo>
                  <a:pt x="1102" y="1133"/>
                </a:lnTo>
                <a:lnTo>
                  <a:pt x="1102" y="1133"/>
                </a:lnTo>
                <a:lnTo>
                  <a:pt x="1104" y="1131"/>
                </a:lnTo>
                <a:lnTo>
                  <a:pt x="1104" y="1131"/>
                </a:lnTo>
                <a:lnTo>
                  <a:pt x="1104" y="1130"/>
                </a:lnTo>
                <a:lnTo>
                  <a:pt x="1104" y="1130"/>
                </a:lnTo>
                <a:lnTo>
                  <a:pt x="1094" y="1127"/>
                </a:lnTo>
                <a:lnTo>
                  <a:pt x="1094" y="1127"/>
                </a:lnTo>
                <a:lnTo>
                  <a:pt x="1094" y="1127"/>
                </a:lnTo>
                <a:lnTo>
                  <a:pt x="1094" y="1128"/>
                </a:lnTo>
                <a:lnTo>
                  <a:pt x="1093" y="1128"/>
                </a:lnTo>
                <a:lnTo>
                  <a:pt x="1093" y="1129"/>
                </a:lnTo>
                <a:lnTo>
                  <a:pt x="1093" y="1129"/>
                </a:lnTo>
                <a:lnTo>
                  <a:pt x="1093" y="1129"/>
                </a:lnTo>
                <a:lnTo>
                  <a:pt x="1093" y="1130"/>
                </a:lnTo>
                <a:lnTo>
                  <a:pt x="1093" y="1130"/>
                </a:lnTo>
                <a:lnTo>
                  <a:pt x="1092" y="1131"/>
                </a:lnTo>
                <a:lnTo>
                  <a:pt x="1092" y="1131"/>
                </a:lnTo>
                <a:lnTo>
                  <a:pt x="1092" y="1131"/>
                </a:lnTo>
                <a:lnTo>
                  <a:pt x="1092" y="1133"/>
                </a:lnTo>
                <a:lnTo>
                  <a:pt x="1091" y="1133"/>
                </a:lnTo>
                <a:lnTo>
                  <a:pt x="1091" y="1133"/>
                </a:lnTo>
                <a:lnTo>
                  <a:pt x="1091" y="1134"/>
                </a:lnTo>
                <a:lnTo>
                  <a:pt x="1091" y="1134"/>
                </a:lnTo>
                <a:lnTo>
                  <a:pt x="1091" y="1135"/>
                </a:lnTo>
                <a:lnTo>
                  <a:pt x="1089" y="1135"/>
                </a:lnTo>
                <a:lnTo>
                  <a:pt x="1099" y="1141"/>
                </a:lnTo>
                <a:close/>
                <a:moveTo>
                  <a:pt x="1109" y="1098"/>
                </a:moveTo>
                <a:lnTo>
                  <a:pt x="1099" y="1098"/>
                </a:lnTo>
                <a:lnTo>
                  <a:pt x="1099" y="1089"/>
                </a:lnTo>
                <a:lnTo>
                  <a:pt x="1109" y="1089"/>
                </a:lnTo>
                <a:lnTo>
                  <a:pt x="1109" y="1098"/>
                </a:lnTo>
                <a:close/>
                <a:moveTo>
                  <a:pt x="1109" y="1059"/>
                </a:moveTo>
                <a:lnTo>
                  <a:pt x="1099" y="1059"/>
                </a:lnTo>
                <a:lnTo>
                  <a:pt x="1099" y="1048"/>
                </a:lnTo>
                <a:lnTo>
                  <a:pt x="1109" y="1048"/>
                </a:lnTo>
                <a:lnTo>
                  <a:pt x="1109" y="1059"/>
                </a:lnTo>
                <a:close/>
                <a:moveTo>
                  <a:pt x="1109" y="1017"/>
                </a:moveTo>
                <a:lnTo>
                  <a:pt x="1099" y="1017"/>
                </a:lnTo>
                <a:lnTo>
                  <a:pt x="1099" y="1008"/>
                </a:lnTo>
                <a:lnTo>
                  <a:pt x="1109" y="1008"/>
                </a:lnTo>
                <a:lnTo>
                  <a:pt x="1109" y="1017"/>
                </a:lnTo>
                <a:close/>
                <a:moveTo>
                  <a:pt x="1109" y="977"/>
                </a:moveTo>
                <a:lnTo>
                  <a:pt x="1099" y="977"/>
                </a:lnTo>
                <a:lnTo>
                  <a:pt x="1099" y="967"/>
                </a:lnTo>
                <a:lnTo>
                  <a:pt x="1109" y="967"/>
                </a:lnTo>
                <a:lnTo>
                  <a:pt x="1109" y="977"/>
                </a:lnTo>
                <a:close/>
                <a:moveTo>
                  <a:pt x="1109" y="936"/>
                </a:moveTo>
                <a:lnTo>
                  <a:pt x="1099" y="936"/>
                </a:lnTo>
                <a:lnTo>
                  <a:pt x="1099" y="926"/>
                </a:lnTo>
                <a:lnTo>
                  <a:pt x="1109" y="926"/>
                </a:lnTo>
                <a:lnTo>
                  <a:pt x="1109" y="936"/>
                </a:lnTo>
                <a:close/>
                <a:moveTo>
                  <a:pt x="1109" y="895"/>
                </a:moveTo>
                <a:lnTo>
                  <a:pt x="1099" y="895"/>
                </a:lnTo>
                <a:lnTo>
                  <a:pt x="1099" y="886"/>
                </a:lnTo>
                <a:lnTo>
                  <a:pt x="1109" y="886"/>
                </a:lnTo>
                <a:lnTo>
                  <a:pt x="1109" y="895"/>
                </a:lnTo>
                <a:close/>
                <a:moveTo>
                  <a:pt x="1109" y="855"/>
                </a:moveTo>
                <a:lnTo>
                  <a:pt x="1099" y="855"/>
                </a:lnTo>
                <a:lnTo>
                  <a:pt x="1099" y="844"/>
                </a:lnTo>
                <a:lnTo>
                  <a:pt x="1109" y="844"/>
                </a:lnTo>
                <a:lnTo>
                  <a:pt x="1109" y="855"/>
                </a:lnTo>
                <a:close/>
                <a:moveTo>
                  <a:pt x="1107" y="822"/>
                </a:moveTo>
                <a:lnTo>
                  <a:pt x="1107" y="813"/>
                </a:lnTo>
                <a:lnTo>
                  <a:pt x="1118" y="813"/>
                </a:lnTo>
                <a:lnTo>
                  <a:pt x="1118" y="822"/>
                </a:lnTo>
                <a:lnTo>
                  <a:pt x="1107" y="822"/>
                </a:lnTo>
                <a:close/>
                <a:moveTo>
                  <a:pt x="1148" y="822"/>
                </a:moveTo>
                <a:lnTo>
                  <a:pt x="1148" y="813"/>
                </a:lnTo>
                <a:lnTo>
                  <a:pt x="1158" y="813"/>
                </a:lnTo>
                <a:lnTo>
                  <a:pt x="1158" y="822"/>
                </a:lnTo>
                <a:lnTo>
                  <a:pt x="1148" y="822"/>
                </a:lnTo>
                <a:close/>
                <a:moveTo>
                  <a:pt x="1188" y="822"/>
                </a:moveTo>
                <a:lnTo>
                  <a:pt x="1188" y="813"/>
                </a:lnTo>
                <a:lnTo>
                  <a:pt x="1199" y="813"/>
                </a:lnTo>
                <a:lnTo>
                  <a:pt x="1199" y="822"/>
                </a:lnTo>
                <a:lnTo>
                  <a:pt x="1188" y="822"/>
                </a:lnTo>
                <a:close/>
                <a:moveTo>
                  <a:pt x="1230" y="822"/>
                </a:moveTo>
                <a:lnTo>
                  <a:pt x="1230" y="813"/>
                </a:lnTo>
                <a:lnTo>
                  <a:pt x="1240" y="813"/>
                </a:lnTo>
                <a:lnTo>
                  <a:pt x="1240" y="822"/>
                </a:lnTo>
                <a:lnTo>
                  <a:pt x="1230" y="822"/>
                </a:lnTo>
                <a:close/>
                <a:moveTo>
                  <a:pt x="1270" y="822"/>
                </a:moveTo>
                <a:lnTo>
                  <a:pt x="1270" y="813"/>
                </a:lnTo>
                <a:lnTo>
                  <a:pt x="1280" y="813"/>
                </a:lnTo>
                <a:lnTo>
                  <a:pt x="1280" y="822"/>
                </a:lnTo>
                <a:lnTo>
                  <a:pt x="1270" y="822"/>
                </a:lnTo>
                <a:close/>
                <a:moveTo>
                  <a:pt x="1311" y="822"/>
                </a:moveTo>
                <a:lnTo>
                  <a:pt x="1311" y="813"/>
                </a:lnTo>
                <a:lnTo>
                  <a:pt x="1321" y="813"/>
                </a:lnTo>
                <a:lnTo>
                  <a:pt x="1321" y="822"/>
                </a:lnTo>
                <a:lnTo>
                  <a:pt x="1311" y="822"/>
                </a:lnTo>
                <a:close/>
                <a:moveTo>
                  <a:pt x="1352" y="822"/>
                </a:moveTo>
                <a:lnTo>
                  <a:pt x="1352" y="813"/>
                </a:lnTo>
                <a:lnTo>
                  <a:pt x="1361" y="813"/>
                </a:lnTo>
                <a:lnTo>
                  <a:pt x="1361" y="822"/>
                </a:lnTo>
                <a:lnTo>
                  <a:pt x="1352" y="822"/>
                </a:lnTo>
                <a:close/>
                <a:moveTo>
                  <a:pt x="1392" y="822"/>
                </a:moveTo>
                <a:lnTo>
                  <a:pt x="1392" y="813"/>
                </a:lnTo>
                <a:lnTo>
                  <a:pt x="1403" y="813"/>
                </a:lnTo>
                <a:lnTo>
                  <a:pt x="1403" y="822"/>
                </a:lnTo>
                <a:lnTo>
                  <a:pt x="1392" y="822"/>
                </a:lnTo>
                <a:close/>
                <a:moveTo>
                  <a:pt x="1433" y="822"/>
                </a:moveTo>
                <a:lnTo>
                  <a:pt x="1433" y="813"/>
                </a:lnTo>
                <a:lnTo>
                  <a:pt x="1443" y="813"/>
                </a:lnTo>
                <a:lnTo>
                  <a:pt x="1443" y="822"/>
                </a:lnTo>
                <a:lnTo>
                  <a:pt x="1433" y="822"/>
                </a:lnTo>
                <a:close/>
                <a:moveTo>
                  <a:pt x="1473" y="822"/>
                </a:moveTo>
                <a:lnTo>
                  <a:pt x="1473" y="813"/>
                </a:lnTo>
                <a:lnTo>
                  <a:pt x="1484" y="813"/>
                </a:lnTo>
                <a:lnTo>
                  <a:pt x="1484" y="822"/>
                </a:lnTo>
                <a:lnTo>
                  <a:pt x="1473" y="822"/>
                </a:lnTo>
                <a:close/>
                <a:moveTo>
                  <a:pt x="1514" y="822"/>
                </a:moveTo>
                <a:lnTo>
                  <a:pt x="1514" y="813"/>
                </a:lnTo>
                <a:lnTo>
                  <a:pt x="1524" y="813"/>
                </a:lnTo>
                <a:lnTo>
                  <a:pt x="1524" y="822"/>
                </a:lnTo>
                <a:lnTo>
                  <a:pt x="1514" y="822"/>
                </a:lnTo>
                <a:close/>
                <a:moveTo>
                  <a:pt x="1554" y="822"/>
                </a:moveTo>
                <a:lnTo>
                  <a:pt x="1554" y="813"/>
                </a:lnTo>
                <a:lnTo>
                  <a:pt x="1565" y="813"/>
                </a:lnTo>
                <a:lnTo>
                  <a:pt x="1565" y="822"/>
                </a:lnTo>
                <a:lnTo>
                  <a:pt x="1554" y="822"/>
                </a:lnTo>
                <a:close/>
                <a:moveTo>
                  <a:pt x="1596" y="822"/>
                </a:moveTo>
                <a:lnTo>
                  <a:pt x="1596" y="813"/>
                </a:lnTo>
                <a:lnTo>
                  <a:pt x="1606" y="813"/>
                </a:lnTo>
                <a:lnTo>
                  <a:pt x="1606" y="822"/>
                </a:lnTo>
                <a:lnTo>
                  <a:pt x="1596" y="822"/>
                </a:lnTo>
                <a:close/>
                <a:moveTo>
                  <a:pt x="1637" y="822"/>
                </a:moveTo>
                <a:lnTo>
                  <a:pt x="1637" y="813"/>
                </a:lnTo>
                <a:lnTo>
                  <a:pt x="1646" y="813"/>
                </a:lnTo>
                <a:lnTo>
                  <a:pt x="1646" y="822"/>
                </a:lnTo>
                <a:lnTo>
                  <a:pt x="1637" y="822"/>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0" name="Freeform 1065"/>
          <p:cNvSpPr/>
          <p:nvPr/>
        </p:nvSpPr>
        <p:spPr>
          <a:xfrm>
            <a:off x="5719680" y="5600880"/>
            <a:ext cx="4008600" cy="6054480"/>
          </a:xfrm>
          <a:custGeom>
            <a:avLst/>
            <a:gdLst/>
            <a:ahLst/>
            <a:rect l="l" t="t" r="r" b="b"/>
            <a:pathLst>
              <a:path w="1052" h="1589">
                <a:moveTo>
                  <a:pt x="739" y="247"/>
                </a:moveTo>
                <a:lnTo>
                  <a:pt x="731" y="247"/>
                </a:lnTo>
                <a:lnTo>
                  <a:pt x="731" y="238"/>
                </a:lnTo>
                <a:lnTo>
                  <a:pt x="739" y="238"/>
                </a:lnTo>
                <a:lnTo>
                  <a:pt x="739" y="247"/>
                </a:lnTo>
                <a:close/>
                <a:moveTo>
                  <a:pt x="308" y="0"/>
                </a:moveTo>
                <a:lnTo>
                  <a:pt x="318" y="0"/>
                </a:lnTo>
                <a:lnTo>
                  <a:pt x="318" y="10"/>
                </a:lnTo>
                <a:lnTo>
                  <a:pt x="308" y="10"/>
                </a:lnTo>
                <a:lnTo>
                  <a:pt x="308" y="0"/>
                </a:lnTo>
                <a:close/>
                <a:moveTo>
                  <a:pt x="308" y="37"/>
                </a:moveTo>
                <a:lnTo>
                  <a:pt x="318" y="37"/>
                </a:lnTo>
                <a:lnTo>
                  <a:pt x="318" y="45"/>
                </a:lnTo>
                <a:lnTo>
                  <a:pt x="308" y="45"/>
                </a:lnTo>
                <a:lnTo>
                  <a:pt x="308" y="37"/>
                </a:lnTo>
                <a:close/>
                <a:moveTo>
                  <a:pt x="308" y="72"/>
                </a:moveTo>
                <a:lnTo>
                  <a:pt x="318" y="72"/>
                </a:lnTo>
                <a:lnTo>
                  <a:pt x="318" y="81"/>
                </a:lnTo>
                <a:lnTo>
                  <a:pt x="308" y="81"/>
                </a:lnTo>
                <a:lnTo>
                  <a:pt x="308" y="72"/>
                </a:lnTo>
                <a:close/>
                <a:moveTo>
                  <a:pt x="308" y="109"/>
                </a:moveTo>
                <a:lnTo>
                  <a:pt x="318" y="109"/>
                </a:lnTo>
                <a:lnTo>
                  <a:pt x="318" y="118"/>
                </a:lnTo>
                <a:lnTo>
                  <a:pt x="308" y="118"/>
                </a:lnTo>
                <a:lnTo>
                  <a:pt x="308" y="109"/>
                </a:lnTo>
                <a:close/>
                <a:moveTo>
                  <a:pt x="308" y="145"/>
                </a:moveTo>
                <a:lnTo>
                  <a:pt x="318" y="145"/>
                </a:lnTo>
                <a:lnTo>
                  <a:pt x="318" y="154"/>
                </a:lnTo>
                <a:lnTo>
                  <a:pt x="308" y="154"/>
                </a:lnTo>
                <a:lnTo>
                  <a:pt x="308" y="145"/>
                </a:lnTo>
                <a:close/>
                <a:moveTo>
                  <a:pt x="308" y="181"/>
                </a:moveTo>
                <a:lnTo>
                  <a:pt x="318" y="181"/>
                </a:lnTo>
                <a:lnTo>
                  <a:pt x="318" y="190"/>
                </a:lnTo>
                <a:lnTo>
                  <a:pt x="308" y="190"/>
                </a:lnTo>
                <a:lnTo>
                  <a:pt x="308" y="181"/>
                </a:lnTo>
                <a:close/>
                <a:moveTo>
                  <a:pt x="308" y="217"/>
                </a:moveTo>
                <a:lnTo>
                  <a:pt x="318" y="217"/>
                </a:lnTo>
                <a:lnTo>
                  <a:pt x="318" y="226"/>
                </a:lnTo>
                <a:lnTo>
                  <a:pt x="308" y="226"/>
                </a:lnTo>
                <a:lnTo>
                  <a:pt x="308" y="217"/>
                </a:lnTo>
                <a:close/>
                <a:moveTo>
                  <a:pt x="308" y="253"/>
                </a:moveTo>
                <a:lnTo>
                  <a:pt x="318" y="253"/>
                </a:lnTo>
                <a:lnTo>
                  <a:pt x="318" y="263"/>
                </a:lnTo>
                <a:lnTo>
                  <a:pt x="308" y="263"/>
                </a:lnTo>
                <a:lnTo>
                  <a:pt x="308" y="253"/>
                </a:lnTo>
                <a:close/>
                <a:moveTo>
                  <a:pt x="308" y="290"/>
                </a:moveTo>
                <a:lnTo>
                  <a:pt x="318" y="290"/>
                </a:lnTo>
                <a:lnTo>
                  <a:pt x="318" y="298"/>
                </a:lnTo>
                <a:lnTo>
                  <a:pt x="308" y="298"/>
                </a:lnTo>
                <a:lnTo>
                  <a:pt x="308" y="290"/>
                </a:lnTo>
                <a:close/>
                <a:moveTo>
                  <a:pt x="308" y="325"/>
                </a:moveTo>
                <a:lnTo>
                  <a:pt x="318" y="325"/>
                </a:lnTo>
                <a:lnTo>
                  <a:pt x="318" y="334"/>
                </a:lnTo>
                <a:lnTo>
                  <a:pt x="308" y="334"/>
                </a:lnTo>
                <a:lnTo>
                  <a:pt x="308" y="325"/>
                </a:lnTo>
                <a:close/>
                <a:moveTo>
                  <a:pt x="308" y="361"/>
                </a:moveTo>
                <a:lnTo>
                  <a:pt x="318" y="361"/>
                </a:lnTo>
                <a:lnTo>
                  <a:pt x="318" y="371"/>
                </a:lnTo>
                <a:lnTo>
                  <a:pt x="308" y="371"/>
                </a:lnTo>
                <a:lnTo>
                  <a:pt x="308" y="361"/>
                </a:lnTo>
                <a:close/>
                <a:moveTo>
                  <a:pt x="308" y="398"/>
                </a:moveTo>
                <a:lnTo>
                  <a:pt x="318" y="398"/>
                </a:lnTo>
                <a:lnTo>
                  <a:pt x="318" y="407"/>
                </a:lnTo>
                <a:lnTo>
                  <a:pt x="308" y="407"/>
                </a:lnTo>
                <a:lnTo>
                  <a:pt x="308" y="398"/>
                </a:lnTo>
                <a:close/>
                <a:moveTo>
                  <a:pt x="308" y="434"/>
                </a:moveTo>
                <a:lnTo>
                  <a:pt x="318" y="434"/>
                </a:lnTo>
                <a:lnTo>
                  <a:pt x="318" y="442"/>
                </a:lnTo>
                <a:lnTo>
                  <a:pt x="308" y="442"/>
                </a:lnTo>
                <a:lnTo>
                  <a:pt x="308" y="434"/>
                </a:lnTo>
                <a:close/>
                <a:moveTo>
                  <a:pt x="308" y="470"/>
                </a:moveTo>
                <a:lnTo>
                  <a:pt x="318" y="470"/>
                </a:lnTo>
                <a:lnTo>
                  <a:pt x="318" y="479"/>
                </a:lnTo>
                <a:lnTo>
                  <a:pt x="308" y="479"/>
                </a:lnTo>
                <a:lnTo>
                  <a:pt x="308" y="470"/>
                </a:lnTo>
                <a:close/>
                <a:moveTo>
                  <a:pt x="308" y="506"/>
                </a:moveTo>
                <a:lnTo>
                  <a:pt x="318" y="506"/>
                </a:lnTo>
                <a:lnTo>
                  <a:pt x="318" y="515"/>
                </a:lnTo>
                <a:lnTo>
                  <a:pt x="308" y="515"/>
                </a:lnTo>
                <a:lnTo>
                  <a:pt x="308" y="506"/>
                </a:lnTo>
                <a:close/>
                <a:moveTo>
                  <a:pt x="308" y="542"/>
                </a:moveTo>
                <a:lnTo>
                  <a:pt x="318" y="542"/>
                </a:lnTo>
                <a:lnTo>
                  <a:pt x="318" y="551"/>
                </a:lnTo>
                <a:lnTo>
                  <a:pt x="308" y="551"/>
                </a:lnTo>
                <a:lnTo>
                  <a:pt x="308" y="542"/>
                </a:lnTo>
                <a:close/>
                <a:moveTo>
                  <a:pt x="308" y="579"/>
                </a:moveTo>
                <a:lnTo>
                  <a:pt x="318" y="579"/>
                </a:lnTo>
                <a:lnTo>
                  <a:pt x="318" y="587"/>
                </a:lnTo>
                <a:lnTo>
                  <a:pt x="308" y="587"/>
                </a:lnTo>
                <a:lnTo>
                  <a:pt x="308" y="579"/>
                </a:lnTo>
                <a:close/>
                <a:moveTo>
                  <a:pt x="294" y="592"/>
                </a:moveTo>
                <a:lnTo>
                  <a:pt x="294" y="601"/>
                </a:lnTo>
                <a:lnTo>
                  <a:pt x="286" y="601"/>
                </a:lnTo>
                <a:lnTo>
                  <a:pt x="286" y="592"/>
                </a:lnTo>
                <a:lnTo>
                  <a:pt x="294" y="592"/>
                </a:lnTo>
                <a:close/>
                <a:moveTo>
                  <a:pt x="259" y="592"/>
                </a:moveTo>
                <a:lnTo>
                  <a:pt x="259" y="601"/>
                </a:lnTo>
                <a:lnTo>
                  <a:pt x="250" y="601"/>
                </a:lnTo>
                <a:lnTo>
                  <a:pt x="250" y="592"/>
                </a:lnTo>
                <a:lnTo>
                  <a:pt x="259" y="592"/>
                </a:lnTo>
                <a:close/>
                <a:moveTo>
                  <a:pt x="223" y="592"/>
                </a:moveTo>
                <a:lnTo>
                  <a:pt x="223" y="601"/>
                </a:lnTo>
                <a:lnTo>
                  <a:pt x="213" y="601"/>
                </a:lnTo>
                <a:lnTo>
                  <a:pt x="213" y="592"/>
                </a:lnTo>
                <a:lnTo>
                  <a:pt x="223" y="592"/>
                </a:lnTo>
                <a:close/>
                <a:moveTo>
                  <a:pt x="186" y="592"/>
                </a:moveTo>
                <a:lnTo>
                  <a:pt x="186" y="601"/>
                </a:lnTo>
                <a:lnTo>
                  <a:pt x="177" y="601"/>
                </a:lnTo>
                <a:lnTo>
                  <a:pt x="177" y="592"/>
                </a:lnTo>
                <a:lnTo>
                  <a:pt x="186" y="592"/>
                </a:lnTo>
                <a:close/>
                <a:moveTo>
                  <a:pt x="150" y="592"/>
                </a:moveTo>
                <a:lnTo>
                  <a:pt x="150" y="601"/>
                </a:lnTo>
                <a:lnTo>
                  <a:pt x="141" y="601"/>
                </a:lnTo>
                <a:lnTo>
                  <a:pt x="141" y="592"/>
                </a:lnTo>
                <a:lnTo>
                  <a:pt x="150" y="592"/>
                </a:lnTo>
                <a:close/>
                <a:moveTo>
                  <a:pt x="114" y="592"/>
                </a:moveTo>
                <a:lnTo>
                  <a:pt x="114" y="601"/>
                </a:lnTo>
                <a:lnTo>
                  <a:pt x="105" y="601"/>
                </a:lnTo>
                <a:lnTo>
                  <a:pt x="105" y="592"/>
                </a:lnTo>
                <a:lnTo>
                  <a:pt x="114" y="592"/>
                </a:lnTo>
                <a:close/>
                <a:moveTo>
                  <a:pt x="78" y="592"/>
                </a:moveTo>
                <a:lnTo>
                  <a:pt x="78" y="601"/>
                </a:lnTo>
                <a:lnTo>
                  <a:pt x="68" y="601"/>
                </a:lnTo>
                <a:lnTo>
                  <a:pt x="68" y="592"/>
                </a:lnTo>
                <a:lnTo>
                  <a:pt x="78" y="592"/>
                </a:lnTo>
                <a:close/>
                <a:moveTo>
                  <a:pt x="40" y="595"/>
                </a:moveTo>
                <a:lnTo>
                  <a:pt x="40" y="595"/>
                </a:lnTo>
                <a:lnTo>
                  <a:pt x="40" y="597"/>
                </a:lnTo>
                <a:lnTo>
                  <a:pt x="39" y="597"/>
                </a:lnTo>
                <a:lnTo>
                  <a:pt x="39" y="597"/>
                </a:lnTo>
                <a:lnTo>
                  <a:pt x="38" y="597"/>
                </a:lnTo>
                <a:lnTo>
                  <a:pt x="38" y="597"/>
                </a:lnTo>
                <a:lnTo>
                  <a:pt x="38" y="597"/>
                </a:lnTo>
                <a:lnTo>
                  <a:pt x="37" y="598"/>
                </a:lnTo>
                <a:lnTo>
                  <a:pt x="37" y="598"/>
                </a:lnTo>
                <a:lnTo>
                  <a:pt x="35" y="598"/>
                </a:lnTo>
                <a:lnTo>
                  <a:pt x="35" y="598"/>
                </a:lnTo>
                <a:lnTo>
                  <a:pt x="34" y="598"/>
                </a:lnTo>
                <a:lnTo>
                  <a:pt x="34" y="599"/>
                </a:lnTo>
                <a:lnTo>
                  <a:pt x="33" y="599"/>
                </a:lnTo>
                <a:lnTo>
                  <a:pt x="33" y="599"/>
                </a:lnTo>
                <a:lnTo>
                  <a:pt x="33" y="599"/>
                </a:lnTo>
                <a:lnTo>
                  <a:pt x="32" y="599"/>
                </a:lnTo>
                <a:lnTo>
                  <a:pt x="32" y="600"/>
                </a:lnTo>
                <a:lnTo>
                  <a:pt x="32" y="600"/>
                </a:lnTo>
                <a:lnTo>
                  <a:pt x="35" y="607"/>
                </a:lnTo>
                <a:lnTo>
                  <a:pt x="35" y="607"/>
                </a:lnTo>
                <a:lnTo>
                  <a:pt x="37" y="607"/>
                </a:lnTo>
                <a:lnTo>
                  <a:pt x="37" y="607"/>
                </a:lnTo>
                <a:lnTo>
                  <a:pt x="38" y="607"/>
                </a:lnTo>
                <a:lnTo>
                  <a:pt x="38" y="607"/>
                </a:lnTo>
                <a:lnTo>
                  <a:pt x="38" y="607"/>
                </a:lnTo>
                <a:lnTo>
                  <a:pt x="39" y="606"/>
                </a:lnTo>
                <a:lnTo>
                  <a:pt x="39" y="606"/>
                </a:lnTo>
                <a:lnTo>
                  <a:pt x="39" y="606"/>
                </a:lnTo>
                <a:lnTo>
                  <a:pt x="40" y="606"/>
                </a:lnTo>
                <a:lnTo>
                  <a:pt x="40" y="606"/>
                </a:lnTo>
                <a:lnTo>
                  <a:pt x="40" y="606"/>
                </a:lnTo>
                <a:lnTo>
                  <a:pt x="41" y="605"/>
                </a:lnTo>
                <a:lnTo>
                  <a:pt x="41" y="605"/>
                </a:lnTo>
                <a:lnTo>
                  <a:pt x="42" y="605"/>
                </a:lnTo>
                <a:lnTo>
                  <a:pt x="42" y="605"/>
                </a:lnTo>
                <a:lnTo>
                  <a:pt x="42" y="605"/>
                </a:lnTo>
                <a:lnTo>
                  <a:pt x="44" y="605"/>
                </a:lnTo>
                <a:lnTo>
                  <a:pt x="44" y="605"/>
                </a:lnTo>
                <a:lnTo>
                  <a:pt x="40" y="595"/>
                </a:lnTo>
                <a:close/>
                <a:moveTo>
                  <a:pt x="11" y="619"/>
                </a:moveTo>
                <a:lnTo>
                  <a:pt x="10" y="620"/>
                </a:lnTo>
                <a:lnTo>
                  <a:pt x="10" y="620"/>
                </a:lnTo>
                <a:lnTo>
                  <a:pt x="10" y="621"/>
                </a:lnTo>
                <a:lnTo>
                  <a:pt x="10" y="621"/>
                </a:lnTo>
                <a:lnTo>
                  <a:pt x="8" y="621"/>
                </a:lnTo>
                <a:lnTo>
                  <a:pt x="8" y="622"/>
                </a:lnTo>
                <a:lnTo>
                  <a:pt x="8" y="622"/>
                </a:lnTo>
                <a:lnTo>
                  <a:pt x="8" y="622"/>
                </a:lnTo>
                <a:lnTo>
                  <a:pt x="8" y="624"/>
                </a:lnTo>
                <a:lnTo>
                  <a:pt x="7" y="624"/>
                </a:lnTo>
                <a:lnTo>
                  <a:pt x="7" y="625"/>
                </a:lnTo>
                <a:lnTo>
                  <a:pt x="7" y="625"/>
                </a:lnTo>
                <a:lnTo>
                  <a:pt x="7" y="625"/>
                </a:lnTo>
                <a:lnTo>
                  <a:pt x="7" y="626"/>
                </a:lnTo>
                <a:lnTo>
                  <a:pt x="6" y="626"/>
                </a:lnTo>
                <a:lnTo>
                  <a:pt x="6" y="626"/>
                </a:lnTo>
                <a:lnTo>
                  <a:pt x="6" y="627"/>
                </a:lnTo>
                <a:lnTo>
                  <a:pt x="6" y="627"/>
                </a:lnTo>
                <a:lnTo>
                  <a:pt x="6" y="628"/>
                </a:lnTo>
                <a:lnTo>
                  <a:pt x="6" y="628"/>
                </a:lnTo>
                <a:lnTo>
                  <a:pt x="14" y="632"/>
                </a:lnTo>
                <a:lnTo>
                  <a:pt x="14" y="632"/>
                </a:lnTo>
                <a:lnTo>
                  <a:pt x="14" y="631"/>
                </a:lnTo>
                <a:lnTo>
                  <a:pt x="14" y="631"/>
                </a:lnTo>
                <a:lnTo>
                  <a:pt x="14" y="631"/>
                </a:lnTo>
                <a:lnTo>
                  <a:pt x="14" y="629"/>
                </a:lnTo>
                <a:lnTo>
                  <a:pt x="14" y="629"/>
                </a:lnTo>
                <a:lnTo>
                  <a:pt x="15" y="629"/>
                </a:lnTo>
                <a:lnTo>
                  <a:pt x="15" y="628"/>
                </a:lnTo>
                <a:lnTo>
                  <a:pt x="15" y="628"/>
                </a:lnTo>
                <a:lnTo>
                  <a:pt x="15" y="628"/>
                </a:lnTo>
                <a:lnTo>
                  <a:pt x="15" y="627"/>
                </a:lnTo>
                <a:lnTo>
                  <a:pt x="15" y="627"/>
                </a:lnTo>
                <a:lnTo>
                  <a:pt x="17" y="627"/>
                </a:lnTo>
                <a:lnTo>
                  <a:pt x="17" y="627"/>
                </a:lnTo>
                <a:lnTo>
                  <a:pt x="17" y="626"/>
                </a:lnTo>
                <a:lnTo>
                  <a:pt x="17" y="626"/>
                </a:lnTo>
                <a:lnTo>
                  <a:pt x="17" y="626"/>
                </a:lnTo>
                <a:lnTo>
                  <a:pt x="18" y="625"/>
                </a:lnTo>
                <a:lnTo>
                  <a:pt x="18" y="625"/>
                </a:lnTo>
                <a:lnTo>
                  <a:pt x="18" y="625"/>
                </a:lnTo>
                <a:lnTo>
                  <a:pt x="11" y="619"/>
                </a:lnTo>
                <a:close/>
                <a:moveTo>
                  <a:pt x="0" y="657"/>
                </a:moveTo>
                <a:lnTo>
                  <a:pt x="0" y="657"/>
                </a:lnTo>
                <a:lnTo>
                  <a:pt x="0" y="657"/>
                </a:lnTo>
                <a:lnTo>
                  <a:pt x="0" y="658"/>
                </a:lnTo>
                <a:lnTo>
                  <a:pt x="0" y="658"/>
                </a:lnTo>
                <a:lnTo>
                  <a:pt x="0" y="659"/>
                </a:lnTo>
                <a:lnTo>
                  <a:pt x="0" y="659"/>
                </a:lnTo>
                <a:lnTo>
                  <a:pt x="0" y="659"/>
                </a:lnTo>
                <a:lnTo>
                  <a:pt x="0" y="660"/>
                </a:lnTo>
                <a:lnTo>
                  <a:pt x="0" y="660"/>
                </a:lnTo>
                <a:lnTo>
                  <a:pt x="0" y="661"/>
                </a:lnTo>
                <a:lnTo>
                  <a:pt x="0" y="661"/>
                </a:lnTo>
                <a:lnTo>
                  <a:pt x="0" y="662"/>
                </a:lnTo>
                <a:lnTo>
                  <a:pt x="0" y="662"/>
                </a:lnTo>
                <a:lnTo>
                  <a:pt x="0" y="662"/>
                </a:lnTo>
                <a:lnTo>
                  <a:pt x="0" y="664"/>
                </a:lnTo>
                <a:lnTo>
                  <a:pt x="0" y="664"/>
                </a:lnTo>
                <a:lnTo>
                  <a:pt x="0" y="665"/>
                </a:lnTo>
                <a:lnTo>
                  <a:pt x="0" y="665"/>
                </a:lnTo>
                <a:lnTo>
                  <a:pt x="0" y="666"/>
                </a:lnTo>
                <a:lnTo>
                  <a:pt x="0" y="666"/>
                </a:lnTo>
                <a:lnTo>
                  <a:pt x="10" y="665"/>
                </a:lnTo>
                <a:lnTo>
                  <a:pt x="10" y="665"/>
                </a:lnTo>
                <a:lnTo>
                  <a:pt x="10" y="664"/>
                </a:lnTo>
                <a:lnTo>
                  <a:pt x="10" y="664"/>
                </a:lnTo>
                <a:lnTo>
                  <a:pt x="10" y="662"/>
                </a:lnTo>
                <a:lnTo>
                  <a:pt x="10" y="662"/>
                </a:lnTo>
                <a:lnTo>
                  <a:pt x="10" y="662"/>
                </a:lnTo>
                <a:lnTo>
                  <a:pt x="10" y="661"/>
                </a:lnTo>
                <a:lnTo>
                  <a:pt x="8" y="661"/>
                </a:lnTo>
                <a:lnTo>
                  <a:pt x="8" y="661"/>
                </a:lnTo>
                <a:lnTo>
                  <a:pt x="8" y="660"/>
                </a:lnTo>
                <a:lnTo>
                  <a:pt x="8" y="660"/>
                </a:lnTo>
                <a:lnTo>
                  <a:pt x="8" y="659"/>
                </a:lnTo>
                <a:lnTo>
                  <a:pt x="8" y="659"/>
                </a:lnTo>
                <a:lnTo>
                  <a:pt x="8" y="659"/>
                </a:lnTo>
                <a:lnTo>
                  <a:pt x="8" y="658"/>
                </a:lnTo>
                <a:lnTo>
                  <a:pt x="8" y="658"/>
                </a:lnTo>
                <a:lnTo>
                  <a:pt x="8" y="658"/>
                </a:lnTo>
                <a:lnTo>
                  <a:pt x="8" y="657"/>
                </a:lnTo>
                <a:lnTo>
                  <a:pt x="8" y="657"/>
                </a:lnTo>
                <a:lnTo>
                  <a:pt x="8" y="657"/>
                </a:lnTo>
                <a:lnTo>
                  <a:pt x="0" y="657"/>
                </a:lnTo>
                <a:close/>
                <a:moveTo>
                  <a:pt x="10" y="693"/>
                </a:moveTo>
                <a:lnTo>
                  <a:pt x="18" y="688"/>
                </a:lnTo>
                <a:lnTo>
                  <a:pt x="22" y="696"/>
                </a:lnTo>
                <a:lnTo>
                  <a:pt x="14" y="700"/>
                </a:lnTo>
                <a:lnTo>
                  <a:pt x="10" y="693"/>
                </a:lnTo>
                <a:close/>
                <a:moveTo>
                  <a:pt x="27" y="725"/>
                </a:moveTo>
                <a:lnTo>
                  <a:pt x="35" y="720"/>
                </a:lnTo>
                <a:lnTo>
                  <a:pt x="39" y="728"/>
                </a:lnTo>
                <a:lnTo>
                  <a:pt x="31" y="733"/>
                </a:lnTo>
                <a:lnTo>
                  <a:pt x="27" y="725"/>
                </a:lnTo>
                <a:close/>
                <a:moveTo>
                  <a:pt x="44" y="756"/>
                </a:moveTo>
                <a:lnTo>
                  <a:pt x="52" y="752"/>
                </a:lnTo>
                <a:lnTo>
                  <a:pt x="57" y="760"/>
                </a:lnTo>
                <a:lnTo>
                  <a:pt x="48" y="765"/>
                </a:lnTo>
                <a:lnTo>
                  <a:pt x="44" y="756"/>
                </a:lnTo>
                <a:close/>
                <a:moveTo>
                  <a:pt x="61" y="788"/>
                </a:moveTo>
                <a:lnTo>
                  <a:pt x="68" y="784"/>
                </a:lnTo>
                <a:lnTo>
                  <a:pt x="73" y="792"/>
                </a:lnTo>
                <a:lnTo>
                  <a:pt x="65" y="796"/>
                </a:lnTo>
                <a:lnTo>
                  <a:pt x="61" y="788"/>
                </a:lnTo>
                <a:close/>
                <a:moveTo>
                  <a:pt x="78" y="820"/>
                </a:moveTo>
                <a:lnTo>
                  <a:pt x="86" y="816"/>
                </a:lnTo>
                <a:lnTo>
                  <a:pt x="90" y="824"/>
                </a:lnTo>
                <a:lnTo>
                  <a:pt x="82" y="828"/>
                </a:lnTo>
                <a:lnTo>
                  <a:pt x="78" y="820"/>
                </a:lnTo>
                <a:close/>
                <a:moveTo>
                  <a:pt x="94" y="852"/>
                </a:moveTo>
                <a:lnTo>
                  <a:pt x="102" y="848"/>
                </a:lnTo>
                <a:lnTo>
                  <a:pt x="107" y="855"/>
                </a:lnTo>
                <a:lnTo>
                  <a:pt x="99" y="860"/>
                </a:lnTo>
                <a:lnTo>
                  <a:pt x="94" y="852"/>
                </a:lnTo>
                <a:close/>
                <a:moveTo>
                  <a:pt x="112" y="883"/>
                </a:moveTo>
                <a:lnTo>
                  <a:pt x="120" y="880"/>
                </a:lnTo>
                <a:lnTo>
                  <a:pt x="124" y="888"/>
                </a:lnTo>
                <a:lnTo>
                  <a:pt x="117" y="892"/>
                </a:lnTo>
                <a:lnTo>
                  <a:pt x="112" y="883"/>
                </a:lnTo>
                <a:close/>
                <a:moveTo>
                  <a:pt x="128" y="916"/>
                </a:moveTo>
                <a:lnTo>
                  <a:pt x="137" y="912"/>
                </a:lnTo>
                <a:lnTo>
                  <a:pt x="141" y="920"/>
                </a:lnTo>
                <a:lnTo>
                  <a:pt x="133" y="923"/>
                </a:lnTo>
                <a:lnTo>
                  <a:pt x="128" y="916"/>
                </a:lnTo>
                <a:close/>
                <a:moveTo>
                  <a:pt x="146" y="948"/>
                </a:moveTo>
                <a:lnTo>
                  <a:pt x="154" y="943"/>
                </a:lnTo>
                <a:lnTo>
                  <a:pt x="158" y="952"/>
                </a:lnTo>
                <a:lnTo>
                  <a:pt x="150" y="955"/>
                </a:lnTo>
                <a:lnTo>
                  <a:pt x="146" y="948"/>
                </a:lnTo>
                <a:close/>
                <a:moveTo>
                  <a:pt x="163" y="980"/>
                </a:moveTo>
                <a:lnTo>
                  <a:pt x="171" y="975"/>
                </a:lnTo>
                <a:lnTo>
                  <a:pt x="175" y="983"/>
                </a:lnTo>
                <a:lnTo>
                  <a:pt x="167" y="988"/>
                </a:lnTo>
                <a:lnTo>
                  <a:pt x="163" y="980"/>
                </a:lnTo>
                <a:close/>
                <a:moveTo>
                  <a:pt x="180" y="1012"/>
                </a:moveTo>
                <a:lnTo>
                  <a:pt x="187" y="1007"/>
                </a:lnTo>
                <a:lnTo>
                  <a:pt x="192" y="1015"/>
                </a:lnTo>
                <a:lnTo>
                  <a:pt x="184" y="1020"/>
                </a:lnTo>
                <a:lnTo>
                  <a:pt x="180" y="1012"/>
                </a:lnTo>
                <a:close/>
                <a:moveTo>
                  <a:pt x="197" y="1043"/>
                </a:moveTo>
                <a:lnTo>
                  <a:pt x="205" y="1039"/>
                </a:lnTo>
                <a:lnTo>
                  <a:pt x="208" y="1047"/>
                </a:lnTo>
                <a:lnTo>
                  <a:pt x="201" y="1052"/>
                </a:lnTo>
                <a:lnTo>
                  <a:pt x="197" y="1043"/>
                </a:lnTo>
                <a:close/>
                <a:moveTo>
                  <a:pt x="213" y="1075"/>
                </a:moveTo>
                <a:lnTo>
                  <a:pt x="221" y="1072"/>
                </a:lnTo>
                <a:lnTo>
                  <a:pt x="226" y="1079"/>
                </a:lnTo>
                <a:lnTo>
                  <a:pt x="218" y="1083"/>
                </a:lnTo>
                <a:lnTo>
                  <a:pt x="213" y="1075"/>
                </a:lnTo>
                <a:close/>
                <a:moveTo>
                  <a:pt x="231" y="1107"/>
                </a:moveTo>
                <a:lnTo>
                  <a:pt x="239" y="1103"/>
                </a:lnTo>
                <a:lnTo>
                  <a:pt x="243" y="1110"/>
                </a:lnTo>
                <a:lnTo>
                  <a:pt x="235" y="1115"/>
                </a:lnTo>
                <a:lnTo>
                  <a:pt x="231" y="1107"/>
                </a:lnTo>
                <a:close/>
                <a:moveTo>
                  <a:pt x="247" y="1139"/>
                </a:moveTo>
                <a:lnTo>
                  <a:pt x="255" y="1135"/>
                </a:lnTo>
                <a:lnTo>
                  <a:pt x="260" y="1143"/>
                </a:lnTo>
                <a:lnTo>
                  <a:pt x="252" y="1147"/>
                </a:lnTo>
                <a:lnTo>
                  <a:pt x="247" y="1139"/>
                </a:lnTo>
                <a:close/>
                <a:moveTo>
                  <a:pt x="265" y="1170"/>
                </a:moveTo>
                <a:lnTo>
                  <a:pt x="273" y="1167"/>
                </a:lnTo>
                <a:lnTo>
                  <a:pt x="277" y="1175"/>
                </a:lnTo>
                <a:lnTo>
                  <a:pt x="268" y="1179"/>
                </a:lnTo>
                <a:lnTo>
                  <a:pt x="265" y="1170"/>
                </a:lnTo>
                <a:close/>
                <a:moveTo>
                  <a:pt x="281" y="1203"/>
                </a:moveTo>
                <a:lnTo>
                  <a:pt x="290" y="1199"/>
                </a:lnTo>
                <a:lnTo>
                  <a:pt x="294" y="1207"/>
                </a:lnTo>
                <a:lnTo>
                  <a:pt x="286" y="1210"/>
                </a:lnTo>
                <a:lnTo>
                  <a:pt x="281" y="1203"/>
                </a:lnTo>
                <a:close/>
                <a:moveTo>
                  <a:pt x="299" y="1235"/>
                </a:moveTo>
                <a:lnTo>
                  <a:pt x="306" y="1230"/>
                </a:lnTo>
                <a:lnTo>
                  <a:pt x="311" y="1239"/>
                </a:lnTo>
                <a:lnTo>
                  <a:pt x="303" y="1242"/>
                </a:lnTo>
                <a:lnTo>
                  <a:pt x="299" y="1235"/>
                </a:lnTo>
                <a:close/>
                <a:moveTo>
                  <a:pt x="316" y="1267"/>
                </a:moveTo>
                <a:lnTo>
                  <a:pt x="324" y="1262"/>
                </a:lnTo>
                <a:lnTo>
                  <a:pt x="327" y="1270"/>
                </a:lnTo>
                <a:lnTo>
                  <a:pt x="320" y="1275"/>
                </a:lnTo>
                <a:lnTo>
                  <a:pt x="316" y="1267"/>
                </a:lnTo>
                <a:close/>
                <a:moveTo>
                  <a:pt x="332" y="1299"/>
                </a:moveTo>
                <a:lnTo>
                  <a:pt x="340" y="1294"/>
                </a:lnTo>
                <a:lnTo>
                  <a:pt x="345" y="1302"/>
                </a:lnTo>
                <a:lnTo>
                  <a:pt x="337" y="1307"/>
                </a:lnTo>
                <a:lnTo>
                  <a:pt x="332" y="1299"/>
                </a:lnTo>
                <a:close/>
                <a:moveTo>
                  <a:pt x="350" y="1330"/>
                </a:moveTo>
                <a:lnTo>
                  <a:pt x="358" y="1326"/>
                </a:lnTo>
                <a:lnTo>
                  <a:pt x="361" y="1334"/>
                </a:lnTo>
                <a:lnTo>
                  <a:pt x="353" y="1339"/>
                </a:lnTo>
                <a:lnTo>
                  <a:pt x="350" y="1330"/>
                </a:lnTo>
                <a:close/>
                <a:moveTo>
                  <a:pt x="366" y="1362"/>
                </a:moveTo>
                <a:lnTo>
                  <a:pt x="374" y="1359"/>
                </a:lnTo>
                <a:lnTo>
                  <a:pt x="379" y="1366"/>
                </a:lnTo>
                <a:lnTo>
                  <a:pt x="371" y="1370"/>
                </a:lnTo>
                <a:lnTo>
                  <a:pt x="366" y="1362"/>
                </a:lnTo>
                <a:close/>
                <a:moveTo>
                  <a:pt x="384" y="1394"/>
                </a:moveTo>
                <a:lnTo>
                  <a:pt x="391" y="1390"/>
                </a:lnTo>
                <a:lnTo>
                  <a:pt x="396" y="1397"/>
                </a:lnTo>
                <a:lnTo>
                  <a:pt x="387" y="1402"/>
                </a:lnTo>
                <a:lnTo>
                  <a:pt x="384" y="1394"/>
                </a:lnTo>
                <a:close/>
                <a:moveTo>
                  <a:pt x="400" y="1426"/>
                </a:moveTo>
                <a:lnTo>
                  <a:pt x="408" y="1422"/>
                </a:lnTo>
                <a:lnTo>
                  <a:pt x="413" y="1430"/>
                </a:lnTo>
                <a:lnTo>
                  <a:pt x="405" y="1434"/>
                </a:lnTo>
                <a:lnTo>
                  <a:pt x="400" y="1426"/>
                </a:lnTo>
                <a:close/>
                <a:moveTo>
                  <a:pt x="418" y="1459"/>
                </a:moveTo>
                <a:lnTo>
                  <a:pt x="425" y="1454"/>
                </a:lnTo>
                <a:lnTo>
                  <a:pt x="430" y="1462"/>
                </a:lnTo>
                <a:lnTo>
                  <a:pt x="421" y="1466"/>
                </a:lnTo>
                <a:lnTo>
                  <a:pt x="418" y="1459"/>
                </a:lnTo>
                <a:close/>
                <a:moveTo>
                  <a:pt x="434" y="1490"/>
                </a:moveTo>
                <a:lnTo>
                  <a:pt x="443" y="1486"/>
                </a:lnTo>
                <a:lnTo>
                  <a:pt x="446" y="1494"/>
                </a:lnTo>
                <a:lnTo>
                  <a:pt x="439" y="1497"/>
                </a:lnTo>
                <a:lnTo>
                  <a:pt x="434" y="1490"/>
                </a:lnTo>
                <a:close/>
                <a:moveTo>
                  <a:pt x="451" y="1522"/>
                </a:moveTo>
                <a:lnTo>
                  <a:pt x="459" y="1517"/>
                </a:lnTo>
                <a:lnTo>
                  <a:pt x="464" y="1526"/>
                </a:lnTo>
                <a:lnTo>
                  <a:pt x="456" y="1530"/>
                </a:lnTo>
                <a:lnTo>
                  <a:pt x="451" y="1522"/>
                </a:lnTo>
                <a:close/>
                <a:moveTo>
                  <a:pt x="468" y="1554"/>
                </a:moveTo>
                <a:lnTo>
                  <a:pt x="468" y="1554"/>
                </a:lnTo>
                <a:lnTo>
                  <a:pt x="468" y="1555"/>
                </a:lnTo>
                <a:lnTo>
                  <a:pt x="468" y="1555"/>
                </a:lnTo>
                <a:lnTo>
                  <a:pt x="470" y="1555"/>
                </a:lnTo>
                <a:lnTo>
                  <a:pt x="470" y="1556"/>
                </a:lnTo>
                <a:lnTo>
                  <a:pt x="470" y="1556"/>
                </a:lnTo>
                <a:lnTo>
                  <a:pt x="470" y="1557"/>
                </a:lnTo>
                <a:lnTo>
                  <a:pt x="471" y="1557"/>
                </a:lnTo>
                <a:lnTo>
                  <a:pt x="471" y="1558"/>
                </a:lnTo>
                <a:lnTo>
                  <a:pt x="471" y="1558"/>
                </a:lnTo>
                <a:lnTo>
                  <a:pt x="472" y="1558"/>
                </a:lnTo>
                <a:lnTo>
                  <a:pt x="472" y="1560"/>
                </a:lnTo>
                <a:lnTo>
                  <a:pt x="472" y="1560"/>
                </a:lnTo>
                <a:lnTo>
                  <a:pt x="472" y="1561"/>
                </a:lnTo>
                <a:lnTo>
                  <a:pt x="473" y="1561"/>
                </a:lnTo>
                <a:lnTo>
                  <a:pt x="473" y="1561"/>
                </a:lnTo>
                <a:lnTo>
                  <a:pt x="473" y="1562"/>
                </a:lnTo>
                <a:lnTo>
                  <a:pt x="473" y="1562"/>
                </a:lnTo>
                <a:lnTo>
                  <a:pt x="480" y="1556"/>
                </a:lnTo>
                <a:lnTo>
                  <a:pt x="480" y="1556"/>
                </a:lnTo>
                <a:lnTo>
                  <a:pt x="480" y="1556"/>
                </a:lnTo>
                <a:lnTo>
                  <a:pt x="480" y="1555"/>
                </a:lnTo>
                <a:lnTo>
                  <a:pt x="480" y="1555"/>
                </a:lnTo>
                <a:lnTo>
                  <a:pt x="479" y="1555"/>
                </a:lnTo>
                <a:lnTo>
                  <a:pt x="479" y="1554"/>
                </a:lnTo>
                <a:lnTo>
                  <a:pt x="479" y="1554"/>
                </a:lnTo>
                <a:lnTo>
                  <a:pt x="479" y="1554"/>
                </a:lnTo>
                <a:lnTo>
                  <a:pt x="478" y="1553"/>
                </a:lnTo>
                <a:lnTo>
                  <a:pt x="478" y="1553"/>
                </a:lnTo>
                <a:lnTo>
                  <a:pt x="478" y="1553"/>
                </a:lnTo>
                <a:lnTo>
                  <a:pt x="478" y="1551"/>
                </a:lnTo>
                <a:lnTo>
                  <a:pt x="478" y="1551"/>
                </a:lnTo>
                <a:lnTo>
                  <a:pt x="477" y="1551"/>
                </a:lnTo>
                <a:lnTo>
                  <a:pt x="477" y="1550"/>
                </a:lnTo>
                <a:lnTo>
                  <a:pt x="477" y="1550"/>
                </a:lnTo>
                <a:lnTo>
                  <a:pt x="477" y="1549"/>
                </a:lnTo>
                <a:lnTo>
                  <a:pt x="477" y="1549"/>
                </a:lnTo>
                <a:lnTo>
                  <a:pt x="468" y="1554"/>
                </a:lnTo>
                <a:close/>
                <a:moveTo>
                  <a:pt x="496" y="1581"/>
                </a:moveTo>
                <a:lnTo>
                  <a:pt x="496" y="1581"/>
                </a:lnTo>
                <a:lnTo>
                  <a:pt x="496" y="1581"/>
                </a:lnTo>
                <a:lnTo>
                  <a:pt x="497" y="1581"/>
                </a:lnTo>
                <a:lnTo>
                  <a:pt x="497" y="1582"/>
                </a:lnTo>
                <a:lnTo>
                  <a:pt x="498" y="1582"/>
                </a:lnTo>
                <a:lnTo>
                  <a:pt x="498" y="1582"/>
                </a:lnTo>
                <a:lnTo>
                  <a:pt x="498" y="1582"/>
                </a:lnTo>
                <a:lnTo>
                  <a:pt x="499" y="1582"/>
                </a:lnTo>
                <a:lnTo>
                  <a:pt x="499" y="1583"/>
                </a:lnTo>
                <a:lnTo>
                  <a:pt x="500" y="1583"/>
                </a:lnTo>
                <a:lnTo>
                  <a:pt x="500" y="1583"/>
                </a:lnTo>
                <a:lnTo>
                  <a:pt x="500" y="1583"/>
                </a:lnTo>
                <a:lnTo>
                  <a:pt x="501" y="1583"/>
                </a:lnTo>
                <a:lnTo>
                  <a:pt x="501" y="1584"/>
                </a:lnTo>
                <a:lnTo>
                  <a:pt x="503" y="1584"/>
                </a:lnTo>
                <a:lnTo>
                  <a:pt x="503" y="1584"/>
                </a:lnTo>
                <a:lnTo>
                  <a:pt x="503" y="1584"/>
                </a:lnTo>
                <a:lnTo>
                  <a:pt x="504" y="1584"/>
                </a:lnTo>
                <a:lnTo>
                  <a:pt x="504" y="1584"/>
                </a:lnTo>
                <a:lnTo>
                  <a:pt x="507" y="1576"/>
                </a:lnTo>
                <a:lnTo>
                  <a:pt x="507" y="1576"/>
                </a:lnTo>
                <a:lnTo>
                  <a:pt x="506" y="1576"/>
                </a:lnTo>
                <a:lnTo>
                  <a:pt x="506" y="1576"/>
                </a:lnTo>
                <a:lnTo>
                  <a:pt x="506" y="1576"/>
                </a:lnTo>
                <a:lnTo>
                  <a:pt x="505" y="1575"/>
                </a:lnTo>
                <a:lnTo>
                  <a:pt x="505" y="1575"/>
                </a:lnTo>
                <a:lnTo>
                  <a:pt x="504" y="1575"/>
                </a:lnTo>
                <a:lnTo>
                  <a:pt x="504" y="1575"/>
                </a:lnTo>
                <a:lnTo>
                  <a:pt x="504" y="1575"/>
                </a:lnTo>
                <a:lnTo>
                  <a:pt x="503" y="1575"/>
                </a:lnTo>
                <a:lnTo>
                  <a:pt x="503" y="1575"/>
                </a:lnTo>
                <a:lnTo>
                  <a:pt x="503" y="1574"/>
                </a:lnTo>
                <a:lnTo>
                  <a:pt x="501" y="1574"/>
                </a:lnTo>
                <a:lnTo>
                  <a:pt x="501" y="1574"/>
                </a:lnTo>
                <a:lnTo>
                  <a:pt x="501" y="1574"/>
                </a:lnTo>
                <a:lnTo>
                  <a:pt x="500" y="1574"/>
                </a:lnTo>
                <a:lnTo>
                  <a:pt x="500" y="1573"/>
                </a:lnTo>
                <a:lnTo>
                  <a:pt x="500" y="1573"/>
                </a:lnTo>
                <a:lnTo>
                  <a:pt x="499" y="1573"/>
                </a:lnTo>
                <a:lnTo>
                  <a:pt x="496" y="1581"/>
                </a:lnTo>
                <a:close/>
                <a:moveTo>
                  <a:pt x="533" y="1589"/>
                </a:moveTo>
                <a:lnTo>
                  <a:pt x="533" y="1589"/>
                </a:lnTo>
                <a:lnTo>
                  <a:pt x="533" y="1589"/>
                </a:lnTo>
                <a:lnTo>
                  <a:pt x="534" y="1588"/>
                </a:lnTo>
                <a:lnTo>
                  <a:pt x="534" y="1588"/>
                </a:lnTo>
                <a:lnTo>
                  <a:pt x="534" y="1588"/>
                </a:lnTo>
                <a:lnTo>
                  <a:pt x="536" y="1588"/>
                </a:lnTo>
                <a:lnTo>
                  <a:pt x="536" y="1588"/>
                </a:lnTo>
                <a:lnTo>
                  <a:pt x="537" y="1588"/>
                </a:lnTo>
                <a:lnTo>
                  <a:pt x="537" y="1588"/>
                </a:lnTo>
                <a:lnTo>
                  <a:pt x="538" y="1588"/>
                </a:lnTo>
                <a:lnTo>
                  <a:pt x="538" y="1588"/>
                </a:lnTo>
                <a:lnTo>
                  <a:pt x="539" y="1588"/>
                </a:lnTo>
                <a:lnTo>
                  <a:pt x="539" y="1588"/>
                </a:lnTo>
                <a:lnTo>
                  <a:pt x="539" y="1588"/>
                </a:lnTo>
                <a:lnTo>
                  <a:pt x="540" y="1588"/>
                </a:lnTo>
                <a:lnTo>
                  <a:pt x="540" y="1587"/>
                </a:lnTo>
                <a:lnTo>
                  <a:pt x="541" y="1587"/>
                </a:lnTo>
                <a:lnTo>
                  <a:pt x="541" y="1587"/>
                </a:lnTo>
                <a:lnTo>
                  <a:pt x="543" y="1587"/>
                </a:lnTo>
                <a:lnTo>
                  <a:pt x="543" y="1587"/>
                </a:lnTo>
                <a:lnTo>
                  <a:pt x="540" y="1578"/>
                </a:lnTo>
                <a:lnTo>
                  <a:pt x="540" y="1578"/>
                </a:lnTo>
                <a:lnTo>
                  <a:pt x="539" y="1578"/>
                </a:lnTo>
                <a:lnTo>
                  <a:pt x="539" y="1578"/>
                </a:lnTo>
                <a:lnTo>
                  <a:pt x="539" y="1578"/>
                </a:lnTo>
                <a:lnTo>
                  <a:pt x="538" y="1578"/>
                </a:lnTo>
                <a:lnTo>
                  <a:pt x="538" y="1578"/>
                </a:lnTo>
                <a:lnTo>
                  <a:pt x="537" y="1578"/>
                </a:lnTo>
                <a:lnTo>
                  <a:pt x="537" y="1578"/>
                </a:lnTo>
                <a:lnTo>
                  <a:pt x="537" y="1578"/>
                </a:lnTo>
                <a:lnTo>
                  <a:pt x="536" y="1578"/>
                </a:lnTo>
                <a:lnTo>
                  <a:pt x="536" y="1580"/>
                </a:lnTo>
                <a:lnTo>
                  <a:pt x="536" y="1580"/>
                </a:lnTo>
                <a:lnTo>
                  <a:pt x="534" y="1580"/>
                </a:lnTo>
                <a:lnTo>
                  <a:pt x="534" y="1580"/>
                </a:lnTo>
                <a:lnTo>
                  <a:pt x="533" y="1580"/>
                </a:lnTo>
                <a:lnTo>
                  <a:pt x="533" y="1580"/>
                </a:lnTo>
                <a:lnTo>
                  <a:pt x="533" y="1580"/>
                </a:lnTo>
                <a:lnTo>
                  <a:pt x="532" y="1580"/>
                </a:lnTo>
                <a:lnTo>
                  <a:pt x="532" y="1580"/>
                </a:lnTo>
                <a:lnTo>
                  <a:pt x="532" y="1580"/>
                </a:lnTo>
                <a:lnTo>
                  <a:pt x="533" y="1589"/>
                </a:lnTo>
                <a:close/>
                <a:moveTo>
                  <a:pt x="567" y="1573"/>
                </a:moveTo>
                <a:lnTo>
                  <a:pt x="567" y="1573"/>
                </a:lnTo>
                <a:lnTo>
                  <a:pt x="569" y="1573"/>
                </a:lnTo>
                <a:lnTo>
                  <a:pt x="569" y="1571"/>
                </a:lnTo>
                <a:lnTo>
                  <a:pt x="570" y="1571"/>
                </a:lnTo>
                <a:lnTo>
                  <a:pt x="570" y="1571"/>
                </a:lnTo>
                <a:lnTo>
                  <a:pt x="570" y="1570"/>
                </a:lnTo>
                <a:lnTo>
                  <a:pt x="571" y="1570"/>
                </a:lnTo>
                <a:lnTo>
                  <a:pt x="571" y="1570"/>
                </a:lnTo>
                <a:lnTo>
                  <a:pt x="571" y="1569"/>
                </a:lnTo>
                <a:lnTo>
                  <a:pt x="572" y="1569"/>
                </a:lnTo>
                <a:lnTo>
                  <a:pt x="572" y="1569"/>
                </a:lnTo>
                <a:lnTo>
                  <a:pt x="572" y="1568"/>
                </a:lnTo>
                <a:lnTo>
                  <a:pt x="573" y="1568"/>
                </a:lnTo>
                <a:lnTo>
                  <a:pt x="573" y="1567"/>
                </a:lnTo>
                <a:lnTo>
                  <a:pt x="573" y="1567"/>
                </a:lnTo>
                <a:lnTo>
                  <a:pt x="574" y="1567"/>
                </a:lnTo>
                <a:lnTo>
                  <a:pt x="574" y="1566"/>
                </a:lnTo>
                <a:lnTo>
                  <a:pt x="574" y="1566"/>
                </a:lnTo>
                <a:lnTo>
                  <a:pt x="567" y="1560"/>
                </a:lnTo>
                <a:lnTo>
                  <a:pt x="567" y="1560"/>
                </a:lnTo>
                <a:lnTo>
                  <a:pt x="567" y="1561"/>
                </a:lnTo>
                <a:lnTo>
                  <a:pt x="566" y="1561"/>
                </a:lnTo>
                <a:lnTo>
                  <a:pt x="566" y="1561"/>
                </a:lnTo>
                <a:lnTo>
                  <a:pt x="566" y="1562"/>
                </a:lnTo>
                <a:lnTo>
                  <a:pt x="565" y="1562"/>
                </a:lnTo>
                <a:lnTo>
                  <a:pt x="565" y="1562"/>
                </a:lnTo>
                <a:lnTo>
                  <a:pt x="565" y="1563"/>
                </a:lnTo>
                <a:lnTo>
                  <a:pt x="565" y="1563"/>
                </a:lnTo>
                <a:lnTo>
                  <a:pt x="564" y="1563"/>
                </a:lnTo>
                <a:lnTo>
                  <a:pt x="564" y="1564"/>
                </a:lnTo>
                <a:lnTo>
                  <a:pt x="564" y="1564"/>
                </a:lnTo>
                <a:lnTo>
                  <a:pt x="563" y="1564"/>
                </a:lnTo>
                <a:lnTo>
                  <a:pt x="563" y="1566"/>
                </a:lnTo>
                <a:lnTo>
                  <a:pt x="563" y="1566"/>
                </a:lnTo>
                <a:lnTo>
                  <a:pt x="563" y="1566"/>
                </a:lnTo>
                <a:lnTo>
                  <a:pt x="561" y="1566"/>
                </a:lnTo>
                <a:lnTo>
                  <a:pt x="561" y="1567"/>
                </a:lnTo>
                <a:lnTo>
                  <a:pt x="567" y="1573"/>
                </a:lnTo>
                <a:close/>
                <a:moveTo>
                  <a:pt x="589" y="1542"/>
                </a:moveTo>
                <a:lnTo>
                  <a:pt x="580" y="1537"/>
                </a:lnTo>
                <a:lnTo>
                  <a:pt x="585" y="1529"/>
                </a:lnTo>
                <a:lnTo>
                  <a:pt x="593" y="1534"/>
                </a:lnTo>
                <a:lnTo>
                  <a:pt x="589" y="1542"/>
                </a:lnTo>
                <a:close/>
                <a:moveTo>
                  <a:pt x="605" y="1510"/>
                </a:moveTo>
                <a:lnTo>
                  <a:pt x="598" y="1506"/>
                </a:lnTo>
                <a:lnTo>
                  <a:pt x="601" y="1497"/>
                </a:lnTo>
                <a:lnTo>
                  <a:pt x="610" y="1502"/>
                </a:lnTo>
                <a:lnTo>
                  <a:pt x="605" y="1510"/>
                </a:lnTo>
                <a:close/>
                <a:moveTo>
                  <a:pt x="623" y="1477"/>
                </a:moveTo>
                <a:lnTo>
                  <a:pt x="614" y="1474"/>
                </a:lnTo>
                <a:lnTo>
                  <a:pt x="619" y="1466"/>
                </a:lnTo>
                <a:lnTo>
                  <a:pt x="627" y="1470"/>
                </a:lnTo>
                <a:lnTo>
                  <a:pt x="623" y="1477"/>
                </a:lnTo>
                <a:close/>
                <a:moveTo>
                  <a:pt x="639" y="1446"/>
                </a:moveTo>
                <a:lnTo>
                  <a:pt x="632" y="1442"/>
                </a:lnTo>
                <a:lnTo>
                  <a:pt x="636" y="1434"/>
                </a:lnTo>
                <a:lnTo>
                  <a:pt x="644" y="1439"/>
                </a:lnTo>
                <a:lnTo>
                  <a:pt x="639" y="1446"/>
                </a:lnTo>
                <a:close/>
                <a:moveTo>
                  <a:pt x="657" y="1414"/>
                </a:moveTo>
                <a:lnTo>
                  <a:pt x="649" y="1410"/>
                </a:lnTo>
                <a:lnTo>
                  <a:pt x="653" y="1402"/>
                </a:lnTo>
                <a:lnTo>
                  <a:pt x="662" y="1407"/>
                </a:lnTo>
                <a:lnTo>
                  <a:pt x="657" y="1414"/>
                </a:lnTo>
                <a:close/>
                <a:moveTo>
                  <a:pt x="673" y="1382"/>
                </a:moveTo>
                <a:lnTo>
                  <a:pt x="666" y="1379"/>
                </a:lnTo>
                <a:lnTo>
                  <a:pt x="670" y="1370"/>
                </a:lnTo>
                <a:lnTo>
                  <a:pt x="678" y="1374"/>
                </a:lnTo>
                <a:lnTo>
                  <a:pt x="673" y="1382"/>
                </a:lnTo>
                <a:close/>
                <a:moveTo>
                  <a:pt x="691" y="1350"/>
                </a:moveTo>
                <a:lnTo>
                  <a:pt x="683" y="1347"/>
                </a:lnTo>
                <a:lnTo>
                  <a:pt x="687" y="1339"/>
                </a:lnTo>
                <a:lnTo>
                  <a:pt x="696" y="1342"/>
                </a:lnTo>
                <a:lnTo>
                  <a:pt x="691" y="1350"/>
                </a:lnTo>
                <a:close/>
                <a:moveTo>
                  <a:pt x="707" y="1319"/>
                </a:moveTo>
                <a:lnTo>
                  <a:pt x="700" y="1314"/>
                </a:lnTo>
                <a:lnTo>
                  <a:pt x="704" y="1307"/>
                </a:lnTo>
                <a:lnTo>
                  <a:pt x="712" y="1310"/>
                </a:lnTo>
                <a:lnTo>
                  <a:pt x="707" y="1319"/>
                </a:lnTo>
                <a:close/>
                <a:moveTo>
                  <a:pt x="725" y="1287"/>
                </a:moveTo>
                <a:lnTo>
                  <a:pt x="717" y="1282"/>
                </a:lnTo>
                <a:lnTo>
                  <a:pt x="722" y="1275"/>
                </a:lnTo>
                <a:lnTo>
                  <a:pt x="730" y="1279"/>
                </a:lnTo>
                <a:lnTo>
                  <a:pt x="725" y="1287"/>
                </a:lnTo>
                <a:close/>
                <a:moveTo>
                  <a:pt x="742" y="1255"/>
                </a:moveTo>
                <a:lnTo>
                  <a:pt x="734" y="1250"/>
                </a:lnTo>
                <a:lnTo>
                  <a:pt x="738" y="1242"/>
                </a:lnTo>
                <a:lnTo>
                  <a:pt x="746" y="1247"/>
                </a:lnTo>
                <a:lnTo>
                  <a:pt x="742" y="1255"/>
                </a:lnTo>
                <a:close/>
                <a:moveTo>
                  <a:pt x="759" y="1223"/>
                </a:moveTo>
                <a:lnTo>
                  <a:pt x="751" y="1219"/>
                </a:lnTo>
                <a:lnTo>
                  <a:pt x="756" y="1210"/>
                </a:lnTo>
                <a:lnTo>
                  <a:pt x="764" y="1215"/>
                </a:lnTo>
                <a:lnTo>
                  <a:pt x="759" y="1223"/>
                </a:lnTo>
                <a:close/>
                <a:moveTo>
                  <a:pt x="776" y="1192"/>
                </a:moveTo>
                <a:lnTo>
                  <a:pt x="769" y="1187"/>
                </a:lnTo>
                <a:lnTo>
                  <a:pt x="772" y="1179"/>
                </a:lnTo>
                <a:lnTo>
                  <a:pt x="780" y="1183"/>
                </a:lnTo>
                <a:lnTo>
                  <a:pt x="776" y="1192"/>
                </a:lnTo>
                <a:close/>
                <a:moveTo>
                  <a:pt x="793" y="1160"/>
                </a:moveTo>
                <a:lnTo>
                  <a:pt x="785" y="1155"/>
                </a:lnTo>
                <a:lnTo>
                  <a:pt x="790" y="1147"/>
                </a:lnTo>
                <a:lnTo>
                  <a:pt x="797" y="1152"/>
                </a:lnTo>
                <a:lnTo>
                  <a:pt x="793" y="1160"/>
                </a:lnTo>
                <a:close/>
                <a:moveTo>
                  <a:pt x="810" y="1128"/>
                </a:moveTo>
                <a:lnTo>
                  <a:pt x="803" y="1123"/>
                </a:lnTo>
                <a:lnTo>
                  <a:pt x="806" y="1115"/>
                </a:lnTo>
                <a:lnTo>
                  <a:pt x="815" y="1120"/>
                </a:lnTo>
                <a:lnTo>
                  <a:pt x="810" y="1128"/>
                </a:lnTo>
                <a:close/>
                <a:moveTo>
                  <a:pt x="827" y="1095"/>
                </a:moveTo>
                <a:lnTo>
                  <a:pt x="819" y="1092"/>
                </a:lnTo>
                <a:lnTo>
                  <a:pt x="824" y="1083"/>
                </a:lnTo>
                <a:lnTo>
                  <a:pt x="831" y="1088"/>
                </a:lnTo>
                <a:lnTo>
                  <a:pt x="827" y="1095"/>
                </a:lnTo>
                <a:close/>
                <a:moveTo>
                  <a:pt x="844" y="1063"/>
                </a:moveTo>
                <a:lnTo>
                  <a:pt x="837" y="1060"/>
                </a:lnTo>
                <a:lnTo>
                  <a:pt x="840" y="1052"/>
                </a:lnTo>
                <a:lnTo>
                  <a:pt x="849" y="1056"/>
                </a:lnTo>
                <a:lnTo>
                  <a:pt x="844" y="1063"/>
                </a:lnTo>
                <a:close/>
                <a:moveTo>
                  <a:pt x="862" y="1032"/>
                </a:moveTo>
                <a:lnTo>
                  <a:pt x="853" y="1028"/>
                </a:lnTo>
                <a:lnTo>
                  <a:pt x="858" y="1020"/>
                </a:lnTo>
                <a:lnTo>
                  <a:pt x="865" y="1025"/>
                </a:lnTo>
                <a:lnTo>
                  <a:pt x="862" y="1032"/>
                </a:lnTo>
                <a:close/>
                <a:moveTo>
                  <a:pt x="878" y="1000"/>
                </a:moveTo>
                <a:lnTo>
                  <a:pt x="871" y="996"/>
                </a:lnTo>
                <a:lnTo>
                  <a:pt x="875" y="988"/>
                </a:lnTo>
                <a:lnTo>
                  <a:pt x="883" y="992"/>
                </a:lnTo>
                <a:lnTo>
                  <a:pt x="878" y="1000"/>
                </a:lnTo>
                <a:close/>
                <a:moveTo>
                  <a:pt x="896" y="968"/>
                </a:moveTo>
                <a:lnTo>
                  <a:pt x="887" y="963"/>
                </a:lnTo>
                <a:lnTo>
                  <a:pt x="892" y="956"/>
                </a:lnTo>
                <a:lnTo>
                  <a:pt x="899" y="960"/>
                </a:lnTo>
                <a:lnTo>
                  <a:pt x="896" y="968"/>
                </a:lnTo>
                <a:close/>
                <a:moveTo>
                  <a:pt x="912" y="936"/>
                </a:moveTo>
                <a:lnTo>
                  <a:pt x="905" y="932"/>
                </a:lnTo>
                <a:lnTo>
                  <a:pt x="909" y="925"/>
                </a:lnTo>
                <a:lnTo>
                  <a:pt x="917" y="928"/>
                </a:lnTo>
                <a:lnTo>
                  <a:pt x="912" y="936"/>
                </a:lnTo>
                <a:close/>
                <a:moveTo>
                  <a:pt x="930" y="905"/>
                </a:moveTo>
                <a:lnTo>
                  <a:pt x="922" y="900"/>
                </a:lnTo>
                <a:lnTo>
                  <a:pt x="926" y="893"/>
                </a:lnTo>
                <a:lnTo>
                  <a:pt x="933" y="896"/>
                </a:lnTo>
                <a:lnTo>
                  <a:pt x="930" y="905"/>
                </a:lnTo>
                <a:close/>
                <a:moveTo>
                  <a:pt x="946" y="873"/>
                </a:moveTo>
                <a:lnTo>
                  <a:pt x="939" y="868"/>
                </a:lnTo>
                <a:lnTo>
                  <a:pt x="943" y="860"/>
                </a:lnTo>
                <a:lnTo>
                  <a:pt x="951" y="865"/>
                </a:lnTo>
                <a:lnTo>
                  <a:pt x="946" y="873"/>
                </a:lnTo>
                <a:close/>
                <a:moveTo>
                  <a:pt x="964" y="841"/>
                </a:moveTo>
                <a:lnTo>
                  <a:pt x="956" y="836"/>
                </a:lnTo>
                <a:lnTo>
                  <a:pt x="960" y="828"/>
                </a:lnTo>
                <a:lnTo>
                  <a:pt x="968" y="833"/>
                </a:lnTo>
                <a:lnTo>
                  <a:pt x="964" y="841"/>
                </a:lnTo>
                <a:close/>
                <a:moveTo>
                  <a:pt x="980" y="809"/>
                </a:moveTo>
                <a:lnTo>
                  <a:pt x="972" y="805"/>
                </a:lnTo>
                <a:lnTo>
                  <a:pt x="977" y="796"/>
                </a:lnTo>
                <a:lnTo>
                  <a:pt x="985" y="801"/>
                </a:lnTo>
                <a:lnTo>
                  <a:pt x="980" y="809"/>
                </a:lnTo>
                <a:close/>
                <a:moveTo>
                  <a:pt x="998" y="778"/>
                </a:moveTo>
                <a:lnTo>
                  <a:pt x="990" y="773"/>
                </a:lnTo>
                <a:lnTo>
                  <a:pt x="995" y="765"/>
                </a:lnTo>
                <a:lnTo>
                  <a:pt x="1002" y="769"/>
                </a:lnTo>
                <a:lnTo>
                  <a:pt x="998" y="778"/>
                </a:lnTo>
                <a:close/>
                <a:moveTo>
                  <a:pt x="1015" y="746"/>
                </a:moveTo>
                <a:lnTo>
                  <a:pt x="1006" y="741"/>
                </a:lnTo>
                <a:lnTo>
                  <a:pt x="1011" y="733"/>
                </a:lnTo>
                <a:lnTo>
                  <a:pt x="1019" y="738"/>
                </a:lnTo>
                <a:lnTo>
                  <a:pt x="1015" y="746"/>
                </a:lnTo>
                <a:close/>
                <a:moveTo>
                  <a:pt x="1032" y="713"/>
                </a:moveTo>
                <a:lnTo>
                  <a:pt x="1024" y="709"/>
                </a:lnTo>
                <a:lnTo>
                  <a:pt x="1029" y="701"/>
                </a:lnTo>
                <a:lnTo>
                  <a:pt x="1036" y="706"/>
                </a:lnTo>
                <a:lnTo>
                  <a:pt x="1032" y="713"/>
                </a:lnTo>
                <a:close/>
                <a:moveTo>
                  <a:pt x="1049" y="681"/>
                </a:moveTo>
                <a:lnTo>
                  <a:pt x="1049" y="680"/>
                </a:lnTo>
                <a:lnTo>
                  <a:pt x="1049" y="680"/>
                </a:lnTo>
                <a:lnTo>
                  <a:pt x="1050" y="680"/>
                </a:lnTo>
                <a:lnTo>
                  <a:pt x="1050" y="679"/>
                </a:lnTo>
                <a:lnTo>
                  <a:pt x="1050" y="679"/>
                </a:lnTo>
                <a:lnTo>
                  <a:pt x="1050" y="678"/>
                </a:lnTo>
                <a:lnTo>
                  <a:pt x="1050" y="678"/>
                </a:lnTo>
                <a:lnTo>
                  <a:pt x="1050" y="678"/>
                </a:lnTo>
                <a:lnTo>
                  <a:pt x="1050" y="677"/>
                </a:lnTo>
                <a:lnTo>
                  <a:pt x="1051" y="677"/>
                </a:lnTo>
                <a:lnTo>
                  <a:pt x="1051" y="675"/>
                </a:lnTo>
                <a:lnTo>
                  <a:pt x="1051" y="675"/>
                </a:lnTo>
                <a:lnTo>
                  <a:pt x="1051" y="675"/>
                </a:lnTo>
                <a:lnTo>
                  <a:pt x="1051" y="674"/>
                </a:lnTo>
                <a:lnTo>
                  <a:pt x="1051" y="674"/>
                </a:lnTo>
                <a:lnTo>
                  <a:pt x="1051" y="673"/>
                </a:lnTo>
                <a:lnTo>
                  <a:pt x="1051" y="673"/>
                </a:lnTo>
                <a:lnTo>
                  <a:pt x="1051" y="673"/>
                </a:lnTo>
                <a:lnTo>
                  <a:pt x="1052" y="672"/>
                </a:lnTo>
                <a:lnTo>
                  <a:pt x="1052" y="672"/>
                </a:lnTo>
                <a:lnTo>
                  <a:pt x="1043" y="669"/>
                </a:lnTo>
                <a:lnTo>
                  <a:pt x="1043" y="669"/>
                </a:lnTo>
                <a:lnTo>
                  <a:pt x="1043" y="671"/>
                </a:lnTo>
                <a:lnTo>
                  <a:pt x="1043" y="671"/>
                </a:lnTo>
                <a:lnTo>
                  <a:pt x="1043" y="671"/>
                </a:lnTo>
                <a:lnTo>
                  <a:pt x="1043" y="672"/>
                </a:lnTo>
                <a:lnTo>
                  <a:pt x="1043" y="672"/>
                </a:lnTo>
                <a:lnTo>
                  <a:pt x="1043" y="672"/>
                </a:lnTo>
                <a:lnTo>
                  <a:pt x="1042" y="673"/>
                </a:lnTo>
                <a:lnTo>
                  <a:pt x="1042" y="673"/>
                </a:lnTo>
                <a:lnTo>
                  <a:pt x="1042" y="674"/>
                </a:lnTo>
                <a:lnTo>
                  <a:pt x="1042" y="674"/>
                </a:lnTo>
                <a:lnTo>
                  <a:pt x="1042" y="674"/>
                </a:lnTo>
                <a:lnTo>
                  <a:pt x="1042" y="675"/>
                </a:lnTo>
                <a:lnTo>
                  <a:pt x="1042" y="675"/>
                </a:lnTo>
                <a:lnTo>
                  <a:pt x="1042" y="675"/>
                </a:lnTo>
                <a:lnTo>
                  <a:pt x="1042" y="677"/>
                </a:lnTo>
                <a:lnTo>
                  <a:pt x="1040" y="677"/>
                </a:lnTo>
                <a:lnTo>
                  <a:pt x="1040" y="677"/>
                </a:lnTo>
                <a:lnTo>
                  <a:pt x="1040" y="678"/>
                </a:lnTo>
                <a:lnTo>
                  <a:pt x="1040" y="678"/>
                </a:lnTo>
                <a:lnTo>
                  <a:pt x="1049" y="681"/>
                </a:lnTo>
                <a:close/>
                <a:moveTo>
                  <a:pt x="1052" y="644"/>
                </a:moveTo>
                <a:lnTo>
                  <a:pt x="1052" y="642"/>
                </a:lnTo>
                <a:lnTo>
                  <a:pt x="1052" y="642"/>
                </a:lnTo>
                <a:lnTo>
                  <a:pt x="1052" y="641"/>
                </a:lnTo>
                <a:lnTo>
                  <a:pt x="1052" y="641"/>
                </a:lnTo>
                <a:lnTo>
                  <a:pt x="1052" y="640"/>
                </a:lnTo>
                <a:lnTo>
                  <a:pt x="1052" y="640"/>
                </a:lnTo>
                <a:lnTo>
                  <a:pt x="1052" y="640"/>
                </a:lnTo>
                <a:lnTo>
                  <a:pt x="1052" y="639"/>
                </a:lnTo>
                <a:lnTo>
                  <a:pt x="1052" y="639"/>
                </a:lnTo>
                <a:lnTo>
                  <a:pt x="1051" y="638"/>
                </a:lnTo>
                <a:lnTo>
                  <a:pt x="1051" y="638"/>
                </a:lnTo>
                <a:lnTo>
                  <a:pt x="1051" y="638"/>
                </a:lnTo>
                <a:lnTo>
                  <a:pt x="1051" y="637"/>
                </a:lnTo>
                <a:lnTo>
                  <a:pt x="1051" y="637"/>
                </a:lnTo>
                <a:lnTo>
                  <a:pt x="1051" y="635"/>
                </a:lnTo>
                <a:lnTo>
                  <a:pt x="1051" y="635"/>
                </a:lnTo>
                <a:lnTo>
                  <a:pt x="1051" y="635"/>
                </a:lnTo>
                <a:lnTo>
                  <a:pt x="1050" y="634"/>
                </a:lnTo>
                <a:lnTo>
                  <a:pt x="1050" y="634"/>
                </a:lnTo>
                <a:lnTo>
                  <a:pt x="1050" y="634"/>
                </a:lnTo>
                <a:lnTo>
                  <a:pt x="1042" y="637"/>
                </a:lnTo>
                <a:lnTo>
                  <a:pt x="1042" y="637"/>
                </a:lnTo>
                <a:lnTo>
                  <a:pt x="1042" y="637"/>
                </a:lnTo>
                <a:lnTo>
                  <a:pt x="1042" y="638"/>
                </a:lnTo>
                <a:lnTo>
                  <a:pt x="1042" y="638"/>
                </a:lnTo>
                <a:lnTo>
                  <a:pt x="1042" y="639"/>
                </a:lnTo>
                <a:lnTo>
                  <a:pt x="1043" y="639"/>
                </a:lnTo>
                <a:lnTo>
                  <a:pt x="1043" y="639"/>
                </a:lnTo>
                <a:lnTo>
                  <a:pt x="1043" y="640"/>
                </a:lnTo>
                <a:lnTo>
                  <a:pt x="1043" y="640"/>
                </a:lnTo>
                <a:lnTo>
                  <a:pt x="1043" y="640"/>
                </a:lnTo>
                <a:lnTo>
                  <a:pt x="1043" y="641"/>
                </a:lnTo>
                <a:lnTo>
                  <a:pt x="1043" y="641"/>
                </a:lnTo>
                <a:lnTo>
                  <a:pt x="1043" y="641"/>
                </a:lnTo>
                <a:lnTo>
                  <a:pt x="1043" y="642"/>
                </a:lnTo>
                <a:lnTo>
                  <a:pt x="1043" y="642"/>
                </a:lnTo>
                <a:lnTo>
                  <a:pt x="1043" y="642"/>
                </a:lnTo>
                <a:lnTo>
                  <a:pt x="1044" y="644"/>
                </a:lnTo>
                <a:lnTo>
                  <a:pt x="1044" y="644"/>
                </a:lnTo>
                <a:lnTo>
                  <a:pt x="1044" y="645"/>
                </a:lnTo>
                <a:lnTo>
                  <a:pt x="1044" y="645"/>
                </a:lnTo>
                <a:lnTo>
                  <a:pt x="1052" y="644"/>
                </a:lnTo>
                <a:close/>
                <a:moveTo>
                  <a:pt x="1035" y="609"/>
                </a:moveTo>
                <a:lnTo>
                  <a:pt x="1035" y="608"/>
                </a:lnTo>
                <a:lnTo>
                  <a:pt x="1035" y="608"/>
                </a:lnTo>
                <a:lnTo>
                  <a:pt x="1035" y="608"/>
                </a:lnTo>
                <a:lnTo>
                  <a:pt x="1033" y="608"/>
                </a:lnTo>
                <a:lnTo>
                  <a:pt x="1033" y="607"/>
                </a:lnTo>
                <a:lnTo>
                  <a:pt x="1033" y="607"/>
                </a:lnTo>
                <a:lnTo>
                  <a:pt x="1032" y="607"/>
                </a:lnTo>
                <a:lnTo>
                  <a:pt x="1032" y="606"/>
                </a:lnTo>
                <a:lnTo>
                  <a:pt x="1032" y="606"/>
                </a:lnTo>
                <a:lnTo>
                  <a:pt x="1031" y="606"/>
                </a:lnTo>
                <a:lnTo>
                  <a:pt x="1031" y="605"/>
                </a:lnTo>
                <a:lnTo>
                  <a:pt x="1030" y="605"/>
                </a:lnTo>
                <a:lnTo>
                  <a:pt x="1030" y="605"/>
                </a:lnTo>
                <a:lnTo>
                  <a:pt x="1030" y="605"/>
                </a:lnTo>
                <a:lnTo>
                  <a:pt x="1029" y="604"/>
                </a:lnTo>
                <a:lnTo>
                  <a:pt x="1029" y="604"/>
                </a:lnTo>
                <a:lnTo>
                  <a:pt x="1029" y="604"/>
                </a:lnTo>
                <a:lnTo>
                  <a:pt x="1028" y="604"/>
                </a:lnTo>
                <a:lnTo>
                  <a:pt x="1028" y="602"/>
                </a:lnTo>
                <a:lnTo>
                  <a:pt x="1028" y="602"/>
                </a:lnTo>
                <a:lnTo>
                  <a:pt x="1023" y="611"/>
                </a:lnTo>
                <a:lnTo>
                  <a:pt x="1023" y="611"/>
                </a:lnTo>
                <a:lnTo>
                  <a:pt x="1023" y="611"/>
                </a:lnTo>
                <a:lnTo>
                  <a:pt x="1023" y="611"/>
                </a:lnTo>
                <a:lnTo>
                  <a:pt x="1024" y="611"/>
                </a:lnTo>
                <a:lnTo>
                  <a:pt x="1024" y="612"/>
                </a:lnTo>
                <a:lnTo>
                  <a:pt x="1024" y="612"/>
                </a:lnTo>
                <a:lnTo>
                  <a:pt x="1024" y="612"/>
                </a:lnTo>
                <a:lnTo>
                  <a:pt x="1025" y="612"/>
                </a:lnTo>
                <a:lnTo>
                  <a:pt x="1025" y="612"/>
                </a:lnTo>
                <a:lnTo>
                  <a:pt x="1025" y="613"/>
                </a:lnTo>
                <a:lnTo>
                  <a:pt x="1026" y="613"/>
                </a:lnTo>
                <a:lnTo>
                  <a:pt x="1026" y="613"/>
                </a:lnTo>
                <a:lnTo>
                  <a:pt x="1026" y="613"/>
                </a:lnTo>
                <a:lnTo>
                  <a:pt x="1026" y="614"/>
                </a:lnTo>
                <a:lnTo>
                  <a:pt x="1028" y="614"/>
                </a:lnTo>
                <a:lnTo>
                  <a:pt x="1028" y="614"/>
                </a:lnTo>
                <a:lnTo>
                  <a:pt x="1028" y="614"/>
                </a:lnTo>
                <a:lnTo>
                  <a:pt x="1029" y="615"/>
                </a:lnTo>
                <a:lnTo>
                  <a:pt x="1029" y="615"/>
                </a:lnTo>
                <a:lnTo>
                  <a:pt x="1029" y="615"/>
                </a:lnTo>
                <a:lnTo>
                  <a:pt x="1035" y="609"/>
                </a:lnTo>
                <a:close/>
                <a:moveTo>
                  <a:pt x="1000" y="593"/>
                </a:moveTo>
                <a:lnTo>
                  <a:pt x="1000" y="593"/>
                </a:lnTo>
                <a:lnTo>
                  <a:pt x="999" y="592"/>
                </a:lnTo>
                <a:lnTo>
                  <a:pt x="999" y="592"/>
                </a:lnTo>
                <a:lnTo>
                  <a:pt x="998" y="592"/>
                </a:lnTo>
                <a:lnTo>
                  <a:pt x="998" y="592"/>
                </a:lnTo>
                <a:lnTo>
                  <a:pt x="997" y="592"/>
                </a:lnTo>
                <a:lnTo>
                  <a:pt x="997" y="592"/>
                </a:lnTo>
                <a:lnTo>
                  <a:pt x="996" y="592"/>
                </a:lnTo>
                <a:lnTo>
                  <a:pt x="996" y="592"/>
                </a:lnTo>
                <a:lnTo>
                  <a:pt x="995" y="592"/>
                </a:lnTo>
                <a:lnTo>
                  <a:pt x="995" y="592"/>
                </a:lnTo>
                <a:lnTo>
                  <a:pt x="993" y="592"/>
                </a:lnTo>
                <a:lnTo>
                  <a:pt x="992" y="592"/>
                </a:lnTo>
                <a:lnTo>
                  <a:pt x="992" y="592"/>
                </a:lnTo>
                <a:lnTo>
                  <a:pt x="991" y="592"/>
                </a:lnTo>
                <a:lnTo>
                  <a:pt x="991" y="592"/>
                </a:lnTo>
                <a:lnTo>
                  <a:pt x="991" y="601"/>
                </a:lnTo>
                <a:lnTo>
                  <a:pt x="991" y="601"/>
                </a:lnTo>
                <a:lnTo>
                  <a:pt x="992" y="601"/>
                </a:lnTo>
                <a:lnTo>
                  <a:pt x="992" y="601"/>
                </a:lnTo>
                <a:lnTo>
                  <a:pt x="993" y="601"/>
                </a:lnTo>
                <a:lnTo>
                  <a:pt x="993" y="601"/>
                </a:lnTo>
                <a:lnTo>
                  <a:pt x="995" y="601"/>
                </a:lnTo>
                <a:lnTo>
                  <a:pt x="995" y="601"/>
                </a:lnTo>
                <a:lnTo>
                  <a:pt x="996" y="601"/>
                </a:lnTo>
                <a:lnTo>
                  <a:pt x="996" y="601"/>
                </a:lnTo>
                <a:lnTo>
                  <a:pt x="996" y="601"/>
                </a:lnTo>
                <a:lnTo>
                  <a:pt x="997" y="601"/>
                </a:lnTo>
                <a:lnTo>
                  <a:pt x="997" y="601"/>
                </a:lnTo>
                <a:lnTo>
                  <a:pt x="998" y="601"/>
                </a:lnTo>
                <a:lnTo>
                  <a:pt x="998" y="601"/>
                </a:lnTo>
                <a:lnTo>
                  <a:pt x="999" y="601"/>
                </a:lnTo>
                <a:lnTo>
                  <a:pt x="999" y="601"/>
                </a:lnTo>
                <a:lnTo>
                  <a:pt x="1000" y="593"/>
                </a:lnTo>
                <a:close/>
                <a:moveTo>
                  <a:pt x="964" y="592"/>
                </a:moveTo>
                <a:lnTo>
                  <a:pt x="964" y="601"/>
                </a:lnTo>
                <a:lnTo>
                  <a:pt x="955" y="601"/>
                </a:lnTo>
                <a:lnTo>
                  <a:pt x="955" y="592"/>
                </a:lnTo>
                <a:lnTo>
                  <a:pt x="964" y="592"/>
                </a:lnTo>
                <a:close/>
                <a:moveTo>
                  <a:pt x="927" y="592"/>
                </a:moveTo>
                <a:lnTo>
                  <a:pt x="927" y="601"/>
                </a:lnTo>
                <a:lnTo>
                  <a:pt x="918" y="601"/>
                </a:lnTo>
                <a:lnTo>
                  <a:pt x="918" y="592"/>
                </a:lnTo>
                <a:lnTo>
                  <a:pt x="927" y="592"/>
                </a:lnTo>
                <a:close/>
                <a:moveTo>
                  <a:pt x="891" y="592"/>
                </a:moveTo>
                <a:lnTo>
                  <a:pt x="891" y="601"/>
                </a:lnTo>
                <a:lnTo>
                  <a:pt x="883" y="601"/>
                </a:lnTo>
                <a:lnTo>
                  <a:pt x="883" y="592"/>
                </a:lnTo>
                <a:lnTo>
                  <a:pt x="891" y="592"/>
                </a:lnTo>
                <a:close/>
                <a:moveTo>
                  <a:pt x="856" y="592"/>
                </a:moveTo>
                <a:lnTo>
                  <a:pt x="856" y="601"/>
                </a:lnTo>
                <a:lnTo>
                  <a:pt x="846" y="601"/>
                </a:lnTo>
                <a:lnTo>
                  <a:pt x="846" y="592"/>
                </a:lnTo>
                <a:lnTo>
                  <a:pt x="856" y="592"/>
                </a:lnTo>
                <a:close/>
                <a:moveTo>
                  <a:pt x="819" y="592"/>
                </a:moveTo>
                <a:lnTo>
                  <a:pt x="819" y="601"/>
                </a:lnTo>
                <a:lnTo>
                  <a:pt x="810" y="601"/>
                </a:lnTo>
                <a:lnTo>
                  <a:pt x="810" y="592"/>
                </a:lnTo>
                <a:lnTo>
                  <a:pt x="819" y="592"/>
                </a:lnTo>
                <a:close/>
                <a:moveTo>
                  <a:pt x="783" y="592"/>
                </a:moveTo>
                <a:lnTo>
                  <a:pt x="783" y="601"/>
                </a:lnTo>
                <a:lnTo>
                  <a:pt x="773" y="601"/>
                </a:lnTo>
                <a:lnTo>
                  <a:pt x="773" y="592"/>
                </a:lnTo>
                <a:lnTo>
                  <a:pt x="783" y="592"/>
                </a:lnTo>
                <a:close/>
                <a:moveTo>
                  <a:pt x="746" y="592"/>
                </a:moveTo>
                <a:lnTo>
                  <a:pt x="746" y="601"/>
                </a:lnTo>
                <a:lnTo>
                  <a:pt x="738" y="601"/>
                </a:lnTo>
                <a:lnTo>
                  <a:pt x="738" y="592"/>
                </a:lnTo>
                <a:lnTo>
                  <a:pt x="746" y="592"/>
                </a:lnTo>
                <a:close/>
                <a:moveTo>
                  <a:pt x="739" y="572"/>
                </a:moveTo>
                <a:lnTo>
                  <a:pt x="731" y="572"/>
                </a:lnTo>
                <a:lnTo>
                  <a:pt x="731" y="562"/>
                </a:lnTo>
                <a:lnTo>
                  <a:pt x="739" y="562"/>
                </a:lnTo>
                <a:lnTo>
                  <a:pt x="739" y="572"/>
                </a:lnTo>
                <a:close/>
                <a:moveTo>
                  <a:pt x="739" y="535"/>
                </a:moveTo>
                <a:lnTo>
                  <a:pt x="731" y="535"/>
                </a:lnTo>
                <a:lnTo>
                  <a:pt x="731" y="527"/>
                </a:lnTo>
                <a:lnTo>
                  <a:pt x="739" y="527"/>
                </a:lnTo>
                <a:lnTo>
                  <a:pt x="739" y="535"/>
                </a:lnTo>
                <a:close/>
                <a:moveTo>
                  <a:pt x="739" y="500"/>
                </a:moveTo>
                <a:lnTo>
                  <a:pt x="731" y="500"/>
                </a:lnTo>
                <a:lnTo>
                  <a:pt x="731" y="491"/>
                </a:lnTo>
                <a:lnTo>
                  <a:pt x="739" y="491"/>
                </a:lnTo>
                <a:lnTo>
                  <a:pt x="739" y="500"/>
                </a:lnTo>
                <a:close/>
                <a:moveTo>
                  <a:pt x="739" y="464"/>
                </a:moveTo>
                <a:lnTo>
                  <a:pt x="731" y="464"/>
                </a:lnTo>
                <a:lnTo>
                  <a:pt x="731" y="454"/>
                </a:lnTo>
                <a:lnTo>
                  <a:pt x="739" y="454"/>
                </a:lnTo>
                <a:lnTo>
                  <a:pt x="739" y="464"/>
                </a:lnTo>
                <a:close/>
                <a:moveTo>
                  <a:pt x="739" y="427"/>
                </a:moveTo>
                <a:lnTo>
                  <a:pt x="731" y="427"/>
                </a:lnTo>
                <a:lnTo>
                  <a:pt x="731" y="418"/>
                </a:lnTo>
                <a:lnTo>
                  <a:pt x="739" y="418"/>
                </a:lnTo>
                <a:lnTo>
                  <a:pt x="739" y="427"/>
                </a:lnTo>
                <a:close/>
                <a:moveTo>
                  <a:pt x="739" y="391"/>
                </a:moveTo>
                <a:lnTo>
                  <a:pt x="731" y="391"/>
                </a:lnTo>
                <a:lnTo>
                  <a:pt x="731" y="383"/>
                </a:lnTo>
                <a:lnTo>
                  <a:pt x="739" y="383"/>
                </a:lnTo>
                <a:lnTo>
                  <a:pt x="739" y="391"/>
                </a:lnTo>
                <a:close/>
                <a:moveTo>
                  <a:pt x="739" y="355"/>
                </a:moveTo>
                <a:lnTo>
                  <a:pt x="731" y="355"/>
                </a:lnTo>
                <a:lnTo>
                  <a:pt x="731" y="346"/>
                </a:lnTo>
                <a:lnTo>
                  <a:pt x="739" y="346"/>
                </a:lnTo>
                <a:lnTo>
                  <a:pt x="739" y="355"/>
                </a:lnTo>
                <a:close/>
                <a:moveTo>
                  <a:pt x="739" y="319"/>
                </a:moveTo>
                <a:lnTo>
                  <a:pt x="731" y="319"/>
                </a:lnTo>
                <a:lnTo>
                  <a:pt x="731" y="310"/>
                </a:lnTo>
                <a:lnTo>
                  <a:pt x="739" y="310"/>
                </a:lnTo>
                <a:lnTo>
                  <a:pt x="739" y="319"/>
                </a:lnTo>
                <a:close/>
                <a:moveTo>
                  <a:pt x="739" y="283"/>
                </a:moveTo>
                <a:lnTo>
                  <a:pt x="731" y="283"/>
                </a:lnTo>
                <a:lnTo>
                  <a:pt x="731" y="274"/>
                </a:lnTo>
                <a:lnTo>
                  <a:pt x="739" y="274"/>
                </a:lnTo>
                <a:lnTo>
                  <a:pt x="739" y="283"/>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1" name="Freeform 1066"/>
          <p:cNvSpPr/>
          <p:nvPr/>
        </p:nvSpPr>
        <p:spPr>
          <a:xfrm>
            <a:off x="10414080" y="11856960"/>
            <a:ext cx="330120" cy="582840"/>
          </a:xfrm>
          <a:custGeom>
            <a:avLst/>
            <a:gdLst/>
            <a:ahLst/>
            <a:rect l="l" t="t" r="r" b="b"/>
            <a:pathLst>
              <a:path w="74" h="130">
                <a:moveTo>
                  <a:pt x="37" y="0"/>
                </a:moveTo>
                <a:cubicBezTo>
                  <a:pt x="17" y="0"/>
                  <a:pt x="0" y="16"/>
                  <a:pt x="0" y="37"/>
                </a:cubicBezTo>
                <a:cubicBezTo>
                  <a:pt x="0" y="41"/>
                  <a:pt x="1" y="47"/>
                  <a:pt x="3" y="51"/>
                </a:cubicBezTo>
                <a:cubicBezTo>
                  <a:pt x="37" y="130"/>
                  <a:pt x="37" y="130"/>
                  <a:pt x="37" y="130"/>
                </a:cubicBezTo>
                <a:cubicBezTo>
                  <a:pt x="72" y="51"/>
                  <a:pt x="72" y="51"/>
                  <a:pt x="72" y="51"/>
                </a:cubicBezTo>
                <a:cubicBezTo>
                  <a:pt x="73" y="47"/>
                  <a:pt x="74" y="41"/>
                  <a:pt x="74" y="37"/>
                </a:cubicBezTo>
                <a:cubicBezTo>
                  <a:pt x="74" y="16"/>
                  <a:pt x="58" y="0"/>
                  <a:pt x="37"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2" name="Oval 1067"/>
          <p:cNvSpPr/>
          <p:nvPr/>
        </p:nvSpPr>
        <p:spPr>
          <a:xfrm>
            <a:off x="10463040" y="11903040"/>
            <a:ext cx="239760" cy="235080"/>
          </a:xfrm>
          <a:prstGeom prst="ellipse">
            <a:avLst/>
          </a:prstGeom>
          <a:solidFill>
            <a:srgbClr val="5ab1bc"/>
          </a:solidFill>
          <a:ln w="0">
            <a:noFill/>
          </a:ln>
        </p:spPr>
        <p:style>
          <a:lnRef idx="0"/>
          <a:fillRef idx="0"/>
          <a:effectRef idx="0"/>
          <a:fontRef idx="minor"/>
        </p:style>
        <p:txBody>
          <a:bodyPr lIns="219600" rIns="219600" tIns="56880" bIns="568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3" name="Freeform 1068"/>
          <p:cNvSpPr/>
          <p:nvPr/>
        </p:nvSpPr>
        <p:spPr>
          <a:xfrm>
            <a:off x="7311960" y="9979200"/>
            <a:ext cx="704880" cy="506160"/>
          </a:xfrm>
          <a:custGeom>
            <a:avLst/>
            <a:gdLst/>
            <a:ahLst/>
            <a:rect l="l" t="t" r="r" b="b"/>
            <a:pathLst>
              <a:path w="185" h="133">
                <a:moveTo>
                  <a:pt x="185" y="67"/>
                </a:moveTo>
                <a:lnTo>
                  <a:pt x="93" y="133"/>
                </a:lnTo>
                <a:lnTo>
                  <a:pt x="0" y="67"/>
                </a:lnTo>
                <a:lnTo>
                  <a:pt x="93" y="0"/>
                </a:lnTo>
                <a:lnTo>
                  <a:pt x="185" y="67"/>
                </a:lnTo>
                <a:close/>
              </a:path>
            </a:pathLst>
          </a:custGeom>
          <a:solidFill>
            <a:srgbClr val="ffffff"/>
          </a:solidFill>
          <a:ln w="9360">
            <a:solidFill>
              <a:srgbClr val="969696"/>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84" name="Rectangle 1069"/>
          <p:cNvSpPr/>
          <p:nvPr/>
        </p:nvSpPr>
        <p:spPr>
          <a:xfrm>
            <a:off x="7410600" y="10023480"/>
            <a:ext cx="511200" cy="622440"/>
          </a:xfrm>
          <a:prstGeom prst="rect">
            <a:avLst/>
          </a:prstGeom>
          <a:solidFill>
            <a:srgbClr val="ffffff"/>
          </a:solidFill>
          <a:ln w="9360">
            <a:solidFill>
              <a:srgbClr val="969696"/>
            </a:solidFill>
            <a:miter/>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5" name="Rectangle 1070"/>
          <p:cNvSpPr/>
          <p:nvPr/>
        </p:nvSpPr>
        <p:spPr>
          <a:xfrm>
            <a:off x="7410600" y="10023480"/>
            <a:ext cx="511200" cy="622440"/>
          </a:xfrm>
          <a:prstGeom prst="rect">
            <a:avLst/>
          </a:prstGeom>
          <a:solidFill>
            <a:srgbClr val="ffffff"/>
          </a:solidFill>
          <a:ln w="0">
            <a:solidFill>
              <a:srgbClr val="969696"/>
            </a:solid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6" name="Rectangle 1071"/>
          <p:cNvSpPr/>
          <p:nvPr/>
        </p:nvSpPr>
        <p:spPr>
          <a:xfrm>
            <a:off x="7491240" y="10107720"/>
            <a:ext cx="14472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7" name="Rectangle 1072"/>
          <p:cNvSpPr/>
          <p:nvPr/>
        </p:nvSpPr>
        <p:spPr>
          <a:xfrm>
            <a:off x="7486560" y="10169640"/>
            <a:ext cx="355680" cy="25200"/>
          </a:xfrm>
          <a:prstGeom prst="rect">
            <a:avLst/>
          </a:prstGeom>
          <a:solidFill>
            <a:srgbClr val="ffffff"/>
          </a:solidFill>
          <a:ln w="9360">
            <a:solidFill>
              <a:srgbClr val="969696"/>
            </a:solidFill>
            <a:miter/>
          </a:ln>
        </p:spPr>
        <p:style>
          <a:lnRef idx="0"/>
          <a:fillRef idx="0"/>
          <a:effectRef idx="0"/>
          <a:fontRef idx="minor"/>
        </p:style>
        <p:txBody>
          <a:bodyPr lIns="219600" rIns="219600" tIns="-84600" bIns="-84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8" name="Rectangle 1073"/>
          <p:cNvSpPr/>
          <p:nvPr/>
        </p:nvSpPr>
        <p:spPr>
          <a:xfrm>
            <a:off x="7486560" y="1022184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89" name="Rectangle 1074"/>
          <p:cNvSpPr/>
          <p:nvPr/>
        </p:nvSpPr>
        <p:spPr>
          <a:xfrm>
            <a:off x="7486560" y="10275840"/>
            <a:ext cx="355680" cy="30240"/>
          </a:xfrm>
          <a:prstGeom prst="rect">
            <a:avLst/>
          </a:prstGeom>
          <a:solidFill>
            <a:srgbClr val="ffffff"/>
          </a:solidFill>
          <a:ln w="9360">
            <a:solidFill>
              <a:srgbClr val="969696"/>
            </a:solidFill>
            <a:miter/>
          </a:ln>
        </p:spPr>
        <p:style>
          <a:lnRef idx="0"/>
          <a:fillRef idx="0"/>
          <a:effectRef idx="0"/>
          <a:fontRef idx="minor"/>
        </p:style>
        <p:txBody>
          <a:bodyPr lIns="219600" rIns="219600" tIns="-79560" bIns="-7956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0" name="Rectangle 1075"/>
          <p:cNvSpPr/>
          <p:nvPr/>
        </p:nvSpPr>
        <p:spPr>
          <a:xfrm>
            <a:off x="7486560" y="10328400"/>
            <a:ext cx="355680" cy="31680"/>
          </a:xfrm>
          <a:prstGeom prst="rect">
            <a:avLst/>
          </a:prstGeom>
          <a:solidFill>
            <a:srgbClr val="ffffff"/>
          </a:solidFill>
          <a:ln w="9360">
            <a:solidFill>
              <a:srgbClr val="969696"/>
            </a:solidFill>
            <a:miter/>
          </a:ln>
        </p:spPr>
        <p:style>
          <a:lnRef idx="0"/>
          <a:fillRef idx="0"/>
          <a:effectRef idx="0"/>
          <a:fontRef idx="minor"/>
        </p:style>
        <p:txBody>
          <a:bodyPr lIns="219600" rIns="219600" tIns="-78120" bIns="-781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1" name="Rectangle 1076"/>
          <p:cNvSpPr/>
          <p:nvPr/>
        </p:nvSpPr>
        <p:spPr>
          <a:xfrm>
            <a:off x="7486560" y="1038528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2" name="Rectangle 1077"/>
          <p:cNvSpPr/>
          <p:nvPr/>
        </p:nvSpPr>
        <p:spPr>
          <a:xfrm>
            <a:off x="7486560" y="10439280"/>
            <a:ext cx="355680" cy="27000"/>
          </a:xfrm>
          <a:prstGeom prst="rect">
            <a:avLst/>
          </a:prstGeom>
          <a:solidFill>
            <a:srgbClr val="ffffff"/>
          </a:solidFill>
          <a:ln w="9360">
            <a:solidFill>
              <a:srgbClr val="969696"/>
            </a:solidFill>
            <a:miter/>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3" name="Freeform 1078"/>
          <p:cNvSpPr/>
          <p:nvPr/>
        </p:nvSpPr>
        <p:spPr>
          <a:xfrm>
            <a:off x="7311960" y="10233000"/>
            <a:ext cx="704880" cy="412920"/>
          </a:xfrm>
          <a:custGeom>
            <a:avLst/>
            <a:gdLst/>
            <a:ahLst/>
            <a:rect l="l" t="t" r="r" b="b"/>
            <a:pathLst>
              <a:path w="185" h="108">
                <a:moveTo>
                  <a:pt x="0" y="108"/>
                </a:moveTo>
                <a:lnTo>
                  <a:pt x="185" y="108"/>
                </a:lnTo>
                <a:lnTo>
                  <a:pt x="185" y="0"/>
                </a:lnTo>
                <a:lnTo>
                  <a:pt x="93" y="66"/>
                </a:lnTo>
                <a:lnTo>
                  <a:pt x="0" y="0"/>
                </a:lnTo>
                <a:lnTo>
                  <a:pt x="0" y="108"/>
                </a:lnTo>
                <a:close/>
              </a:path>
            </a:pathLst>
          </a:custGeom>
          <a:solidFill>
            <a:srgbClr val="ffffff"/>
          </a:solidFill>
          <a:ln w="9360">
            <a:solidFill>
              <a:srgbClr val="969696"/>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94" name="Freeform 1079"/>
          <p:cNvSpPr/>
          <p:nvPr/>
        </p:nvSpPr>
        <p:spPr>
          <a:xfrm>
            <a:off x="7311960" y="10233000"/>
            <a:ext cx="704880" cy="412920"/>
          </a:xfrm>
          <a:custGeom>
            <a:avLst/>
            <a:gdLst/>
            <a:ahLst/>
            <a:rect l="l" t="t" r="r" b="b"/>
            <a:pathLst>
              <a:path w="185" h="108">
                <a:moveTo>
                  <a:pt x="0" y="108"/>
                </a:moveTo>
                <a:lnTo>
                  <a:pt x="185" y="108"/>
                </a:lnTo>
                <a:lnTo>
                  <a:pt x="185" y="0"/>
                </a:lnTo>
                <a:lnTo>
                  <a:pt x="93" y="66"/>
                </a:lnTo>
                <a:lnTo>
                  <a:pt x="0" y="0"/>
                </a:lnTo>
                <a:lnTo>
                  <a:pt x="0" y="108"/>
                </a:lnTo>
                <a:close/>
              </a:path>
            </a:pathLst>
          </a:custGeom>
          <a:solidFill>
            <a:srgbClr val="ffffff"/>
          </a:solidFill>
          <a:ln w="0">
            <a:solidFill>
              <a:srgbClr val="969696"/>
            </a:solid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295" name="Freeform 1080"/>
          <p:cNvSpPr/>
          <p:nvPr/>
        </p:nvSpPr>
        <p:spPr>
          <a:xfrm>
            <a:off x="7311960" y="10439280"/>
            <a:ext cx="704880" cy="206640"/>
          </a:xfrm>
          <a:custGeom>
            <a:avLst/>
            <a:gdLst/>
            <a:ahLst/>
            <a:rect l="l" t="t" r="r" b="b"/>
            <a:pathLst>
              <a:path w="185" h="54">
                <a:moveTo>
                  <a:pt x="0" y="54"/>
                </a:moveTo>
                <a:lnTo>
                  <a:pt x="185" y="54"/>
                </a:lnTo>
                <a:lnTo>
                  <a:pt x="109" y="0"/>
                </a:lnTo>
                <a:lnTo>
                  <a:pt x="76" y="0"/>
                </a:lnTo>
                <a:lnTo>
                  <a:pt x="76" y="0"/>
                </a:lnTo>
                <a:lnTo>
                  <a:pt x="0" y="54"/>
                </a:lnTo>
                <a:close/>
              </a:path>
            </a:pathLst>
          </a:custGeom>
          <a:solidFill>
            <a:srgbClr val="ffffff"/>
          </a:solidFill>
          <a:ln w="9360">
            <a:solidFill>
              <a:srgbClr val="969696"/>
            </a:solidFill>
            <a:round/>
          </a:ln>
        </p:spPr>
        <p:style>
          <a:lnRef idx="0"/>
          <a:fillRef idx="0"/>
          <a:effectRef idx="0"/>
          <a:fontRef idx="minor"/>
        </p:style>
        <p:txBody>
          <a:bodyPr lIns="219240" rIns="219240" tIns="97200" bIns="97200" anchor="t">
            <a:noAutofit/>
          </a:bodyPr>
          <a:p>
            <a:endParaRPr b="0" lang="en-US" sz="3500" spc="-1" strike="noStrike">
              <a:solidFill>
                <a:srgbClr val="000000"/>
              </a:solidFill>
              <a:latin typeface="Open Sans Light"/>
            </a:endParaRPr>
          </a:p>
        </p:txBody>
      </p:sp>
      <p:sp>
        <p:nvSpPr>
          <p:cNvPr id="2296" name="Freeform 1081"/>
          <p:cNvSpPr/>
          <p:nvPr/>
        </p:nvSpPr>
        <p:spPr>
          <a:xfrm>
            <a:off x="7311960" y="10439280"/>
            <a:ext cx="704880" cy="206640"/>
          </a:xfrm>
          <a:custGeom>
            <a:avLst/>
            <a:gdLst/>
            <a:ahLst/>
            <a:rect l="l" t="t" r="r" b="b"/>
            <a:pathLst>
              <a:path w="185" h="54">
                <a:moveTo>
                  <a:pt x="0" y="54"/>
                </a:moveTo>
                <a:lnTo>
                  <a:pt x="185" y="54"/>
                </a:lnTo>
                <a:lnTo>
                  <a:pt x="109" y="0"/>
                </a:lnTo>
                <a:lnTo>
                  <a:pt x="76" y="0"/>
                </a:lnTo>
                <a:lnTo>
                  <a:pt x="76" y="0"/>
                </a:lnTo>
                <a:lnTo>
                  <a:pt x="0" y="54"/>
                </a:lnTo>
                <a:close/>
              </a:path>
            </a:pathLst>
          </a:custGeom>
          <a:solidFill>
            <a:srgbClr val="ffffff"/>
          </a:solidFill>
          <a:ln w="0">
            <a:solidFill>
              <a:srgbClr val="969696"/>
            </a:solidFill>
          </a:ln>
        </p:spPr>
        <p:style>
          <a:lnRef idx="0"/>
          <a:fillRef idx="0"/>
          <a:effectRef idx="0"/>
          <a:fontRef idx="minor"/>
        </p:style>
        <p:txBody>
          <a:bodyPr lIns="219240" rIns="219240" tIns="97200" bIns="97200" anchor="t">
            <a:noAutofit/>
          </a:bodyPr>
          <a:p>
            <a:endParaRPr b="0" lang="en-US" sz="3500" spc="-1" strike="noStrike">
              <a:solidFill>
                <a:srgbClr val="000000"/>
              </a:solidFill>
              <a:latin typeface="Open Sans Light"/>
            </a:endParaRPr>
          </a:p>
        </p:txBody>
      </p:sp>
      <p:sp>
        <p:nvSpPr>
          <p:cNvPr id="2297" name="Rectangle 1082"/>
          <p:cNvSpPr/>
          <p:nvPr/>
        </p:nvSpPr>
        <p:spPr>
          <a:xfrm>
            <a:off x="14967000" y="11620440"/>
            <a:ext cx="60120" cy="33192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8" name="Rectangle 1083"/>
          <p:cNvSpPr/>
          <p:nvPr/>
        </p:nvSpPr>
        <p:spPr>
          <a:xfrm>
            <a:off x="15038280" y="11727000"/>
            <a:ext cx="61920" cy="22536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299" name="Rectangle 1084"/>
          <p:cNvSpPr/>
          <p:nvPr/>
        </p:nvSpPr>
        <p:spPr>
          <a:xfrm>
            <a:off x="15111360" y="11802960"/>
            <a:ext cx="57240" cy="149400"/>
          </a:xfrm>
          <a:prstGeom prst="rect">
            <a:avLst/>
          </a:prstGeom>
          <a:solidFill>
            <a:srgbClr val="ffffff"/>
          </a:solidFill>
          <a:ln w="0">
            <a:noFill/>
          </a:ln>
        </p:spPr>
        <p:style>
          <a:lnRef idx="0"/>
          <a:fillRef idx="0"/>
          <a:effectRef idx="0"/>
          <a:fontRef idx="minor"/>
        </p:style>
        <p:txBody>
          <a:bodyPr lIns="219600" rIns="219600" tIns="39600" bIns="39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0" name="Rectangle 1085"/>
          <p:cNvSpPr/>
          <p:nvPr/>
        </p:nvSpPr>
        <p:spPr>
          <a:xfrm>
            <a:off x="15179760" y="11731680"/>
            <a:ext cx="60120" cy="220680"/>
          </a:xfrm>
          <a:prstGeom prst="rect">
            <a:avLst/>
          </a:prstGeom>
          <a:solidFill>
            <a:srgbClr val="fffff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1" name="Rectangle 1086"/>
          <p:cNvSpPr/>
          <p:nvPr/>
        </p:nvSpPr>
        <p:spPr>
          <a:xfrm>
            <a:off x="15247800" y="11795040"/>
            <a:ext cx="65160" cy="157320"/>
          </a:xfrm>
          <a:prstGeom prst="rect">
            <a:avLst/>
          </a:prstGeom>
          <a:solidFill>
            <a:srgbClr val="ffffff"/>
          </a:solidFill>
          <a:ln w="0">
            <a:noFill/>
          </a:ln>
        </p:spPr>
        <p:style>
          <a:lnRef idx="0"/>
          <a:fillRef idx="0"/>
          <a:effectRef idx="0"/>
          <a:fontRef idx="minor"/>
        </p:style>
        <p:txBody>
          <a:bodyPr lIns="219600" rIns="219600" tIns="47520" bIns="475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2" name="Rectangle 1087"/>
          <p:cNvSpPr/>
          <p:nvPr/>
        </p:nvSpPr>
        <p:spPr>
          <a:xfrm>
            <a:off x="14967000" y="11936520"/>
            <a:ext cx="345960" cy="38160"/>
          </a:xfrm>
          <a:prstGeom prst="rect">
            <a:avLst/>
          </a:prstGeom>
          <a:solidFill>
            <a:srgbClr val="ffffff"/>
          </a:solidFill>
          <a:ln w="0">
            <a:noFill/>
          </a:ln>
        </p:spPr>
        <p:style>
          <a:lnRef idx="0"/>
          <a:fillRef idx="0"/>
          <a:effectRef idx="0"/>
          <a:fontRef idx="minor"/>
        </p:style>
        <p:txBody>
          <a:bodyPr lIns="219600" rIns="219600" tIns="-71640" bIns="-716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03" name="Freeform 1088"/>
          <p:cNvSpPr/>
          <p:nvPr/>
        </p:nvSpPr>
        <p:spPr>
          <a:xfrm>
            <a:off x="15873480" y="6004080"/>
            <a:ext cx="681120" cy="682560"/>
          </a:xfrm>
          <a:custGeom>
            <a:avLst/>
            <a:gdLst/>
            <a:ahLst/>
            <a:rect l="l" t="t" r="r" b="b"/>
            <a:pathLst>
              <a:path w="152" h="152">
                <a:moveTo>
                  <a:pt x="124" y="0"/>
                </a:moveTo>
                <a:cubicBezTo>
                  <a:pt x="125" y="0"/>
                  <a:pt x="125" y="0"/>
                  <a:pt x="125" y="0"/>
                </a:cubicBezTo>
                <a:cubicBezTo>
                  <a:pt x="140" y="0"/>
                  <a:pt x="152" y="12"/>
                  <a:pt x="152" y="27"/>
                </a:cubicBezTo>
                <a:cubicBezTo>
                  <a:pt x="152" y="126"/>
                  <a:pt x="152" y="126"/>
                  <a:pt x="152" y="126"/>
                </a:cubicBezTo>
                <a:cubicBezTo>
                  <a:pt x="152" y="140"/>
                  <a:pt x="140" y="152"/>
                  <a:pt x="125" y="152"/>
                </a:cubicBezTo>
                <a:cubicBezTo>
                  <a:pt x="124" y="152"/>
                  <a:pt x="124" y="152"/>
                  <a:pt x="124" y="152"/>
                </a:cubicBezTo>
                <a:cubicBezTo>
                  <a:pt x="124" y="38"/>
                  <a:pt x="124" y="38"/>
                  <a:pt x="124" y="38"/>
                </a:cubicBezTo>
                <a:cubicBezTo>
                  <a:pt x="129" y="38"/>
                  <a:pt x="134" y="33"/>
                  <a:pt x="134" y="28"/>
                </a:cubicBezTo>
                <a:cubicBezTo>
                  <a:pt x="134" y="22"/>
                  <a:pt x="129" y="18"/>
                  <a:pt x="124" y="18"/>
                </a:cubicBezTo>
                <a:lnTo>
                  <a:pt x="124" y="0"/>
                </a:lnTo>
                <a:close/>
                <a:moveTo>
                  <a:pt x="27" y="0"/>
                </a:moveTo>
                <a:cubicBezTo>
                  <a:pt x="124" y="0"/>
                  <a:pt x="124" y="0"/>
                  <a:pt x="124" y="0"/>
                </a:cubicBezTo>
                <a:cubicBezTo>
                  <a:pt x="124" y="18"/>
                  <a:pt x="124" y="18"/>
                  <a:pt x="124" y="18"/>
                </a:cubicBezTo>
                <a:cubicBezTo>
                  <a:pt x="118" y="18"/>
                  <a:pt x="114" y="22"/>
                  <a:pt x="114" y="28"/>
                </a:cubicBezTo>
                <a:cubicBezTo>
                  <a:pt x="114" y="33"/>
                  <a:pt x="118" y="38"/>
                  <a:pt x="124" y="38"/>
                </a:cubicBezTo>
                <a:cubicBezTo>
                  <a:pt x="124" y="152"/>
                  <a:pt x="124" y="152"/>
                  <a:pt x="124" y="152"/>
                </a:cubicBezTo>
                <a:cubicBezTo>
                  <a:pt x="27" y="152"/>
                  <a:pt x="27" y="152"/>
                  <a:pt x="27" y="152"/>
                </a:cubicBezTo>
                <a:cubicBezTo>
                  <a:pt x="27" y="38"/>
                  <a:pt x="27" y="38"/>
                  <a:pt x="27" y="38"/>
                </a:cubicBezTo>
                <a:cubicBezTo>
                  <a:pt x="27" y="38"/>
                  <a:pt x="27" y="38"/>
                  <a:pt x="27" y="38"/>
                </a:cubicBezTo>
                <a:cubicBezTo>
                  <a:pt x="33" y="38"/>
                  <a:pt x="37" y="33"/>
                  <a:pt x="37" y="28"/>
                </a:cubicBezTo>
                <a:cubicBezTo>
                  <a:pt x="37" y="22"/>
                  <a:pt x="33" y="18"/>
                  <a:pt x="27" y="18"/>
                </a:cubicBezTo>
                <a:cubicBezTo>
                  <a:pt x="27" y="18"/>
                  <a:pt x="27" y="18"/>
                  <a:pt x="27" y="18"/>
                </a:cubicBezTo>
                <a:lnTo>
                  <a:pt x="27" y="0"/>
                </a:lnTo>
                <a:close/>
                <a:moveTo>
                  <a:pt x="26" y="0"/>
                </a:moveTo>
                <a:cubicBezTo>
                  <a:pt x="27" y="0"/>
                  <a:pt x="27" y="0"/>
                  <a:pt x="27" y="0"/>
                </a:cubicBezTo>
                <a:cubicBezTo>
                  <a:pt x="27" y="18"/>
                  <a:pt x="27" y="18"/>
                  <a:pt x="27" y="18"/>
                </a:cubicBezTo>
                <a:cubicBezTo>
                  <a:pt x="22" y="18"/>
                  <a:pt x="17" y="22"/>
                  <a:pt x="17" y="28"/>
                </a:cubicBezTo>
                <a:cubicBezTo>
                  <a:pt x="17" y="33"/>
                  <a:pt x="22" y="38"/>
                  <a:pt x="27" y="38"/>
                </a:cubicBezTo>
                <a:cubicBezTo>
                  <a:pt x="27" y="152"/>
                  <a:pt x="27" y="152"/>
                  <a:pt x="27" y="152"/>
                </a:cubicBezTo>
                <a:cubicBezTo>
                  <a:pt x="26" y="152"/>
                  <a:pt x="26" y="152"/>
                  <a:pt x="26" y="152"/>
                </a:cubicBezTo>
                <a:cubicBezTo>
                  <a:pt x="12" y="152"/>
                  <a:pt x="0" y="140"/>
                  <a:pt x="0" y="126"/>
                </a:cubicBezTo>
                <a:cubicBezTo>
                  <a:pt x="0" y="27"/>
                  <a:pt x="0" y="27"/>
                  <a:pt x="0" y="27"/>
                </a:cubicBezTo>
                <a:cubicBezTo>
                  <a:pt x="0" y="12"/>
                  <a:pt x="12" y="0"/>
                  <a:pt x="26" y="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04" name="Freeform 1089"/>
          <p:cNvSpPr/>
          <p:nvPr/>
        </p:nvSpPr>
        <p:spPr>
          <a:xfrm>
            <a:off x="15873480" y="6004080"/>
            <a:ext cx="681120" cy="203040"/>
          </a:xfrm>
          <a:custGeom>
            <a:avLst/>
            <a:gdLst/>
            <a:ahLst/>
            <a:rect l="l" t="t" r="r" b="b"/>
            <a:pathLst>
              <a:path w="152" h="45">
                <a:moveTo>
                  <a:pt x="124" y="0"/>
                </a:moveTo>
                <a:cubicBezTo>
                  <a:pt x="125" y="0"/>
                  <a:pt x="125" y="0"/>
                  <a:pt x="125" y="0"/>
                </a:cubicBezTo>
                <a:cubicBezTo>
                  <a:pt x="140" y="0"/>
                  <a:pt x="152" y="12"/>
                  <a:pt x="152" y="27"/>
                </a:cubicBezTo>
                <a:cubicBezTo>
                  <a:pt x="152" y="45"/>
                  <a:pt x="152" y="45"/>
                  <a:pt x="152" y="45"/>
                </a:cubicBezTo>
                <a:cubicBezTo>
                  <a:pt x="124" y="45"/>
                  <a:pt x="124" y="45"/>
                  <a:pt x="124" y="45"/>
                </a:cubicBezTo>
                <a:cubicBezTo>
                  <a:pt x="124" y="38"/>
                  <a:pt x="124" y="38"/>
                  <a:pt x="124" y="38"/>
                </a:cubicBezTo>
                <a:cubicBezTo>
                  <a:pt x="129" y="38"/>
                  <a:pt x="134" y="33"/>
                  <a:pt x="134" y="28"/>
                </a:cubicBezTo>
                <a:cubicBezTo>
                  <a:pt x="134" y="22"/>
                  <a:pt x="129" y="18"/>
                  <a:pt x="124" y="18"/>
                </a:cubicBezTo>
                <a:lnTo>
                  <a:pt x="124" y="0"/>
                </a:lnTo>
                <a:close/>
                <a:moveTo>
                  <a:pt x="27" y="0"/>
                </a:moveTo>
                <a:cubicBezTo>
                  <a:pt x="124" y="0"/>
                  <a:pt x="124" y="0"/>
                  <a:pt x="124" y="0"/>
                </a:cubicBezTo>
                <a:cubicBezTo>
                  <a:pt x="124" y="18"/>
                  <a:pt x="124" y="18"/>
                  <a:pt x="124" y="18"/>
                </a:cubicBezTo>
                <a:cubicBezTo>
                  <a:pt x="118" y="18"/>
                  <a:pt x="114" y="22"/>
                  <a:pt x="114" y="28"/>
                </a:cubicBezTo>
                <a:cubicBezTo>
                  <a:pt x="114" y="33"/>
                  <a:pt x="118" y="38"/>
                  <a:pt x="124" y="38"/>
                </a:cubicBezTo>
                <a:cubicBezTo>
                  <a:pt x="124" y="45"/>
                  <a:pt x="124" y="45"/>
                  <a:pt x="124" y="45"/>
                </a:cubicBezTo>
                <a:cubicBezTo>
                  <a:pt x="27" y="45"/>
                  <a:pt x="27" y="45"/>
                  <a:pt x="27" y="45"/>
                </a:cubicBezTo>
                <a:cubicBezTo>
                  <a:pt x="27" y="38"/>
                  <a:pt x="27" y="38"/>
                  <a:pt x="27" y="38"/>
                </a:cubicBezTo>
                <a:cubicBezTo>
                  <a:pt x="27" y="38"/>
                  <a:pt x="27" y="38"/>
                  <a:pt x="27" y="38"/>
                </a:cubicBezTo>
                <a:cubicBezTo>
                  <a:pt x="33" y="38"/>
                  <a:pt x="37" y="33"/>
                  <a:pt x="37" y="28"/>
                </a:cubicBezTo>
                <a:cubicBezTo>
                  <a:pt x="37" y="22"/>
                  <a:pt x="33" y="18"/>
                  <a:pt x="27" y="18"/>
                </a:cubicBezTo>
                <a:cubicBezTo>
                  <a:pt x="27" y="18"/>
                  <a:pt x="27" y="18"/>
                  <a:pt x="27" y="18"/>
                </a:cubicBezTo>
                <a:lnTo>
                  <a:pt x="27" y="0"/>
                </a:lnTo>
                <a:close/>
                <a:moveTo>
                  <a:pt x="26" y="0"/>
                </a:moveTo>
                <a:cubicBezTo>
                  <a:pt x="27" y="0"/>
                  <a:pt x="27" y="0"/>
                  <a:pt x="27" y="0"/>
                </a:cubicBezTo>
                <a:cubicBezTo>
                  <a:pt x="27" y="18"/>
                  <a:pt x="27" y="18"/>
                  <a:pt x="27" y="18"/>
                </a:cubicBezTo>
                <a:cubicBezTo>
                  <a:pt x="22" y="18"/>
                  <a:pt x="17" y="22"/>
                  <a:pt x="17" y="28"/>
                </a:cubicBezTo>
                <a:cubicBezTo>
                  <a:pt x="17" y="33"/>
                  <a:pt x="22" y="38"/>
                  <a:pt x="27" y="38"/>
                </a:cubicBezTo>
                <a:cubicBezTo>
                  <a:pt x="27" y="45"/>
                  <a:pt x="27" y="45"/>
                  <a:pt x="27" y="45"/>
                </a:cubicBezTo>
                <a:cubicBezTo>
                  <a:pt x="0" y="45"/>
                  <a:pt x="0" y="45"/>
                  <a:pt x="0" y="45"/>
                </a:cubicBezTo>
                <a:cubicBezTo>
                  <a:pt x="0" y="27"/>
                  <a:pt x="0" y="27"/>
                  <a:pt x="0" y="27"/>
                </a:cubicBezTo>
                <a:cubicBezTo>
                  <a:pt x="0" y="12"/>
                  <a:pt x="12" y="0"/>
                  <a:pt x="26" y="0"/>
                </a:cubicBezTo>
                <a:close/>
              </a:path>
            </a:pathLst>
          </a:custGeom>
          <a:solidFill>
            <a:srgbClr val="ffffff"/>
          </a:solidFill>
          <a:ln w="0">
            <a:noFill/>
          </a:ln>
        </p:spPr>
        <p:style>
          <a:lnRef idx="0"/>
          <a:fillRef idx="0"/>
          <a:effectRef idx="0"/>
          <a:fontRef idx="minor"/>
        </p:style>
        <p:txBody>
          <a:bodyPr lIns="219240" rIns="219240" tIns="93600" bIns="93600" anchor="t">
            <a:noAutofit/>
          </a:bodyPr>
          <a:p>
            <a:endParaRPr b="0" lang="en-US" sz="3500" spc="-1" strike="noStrike">
              <a:solidFill>
                <a:srgbClr val="000000"/>
              </a:solidFill>
              <a:latin typeface="Open Sans Light"/>
            </a:endParaRPr>
          </a:p>
        </p:txBody>
      </p:sp>
      <p:sp>
        <p:nvSpPr>
          <p:cNvPr id="2305" name="Freeform 1090"/>
          <p:cNvSpPr/>
          <p:nvPr/>
        </p:nvSpPr>
        <p:spPr>
          <a:xfrm>
            <a:off x="15960600" y="5973840"/>
            <a:ext cx="65160" cy="187200"/>
          </a:xfrm>
          <a:custGeom>
            <a:avLst/>
            <a:gdLst/>
            <a:ahLst/>
            <a:rect l="l" t="t" r="r" b="b"/>
            <a:pathLst>
              <a:path w="14" h="42">
                <a:moveTo>
                  <a:pt x="7" y="0"/>
                </a:moveTo>
                <a:cubicBezTo>
                  <a:pt x="7" y="0"/>
                  <a:pt x="7" y="0"/>
                  <a:pt x="7" y="0"/>
                </a:cubicBezTo>
                <a:cubicBezTo>
                  <a:pt x="11" y="0"/>
                  <a:pt x="14" y="3"/>
                  <a:pt x="14" y="7"/>
                </a:cubicBezTo>
                <a:cubicBezTo>
                  <a:pt x="14" y="35"/>
                  <a:pt x="14" y="35"/>
                  <a:pt x="14" y="35"/>
                </a:cubicBezTo>
                <a:cubicBezTo>
                  <a:pt x="14" y="39"/>
                  <a:pt x="11" y="42"/>
                  <a:pt x="7" y="42"/>
                </a:cubicBezTo>
                <a:cubicBezTo>
                  <a:pt x="3" y="42"/>
                  <a:pt x="0" y="39"/>
                  <a:pt x="0" y="35"/>
                </a:cubicBezTo>
                <a:cubicBezTo>
                  <a:pt x="0" y="7"/>
                  <a:pt x="0" y="7"/>
                  <a:pt x="0" y="7"/>
                </a:cubicBezTo>
                <a:cubicBezTo>
                  <a:pt x="0" y="3"/>
                  <a:pt x="3" y="0"/>
                  <a:pt x="7" y="0"/>
                </a:cubicBezTo>
                <a:close/>
              </a:path>
            </a:pathLst>
          </a:custGeom>
          <a:solidFill>
            <a:srgbClr val="21a48c"/>
          </a:solidFill>
          <a:ln w="0">
            <a:noFill/>
          </a:ln>
        </p:spPr>
        <p:style>
          <a:lnRef idx="0"/>
          <a:fillRef idx="0"/>
          <a:effectRef idx="0"/>
          <a:fontRef idx="minor"/>
        </p:style>
        <p:txBody>
          <a:bodyPr lIns="219240" rIns="219240" tIns="77760" bIns="77760" anchor="t">
            <a:noAutofit/>
          </a:bodyPr>
          <a:p>
            <a:endParaRPr b="0" lang="en-US" sz="3500" spc="-1" strike="noStrike">
              <a:solidFill>
                <a:srgbClr val="000000"/>
              </a:solidFill>
              <a:latin typeface="Open Sans Light"/>
            </a:endParaRPr>
          </a:p>
        </p:txBody>
      </p:sp>
      <p:sp>
        <p:nvSpPr>
          <p:cNvPr id="2306" name="Freeform 1091"/>
          <p:cNvSpPr/>
          <p:nvPr/>
        </p:nvSpPr>
        <p:spPr>
          <a:xfrm>
            <a:off x="16395840" y="5973840"/>
            <a:ext cx="63360" cy="187200"/>
          </a:xfrm>
          <a:custGeom>
            <a:avLst/>
            <a:gdLst/>
            <a:ahLst/>
            <a:rect l="l" t="t" r="r" b="b"/>
            <a:pathLst>
              <a:path w="14" h="42">
                <a:moveTo>
                  <a:pt x="7" y="0"/>
                </a:moveTo>
                <a:cubicBezTo>
                  <a:pt x="7" y="0"/>
                  <a:pt x="7" y="0"/>
                  <a:pt x="7" y="0"/>
                </a:cubicBezTo>
                <a:cubicBezTo>
                  <a:pt x="11" y="0"/>
                  <a:pt x="14" y="3"/>
                  <a:pt x="14" y="7"/>
                </a:cubicBezTo>
                <a:cubicBezTo>
                  <a:pt x="14" y="35"/>
                  <a:pt x="14" y="35"/>
                  <a:pt x="14" y="35"/>
                </a:cubicBezTo>
                <a:cubicBezTo>
                  <a:pt x="14" y="39"/>
                  <a:pt x="11" y="42"/>
                  <a:pt x="7" y="42"/>
                </a:cubicBezTo>
                <a:cubicBezTo>
                  <a:pt x="3" y="42"/>
                  <a:pt x="0" y="39"/>
                  <a:pt x="0" y="35"/>
                </a:cubicBezTo>
                <a:cubicBezTo>
                  <a:pt x="0" y="7"/>
                  <a:pt x="0" y="7"/>
                  <a:pt x="0" y="7"/>
                </a:cubicBezTo>
                <a:cubicBezTo>
                  <a:pt x="0" y="3"/>
                  <a:pt x="3" y="0"/>
                  <a:pt x="7" y="0"/>
                </a:cubicBezTo>
                <a:close/>
              </a:path>
            </a:pathLst>
          </a:custGeom>
          <a:solidFill>
            <a:srgbClr val="21a48c"/>
          </a:solidFill>
          <a:ln w="0">
            <a:noFill/>
          </a:ln>
        </p:spPr>
        <p:style>
          <a:lnRef idx="0"/>
          <a:fillRef idx="0"/>
          <a:effectRef idx="0"/>
          <a:fontRef idx="minor"/>
        </p:style>
        <p:txBody>
          <a:bodyPr lIns="219240" rIns="219240" tIns="77760" bIns="77760" anchor="t">
            <a:noAutofit/>
          </a:bodyPr>
          <a:p>
            <a:endParaRPr b="0" lang="en-US" sz="3500" spc="-1" strike="noStrike">
              <a:solidFill>
                <a:srgbClr val="000000"/>
              </a:solidFill>
              <a:latin typeface="Open Sans Light"/>
            </a:endParaRPr>
          </a:p>
        </p:txBody>
      </p:sp>
      <p:sp>
        <p:nvSpPr>
          <p:cNvPr id="2307" name="Freeform 1092"/>
          <p:cNvSpPr/>
          <p:nvPr/>
        </p:nvSpPr>
        <p:spPr>
          <a:xfrm>
            <a:off x="15976440" y="5973840"/>
            <a:ext cx="33480" cy="156960"/>
          </a:xfrm>
          <a:custGeom>
            <a:avLst/>
            <a:gdLst/>
            <a:ahLst/>
            <a:rect l="l" t="t" r="r" b="b"/>
            <a:pathLst>
              <a:path w="8" h="35">
                <a:moveTo>
                  <a:pt x="4" y="0"/>
                </a:moveTo>
                <a:cubicBezTo>
                  <a:pt x="4" y="0"/>
                  <a:pt x="4" y="0"/>
                  <a:pt x="4" y="0"/>
                </a:cubicBezTo>
                <a:cubicBezTo>
                  <a:pt x="6" y="0"/>
                  <a:pt x="8" y="2"/>
                  <a:pt x="8" y="4"/>
                </a:cubicBezTo>
                <a:cubicBezTo>
                  <a:pt x="8" y="31"/>
                  <a:pt x="8" y="31"/>
                  <a:pt x="8" y="31"/>
                </a:cubicBezTo>
                <a:cubicBezTo>
                  <a:pt x="8" y="33"/>
                  <a:pt x="6" y="35"/>
                  <a:pt x="4" y="35"/>
                </a:cubicBezTo>
                <a:cubicBezTo>
                  <a:pt x="4" y="35"/>
                  <a:pt x="4" y="35"/>
                  <a:pt x="4" y="35"/>
                </a:cubicBezTo>
                <a:cubicBezTo>
                  <a:pt x="2" y="35"/>
                  <a:pt x="0" y="33"/>
                  <a:pt x="0" y="31"/>
                </a:cubicBezTo>
                <a:cubicBezTo>
                  <a:pt x="0" y="4"/>
                  <a:pt x="0" y="4"/>
                  <a:pt x="0" y="4"/>
                </a:cubicBezTo>
                <a:cubicBezTo>
                  <a:pt x="0" y="2"/>
                  <a:pt x="2" y="0"/>
                  <a:pt x="4" y="0"/>
                </a:cubicBezTo>
                <a:close/>
              </a:path>
            </a:pathLst>
          </a:custGeom>
          <a:solidFill>
            <a:srgbClr val="ffffff"/>
          </a:solidFill>
          <a:ln w="0">
            <a:noFill/>
          </a:ln>
        </p:spPr>
        <p:style>
          <a:lnRef idx="0"/>
          <a:fillRef idx="0"/>
          <a:effectRef idx="0"/>
          <a:fontRef idx="minor"/>
        </p:style>
        <p:txBody>
          <a:bodyPr lIns="219240" rIns="219240" tIns="47520" bIns="47520" anchor="t">
            <a:noAutofit/>
          </a:bodyPr>
          <a:p>
            <a:endParaRPr b="0" lang="en-US" sz="3500" spc="-1" strike="noStrike">
              <a:solidFill>
                <a:srgbClr val="000000"/>
              </a:solidFill>
              <a:latin typeface="Open Sans Light"/>
            </a:endParaRPr>
          </a:p>
        </p:txBody>
      </p:sp>
      <p:sp>
        <p:nvSpPr>
          <p:cNvPr id="2308" name="Freeform 1093"/>
          <p:cNvSpPr/>
          <p:nvPr/>
        </p:nvSpPr>
        <p:spPr>
          <a:xfrm>
            <a:off x="16409880" y="5973840"/>
            <a:ext cx="34920" cy="156960"/>
          </a:xfrm>
          <a:custGeom>
            <a:avLst/>
            <a:gdLst/>
            <a:ahLst/>
            <a:rect l="l" t="t" r="r" b="b"/>
            <a:pathLst>
              <a:path w="8" h="35">
                <a:moveTo>
                  <a:pt x="4" y="0"/>
                </a:moveTo>
                <a:cubicBezTo>
                  <a:pt x="4" y="0"/>
                  <a:pt x="4" y="0"/>
                  <a:pt x="4" y="0"/>
                </a:cubicBezTo>
                <a:cubicBezTo>
                  <a:pt x="6" y="0"/>
                  <a:pt x="8" y="2"/>
                  <a:pt x="8" y="4"/>
                </a:cubicBezTo>
                <a:cubicBezTo>
                  <a:pt x="8" y="31"/>
                  <a:pt x="8" y="31"/>
                  <a:pt x="8" y="31"/>
                </a:cubicBezTo>
                <a:cubicBezTo>
                  <a:pt x="8" y="33"/>
                  <a:pt x="6" y="35"/>
                  <a:pt x="4" y="35"/>
                </a:cubicBezTo>
                <a:cubicBezTo>
                  <a:pt x="2" y="35"/>
                  <a:pt x="0" y="33"/>
                  <a:pt x="0" y="31"/>
                </a:cubicBezTo>
                <a:cubicBezTo>
                  <a:pt x="0" y="4"/>
                  <a:pt x="0" y="4"/>
                  <a:pt x="0" y="4"/>
                </a:cubicBezTo>
                <a:cubicBezTo>
                  <a:pt x="0" y="2"/>
                  <a:pt x="2" y="0"/>
                  <a:pt x="4" y="0"/>
                </a:cubicBezTo>
                <a:close/>
              </a:path>
            </a:pathLst>
          </a:custGeom>
          <a:solidFill>
            <a:srgbClr val="ffffff"/>
          </a:solidFill>
          <a:ln w="0">
            <a:noFill/>
          </a:ln>
        </p:spPr>
        <p:style>
          <a:lnRef idx="0"/>
          <a:fillRef idx="0"/>
          <a:effectRef idx="0"/>
          <a:fontRef idx="minor"/>
        </p:style>
        <p:txBody>
          <a:bodyPr lIns="219240" rIns="219240" tIns="47520" bIns="47520" anchor="t">
            <a:noAutofit/>
          </a:bodyPr>
          <a:p>
            <a:endParaRPr b="0" lang="en-US" sz="3500" spc="-1" strike="noStrike">
              <a:solidFill>
                <a:srgbClr val="000000"/>
              </a:solidFill>
              <a:latin typeface="Open Sans Light"/>
            </a:endParaRPr>
          </a:p>
        </p:txBody>
      </p:sp>
      <p:sp>
        <p:nvSpPr>
          <p:cNvPr id="2309" name="Freeform 1094"/>
          <p:cNvSpPr/>
          <p:nvPr/>
        </p:nvSpPr>
        <p:spPr>
          <a:xfrm>
            <a:off x="16006680" y="6283440"/>
            <a:ext cx="441360" cy="323640"/>
          </a:xfrm>
          <a:custGeom>
            <a:avLst/>
            <a:gdLst/>
            <a:ahLst/>
            <a:rect l="l" t="t" r="r" b="b"/>
            <a:pathLst>
              <a:path w="99" h="72">
                <a:moveTo>
                  <a:pt x="4" y="60"/>
                </a:moveTo>
                <a:cubicBezTo>
                  <a:pt x="18" y="60"/>
                  <a:pt x="18" y="60"/>
                  <a:pt x="18" y="60"/>
                </a:cubicBezTo>
                <a:cubicBezTo>
                  <a:pt x="18" y="20"/>
                  <a:pt x="18" y="20"/>
                  <a:pt x="18" y="20"/>
                </a:cubicBezTo>
                <a:cubicBezTo>
                  <a:pt x="19" y="13"/>
                  <a:pt x="19" y="13"/>
                  <a:pt x="19" y="13"/>
                </a:cubicBezTo>
                <a:cubicBezTo>
                  <a:pt x="14" y="19"/>
                  <a:pt x="14" y="19"/>
                  <a:pt x="14" y="19"/>
                </a:cubicBezTo>
                <a:cubicBezTo>
                  <a:pt x="5" y="25"/>
                  <a:pt x="5" y="25"/>
                  <a:pt x="5" y="25"/>
                </a:cubicBezTo>
                <a:cubicBezTo>
                  <a:pt x="0" y="18"/>
                  <a:pt x="0" y="18"/>
                  <a:pt x="0" y="18"/>
                </a:cubicBezTo>
                <a:cubicBezTo>
                  <a:pt x="23" y="0"/>
                  <a:pt x="23" y="0"/>
                  <a:pt x="23" y="0"/>
                </a:cubicBezTo>
                <a:cubicBezTo>
                  <a:pt x="30" y="0"/>
                  <a:pt x="30" y="0"/>
                  <a:pt x="30" y="0"/>
                </a:cubicBezTo>
                <a:cubicBezTo>
                  <a:pt x="30" y="60"/>
                  <a:pt x="30" y="60"/>
                  <a:pt x="30" y="60"/>
                </a:cubicBezTo>
                <a:cubicBezTo>
                  <a:pt x="44" y="60"/>
                  <a:pt x="44" y="60"/>
                  <a:pt x="44" y="60"/>
                </a:cubicBezTo>
                <a:cubicBezTo>
                  <a:pt x="44" y="71"/>
                  <a:pt x="44" y="71"/>
                  <a:pt x="44" y="71"/>
                </a:cubicBezTo>
                <a:cubicBezTo>
                  <a:pt x="4" y="71"/>
                  <a:pt x="4" y="71"/>
                  <a:pt x="4" y="71"/>
                </a:cubicBezTo>
                <a:lnTo>
                  <a:pt x="4" y="60"/>
                </a:lnTo>
                <a:close/>
                <a:moveTo>
                  <a:pt x="72" y="60"/>
                </a:moveTo>
                <a:cubicBezTo>
                  <a:pt x="76" y="60"/>
                  <a:pt x="80" y="59"/>
                  <a:pt x="82" y="57"/>
                </a:cubicBezTo>
                <a:cubicBezTo>
                  <a:pt x="84" y="55"/>
                  <a:pt x="86" y="52"/>
                  <a:pt x="86" y="49"/>
                </a:cubicBezTo>
                <a:cubicBezTo>
                  <a:pt x="86" y="45"/>
                  <a:pt x="84" y="42"/>
                  <a:pt x="82" y="40"/>
                </a:cubicBezTo>
                <a:cubicBezTo>
                  <a:pt x="79" y="38"/>
                  <a:pt x="75" y="37"/>
                  <a:pt x="70" y="37"/>
                </a:cubicBezTo>
                <a:cubicBezTo>
                  <a:pt x="62" y="37"/>
                  <a:pt x="62" y="37"/>
                  <a:pt x="62" y="37"/>
                </a:cubicBezTo>
                <a:cubicBezTo>
                  <a:pt x="62" y="1"/>
                  <a:pt x="62" y="1"/>
                  <a:pt x="62" y="1"/>
                </a:cubicBezTo>
                <a:cubicBezTo>
                  <a:pt x="96" y="1"/>
                  <a:pt x="96" y="1"/>
                  <a:pt x="96" y="1"/>
                </a:cubicBezTo>
                <a:cubicBezTo>
                  <a:pt x="96" y="13"/>
                  <a:pt x="96" y="13"/>
                  <a:pt x="96" y="13"/>
                </a:cubicBezTo>
                <a:cubicBezTo>
                  <a:pt x="73" y="13"/>
                  <a:pt x="73" y="13"/>
                  <a:pt x="73" y="13"/>
                </a:cubicBezTo>
                <a:cubicBezTo>
                  <a:pt x="73" y="26"/>
                  <a:pt x="73" y="26"/>
                  <a:pt x="73" y="26"/>
                </a:cubicBezTo>
                <a:cubicBezTo>
                  <a:pt x="77" y="26"/>
                  <a:pt x="77" y="26"/>
                  <a:pt x="77" y="26"/>
                </a:cubicBezTo>
                <a:cubicBezTo>
                  <a:pt x="81" y="26"/>
                  <a:pt x="83" y="27"/>
                  <a:pt x="86" y="28"/>
                </a:cubicBezTo>
                <a:cubicBezTo>
                  <a:pt x="89" y="29"/>
                  <a:pt x="91" y="30"/>
                  <a:pt x="93" y="32"/>
                </a:cubicBezTo>
                <a:cubicBezTo>
                  <a:pt x="95" y="34"/>
                  <a:pt x="96" y="36"/>
                  <a:pt x="97" y="39"/>
                </a:cubicBezTo>
                <a:cubicBezTo>
                  <a:pt x="98" y="42"/>
                  <a:pt x="99" y="45"/>
                  <a:pt x="99" y="48"/>
                </a:cubicBezTo>
                <a:cubicBezTo>
                  <a:pt x="99" y="52"/>
                  <a:pt x="98" y="56"/>
                  <a:pt x="97" y="58"/>
                </a:cubicBezTo>
                <a:cubicBezTo>
                  <a:pt x="95" y="61"/>
                  <a:pt x="93" y="64"/>
                  <a:pt x="91" y="66"/>
                </a:cubicBezTo>
                <a:cubicBezTo>
                  <a:pt x="89" y="68"/>
                  <a:pt x="86" y="69"/>
                  <a:pt x="83" y="70"/>
                </a:cubicBezTo>
                <a:cubicBezTo>
                  <a:pt x="80" y="71"/>
                  <a:pt x="76" y="72"/>
                  <a:pt x="72" y="72"/>
                </a:cubicBezTo>
                <a:cubicBezTo>
                  <a:pt x="69" y="72"/>
                  <a:pt x="66" y="72"/>
                  <a:pt x="64" y="71"/>
                </a:cubicBezTo>
                <a:cubicBezTo>
                  <a:pt x="61" y="71"/>
                  <a:pt x="59" y="70"/>
                  <a:pt x="57" y="69"/>
                </a:cubicBezTo>
                <a:cubicBezTo>
                  <a:pt x="60" y="58"/>
                  <a:pt x="60" y="58"/>
                  <a:pt x="60" y="58"/>
                </a:cubicBezTo>
                <a:cubicBezTo>
                  <a:pt x="62" y="59"/>
                  <a:pt x="64" y="60"/>
                  <a:pt x="65" y="60"/>
                </a:cubicBezTo>
                <a:cubicBezTo>
                  <a:pt x="67" y="60"/>
                  <a:pt x="70" y="60"/>
                  <a:pt x="72" y="60"/>
                </a:cubicBezTo>
                <a:close/>
              </a:path>
            </a:pathLst>
          </a:custGeom>
          <a:solidFill>
            <a:srgbClr val="21a48c"/>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10" name="Rectangle 1095"/>
          <p:cNvSpPr/>
          <p:nvPr/>
        </p:nvSpPr>
        <p:spPr>
          <a:xfrm>
            <a:off x="15873480" y="6207120"/>
            <a:ext cx="681120" cy="30240"/>
          </a:xfrm>
          <a:prstGeom prst="rect">
            <a:avLst/>
          </a:prstGeom>
          <a:solidFill>
            <a:srgbClr val="21a48c"/>
          </a:solidFill>
          <a:ln w="0">
            <a:noFill/>
          </a:ln>
        </p:spPr>
        <p:style>
          <a:lnRef idx="0"/>
          <a:fillRef idx="0"/>
          <a:effectRef idx="0"/>
          <a:fontRef idx="minor"/>
        </p:style>
        <p:txBody>
          <a:bodyPr lIns="219600" rIns="219600" tIns="-79560" bIns="-7956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11" name="Freeform 1096"/>
          <p:cNvSpPr/>
          <p:nvPr/>
        </p:nvSpPr>
        <p:spPr>
          <a:xfrm>
            <a:off x="9396360" y="5742000"/>
            <a:ext cx="612720" cy="636480"/>
          </a:xfrm>
          <a:custGeom>
            <a:avLst/>
            <a:gdLst/>
            <a:ahLst/>
            <a:rect l="l" t="t" r="r" b="b"/>
            <a:pathLst>
              <a:path w="161" h="167">
                <a:moveTo>
                  <a:pt x="81" y="0"/>
                </a:moveTo>
                <a:lnTo>
                  <a:pt x="104" y="0"/>
                </a:lnTo>
                <a:lnTo>
                  <a:pt x="115" y="12"/>
                </a:lnTo>
                <a:lnTo>
                  <a:pt x="115" y="34"/>
                </a:lnTo>
                <a:lnTo>
                  <a:pt x="161" y="34"/>
                </a:lnTo>
                <a:lnTo>
                  <a:pt x="161" y="167"/>
                </a:lnTo>
                <a:lnTo>
                  <a:pt x="81" y="167"/>
                </a:lnTo>
                <a:lnTo>
                  <a:pt x="81" y="34"/>
                </a:lnTo>
                <a:lnTo>
                  <a:pt x="104" y="34"/>
                </a:lnTo>
                <a:lnTo>
                  <a:pt x="104" y="12"/>
                </a:lnTo>
                <a:lnTo>
                  <a:pt x="81" y="12"/>
                </a:lnTo>
                <a:lnTo>
                  <a:pt x="81" y="0"/>
                </a:lnTo>
                <a:close/>
                <a:moveTo>
                  <a:pt x="0" y="34"/>
                </a:moveTo>
                <a:lnTo>
                  <a:pt x="47" y="34"/>
                </a:lnTo>
                <a:lnTo>
                  <a:pt x="47" y="12"/>
                </a:lnTo>
                <a:lnTo>
                  <a:pt x="59" y="0"/>
                </a:lnTo>
                <a:lnTo>
                  <a:pt x="81" y="0"/>
                </a:lnTo>
                <a:lnTo>
                  <a:pt x="81" y="12"/>
                </a:lnTo>
                <a:lnTo>
                  <a:pt x="59" y="12"/>
                </a:lnTo>
                <a:lnTo>
                  <a:pt x="59" y="34"/>
                </a:lnTo>
                <a:lnTo>
                  <a:pt x="81" y="34"/>
                </a:lnTo>
                <a:lnTo>
                  <a:pt x="81" y="167"/>
                </a:lnTo>
                <a:lnTo>
                  <a:pt x="0" y="167"/>
                </a:lnTo>
                <a:lnTo>
                  <a:pt x="0" y="34"/>
                </a:ln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12" name="Rectangle 1097"/>
          <p:cNvSpPr/>
          <p:nvPr/>
        </p:nvSpPr>
        <p:spPr>
          <a:xfrm>
            <a:off x="9396360" y="6237360"/>
            <a:ext cx="612720" cy="27000"/>
          </a:xfrm>
          <a:prstGeom prst="rect">
            <a:avLst/>
          </a:prstGeom>
          <a:solidFill>
            <a:srgbClr val="ea5446"/>
          </a:solidFill>
          <a:ln w="0">
            <a:noFill/>
          </a:ln>
        </p:spPr>
        <p:style>
          <a:lnRef idx="0"/>
          <a:fillRef idx="0"/>
          <a:effectRef idx="0"/>
          <a:fontRef idx="minor"/>
        </p:style>
        <p:txBody>
          <a:bodyPr lIns="219600" rIns="219600" tIns="-82800" bIns="-82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13" name="TextBox 1098"/>
          <p:cNvSpPr/>
          <p:nvPr/>
        </p:nvSpPr>
        <p:spPr>
          <a:xfrm>
            <a:off x="15481440" y="3172320"/>
            <a:ext cx="1089000" cy="86904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1</a:t>
            </a:r>
            <a:endParaRPr b="0" lang="en-US" sz="5700" spc="-1" strike="noStrike">
              <a:solidFill>
                <a:srgbClr val="000000"/>
              </a:solidFill>
              <a:latin typeface="Open Sans Light"/>
            </a:endParaRPr>
          </a:p>
        </p:txBody>
      </p:sp>
      <p:sp>
        <p:nvSpPr>
          <p:cNvPr id="2314" name="TextBox 1099"/>
          <p:cNvSpPr/>
          <p:nvPr/>
        </p:nvSpPr>
        <p:spPr>
          <a:xfrm>
            <a:off x="12553920" y="4049640"/>
            <a:ext cx="4159440" cy="14230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GOES HERE</a:t>
            </a:r>
            <a:endParaRPr b="0" lang="en-US" sz="2600" spc="-1" strike="noStrike">
              <a:solidFill>
                <a:srgbClr val="000000"/>
              </a:solidFill>
              <a:latin typeface="Open Sans Light"/>
            </a:endParaRPr>
          </a:p>
          <a:p>
            <a:pPr algn="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315" name="TextBox 1100"/>
          <p:cNvSpPr/>
          <p:nvPr/>
        </p:nvSpPr>
        <p:spPr>
          <a:xfrm>
            <a:off x="9007560" y="3172320"/>
            <a:ext cx="1089000" cy="86904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2</a:t>
            </a:r>
            <a:endParaRPr b="0" lang="en-US" sz="5700" spc="-1" strike="noStrike">
              <a:solidFill>
                <a:srgbClr val="000000"/>
              </a:solidFill>
              <a:latin typeface="Open Sans Light"/>
            </a:endParaRPr>
          </a:p>
        </p:txBody>
      </p:sp>
      <p:sp>
        <p:nvSpPr>
          <p:cNvPr id="2316" name="TextBox 1101"/>
          <p:cNvSpPr/>
          <p:nvPr/>
        </p:nvSpPr>
        <p:spPr>
          <a:xfrm>
            <a:off x="7251840" y="4049640"/>
            <a:ext cx="2987640" cy="14230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lgn="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passages of lorem ipsu</a:t>
            </a:r>
            <a:endParaRPr b="0" lang="en-US" sz="2100" spc="-1" strike="noStrike">
              <a:solidFill>
                <a:srgbClr val="000000"/>
              </a:solidFill>
              <a:latin typeface="Open Sans Light"/>
            </a:endParaRPr>
          </a:p>
        </p:txBody>
      </p:sp>
      <p:sp>
        <p:nvSpPr>
          <p:cNvPr id="2317" name="TextBox 1107"/>
          <p:cNvSpPr/>
          <p:nvPr/>
        </p:nvSpPr>
        <p:spPr>
          <a:xfrm>
            <a:off x="2442960" y="639720"/>
            <a:ext cx="54324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INFOGRAPHICS</a:t>
            </a:r>
            <a:endParaRPr b="0" lang="en-US" sz="5700" spc="-1" strike="noStrike">
              <a:solidFill>
                <a:srgbClr val="000000"/>
              </a:solidFill>
              <a:latin typeface="Open Sans Light"/>
            </a:endParaRPr>
          </a:p>
        </p:txBody>
      </p:sp>
      <p:sp>
        <p:nvSpPr>
          <p:cNvPr id="2318" name="Rectangle 1108"/>
          <p:cNvSpPr/>
          <p:nvPr/>
        </p:nvSpPr>
        <p:spPr>
          <a:xfrm>
            <a:off x="18241920" y="7910640"/>
            <a:ext cx="4022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sp>
        <p:nvSpPr>
          <p:cNvPr id="2319" name="Rectangle 1109"/>
          <p:cNvSpPr/>
          <p:nvPr/>
        </p:nvSpPr>
        <p:spPr>
          <a:xfrm>
            <a:off x="1965240" y="2944800"/>
            <a:ext cx="3557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a:t>
            </a:r>
            <a:endParaRPr b="0" lang="en-US" sz="2400" spc="-1" strike="noStrike">
              <a:solidFill>
                <a:srgbClr val="000000"/>
              </a:solidFill>
              <a:latin typeface="Open Sans Light"/>
            </a:endParaRPr>
          </a:p>
        </p:txBody>
      </p:sp>
      <p:sp>
        <p:nvSpPr>
          <p:cNvPr id="2320" name="TextBox 1110"/>
          <p:cNvSpPr/>
          <p:nvPr/>
        </p:nvSpPr>
        <p:spPr>
          <a:xfrm>
            <a:off x="7095960" y="7369560"/>
            <a:ext cx="1089360" cy="869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3</a:t>
            </a:r>
            <a:endParaRPr b="0" lang="en-US" sz="5700" spc="-1" strike="noStrike">
              <a:solidFill>
                <a:srgbClr val="000000"/>
              </a:solidFill>
              <a:latin typeface="Open Sans Light"/>
            </a:endParaRPr>
          </a:p>
        </p:txBody>
      </p:sp>
      <p:sp>
        <p:nvSpPr>
          <p:cNvPr id="2321" name="TextBox 1111"/>
          <p:cNvSpPr/>
          <p:nvPr/>
        </p:nvSpPr>
        <p:spPr>
          <a:xfrm>
            <a:off x="6273720" y="8247240"/>
            <a:ext cx="2989440" cy="1423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lgn="ct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many variations of </a:t>
            </a:r>
            <a:br>
              <a:rPr sz="2100"/>
            </a:br>
            <a:r>
              <a:rPr b="0" lang="en-US" sz="2100" spc="-1" strike="noStrike">
                <a:solidFill>
                  <a:srgbClr val="ffffff"/>
                </a:solidFill>
                <a:latin typeface="Open Sans Light"/>
              </a:rPr>
              <a:t>texts here.</a:t>
            </a:r>
            <a:endParaRPr b="0" lang="en-US" sz="2100" spc="-1" strike="noStrike">
              <a:solidFill>
                <a:srgbClr val="000000"/>
              </a:solidFill>
              <a:latin typeface="Open Sans Light"/>
            </a:endParaRPr>
          </a:p>
        </p:txBody>
      </p:sp>
      <p:sp>
        <p:nvSpPr>
          <p:cNvPr id="2322" name="TextBox 1112"/>
          <p:cNvSpPr/>
          <p:nvPr/>
        </p:nvSpPr>
        <p:spPr>
          <a:xfrm>
            <a:off x="10450440" y="9938880"/>
            <a:ext cx="1089000" cy="8690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4</a:t>
            </a:r>
            <a:endParaRPr b="0" lang="en-US" sz="5700" spc="-1" strike="noStrike">
              <a:solidFill>
                <a:srgbClr val="000000"/>
              </a:solidFill>
              <a:latin typeface="Open Sans Light"/>
            </a:endParaRPr>
          </a:p>
        </p:txBody>
      </p:sp>
      <p:sp>
        <p:nvSpPr>
          <p:cNvPr id="2323" name="TextBox 1113"/>
          <p:cNvSpPr/>
          <p:nvPr/>
        </p:nvSpPr>
        <p:spPr>
          <a:xfrm>
            <a:off x="10480680" y="10817280"/>
            <a:ext cx="2987640" cy="78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649"/>
              </a:spcBef>
              <a:tabLst>
                <a:tab algn="l" pos="0"/>
                <a:tab algn="l" pos="1827360"/>
                <a:tab algn="l" pos="3654360"/>
                <a:tab algn="l" pos="5481720"/>
                <a:tab algn="l" pos="7308720"/>
                <a:tab algn="l" pos="9136080"/>
                <a:tab algn="l" pos="10963440"/>
              </a:tabLst>
            </a:pPr>
            <a:r>
              <a:rPr b="1" lang="en-US" sz="2600" spc="-1" strike="noStrike">
                <a:solidFill>
                  <a:srgbClr val="ffffff"/>
                </a:solidFill>
                <a:latin typeface="Montserrat Semi Bold"/>
              </a:rPr>
              <a:t>TITLE HERE</a:t>
            </a:r>
            <a:endParaRPr b="0" lang="en-US" sz="2600" spc="-1" strike="noStrike">
              <a:solidFill>
                <a:srgbClr val="000000"/>
              </a:solidFill>
              <a:latin typeface="Open Sans Light"/>
            </a:endParaRPr>
          </a:p>
          <a:p>
            <a:pPr>
              <a:spcBef>
                <a:spcPts val="524"/>
              </a:spcBef>
              <a:tabLst>
                <a:tab algn="l" pos="0"/>
                <a:tab algn="l" pos="1827360"/>
                <a:tab algn="l" pos="3654360"/>
                <a:tab algn="l" pos="5481720"/>
                <a:tab algn="l" pos="7308720"/>
                <a:tab algn="l" pos="9136080"/>
                <a:tab algn="l" pos="10963440"/>
              </a:tabLst>
            </a:pPr>
            <a:r>
              <a:rPr b="0" lang="en-US" sz="2100" spc="-1" strike="noStrike">
                <a:solidFill>
                  <a:srgbClr val="ffffff"/>
                </a:solidFill>
                <a:latin typeface="Open Sans Light"/>
              </a:rPr>
              <a:t>There are  …</a:t>
            </a:r>
            <a:endParaRPr b="0" lang="en-US" sz="2100" spc="-1" strike="noStrike">
              <a:solidFill>
                <a:srgbClr val="000000"/>
              </a:solidFill>
              <a:latin typeface="Open Sans Light"/>
            </a:endParaRPr>
          </a:p>
        </p:txBody>
      </p:sp>
      <p:sp>
        <p:nvSpPr>
          <p:cNvPr id="2324" name="TextBox 1114"/>
          <p:cNvSpPr/>
          <p:nvPr/>
        </p:nvSpPr>
        <p:spPr>
          <a:xfrm>
            <a:off x="14976360" y="10641960"/>
            <a:ext cx="1089000" cy="8690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5700" spc="-1" strike="noStrike">
                <a:solidFill>
                  <a:srgbClr val="ffffff"/>
                </a:solidFill>
                <a:latin typeface="Montserrat Semi Bold"/>
              </a:rPr>
              <a:t>05</a:t>
            </a:r>
            <a:endParaRPr b="0" lang="en-US" sz="5700" spc="-1" strike="noStrike">
              <a:solidFill>
                <a:srgbClr val="000000"/>
              </a:solidFill>
              <a:latin typeface="Open Sans Light"/>
            </a:endParaRPr>
          </a:p>
        </p:txBody>
      </p:sp>
      <p:pic>
        <p:nvPicPr>
          <p:cNvPr id="2325" name="Group 62"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49">
                                  <p:stCondLst>
                                    <p:cond delay="0"/>
                                  </p:stCondLst>
                                  <p:childTnLst>
                                    <p:set>
                                      <p:cBhvr>
                                        <p:cTn id="314" dur="1" fill="hold">
                                          <p:stCondLst>
                                            <p:cond delay="0"/>
                                          </p:stCondLst>
                                        </p:cTn>
                                        <p:tgtEl>
                                          <p:spTgt spid="2325"/>
                                        </p:tgtEl>
                                        <p:attrNameLst>
                                          <p:attrName>style.visibility</p:attrName>
                                        </p:attrNameLst>
                                      </p:cBhvr>
                                      <p:to>
                                        <p:strVal val="visible"/>
                                      </p:to>
                                    </p:set>
                                    <p:anim calcmode="lin" valueType="num">
                                      <p:cBhvr additive="repl">
                                        <p:cTn id="315" dur="500" fill="hold"/>
                                        <p:tgtEl>
                                          <p:spTgt spid="2325"/>
                                        </p:tgtEl>
                                        <p:attrNameLst>
                                          <p:attrName>ppt_w</p:attrName>
                                        </p:attrNameLst>
                                      </p:cBhvr>
                                      <p:tavLst>
                                        <p:tav tm="0">
                                          <p:val>
                                            <p:fltVal val="0"/>
                                          </p:val>
                                        </p:tav>
                                        <p:tav tm="100000">
                                          <p:val>
                                            <p:strVal val="#ppt_w"/>
                                          </p:val>
                                        </p:tav>
                                      </p:tavLst>
                                    </p:anim>
                                    <p:anim calcmode="lin" valueType="num">
                                      <p:cBhvr additive="repl">
                                        <p:cTn id="316" dur="500" fill="hold"/>
                                        <p:tgtEl>
                                          <p:spTgt spid="2325"/>
                                        </p:tgtEl>
                                        <p:attrNameLst>
                                          <p:attrName>ppt_h</p:attrName>
                                        </p:attrNameLst>
                                      </p:cBhvr>
                                      <p:tavLst>
                                        <p:tav tm="0">
                                          <p:val>
                                            <p:fltVal val="0"/>
                                          </p:val>
                                        </p:tav>
                                        <p:tav tm="100000">
                                          <p:val>
                                            <p:strVal val="#ppt_h"/>
                                          </p:val>
                                        </p:tav>
                                      </p:tavLst>
                                    </p:anim>
                                    <p:anim calcmode="lin" valueType="num">
                                      <p:cBhvr additive="repl">
                                        <p:cTn id="317" dur="500" fill="hold"/>
                                        <p:tgtEl>
                                          <p:spTgt spid="2325"/>
                                        </p:tgtEl>
                                        <p:attrNameLst>
                                          <p:attrName>r</p:attrName>
                                        </p:attrNameLst>
                                      </p:cBhvr>
                                      <p:tavLst>
                                        <p:tav tm="0">
                                          <p:val>
                                            <p:strVal val="360"/>
                                          </p:val>
                                        </p:tav>
                                        <p:tav tm="100000">
                                          <p:val>
                                            <p:strVal val="0"/>
                                          </p:val>
                                        </p:tav>
                                      </p:tavLst>
                                    </p:anim>
                                    <p:animEffect filter="fade" transition="in">
                                      <p:cBhvr additive="repl">
                                        <p:cTn id="318" dur="500"/>
                                        <p:tgtEl>
                                          <p:spTgt spid="2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Freeform 6"/>
          <p:cNvSpPr/>
          <p:nvPr/>
        </p:nvSpPr>
        <p:spPr>
          <a:xfrm>
            <a:off x="506412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3" y="65"/>
                  <a:pt x="13" y="61"/>
                </a:cubicBezTo>
                <a:cubicBezTo>
                  <a:pt x="13"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27" name="Oval 7"/>
          <p:cNvSpPr/>
          <p:nvPr/>
        </p:nvSpPr>
        <p:spPr>
          <a:xfrm>
            <a:off x="525456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28" name="Freeform 8"/>
          <p:cNvSpPr/>
          <p:nvPr/>
        </p:nvSpPr>
        <p:spPr>
          <a:xfrm>
            <a:off x="600876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3" y="65"/>
                  <a:pt x="13" y="61"/>
                </a:cubicBezTo>
                <a:cubicBezTo>
                  <a:pt x="13"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29" name="Oval 9"/>
          <p:cNvSpPr/>
          <p:nvPr/>
        </p:nvSpPr>
        <p:spPr>
          <a:xfrm>
            <a:off x="619920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0" name="Freeform 10"/>
          <p:cNvSpPr/>
          <p:nvPr/>
        </p:nvSpPr>
        <p:spPr>
          <a:xfrm>
            <a:off x="6953400" y="5396040"/>
            <a:ext cx="60300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2" y="65"/>
                  <a:pt x="12" y="61"/>
                </a:cubicBezTo>
                <a:cubicBezTo>
                  <a:pt x="12" y="61"/>
                  <a:pt x="13" y="21"/>
                  <a:pt x="13" y="21"/>
                </a:cubicBezTo>
                <a:cubicBezTo>
                  <a:pt x="13"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1" name="Oval 11"/>
          <p:cNvSpPr/>
          <p:nvPr/>
        </p:nvSpPr>
        <p:spPr>
          <a:xfrm>
            <a:off x="714384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2" name="Freeform 12"/>
          <p:cNvSpPr/>
          <p:nvPr/>
        </p:nvSpPr>
        <p:spPr>
          <a:xfrm>
            <a:off x="7899480" y="5396040"/>
            <a:ext cx="601560" cy="1272960"/>
          </a:xfrm>
          <a:custGeom>
            <a:avLst/>
            <a:gdLst/>
            <a:ahLst/>
            <a:rect l="l" t="t" r="r" b="b"/>
            <a:pathLst>
              <a:path w="67" h="141">
                <a:moveTo>
                  <a:pt x="35" y="0"/>
                </a:moveTo>
                <a:cubicBezTo>
                  <a:pt x="15" y="0"/>
                  <a:pt x="15" y="0"/>
                  <a:pt x="15" y="0"/>
                </a:cubicBezTo>
                <a:cubicBezTo>
                  <a:pt x="6" y="0"/>
                  <a:pt x="0" y="7"/>
                  <a:pt x="0" y="16"/>
                </a:cubicBezTo>
                <a:cubicBezTo>
                  <a:pt x="0" y="61"/>
                  <a:pt x="0" y="61"/>
                  <a:pt x="0" y="61"/>
                </a:cubicBezTo>
                <a:cubicBezTo>
                  <a:pt x="0" y="65"/>
                  <a:pt x="2" y="67"/>
                  <a:pt x="6" y="67"/>
                </a:cubicBezTo>
                <a:cubicBezTo>
                  <a:pt x="10" y="67"/>
                  <a:pt x="12" y="65"/>
                  <a:pt x="12" y="61"/>
                </a:cubicBezTo>
                <a:cubicBezTo>
                  <a:pt x="12" y="61"/>
                  <a:pt x="12" y="21"/>
                  <a:pt x="12" y="21"/>
                </a:cubicBezTo>
                <a:cubicBezTo>
                  <a:pt x="12" y="21"/>
                  <a:pt x="13" y="21"/>
                  <a:pt x="13" y="21"/>
                </a:cubicBezTo>
                <a:cubicBezTo>
                  <a:pt x="15" y="21"/>
                  <a:pt x="15" y="21"/>
                  <a:pt x="15" y="21"/>
                </a:cubicBezTo>
                <a:cubicBezTo>
                  <a:pt x="15" y="21"/>
                  <a:pt x="15" y="21"/>
                  <a:pt x="15" y="21"/>
                </a:cubicBezTo>
                <a:cubicBezTo>
                  <a:pt x="15" y="132"/>
                  <a:pt x="15" y="132"/>
                  <a:pt x="15" y="132"/>
                </a:cubicBezTo>
                <a:cubicBezTo>
                  <a:pt x="15" y="137"/>
                  <a:pt x="19" y="141"/>
                  <a:pt x="24" y="141"/>
                </a:cubicBezTo>
                <a:cubicBezTo>
                  <a:pt x="28" y="141"/>
                  <a:pt x="32" y="137"/>
                  <a:pt x="32" y="132"/>
                </a:cubicBezTo>
                <a:cubicBezTo>
                  <a:pt x="32" y="67"/>
                  <a:pt x="32" y="67"/>
                  <a:pt x="32" y="67"/>
                </a:cubicBezTo>
                <a:cubicBezTo>
                  <a:pt x="32" y="67"/>
                  <a:pt x="32" y="66"/>
                  <a:pt x="33" y="66"/>
                </a:cubicBezTo>
                <a:cubicBezTo>
                  <a:pt x="34" y="66"/>
                  <a:pt x="34" y="66"/>
                  <a:pt x="34" y="66"/>
                </a:cubicBezTo>
                <a:cubicBezTo>
                  <a:pt x="34" y="66"/>
                  <a:pt x="35" y="67"/>
                  <a:pt x="35" y="67"/>
                </a:cubicBezTo>
                <a:cubicBezTo>
                  <a:pt x="35" y="132"/>
                  <a:pt x="35" y="132"/>
                  <a:pt x="35" y="132"/>
                </a:cubicBezTo>
                <a:cubicBezTo>
                  <a:pt x="35" y="137"/>
                  <a:pt x="38" y="141"/>
                  <a:pt x="43" y="141"/>
                </a:cubicBezTo>
                <a:cubicBezTo>
                  <a:pt x="48" y="141"/>
                  <a:pt x="51" y="137"/>
                  <a:pt x="51" y="132"/>
                </a:cubicBezTo>
                <a:cubicBezTo>
                  <a:pt x="51" y="21"/>
                  <a:pt x="51" y="21"/>
                  <a:pt x="51" y="21"/>
                </a:cubicBezTo>
                <a:cubicBezTo>
                  <a:pt x="51" y="21"/>
                  <a:pt x="52" y="21"/>
                  <a:pt x="52" y="21"/>
                </a:cubicBezTo>
                <a:cubicBezTo>
                  <a:pt x="53" y="21"/>
                  <a:pt x="53" y="21"/>
                  <a:pt x="53" y="21"/>
                </a:cubicBezTo>
                <a:cubicBezTo>
                  <a:pt x="54" y="21"/>
                  <a:pt x="54" y="21"/>
                  <a:pt x="54" y="21"/>
                </a:cubicBezTo>
                <a:cubicBezTo>
                  <a:pt x="54" y="21"/>
                  <a:pt x="54" y="61"/>
                  <a:pt x="54" y="61"/>
                </a:cubicBezTo>
                <a:cubicBezTo>
                  <a:pt x="54" y="65"/>
                  <a:pt x="57" y="67"/>
                  <a:pt x="61" y="67"/>
                </a:cubicBezTo>
                <a:cubicBezTo>
                  <a:pt x="64" y="67"/>
                  <a:pt x="67" y="65"/>
                  <a:pt x="67" y="61"/>
                </a:cubicBezTo>
                <a:cubicBezTo>
                  <a:pt x="67" y="16"/>
                  <a:pt x="67" y="16"/>
                  <a:pt x="67" y="16"/>
                </a:cubicBezTo>
                <a:cubicBezTo>
                  <a:pt x="67" y="7"/>
                  <a:pt x="60" y="0"/>
                  <a:pt x="52" y="0"/>
                </a:cubicBezTo>
                <a:lnTo>
                  <a:pt x="35"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3" name="Oval 13"/>
          <p:cNvSpPr/>
          <p:nvPr/>
        </p:nvSpPr>
        <p:spPr>
          <a:xfrm>
            <a:off x="8089920" y="5145120"/>
            <a:ext cx="22392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4" name="Freeform 14"/>
          <p:cNvSpPr/>
          <p:nvPr/>
        </p:nvSpPr>
        <p:spPr>
          <a:xfrm>
            <a:off x="8836200" y="5396040"/>
            <a:ext cx="60948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1"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5" y="141"/>
                </a:cubicBezTo>
                <a:cubicBezTo>
                  <a:pt x="29" y="141"/>
                  <a:pt x="33" y="137"/>
                  <a:pt x="33" y="132"/>
                </a:cubicBezTo>
                <a:cubicBezTo>
                  <a:pt x="33" y="67"/>
                  <a:pt x="33" y="67"/>
                  <a:pt x="33" y="67"/>
                </a:cubicBezTo>
                <a:cubicBezTo>
                  <a:pt x="33" y="67"/>
                  <a:pt x="33" y="66"/>
                  <a:pt x="34"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2"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5" name="Oval 15"/>
          <p:cNvSpPr/>
          <p:nvPr/>
        </p:nvSpPr>
        <p:spPr>
          <a:xfrm>
            <a:off x="9034560" y="5145120"/>
            <a:ext cx="22392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6" name="Freeform 16"/>
          <p:cNvSpPr/>
          <p:nvPr/>
        </p:nvSpPr>
        <p:spPr>
          <a:xfrm>
            <a:off x="9780480" y="5396040"/>
            <a:ext cx="60984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4"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7" name="Oval 17"/>
          <p:cNvSpPr/>
          <p:nvPr/>
        </p:nvSpPr>
        <p:spPr>
          <a:xfrm>
            <a:off x="997920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38" name="Freeform 18"/>
          <p:cNvSpPr/>
          <p:nvPr/>
        </p:nvSpPr>
        <p:spPr>
          <a:xfrm>
            <a:off x="10725120" y="5396040"/>
            <a:ext cx="60948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9"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39" name="Oval 19"/>
          <p:cNvSpPr/>
          <p:nvPr/>
        </p:nvSpPr>
        <p:spPr>
          <a:xfrm>
            <a:off x="10923480" y="5145120"/>
            <a:ext cx="225360" cy="217440"/>
          </a:xfrm>
          <a:prstGeom prst="ellipse">
            <a:avLst/>
          </a:prstGeom>
          <a:solidFill>
            <a:srgbClr val="4d4d4d"/>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0" name="Freeform 20"/>
          <p:cNvSpPr/>
          <p:nvPr/>
        </p:nvSpPr>
        <p:spPr>
          <a:xfrm>
            <a:off x="11671200" y="5396040"/>
            <a:ext cx="609840" cy="1272960"/>
          </a:xfrm>
          <a:custGeom>
            <a:avLst/>
            <a:gdLst/>
            <a:ahLst/>
            <a:rect l="l" t="t" r="r" b="b"/>
            <a:pathLst>
              <a:path w="68" h="141">
                <a:moveTo>
                  <a:pt x="36"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6" y="67"/>
                  <a:pt x="36" y="67"/>
                </a:cubicBezTo>
                <a:cubicBezTo>
                  <a:pt x="36" y="132"/>
                  <a:pt x="36" y="132"/>
                  <a:pt x="36" y="132"/>
                </a:cubicBezTo>
                <a:cubicBezTo>
                  <a:pt x="36" y="137"/>
                  <a:pt x="39" y="141"/>
                  <a:pt x="44" y="141"/>
                </a:cubicBezTo>
                <a:cubicBezTo>
                  <a:pt x="48" y="141"/>
                  <a:pt x="52" y="137"/>
                  <a:pt x="52" y="132"/>
                </a:cubicBezTo>
                <a:cubicBezTo>
                  <a:pt x="52" y="21"/>
                  <a:pt x="52" y="21"/>
                  <a:pt x="52" y="21"/>
                </a:cubicBezTo>
                <a:cubicBezTo>
                  <a:pt x="52" y="21"/>
                  <a:pt x="53"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6"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1" name="Oval 21"/>
          <p:cNvSpPr/>
          <p:nvPr/>
        </p:nvSpPr>
        <p:spPr>
          <a:xfrm>
            <a:off x="11868120" y="5145120"/>
            <a:ext cx="22536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2" name="Freeform 22"/>
          <p:cNvSpPr/>
          <p:nvPr/>
        </p:nvSpPr>
        <p:spPr>
          <a:xfrm>
            <a:off x="12615840" y="5396040"/>
            <a:ext cx="609480" cy="1272960"/>
          </a:xfrm>
          <a:custGeom>
            <a:avLst/>
            <a:gdLst/>
            <a:ahLst/>
            <a:rect l="l" t="t" r="r" b="b"/>
            <a:pathLst>
              <a:path w="68" h="141">
                <a:moveTo>
                  <a:pt x="35"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5" y="67"/>
                  <a:pt x="35" y="67"/>
                </a:cubicBezTo>
                <a:cubicBezTo>
                  <a:pt x="35" y="132"/>
                  <a:pt x="35" y="132"/>
                  <a:pt x="35" y="132"/>
                </a:cubicBezTo>
                <a:cubicBezTo>
                  <a:pt x="35" y="137"/>
                  <a:pt x="39" y="141"/>
                  <a:pt x="44" y="141"/>
                </a:cubicBezTo>
                <a:cubicBezTo>
                  <a:pt x="48" y="141"/>
                  <a:pt x="52" y="137"/>
                  <a:pt x="52" y="132"/>
                </a:cubicBezTo>
                <a:cubicBezTo>
                  <a:pt x="52" y="21"/>
                  <a:pt x="52" y="21"/>
                  <a:pt x="52" y="21"/>
                </a:cubicBezTo>
                <a:cubicBezTo>
                  <a:pt x="52" y="21"/>
                  <a:pt x="52"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3" y="0"/>
                </a:cubicBezTo>
                <a:lnTo>
                  <a:pt x="35"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3" name="Oval 23"/>
          <p:cNvSpPr/>
          <p:nvPr/>
        </p:nvSpPr>
        <p:spPr>
          <a:xfrm>
            <a:off x="12814200" y="5145120"/>
            <a:ext cx="22392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4" name="Freeform 24"/>
          <p:cNvSpPr/>
          <p:nvPr/>
        </p:nvSpPr>
        <p:spPr>
          <a:xfrm>
            <a:off x="13560480" y="5396040"/>
            <a:ext cx="609480" cy="1272960"/>
          </a:xfrm>
          <a:custGeom>
            <a:avLst/>
            <a:gdLst/>
            <a:ahLst/>
            <a:rect l="l" t="t" r="r" b="b"/>
            <a:pathLst>
              <a:path w="68" h="141">
                <a:moveTo>
                  <a:pt x="35" y="0"/>
                </a:moveTo>
                <a:cubicBezTo>
                  <a:pt x="16" y="0"/>
                  <a:pt x="16" y="0"/>
                  <a:pt x="16" y="0"/>
                </a:cubicBezTo>
                <a:cubicBezTo>
                  <a:pt x="7" y="0"/>
                  <a:pt x="0" y="7"/>
                  <a:pt x="0" y="16"/>
                </a:cubicBezTo>
                <a:cubicBezTo>
                  <a:pt x="0" y="61"/>
                  <a:pt x="0" y="61"/>
                  <a:pt x="0" y="61"/>
                </a:cubicBezTo>
                <a:cubicBezTo>
                  <a:pt x="0" y="65"/>
                  <a:pt x="3" y="67"/>
                  <a:pt x="7" y="67"/>
                </a:cubicBezTo>
                <a:cubicBezTo>
                  <a:pt x="10" y="67"/>
                  <a:pt x="13" y="65"/>
                  <a:pt x="13" y="61"/>
                </a:cubicBezTo>
                <a:cubicBezTo>
                  <a:pt x="13" y="61"/>
                  <a:pt x="13" y="21"/>
                  <a:pt x="13" y="21"/>
                </a:cubicBezTo>
                <a:cubicBezTo>
                  <a:pt x="13" y="21"/>
                  <a:pt x="14" y="21"/>
                  <a:pt x="14" y="21"/>
                </a:cubicBezTo>
                <a:cubicBezTo>
                  <a:pt x="15" y="21"/>
                  <a:pt x="15" y="21"/>
                  <a:pt x="15" y="21"/>
                </a:cubicBezTo>
                <a:cubicBezTo>
                  <a:pt x="16" y="21"/>
                  <a:pt x="16" y="21"/>
                  <a:pt x="16" y="21"/>
                </a:cubicBezTo>
                <a:cubicBezTo>
                  <a:pt x="16" y="132"/>
                  <a:pt x="16" y="132"/>
                  <a:pt x="16" y="132"/>
                </a:cubicBezTo>
                <a:cubicBezTo>
                  <a:pt x="16" y="137"/>
                  <a:pt x="20" y="141"/>
                  <a:pt x="24" y="141"/>
                </a:cubicBezTo>
                <a:cubicBezTo>
                  <a:pt x="29" y="141"/>
                  <a:pt x="33" y="137"/>
                  <a:pt x="33" y="132"/>
                </a:cubicBezTo>
                <a:cubicBezTo>
                  <a:pt x="33" y="67"/>
                  <a:pt x="33" y="67"/>
                  <a:pt x="33" y="67"/>
                </a:cubicBezTo>
                <a:cubicBezTo>
                  <a:pt x="33" y="67"/>
                  <a:pt x="33" y="66"/>
                  <a:pt x="33" y="66"/>
                </a:cubicBezTo>
                <a:cubicBezTo>
                  <a:pt x="35" y="66"/>
                  <a:pt x="35" y="66"/>
                  <a:pt x="35" y="66"/>
                </a:cubicBezTo>
                <a:cubicBezTo>
                  <a:pt x="35" y="66"/>
                  <a:pt x="35" y="67"/>
                  <a:pt x="35" y="67"/>
                </a:cubicBezTo>
                <a:cubicBezTo>
                  <a:pt x="35" y="132"/>
                  <a:pt x="35" y="132"/>
                  <a:pt x="35" y="132"/>
                </a:cubicBezTo>
                <a:cubicBezTo>
                  <a:pt x="35" y="137"/>
                  <a:pt x="39" y="141"/>
                  <a:pt x="44" y="141"/>
                </a:cubicBezTo>
                <a:cubicBezTo>
                  <a:pt x="48" y="141"/>
                  <a:pt x="52" y="137"/>
                  <a:pt x="52" y="132"/>
                </a:cubicBezTo>
                <a:cubicBezTo>
                  <a:pt x="52" y="21"/>
                  <a:pt x="52" y="21"/>
                  <a:pt x="52" y="21"/>
                </a:cubicBezTo>
                <a:cubicBezTo>
                  <a:pt x="52" y="21"/>
                  <a:pt x="52" y="21"/>
                  <a:pt x="53" y="21"/>
                </a:cubicBezTo>
                <a:cubicBezTo>
                  <a:pt x="54" y="21"/>
                  <a:pt x="54" y="21"/>
                  <a:pt x="54" y="21"/>
                </a:cubicBezTo>
                <a:cubicBezTo>
                  <a:pt x="55" y="21"/>
                  <a:pt x="55" y="21"/>
                  <a:pt x="55" y="21"/>
                </a:cubicBezTo>
                <a:cubicBezTo>
                  <a:pt x="55" y="21"/>
                  <a:pt x="55" y="61"/>
                  <a:pt x="55" y="61"/>
                </a:cubicBezTo>
                <a:cubicBezTo>
                  <a:pt x="55" y="65"/>
                  <a:pt x="58" y="67"/>
                  <a:pt x="61" y="67"/>
                </a:cubicBezTo>
                <a:cubicBezTo>
                  <a:pt x="65" y="67"/>
                  <a:pt x="68" y="65"/>
                  <a:pt x="68" y="61"/>
                </a:cubicBezTo>
                <a:cubicBezTo>
                  <a:pt x="68" y="16"/>
                  <a:pt x="68" y="16"/>
                  <a:pt x="68" y="16"/>
                </a:cubicBezTo>
                <a:cubicBezTo>
                  <a:pt x="68" y="7"/>
                  <a:pt x="61" y="0"/>
                  <a:pt x="52" y="0"/>
                </a:cubicBezTo>
                <a:lnTo>
                  <a:pt x="35" y="0"/>
                </a:lnTo>
                <a:close/>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5" name="Oval 25"/>
          <p:cNvSpPr/>
          <p:nvPr/>
        </p:nvSpPr>
        <p:spPr>
          <a:xfrm>
            <a:off x="13758840" y="5145120"/>
            <a:ext cx="223920" cy="217440"/>
          </a:xfrm>
          <a:prstGeom prst="ellipse">
            <a:avLst/>
          </a:prstGeom>
          <a:solidFill>
            <a:srgbClr val="d9d9d9"/>
          </a:solidFill>
          <a:ln w="0">
            <a:noFill/>
          </a:ln>
        </p:spPr>
        <p:style>
          <a:lnRef idx="0"/>
          <a:fillRef idx="0"/>
          <a:effectRef idx="0"/>
          <a:fontRef idx="minor"/>
        </p:style>
        <p:txBody>
          <a:bodyPr lIns="219600" rIns="219600" tIns="44280" bIns="4428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6" name="Freeform 26"/>
          <p:cNvSpPr/>
          <p:nvPr/>
        </p:nvSpPr>
        <p:spPr>
          <a:xfrm>
            <a:off x="501012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4" y="20"/>
                </a:cubicBezTo>
                <a:cubicBezTo>
                  <a:pt x="54" y="20"/>
                  <a:pt x="54" y="20"/>
                  <a:pt x="54"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7" name="Oval 27"/>
          <p:cNvSpPr/>
          <p:nvPr/>
        </p:nvSpPr>
        <p:spPr>
          <a:xfrm>
            <a:off x="525456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48" name="Freeform 28"/>
          <p:cNvSpPr/>
          <p:nvPr/>
        </p:nvSpPr>
        <p:spPr>
          <a:xfrm>
            <a:off x="5956200" y="7259760"/>
            <a:ext cx="71136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49" name="Oval 29"/>
          <p:cNvSpPr/>
          <p:nvPr/>
        </p:nvSpPr>
        <p:spPr>
          <a:xfrm>
            <a:off x="619920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0" name="Freeform 30"/>
          <p:cNvSpPr/>
          <p:nvPr/>
        </p:nvSpPr>
        <p:spPr>
          <a:xfrm>
            <a:off x="690084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1" name="Oval 31"/>
          <p:cNvSpPr/>
          <p:nvPr/>
        </p:nvSpPr>
        <p:spPr>
          <a:xfrm>
            <a:off x="714384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2" name="Freeform 32"/>
          <p:cNvSpPr/>
          <p:nvPr/>
        </p:nvSpPr>
        <p:spPr>
          <a:xfrm>
            <a:off x="784548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3" name="Oval 33"/>
          <p:cNvSpPr/>
          <p:nvPr/>
        </p:nvSpPr>
        <p:spPr>
          <a:xfrm>
            <a:off x="808992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4" name="Freeform 34"/>
          <p:cNvSpPr/>
          <p:nvPr/>
        </p:nvSpPr>
        <p:spPr>
          <a:xfrm>
            <a:off x="879012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5" name="Oval 35"/>
          <p:cNvSpPr/>
          <p:nvPr/>
        </p:nvSpPr>
        <p:spPr>
          <a:xfrm>
            <a:off x="903456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6" name="Freeform 36"/>
          <p:cNvSpPr/>
          <p:nvPr/>
        </p:nvSpPr>
        <p:spPr>
          <a:xfrm>
            <a:off x="9734400" y="7259760"/>
            <a:ext cx="7128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6"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7" name="Oval 37"/>
          <p:cNvSpPr/>
          <p:nvPr/>
        </p:nvSpPr>
        <p:spPr>
          <a:xfrm>
            <a:off x="997920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58" name="Freeform 38"/>
          <p:cNvSpPr/>
          <p:nvPr/>
        </p:nvSpPr>
        <p:spPr>
          <a:xfrm>
            <a:off x="10680840" y="7259760"/>
            <a:ext cx="711000" cy="126036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8"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65" y="52"/>
                  <a:pt x="65" y="52"/>
                  <a:pt x="65" y="52"/>
                </a:cubicBezTo>
                <a:cubicBezTo>
                  <a:pt x="66" y="56"/>
                  <a:pt x="70" y="57"/>
                  <a:pt x="73"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59" name="Oval 39"/>
          <p:cNvSpPr/>
          <p:nvPr/>
        </p:nvSpPr>
        <p:spPr>
          <a:xfrm>
            <a:off x="1092348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0" name="Freeform 40"/>
          <p:cNvSpPr/>
          <p:nvPr/>
        </p:nvSpPr>
        <p:spPr>
          <a:xfrm>
            <a:off x="1161720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2" y="85"/>
                  <a:pt x="42" y="86"/>
                </a:cubicBezTo>
                <a:cubicBezTo>
                  <a:pt x="42" y="132"/>
                  <a:pt x="42" y="132"/>
                  <a:pt x="42" y="132"/>
                </a:cubicBezTo>
                <a:cubicBezTo>
                  <a:pt x="42" y="137"/>
                  <a:pt x="45" y="140"/>
                  <a:pt x="50" y="140"/>
                </a:cubicBezTo>
                <a:cubicBezTo>
                  <a:pt x="54" y="140"/>
                  <a:pt x="58" y="137"/>
                  <a:pt x="58" y="132"/>
                </a:cubicBezTo>
                <a:cubicBezTo>
                  <a:pt x="58" y="132"/>
                  <a:pt x="58" y="86"/>
                  <a:pt x="58" y="86"/>
                </a:cubicBezTo>
                <a:cubicBezTo>
                  <a:pt x="58" y="85"/>
                  <a:pt x="59"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7" y="0"/>
                  <a:pt x="27" y="0"/>
                  <a:pt x="27" y="0"/>
                </a:cubicBezTo>
                <a:cubicBezTo>
                  <a:pt x="16" y="0"/>
                  <a:pt x="13" y="11"/>
                  <a:pt x="11" y="17"/>
                </a:cubicBezTo>
                <a:cubicBezTo>
                  <a:pt x="11" y="17"/>
                  <a:pt x="2" y="48"/>
                  <a:pt x="2" y="48"/>
                </a:cubicBezTo>
                <a:cubicBezTo>
                  <a:pt x="0" y="52"/>
                  <a:pt x="2" y="55"/>
                  <a:pt x="6"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1" name="Oval 41"/>
          <p:cNvSpPr/>
          <p:nvPr/>
        </p:nvSpPr>
        <p:spPr>
          <a:xfrm>
            <a:off x="11868120" y="7000920"/>
            <a:ext cx="22536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2" name="Freeform 42"/>
          <p:cNvSpPr/>
          <p:nvPr/>
        </p:nvSpPr>
        <p:spPr>
          <a:xfrm>
            <a:off x="1256184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3" name="Oval 43"/>
          <p:cNvSpPr/>
          <p:nvPr/>
        </p:nvSpPr>
        <p:spPr>
          <a:xfrm>
            <a:off x="12814200" y="7000920"/>
            <a:ext cx="223920" cy="223920"/>
          </a:xfrm>
          <a:prstGeom prst="ellipse">
            <a:avLst/>
          </a:prstGeom>
          <a:solidFill>
            <a:srgbClr val="b2b2b2"/>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4" name="Freeform 44"/>
          <p:cNvSpPr/>
          <p:nvPr/>
        </p:nvSpPr>
        <p:spPr>
          <a:xfrm>
            <a:off x="13506480" y="7259760"/>
            <a:ext cx="720720" cy="126036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5" name="Oval 45"/>
          <p:cNvSpPr/>
          <p:nvPr/>
        </p:nvSpPr>
        <p:spPr>
          <a:xfrm>
            <a:off x="13758840" y="7000920"/>
            <a:ext cx="223920" cy="223920"/>
          </a:xfrm>
          <a:prstGeom prst="ellipse">
            <a:avLst/>
          </a:prstGeom>
          <a:solidFill>
            <a:srgbClr val="d9d9d9"/>
          </a:solidFill>
          <a:ln w="0">
            <a:noFill/>
          </a:ln>
        </p:spPr>
        <p:style>
          <a:lnRef idx="0"/>
          <a:fillRef idx="0"/>
          <a:effectRef idx="0"/>
          <a:fontRef idx="minor"/>
        </p:style>
        <p:txBody>
          <a:bodyPr lIns="219600" rIns="219600" tIns="48600" bIns="486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66" name="Freeform 46"/>
          <p:cNvSpPr/>
          <p:nvPr/>
        </p:nvSpPr>
        <p:spPr>
          <a:xfrm>
            <a:off x="2862360" y="5270400"/>
            <a:ext cx="1671480" cy="1260720"/>
          </a:xfrm>
          <a:custGeom>
            <a:avLst/>
            <a:gdLst/>
            <a:ahLst/>
            <a:rect l="l" t="t" r="r" b="b"/>
            <a:pathLst>
              <a:path w="439" h="331">
                <a:moveTo>
                  <a:pt x="330" y="102"/>
                </a:moveTo>
                <a:lnTo>
                  <a:pt x="330" y="0"/>
                </a:lnTo>
                <a:lnTo>
                  <a:pt x="0" y="0"/>
                </a:lnTo>
                <a:lnTo>
                  <a:pt x="0" y="331"/>
                </a:lnTo>
                <a:lnTo>
                  <a:pt x="330" y="331"/>
                </a:lnTo>
                <a:lnTo>
                  <a:pt x="330" y="230"/>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7" name="Rectangle 47"/>
          <p:cNvSpPr/>
          <p:nvPr/>
        </p:nvSpPr>
        <p:spPr>
          <a:xfrm>
            <a:off x="3055320" y="570060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70%</a:t>
            </a:r>
            <a:endParaRPr b="0" lang="en-US" sz="3300" spc="-1" strike="noStrike">
              <a:solidFill>
                <a:srgbClr val="000000"/>
              </a:solidFill>
              <a:latin typeface="Open Sans Light"/>
            </a:endParaRPr>
          </a:p>
        </p:txBody>
      </p:sp>
      <p:sp>
        <p:nvSpPr>
          <p:cNvPr id="2368" name="Freeform 48"/>
          <p:cNvSpPr/>
          <p:nvPr/>
        </p:nvSpPr>
        <p:spPr>
          <a:xfrm>
            <a:off x="2862360" y="7134120"/>
            <a:ext cx="1671480" cy="1260720"/>
          </a:xfrm>
          <a:custGeom>
            <a:avLst/>
            <a:gdLst/>
            <a:ahLst/>
            <a:rect l="l" t="t" r="r" b="b"/>
            <a:pathLst>
              <a:path w="439" h="331">
                <a:moveTo>
                  <a:pt x="330" y="102"/>
                </a:moveTo>
                <a:lnTo>
                  <a:pt x="330" y="0"/>
                </a:lnTo>
                <a:lnTo>
                  <a:pt x="0" y="0"/>
                </a:lnTo>
                <a:lnTo>
                  <a:pt x="0" y="331"/>
                </a:lnTo>
                <a:lnTo>
                  <a:pt x="330" y="331"/>
                </a:lnTo>
                <a:lnTo>
                  <a:pt x="330" y="227"/>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69" name="Rectangle 49"/>
          <p:cNvSpPr/>
          <p:nvPr/>
        </p:nvSpPr>
        <p:spPr>
          <a:xfrm>
            <a:off x="3055320" y="755316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90%</a:t>
            </a:r>
            <a:endParaRPr b="0" lang="en-US" sz="3300" spc="-1" strike="noStrike">
              <a:solidFill>
                <a:srgbClr val="000000"/>
              </a:solidFill>
              <a:latin typeface="Open Sans Light"/>
            </a:endParaRPr>
          </a:p>
        </p:txBody>
      </p:sp>
      <p:sp>
        <p:nvSpPr>
          <p:cNvPr id="2370" name="Rectangle 52"/>
          <p:cNvSpPr/>
          <p:nvPr/>
        </p:nvSpPr>
        <p:spPr>
          <a:xfrm>
            <a:off x="5896800" y="1155240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71" name="Freeform 54"/>
          <p:cNvSpPr/>
          <p:nvPr/>
        </p:nvSpPr>
        <p:spPr>
          <a:xfrm>
            <a:off x="5002200" y="11363400"/>
            <a:ext cx="763560" cy="779400"/>
          </a:xfrm>
          <a:custGeom>
            <a:avLst/>
            <a:gdLst/>
            <a:ahLst/>
            <a:rect l="l" t="t" r="r" b="b"/>
            <a:pathLst>
              <a:path w="170" h="170">
                <a:moveTo>
                  <a:pt x="170" y="136"/>
                </a:moveTo>
                <a:cubicBezTo>
                  <a:pt x="170" y="155"/>
                  <a:pt x="155" y="170"/>
                  <a:pt x="136" y="170"/>
                </a:cubicBezTo>
                <a:cubicBezTo>
                  <a:pt x="35" y="170"/>
                  <a:pt x="35" y="170"/>
                  <a:pt x="35" y="170"/>
                </a:cubicBezTo>
                <a:cubicBezTo>
                  <a:pt x="15" y="170"/>
                  <a:pt x="0" y="155"/>
                  <a:pt x="0" y="136"/>
                </a:cubicBezTo>
                <a:cubicBezTo>
                  <a:pt x="0" y="35"/>
                  <a:pt x="0" y="35"/>
                  <a:pt x="0" y="35"/>
                </a:cubicBezTo>
                <a:cubicBezTo>
                  <a:pt x="0" y="16"/>
                  <a:pt x="15" y="0"/>
                  <a:pt x="35" y="0"/>
                </a:cubicBezTo>
                <a:cubicBezTo>
                  <a:pt x="136" y="0"/>
                  <a:pt x="136" y="0"/>
                  <a:pt x="136" y="0"/>
                </a:cubicBezTo>
                <a:cubicBezTo>
                  <a:pt x="155" y="0"/>
                  <a:pt x="170" y="16"/>
                  <a:pt x="170" y="35"/>
                </a:cubicBezTo>
                <a:lnTo>
                  <a:pt x="170" y="136"/>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2" name="Oval 55"/>
          <p:cNvSpPr/>
          <p:nvPr/>
        </p:nvSpPr>
        <p:spPr>
          <a:xfrm>
            <a:off x="5135400" y="11872800"/>
            <a:ext cx="135000" cy="131760"/>
          </a:xfrm>
          <a:prstGeom prst="ellipse">
            <a:avLst/>
          </a:prstGeom>
          <a:solidFill>
            <a:srgbClr val="f9f9fb"/>
          </a:solidFill>
          <a:ln w="0">
            <a:noFill/>
          </a:ln>
        </p:spPr>
        <p:style>
          <a:lnRef idx="0"/>
          <a:fillRef idx="0"/>
          <a:effectRef idx="0"/>
          <a:fontRef idx="minor"/>
        </p:style>
        <p:txBody>
          <a:bodyPr lIns="219600" rIns="219600" tIns="-16200" bIns="-162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73" name="Freeform 56"/>
          <p:cNvSpPr/>
          <p:nvPr/>
        </p:nvSpPr>
        <p:spPr>
          <a:xfrm>
            <a:off x="5135400" y="11674440"/>
            <a:ext cx="328680" cy="330120"/>
          </a:xfrm>
          <a:custGeom>
            <a:avLst/>
            <a:gdLst/>
            <a:ahLst/>
            <a:rect l="l" t="t" r="r" b="b"/>
            <a:pathLst>
              <a:path w="73" h="72">
                <a:moveTo>
                  <a:pt x="0" y="21"/>
                </a:moveTo>
                <a:cubicBezTo>
                  <a:pt x="14" y="21"/>
                  <a:pt x="27" y="26"/>
                  <a:pt x="37" y="36"/>
                </a:cubicBezTo>
                <a:cubicBezTo>
                  <a:pt x="46" y="46"/>
                  <a:pt x="52" y="59"/>
                  <a:pt x="52" y="72"/>
                </a:cubicBezTo>
                <a:cubicBezTo>
                  <a:pt x="73" y="72"/>
                  <a:pt x="73" y="72"/>
                  <a:pt x="73" y="72"/>
                </a:cubicBezTo>
                <a:cubicBezTo>
                  <a:pt x="73" y="32"/>
                  <a:pt x="40" y="0"/>
                  <a:pt x="0" y="0"/>
                </a:cubicBezTo>
                <a:lnTo>
                  <a:pt x="0" y="21"/>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4" name="Freeform 57"/>
          <p:cNvSpPr/>
          <p:nvPr/>
        </p:nvSpPr>
        <p:spPr>
          <a:xfrm>
            <a:off x="5135400" y="11501280"/>
            <a:ext cx="495360" cy="503280"/>
          </a:xfrm>
          <a:custGeom>
            <a:avLst/>
            <a:gdLst/>
            <a:ahLst/>
            <a:rect l="l" t="t" r="r" b="b"/>
            <a:pathLst>
              <a:path w="110" h="110">
                <a:moveTo>
                  <a:pt x="0" y="21"/>
                </a:moveTo>
                <a:cubicBezTo>
                  <a:pt x="49" y="21"/>
                  <a:pt x="89" y="61"/>
                  <a:pt x="89" y="110"/>
                </a:cubicBezTo>
                <a:cubicBezTo>
                  <a:pt x="110" y="110"/>
                  <a:pt x="110" y="110"/>
                  <a:pt x="110" y="110"/>
                </a:cubicBezTo>
                <a:cubicBezTo>
                  <a:pt x="110" y="50"/>
                  <a:pt x="61" y="0"/>
                  <a:pt x="0" y="0"/>
                </a:cubicBezTo>
                <a:lnTo>
                  <a:pt x="0" y="21"/>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5" name="Rectangle 60"/>
          <p:cNvSpPr/>
          <p:nvPr/>
        </p:nvSpPr>
        <p:spPr>
          <a:xfrm>
            <a:off x="11511000" y="1154592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76" name="Freeform 62"/>
          <p:cNvSpPr/>
          <p:nvPr/>
        </p:nvSpPr>
        <p:spPr>
          <a:xfrm>
            <a:off x="10601280" y="11353680"/>
            <a:ext cx="766800" cy="787680"/>
          </a:xfrm>
          <a:custGeom>
            <a:avLst/>
            <a:gdLst/>
            <a:ahLst/>
            <a:rect l="l" t="t" r="r" b="b"/>
            <a:pathLst>
              <a:path w="170" h="171">
                <a:moveTo>
                  <a:pt x="170" y="136"/>
                </a:moveTo>
                <a:cubicBezTo>
                  <a:pt x="170" y="155"/>
                  <a:pt x="155" y="171"/>
                  <a:pt x="136" y="171"/>
                </a:cubicBezTo>
                <a:cubicBezTo>
                  <a:pt x="35" y="171"/>
                  <a:pt x="35" y="171"/>
                  <a:pt x="35" y="171"/>
                </a:cubicBezTo>
                <a:cubicBezTo>
                  <a:pt x="16" y="171"/>
                  <a:pt x="0" y="155"/>
                  <a:pt x="0" y="136"/>
                </a:cubicBezTo>
                <a:cubicBezTo>
                  <a:pt x="0" y="35"/>
                  <a:pt x="0" y="35"/>
                  <a:pt x="0" y="35"/>
                </a:cubicBezTo>
                <a:cubicBezTo>
                  <a:pt x="0" y="16"/>
                  <a:pt x="16" y="0"/>
                  <a:pt x="35" y="0"/>
                </a:cubicBezTo>
                <a:cubicBezTo>
                  <a:pt x="136" y="0"/>
                  <a:pt x="136" y="0"/>
                  <a:pt x="136" y="0"/>
                </a:cubicBezTo>
                <a:cubicBezTo>
                  <a:pt x="155" y="0"/>
                  <a:pt x="170" y="16"/>
                  <a:pt x="170" y="35"/>
                </a:cubicBezTo>
                <a:lnTo>
                  <a:pt x="170" y="136"/>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7" name="Freeform 63"/>
          <p:cNvSpPr/>
          <p:nvPr/>
        </p:nvSpPr>
        <p:spPr>
          <a:xfrm>
            <a:off x="11080800" y="11569680"/>
            <a:ext cx="177840" cy="351000"/>
          </a:xfrm>
          <a:custGeom>
            <a:avLst/>
            <a:gdLst/>
            <a:ahLst/>
            <a:rect l="l" t="t" r="r" b="b"/>
            <a:pathLst>
              <a:path w="40" h="76">
                <a:moveTo>
                  <a:pt x="40" y="69"/>
                </a:moveTo>
                <a:cubicBezTo>
                  <a:pt x="40" y="71"/>
                  <a:pt x="39" y="74"/>
                  <a:pt x="38" y="76"/>
                </a:cubicBezTo>
                <a:cubicBezTo>
                  <a:pt x="0" y="33"/>
                  <a:pt x="0" y="33"/>
                  <a:pt x="0" y="33"/>
                </a:cubicBezTo>
                <a:cubicBezTo>
                  <a:pt x="37" y="0"/>
                  <a:pt x="37" y="0"/>
                  <a:pt x="37" y="0"/>
                </a:cubicBezTo>
                <a:cubicBezTo>
                  <a:pt x="39" y="3"/>
                  <a:pt x="40" y="5"/>
                  <a:pt x="40" y="8"/>
                </a:cubicBezTo>
                <a:lnTo>
                  <a:pt x="40" y="69"/>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8" name="Freeform 64"/>
          <p:cNvSpPr/>
          <p:nvPr/>
        </p:nvSpPr>
        <p:spPr>
          <a:xfrm>
            <a:off x="10750680" y="11533320"/>
            <a:ext cx="482400" cy="225360"/>
          </a:xfrm>
          <a:custGeom>
            <a:avLst/>
            <a:gdLst/>
            <a:ahLst/>
            <a:rect l="l" t="t" r="r" b="b"/>
            <a:pathLst>
              <a:path w="107" h="49">
                <a:moveTo>
                  <a:pt x="54" y="49"/>
                </a:moveTo>
                <a:cubicBezTo>
                  <a:pt x="107" y="2"/>
                  <a:pt x="107" y="2"/>
                  <a:pt x="107" y="2"/>
                </a:cubicBezTo>
                <a:cubicBezTo>
                  <a:pt x="105" y="1"/>
                  <a:pt x="103" y="0"/>
                  <a:pt x="100" y="0"/>
                </a:cubicBezTo>
                <a:cubicBezTo>
                  <a:pt x="7" y="0"/>
                  <a:pt x="7" y="0"/>
                  <a:pt x="7" y="0"/>
                </a:cubicBezTo>
                <a:cubicBezTo>
                  <a:pt x="4" y="0"/>
                  <a:pt x="2" y="1"/>
                  <a:pt x="0" y="2"/>
                </a:cubicBezTo>
                <a:lnTo>
                  <a:pt x="54" y="49"/>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79" name="Freeform 65"/>
          <p:cNvSpPr/>
          <p:nvPr/>
        </p:nvSpPr>
        <p:spPr>
          <a:xfrm>
            <a:off x="10747440" y="11746080"/>
            <a:ext cx="488880" cy="215640"/>
          </a:xfrm>
          <a:custGeom>
            <a:avLst/>
            <a:gdLst/>
            <a:ahLst/>
            <a:rect l="l" t="t" r="r" b="b"/>
            <a:pathLst>
              <a:path w="109" h="47">
                <a:moveTo>
                  <a:pt x="70" y="0"/>
                </a:moveTo>
                <a:cubicBezTo>
                  <a:pt x="57" y="11"/>
                  <a:pt x="57" y="11"/>
                  <a:pt x="57" y="11"/>
                </a:cubicBezTo>
                <a:cubicBezTo>
                  <a:pt x="56" y="12"/>
                  <a:pt x="55" y="12"/>
                  <a:pt x="55" y="12"/>
                </a:cubicBezTo>
                <a:cubicBezTo>
                  <a:pt x="54" y="12"/>
                  <a:pt x="53" y="12"/>
                  <a:pt x="52" y="11"/>
                </a:cubicBezTo>
                <a:cubicBezTo>
                  <a:pt x="40" y="0"/>
                  <a:pt x="40" y="0"/>
                  <a:pt x="40" y="0"/>
                </a:cubicBezTo>
                <a:cubicBezTo>
                  <a:pt x="0" y="45"/>
                  <a:pt x="0" y="45"/>
                  <a:pt x="0" y="45"/>
                </a:cubicBezTo>
                <a:cubicBezTo>
                  <a:pt x="2" y="46"/>
                  <a:pt x="5" y="47"/>
                  <a:pt x="8" y="47"/>
                </a:cubicBezTo>
                <a:cubicBezTo>
                  <a:pt x="101" y="47"/>
                  <a:pt x="101" y="47"/>
                  <a:pt x="101" y="47"/>
                </a:cubicBezTo>
                <a:cubicBezTo>
                  <a:pt x="104" y="47"/>
                  <a:pt x="107" y="46"/>
                  <a:pt x="109" y="45"/>
                </a:cubicBezTo>
                <a:lnTo>
                  <a:pt x="70" y="0"/>
                </a:lnTo>
                <a:close/>
              </a:path>
            </a:pathLst>
          </a:custGeom>
          <a:solidFill>
            <a:srgbClr val="f9f9fb"/>
          </a:solidFill>
          <a:ln w="0">
            <a:noFill/>
          </a:ln>
        </p:spPr>
        <p:style>
          <a:lnRef idx="0"/>
          <a:fillRef idx="0"/>
          <a:effectRef idx="0"/>
          <a:fontRef idx="minor"/>
        </p:style>
        <p:txBody>
          <a:bodyPr lIns="219240" rIns="219240" tIns="106200" bIns="106200" anchor="t">
            <a:noAutofit/>
          </a:bodyPr>
          <a:p>
            <a:endParaRPr b="0" lang="en-US" sz="3500" spc="-1" strike="noStrike">
              <a:solidFill>
                <a:srgbClr val="000000"/>
              </a:solidFill>
              <a:latin typeface="Open Sans Light"/>
            </a:endParaRPr>
          </a:p>
        </p:txBody>
      </p:sp>
      <p:sp>
        <p:nvSpPr>
          <p:cNvPr id="2380" name="Freeform 66"/>
          <p:cNvSpPr/>
          <p:nvPr/>
        </p:nvSpPr>
        <p:spPr>
          <a:xfrm>
            <a:off x="10713960" y="11566440"/>
            <a:ext cx="185760" cy="358920"/>
          </a:xfrm>
          <a:custGeom>
            <a:avLst/>
            <a:gdLst/>
            <a:ahLst/>
            <a:rect l="l" t="t" r="r" b="b"/>
            <a:pathLst>
              <a:path w="41" h="78">
                <a:moveTo>
                  <a:pt x="2" y="0"/>
                </a:moveTo>
                <a:cubicBezTo>
                  <a:pt x="1" y="3"/>
                  <a:pt x="0" y="6"/>
                  <a:pt x="0" y="9"/>
                </a:cubicBezTo>
                <a:cubicBezTo>
                  <a:pt x="0" y="70"/>
                  <a:pt x="0" y="70"/>
                  <a:pt x="0" y="70"/>
                </a:cubicBezTo>
                <a:cubicBezTo>
                  <a:pt x="0" y="73"/>
                  <a:pt x="0" y="76"/>
                  <a:pt x="2" y="78"/>
                </a:cubicBezTo>
                <a:cubicBezTo>
                  <a:pt x="41" y="34"/>
                  <a:pt x="41" y="34"/>
                  <a:pt x="41" y="34"/>
                </a:cubicBezTo>
                <a:lnTo>
                  <a:pt x="2" y="0"/>
                </a:lnTo>
                <a:close/>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1" name="Rectangle 69"/>
          <p:cNvSpPr/>
          <p:nvPr/>
        </p:nvSpPr>
        <p:spPr>
          <a:xfrm>
            <a:off x="9667800" y="1154592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82" name="Freeform 71"/>
          <p:cNvSpPr/>
          <p:nvPr/>
        </p:nvSpPr>
        <p:spPr>
          <a:xfrm>
            <a:off x="8772480" y="11353680"/>
            <a:ext cx="765360" cy="787680"/>
          </a:xfrm>
          <a:custGeom>
            <a:avLst/>
            <a:gdLst/>
            <a:ahLst/>
            <a:rect l="l" t="t" r="r" b="b"/>
            <a:pathLst>
              <a:path w="170" h="171">
                <a:moveTo>
                  <a:pt x="170" y="136"/>
                </a:moveTo>
                <a:cubicBezTo>
                  <a:pt x="170" y="155"/>
                  <a:pt x="155" y="171"/>
                  <a:pt x="136" y="171"/>
                </a:cubicBezTo>
                <a:cubicBezTo>
                  <a:pt x="35" y="171"/>
                  <a:pt x="35" y="171"/>
                  <a:pt x="35" y="171"/>
                </a:cubicBezTo>
                <a:cubicBezTo>
                  <a:pt x="15" y="171"/>
                  <a:pt x="0" y="155"/>
                  <a:pt x="0" y="136"/>
                </a:cubicBezTo>
                <a:cubicBezTo>
                  <a:pt x="0" y="35"/>
                  <a:pt x="0" y="35"/>
                  <a:pt x="0" y="35"/>
                </a:cubicBezTo>
                <a:cubicBezTo>
                  <a:pt x="0" y="16"/>
                  <a:pt x="15" y="0"/>
                  <a:pt x="35" y="0"/>
                </a:cubicBezTo>
                <a:cubicBezTo>
                  <a:pt x="136" y="0"/>
                  <a:pt x="136" y="0"/>
                  <a:pt x="136" y="0"/>
                </a:cubicBezTo>
                <a:cubicBezTo>
                  <a:pt x="155" y="0"/>
                  <a:pt x="170" y="16"/>
                  <a:pt x="170" y="35"/>
                </a:cubicBezTo>
                <a:lnTo>
                  <a:pt x="170" y="136"/>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3" name="Freeform 72"/>
          <p:cNvSpPr/>
          <p:nvPr/>
        </p:nvSpPr>
        <p:spPr>
          <a:xfrm>
            <a:off x="8844120" y="11479320"/>
            <a:ext cx="626760" cy="536400"/>
          </a:xfrm>
          <a:custGeom>
            <a:avLst/>
            <a:gdLst/>
            <a:ahLst/>
            <a:rect l="l" t="t" r="r" b="b"/>
            <a:pathLst>
              <a:path w="139" h="117">
                <a:moveTo>
                  <a:pt x="84" y="20"/>
                </a:moveTo>
                <a:cubicBezTo>
                  <a:pt x="90" y="24"/>
                  <a:pt x="94" y="31"/>
                  <a:pt x="95" y="39"/>
                </a:cubicBezTo>
                <a:cubicBezTo>
                  <a:pt x="98" y="40"/>
                  <a:pt x="101" y="41"/>
                  <a:pt x="104" y="41"/>
                </a:cubicBezTo>
                <a:cubicBezTo>
                  <a:pt x="115" y="41"/>
                  <a:pt x="124" y="32"/>
                  <a:pt x="124" y="20"/>
                </a:cubicBezTo>
                <a:cubicBezTo>
                  <a:pt x="124" y="9"/>
                  <a:pt x="115" y="0"/>
                  <a:pt x="104" y="0"/>
                </a:cubicBezTo>
                <a:cubicBezTo>
                  <a:pt x="93" y="0"/>
                  <a:pt x="84" y="9"/>
                  <a:pt x="84" y="20"/>
                </a:cubicBezTo>
                <a:moveTo>
                  <a:pt x="70" y="62"/>
                </a:moveTo>
                <a:cubicBezTo>
                  <a:pt x="81" y="62"/>
                  <a:pt x="91" y="53"/>
                  <a:pt x="91" y="41"/>
                </a:cubicBezTo>
                <a:cubicBezTo>
                  <a:pt x="91" y="30"/>
                  <a:pt x="81" y="21"/>
                  <a:pt x="70" y="21"/>
                </a:cubicBezTo>
                <a:cubicBezTo>
                  <a:pt x="59" y="21"/>
                  <a:pt x="50" y="30"/>
                  <a:pt x="50" y="41"/>
                </a:cubicBezTo>
                <a:cubicBezTo>
                  <a:pt x="50" y="53"/>
                  <a:pt x="59" y="62"/>
                  <a:pt x="70" y="62"/>
                </a:cubicBezTo>
                <a:moveTo>
                  <a:pt x="79" y="63"/>
                </a:moveTo>
                <a:cubicBezTo>
                  <a:pt x="62" y="63"/>
                  <a:pt x="62" y="63"/>
                  <a:pt x="62" y="63"/>
                </a:cubicBezTo>
                <a:cubicBezTo>
                  <a:pt x="47" y="63"/>
                  <a:pt x="36" y="75"/>
                  <a:pt x="36" y="89"/>
                </a:cubicBezTo>
                <a:cubicBezTo>
                  <a:pt x="36" y="110"/>
                  <a:pt x="36" y="110"/>
                  <a:pt x="36" y="110"/>
                </a:cubicBezTo>
                <a:cubicBezTo>
                  <a:pt x="36" y="111"/>
                  <a:pt x="36" y="111"/>
                  <a:pt x="36" y="111"/>
                </a:cubicBezTo>
                <a:cubicBezTo>
                  <a:pt x="37" y="111"/>
                  <a:pt x="37" y="111"/>
                  <a:pt x="37" y="111"/>
                </a:cubicBezTo>
                <a:cubicBezTo>
                  <a:pt x="51" y="115"/>
                  <a:pt x="63" y="117"/>
                  <a:pt x="72" y="117"/>
                </a:cubicBezTo>
                <a:cubicBezTo>
                  <a:pt x="92" y="117"/>
                  <a:pt x="103" y="111"/>
                  <a:pt x="103" y="111"/>
                </a:cubicBezTo>
                <a:cubicBezTo>
                  <a:pt x="105" y="110"/>
                  <a:pt x="105" y="110"/>
                  <a:pt x="105" y="110"/>
                </a:cubicBezTo>
                <a:cubicBezTo>
                  <a:pt x="105" y="110"/>
                  <a:pt x="105" y="110"/>
                  <a:pt x="105" y="110"/>
                </a:cubicBezTo>
                <a:cubicBezTo>
                  <a:pt x="105" y="89"/>
                  <a:pt x="105" y="89"/>
                  <a:pt x="105" y="89"/>
                </a:cubicBezTo>
                <a:cubicBezTo>
                  <a:pt x="105" y="75"/>
                  <a:pt x="93" y="63"/>
                  <a:pt x="79" y="63"/>
                </a:cubicBezTo>
                <a:moveTo>
                  <a:pt x="112" y="42"/>
                </a:moveTo>
                <a:cubicBezTo>
                  <a:pt x="95" y="42"/>
                  <a:pt x="95" y="42"/>
                  <a:pt x="95" y="42"/>
                </a:cubicBezTo>
                <a:cubicBezTo>
                  <a:pt x="95" y="49"/>
                  <a:pt x="92" y="55"/>
                  <a:pt x="88" y="60"/>
                </a:cubicBezTo>
                <a:cubicBezTo>
                  <a:pt x="100" y="63"/>
                  <a:pt x="110" y="75"/>
                  <a:pt x="110" y="89"/>
                </a:cubicBezTo>
                <a:cubicBezTo>
                  <a:pt x="110" y="96"/>
                  <a:pt x="110" y="96"/>
                  <a:pt x="110" y="96"/>
                </a:cubicBezTo>
                <a:cubicBezTo>
                  <a:pt x="127" y="95"/>
                  <a:pt x="136" y="90"/>
                  <a:pt x="137" y="90"/>
                </a:cubicBezTo>
                <a:cubicBezTo>
                  <a:pt x="138" y="89"/>
                  <a:pt x="138" y="89"/>
                  <a:pt x="138" y="89"/>
                </a:cubicBezTo>
                <a:cubicBezTo>
                  <a:pt x="139" y="89"/>
                  <a:pt x="139" y="89"/>
                  <a:pt x="139" y="89"/>
                </a:cubicBezTo>
                <a:cubicBezTo>
                  <a:pt x="139" y="68"/>
                  <a:pt x="139" y="68"/>
                  <a:pt x="139" y="68"/>
                </a:cubicBezTo>
                <a:cubicBezTo>
                  <a:pt x="139" y="54"/>
                  <a:pt x="127" y="42"/>
                  <a:pt x="112" y="42"/>
                </a:cubicBezTo>
                <a:moveTo>
                  <a:pt x="34" y="41"/>
                </a:moveTo>
                <a:cubicBezTo>
                  <a:pt x="38" y="41"/>
                  <a:pt x="42" y="40"/>
                  <a:pt x="45" y="38"/>
                </a:cubicBezTo>
                <a:cubicBezTo>
                  <a:pt x="46" y="31"/>
                  <a:pt x="50" y="25"/>
                  <a:pt x="55" y="22"/>
                </a:cubicBezTo>
                <a:cubicBezTo>
                  <a:pt x="55" y="21"/>
                  <a:pt x="55" y="21"/>
                  <a:pt x="55" y="20"/>
                </a:cubicBezTo>
                <a:cubicBezTo>
                  <a:pt x="55" y="9"/>
                  <a:pt x="46" y="0"/>
                  <a:pt x="34" y="0"/>
                </a:cubicBezTo>
                <a:cubicBezTo>
                  <a:pt x="23" y="0"/>
                  <a:pt x="14" y="9"/>
                  <a:pt x="14" y="20"/>
                </a:cubicBezTo>
                <a:cubicBezTo>
                  <a:pt x="14" y="32"/>
                  <a:pt x="23" y="41"/>
                  <a:pt x="34" y="41"/>
                </a:cubicBezTo>
                <a:moveTo>
                  <a:pt x="53" y="60"/>
                </a:moveTo>
                <a:cubicBezTo>
                  <a:pt x="48" y="55"/>
                  <a:pt x="45" y="49"/>
                  <a:pt x="45" y="42"/>
                </a:cubicBezTo>
                <a:cubicBezTo>
                  <a:pt x="44" y="42"/>
                  <a:pt x="44" y="42"/>
                  <a:pt x="43" y="42"/>
                </a:cubicBezTo>
                <a:cubicBezTo>
                  <a:pt x="26" y="42"/>
                  <a:pt x="26" y="42"/>
                  <a:pt x="26" y="42"/>
                </a:cubicBezTo>
                <a:cubicBezTo>
                  <a:pt x="11" y="42"/>
                  <a:pt x="0" y="54"/>
                  <a:pt x="0" y="68"/>
                </a:cubicBezTo>
                <a:cubicBezTo>
                  <a:pt x="0" y="89"/>
                  <a:pt x="0" y="89"/>
                  <a:pt x="0" y="89"/>
                </a:cubicBezTo>
                <a:cubicBezTo>
                  <a:pt x="0" y="90"/>
                  <a:pt x="0" y="90"/>
                  <a:pt x="0" y="90"/>
                </a:cubicBezTo>
                <a:cubicBezTo>
                  <a:pt x="1" y="90"/>
                  <a:pt x="1" y="90"/>
                  <a:pt x="1" y="90"/>
                </a:cubicBezTo>
                <a:cubicBezTo>
                  <a:pt x="12" y="94"/>
                  <a:pt x="22" y="95"/>
                  <a:pt x="31" y="96"/>
                </a:cubicBezTo>
                <a:cubicBezTo>
                  <a:pt x="31" y="89"/>
                  <a:pt x="31" y="89"/>
                  <a:pt x="31" y="89"/>
                </a:cubicBezTo>
                <a:cubicBezTo>
                  <a:pt x="31" y="75"/>
                  <a:pt x="40" y="63"/>
                  <a:pt x="53" y="60"/>
                </a:cubicBezTo>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4" name="Rectangle 75"/>
          <p:cNvSpPr/>
          <p:nvPr/>
        </p:nvSpPr>
        <p:spPr>
          <a:xfrm>
            <a:off x="7739280" y="11552400"/>
            <a:ext cx="623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2193840"/>
                <a:tab algn="l" pos="4387680"/>
                <a:tab algn="l" pos="6581880"/>
                <a:tab algn="l" pos="8775720"/>
                <a:tab algn="l" pos="10969560"/>
              </a:tabLst>
            </a:pPr>
            <a:r>
              <a:rPr b="0" lang="en-US" sz="2400" spc="-1" strike="noStrike">
                <a:solidFill>
                  <a:srgbClr val="707683"/>
                </a:solidFill>
                <a:latin typeface="Open Sans Light"/>
                <a:ea typeface="Arial"/>
              </a:rPr>
              <a:t>Icon</a:t>
            </a:r>
            <a:endParaRPr b="0" lang="en-US" sz="2400" spc="-1" strike="noStrike">
              <a:solidFill>
                <a:srgbClr val="000000"/>
              </a:solidFill>
              <a:latin typeface="Open Sans Light"/>
            </a:endParaRPr>
          </a:p>
        </p:txBody>
      </p:sp>
      <p:sp>
        <p:nvSpPr>
          <p:cNvPr id="2385" name="Freeform 77"/>
          <p:cNvSpPr/>
          <p:nvPr/>
        </p:nvSpPr>
        <p:spPr>
          <a:xfrm>
            <a:off x="6831000" y="11363400"/>
            <a:ext cx="765360" cy="779400"/>
          </a:xfrm>
          <a:custGeom>
            <a:avLst/>
            <a:gdLst/>
            <a:ahLst/>
            <a:rect l="l" t="t" r="r" b="b"/>
            <a:pathLst>
              <a:path w="170" h="170">
                <a:moveTo>
                  <a:pt x="170" y="136"/>
                </a:moveTo>
                <a:cubicBezTo>
                  <a:pt x="170" y="155"/>
                  <a:pt x="155" y="170"/>
                  <a:pt x="136" y="170"/>
                </a:cubicBezTo>
                <a:cubicBezTo>
                  <a:pt x="35" y="170"/>
                  <a:pt x="35" y="170"/>
                  <a:pt x="35" y="170"/>
                </a:cubicBezTo>
                <a:cubicBezTo>
                  <a:pt x="16" y="170"/>
                  <a:pt x="0" y="155"/>
                  <a:pt x="0" y="136"/>
                </a:cubicBezTo>
                <a:cubicBezTo>
                  <a:pt x="0" y="35"/>
                  <a:pt x="0" y="35"/>
                  <a:pt x="0" y="35"/>
                </a:cubicBezTo>
                <a:cubicBezTo>
                  <a:pt x="0" y="16"/>
                  <a:pt x="16" y="0"/>
                  <a:pt x="35" y="0"/>
                </a:cubicBezTo>
                <a:cubicBezTo>
                  <a:pt x="136" y="0"/>
                  <a:pt x="136" y="0"/>
                  <a:pt x="136" y="0"/>
                </a:cubicBezTo>
                <a:cubicBezTo>
                  <a:pt x="155" y="0"/>
                  <a:pt x="170" y="16"/>
                  <a:pt x="170" y="35"/>
                </a:cubicBezTo>
                <a:lnTo>
                  <a:pt x="170" y="136"/>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6" name="Freeform 78"/>
          <p:cNvSpPr/>
          <p:nvPr/>
        </p:nvSpPr>
        <p:spPr>
          <a:xfrm>
            <a:off x="6951600" y="11518920"/>
            <a:ext cx="528840" cy="473040"/>
          </a:xfrm>
          <a:custGeom>
            <a:avLst/>
            <a:gdLst/>
            <a:ahLst/>
            <a:rect l="l" t="t" r="r" b="b"/>
            <a:pathLst>
              <a:path w="117" h="103">
                <a:moveTo>
                  <a:pt x="103" y="0"/>
                </a:moveTo>
                <a:cubicBezTo>
                  <a:pt x="13" y="0"/>
                  <a:pt x="13" y="0"/>
                  <a:pt x="13" y="0"/>
                </a:cubicBezTo>
                <a:cubicBezTo>
                  <a:pt x="6" y="0"/>
                  <a:pt x="0" y="6"/>
                  <a:pt x="0" y="13"/>
                </a:cubicBezTo>
                <a:cubicBezTo>
                  <a:pt x="0" y="62"/>
                  <a:pt x="0" y="62"/>
                  <a:pt x="0" y="62"/>
                </a:cubicBezTo>
                <a:cubicBezTo>
                  <a:pt x="0" y="69"/>
                  <a:pt x="6" y="75"/>
                  <a:pt x="13" y="75"/>
                </a:cubicBezTo>
                <a:cubicBezTo>
                  <a:pt x="20" y="75"/>
                  <a:pt x="20" y="75"/>
                  <a:pt x="20" y="75"/>
                </a:cubicBezTo>
                <a:cubicBezTo>
                  <a:pt x="20" y="100"/>
                  <a:pt x="20" y="100"/>
                  <a:pt x="20" y="100"/>
                </a:cubicBezTo>
                <a:cubicBezTo>
                  <a:pt x="20" y="100"/>
                  <a:pt x="21" y="101"/>
                  <a:pt x="21" y="102"/>
                </a:cubicBezTo>
                <a:cubicBezTo>
                  <a:pt x="23" y="103"/>
                  <a:pt x="25" y="103"/>
                  <a:pt x="26" y="102"/>
                </a:cubicBezTo>
                <a:cubicBezTo>
                  <a:pt x="55" y="75"/>
                  <a:pt x="55" y="75"/>
                  <a:pt x="55" y="75"/>
                </a:cubicBezTo>
                <a:cubicBezTo>
                  <a:pt x="103" y="75"/>
                  <a:pt x="103" y="75"/>
                  <a:pt x="103" y="75"/>
                </a:cubicBezTo>
                <a:cubicBezTo>
                  <a:pt x="111" y="75"/>
                  <a:pt x="117" y="69"/>
                  <a:pt x="117" y="62"/>
                </a:cubicBezTo>
                <a:cubicBezTo>
                  <a:pt x="117" y="13"/>
                  <a:pt x="117" y="13"/>
                  <a:pt x="117" y="13"/>
                </a:cubicBezTo>
                <a:cubicBezTo>
                  <a:pt x="117" y="6"/>
                  <a:pt x="111" y="0"/>
                  <a:pt x="103" y="0"/>
                </a:cubicBezTo>
                <a:moveTo>
                  <a:pt x="24" y="20"/>
                </a:moveTo>
                <a:cubicBezTo>
                  <a:pt x="79" y="20"/>
                  <a:pt x="79" y="20"/>
                  <a:pt x="79" y="20"/>
                </a:cubicBezTo>
                <a:cubicBezTo>
                  <a:pt x="81" y="20"/>
                  <a:pt x="82" y="22"/>
                  <a:pt x="82" y="24"/>
                </a:cubicBezTo>
                <a:cubicBezTo>
                  <a:pt x="82" y="26"/>
                  <a:pt x="81" y="27"/>
                  <a:pt x="79" y="27"/>
                </a:cubicBezTo>
                <a:cubicBezTo>
                  <a:pt x="24" y="27"/>
                  <a:pt x="24" y="27"/>
                  <a:pt x="24" y="27"/>
                </a:cubicBezTo>
                <a:cubicBezTo>
                  <a:pt x="22" y="27"/>
                  <a:pt x="20" y="26"/>
                  <a:pt x="20" y="24"/>
                </a:cubicBezTo>
                <a:cubicBezTo>
                  <a:pt x="20" y="22"/>
                  <a:pt x="22" y="20"/>
                  <a:pt x="24" y="20"/>
                </a:cubicBezTo>
                <a:moveTo>
                  <a:pt x="51" y="55"/>
                </a:moveTo>
                <a:cubicBezTo>
                  <a:pt x="24" y="55"/>
                  <a:pt x="24" y="55"/>
                  <a:pt x="24" y="55"/>
                </a:cubicBezTo>
                <a:cubicBezTo>
                  <a:pt x="22" y="55"/>
                  <a:pt x="20" y="53"/>
                  <a:pt x="20" y="51"/>
                </a:cubicBezTo>
                <a:cubicBezTo>
                  <a:pt x="20" y="49"/>
                  <a:pt x="22" y="48"/>
                  <a:pt x="24" y="48"/>
                </a:cubicBezTo>
                <a:cubicBezTo>
                  <a:pt x="51" y="48"/>
                  <a:pt x="51" y="48"/>
                  <a:pt x="51" y="48"/>
                </a:cubicBezTo>
                <a:cubicBezTo>
                  <a:pt x="53" y="48"/>
                  <a:pt x="55" y="49"/>
                  <a:pt x="55" y="51"/>
                </a:cubicBezTo>
                <a:cubicBezTo>
                  <a:pt x="55" y="53"/>
                  <a:pt x="53" y="55"/>
                  <a:pt x="51" y="55"/>
                </a:cubicBezTo>
                <a:moveTo>
                  <a:pt x="93" y="41"/>
                </a:moveTo>
                <a:cubicBezTo>
                  <a:pt x="24" y="41"/>
                  <a:pt x="24" y="41"/>
                  <a:pt x="24" y="41"/>
                </a:cubicBezTo>
                <a:cubicBezTo>
                  <a:pt x="22" y="41"/>
                  <a:pt x="20" y="39"/>
                  <a:pt x="20" y="38"/>
                </a:cubicBezTo>
                <a:cubicBezTo>
                  <a:pt x="20" y="36"/>
                  <a:pt x="22" y="34"/>
                  <a:pt x="24" y="34"/>
                </a:cubicBezTo>
                <a:cubicBezTo>
                  <a:pt x="93" y="34"/>
                  <a:pt x="93" y="34"/>
                  <a:pt x="93" y="34"/>
                </a:cubicBezTo>
                <a:cubicBezTo>
                  <a:pt x="95" y="34"/>
                  <a:pt x="96" y="36"/>
                  <a:pt x="96" y="38"/>
                </a:cubicBezTo>
                <a:cubicBezTo>
                  <a:pt x="96" y="39"/>
                  <a:pt x="95" y="41"/>
                  <a:pt x="93" y="41"/>
                </a:cubicBezTo>
              </a:path>
            </a:pathLst>
          </a:custGeom>
          <a:solidFill>
            <a:srgbClr val="f9f9f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87"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DEMOGRAPHIC ANALYSIS</a:t>
            </a:r>
            <a:endParaRPr b="0" lang="en-US" sz="6600" spc="-1" strike="noStrike">
              <a:solidFill>
                <a:srgbClr val="000000"/>
              </a:solidFill>
              <a:latin typeface="Open Sans Light"/>
            </a:endParaRPr>
          </a:p>
        </p:txBody>
      </p:sp>
      <p:sp>
        <p:nvSpPr>
          <p:cNvPr id="2388" name="Subtitle 2"/>
          <p:cNvSpPr/>
          <p:nvPr/>
        </p:nvSpPr>
        <p:spPr>
          <a:xfrm>
            <a:off x="15297120" y="5145120"/>
            <a:ext cx="6647040" cy="256068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ONE</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89" name="Subtitle 2"/>
          <p:cNvSpPr/>
          <p:nvPr/>
        </p:nvSpPr>
        <p:spPr>
          <a:xfrm>
            <a:off x="15297120" y="7604280"/>
            <a:ext cx="6647040" cy="266040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TWO</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90" name="Subtitle 2"/>
          <p:cNvSpPr/>
          <p:nvPr/>
        </p:nvSpPr>
        <p:spPr>
          <a:xfrm>
            <a:off x="15297120" y="10091880"/>
            <a:ext cx="6647040" cy="3282840"/>
          </a:xfrm>
          <a:prstGeom prst="rect">
            <a:avLst/>
          </a:prstGeom>
          <a:noFill/>
          <a:ln w="0">
            <a:noFill/>
          </a:ln>
        </p:spPr>
        <p:style>
          <a:lnRef idx="0"/>
          <a:fillRef idx="0"/>
          <a:effectRef idx="0"/>
          <a:fontRef idx="minor"/>
        </p:style>
        <p:txBody>
          <a:bodyPr lIns="219240" rIns="219240" tIns="109800" bIns="109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10101"/>
                </a:solidFill>
                <a:latin typeface="Montserrat Semi Bold"/>
                <a:ea typeface="Calibri"/>
              </a:rPr>
              <a:t>RESULT THREE</a:t>
            </a:r>
            <a:endParaRPr b="0" lang="en-US" sz="2800" spc="-1" strike="noStrike">
              <a:solidFill>
                <a:srgbClr val="000000"/>
              </a:solidFill>
              <a:latin typeface="Open Sans Light"/>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f5f5f"/>
                </a:solidFill>
                <a:latin typeface="Open Sans Light"/>
                <a:ea typeface="Calibri"/>
              </a:rPr>
              <a:t>Lorem ipsum dolor sit amet, consectetur adipiscing elit. Integer pulvinar nulla ut ultrices eleifend. Etiam sit amet turpis at neque lacinia fermentum sed vitae velit...</a:t>
            </a:r>
            <a:endParaRPr b="0" lang="en-US" sz="2000" spc="-1" strike="noStrike">
              <a:solidFill>
                <a:srgbClr val="000000"/>
              </a:solidFill>
              <a:latin typeface="Open Sans Light"/>
            </a:endParaRPr>
          </a:p>
        </p:txBody>
      </p:sp>
      <p:sp>
        <p:nvSpPr>
          <p:cNvPr id="2391" name="Straight Connector 91"/>
          <p:cNvSpPr/>
          <p:nvPr/>
        </p:nvSpPr>
        <p:spPr>
          <a:xfrm>
            <a:off x="15114600" y="5145120"/>
            <a:ext cx="0" cy="713268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392" name="Freeform 26"/>
          <p:cNvSpPr/>
          <p:nvPr/>
        </p:nvSpPr>
        <p:spPr>
          <a:xfrm>
            <a:off x="501012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4" y="20"/>
                </a:cubicBezTo>
                <a:cubicBezTo>
                  <a:pt x="54" y="20"/>
                  <a:pt x="54" y="20"/>
                  <a:pt x="54"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3" name="Oval 27"/>
          <p:cNvSpPr/>
          <p:nvPr/>
        </p:nvSpPr>
        <p:spPr>
          <a:xfrm>
            <a:off x="525456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4" name="Freeform 28"/>
          <p:cNvSpPr/>
          <p:nvPr/>
        </p:nvSpPr>
        <p:spPr>
          <a:xfrm>
            <a:off x="5956200" y="9088560"/>
            <a:ext cx="71136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6"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6"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5" name="Oval 29"/>
          <p:cNvSpPr/>
          <p:nvPr/>
        </p:nvSpPr>
        <p:spPr>
          <a:xfrm>
            <a:off x="619920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6" name="Freeform 30"/>
          <p:cNvSpPr/>
          <p:nvPr/>
        </p:nvSpPr>
        <p:spPr>
          <a:xfrm>
            <a:off x="690084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6"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6" y="52"/>
                  <a:pt x="66"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7" name="Oval 31"/>
          <p:cNvSpPr/>
          <p:nvPr/>
        </p:nvSpPr>
        <p:spPr>
          <a:xfrm>
            <a:off x="714384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398" name="Freeform 32"/>
          <p:cNvSpPr/>
          <p:nvPr/>
        </p:nvSpPr>
        <p:spPr>
          <a:xfrm>
            <a:off x="784548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1" y="85"/>
                  <a:pt x="21" y="85"/>
                  <a:pt x="21"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2"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399" name="Oval 33"/>
          <p:cNvSpPr/>
          <p:nvPr/>
        </p:nvSpPr>
        <p:spPr>
          <a:xfrm>
            <a:off x="8089920" y="8829720"/>
            <a:ext cx="22392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0" name="Freeform 34"/>
          <p:cNvSpPr/>
          <p:nvPr/>
        </p:nvSpPr>
        <p:spPr>
          <a:xfrm>
            <a:off x="879012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30"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7"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1" name="Oval 35"/>
          <p:cNvSpPr/>
          <p:nvPr/>
        </p:nvSpPr>
        <p:spPr>
          <a:xfrm>
            <a:off x="9034560" y="8829720"/>
            <a:ext cx="22392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2" name="Freeform 36"/>
          <p:cNvSpPr/>
          <p:nvPr/>
        </p:nvSpPr>
        <p:spPr>
          <a:xfrm>
            <a:off x="9734400" y="9088560"/>
            <a:ext cx="7128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9"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56" y="21"/>
                  <a:pt x="65" y="52"/>
                  <a:pt x="65" y="52"/>
                </a:cubicBezTo>
                <a:cubicBezTo>
                  <a:pt x="66" y="56"/>
                  <a:pt x="70" y="57"/>
                  <a:pt x="74"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3" name="Oval 37"/>
          <p:cNvSpPr/>
          <p:nvPr/>
        </p:nvSpPr>
        <p:spPr>
          <a:xfrm>
            <a:off x="997920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4" name="Freeform 38"/>
          <p:cNvSpPr/>
          <p:nvPr/>
        </p:nvSpPr>
        <p:spPr>
          <a:xfrm>
            <a:off x="10680840" y="9088560"/>
            <a:ext cx="711000" cy="1261800"/>
          </a:xfrm>
          <a:custGeom>
            <a:avLst/>
            <a:gdLst/>
            <a:ahLst/>
            <a:rect l="l" t="t" r="r" b="b"/>
            <a:pathLst>
              <a:path w="79" h="140">
                <a:moveTo>
                  <a:pt x="5" y="56"/>
                </a:moveTo>
                <a:cubicBezTo>
                  <a:pt x="8" y="57"/>
                  <a:pt x="12" y="56"/>
                  <a:pt x="13" y="52"/>
                </a:cubicBezTo>
                <a:cubicBezTo>
                  <a:pt x="13" y="52"/>
                  <a:pt x="23" y="21"/>
                  <a:pt x="23" y="21"/>
                </a:cubicBezTo>
                <a:cubicBezTo>
                  <a:pt x="23" y="20"/>
                  <a:pt x="23" y="20"/>
                  <a:pt x="24" y="20"/>
                </a:cubicBezTo>
                <a:cubicBezTo>
                  <a:pt x="25" y="20"/>
                  <a:pt x="25" y="20"/>
                  <a:pt x="25" y="20"/>
                </a:cubicBezTo>
                <a:cubicBezTo>
                  <a:pt x="25" y="20"/>
                  <a:pt x="25" y="20"/>
                  <a:pt x="25" y="20"/>
                </a:cubicBezTo>
                <a:cubicBezTo>
                  <a:pt x="25" y="20"/>
                  <a:pt x="26" y="20"/>
                  <a:pt x="26" y="21"/>
                </a:cubicBezTo>
                <a:cubicBezTo>
                  <a:pt x="6" y="84"/>
                  <a:pt x="6" y="84"/>
                  <a:pt x="6" y="84"/>
                </a:cubicBezTo>
                <a:cubicBezTo>
                  <a:pt x="6" y="84"/>
                  <a:pt x="6" y="85"/>
                  <a:pt x="7" y="85"/>
                </a:cubicBezTo>
                <a:cubicBezTo>
                  <a:pt x="20" y="85"/>
                  <a:pt x="20" y="85"/>
                  <a:pt x="20" y="85"/>
                </a:cubicBezTo>
                <a:cubicBezTo>
                  <a:pt x="21" y="85"/>
                  <a:pt x="21" y="85"/>
                  <a:pt x="21" y="86"/>
                </a:cubicBezTo>
                <a:cubicBezTo>
                  <a:pt x="21" y="86"/>
                  <a:pt x="21" y="132"/>
                  <a:pt x="21" y="132"/>
                </a:cubicBezTo>
                <a:cubicBezTo>
                  <a:pt x="21" y="137"/>
                  <a:pt x="25" y="140"/>
                  <a:pt x="29" y="140"/>
                </a:cubicBezTo>
                <a:cubicBezTo>
                  <a:pt x="34" y="140"/>
                  <a:pt x="38" y="137"/>
                  <a:pt x="38" y="132"/>
                </a:cubicBezTo>
                <a:cubicBezTo>
                  <a:pt x="38" y="86"/>
                  <a:pt x="38" y="86"/>
                  <a:pt x="38" y="86"/>
                </a:cubicBezTo>
                <a:cubicBezTo>
                  <a:pt x="38" y="85"/>
                  <a:pt x="38" y="85"/>
                  <a:pt x="38" y="85"/>
                </a:cubicBezTo>
                <a:cubicBezTo>
                  <a:pt x="39" y="85"/>
                  <a:pt x="39" y="85"/>
                  <a:pt x="39" y="85"/>
                </a:cubicBezTo>
                <a:cubicBezTo>
                  <a:pt x="40" y="85"/>
                  <a:pt x="40" y="85"/>
                  <a:pt x="40" y="85"/>
                </a:cubicBezTo>
                <a:cubicBezTo>
                  <a:pt x="40" y="85"/>
                  <a:pt x="40" y="85"/>
                  <a:pt x="40" y="85"/>
                </a:cubicBezTo>
                <a:cubicBezTo>
                  <a:pt x="40" y="85"/>
                  <a:pt x="41" y="85"/>
                  <a:pt x="41" y="86"/>
                </a:cubicBezTo>
                <a:cubicBezTo>
                  <a:pt x="41" y="132"/>
                  <a:pt x="41" y="132"/>
                  <a:pt x="41" y="132"/>
                </a:cubicBezTo>
                <a:cubicBezTo>
                  <a:pt x="41" y="137"/>
                  <a:pt x="44" y="140"/>
                  <a:pt x="49" y="140"/>
                </a:cubicBezTo>
                <a:cubicBezTo>
                  <a:pt x="54" y="140"/>
                  <a:pt x="57" y="137"/>
                  <a:pt x="57" y="132"/>
                </a:cubicBezTo>
                <a:cubicBezTo>
                  <a:pt x="57" y="132"/>
                  <a:pt x="57" y="86"/>
                  <a:pt x="57" y="86"/>
                </a:cubicBezTo>
                <a:cubicBezTo>
                  <a:pt x="57" y="85"/>
                  <a:pt x="58" y="85"/>
                  <a:pt x="58" y="85"/>
                </a:cubicBezTo>
                <a:cubicBezTo>
                  <a:pt x="72" y="85"/>
                  <a:pt x="72" y="85"/>
                  <a:pt x="72" y="85"/>
                </a:cubicBezTo>
                <a:cubicBezTo>
                  <a:pt x="72" y="85"/>
                  <a:pt x="72" y="84"/>
                  <a:pt x="72" y="84"/>
                </a:cubicBezTo>
                <a:cubicBezTo>
                  <a:pt x="53" y="21"/>
                  <a:pt x="53" y="21"/>
                  <a:pt x="53" y="21"/>
                </a:cubicBezTo>
                <a:cubicBezTo>
                  <a:pt x="53" y="20"/>
                  <a:pt x="53" y="20"/>
                  <a:pt x="53" y="20"/>
                </a:cubicBezTo>
                <a:cubicBezTo>
                  <a:pt x="53" y="20"/>
                  <a:pt x="53" y="20"/>
                  <a:pt x="53" y="20"/>
                </a:cubicBezTo>
                <a:cubicBezTo>
                  <a:pt x="55" y="20"/>
                  <a:pt x="55" y="20"/>
                  <a:pt x="55" y="20"/>
                </a:cubicBezTo>
                <a:cubicBezTo>
                  <a:pt x="55" y="20"/>
                  <a:pt x="56" y="20"/>
                  <a:pt x="56" y="21"/>
                </a:cubicBezTo>
                <a:cubicBezTo>
                  <a:pt x="65" y="52"/>
                  <a:pt x="65" y="52"/>
                  <a:pt x="65" y="52"/>
                </a:cubicBezTo>
                <a:cubicBezTo>
                  <a:pt x="66" y="56"/>
                  <a:pt x="70" y="57"/>
                  <a:pt x="73" y="56"/>
                </a:cubicBezTo>
                <a:cubicBezTo>
                  <a:pt x="77" y="55"/>
                  <a:pt x="79" y="52"/>
                  <a:pt x="78" y="48"/>
                </a:cubicBezTo>
                <a:cubicBezTo>
                  <a:pt x="78" y="48"/>
                  <a:pt x="68" y="17"/>
                  <a:pt x="68" y="17"/>
                </a:cubicBezTo>
                <a:cubicBezTo>
                  <a:pt x="67" y="11"/>
                  <a:pt x="64" y="0"/>
                  <a:pt x="53" y="0"/>
                </a:cubicBezTo>
                <a:cubicBezTo>
                  <a:pt x="26" y="0"/>
                  <a:pt x="26" y="0"/>
                  <a:pt x="26" y="0"/>
                </a:cubicBezTo>
                <a:cubicBezTo>
                  <a:pt x="15" y="0"/>
                  <a:pt x="12" y="11"/>
                  <a:pt x="10" y="17"/>
                </a:cubicBezTo>
                <a:cubicBezTo>
                  <a:pt x="10" y="17"/>
                  <a:pt x="1" y="48"/>
                  <a:pt x="1" y="48"/>
                </a:cubicBezTo>
                <a:cubicBezTo>
                  <a:pt x="0" y="52"/>
                  <a:pt x="1" y="55"/>
                  <a:pt x="5"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5" name="Oval 39"/>
          <p:cNvSpPr/>
          <p:nvPr/>
        </p:nvSpPr>
        <p:spPr>
          <a:xfrm>
            <a:off x="1092348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6" name="Freeform 40"/>
          <p:cNvSpPr/>
          <p:nvPr/>
        </p:nvSpPr>
        <p:spPr>
          <a:xfrm>
            <a:off x="1161720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2" y="85"/>
                  <a:pt x="42" y="86"/>
                </a:cubicBezTo>
                <a:cubicBezTo>
                  <a:pt x="42" y="132"/>
                  <a:pt x="42" y="132"/>
                  <a:pt x="42" y="132"/>
                </a:cubicBezTo>
                <a:cubicBezTo>
                  <a:pt x="42" y="137"/>
                  <a:pt x="45" y="140"/>
                  <a:pt x="50" y="140"/>
                </a:cubicBezTo>
                <a:cubicBezTo>
                  <a:pt x="54" y="140"/>
                  <a:pt x="58" y="137"/>
                  <a:pt x="58" y="132"/>
                </a:cubicBezTo>
                <a:cubicBezTo>
                  <a:pt x="58" y="132"/>
                  <a:pt x="58" y="86"/>
                  <a:pt x="58" y="86"/>
                </a:cubicBezTo>
                <a:cubicBezTo>
                  <a:pt x="58" y="85"/>
                  <a:pt x="59"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7" y="0"/>
                  <a:pt x="27" y="0"/>
                  <a:pt x="27" y="0"/>
                </a:cubicBezTo>
                <a:cubicBezTo>
                  <a:pt x="16" y="0"/>
                  <a:pt x="13" y="11"/>
                  <a:pt x="11" y="17"/>
                </a:cubicBezTo>
                <a:cubicBezTo>
                  <a:pt x="11" y="17"/>
                  <a:pt x="2" y="48"/>
                  <a:pt x="2" y="48"/>
                </a:cubicBezTo>
                <a:cubicBezTo>
                  <a:pt x="0" y="52"/>
                  <a:pt x="2" y="55"/>
                  <a:pt x="6" y="5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7" name="Oval 41"/>
          <p:cNvSpPr/>
          <p:nvPr/>
        </p:nvSpPr>
        <p:spPr>
          <a:xfrm>
            <a:off x="11868120" y="8829720"/>
            <a:ext cx="225360" cy="225360"/>
          </a:xfrm>
          <a:prstGeom prst="ellipse">
            <a:avLst/>
          </a:prstGeom>
          <a:solidFill>
            <a:srgbClr val="969696"/>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08" name="Freeform 42"/>
          <p:cNvSpPr/>
          <p:nvPr/>
        </p:nvSpPr>
        <p:spPr>
          <a:xfrm>
            <a:off x="1256184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09" name="Oval 43"/>
          <p:cNvSpPr/>
          <p:nvPr/>
        </p:nvSpPr>
        <p:spPr>
          <a:xfrm>
            <a:off x="12814200" y="8829720"/>
            <a:ext cx="223920" cy="225360"/>
          </a:xfrm>
          <a:prstGeom prst="ellipse">
            <a:avLst/>
          </a:prstGeom>
          <a:solidFill>
            <a:srgbClr val="d9d9d9"/>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0" name="Freeform 44"/>
          <p:cNvSpPr/>
          <p:nvPr/>
        </p:nvSpPr>
        <p:spPr>
          <a:xfrm>
            <a:off x="13506480" y="9088560"/>
            <a:ext cx="720720" cy="1261800"/>
          </a:xfrm>
          <a:custGeom>
            <a:avLst/>
            <a:gdLst/>
            <a:ahLst/>
            <a:rect l="l" t="t" r="r" b="b"/>
            <a:pathLst>
              <a:path w="80" h="140">
                <a:moveTo>
                  <a:pt x="6" y="56"/>
                </a:moveTo>
                <a:cubicBezTo>
                  <a:pt x="9" y="57"/>
                  <a:pt x="13" y="56"/>
                  <a:pt x="14" y="52"/>
                </a:cubicBezTo>
                <a:cubicBezTo>
                  <a:pt x="14" y="52"/>
                  <a:pt x="24" y="21"/>
                  <a:pt x="24" y="21"/>
                </a:cubicBezTo>
                <a:cubicBezTo>
                  <a:pt x="24" y="20"/>
                  <a:pt x="24" y="20"/>
                  <a:pt x="25" y="20"/>
                </a:cubicBezTo>
                <a:cubicBezTo>
                  <a:pt x="26" y="20"/>
                  <a:pt x="26" y="20"/>
                  <a:pt x="26" y="20"/>
                </a:cubicBezTo>
                <a:cubicBezTo>
                  <a:pt x="26" y="20"/>
                  <a:pt x="26" y="20"/>
                  <a:pt x="26" y="20"/>
                </a:cubicBezTo>
                <a:cubicBezTo>
                  <a:pt x="26" y="20"/>
                  <a:pt x="27" y="20"/>
                  <a:pt x="26" y="21"/>
                </a:cubicBezTo>
                <a:cubicBezTo>
                  <a:pt x="7" y="84"/>
                  <a:pt x="7" y="84"/>
                  <a:pt x="7" y="84"/>
                </a:cubicBezTo>
                <a:cubicBezTo>
                  <a:pt x="7" y="84"/>
                  <a:pt x="7" y="85"/>
                  <a:pt x="8" y="85"/>
                </a:cubicBezTo>
                <a:cubicBezTo>
                  <a:pt x="21" y="85"/>
                  <a:pt x="21" y="85"/>
                  <a:pt x="21" y="85"/>
                </a:cubicBezTo>
                <a:cubicBezTo>
                  <a:pt x="22" y="85"/>
                  <a:pt x="22" y="85"/>
                  <a:pt x="22" y="86"/>
                </a:cubicBezTo>
                <a:cubicBezTo>
                  <a:pt x="22" y="86"/>
                  <a:pt x="22" y="132"/>
                  <a:pt x="22" y="132"/>
                </a:cubicBezTo>
                <a:cubicBezTo>
                  <a:pt x="22" y="137"/>
                  <a:pt x="26" y="140"/>
                  <a:pt x="30" y="140"/>
                </a:cubicBezTo>
                <a:cubicBezTo>
                  <a:pt x="35" y="140"/>
                  <a:pt x="39" y="137"/>
                  <a:pt x="39" y="132"/>
                </a:cubicBezTo>
                <a:cubicBezTo>
                  <a:pt x="39" y="86"/>
                  <a:pt x="39" y="86"/>
                  <a:pt x="39" y="86"/>
                </a:cubicBezTo>
                <a:cubicBezTo>
                  <a:pt x="39" y="85"/>
                  <a:pt x="39" y="85"/>
                  <a:pt x="39" y="85"/>
                </a:cubicBezTo>
                <a:cubicBezTo>
                  <a:pt x="39" y="85"/>
                  <a:pt x="39" y="85"/>
                  <a:pt x="39" y="85"/>
                </a:cubicBezTo>
                <a:cubicBezTo>
                  <a:pt x="41" y="85"/>
                  <a:pt x="41" y="85"/>
                  <a:pt x="41" y="85"/>
                </a:cubicBezTo>
                <a:cubicBezTo>
                  <a:pt x="41" y="85"/>
                  <a:pt x="41" y="85"/>
                  <a:pt x="41" y="85"/>
                </a:cubicBezTo>
                <a:cubicBezTo>
                  <a:pt x="41" y="85"/>
                  <a:pt x="41" y="85"/>
                  <a:pt x="41" y="86"/>
                </a:cubicBezTo>
                <a:cubicBezTo>
                  <a:pt x="41" y="132"/>
                  <a:pt x="41" y="132"/>
                  <a:pt x="41" y="132"/>
                </a:cubicBezTo>
                <a:cubicBezTo>
                  <a:pt x="41" y="137"/>
                  <a:pt x="45" y="140"/>
                  <a:pt x="50" y="140"/>
                </a:cubicBezTo>
                <a:cubicBezTo>
                  <a:pt x="54" y="140"/>
                  <a:pt x="58" y="137"/>
                  <a:pt x="58" y="132"/>
                </a:cubicBezTo>
                <a:cubicBezTo>
                  <a:pt x="58" y="132"/>
                  <a:pt x="58" y="86"/>
                  <a:pt x="58" y="86"/>
                </a:cubicBezTo>
                <a:cubicBezTo>
                  <a:pt x="58" y="85"/>
                  <a:pt x="58" y="85"/>
                  <a:pt x="59" y="85"/>
                </a:cubicBezTo>
                <a:cubicBezTo>
                  <a:pt x="72" y="85"/>
                  <a:pt x="72" y="85"/>
                  <a:pt x="72" y="85"/>
                </a:cubicBezTo>
                <a:cubicBezTo>
                  <a:pt x="73" y="85"/>
                  <a:pt x="73" y="84"/>
                  <a:pt x="73" y="84"/>
                </a:cubicBezTo>
                <a:cubicBezTo>
                  <a:pt x="54" y="21"/>
                  <a:pt x="54" y="21"/>
                  <a:pt x="54" y="21"/>
                </a:cubicBezTo>
                <a:cubicBezTo>
                  <a:pt x="54" y="20"/>
                  <a:pt x="54" y="20"/>
                  <a:pt x="54" y="20"/>
                </a:cubicBezTo>
                <a:cubicBezTo>
                  <a:pt x="54" y="20"/>
                  <a:pt x="54" y="20"/>
                  <a:pt x="54" y="20"/>
                </a:cubicBezTo>
                <a:cubicBezTo>
                  <a:pt x="56" y="20"/>
                  <a:pt x="56" y="20"/>
                  <a:pt x="56" y="20"/>
                </a:cubicBezTo>
                <a:cubicBezTo>
                  <a:pt x="56" y="20"/>
                  <a:pt x="57" y="20"/>
                  <a:pt x="57" y="21"/>
                </a:cubicBezTo>
                <a:cubicBezTo>
                  <a:pt x="66" y="52"/>
                  <a:pt x="66" y="52"/>
                  <a:pt x="66" y="52"/>
                </a:cubicBezTo>
                <a:cubicBezTo>
                  <a:pt x="67" y="56"/>
                  <a:pt x="71" y="57"/>
                  <a:pt x="74" y="56"/>
                </a:cubicBezTo>
                <a:cubicBezTo>
                  <a:pt x="78" y="55"/>
                  <a:pt x="80" y="52"/>
                  <a:pt x="79" y="48"/>
                </a:cubicBezTo>
                <a:cubicBezTo>
                  <a:pt x="79" y="48"/>
                  <a:pt x="69" y="17"/>
                  <a:pt x="69" y="17"/>
                </a:cubicBezTo>
                <a:cubicBezTo>
                  <a:pt x="68" y="11"/>
                  <a:pt x="65" y="0"/>
                  <a:pt x="54" y="0"/>
                </a:cubicBezTo>
                <a:cubicBezTo>
                  <a:pt x="26" y="0"/>
                  <a:pt x="26" y="0"/>
                  <a:pt x="26" y="0"/>
                </a:cubicBezTo>
                <a:cubicBezTo>
                  <a:pt x="16" y="0"/>
                  <a:pt x="13" y="11"/>
                  <a:pt x="11" y="17"/>
                </a:cubicBezTo>
                <a:cubicBezTo>
                  <a:pt x="11" y="17"/>
                  <a:pt x="1" y="48"/>
                  <a:pt x="1" y="48"/>
                </a:cubicBezTo>
                <a:cubicBezTo>
                  <a:pt x="0" y="52"/>
                  <a:pt x="2" y="55"/>
                  <a:pt x="6" y="56"/>
                </a:cubicBezTo>
              </a:path>
            </a:pathLst>
          </a:custGeom>
          <a:solidFill>
            <a:srgbClr val="d9d9d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11" name="Oval 45"/>
          <p:cNvSpPr/>
          <p:nvPr/>
        </p:nvSpPr>
        <p:spPr>
          <a:xfrm>
            <a:off x="13758840" y="8829720"/>
            <a:ext cx="223920" cy="225360"/>
          </a:xfrm>
          <a:prstGeom prst="ellipse">
            <a:avLst/>
          </a:prstGeom>
          <a:solidFill>
            <a:srgbClr val="d9d9d9"/>
          </a:solidFill>
          <a:ln w="0">
            <a:noFill/>
          </a:ln>
        </p:spPr>
        <p:style>
          <a:lnRef idx="0"/>
          <a:fillRef idx="0"/>
          <a:effectRef idx="0"/>
          <a:fontRef idx="minor"/>
        </p:style>
        <p:txBody>
          <a:bodyPr lIns="219600" rIns="219600" tIns="50040" bIns="5004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2" name="Freeform 48"/>
          <p:cNvSpPr/>
          <p:nvPr/>
        </p:nvSpPr>
        <p:spPr>
          <a:xfrm>
            <a:off x="2862360" y="8962920"/>
            <a:ext cx="1671480" cy="1260720"/>
          </a:xfrm>
          <a:custGeom>
            <a:avLst/>
            <a:gdLst/>
            <a:ahLst/>
            <a:rect l="l" t="t" r="r" b="b"/>
            <a:pathLst>
              <a:path w="439" h="331">
                <a:moveTo>
                  <a:pt x="330" y="102"/>
                </a:moveTo>
                <a:lnTo>
                  <a:pt x="330" y="0"/>
                </a:lnTo>
                <a:lnTo>
                  <a:pt x="0" y="0"/>
                </a:lnTo>
                <a:lnTo>
                  <a:pt x="0" y="331"/>
                </a:lnTo>
                <a:lnTo>
                  <a:pt x="330" y="331"/>
                </a:lnTo>
                <a:lnTo>
                  <a:pt x="330" y="227"/>
                </a:lnTo>
                <a:lnTo>
                  <a:pt x="439" y="166"/>
                </a:lnTo>
                <a:lnTo>
                  <a:pt x="330" y="102"/>
                </a:lnTo>
                <a:close/>
              </a:path>
            </a:pathLst>
          </a:custGeom>
          <a:solidFill>
            <a:srgbClr val="333c4e"/>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13" name="Rectangle 49"/>
          <p:cNvSpPr/>
          <p:nvPr/>
        </p:nvSpPr>
        <p:spPr>
          <a:xfrm>
            <a:off x="3055320" y="9381960"/>
            <a:ext cx="828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193840"/>
                <a:tab algn="l" pos="4387680"/>
                <a:tab algn="l" pos="6581880"/>
                <a:tab algn="l" pos="8775720"/>
                <a:tab algn="l" pos="10969560"/>
              </a:tabLst>
            </a:pPr>
            <a:r>
              <a:rPr b="0" lang="en-US" sz="3300" spc="-1" strike="noStrike">
                <a:solidFill>
                  <a:srgbClr val="f9f9fb"/>
                </a:solidFill>
                <a:latin typeface="Montserrat Semi Bold"/>
                <a:ea typeface="Arial"/>
              </a:rPr>
              <a:t>80%</a:t>
            </a:r>
            <a:endParaRPr b="0" lang="en-US" sz="3300" spc="-1" strike="noStrike">
              <a:solidFill>
                <a:srgbClr val="000000"/>
              </a:solidFill>
              <a:latin typeface="Open Sans Light"/>
            </a:endParaRPr>
          </a:p>
        </p:txBody>
      </p:sp>
      <p:sp>
        <p:nvSpPr>
          <p:cNvPr id="2414" name="Rectangle 118"/>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15" name="Group 117"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0"/>
                                  </p:stCondLst>
                                  <p:childTnLst>
                                    <p:set>
                                      <p:cBhvr>
                                        <p:cTn id="324" dur="1" fill="hold">
                                          <p:stCondLst>
                                            <p:cond delay="0"/>
                                          </p:stCondLst>
                                        </p:cTn>
                                        <p:tgtEl>
                                          <p:spTgt spid="2388"/>
                                        </p:tgtEl>
                                        <p:attrNameLst>
                                          <p:attrName>style.visibility</p:attrName>
                                        </p:attrNameLst>
                                      </p:cBhvr>
                                      <p:to>
                                        <p:strVal val="visible"/>
                                      </p:to>
                                    </p:set>
                                    <p:animEffect filter="dissolve" transition="in">
                                      <p:cBhvr additive="repl">
                                        <p:cTn id="325" dur="500"/>
                                        <p:tgtEl>
                                          <p:spTgt spid="2388"/>
                                        </p:tgtEl>
                                      </p:cBhvr>
                                    </p:animEffect>
                                  </p:childTnLst>
                                </p:cTn>
                              </p:par>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2389"/>
                                        </p:tgtEl>
                                        <p:attrNameLst>
                                          <p:attrName>style.visibility</p:attrName>
                                        </p:attrNameLst>
                                      </p:cBhvr>
                                      <p:to>
                                        <p:strVal val="visible"/>
                                      </p:to>
                                    </p:set>
                                    <p:animEffect filter="dissolve" transition="in">
                                      <p:cBhvr additive="repl">
                                        <p:cTn id="329" dur="500"/>
                                        <p:tgtEl>
                                          <p:spTgt spid="2389"/>
                                        </p:tgtEl>
                                      </p:cBhvr>
                                    </p:animEffect>
                                  </p:childTnLst>
                                </p:cTn>
                              </p:par>
                            </p:childTnLst>
                          </p:cTn>
                        </p:par>
                        <p:par>
                          <p:cTn id="330" fill="hold">
                            <p:stCondLst>
                              <p:cond delay="1000"/>
                            </p:stCondLst>
                            <p:childTnLst>
                              <p:par>
                                <p:cTn id="331" nodeType="afterEffect" fill="hold" presetClass="entr" presetID="9">
                                  <p:stCondLst>
                                    <p:cond delay="0"/>
                                  </p:stCondLst>
                                  <p:childTnLst>
                                    <p:set>
                                      <p:cBhvr>
                                        <p:cTn id="332" dur="1" fill="hold">
                                          <p:stCondLst>
                                            <p:cond delay="0"/>
                                          </p:stCondLst>
                                        </p:cTn>
                                        <p:tgtEl>
                                          <p:spTgt spid="2390"/>
                                        </p:tgtEl>
                                        <p:attrNameLst>
                                          <p:attrName>style.visibility</p:attrName>
                                        </p:attrNameLst>
                                      </p:cBhvr>
                                      <p:to>
                                        <p:strVal val="visible"/>
                                      </p:to>
                                    </p:set>
                                    <p:animEffect filter="dissolve" transition="in">
                                      <p:cBhvr additive="repl">
                                        <p:cTn id="333" dur="500"/>
                                        <p:tgtEl>
                                          <p:spTgt spid="2390"/>
                                        </p:tgtEl>
                                      </p:cBhvr>
                                    </p:animEffect>
                                  </p:childTnLst>
                                </p:cTn>
                              </p:par>
                            </p:childTnLst>
                          </p:cTn>
                        </p:par>
                        <p:par>
                          <p:cTn id="334" fill="hold">
                            <p:stCondLst>
                              <p:cond delay="1500"/>
                            </p:stCondLst>
                            <p:childTnLst>
                              <p:par>
                                <p:cTn id="335" nodeType="afterEffect" fill="hold" presetClass="entr" presetID="53" presetSubtype="16">
                                  <p:stCondLst>
                                    <p:cond delay="0"/>
                                  </p:stCondLst>
                                  <p:childTnLst>
                                    <p:set>
                                      <p:cBhvr>
                                        <p:cTn id="336" dur="1" fill="hold">
                                          <p:stCondLst>
                                            <p:cond delay="0"/>
                                          </p:stCondLst>
                                        </p:cTn>
                                        <p:tgtEl>
                                          <p:spTgt spid="2391"/>
                                        </p:tgtEl>
                                        <p:attrNameLst>
                                          <p:attrName>style.visibility</p:attrName>
                                        </p:attrNameLst>
                                      </p:cBhvr>
                                      <p:to>
                                        <p:strVal val="visible"/>
                                      </p:to>
                                    </p:set>
                                    <p:anim calcmode="lin" valueType="num">
                                      <p:cBhvr additive="repl">
                                        <p:cTn id="337" dur="500" fill="hold"/>
                                        <p:tgtEl>
                                          <p:spTgt spid="2391"/>
                                        </p:tgtEl>
                                        <p:attrNameLst>
                                          <p:attrName>ppt_w</p:attrName>
                                        </p:attrNameLst>
                                      </p:cBhvr>
                                      <p:tavLst>
                                        <p:tav tm="0">
                                          <p:val>
                                            <p:fltVal val="0"/>
                                          </p:val>
                                        </p:tav>
                                        <p:tav tm="100000">
                                          <p:val>
                                            <p:strVal val="#ppt_w"/>
                                          </p:val>
                                        </p:tav>
                                      </p:tavLst>
                                    </p:anim>
                                    <p:anim calcmode="lin" valueType="num">
                                      <p:cBhvr additive="repl">
                                        <p:cTn id="338" dur="500" fill="hold"/>
                                        <p:tgtEl>
                                          <p:spTgt spid="2391"/>
                                        </p:tgtEl>
                                        <p:attrNameLst>
                                          <p:attrName>ppt_h</p:attrName>
                                        </p:attrNameLst>
                                      </p:cBhvr>
                                      <p:tavLst>
                                        <p:tav tm="0">
                                          <p:val>
                                            <p:fltVal val="0"/>
                                          </p:val>
                                        </p:tav>
                                        <p:tav tm="100000">
                                          <p:val>
                                            <p:strVal val="#ppt_h"/>
                                          </p:val>
                                        </p:tav>
                                      </p:tavLst>
                                    </p:anim>
                                    <p:animEffect filter="fade" transition="in">
                                      <p:cBhvr additive="repl">
                                        <p:cTn id="339" dur="500"/>
                                        <p:tgtEl>
                                          <p:spTgt spid="2391"/>
                                        </p:tgtEl>
                                      </p:cBhvr>
                                    </p:animEffect>
                                  </p:childTnLst>
                                </p:cTn>
                              </p:par>
                            </p:childTnLst>
                          </p:cTn>
                        </p:par>
                        <p:par>
                          <p:cTn id="340" fill="hold">
                            <p:stCondLst>
                              <p:cond delay="2000"/>
                            </p:stCondLst>
                            <p:childTnLst>
                              <p:par>
                                <p:cTn id="341" nodeType="afterEffect" fill="hold" presetClass="entr" presetID="49">
                                  <p:stCondLst>
                                    <p:cond delay="0"/>
                                  </p:stCondLst>
                                  <p:childTnLst>
                                    <p:set>
                                      <p:cBhvr>
                                        <p:cTn id="342" dur="1" fill="hold">
                                          <p:stCondLst>
                                            <p:cond delay="0"/>
                                          </p:stCondLst>
                                        </p:cTn>
                                        <p:tgtEl>
                                          <p:spTgt spid="2415"/>
                                        </p:tgtEl>
                                        <p:attrNameLst>
                                          <p:attrName>style.visibility</p:attrName>
                                        </p:attrNameLst>
                                      </p:cBhvr>
                                      <p:to>
                                        <p:strVal val="visible"/>
                                      </p:to>
                                    </p:set>
                                    <p:anim calcmode="lin" valueType="num">
                                      <p:cBhvr additive="repl">
                                        <p:cTn id="343" dur="500" fill="hold"/>
                                        <p:tgtEl>
                                          <p:spTgt spid="2415"/>
                                        </p:tgtEl>
                                        <p:attrNameLst>
                                          <p:attrName>ppt_w</p:attrName>
                                        </p:attrNameLst>
                                      </p:cBhvr>
                                      <p:tavLst>
                                        <p:tav tm="0">
                                          <p:val>
                                            <p:fltVal val="0"/>
                                          </p:val>
                                        </p:tav>
                                        <p:tav tm="100000">
                                          <p:val>
                                            <p:strVal val="#ppt_w"/>
                                          </p:val>
                                        </p:tav>
                                      </p:tavLst>
                                    </p:anim>
                                    <p:anim calcmode="lin" valueType="num">
                                      <p:cBhvr additive="repl">
                                        <p:cTn id="344" dur="500" fill="hold"/>
                                        <p:tgtEl>
                                          <p:spTgt spid="2415"/>
                                        </p:tgtEl>
                                        <p:attrNameLst>
                                          <p:attrName>ppt_h</p:attrName>
                                        </p:attrNameLst>
                                      </p:cBhvr>
                                      <p:tavLst>
                                        <p:tav tm="0">
                                          <p:val>
                                            <p:fltVal val="0"/>
                                          </p:val>
                                        </p:tav>
                                        <p:tav tm="100000">
                                          <p:val>
                                            <p:strVal val="#ppt_h"/>
                                          </p:val>
                                        </p:tav>
                                      </p:tavLst>
                                    </p:anim>
                                    <p:anim calcmode="lin" valueType="num">
                                      <p:cBhvr additive="repl">
                                        <p:cTn id="345" dur="500" fill="hold"/>
                                        <p:tgtEl>
                                          <p:spTgt spid="2415"/>
                                        </p:tgtEl>
                                        <p:attrNameLst>
                                          <p:attrName>r</p:attrName>
                                        </p:attrNameLst>
                                      </p:cBhvr>
                                      <p:tavLst>
                                        <p:tav tm="0">
                                          <p:val>
                                            <p:strVal val="360"/>
                                          </p:val>
                                        </p:tav>
                                        <p:tav tm="100000">
                                          <p:val>
                                            <p:strVal val="0"/>
                                          </p:val>
                                        </p:tav>
                                      </p:tavLst>
                                    </p:anim>
                                    <p:animEffect filter="fade" transition="in">
                                      <p:cBhvr additive="repl">
                                        <p:cTn id="346" dur="500"/>
                                        <p:tgtEl>
                                          <p:spTgt spid="2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3" name="Picture 8" descr=""/>
          <p:cNvPicPr/>
          <p:nvPr/>
        </p:nvPicPr>
        <p:blipFill>
          <a:blip r:embed="rId1"/>
          <a:stretch/>
        </p:blipFill>
        <p:spPr>
          <a:xfrm>
            <a:off x="1930320" y="3112920"/>
            <a:ext cx="22447440" cy="12695400"/>
          </a:xfrm>
          <a:prstGeom prst="rect">
            <a:avLst/>
          </a:prstGeom>
          <a:ln w="0">
            <a:noFill/>
          </a:ln>
        </p:spPr>
      </p:pic>
      <p:grpSp>
        <p:nvGrpSpPr>
          <p:cNvPr id="1884" name="Group 90"/>
          <p:cNvGrpSpPr/>
          <p:nvPr/>
        </p:nvGrpSpPr>
        <p:grpSpPr>
          <a:xfrm>
            <a:off x="19623240" y="3643200"/>
            <a:ext cx="1471320" cy="1467000"/>
            <a:chOff x="19623240" y="3643200"/>
            <a:chExt cx="1471320" cy="1467000"/>
          </a:xfrm>
        </p:grpSpPr>
        <p:sp>
          <p:nvSpPr>
            <p:cNvPr id="1885" name="Freeform 91"/>
            <p:cNvSpPr/>
            <p:nvPr/>
          </p:nvSpPr>
          <p:spPr>
            <a:xfrm>
              <a:off x="19623240" y="3643200"/>
              <a:ext cx="1471320" cy="1467000"/>
            </a:xfrm>
            <a:custGeom>
              <a:avLst/>
              <a:gdLst/>
              <a:ahLst/>
              <a:rect l="l" t="t" r="r" b="b"/>
              <a:pathLst>
                <a:path w="1545" h="1538">
                  <a:moveTo>
                    <a:pt x="0" y="0"/>
                  </a:moveTo>
                  <a:lnTo>
                    <a:pt x="1546" y="1538"/>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86" name="Group 92"/>
          <p:cNvGrpSpPr/>
          <p:nvPr/>
        </p:nvGrpSpPr>
        <p:grpSpPr>
          <a:xfrm>
            <a:off x="21301200" y="5083200"/>
            <a:ext cx="1440" cy="752400"/>
            <a:chOff x="21301200" y="5083200"/>
            <a:chExt cx="1440" cy="752400"/>
          </a:xfrm>
        </p:grpSpPr>
        <p:sp>
          <p:nvSpPr>
            <p:cNvPr id="1887" name="Freeform 93"/>
            <p:cNvSpPr/>
            <p:nvPr/>
          </p:nvSpPr>
          <p:spPr>
            <a:xfrm>
              <a:off x="21301200" y="5083200"/>
              <a:ext cx="1440" cy="752400"/>
            </a:xfrm>
            <a:custGeom>
              <a:avLst/>
              <a:gdLst/>
              <a:ahLst/>
              <a:rect l="l" t="t" r="r" b="b"/>
              <a:pathLst>
                <a:path w="2" h="720">
                  <a:moveTo>
                    <a:pt x="0" y="0"/>
                  </a:moveTo>
                  <a:lnTo>
                    <a:pt x="0" y="720"/>
                  </a:lnTo>
                </a:path>
              </a:pathLst>
            </a:custGeom>
            <a:noFill/>
            <a:ln w="5220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88" name="Freeform 99"/>
          <p:cNvSpPr/>
          <p:nvPr/>
        </p:nvSpPr>
        <p:spPr>
          <a:xfrm>
            <a:off x="19242000" y="3262320"/>
            <a:ext cx="127656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o</a:t>
            </a:r>
            <a:endParaRPr b="0" lang="en-US" sz="5700" spc="-1" strike="noStrike">
              <a:solidFill>
                <a:srgbClr val="000000"/>
              </a:solidFill>
              <a:latin typeface="Open Sans Light"/>
            </a:endParaRPr>
          </a:p>
        </p:txBody>
      </p:sp>
      <p:grpSp>
        <p:nvGrpSpPr>
          <p:cNvPr id="1889" name="Group 64"/>
          <p:cNvGrpSpPr/>
          <p:nvPr/>
        </p:nvGrpSpPr>
        <p:grpSpPr>
          <a:xfrm>
            <a:off x="5630760" y="9555120"/>
            <a:ext cx="3240" cy="609480"/>
            <a:chOff x="5630760" y="9555120"/>
            <a:chExt cx="3240" cy="609480"/>
          </a:xfrm>
        </p:grpSpPr>
        <p:sp>
          <p:nvSpPr>
            <p:cNvPr id="1890" name="Freeform 65"/>
            <p:cNvSpPr/>
            <p:nvPr/>
          </p:nvSpPr>
          <p:spPr>
            <a:xfrm>
              <a:off x="5630760" y="9555120"/>
              <a:ext cx="3240" cy="609480"/>
            </a:xfrm>
            <a:custGeom>
              <a:avLst/>
              <a:gdLst/>
              <a:ahLst/>
              <a:rect l="l" t="t" r="r" b="b"/>
              <a:pathLst>
                <a:path w="2" h="582">
                  <a:moveTo>
                    <a:pt x="0" y="0"/>
                  </a:moveTo>
                  <a:lnTo>
                    <a:pt x="0" y="582"/>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91" name="Group 196"/>
          <p:cNvGrpSpPr/>
          <p:nvPr/>
        </p:nvGrpSpPr>
        <p:grpSpPr>
          <a:xfrm>
            <a:off x="5794200" y="10314000"/>
            <a:ext cx="1576440" cy="1576440"/>
            <a:chOff x="5794200" y="10314000"/>
            <a:chExt cx="1576440" cy="1576440"/>
          </a:xfrm>
        </p:grpSpPr>
        <p:sp>
          <p:nvSpPr>
            <p:cNvPr id="1892" name="Freeform 197"/>
            <p:cNvSpPr/>
            <p:nvPr/>
          </p:nvSpPr>
          <p:spPr>
            <a:xfrm>
              <a:off x="5794200" y="10314000"/>
              <a:ext cx="1576440" cy="1576440"/>
            </a:xfrm>
            <a:custGeom>
              <a:avLst/>
              <a:gdLst/>
              <a:ahLst/>
              <a:rect l="l" t="t" r="r" b="b"/>
              <a:pathLst>
                <a:path w="1508" h="1508">
                  <a:moveTo>
                    <a:pt x="1508" y="1508"/>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93" name="Freeform 199"/>
          <p:cNvSpPr/>
          <p:nvPr/>
        </p:nvSpPr>
        <p:spPr>
          <a:xfrm>
            <a:off x="6732720" y="11233080"/>
            <a:ext cx="1276200" cy="1276560"/>
          </a:xfrm>
          <a:prstGeom prst="pie">
            <a:avLst/>
          </a:prstGeom>
          <a:solidFill>
            <a:srgbClr val="4d4d4d"/>
          </a:solidFill>
          <a:ln w="28440">
            <a:solidFill>
              <a:srgbClr val="ffffff"/>
            </a:solidFill>
            <a:round/>
          </a:ln>
        </p:spPr>
        <p:style>
          <a:lnRef idx="0"/>
          <a:fillRef idx="0"/>
          <a:effectRef idx="0"/>
          <a:fontRef idx="minor"/>
        </p:style>
        <p:txBody>
          <a:bodyPr lIns="219600" rIns="219600" tIns="109800" bIns="109800" anchor="ctr">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Ç</a:t>
            </a:r>
            <a:endParaRPr b="0" lang="en-US" sz="5700" spc="-1" strike="noStrike">
              <a:solidFill>
                <a:srgbClr val="000000"/>
              </a:solidFill>
              <a:latin typeface="Open Sans Light"/>
            </a:endParaRPr>
          </a:p>
        </p:txBody>
      </p:sp>
      <p:sp>
        <p:nvSpPr>
          <p:cNvPr id="1894" name="TextBox 49"/>
          <p:cNvSpPr/>
          <p:nvPr/>
        </p:nvSpPr>
        <p:spPr>
          <a:xfrm>
            <a:off x="2098440" y="9318600"/>
            <a:ext cx="33674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WELCOME SPEECH</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8.30 AM</a:t>
            </a:r>
            <a:endParaRPr b="0" lang="en-US" sz="2800" spc="-1" strike="noStrike">
              <a:solidFill>
                <a:srgbClr val="000000"/>
              </a:solidFill>
              <a:latin typeface="Open Sans Light"/>
            </a:endParaRPr>
          </a:p>
        </p:txBody>
      </p:sp>
      <p:grpSp>
        <p:nvGrpSpPr>
          <p:cNvPr id="1895" name="Group 62"/>
          <p:cNvGrpSpPr/>
          <p:nvPr/>
        </p:nvGrpSpPr>
        <p:grpSpPr>
          <a:xfrm>
            <a:off x="9018720" y="4054320"/>
            <a:ext cx="1440" cy="690840"/>
            <a:chOff x="9018720" y="4054320"/>
            <a:chExt cx="1440" cy="690840"/>
          </a:xfrm>
        </p:grpSpPr>
        <p:sp>
          <p:nvSpPr>
            <p:cNvPr id="1896" name="Freeform 63"/>
            <p:cNvSpPr/>
            <p:nvPr/>
          </p:nvSpPr>
          <p:spPr>
            <a:xfrm>
              <a:off x="9018720" y="4054320"/>
              <a:ext cx="1440" cy="690840"/>
            </a:xfrm>
            <a:custGeom>
              <a:avLst/>
              <a:gdLst/>
              <a:ahLst/>
              <a:rect l="l" t="t" r="r" b="b"/>
              <a:pathLst>
                <a:path w="2" h="660">
                  <a:moveTo>
                    <a:pt x="0" y="0"/>
                  </a:moveTo>
                  <a:lnTo>
                    <a:pt x="0" y="660"/>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897" name="Group 176"/>
          <p:cNvGrpSpPr/>
          <p:nvPr/>
        </p:nvGrpSpPr>
        <p:grpSpPr>
          <a:xfrm>
            <a:off x="9147240" y="4805280"/>
            <a:ext cx="1623960" cy="1622520"/>
            <a:chOff x="9147240" y="4805280"/>
            <a:chExt cx="1623960" cy="1622520"/>
          </a:xfrm>
        </p:grpSpPr>
        <p:sp>
          <p:nvSpPr>
            <p:cNvPr id="1898" name="Freeform 177"/>
            <p:cNvSpPr/>
            <p:nvPr/>
          </p:nvSpPr>
          <p:spPr>
            <a:xfrm>
              <a:off x="9147240" y="4805280"/>
              <a:ext cx="1623960" cy="1622520"/>
            </a:xfrm>
            <a:custGeom>
              <a:avLst/>
              <a:gdLst/>
              <a:ahLst/>
              <a:rect l="l" t="t" r="r" b="b"/>
              <a:pathLst>
                <a:path w="1552" h="1552">
                  <a:moveTo>
                    <a:pt x="1551" y="1552"/>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899" name="Freeform 179"/>
          <p:cNvSpPr/>
          <p:nvPr/>
        </p:nvSpPr>
        <p:spPr>
          <a:xfrm>
            <a:off x="10131480" y="5783400"/>
            <a:ext cx="1276200" cy="1276200"/>
          </a:xfrm>
          <a:prstGeom prst="pie">
            <a:avLst/>
          </a:prstGeom>
          <a:solidFill>
            <a:srgbClr val="4d4d4d"/>
          </a:solidFill>
          <a:ln w="28440">
            <a:solidFill>
              <a:srgbClr val="ffffff"/>
            </a:solidFill>
            <a:round/>
          </a:ln>
        </p:spPr>
        <p:style>
          <a:lnRef idx="0"/>
          <a:fillRef idx="0"/>
          <a:effectRef idx="0"/>
          <a:fontRef idx="minor"/>
        </p:style>
        <p:txBody>
          <a:bodyPr lIns="285120" rIns="0" tIns="175680" bIns="0" anchor="t">
            <a:no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8</a:t>
            </a:r>
            <a:endParaRPr b="0" lang="en-US" sz="5700" spc="-1" strike="noStrike">
              <a:solidFill>
                <a:srgbClr val="000000"/>
              </a:solidFill>
              <a:latin typeface="Open Sans Light"/>
            </a:endParaRPr>
          </a:p>
        </p:txBody>
      </p:sp>
      <p:sp>
        <p:nvSpPr>
          <p:cNvPr id="1900" name="TextBox 50"/>
          <p:cNvSpPr/>
          <p:nvPr/>
        </p:nvSpPr>
        <p:spPr>
          <a:xfrm>
            <a:off x="6661440" y="3860640"/>
            <a:ext cx="222444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PORTFOLIO</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9.30 AM</a:t>
            </a:r>
            <a:endParaRPr b="0" lang="en-US" sz="2800" spc="-1" strike="noStrike">
              <a:solidFill>
                <a:srgbClr val="000000"/>
              </a:solidFill>
              <a:latin typeface="Open Sans Light"/>
            </a:endParaRPr>
          </a:p>
        </p:txBody>
      </p:sp>
      <p:grpSp>
        <p:nvGrpSpPr>
          <p:cNvPr id="1901" name="Group 96"/>
          <p:cNvGrpSpPr/>
          <p:nvPr/>
        </p:nvGrpSpPr>
        <p:grpSpPr>
          <a:xfrm>
            <a:off x="10750680" y="10524960"/>
            <a:ext cx="1440" cy="673200"/>
            <a:chOff x="10750680" y="10524960"/>
            <a:chExt cx="1440" cy="673200"/>
          </a:xfrm>
        </p:grpSpPr>
        <p:sp>
          <p:nvSpPr>
            <p:cNvPr id="1902" name="Freeform 97"/>
            <p:cNvSpPr/>
            <p:nvPr/>
          </p:nvSpPr>
          <p:spPr>
            <a:xfrm>
              <a:off x="10750680" y="10524960"/>
              <a:ext cx="1440" cy="673200"/>
            </a:xfrm>
            <a:custGeom>
              <a:avLst/>
              <a:gdLst/>
              <a:ahLst/>
              <a:rect l="l" t="t" r="r" b="b"/>
              <a:pathLst>
                <a:path w="2" h="644">
                  <a:moveTo>
                    <a:pt x="0" y="0"/>
                  </a:moveTo>
                  <a:lnTo>
                    <a:pt x="0" y="644"/>
                  </a:lnTo>
                </a:path>
              </a:pathLst>
            </a:custGeom>
            <a:noFill/>
            <a:ln w="5472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903" name="Group 146"/>
          <p:cNvGrpSpPr/>
          <p:nvPr/>
        </p:nvGrpSpPr>
        <p:grpSpPr>
          <a:xfrm>
            <a:off x="9018720" y="8694720"/>
            <a:ext cx="1549440" cy="1548000"/>
            <a:chOff x="9018720" y="8694720"/>
            <a:chExt cx="1549440" cy="1548000"/>
          </a:xfrm>
        </p:grpSpPr>
        <p:sp>
          <p:nvSpPr>
            <p:cNvPr id="1904" name="Freeform 147"/>
            <p:cNvSpPr/>
            <p:nvPr/>
          </p:nvSpPr>
          <p:spPr>
            <a:xfrm>
              <a:off x="9018720" y="8694720"/>
              <a:ext cx="1549440" cy="1548000"/>
            </a:xfrm>
            <a:custGeom>
              <a:avLst/>
              <a:gdLst/>
              <a:ahLst/>
              <a:rect l="l" t="t" r="r" b="b"/>
              <a:pathLst>
                <a:path w="1480" h="1480">
                  <a:moveTo>
                    <a:pt x="0" y="0"/>
                  </a:moveTo>
                  <a:lnTo>
                    <a:pt x="1480" y="148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05" name="Freeform 149"/>
          <p:cNvSpPr/>
          <p:nvPr/>
        </p:nvSpPr>
        <p:spPr>
          <a:xfrm>
            <a:off x="8380440" y="8028000"/>
            <a:ext cx="127620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h</a:t>
            </a:r>
            <a:endParaRPr b="0" lang="en-US" sz="5700" spc="-1" strike="noStrike">
              <a:solidFill>
                <a:srgbClr val="000000"/>
              </a:solidFill>
              <a:latin typeface="Open Sans Light"/>
            </a:endParaRPr>
          </a:p>
        </p:txBody>
      </p:sp>
      <p:sp>
        <p:nvSpPr>
          <p:cNvPr id="1906" name="TextBox 51"/>
          <p:cNvSpPr/>
          <p:nvPr/>
        </p:nvSpPr>
        <p:spPr>
          <a:xfrm>
            <a:off x="10956960" y="10314000"/>
            <a:ext cx="1977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ABOUT US</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9.00 AM</a:t>
            </a:r>
            <a:endParaRPr b="0" lang="en-US" sz="2800" spc="-1" strike="noStrike">
              <a:solidFill>
                <a:srgbClr val="000000"/>
              </a:solidFill>
              <a:latin typeface="Open Sans Light"/>
            </a:endParaRPr>
          </a:p>
        </p:txBody>
      </p:sp>
      <p:grpSp>
        <p:nvGrpSpPr>
          <p:cNvPr id="1907" name="Group 18"/>
          <p:cNvGrpSpPr/>
          <p:nvPr/>
        </p:nvGrpSpPr>
        <p:grpSpPr>
          <a:xfrm>
            <a:off x="14849640" y="7477200"/>
            <a:ext cx="1504800" cy="1504800"/>
            <a:chOff x="14849640" y="7477200"/>
            <a:chExt cx="1504800" cy="1504800"/>
          </a:xfrm>
        </p:grpSpPr>
        <p:sp>
          <p:nvSpPr>
            <p:cNvPr id="1908" name="Freeform 19"/>
            <p:cNvSpPr/>
            <p:nvPr/>
          </p:nvSpPr>
          <p:spPr>
            <a:xfrm>
              <a:off x="14849640" y="7477200"/>
              <a:ext cx="1504800" cy="1504800"/>
            </a:xfrm>
            <a:custGeom>
              <a:avLst/>
              <a:gdLst/>
              <a:ahLst/>
              <a:rect l="l" t="t" r="r" b="b"/>
              <a:pathLst>
                <a:path w="1438" h="1438">
                  <a:moveTo>
                    <a:pt x="0" y="0"/>
                  </a:moveTo>
                  <a:lnTo>
                    <a:pt x="1438" y="1438"/>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09" name="Freeform 21"/>
          <p:cNvSpPr/>
          <p:nvPr/>
        </p:nvSpPr>
        <p:spPr>
          <a:xfrm>
            <a:off x="14211360" y="6823080"/>
            <a:ext cx="1276200" cy="1276200"/>
          </a:xfrm>
          <a:prstGeom prst="pie">
            <a:avLst/>
          </a:prstGeom>
          <a:solidFill>
            <a:srgbClr val="b2b2b2"/>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á</a:t>
            </a:r>
            <a:endParaRPr b="0" lang="en-US" sz="5700" spc="-1" strike="noStrike">
              <a:solidFill>
                <a:srgbClr val="000000"/>
              </a:solidFill>
              <a:latin typeface="Open Sans Light"/>
            </a:endParaRPr>
          </a:p>
        </p:txBody>
      </p:sp>
      <p:grpSp>
        <p:nvGrpSpPr>
          <p:cNvPr id="1910" name="Group 94"/>
          <p:cNvGrpSpPr/>
          <p:nvPr/>
        </p:nvGrpSpPr>
        <p:grpSpPr>
          <a:xfrm>
            <a:off x="16583040" y="9285120"/>
            <a:ext cx="1440" cy="970200"/>
            <a:chOff x="16583040" y="9285120"/>
            <a:chExt cx="1440" cy="970200"/>
          </a:xfrm>
        </p:grpSpPr>
        <p:sp>
          <p:nvSpPr>
            <p:cNvPr id="1911" name="Freeform 95"/>
            <p:cNvSpPr/>
            <p:nvPr/>
          </p:nvSpPr>
          <p:spPr>
            <a:xfrm>
              <a:off x="16583040" y="9285120"/>
              <a:ext cx="1440" cy="970200"/>
            </a:xfrm>
            <a:custGeom>
              <a:avLst/>
              <a:gdLst/>
              <a:ahLst/>
              <a:rect l="l" t="t" r="r" b="b"/>
              <a:pathLst>
                <a:path w="2" h="927">
                  <a:moveTo>
                    <a:pt x="0" y="0"/>
                  </a:moveTo>
                  <a:lnTo>
                    <a:pt x="0" y="926"/>
                  </a:lnTo>
                </a:path>
              </a:pathLst>
            </a:custGeom>
            <a:noFill/>
            <a:ln w="54720">
              <a:solidFill>
                <a:srgbClr val="b2b2b2"/>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12" name="TextBox 52"/>
          <p:cNvSpPr/>
          <p:nvPr/>
        </p:nvSpPr>
        <p:spPr>
          <a:xfrm>
            <a:off x="16832160" y="9172440"/>
            <a:ext cx="2043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TEAM</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0.30 AM</a:t>
            </a:r>
            <a:endParaRPr b="0" lang="en-US" sz="2800" spc="-1" strike="noStrike">
              <a:solidFill>
                <a:srgbClr val="000000"/>
              </a:solidFill>
              <a:latin typeface="Open Sans Light"/>
            </a:endParaRPr>
          </a:p>
        </p:txBody>
      </p:sp>
      <p:sp>
        <p:nvSpPr>
          <p:cNvPr id="1913" name="TextBox 53"/>
          <p:cNvSpPr/>
          <p:nvPr/>
        </p:nvSpPr>
        <p:spPr>
          <a:xfrm>
            <a:off x="21504960" y="4915080"/>
            <a:ext cx="2487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OFFICES</a:t>
            </a:r>
            <a:endParaRPr b="0" lang="en-US" sz="28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2.00 AM</a:t>
            </a:r>
            <a:endParaRPr b="0" lang="en-US" sz="2800" spc="-1" strike="noStrike">
              <a:solidFill>
                <a:srgbClr val="000000"/>
              </a:solidFill>
              <a:latin typeface="Open Sans Light"/>
            </a:endParaRPr>
          </a:p>
        </p:txBody>
      </p:sp>
      <p:grpSp>
        <p:nvGrpSpPr>
          <p:cNvPr id="1914" name="Group 60"/>
          <p:cNvGrpSpPr/>
          <p:nvPr/>
        </p:nvGrpSpPr>
        <p:grpSpPr>
          <a:xfrm>
            <a:off x="16374960" y="3273480"/>
            <a:ext cx="2880" cy="968400"/>
            <a:chOff x="16374960" y="3273480"/>
            <a:chExt cx="2880" cy="968400"/>
          </a:xfrm>
        </p:grpSpPr>
        <p:sp>
          <p:nvSpPr>
            <p:cNvPr id="1915" name="Freeform 61"/>
            <p:cNvSpPr/>
            <p:nvPr/>
          </p:nvSpPr>
          <p:spPr>
            <a:xfrm>
              <a:off x="16374960" y="3273480"/>
              <a:ext cx="2880" cy="968400"/>
            </a:xfrm>
            <a:custGeom>
              <a:avLst/>
              <a:gdLst/>
              <a:ahLst/>
              <a:rect l="l" t="t" r="r" b="b"/>
              <a:pathLst>
                <a:path w="2" h="927">
                  <a:moveTo>
                    <a:pt x="0" y="0"/>
                  </a:moveTo>
                  <a:lnTo>
                    <a:pt x="0" y="927"/>
                  </a:lnTo>
                </a:path>
              </a:pathLst>
            </a:custGeom>
            <a:noFill/>
            <a:ln w="54720">
              <a:solidFill>
                <a:srgbClr val="4d4d4d"/>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grpSp>
        <p:nvGrpSpPr>
          <p:cNvPr id="1916" name="Group 66"/>
          <p:cNvGrpSpPr/>
          <p:nvPr/>
        </p:nvGrpSpPr>
        <p:grpSpPr>
          <a:xfrm>
            <a:off x="16541640" y="4518000"/>
            <a:ext cx="1567080" cy="1566720"/>
            <a:chOff x="16541640" y="4518000"/>
            <a:chExt cx="1567080" cy="1566720"/>
          </a:xfrm>
        </p:grpSpPr>
        <p:sp>
          <p:nvSpPr>
            <p:cNvPr id="1917" name="Freeform 67"/>
            <p:cNvSpPr/>
            <p:nvPr/>
          </p:nvSpPr>
          <p:spPr>
            <a:xfrm>
              <a:off x="16541640" y="4518000"/>
              <a:ext cx="1567080" cy="1566720"/>
            </a:xfrm>
            <a:custGeom>
              <a:avLst/>
              <a:gdLst/>
              <a:ahLst/>
              <a:rect l="l" t="t" r="r" b="b"/>
              <a:pathLst>
                <a:path w="1498" h="1498">
                  <a:moveTo>
                    <a:pt x="1498" y="1499"/>
                  </a:moveTo>
                  <a:lnTo>
                    <a:pt x="0" y="0"/>
                  </a:lnTo>
                </a:path>
              </a:pathLst>
            </a:custGeom>
            <a:noFill/>
            <a:ln w="12600">
              <a:solidFill>
                <a:srgbClr val="bbbdc0"/>
              </a:solidFill>
              <a:round/>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grpSp>
      <p:sp>
        <p:nvSpPr>
          <p:cNvPr id="1918" name="Freeform 69"/>
          <p:cNvSpPr/>
          <p:nvPr/>
        </p:nvSpPr>
        <p:spPr>
          <a:xfrm>
            <a:off x="17470440" y="5452920"/>
            <a:ext cx="1276200" cy="1276560"/>
          </a:xfrm>
          <a:prstGeom prst="pie">
            <a:avLst/>
          </a:prstGeom>
          <a:solidFill>
            <a:srgbClr val="4d4d4d"/>
          </a:solidFill>
          <a:ln w="28440">
            <a:solidFill>
              <a:srgbClr val="ffffff"/>
            </a:solidFill>
            <a:round/>
          </a:ln>
        </p:spPr>
        <p:style>
          <a:lnRef idx="0"/>
          <a:fillRef idx="0"/>
          <a:effectRef idx="0"/>
          <a:fontRef idx="minor"/>
        </p:style>
        <p:txBody>
          <a:bodyPr lIns="219600" rIns="219600" tIns="175680" bIns="0" anchor="t">
            <a:noAutofit/>
          </a:bodyPr>
          <a:p>
            <a:pPr algn="ct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Sosa"/>
              </a:rPr>
              <a:t>y</a:t>
            </a:r>
            <a:endParaRPr b="0" lang="en-US" sz="5700" spc="-1" strike="noStrike">
              <a:solidFill>
                <a:srgbClr val="000000"/>
              </a:solidFill>
              <a:latin typeface="Open Sans Light"/>
            </a:endParaRPr>
          </a:p>
        </p:txBody>
      </p:sp>
      <p:sp>
        <p:nvSpPr>
          <p:cNvPr id="1919" name="TextBox 54"/>
          <p:cNvSpPr/>
          <p:nvPr/>
        </p:nvSpPr>
        <p:spPr>
          <a:xfrm>
            <a:off x="13514040" y="3206880"/>
            <a:ext cx="2674080" cy="947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OUR SERVICES</a:t>
            </a:r>
            <a:endParaRPr b="0" lang="en-US" sz="2800" spc="-1" strike="noStrike">
              <a:solidFill>
                <a:srgbClr val="000000"/>
              </a:solidFill>
              <a:latin typeface="Open Sans Light"/>
            </a:endParaRPr>
          </a:p>
          <a:p>
            <a:pPr algn="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ea typeface="Open Sans"/>
              </a:rPr>
              <a:t>11.00 AM</a:t>
            </a:r>
            <a:endParaRPr b="0" lang="en-US" sz="2800" spc="-1" strike="noStrike">
              <a:solidFill>
                <a:srgbClr val="000000"/>
              </a:solidFill>
              <a:latin typeface="Open Sans Light"/>
            </a:endParaRPr>
          </a:p>
        </p:txBody>
      </p:sp>
      <p:sp>
        <p:nvSpPr>
          <p:cNvPr id="1920" name="TextBox 58"/>
          <p:cNvSpPr/>
          <p:nvPr/>
        </p:nvSpPr>
        <p:spPr>
          <a:xfrm>
            <a:off x="2683800" y="1189080"/>
            <a:ext cx="3576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GB" sz="6600" spc="-1" strike="noStrike">
                <a:solidFill>
                  <a:srgbClr val="010101"/>
                </a:solidFill>
                <a:latin typeface="Montserrat Semi Bold"/>
                <a:ea typeface="Open Sans Extrabold"/>
              </a:rPr>
              <a:t>AGENDA</a:t>
            </a:r>
            <a:endParaRPr b="0" lang="en-US" sz="6600" spc="-1" strike="noStrike">
              <a:solidFill>
                <a:srgbClr val="000000"/>
              </a:solidFill>
              <a:latin typeface="Open Sans Light"/>
            </a:endParaRPr>
          </a:p>
        </p:txBody>
      </p:sp>
      <p:pic>
        <p:nvPicPr>
          <p:cNvPr id="1921" name="Group 45" descr=""/>
          <p:cNvPicPr/>
          <p:nvPr/>
        </p:nvPicPr>
        <p:blipFill>
          <a:blip r:embed="rId2"/>
          <a:stretch/>
        </p:blipFill>
        <p:spPr>
          <a:xfrm>
            <a:off x="2646360" y="254160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49">
                                  <p:stCondLst>
                                    <p:cond delay="0"/>
                                  </p:stCondLst>
                                  <p:childTnLst>
                                    <p:set>
                                      <p:cBhvr>
                                        <p:cTn id="36" dur="1" fill="hold">
                                          <p:stCondLst>
                                            <p:cond delay="0"/>
                                          </p:stCondLst>
                                        </p:cTn>
                                        <p:tgtEl>
                                          <p:spTgt spid="1921"/>
                                        </p:tgtEl>
                                        <p:attrNameLst>
                                          <p:attrName>style.visibility</p:attrName>
                                        </p:attrNameLst>
                                      </p:cBhvr>
                                      <p:to>
                                        <p:strVal val="visible"/>
                                      </p:to>
                                    </p:set>
                                    <p:anim calcmode="lin" valueType="num">
                                      <p:cBhvr additive="repl">
                                        <p:cTn id="37" dur="500" fill="hold"/>
                                        <p:tgtEl>
                                          <p:spTgt spid="1921"/>
                                        </p:tgtEl>
                                        <p:attrNameLst>
                                          <p:attrName>ppt_w</p:attrName>
                                        </p:attrNameLst>
                                      </p:cBhvr>
                                      <p:tavLst>
                                        <p:tav tm="0">
                                          <p:val>
                                            <p:fltVal val="0"/>
                                          </p:val>
                                        </p:tav>
                                        <p:tav tm="100000">
                                          <p:val>
                                            <p:strVal val="#ppt_w"/>
                                          </p:val>
                                        </p:tav>
                                      </p:tavLst>
                                    </p:anim>
                                    <p:anim calcmode="lin" valueType="num">
                                      <p:cBhvr additive="repl">
                                        <p:cTn id="38" dur="500" fill="hold"/>
                                        <p:tgtEl>
                                          <p:spTgt spid="1921"/>
                                        </p:tgtEl>
                                        <p:attrNameLst>
                                          <p:attrName>ppt_h</p:attrName>
                                        </p:attrNameLst>
                                      </p:cBhvr>
                                      <p:tavLst>
                                        <p:tav tm="0">
                                          <p:val>
                                            <p:fltVal val="0"/>
                                          </p:val>
                                        </p:tav>
                                        <p:tav tm="100000">
                                          <p:val>
                                            <p:strVal val="#ppt_h"/>
                                          </p:val>
                                        </p:tav>
                                      </p:tavLst>
                                    </p:anim>
                                    <p:anim calcmode="lin" valueType="num">
                                      <p:cBhvr additive="repl">
                                        <p:cTn id="39" dur="500" fill="hold"/>
                                        <p:tgtEl>
                                          <p:spTgt spid="1921"/>
                                        </p:tgtEl>
                                        <p:attrNameLst>
                                          <p:attrName>r</p:attrName>
                                        </p:attrNameLst>
                                      </p:cBhvr>
                                      <p:tavLst>
                                        <p:tav tm="0">
                                          <p:val>
                                            <p:strVal val="360"/>
                                          </p:val>
                                        </p:tav>
                                        <p:tav tm="100000">
                                          <p:val>
                                            <p:strVal val="0"/>
                                          </p:val>
                                        </p:tav>
                                      </p:tavLst>
                                    </p:anim>
                                    <p:animEffect filter="fade" transition="in">
                                      <p:cBhvr additive="repl">
                                        <p:cTn id="40" dur="500"/>
                                        <p:tgtEl>
                                          <p:spTgt spid="1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Rectangle 7"/>
          <p:cNvSpPr/>
          <p:nvPr/>
        </p:nvSpPr>
        <p:spPr>
          <a:xfrm>
            <a:off x="7575480" y="6267600"/>
            <a:ext cx="476280" cy="4921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7" name="Rectangle 8"/>
          <p:cNvSpPr/>
          <p:nvPr/>
        </p:nvSpPr>
        <p:spPr>
          <a:xfrm>
            <a:off x="7575480" y="5597640"/>
            <a:ext cx="476280" cy="49536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8" name="Rectangle 9"/>
          <p:cNvSpPr/>
          <p:nvPr/>
        </p:nvSpPr>
        <p:spPr>
          <a:xfrm>
            <a:off x="7575480" y="4925880"/>
            <a:ext cx="47628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19" name="Freeform 10"/>
          <p:cNvSpPr/>
          <p:nvPr/>
        </p:nvSpPr>
        <p:spPr>
          <a:xfrm>
            <a:off x="3594240" y="4876920"/>
            <a:ext cx="3573360" cy="3222360"/>
          </a:xfrm>
          <a:custGeom>
            <a:avLst/>
            <a:gdLst/>
            <a:ahLst/>
            <a:rect l="l" t="t" r="r" b="b"/>
            <a:pathLst>
              <a:path w="203" h="183">
                <a:moveTo>
                  <a:pt x="186" y="0"/>
                </a:moveTo>
                <a:cubicBezTo>
                  <a:pt x="16" y="0"/>
                  <a:pt x="16" y="0"/>
                  <a:pt x="16" y="0"/>
                </a:cubicBezTo>
                <a:cubicBezTo>
                  <a:pt x="7" y="0"/>
                  <a:pt x="0" y="8"/>
                  <a:pt x="0" y="17"/>
                </a:cubicBezTo>
                <a:cubicBezTo>
                  <a:pt x="0" y="134"/>
                  <a:pt x="0" y="134"/>
                  <a:pt x="0" y="134"/>
                </a:cubicBezTo>
                <a:cubicBezTo>
                  <a:pt x="0" y="143"/>
                  <a:pt x="7" y="150"/>
                  <a:pt x="16" y="150"/>
                </a:cubicBezTo>
                <a:cubicBezTo>
                  <a:pt x="86" y="150"/>
                  <a:pt x="86" y="150"/>
                  <a:pt x="86" y="150"/>
                </a:cubicBezTo>
                <a:cubicBezTo>
                  <a:pt x="86" y="177"/>
                  <a:pt x="86" y="177"/>
                  <a:pt x="86" y="177"/>
                </a:cubicBezTo>
                <a:cubicBezTo>
                  <a:pt x="20" y="177"/>
                  <a:pt x="20" y="177"/>
                  <a:pt x="20" y="177"/>
                </a:cubicBezTo>
                <a:cubicBezTo>
                  <a:pt x="20" y="183"/>
                  <a:pt x="20" y="183"/>
                  <a:pt x="20" y="183"/>
                </a:cubicBezTo>
                <a:cubicBezTo>
                  <a:pt x="178" y="183"/>
                  <a:pt x="178" y="183"/>
                  <a:pt x="178" y="183"/>
                </a:cubicBezTo>
                <a:cubicBezTo>
                  <a:pt x="178" y="177"/>
                  <a:pt x="178" y="177"/>
                  <a:pt x="178" y="177"/>
                </a:cubicBezTo>
                <a:cubicBezTo>
                  <a:pt x="112" y="177"/>
                  <a:pt x="112" y="177"/>
                  <a:pt x="112" y="177"/>
                </a:cubicBezTo>
                <a:cubicBezTo>
                  <a:pt x="112" y="150"/>
                  <a:pt x="112" y="150"/>
                  <a:pt x="112" y="150"/>
                </a:cubicBezTo>
                <a:cubicBezTo>
                  <a:pt x="186" y="150"/>
                  <a:pt x="186" y="150"/>
                  <a:pt x="186" y="150"/>
                </a:cubicBezTo>
                <a:cubicBezTo>
                  <a:pt x="195" y="150"/>
                  <a:pt x="203" y="143"/>
                  <a:pt x="203" y="134"/>
                </a:cubicBezTo>
                <a:cubicBezTo>
                  <a:pt x="203" y="17"/>
                  <a:pt x="203" y="17"/>
                  <a:pt x="203" y="17"/>
                </a:cubicBezTo>
                <a:cubicBezTo>
                  <a:pt x="203" y="8"/>
                  <a:pt x="195" y="0"/>
                  <a:pt x="186" y="0"/>
                </a:cubicBezTo>
                <a:close/>
                <a:moveTo>
                  <a:pt x="91" y="137"/>
                </a:moveTo>
                <a:cubicBezTo>
                  <a:pt x="91" y="133"/>
                  <a:pt x="94" y="129"/>
                  <a:pt x="99" y="129"/>
                </a:cubicBezTo>
                <a:cubicBezTo>
                  <a:pt x="103" y="129"/>
                  <a:pt x="106" y="133"/>
                  <a:pt x="106" y="137"/>
                </a:cubicBezTo>
                <a:cubicBezTo>
                  <a:pt x="106" y="141"/>
                  <a:pt x="103" y="145"/>
                  <a:pt x="99" y="145"/>
                </a:cubicBezTo>
                <a:cubicBezTo>
                  <a:pt x="94" y="145"/>
                  <a:pt x="91" y="141"/>
                  <a:pt x="91" y="137"/>
                </a:cubicBezTo>
                <a:close/>
                <a:moveTo>
                  <a:pt x="194" y="124"/>
                </a:moveTo>
                <a:cubicBezTo>
                  <a:pt x="9" y="124"/>
                  <a:pt x="9" y="124"/>
                  <a:pt x="9" y="124"/>
                </a:cubicBezTo>
                <a:cubicBezTo>
                  <a:pt x="9" y="17"/>
                  <a:pt x="9" y="17"/>
                  <a:pt x="9" y="17"/>
                </a:cubicBezTo>
                <a:cubicBezTo>
                  <a:pt x="194" y="17"/>
                  <a:pt x="194" y="17"/>
                  <a:pt x="194" y="17"/>
                </a:cubicBezTo>
                <a:lnTo>
                  <a:pt x="194" y="124"/>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20" name="Rectangle 11"/>
          <p:cNvSpPr/>
          <p:nvPr/>
        </p:nvSpPr>
        <p:spPr>
          <a:xfrm>
            <a:off x="7575480" y="7623000"/>
            <a:ext cx="47628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1" name="Rectangle 12"/>
          <p:cNvSpPr/>
          <p:nvPr/>
        </p:nvSpPr>
        <p:spPr>
          <a:xfrm>
            <a:off x="7575480" y="6937200"/>
            <a:ext cx="47628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2" name="Rectangle 13"/>
          <p:cNvSpPr/>
          <p:nvPr/>
        </p:nvSpPr>
        <p:spPr>
          <a:xfrm>
            <a:off x="13277880" y="4925880"/>
            <a:ext cx="49536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3" name="Freeform 14"/>
          <p:cNvSpPr/>
          <p:nvPr/>
        </p:nvSpPr>
        <p:spPr>
          <a:xfrm>
            <a:off x="10604520" y="4683240"/>
            <a:ext cx="2376360" cy="3416040"/>
          </a:xfrm>
          <a:custGeom>
            <a:avLst/>
            <a:gdLst/>
            <a:ahLst/>
            <a:rect l="l" t="t" r="r" b="b"/>
            <a:pathLst>
              <a:path w="135" h="194">
                <a:moveTo>
                  <a:pt x="122" y="0"/>
                </a:moveTo>
                <a:cubicBezTo>
                  <a:pt x="14" y="0"/>
                  <a:pt x="14" y="0"/>
                  <a:pt x="14" y="0"/>
                </a:cubicBezTo>
                <a:cubicBezTo>
                  <a:pt x="6" y="0"/>
                  <a:pt x="0" y="7"/>
                  <a:pt x="0" y="14"/>
                </a:cubicBezTo>
                <a:cubicBezTo>
                  <a:pt x="0" y="181"/>
                  <a:pt x="0" y="181"/>
                  <a:pt x="0" y="181"/>
                </a:cubicBezTo>
                <a:cubicBezTo>
                  <a:pt x="0" y="188"/>
                  <a:pt x="6" y="194"/>
                  <a:pt x="14" y="194"/>
                </a:cubicBezTo>
                <a:cubicBezTo>
                  <a:pt x="122" y="194"/>
                  <a:pt x="122" y="194"/>
                  <a:pt x="122" y="194"/>
                </a:cubicBezTo>
                <a:cubicBezTo>
                  <a:pt x="129" y="194"/>
                  <a:pt x="135" y="188"/>
                  <a:pt x="135" y="181"/>
                </a:cubicBezTo>
                <a:cubicBezTo>
                  <a:pt x="135" y="14"/>
                  <a:pt x="135" y="14"/>
                  <a:pt x="135" y="14"/>
                </a:cubicBezTo>
                <a:cubicBezTo>
                  <a:pt x="135" y="7"/>
                  <a:pt x="129" y="0"/>
                  <a:pt x="122" y="0"/>
                </a:cubicBezTo>
                <a:close/>
                <a:moveTo>
                  <a:pt x="68" y="192"/>
                </a:moveTo>
                <a:cubicBezTo>
                  <a:pt x="66" y="192"/>
                  <a:pt x="65" y="191"/>
                  <a:pt x="65" y="189"/>
                </a:cubicBezTo>
                <a:cubicBezTo>
                  <a:pt x="65" y="187"/>
                  <a:pt x="66" y="186"/>
                  <a:pt x="68" y="186"/>
                </a:cubicBezTo>
                <a:cubicBezTo>
                  <a:pt x="70" y="186"/>
                  <a:pt x="71" y="187"/>
                  <a:pt x="71" y="189"/>
                </a:cubicBezTo>
                <a:cubicBezTo>
                  <a:pt x="71" y="191"/>
                  <a:pt x="70" y="192"/>
                  <a:pt x="68" y="192"/>
                </a:cubicBezTo>
                <a:close/>
                <a:moveTo>
                  <a:pt x="129" y="182"/>
                </a:moveTo>
                <a:cubicBezTo>
                  <a:pt x="8" y="182"/>
                  <a:pt x="8" y="182"/>
                  <a:pt x="8" y="182"/>
                </a:cubicBezTo>
                <a:cubicBezTo>
                  <a:pt x="8" y="13"/>
                  <a:pt x="8" y="13"/>
                  <a:pt x="8" y="13"/>
                </a:cubicBezTo>
                <a:cubicBezTo>
                  <a:pt x="129" y="13"/>
                  <a:pt x="129" y="13"/>
                  <a:pt x="129" y="13"/>
                </a:cubicBezTo>
                <a:lnTo>
                  <a:pt x="129" y="18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24" name="Rectangle 15"/>
          <p:cNvSpPr/>
          <p:nvPr/>
        </p:nvSpPr>
        <p:spPr>
          <a:xfrm>
            <a:off x="13277880" y="7623000"/>
            <a:ext cx="49536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5" name="Rectangle 16"/>
          <p:cNvSpPr/>
          <p:nvPr/>
        </p:nvSpPr>
        <p:spPr>
          <a:xfrm>
            <a:off x="13277880" y="6937200"/>
            <a:ext cx="49536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6" name="Rectangle 17"/>
          <p:cNvSpPr/>
          <p:nvPr/>
        </p:nvSpPr>
        <p:spPr>
          <a:xfrm>
            <a:off x="13277880" y="6267600"/>
            <a:ext cx="495360" cy="4921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7" name="Rectangle 18"/>
          <p:cNvSpPr/>
          <p:nvPr/>
        </p:nvSpPr>
        <p:spPr>
          <a:xfrm>
            <a:off x="13277880" y="5597640"/>
            <a:ext cx="495360" cy="49536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8" name="Rectangle 19"/>
          <p:cNvSpPr/>
          <p:nvPr/>
        </p:nvSpPr>
        <p:spPr>
          <a:xfrm>
            <a:off x="18551520" y="5597640"/>
            <a:ext cx="473040" cy="49536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29" name="Rectangle 20"/>
          <p:cNvSpPr/>
          <p:nvPr/>
        </p:nvSpPr>
        <p:spPr>
          <a:xfrm>
            <a:off x="18551520" y="4925880"/>
            <a:ext cx="473040" cy="47628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0" name="Freeform 21"/>
          <p:cNvSpPr/>
          <p:nvPr/>
        </p:nvSpPr>
        <p:spPr>
          <a:xfrm>
            <a:off x="16578360" y="4998960"/>
            <a:ext cx="1638360" cy="3100320"/>
          </a:xfrm>
          <a:custGeom>
            <a:avLst/>
            <a:gdLst/>
            <a:ahLst/>
            <a:rect l="l" t="t" r="r" b="b"/>
            <a:pathLst>
              <a:path w="93" h="176">
                <a:moveTo>
                  <a:pt x="81" y="0"/>
                </a:moveTo>
                <a:cubicBezTo>
                  <a:pt x="12" y="0"/>
                  <a:pt x="12" y="0"/>
                  <a:pt x="12" y="0"/>
                </a:cubicBezTo>
                <a:cubicBezTo>
                  <a:pt x="5" y="0"/>
                  <a:pt x="0" y="5"/>
                  <a:pt x="0" y="12"/>
                </a:cubicBezTo>
                <a:cubicBezTo>
                  <a:pt x="0" y="164"/>
                  <a:pt x="0" y="164"/>
                  <a:pt x="0" y="164"/>
                </a:cubicBezTo>
                <a:cubicBezTo>
                  <a:pt x="0" y="171"/>
                  <a:pt x="5" y="176"/>
                  <a:pt x="12" y="176"/>
                </a:cubicBezTo>
                <a:cubicBezTo>
                  <a:pt x="81" y="176"/>
                  <a:pt x="81" y="176"/>
                  <a:pt x="81" y="176"/>
                </a:cubicBezTo>
                <a:cubicBezTo>
                  <a:pt x="88" y="176"/>
                  <a:pt x="93" y="171"/>
                  <a:pt x="93" y="164"/>
                </a:cubicBezTo>
                <a:cubicBezTo>
                  <a:pt x="93" y="12"/>
                  <a:pt x="93" y="12"/>
                  <a:pt x="93" y="12"/>
                </a:cubicBezTo>
                <a:cubicBezTo>
                  <a:pt x="93" y="5"/>
                  <a:pt x="88" y="0"/>
                  <a:pt x="81" y="0"/>
                </a:cubicBezTo>
                <a:close/>
                <a:moveTo>
                  <a:pt x="35" y="14"/>
                </a:moveTo>
                <a:cubicBezTo>
                  <a:pt x="58" y="14"/>
                  <a:pt x="58" y="14"/>
                  <a:pt x="58" y="14"/>
                </a:cubicBezTo>
                <a:cubicBezTo>
                  <a:pt x="60" y="14"/>
                  <a:pt x="62" y="15"/>
                  <a:pt x="62" y="17"/>
                </a:cubicBezTo>
                <a:cubicBezTo>
                  <a:pt x="62" y="19"/>
                  <a:pt x="60" y="21"/>
                  <a:pt x="58" y="21"/>
                </a:cubicBezTo>
                <a:cubicBezTo>
                  <a:pt x="35" y="21"/>
                  <a:pt x="35" y="21"/>
                  <a:pt x="35" y="21"/>
                </a:cubicBezTo>
                <a:cubicBezTo>
                  <a:pt x="33" y="21"/>
                  <a:pt x="32" y="19"/>
                  <a:pt x="32" y="17"/>
                </a:cubicBezTo>
                <a:cubicBezTo>
                  <a:pt x="32" y="15"/>
                  <a:pt x="33" y="14"/>
                  <a:pt x="35" y="14"/>
                </a:cubicBezTo>
                <a:close/>
                <a:moveTo>
                  <a:pt x="47" y="170"/>
                </a:moveTo>
                <a:cubicBezTo>
                  <a:pt x="41" y="170"/>
                  <a:pt x="37" y="166"/>
                  <a:pt x="37" y="160"/>
                </a:cubicBezTo>
                <a:cubicBezTo>
                  <a:pt x="37" y="155"/>
                  <a:pt x="41" y="151"/>
                  <a:pt x="47" y="151"/>
                </a:cubicBezTo>
                <a:cubicBezTo>
                  <a:pt x="52" y="151"/>
                  <a:pt x="56" y="155"/>
                  <a:pt x="56" y="160"/>
                </a:cubicBezTo>
                <a:cubicBezTo>
                  <a:pt x="56" y="166"/>
                  <a:pt x="52" y="170"/>
                  <a:pt x="47" y="170"/>
                </a:cubicBezTo>
                <a:close/>
                <a:moveTo>
                  <a:pt x="87" y="149"/>
                </a:moveTo>
                <a:cubicBezTo>
                  <a:pt x="7" y="149"/>
                  <a:pt x="7" y="149"/>
                  <a:pt x="7" y="149"/>
                </a:cubicBezTo>
                <a:cubicBezTo>
                  <a:pt x="7" y="28"/>
                  <a:pt x="7" y="28"/>
                  <a:pt x="7" y="28"/>
                </a:cubicBezTo>
                <a:cubicBezTo>
                  <a:pt x="87" y="28"/>
                  <a:pt x="87" y="28"/>
                  <a:pt x="87" y="28"/>
                </a:cubicBezTo>
                <a:lnTo>
                  <a:pt x="87" y="149"/>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31" name="Rectangle 22"/>
          <p:cNvSpPr/>
          <p:nvPr/>
        </p:nvSpPr>
        <p:spPr>
          <a:xfrm>
            <a:off x="18551520" y="7623000"/>
            <a:ext cx="473040" cy="4762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2" name="Rectangle 23"/>
          <p:cNvSpPr/>
          <p:nvPr/>
        </p:nvSpPr>
        <p:spPr>
          <a:xfrm>
            <a:off x="18551520" y="6937200"/>
            <a:ext cx="473040" cy="49248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3" name="Rectangle 24"/>
          <p:cNvSpPr/>
          <p:nvPr/>
        </p:nvSpPr>
        <p:spPr>
          <a:xfrm>
            <a:off x="18551520" y="6267600"/>
            <a:ext cx="473040" cy="49212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34"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MOBILE COMPONENTS</a:t>
            </a:r>
            <a:endParaRPr b="0" lang="en-US" sz="6600" spc="-1" strike="noStrike">
              <a:solidFill>
                <a:srgbClr val="000000"/>
              </a:solidFill>
              <a:latin typeface="Open Sans Light"/>
            </a:endParaRPr>
          </a:p>
        </p:txBody>
      </p:sp>
      <p:sp>
        <p:nvSpPr>
          <p:cNvPr id="2435" name="TextBox 102"/>
          <p:cNvSpPr/>
          <p:nvPr/>
        </p:nvSpPr>
        <p:spPr>
          <a:xfrm flipH="1">
            <a:off x="3776040" y="8686800"/>
            <a:ext cx="43894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1</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6" name="TextBox 103"/>
          <p:cNvSpPr/>
          <p:nvPr/>
        </p:nvSpPr>
        <p:spPr>
          <a:xfrm>
            <a:off x="9995040" y="8686800"/>
            <a:ext cx="43876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2</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7" name="TextBox 104"/>
          <p:cNvSpPr/>
          <p:nvPr/>
        </p:nvSpPr>
        <p:spPr>
          <a:xfrm>
            <a:off x="16395840" y="8686800"/>
            <a:ext cx="4387680" cy="2332080"/>
          </a:xfrm>
          <a:prstGeom prst="rect">
            <a:avLst/>
          </a:prstGeom>
          <a:noFill/>
          <a:ln w="0">
            <a:noFill/>
          </a:ln>
        </p:spPr>
        <p:style>
          <a:lnRef idx="0"/>
          <a:fillRef idx="0"/>
          <a:effectRef idx="0"/>
          <a:fontRef idx="minor"/>
        </p:style>
        <p:txBody>
          <a:bodyPr lIns="0" rIns="0" tIns="0" bIns="0" anchor="t">
            <a:spAutoFit/>
          </a:bodyPr>
          <a:p>
            <a:pPr>
              <a:lnSpc>
                <a:spcPct val="100000"/>
              </a:lnSpc>
              <a:spcBef>
                <a:spcPts val="700"/>
              </a:spcBef>
              <a:tabLst>
                <a:tab algn="l" pos="0"/>
                <a:tab algn="l" pos="1827360"/>
                <a:tab algn="l" pos="3654360"/>
                <a:tab algn="l" pos="5481720"/>
                <a:tab algn="l" pos="7308720"/>
                <a:tab algn="l" pos="9136080"/>
                <a:tab algn="l" pos="10963440"/>
              </a:tabLst>
            </a:pPr>
            <a:r>
              <a:rPr b="1" lang="en-US" sz="2800" spc="-1" strike="noStrike">
                <a:solidFill>
                  <a:srgbClr val="5f5f5f"/>
                </a:solidFill>
                <a:latin typeface="Montserrat Semi Bold"/>
              </a:rPr>
              <a:t>COMPONENT 3</a:t>
            </a:r>
            <a:endParaRPr b="0" lang="en-US" sz="2800" spc="-1" strike="noStrike">
              <a:solidFill>
                <a:srgbClr val="000000"/>
              </a:solidFill>
              <a:latin typeface="Open Sans Light"/>
            </a:endParaRPr>
          </a:p>
          <a:p>
            <a:pPr>
              <a:spcBef>
                <a:spcPts val="601"/>
              </a:spcBef>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rPr>
              <a:t>There are many variations of passages of lorem ipsum available, but the majority suffered alteration some form.</a:t>
            </a:r>
            <a:endParaRPr b="0" lang="en-US" sz="2400" spc="-1" strike="noStrike">
              <a:solidFill>
                <a:srgbClr val="000000"/>
              </a:solidFill>
              <a:latin typeface="Open Sans Light"/>
            </a:endParaRPr>
          </a:p>
        </p:txBody>
      </p:sp>
      <p:sp>
        <p:nvSpPr>
          <p:cNvPr id="2438" name="TextBox 108"/>
          <p:cNvSpPr/>
          <p:nvPr/>
        </p:nvSpPr>
        <p:spPr>
          <a:xfrm flipH="1">
            <a:off x="340920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b2b2b2"/>
                </a:solidFill>
                <a:latin typeface="Montserrat Semi Bold"/>
              </a:rPr>
              <a:t>27</a:t>
            </a:r>
            <a:endParaRPr b="0" lang="en-US" sz="8600" spc="-1" strike="noStrike">
              <a:solidFill>
                <a:srgbClr val="000000"/>
              </a:solidFill>
              <a:latin typeface="Open Sans Light"/>
            </a:endParaRPr>
          </a:p>
        </p:txBody>
      </p:sp>
      <p:sp>
        <p:nvSpPr>
          <p:cNvPr id="2439" name="TextBox 109"/>
          <p:cNvSpPr/>
          <p:nvPr/>
        </p:nvSpPr>
        <p:spPr>
          <a:xfrm flipH="1">
            <a:off x="340920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b2b2b2"/>
                </a:solidFill>
                <a:latin typeface="Open Sans Light"/>
              </a:rPr>
              <a:t>PROJECTS</a:t>
            </a:r>
            <a:endParaRPr b="0" lang="en-US" sz="3800" spc="-1" strike="noStrike">
              <a:solidFill>
                <a:srgbClr val="000000"/>
              </a:solidFill>
              <a:latin typeface="Open Sans Light"/>
            </a:endParaRPr>
          </a:p>
        </p:txBody>
      </p:sp>
      <p:sp>
        <p:nvSpPr>
          <p:cNvPr id="2440" name="TextBox 112"/>
          <p:cNvSpPr/>
          <p:nvPr/>
        </p:nvSpPr>
        <p:spPr>
          <a:xfrm flipH="1">
            <a:off x="963684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d1d1d1"/>
                </a:solidFill>
                <a:latin typeface="Montserrat Semi Bold"/>
              </a:rPr>
              <a:t>15</a:t>
            </a:r>
            <a:endParaRPr b="0" lang="en-US" sz="8600" spc="-1" strike="noStrike">
              <a:solidFill>
                <a:srgbClr val="000000"/>
              </a:solidFill>
              <a:latin typeface="Open Sans Light"/>
            </a:endParaRPr>
          </a:p>
        </p:txBody>
      </p:sp>
      <p:sp>
        <p:nvSpPr>
          <p:cNvPr id="2441" name="TextBox 113"/>
          <p:cNvSpPr/>
          <p:nvPr/>
        </p:nvSpPr>
        <p:spPr>
          <a:xfrm flipH="1">
            <a:off x="963684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d1d1d1"/>
                </a:solidFill>
                <a:latin typeface="Open Sans Light"/>
              </a:rPr>
              <a:t>PROJECTS</a:t>
            </a:r>
            <a:endParaRPr b="0" lang="en-US" sz="3800" spc="-1" strike="noStrike">
              <a:solidFill>
                <a:srgbClr val="000000"/>
              </a:solidFill>
              <a:latin typeface="Open Sans Light"/>
            </a:endParaRPr>
          </a:p>
        </p:txBody>
      </p:sp>
      <p:sp>
        <p:nvSpPr>
          <p:cNvPr id="2442" name="TextBox 115"/>
          <p:cNvSpPr/>
          <p:nvPr/>
        </p:nvSpPr>
        <p:spPr>
          <a:xfrm flipH="1">
            <a:off x="16110720" y="10880640"/>
            <a:ext cx="4389480" cy="1310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149"/>
              </a:spcBef>
              <a:tabLst>
                <a:tab algn="l" pos="0"/>
                <a:tab algn="l" pos="1827360"/>
                <a:tab algn="l" pos="3654360"/>
                <a:tab algn="l" pos="5481720"/>
                <a:tab algn="l" pos="7308720"/>
                <a:tab algn="l" pos="9136080"/>
                <a:tab algn="l" pos="10963440"/>
              </a:tabLst>
            </a:pPr>
            <a:r>
              <a:rPr b="1" lang="en-US" sz="8600" spc="-1" strike="noStrike">
                <a:solidFill>
                  <a:srgbClr val="808080"/>
                </a:solidFill>
                <a:latin typeface="Montserrat Semi Bold"/>
              </a:rPr>
              <a:t>18</a:t>
            </a:r>
            <a:endParaRPr b="0" lang="en-US" sz="8600" spc="-1" strike="noStrike">
              <a:solidFill>
                <a:srgbClr val="000000"/>
              </a:solidFill>
              <a:latin typeface="Open Sans Light"/>
            </a:endParaRPr>
          </a:p>
        </p:txBody>
      </p:sp>
      <p:sp>
        <p:nvSpPr>
          <p:cNvPr id="2443" name="TextBox 116"/>
          <p:cNvSpPr/>
          <p:nvPr/>
        </p:nvSpPr>
        <p:spPr>
          <a:xfrm flipH="1">
            <a:off x="16110720" y="12009600"/>
            <a:ext cx="4389480" cy="579600"/>
          </a:xfrm>
          <a:prstGeom prst="rect">
            <a:avLst/>
          </a:prstGeom>
          <a:noFill/>
          <a:ln w="0">
            <a:noFill/>
          </a:ln>
        </p:spPr>
        <p:style>
          <a:lnRef idx="0"/>
          <a:fillRef idx="0"/>
          <a:effectRef idx="0"/>
          <a:fontRef idx="minor"/>
        </p:style>
        <p:txBody>
          <a:bodyPr lIns="0" rIns="0" tIns="0" bIns="0" anchor="t">
            <a:spAutoFit/>
          </a:bodyPr>
          <a:p>
            <a:pPr algn="ctr">
              <a:spcBef>
                <a:spcPts val="950"/>
              </a:spcBef>
              <a:tabLst>
                <a:tab algn="l" pos="0"/>
                <a:tab algn="l" pos="1827360"/>
                <a:tab algn="l" pos="3654360"/>
                <a:tab algn="l" pos="5481720"/>
                <a:tab algn="l" pos="7308720"/>
                <a:tab algn="l" pos="9136080"/>
                <a:tab algn="l" pos="10963440"/>
              </a:tabLst>
            </a:pPr>
            <a:r>
              <a:rPr b="1" lang="en-US" sz="3800" spc="-1" strike="noStrike">
                <a:solidFill>
                  <a:srgbClr val="5f5f5f"/>
                </a:solidFill>
                <a:latin typeface="Open Sans Light"/>
              </a:rPr>
              <a:t>PROJECTS</a:t>
            </a:r>
            <a:endParaRPr b="0" lang="en-US" sz="3800" spc="-1" strike="noStrike">
              <a:solidFill>
                <a:srgbClr val="000000"/>
              </a:solidFill>
              <a:latin typeface="Open Sans Light"/>
            </a:endParaRPr>
          </a:p>
        </p:txBody>
      </p:sp>
      <p:sp>
        <p:nvSpPr>
          <p:cNvPr id="2444" name="Rectangle 42"/>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45" name="Group 36"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49">
                                  <p:stCondLst>
                                    <p:cond delay="0"/>
                                  </p:stCondLst>
                                  <p:childTnLst>
                                    <p:set>
                                      <p:cBhvr>
                                        <p:cTn id="352" dur="1" fill="hold">
                                          <p:stCondLst>
                                            <p:cond delay="0"/>
                                          </p:stCondLst>
                                        </p:cTn>
                                        <p:tgtEl>
                                          <p:spTgt spid="2445"/>
                                        </p:tgtEl>
                                        <p:attrNameLst>
                                          <p:attrName>style.visibility</p:attrName>
                                        </p:attrNameLst>
                                      </p:cBhvr>
                                      <p:to>
                                        <p:strVal val="visible"/>
                                      </p:to>
                                    </p:set>
                                    <p:anim calcmode="lin" valueType="num">
                                      <p:cBhvr additive="repl">
                                        <p:cTn id="353" dur="500" fill="hold"/>
                                        <p:tgtEl>
                                          <p:spTgt spid="2445"/>
                                        </p:tgtEl>
                                        <p:attrNameLst>
                                          <p:attrName>ppt_w</p:attrName>
                                        </p:attrNameLst>
                                      </p:cBhvr>
                                      <p:tavLst>
                                        <p:tav tm="0">
                                          <p:val>
                                            <p:fltVal val="0"/>
                                          </p:val>
                                        </p:tav>
                                        <p:tav tm="100000">
                                          <p:val>
                                            <p:strVal val="#ppt_w"/>
                                          </p:val>
                                        </p:tav>
                                      </p:tavLst>
                                    </p:anim>
                                    <p:anim calcmode="lin" valueType="num">
                                      <p:cBhvr additive="repl">
                                        <p:cTn id="354" dur="500" fill="hold"/>
                                        <p:tgtEl>
                                          <p:spTgt spid="2445"/>
                                        </p:tgtEl>
                                        <p:attrNameLst>
                                          <p:attrName>ppt_h</p:attrName>
                                        </p:attrNameLst>
                                      </p:cBhvr>
                                      <p:tavLst>
                                        <p:tav tm="0">
                                          <p:val>
                                            <p:fltVal val="0"/>
                                          </p:val>
                                        </p:tav>
                                        <p:tav tm="100000">
                                          <p:val>
                                            <p:strVal val="#ppt_h"/>
                                          </p:val>
                                        </p:tav>
                                      </p:tavLst>
                                    </p:anim>
                                    <p:anim calcmode="lin" valueType="num">
                                      <p:cBhvr additive="repl">
                                        <p:cTn id="355" dur="500" fill="hold"/>
                                        <p:tgtEl>
                                          <p:spTgt spid="2445"/>
                                        </p:tgtEl>
                                        <p:attrNameLst>
                                          <p:attrName>r</p:attrName>
                                        </p:attrNameLst>
                                      </p:cBhvr>
                                      <p:tavLst>
                                        <p:tav tm="0">
                                          <p:val>
                                            <p:strVal val="360"/>
                                          </p:val>
                                        </p:tav>
                                        <p:tav tm="100000">
                                          <p:val>
                                            <p:strVal val="0"/>
                                          </p:val>
                                        </p:tav>
                                      </p:tavLst>
                                    </p:anim>
                                    <p:animEffect filter="fade" transition="in">
                                      <p:cBhvr additive="repl">
                                        <p:cTn id="356" dur="500"/>
                                        <p:tgtEl>
                                          <p:spTgt spid="2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MOBILE COMPONENTS</a:t>
            </a:r>
            <a:endParaRPr b="0" lang="en-US" sz="6600" spc="-1" strike="noStrike">
              <a:solidFill>
                <a:srgbClr val="000000"/>
              </a:solidFill>
              <a:latin typeface="Open Sans Light"/>
            </a:endParaRPr>
          </a:p>
        </p:txBody>
      </p:sp>
      <p:sp>
        <p:nvSpPr>
          <p:cNvPr id="2447" name="TextBox 13"/>
          <p:cNvSpPr/>
          <p:nvPr/>
        </p:nvSpPr>
        <p:spPr>
          <a:xfrm>
            <a:off x="16395840" y="539424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PERFECT CODE</a:t>
            </a:r>
            <a:endParaRPr b="0" lang="en-US" sz="3100" spc="-1" strike="noStrike">
              <a:solidFill>
                <a:srgbClr val="000000"/>
              </a:solidFill>
              <a:latin typeface="Open Sans Light"/>
            </a:endParaRPr>
          </a:p>
        </p:txBody>
      </p:sp>
      <p:sp>
        <p:nvSpPr>
          <p:cNvPr id="2448" name="TextBox 14"/>
          <p:cNvSpPr/>
          <p:nvPr/>
        </p:nvSpPr>
        <p:spPr>
          <a:xfrm>
            <a:off x="16363800" y="585612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49" name="TextBox 15"/>
          <p:cNvSpPr/>
          <p:nvPr/>
        </p:nvSpPr>
        <p:spPr>
          <a:xfrm>
            <a:off x="16395840" y="752472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ALL IS ATTACHED.</a:t>
            </a:r>
            <a:endParaRPr b="0" lang="en-US" sz="3100" spc="-1" strike="noStrike">
              <a:solidFill>
                <a:srgbClr val="000000"/>
              </a:solidFill>
              <a:latin typeface="Open Sans Light"/>
            </a:endParaRPr>
          </a:p>
        </p:txBody>
      </p:sp>
      <p:sp>
        <p:nvSpPr>
          <p:cNvPr id="2450" name="TextBox 16"/>
          <p:cNvSpPr/>
          <p:nvPr/>
        </p:nvSpPr>
        <p:spPr>
          <a:xfrm>
            <a:off x="16363800" y="803124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51" name="TextBox 17"/>
          <p:cNvSpPr/>
          <p:nvPr/>
        </p:nvSpPr>
        <p:spPr>
          <a:xfrm>
            <a:off x="16395840" y="9575640"/>
            <a:ext cx="4157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100" spc="-1" strike="noStrike">
                <a:solidFill>
                  <a:srgbClr val="7f7f7f"/>
                </a:solidFill>
                <a:latin typeface="Montserrat Semi Bold"/>
                <a:ea typeface="Calibri"/>
              </a:rPr>
              <a:t>COMPATIBLITY</a:t>
            </a:r>
            <a:endParaRPr b="0" lang="en-US" sz="3100" spc="-1" strike="noStrike">
              <a:solidFill>
                <a:srgbClr val="000000"/>
              </a:solidFill>
              <a:latin typeface="Open Sans Light"/>
            </a:endParaRPr>
          </a:p>
        </p:txBody>
      </p:sp>
      <p:sp>
        <p:nvSpPr>
          <p:cNvPr id="2452" name="TextBox 18"/>
          <p:cNvSpPr/>
          <p:nvPr/>
        </p:nvSpPr>
        <p:spPr>
          <a:xfrm>
            <a:off x="16363800" y="10034640"/>
            <a:ext cx="5518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a6a6a6"/>
                </a:solidFill>
                <a:latin typeface="Open Sans Light"/>
                <a:ea typeface="Calibri"/>
              </a:rPr>
              <a:t>Lorem ipsum dolor sit amet, consectetur adipisicing elit, sed</a:t>
            </a:r>
            <a:endParaRPr b="0" lang="en-US" sz="2400" spc="-1" strike="noStrike">
              <a:solidFill>
                <a:srgbClr val="000000"/>
              </a:solidFill>
              <a:latin typeface="Open Sans Light"/>
            </a:endParaRPr>
          </a:p>
        </p:txBody>
      </p:sp>
      <p:sp>
        <p:nvSpPr>
          <p:cNvPr id="2453" name="Oval 20"/>
          <p:cNvSpPr/>
          <p:nvPr/>
        </p:nvSpPr>
        <p:spPr>
          <a:xfrm>
            <a:off x="14751000" y="5473800"/>
            <a:ext cx="1433520" cy="1431720"/>
          </a:xfrm>
          <a:prstGeom prst="ellipse">
            <a:avLst/>
          </a:prstGeom>
          <a:solidFill>
            <a:srgbClr val="808080"/>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4" name="Rectangle 21"/>
          <p:cNvSpPr/>
          <p:nvPr/>
        </p:nvSpPr>
        <p:spPr>
          <a:xfrm>
            <a:off x="14706720" y="5585040"/>
            <a:ext cx="1549440" cy="1097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D</a:t>
            </a:r>
            <a:endParaRPr b="0" lang="en-US" sz="7200" spc="-1" strike="noStrike">
              <a:solidFill>
                <a:srgbClr val="000000"/>
              </a:solidFill>
              <a:latin typeface="Open Sans Light"/>
            </a:endParaRPr>
          </a:p>
        </p:txBody>
      </p:sp>
      <p:sp>
        <p:nvSpPr>
          <p:cNvPr id="2455" name="Oval 23"/>
          <p:cNvSpPr/>
          <p:nvPr/>
        </p:nvSpPr>
        <p:spPr>
          <a:xfrm>
            <a:off x="14776560" y="7581960"/>
            <a:ext cx="1431720" cy="1433520"/>
          </a:xfrm>
          <a:prstGeom prst="ellipse">
            <a:avLst/>
          </a:prstGeom>
          <a:solidFill>
            <a:srgbClr val="5f5f5f"/>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6" name="Rectangle 24"/>
          <p:cNvSpPr/>
          <p:nvPr/>
        </p:nvSpPr>
        <p:spPr>
          <a:xfrm>
            <a:off x="14730480" y="7608960"/>
            <a:ext cx="154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b</a:t>
            </a:r>
            <a:endParaRPr b="0" lang="en-US" sz="7200" spc="-1" strike="noStrike">
              <a:solidFill>
                <a:srgbClr val="000000"/>
              </a:solidFill>
              <a:latin typeface="Open Sans Light"/>
            </a:endParaRPr>
          </a:p>
        </p:txBody>
      </p:sp>
      <p:sp>
        <p:nvSpPr>
          <p:cNvPr id="2457" name="Oval 26"/>
          <p:cNvSpPr/>
          <p:nvPr/>
        </p:nvSpPr>
        <p:spPr>
          <a:xfrm>
            <a:off x="14803560" y="9699480"/>
            <a:ext cx="1431720" cy="1433520"/>
          </a:xfrm>
          <a:prstGeom prst="ellipse">
            <a:avLst/>
          </a:prstGeom>
          <a:solidFill>
            <a:srgbClr val="b2b2b2"/>
          </a:solidFill>
          <a:ln w="0">
            <a:noFill/>
          </a:ln>
        </p:spPr>
        <p:style>
          <a:lnRef idx="0"/>
          <a:fillRef idx="0"/>
          <a:effectRef idx="0"/>
          <a:fontRef idx="minor"/>
        </p:style>
        <p:txBody>
          <a:bodyPr lIns="219600" rIns="219600" tIns="109800" bIns="109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458" name="Rectangle 27"/>
          <p:cNvSpPr/>
          <p:nvPr/>
        </p:nvSpPr>
        <p:spPr>
          <a:xfrm>
            <a:off x="14757480" y="9720360"/>
            <a:ext cx="154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7200" spc="-1" strike="noStrike">
                <a:solidFill>
                  <a:srgbClr val="ffffff"/>
                </a:solidFill>
                <a:latin typeface="Sosa Regular"/>
                <a:ea typeface="Sosa Regular"/>
              </a:rPr>
              <a:t>7</a:t>
            </a:r>
            <a:endParaRPr b="0" lang="en-US" sz="7200" spc="-1" strike="noStrike">
              <a:solidFill>
                <a:srgbClr val="000000"/>
              </a:solidFill>
              <a:latin typeface="Open Sans Light"/>
            </a:endParaRPr>
          </a:p>
        </p:txBody>
      </p:sp>
      <p:sp>
        <p:nvSpPr>
          <p:cNvPr id="2459" name="Rectangle 28"/>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460" name="Group 22" descr=""/>
          <p:cNvPicPr/>
          <p:nvPr/>
        </p:nvPicPr>
        <p:blipFill>
          <a:blip r:embed="rId1"/>
          <a:stretch/>
        </p:blipFill>
        <p:spPr>
          <a:xfrm>
            <a:off x="11271240" y="2651040"/>
            <a:ext cx="1828800" cy="111240"/>
          </a:xfrm>
          <a:prstGeom prst="rect">
            <a:avLst/>
          </a:prstGeom>
          <a:ln w="0">
            <a:noFill/>
          </a:ln>
        </p:spPr>
      </p:pic>
      <p:pic>
        <p:nvPicPr>
          <p:cNvPr id="2461" name="" descr=""/>
          <p:cNvPicPr/>
          <p:nvPr/>
        </p:nvPicPr>
        <p:blipFill>
          <a:blip r:embed="rId2"/>
          <a:stretch/>
        </p:blipFill>
        <p:spPr>
          <a:xfrm>
            <a:off x="2735280" y="5538600"/>
            <a:ext cx="8874000" cy="5476680"/>
          </a:xfrm>
          <a:prstGeom prst="rect">
            <a:avLst/>
          </a:prstGeom>
          <a:ln w="0">
            <a:noFill/>
          </a:ln>
        </p:spPr>
      </p:pic>
    </p:spTree>
  </p:cSld>
  <p:transition spd="slow">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49">
                                  <p:stCondLst>
                                    <p:cond delay="0"/>
                                  </p:stCondLst>
                                  <p:childTnLst>
                                    <p:set>
                                      <p:cBhvr>
                                        <p:cTn id="362" dur="1" fill="hold">
                                          <p:stCondLst>
                                            <p:cond delay="0"/>
                                          </p:stCondLst>
                                        </p:cTn>
                                        <p:tgtEl>
                                          <p:spTgt spid="2460"/>
                                        </p:tgtEl>
                                        <p:attrNameLst>
                                          <p:attrName>style.visibility</p:attrName>
                                        </p:attrNameLst>
                                      </p:cBhvr>
                                      <p:to>
                                        <p:strVal val="visible"/>
                                      </p:to>
                                    </p:set>
                                    <p:anim calcmode="lin" valueType="num">
                                      <p:cBhvr additive="repl">
                                        <p:cTn id="363" dur="500" fill="hold"/>
                                        <p:tgtEl>
                                          <p:spTgt spid="2460"/>
                                        </p:tgtEl>
                                        <p:attrNameLst>
                                          <p:attrName>ppt_w</p:attrName>
                                        </p:attrNameLst>
                                      </p:cBhvr>
                                      <p:tavLst>
                                        <p:tav tm="0">
                                          <p:val>
                                            <p:fltVal val="0"/>
                                          </p:val>
                                        </p:tav>
                                        <p:tav tm="100000">
                                          <p:val>
                                            <p:strVal val="#ppt_w"/>
                                          </p:val>
                                        </p:tav>
                                      </p:tavLst>
                                    </p:anim>
                                    <p:anim calcmode="lin" valueType="num">
                                      <p:cBhvr additive="repl">
                                        <p:cTn id="364" dur="500" fill="hold"/>
                                        <p:tgtEl>
                                          <p:spTgt spid="2460"/>
                                        </p:tgtEl>
                                        <p:attrNameLst>
                                          <p:attrName>ppt_h</p:attrName>
                                        </p:attrNameLst>
                                      </p:cBhvr>
                                      <p:tavLst>
                                        <p:tav tm="0">
                                          <p:val>
                                            <p:fltVal val="0"/>
                                          </p:val>
                                        </p:tav>
                                        <p:tav tm="100000">
                                          <p:val>
                                            <p:strVal val="#ppt_h"/>
                                          </p:val>
                                        </p:tav>
                                      </p:tavLst>
                                    </p:anim>
                                    <p:anim calcmode="lin" valueType="num">
                                      <p:cBhvr additive="repl">
                                        <p:cTn id="365" dur="500" fill="hold"/>
                                        <p:tgtEl>
                                          <p:spTgt spid="2460"/>
                                        </p:tgtEl>
                                        <p:attrNameLst>
                                          <p:attrName>r</p:attrName>
                                        </p:attrNameLst>
                                      </p:cBhvr>
                                      <p:tavLst>
                                        <p:tav tm="0">
                                          <p:val>
                                            <p:strVal val="360"/>
                                          </p:val>
                                        </p:tav>
                                        <p:tav tm="100000">
                                          <p:val>
                                            <p:strVal val="0"/>
                                          </p:val>
                                        </p:tav>
                                      </p:tavLst>
                                    </p:anim>
                                    <p:animEffect filter="fade" transition="in">
                                      <p:cBhvr additive="repl">
                                        <p:cTn id="366" dur="500"/>
                                        <p:tgtEl>
                                          <p:spTgt spid="2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Freeform 6"/>
          <p:cNvSpPr/>
          <p:nvPr/>
        </p:nvSpPr>
        <p:spPr>
          <a:xfrm>
            <a:off x="10837800" y="2103480"/>
            <a:ext cx="1820880" cy="1589040"/>
          </a:xfrm>
          <a:custGeom>
            <a:avLst/>
            <a:gdLst/>
            <a:ahLst/>
            <a:rect l="l" t="t" r="r" b="b"/>
            <a:pathLst>
              <a:path w="244" h="213">
                <a:moveTo>
                  <a:pt x="244" y="213"/>
                </a:moveTo>
                <a:lnTo>
                  <a:pt x="123" y="0"/>
                </a:lnTo>
                <a:lnTo>
                  <a:pt x="0" y="213"/>
                </a:lnTo>
                <a:lnTo>
                  <a:pt x="244" y="213"/>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3" name="Freeform 7"/>
          <p:cNvSpPr/>
          <p:nvPr/>
        </p:nvSpPr>
        <p:spPr>
          <a:xfrm>
            <a:off x="8688240" y="5892840"/>
            <a:ext cx="6134400" cy="1530360"/>
          </a:xfrm>
          <a:custGeom>
            <a:avLst/>
            <a:gdLst/>
            <a:ahLst/>
            <a:rect l="l" t="t" r="r" b="b"/>
            <a:pathLst>
              <a:path w="822" h="205">
                <a:moveTo>
                  <a:pt x="118" y="0"/>
                </a:moveTo>
                <a:lnTo>
                  <a:pt x="0" y="205"/>
                </a:lnTo>
                <a:lnTo>
                  <a:pt x="822" y="205"/>
                </a:lnTo>
                <a:lnTo>
                  <a:pt x="704" y="0"/>
                </a:lnTo>
                <a:lnTo>
                  <a:pt x="118" y="0"/>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4" name="Freeform 8"/>
          <p:cNvSpPr/>
          <p:nvPr/>
        </p:nvSpPr>
        <p:spPr>
          <a:xfrm>
            <a:off x="7615080" y="7758000"/>
            <a:ext cx="8282160" cy="1514520"/>
          </a:xfrm>
          <a:custGeom>
            <a:avLst/>
            <a:gdLst/>
            <a:ahLst/>
            <a:rect l="l" t="t" r="r" b="b"/>
            <a:pathLst>
              <a:path w="1110" h="203">
                <a:moveTo>
                  <a:pt x="1110" y="203"/>
                </a:moveTo>
                <a:lnTo>
                  <a:pt x="992" y="0"/>
                </a:lnTo>
                <a:lnTo>
                  <a:pt x="118" y="0"/>
                </a:lnTo>
                <a:lnTo>
                  <a:pt x="0" y="203"/>
                </a:lnTo>
                <a:lnTo>
                  <a:pt x="1110" y="203"/>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5" name="Freeform 9"/>
          <p:cNvSpPr/>
          <p:nvPr/>
        </p:nvSpPr>
        <p:spPr>
          <a:xfrm>
            <a:off x="9763200" y="4027320"/>
            <a:ext cx="3984480" cy="1530360"/>
          </a:xfrm>
          <a:custGeom>
            <a:avLst/>
            <a:gdLst/>
            <a:ahLst/>
            <a:rect l="l" t="t" r="r" b="b"/>
            <a:pathLst>
              <a:path w="534" h="205">
                <a:moveTo>
                  <a:pt x="118" y="0"/>
                </a:moveTo>
                <a:lnTo>
                  <a:pt x="0" y="205"/>
                </a:lnTo>
                <a:lnTo>
                  <a:pt x="534" y="205"/>
                </a:lnTo>
                <a:lnTo>
                  <a:pt x="416" y="0"/>
                </a:lnTo>
                <a:lnTo>
                  <a:pt x="118"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6" name="Freeform 10"/>
          <p:cNvSpPr/>
          <p:nvPr/>
        </p:nvSpPr>
        <p:spPr>
          <a:xfrm>
            <a:off x="6681960" y="9631440"/>
            <a:ext cx="10132920" cy="1245960"/>
          </a:xfrm>
          <a:custGeom>
            <a:avLst/>
            <a:gdLst/>
            <a:ahLst/>
            <a:rect l="l" t="t" r="r" b="b"/>
            <a:pathLst>
              <a:path w="1358" h="167">
                <a:moveTo>
                  <a:pt x="97" y="0"/>
                </a:moveTo>
                <a:lnTo>
                  <a:pt x="0" y="167"/>
                </a:lnTo>
                <a:lnTo>
                  <a:pt x="1358" y="167"/>
                </a:lnTo>
                <a:lnTo>
                  <a:pt x="1261" y="0"/>
                </a:lnTo>
                <a:lnTo>
                  <a:pt x="97"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7" name="Freeform 11"/>
          <p:cNvSpPr/>
          <p:nvPr/>
        </p:nvSpPr>
        <p:spPr>
          <a:xfrm>
            <a:off x="13203360" y="2282760"/>
            <a:ext cx="5073480" cy="1230480"/>
          </a:xfrm>
          <a:custGeom>
            <a:avLst/>
            <a:gdLst/>
            <a:ahLst/>
            <a:rect l="l" t="t" r="r" b="b"/>
            <a:pathLst>
              <a:path w="680" h="165">
                <a:moveTo>
                  <a:pt x="57" y="0"/>
                </a:moveTo>
                <a:lnTo>
                  <a:pt x="57" y="50"/>
                </a:lnTo>
                <a:lnTo>
                  <a:pt x="0" y="83"/>
                </a:lnTo>
                <a:lnTo>
                  <a:pt x="57" y="116"/>
                </a:lnTo>
                <a:lnTo>
                  <a:pt x="57" y="165"/>
                </a:lnTo>
                <a:lnTo>
                  <a:pt x="680" y="165"/>
                </a:lnTo>
                <a:lnTo>
                  <a:pt x="680" y="0"/>
                </a:lnTo>
                <a:lnTo>
                  <a:pt x="57"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8" name="Freeform 35"/>
          <p:cNvSpPr/>
          <p:nvPr/>
        </p:nvSpPr>
        <p:spPr>
          <a:xfrm>
            <a:off x="4197240" y="4079880"/>
            <a:ext cx="5073840" cy="1246320"/>
          </a:xfrm>
          <a:custGeom>
            <a:avLst/>
            <a:gdLst/>
            <a:ahLst/>
            <a:rect l="l" t="t" r="r" b="b"/>
            <a:pathLst>
              <a:path w="680" h="167">
                <a:moveTo>
                  <a:pt x="621" y="0"/>
                </a:moveTo>
                <a:lnTo>
                  <a:pt x="621" y="49"/>
                </a:lnTo>
                <a:lnTo>
                  <a:pt x="680" y="85"/>
                </a:lnTo>
                <a:lnTo>
                  <a:pt x="621" y="118"/>
                </a:lnTo>
                <a:lnTo>
                  <a:pt x="621" y="167"/>
                </a:lnTo>
                <a:lnTo>
                  <a:pt x="0" y="167"/>
                </a:lnTo>
                <a:lnTo>
                  <a:pt x="0" y="0"/>
                </a:lnTo>
                <a:lnTo>
                  <a:pt x="621"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69" name="Freeform 59"/>
          <p:cNvSpPr/>
          <p:nvPr/>
        </p:nvSpPr>
        <p:spPr>
          <a:xfrm>
            <a:off x="15143040" y="5892840"/>
            <a:ext cx="5073840" cy="1231920"/>
          </a:xfrm>
          <a:custGeom>
            <a:avLst/>
            <a:gdLst/>
            <a:ahLst/>
            <a:rect l="l" t="t" r="r" b="b"/>
            <a:pathLst>
              <a:path w="680" h="165">
                <a:moveTo>
                  <a:pt x="59" y="0"/>
                </a:moveTo>
                <a:lnTo>
                  <a:pt x="59" y="50"/>
                </a:lnTo>
                <a:lnTo>
                  <a:pt x="0" y="83"/>
                </a:lnTo>
                <a:lnTo>
                  <a:pt x="59" y="116"/>
                </a:lnTo>
                <a:lnTo>
                  <a:pt x="59" y="165"/>
                </a:lnTo>
                <a:lnTo>
                  <a:pt x="680" y="165"/>
                </a:lnTo>
                <a:lnTo>
                  <a:pt x="680" y="0"/>
                </a:lnTo>
                <a:lnTo>
                  <a:pt x="59" y="0"/>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0" name="Freeform 83"/>
          <p:cNvSpPr/>
          <p:nvPr/>
        </p:nvSpPr>
        <p:spPr>
          <a:xfrm>
            <a:off x="17097480" y="9504360"/>
            <a:ext cx="5073480" cy="1254240"/>
          </a:xfrm>
          <a:custGeom>
            <a:avLst/>
            <a:gdLst/>
            <a:ahLst/>
            <a:rect l="l" t="t" r="r" b="b"/>
            <a:pathLst>
              <a:path w="680" h="168">
                <a:moveTo>
                  <a:pt x="59" y="0"/>
                </a:moveTo>
                <a:lnTo>
                  <a:pt x="59" y="50"/>
                </a:lnTo>
                <a:lnTo>
                  <a:pt x="0" y="83"/>
                </a:lnTo>
                <a:lnTo>
                  <a:pt x="59" y="116"/>
                </a:lnTo>
                <a:lnTo>
                  <a:pt x="59" y="168"/>
                </a:lnTo>
                <a:lnTo>
                  <a:pt x="680" y="168"/>
                </a:lnTo>
                <a:lnTo>
                  <a:pt x="680" y="0"/>
                </a:lnTo>
                <a:lnTo>
                  <a:pt x="59" y="0"/>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1" name="Freeform 107"/>
          <p:cNvSpPr/>
          <p:nvPr/>
        </p:nvSpPr>
        <p:spPr>
          <a:xfrm>
            <a:off x="2235240" y="7691400"/>
            <a:ext cx="5081400" cy="1254240"/>
          </a:xfrm>
          <a:custGeom>
            <a:avLst/>
            <a:gdLst/>
            <a:ahLst/>
            <a:rect l="l" t="t" r="r" b="b"/>
            <a:pathLst>
              <a:path w="681" h="168">
                <a:moveTo>
                  <a:pt x="624" y="0"/>
                </a:moveTo>
                <a:lnTo>
                  <a:pt x="624" y="52"/>
                </a:lnTo>
                <a:lnTo>
                  <a:pt x="681" y="85"/>
                </a:lnTo>
                <a:lnTo>
                  <a:pt x="624" y="118"/>
                </a:lnTo>
                <a:lnTo>
                  <a:pt x="624" y="168"/>
                </a:lnTo>
                <a:lnTo>
                  <a:pt x="0" y="168"/>
                </a:lnTo>
                <a:lnTo>
                  <a:pt x="0" y="0"/>
                </a:lnTo>
                <a:lnTo>
                  <a:pt x="624" y="0"/>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72" name="TextBox 187"/>
          <p:cNvSpPr/>
          <p:nvPr/>
        </p:nvSpPr>
        <p:spPr>
          <a:xfrm>
            <a:off x="2506320" y="639720"/>
            <a:ext cx="53820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STRATEGY MAP</a:t>
            </a:r>
            <a:endParaRPr b="0" lang="en-US" sz="5700" spc="-1" strike="noStrike">
              <a:solidFill>
                <a:srgbClr val="000000"/>
              </a:solidFill>
              <a:latin typeface="Open Sans Light"/>
            </a:endParaRPr>
          </a:p>
        </p:txBody>
      </p:sp>
      <p:sp>
        <p:nvSpPr>
          <p:cNvPr id="2473" name="TextBox 188"/>
          <p:cNvSpPr/>
          <p:nvPr/>
        </p:nvSpPr>
        <p:spPr>
          <a:xfrm>
            <a:off x="13468320" y="2520000"/>
            <a:ext cx="109080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1</a:t>
            </a:r>
            <a:endParaRPr b="0" lang="en-US" sz="4800" spc="-1" strike="noStrike">
              <a:solidFill>
                <a:srgbClr val="000000"/>
              </a:solidFill>
              <a:latin typeface="Open Sans Light"/>
            </a:endParaRPr>
          </a:p>
        </p:txBody>
      </p:sp>
      <p:sp>
        <p:nvSpPr>
          <p:cNvPr id="2474" name="TextBox 189"/>
          <p:cNvSpPr/>
          <p:nvPr/>
        </p:nvSpPr>
        <p:spPr>
          <a:xfrm>
            <a:off x="14749560" y="238608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5" name="TextBox 202"/>
          <p:cNvSpPr/>
          <p:nvPr/>
        </p:nvSpPr>
        <p:spPr>
          <a:xfrm>
            <a:off x="15435360" y="6141240"/>
            <a:ext cx="108900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3</a:t>
            </a:r>
            <a:endParaRPr b="0" lang="en-US" sz="4800" spc="-1" strike="noStrike">
              <a:solidFill>
                <a:srgbClr val="000000"/>
              </a:solidFill>
              <a:latin typeface="Open Sans Light"/>
            </a:endParaRPr>
          </a:p>
        </p:txBody>
      </p:sp>
      <p:sp>
        <p:nvSpPr>
          <p:cNvPr id="2476" name="TextBox 203"/>
          <p:cNvSpPr/>
          <p:nvPr/>
        </p:nvSpPr>
        <p:spPr>
          <a:xfrm>
            <a:off x="16714800" y="600696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7" name="TextBox 204"/>
          <p:cNvSpPr/>
          <p:nvPr/>
        </p:nvSpPr>
        <p:spPr>
          <a:xfrm>
            <a:off x="17382960" y="9761760"/>
            <a:ext cx="108936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5</a:t>
            </a:r>
            <a:endParaRPr b="0" lang="en-US" sz="4800" spc="-1" strike="noStrike">
              <a:solidFill>
                <a:srgbClr val="000000"/>
              </a:solidFill>
              <a:latin typeface="Open Sans Light"/>
            </a:endParaRPr>
          </a:p>
        </p:txBody>
      </p:sp>
      <p:sp>
        <p:nvSpPr>
          <p:cNvPr id="2478" name="TextBox 205"/>
          <p:cNvSpPr/>
          <p:nvPr/>
        </p:nvSpPr>
        <p:spPr>
          <a:xfrm>
            <a:off x="18662760" y="9628200"/>
            <a:ext cx="3475080" cy="960480"/>
          </a:xfrm>
          <a:prstGeom prst="rect">
            <a:avLst/>
          </a:prstGeom>
          <a:noFill/>
          <a:ln w="0">
            <a:noFill/>
          </a:ln>
        </p:spPr>
        <p:style>
          <a:lnRef idx="0"/>
          <a:fillRef idx="0"/>
          <a:effectRef idx="0"/>
          <a:fontRef idx="minor"/>
        </p:style>
        <p:txBody>
          <a:bodyPr lIns="0" rIns="0" tIns="0" bIns="0" anchor="t">
            <a:spAutoFit/>
          </a:bodyPr>
          <a:p>
            <a:pP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79" name="TextBox 206"/>
          <p:cNvSpPr/>
          <p:nvPr/>
        </p:nvSpPr>
        <p:spPr>
          <a:xfrm>
            <a:off x="7569360" y="4330800"/>
            <a:ext cx="109044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2</a:t>
            </a:r>
            <a:endParaRPr b="0" lang="en-US" sz="4800" spc="-1" strike="noStrike">
              <a:solidFill>
                <a:srgbClr val="000000"/>
              </a:solidFill>
              <a:latin typeface="Open Sans Light"/>
            </a:endParaRPr>
          </a:p>
        </p:txBody>
      </p:sp>
      <p:sp>
        <p:nvSpPr>
          <p:cNvPr id="2480" name="TextBox 207"/>
          <p:cNvSpPr/>
          <p:nvPr/>
        </p:nvSpPr>
        <p:spPr>
          <a:xfrm>
            <a:off x="4297320" y="4197240"/>
            <a:ext cx="3475080" cy="960480"/>
          </a:xfrm>
          <a:prstGeom prst="rect">
            <a:avLst/>
          </a:prstGeom>
          <a:noFill/>
          <a:ln w="0">
            <a:noFill/>
          </a:ln>
        </p:spPr>
        <p:style>
          <a:lnRef idx="0"/>
          <a:fillRef idx="0"/>
          <a:effectRef idx="0"/>
          <a:fontRef idx="minor"/>
        </p:style>
        <p:txBody>
          <a:bodyPr lIns="0" rIns="0" tIns="0" bIns="0" anchor="t">
            <a:spAutoFit/>
          </a:bodyPr>
          <a:p>
            <a:pPr algn="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81" name="TextBox 208"/>
          <p:cNvSpPr/>
          <p:nvPr/>
        </p:nvSpPr>
        <p:spPr>
          <a:xfrm>
            <a:off x="5557680" y="7951680"/>
            <a:ext cx="1089360" cy="7315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1827360"/>
                <a:tab algn="l" pos="3654360"/>
                <a:tab algn="l" pos="5481720"/>
                <a:tab algn="l" pos="7308720"/>
                <a:tab algn="l" pos="9136080"/>
                <a:tab algn="l" pos="10963440"/>
              </a:tabLst>
            </a:pPr>
            <a:r>
              <a:rPr b="1" lang="en-US" sz="4800" spc="-1" strike="noStrike">
                <a:solidFill>
                  <a:srgbClr val="ffffff"/>
                </a:solidFill>
                <a:latin typeface="Montserrat Semi Bold"/>
              </a:rPr>
              <a:t>04</a:t>
            </a:r>
            <a:endParaRPr b="0" lang="en-US" sz="4800" spc="-1" strike="noStrike">
              <a:solidFill>
                <a:srgbClr val="000000"/>
              </a:solidFill>
              <a:latin typeface="Open Sans Light"/>
            </a:endParaRPr>
          </a:p>
        </p:txBody>
      </p:sp>
      <p:sp>
        <p:nvSpPr>
          <p:cNvPr id="2482" name="TextBox 209"/>
          <p:cNvSpPr/>
          <p:nvPr/>
        </p:nvSpPr>
        <p:spPr>
          <a:xfrm>
            <a:off x="2286000" y="7818480"/>
            <a:ext cx="3475080" cy="960480"/>
          </a:xfrm>
          <a:prstGeom prst="rect">
            <a:avLst/>
          </a:prstGeom>
          <a:noFill/>
          <a:ln w="0">
            <a:noFill/>
          </a:ln>
        </p:spPr>
        <p:style>
          <a:lnRef idx="0"/>
          <a:fillRef idx="0"/>
          <a:effectRef idx="0"/>
          <a:fontRef idx="minor"/>
        </p:style>
        <p:txBody>
          <a:bodyPr lIns="0" rIns="0" tIns="0" bIns="0" anchor="t">
            <a:spAutoFit/>
          </a:bodyPr>
          <a:p>
            <a:pPr algn="r">
              <a:spcBef>
                <a:spcPts val="524"/>
              </a:spcBef>
              <a:tabLst>
                <a:tab algn="l" pos="0"/>
                <a:tab algn="l" pos="2193840"/>
                <a:tab algn="l" pos="4387680"/>
                <a:tab algn="l" pos="6581880"/>
                <a:tab algn="l" pos="8775720"/>
                <a:tab algn="l" pos="10969560"/>
              </a:tabLst>
            </a:pPr>
            <a:r>
              <a:rPr b="0" lang="en-US" sz="2100" spc="-1" strike="noStrike">
                <a:solidFill>
                  <a:srgbClr val="ffffff"/>
                </a:solidFill>
                <a:latin typeface="Open Sans Light"/>
              </a:rPr>
              <a:t>There are many variations of passages of lorem ipsum available.</a:t>
            </a:r>
            <a:endParaRPr b="0" lang="en-US" sz="2100" spc="-1" strike="noStrike">
              <a:solidFill>
                <a:srgbClr val="000000"/>
              </a:solidFill>
              <a:latin typeface="Open Sans Light"/>
            </a:endParaRPr>
          </a:p>
        </p:txBody>
      </p:sp>
      <p:sp>
        <p:nvSpPr>
          <p:cNvPr id="2483" name="Content Placeholder 3"/>
          <p:cNvSpPr/>
          <p:nvPr/>
        </p:nvSpPr>
        <p:spPr>
          <a:xfrm>
            <a:off x="10919520" y="4297320"/>
            <a:ext cx="162396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GRAPHIC </a:t>
            </a:r>
            <a:br>
              <a:rPr sz="2800"/>
            </a:br>
            <a:r>
              <a:rPr b="0" lang="en-US" sz="2800" spc="-1" strike="noStrike">
                <a:solidFill>
                  <a:srgbClr val="ffffff"/>
                </a:solidFill>
                <a:latin typeface="Montserrat Semi Bold"/>
              </a:rPr>
              <a:t>DESIGN</a:t>
            </a:r>
            <a:endParaRPr b="0" lang="en-US" sz="2800" spc="-1" strike="noStrike">
              <a:solidFill>
                <a:srgbClr val="000000"/>
              </a:solidFill>
              <a:latin typeface="Open Sans Light"/>
            </a:endParaRPr>
          </a:p>
        </p:txBody>
      </p:sp>
      <p:sp>
        <p:nvSpPr>
          <p:cNvPr id="2484" name="Content Placeholder 3"/>
          <p:cNvSpPr/>
          <p:nvPr/>
        </p:nvSpPr>
        <p:spPr>
          <a:xfrm>
            <a:off x="10464120" y="6116760"/>
            <a:ext cx="2535120" cy="942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MOBILE APPS</a:t>
            </a:r>
            <a:endParaRPr b="0" lang="en-US" sz="2800" spc="-1" strike="noStrike">
              <a:solidFill>
                <a:srgbClr val="000000"/>
              </a:solidFill>
              <a:latin typeface="Open Sans Light"/>
            </a:endParaRPr>
          </a:p>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DEVELOPMENT</a:t>
            </a:r>
            <a:endParaRPr b="0" lang="en-US" sz="2800" spc="-1" strike="noStrike">
              <a:solidFill>
                <a:srgbClr val="000000"/>
              </a:solidFill>
              <a:latin typeface="Open Sans Light"/>
            </a:endParaRPr>
          </a:p>
        </p:txBody>
      </p:sp>
      <p:sp>
        <p:nvSpPr>
          <p:cNvPr id="2485" name="Content Placeholder 3"/>
          <p:cNvSpPr/>
          <p:nvPr/>
        </p:nvSpPr>
        <p:spPr>
          <a:xfrm>
            <a:off x="10230840" y="7945560"/>
            <a:ext cx="3003120" cy="942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WEB DESIGN AND</a:t>
            </a:r>
            <a:endParaRPr b="0" lang="en-US" sz="2800" spc="-1" strike="noStrike">
              <a:solidFill>
                <a:srgbClr val="000000"/>
              </a:solidFill>
              <a:latin typeface="Open Sans Light"/>
            </a:endParaRPr>
          </a:p>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DEVELOPMENT</a:t>
            </a:r>
            <a:endParaRPr b="0" lang="en-US" sz="2800" spc="-1" strike="noStrike">
              <a:solidFill>
                <a:srgbClr val="000000"/>
              </a:solidFill>
              <a:latin typeface="Open Sans Light"/>
            </a:endParaRPr>
          </a:p>
        </p:txBody>
      </p:sp>
      <p:sp>
        <p:nvSpPr>
          <p:cNvPr id="2486" name="Content Placeholder 3"/>
          <p:cNvSpPr/>
          <p:nvPr/>
        </p:nvSpPr>
        <p:spPr>
          <a:xfrm>
            <a:off x="9042120" y="9970920"/>
            <a:ext cx="53787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2193840"/>
                <a:tab algn="l" pos="4387680"/>
                <a:tab algn="l" pos="6581880"/>
                <a:tab algn="l" pos="8775720"/>
                <a:tab algn="l" pos="10969560"/>
              </a:tabLst>
            </a:pPr>
            <a:r>
              <a:rPr b="0" lang="en-US" sz="2800" spc="-1" strike="noStrike">
                <a:solidFill>
                  <a:srgbClr val="ffffff"/>
                </a:solidFill>
                <a:latin typeface="Montserrat Semi Bold"/>
              </a:rPr>
              <a:t>SEARCH ENGINE OPTIMIZATION</a:t>
            </a:r>
            <a:endParaRPr b="0" lang="en-US" sz="2800" spc="-1" strike="noStrike">
              <a:solidFill>
                <a:srgbClr val="000000"/>
              </a:solidFill>
              <a:latin typeface="Open Sans Light"/>
            </a:endParaRPr>
          </a:p>
        </p:txBody>
      </p:sp>
      <p:sp>
        <p:nvSpPr>
          <p:cNvPr id="2487" name="Text Placeholder 3"/>
          <p:cNvSpPr/>
          <p:nvPr/>
        </p:nvSpPr>
        <p:spPr>
          <a:xfrm>
            <a:off x="4175280" y="11593440"/>
            <a:ext cx="15112800" cy="13748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2001"/>
              </a:spcBef>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ea typeface="Open Sans Light"/>
              </a:rPr>
              <a:t>Lorem ipsum dolor sit amet, consectetuer adipiscing elit. Aenean commodo ligula eget dolor. Aenean massa. Cum sociis natoque penatibus et magnis dis parturient montes, nascetur ridiculus mus. </a:t>
            </a:r>
            <a:endParaRPr b="0" lang="en-US" sz="2000" spc="-1" strike="noStrike">
              <a:solidFill>
                <a:srgbClr val="000000"/>
              </a:solidFill>
              <a:latin typeface="Open Sans Light"/>
            </a:endParaRPr>
          </a:p>
          <a:p>
            <a:pPr algn="ctr">
              <a:lnSpc>
                <a:spcPct val="90000"/>
              </a:lnSpc>
              <a:spcBef>
                <a:spcPts val="2001"/>
              </a:spcBef>
              <a:tabLst>
                <a:tab algn="l" pos="0"/>
                <a:tab algn="l" pos="1827360"/>
                <a:tab algn="l" pos="3654360"/>
                <a:tab algn="l" pos="5481720"/>
                <a:tab algn="l" pos="7308720"/>
                <a:tab algn="l" pos="9136080"/>
                <a:tab algn="l" pos="10963440"/>
              </a:tabLst>
            </a:pPr>
            <a:r>
              <a:rPr b="0" i="1" lang="en-US" sz="2000" spc="-1" strike="noStrike">
                <a:solidFill>
                  <a:srgbClr val="000000"/>
                </a:solidFill>
                <a:latin typeface="Open Sans Light"/>
                <a:ea typeface="Open Sans Light"/>
              </a:rPr>
              <a:t>Donec quam felis, ultricies nec, pellentesque.</a:t>
            </a:r>
            <a:endParaRPr b="0" lang="en-US" sz="2000" spc="-1" strike="noStrike">
              <a:solidFill>
                <a:srgbClr val="000000"/>
              </a:solidFill>
              <a:latin typeface="Open Sans Light"/>
            </a:endParaRPr>
          </a:p>
          <a:p>
            <a:pPr algn="ctr">
              <a:lnSpc>
                <a:spcPct val="90000"/>
              </a:lnSpc>
              <a:spcBef>
                <a:spcPts val="2001"/>
              </a:spcBef>
              <a:tabLst>
                <a:tab algn="l" pos="0"/>
                <a:tab algn="l" pos="1827360"/>
                <a:tab algn="l" pos="3654360"/>
                <a:tab algn="l" pos="5481720"/>
                <a:tab algn="l" pos="7308720"/>
                <a:tab algn="l" pos="9136080"/>
                <a:tab algn="l" pos="10963440"/>
              </a:tabLst>
            </a:pPr>
            <a:endParaRPr b="0" lang="en-US" sz="2000" spc="-1" strike="noStrike">
              <a:solidFill>
                <a:srgbClr val="000000"/>
              </a:solidFill>
              <a:latin typeface="Open Sans Light"/>
            </a:endParaRPr>
          </a:p>
        </p:txBody>
      </p:sp>
      <p:pic>
        <p:nvPicPr>
          <p:cNvPr id="2488" name="Group 32"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49">
                                  <p:stCondLst>
                                    <p:cond delay="0"/>
                                  </p:stCondLst>
                                  <p:childTnLst>
                                    <p:set>
                                      <p:cBhvr>
                                        <p:cTn id="372" dur="1" fill="hold">
                                          <p:stCondLst>
                                            <p:cond delay="0"/>
                                          </p:stCondLst>
                                        </p:cTn>
                                        <p:tgtEl>
                                          <p:spTgt spid="2488"/>
                                        </p:tgtEl>
                                        <p:attrNameLst>
                                          <p:attrName>style.visibility</p:attrName>
                                        </p:attrNameLst>
                                      </p:cBhvr>
                                      <p:to>
                                        <p:strVal val="visible"/>
                                      </p:to>
                                    </p:set>
                                    <p:anim calcmode="lin" valueType="num">
                                      <p:cBhvr additive="repl">
                                        <p:cTn id="373" dur="500" fill="hold"/>
                                        <p:tgtEl>
                                          <p:spTgt spid="2488"/>
                                        </p:tgtEl>
                                        <p:attrNameLst>
                                          <p:attrName>ppt_w</p:attrName>
                                        </p:attrNameLst>
                                      </p:cBhvr>
                                      <p:tavLst>
                                        <p:tav tm="0">
                                          <p:val>
                                            <p:fltVal val="0"/>
                                          </p:val>
                                        </p:tav>
                                        <p:tav tm="100000">
                                          <p:val>
                                            <p:strVal val="#ppt_w"/>
                                          </p:val>
                                        </p:tav>
                                      </p:tavLst>
                                    </p:anim>
                                    <p:anim calcmode="lin" valueType="num">
                                      <p:cBhvr additive="repl">
                                        <p:cTn id="374" dur="500" fill="hold"/>
                                        <p:tgtEl>
                                          <p:spTgt spid="2488"/>
                                        </p:tgtEl>
                                        <p:attrNameLst>
                                          <p:attrName>ppt_h</p:attrName>
                                        </p:attrNameLst>
                                      </p:cBhvr>
                                      <p:tavLst>
                                        <p:tav tm="0">
                                          <p:val>
                                            <p:fltVal val="0"/>
                                          </p:val>
                                        </p:tav>
                                        <p:tav tm="100000">
                                          <p:val>
                                            <p:strVal val="#ppt_h"/>
                                          </p:val>
                                        </p:tav>
                                      </p:tavLst>
                                    </p:anim>
                                    <p:anim calcmode="lin" valueType="num">
                                      <p:cBhvr additive="repl">
                                        <p:cTn id="375" dur="500" fill="hold"/>
                                        <p:tgtEl>
                                          <p:spTgt spid="2488"/>
                                        </p:tgtEl>
                                        <p:attrNameLst>
                                          <p:attrName>r</p:attrName>
                                        </p:attrNameLst>
                                      </p:cBhvr>
                                      <p:tavLst>
                                        <p:tav tm="0">
                                          <p:val>
                                            <p:strVal val="360"/>
                                          </p:val>
                                        </p:tav>
                                        <p:tav tm="100000">
                                          <p:val>
                                            <p:strVal val="0"/>
                                          </p:val>
                                        </p:tav>
                                      </p:tavLst>
                                    </p:anim>
                                    <p:animEffect filter="fade" transition="in">
                                      <p:cBhvr additive="repl">
                                        <p:cTn id="376" dur="500"/>
                                        <p:tgtEl>
                                          <p:spTgt spid="2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Freeform 1770"/>
          <p:cNvSpPr/>
          <p:nvPr/>
        </p:nvSpPr>
        <p:spPr>
          <a:xfrm>
            <a:off x="12463560" y="5172120"/>
            <a:ext cx="2398680" cy="3101760"/>
          </a:xfrm>
          <a:custGeom>
            <a:avLst/>
            <a:gdLst/>
            <a:ahLst/>
            <a:rect l="l" t="t" r="r" b="b"/>
            <a:pathLst>
              <a:path w="345" h="446">
                <a:moveTo>
                  <a:pt x="222" y="0"/>
                </a:moveTo>
                <a:cubicBezTo>
                  <a:pt x="0" y="223"/>
                  <a:pt x="0" y="223"/>
                  <a:pt x="0" y="223"/>
                </a:cubicBezTo>
                <a:cubicBezTo>
                  <a:pt x="222" y="446"/>
                  <a:pt x="222" y="446"/>
                  <a:pt x="222" y="446"/>
                </a:cubicBezTo>
                <a:cubicBezTo>
                  <a:pt x="345" y="323"/>
                  <a:pt x="345" y="123"/>
                  <a:pt x="222"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0" name="Freeform 1771"/>
          <p:cNvSpPr/>
          <p:nvPr/>
        </p:nvSpPr>
        <p:spPr>
          <a:xfrm>
            <a:off x="10807560" y="6862680"/>
            <a:ext cx="3095640" cy="2405160"/>
          </a:xfrm>
          <a:custGeom>
            <a:avLst/>
            <a:gdLst/>
            <a:ahLst/>
            <a:rect l="l" t="t" r="r" b="b"/>
            <a:pathLst>
              <a:path w="445" h="346">
                <a:moveTo>
                  <a:pt x="445" y="223"/>
                </a:moveTo>
                <a:cubicBezTo>
                  <a:pt x="222" y="0"/>
                  <a:pt x="222" y="0"/>
                  <a:pt x="222" y="0"/>
                </a:cubicBezTo>
                <a:cubicBezTo>
                  <a:pt x="0" y="223"/>
                  <a:pt x="0" y="223"/>
                  <a:pt x="0" y="223"/>
                </a:cubicBezTo>
                <a:cubicBezTo>
                  <a:pt x="123" y="346"/>
                  <a:pt x="322" y="346"/>
                  <a:pt x="445" y="223"/>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1" name="Freeform 1772"/>
          <p:cNvSpPr/>
          <p:nvPr/>
        </p:nvSpPr>
        <p:spPr>
          <a:xfrm>
            <a:off x="9855360" y="5172120"/>
            <a:ext cx="2406600" cy="3101760"/>
          </a:xfrm>
          <a:custGeom>
            <a:avLst/>
            <a:gdLst/>
            <a:ahLst/>
            <a:rect l="l" t="t" r="r" b="b"/>
            <a:pathLst>
              <a:path w="346" h="446">
                <a:moveTo>
                  <a:pt x="123" y="446"/>
                </a:moveTo>
                <a:cubicBezTo>
                  <a:pt x="346" y="223"/>
                  <a:pt x="346" y="223"/>
                  <a:pt x="346" y="223"/>
                </a:cubicBezTo>
                <a:cubicBezTo>
                  <a:pt x="123" y="0"/>
                  <a:pt x="123" y="0"/>
                  <a:pt x="123" y="0"/>
                </a:cubicBezTo>
                <a:cubicBezTo>
                  <a:pt x="0" y="123"/>
                  <a:pt x="0" y="323"/>
                  <a:pt x="123" y="446"/>
                </a:cubicBezTo>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2" name="Freeform 1774"/>
          <p:cNvSpPr/>
          <p:nvPr/>
        </p:nvSpPr>
        <p:spPr>
          <a:xfrm>
            <a:off x="10807560" y="4178160"/>
            <a:ext cx="3095640" cy="2405160"/>
          </a:xfrm>
          <a:custGeom>
            <a:avLst/>
            <a:gdLst/>
            <a:ahLst/>
            <a:rect l="l" t="t" r="r" b="b"/>
            <a:pathLst>
              <a:path w="445" h="346">
                <a:moveTo>
                  <a:pt x="0" y="123"/>
                </a:moveTo>
                <a:cubicBezTo>
                  <a:pt x="222" y="346"/>
                  <a:pt x="222" y="346"/>
                  <a:pt x="222" y="346"/>
                </a:cubicBezTo>
                <a:cubicBezTo>
                  <a:pt x="445" y="123"/>
                  <a:pt x="445" y="123"/>
                  <a:pt x="445" y="123"/>
                </a:cubicBezTo>
                <a:cubicBezTo>
                  <a:pt x="322" y="0"/>
                  <a:pt x="123" y="0"/>
                  <a:pt x="0" y="123"/>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3" name="Freeform 1775"/>
          <p:cNvSpPr/>
          <p:nvPr/>
        </p:nvSpPr>
        <p:spPr>
          <a:xfrm>
            <a:off x="16266960" y="5595840"/>
            <a:ext cx="793800" cy="793800"/>
          </a:xfrm>
          <a:custGeom>
            <a:avLst/>
            <a:gdLst/>
            <a:ahLst/>
            <a:rect l="l" t="t" r="r" b="b"/>
            <a:pathLst>
              <a:path w="114" h="114">
                <a:moveTo>
                  <a:pt x="107" y="67"/>
                </a:moveTo>
                <a:cubicBezTo>
                  <a:pt x="111" y="67"/>
                  <a:pt x="114" y="63"/>
                  <a:pt x="114" y="59"/>
                </a:cubicBezTo>
                <a:cubicBezTo>
                  <a:pt x="114" y="54"/>
                  <a:pt x="114" y="54"/>
                  <a:pt x="114" y="54"/>
                </a:cubicBezTo>
                <a:cubicBezTo>
                  <a:pt x="114" y="50"/>
                  <a:pt x="111" y="47"/>
                  <a:pt x="107" y="47"/>
                </a:cubicBezTo>
                <a:cubicBezTo>
                  <a:pt x="106" y="47"/>
                  <a:pt x="106" y="47"/>
                  <a:pt x="106" y="47"/>
                </a:cubicBezTo>
                <a:cubicBezTo>
                  <a:pt x="102" y="47"/>
                  <a:pt x="98" y="45"/>
                  <a:pt x="97" y="42"/>
                </a:cubicBezTo>
                <a:cubicBezTo>
                  <a:pt x="97" y="40"/>
                  <a:pt x="96" y="32"/>
                  <a:pt x="99" y="29"/>
                </a:cubicBezTo>
                <a:cubicBezTo>
                  <a:pt x="99" y="29"/>
                  <a:pt x="99" y="29"/>
                  <a:pt x="99" y="29"/>
                </a:cubicBezTo>
                <a:cubicBezTo>
                  <a:pt x="102" y="26"/>
                  <a:pt x="102" y="21"/>
                  <a:pt x="99" y="18"/>
                </a:cubicBezTo>
                <a:cubicBezTo>
                  <a:pt x="96" y="15"/>
                  <a:pt x="96" y="15"/>
                  <a:pt x="96" y="15"/>
                </a:cubicBezTo>
                <a:cubicBezTo>
                  <a:pt x="93" y="12"/>
                  <a:pt x="88" y="12"/>
                  <a:pt x="85" y="15"/>
                </a:cubicBezTo>
                <a:cubicBezTo>
                  <a:pt x="85" y="15"/>
                  <a:pt x="85" y="15"/>
                  <a:pt x="85" y="15"/>
                </a:cubicBezTo>
                <a:cubicBezTo>
                  <a:pt x="82" y="18"/>
                  <a:pt x="78" y="19"/>
                  <a:pt x="75" y="18"/>
                </a:cubicBezTo>
                <a:cubicBezTo>
                  <a:pt x="73" y="17"/>
                  <a:pt x="67" y="12"/>
                  <a:pt x="67" y="8"/>
                </a:cubicBezTo>
                <a:cubicBezTo>
                  <a:pt x="67" y="7"/>
                  <a:pt x="67" y="7"/>
                  <a:pt x="67" y="7"/>
                </a:cubicBezTo>
                <a:cubicBezTo>
                  <a:pt x="67" y="3"/>
                  <a:pt x="64" y="0"/>
                  <a:pt x="60" y="0"/>
                </a:cubicBezTo>
                <a:cubicBezTo>
                  <a:pt x="55" y="0"/>
                  <a:pt x="55" y="0"/>
                  <a:pt x="55" y="0"/>
                </a:cubicBezTo>
                <a:cubicBezTo>
                  <a:pt x="51" y="0"/>
                  <a:pt x="47" y="3"/>
                  <a:pt x="47" y="7"/>
                </a:cubicBezTo>
                <a:cubicBezTo>
                  <a:pt x="47" y="8"/>
                  <a:pt x="47" y="8"/>
                  <a:pt x="47" y="8"/>
                </a:cubicBezTo>
                <a:cubicBezTo>
                  <a:pt x="47" y="12"/>
                  <a:pt x="45" y="16"/>
                  <a:pt x="43" y="17"/>
                </a:cubicBezTo>
                <a:cubicBezTo>
                  <a:pt x="40" y="17"/>
                  <a:pt x="32" y="18"/>
                  <a:pt x="29" y="15"/>
                </a:cubicBezTo>
                <a:cubicBezTo>
                  <a:pt x="29" y="15"/>
                  <a:pt x="29" y="15"/>
                  <a:pt x="29" y="15"/>
                </a:cubicBezTo>
                <a:cubicBezTo>
                  <a:pt x="26" y="12"/>
                  <a:pt x="21" y="12"/>
                  <a:pt x="18" y="15"/>
                </a:cubicBezTo>
                <a:cubicBezTo>
                  <a:pt x="15" y="18"/>
                  <a:pt x="15" y="18"/>
                  <a:pt x="15" y="18"/>
                </a:cubicBezTo>
                <a:cubicBezTo>
                  <a:pt x="12" y="21"/>
                  <a:pt x="12" y="26"/>
                  <a:pt x="15" y="29"/>
                </a:cubicBezTo>
                <a:cubicBezTo>
                  <a:pt x="15" y="29"/>
                  <a:pt x="15" y="29"/>
                  <a:pt x="15" y="29"/>
                </a:cubicBezTo>
                <a:cubicBezTo>
                  <a:pt x="18" y="32"/>
                  <a:pt x="20" y="36"/>
                  <a:pt x="19" y="38"/>
                </a:cubicBezTo>
                <a:cubicBezTo>
                  <a:pt x="17" y="41"/>
                  <a:pt x="12" y="47"/>
                  <a:pt x="8" y="47"/>
                </a:cubicBezTo>
                <a:cubicBezTo>
                  <a:pt x="8" y="47"/>
                  <a:pt x="8" y="47"/>
                  <a:pt x="8" y="47"/>
                </a:cubicBezTo>
                <a:cubicBezTo>
                  <a:pt x="3" y="47"/>
                  <a:pt x="0" y="50"/>
                  <a:pt x="0" y="54"/>
                </a:cubicBezTo>
                <a:cubicBezTo>
                  <a:pt x="0" y="59"/>
                  <a:pt x="0" y="59"/>
                  <a:pt x="0" y="59"/>
                </a:cubicBezTo>
                <a:cubicBezTo>
                  <a:pt x="0" y="63"/>
                  <a:pt x="3" y="67"/>
                  <a:pt x="8" y="67"/>
                </a:cubicBezTo>
                <a:cubicBezTo>
                  <a:pt x="8" y="67"/>
                  <a:pt x="8" y="67"/>
                  <a:pt x="8" y="67"/>
                </a:cubicBezTo>
                <a:cubicBezTo>
                  <a:pt x="12" y="67"/>
                  <a:pt x="16" y="69"/>
                  <a:pt x="17" y="71"/>
                </a:cubicBezTo>
                <a:cubicBezTo>
                  <a:pt x="18" y="73"/>
                  <a:pt x="18" y="82"/>
                  <a:pt x="15" y="85"/>
                </a:cubicBezTo>
                <a:cubicBezTo>
                  <a:pt x="15" y="85"/>
                  <a:pt x="15" y="85"/>
                  <a:pt x="15" y="85"/>
                </a:cubicBezTo>
                <a:cubicBezTo>
                  <a:pt x="12" y="88"/>
                  <a:pt x="12" y="93"/>
                  <a:pt x="15" y="95"/>
                </a:cubicBezTo>
                <a:cubicBezTo>
                  <a:pt x="18" y="99"/>
                  <a:pt x="18" y="99"/>
                  <a:pt x="18" y="99"/>
                </a:cubicBezTo>
                <a:cubicBezTo>
                  <a:pt x="21" y="102"/>
                  <a:pt x="26" y="102"/>
                  <a:pt x="29" y="99"/>
                </a:cubicBezTo>
                <a:cubicBezTo>
                  <a:pt x="29" y="99"/>
                  <a:pt x="29" y="99"/>
                  <a:pt x="29" y="99"/>
                </a:cubicBezTo>
                <a:cubicBezTo>
                  <a:pt x="32" y="96"/>
                  <a:pt x="37" y="94"/>
                  <a:pt x="39" y="95"/>
                </a:cubicBezTo>
                <a:cubicBezTo>
                  <a:pt x="41" y="96"/>
                  <a:pt x="47" y="102"/>
                  <a:pt x="47" y="106"/>
                </a:cubicBezTo>
                <a:cubicBezTo>
                  <a:pt x="47" y="106"/>
                  <a:pt x="47" y="106"/>
                  <a:pt x="47" y="106"/>
                </a:cubicBezTo>
                <a:cubicBezTo>
                  <a:pt x="47" y="110"/>
                  <a:pt x="51" y="114"/>
                  <a:pt x="55" y="114"/>
                </a:cubicBezTo>
                <a:cubicBezTo>
                  <a:pt x="60" y="114"/>
                  <a:pt x="60" y="114"/>
                  <a:pt x="60" y="114"/>
                </a:cubicBezTo>
                <a:cubicBezTo>
                  <a:pt x="64" y="114"/>
                  <a:pt x="67" y="110"/>
                  <a:pt x="67" y="106"/>
                </a:cubicBezTo>
                <a:cubicBezTo>
                  <a:pt x="67" y="106"/>
                  <a:pt x="67" y="106"/>
                  <a:pt x="67" y="106"/>
                </a:cubicBezTo>
                <a:cubicBezTo>
                  <a:pt x="67" y="102"/>
                  <a:pt x="69" y="98"/>
                  <a:pt x="71" y="97"/>
                </a:cubicBezTo>
                <a:cubicBezTo>
                  <a:pt x="74" y="96"/>
                  <a:pt x="82" y="96"/>
                  <a:pt x="85" y="99"/>
                </a:cubicBezTo>
                <a:cubicBezTo>
                  <a:pt x="85" y="99"/>
                  <a:pt x="85" y="99"/>
                  <a:pt x="85" y="99"/>
                </a:cubicBezTo>
                <a:cubicBezTo>
                  <a:pt x="88" y="102"/>
                  <a:pt x="93" y="102"/>
                  <a:pt x="96" y="99"/>
                </a:cubicBezTo>
                <a:cubicBezTo>
                  <a:pt x="99" y="95"/>
                  <a:pt x="99" y="95"/>
                  <a:pt x="99" y="95"/>
                </a:cubicBezTo>
                <a:cubicBezTo>
                  <a:pt x="102" y="93"/>
                  <a:pt x="102" y="88"/>
                  <a:pt x="99" y="85"/>
                </a:cubicBezTo>
                <a:cubicBezTo>
                  <a:pt x="99" y="85"/>
                  <a:pt x="99" y="85"/>
                  <a:pt x="99" y="85"/>
                </a:cubicBezTo>
                <a:cubicBezTo>
                  <a:pt x="96" y="82"/>
                  <a:pt x="95" y="77"/>
                  <a:pt x="96" y="75"/>
                </a:cubicBezTo>
                <a:cubicBezTo>
                  <a:pt x="97" y="73"/>
                  <a:pt x="102" y="67"/>
                  <a:pt x="106" y="67"/>
                </a:cubicBezTo>
                <a:lnTo>
                  <a:pt x="107" y="67"/>
                </a:lnTo>
                <a:close/>
                <a:moveTo>
                  <a:pt x="57" y="85"/>
                </a:moveTo>
                <a:cubicBezTo>
                  <a:pt x="41" y="85"/>
                  <a:pt x="29" y="73"/>
                  <a:pt x="29" y="57"/>
                </a:cubicBezTo>
                <a:cubicBezTo>
                  <a:pt x="29" y="41"/>
                  <a:pt x="41" y="28"/>
                  <a:pt x="57" y="28"/>
                </a:cubicBezTo>
                <a:cubicBezTo>
                  <a:pt x="73" y="28"/>
                  <a:pt x="86" y="41"/>
                  <a:pt x="86" y="57"/>
                </a:cubicBezTo>
                <a:cubicBezTo>
                  <a:pt x="86" y="73"/>
                  <a:pt x="73" y="85"/>
                  <a:pt x="57" y="8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4" name="Freeform 1776"/>
          <p:cNvSpPr/>
          <p:nvPr/>
        </p:nvSpPr>
        <p:spPr>
          <a:xfrm>
            <a:off x="16990920" y="5268960"/>
            <a:ext cx="646200" cy="647640"/>
          </a:xfrm>
          <a:custGeom>
            <a:avLst/>
            <a:gdLst/>
            <a:ahLst/>
            <a:rect l="l" t="t" r="r" b="b"/>
            <a:pathLst>
              <a:path w="93" h="93">
                <a:moveTo>
                  <a:pt x="87" y="55"/>
                </a:moveTo>
                <a:cubicBezTo>
                  <a:pt x="90" y="55"/>
                  <a:pt x="93" y="51"/>
                  <a:pt x="93" y="47"/>
                </a:cubicBezTo>
                <a:cubicBezTo>
                  <a:pt x="93" y="46"/>
                  <a:pt x="93" y="46"/>
                  <a:pt x="93" y="46"/>
                </a:cubicBezTo>
                <a:cubicBezTo>
                  <a:pt x="93" y="42"/>
                  <a:pt x="90" y="39"/>
                  <a:pt x="87" y="39"/>
                </a:cubicBezTo>
                <a:cubicBezTo>
                  <a:pt x="83" y="39"/>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5"/>
                  <a:pt x="63" y="16"/>
                  <a:pt x="62" y="15"/>
                </a:cubicBezTo>
                <a:cubicBezTo>
                  <a:pt x="60" y="14"/>
                  <a:pt x="55" y="10"/>
                  <a:pt x="55" y="6"/>
                </a:cubicBezTo>
                <a:cubicBezTo>
                  <a:pt x="55" y="3"/>
                  <a:pt x="51" y="0"/>
                  <a:pt x="47" y="0"/>
                </a:cubicBezTo>
                <a:cubicBezTo>
                  <a:pt x="46" y="0"/>
                  <a:pt x="46" y="0"/>
                  <a:pt x="46" y="0"/>
                </a:cubicBezTo>
                <a:cubicBezTo>
                  <a:pt x="42" y="0"/>
                  <a:pt x="38" y="3"/>
                  <a:pt x="38" y="6"/>
                </a:cubicBezTo>
                <a:cubicBezTo>
                  <a:pt x="38" y="10"/>
                  <a:pt x="37" y="13"/>
                  <a:pt x="35" y="14"/>
                </a:cubicBezTo>
                <a:cubicBezTo>
                  <a:pt x="33" y="14"/>
                  <a:pt x="26" y="15"/>
                  <a:pt x="24" y="12"/>
                </a:cubicBezTo>
                <a:cubicBezTo>
                  <a:pt x="21" y="10"/>
                  <a:pt x="17" y="10"/>
                  <a:pt x="14" y="13"/>
                </a:cubicBezTo>
                <a:cubicBezTo>
                  <a:pt x="13" y="14"/>
                  <a:pt x="13" y="14"/>
                  <a:pt x="13" y="14"/>
                </a:cubicBezTo>
                <a:cubicBezTo>
                  <a:pt x="10" y="17"/>
                  <a:pt x="10" y="21"/>
                  <a:pt x="12" y="24"/>
                </a:cubicBezTo>
                <a:cubicBezTo>
                  <a:pt x="15" y="26"/>
                  <a:pt x="16" y="30"/>
                  <a:pt x="15" y="32"/>
                </a:cubicBezTo>
                <a:cubicBezTo>
                  <a:pt x="14" y="33"/>
                  <a:pt x="10" y="39"/>
                  <a:pt x="6" y="39"/>
                </a:cubicBezTo>
                <a:cubicBezTo>
                  <a:pt x="3" y="39"/>
                  <a:pt x="0" y="42"/>
                  <a:pt x="0" y="46"/>
                </a:cubicBezTo>
                <a:cubicBezTo>
                  <a:pt x="0" y="47"/>
                  <a:pt x="0" y="47"/>
                  <a:pt x="0" y="47"/>
                </a:cubicBezTo>
                <a:cubicBezTo>
                  <a:pt x="0" y="51"/>
                  <a:pt x="3" y="55"/>
                  <a:pt x="6" y="55"/>
                </a:cubicBezTo>
                <a:cubicBezTo>
                  <a:pt x="10" y="55"/>
                  <a:pt x="13" y="56"/>
                  <a:pt x="14" y="58"/>
                </a:cubicBezTo>
                <a:cubicBezTo>
                  <a:pt x="14" y="60"/>
                  <a:pt x="15" y="67"/>
                  <a:pt x="12" y="69"/>
                </a:cubicBezTo>
                <a:cubicBezTo>
                  <a:pt x="10" y="72"/>
                  <a:pt x="10" y="76"/>
                  <a:pt x="13" y="79"/>
                </a:cubicBezTo>
                <a:cubicBezTo>
                  <a:pt x="14" y="80"/>
                  <a:pt x="14" y="80"/>
                  <a:pt x="14" y="80"/>
                </a:cubicBezTo>
                <a:cubicBezTo>
                  <a:pt x="17" y="83"/>
                  <a:pt x="21" y="83"/>
                  <a:pt x="24" y="81"/>
                </a:cubicBezTo>
                <a:cubicBezTo>
                  <a:pt x="26" y="79"/>
                  <a:pt x="30" y="77"/>
                  <a:pt x="31" y="78"/>
                </a:cubicBezTo>
                <a:cubicBezTo>
                  <a:pt x="33" y="79"/>
                  <a:pt x="38" y="84"/>
                  <a:pt x="38" y="87"/>
                </a:cubicBezTo>
                <a:cubicBezTo>
                  <a:pt x="38" y="91"/>
                  <a:pt x="42" y="93"/>
                  <a:pt x="46" y="93"/>
                </a:cubicBezTo>
                <a:cubicBezTo>
                  <a:pt x="47" y="93"/>
                  <a:pt x="47" y="93"/>
                  <a:pt x="47" y="93"/>
                </a:cubicBezTo>
                <a:cubicBezTo>
                  <a:pt x="51" y="93"/>
                  <a:pt x="55" y="91"/>
                  <a:pt x="55" y="87"/>
                </a:cubicBezTo>
                <a:cubicBezTo>
                  <a:pt x="55" y="84"/>
                  <a:pt x="56" y="80"/>
                  <a:pt x="58" y="80"/>
                </a:cubicBezTo>
                <a:cubicBezTo>
                  <a:pt x="60" y="79"/>
                  <a:pt x="67" y="79"/>
                  <a:pt x="69" y="81"/>
                </a:cubicBezTo>
                <a:cubicBezTo>
                  <a:pt x="72" y="83"/>
                  <a:pt x="76" y="83"/>
                  <a:pt x="79" y="80"/>
                </a:cubicBezTo>
                <a:cubicBezTo>
                  <a:pt x="80" y="79"/>
                  <a:pt x="80" y="79"/>
                  <a:pt x="80" y="79"/>
                </a:cubicBezTo>
                <a:cubicBezTo>
                  <a:pt x="83" y="76"/>
                  <a:pt x="83" y="72"/>
                  <a:pt x="81" y="69"/>
                </a:cubicBezTo>
                <a:cubicBezTo>
                  <a:pt x="78" y="67"/>
                  <a:pt x="77" y="64"/>
                  <a:pt x="78" y="62"/>
                </a:cubicBezTo>
                <a:cubicBezTo>
                  <a:pt x="79" y="60"/>
                  <a:pt x="83" y="55"/>
                  <a:pt x="87" y="55"/>
                </a:cubicBezTo>
                <a:close/>
                <a:moveTo>
                  <a:pt x="47" y="70"/>
                </a:moveTo>
                <a:cubicBezTo>
                  <a:pt x="34" y="70"/>
                  <a:pt x="23" y="60"/>
                  <a:pt x="23" y="47"/>
                </a:cubicBezTo>
                <a:cubicBezTo>
                  <a:pt x="23" y="34"/>
                  <a:pt x="34" y="23"/>
                  <a:pt x="47" y="23"/>
                </a:cubicBezTo>
                <a:cubicBezTo>
                  <a:pt x="59" y="23"/>
                  <a:pt x="70" y="34"/>
                  <a:pt x="70" y="47"/>
                </a:cubicBezTo>
                <a:cubicBezTo>
                  <a:pt x="70" y="60"/>
                  <a:pt x="59" y="70"/>
                  <a:pt x="47"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5" name="Freeform 1777"/>
          <p:cNvSpPr/>
          <p:nvPr/>
        </p:nvSpPr>
        <p:spPr>
          <a:xfrm>
            <a:off x="17060760" y="5992920"/>
            <a:ext cx="507960" cy="500040"/>
          </a:xfrm>
          <a:custGeom>
            <a:avLst/>
            <a:gdLst/>
            <a:ahLst/>
            <a:rect l="l" t="t" r="r" b="b"/>
            <a:pathLst>
              <a:path w="73" h="72">
                <a:moveTo>
                  <a:pt x="68" y="42"/>
                </a:moveTo>
                <a:cubicBezTo>
                  <a:pt x="71" y="42"/>
                  <a:pt x="73" y="40"/>
                  <a:pt x="73" y="36"/>
                </a:cubicBezTo>
                <a:cubicBezTo>
                  <a:pt x="73" y="33"/>
                  <a:pt x="71" y="30"/>
                  <a:pt x="68" y="30"/>
                </a:cubicBezTo>
                <a:cubicBezTo>
                  <a:pt x="65" y="30"/>
                  <a:pt x="63" y="29"/>
                  <a:pt x="62" y="27"/>
                </a:cubicBezTo>
                <a:cubicBezTo>
                  <a:pt x="62" y="26"/>
                  <a:pt x="61" y="20"/>
                  <a:pt x="63" y="18"/>
                </a:cubicBezTo>
                <a:cubicBezTo>
                  <a:pt x="65" y="16"/>
                  <a:pt x="65" y="13"/>
                  <a:pt x="62" y="10"/>
                </a:cubicBezTo>
                <a:cubicBezTo>
                  <a:pt x="60" y="8"/>
                  <a:pt x="56" y="7"/>
                  <a:pt x="54" y="9"/>
                </a:cubicBezTo>
                <a:cubicBezTo>
                  <a:pt x="52" y="11"/>
                  <a:pt x="50" y="12"/>
                  <a:pt x="48" y="12"/>
                </a:cubicBezTo>
                <a:cubicBezTo>
                  <a:pt x="47" y="11"/>
                  <a:pt x="43" y="7"/>
                  <a:pt x="43" y="5"/>
                </a:cubicBezTo>
                <a:cubicBezTo>
                  <a:pt x="43" y="2"/>
                  <a:pt x="40" y="0"/>
                  <a:pt x="37" y="0"/>
                </a:cubicBezTo>
                <a:cubicBezTo>
                  <a:pt x="33" y="0"/>
                  <a:pt x="30" y="2"/>
                  <a:pt x="30" y="5"/>
                </a:cubicBezTo>
                <a:cubicBezTo>
                  <a:pt x="30" y="7"/>
                  <a:pt x="29" y="10"/>
                  <a:pt x="27" y="11"/>
                </a:cubicBezTo>
                <a:cubicBezTo>
                  <a:pt x="26" y="11"/>
                  <a:pt x="21" y="11"/>
                  <a:pt x="19" y="9"/>
                </a:cubicBezTo>
                <a:cubicBezTo>
                  <a:pt x="17" y="7"/>
                  <a:pt x="13" y="8"/>
                  <a:pt x="11" y="10"/>
                </a:cubicBezTo>
                <a:cubicBezTo>
                  <a:pt x="8" y="13"/>
                  <a:pt x="8" y="16"/>
                  <a:pt x="10" y="18"/>
                </a:cubicBezTo>
                <a:cubicBezTo>
                  <a:pt x="12" y="20"/>
                  <a:pt x="13" y="23"/>
                  <a:pt x="12" y="24"/>
                </a:cubicBezTo>
                <a:cubicBezTo>
                  <a:pt x="11" y="26"/>
                  <a:pt x="8" y="30"/>
                  <a:pt x="5" y="30"/>
                </a:cubicBezTo>
                <a:cubicBezTo>
                  <a:pt x="2" y="30"/>
                  <a:pt x="0" y="33"/>
                  <a:pt x="0" y="36"/>
                </a:cubicBezTo>
                <a:cubicBezTo>
                  <a:pt x="0" y="40"/>
                  <a:pt x="2" y="42"/>
                  <a:pt x="5" y="42"/>
                </a:cubicBezTo>
                <a:cubicBezTo>
                  <a:pt x="8" y="42"/>
                  <a:pt x="10" y="44"/>
                  <a:pt x="11" y="45"/>
                </a:cubicBezTo>
                <a:cubicBezTo>
                  <a:pt x="11" y="47"/>
                  <a:pt x="12" y="52"/>
                  <a:pt x="10" y="54"/>
                </a:cubicBezTo>
                <a:cubicBezTo>
                  <a:pt x="8" y="56"/>
                  <a:pt x="8" y="59"/>
                  <a:pt x="11" y="62"/>
                </a:cubicBezTo>
                <a:cubicBezTo>
                  <a:pt x="13" y="64"/>
                  <a:pt x="17" y="65"/>
                  <a:pt x="19" y="63"/>
                </a:cubicBezTo>
                <a:cubicBezTo>
                  <a:pt x="21" y="61"/>
                  <a:pt x="23" y="60"/>
                  <a:pt x="25" y="61"/>
                </a:cubicBezTo>
                <a:cubicBezTo>
                  <a:pt x="26" y="61"/>
                  <a:pt x="30" y="65"/>
                  <a:pt x="30" y="68"/>
                </a:cubicBezTo>
                <a:cubicBezTo>
                  <a:pt x="30" y="70"/>
                  <a:pt x="33" y="72"/>
                  <a:pt x="37" y="72"/>
                </a:cubicBezTo>
                <a:cubicBezTo>
                  <a:pt x="40" y="72"/>
                  <a:pt x="43" y="70"/>
                  <a:pt x="43" y="68"/>
                </a:cubicBezTo>
                <a:cubicBezTo>
                  <a:pt x="43" y="65"/>
                  <a:pt x="44" y="62"/>
                  <a:pt x="46" y="62"/>
                </a:cubicBezTo>
                <a:cubicBezTo>
                  <a:pt x="47" y="61"/>
                  <a:pt x="52" y="61"/>
                  <a:pt x="54" y="63"/>
                </a:cubicBezTo>
                <a:cubicBezTo>
                  <a:pt x="56" y="65"/>
                  <a:pt x="60" y="64"/>
                  <a:pt x="62" y="62"/>
                </a:cubicBezTo>
                <a:cubicBezTo>
                  <a:pt x="65" y="59"/>
                  <a:pt x="65" y="56"/>
                  <a:pt x="63" y="54"/>
                </a:cubicBezTo>
                <a:cubicBezTo>
                  <a:pt x="61" y="52"/>
                  <a:pt x="60" y="49"/>
                  <a:pt x="61" y="48"/>
                </a:cubicBezTo>
                <a:cubicBezTo>
                  <a:pt x="62" y="46"/>
                  <a:pt x="65" y="42"/>
                  <a:pt x="68" y="42"/>
                </a:cubicBezTo>
                <a:close/>
                <a:moveTo>
                  <a:pt x="37" y="54"/>
                </a:moveTo>
                <a:cubicBezTo>
                  <a:pt x="26" y="54"/>
                  <a:pt x="18" y="46"/>
                  <a:pt x="18" y="36"/>
                </a:cubicBezTo>
                <a:cubicBezTo>
                  <a:pt x="18" y="26"/>
                  <a:pt x="26" y="18"/>
                  <a:pt x="37" y="18"/>
                </a:cubicBezTo>
                <a:cubicBezTo>
                  <a:pt x="47" y="18"/>
                  <a:pt x="55" y="26"/>
                  <a:pt x="55" y="36"/>
                </a:cubicBezTo>
                <a:cubicBezTo>
                  <a:pt x="55" y="46"/>
                  <a:pt x="47" y="54"/>
                  <a:pt x="37" y="54"/>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6" name="Freeform 1778"/>
          <p:cNvSpPr/>
          <p:nvPr/>
        </p:nvSpPr>
        <p:spPr>
          <a:xfrm>
            <a:off x="16287840" y="5610240"/>
            <a:ext cx="793800" cy="799920"/>
          </a:xfrm>
          <a:custGeom>
            <a:avLst/>
            <a:gdLst/>
            <a:ahLst/>
            <a:rect l="l" t="t" r="r" b="b"/>
            <a:pathLst>
              <a:path w="114" h="115">
                <a:moveTo>
                  <a:pt x="106" y="67"/>
                </a:moveTo>
                <a:cubicBezTo>
                  <a:pt x="111" y="67"/>
                  <a:pt x="114" y="64"/>
                  <a:pt x="114" y="60"/>
                </a:cubicBezTo>
                <a:cubicBezTo>
                  <a:pt x="114" y="55"/>
                  <a:pt x="114" y="55"/>
                  <a:pt x="114" y="55"/>
                </a:cubicBezTo>
                <a:cubicBezTo>
                  <a:pt x="114" y="51"/>
                  <a:pt x="111" y="47"/>
                  <a:pt x="106" y="47"/>
                </a:cubicBezTo>
                <a:cubicBezTo>
                  <a:pt x="106" y="47"/>
                  <a:pt x="106" y="47"/>
                  <a:pt x="106" y="47"/>
                </a:cubicBezTo>
                <a:cubicBezTo>
                  <a:pt x="102" y="47"/>
                  <a:pt x="98" y="45"/>
                  <a:pt x="97" y="43"/>
                </a:cubicBezTo>
                <a:cubicBezTo>
                  <a:pt x="96" y="41"/>
                  <a:pt x="96" y="33"/>
                  <a:pt x="99" y="30"/>
                </a:cubicBezTo>
                <a:cubicBezTo>
                  <a:pt x="99" y="29"/>
                  <a:pt x="99" y="29"/>
                  <a:pt x="99" y="29"/>
                </a:cubicBezTo>
                <a:cubicBezTo>
                  <a:pt x="102" y="27"/>
                  <a:pt x="102" y="22"/>
                  <a:pt x="99" y="19"/>
                </a:cubicBezTo>
                <a:cubicBezTo>
                  <a:pt x="96" y="15"/>
                  <a:pt x="96" y="15"/>
                  <a:pt x="96" y="15"/>
                </a:cubicBezTo>
                <a:cubicBezTo>
                  <a:pt x="93" y="12"/>
                  <a:pt x="88" y="12"/>
                  <a:pt x="85" y="15"/>
                </a:cubicBezTo>
                <a:cubicBezTo>
                  <a:pt x="85" y="16"/>
                  <a:pt x="85" y="16"/>
                  <a:pt x="85" y="16"/>
                </a:cubicBezTo>
                <a:cubicBezTo>
                  <a:pt x="82" y="18"/>
                  <a:pt x="77" y="20"/>
                  <a:pt x="75" y="19"/>
                </a:cubicBezTo>
                <a:cubicBezTo>
                  <a:pt x="73" y="18"/>
                  <a:pt x="67" y="12"/>
                  <a:pt x="67" y="8"/>
                </a:cubicBezTo>
                <a:cubicBezTo>
                  <a:pt x="67" y="8"/>
                  <a:pt x="67" y="8"/>
                  <a:pt x="67" y="8"/>
                </a:cubicBezTo>
                <a:cubicBezTo>
                  <a:pt x="67" y="4"/>
                  <a:pt x="63" y="0"/>
                  <a:pt x="59" y="0"/>
                </a:cubicBezTo>
                <a:cubicBezTo>
                  <a:pt x="54" y="0"/>
                  <a:pt x="54" y="0"/>
                  <a:pt x="54" y="0"/>
                </a:cubicBezTo>
                <a:cubicBezTo>
                  <a:pt x="50" y="0"/>
                  <a:pt x="47" y="4"/>
                  <a:pt x="47" y="8"/>
                </a:cubicBezTo>
                <a:cubicBezTo>
                  <a:pt x="47" y="8"/>
                  <a:pt x="47" y="8"/>
                  <a:pt x="47" y="8"/>
                </a:cubicBezTo>
                <a:cubicBezTo>
                  <a:pt x="47" y="12"/>
                  <a:pt x="45" y="16"/>
                  <a:pt x="43" y="17"/>
                </a:cubicBezTo>
                <a:cubicBezTo>
                  <a:pt x="40" y="18"/>
                  <a:pt x="32" y="18"/>
                  <a:pt x="29" y="16"/>
                </a:cubicBezTo>
                <a:cubicBezTo>
                  <a:pt x="29" y="15"/>
                  <a:pt x="29" y="15"/>
                  <a:pt x="29" y="15"/>
                </a:cubicBezTo>
                <a:cubicBezTo>
                  <a:pt x="26" y="12"/>
                  <a:pt x="21" y="12"/>
                  <a:pt x="18" y="15"/>
                </a:cubicBezTo>
                <a:cubicBezTo>
                  <a:pt x="15" y="19"/>
                  <a:pt x="15" y="19"/>
                  <a:pt x="15" y="19"/>
                </a:cubicBezTo>
                <a:cubicBezTo>
                  <a:pt x="12" y="22"/>
                  <a:pt x="12" y="27"/>
                  <a:pt x="15" y="29"/>
                </a:cubicBezTo>
                <a:cubicBezTo>
                  <a:pt x="15" y="30"/>
                  <a:pt x="15" y="30"/>
                  <a:pt x="15" y="30"/>
                </a:cubicBezTo>
                <a:cubicBezTo>
                  <a:pt x="18" y="33"/>
                  <a:pt x="19" y="37"/>
                  <a:pt x="18" y="39"/>
                </a:cubicBezTo>
                <a:cubicBezTo>
                  <a:pt x="17" y="41"/>
                  <a:pt x="12" y="47"/>
                  <a:pt x="8" y="47"/>
                </a:cubicBezTo>
                <a:cubicBezTo>
                  <a:pt x="7" y="47"/>
                  <a:pt x="7" y="47"/>
                  <a:pt x="7" y="47"/>
                </a:cubicBezTo>
                <a:cubicBezTo>
                  <a:pt x="3" y="47"/>
                  <a:pt x="0" y="51"/>
                  <a:pt x="0" y="55"/>
                </a:cubicBezTo>
                <a:cubicBezTo>
                  <a:pt x="0" y="60"/>
                  <a:pt x="0" y="60"/>
                  <a:pt x="0" y="60"/>
                </a:cubicBezTo>
                <a:cubicBezTo>
                  <a:pt x="0" y="64"/>
                  <a:pt x="3" y="67"/>
                  <a:pt x="7" y="67"/>
                </a:cubicBezTo>
                <a:cubicBezTo>
                  <a:pt x="8" y="67"/>
                  <a:pt x="8" y="67"/>
                  <a:pt x="8" y="67"/>
                </a:cubicBezTo>
                <a:cubicBezTo>
                  <a:pt x="12" y="67"/>
                  <a:pt x="16" y="69"/>
                  <a:pt x="17" y="72"/>
                </a:cubicBezTo>
                <a:cubicBezTo>
                  <a:pt x="17" y="74"/>
                  <a:pt x="18" y="82"/>
                  <a:pt x="15" y="85"/>
                </a:cubicBezTo>
                <a:cubicBezTo>
                  <a:pt x="15" y="85"/>
                  <a:pt x="15" y="85"/>
                  <a:pt x="15" y="85"/>
                </a:cubicBezTo>
                <a:cubicBezTo>
                  <a:pt x="12" y="88"/>
                  <a:pt x="12" y="93"/>
                  <a:pt x="15" y="96"/>
                </a:cubicBezTo>
                <a:cubicBezTo>
                  <a:pt x="18" y="99"/>
                  <a:pt x="18" y="99"/>
                  <a:pt x="18" y="99"/>
                </a:cubicBezTo>
                <a:cubicBezTo>
                  <a:pt x="21" y="102"/>
                  <a:pt x="26" y="102"/>
                  <a:pt x="29" y="100"/>
                </a:cubicBezTo>
                <a:cubicBezTo>
                  <a:pt x="29" y="99"/>
                  <a:pt x="29" y="99"/>
                  <a:pt x="29" y="99"/>
                </a:cubicBezTo>
                <a:cubicBezTo>
                  <a:pt x="32" y="96"/>
                  <a:pt x="36" y="95"/>
                  <a:pt x="38" y="96"/>
                </a:cubicBezTo>
                <a:cubicBezTo>
                  <a:pt x="41" y="97"/>
                  <a:pt x="47" y="102"/>
                  <a:pt x="47" y="107"/>
                </a:cubicBezTo>
                <a:cubicBezTo>
                  <a:pt x="47" y="107"/>
                  <a:pt x="47" y="107"/>
                  <a:pt x="47" y="107"/>
                </a:cubicBezTo>
                <a:cubicBezTo>
                  <a:pt x="47" y="111"/>
                  <a:pt x="50" y="115"/>
                  <a:pt x="54" y="115"/>
                </a:cubicBezTo>
                <a:cubicBezTo>
                  <a:pt x="59" y="115"/>
                  <a:pt x="59" y="115"/>
                  <a:pt x="59" y="115"/>
                </a:cubicBezTo>
                <a:cubicBezTo>
                  <a:pt x="63" y="115"/>
                  <a:pt x="67" y="111"/>
                  <a:pt x="67" y="107"/>
                </a:cubicBezTo>
                <a:cubicBezTo>
                  <a:pt x="67" y="107"/>
                  <a:pt x="67" y="107"/>
                  <a:pt x="67" y="107"/>
                </a:cubicBezTo>
                <a:cubicBezTo>
                  <a:pt x="67" y="102"/>
                  <a:pt x="69" y="98"/>
                  <a:pt x="71" y="98"/>
                </a:cubicBezTo>
                <a:cubicBezTo>
                  <a:pt x="74" y="97"/>
                  <a:pt x="82" y="96"/>
                  <a:pt x="85" y="99"/>
                </a:cubicBezTo>
                <a:cubicBezTo>
                  <a:pt x="85" y="99"/>
                  <a:pt x="85" y="99"/>
                  <a:pt x="85" y="99"/>
                </a:cubicBezTo>
                <a:cubicBezTo>
                  <a:pt x="88" y="102"/>
                  <a:pt x="93" y="102"/>
                  <a:pt x="96" y="100"/>
                </a:cubicBezTo>
                <a:cubicBezTo>
                  <a:pt x="99" y="96"/>
                  <a:pt x="99" y="96"/>
                  <a:pt x="99" y="96"/>
                </a:cubicBezTo>
                <a:cubicBezTo>
                  <a:pt x="102" y="93"/>
                  <a:pt x="102" y="88"/>
                  <a:pt x="99" y="85"/>
                </a:cubicBezTo>
                <a:cubicBezTo>
                  <a:pt x="99" y="85"/>
                  <a:pt x="99" y="85"/>
                  <a:pt x="99" y="85"/>
                </a:cubicBezTo>
                <a:cubicBezTo>
                  <a:pt x="96" y="82"/>
                  <a:pt x="94" y="78"/>
                  <a:pt x="95" y="76"/>
                </a:cubicBezTo>
                <a:cubicBezTo>
                  <a:pt x="97" y="74"/>
                  <a:pt x="102" y="67"/>
                  <a:pt x="106" y="67"/>
                </a:cubicBezTo>
                <a:close/>
                <a:moveTo>
                  <a:pt x="57" y="86"/>
                </a:moveTo>
                <a:cubicBezTo>
                  <a:pt x="41" y="86"/>
                  <a:pt x="28" y="73"/>
                  <a:pt x="28" y="57"/>
                </a:cubicBezTo>
                <a:cubicBezTo>
                  <a:pt x="28" y="42"/>
                  <a:pt x="41" y="29"/>
                  <a:pt x="57" y="29"/>
                </a:cubicBezTo>
                <a:cubicBezTo>
                  <a:pt x="73" y="29"/>
                  <a:pt x="85" y="42"/>
                  <a:pt x="85" y="57"/>
                </a:cubicBezTo>
                <a:cubicBezTo>
                  <a:pt x="85" y="73"/>
                  <a:pt x="73" y="86"/>
                  <a:pt x="57" y="86"/>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7" name="Freeform 1779"/>
          <p:cNvSpPr/>
          <p:nvPr/>
        </p:nvSpPr>
        <p:spPr>
          <a:xfrm>
            <a:off x="17011800" y="5291280"/>
            <a:ext cx="645840" cy="645840"/>
          </a:xfrm>
          <a:custGeom>
            <a:avLst/>
            <a:gdLst/>
            <a:ahLst/>
            <a:rect l="l" t="t" r="r" b="b"/>
            <a:pathLst>
              <a:path w="93" h="93">
                <a:moveTo>
                  <a:pt x="87" y="54"/>
                </a:moveTo>
                <a:cubicBezTo>
                  <a:pt x="90" y="54"/>
                  <a:pt x="93" y="51"/>
                  <a:pt x="93" y="47"/>
                </a:cubicBezTo>
                <a:cubicBezTo>
                  <a:pt x="93" y="46"/>
                  <a:pt x="93" y="46"/>
                  <a:pt x="93" y="46"/>
                </a:cubicBezTo>
                <a:cubicBezTo>
                  <a:pt x="93" y="42"/>
                  <a:pt x="90" y="38"/>
                  <a:pt x="87" y="38"/>
                </a:cubicBezTo>
                <a:cubicBezTo>
                  <a:pt x="83" y="38"/>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4"/>
                  <a:pt x="63" y="16"/>
                  <a:pt x="61" y="15"/>
                </a:cubicBezTo>
                <a:cubicBezTo>
                  <a:pt x="60" y="14"/>
                  <a:pt x="54" y="9"/>
                  <a:pt x="54" y="6"/>
                </a:cubicBezTo>
                <a:cubicBezTo>
                  <a:pt x="54" y="2"/>
                  <a:pt x="51" y="0"/>
                  <a:pt x="47" y="0"/>
                </a:cubicBezTo>
                <a:cubicBezTo>
                  <a:pt x="46" y="0"/>
                  <a:pt x="46" y="0"/>
                  <a:pt x="46" y="0"/>
                </a:cubicBezTo>
                <a:cubicBezTo>
                  <a:pt x="42" y="0"/>
                  <a:pt x="38" y="2"/>
                  <a:pt x="38" y="6"/>
                </a:cubicBezTo>
                <a:cubicBezTo>
                  <a:pt x="38" y="9"/>
                  <a:pt x="37" y="13"/>
                  <a:pt x="35" y="13"/>
                </a:cubicBezTo>
                <a:cubicBezTo>
                  <a:pt x="33" y="14"/>
                  <a:pt x="26" y="14"/>
                  <a:pt x="24" y="12"/>
                </a:cubicBezTo>
                <a:cubicBezTo>
                  <a:pt x="21" y="10"/>
                  <a:pt x="17" y="10"/>
                  <a:pt x="14" y="13"/>
                </a:cubicBezTo>
                <a:cubicBezTo>
                  <a:pt x="13" y="14"/>
                  <a:pt x="13" y="14"/>
                  <a:pt x="13" y="14"/>
                </a:cubicBezTo>
                <a:cubicBezTo>
                  <a:pt x="10" y="17"/>
                  <a:pt x="9" y="21"/>
                  <a:pt x="12" y="24"/>
                </a:cubicBezTo>
                <a:cubicBezTo>
                  <a:pt x="14" y="26"/>
                  <a:pt x="16" y="29"/>
                  <a:pt x="15" y="31"/>
                </a:cubicBezTo>
                <a:cubicBezTo>
                  <a:pt x="14" y="33"/>
                  <a:pt x="9" y="38"/>
                  <a:pt x="6" y="38"/>
                </a:cubicBezTo>
                <a:cubicBezTo>
                  <a:pt x="2" y="38"/>
                  <a:pt x="0" y="42"/>
                  <a:pt x="0" y="46"/>
                </a:cubicBezTo>
                <a:cubicBezTo>
                  <a:pt x="0" y="47"/>
                  <a:pt x="0" y="47"/>
                  <a:pt x="0" y="47"/>
                </a:cubicBezTo>
                <a:cubicBezTo>
                  <a:pt x="0" y="51"/>
                  <a:pt x="2" y="54"/>
                  <a:pt x="6" y="54"/>
                </a:cubicBezTo>
                <a:cubicBezTo>
                  <a:pt x="9" y="54"/>
                  <a:pt x="13" y="56"/>
                  <a:pt x="13" y="58"/>
                </a:cubicBezTo>
                <a:cubicBezTo>
                  <a:pt x="14" y="60"/>
                  <a:pt x="14" y="67"/>
                  <a:pt x="12" y="69"/>
                </a:cubicBezTo>
                <a:cubicBezTo>
                  <a:pt x="9" y="72"/>
                  <a:pt x="10" y="76"/>
                  <a:pt x="13" y="79"/>
                </a:cubicBezTo>
                <a:cubicBezTo>
                  <a:pt x="14" y="80"/>
                  <a:pt x="14" y="80"/>
                  <a:pt x="14" y="80"/>
                </a:cubicBezTo>
                <a:cubicBezTo>
                  <a:pt x="17" y="83"/>
                  <a:pt x="21" y="83"/>
                  <a:pt x="24" y="81"/>
                </a:cubicBezTo>
                <a:cubicBezTo>
                  <a:pt x="26" y="78"/>
                  <a:pt x="29" y="77"/>
                  <a:pt x="31" y="78"/>
                </a:cubicBezTo>
                <a:cubicBezTo>
                  <a:pt x="33" y="79"/>
                  <a:pt x="38" y="83"/>
                  <a:pt x="38" y="87"/>
                </a:cubicBezTo>
                <a:cubicBezTo>
                  <a:pt x="38" y="90"/>
                  <a:pt x="42" y="93"/>
                  <a:pt x="46" y="93"/>
                </a:cubicBezTo>
                <a:cubicBezTo>
                  <a:pt x="47" y="93"/>
                  <a:pt x="47" y="93"/>
                  <a:pt x="47" y="93"/>
                </a:cubicBezTo>
                <a:cubicBezTo>
                  <a:pt x="51" y="93"/>
                  <a:pt x="54" y="90"/>
                  <a:pt x="54" y="87"/>
                </a:cubicBezTo>
                <a:cubicBezTo>
                  <a:pt x="54" y="83"/>
                  <a:pt x="56" y="80"/>
                  <a:pt x="58" y="79"/>
                </a:cubicBezTo>
                <a:cubicBezTo>
                  <a:pt x="60" y="79"/>
                  <a:pt x="67" y="78"/>
                  <a:pt x="69" y="81"/>
                </a:cubicBezTo>
                <a:cubicBezTo>
                  <a:pt x="72" y="83"/>
                  <a:pt x="76" y="83"/>
                  <a:pt x="79" y="80"/>
                </a:cubicBezTo>
                <a:cubicBezTo>
                  <a:pt x="80" y="79"/>
                  <a:pt x="80" y="79"/>
                  <a:pt x="80" y="79"/>
                </a:cubicBezTo>
                <a:cubicBezTo>
                  <a:pt x="83" y="76"/>
                  <a:pt x="83" y="72"/>
                  <a:pt x="81" y="69"/>
                </a:cubicBezTo>
                <a:cubicBezTo>
                  <a:pt x="78" y="67"/>
                  <a:pt x="77" y="63"/>
                  <a:pt x="78" y="61"/>
                </a:cubicBezTo>
                <a:cubicBezTo>
                  <a:pt x="79" y="60"/>
                  <a:pt x="83" y="54"/>
                  <a:pt x="87" y="54"/>
                </a:cubicBezTo>
                <a:close/>
                <a:moveTo>
                  <a:pt x="46" y="70"/>
                </a:moveTo>
                <a:cubicBezTo>
                  <a:pt x="33" y="70"/>
                  <a:pt x="23" y="59"/>
                  <a:pt x="23" y="46"/>
                </a:cubicBezTo>
                <a:cubicBezTo>
                  <a:pt x="23" y="33"/>
                  <a:pt x="33" y="23"/>
                  <a:pt x="46" y="23"/>
                </a:cubicBezTo>
                <a:cubicBezTo>
                  <a:pt x="59" y="23"/>
                  <a:pt x="70" y="33"/>
                  <a:pt x="70" y="46"/>
                </a:cubicBezTo>
                <a:cubicBezTo>
                  <a:pt x="70" y="59"/>
                  <a:pt x="59" y="70"/>
                  <a:pt x="46"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8" name="Freeform 1780"/>
          <p:cNvSpPr/>
          <p:nvPr/>
        </p:nvSpPr>
        <p:spPr>
          <a:xfrm>
            <a:off x="17081640" y="6006960"/>
            <a:ext cx="507960" cy="508320"/>
          </a:xfrm>
          <a:custGeom>
            <a:avLst/>
            <a:gdLst/>
            <a:ahLst/>
            <a:rect l="l" t="t" r="r" b="b"/>
            <a:pathLst>
              <a:path w="73" h="73">
                <a:moveTo>
                  <a:pt x="68" y="43"/>
                </a:moveTo>
                <a:cubicBezTo>
                  <a:pt x="70" y="43"/>
                  <a:pt x="73" y="40"/>
                  <a:pt x="73" y="37"/>
                </a:cubicBezTo>
                <a:cubicBezTo>
                  <a:pt x="73" y="33"/>
                  <a:pt x="70" y="30"/>
                  <a:pt x="68" y="30"/>
                </a:cubicBezTo>
                <a:cubicBezTo>
                  <a:pt x="65" y="30"/>
                  <a:pt x="62" y="29"/>
                  <a:pt x="62" y="28"/>
                </a:cubicBezTo>
                <a:cubicBezTo>
                  <a:pt x="61" y="26"/>
                  <a:pt x="61" y="21"/>
                  <a:pt x="63" y="19"/>
                </a:cubicBezTo>
                <a:cubicBezTo>
                  <a:pt x="65" y="17"/>
                  <a:pt x="64" y="14"/>
                  <a:pt x="62" y="11"/>
                </a:cubicBezTo>
                <a:cubicBezTo>
                  <a:pt x="60" y="9"/>
                  <a:pt x="56" y="8"/>
                  <a:pt x="54" y="10"/>
                </a:cubicBezTo>
                <a:cubicBezTo>
                  <a:pt x="52" y="12"/>
                  <a:pt x="49" y="13"/>
                  <a:pt x="48" y="12"/>
                </a:cubicBezTo>
                <a:cubicBezTo>
                  <a:pt x="47" y="12"/>
                  <a:pt x="43" y="8"/>
                  <a:pt x="43" y="5"/>
                </a:cubicBezTo>
                <a:cubicBezTo>
                  <a:pt x="43" y="3"/>
                  <a:pt x="40" y="0"/>
                  <a:pt x="36" y="0"/>
                </a:cubicBezTo>
                <a:cubicBezTo>
                  <a:pt x="33" y="0"/>
                  <a:pt x="30" y="3"/>
                  <a:pt x="30" y="5"/>
                </a:cubicBezTo>
                <a:cubicBezTo>
                  <a:pt x="30" y="8"/>
                  <a:pt x="29" y="11"/>
                  <a:pt x="27" y="11"/>
                </a:cubicBezTo>
                <a:cubicBezTo>
                  <a:pt x="26" y="12"/>
                  <a:pt x="20" y="12"/>
                  <a:pt x="19" y="10"/>
                </a:cubicBezTo>
                <a:cubicBezTo>
                  <a:pt x="17" y="8"/>
                  <a:pt x="13" y="9"/>
                  <a:pt x="11" y="11"/>
                </a:cubicBezTo>
                <a:cubicBezTo>
                  <a:pt x="8" y="14"/>
                  <a:pt x="8" y="17"/>
                  <a:pt x="10" y="19"/>
                </a:cubicBezTo>
                <a:cubicBezTo>
                  <a:pt x="11" y="21"/>
                  <a:pt x="12" y="24"/>
                  <a:pt x="12" y="25"/>
                </a:cubicBezTo>
                <a:cubicBezTo>
                  <a:pt x="11" y="26"/>
                  <a:pt x="8" y="30"/>
                  <a:pt x="5" y="30"/>
                </a:cubicBezTo>
                <a:cubicBezTo>
                  <a:pt x="2" y="30"/>
                  <a:pt x="0" y="33"/>
                  <a:pt x="0" y="37"/>
                </a:cubicBezTo>
                <a:cubicBezTo>
                  <a:pt x="0" y="40"/>
                  <a:pt x="2" y="43"/>
                  <a:pt x="5" y="43"/>
                </a:cubicBezTo>
                <a:cubicBezTo>
                  <a:pt x="8" y="43"/>
                  <a:pt x="10" y="44"/>
                  <a:pt x="11" y="46"/>
                </a:cubicBezTo>
                <a:cubicBezTo>
                  <a:pt x="11" y="47"/>
                  <a:pt x="11" y="53"/>
                  <a:pt x="10" y="54"/>
                </a:cubicBezTo>
                <a:cubicBezTo>
                  <a:pt x="8" y="56"/>
                  <a:pt x="8" y="60"/>
                  <a:pt x="11" y="62"/>
                </a:cubicBezTo>
                <a:cubicBezTo>
                  <a:pt x="13" y="65"/>
                  <a:pt x="17" y="65"/>
                  <a:pt x="19" y="63"/>
                </a:cubicBezTo>
                <a:cubicBezTo>
                  <a:pt x="20" y="62"/>
                  <a:pt x="23" y="61"/>
                  <a:pt x="25" y="61"/>
                </a:cubicBezTo>
                <a:cubicBezTo>
                  <a:pt x="26" y="62"/>
                  <a:pt x="30" y="65"/>
                  <a:pt x="30" y="68"/>
                </a:cubicBezTo>
                <a:cubicBezTo>
                  <a:pt x="30" y="71"/>
                  <a:pt x="33" y="73"/>
                  <a:pt x="36" y="73"/>
                </a:cubicBezTo>
                <a:cubicBezTo>
                  <a:pt x="40" y="73"/>
                  <a:pt x="43" y="71"/>
                  <a:pt x="43" y="68"/>
                </a:cubicBezTo>
                <a:cubicBezTo>
                  <a:pt x="43" y="65"/>
                  <a:pt x="44" y="63"/>
                  <a:pt x="45" y="62"/>
                </a:cubicBezTo>
                <a:cubicBezTo>
                  <a:pt x="47" y="62"/>
                  <a:pt x="52" y="62"/>
                  <a:pt x="54" y="63"/>
                </a:cubicBezTo>
                <a:cubicBezTo>
                  <a:pt x="56" y="65"/>
                  <a:pt x="60" y="65"/>
                  <a:pt x="62" y="62"/>
                </a:cubicBezTo>
                <a:cubicBezTo>
                  <a:pt x="64" y="60"/>
                  <a:pt x="65" y="56"/>
                  <a:pt x="63" y="54"/>
                </a:cubicBezTo>
                <a:cubicBezTo>
                  <a:pt x="61" y="53"/>
                  <a:pt x="60" y="50"/>
                  <a:pt x="61" y="48"/>
                </a:cubicBezTo>
                <a:cubicBezTo>
                  <a:pt x="62" y="47"/>
                  <a:pt x="65" y="43"/>
                  <a:pt x="68" y="43"/>
                </a:cubicBezTo>
                <a:close/>
                <a:moveTo>
                  <a:pt x="36" y="55"/>
                </a:moveTo>
                <a:cubicBezTo>
                  <a:pt x="26" y="55"/>
                  <a:pt x="18" y="47"/>
                  <a:pt x="18" y="37"/>
                </a:cubicBezTo>
                <a:cubicBezTo>
                  <a:pt x="18" y="27"/>
                  <a:pt x="26" y="19"/>
                  <a:pt x="36" y="19"/>
                </a:cubicBezTo>
                <a:cubicBezTo>
                  <a:pt x="46" y="19"/>
                  <a:pt x="54" y="27"/>
                  <a:pt x="54" y="37"/>
                </a:cubicBezTo>
                <a:cubicBezTo>
                  <a:pt x="54" y="47"/>
                  <a:pt x="46" y="55"/>
                  <a:pt x="36" y="5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499" name="Freeform 1781"/>
          <p:cNvSpPr/>
          <p:nvPr/>
        </p:nvSpPr>
        <p:spPr>
          <a:xfrm>
            <a:off x="16266960" y="5595840"/>
            <a:ext cx="793800" cy="793800"/>
          </a:xfrm>
          <a:custGeom>
            <a:avLst/>
            <a:gdLst/>
            <a:ahLst/>
            <a:rect l="l" t="t" r="r" b="b"/>
            <a:pathLst>
              <a:path w="114" h="114">
                <a:moveTo>
                  <a:pt x="107" y="67"/>
                </a:moveTo>
                <a:cubicBezTo>
                  <a:pt x="111" y="67"/>
                  <a:pt x="114" y="63"/>
                  <a:pt x="114" y="59"/>
                </a:cubicBezTo>
                <a:cubicBezTo>
                  <a:pt x="114" y="54"/>
                  <a:pt x="114" y="54"/>
                  <a:pt x="114" y="54"/>
                </a:cubicBezTo>
                <a:cubicBezTo>
                  <a:pt x="114" y="50"/>
                  <a:pt x="111" y="47"/>
                  <a:pt x="107" y="47"/>
                </a:cubicBezTo>
                <a:cubicBezTo>
                  <a:pt x="106" y="47"/>
                  <a:pt x="106" y="47"/>
                  <a:pt x="106" y="47"/>
                </a:cubicBezTo>
                <a:cubicBezTo>
                  <a:pt x="102" y="47"/>
                  <a:pt x="98" y="45"/>
                  <a:pt x="97" y="42"/>
                </a:cubicBezTo>
                <a:cubicBezTo>
                  <a:pt x="97" y="40"/>
                  <a:pt x="96" y="32"/>
                  <a:pt x="99" y="29"/>
                </a:cubicBezTo>
                <a:cubicBezTo>
                  <a:pt x="99" y="29"/>
                  <a:pt x="99" y="29"/>
                  <a:pt x="99" y="29"/>
                </a:cubicBezTo>
                <a:cubicBezTo>
                  <a:pt x="102" y="26"/>
                  <a:pt x="102" y="21"/>
                  <a:pt x="99" y="18"/>
                </a:cubicBezTo>
                <a:cubicBezTo>
                  <a:pt x="96" y="15"/>
                  <a:pt x="96" y="15"/>
                  <a:pt x="96" y="15"/>
                </a:cubicBezTo>
                <a:cubicBezTo>
                  <a:pt x="93" y="12"/>
                  <a:pt x="88" y="12"/>
                  <a:pt x="85" y="15"/>
                </a:cubicBezTo>
                <a:cubicBezTo>
                  <a:pt x="85" y="15"/>
                  <a:pt x="85" y="15"/>
                  <a:pt x="85" y="15"/>
                </a:cubicBezTo>
                <a:cubicBezTo>
                  <a:pt x="82" y="18"/>
                  <a:pt x="78" y="19"/>
                  <a:pt x="75" y="18"/>
                </a:cubicBezTo>
                <a:cubicBezTo>
                  <a:pt x="73" y="17"/>
                  <a:pt x="67" y="12"/>
                  <a:pt x="67" y="8"/>
                </a:cubicBezTo>
                <a:cubicBezTo>
                  <a:pt x="67" y="7"/>
                  <a:pt x="67" y="7"/>
                  <a:pt x="67" y="7"/>
                </a:cubicBezTo>
                <a:cubicBezTo>
                  <a:pt x="67" y="3"/>
                  <a:pt x="64" y="0"/>
                  <a:pt x="60" y="0"/>
                </a:cubicBezTo>
                <a:cubicBezTo>
                  <a:pt x="55" y="0"/>
                  <a:pt x="55" y="0"/>
                  <a:pt x="55" y="0"/>
                </a:cubicBezTo>
                <a:cubicBezTo>
                  <a:pt x="51" y="0"/>
                  <a:pt x="47" y="3"/>
                  <a:pt x="47" y="7"/>
                </a:cubicBezTo>
                <a:cubicBezTo>
                  <a:pt x="47" y="8"/>
                  <a:pt x="47" y="8"/>
                  <a:pt x="47" y="8"/>
                </a:cubicBezTo>
                <a:cubicBezTo>
                  <a:pt x="47" y="12"/>
                  <a:pt x="45" y="16"/>
                  <a:pt x="43" y="17"/>
                </a:cubicBezTo>
                <a:cubicBezTo>
                  <a:pt x="40" y="17"/>
                  <a:pt x="32" y="18"/>
                  <a:pt x="29" y="15"/>
                </a:cubicBezTo>
                <a:cubicBezTo>
                  <a:pt x="29" y="15"/>
                  <a:pt x="29" y="15"/>
                  <a:pt x="29" y="15"/>
                </a:cubicBezTo>
                <a:cubicBezTo>
                  <a:pt x="26" y="12"/>
                  <a:pt x="21" y="12"/>
                  <a:pt x="18" y="15"/>
                </a:cubicBezTo>
                <a:cubicBezTo>
                  <a:pt x="15" y="18"/>
                  <a:pt x="15" y="18"/>
                  <a:pt x="15" y="18"/>
                </a:cubicBezTo>
                <a:cubicBezTo>
                  <a:pt x="12" y="21"/>
                  <a:pt x="12" y="26"/>
                  <a:pt x="15" y="29"/>
                </a:cubicBezTo>
                <a:cubicBezTo>
                  <a:pt x="15" y="29"/>
                  <a:pt x="15" y="29"/>
                  <a:pt x="15" y="29"/>
                </a:cubicBezTo>
                <a:cubicBezTo>
                  <a:pt x="18" y="32"/>
                  <a:pt x="20" y="36"/>
                  <a:pt x="19" y="38"/>
                </a:cubicBezTo>
                <a:cubicBezTo>
                  <a:pt x="17" y="41"/>
                  <a:pt x="12" y="47"/>
                  <a:pt x="8" y="47"/>
                </a:cubicBezTo>
                <a:cubicBezTo>
                  <a:pt x="8" y="47"/>
                  <a:pt x="8" y="47"/>
                  <a:pt x="8" y="47"/>
                </a:cubicBezTo>
                <a:cubicBezTo>
                  <a:pt x="3" y="47"/>
                  <a:pt x="0" y="50"/>
                  <a:pt x="0" y="54"/>
                </a:cubicBezTo>
                <a:cubicBezTo>
                  <a:pt x="0" y="59"/>
                  <a:pt x="0" y="59"/>
                  <a:pt x="0" y="59"/>
                </a:cubicBezTo>
                <a:cubicBezTo>
                  <a:pt x="0" y="63"/>
                  <a:pt x="3" y="67"/>
                  <a:pt x="8" y="67"/>
                </a:cubicBezTo>
                <a:cubicBezTo>
                  <a:pt x="8" y="67"/>
                  <a:pt x="8" y="67"/>
                  <a:pt x="8" y="67"/>
                </a:cubicBezTo>
                <a:cubicBezTo>
                  <a:pt x="12" y="67"/>
                  <a:pt x="16" y="69"/>
                  <a:pt x="17" y="71"/>
                </a:cubicBezTo>
                <a:cubicBezTo>
                  <a:pt x="18" y="73"/>
                  <a:pt x="18" y="82"/>
                  <a:pt x="15" y="85"/>
                </a:cubicBezTo>
                <a:cubicBezTo>
                  <a:pt x="15" y="85"/>
                  <a:pt x="15" y="85"/>
                  <a:pt x="15" y="85"/>
                </a:cubicBezTo>
                <a:cubicBezTo>
                  <a:pt x="12" y="88"/>
                  <a:pt x="12" y="93"/>
                  <a:pt x="15" y="95"/>
                </a:cubicBezTo>
                <a:cubicBezTo>
                  <a:pt x="18" y="99"/>
                  <a:pt x="18" y="99"/>
                  <a:pt x="18" y="99"/>
                </a:cubicBezTo>
                <a:cubicBezTo>
                  <a:pt x="21" y="102"/>
                  <a:pt x="26" y="102"/>
                  <a:pt x="29" y="99"/>
                </a:cubicBezTo>
                <a:cubicBezTo>
                  <a:pt x="29" y="99"/>
                  <a:pt x="29" y="99"/>
                  <a:pt x="29" y="99"/>
                </a:cubicBezTo>
                <a:cubicBezTo>
                  <a:pt x="32" y="96"/>
                  <a:pt x="37" y="94"/>
                  <a:pt x="39" y="95"/>
                </a:cubicBezTo>
                <a:cubicBezTo>
                  <a:pt x="41" y="96"/>
                  <a:pt x="47" y="102"/>
                  <a:pt x="47" y="106"/>
                </a:cubicBezTo>
                <a:cubicBezTo>
                  <a:pt x="47" y="106"/>
                  <a:pt x="47" y="106"/>
                  <a:pt x="47" y="106"/>
                </a:cubicBezTo>
                <a:cubicBezTo>
                  <a:pt x="47" y="110"/>
                  <a:pt x="51" y="114"/>
                  <a:pt x="55" y="114"/>
                </a:cubicBezTo>
                <a:cubicBezTo>
                  <a:pt x="60" y="114"/>
                  <a:pt x="60" y="114"/>
                  <a:pt x="60" y="114"/>
                </a:cubicBezTo>
                <a:cubicBezTo>
                  <a:pt x="64" y="114"/>
                  <a:pt x="67" y="110"/>
                  <a:pt x="67" y="106"/>
                </a:cubicBezTo>
                <a:cubicBezTo>
                  <a:pt x="67" y="106"/>
                  <a:pt x="67" y="106"/>
                  <a:pt x="67" y="106"/>
                </a:cubicBezTo>
                <a:cubicBezTo>
                  <a:pt x="67" y="102"/>
                  <a:pt x="69" y="98"/>
                  <a:pt x="71" y="97"/>
                </a:cubicBezTo>
                <a:cubicBezTo>
                  <a:pt x="74" y="96"/>
                  <a:pt x="82" y="96"/>
                  <a:pt x="85" y="99"/>
                </a:cubicBezTo>
                <a:cubicBezTo>
                  <a:pt x="85" y="99"/>
                  <a:pt x="85" y="99"/>
                  <a:pt x="85" y="99"/>
                </a:cubicBezTo>
                <a:cubicBezTo>
                  <a:pt x="88" y="102"/>
                  <a:pt x="93" y="102"/>
                  <a:pt x="96" y="99"/>
                </a:cubicBezTo>
                <a:cubicBezTo>
                  <a:pt x="99" y="95"/>
                  <a:pt x="99" y="95"/>
                  <a:pt x="99" y="95"/>
                </a:cubicBezTo>
                <a:cubicBezTo>
                  <a:pt x="102" y="93"/>
                  <a:pt x="102" y="88"/>
                  <a:pt x="99" y="85"/>
                </a:cubicBezTo>
                <a:cubicBezTo>
                  <a:pt x="99" y="85"/>
                  <a:pt x="99" y="85"/>
                  <a:pt x="99" y="85"/>
                </a:cubicBezTo>
                <a:cubicBezTo>
                  <a:pt x="96" y="82"/>
                  <a:pt x="95" y="77"/>
                  <a:pt x="96" y="75"/>
                </a:cubicBezTo>
                <a:cubicBezTo>
                  <a:pt x="97" y="73"/>
                  <a:pt x="102" y="67"/>
                  <a:pt x="106" y="67"/>
                </a:cubicBezTo>
                <a:lnTo>
                  <a:pt x="107" y="67"/>
                </a:lnTo>
                <a:close/>
                <a:moveTo>
                  <a:pt x="57" y="85"/>
                </a:moveTo>
                <a:cubicBezTo>
                  <a:pt x="41" y="85"/>
                  <a:pt x="29" y="73"/>
                  <a:pt x="29" y="57"/>
                </a:cubicBezTo>
                <a:cubicBezTo>
                  <a:pt x="29" y="41"/>
                  <a:pt x="41" y="28"/>
                  <a:pt x="57" y="28"/>
                </a:cubicBezTo>
                <a:cubicBezTo>
                  <a:pt x="73" y="28"/>
                  <a:pt x="86" y="41"/>
                  <a:pt x="86" y="57"/>
                </a:cubicBezTo>
                <a:cubicBezTo>
                  <a:pt x="86" y="73"/>
                  <a:pt x="73" y="85"/>
                  <a:pt x="57" y="85"/>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0" name="Freeform 1782"/>
          <p:cNvSpPr/>
          <p:nvPr/>
        </p:nvSpPr>
        <p:spPr>
          <a:xfrm>
            <a:off x="16990920" y="5268960"/>
            <a:ext cx="646200" cy="647640"/>
          </a:xfrm>
          <a:custGeom>
            <a:avLst/>
            <a:gdLst/>
            <a:ahLst/>
            <a:rect l="l" t="t" r="r" b="b"/>
            <a:pathLst>
              <a:path w="93" h="93">
                <a:moveTo>
                  <a:pt x="87" y="55"/>
                </a:moveTo>
                <a:cubicBezTo>
                  <a:pt x="90" y="55"/>
                  <a:pt x="93" y="51"/>
                  <a:pt x="93" y="47"/>
                </a:cubicBezTo>
                <a:cubicBezTo>
                  <a:pt x="93" y="46"/>
                  <a:pt x="93" y="46"/>
                  <a:pt x="93" y="46"/>
                </a:cubicBezTo>
                <a:cubicBezTo>
                  <a:pt x="93" y="42"/>
                  <a:pt x="90" y="39"/>
                  <a:pt x="87" y="39"/>
                </a:cubicBezTo>
                <a:cubicBezTo>
                  <a:pt x="83" y="39"/>
                  <a:pt x="80" y="37"/>
                  <a:pt x="79" y="35"/>
                </a:cubicBezTo>
                <a:cubicBezTo>
                  <a:pt x="79" y="33"/>
                  <a:pt x="78" y="26"/>
                  <a:pt x="81" y="24"/>
                </a:cubicBezTo>
                <a:cubicBezTo>
                  <a:pt x="83" y="21"/>
                  <a:pt x="83" y="17"/>
                  <a:pt x="80" y="14"/>
                </a:cubicBezTo>
                <a:cubicBezTo>
                  <a:pt x="79" y="13"/>
                  <a:pt x="79" y="13"/>
                  <a:pt x="79" y="13"/>
                </a:cubicBezTo>
                <a:cubicBezTo>
                  <a:pt x="76" y="10"/>
                  <a:pt x="72" y="10"/>
                  <a:pt x="69" y="12"/>
                </a:cubicBezTo>
                <a:cubicBezTo>
                  <a:pt x="67" y="15"/>
                  <a:pt x="63" y="16"/>
                  <a:pt x="62" y="15"/>
                </a:cubicBezTo>
                <a:cubicBezTo>
                  <a:pt x="60" y="14"/>
                  <a:pt x="55" y="10"/>
                  <a:pt x="55" y="6"/>
                </a:cubicBezTo>
                <a:cubicBezTo>
                  <a:pt x="55" y="3"/>
                  <a:pt x="51" y="0"/>
                  <a:pt x="47" y="0"/>
                </a:cubicBezTo>
                <a:cubicBezTo>
                  <a:pt x="46" y="0"/>
                  <a:pt x="46" y="0"/>
                  <a:pt x="46" y="0"/>
                </a:cubicBezTo>
                <a:cubicBezTo>
                  <a:pt x="42" y="0"/>
                  <a:pt x="38" y="3"/>
                  <a:pt x="38" y="6"/>
                </a:cubicBezTo>
                <a:cubicBezTo>
                  <a:pt x="38" y="10"/>
                  <a:pt x="37" y="13"/>
                  <a:pt x="35" y="14"/>
                </a:cubicBezTo>
                <a:cubicBezTo>
                  <a:pt x="33" y="14"/>
                  <a:pt x="26" y="15"/>
                  <a:pt x="24" y="12"/>
                </a:cubicBezTo>
                <a:cubicBezTo>
                  <a:pt x="21" y="10"/>
                  <a:pt x="17" y="10"/>
                  <a:pt x="14" y="13"/>
                </a:cubicBezTo>
                <a:cubicBezTo>
                  <a:pt x="13" y="14"/>
                  <a:pt x="13" y="14"/>
                  <a:pt x="13" y="14"/>
                </a:cubicBezTo>
                <a:cubicBezTo>
                  <a:pt x="10" y="17"/>
                  <a:pt x="10" y="21"/>
                  <a:pt x="12" y="24"/>
                </a:cubicBezTo>
                <a:cubicBezTo>
                  <a:pt x="15" y="26"/>
                  <a:pt x="16" y="30"/>
                  <a:pt x="15" y="32"/>
                </a:cubicBezTo>
                <a:cubicBezTo>
                  <a:pt x="14" y="33"/>
                  <a:pt x="10" y="39"/>
                  <a:pt x="6" y="39"/>
                </a:cubicBezTo>
                <a:cubicBezTo>
                  <a:pt x="3" y="39"/>
                  <a:pt x="0" y="42"/>
                  <a:pt x="0" y="46"/>
                </a:cubicBezTo>
                <a:cubicBezTo>
                  <a:pt x="0" y="47"/>
                  <a:pt x="0" y="47"/>
                  <a:pt x="0" y="47"/>
                </a:cubicBezTo>
                <a:cubicBezTo>
                  <a:pt x="0" y="51"/>
                  <a:pt x="3" y="55"/>
                  <a:pt x="6" y="55"/>
                </a:cubicBezTo>
                <a:cubicBezTo>
                  <a:pt x="10" y="55"/>
                  <a:pt x="13" y="56"/>
                  <a:pt x="14" y="58"/>
                </a:cubicBezTo>
                <a:cubicBezTo>
                  <a:pt x="14" y="60"/>
                  <a:pt x="15" y="67"/>
                  <a:pt x="12" y="69"/>
                </a:cubicBezTo>
                <a:cubicBezTo>
                  <a:pt x="10" y="72"/>
                  <a:pt x="10" y="76"/>
                  <a:pt x="13" y="79"/>
                </a:cubicBezTo>
                <a:cubicBezTo>
                  <a:pt x="14" y="80"/>
                  <a:pt x="14" y="80"/>
                  <a:pt x="14" y="80"/>
                </a:cubicBezTo>
                <a:cubicBezTo>
                  <a:pt x="17" y="83"/>
                  <a:pt x="21" y="83"/>
                  <a:pt x="24" y="81"/>
                </a:cubicBezTo>
                <a:cubicBezTo>
                  <a:pt x="26" y="79"/>
                  <a:pt x="30" y="77"/>
                  <a:pt x="31" y="78"/>
                </a:cubicBezTo>
                <a:cubicBezTo>
                  <a:pt x="33" y="79"/>
                  <a:pt x="38" y="84"/>
                  <a:pt x="38" y="87"/>
                </a:cubicBezTo>
                <a:cubicBezTo>
                  <a:pt x="38" y="91"/>
                  <a:pt x="42" y="93"/>
                  <a:pt x="46" y="93"/>
                </a:cubicBezTo>
                <a:cubicBezTo>
                  <a:pt x="47" y="93"/>
                  <a:pt x="47" y="93"/>
                  <a:pt x="47" y="93"/>
                </a:cubicBezTo>
                <a:cubicBezTo>
                  <a:pt x="51" y="93"/>
                  <a:pt x="55" y="91"/>
                  <a:pt x="55" y="87"/>
                </a:cubicBezTo>
                <a:cubicBezTo>
                  <a:pt x="55" y="84"/>
                  <a:pt x="56" y="80"/>
                  <a:pt x="58" y="80"/>
                </a:cubicBezTo>
                <a:cubicBezTo>
                  <a:pt x="60" y="79"/>
                  <a:pt x="67" y="79"/>
                  <a:pt x="69" y="81"/>
                </a:cubicBezTo>
                <a:cubicBezTo>
                  <a:pt x="72" y="83"/>
                  <a:pt x="76" y="83"/>
                  <a:pt x="79" y="80"/>
                </a:cubicBezTo>
                <a:cubicBezTo>
                  <a:pt x="80" y="79"/>
                  <a:pt x="80" y="79"/>
                  <a:pt x="80" y="79"/>
                </a:cubicBezTo>
                <a:cubicBezTo>
                  <a:pt x="83" y="76"/>
                  <a:pt x="83" y="72"/>
                  <a:pt x="81" y="69"/>
                </a:cubicBezTo>
                <a:cubicBezTo>
                  <a:pt x="78" y="67"/>
                  <a:pt x="77" y="64"/>
                  <a:pt x="78" y="62"/>
                </a:cubicBezTo>
                <a:cubicBezTo>
                  <a:pt x="79" y="60"/>
                  <a:pt x="83" y="55"/>
                  <a:pt x="87" y="55"/>
                </a:cubicBezTo>
                <a:close/>
                <a:moveTo>
                  <a:pt x="47" y="70"/>
                </a:moveTo>
                <a:cubicBezTo>
                  <a:pt x="34" y="70"/>
                  <a:pt x="23" y="60"/>
                  <a:pt x="23" y="47"/>
                </a:cubicBezTo>
                <a:cubicBezTo>
                  <a:pt x="23" y="34"/>
                  <a:pt x="34" y="23"/>
                  <a:pt x="47" y="23"/>
                </a:cubicBezTo>
                <a:cubicBezTo>
                  <a:pt x="59" y="23"/>
                  <a:pt x="70" y="34"/>
                  <a:pt x="70" y="47"/>
                </a:cubicBezTo>
                <a:cubicBezTo>
                  <a:pt x="70" y="60"/>
                  <a:pt x="59" y="70"/>
                  <a:pt x="47" y="70"/>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1" name="Freeform 1783"/>
          <p:cNvSpPr/>
          <p:nvPr/>
        </p:nvSpPr>
        <p:spPr>
          <a:xfrm>
            <a:off x="17060760" y="5992920"/>
            <a:ext cx="507960" cy="500040"/>
          </a:xfrm>
          <a:custGeom>
            <a:avLst/>
            <a:gdLst/>
            <a:ahLst/>
            <a:rect l="l" t="t" r="r" b="b"/>
            <a:pathLst>
              <a:path w="73" h="72">
                <a:moveTo>
                  <a:pt x="68" y="42"/>
                </a:moveTo>
                <a:cubicBezTo>
                  <a:pt x="71" y="42"/>
                  <a:pt x="73" y="40"/>
                  <a:pt x="73" y="36"/>
                </a:cubicBezTo>
                <a:cubicBezTo>
                  <a:pt x="73" y="33"/>
                  <a:pt x="71" y="30"/>
                  <a:pt x="68" y="30"/>
                </a:cubicBezTo>
                <a:cubicBezTo>
                  <a:pt x="65" y="30"/>
                  <a:pt x="63" y="29"/>
                  <a:pt x="62" y="27"/>
                </a:cubicBezTo>
                <a:cubicBezTo>
                  <a:pt x="62" y="26"/>
                  <a:pt x="61" y="20"/>
                  <a:pt x="63" y="18"/>
                </a:cubicBezTo>
                <a:cubicBezTo>
                  <a:pt x="65" y="16"/>
                  <a:pt x="65" y="13"/>
                  <a:pt x="62" y="10"/>
                </a:cubicBezTo>
                <a:cubicBezTo>
                  <a:pt x="60" y="8"/>
                  <a:pt x="56" y="7"/>
                  <a:pt x="54" y="9"/>
                </a:cubicBezTo>
                <a:cubicBezTo>
                  <a:pt x="52" y="11"/>
                  <a:pt x="50" y="12"/>
                  <a:pt x="48" y="12"/>
                </a:cubicBezTo>
                <a:cubicBezTo>
                  <a:pt x="47" y="11"/>
                  <a:pt x="43" y="7"/>
                  <a:pt x="43" y="5"/>
                </a:cubicBezTo>
                <a:cubicBezTo>
                  <a:pt x="43" y="2"/>
                  <a:pt x="40" y="0"/>
                  <a:pt x="37" y="0"/>
                </a:cubicBezTo>
                <a:cubicBezTo>
                  <a:pt x="33" y="0"/>
                  <a:pt x="30" y="2"/>
                  <a:pt x="30" y="5"/>
                </a:cubicBezTo>
                <a:cubicBezTo>
                  <a:pt x="30" y="7"/>
                  <a:pt x="29" y="10"/>
                  <a:pt x="27" y="11"/>
                </a:cubicBezTo>
                <a:cubicBezTo>
                  <a:pt x="26" y="11"/>
                  <a:pt x="21" y="11"/>
                  <a:pt x="19" y="9"/>
                </a:cubicBezTo>
                <a:cubicBezTo>
                  <a:pt x="17" y="7"/>
                  <a:pt x="13" y="8"/>
                  <a:pt x="11" y="10"/>
                </a:cubicBezTo>
                <a:cubicBezTo>
                  <a:pt x="8" y="13"/>
                  <a:pt x="8" y="16"/>
                  <a:pt x="10" y="18"/>
                </a:cubicBezTo>
                <a:cubicBezTo>
                  <a:pt x="12" y="20"/>
                  <a:pt x="13" y="23"/>
                  <a:pt x="12" y="24"/>
                </a:cubicBezTo>
                <a:cubicBezTo>
                  <a:pt x="11" y="26"/>
                  <a:pt x="8" y="30"/>
                  <a:pt x="5" y="30"/>
                </a:cubicBezTo>
                <a:cubicBezTo>
                  <a:pt x="2" y="30"/>
                  <a:pt x="0" y="33"/>
                  <a:pt x="0" y="36"/>
                </a:cubicBezTo>
                <a:cubicBezTo>
                  <a:pt x="0" y="40"/>
                  <a:pt x="2" y="42"/>
                  <a:pt x="5" y="42"/>
                </a:cubicBezTo>
                <a:cubicBezTo>
                  <a:pt x="8" y="42"/>
                  <a:pt x="10" y="44"/>
                  <a:pt x="11" y="45"/>
                </a:cubicBezTo>
                <a:cubicBezTo>
                  <a:pt x="11" y="47"/>
                  <a:pt x="12" y="52"/>
                  <a:pt x="10" y="54"/>
                </a:cubicBezTo>
                <a:cubicBezTo>
                  <a:pt x="8" y="56"/>
                  <a:pt x="8" y="59"/>
                  <a:pt x="11" y="62"/>
                </a:cubicBezTo>
                <a:cubicBezTo>
                  <a:pt x="13" y="64"/>
                  <a:pt x="17" y="65"/>
                  <a:pt x="19" y="63"/>
                </a:cubicBezTo>
                <a:cubicBezTo>
                  <a:pt x="21" y="61"/>
                  <a:pt x="23" y="60"/>
                  <a:pt x="25" y="61"/>
                </a:cubicBezTo>
                <a:cubicBezTo>
                  <a:pt x="26" y="61"/>
                  <a:pt x="30" y="65"/>
                  <a:pt x="30" y="68"/>
                </a:cubicBezTo>
                <a:cubicBezTo>
                  <a:pt x="30" y="70"/>
                  <a:pt x="33" y="72"/>
                  <a:pt x="37" y="72"/>
                </a:cubicBezTo>
                <a:cubicBezTo>
                  <a:pt x="40" y="72"/>
                  <a:pt x="43" y="70"/>
                  <a:pt x="43" y="68"/>
                </a:cubicBezTo>
                <a:cubicBezTo>
                  <a:pt x="43" y="65"/>
                  <a:pt x="44" y="62"/>
                  <a:pt x="46" y="62"/>
                </a:cubicBezTo>
                <a:cubicBezTo>
                  <a:pt x="47" y="61"/>
                  <a:pt x="52" y="61"/>
                  <a:pt x="54" y="63"/>
                </a:cubicBezTo>
                <a:cubicBezTo>
                  <a:pt x="56" y="65"/>
                  <a:pt x="60" y="64"/>
                  <a:pt x="62" y="62"/>
                </a:cubicBezTo>
                <a:cubicBezTo>
                  <a:pt x="65" y="59"/>
                  <a:pt x="65" y="56"/>
                  <a:pt x="63" y="54"/>
                </a:cubicBezTo>
                <a:cubicBezTo>
                  <a:pt x="61" y="52"/>
                  <a:pt x="60" y="49"/>
                  <a:pt x="61" y="48"/>
                </a:cubicBezTo>
                <a:cubicBezTo>
                  <a:pt x="62" y="46"/>
                  <a:pt x="65" y="42"/>
                  <a:pt x="68" y="42"/>
                </a:cubicBezTo>
                <a:close/>
                <a:moveTo>
                  <a:pt x="37" y="54"/>
                </a:moveTo>
                <a:cubicBezTo>
                  <a:pt x="26" y="54"/>
                  <a:pt x="18" y="46"/>
                  <a:pt x="18" y="36"/>
                </a:cubicBezTo>
                <a:cubicBezTo>
                  <a:pt x="18" y="26"/>
                  <a:pt x="26" y="18"/>
                  <a:pt x="37" y="18"/>
                </a:cubicBezTo>
                <a:cubicBezTo>
                  <a:pt x="47" y="18"/>
                  <a:pt x="55" y="26"/>
                  <a:pt x="55" y="36"/>
                </a:cubicBezTo>
                <a:cubicBezTo>
                  <a:pt x="55" y="46"/>
                  <a:pt x="47" y="54"/>
                  <a:pt x="37" y="54"/>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2" name="Freeform 1784"/>
          <p:cNvSpPr/>
          <p:nvPr/>
        </p:nvSpPr>
        <p:spPr>
          <a:xfrm>
            <a:off x="13165200" y="6375240"/>
            <a:ext cx="641160" cy="640080"/>
          </a:xfrm>
          <a:custGeom>
            <a:avLst/>
            <a:gdLst/>
            <a:ahLst/>
            <a:rect l="l" t="t" r="r" b="b"/>
            <a:pathLst>
              <a:path w="92" h="92">
                <a:moveTo>
                  <a:pt x="46" y="69"/>
                </a:moveTo>
                <a:cubicBezTo>
                  <a:pt x="33" y="69"/>
                  <a:pt x="23" y="59"/>
                  <a:pt x="23" y="46"/>
                </a:cubicBezTo>
                <a:cubicBezTo>
                  <a:pt x="23" y="33"/>
                  <a:pt x="33" y="23"/>
                  <a:pt x="46" y="23"/>
                </a:cubicBezTo>
                <a:cubicBezTo>
                  <a:pt x="59" y="23"/>
                  <a:pt x="69" y="33"/>
                  <a:pt x="69" y="46"/>
                </a:cubicBezTo>
                <a:cubicBezTo>
                  <a:pt x="69" y="59"/>
                  <a:pt x="59" y="69"/>
                  <a:pt x="46" y="69"/>
                </a:cubicBezTo>
                <a:moveTo>
                  <a:pt x="48" y="0"/>
                </a:moveTo>
                <a:cubicBezTo>
                  <a:pt x="44" y="0"/>
                  <a:pt x="44" y="0"/>
                  <a:pt x="44" y="0"/>
                </a:cubicBezTo>
                <a:cubicBezTo>
                  <a:pt x="41" y="0"/>
                  <a:pt x="38" y="2"/>
                  <a:pt x="38" y="6"/>
                </a:cubicBezTo>
                <a:cubicBezTo>
                  <a:pt x="38" y="6"/>
                  <a:pt x="38" y="6"/>
                  <a:pt x="38" y="6"/>
                </a:cubicBezTo>
                <a:cubicBezTo>
                  <a:pt x="38" y="9"/>
                  <a:pt x="36" y="13"/>
                  <a:pt x="34" y="13"/>
                </a:cubicBezTo>
                <a:cubicBezTo>
                  <a:pt x="34" y="14"/>
                  <a:pt x="32" y="14"/>
                  <a:pt x="30" y="14"/>
                </a:cubicBezTo>
                <a:cubicBezTo>
                  <a:pt x="28" y="14"/>
                  <a:pt x="25" y="13"/>
                  <a:pt x="23" y="12"/>
                </a:cubicBezTo>
                <a:cubicBezTo>
                  <a:pt x="23" y="12"/>
                  <a:pt x="23" y="12"/>
                  <a:pt x="23" y="12"/>
                </a:cubicBezTo>
                <a:cubicBezTo>
                  <a:pt x="22" y="11"/>
                  <a:pt x="20" y="10"/>
                  <a:pt x="19" y="10"/>
                </a:cubicBezTo>
                <a:cubicBezTo>
                  <a:pt x="17" y="10"/>
                  <a:pt x="16" y="11"/>
                  <a:pt x="15" y="12"/>
                </a:cubicBezTo>
                <a:cubicBezTo>
                  <a:pt x="12" y="15"/>
                  <a:pt x="12" y="15"/>
                  <a:pt x="12" y="15"/>
                </a:cubicBezTo>
                <a:cubicBezTo>
                  <a:pt x="9" y="17"/>
                  <a:pt x="9" y="21"/>
                  <a:pt x="12" y="23"/>
                </a:cubicBezTo>
                <a:cubicBezTo>
                  <a:pt x="12" y="23"/>
                  <a:pt x="12" y="23"/>
                  <a:pt x="12" y="23"/>
                </a:cubicBezTo>
                <a:cubicBezTo>
                  <a:pt x="14" y="26"/>
                  <a:pt x="16" y="29"/>
                  <a:pt x="15" y="31"/>
                </a:cubicBezTo>
                <a:cubicBezTo>
                  <a:pt x="14" y="33"/>
                  <a:pt x="9" y="38"/>
                  <a:pt x="6" y="38"/>
                </a:cubicBezTo>
                <a:cubicBezTo>
                  <a:pt x="6" y="38"/>
                  <a:pt x="6" y="38"/>
                  <a:pt x="6" y="38"/>
                </a:cubicBezTo>
                <a:cubicBezTo>
                  <a:pt x="2" y="38"/>
                  <a:pt x="0" y="41"/>
                  <a:pt x="0" y="44"/>
                </a:cubicBezTo>
                <a:cubicBezTo>
                  <a:pt x="0" y="48"/>
                  <a:pt x="0" y="48"/>
                  <a:pt x="0" y="48"/>
                </a:cubicBezTo>
                <a:cubicBezTo>
                  <a:pt x="0" y="51"/>
                  <a:pt x="2" y="54"/>
                  <a:pt x="6" y="54"/>
                </a:cubicBezTo>
                <a:cubicBezTo>
                  <a:pt x="6" y="54"/>
                  <a:pt x="6" y="54"/>
                  <a:pt x="6" y="54"/>
                </a:cubicBezTo>
                <a:cubicBezTo>
                  <a:pt x="9" y="54"/>
                  <a:pt x="13" y="56"/>
                  <a:pt x="13" y="58"/>
                </a:cubicBezTo>
                <a:cubicBezTo>
                  <a:pt x="14" y="60"/>
                  <a:pt x="14" y="66"/>
                  <a:pt x="12" y="69"/>
                </a:cubicBezTo>
                <a:cubicBezTo>
                  <a:pt x="12" y="69"/>
                  <a:pt x="12" y="69"/>
                  <a:pt x="12" y="69"/>
                </a:cubicBezTo>
                <a:cubicBezTo>
                  <a:pt x="9" y="71"/>
                  <a:pt x="9" y="75"/>
                  <a:pt x="12" y="77"/>
                </a:cubicBezTo>
                <a:cubicBezTo>
                  <a:pt x="15" y="80"/>
                  <a:pt x="15" y="80"/>
                  <a:pt x="15" y="80"/>
                </a:cubicBezTo>
                <a:cubicBezTo>
                  <a:pt x="16" y="81"/>
                  <a:pt x="17" y="82"/>
                  <a:pt x="19" y="82"/>
                </a:cubicBezTo>
                <a:cubicBezTo>
                  <a:pt x="20" y="82"/>
                  <a:pt x="22" y="81"/>
                  <a:pt x="23" y="80"/>
                </a:cubicBezTo>
                <a:cubicBezTo>
                  <a:pt x="23" y="80"/>
                  <a:pt x="23" y="80"/>
                  <a:pt x="23" y="80"/>
                </a:cubicBezTo>
                <a:cubicBezTo>
                  <a:pt x="25" y="78"/>
                  <a:pt x="28" y="77"/>
                  <a:pt x="30" y="77"/>
                </a:cubicBezTo>
                <a:cubicBezTo>
                  <a:pt x="30" y="77"/>
                  <a:pt x="31" y="77"/>
                  <a:pt x="31" y="77"/>
                </a:cubicBezTo>
                <a:cubicBezTo>
                  <a:pt x="33" y="78"/>
                  <a:pt x="38" y="83"/>
                  <a:pt x="38" y="86"/>
                </a:cubicBezTo>
                <a:cubicBezTo>
                  <a:pt x="38" y="86"/>
                  <a:pt x="38" y="86"/>
                  <a:pt x="38" y="86"/>
                </a:cubicBezTo>
                <a:cubicBezTo>
                  <a:pt x="38" y="90"/>
                  <a:pt x="41" y="92"/>
                  <a:pt x="44" y="92"/>
                </a:cubicBezTo>
                <a:cubicBezTo>
                  <a:pt x="48" y="92"/>
                  <a:pt x="48" y="92"/>
                  <a:pt x="48" y="92"/>
                </a:cubicBezTo>
                <a:cubicBezTo>
                  <a:pt x="51" y="92"/>
                  <a:pt x="54" y="90"/>
                  <a:pt x="54" y="86"/>
                </a:cubicBezTo>
                <a:cubicBezTo>
                  <a:pt x="54" y="86"/>
                  <a:pt x="54" y="86"/>
                  <a:pt x="54" y="86"/>
                </a:cubicBezTo>
                <a:cubicBezTo>
                  <a:pt x="54" y="83"/>
                  <a:pt x="56" y="79"/>
                  <a:pt x="58" y="79"/>
                </a:cubicBezTo>
                <a:cubicBezTo>
                  <a:pt x="58" y="78"/>
                  <a:pt x="60" y="78"/>
                  <a:pt x="62" y="78"/>
                </a:cubicBezTo>
                <a:cubicBezTo>
                  <a:pt x="64" y="78"/>
                  <a:pt x="67" y="79"/>
                  <a:pt x="68" y="80"/>
                </a:cubicBezTo>
                <a:cubicBezTo>
                  <a:pt x="69" y="80"/>
                  <a:pt x="69" y="80"/>
                  <a:pt x="69" y="80"/>
                </a:cubicBezTo>
                <a:cubicBezTo>
                  <a:pt x="70" y="81"/>
                  <a:pt x="71" y="82"/>
                  <a:pt x="73" y="82"/>
                </a:cubicBezTo>
                <a:cubicBezTo>
                  <a:pt x="75" y="82"/>
                  <a:pt x="76" y="81"/>
                  <a:pt x="77" y="80"/>
                </a:cubicBezTo>
                <a:cubicBezTo>
                  <a:pt x="80" y="77"/>
                  <a:pt x="80" y="77"/>
                  <a:pt x="80" y="77"/>
                </a:cubicBezTo>
                <a:cubicBezTo>
                  <a:pt x="82" y="75"/>
                  <a:pt x="82" y="71"/>
                  <a:pt x="80" y="69"/>
                </a:cubicBezTo>
                <a:cubicBezTo>
                  <a:pt x="80" y="69"/>
                  <a:pt x="80" y="69"/>
                  <a:pt x="80" y="69"/>
                </a:cubicBezTo>
                <a:cubicBezTo>
                  <a:pt x="78" y="66"/>
                  <a:pt x="76" y="63"/>
                  <a:pt x="77" y="61"/>
                </a:cubicBezTo>
                <a:cubicBezTo>
                  <a:pt x="78" y="59"/>
                  <a:pt x="82" y="54"/>
                  <a:pt x="86" y="54"/>
                </a:cubicBezTo>
                <a:cubicBezTo>
                  <a:pt x="86" y="54"/>
                  <a:pt x="86" y="54"/>
                  <a:pt x="86" y="54"/>
                </a:cubicBezTo>
                <a:cubicBezTo>
                  <a:pt x="90" y="54"/>
                  <a:pt x="92" y="51"/>
                  <a:pt x="92" y="48"/>
                </a:cubicBezTo>
                <a:cubicBezTo>
                  <a:pt x="92" y="44"/>
                  <a:pt x="92" y="44"/>
                  <a:pt x="92" y="44"/>
                </a:cubicBezTo>
                <a:cubicBezTo>
                  <a:pt x="92" y="41"/>
                  <a:pt x="90" y="38"/>
                  <a:pt x="86" y="38"/>
                </a:cubicBezTo>
                <a:cubicBezTo>
                  <a:pt x="86" y="38"/>
                  <a:pt x="86" y="38"/>
                  <a:pt x="86" y="38"/>
                </a:cubicBezTo>
                <a:cubicBezTo>
                  <a:pt x="82" y="38"/>
                  <a:pt x="79" y="36"/>
                  <a:pt x="79" y="34"/>
                </a:cubicBezTo>
                <a:cubicBezTo>
                  <a:pt x="78" y="32"/>
                  <a:pt x="78" y="26"/>
                  <a:pt x="80" y="23"/>
                </a:cubicBezTo>
                <a:cubicBezTo>
                  <a:pt x="80" y="23"/>
                  <a:pt x="80" y="23"/>
                  <a:pt x="80" y="23"/>
                </a:cubicBezTo>
                <a:cubicBezTo>
                  <a:pt x="82" y="21"/>
                  <a:pt x="82" y="17"/>
                  <a:pt x="80" y="15"/>
                </a:cubicBezTo>
                <a:cubicBezTo>
                  <a:pt x="77" y="12"/>
                  <a:pt x="77" y="12"/>
                  <a:pt x="77" y="12"/>
                </a:cubicBezTo>
                <a:cubicBezTo>
                  <a:pt x="76" y="11"/>
                  <a:pt x="75" y="10"/>
                  <a:pt x="73" y="10"/>
                </a:cubicBezTo>
                <a:cubicBezTo>
                  <a:pt x="71" y="10"/>
                  <a:pt x="70" y="11"/>
                  <a:pt x="69" y="12"/>
                </a:cubicBezTo>
                <a:cubicBezTo>
                  <a:pt x="68" y="12"/>
                  <a:pt x="68" y="12"/>
                  <a:pt x="68" y="12"/>
                </a:cubicBezTo>
                <a:cubicBezTo>
                  <a:pt x="67" y="14"/>
                  <a:pt x="64" y="15"/>
                  <a:pt x="62" y="15"/>
                </a:cubicBezTo>
                <a:cubicBezTo>
                  <a:pt x="62" y="15"/>
                  <a:pt x="61" y="15"/>
                  <a:pt x="61" y="15"/>
                </a:cubicBezTo>
                <a:cubicBezTo>
                  <a:pt x="59" y="14"/>
                  <a:pt x="54" y="9"/>
                  <a:pt x="54" y="6"/>
                </a:cubicBezTo>
                <a:cubicBezTo>
                  <a:pt x="54" y="6"/>
                  <a:pt x="54" y="6"/>
                  <a:pt x="54" y="6"/>
                </a:cubicBezTo>
                <a:cubicBezTo>
                  <a:pt x="54" y="2"/>
                  <a:pt x="51" y="0"/>
                  <a:pt x="48"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3" name="Freeform 1785"/>
          <p:cNvSpPr/>
          <p:nvPr/>
        </p:nvSpPr>
        <p:spPr>
          <a:xfrm>
            <a:off x="13749480" y="6110280"/>
            <a:ext cx="528480" cy="528480"/>
          </a:xfrm>
          <a:custGeom>
            <a:avLst/>
            <a:gdLst/>
            <a:ahLst/>
            <a:rect l="l" t="t" r="r" b="b"/>
            <a:pathLst>
              <a:path w="76" h="76">
                <a:moveTo>
                  <a:pt x="38" y="57"/>
                </a:moveTo>
                <a:cubicBezTo>
                  <a:pt x="27" y="57"/>
                  <a:pt x="19" y="48"/>
                  <a:pt x="19" y="38"/>
                </a:cubicBezTo>
                <a:cubicBezTo>
                  <a:pt x="19" y="27"/>
                  <a:pt x="27" y="19"/>
                  <a:pt x="38" y="19"/>
                </a:cubicBezTo>
                <a:cubicBezTo>
                  <a:pt x="48" y="19"/>
                  <a:pt x="57" y="27"/>
                  <a:pt x="57" y="38"/>
                </a:cubicBezTo>
                <a:cubicBezTo>
                  <a:pt x="57" y="48"/>
                  <a:pt x="48" y="57"/>
                  <a:pt x="38" y="57"/>
                </a:cubicBezTo>
                <a:moveTo>
                  <a:pt x="38" y="0"/>
                </a:moveTo>
                <a:cubicBezTo>
                  <a:pt x="37" y="0"/>
                  <a:pt x="37" y="0"/>
                  <a:pt x="37" y="0"/>
                </a:cubicBezTo>
                <a:cubicBezTo>
                  <a:pt x="34" y="0"/>
                  <a:pt x="31" y="2"/>
                  <a:pt x="31" y="5"/>
                </a:cubicBezTo>
                <a:cubicBezTo>
                  <a:pt x="31" y="8"/>
                  <a:pt x="30" y="10"/>
                  <a:pt x="28" y="11"/>
                </a:cubicBezTo>
                <a:cubicBezTo>
                  <a:pt x="28" y="11"/>
                  <a:pt x="26" y="11"/>
                  <a:pt x="25" y="11"/>
                </a:cubicBezTo>
                <a:cubicBezTo>
                  <a:pt x="23" y="11"/>
                  <a:pt x="20" y="11"/>
                  <a:pt x="19" y="10"/>
                </a:cubicBezTo>
                <a:cubicBezTo>
                  <a:pt x="18" y="9"/>
                  <a:pt x="17" y="8"/>
                  <a:pt x="16" y="8"/>
                </a:cubicBezTo>
                <a:cubicBezTo>
                  <a:pt x="14" y="8"/>
                  <a:pt x="13" y="9"/>
                  <a:pt x="11" y="11"/>
                </a:cubicBezTo>
                <a:cubicBezTo>
                  <a:pt x="11" y="11"/>
                  <a:pt x="11" y="11"/>
                  <a:pt x="11" y="11"/>
                </a:cubicBezTo>
                <a:cubicBezTo>
                  <a:pt x="8" y="14"/>
                  <a:pt x="8" y="17"/>
                  <a:pt x="10" y="19"/>
                </a:cubicBezTo>
                <a:cubicBezTo>
                  <a:pt x="12" y="21"/>
                  <a:pt x="13" y="24"/>
                  <a:pt x="12" y="25"/>
                </a:cubicBezTo>
                <a:cubicBezTo>
                  <a:pt x="11" y="27"/>
                  <a:pt x="8" y="31"/>
                  <a:pt x="5" y="31"/>
                </a:cubicBezTo>
                <a:cubicBezTo>
                  <a:pt x="2" y="31"/>
                  <a:pt x="0" y="34"/>
                  <a:pt x="0" y="37"/>
                </a:cubicBezTo>
                <a:cubicBezTo>
                  <a:pt x="0" y="38"/>
                  <a:pt x="0" y="38"/>
                  <a:pt x="0" y="38"/>
                </a:cubicBezTo>
                <a:cubicBezTo>
                  <a:pt x="0" y="42"/>
                  <a:pt x="2" y="44"/>
                  <a:pt x="5" y="44"/>
                </a:cubicBezTo>
                <a:cubicBezTo>
                  <a:pt x="8" y="44"/>
                  <a:pt x="11" y="46"/>
                  <a:pt x="11" y="47"/>
                </a:cubicBezTo>
                <a:cubicBezTo>
                  <a:pt x="12" y="49"/>
                  <a:pt x="12" y="54"/>
                  <a:pt x="10" y="56"/>
                </a:cubicBezTo>
                <a:cubicBezTo>
                  <a:pt x="8" y="58"/>
                  <a:pt x="8" y="62"/>
                  <a:pt x="11" y="64"/>
                </a:cubicBezTo>
                <a:cubicBezTo>
                  <a:pt x="11" y="65"/>
                  <a:pt x="11" y="65"/>
                  <a:pt x="11" y="65"/>
                </a:cubicBezTo>
                <a:cubicBezTo>
                  <a:pt x="13" y="66"/>
                  <a:pt x="14" y="67"/>
                  <a:pt x="16" y="67"/>
                </a:cubicBezTo>
                <a:cubicBezTo>
                  <a:pt x="17" y="67"/>
                  <a:pt x="18" y="66"/>
                  <a:pt x="19" y="66"/>
                </a:cubicBezTo>
                <a:cubicBezTo>
                  <a:pt x="21" y="64"/>
                  <a:pt x="23" y="63"/>
                  <a:pt x="24" y="63"/>
                </a:cubicBezTo>
                <a:cubicBezTo>
                  <a:pt x="25" y="63"/>
                  <a:pt x="25" y="63"/>
                  <a:pt x="26" y="63"/>
                </a:cubicBezTo>
                <a:cubicBezTo>
                  <a:pt x="27" y="64"/>
                  <a:pt x="31" y="68"/>
                  <a:pt x="31" y="70"/>
                </a:cubicBezTo>
                <a:cubicBezTo>
                  <a:pt x="31" y="73"/>
                  <a:pt x="34" y="76"/>
                  <a:pt x="37" y="76"/>
                </a:cubicBezTo>
                <a:cubicBezTo>
                  <a:pt x="38" y="76"/>
                  <a:pt x="38" y="76"/>
                  <a:pt x="38" y="76"/>
                </a:cubicBezTo>
                <a:cubicBezTo>
                  <a:pt x="42" y="76"/>
                  <a:pt x="44" y="73"/>
                  <a:pt x="44" y="70"/>
                </a:cubicBezTo>
                <a:cubicBezTo>
                  <a:pt x="44" y="68"/>
                  <a:pt x="46" y="65"/>
                  <a:pt x="47" y="64"/>
                </a:cubicBezTo>
                <a:cubicBezTo>
                  <a:pt x="48" y="64"/>
                  <a:pt x="49" y="64"/>
                  <a:pt x="51" y="64"/>
                </a:cubicBezTo>
                <a:cubicBezTo>
                  <a:pt x="53" y="64"/>
                  <a:pt x="55" y="64"/>
                  <a:pt x="56" y="66"/>
                </a:cubicBezTo>
                <a:cubicBezTo>
                  <a:pt x="57" y="66"/>
                  <a:pt x="58" y="67"/>
                  <a:pt x="60" y="67"/>
                </a:cubicBezTo>
                <a:cubicBezTo>
                  <a:pt x="61" y="67"/>
                  <a:pt x="63" y="66"/>
                  <a:pt x="64" y="65"/>
                </a:cubicBezTo>
                <a:cubicBezTo>
                  <a:pt x="65" y="64"/>
                  <a:pt x="65" y="64"/>
                  <a:pt x="65" y="64"/>
                </a:cubicBezTo>
                <a:cubicBezTo>
                  <a:pt x="67" y="62"/>
                  <a:pt x="68" y="58"/>
                  <a:pt x="66" y="56"/>
                </a:cubicBezTo>
                <a:cubicBezTo>
                  <a:pt x="64" y="54"/>
                  <a:pt x="63" y="51"/>
                  <a:pt x="63" y="50"/>
                </a:cubicBezTo>
                <a:cubicBezTo>
                  <a:pt x="64" y="48"/>
                  <a:pt x="68" y="44"/>
                  <a:pt x="71" y="44"/>
                </a:cubicBezTo>
                <a:cubicBezTo>
                  <a:pt x="73" y="44"/>
                  <a:pt x="76" y="42"/>
                  <a:pt x="76" y="38"/>
                </a:cubicBezTo>
                <a:cubicBezTo>
                  <a:pt x="76" y="37"/>
                  <a:pt x="76" y="37"/>
                  <a:pt x="76" y="37"/>
                </a:cubicBezTo>
                <a:cubicBezTo>
                  <a:pt x="76" y="34"/>
                  <a:pt x="73" y="31"/>
                  <a:pt x="71" y="31"/>
                </a:cubicBezTo>
                <a:cubicBezTo>
                  <a:pt x="68" y="31"/>
                  <a:pt x="65" y="30"/>
                  <a:pt x="64" y="28"/>
                </a:cubicBezTo>
                <a:cubicBezTo>
                  <a:pt x="64" y="27"/>
                  <a:pt x="64" y="21"/>
                  <a:pt x="66" y="19"/>
                </a:cubicBezTo>
                <a:cubicBezTo>
                  <a:pt x="68" y="17"/>
                  <a:pt x="67" y="14"/>
                  <a:pt x="65" y="11"/>
                </a:cubicBezTo>
                <a:cubicBezTo>
                  <a:pt x="64" y="11"/>
                  <a:pt x="64" y="11"/>
                  <a:pt x="64" y="11"/>
                </a:cubicBezTo>
                <a:cubicBezTo>
                  <a:pt x="63" y="9"/>
                  <a:pt x="61" y="8"/>
                  <a:pt x="60" y="8"/>
                </a:cubicBezTo>
                <a:cubicBezTo>
                  <a:pt x="58" y="8"/>
                  <a:pt x="57" y="9"/>
                  <a:pt x="56" y="10"/>
                </a:cubicBezTo>
                <a:cubicBezTo>
                  <a:pt x="55" y="11"/>
                  <a:pt x="53" y="12"/>
                  <a:pt x="51" y="12"/>
                </a:cubicBezTo>
                <a:cubicBezTo>
                  <a:pt x="51" y="12"/>
                  <a:pt x="50" y="12"/>
                  <a:pt x="50" y="12"/>
                </a:cubicBezTo>
                <a:cubicBezTo>
                  <a:pt x="49" y="11"/>
                  <a:pt x="44" y="8"/>
                  <a:pt x="44" y="5"/>
                </a:cubicBezTo>
                <a:cubicBezTo>
                  <a:pt x="44" y="2"/>
                  <a:pt x="42" y="0"/>
                  <a:pt x="38"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4" name="Freeform 1786"/>
          <p:cNvSpPr/>
          <p:nvPr/>
        </p:nvSpPr>
        <p:spPr>
          <a:xfrm>
            <a:off x="13806360" y="6694560"/>
            <a:ext cx="409680" cy="411120"/>
          </a:xfrm>
          <a:custGeom>
            <a:avLst/>
            <a:gdLst/>
            <a:ahLst/>
            <a:rect l="l" t="t" r="r" b="b"/>
            <a:pathLst>
              <a:path w="59" h="59">
                <a:moveTo>
                  <a:pt x="30" y="44"/>
                </a:moveTo>
                <a:cubicBezTo>
                  <a:pt x="22" y="44"/>
                  <a:pt x="15" y="38"/>
                  <a:pt x="15" y="29"/>
                </a:cubicBezTo>
                <a:cubicBezTo>
                  <a:pt x="15" y="21"/>
                  <a:pt x="22" y="15"/>
                  <a:pt x="30" y="15"/>
                </a:cubicBezTo>
                <a:cubicBezTo>
                  <a:pt x="38" y="15"/>
                  <a:pt x="45" y="21"/>
                  <a:pt x="45" y="29"/>
                </a:cubicBezTo>
                <a:cubicBezTo>
                  <a:pt x="45" y="38"/>
                  <a:pt x="38" y="44"/>
                  <a:pt x="30" y="44"/>
                </a:cubicBezTo>
                <a:moveTo>
                  <a:pt x="30" y="0"/>
                </a:moveTo>
                <a:cubicBezTo>
                  <a:pt x="27" y="0"/>
                  <a:pt x="25" y="2"/>
                  <a:pt x="25" y="4"/>
                </a:cubicBezTo>
                <a:cubicBezTo>
                  <a:pt x="25" y="6"/>
                  <a:pt x="24" y="8"/>
                  <a:pt x="22" y="9"/>
                </a:cubicBezTo>
                <a:cubicBezTo>
                  <a:pt x="22" y="9"/>
                  <a:pt x="21" y="9"/>
                  <a:pt x="20" y="9"/>
                </a:cubicBezTo>
                <a:cubicBezTo>
                  <a:pt x="18" y="9"/>
                  <a:pt x="16" y="9"/>
                  <a:pt x="15" y="8"/>
                </a:cubicBezTo>
                <a:cubicBezTo>
                  <a:pt x="15" y="7"/>
                  <a:pt x="14" y="7"/>
                  <a:pt x="13" y="7"/>
                </a:cubicBezTo>
                <a:cubicBezTo>
                  <a:pt x="12" y="7"/>
                  <a:pt x="10" y="7"/>
                  <a:pt x="9" y="9"/>
                </a:cubicBezTo>
                <a:cubicBezTo>
                  <a:pt x="7" y="11"/>
                  <a:pt x="7" y="14"/>
                  <a:pt x="8" y="15"/>
                </a:cubicBezTo>
                <a:cubicBezTo>
                  <a:pt x="10" y="17"/>
                  <a:pt x="10" y="19"/>
                  <a:pt x="10" y="20"/>
                </a:cubicBezTo>
                <a:cubicBezTo>
                  <a:pt x="9" y="21"/>
                  <a:pt x="6" y="24"/>
                  <a:pt x="4" y="24"/>
                </a:cubicBezTo>
                <a:cubicBezTo>
                  <a:pt x="2" y="24"/>
                  <a:pt x="0" y="27"/>
                  <a:pt x="0" y="29"/>
                </a:cubicBezTo>
                <a:cubicBezTo>
                  <a:pt x="0" y="32"/>
                  <a:pt x="2" y="35"/>
                  <a:pt x="4" y="35"/>
                </a:cubicBezTo>
                <a:cubicBezTo>
                  <a:pt x="6" y="35"/>
                  <a:pt x="9" y="36"/>
                  <a:pt x="9" y="37"/>
                </a:cubicBezTo>
                <a:cubicBezTo>
                  <a:pt x="9" y="38"/>
                  <a:pt x="10" y="42"/>
                  <a:pt x="8" y="44"/>
                </a:cubicBezTo>
                <a:cubicBezTo>
                  <a:pt x="7" y="45"/>
                  <a:pt x="7" y="48"/>
                  <a:pt x="9" y="50"/>
                </a:cubicBezTo>
                <a:cubicBezTo>
                  <a:pt x="10" y="52"/>
                  <a:pt x="12" y="52"/>
                  <a:pt x="13" y="52"/>
                </a:cubicBezTo>
                <a:cubicBezTo>
                  <a:pt x="14" y="52"/>
                  <a:pt x="15" y="52"/>
                  <a:pt x="15" y="51"/>
                </a:cubicBezTo>
                <a:cubicBezTo>
                  <a:pt x="17" y="50"/>
                  <a:pt x="18" y="49"/>
                  <a:pt x="19" y="49"/>
                </a:cubicBezTo>
                <a:cubicBezTo>
                  <a:pt x="20" y="49"/>
                  <a:pt x="20" y="49"/>
                  <a:pt x="20" y="49"/>
                </a:cubicBezTo>
                <a:cubicBezTo>
                  <a:pt x="21" y="50"/>
                  <a:pt x="25" y="53"/>
                  <a:pt x="25" y="55"/>
                </a:cubicBezTo>
                <a:cubicBezTo>
                  <a:pt x="25" y="57"/>
                  <a:pt x="27" y="59"/>
                  <a:pt x="30" y="59"/>
                </a:cubicBezTo>
                <a:cubicBezTo>
                  <a:pt x="33" y="59"/>
                  <a:pt x="35" y="57"/>
                  <a:pt x="35" y="55"/>
                </a:cubicBezTo>
                <a:cubicBezTo>
                  <a:pt x="35" y="53"/>
                  <a:pt x="36" y="51"/>
                  <a:pt x="37" y="50"/>
                </a:cubicBezTo>
                <a:cubicBezTo>
                  <a:pt x="38" y="50"/>
                  <a:pt x="39" y="50"/>
                  <a:pt x="40" y="50"/>
                </a:cubicBezTo>
                <a:cubicBezTo>
                  <a:pt x="41" y="50"/>
                  <a:pt x="43" y="50"/>
                  <a:pt x="44" y="51"/>
                </a:cubicBezTo>
                <a:cubicBezTo>
                  <a:pt x="45" y="52"/>
                  <a:pt x="46" y="52"/>
                  <a:pt x="47" y="52"/>
                </a:cubicBezTo>
                <a:cubicBezTo>
                  <a:pt x="48" y="52"/>
                  <a:pt x="49" y="52"/>
                  <a:pt x="51" y="50"/>
                </a:cubicBezTo>
                <a:cubicBezTo>
                  <a:pt x="53" y="48"/>
                  <a:pt x="53" y="45"/>
                  <a:pt x="51" y="44"/>
                </a:cubicBezTo>
                <a:cubicBezTo>
                  <a:pt x="50" y="42"/>
                  <a:pt x="49" y="40"/>
                  <a:pt x="50" y="39"/>
                </a:cubicBezTo>
                <a:cubicBezTo>
                  <a:pt x="50" y="38"/>
                  <a:pt x="53" y="35"/>
                  <a:pt x="55" y="35"/>
                </a:cubicBezTo>
                <a:cubicBezTo>
                  <a:pt x="57" y="35"/>
                  <a:pt x="59" y="32"/>
                  <a:pt x="59" y="29"/>
                </a:cubicBezTo>
                <a:cubicBezTo>
                  <a:pt x="59" y="27"/>
                  <a:pt x="57" y="24"/>
                  <a:pt x="55" y="24"/>
                </a:cubicBezTo>
                <a:cubicBezTo>
                  <a:pt x="53" y="24"/>
                  <a:pt x="51" y="23"/>
                  <a:pt x="51" y="22"/>
                </a:cubicBezTo>
                <a:cubicBezTo>
                  <a:pt x="50" y="21"/>
                  <a:pt x="50" y="17"/>
                  <a:pt x="51" y="15"/>
                </a:cubicBezTo>
                <a:cubicBezTo>
                  <a:pt x="53" y="14"/>
                  <a:pt x="53" y="11"/>
                  <a:pt x="51" y="9"/>
                </a:cubicBezTo>
                <a:cubicBezTo>
                  <a:pt x="49" y="7"/>
                  <a:pt x="48" y="7"/>
                  <a:pt x="47" y="7"/>
                </a:cubicBezTo>
                <a:cubicBezTo>
                  <a:pt x="46" y="7"/>
                  <a:pt x="45" y="7"/>
                  <a:pt x="44" y="8"/>
                </a:cubicBezTo>
                <a:cubicBezTo>
                  <a:pt x="43" y="9"/>
                  <a:pt x="41" y="10"/>
                  <a:pt x="40" y="10"/>
                </a:cubicBezTo>
                <a:cubicBezTo>
                  <a:pt x="40" y="10"/>
                  <a:pt x="40" y="10"/>
                  <a:pt x="39" y="10"/>
                </a:cubicBezTo>
                <a:cubicBezTo>
                  <a:pt x="38" y="9"/>
                  <a:pt x="35" y="6"/>
                  <a:pt x="35" y="4"/>
                </a:cubicBezTo>
                <a:cubicBezTo>
                  <a:pt x="35" y="2"/>
                  <a:pt x="33" y="0"/>
                  <a:pt x="30" y="0"/>
                </a:cubicBezTo>
              </a:path>
            </a:pathLst>
          </a:custGeom>
          <a:solidFill>
            <a:srgbClr val="f2ef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5" name="Freeform 1787"/>
          <p:cNvSpPr/>
          <p:nvPr/>
        </p:nvSpPr>
        <p:spPr>
          <a:xfrm>
            <a:off x="11754000" y="4859280"/>
            <a:ext cx="799920" cy="633600"/>
          </a:xfrm>
          <a:custGeom>
            <a:avLst/>
            <a:gdLst/>
            <a:ahLst/>
            <a:rect l="l" t="t" r="r" b="b"/>
            <a:pathLst>
              <a:path w="115" h="91">
                <a:moveTo>
                  <a:pt x="58" y="0"/>
                </a:moveTo>
                <a:cubicBezTo>
                  <a:pt x="26" y="0"/>
                  <a:pt x="0" y="20"/>
                  <a:pt x="0" y="44"/>
                </a:cubicBezTo>
                <a:cubicBezTo>
                  <a:pt x="0" y="58"/>
                  <a:pt x="8" y="70"/>
                  <a:pt x="20" y="78"/>
                </a:cubicBezTo>
                <a:cubicBezTo>
                  <a:pt x="14" y="87"/>
                  <a:pt x="6" y="91"/>
                  <a:pt x="6" y="91"/>
                </a:cubicBezTo>
                <a:cubicBezTo>
                  <a:pt x="17" y="89"/>
                  <a:pt x="25" y="87"/>
                  <a:pt x="32" y="84"/>
                </a:cubicBezTo>
                <a:cubicBezTo>
                  <a:pt x="39" y="87"/>
                  <a:pt x="48" y="88"/>
                  <a:pt x="58" y="88"/>
                </a:cubicBezTo>
                <a:cubicBezTo>
                  <a:pt x="89" y="88"/>
                  <a:pt x="115" y="69"/>
                  <a:pt x="115" y="44"/>
                </a:cubicBezTo>
                <a:cubicBezTo>
                  <a:pt x="115" y="20"/>
                  <a:pt x="89" y="0"/>
                  <a:pt x="58" y="0"/>
                </a:cubicBezTo>
              </a:path>
            </a:pathLst>
          </a:custGeom>
          <a:solidFill>
            <a:srgbClr val="eff3f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6" name="Freeform 1788"/>
          <p:cNvSpPr/>
          <p:nvPr/>
        </p:nvSpPr>
        <p:spPr>
          <a:xfrm>
            <a:off x="12372840" y="5192640"/>
            <a:ext cx="507960" cy="417600"/>
          </a:xfrm>
          <a:custGeom>
            <a:avLst/>
            <a:gdLst/>
            <a:ahLst/>
            <a:rect l="l" t="t" r="r" b="b"/>
            <a:pathLst>
              <a:path w="73" h="60">
                <a:moveTo>
                  <a:pt x="35" y="0"/>
                </a:moveTo>
                <a:cubicBezTo>
                  <a:pt x="34" y="0"/>
                  <a:pt x="34" y="0"/>
                  <a:pt x="33" y="0"/>
                </a:cubicBezTo>
                <a:cubicBezTo>
                  <a:pt x="31" y="18"/>
                  <a:pt x="19" y="33"/>
                  <a:pt x="0" y="41"/>
                </a:cubicBezTo>
                <a:cubicBezTo>
                  <a:pt x="6" y="51"/>
                  <a:pt x="19" y="58"/>
                  <a:pt x="35" y="58"/>
                </a:cubicBezTo>
                <a:cubicBezTo>
                  <a:pt x="41" y="58"/>
                  <a:pt x="47" y="57"/>
                  <a:pt x="52" y="55"/>
                </a:cubicBezTo>
                <a:cubicBezTo>
                  <a:pt x="56" y="57"/>
                  <a:pt x="62" y="59"/>
                  <a:pt x="69" y="60"/>
                </a:cubicBezTo>
                <a:cubicBezTo>
                  <a:pt x="69" y="60"/>
                  <a:pt x="64" y="58"/>
                  <a:pt x="59" y="51"/>
                </a:cubicBezTo>
                <a:cubicBezTo>
                  <a:pt x="68" y="46"/>
                  <a:pt x="73" y="38"/>
                  <a:pt x="73" y="29"/>
                </a:cubicBezTo>
                <a:cubicBezTo>
                  <a:pt x="73" y="13"/>
                  <a:pt x="56" y="0"/>
                  <a:pt x="35" y="0"/>
                </a:cubicBezTo>
              </a:path>
            </a:pathLst>
          </a:custGeom>
          <a:solidFill>
            <a:srgbClr val="eff3f4"/>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7" name="Freeform 1789"/>
          <p:cNvSpPr/>
          <p:nvPr/>
        </p:nvSpPr>
        <p:spPr>
          <a:xfrm>
            <a:off x="10474200" y="6243480"/>
            <a:ext cx="870120" cy="868680"/>
          </a:xfrm>
          <a:custGeom>
            <a:avLst/>
            <a:gdLst/>
            <a:ahLst/>
            <a:rect l="l" t="t" r="r" b="b"/>
            <a:pathLst>
              <a:path w="125" h="125">
                <a:moveTo>
                  <a:pt x="52" y="38"/>
                </a:moveTo>
                <a:cubicBezTo>
                  <a:pt x="51" y="38"/>
                  <a:pt x="50" y="37"/>
                  <a:pt x="49" y="35"/>
                </a:cubicBezTo>
                <a:cubicBezTo>
                  <a:pt x="49" y="33"/>
                  <a:pt x="49" y="32"/>
                  <a:pt x="49" y="30"/>
                </a:cubicBezTo>
                <a:cubicBezTo>
                  <a:pt x="50" y="28"/>
                  <a:pt x="53" y="24"/>
                  <a:pt x="55" y="24"/>
                </a:cubicBezTo>
                <a:cubicBezTo>
                  <a:pt x="56" y="24"/>
                  <a:pt x="57" y="24"/>
                  <a:pt x="58" y="24"/>
                </a:cubicBezTo>
                <a:cubicBezTo>
                  <a:pt x="59" y="24"/>
                  <a:pt x="60" y="24"/>
                  <a:pt x="61" y="24"/>
                </a:cubicBezTo>
                <a:cubicBezTo>
                  <a:pt x="63" y="24"/>
                  <a:pt x="66" y="26"/>
                  <a:pt x="66" y="28"/>
                </a:cubicBezTo>
                <a:cubicBezTo>
                  <a:pt x="66" y="29"/>
                  <a:pt x="64" y="31"/>
                  <a:pt x="61" y="32"/>
                </a:cubicBezTo>
                <a:cubicBezTo>
                  <a:pt x="61" y="33"/>
                  <a:pt x="60" y="33"/>
                  <a:pt x="60" y="33"/>
                </a:cubicBezTo>
                <a:cubicBezTo>
                  <a:pt x="57" y="34"/>
                  <a:pt x="53" y="37"/>
                  <a:pt x="52" y="38"/>
                </a:cubicBezTo>
                <a:cubicBezTo>
                  <a:pt x="52" y="38"/>
                  <a:pt x="52" y="38"/>
                  <a:pt x="52" y="38"/>
                </a:cubicBezTo>
                <a:moveTo>
                  <a:pt x="63" y="0"/>
                </a:moveTo>
                <a:cubicBezTo>
                  <a:pt x="45" y="0"/>
                  <a:pt x="28" y="8"/>
                  <a:pt x="17" y="20"/>
                </a:cubicBezTo>
                <a:cubicBezTo>
                  <a:pt x="20" y="19"/>
                  <a:pt x="22" y="19"/>
                  <a:pt x="25" y="19"/>
                </a:cubicBezTo>
                <a:cubicBezTo>
                  <a:pt x="25" y="19"/>
                  <a:pt x="26" y="19"/>
                  <a:pt x="26" y="19"/>
                </a:cubicBezTo>
                <a:cubicBezTo>
                  <a:pt x="29" y="19"/>
                  <a:pt x="33" y="19"/>
                  <a:pt x="35" y="19"/>
                </a:cubicBezTo>
                <a:cubicBezTo>
                  <a:pt x="37" y="20"/>
                  <a:pt x="38" y="20"/>
                  <a:pt x="40" y="20"/>
                </a:cubicBezTo>
                <a:cubicBezTo>
                  <a:pt x="43" y="21"/>
                  <a:pt x="45" y="24"/>
                  <a:pt x="46" y="27"/>
                </a:cubicBezTo>
                <a:cubicBezTo>
                  <a:pt x="46" y="29"/>
                  <a:pt x="46" y="31"/>
                  <a:pt x="46" y="32"/>
                </a:cubicBezTo>
                <a:cubicBezTo>
                  <a:pt x="47" y="35"/>
                  <a:pt x="45" y="39"/>
                  <a:pt x="43" y="41"/>
                </a:cubicBezTo>
                <a:cubicBezTo>
                  <a:pt x="40" y="44"/>
                  <a:pt x="37" y="47"/>
                  <a:pt x="35" y="50"/>
                </a:cubicBezTo>
                <a:cubicBezTo>
                  <a:pt x="32" y="52"/>
                  <a:pt x="33" y="55"/>
                  <a:pt x="35" y="57"/>
                </a:cubicBezTo>
                <a:cubicBezTo>
                  <a:pt x="38" y="59"/>
                  <a:pt x="41" y="60"/>
                  <a:pt x="43" y="62"/>
                </a:cubicBezTo>
                <a:cubicBezTo>
                  <a:pt x="46" y="64"/>
                  <a:pt x="50" y="66"/>
                  <a:pt x="53" y="68"/>
                </a:cubicBezTo>
                <a:cubicBezTo>
                  <a:pt x="53" y="68"/>
                  <a:pt x="54" y="68"/>
                  <a:pt x="54" y="68"/>
                </a:cubicBezTo>
                <a:cubicBezTo>
                  <a:pt x="57" y="69"/>
                  <a:pt x="59" y="72"/>
                  <a:pt x="59" y="75"/>
                </a:cubicBezTo>
                <a:cubicBezTo>
                  <a:pt x="59" y="78"/>
                  <a:pt x="58" y="80"/>
                  <a:pt x="56" y="81"/>
                </a:cubicBezTo>
                <a:cubicBezTo>
                  <a:pt x="54" y="81"/>
                  <a:pt x="52" y="83"/>
                  <a:pt x="50" y="86"/>
                </a:cubicBezTo>
                <a:cubicBezTo>
                  <a:pt x="50" y="86"/>
                  <a:pt x="50" y="87"/>
                  <a:pt x="50" y="87"/>
                </a:cubicBezTo>
                <a:cubicBezTo>
                  <a:pt x="48" y="90"/>
                  <a:pt x="45" y="94"/>
                  <a:pt x="44" y="96"/>
                </a:cubicBezTo>
                <a:cubicBezTo>
                  <a:pt x="42" y="97"/>
                  <a:pt x="42" y="100"/>
                  <a:pt x="43" y="101"/>
                </a:cubicBezTo>
                <a:cubicBezTo>
                  <a:pt x="45" y="103"/>
                  <a:pt x="45" y="105"/>
                  <a:pt x="45" y="106"/>
                </a:cubicBezTo>
                <a:cubicBezTo>
                  <a:pt x="45" y="107"/>
                  <a:pt x="44" y="108"/>
                  <a:pt x="43" y="108"/>
                </a:cubicBezTo>
                <a:cubicBezTo>
                  <a:pt x="42" y="108"/>
                  <a:pt x="41" y="108"/>
                  <a:pt x="41" y="108"/>
                </a:cubicBezTo>
                <a:cubicBezTo>
                  <a:pt x="40" y="107"/>
                  <a:pt x="40" y="107"/>
                  <a:pt x="40" y="107"/>
                </a:cubicBezTo>
                <a:cubicBezTo>
                  <a:pt x="37" y="106"/>
                  <a:pt x="35" y="103"/>
                  <a:pt x="36" y="100"/>
                </a:cubicBezTo>
                <a:cubicBezTo>
                  <a:pt x="36" y="97"/>
                  <a:pt x="36" y="95"/>
                  <a:pt x="36" y="92"/>
                </a:cubicBezTo>
                <a:cubicBezTo>
                  <a:pt x="36" y="89"/>
                  <a:pt x="35" y="86"/>
                  <a:pt x="33" y="85"/>
                </a:cubicBezTo>
                <a:cubicBezTo>
                  <a:pt x="32" y="84"/>
                  <a:pt x="29" y="81"/>
                  <a:pt x="28" y="80"/>
                </a:cubicBezTo>
                <a:cubicBezTo>
                  <a:pt x="26" y="78"/>
                  <a:pt x="25" y="74"/>
                  <a:pt x="25" y="71"/>
                </a:cubicBezTo>
                <a:cubicBezTo>
                  <a:pt x="25" y="68"/>
                  <a:pt x="23" y="64"/>
                  <a:pt x="22" y="62"/>
                </a:cubicBezTo>
                <a:cubicBezTo>
                  <a:pt x="20" y="61"/>
                  <a:pt x="19" y="60"/>
                  <a:pt x="19" y="60"/>
                </a:cubicBezTo>
                <a:cubicBezTo>
                  <a:pt x="19" y="60"/>
                  <a:pt x="19" y="60"/>
                  <a:pt x="19" y="60"/>
                </a:cubicBezTo>
                <a:cubicBezTo>
                  <a:pt x="19" y="60"/>
                  <a:pt x="19" y="60"/>
                  <a:pt x="19" y="60"/>
                </a:cubicBezTo>
                <a:cubicBezTo>
                  <a:pt x="19" y="60"/>
                  <a:pt x="19" y="60"/>
                  <a:pt x="19" y="60"/>
                </a:cubicBezTo>
                <a:cubicBezTo>
                  <a:pt x="18" y="60"/>
                  <a:pt x="17" y="60"/>
                  <a:pt x="13" y="60"/>
                </a:cubicBezTo>
                <a:cubicBezTo>
                  <a:pt x="13" y="60"/>
                  <a:pt x="13" y="60"/>
                  <a:pt x="13" y="60"/>
                </a:cubicBezTo>
                <a:cubicBezTo>
                  <a:pt x="7" y="60"/>
                  <a:pt x="8" y="54"/>
                  <a:pt x="8" y="54"/>
                </a:cubicBezTo>
                <a:cubicBezTo>
                  <a:pt x="8" y="51"/>
                  <a:pt x="9" y="46"/>
                  <a:pt x="10" y="43"/>
                </a:cubicBezTo>
                <a:cubicBezTo>
                  <a:pt x="11" y="41"/>
                  <a:pt x="11" y="39"/>
                  <a:pt x="12" y="37"/>
                </a:cubicBezTo>
                <a:cubicBezTo>
                  <a:pt x="13" y="34"/>
                  <a:pt x="12" y="33"/>
                  <a:pt x="11" y="33"/>
                </a:cubicBezTo>
                <a:cubicBezTo>
                  <a:pt x="10" y="33"/>
                  <a:pt x="9" y="33"/>
                  <a:pt x="9" y="33"/>
                </a:cubicBezTo>
                <a:cubicBezTo>
                  <a:pt x="8" y="34"/>
                  <a:pt x="7" y="34"/>
                  <a:pt x="7" y="34"/>
                </a:cubicBezTo>
                <a:cubicBezTo>
                  <a:pt x="2" y="43"/>
                  <a:pt x="0" y="52"/>
                  <a:pt x="0" y="63"/>
                </a:cubicBezTo>
                <a:cubicBezTo>
                  <a:pt x="0" y="97"/>
                  <a:pt x="28" y="125"/>
                  <a:pt x="63" y="125"/>
                </a:cubicBezTo>
                <a:cubicBezTo>
                  <a:pt x="97" y="125"/>
                  <a:pt x="125" y="98"/>
                  <a:pt x="125" y="64"/>
                </a:cubicBezTo>
                <a:cubicBezTo>
                  <a:pt x="124" y="65"/>
                  <a:pt x="121" y="66"/>
                  <a:pt x="120" y="66"/>
                </a:cubicBezTo>
                <a:cubicBezTo>
                  <a:pt x="120" y="66"/>
                  <a:pt x="120" y="66"/>
                  <a:pt x="120" y="66"/>
                </a:cubicBezTo>
                <a:cubicBezTo>
                  <a:pt x="118" y="66"/>
                  <a:pt x="117" y="65"/>
                  <a:pt x="117" y="63"/>
                </a:cubicBezTo>
                <a:cubicBezTo>
                  <a:pt x="117" y="62"/>
                  <a:pt x="116" y="61"/>
                  <a:pt x="114" y="61"/>
                </a:cubicBezTo>
                <a:cubicBezTo>
                  <a:pt x="114" y="61"/>
                  <a:pt x="114" y="61"/>
                  <a:pt x="114" y="61"/>
                </a:cubicBezTo>
                <a:cubicBezTo>
                  <a:pt x="113" y="61"/>
                  <a:pt x="112" y="63"/>
                  <a:pt x="111" y="66"/>
                </a:cubicBezTo>
                <a:cubicBezTo>
                  <a:pt x="111" y="70"/>
                  <a:pt x="111" y="72"/>
                  <a:pt x="106" y="72"/>
                </a:cubicBezTo>
                <a:cubicBezTo>
                  <a:pt x="106" y="72"/>
                  <a:pt x="106" y="72"/>
                  <a:pt x="106" y="72"/>
                </a:cubicBezTo>
                <a:cubicBezTo>
                  <a:pt x="103" y="72"/>
                  <a:pt x="102" y="71"/>
                  <a:pt x="102" y="69"/>
                </a:cubicBezTo>
                <a:cubicBezTo>
                  <a:pt x="102" y="67"/>
                  <a:pt x="103" y="66"/>
                  <a:pt x="103" y="66"/>
                </a:cubicBezTo>
                <a:cubicBezTo>
                  <a:pt x="105" y="63"/>
                  <a:pt x="104" y="59"/>
                  <a:pt x="102" y="56"/>
                </a:cubicBezTo>
                <a:cubicBezTo>
                  <a:pt x="101" y="55"/>
                  <a:pt x="99" y="54"/>
                  <a:pt x="98" y="53"/>
                </a:cubicBezTo>
                <a:cubicBezTo>
                  <a:pt x="97" y="51"/>
                  <a:pt x="95" y="50"/>
                  <a:pt x="94" y="50"/>
                </a:cubicBezTo>
                <a:cubicBezTo>
                  <a:pt x="93" y="50"/>
                  <a:pt x="93" y="50"/>
                  <a:pt x="93" y="50"/>
                </a:cubicBezTo>
                <a:cubicBezTo>
                  <a:pt x="92" y="51"/>
                  <a:pt x="92" y="53"/>
                  <a:pt x="94" y="54"/>
                </a:cubicBezTo>
                <a:cubicBezTo>
                  <a:pt x="95" y="56"/>
                  <a:pt x="96" y="58"/>
                  <a:pt x="95" y="59"/>
                </a:cubicBezTo>
                <a:cubicBezTo>
                  <a:pt x="95" y="59"/>
                  <a:pt x="94" y="59"/>
                  <a:pt x="94" y="59"/>
                </a:cubicBezTo>
                <a:cubicBezTo>
                  <a:pt x="92" y="59"/>
                  <a:pt x="91" y="59"/>
                  <a:pt x="89" y="58"/>
                </a:cubicBezTo>
                <a:cubicBezTo>
                  <a:pt x="89" y="58"/>
                  <a:pt x="88" y="58"/>
                  <a:pt x="88" y="57"/>
                </a:cubicBezTo>
                <a:cubicBezTo>
                  <a:pt x="87" y="57"/>
                  <a:pt x="86" y="57"/>
                  <a:pt x="86" y="57"/>
                </a:cubicBezTo>
                <a:cubicBezTo>
                  <a:pt x="85" y="57"/>
                  <a:pt x="85" y="57"/>
                  <a:pt x="87" y="59"/>
                </a:cubicBezTo>
                <a:cubicBezTo>
                  <a:pt x="88" y="60"/>
                  <a:pt x="89" y="61"/>
                  <a:pt x="90" y="62"/>
                </a:cubicBezTo>
                <a:cubicBezTo>
                  <a:pt x="92" y="65"/>
                  <a:pt x="93" y="69"/>
                  <a:pt x="92" y="72"/>
                </a:cubicBezTo>
                <a:cubicBezTo>
                  <a:pt x="92" y="72"/>
                  <a:pt x="91" y="72"/>
                  <a:pt x="91" y="73"/>
                </a:cubicBezTo>
                <a:cubicBezTo>
                  <a:pt x="90" y="76"/>
                  <a:pt x="88" y="80"/>
                  <a:pt x="87" y="83"/>
                </a:cubicBezTo>
                <a:cubicBezTo>
                  <a:pt x="87" y="84"/>
                  <a:pt x="87" y="84"/>
                  <a:pt x="87" y="84"/>
                </a:cubicBezTo>
                <a:cubicBezTo>
                  <a:pt x="86" y="87"/>
                  <a:pt x="85" y="90"/>
                  <a:pt x="83" y="92"/>
                </a:cubicBezTo>
                <a:cubicBezTo>
                  <a:pt x="82" y="92"/>
                  <a:pt x="82" y="93"/>
                  <a:pt x="81" y="93"/>
                </a:cubicBezTo>
                <a:cubicBezTo>
                  <a:pt x="81" y="93"/>
                  <a:pt x="80" y="92"/>
                  <a:pt x="80" y="91"/>
                </a:cubicBezTo>
                <a:cubicBezTo>
                  <a:pt x="80" y="90"/>
                  <a:pt x="78" y="88"/>
                  <a:pt x="77" y="88"/>
                </a:cubicBezTo>
                <a:cubicBezTo>
                  <a:pt x="75" y="88"/>
                  <a:pt x="74" y="85"/>
                  <a:pt x="73" y="82"/>
                </a:cubicBezTo>
                <a:cubicBezTo>
                  <a:pt x="73" y="81"/>
                  <a:pt x="73" y="79"/>
                  <a:pt x="73" y="77"/>
                </a:cubicBezTo>
                <a:cubicBezTo>
                  <a:pt x="72" y="74"/>
                  <a:pt x="70" y="70"/>
                  <a:pt x="67" y="69"/>
                </a:cubicBezTo>
                <a:cubicBezTo>
                  <a:pt x="66" y="69"/>
                  <a:pt x="66" y="68"/>
                  <a:pt x="65" y="68"/>
                </a:cubicBezTo>
                <a:cubicBezTo>
                  <a:pt x="62" y="67"/>
                  <a:pt x="58" y="63"/>
                  <a:pt x="57" y="61"/>
                </a:cubicBezTo>
                <a:cubicBezTo>
                  <a:pt x="57" y="60"/>
                  <a:pt x="56" y="60"/>
                  <a:pt x="56" y="60"/>
                </a:cubicBezTo>
                <a:cubicBezTo>
                  <a:pt x="55" y="57"/>
                  <a:pt x="56" y="55"/>
                  <a:pt x="59" y="55"/>
                </a:cubicBezTo>
                <a:cubicBezTo>
                  <a:pt x="61" y="55"/>
                  <a:pt x="63" y="55"/>
                  <a:pt x="65" y="55"/>
                </a:cubicBezTo>
                <a:cubicBezTo>
                  <a:pt x="68" y="55"/>
                  <a:pt x="73" y="54"/>
                  <a:pt x="76" y="53"/>
                </a:cubicBezTo>
                <a:cubicBezTo>
                  <a:pt x="80" y="53"/>
                  <a:pt x="82" y="50"/>
                  <a:pt x="82" y="47"/>
                </a:cubicBezTo>
                <a:cubicBezTo>
                  <a:pt x="82" y="44"/>
                  <a:pt x="81" y="43"/>
                  <a:pt x="78" y="43"/>
                </a:cubicBezTo>
                <a:cubicBezTo>
                  <a:pt x="78" y="43"/>
                  <a:pt x="77" y="43"/>
                  <a:pt x="77" y="43"/>
                </a:cubicBezTo>
                <a:cubicBezTo>
                  <a:pt x="74" y="43"/>
                  <a:pt x="70" y="45"/>
                  <a:pt x="68" y="47"/>
                </a:cubicBezTo>
                <a:cubicBezTo>
                  <a:pt x="67" y="48"/>
                  <a:pt x="63" y="50"/>
                  <a:pt x="60" y="50"/>
                </a:cubicBezTo>
                <a:cubicBezTo>
                  <a:pt x="60" y="50"/>
                  <a:pt x="60" y="50"/>
                  <a:pt x="59" y="50"/>
                </a:cubicBezTo>
                <a:cubicBezTo>
                  <a:pt x="56" y="50"/>
                  <a:pt x="54" y="48"/>
                  <a:pt x="55" y="45"/>
                </a:cubicBezTo>
                <a:cubicBezTo>
                  <a:pt x="55" y="42"/>
                  <a:pt x="57" y="39"/>
                  <a:pt x="60" y="37"/>
                </a:cubicBezTo>
                <a:cubicBezTo>
                  <a:pt x="62" y="35"/>
                  <a:pt x="66" y="33"/>
                  <a:pt x="68" y="33"/>
                </a:cubicBezTo>
                <a:cubicBezTo>
                  <a:pt x="71" y="33"/>
                  <a:pt x="73" y="31"/>
                  <a:pt x="74" y="28"/>
                </a:cubicBezTo>
                <a:cubicBezTo>
                  <a:pt x="75" y="25"/>
                  <a:pt x="78" y="22"/>
                  <a:pt x="81" y="22"/>
                </a:cubicBezTo>
                <a:cubicBezTo>
                  <a:pt x="82" y="21"/>
                  <a:pt x="84" y="21"/>
                  <a:pt x="85" y="21"/>
                </a:cubicBezTo>
                <a:cubicBezTo>
                  <a:pt x="88" y="21"/>
                  <a:pt x="92" y="20"/>
                  <a:pt x="95" y="20"/>
                </a:cubicBezTo>
                <a:cubicBezTo>
                  <a:pt x="95" y="20"/>
                  <a:pt x="96" y="20"/>
                  <a:pt x="96" y="20"/>
                </a:cubicBezTo>
                <a:cubicBezTo>
                  <a:pt x="98" y="20"/>
                  <a:pt x="99" y="20"/>
                  <a:pt x="101" y="20"/>
                </a:cubicBezTo>
                <a:cubicBezTo>
                  <a:pt x="103" y="20"/>
                  <a:pt x="107" y="21"/>
                  <a:pt x="109" y="21"/>
                </a:cubicBezTo>
                <a:cubicBezTo>
                  <a:pt x="98" y="8"/>
                  <a:pt x="81" y="0"/>
                  <a:pt x="63" y="0"/>
                </a:cubicBezTo>
              </a:path>
            </a:pathLst>
          </a:custGeom>
          <a:solidFill>
            <a:srgbClr val="e3f3f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8" name="Freeform 1790"/>
          <p:cNvSpPr/>
          <p:nvPr/>
        </p:nvSpPr>
        <p:spPr>
          <a:xfrm>
            <a:off x="11907720" y="7835760"/>
            <a:ext cx="889200" cy="633600"/>
          </a:xfrm>
          <a:custGeom>
            <a:avLst/>
            <a:gdLst/>
            <a:ahLst/>
            <a:rect l="l" t="t" r="r" b="b"/>
            <a:pathLst>
              <a:path w="128" h="91">
                <a:moveTo>
                  <a:pt x="7" y="81"/>
                </a:moveTo>
                <a:cubicBezTo>
                  <a:pt x="7" y="7"/>
                  <a:pt x="7" y="7"/>
                  <a:pt x="7" y="7"/>
                </a:cubicBezTo>
                <a:cubicBezTo>
                  <a:pt x="121" y="7"/>
                  <a:pt x="121" y="7"/>
                  <a:pt x="121" y="7"/>
                </a:cubicBezTo>
                <a:cubicBezTo>
                  <a:pt x="121" y="81"/>
                  <a:pt x="121" y="81"/>
                  <a:pt x="121" y="81"/>
                </a:cubicBezTo>
                <a:cubicBezTo>
                  <a:pt x="7" y="81"/>
                  <a:pt x="7" y="81"/>
                  <a:pt x="7" y="81"/>
                </a:cubicBezTo>
                <a:moveTo>
                  <a:pt x="121" y="0"/>
                </a:moveTo>
                <a:cubicBezTo>
                  <a:pt x="7" y="0"/>
                  <a:pt x="7" y="0"/>
                  <a:pt x="7" y="0"/>
                </a:cubicBezTo>
                <a:cubicBezTo>
                  <a:pt x="3" y="0"/>
                  <a:pt x="0" y="3"/>
                  <a:pt x="0" y="7"/>
                </a:cubicBezTo>
                <a:cubicBezTo>
                  <a:pt x="0" y="83"/>
                  <a:pt x="0" y="83"/>
                  <a:pt x="0" y="83"/>
                </a:cubicBezTo>
                <a:cubicBezTo>
                  <a:pt x="0" y="88"/>
                  <a:pt x="3" y="91"/>
                  <a:pt x="7" y="91"/>
                </a:cubicBezTo>
                <a:cubicBezTo>
                  <a:pt x="121" y="91"/>
                  <a:pt x="121" y="91"/>
                  <a:pt x="121" y="91"/>
                </a:cubicBezTo>
                <a:cubicBezTo>
                  <a:pt x="125" y="91"/>
                  <a:pt x="128" y="88"/>
                  <a:pt x="128" y="83"/>
                </a:cubicBezTo>
                <a:cubicBezTo>
                  <a:pt x="128" y="7"/>
                  <a:pt x="128" y="7"/>
                  <a:pt x="128" y="7"/>
                </a:cubicBezTo>
                <a:cubicBezTo>
                  <a:pt x="128" y="3"/>
                  <a:pt x="125" y="0"/>
                  <a:pt x="121" y="0"/>
                </a:cubicBezTo>
              </a:path>
            </a:pathLst>
          </a:custGeom>
          <a:solidFill>
            <a:srgbClr val="dadfe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09" name="Freeform 1791"/>
          <p:cNvSpPr/>
          <p:nvPr/>
        </p:nvSpPr>
        <p:spPr>
          <a:xfrm>
            <a:off x="11852280" y="8489880"/>
            <a:ext cx="987480" cy="69840"/>
          </a:xfrm>
          <a:custGeom>
            <a:avLst/>
            <a:gdLst/>
            <a:ahLst/>
            <a:rect l="l" t="t" r="r" b="b"/>
            <a:pathLst>
              <a:path w="142" h="10">
                <a:moveTo>
                  <a:pt x="142" y="0"/>
                </a:moveTo>
                <a:cubicBezTo>
                  <a:pt x="90" y="0"/>
                  <a:pt x="90" y="0"/>
                  <a:pt x="90" y="0"/>
                </a:cubicBezTo>
                <a:cubicBezTo>
                  <a:pt x="90" y="0"/>
                  <a:pt x="90" y="4"/>
                  <a:pt x="83" y="4"/>
                </a:cubicBezTo>
                <a:cubicBezTo>
                  <a:pt x="75" y="4"/>
                  <a:pt x="68" y="4"/>
                  <a:pt x="60" y="4"/>
                </a:cubicBezTo>
                <a:cubicBezTo>
                  <a:pt x="53" y="4"/>
                  <a:pt x="53" y="0"/>
                  <a:pt x="53" y="0"/>
                </a:cubicBezTo>
                <a:cubicBezTo>
                  <a:pt x="0" y="0"/>
                  <a:pt x="0" y="0"/>
                  <a:pt x="0" y="0"/>
                </a:cubicBezTo>
                <a:cubicBezTo>
                  <a:pt x="0" y="0"/>
                  <a:pt x="0" y="10"/>
                  <a:pt x="15" y="10"/>
                </a:cubicBezTo>
                <a:cubicBezTo>
                  <a:pt x="30" y="10"/>
                  <a:pt x="113" y="10"/>
                  <a:pt x="127" y="10"/>
                </a:cubicBezTo>
                <a:cubicBezTo>
                  <a:pt x="142" y="10"/>
                  <a:pt x="142" y="0"/>
                  <a:pt x="142" y="0"/>
                </a:cubicBezTo>
              </a:path>
            </a:pathLst>
          </a:custGeom>
          <a:solidFill>
            <a:srgbClr val="dadfe6"/>
          </a:solidFill>
          <a:ln w="0">
            <a:noFill/>
          </a:ln>
        </p:spPr>
        <p:style>
          <a:lnRef idx="0"/>
          <a:fillRef idx="0"/>
          <a:effectRef idx="0"/>
          <a:fontRef idx="minor"/>
        </p:style>
        <p:txBody>
          <a:bodyPr lIns="219240" rIns="219240" tIns="-39600" bIns="-39600" anchor="t">
            <a:noAutofit/>
          </a:bodyPr>
          <a:p>
            <a:endParaRPr b="0" lang="en-US" sz="3500" spc="-1" strike="noStrike">
              <a:solidFill>
                <a:srgbClr val="000000"/>
              </a:solidFill>
              <a:latin typeface="Open Sans Light"/>
            </a:endParaRPr>
          </a:p>
        </p:txBody>
      </p:sp>
      <p:sp>
        <p:nvSpPr>
          <p:cNvPr id="2510" name="Freeform 1792"/>
          <p:cNvSpPr/>
          <p:nvPr/>
        </p:nvSpPr>
        <p:spPr>
          <a:xfrm>
            <a:off x="11657160" y="700200"/>
            <a:ext cx="1209600" cy="960480"/>
          </a:xfrm>
          <a:custGeom>
            <a:avLst/>
            <a:gdLst/>
            <a:ahLst/>
            <a:rect l="l" t="t" r="r" b="b"/>
            <a:pathLst>
              <a:path w="174" h="138">
                <a:moveTo>
                  <a:pt x="87" y="0"/>
                </a:moveTo>
                <a:cubicBezTo>
                  <a:pt x="39" y="0"/>
                  <a:pt x="0" y="30"/>
                  <a:pt x="0" y="67"/>
                </a:cubicBezTo>
                <a:cubicBezTo>
                  <a:pt x="0" y="88"/>
                  <a:pt x="12" y="106"/>
                  <a:pt x="31" y="118"/>
                </a:cubicBezTo>
                <a:cubicBezTo>
                  <a:pt x="21" y="133"/>
                  <a:pt x="9" y="138"/>
                  <a:pt x="9" y="138"/>
                </a:cubicBezTo>
                <a:cubicBezTo>
                  <a:pt x="25" y="135"/>
                  <a:pt x="38" y="131"/>
                  <a:pt x="48" y="127"/>
                </a:cubicBezTo>
                <a:cubicBezTo>
                  <a:pt x="59" y="132"/>
                  <a:pt x="73" y="134"/>
                  <a:pt x="87" y="134"/>
                </a:cubicBezTo>
                <a:cubicBezTo>
                  <a:pt x="135" y="134"/>
                  <a:pt x="174" y="104"/>
                  <a:pt x="174" y="67"/>
                </a:cubicBezTo>
                <a:cubicBezTo>
                  <a:pt x="174" y="30"/>
                  <a:pt x="135" y="0"/>
                  <a:pt x="87"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1" name="Freeform 1793"/>
          <p:cNvSpPr/>
          <p:nvPr/>
        </p:nvSpPr>
        <p:spPr>
          <a:xfrm>
            <a:off x="12595320" y="1208160"/>
            <a:ext cx="765000" cy="633240"/>
          </a:xfrm>
          <a:custGeom>
            <a:avLst/>
            <a:gdLst/>
            <a:ahLst/>
            <a:rect l="l" t="t" r="r" b="b"/>
            <a:pathLst>
              <a:path w="110" h="91">
                <a:moveTo>
                  <a:pt x="89" y="78"/>
                </a:moveTo>
                <a:cubicBezTo>
                  <a:pt x="102" y="70"/>
                  <a:pt x="110" y="58"/>
                  <a:pt x="110" y="44"/>
                </a:cubicBezTo>
                <a:cubicBezTo>
                  <a:pt x="110" y="20"/>
                  <a:pt x="84" y="0"/>
                  <a:pt x="53" y="0"/>
                </a:cubicBezTo>
                <a:cubicBezTo>
                  <a:pt x="52" y="0"/>
                  <a:pt x="51" y="0"/>
                  <a:pt x="50" y="0"/>
                </a:cubicBezTo>
                <a:cubicBezTo>
                  <a:pt x="47" y="27"/>
                  <a:pt x="28" y="49"/>
                  <a:pt x="0" y="62"/>
                </a:cubicBezTo>
                <a:cubicBezTo>
                  <a:pt x="9" y="77"/>
                  <a:pt x="29" y="88"/>
                  <a:pt x="53" y="88"/>
                </a:cubicBezTo>
                <a:cubicBezTo>
                  <a:pt x="62" y="88"/>
                  <a:pt x="71" y="87"/>
                  <a:pt x="78" y="84"/>
                </a:cubicBezTo>
                <a:cubicBezTo>
                  <a:pt x="85" y="86"/>
                  <a:pt x="93" y="89"/>
                  <a:pt x="104" y="91"/>
                </a:cubicBezTo>
                <a:cubicBezTo>
                  <a:pt x="104"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2" name="Freeform 1794"/>
          <p:cNvSpPr/>
          <p:nvPr/>
        </p:nvSpPr>
        <p:spPr>
          <a:xfrm>
            <a:off x="11671200" y="720720"/>
            <a:ext cx="1216080" cy="960480"/>
          </a:xfrm>
          <a:custGeom>
            <a:avLst/>
            <a:gdLst/>
            <a:ahLst/>
            <a:rect l="l" t="t" r="r" b="b"/>
            <a:pathLst>
              <a:path w="175" h="138">
                <a:moveTo>
                  <a:pt x="88" y="0"/>
                </a:moveTo>
                <a:cubicBezTo>
                  <a:pt x="39" y="0"/>
                  <a:pt x="0" y="30"/>
                  <a:pt x="0" y="67"/>
                </a:cubicBezTo>
                <a:cubicBezTo>
                  <a:pt x="0" y="87"/>
                  <a:pt x="12" y="106"/>
                  <a:pt x="31" y="118"/>
                </a:cubicBezTo>
                <a:cubicBezTo>
                  <a:pt x="21" y="133"/>
                  <a:pt x="10" y="138"/>
                  <a:pt x="10" y="138"/>
                </a:cubicBezTo>
                <a:cubicBezTo>
                  <a:pt x="26" y="135"/>
                  <a:pt x="38" y="131"/>
                  <a:pt x="48" y="127"/>
                </a:cubicBezTo>
                <a:cubicBezTo>
                  <a:pt x="60" y="131"/>
                  <a:pt x="74" y="134"/>
                  <a:pt x="88" y="134"/>
                </a:cubicBezTo>
                <a:cubicBezTo>
                  <a:pt x="136" y="134"/>
                  <a:pt x="175" y="104"/>
                  <a:pt x="175" y="67"/>
                </a:cubicBezTo>
                <a:cubicBezTo>
                  <a:pt x="175" y="30"/>
                  <a:pt x="136" y="0"/>
                  <a:pt x="88"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3" name="Freeform 1795"/>
          <p:cNvSpPr/>
          <p:nvPr/>
        </p:nvSpPr>
        <p:spPr>
          <a:xfrm>
            <a:off x="12615840" y="1228680"/>
            <a:ext cx="765360" cy="633600"/>
          </a:xfrm>
          <a:custGeom>
            <a:avLst/>
            <a:gdLst/>
            <a:ahLst/>
            <a:rect l="l" t="t" r="r" b="b"/>
            <a:pathLst>
              <a:path w="110" h="91">
                <a:moveTo>
                  <a:pt x="89" y="78"/>
                </a:moveTo>
                <a:cubicBezTo>
                  <a:pt x="102" y="70"/>
                  <a:pt x="110" y="58"/>
                  <a:pt x="110" y="44"/>
                </a:cubicBezTo>
                <a:cubicBezTo>
                  <a:pt x="110" y="20"/>
                  <a:pt x="84" y="0"/>
                  <a:pt x="52" y="0"/>
                </a:cubicBezTo>
                <a:cubicBezTo>
                  <a:pt x="51" y="0"/>
                  <a:pt x="50" y="0"/>
                  <a:pt x="49" y="0"/>
                </a:cubicBezTo>
                <a:cubicBezTo>
                  <a:pt x="47" y="27"/>
                  <a:pt x="27" y="49"/>
                  <a:pt x="0" y="62"/>
                </a:cubicBezTo>
                <a:cubicBezTo>
                  <a:pt x="9" y="77"/>
                  <a:pt x="29" y="88"/>
                  <a:pt x="52" y="88"/>
                </a:cubicBezTo>
                <a:cubicBezTo>
                  <a:pt x="62" y="88"/>
                  <a:pt x="70" y="86"/>
                  <a:pt x="78" y="83"/>
                </a:cubicBezTo>
                <a:cubicBezTo>
                  <a:pt x="85" y="86"/>
                  <a:pt x="93" y="89"/>
                  <a:pt x="103" y="91"/>
                </a:cubicBezTo>
                <a:cubicBezTo>
                  <a:pt x="103"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4" name="Freeform 1796"/>
          <p:cNvSpPr/>
          <p:nvPr/>
        </p:nvSpPr>
        <p:spPr>
          <a:xfrm>
            <a:off x="11657160" y="700200"/>
            <a:ext cx="1209600" cy="960480"/>
          </a:xfrm>
          <a:custGeom>
            <a:avLst/>
            <a:gdLst/>
            <a:ahLst/>
            <a:rect l="l" t="t" r="r" b="b"/>
            <a:pathLst>
              <a:path w="174" h="138">
                <a:moveTo>
                  <a:pt x="87" y="0"/>
                </a:moveTo>
                <a:cubicBezTo>
                  <a:pt x="39" y="0"/>
                  <a:pt x="0" y="30"/>
                  <a:pt x="0" y="67"/>
                </a:cubicBezTo>
                <a:cubicBezTo>
                  <a:pt x="0" y="88"/>
                  <a:pt x="12" y="106"/>
                  <a:pt x="31" y="118"/>
                </a:cubicBezTo>
                <a:cubicBezTo>
                  <a:pt x="21" y="133"/>
                  <a:pt x="9" y="138"/>
                  <a:pt x="9" y="138"/>
                </a:cubicBezTo>
                <a:cubicBezTo>
                  <a:pt x="25" y="135"/>
                  <a:pt x="38" y="131"/>
                  <a:pt x="48" y="127"/>
                </a:cubicBezTo>
                <a:cubicBezTo>
                  <a:pt x="59" y="132"/>
                  <a:pt x="73" y="134"/>
                  <a:pt x="87" y="134"/>
                </a:cubicBezTo>
                <a:cubicBezTo>
                  <a:pt x="135" y="134"/>
                  <a:pt x="174" y="104"/>
                  <a:pt x="174" y="67"/>
                </a:cubicBezTo>
                <a:cubicBezTo>
                  <a:pt x="174" y="30"/>
                  <a:pt x="135" y="0"/>
                  <a:pt x="87" y="0"/>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5" name="Freeform 1797"/>
          <p:cNvSpPr/>
          <p:nvPr/>
        </p:nvSpPr>
        <p:spPr>
          <a:xfrm>
            <a:off x="12595320" y="1208160"/>
            <a:ext cx="765000" cy="633240"/>
          </a:xfrm>
          <a:custGeom>
            <a:avLst/>
            <a:gdLst/>
            <a:ahLst/>
            <a:rect l="l" t="t" r="r" b="b"/>
            <a:pathLst>
              <a:path w="110" h="91">
                <a:moveTo>
                  <a:pt x="89" y="78"/>
                </a:moveTo>
                <a:cubicBezTo>
                  <a:pt x="102" y="70"/>
                  <a:pt x="110" y="58"/>
                  <a:pt x="110" y="44"/>
                </a:cubicBezTo>
                <a:cubicBezTo>
                  <a:pt x="110" y="20"/>
                  <a:pt x="84" y="0"/>
                  <a:pt x="53" y="0"/>
                </a:cubicBezTo>
                <a:cubicBezTo>
                  <a:pt x="52" y="0"/>
                  <a:pt x="51" y="0"/>
                  <a:pt x="50" y="0"/>
                </a:cubicBezTo>
                <a:cubicBezTo>
                  <a:pt x="47" y="27"/>
                  <a:pt x="28" y="49"/>
                  <a:pt x="0" y="62"/>
                </a:cubicBezTo>
                <a:cubicBezTo>
                  <a:pt x="9" y="77"/>
                  <a:pt x="29" y="88"/>
                  <a:pt x="53" y="88"/>
                </a:cubicBezTo>
                <a:cubicBezTo>
                  <a:pt x="62" y="88"/>
                  <a:pt x="71" y="87"/>
                  <a:pt x="78" y="84"/>
                </a:cubicBezTo>
                <a:cubicBezTo>
                  <a:pt x="85" y="86"/>
                  <a:pt x="93" y="89"/>
                  <a:pt x="104" y="91"/>
                </a:cubicBezTo>
                <a:cubicBezTo>
                  <a:pt x="104" y="91"/>
                  <a:pt x="96" y="87"/>
                  <a:pt x="89" y="78"/>
                </a:cubicBez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6" name="Freeform 1798"/>
          <p:cNvSpPr/>
          <p:nvPr/>
        </p:nvSpPr>
        <p:spPr>
          <a:xfrm>
            <a:off x="7080120" y="5192640"/>
            <a:ext cx="1211400" cy="120960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4" y="92"/>
                  <a:pt x="144" y="92"/>
                </a:cubicBezTo>
                <a:cubicBezTo>
                  <a:pt x="146" y="88"/>
                  <a:pt x="145" y="82"/>
                  <a:pt x="142" y="79"/>
                </a:cubicBezTo>
                <a:cubicBezTo>
                  <a:pt x="140" y="77"/>
                  <a:pt x="138" y="75"/>
                  <a:pt x="137" y="73"/>
                </a:cubicBezTo>
                <a:cubicBezTo>
                  <a:pt x="134" y="70"/>
                  <a:pt x="130" y="69"/>
                  <a:pt x="129" y="70"/>
                </a:cubicBezTo>
                <a:cubicBezTo>
                  <a:pt x="128" y="71"/>
                  <a:pt x="129" y="74"/>
                  <a:pt x="130" y="76"/>
                </a:cubicBezTo>
                <a:cubicBezTo>
                  <a:pt x="132" y="77"/>
                  <a:pt x="133" y="80"/>
                  <a:pt x="133" y="82"/>
                </a:cubicBezTo>
                <a:cubicBezTo>
                  <a:pt x="132" y="83"/>
                  <a:pt x="128" y="83"/>
                  <a:pt x="124" y="81"/>
                </a:cubicBezTo>
                <a:cubicBezTo>
                  <a:pt x="123" y="80"/>
                  <a:pt x="123" y="80"/>
                  <a:pt x="122" y="80"/>
                </a:cubicBezTo>
                <a:cubicBezTo>
                  <a:pt x="118" y="78"/>
                  <a:pt x="118" y="79"/>
                  <a:pt x="121" y="82"/>
                </a:cubicBezTo>
                <a:cubicBezTo>
                  <a:pt x="122" y="84"/>
                  <a:pt x="124" y="85"/>
                  <a:pt x="125" y="87"/>
                </a:cubicBezTo>
                <a:cubicBezTo>
                  <a:pt x="129" y="90"/>
                  <a:pt x="130" y="96"/>
                  <a:pt x="128" y="99"/>
                </a:cubicBezTo>
                <a:cubicBezTo>
                  <a:pt x="128" y="100"/>
                  <a:pt x="127" y="101"/>
                  <a:pt x="127" y="101"/>
                </a:cubicBezTo>
                <a:cubicBezTo>
                  <a:pt x="125" y="105"/>
                  <a:pt x="123" y="112"/>
                  <a:pt x="122" y="116"/>
                </a:cubicBezTo>
                <a:cubicBezTo>
                  <a:pt x="122" y="116"/>
                  <a:pt x="121" y="116"/>
                  <a:pt x="121" y="117"/>
                </a:cubicBezTo>
                <a:cubicBezTo>
                  <a:pt x="120" y="121"/>
                  <a:pt x="118" y="126"/>
                  <a:pt x="116" y="127"/>
                </a:cubicBezTo>
                <a:cubicBezTo>
                  <a:pt x="114" y="129"/>
                  <a:pt x="112" y="129"/>
                  <a:pt x="111" y="127"/>
                </a:cubicBezTo>
                <a:cubicBezTo>
                  <a:pt x="111" y="125"/>
                  <a:pt x="109" y="123"/>
                  <a:pt x="107" y="123"/>
                </a:cubicBezTo>
                <a:cubicBezTo>
                  <a:pt x="105" y="122"/>
                  <a:pt x="103" y="119"/>
                  <a:pt x="102" y="115"/>
                </a:cubicBezTo>
                <a:cubicBezTo>
                  <a:pt x="102" y="112"/>
                  <a:pt x="102" y="110"/>
                  <a:pt x="101" y="107"/>
                </a:cubicBezTo>
                <a:cubicBezTo>
                  <a:pt x="101" y="103"/>
                  <a:pt x="97" y="98"/>
                  <a:pt x="93" y="96"/>
                </a:cubicBezTo>
                <a:cubicBezTo>
                  <a:pt x="93" y="95"/>
                  <a:pt x="92" y="95"/>
                  <a:pt x="91" y="95"/>
                </a:cubicBezTo>
                <a:cubicBezTo>
                  <a:pt x="87" y="93"/>
                  <a:pt x="82" y="88"/>
                  <a:pt x="79" y="85"/>
                </a:cubicBezTo>
                <a:cubicBezTo>
                  <a:pt x="79" y="84"/>
                  <a:pt x="79" y="84"/>
                  <a:pt x="79" y="83"/>
                </a:cubicBezTo>
                <a:cubicBezTo>
                  <a:pt x="76" y="80"/>
                  <a:pt x="78" y="77"/>
                  <a:pt x="83" y="77"/>
                </a:cubicBezTo>
                <a:cubicBezTo>
                  <a:pt x="86" y="77"/>
                  <a:pt x="88" y="77"/>
                  <a:pt x="91" y="77"/>
                </a:cubicBezTo>
                <a:cubicBezTo>
                  <a:pt x="95" y="77"/>
                  <a:pt x="102" y="76"/>
                  <a:pt x="107" y="74"/>
                </a:cubicBezTo>
                <a:cubicBezTo>
                  <a:pt x="111" y="73"/>
                  <a:pt x="114" y="69"/>
                  <a:pt x="114" y="65"/>
                </a:cubicBezTo>
                <a:cubicBezTo>
                  <a:pt x="115" y="61"/>
                  <a:pt x="111" y="59"/>
                  <a:pt x="107" y="60"/>
                </a:cubicBezTo>
                <a:cubicBezTo>
                  <a:pt x="103" y="61"/>
                  <a:pt x="98" y="63"/>
                  <a:pt x="95" y="65"/>
                </a:cubicBezTo>
                <a:cubicBezTo>
                  <a:pt x="93" y="67"/>
                  <a:pt x="88" y="69"/>
                  <a:pt x="83" y="69"/>
                </a:cubicBezTo>
                <a:cubicBezTo>
                  <a:pt x="79" y="70"/>
                  <a:pt x="75" y="67"/>
                  <a:pt x="76" y="63"/>
                </a:cubicBezTo>
                <a:cubicBezTo>
                  <a:pt x="77" y="59"/>
                  <a:pt x="80" y="54"/>
                  <a:pt x="83" y="51"/>
                </a:cubicBezTo>
                <a:cubicBezTo>
                  <a:pt x="87" y="49"/>
                  <a:pt x="92" y="46"/>
                  <a:pt x="95" y="46"/>
                </a:cubicBezTo>
                <a:cubicBezTo>
                  <a:pt x="99" y="46"/>
                  <a:pt x="102" y="43"/>
                  <a:pt x="103" y="39"/>
                </a:cubicBezTo>
                <a:cubicBezTo>
                  <a:pt x="104" y="35"/>
                  <a:pt x="108" y="31"/>
                  <a:pt x="112" y="30"/>
                </a:cubicBezTo>
                <a:cubicBezTo>
                  <a:pt x="114" y="30"/>
                  <a:pt x="116" y="30"/>
                  <a:pt x="119" y="29"/>
                </a:cubicBezTo>
                <a:cubicBezTo>
                  <a:pt x="122" y="29"/>
                  <a:pt x="129" y="29"/>
                  <a:pt x="132" y="29"/>
                </a:cubicBezTo>
                <a:cubicBezTo>
                  <a:pt x="135" y="29"/>
                  <a:pt x="138" y="29"/>
                  <a:pt x="141" y="29"/>
                </a:cubicBezTo>
                <a:cubicBezTo>
                  <a:pt x="144" y="29"/>
                  <a:pt x="148" y="29"/>
                  <a:pt x="152" y="29"/>
                </a:cubicBezTo>
                <a:cubicBezTo>
                  <a:pt x="136" y="11"/>
                  <a:pt x="113" y="0"/>
                  <a:pt x="87" y="0"/>
                </a:cubicBezTo>
                <a:cubicBezTo>
                  <a:pt x="62" y="0"/>
                  <a:pt x="40" y="11"/>
                  <a:pt x="24" y="27"/>
                </a:cubicBezTo>
                <a:cubicBezTo>
                  <a:pt x="28" y="27"/>
                  <a:pt x="31" y="27"/>
                  <a:pt x="35" y="27"/>
                </a:cubicBezTo>
                <a:cubicBezTo>
                  <a:pt x="39" y="26"/>
                  <a:pt x="45" y="27"/>
                  <a:pt x="49" y="27"/>
                </a:cubicBezTo>
                <a:cubicBezTo>
                  <a:pt x="51" y="28"/>
                  <a:pt x="54" y="28"/>
                  <a:pt x="56" y="28"/>
                </a:cubicBezTo>
                <a:cubicBezTo>
                  <a:pt x="60" y="29"/>
                  <a:pt x="63" y="34"/>
                  <a:pt x="64" y="38"/>
                </a:cubicBezTo>
                <a:cubicBezTo>
                  <a:pt x="64" y="40"/>
                  <a:pt x="64" y="43"/>
                  <a:pt x="65" y="45"/>
                </a:cubicBezTo>
                <a:cubicBezTo>
                  <a:pt x="65" y="49"/>
                  <a:pt x="63" y="55"/>
                  <a:pt x="60" y="58"/>
                </a:cubicBezTo>
                <a:cubicBezTo>
                  <a:pt x="57" y="61"/>
                  <a:pt x="52" y="65"/>
                  <a:pt x="48" y="69"/>
                </a:cubicBezTo>
                <a:cubicBezTo>
                  <a:pt x="45" y="72"/>
                  <a:pt x="46" y="77"/>
                  <a:pt x="49" y="79"/>
                </a:cubicBezTo>
                <a:cubicBezTo>
                  <a:pt x="53" y="82"/>
                  <a:pt x="57" y="84"/>
                  <a:pt x="60" y="86"/>
                </a:cubicBezTo>
                <a:cubicBezTo>
                  <a:pt x="64" y="89"/>
                  <a:pt x="70" y="92"/>
                  <a:pt x="74" y="94"/>
                </a:cubicBezTo>
                <a:cubicBezTo>
                  <a:pt x="75" y="94"/>
                  <a:pt x="75" y="94"/>
                  <a:pt x="76" y="95"/>
                </a:cubicBezTo>
                <a:cubicBezTo>
                  <a:pt x="80" y="96"/>
                  <a:pt x="83" y="101"/>
                  <a:pt x="83" y="105"/>
                </a:cubicBezTo>
                <a:cubicBezTo>
                  <a:pt x="82" y="108"/>
                  <a:pt x="80" y="112"/>
                  <a:pt x="78" y="112"/>
                </a:cubicBezTo>
                <a:cubicBezTo>
                  <a:pt x="76" y="112"/>
                  <a:pt x="72" y="116"/>
                  <a:pt x="70" y="120"/>
                </a:cubicBezTo>
                <a:cubicBezTo>
                  <a:pt x="70" y="120"/>
                  <a:pt x="70" y="121"/>
                  <a:pt x="69" y="121"/>
                </a:cubicBezTo>
                <a:cubicBezTo>
                  <a:pt x="67" y="125"/>
                  <a:pt x="63" y="131"/>
                  <a:pt x="61" y="133"/>
                </a:cubicBezTo>
                <a:cubicBezTo>
                  <a:pt x="59" y="136"/>
                  <a:pt x="59" y="139"/>
                  <a:pt x="60" y="141"/>
                </a:cubicBezTo>
                <a:cubicBezTo>
                  <a:pt x="62" y="142"/>
                  <a:pt x="63" y="146"/>
                  <a:pt x="63" y="148"/>
                </a:cubicBezTo>
                <a:cubicBezTo>
                  <a:pt x="63" y="150"/>
                  <a:pt x="60" y="151"/>
                  <a:pt x="57" y="149"/>
                </a:cubicBezTo>
                <a:cubicBezTo>
                  <a:pt x="56" y="149"/>
                  <a:pt x="56" y="149"/>
                  <a:pt x="55" y="149"/>
                </a:cubicBezTo>
                <a:cubicBezTo>
                  <a:pt x="52" y="148"/>
                  <a:pt x="50" y="143"/>
                  <a:pt x="50" y="138"/>
                </a:cubicBezTo>
                <a:cubicBezTo>
                  <a:pt x="50" y="135"/>
                  <a:pt x="50" y="132"/>
                  <a:pt x="50" y="128"/>
                </a:cubicBezTo>
                <a:cubicBezTo>
                  <a:pt x="51" y="124"/>
                  <a:pt x="49" y="119"/>
                  <a:pt x="47" y="118"/>
                </a:cubicBezTo>
                <a:cubicBezTo>
                  <a:pt x="45" y="116"/>
                  <a:pt x="41" y="113"/>
                  <a:pt x="39" y="111"/>
                </a:cubicBezTo>
                <a:cubicBezTo>
                  <a:pt x="37" y="109"/>
                  <a:pt x="35" y="103"/>
                  <a:pt x="35" y="99"/>
                </a:cubicBezTo>
                <a:cubicBezTo>
                  <a:pt x="35" y="94"/>
                  <a:pt x="33" y="89"/>
                  <a:pt x="31" y="87"/>
                </a:cubicBezTo>
                <a:cubicBezTo>
                  <a:pt x="29" y="85"/>
                  <a:pt x="27" y="83"/>
                  <a:pt x="27" y="83"/>
                </a:cubicBezTo>
                <a:cubicBezTo>
                  <a:pt x="27" y="83"/>
                  <a:pt x="27" y="83"/>
                  <a:pt x="19" y="83"/>
                </a:cubicBezTo>
                <a:cubicBezTo>
                  <a:pt x="11" y="83"/>
                  <a:pt x="11" y="75"/>
                  <a:pt x="11" y="75"/>
                </a:cubicBezTo>
                <a:cubicBezTo>
                  <a:pt x="11" y="70"/>
                  <a:pt x="13" y="64"/>
                  <a:pt x="14" y="59"/>
                </a:cubicBezTo>
                <a:cubicBezTo>
                  <a:pt x="15" y="57"/>
                  <a:pt x="16" y="54"/>
                  <a:pt x="17" y="51"/>
                </a:cubicBezTo>
                <a:cubicBezTo>
                  <a:pt x="19" y="47"/>
                  <a:pt x="17" y="45"/>
                  <a:pt x="13" y="46"/>
                </a:cubicBezTo>
                <a:cubicBezTo>
                  <a:pt x="12" y="47"/>
                  <a:pt x="11" y="47"/>
                  <a:pt x="10" y="48"/>
                </a:cubicBezTo>
                <a:cubicBezTo>
                  <a:pt x="4" y="60"/>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70" y="52"/>
                  <a:pt x="69" y="49"/>
                </a:cubicBezTo>
                <a:cubicBezTo>
                  <a:pt x="69" y="47"/>
                  <a:pt x="69" y="44"/>
                  <a:pt x="69" y="42"/>
                </a:cubicBezTo>
                <a:cubicBezTo>
                  <a:pt x="69" y="39"/>
                  <a:pt x="74" y="34"/>
                  <a:pt x="77" y="34"/>
                </a:cubicBezTo>
                <a:cubicBezTo>
                  <a:pt x="80" y="34"/>
                  <a:pt x="82" y="34"/>
                  <a:pt x="85" y="34"/>
                </a:cubicBezTo>
                <a:cubicBezTo>
                  <a:pt x="88" y="34"/>
                  <a:pt x="92" y="37"/>
                  <a:pt x="92" y="38"/>
                </a:cubicBezTo>
                <a:cubicBezTo>
                  <a:pt x="92" y="40"/>
                  <a:pt x="89" y="43"/>
                  <a:pt x="85" y="45"/>
                </a:cubicBezTo>
                <a:cubicBezTo>
                  <a:pt x="85" y="45"/>
                  <a:pt x="84" y="46"/>
                  <a:pt x="83" y="46"/>
                </a:cubicBezTo>
                <a:cubicBezTo>
                  <a:pt x="79" y="48"/>
                  <a:pt x="75" y="51"/>
                  <a:pt x="73" y="53"/>
                </a:cubicBezTo>
                <a:close/>
              </a:path>
            </a:pathLst>
          </a:custGeom>
          <a:solidFill>
            <a:srgbClr val="a6a8ac"/>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7" name="Freeform 1799"/>
          <p:cNvSpPr/>
          <p:nvPr/>
        </p:nvSpPr>
        <p:spPr>
          <a:xfrm>
            <a:off x="7101000" y="5213520"/>
            <a:ext cx="1211040" cy="121104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3" y="91"/>
                  <a:pt x="143" y="91"/>
                </a:cubicBezTo>
                <a:cubicBezTo>
                  <a:pt x="145" y="87"/>
                  <a:pt x="145" y="82"/>
                  <a:pt x="141" y="78"/>
                </a:cubicBezTo>
                <a:cubicBezTo>
                  <a:pt x="140" y="77"/>
                  <a:pt x="138" y="75"/>
                  <a:pt x="137" y="73"/>
                </a:cubicBezTo>
                <a:cubicBezTo>
                  <a:pt x="134" y="70"/>
                  <a:pt x="130" y="68"/>
                  <a:pt x="129" y="70"/>
                </a:cubicBezTo>
                <a:cubicBezTo>
                  <a:pt x="128" y="71"/>
                  <a:pt x="128" y="73"/>
                  <a:pt x="130" y="75"/>
                </a:cubicBezTo>
                <a:cubicBezTo>
                  <a:pt x="132" y="77"/>
                  <a:pt x="133" y="80"/>
                  <a:pt x="132" y="82"/>
                </a:cubicBezTo>
                <a:cubicBezTo>
                  <a:pt x="132" y="83"/>
                  <a:pt x="128" y="83"/>
                  <a:pt x="124" y="81"/>
                </a:cubicBezTo>
                <a:cubicBezTo>
                  <a:pt x="123" y="80"/>
                  <a:pt x="123" y="80"/>
                  <a:pt x="122" y="80"/>
                </a:cubicBezTo>
                <a:cubicBezTo>
                  <a:pt x="118" y="78"/>
                  <a:pt x="117" y="79"/>
                  <a:pt x="121" y="82"/>
                </a:cubicBezTo>
                <a:cubicBezTo>
                  <a:pt x="122" y="83"/>
                  <a:pt x="124" y="85"/>
                  <a:pt x="125" y="86"/>
                </a:cubicBezTo>
                <a:cubicBezTo>
                  <a:pt x="128" y="90"/>
                  <a:pt x="129" y="95"/>
                  <a:pt x="128" y="99"/>
                </a:cubicBezTo>
                <a:cubicBezTo>
                  <a:pt x="127" y="100"/>
                  <a:pt x="127" y="100"/>
                  <a:pt x="127" y="101"/>
                </a:cubicBezTo>
                <a:cubicBezTo>
                  <a:pt x="125" y="105"/>
                  <a:pt x="123" y="111"/>
                  <a:pt x="122" y="115"/>
                </a:cubicBezTo>
                <a:cubicBezTo>
                  <a:pt x="121" y="116"/>
                  <a:pt x="121" y="116"/>
                  <a:pt x="121" y="117"/>
                </a:cubicBezTo>
                <a:cubicBezTo>
                  <a:pt x="120" y="121"/>
                  <a:pt x="118" y="126"/>
                  <a:pt x="116" y="127"/>
                </a:cubicBezTo>
                <a:cubicBezTo>
                  <a:pt x="113" y="129"/>
                  <a:pt x="112" y="129"/>
                  <a:pt x="111" y="127"/>
                </a:cubicBezTo>
                <a:cubicBezTo>
                  <a:pt x="111" y="124"/>
                  <a:pt x="109" y="123"/>
                  <a:pt x="107" y="122"/>
                </a:cubicBezTo>
                <a:cubicBezTo>
                  <a:pt x="105" y="122"/>
                  <a:pt x="103" y="118"/>
                  <a:pt x="102" y="114"/>
                </a:cubicBezTo>
                <a:cubicBezTo>
                  <a:pt x="102" y="112"/>
                  <a:pt x="101" y="109"/>
                  <a:pt x="101" y="107"/>
                </a:cubicBezTo>
                <a:cubicBezTo>
                  <a:pt x="101" y="103"/>
                  <a:pt x="97" y="98"/>
                  <a:pt x="93" y="96"/>
                </a:cubicBezTo>
                <a:cubicBezTo>
                  <a:pt x="92" y="95"/>
                  <a:pt x="91" y="95"/>
                  <a:pt x="91" y="94"/>
                </a:cubicBezTo>
                <a:cubicBezTo>
                  <a:pt x="87" y="92"/>
                  <a:pt x="81" y="88"/>
                  <a:pt x="79" y="84"/>
                </a:cubicBezTo>
                <a:cubicBezTo>
                  <a:pt x="79" y="84"/>
                  <a:pt x="79" y="83"/>
                  <a:pt x="78" y="83"/>
                </a:cubicBezTo>
                <a:cubicBezTo>
                  <a:pt x="76" y="79"/>
                  <a:pt x="78" y="77"/>
                  <a:pt x="83" y="76"/>
                </a:cubicBezTo>
                <a:cubicBezTo>
                  <a:pt x="85" y="76"/>
                  <a:pt x="88" y="76"/>
                  <a:pt x="91" y="76"/>
                </a:cubicBezTo>
                <a:cubicBezTo>
                  <a:pt x="95" y="76"/>
                  <a:pt x="102" y="75"/>
                  <a:pt x="106" y="74"/>
                </a:cubicBezTo>
                <a:cubicBezTo>
                  <a:pt x="111" y="73"/>
                  <a:pt x="114" y="69"/>
                  <a:pt x="114" y="65"/>
                </a:cubicBezTo>
                <a:cubicBezTo>
                  <a:pt x="114" y="61"/>
                  <a:pt x="111" y="59"/>
                  <a:pt x="107" y="59"/>
                </a:cubicBezTo>
                <a:cubicBezTo>
                  <a:pt x="103" y="60"/>
                  <a:pt x="98" y="63"/>
                  <a:pt x="95" y="65"/>
                </a:cubicBezTo>
                <a:cubicBezTo>
                  <a:pt x="93" y="67"/>
                  <a:pt x="87" y="69"/>
                  <a:pt x="83" y="69"/>
                </a:cubicBezTo>
                <a:cubicBezTo>
                  <a:pt x="79" y="69"/>
                  <a:pt x="75" y="66"/>
                  <a:pt x="76" y="63"/>
                </a:cubicBezTo>
                <a:cubicBezTo>
                  <a:pt x="76" y="59"/>
                  <a:pt x="80" y="54"/>
                  <a:pt x="83" y="51"/>
                </a:cubicBezTo>
                <a:cubicBezTo>
                  <a:pt x="86" y="49"/>
                  <a:pt x="92" y="46"/>
                  <a:pt x="95" y="46"/>
                </a:cubicBezTo>
                <a:cubicBezTo>
                  <a:pt x="99" y="46"/>
                  <a:pt x="102" y="43"/>
                  <a:pt x="103" y="39"/>
                </a:cubicBezTo>
                <a:cubicBezTo>
                  <a:pt x="104" y="35"/>
                  <a:pt x="108" y="31"/>
                  <a:pt x="112" y="30"/>
                </a:cubicBezTo>
                <a:cubicBezTo>
                  <a:pt x="114" y="30"/>
                  <a:pt x="116" y="30"/>
                  <a:pt x="118" y="29"/>
                </a:cubicBezTo>
                <a:cubicBezTo>
                  <a:pt x="122" y="29"/>
                  <a:pt x="128" y="28"/>
                  <a:pt x="132" y="28"/>
                </a:cubicBezTo>
                <a:cubicBezTo>
                  <a:pt x="135" y="28"/>
                  <a:pt x="138" y="28"/>
                  <a:pt x="140" y="28"/>
                </a:cubicBezTo>
                <a:cubicBezTo>
                  <a:pt x="143" y="28"/>
                  <a:pt x="148" y="29"/>
                  <a:pt x="152" y="29"/>
                </a:cubicBezTo>
                <a:cubicBezTo>
                  <a:pt x="136" y="11"/>
                  <a:pt x="113" y="0"/>
                  <a:pt x="87" y="0"/>
                </a:cubicBezTo>
                <a:cubicBezTo>
                  <a:pt x="62" y="0"/>
                  <a:pt x="40" y="11"/>
                  <a:pt x="24" y="27"/>
                </a:cubicBezTo>
                <a:cubicBezTo>
                  <a:pt x="28" y="27"/>
                  <a:pt x="31" y="26"/>
                  <a:pt x="35" y="26"/>
                </a:cubicBezTo>
                <a:cubicBezTo>
                  <a:pt x="39" y="26"/>
                  <a:pt x="45" y="27"/>
                  <a:pt x="49" y="27"/>
                </a:cubicBezTo>
                <a:cubicBezTo>
                  <a:pt x="51" y="27"/>
                  <a:pt x="53" y="28"/>
                  <a:pt x="56" y="28"/>
                </a:cubicBezTo>
                <a:cubicBezTo>
                  <a:pt x="60" y="29"/>
                  <a:pt x="63" y="33"/>
                  <a:pt x="64" y="38"/>
                </a:cubicBezTo>
                <a:cubicBezTo>
                  <a:pt x="64" y="40"/>
                  <a:pt x="64" y="43"/>
                  <a:pt x="65" y="45"/>
                </a:cubicBezTo>
                <a:cubicBezTo>
                  <a:pt x="65" y="49"/>
                  <a:pt x="63" y="55"/>
                  <a:pt x="60" y="57"/>
                </a:cubicBezTo>
                <a:cubicBezTo>
                  <a:pt x="56" y="61"/>
                  <a:pt x="52" y="65"/>
                  <a:pt x="48" y="69"/>
                </a:cubicBezTo>
                <a:cubicBezTo>
                  <a:pt x="45" y="72"/>
                  <a:pt x="46" y="77"/>
                  <a:pt x="49" y="79"/>
                </a:cubicBezTo>
                <a:cubicBezTo>
                  <a:pt x="53" y="82"/>
                  <a:pt x="56" y="84"/>
                  <a:pt x="60" y="86"/>
                </a:cubicBezTo>
                <a:cubicBezTo>
                  <a:pt x="64" y="89"/>
                  <a:pt x="70" y="92"/>
                  <a:pt x="74" y="94"/>
                </a:cubicBezTo>
                <a:cubicBezTo>
                  <a:pt x="74" y="94"/>
                  <a:pt x="75" y="94"/>
                  <a:pt x="76" y="95"/>
                </a:cubicBezTo>
                <a:cubicBezTo>
                  <a:pt x="80" y="96"/>
                  <a:pt x="83" y="101"/>
                  <a:pt x="82" y="104"/>
                </a:cubicBezTo>
                <a:cubicBezTo>
                  <a:pt x="82" y="108"/>
                  <a:pt x="80" y="112"/>
                  <a:pt x="78" y="112"/>
                </a:cubicBezTo>
                <a:cubicBezTo>
                  <a:pt x="76" y="112"/>
                  <a:pt x="72" y="116"/>
                  <a:pt x="70" y="119"/>
                </a:cubicBezTo>
                <a:cubicBezTo>
                  <a:pt x="70" y="120"/>
                  <a:pt x="69" y="121"/>
                  <a:pt x="69" y="121"/>
                </a:cubicBezTo>
                <a:cubicBezTo>
                  <a:pt x="67" y="125"/>
                  <a:pt x="63" y="130"/>
                  <a:pt x="61" y="133"/>
                </a:cubicBezTo>
                <a:cubicBezTo>
                  <a:pt x="59" y="135"/>
                  <a:pt x="58" y="139"/>
                  <a:pt x="60" y="141"/>
                </a:cubicBezTo>
                <a:cubicBezTo>
                  <a:pt x="62" y="142"/>
                  <a:pt x="63" y="145"/>
                  <a:pt x="63" y="147"/>
                </a:cubicBezTo>
                <a:cubicBezTo>
                  <a:pt x="63" y="149"/>
                  <a:pt x="60" y="150"/>
                  <a:pt x="57" y="149"/>
                </a:cubicBezTo>
                <a:cubicBezTo>
                  <a:pt x="56" y="149"/>
                  <a:pt x="56" y="149"/>
                  <a:pt x="55" y="149"/>
                </a:cubicBezTo>
                <a:cubicBezTo>
                  <a:pt x="52" y="147"/>
                  <a:pt x="49" y="143"/>
                  <a:pt x="50" y="138"/>
                </a:cubicBezTo>
                <a:cubicBezTo>
                  <a:pt x="50" y="135"/>
                  <a:pt x="50" y="131"/>
                  <a:pt x="50" y="128"/>
                </a:cubicBezTo>
                <a:cubicBezTo>
                  <a:pt x="51" y="124"/>
                  <a:pt x="49" y="119"/>
                  <a:pt x="47" y="117"/>
                </a:cubicBezTo>
                <a:cubicBezTo>
                  <a:pt x="44" y="116"/>
                  <a:pt x="41" y="113"/>
                  <a:pt x="39" y="111"/>
                </a:cubicBezTo>
                <a:cubicBezTo>
                  <a:pt x="36" y="109"/>
                  <a:pt x="35" y="103"/>
                  <a:pt x="35" y="99"/>
                </a:cubicBezTo>
                <a:cubicBezTo>
                  <a:pt x="35" y="94"/>
                  <a:pt x="33" y="89"/>
                  <a:pt x="31" y="87"/>
                </a:cubicBezTo>
                <a:cubicBezTo>
                  <a:pt x="28" y="84"/>
                  <a:pt x="27" y="83"/>
                  <a:pt x="27" y="83"/>
                </a:cubicBezTo>
                <a:cubicBezTo>
                  <a:pt x="27" y="83"/>
                  <a:pt x="27" y="83"/>
                  <a:pt x="19" y="83"/>
                </a:cubicBezTo>
                <a:cubicBezTo>
                  <a:pt x="11" y="83"/>
                  <a:pt x="11" y="74"/>
                  <a:pt x="11" y="74"/>
                </a:cubicBezTo>
                <a:cubicBezTo>
                  <a:pt x="11" y="70"/>
                  <a:pt x="13" y="63"/>
                  <a:pt x="14" y="59"/>
                </a:cubicBezTo>
                <a:cubicBezTo>
                  <a:pt x="15" y="57"/>
                  <a:pt x="16" y="54"/>
                  <a:pt x="17" y="51"/>
                </a:cubicBezTo>
                <a:cubicBezTo>
                  <a:pt x="19" y="47"/>
                  <a:pt x="17" y="45"/>
                  <a:pt x="13" y="46"/>
                </a:cubicBezTo>
                <a:cubicBezTo>
                  <a:pt x="12" y="47"/>
                  <a:pt x="11" y="47"/>
                  <a:pt x="10" y="48"/>
                </a:cubicBezTo>
                <a:cubicBezTo>
                  <a:pt x="4" y="59"/>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69" y="52"/>
                  <a:pt x="69" y="49"/>
                </a:cubicBezTo>
                <a:cubicBezTo>
                  <a:pt x="68" y="46"/>
                  <a:pt x="68" y="44"/>
                  <a:pt x="69" y="42"/>
                </a:cubicBezTo>
                <a:cubicBezTo>
                  <a:pt x="69" y="38"/>
                  <a:pt x="74" y="34"/>
                  <a:pt x="77" y="34"/>
                </a:cubicBezTo>
                <a:cubicBezTo>
                  <a:pt x="80" y="33"/>
                  <a:pt x="82" y="33"/>
                  <a:pt x="84" y="34"/>
                </a:cubicBezTo>
                <a:cubicBezTo>
                  <a:pt x="88" y="34"/>
                  <a:pt x="92" y="37"/>
                  <a:pt x="92" y="38"/>
                </a:cubicBezTo>
                <a:cubicBezTo>
                  <a:pt x="92" y="40"/>
                  <a:pt x="89" y="43"/>
                  <a:pt x="85" y="45"/>
                </a:cubicBezTo>
                <a:cubicBezTo>
                  <a:pt x="84" y="45"/>
                  <a:pt x="84" y="46"/>
                  <a:pt x="83" y="46"/>
                </a:cubicBezTo>
                <a:cubicBezTo>
                  <a:pt x="79" y="48"/>
                  <a:pt x="74" y="51"/>
                  <a:pt x="73" y="53"/>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8" name="Freeform 1800"/>
          <p:cNvSpPr/>
          <p:nvPr/>
        </p:nvSpPr>
        <p:spPr>
          <a:xfrm>
            <a:off x="7080120" y="5192640"/>
            <a:ext cx="1211400" cy="1209600"/>
          </a:xfrm>
          <a:custGeom>
            <a:avLst/>
            <a:gdLst/>
            <a:ahLst/>
            <a:rect l="l" t="t" r="r" b="b"/>
            <a:pathLst>
              <a:path w="174" h="174">
                <a:moveTo>
                  <a:pt x="167" y="92"/>
                </a:moveTo>
                <a:cubicBezTo>
                  <a:pt x="165" y="92"/>
                  <a:pt x="163" y="90"/>
                  <a:pt x="163" y="88"/>
                </a:cubicBezTo>
                <a:cubicBezTo>
                  <a:pt x="163" y="86"/>
                  <a:pt x="161" y="84"/>
                  <a:pt x="159" y="84"/>
                </a:cubicBezTo>
                <a:cubicBezTo>
                  <a:pt x="157" y="84"/>
                  <a:pt x="155" y="88"/>
                  <a:pt x="155" y="92"/>
                </a:cubicBezTo>
                <a:cubicBezTo>
                  <a:pt x="155" y="97"/>
                  <a:pt x="155" y="100"/>
                  <a:pt x="147" y="100"/>
                </a:cubicBezTo>
                <a:cubicBezTo>
                  <a:pt x="139" y="100"/>
                  <a:pt x="144" y="92"/>
                  <a:pt x="144" y="92"/>
                </a:cubicBezTo>
                <a:cubicBezTo>
                  <a:pt x="146" y="88"/>
                  <a:pt x="145" y="82"/>
                  <a:pt x="142" y="79"/>
                </a:cubicBezTo>
                <a:cubicBezTo>
                  <a:pt x="140" y="77"/>
                  <a:pt x="138" y="75"/>
                  <a:pt x="137" y="73"/>
                </a:cubicBezTo>
                <a:cubicBezTo>
                  <a:pt x="134" y="70"/>
                  <a:pt x="130" y="69"/>
                  <a:pt x="129" y="70"/>
                </a:cubicBezTo>
                <a:cubicBezTo>
                  <a:pt x="128" y="71"/>
                  <a:pt x="129" y="74"/>
                  <a:pt x="130" y="76"/>
                </a:cubicBezTo>
                <a:cubicBezTo>
                  <a:pt x="132" y="77"/>
                  <a:pt x="133" y="80"/>
                  <a:pt x="133" y="82"/>
                </a:cubicBezTo>
                <a:cubicBezTo>
                  <a:pt x="132" y="83"/>
                  <a:pt x="128" y="83"/>
                  <a:pt x="124" y="81"/>
                </a:cubicBezTo>
                <a:cubicBezTo>
                  <a:pt x="123" y="80"/>
                  <a:pt x="123" y="80"/>
                  <a:pt x="122" y="80"/>
                </a:cubicBezTo>
                <a:cubicBezTo>
                  <a:pt x="118" y="78"/>
                  <a:pt x="118" y="79"/>
                  <a:pt x="121" y="82"/>
                </a:cubicBezTo>
                <a:cubicBezTo>
                  <a:pt x="122" y="84"/>
                  <a:pt x="124" y="85"/>
                  <a:pt x="125" y="87"/>
                </a:cubicBezTo>
                <a:cubicBezTo>
                  <a:pt x="129" y="90"/>
                  <a:pt x="130" y="96"/>
                  <a:pt x="128" y="99"/>
                </a:cubicBezTo>
                <a:cubicBezTo>
                  <a:pt x="128" y="100"/>
                  <a:pt x="127" y="101"/>
                  <a:pt x="127" y="101"/>
                </a:cubicBezTo>
                <a:cubicBezTo>
                  <a:pt x="125" y="105"/>
                  <a:pt x="123" y="112"/>
                  <a:pt x="122" y="116"/>
                </a:cubicBezTo>
                <a:cubicBezTo>
                  <a:pt x="122" y="116"/>
                  <a:pt x="121" y="116"/>
                  <a:pt x="121" y="117"/>
                </a:cubicBezTo>
                <a:cubicBezTo>
                  <a:pt x="120" y="121"/>
                  <a:pt x="118" y="126"/>
                  <a:pt x="116" y="127"/>
                </a:cubicBezTo>
                <a:cubicBezTo>
                  <a:pt x="114" y="129"/>
                  <a:pt x="112" y="129"/>
                  <a:pt x="111" y="127"/>
                </a:cubicBezTo>
                <a:cubicBezTo>
                  <a:pt x="111" y="125"/>
                  <a:pt x="109" y="123"/>
                  <a:pt x="107" y="123"/>
                </a:cubicBezTo>
                <a:cubicBezTo>
                  <a:pt x="105" y="122"/>
                  <a:pt x="103" y="119"/>
                  <a:pt x="102" y="115"/>
                </a:cubicBezTo>
                <a:cubicBezTo>
                  <a:pt x="102" y="112"/>
                  <a:pt x="102" y="110"/>
                  <a:pt x="101" y="107"/>
                </a:cubicBezTo>
                <a:cubicBezTo>
                  <a:pt x="101" y="103"/>
                  <a:pt x="97" y="98"/>
                  <a:pt x="93" y="96"/>
                </a:cubicBezTo>
                <a:cubicBezTo>
                  <a:pt x="93" y="95"/>
                  <a:pt x="92" y="95"/>
                  <a:pt x="91" y="95"/>
                </a:cubicBezTo>
                <a:cubicBezTo>
                  <a:pt x="87" y="93"/>
                  <a:pt x="82" y="88"/>
                  <a:pt x="79" y="85"/>
                </a:cubicBezTo>
                <a:cubicBezTo>
                  <a:pt x="79" y="84"/>
                  <a:pt x="79" y="84"/>
                  <a:pt x="79" y="83"/>
                </a:cubicBezTo>
                <a:cubicBezTo>
                  <a:pt x="76" y="80"/>
                  <a:pt x="78" y="77"/>
                  <a:pt x="83" y="77"/>
                </a:cubicBezTo>
                <a:cubicBezTo>
                  <a:pt x="86" y="77"/>
                  <a:pt x="88" y="77"/>
                  <a:pt x="91" y="77"/>
                </a:cubicBezTo>
                <a:cubicBezTo>
                  <a:pt x="95" y="77"/>
                  <a:pt x="102" y="76"/>
                  <a:pt x="107" y="74"/>
                </a:cubicBezTo>
                <a:cubicBezTo>
                  <a:pt x="111" y="73"/>
                  <a:pt x="114" y="69"/>
                  <a:pt x="114" y="65"/>
                </a:cubicBezTo>
                <a:cubicBezTo>
                  <a:pt x="115" y="61"/>
                  <a:pt x="111" y="59"/>
                  <a:pt x="107" y="60"/>
                </a:cubicBezTo>
                <a:cubicBezTo>
                  <a:pt x="103" y="61"/>
                  <a:pt x="98" y="63"/>
                  <a:pt x="95" y="65"/>
                </a:cubicBezTo>
                <a:cubicBezTo>
                  <a:pt x="93" y="67"/>
                  <a:pt x="88" y="69"/>
                  <a:pt x="83" y="69"/>
                </a:cubicBezTo>
                <a:cubicBezTo>
                  <a:pt x="79" y="70"/>
                  <a:pt x="75" y="67"/>
                  <a:pt x="76" y="63"/>
                </a:cubicBezTo>
                <a:cubicBezTo>
                  <a:pt x="77" y="59"/>
                  <a:pt x="80" y="54"/>
                  <a:pt x="83" y="51"/>
                </a:cubicBezTo>
                <a:cubicBezTo>
                  <a:pt x="87" y="49"/>
                  <a:pt x="92" y="46"/>
                  <a:pt x="95" y="46"/>
                </a:cubicBezTo>
                <a:cubicBezTo>
                  <a:pt x="99" y="46"/>
                  <a:pt x="102" y="43"/>
                  <a:pt x="103" y="39"/>
                </a:cubicBezTo>
                <a:cubicBezTo>
                  <a:pt x="104" y="35"/>
                  <a:pt x="108" y="31"/>
                  <a:pt x="112" y="30"/>
                </a:cubicBezTo>
                <a:cubicBezTo>
                  <a:pt x="114" y="30"/>
                  <a:pt x="116" y="30"/>
                  <a:pt x="119" y="29"/>
                </a:cubicBezTo>
                <a:cubicBezTo>
                  <a:pt x="122" y="29"/>
                  <a:pt x="129" y="29"/>
                  <a:pt x="132" y="29"/>
                </a:cubicBezTo>
                <a:cubicBezTo>
                  <a:pt x="135" y="29"/>
                  <a:pt x="138" y="29"/>
                  <a:pt x="141" y="29"/>
                </a:cubicBezTo>
                <a:cubicBezTo>
                  <a:pt x="144" y="29"/>
                  <a:pt x="148" y="29"/>
                  <a:pt x="152" y="29"/>
                </a:cubicBezTo>
                <a:cubicBezTo>
                  <a:pt x="136" y="11"/>
                  <a:pt x="113" y="0"/>
                  <a:pt x="87" y="0"/>
                </a:cubicBezTo>
                <a:cubicBezTo>
                  <a:pt x="62" y="0"/>
                  <a:pt x="40" y="11"/>
                  <a:pt x="24" y="27"/>
                </a:cubicBezTo>
                <a:cubicBezTo>
                  <a:pt x="28" y="27"/>
                  <a:pt x="31" y="27"/>
                  <a:pt x="35" y="27"/>
                </a:cubicBezTo>
                <a:cubicBezTo>
                  <a:pt x="39" y="26"/>
                  <a:pt x="45" y="27"/>
                  <a:pt x="49" y="27"/>
                </a:cubicBezTo>
                <a:cubicBezTo>
                  <a:pt x="51" y="28"/>
                  <a:pt x="54" y="28"/>
                  <a:pt x="56" y="28"/>
                </a:cubicBezTo>
                <a:cubicBezTo>
                  <a:pt x="60" y="29"/>
                  <a:pt x="63" y="34"/>
                  <a:pt x="64" y="38"/>
                </a:cubicBezTo>
                <a:cubicBezTo>
                  <a:pt x="64" y="40"/>
                  <a:pt x="64" y="43"/>
                  <a:pt x="65" y="45"/>
                </a:cubicBezTo>
                <a:cubicBezTo>
                  <a:pt x="65" y="49"/>
                  <a:pt x="63" y="55"/>
                  <a:pt x="60" y="58"/>
                </a:cubicBezTo>
                <a:cubicBezTo>
                  <a:pt x="57" y="61"/>
                  <a:pt x="52" y="65"/>
                  <a:pt x="48" y="69"/>
                </a:cubicBezTo>
                <a:cubicBezTo>
                  <a:pt x="45" y="72"/>
                  <a:pt x="46" y="77"/>
                  <a:pt x="49" y="79"/>
                </a:cubicBezTo>
                <a:cubicBezTo>
                  <a:pt x="53" y="82"/>
                  <a:pt x="57" y="84"/>
                  <a:pt x="60" y="86"/>
                </a:cubicBezTo>
                <a:cubicBezTo>
                  <a:pt x="64" y="89"/>
                  <a:pt x="70" y="92"/>
                  <a:pt x="74" y="94"/>
                </a:cubicBezTo>
                <a:cubicBezTo>
                  <a:pt x="75" y="94"/>
                  <a:pt x="75" y="94"/>
                  <a:pt x="76" y="95"/>
                </a:cubicBezTo>
                <a:cubicBezTo>
                  <a:pt x="80" y="96"/>
                  <a:pt x="83" y="101"/>
                  <a:pt x="83" y="105"/>
                </a:cubicBezTo>
                <a:cubicBezTo>
                  <a:pt x="82" y="108"/>
                  <a:pt x="80" y="112"/>
                  <a:pt x="78" y="112"/>
                </a:cubicBezTo>
                <a:cubicBezTo>
                  <a:pt x="76" y="112"/>
                  <a:pt x="72" y="116"/>
                  <a:pt x="70" y="120"/>
                </a:cubicBezTo>
                <a:cubicBezTo>
                  <a:pt x="70" y="120"/>
                  <a:pt x="70" y="121"/>
                  <a:pt x="69" y="121"/>
                </a:cubicBezTo>
                <a:cubicBezTo>
                  <a:pt x="67" y="125"/>
                  <a:pt x="63" y="131"/>
                  <a:pt x="61" y="133"/>
                </a:cubicBezTo>
                <a:cubicBezTo>
                  <a:pt x="59" y="136"/>
                  <a:pt x="59" y="139"/>
                  <a:pt x="60" y="141"/>
                </a:cubicBezTo>
                <a:cubicBezTo>
                  <a:pt x="62" y="142"/>
                  <a:pt x="63" y="146"/>
                  <a:pt x="63" y="148"/>
                </a:cubicBezTo>
                <a:cubicBezTo>
                  <a:pt x="63" y="150"/>
                  <a:pt x="60" y="151"/>
                  <a:pt x="57" y="149"/>
                </a:cubicBezTo>
                <a:cubicBezTo>
                  <a:pt x="56" y="149"/>
                  <a:pt x="56" y="149"/>
                  <a:pt x="55" y="149"/>
                </a:cubicBezTo>
                <a:cubicBezTo>
                  <a:pt x="52" y="148"/>
                  <a:pt x="50" y="143"/>
                  <a:pt x="50" y="138"/>
                </a:cubicBezTo>
                <a:cubicBezTo>
                  <a:pt x="50" y="135"/>
                  <a:pt x="50" y="132"/>
                  <a:pt x="50" y="128"/>
                </a:cubicBezTo>
                <a:cubicBezTo>
                  <a:pt x="51" y="124"/>
                  <a:pt x="49" y="119"/>
                  <a:pt x="47" y="118"/>
                </a:cubicBezTo>
                <a:cubicBezTo>
                  <a:pt x="45" y="116"/>
                  <a:pt x="41" y="113"/>
                  <a:pt x="39" y="111"/>
                </a:cubicBezTo>
                <a:cubicBezTo>
                  <a:pt x="37" y="109"/>
                  <a:pt x="35" y="103"/>
                  <a:pt x="35" y="99"/>
                </a:cubicBezTo>
                <a:cubicBezTo>
                  <a:pt x="35" y="94"/>
                  <a:pt x="33" y="89"/>
                  <a:pt x="31" y="87"/>
                </a:cubicBezTo>
                <a:cubicBezTo>
                  <a:pt x="29" y="85"/>
                  <a:pt x="27" y="83"/>
                  <a:pt x="27" y="83"/>
                </a:cubicBezTo>
                <a:cubicBezTo>
                  <a:pt x="27" y="83"/>
                  <a:pt x="27" y="83"/>
                  <a:pt x="19" y="83"/>
                </a:cubicBezTo>
                <a:cubicBezTo>
                  <a:pt x="11" y="83"/>
                  <a:pt x="11" y="75"/>
                  <a:pt x="11" y="75"/>
                </a:cubicBezTo>
                <a:cubicBezTo>
                  <a:pt x="11" y="70"/>
                  <a:pt x="13" y="64"/>
                  <a:pt x="14" y="59"/>
                </a:cubicBezTo>
                <a:cubicBezTo>
                  <a:pt x="15" y="57"/>
                  <a:pt x="16" y="54"/>
                  <a:pt x="17" y="51"/>
                </a:cubicBezTo>
                <a:cubicBezTo>
                  <a:pt x="19" y="47"/>
                  <a:pt x="17" y="45"/>
                  <a:pt x="13" y="46"/>
                </a:cubicBezTo>
                <a:cubicBezTo>
                  <a:pt x="12" y="47"/>
                  <a:pt x="11" y="47"/>
                  <a:pt x="10" y="48"/>
                </a:cubicBezTo>
                <a:cubicBezTo>
                  <a:pt x="4" y="60"/>
                  <a:pt x="0" y="73"/>
                  <a:pt x="0" y="87"/>
                </a:cubicBezTo>
                <a:cubicBezTo>
                  <a:pt x="0" y="135"/>
                  <a:pt x="39" y="174"/>
                  <a:pt x="87" y="174"/>
                </a:cubicBezTo>
                <a:cubicBezTo>
                  <a:pt x="135" y="174"/>
                  <a:pt x="173" y="136"/>
                  <a:pt x="174" y="89"/>
                </a:cubicBezTo>
                <a:cubicBezTo>
                  <a:pt x="172" y="91"/>
                  <a:pt x="169" y="92"/>
                  <a:pt x="167" y="92"/>
                </a:cubicBezTo>
                <a:close/>
                <a:moveTo>
                  <a:pt x="73" y="53"/>
                </a:moveTo>
                <a:cubicBezTo>
                  <a:pt x="72" y="55"/>
                  <a:pt x="70" y="52"/>
                  <a:pt x="69" y="49"/>
                </a:cubicBezTo>
                <a:cubicBezTo>
                  <a:pt x="69" y="47"/>
                  <a:pt x="69" y="44"/>
                  <a:pt x="69" y="42"/>
                </a:cubicBezTo>
                <a:cubicBezTo>
                  <a:pt x="69" y="39"/>
                  <a:pt x="74" y="34"/>
                  <a:pt x="77" y="34"/>
                </a:cubicBezTo>
                <a:cubicBezTo>
                  <a:pt x="80" y="34"/>
                  <a:pt x="82" y="34"/>
                  <a:pt x="85" y="34"/>
                </a:cubicBezTo>
                <a:cubicBezTo>
                  <a:pt x="88" y="34"/>
                  <a:pt x="92" y="37"/>
                  <a:pt x="92" y="38"/>
                </a:cubicBezTo>
                <a:cubicBezTo>
                  <a:pt x="92" y="40"/>
                  <a:pt x="89" y="43"/>
                  <a:pt x="85" y="45"/>
                </a:cubicBezTo>
                <a:cubicBezTo>
                  <a:pt x="85" y="45"/>
                  <a:pt x="84" y="46"/>
                  <a:pt x="83" y="46"/>
                </a:cubicBezTo>
                <a:cubicBezTo>
                  <a:pt x="79" y="48"/>
                  <a:pt x="75" y="51"/>
                  <a:pt x="73" y="53"/>
                </a:cubicBez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19" name="Freeform 1801"/>
          <p:cNvSpPr/>
          <p:nvPr/>
        </p:nvSpPr>
        <p:spPr>
          <a:xfrm>
            <a:off x="11552400" y="9970920"/>
            <a:ext cx="1501560" cy="1078200"/>
          </a:xfrm>
          <a:custGeom>
            <a:avLst/>
            <a:gdLst/>
            <a:ahLst/>
            <a:rect l="l" t="t" r="r" b="b"/>
            <a:pathLst>
              <a:path w="216" h="155">
                <a:moveTo>
                  <a:pt x="216" y="13"/>
                </a:moveTo>
                <a:cubicBezTo>
                  <a:pt x="216" y="6"/>
                  <a:pt x="210" y="0"/>
                  <a:pt x="203" y="0"/>
                </a:cubicBezTo>
                <a:cubicBezTo>
                  <a:pt x="13" y="0"/>
                  <a:pt x="13" y="0"/>
                  <a:pt x="13" y="0"/>
                </a:cubicBezTo>
                <a:cubicBezTo>
                  <a:pt x="6" y="0"/>
                  <a:pt x="0" y="6"/>
                  <a:pt x="0" y="13"/>
                </a:cubicBezTo>
                <a:cubicBezTo>
                  <a:pt x="0" y="143"/>
                  <a:pt x="0" y="143"/>
                  <a:pt x="0" y="143"/>
                </a:cubicBezTo>
                <a:cubicBezTo>
                  <a:pt x="0" y="150"/>
                  <a:pt x="6" y="155"/>
                  <a:pt x="13" y="155"/>
                </a:cubicBezTo>
                <a:cubicBezTo>
                  <a:pt x="203" y="155"/>
                  <a:pt x="203" y="155"/>
                  <a:pt x="203" y="155"/>
                </a:cubicBezTo>
                <a:cubicBezTo>
                  <a:pt x="210" y="155"/>
                  <a:pt x="216" y="150"/>
                  <a:pt x="216" y="143"/>
                </a:cubicBezTo>
                <a:lnTo>
                  <a:pt x="216" y="13"/>
                </a:lnTo>
                <a:close/>
                <a:moveTo>
                  <a:pt x="206" y="138"/>
                </a:moveTo>
                <a:cubicBezTo>
                  <a:pt x="14" y="138"/>
                  <a:pt x="14" y="138"/>
                  <a:pt x="14" y="138"/>
                </a:cubicBezTo>
                <a:cubicBezTo>
                  <a:pt x="14" y="13"/>
                  <a:pt x="14" y="13"/>
                  <a:pt x="14" y="13"/>
                </a:cubicBezTo>
                <a:cubicBezTo>
                  <a:pt x="206" y="13"/>
                  <a:pt x="206" y="13"/>
                  <a:pt x="206" y="13"/>
                </a:cubicBezTo>
                <a:lnTo>
                  <a:pt x="206" y="138"/>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0" name="Freeform 1802"/>
          <p:cNvSpPr/>
          <p:nvPr/>
        </p:nvSpPr>
        <p:spPr>
          <a:xfrm>
            <a:off x="11482560" y="11069640"/>
            <a:ext cx="1670040" cy="117360"/>
          </a:xfrm>
          <a:custGeom>
            <a:avLst/>
            <a:gdLst/>
            <a:ahLst/>
            <a:rect l="l" t="t" r="r" b="b"/>
            <a:pathLst>
              <a:path w="240" h="17">
                <a:moveTo>
                  <a:pt x="152" y="0"/>
                </a:moveTo>
                <a:cubicBezTo>
                  <a:pt x="152" y="0"/>
                  <a:pt x="152" y="7"/>
                  <a:pt x="139" y="7"/>
                </a:cubicBezTo>
                <a:cubicBezTo>
                  <a:pt x="126" y="7"/>
                  <a:pt x="114" y="7"/>
                  <a:pt x="101" y="7"/>
                </a:cubicBezTo>
                <a:cubicBezTo>
                  <a:pt x="89" y="7"/>
                  <a:pt x="89" y="0"/>
                  <a:pt x="89" y="0"/>
                </a:cubicBezTo>
                <a:cubicBezTo>
                  <a:pt x="0" y="0"/>
                  <a:pt x="0" y="0"/>
                  <a:pt x="0" y="0"/>
                </a:cubicBezTo>
                <a:cubicBezTo>
                  <a:pt x="0" y="0"/>
                  <a:pt x="0" y="17"/>
                  <a:pt x="25" y="17"/>
                </a:cubicBezTo>
                <a:cubicBezTo>
                  <a:pt x="51" y="17"/>
                  <a:pt x="190" y="17"/>
                  <a:pt x="215" y="17"/>
                </a:cubicBezTo>
                <a:cubicBezTo>
                  <a:pt x="240" y="17"/>
                  <a:pt x="240" y="0"/>
                  <a:pt x="240" y="0"/>
                </a:cubicBezTo>
                <a:lnTo>
                  <a:pt x="152" y="0"/>
                </a:lnTo>
                <a:close/>
              </a:path>
            </a:pathLst>
          </a:custGeom>
          <a:solidFill>
            <a:srgbClr val="4d4d4d"/>
          </a:solidFill>
          <a:ln w="0">
            <a:noFill/>
          </a:ln>
        </p:spPr>
        <p:style>
          <a:lnRef idx="0"/>
          <a:fillRef idx="0"/>
          <a:effectRef idx="0"/>
          <a:fontRef idx="minor"/>
        </p:style>
        <p:txBody>
          <a:bodyPr lIns="219240" rIns="219240" tIns="7920" bIns="7920" anchor="t">
            <a:noAutofit/>
          </a:bodyPr>
          <a:p>
            <a:endParaRPr b="0" lang="en-US" sz="3500" spc="-1" strike="noStrike">
              <a:solidFill>
                <a:srgbClr val="000000"/>
              </a:solidFill>
              <a:latin typeface="Open Sans Light"/>
            </a:endParaRPr>
          </a:p>
        </p:txBody>
      </p:sp>
      <p:sp>
        <p:nvSpPr>
          <p:cNvPr id="2521" name="Freeform 1803"/>
          <p:cNvSpPr/>
          <p:nvPr/>
        </p:nvSpPr>
        <p:spPr>
          <a:xfrm>
            <a:off x="11580840" y="9970920"/>
            <a:ext cx="1501920" cy="1078200"/>
          </a:xfrm>
          <a:custGeom>
            <a:avLst/>
            <a:gdLst/>
            <a:ahLst/>
            <a:rect l="l" t="t" r="r" b="b"/>
            <a:pathLst>
              <a:path w="216" h="155">
                <a:moveTo>
                  <a:pt x="216" y="13"/>
                </a:moveTo>
                <a:cubicBezTo>
                  <a:pt x="216" y="6"/>
                  <a:pt x="210" y="0"/>
                  <a:pt x="203" y="0"/>
                </a:cubicBezTo>
                <a:cubicBezTo>
                  <a:pt x="13" y="0"/>
                  <a:pt x="13" y="0"/>
                  <a:pt x="13" y="0"/>
                </a:cubicBezTo>
                <a:cubicBezTo>
                  <a:pt x="5" y="0"/>
                  <a:pt x="0" y="6"/>
                  <a:pt x="0" y="13"/>
                </a:cubicBezTo>
                <a:cubicBezTo>
                  <a:pt x="0" y="143"/>
                  <a:pt x="0" y="143"/>
                  <a:pt x="0" y="143"/>
                </a:cubicBezTo>
                <a:cubicBezTo>
                  <a:pt x="0" y="150"/>
                  <a:pt x="5" y="155"/>
                  <a:pt x="13" y="155"/>
                </a:cubicBezTo>
                <a:cubicBezTo>
                  <a:pt x="203" y="155"/>
                  <a:pt x="203" y="155"/>
                  <a:pt x="203" y="155"/>
                </a:cubicBezTo>
                <a:cubicBezTo>
                  <a:pt x="210" y="155"/>
                  <a:pt x="216" y="150"/>
                  <a:pt x="216" y="143"/>
                </a:cubicBezTo>
                <a:lnTo>
                  <a:pt x="216" y="13"/>
                </a:lnTo>
                <a:close/>
                <a:moveTo>
                  <a:pt x="205" y="142"/>
                </a:moveTo>
                <a:cubicBezTo>
                  <a:pt x="13" y="142"/>
                  <a:pt x="13" y="142"/>
                  <a:pt x="13" y="142"/>
                </a:cubicBezTo>
                <a:cubicBezTo>
                  <a:pt x="13" y="17"/>
                  <a:pt x="13" y="17"/>
                  <a:pt x="13" y="17"/>
                </a:cubicBezTo>
                <a:cubicBezTo>
                  <a:pt x="205" y="17"/>
                  <a:pt x="205" y="17"/>
                  <a:pt x="205" y="17"/>
                </a:cubicBezTo>
                <a:lnTo>
                  <a:pt x="205" y="142"/>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2" name="Freeform 1804"/>
          <p:cNvSpPr/>
          <p:nvPr/>
        </p:nvSpPr>
        <p:spPr>
          <a:xfrm>
            <a:off x="11503080" y="11096640"/>
            <a:ext cx="1670040" cy="119160"/>
          </a:xfrm>
          <a:custGeom>
            <a:avLst/>
            <a:gdLst/>
            <a:ahLst/>
            <a:rect l="l" t="t" r="r" b="b"/>
            <a:pathLst>
              <a:path w="240" h="17">
                <a:moveTo>
                  <a:pt x="151" y="0"/>
                </a:moveTo>
                <a:cubicBezTo>
                  <a:pt x="151" y="0"/>
                  <a:pt x="151" y="3"/>
                  <a:pt x="139" y="3"/>
                </a:cubicBezTo>
                <a:cubicBezTo>
                  <a:pt x="126" y="3"/>
                  <a:pt x="114" y="3"/>
                  <a:pt x="101" y="3"/>
                </a:cubicBezTo>
                <a:cubicBezTo>
                  <a:pt x="88" y="3"/>
                  <a:pt x="88" y="0"/>
                  <a:pt x="88" y="0"/>
                </a:cubicBezTo>
                <a:cubicBezTo>
                  <a:pt x="0" y="0"/>
                  <a:pt x="0" y="0"/>
                  <a:pt x="0" y="0"/>
                </a:cubicBezTo>
                <a:cubicBezTo>
                  <a:pt x="0" y="0"/>
                  <a:pt x="0" y="17"/>
                  <a:pt x="25" y="17"/>
                </a:cubicBezTo>
                <a:cubicBezTo>
                  <a:pt x="50" y="17"/>
                  <a:pt x="189" y="17"/>
                  <a:pt x="215" y="17"/>
                </a:cubicBezTo>
                <a:cubicBezTo>
                  <a:pt x="240" y="17"/>
                  <a:pt x="240" y="0"/>
                  <a:pt x="240" y="0"/>
                </a:cubicBezTo>
                <a:lnTo>
                  <a:pt x="151" y="0"/>
                </a:lnTo>
                <a:close/>
              </a:path>
            </a:pathLst>
          </a:custGeom>
          <a:solidFill>
            <a:srgbClr val="4d4d4d"/>
          </a:solidFill>
          <a:ln w="0">
            <a:noFill/>
          </a:ln>
        </p:spPr>
        <p:style>
          <a:lnRef idx="0"/>
          <a:fillRef idx="0"/>
          <a:effectRef idx="0"/>
          <a:fontRef idx="minor"/>
        </p:style>
        <p:txBody>
          <a:bodyPr lIns="219240" rIns="219240" tIns="9720" bIns="9720" anchor="t">
            <a:noAutofit/>
          </a:bodyPr>
          <a:p>
            <a:endParaRPr b="0" lang="en-US" sz="3500" spc="-1" strike="noStrike">
              <a:solidFill>
                <a:srgbClr val="000000"/>
              </a:solidFill>
              <a:latin typeface="Open Sans Light"/>
            </a:endParaRPr>
          </a:p>
        </p:txBody>
      </p:sp>
      <p:sp>
        <p:nvSpPr>
          <p:cNvPr id="2523" name="Freeform 1805"/>
          <p:cNvSpPr/>
          <p:nvPr/>
        </p:nvSpPr>
        <p:spPr>
          <a:xfrm>
            <a:off x="11552400" y="9970920"/>
            <a:ext cx="1501560" cy="1078200"/>
          </a:xfrm>
          <a:custGeom>
            <a:avLst/>
            <a:gdLst/>
            <a:ahLst/>
            <a:rect l="l" t="t" r="r" b="b"/>
            <a:pathLst>
              <a:path w="216" h="155">
                <a:moveTo>
                  <a:pt x="216" y="13"/>
                </a:moveTo>
                <a:cubicBezTo>
                  <a:pt x="216" y="6"/>
                  <a:pt x="210" y="0"/>
                  <a:pt x="203" y="0"/>
                </a:cubicBezTo>
                <a:cubicBezTo>
                  <a:pt x="13" y="0"/>
                  <a:pt x="13" y="0"/>
                  <a:pt x="13" y="0"/>
                </a:cubicBezTo>
                <a:cubicBezTo>
                  <a:pt x="6" y="0"/>
                  <a:pt x="0" y="6"/>
                  <a:pt x="0" y="13"/>
                </a:cubicBezTo>
                <a:cubicBezTo>
                  <a:pt x="0" y="143"/>
                  <a:pt x="0" y="143"/>
                  <a:pt x="0" y="143"/>
                </a:cubicBezTo>
                <a:cubicBezTo>
                  <a:pt x="0" y="150"/>
                  <a:pt x="6" y="155"/>
                  <a:pt x="13" y="155"/>
                </a:cubicBezTo>
                <a:cubicBezTo>
                  <a:pt x="203" y="155"/>
                  <a:pt x="203" y="155"/>
                  <a:pt x="203" y="155"/>
                </a:cubicBezTo>
                <a:cubicBezTo>
                  <a:pt x="210" y="155"/>
                  <a:pt x="216" y="150"/>
                  <a:pt x="216" y="143"/>
                </a:cubicBezTo>
                <a:lnTo>
                  <a:pt x="216" y="13"/>
                </a:lnTo>
                <a:close/>
                <a:moveTo>
                  <a:pt x="206" y="138"/>
                </a:moveTo>
                <a:cubicBezTo>
                  <a:pt x="14" y="138"/>
                  <a:pt x="14" y="138"/>
                  <a:pt x="14" y="138"/>
                </a:cubicBezTo>
                <a:cubicBezTo>
                  <a:pt x="14" y="13"/>
                  <a:pt x="14" y="13"/>
                  <a:pt x="14" y="13"/>
                </a:cubicBezTo>
                <a:cubicBezTo>
                  <a:pt x="206" y="13"/>
                  <a:pt x="206" y="13"/>
                  <a:pt x="206" y="13"/>
                </a:cubicBezTo>
                <a:lnTo>
                  <a:pt x="206" y="138"/>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4" name="Freeform 1806"/>
          <p:cNvSpPr/>
          <p:nvPr/>
        </p:nvSpPr>
        <p:spPr>
          <a:xfrm>
            <a:off x="11482560" y="11069640"/>
            <a:ext cx="1670040" cy="117360"/>
          </a:xfrm>
          <a:custGeom>
            <a:avLst/>
            <a:gdLst/>
            <a:ahLst/>
            <a:rect l="l" t="t" r="r" b="b"/>
            <a:pathLst>
              <a:path w="240" h="17">
                <a:moveTo>
                  <a:pt x="152" y="0"/>
                </a:moveTo>
                <a:cubicBezTo>
                  <a:pt x="152" y="0"/>
                  <a:pt x="152" y="7"/>
                  <a:pt x="139" y="7"/>
                </a:cubicBezTo>
                <a:cubicBezTo>
                  <a:pt x="126" y="7"/>
                  <a:pt x="114" y="7"/>
                  <a:pt x="101" y="7"/>
                </a:cubicBezTo>
                <a:cubicBezTo>
                  <a:pt x="89" y="7"/>
                  <a:pt x="89" y="0"/>
                  <a:pt x="89" y="0"/>
                </a:cubicBezTo>
                <a:cubicBezTo>
                  <a:pt x="0" y="0"/>
                  <a:pt x="0" y="0"/>
                  <a:pt x="0" y="0"/>
                </a:cubicBezTo>
                <a:cubicBezTo>
                  <a:pt x="0" y="0"/>
                  <a:pt x="0" y="17"/>
                  <a:pt x="25" y="17"/>
                </a:cubicBezTo>
                <a:cubicBezTo>
                  <a:pt x="51" y="17"/>
                  <a:pt x="190" y="17"/>
                  <a:pt x="215" y="17"/>
                </a:cubicBezTo>
                <a:cubicBezTo>
                  <a:pt x="240" y="17"/>
                  <a:pt x="240" y="0"/>
                  <a:pt x="240" y="0"/>
                </a:cubicBezTo>
                <a:lnTo>
                  <a:pt x="152" y="0"/>
                </a:lnTo>
                <a:close/>
              </a:path>
            </a:pathLst>
          </a:custGeom>
          <a:solidFill>
            <a:srgbClr val="4d4d4d"/>
          </a:solidFill>
          <a:ln w="0">
            <a:noFill/>
          </a:ln>
        </p:spPr>
        <p:style>
          <a:lnRef idx="0"/>
          <a:fillRef idx="0"/>
          <a:effectRef idx="0"/>
          <a:fontRef idx="minor"/>
        </p:style>
        <p:txBody>
          <a:bodyPr lIns="219240" rIns="219240" tIns="7920" bIns="7920" anchor="t">
            <a:noAutofit/>
          </a:bodyPr>
          <a:p>
            <a:endParaRPr b="0" lang="en-US" sz="3500" spc="-1" strike="noStrike">
              <a:solidFill>
                <a:srgbClr val="000000"/>
              </a:solidFill>
              <a:latin typeface="Open Sans Light"/>
            </a:endParaRPr>
          </a:p>
        </p:txBody>
      </p:sp>
      <p:sp>
        <p:nvSpPr>
          <p:cNvPr id="2525" name="Freeform 1807"/>
          <p:cNvSpPr/>
          <p:nvPr/>
        </p:nvSpPr>
        <p:spPr>
          <a:xfrm>
            <a:off x="7734240" y="8844120"/>
            <a:ext cx="2476440" cy="2482560"/>
          </a:xfrm>
          <a:custGeom>
            <a:avLst/>
            <a:gdLst/>
            <a:ahLst/>
            <a:rect l="l" t="t" r="r" b="b"/>
            <a:pathLst>
              <a:path w="356" h="357">
                <a:moveTo>
                  <a:pt x="355" y="357"/>
                </a:moveTo>
                <a:cubicBezTo>
                  <a:pt x="199" y="284"/>
                  <a:pt x="73" y="158"/>
                  <a:pt x="0" y="1"/>
                </a:cubicBezTo>
                <a:cubicBezTo>
                  <a:pt x="2" y="0"/>
                  <a:pt x="2" y="0"/>
                  <a:pt x="2" y="0"/>
                </a:cubicBezTo>
                <a:cubicBezTo>
                  <a:pt x="75" y="156"/>
                  <a:pt x="201" y="282"/>
                  <a:pt x="356" y="354"/>
                </a:cubicBezTo>
                <a:lnTo>
                  <a:pt x="355" y="357"/>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6" name="Freeform 1808"/>
          <p:cNvSpPr/>
          <p:nvPr/>
        </p:nvSpPr>
        <p:spPr>
          <a:xfrm>
            <a:off x="14493960" y="2084400"/>
            <a:ext cx="2482920" cy="2476440"/>
          </a:xfrm>
          <a:custGeom>
            <a:avLst/>
            <a:gdLst/>
            <a:ahLst/>
            <a:rect l="l" t="t" r="r" b="b"/>
            <a:pathLst>
              <a:path w="357" h="356">
                <a:moveTo>
                  <a:pt x="354" y="356"/>
                </a:moveTo>
                <a:cubicBezTo>
                  <a:pt x="282" y="201"/>
                  <a:pt x="156" y="75"/>
                  <a:pt x="0" y="2"/>
                </a:cubicBezTo>
                <a:cubicBezTo>
                  <a:pt x="1" y="0"/>
                  <a:pt x="1" y="0"/>
                  <a:pt x="1" y="0"/>
                </a:cubicBezTo>
                <a:cubicBezTo>
                  <a:pt x="158" y="73"/>
                  <a:pt x="284" y="199"/>
                  <a:pt x="357" y="355"/>
                </a:cubicBezTo>
                <a:lnTo>
                  <a:pt x="354" y="356"/>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7" name="Freeform 1809"/>
          <p:cNvSpPr/>
          <p:nvPr/>
        </p:nvSpPr>
        <p:spPr>
          <a:xfrm>
            <a:off x="14493960" y="8844120"/>
            <a:ext cx="2482920" cy="2482560"/>
          </a:xfrm>
          <a:custGeom>
            <a:avLst/>
            <a:gdLst/>
            <a:ahLst/>
            <a:rect l="l" t="t" r="r" b="b"/>
            <a:pathLst>
              <a:path w="357" h="357">
                <a:moveTo>
                  <a:pt x="1" y="357"/>
                </a:moveTo>
                <a:cubicBezTo>
                  <a:pt x="0" y="354"/>
                  <a:pt x="0" y="354"/>
                  <a:pt x="0" y="354"/>
                </a:cubicBezTo>
                <a:cubicBezTo>
                  <a:pt x="156" y="282"/>
                  <a:pt x="282" y="156"/>
                  <a:pt x="354" y="0"/>
                </a:cubicBezTo>
                <a:cubicBezTo>
                  <a:pt x="357" y="1"/>
                  <a:pt x="357" y="1"/>
                  <a:pt x="357" y="1"/>
                </a:cubicBezTo>
                <a:cubicBezTo>
                  <a:pt x="284" y="158"/>
                  <a:pt x="158" y="284"/>
                  <a:pt x="1" y="357"/>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8" name="Freeform 1810"/>
          <p:cNvSpPr/>
          <p:nvPr/>
        </p:nvSpPr>
        <p:spPr>
          <a:xfrm>
            <a:off x="7734240" y="2084400"/>
            <a:ext cx="2476440" cy="2476440"/>
          </a:xfrm>
          <a:custGeom>
            <a:avLst/>
            <a:gdLst/>
            <a:ahLst/>
            <a:rect l="l" t="t" r="r" b="b"/>
            <a:pathLst>
              <a:path w="356" h="356">
                <a:moveTo>
                  <a:pt x="2" y="356"/>
                </a:moveTo>
                <a:cubicBezTo>
                  <a:pt x="0" y="355"/>
                  <a:pt x="0" y="355"/>
                  <a:pt x="0" y="355"/>
                </a:cubicBezTo>
                <a:cubicBezTo>
                  <a:pt x="73" y="199"/>
                  <a:pt x="199" y="73"/>
                  <a:pt x="355" y="0"/>
                </a:cubicBezTo>
                <a:cubicBezTo>
                  <a:pt x="356" y="2"/>
                  <a:pt x="356" y="2"/>
                  <a:pt x="356" y="2"/>
                </a:cubicBezTo>
                <a:cubicBezTo>
                  <a:pt x="201" y="75"/>
                  <a:pt x="75" y="201"/>
                  <a:pt x="2" y="356"/>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29" name="Freeform 1811"/>
          <p:cNvSpPr/>
          <p:nvPr/>
        </p:nvSpPr>
        <p:spPr>
          <a:xfrm>
            <a:off x="14438160" y="8788320"/>
            <a:ext cx="2421000" cy="2421000"/>
          </a:xfrm>
          <a:custGeom>
            <a:avLst/>
            <a:gdLst/>
            <a:ahLst/>
            <a:rect l="l" t="t" r="r" b="b"/>
            <a:pathLst>
              <a:path w="348" h="348">
                <a:moveTo>
                  <a:pt x="2" y="348"/>
                </a:moveTo>
                <a:cubicBezTo>
                  <a:pt x="0" y="345"/>
                  <a:pt x="0" y="345"/>
                  <a:pt x="0" y="345"/>
                </a:cubicBezTo>
                <a:cubicBezTo>
                  <a:pt x="152" y="275"/>
                  <a:pt x="275" y="152"/>
                  <a:pt x="345" y="0"/>
                </a:cubicBezTo>
                <a:cubicBezTo>
                  <a:pt x="348" y="1"/>
                  <a:pt x="348" y="1"/>
                  <a:pt x="348" y="1"/>
                </a:cubicBezTo>
                <a:cubicBezTo>
                  <a:pt x="277" y="154"/>
                  <a:pt x="154" y="277"/>
                  <a:pt x="2" y="348"/>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0" name="Freeform 1812"/>
          <p:cNvSpPr/>
          <p:nvPr/>
        </p:nvSpPr>
        <p:spPr>
          <a:xfrm>
            <a:off x="14438160" y="2203560"/>
            <a:ext cx="2421000" cy="2412720"/>
          </a:xfrm>
          <a:custGeom>
            <a:avLst/>
            <a:gdLst/>
            <a:ahLst/>
            <a:rect l="l" t="t" r="r" b="b"/>
            <a:pathLst>
              <a:path w="348" h="347">
                <a:moveTo>
                  <a:pt x="345" y="347"/>
                </a:moveTo>
                <a:cubicBezTo>
                  <a:pt x="275" y="195"/>
                  <a:pt x="152" y="73"/>
                  <a:pt x="0" y="2"/>
                </a:cubicBezTo>
                <a:cubicBezTo>
                  <a:pt x="2" y="0"/>
                  <a:pt x="2" y="0"/>
                  <a:pt x="2" y="0"/>
                </a:cubicBezTo>
                <a:cubicBezTo>
                  <a:pt x="154" y="71"/>
                  <a:pt x="277" y="194"/>
                  <a:pt x="348" y="346"/>
                </a:cubicBezTo>
                <a:lnTo>
                  <a:pt x="345" y="347"/>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1" name="Freeform 1813"/>
          <p:cNvSpPr/>
          <p:nvPr/>
        </p:nvSpPr>
        <p:spPr>
          <a:xfrm>
            <a:off x="7853400" y="2203560"/>
            <a:ext cx="2413080" cy="2412720"/>
          </a:xfrm>
          <a:custGeom>
            <a:avLst/>
            <a:gdLst/>
            <a:ahLst/>
            <a:rect l="l" t="t" r="r" b="b"/>
            <a:pathLst>
              <a:path w="347" h="347">
                <a:moveTo>
                  <a:pt x="2" y="347"/>
                </a:moveTo>
                <a:cubicBezTo>
                  <a:pt x="0" y="346"/>
                  <a:pt x="0" y="346"/>
                  <a:pt x="0" y="346"/>
                </a:cubicBezTo>
                <a:cubicBezTo>
                  <a:pt x="71" y="194"/>
                  <a:pt x="194" y="71"/>
                  <a:pt x="346" y="0"/>
                </a:cubicBezTo>
                <a:cubicBezTo>
                  <a:pt x="347" y="2"/>
                  <a:pt x="347" y="2"/>
                  <a:pt x="347" y="2"/>
                </a:cubicBezTo>
                <a:cubicBezTo>
                  <a:pt x="196" y="73"/>
                  <a:pt x="73" y="195"/>
                  <a:pt x="2" y="347"/>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2" name="Freeform 1814"/>
          <p:cNvSpPr/>
          <p:nvPr/>
        </p:nvSpPr>
        <p:spPr>
          <a:xfrm>
            <a:off x="7853400" y="8788320"/>
            <a:ext cx="2413080" cy="2421000"/>
          </a:xfrm>
          <a:custGeom>
            <a:avLst/>
            <a:gdLst/>
            <a:ahLst/>
            <a:rect l="l" t="t" r="r" b="b"/>
            <a:pathLst>
              <a:path w="347" h="348">
                <a:moveTo>
                  <a:pt x="346" y="348"/>
                </a:moveTo>
                <a:cubicBezTo>
                  <a:pt x="194" y="277"/>
                  <a:pt x="71" y="154"/>
                  <a:pt x="0" y="1"/>
                </a:cubicBezTo>
                <a:cubicBezTo>
                  <a:pt x="2" y="0"/>
                  <a:pt x="2" y="0"/>
                  <a:pt x="2" y="0"/>
                </a:cubicBezTo>
                <a:cubicBezTo>
                  <a:pt x="73" y="152"/>
                  <a:pt x="196" y="275"/>
                  <a:pt x="347" y="345"/>
                </a:cubicBezTo>
                <a:lnTo>
                  <a:pt x="346" y="348"/>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3" name="Freeform 1815"/>
          <p:cNvSpPr/>
          <p:nvPr/>
        </p:nvSpPr>
        <p:spPr>
          <a:xfrm>
            <a:off x="7970760" y="2320920"/>
            <a:ext cx="2351160" cy="2351160"/>
          </a:xfrm>
          <a:custGeom>
            <a:avLst/>
            <a:gdLst/>
            <a:ahLst/>
            <a:rect l="l" t="t" r="r" b="b"/>
            <a:pathLst>
              <a:path w="338" h="338">
                <a:moveTo>
                  <a:pt x="2" y="338"/>
                </a:moveTo>
                <a:cubicBezTo>
                  <a:pt x="0" y="337"/>
                  <a:pt x="0" y="337"/>
                  <a:pt x="0" y="337"/>
                </a:cubicBezTo>
                <a:cubicBezTo>
                  <a:pt x="69" y="189"/>
                  <a:pt x="189" y="69"/>
                  <a:pt x="337" y="0"/>
                </a:cubicBezTo>
                <a:cubicBezTo>
                  <a:pt x="338" y="2"/>
                  <a:pt x="338" y="2"/>
                  <a:pt x="338" y="2"/>
                </a:cubicBezTo>
                <a:cubicBezTo>
                  <a:pt x="190" y="71"/>
                  <a:pt x="71" y="190"/>
                  <a:pt x="2" y="338"/>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4" name="Freeform 1816"/>
          <p:cNvSpPr/>
          <p:nvPr/>
        </p:nvSpPr>
        <p:spPr>
          <a:xfrm>
            <a:off x="14382720" y="2320920"/>
            <a:ext cx="2357640" cy="2351160"/>
          </a:xfrm>
          <a:custGeom>
            <a:avLst/>
            <a:gdLst/>
            <a:ahLst/>
            <a:rect l="l" t="t" r="r" b="b"/>
            <a:pathLst>
              <a:path w="339" h="338">
                <a:moveTo>
                  <a:pt x="336" y="338"/>
                </a:moveTo>
                <a:cubicBezTo>
                  <a:pt x="268" y="190"/>
                  <a:pt x="148" y="71"/>
                  <a:pt x="0" y="2"/>
                </a:cubicBezTo>
                <a:cubicBezTo>
                  <a:pt x="2" y="0"/>
                  <a:pt x="2" y="0"/>
                  <a:pt x="2" y="0"/>
                </a:cubicBezTo>
                <a:cubicBezTo>
                  <a:pt x="150" y="69"/>
                  <a:pt x="270" y="189"/>
                  <a:pt x="339" y="337"/>
                </a:cubicBezTo>
                <a:lnTo>
                  <a:pt x="336" y="338"/>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5" name="Freeform 1817"/>
          <p:cNvSpPr/>
          <p:nvPr/>
        </p:nvSpPr>
        <p:spPr>
          <a:xfrm>
            <a:off x="7970760" y="8732880"/>
            <a:ext cx="2351160" cy="2357280"/>
          </a:xfrm>
          <a:custGeom>
            <a:avLst/>
            <a:gdLst/>
            <a:ahLst/>
            <a:rect l="l" t="t" r="r" b="b"/>
            <a:pathLst>
              <a:path w="338" h="339">
                <a:moveTo>
                  <a:pt x="337" y="339"/>
                </a:moveTo>
                <a:cubicBezTo>
                  <a:pt x="189" y="270"/>
                  <a:pt x="69" y="150"/>
                  <a:pt x="0" y="2"/>
                </a:cubicBezTo>
                <a:cubicBezTo>
                  <a:pt x="2" y="0"/>
                  <a:pt x="2" y="0"/>
                  <a:pt x="2" y="0"/>
                </a:cubicBezTo>
                <a:cubicBezTo>
                  <a:pt x="71" y="148"/>
                  <a:pt x="190" y="267"/>
                  <a:pt x="338" y="336"/>
                </a:cubicBezTo>
                <a:lnTo>
                  <a:pt x="337" y="339"/>
                </a:ln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6" name="Freeform 1818"/>
          <p:cNvSpPr/>
          <p:nvPr/>
        </p:nvSpPr>
        <p:spPr>
          <a:xfrm>
            <a:off x="14382720" y="8732880"/>
            <a:ext cx="2357640" cy="2357280"/>
          </a:xfrm>
          <a:custGeom>
            <a:avLst/>
            <a:gdLst/>
            <a:ahLst/>
            <a:rect l="l" t="t" r="r" b="b"/>
            <a:pathLst>
              <a:path w="339" h="339">
                <a:moveTo>
                  <a:pt x="2" y="339"/>
                </a:moveTo>
                <a:cubicBezTo>
                  <a:pt x="0" y="336"/>
                  <a:pt x="0" y="336"/>
                  <a:pt x="0" y="336"/>
                </a:cubicBezTo>
                <a:cubicBezTo>
                  <a:pt x="148" y="267"/>
                  <a:pt x="268" y="148"/>
                  <a:pt x="336" y="0"/>
                </a:cubicBezTo>
                <a:cubicBezTo>
                  <a:pt x="339" y="2"/>
                  <a:pt x="339" y="2"/>
                  <a:pt x="339" y="2"/>
                </a:cubicBezTo>
                <a:cubicBezTo>
                  <a:pt x="270" y="150"/>
                  <a:pt x="150" y="270"/>
                  <a:pt x="2" y="339"/>
                </a:cubicBezTo>
                <a:close/>
              </a:path>
            </a:pathLst>
          </a:custGeom>
          <a:solidFill>
            <a:srgbClr val="bbbdb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37" name="Subtitle 2"/>
          <p:cNvSpPr/>
          <p:nvPr/>
        </p:nvSpPr>
        <p:spPr>
          <a:xfrm>
            <a:off x="5605560" y="667548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GLOBALIZ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38" name="Subtitle 2"/>
          <p:cNvSpPr/>
          <p:nvPr/>
        </p:nvSpPr>
        <p:spPr>
          <a:xfrm>
            <a:off x="10360080" y="210348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COMMUNIC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39" name="Subtitle 2"/>
          <p:cNvSpPr/>
          <p:nvPr/>
        </p:nvSpPr>
        <p:spPr>
          <a:xfrm>
            <a:off x="10360080" y="11493360"/>
            <a:ext cx="40226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VISUALIZA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40" name="Subtitle 2"/>
          <p:cNvSpPr/>
          <p:nvPr/>
        </p:nvSpPr>
        <p:spPr>
          <a:xfrm>
            <a:off x="15141600" y="6675480"/>
            <a:ext cx="4024440" cy="182880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Montserrat Semi Bold"/>
                <a:ea typeface="Calibri"/>
              </a:rPr>
              <a:t>CONNECTION</a:t>
            </a:r>
            <a:endParaRPr b="0" lang="en-US" sz="2800" spc="-1" strike="noStrike">
              <a:solidFill>
                <a:srgbClr val="000000"/>
              </a:solidFill>
              <a:latin typeface="Open Sans Light"/>
            </a:endParaRPr>
          </a:p>
          <a:p>
            <a:pPr algn="ct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7f7f7f"/>
                </a:solidFill>
                <a:latin typeface="Open Sans Light"/>
                <a:ea typeface="Calibri"/>
              </a:rPr>
              <a:t>Lorem Ipsum is simply dummy text of the printing industry.</a:t>
            </a:r>
            <a:endParaRPr b="0" lang="en-US" sz="2100" spc="-1" strike="noStrike">
              <a:solidFill>
                <a:srgbClr val="000000"/>
              </a:solidFill>
              <a:latin typeface="Open Sans Light"/>
            </a:endParaRPr>
          </a:p>
        </p:txBody>
      </p:sp>
      <p:sp>
        <p:nvSpPr>
          <p:cNvPr id="2541" name="TextBox 1861"/>
          <p:cNvSpPr/>
          <p:nvPr/>
        </p:nvSpPr>
        <p:spPr>
          <a:xfrm>
            <a:off x="2506320" y="639720"/>
            <a:ext cx="5382000" cy="96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010101"/>
                </a:solidFill>
                <a:latin typeface="Montserrat Semi Bold"/>
                <a:ea typeface="Open Sans Extrabold"/>
              </a:rPr>
              <a:t>STRATEGY MAP</a:t>
            </a:r>
            <a:endParaRPr b="0" lang="en-US" sz="5700" spc="-1" strike="noStrike">
              <a:solidFill>
                <a:srgbClr val="000000"/>
              </a:solidFill>
              <a:latin typeface="Open Sans Light"/>
            </a:endParaRPr>
          </a:p>
        </p:txBody>
      </p:sp>
      <p:sp>
        <p:nvSpPr>
          <p:cNvPr id="2542" name="Rectangle 1880"/>
          <p:cNvSpPr/>
          <p:nvPr/>
        </p:nvSpPr>
        <p:spPr>
          <a:xfrm>
            <a:off x="1938240" y="2470320"/>
            <a:ext cx="4572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2400" spc="-1" strike="noStrike">
              <a:solidFill>
                <a:srgbClr val="000000"/>
              </a:solidFill>
              <a:latin typeface="Open Sans Light"/>
            </a:endParaRPr>
          </a:p>
        </p:txBody>
      </p:sp>
      <p:pic>
        <p:nvPicPr>
          <p:cNvPr id="2543" name="Group 60" descr=""/>
          <p:cNvPicPr/>
          <p:nvPr/>
        </p:nvPicPr>
        <p:blipFill>
          <a:blip r:embed="rId1"/>
          <a:stretch/>
        </p:blipFill>
        <p:spPr>
          <a:xfrm>
            <a:off x="2048040" y="1792440"/>
            <a:ext cx="1828800" cy="10944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9">
                                  <p:stCondLst>
                                    <p:cond delay="0"/>
                                  </p:stCondLst>
                                  <p:childTnLst>
                                    <p:set>
                                      <p:cBhvr>
                                        <p:cTn id="382" dur="1" fill="hold">
                                          <p:stCondLst>
                                            <p:cond delay="0"/>
                                          </p:stCondLst>
                                        </p:cTn>
                                        <p:tgtEl>
                                          <p:spTgt spid="2537"/>
                                        </p:tgtEl>
                                        <p:attrNameLst>
                                          <p:attrName>style.visibility</p:attrName>
                                        </p:attrNameLst>
                                      </p:cBhvr>
                                      <p:to>
                                        <p:strVal val="visible"/>
                                      </p:to>
                                    </p:set>
                                    <p:animEffect filter="dissolve" transition="in">
                                      <p:cBhvr additive="repl">
                                        <p:cTn id="383" dur="500"/>
                                        <p:tgtEl>
                                          <p:spTgt spid="2537"/>
                                        </p:tgtEl>
                                      </p:cBhvr>
                                    </p:animEffect>
                                  </p:childTnLst>
                                </p:cTn>
                              </p:par>
                            </p:childTnLst>
                          </p:cTn>
                        </p:par>
                        <p:par>
                          <p:cTn id="384" fill="hold">
                            <p:stCondLst>
                              <p:cond delay="500"/>
                            </p:stCondLst>
                            <p:childTnLst>
                              <p:par>
                                <p:cTn id="385" nodeType="afterEffect" fill="hold" presetClass="entr" presetID="9">
                                  <p:stCondLst>
                                    <p:cond delay="0"/>
                                  </p:stCondLst>
                                  <p:childTnLst>
                                    <p:set>
                                      <p:cBhvr>
                                        <p:cTn id="386" dur="1" fill="hold">
                                          <p:stCondLst>
                                            <p:cond delay="0"/>
                                          </p:stCondLst>
                                        </p:cTn>
                                        <p:tgtEl>
                                          <p:spTgt spid="2538"/>
                                        </p:tgtEl>
                                        <p:attrNameLst>
                                          <p:attrName>style.visibility</p:attrName>
                                        </p:attrNameLst>
                                      </p:cBhvr>
                                      <p:to>
                                        <p:strVal val="visible"/>
                                      </p:to>
                                    </p:set>
                                    <p:animEffect filter="dissolve" transition="in">
                                      <p:cBhvr additive="repl">
                                        <p:cTn id="387" dur="500"/>
                                        <p:tgtEl>
                                          <p:spTgt spid="2538"/>
                                        </p:tgtEl>
                                      </p:cBhvr>
                                    </p:animEffect>
                                  </p:childTnLst>
                                </p:cTn>
                              </p:par>
                            </p:childTnLst>
                          </p:cTn>
                        </p:par>
                        <p:par>
                          <p:cTn id="388" fill="hold">
                            <p:stCondLst>
                              <p:cond delay="1000"/>
                            </p:stCondLst>
                            <p:childTnLst>
                              <p:par>
                                <p:cTn id="389" nodeType="afterEffect" fill="hold" presetClass="entr" presetID="9">
                                  <p:stCondLst>
                                    <p:cond delay="0"/>
                                  </p:stCondLst>
                                  <p:childTnLst>
                                    <p:set>
                                      <p:cBhvr>
                                        <p:cTn id="390" dur="1" fill="hold">
                                          <p:stCondLst>
                                            <p:cond delay="0"/>
                                          </p:stCondLst>
                                        </p:cTn>
                                        <p:tgtEl>
                                          <p:spTgt spid="2539"/>
                                        </p:tgtEl>
                                        <p:attrNameLst>
                                          <p:attrName>style.visibility</p:attrName>
                                        </p:attrNameLst>
                                      </p:cBhvr>
                                      <p:to>
                                        <p:strVal val="visible"/>
                                      </p:to>
                                    </p:set>
                                    <p:animEffect filter="dissolve" transition="in">
                                      <p:cBhvr additive="repl">
                                        <p:cTn id="391" dur="500"/>
                                        <p:tgtEl>
                                          <p:spTgt spid="2539"/>
                                        </p:tgtEl>
                                      </p:cBhvr>
                                    </p:animEffect>
                                  </p:childTnLst>
                                </p:cTn>
                              </p:par>
                            </p:childTnLst>
                          </p:cTn>
                        </p:par>
                        <p:par>
                          <p:cTn id="392" fill="hold">
                            <p:stCondLst>
                              <p:cond delay="1500"/>
                            </p:stCondLst>
                            <p:childTnLst>
                              <p:par>
                                <p:cTn id="393" nodeType="afterEffect" fill="hold" presetClass="entr" presetID="9">
                                  <p:stCondLst>
                                    <p:cond delay="0"/>
                                  </p:stCondLst>
                                  <p:childTnLst>
                                    <p:set>
                                      <p:cBhvr>
                                        <p:cTn id="394" dur="1" fill="hold">
                                          <p:stCondLst>
                                            <p:cond delay="0"/>
                                          </p:stCondLst>
                                        </p:cTn>
                                        <p:tgtEl>
                                          <p:spTgt spid="2540"/>
                                        </p:tgtEl>
                                        <p:attrNameLst>
                                          <p:attrName>style.visibility</p:attrName>
                                        </p:attrNameLst>
                                      </p:cBhvr>
                                      <p:to>
                                        <p:strVal val="visible"/>
                                      </p:to>
                                    </p:set>
                                    <p:animEffect filter="dissolve" transition="in">
                                      <p:cBhvr additive="repl">
                                        <p:cTn id="395" dur="500"/>
                                        <p:tgtEl>
                                          <p:spTgt spid="2540"/>
                                        </p:tgtEl>
                                      </p:cBhvr>
                                    </p:animEffect>
                                  </p:childTnLst>
                                </p:cTn>
                              </p:par>
                            </p:childTnLst>
                          </p:cTn>
                        </p:par>
                        <p:par>
                          <p:cTn id="396" fill="hold">
                            <p:stCondLst>
                              <p:cond delay="2000"/>
                            </p:stCondLst>
                            <p:childTnLst>
                              <p:par>
                                <p:cTn id="397" nodeType="afterEffect" fill="hold" presetClass="entr" presetID="49">
                                  <p:stCondLst>
                                    <p:cond delay="0"/>
                                  </p:stCondLst>
                                  <p:childTnLst>
                                    <p:set>
                                      <p:cBhvr>
                                        <p:cTn id="398" dur="1" fill="hold">
                                          <p:stCondLst>
                                            <p:cond delay="0"/>
                                          </p:stCondLst>
                                        </p:cTn>
                                        <p:tgtEl>
                                          <p:spTgt spid="2543"/>
                                        </p:tgtEl>
                                        <p:attrNameLst>
                                          <p:attrName>style.visibility</p:attrName>
                                        </p:attrNameLst>
                                      </p:cBhvr>
                                      <p:to>
                                        <p:strVal val="visible"/>
                                      </p:to>
                                    </p:set>
                                    <p:anim calcmode="lin" valueType="num">
                                      <p:cBhvr additive="repl">
                                        <p:cTn id="399" dur="500" fill="hold"/>
                                        <p:tgtEl>
                                          <p:spTgt spid="2543"/>
                                        </p:tgtEl>
                                        <p:attrNameLst>
                                          <p:attrName>ppt_w</p:attrName>
                                        </p:attrNameLst>
                                      </p:cBhvr>
                                      <p:tavLst>
                                        <p:tav tm="0">
                                          <p:val>
                                            <p:fltVal val="0"/>
                                          </p:val>
                                        </p:tav>
                                        <p:tav tm="100000">
                                          <p:val>
                                            <p:strVal val="#ppt_w"/>
                                          </p:val>
                                        </p:tav>
                                      </p:tavLst>
                                    </p:anim>
                                    <p:anim calcmode="lin" valueType="num">
                                      <p:cBhvr additive="repl">
                                        <p:cTn id="400" dur="500" fill="hold"/>
                                        <p:tgtEl>
                                          <p:spTgt spid="2543"/>
                                        </p:tgtEl>
                                        <p:attrNameLst>
                                          <p:attrName>ppt_h</p:attrName>
                                        </p:attrNameLst>
                                      </p:cBhvr>
                                      <p:tavLst>
                                        <p:tav tm="0">
                                          <p:val>
                                            <p:fltVal val="0"/>
                                          </p:val>
                                        </p:tav>
                                        <p:tav tm="100000">
                                          <p:val>
                                            <p:strVal val="#ppt_h"/>
                                          </p:val>
                                        </p:tav>
                                      </p:tavLst>
                                    </p:anim>
                                    <p:anim calcmode="lin" valueType="num">
                                      <p:cBhvr additive="repl">
                                        <p:cTn id="401" dur="500" fill="hold"/>
                                        <p:tgtEl>
                                          <p:spTgt spid="2543"/>
                                        </p:tgtEl>
                                        <p:attrNameLst>
                                          <p:attrName>r</p:attrName>
                                        </p:attrNameLst>
                                      </p:cBhvr>
                                      <p:tavLst>
                                        <p:tav tm="0">
                                          <p:val>
                                            <p:strVal val="360"/>
                                          </p:val>
                                        </p:tav>
                                        <p:tav tm="100000">
                                          <p:val>
                                            <p:strVal val="0"/>
                                          </p:val>
                                        </p:tav>
                                      </p:tavLst>
                                    </p:anim>
                                    <p:animEffect filter="fade" transition="in">
                                      <p:cBhvr additive="repl">
                                        <p:cTn id="402" dur="500"/>
                                        <p:tgtEl>
                                          <p:spTgt spid="2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Oval 902"/>
          <p:cNvSpPr/>
          <p:nvPr/>
        </p:nvSpPr>
        <p:spPr>
          <a:xfrm>
            <a:off x="12328560" y="532296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45" name="Oval 1032"/>
          <p:cNvSpPr/>
          <p:nvPr/>
        </p:nvSpPr>
        <p:spPr>
          <a:xfrm>
            <a:off x="16951320" y="532296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46" name="Freeform 1033"/>
          <p:cNvSpPr/>
          <p:nvPr/>
        </p:nvSpPr>
        <p:spPr>
          <a:xfrm>
            <a:off x="3236760" y="4356000"/>
            <a:ext cx="8052120" cy="8056800"/>
          </a:xfrm>
          <a:custGeom>
            <a:avLst/>
            <a:gdLst/>
            <a:ahLst/>
            <a:rect l="l" t="t" r="r" b="b"/>
            <a:pathLst>
              <a:path w="836" h="836">
                <a:moveTo>
                  <a:pt x="418" y="0"/>
                </a:moveTo>
                <a:cubicBezTo>
                  <a:pt x="418" y="0"/>
                  <a:pt x="418" y="0"/>
                  <a:pt x="418" y="0"/>
                </a:cubicBezTo>
                <a:cubicBezTo>
                  <a:pt x="418" y="0"/>
                  <a:pt x="418" y="0"/>
                  <a:pt x="418" y="0"/>
                </a:cubicBezTo>
                <a:cubicBezTo>
                  <a:pt x="418" y="0"/>
                  <a:pt x="418" y="0"/>
                  <a:pt x="418" y="0"/>
                </a:cubicBezTo>
                <a:cubicBezTo>
                  <a:pt x="418" y="0"/>
                  <a:pt x="418" y="0"/>
                  <a:pt x="418" y="0"/>
                </a:cubicBezTo>
                <a:cubicBezTo>
                  <a:pt x="418" y="0"/>
                  <a:pt x="418" y="0"/>
                  <a:pt x="418" y="0"/>
                </a:cubicBezTo>
                <a:cubicBezTo>
                  <a:pt x="418" y="0"/>
                  <a:pt x="418" y="0"/>
                  <a:pt x="418"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7" y="0"/>
                  <a:pt x="417" y="0"/>
                  <a:pt x="417"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6" y="0"/>
                </a:cubicBezTo>
                <a:cubicBezTo>
                  <a:pt x="416" y="0"/>
                  <a:pt x="416"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5" y="0"/>
                </a:cubicBezTo>
                <a:cubicBezTo>
                  <a:pt x="415" y="0"/>
                  <a:pt x="415"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4" y="0"/>
                  <a:pt x="414" y="0"/>
                  <a:pt x="414"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3" y="0"/>
                  <a:pt x="413" y="0"/>
                </a:cubicBezTo>
                <a:cubicBezTo>
                  <a:pt x="413"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2" y="0"/>
                  <a:pt x="412" y="0"/>
                </a:cubicBezTo>
                <a:cubicBezTo>
                  <a:pt x="412"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1" y="0"/>
                </a:cubicBezTo>
                <a:cubicBezTo>
                  <a:pt x="411" y="0"/>
                  <a:pt x="411"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10" y="0"/>
                </a:cubicBezTo>
                <a:cubicBezTo>
                  <a:pt x="410" y="0"/>
                  <a:pt x="410"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9" y="0"/>
                </a:cubicBezTo>
                <a:cubicBezTo>
                  <a:pt x="409" y="0"/>
                  <a:pt x="409"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8" y="0"/>
                </a:cubicBezTo>
                <a:cubicBezTo>
                  <a:pt x="408" y="0"/>
                  <a:pt x="408" y="0"/>
                  <a:pt x="407" y="0"/>
                </a:cubicBezTo>
                <a:cubicBezTo>
                  <a:pt x="407" y="0"/>
                  <a:pt x="407" y="0"/>
                  <a:pt x="407" y="0"/>
                </a:cubicBezTo>
                <a:cubicBezTo>
                  <a:pt x="407" y="0"/>
                  <a:pt x="407" y="0"/>
                  <a:pt x="406" y="0"/>
                </a:cubicBezTo>
                <a:cubicBezTo>
                  <a:pt x="406" y="0"/>
                  <a:pt x="406" y="0"/>
                  <a:pt x="406" y="0"/>
                </a:cubicBezTo>
                <a:cubicBezTo>
                  <a:pt x="406" y="0"/>
                  <a:pt x="406" y="0"/>
                  <a:pt x="406" y="0"/>
                </a:cubicBezTo>
                <a:cubicBezTo>
                  <a:pt x="406" y="0"/>
                  <a:pt x="406" y="0"/>
                  <a:pt x="406" y="0"/>
                </a:cubicBezTo>
                <a:cubicBezTo>
                  <a:pt x="406" y="0"/>
                  <a:pt x="406" y="0"/>
                  <a:pt x="406" y="0"/>
                </a:cubicBezTo>
                <a:cubicBezTo>
                  <a:pt x="406" y="0"/>
                  <a:pt x="406" y="0"/>
                  <a:pt x="406" y="0"/>
                </a:cubicBezTo>
                <a:cubicBezTo>
                  <a:pt x="403" y="0"/>
                  <a:pt x="401" y="0"/>
                  <a:pt x="398" y="0"/>
                </a:cubicBezTo>
                <a:cubicBezTo>
                  <a:pt x="398" y="4"/>
                  <a:pt x="398" y="4"/>
                  <a:pt x="398" y="4"/>
                </a:cubicBezTo>
                <a:cubicBezTo>
                  <a:pt x="405" y="4"/>
                  <a:pt x="411" y="4"/>
                  <a:pt x="418" y="4"/>
                </a:cubicBezTo>
                <a:cubicBezTo>
                  <a:pt x="418" y="0"/>
                  <a:pt x="418" y="0"/>
                  <a:pt x="418" y="0"/>
                </a:cubicBezTo>
                <a:cubicBezTo>
                  <a:pt x="418" y="0"/>
                  <a:pt x="418" y="0"/>
                  <a:pt x="418" y="0"/>
                </a:cubicBezTo>
                <a:close/>
                <a:moveTo>
                  <a:pt x="378" y="2"/>
                </a:moveTo>
                <a:cubicBezTo>
                  <a:pt x="373" y="2"/>
                  <a:pt x="368" y="3"/>
                  <a:pt x="363" y="4"/>
                </a:cubicBezTo>
                <a:cubicBezTo>
                  <a:pt x="363" y="4"/>
                  <a:pt x="363" y="4"/>
                  <a:pt x="363" y="4"/>
                </a:cubicBezTo>
                <a:cubicBezTo>
                  <a:pt x="363" y="4"/>
                  <a:pt x="363" y="4"/>
                  <a:pt x="363" y="4"/>
                </a:cubicBezTo>
                <a:cubicBezTo>
                  <a:pt x="363" y="4"/>
                  <a:pt x="363" y="4"/>
                  <a:pt x="363" y="4"/>
                </a:cubicBezTo>
                <a:cubicBezTo>
                  <a:pt x="363"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2" y="4"/>
                  <a:pt x="362" y="4"/>
                  <a:pt x="362"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1" y="4"/>
                  <a:pt x="361" y="4"/>
                  <a:pt x="361" y="4"/>
                </a:cubicBezTo>
                <a:cubicBezTo>
                  <a:pt x="360" y="4"/>
                  <a:pt x="359" y="4"/>
                  <a:pt x="358" y="4"/>
                </a:cubicBezTo>
                <a:cubicBezTo>
                  <a:pt x="359" y="8"/>
                  <a:pt x="359" y="8"/>
                  <a:pt x="359" y="8"/>
                </a:cubicBezTo>
                <a:cubicBezTo>
                  <a:pt x="365" y="7"/>
                  <a:pt x="372" y="6"/>
                  <a:pt x="378" y="6"/>
                </a:cubicBezTo>
                <a:cubicBezTo>
                  <a:pt x="378" y="2"/>
                  <a:pt x="378" y="2"/>
                  <a:pt x="378" y="2"/>
                </a:cubicBezTo>
                <a:close/>
                <a:moveTo>
                  <a:pt x="339" y="8"/>
                </a:moveTo>
                <a:cubicBezTo>
                  <a:pt x="336" y="8"/>
                  <a:pt x="334" y="8"/>
                  <a:pt x="332" y="9"/>
                </a:cubicBezTo>
                <a:cubicBezTo>
                  <a:pt x="332" y="9"/>
                  <a:pt x="332" y="9"/>
                  <a:pt x="332" y="9"/>
                </a:cubicBezTo>
                <a:cubicBezTo>
                  <a:pt x="332" y="9"/>
                  <a:pt x="332" y="9"/>
                  <a:pt x="332" y="9"/>
                </a:cubicBezTo>
                <a:cubicBezTo>
                  <a:pt x="332" y="9"/>
                  <a:pt x="332" y="9"/>
                  <a:pt x="332" y="9"/>
                </a:cubicBezTo>
                <a:cubicBezTo>
                  <a:pt x="332" y="9"/>
                  <a:pt x="332"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1" y="9"/>
                  <a:pt x="331" y="9"/>
                  <a:pt x="331"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30" y="9"/>
                  <a:pt x="330" y="9"/>
                  <a:pt x="330" y="9"/>
                </a:cubicBezTo>
                <a:cubicBezTo>
                  <a:pt x="326" y="10"/>
                  <a:pt x="323" y="11"/>
                  <a:pt x="319" y="12"/>
                </a:cubicBezTo>
                <a:cubicBezTo>
                  <a:pt x="320" y="16"/>
                  <a:pt x="320" y="16"/>
                  <a:pt x="320" y="16"/>
                </a:cubicBezTo>
                <a:cubicBezTo>
                  <a:pt x="326" y="14"/>
                  <a:pt x="333" y="13"/>
                  <a:pt x="339" y="11"/>
                </a:cubicBezTo>
                <a:cubicBezTo>
                  <a:pt x="339" y="8"/>
                  <a:pt x="339" y="8"/>
                  <a:pt x="339" y="8"/>
                </a:cubicBezTo>
                <a:close/>
                <a:moveTo>
                  <a:pt x="300" y="17"/>
                </a:moveTo>
                <a:cubicBezTo>
                  <a:pt x="299" y="17"/>
                  <a:pt x="297"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6" y="18"/>
                  <a:pt x="296" y="18"/>
                </a:cubicBezTo>
                <a:cubicBezTo>
                  <a:pt x="296"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8"/>
                  <a:pt x="295" y="18"/>
                  <a:pt x="295" y="18"/>
                </a:cubicBezTo>
                <a:cubicBezTo>
                  <a:pt x="295" y="19"/>
                  <a:pt x="295" y="19"/>
                  <a:pt x="295" y="19"/>
                </a:cubicBezTo>
                <a:cubicBezTo>
                  <a:pt x="295" y="19"/>
                  <a:pt x="295" y="19"/>
                  <a:pt x="295" y="19"/>
                </a:cubicBezTo>
                <a:cubicBezTo>
                  <a:pt x="295"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4" y="19"/>
                  <a:pt x="294" y="19"/>
                  <a:pt x="294" y="19"/>
                </a:cubicBezTo>
                <a:cubicBezTo>
                  <a:pt x="291" y="20"/>
                  <a:pt x="287" y="21"/>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4" y="22"/>
                  <a:pt x="284" y="22"/>
                </a:cubicBezTo>
                <a:cubicBezTo>
                  <a:pt x="284"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3" y="22"/>
                  <a:pt x="283" y="22"/>
                  <a:pt x="283" y="22"/>
                </a:cubicBezTo>
                <a:cubicBezTo>
                  <a:pt x="282" y="22"/>
                  <a:pt x="282" y="22"/>
                  <a:pt x="282" y="22"/>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2" y="23"/>
                  <a:pt x="282" y="23"/>
                  <a:pt x="282"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1" y="23"/>
                  <a:pt x="281" y="23"/>
                  <a:pt x="281" y="23"/>
                </a:cubicBezTo>
                <a:cubicBezTo>
                  <a:pt x="282" y="27"/>
                  <a:pt x="282" y="27"/>
                  <a:pt x="282" y="27"/>
                </a:cubicBezTo>
                <a:cubicBezTo>
                  <a:pt x="288" y="25"/>
                  <a:pt x="295" y="23"/>
                  <a:pt x="301" y="21"/>
                </a:cubicBezTo>
                <a:cubicBezTo>
                  <a:pt x="300" y="17"/>
                  <a:pt x="300" y="17"/>
                  <a:pt x="300" y="17"/>
                </a:cubicBezTo>
                <a:close/>
                <a:moveTo>
                  <a:pt x="262" y="30"/>
                </a:moveTo>
                <a:cubicBezTo>
                  <a:pt x="262" y="30"/>
                  <a:pt x="262" y="30"/>
                  <a:pt x="262" y="30"/>
                </a:cubicBezTo>
                <a:cubicBezTo>
                  <a:pt x="262" y="30"/>
                  <a:pt x="262" y="30"/>
                  <a:pt x="262" y="30"/>
                </a:cubicBezTo>
                <a:cubicBezTo>
                  <a:pt x="262" y="30"/>
                  <a:pt x="262" y="30"/>
                  <a:pt x="262" y="30"/>
                </a:cubicBezTo>
                <a:cubicBezTo>
                  <a:pt x="262" y="30"/>
                  <a:pt x="262" y="30"/>
                  <a:pt x="262" y="30"/>
                </a:cubicBezTo>
                <a:cubicBezTo>
                  <a:pt x="262" y="30"/>
                  <a:pt x="262" y="30"/>
                  <a:pt x="262" y="30"/>
                </a:cubicBezTo>
                <a:cubicBezTo>
                  <a:pt x="262" y="30"/>
                  <a:pt x="262"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0"/>
                  <a:pt x="261" y="30"/>
                  <a:pt x="261" y="30"/>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1" y="31"/>
                </a:cubicBezTo>
                <a:cubicBezTo>
                  <a:pt x="261" y="31"/>
                  <a:pt x="261" y="31"/>
                  <a:pt x="260" y="31"/>
                </a:cubicBezTo>
                <a:cubicBezTo>
                  <a:pt x="260" y="31"/>
                  <a:pt x="260" y="31"/>
                  <a:pt x="260" y="31"/>
                </a:cubicBezTo>
                <a:cubicBezTo>
                  <a:pt x="260" y="31"/>
                  <a:pt x="260" y="31"/>
                  <a:pt x="260" y="31"/>
                </a:cubicBezTo>
                <a:cubicBezTo>
                  <a:pt x="260" y="31"/>
                  <a:pt x="260" y="31"/>
                  <a:pt x="260" y="31"/>
                </a:cubicBezTo>
                <a:cubicBezTo>
                  <a:pt x="260" y="31"/>
                  <a:pt x="260"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1"/>
                </a:cubicBezTo>
                <a:cubicBezTo>
                  <a:pt x="259" y="31"/>
                  <a:pt x="259" y="31"/>
                  <a:pt x="259" y="32"/>
                </a:cubicBezTo>
                <a:cubicBezTo>
                  <a:pt x="259" y="32"/>
                  <a:pt x="259" y="32"/>
                  <a:pt x="259"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8" y="32"/>
                </a:cubicBezTo>
                <a:cubicBezTo>
                  <a:pt x="258" y="32"/>
                  <a:pt x="258"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7" y="32"/>
                  <a:pt x="257" y="32"/>
                </a:cubicBezTo>
                <a:cubicBezTo>
                  <a:pt x="257" y="32"/>
                  <a:pt x="256" y="32"/>
                  <a:pt x="256" y="32"/>
                </a:cubicBezTo>
                <a:cubicBezTo>
                  <a:pt x="256" y="32"/>
                  <a:pt x="256" y="32"/>
                  <a:pt x="256" y="32"/>
                </a:cubicBezTo>
                <a:cubicBezTo>
                  <a:pt x="256" y="32"/>
                  <a:pt x="256" y="32"/>
                  <a:pt x="256" y="32"/>
                </a:cubicBezTo>
                <a:cubicBezTo>
                  <a:pt x="256" y="32"/>
                  <a:pt x="256" y="32"/>
                  <a:pt x="256" y="32"/>
                </a:cubicBezTo>
                <a:cubicBezTo>
                  <a:pt x="256" y="32"/>
                  <a:pt x="256" y="32"/>
                  <a:pt x="256" y="32"/>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6" y="33"/>
                  <a:pt x="256" y="33"/>
                  <a:pt x="256"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5" y="33"/>
                </a:cubicBezTo>
                <a:cubicBezTo>
                  <a:pt x="255" y="33"/>
                  <a:pt x="255"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3"/>
                  <a:pt x="254" y="33"/>
                </a:cubicBezTo>
                <a:cubicBezTo>
                  <a:pt x="254" y="33"/>
                  <a:pt x="254" y="34"/>
                  <a:pt x="254" y="34"/>
                </a:cubicBezTo>
                <a:cubicBezTo>
                  <a:pt x="254" y="34"/>
                  <a:pt x="254" y="34"/>
                  <a:pt x="254" y="34"/>
                </a:cubicBezTo>
                <a:cubicBezTo>
                  <a:pt x="254" y="34"/>
                  <a:pt x="254" y="34"/>
                  <a:pt x="254" y="34"/>
                </a:cubicBezTo>
                <a:cubicBezTo>
                  <a:pt x="254" y="34"/>
                  <a:pt x="254" y="34"/>
                  <a:pt x="254" y="34"/>
                </a:cubicBezTo>
                <a:cubicBezTo>
                  <a:pt x="254"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3" y="34"/>
                  <a:pt x="253" y="34"/>
                  <a:pt x="253" y="34"/>
                </a:cubicBezTo>
                <a:cubicBezTo>
                  <a:pt x="250" y="35"/>
                  <a:pt x="247" y="37"/>
                  <a:pt x="244" y="38"/>
                </a:cubicBezTo>
                <a:cubicBezTo>
                  <a:pt x="245" y="42"/>
                  <a:pt x="245" y="42"/>
                  <a:pt x="245" y="42"/>
                </a:cubicBezTo>
                <a:cubicBezTo>
                  <a:pt x="251" y="39"/>
                  <a:pt x="257" y="36"/>
                  <a:pt x="263" y="34"/>
                </a:cubicBezTo>
                <a:cubicBezTo>
                  <a:pt x="262" y="30"/>
                  <a:pt x="262" y="30"/>
                  <a:pt x="262" y="30"/>
                </a:cubicBezTo>
                <a:close/>
                <a:moveTo>
                  <a:pt x="226" y="47"/>
                </a:moveTo>
                <a:cubicBezTo>
                  <a:pt x="224" y="48"/>
                  <a:pt x="221" y="49"/>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0"/>
                  <a:pt x="219" y="50"/>
                  <a:pt x="219" y="50"/>
                </a:cubicBezTo>
                <a:cubicBezTo>
                  <a:pt x="219" y="51"/>
                  <a:pt x="219" y="51"/>
                  <a:pt x="219" y="51"/>
                </a:cubicBezTo>
                <a:cubicBezTo>
                  <a:pt x="219" y="51"/>
                  <a:pt x="219" y="51"/>
                  <a:pt x="219" y="51"/>
                </a:cubicBezTo>
                <a:cubicBezTo>
                  <a:pt x="219" y="51"/>
                  <a:pt x="219" y="51"/>
                  <a:pt x="219" y="51"/>
                </a:cubicBezTo>
                <a:cubicBezTo>
                  <a:pt x="219"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8" y="51"/>
                </a:cubicBezTo>
                <a:cubicBezTo>
                  <a:pt x="218" y="51"/>
                  <a:pt x="218"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1"/>
                </a:cubicBezTo>
                <a:cubicBezTo>
                  <a:pt x="217" y="51"/>
                  <a:pt x="217" y="51"/>
                  <a:pt x="217" y="52"/>
                </a:cubicBezTo>
                <a:cubicBezTo>
                  <a:pt x="217" y="52"/>
                  <a:pt x="217" y="52"/>
                  <a:pt x="217" y="52"/>
                </a:cubicBezTo>
                <a:cubicBezTo>
                  <a:pt x="217" y="52"/>
                  <a:pt x="217" y="52"/>
                  <a:pt x="217" y="52"/>
                </a:cubicBezTo>
                <a:cubicBezTo>
                  <a:pt x="217" y="52"/>
                  <a:pt x="217" y="52"/>
                  <a:pt x="217" y="52"/>
                </a:cubicBezTo>
                <a:cubicBezTo>
                  <a:pt x="217" y="52"/>
                  <a:pt x="217" y="52"/>
                  <a:pt x="217" y="52"/>
                </a:cubicBezTo>
                <a:cubicBezTo>
                  <a:pt x="217" y="52"/>
                  <a:pt x="217" y="52"/>
                  <a:pt x="217" y="52"/>
                </a:cubicBezTo>
                <a:cubicBezTo>
                  <a:pt x="217"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6" y="52"/>
                  <a:pt x="216" y="52"/>
                  <a:pt x="216"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2"/>
                  <a:pt x="215" y="52"/>
                  <a:pt x="215" y="52"/>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5" y="53"/>
                  <a:pt x="215" y="53"/>
                </a:cubicBezTo>
                <a:cubicBezTo>
                  <a:pt x="215"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4" y="53"/>
                  <a:pt x="214" y="53"/>
                  <a:pt x="214" y="53"/>
                </a:cubicBezTo>
                <a:cubicBezTo>
                  <a:pt x="213" y="53"/>
                  <a:pt x="213" y="53"/>
                  <a:pt x="213" y="53"/>
                </a:cubicBezTo>
                <a:cubicBezTo>
                  <a:pt x="213" y="53"/>
                  <a:pt x="213" y="53"/>
                  <a:pt x="213" y="53"/>
                </a:cubicBezTo>
                <a:cubicBezTo>
                  <a:pt x="213" y="53"/>
                  <a:pt x="213" y="53"/>
                  <a:pt x="213" y="53"/>
                </a:cubicBezTo>
                <a:cubicBezTo>
                  <a:pt x="213" y="53"/>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3" y="54"/>
                  <a:pt x="213" y="54"/>
                  <a:pt x="213"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4"/>
                </a:cubicBezTo>
                <a:cubicBezTo>
                  <a:pt x="212" y="54"/>
                  <a:pt x="212" y="54"/>
                  <a:pt x="212" y="55"/>
                </a:cubicBezTo>
                <a:cubicBezTo>
                  <a:pt x="212"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1" y="55"/>
                  <a:pt x="211" y="55"/>
                  <a:pt x="211" y="55"/>
                </a:cubicBezTo>
                <a:cubicBezTo>
                  <a:pt x="210" y="55"/>
                  <a:pt x="209" y="56"/>
                  <a:pt x="208" y="56"/>
                </a:cubicBezTo>
                <a:cubicBezTo>
                  <a:pt x="210" y="60"/>
                  <a:pt x="210" y="60"/>
                  <a:pt x="210" y="60"/>
                </a:cubicBezTo>
                <a:cubicBezTo>
                  <a:pt x="216" y="57"/>
                  <a:pt x="222" y="53"/>
                  <a:pt x="227" y="50"/>
                </a:cubicBezTo>
                <a:cubicBezTo>
                  <a:pt x="226" y="47"/>
                  <a:pt x="226" y="47"/>
                  <a:pt x="226" y="47"/>
                </a:cubicBezTo>
                <a:close/>
                <a:moveTo>
                  <a:pt x="191" y="67"/>
                </a:moveTo>
                <a:cubicBezTo>
                  <a:pt x="189" y="68"/>
                  <a:pt x="188" y="69"/>
                  <a:pt x="186" y="70"/>
                </a:cubicBezTo>
                <a:cubicBezTo>
                  <a:pt x="186" y="70"/>
                  <a:pt x="186" y="70"/>
                  <a:pt x="186" y="70"/>
                </a:cubicBezTo>
                <a:cubicBezTo>
                  <a:pt x="186" y="70"/>
                  <a:pt x="186" y="70"/>
                  <a:pt x="186" y="70"/>
                </a:cubicBezTo>
                <a:cubicBezTo>
                  <a:pt x="186" y="70"/>
                  <a:pt x="186" y="70"/>
                  <a:pt x="186" y="70"/>
                </a:cubicBezTo>
                <a:cubicBezTo>
                  <a:pt x="186" y="71"/>
                  <a:pt x="186" y="71"/>
                  <a:pt x="186" y="71"/>
                </a:cubicBezTo>
                <a:cubicBezTo>
                  <a:pt x="186" y="71"/>
                  <a:pt x="186" y="71"/>
                  <a:pt x="186" y="71"/>
                </a:cubicBezTo>
                <a:cubicBezTo>
                  <a:pt x="186"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5" y="71"/>
                </a:cubicBezTo>
                <a:cubicBezTo>
                  <a:pt x="185" y="71"/>
                  <a:pt x="185" y="71"/>
                  <a:pt x="184" y="71"/>
                </a:cubicBezTo>
                <a:cubicBezTo>
                  <a:pt x="184" y="71"/>
                  <a:pt x="184" y="71"/>
                  <a:pt x="184" y="71"/>
                </a:cubicBezTo>
                <a:cubicBezTo>
                  <a:pt x="184" y="71"/>
                  <a:pt x="184" y="71"/>
                  <a:pt x="184" y="71"/>
                </a:cubicBezTo>
                <a:cubicBezTo>
                  <a:pt x="184" y="71"/>
                  <a:pt x="184" y="71"/>
                  <a:pt x="184" y="71"/>
                </a:cubicBezTo>
                <a:cubicBezTo>
                  <a:pt x="184" y="71"/>
                  <a:pt x="184" y="71"/>
                  <a:pt x="184" y="71"/>
                </a:cubicBezTo>
                <a:cubicBezTo>
                  <a:pt x="184" y="71"/>
                  <a:pt x="184" y="71"/>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4" y="72"/>
                  <a:pt x="184" y="72"/>
                  <a:pt x="184"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3" y="72"/>
                  <a:pt x="183" y="72"/>
                  <a:pt x="183" y="72"/>
                </a:cubicBezTo>
                <a:cubicBezTo>
                  <a:pt x="181" y="74"/>
                  <a:pt x="178" y="76"/>
                  <a:pt x="176" y="77"/>
                </a:cubicBezTo>
                <a:cubicBezTo>
                  <a:pt x="176" y="77"/>
                  <a:pt x="176" y="77"/>
                  <a:pt x="176" y="77"/>
                </a:cubicBezTo>
                <a:cubicBezTo>
                  <a:pt x="176" y="77"/>
                  <a:pt x="176" y="77"/>
                  <a:pt x="176" y="77"/>
                </a:cubicBezTo>
                <a:cubicBezTo>
                  <a:pt x="176" y="77"/>
                  <a:pt x="176" y="77"/>
                  <a:pt x="176" y="77"/>
                </a:cubicBezTo>
                <a:cubicBezTo>
                  <a:pt x="176" y="77"/>
                  <a:pt x="176" y="77"/>
                  <a:pt x="176" y="77"/>
                </a:cubicBezTo>
                <a:cubicBezTo>
                  <a:pt x="176" y="77"/>
                  <a:pt x="176" y="77"/>
                  <a:pt x="176" y="78"/>
                </a:cubicBezTo>
                <a:cubicBezTo>
                  <a:pt x="176"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5" y="78"/>
                  <a:pt x="175" y="78"/>
                  <a:pt x="175" y="78"/>
                </a:cubicBezTo>
                <a:cubicBezTo>
                  <a:pt x="177" y="81"/>
                  <a:pt x="177" y="81"/>
                  <a:pt x="177" y="81"/>
                </a:cubicBezTo>
                <a:cubicBezTo>
                  <a:pt x="182" y="78"/>
                  <a:pt x="188" y="74"/>
                  <a:pt x="193" y="70"/>
                </a:cubicBezTo>
                <a:cubicBezTo>
                  <a:pt x="191" y="67"/>
                  <a:pt x="191" y="67"/>
                  <a:pt x="191" y="67"/>
                </a:cubicBezTo>
                <a:close/>
                <a:moveTo>
                  <a:pt x="159" y="90"/>
                </a:moveTo>
                <a:cubicBezTo>
                  <a:pt x="158" y="91"/>
                  <a:pt x="158"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1"/>
                  <a:pt x="157" y="91"/>
                </a:cubicBezTo>
                <a:cubicBezTo>
                  <a:pt x="157" y="91"/>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7" y="92"/>
                  <a:pt x="157" y="92"/>
                  <a:pt x="157"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6" y="92"/>
                  <a:pt x="156" y="92"/>
                  <a:pt x="156" y="92"/>
                </a:cubicBezTo>
                <a:cubicBezTo>
                  <a:pt x="153" y="94"/>
                  <a:pt x="151" y="96"/>
                  <a:pt x="149" y="98"/>
                </a:cubicBezTo>
                <a:cubicBezTo>
                  <a:pt x="149" y="98"/>
                  <a:pt x="149" y="98"/>
                  <a:pt x="149" y="98"/>
                </a:cubicBezTo>
                <a:cubicBezTo>
                  <a:pt x="149" y="98"/>
                  <a:pt x="149" y="98"/>
                  <a:pt x="149" y="98"/>
                </a:cubicBezTo>
                <a:cubicBezTo>
                  <a:pt x="149" y="98"/>
                  <a:pt x="149" y="98"/>
                  <a:pt x="149" y="98"/>
                </a:cubicBezTo>
                <a:cubicBezTo>
                  <a:pt x="149" y="98"/>
                  <a:pt x="149" y="98"/>
                  <a:pt x="149" y="98"/>
                </a:cubicBezTo>
                <a:cubicBezTo>
                  <a:pt x="149" y="98"/>
                  <a:pt x="149" y="98"/>
                  <a:pt x="149" y="98"/>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8" y="99"/>
                  <a:pt x="148" y="99"/>
                  <a:pt x="148" y="99"/>
                </a:cubicBezTo>
                <a:cubicBezTo>
                  <a:pt x="146" y="100"/>
                  <a:pt x="145" y="102"/>
                  <a:pt x="143" y="103"/>
                </a:cubicBezTo>
                <a:cubicBezTo>
                  <a:pt x="146" y="106"/>
                  <a:pt x="146" y="106"/>
                  <a:pt x="146" y="106"/>
                </a:cubicBezTo>
                <a:cubicBezTo>
                  <a:pt x="151" y="102"/>
                  <a:pt x="156" y="97"/>
                  <a:pt x="161" y="93"/>
                </a:cubicBezTo>
                <a:cubicBezTo>
                  <a:pt x="159" y="90"/>
                  <a:pt x="159" y="90"/>
                  <a:pt x="159" y="90"/>
                </a:cubicBezTo>
                <a:close/>
                <a:moveTo>
                  <a:pt x="128" y="117"/>
                </a:moveTo>
                <a:cubicBezTo>
                  <a:pt x="124" y="121"/>
                  <a:pt x="119" y="126"/>
                  <a:pt x="114" y="131"/>
                </a:cubicBezTo>
                <a:cubicBezTo>
                  <a:pt x="117" y="134"/>
                  <a:pt x="117" y="134"/>
                  <a:pt x="117" y="134"/>
                </a:cubicBezTo>
                <a:cubicBezTo>
                  <a:pt x="122" y="129"/>
                  <a:pt x="126" y="124"/>
                  <a:pt x="131" y="119"/>
                </a:cubicBezTo>
                <a:cubicBezTo>
                  <a:pt x="128" y="117"/>
                  <a:pt x="128" y="117"/>
                  <a:pt x="128" y="117"/>
                </a:cubicBezTo>
                <a:close/>
                <a:moveTo>
                  <a:pt x="101" y="146"/>
                </a:moveTo>
                <a:cubicBezTo>
                  <a:pt x="101" y="146"/>
                  <a:pt x="100" y="147"/>
                  <a:pt x="100" y="147"/>
                </a:cubicBezTo>
                <a:cubicBezTo>
                  <a:pt x="100" y="147"/>
                  <a:pt x="100" y="147"/>
                  <a:pt x="100" y="147"/>
                </a:cubicBezTo>
                <a:cubicBezTo>
                  <a:pt x="100" y="147"/>
                  <a:pt x="100" y="147"/>
                  <a:pt x="100" y="147"/>
                </a:cubicBezTo>
                <a:cubicBezTo>
                  <a:pt x="99" y="147"/>
                  <a:pt x="99" y="147"/>
                  <a:pt x="99" y="147"/>
                </a:cubicBezTo>
                <a:cubicBezTo>
                  <a:pt x="99" y="147"/>
                  <a:pt x="99" y="147"/>
                  <a:pt x="99" y="147"/>
                </a:cubicBezTo>
                <a:cubicBezTo>
                  <a:pt x="99" y="147"/>
                  <a:pt x="99" y="147"/>
                  <a:pt x="99" y="147"/>
                </a:cubicBezTo>
                <a:cubicBezTo>
                  <a:pt x="99" y="147"/>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9" y="148"/>
                </a:cubicBezTo>
                <a:cubicBezTo>
                  <a:pt x="99" y="148"/>
                  <a:pt x="99" y="148"/>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49"/>
                </a:cubicBezTo>
                <a:cubicBezTo>
                  <a:pt x="98" y="149"/>
                  <a:pt x="98" y="149"/>
                  <a:pt x="98" y="150"/>
                </a:cubicBezTo>
                <a:cubicBezTo>
                  <a:pt x="98" y="150"/>
                  <a:pt x="98" y="150"/>
                  <a:pt x="98" y="150"/>
                </a:cubicBezTo>
                <a:cubicBezTo>
                  <a:pt x="98" y="150"/>
                  <a:pt x="98" y="150"/>
                  <a:pt x="98" y="150"/>
                </a:cubicBezTo>
                <a:cubicBezTo>
                  <a:pt x="98" y="150"/>
                  <a:pt x="98"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0"/>
                  <a:pt x="97" y="150"/>
                </a:cubicBezTo>
                <a:cubicBezTo>
                  <a:pt x="97" y="150"/>
                  <a:pt x="97" y="151"/>
                  <a:pt x="97" y="151"/>
                </a:cubicBezTo>
                <a:cubicBezTo>
                  <a:pt x="97" y="151"/>
                  <a:pt x="97" y="151"/>
                  <a:pt x="97" y="151"/>
                </a:cubicBezTo>
                <a:cubicBezTo>
                  <a:pt x="97" y="151"/>
                  <a:pt x="97" y="151"/>
                  <a:pt x="97" y="151"/>
                </a:cubicBezTo>
                <a:cubicBezTo>
                  <a:pt x="97" y="151"/>
                  <a:pt x="97" y="151"/>
                  <a:pt x="97" y="151"/>
                </a:cubicBezTo>
                <a:cubicBezTo>
                  <a:pt x="97" y="151"/>
                  <a:pt x="97" y="151"/>
                  <a:pt x="97" y="151"/>
                </a:cubicBezTo>
                <a:cubicBezTo>
                  <a:pt x="97" y="151"/>
                  <a:pt x="97" y="151"/>
                  <a:pt x="97" y="151"/>
                </a:cubicBezTo>
                <a:cubicBezTo>
                  <a:pt x="97" y="151"/>
                  <a:pt x="97"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1"/>
                </a:cubicBezTo>
                <a:cubicBezTo>
                  <a:pt x="96" y="151"/>
                  <a:pt x="96" y="151"/>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6" y="152"/>
                </a:cubicBezTo>
                <a:cubicBezTo>
                  <a:pt x="96" y="152"/>
                  <a:pt x="96" y="152"/>
                  <a:pt x="95" y="152"/>
                </a:cubicBezTo>
                <a:cubicBezTo>
                  <a:pt x="95" y="152"/>
                  <a:pt x="95" y="152"/>
                  <a:pt x="95" y="152"/>
                </a:cubicBezTo>
                <a:cubicBezTo>
                  <a:pt x="95" y="152"/>
                  <a:pt x="95" y="152"/>
                  <a:pt x="95" y="152"/>
                </a:cubicBezTo>
                <a:cubicBezTo>
                  <a:pt x="95" y="152"/>
                  <a:pt x="95" y="152"/>
                  <a:pt x="95" y="152"/>
                </a:cubicBezTo>
                <a:cubicBezTo>
                  <a:pt x="95" y="152"/>
                  <a:pt x="95" y="152"/>
                  <a:pt x="95" y="152"/>
                </a:cubicBezTo>
                <a:cubicBezTo>
                  <a:pt x="95" y="152"/>
                  <a:pt x="95" y="152"/>
                  <a:pt x="95" y="152"/>
                </a:cubicBezTo>
                <a:cubicBezTo>
                  <a:pt x="95" y="152"/>
                  <a:pt x="95" y="152"/>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5" y="153"/>
                  <a:pt x="95" y="153"/>
                  <a:pt x="95" y="153"/>
                </a:cubicBezTo>
                <a:cubicBezTo>
                  <a:pt x="93" y="156"/>
                  <a:pt x="90" y="158"/>
                  <a:pt x="88" y="161"/>
                </a:cubicBezTo>
                <a:cubicBezTo>
                  <a:pt x="91" y="164"/>
                  <a:pt x="91" y="164"/>
                  <a:pt x="91" y="164"/>
                </a:cubicBezTo>
                <a:cubicBezTo>
                  <a:pt x="95" y="158"/>
                  <a:pt x="100" y="153"/>
                  <a:pt x="104" y="148"/>
                </a:cubicBezTo>
                <a:cubicBezTo>
                  <a:pt x="101" y="146"/>
                  <a:pt x="101" y="146"/>
                  <a:pt x="101" y="146"/>
                </a:cubicBezTo>
                <a:close/>
                <a:moveTo>
                  <a:pt x="76" y="177"/>
                </a:moveTo>
                <a:cubicBezTo>
                  <a:pt x="73" y="182"/>
                  <a:pt x="70" y="186"/>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7" y="191"/>
                  <a:pt x="67" y="191"/>
                  <a:pt x="67" y="191"/>
                </a:cubicBezTo>
                <a:cubicBezTo>
                  <a:pt x="66" y="192"/>
                  <a:pt x="66" y="193"/>
                  <a:pt x="65" y="194"/>
                </a:cubicBezTo>
                <a:cubicBezTo>
                  <a:pt x="69" y="196"/>
                  <a:pt x="69" y="196"/>
                  <a:pt x="69" y="196"/>
                </a:cubicBezTo>
                <a:cubicBezTo>
                  <a:pt x="72" y="190"/>
                  <a:pt x="76" y="185"/>
                  <a:pt x="80" y="179"/>
                </a:cubicBezTo>
                <a:cubicBezTo>
                  <a:pt x="76" y="177"/>
                  <a:pt x="76" y="177"/>
                  <a:pt x="76" y="177"/>
                </a:cubicBezTo>
                <a:close/>
                <a:moveTo>
                  <a:pt x="55" y="211"/>
                </a:moveTo>
                <a:cubicBezTo>
                  <a:pt x="53" y="214"/>
                  <a:pt x="52" y="217"/>
                  <a:pt x="50" y="219"/>
                </a:cubicBezTo>
                <a:cubicBezTo>
                  <a:pt x="50" y="219"/>
                  <a:pt x="50" y="219"/>
                  <a:pt x="50" y="219"/>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0"/>
                  <a:pt x="50" y="220"/>
                </a:cubicBezTo>
                <a:cubicBezTo>
                  <a:pt x="50" y="220"/>
                  <a:pt x="50" y="221"/>
                  <a:pt x="50" y="221"/>
                </a:cubicBezTo>
                <a:cubicBezTo>
                  <a:pt x="50" y="221"/>
                  <a:pt x="50"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1"/>
                  <a:pt x="49" y="221"/>
                  <a:pt x="49" y="221"/>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9" y="222"/>
                </a:cubicBezTo>
                <a:cubicBezTo>
                  <a:pt x="49" y="222"/>
                  <a:pt x="49" y="222"/>
                  <a:pt x="48" y="222"/>
                </a:cubicBezTo>
                <a:cubicBezTo>
                  <a:pt x="48" y="222"/>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3"/>
                </a:cubicBezTo>
                <a:cubicBezTo>
                  <a:pt x="48" y="223"/>
                  <a:pt x="48" y="223"/>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8" y="224"/>
                  <a:pt x="48" y="224"/>
                  <a:pt x="48" y="224"/>
                </a:cubicBezTo>
                <a:cubicBezTo>
                  <a:pt x="47" y="224"/>
                  <a:pt x="47" y="224"/>
                  <a:pt x="47" y="224"/>
                </a:cubicBezTo>
                <a:cubicBezTo>
                  <a:pt x="47" y="224"/>
                  <a:pt x="47" y="224"/>
                  <a:pt x="47" y="224"/>
                </a:cubicBezTo>
                <a:cubicBezTo>
                  <a:pt x="47" y="224"/>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5"/>
                  <a:pt x="47" y="225"/>
                </a:cubicBezTo>
                <a:cubicBezTo>
                  <a:pt x="47" y="225"/>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7" y="226"/>
                </a:cubicBezTo>
                <a:cubicBezTo>
                  <a:pt x="47" y="226"/>
                  <a:pt x="47" y="226"/>
                  <a:pt x="46" y="226"/>
                </a:cubicBezTo>
                <a:cubicBezTo>
                  <a:pt x="46" y="226"/>
                  <a:pt x="46" y="226"/>
                  <a:pt x="46" y="226"/>
                </a:cubicBezTo>
                <a:cubicBezTo>
                  <a:pt x="46" y="226"/>
                  <a:pt x="46" y="226"/>
                  <a:pt x="46" y="226"/>
                </a:cubicBezTo>
                <a:cubicBezTo>
                  <a:pt x="46" y="226"/>
                  <a:pt x="46" y="226"/>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7"/>
                  <a:pt x="46" y="227"/>
                  <a:pt x="46" y="227"/>
                </a:cubicBezTo>
                <a:cubicBezTo>
                  <a:pt x="46" y="228"/>
                  <a:pt x="46" y="228"/>
                  <a:pt x="45" y="228"/>
                </a:cubicBezTo>
                <a:cubicBezTo>
                  <a:pt x="49" y="230"/>
                  <a:pt x="49" y="230"/>
                  <a:pt x="49" y="230"/>
                </a:cubicBezTo>
                <a:cubicBezTo>
                  <a:pt x="52" y="224"/>
                  <a:pt x="55" y="219"/>
                  <a:pt x="58" y="213"/>
                </a:cubicBezTo>
                <a:cubicBezTo>
                  <a:pt x="55" y="211"/>
                  <a:pt x="55" y="211"/>
                  <a:pt x="55" y="211"/>
                </a:cubicBezTo>
                <a:close/>
                <a:moveTo>
                  <a:pt x="37" y="247"/>
                </a:moveTo>
                <a:cubicBezTo>
                  <a:pt x="35" y="250"/>
                  <a:pt x="34" y="253"/>
                  <a:pt x="32" y="256"/>
                </a:cubicBezTo>
                <a:cubicBezTo>
                  <a:pt x="32" y="256"/>
                  <a:pt x="32" y="256"/>
                  <a:pt x="32" y="256"/>
                </a:cubicBezTo>
                <a:cubicBezTo>
                  <a:pt x="32" y="256"/>
                  <a:pt x="32" y="257"/>
                  <a:pt x="32" y="257"/>
                </a:cubicBezTo>
                <a:cubicBezTo>
                  <a:pt x="32" y="257"/>
                  <a:pt x="32" y="257"/>
                  <a:pt x="32" y="257"/>
                </a:cubicBezTo>
                <a:cubicBezTo>
                  <a:pt x="32" y="257"/>
                  <a:pt x="32" y="257"/>
                  <a:pt x="32" y="257"/>
                </a:cubicBezTo>
                <a:cubicBezTo>
                  <a:pt x="31" y="260"/>
                  <a:pt x="30" y="262"/>
                  <a:pt x="29" y="265"/>
                </a:cubicBezTo>
                <a:cubicBezTo>
                  <a:pt x="33" y="266"/>
                  <a:pt x="33" y="266"/>
                  <a:pt x="33" y="266"/>
                </a:cubicBezTo>
                <a:cubicBezTo>
                  <a:pt x="35" y="260"/>
                  <a:pt x="38" y="254"/>
                  <a:pt x="40" y="248"/>
                </a:cubicBezTo>
                <a:cubicBezTo>
                  <a:pt x="37" y="247"/>
                  <a:pt x="37" y="247"/>
                  <a:pt x="37" y="247"/>
                </a:cubicBezTo>
                <a:close/>
                <a:moveTo>
                  <a:pt x="22" y="284"/>
                </a:moveTo>
                <a:cubicBezTo>
                  <a:pt x="20" y="290"/>
                  <a:pt x="18" y="296"/>
                  <a:pt x="16" y="303"/>
                </a:cubicBezTo>
                <a:cubicBezTo>
                  <a:pt x="20" y="304"/>
                  <a:pt x="20" y="304"/>
                  <a:pt x="20" y="304"/>
                </a:cubicBezTo>
                <a:cubicBezTo>
                  <a:pt x="22" y="298"/>
                  <a:pt x="24" y="291"/>
                  <a:pt x="26" y="285"/>
                </a:cubicBezTo>
                <a:cubicBezTo>
                  <a:pt x="22" y="284"/>
                  <a:pt x="22" y="284"/>
                  <a:pt x="22" y="284"/>
                </a:cubicBezTo>
                <a:close/>
                <a:moveTo>
                  <a:pt x="11" y="322"/>
                </a:moveTo>
                <a:cubicBezTo>
                  <a:pt x="11" y="324"/>
                  <a:pt x="10" y="327"/>
                  <a:pt x="10" y="329"/>
                </a:cubicBezTo>
                <a:cubicBezTo>
                  <a:pt x="10" y="329"/>
                  <a:pt x="10" y="329"/>
                  <a:pt x="10" y="329"/>
                </a:cubicBezTo>
                <a:cubicBezTo>
                  <a:pt x="10" y="329"/>
                  <a:pt x="10" y="329"/>
                  <a:pt x="10" y="329"/>
                </a:cubicBezTo>
                <a:cubicBezTo>
                  <a:pt x="10" y="329"/>
                  <a:pt x="10" y="329"/>
                  <a:pt x="10" y="329"/>
                </a:cubicBezTo>
                <a:cubicBezTo>
                  <a:pt x="10" y="329"/>
                  <a:pt x="9" y="329"/>
                  <a:pt x="9" y="329"/>
                </a:cubicBezTo>
                <a:cubicBezTo>
                  <a:pt x="9" y="329"/>
                  <a:pt x="9" y="329"/>
                  <a:pt x="9" y="329"/>
                </a:cubicBezTo>
                <a:cubicBezTo>
                  <a:pt x="9" y="329"/>
                  <a:pt x="9" y="329"/>
                  <a:pt x="9" y="329"/>
                </a:cubicBezTo>
                <a:cubicBezTo>
                  <a:pt x="9" y="329"/>
                  <a:pt x="9" y="329"/>
                  <a:pt x="9" y="329"/>
                </a:cubicBezTo>
                <a:cubicBezTo>
                  <a:pt x="9" y="329"/>
                  <a:pt x="9" y="329"/>
                  <a:pt x="9" y="329"/>
                </a:cubicBezTo>
                <a:cubicBezTo>
                  <a:pt x="9" y="329"/>
                  <a:pt x="9" y="329"/>
                  <a:pt x="9" y="329"/>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0"/>
                  <a:pt x="9" y="330"/>
                  <a:pt x="9" y="330"/>
                </a:cubicBezTo>
                <a:cubicBezTo>
                  <a:pt x="9" y="331"/>
                  <a:pt x="9" y="331"/>
                  <a:pt x="9" y="331"/>
                </a:cubicBezTo>
                <a:cubicBezTo>
                  <a:pt x="9" y="331"/>
                  <a:pt x="9" y="331"/>
                  <a:pt x="9" y="331"/>
                </a:cubicBezTo>
                <a:cubicBezTo>
                  <a:pt x="8" y="334"/>
                  <a:pt x="8" y="338"/>
                  <a:pt x="7" y="342"/>
                </a:cubicBezTo>
                <a:cubicBezTo>
                  <a:pt x="11" y="342"/>
                  <a:pt x="11" y="342"/>
                  <a:pt x="11" y="342"/>
                </a:cubicBezTo>
                <a:cubicBezTo>
                  <a:pt x="12" y="336"/>
                  <a:pt x="13" y="329"/>
                  <a:pt x="15" y="323"/>
                </a:cubicBezTo>
                <a:cubicBezTo>
                  <a:pt x="11" y="322"/>
                  <a:pt x="11" y="322"/>
                  <a:pt x="11" y="322"/>
                </a:cubicBezTo>
                <a:close/>
                <a:moveTo>
                  <a:pt x="4" y="361"/>
                </a:moveTo>
                <a:cubicBezTo>
                  <a:pt x="3" y="368"/>
                  <a:pt x="2" y="375"/>
                  <a:pt x="2" y="381"/>
                </a:cubicBezTo>
                <a:cubicBezTo>
                  <a:pt x="6" y="382"/>
                  <a:pt x="6" y="382"/>
                  <a:pt x="6" y="382"/>
                </a:cubicBezTo>
                <a:cubicBezTo>
                  <a:pt x="6" y="375"/>
                  <a:pt x="7" y="369"/>
                  <a:pt x="8" y="362"/>
                </a:cubicBezTo>
                <a:cubicBezTo>
                  <a:pt x="4" y="361"/>
                  <a:pt x="4" y="361"/>
                  <a:pt x="4" y="361"/>
                </a:cubicBezTo>
                <a:close/>
                <a:moveTo>
                  <a:pt x="0" y="401"/>
                </a:moveTo>
                <a:cubicBezTo>
                  <a:pt x="0" y="406"/>
                  <a:pt x="0" y="410"/>
                  <a:pt x="0" y="414"/>
                </a:cubicBezTo>
                <a:cubicBezTo>
                  <a:pt x="0" y="414"/>
                  <a:pt x="0" y="414"/>
                  <a:pt x="0" y="414"/>
                </a:cubicBezTo>
                <a:cubicBezTo>
                  <a:pt x="0" y="414"/>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5"/>
                </a:cubicBezTo>
                <a:cubicBezTo>
                  <a:pt x="0" y="415"/>
                  <a:pt x="0" y="415"/>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6"/>
                </a:cubicBezTo>
                <a:cubicBezTo>
                  <a:pt x="0" y="416"/>
                  <a:pt x="0" y="416"/>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7"/>
                  <a:pt x="0" y="417"/>
                </a:cubicBezTo>
                <a:cubicBezTo>
                  <a:pt x="0" y="417"/>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8"/>
                  <a:pt x="0" y="418"/>
                </a:cubicBezTo>
                <a:cubicBezTo>
                  <a:pt x="0" y="418"/>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19"/>
                  <a:pt x="0" y="419"/>
                </a:cubicBezTo>
                <a:cubicBezTo>
                  <a:pt x="0" y="419"/>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0"/>
                  <a:pt x="0" y="420"/>
                  <a:pt x="0" y="420"/>
                </a:cubicBezTo>
                <a:cubicBezTo>
                  <a:pt x="0" y="421"/>
                  <a:pt x="0" y="421"/>
                  <a:pt x="0" y="421"/>
                </a:cubicBezTo>
                <a:cubicBezTo>
                  <a:pt x="0" y="421"/>
                  <a:pt x="0" y="421"/>
                  <a:pt x="0" y="421"/>
                </a:cubicBezTo>
                <a:cubicBezTo>
                  <a:pt x="0" y="421"/>
                  <a:pt x="0" y="421"/>
                  <a:pt x="0" y="421"/>
                </a:cubicBezTo>
                <a:cubicBezTo>
                  <a:pt x="4" y="421"/>
                  <a:pt x="4" y="421"/>
                  <a:pt x="4" y="421"/>
                </a:cubicBezTo>
                <a:cubicBezTo>
                  <a:pt x="4" y="420"/>
                  <a:pt x="4" y="419"/>
                  <a:pt x="4" y="418"/>
                </a:cubicBezTo>
                <a:cubicBezTo>
                  <a:pt x="4" y="413"/>
                  <a:pt x="4" y="407"/>
                  <a:pt x="4" y="401"/>
                </a:cubicBezTo>
                <a:cubicBezTo>
                  <a:pt x="0" y="401"/>
                  <a:pt x="0" y="401"/>
                  <a:pt x="0" y="401"/>
                </a:cubicBezTo>
                <a:close/>
                <a:moveTo>
                  <a:pt x="5" y="441"/>
                </a:moveTo>
                <a:cubicBezTo>
                  <a:pt x="1" y="441"/>
                  <a:pt x="1" y="441"/>
                  <a:pt x="1" y="441"/>
                </a:cubicBezTo>
                <a:cubicBezTo>
                  <a:pt x="1" y="442"/>
                  <a:pt x="1" y="442"/>
                  <a:pt x="1" y="442"/>
                </a:cubicBezTo>
                <a:cubicBezTo>
                  <a:pt x="1" y="442"/>
                  <a:pt x="1" y="442"/>
                  <a:pt x="1" y="442"/>
                </a:cubicBezTo>
                <a:cubicBezTo>
                  <a:pt x="1" y="442"/>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3"/>
                  <a:pt x="1" y="443"/>
                </a:cubicBezTo>
                <a:cubicBezTo>
                  <a:pt x="1" y="443"/>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4"/>
                  <a:pt x="1" y="444"/>
                </a:cubicBezTo>
                <a:cubicBezTo>
                  <a:pt x="1" y="444"/>
                  <a:pt x="1" y="445"/>
                  <a:pt x="1" y="445"/>
                </a:cubicBezTo>
                <a:cubicBezTo>
                  <a:pt x="1" y="445"/>
                  <a:pt x="1" y="445"/>
                  <a:pt x="1" y="445"/>
                </a:cubicBezTo>
                <a:cubicBezTo>
                  <a:pt x="1" y="445"/>
                  <a:pt x="1" y="445"/>
                  <a:pt x="1" y="445"/>
                </a:cubicBezTo>
                <a:cubicBezTo>
                  <a:pt x="1" y="445"/>
                  <a:pt x="1" y="445"/>
                  <a:pt x="1" y="445"/>
                </a:cubicBezTo>
                <a:cubicBezTo>
                  <a:pt x="1" y="445"/>
                  <a:pt x="1" y="445"/>
                  <a:pt x="1" y="446"/>
                </a:cubicBezTo>
                <a:cubicBezTo>
                  <a:pt x="1" y="446"/>
                  <a:pt x="1" y="446"/>
                  <a:pt x="1" y="446"/>
                </a:cubicBezTo>
                <a:cubicBezTo>
                  <a:pt x="1" y="446"/>
                  <a:pt x="1" y="446"/>
                  <a:pt x="1" y="446"/>
                </a:cubicBezTo>
                <a:cubicBezTo>
                  <a:pt x="1" y="446"/>
                  <a:pt x="1" y="446"/>
                  <a:pt x="1" y="446"/>
                </a:cubicBezTo>
                <a:cubicBezTo>
                  <a:pt x="1" y="451"/>
                  <a:pt x="2" y="456"/>
                  <a:pt x="2" y="461"/>
                </a:cubicBezTo>
                <a:cubicBezTo>
                  <a:pt x="6" y="461"/>
                  <a:pt x="6" y="461"/>
                  <a:pt x="6" y="461"/>
                </a:cubicBezTo>
                <a:cubicBezTo>
                  <a:pt x="6" y="454"/>
                  <a:pt x="5" y="448"/>
                  <a:pt x="5" y="441"/>
                </a:cubicBezTo>
                <a:close/>
                <a:moveTo>
                  <a:pt x="9" y="480"/>
                </a:moveTo>
                <a:cubicBezTo>
                  <a:pt x="5" y="481"/>
                  <a:pt x="5" y="481"/>
                  <a:pt x="5" y="481"/>
                </a:cubicBezTo>
                <a:cubicBezTo>
                  <a:pt x="6" y="488"/>
                  <a:pt x="7" y="494"/>
                  <a:pt x="8" y="501"/>
                </a:cubicBezTo>
                <a:cubicBezTo>
                  <a:pt x="12" y="500"/>
                  <a:pt x="12" y="500"/>
                  <a:pt x="12" y="500"/>
                </a:cubicBezTo>
                <a:cubicBezTo>
                  <a:pt x="11" y="494"/>
                  <a:pt x="10" y="487"/>
                  <a:pt x="9" y="480"/>
                </a:cubicBezTo>
                <a:close/>
                <a:moveTo>
                  <a:pt x="16" y="519"/>
                </a:moveTo>
                <a:cubicBezTo>
                  <a:pt x="13" y="520"/>
                  <a:pt x="13" y="520"/>
                  <a:pt x="13" y="520"/>
                </a:cubicBezTo>
                <a:cubicBezTo>
                  <a:pt x="13" y="520"/>
                  <a:pt x="13" y="520"/>
                  <a:pt x="13" y="520"/>
                </a:cubicBezTo>
                <a:cubicBezTo>
                  <a:pt x="13" y="520"/>
                  <a:pt x="13" y="520"/>
                  <a:pt x="13" y="520"/>
                </a:cubicBezTo>
                <a:cubicBezTo>
                  <a:pt x="13" y="520"/>
                  <a:pt x="13" y="520"/>
                  <a:pt x="13" y="520"/>
                </a:cubicBezTo>
                <a:cubicBezTo>
                  <a:pt x="13" y="520"/>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3" y="521"/>
                  <a:pt x="13" y="521"/>
                  <a:pt x="13" y="521"/>
                </a:cubicBezTo>
                <a:cubicBezTo>
                  <a:pt x="14" y="526"/>
                  <a:pt x="15" y="530"/>
                  <a:pt x="16" y="534"/>
                </a:cubicBezTo>
                <a:cubicBezTo>
                  <a:pt x="16" y="534"/>
                  <a:pt x="16" y="534"/>
                  <a:pt x="16" y="534"/>
                </a:cubicBezTo>
                <a:cubicBezTo>
                  <a:pt x="16" y="535"/>
                  <a:pt x="16" y="535"/>
                  <a:pt x="16" y="535"/>
                </a:cubicBezTo>
                <a:cubicBezTo>
                  <a:pt x="16" y="535"/>
                  <a:pt x="16" y="535"/>
                  <a:pt x="16" y="535"/>
                </a:cubicBezTo>
                <a:cubicBezTo>
                  <a:pt x="16" y="535"/>
                  <a:pt x="16"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5"/>
                  <a:pt x="17" y="535"/>
                  <a:pt x="17" y="535"/>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6"/>
                  <a:pt x="17" y="536"/>
                  <a:pt x="17" y="536"/>
                </a:cubicBezTo>
                <a:cubicBezTo>
                  <a:pt x="17" y="537"/>
                  <a:pt x="18" y="538"/>
                  <a:pt x="18" y="540"/>
                </a:cubicBezTo>
                <a:cubicBezTo>
                  <a:pt x="22" y="538"/>
                  <a:pt x="22" y="538"/>
                  <a:pt x="22" y="538"/>
                </a:cubicBezTo>
                <a:cubicBezTo>
                  <a:pt x="20" y="532"/>
                  <a:pt x="18" y="526"/>
                  <a:pt x="16" y="519"/>
                </a:cubicBezTo>
                <a:close/>
                <a:moveTo>
                  <a:pt x="28" y="557"/>
                </a:moveTo>
                <a:cubicBezTo>
                  <a:pt x="24" y="559"/>
                  <a:pt x="24" y="559"/>
                  <a:pt x="24" y="559"/>
                </a:cubicBezTo>
                <a:cubicBezTo>
                  <a:pt x="26" y="565"/>
                  <a:pt x="29" y="571"/>
                  <a:pt x="31" y="577"/>
                </a:cubicBezTo>
                <a:cubicBezTo>
                  <a:pt x="35" y="576"/>
                  <a:pt x="35" y="576"/>
                  <a:pt x="35" y="576"/>
                </a:cubicBezTo>
                <a:cubicBezTo>
                  <a:pt x="33" y="570"/>
                  <a:pt x="30" y="563"/>
                  <a:pt x="28" y="557"/>
                </a:cubicBezTo>
                <a:close/>
                <a:moveTo>
                  <a:pt x="43" y="594"/>
                </a:moveTo>
                <a:cubicBezTo>
                  <a:pt x="39" y="596"/>
                  <a:pt x="39" y="596"/>
                  <a:pt x="39" y="596"/>
                </a:cubicBezTo>
                <a:cubicBezTo>
                  <a:pt x="42" y="601"/>
                  <a:pt x="45" y="607"/>
                  <a:pt x="48" y="612"/>
                </a:cubicBezTo>
                <a:cubicBezTo>
                  <a:pt x="48" y="612"/>
                  <a:pt x="48" y="612"/>
                  <a:pt x="48" y="612"/>
                </a:cubicBezTo>
                <a:cubicBezTo>
                  <a:pt x="48" y="612"/>
                  <a:pt x="48" y="612"/>
                  <a:pt x="48" y="612"/>
                </a:cubicBezTo>
                <a:cubicBezTo>
                  <a:pt x="48" y="612"/>
                  <a:pt x="48" y="612"/>
                  <a:pt x="48" y="612"/>
                </a:cubicBezTo>
                <a:cubicBezTo>
                  <a:pt x="48" y="612"/>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48" y="613"/>
                  <a:pt x="48" y="613"/>
                  <a:pt x="48" y="613"/>
                </a:cubicBezTo>
                <a:cubicBezTo>
                  <a:pt x="52" y="612"/>
                  <a:pt x="52" y="612"/>
                  <a:pt x="52" y="612"/>
                </a:cubicBezTo>
                <a:cubicBezTo>
                  <a:pt x="49" y="606"/>
                  <a:pt x="46" y="600"/>
                  <a:pt x="43" y="594"/>
                </a:cubicBezTo>
                <a:close/>
                <a:moveTo>
                  <a:pt x="62" y="629"/>
                </a:moveTo>
                <a:cubicBezTo>
                  <a:pt x="58" y="631"/>
                  <a:pt x="58" y="631"/>
                  <a:pt x="58" y="631"/>
                </a:cubicBezTo>
                <a:cubicBezTo>
                  <a:pt x="59" y="633"/>
                  <a:pt x="61" y="635"/>
                  <a:pt x="62" y="637"/>
                </a:cubicBezTo>
                <a:cubicBezTo>
                  <a:pt x="62" y="637"/>
                  <a:pt x="62" y="637"/>
                  <a:pt x="62" y="637"/>
                </a:cubicBezTo>
                <a:cubicBezTo>
                  <a:pt x="62" y="637"/>
                  <a:pt x="62" y="637"/>
                  <a:pt x="62" y="637"/>
                </a:cubicBezTo>
                <a:cubicBezTo>
                  <a:pt x="62" y="637"/>
                  <a:pt x="62" y="637"/>
                  <a:pt x="62" y="637"/>
                </a:cubicBezTo>
                <a:cubicBezTo>
                  <a:pt x="62" y="637"/>
                  <a:pt x="62" y="637"/>
                  <a:pt x="62" y="637"/>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2" y="638"/>
                </a:cubicBezTo>
                <a:cubicBezTo>
                  <a:pt x="62" y="638"/>
                  <a:pt x="62"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8"/>
                  <a:pt x="63" y="638"/>
                  <a:pt x="63" y="638"/>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39"/>
                </a:cubicBezTo>
                <a:cubicBezTo>
                  <a:pt x="63" y="639"/>
                  <a:pt x="63" y="639"/>
                  <a:pt x="63" y="640"/>
                </a:cubicBezTo>
                <a:cubicBezTo>
                  <a:pt x="63" y="640"/>
                  <a:pt x="63" y="640"/>
                  <a:pt x="63" y="640"/>
                </a:cubicBezTo>
                <a:cubicBezTo>
                  <a:pt x="63" y="640"/>
                  <a:pt x="63" y="640"/>
                  <a:pt x="63" y="640"/>
                </a:cubicBezTo>
                <a:cubicBezTo>
                  <a:pt x="63" y="640"/>
                  <a:pt x="63" y="640"/>
                  <a:pt x="63" y="640"/>
                </a:cubicBezTo>
                <a:cubicBezTo>
                  <a:pt x="65" y="642"/>
                  <a:pt x="67" y="645"/>
                  <a:pt x="69" y="648"/>
                </a:cubicBezTo>
                <a:cubicBezTo>
                  <a:pt x="72" y="646"/>
                  <a:pt x="72" y="646"/>
                  <a:pt x="72" y="646"/>
                </a:cubicBezTo>
                <a:cubicBezTo>
                  <a:pt x="68" y="640"/>
                  <a:pt x="65" y="634"/>
                  <a:pt x="62" y="629"/>
                </a:cubicBezTo>
                <a:close/>
                <a:moveTo>
                  <a:pt x="83" y="662"/>
                </a:moveTo>
                <a:cubicBezTo>
                  <a:pt x="80" y="664"/>
                  <a:pt x="80" y="664"/>
                  <a:pt x="80" y="664"/>
                </a:cubicBezTo>
                <a:cubicBezTo>
                  <a:pt x="81" y="665"/>
                  <a:pt x="81" y="666"/>
                  <a:pt x="82" y="666"/>
                </a:cubicBezTo>
                <a:cubicBezTo>
                  <a:pt x="82" y="666"/>
                  <a:pt x="82" y="666"/>
                  <a:pt x="82" y="666"/>
                </a:cubicBezTo>
                <a:cubicBezTo>
                  <a:pt x="82" y="666"/>
                  <a:pt x="82" y="666"/>
                  <a:pt x="82" y="666"/>
                </a:cubicBezTo>
                <a:cubicBezTo>
                  <a:pt x="82" y="666"/>
                  <a:pt x="82" y="666"/>
                  <a:pt x="82" y="666"/>
                </a:cubicBezTo>
                <a:cubicBezTo>
                  <a:pt x="82" y="666"/>
                  <a:pt x="82" y="666"/>
                  <a:pt x="82" y="666"/>
                </a:cubicBezTo>
                <a:cubicBezTo>
                  <a:pt x="82" y="666"/>
                  <a:pt x="82" y="666"/>
                  <a:pt x="82" y="666"/>
                </a:cubicBezTo>
                <a:cubicBezTo>
                  <a:pt x="82" y="666"/>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2" y="667"/>
                  <a:pt x="82" y="667"/>
                </a:cubicBezTo>
                <a:cubicBezTo>
                  <a:pt x="82" y="667"/>
                  <a:pt x="83" y="667"/>
                  <a:pt x="83" y="667"/>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3" y="668"/>
                  <a:pt x="83" y="668"/>
                  <a:pt x="83" y="668"/>
                </a:cubicBezTo>
                <a:cubicBezTo>
                  <a:pt x="85" y="671"/>
                  <a:pt x="87" y="674"/>
                  <a:pt x="89" y="676"/>
                </a:cubicBezTo>
                <a:cubicBezTo>
                  <a:pt x="89" y="676"/>
                  <a:pt x="89" y="676"/>
                  <a:pt x="89" y="676"/>
                </a:cubicBezTo>
                <a:cubicBezTo>
                  <a:pt x="89" y="676"/>
                  <a:pt x="89" y="676"/>
                  <a:pt x="89" y="676"/>
                </a:cubicBezTo>
                <a:cubicBezTo>
                  <a:pt x="89" y="676"/>
                  <a:pt x="89" y="676"/>
                  <a:pt x="89" y="676"/>
                </a:cubicBezTo>
                <a:cubicBezTo>
                  <a:pt x="89" y="676"/>
                  <a:pt x="89" y="676"/>
                  <a:pt x="89" y="676"/>
                </a:cubicBezTo>
                <a:cubicBezTo>
                  <a:pt x="89" y="676"/>
                  <a:pt x="89" y="676"/>
                  <a:pt x="89" y="676"/>
                </a:cubicBezTo>
                <a:cubicBezTo>
                  <a:pt x="89" y="677"/>
                  <a:pt x="89" y="677"/>
                  <a:pt x="89" y="677"/>
                </a:cubicBezTo>
                <a:cubicBezTo>
                  <a:pt x="89" y="677"/>
                  <a:pt x="90" y="677"/>
                  <a:pt x="90" y="677"/>
                </a:cubicBezTo>
                <a:cubicBezTo>
                  <a:pt x="90" y="677"/>
                  <a:pt x="90" y="677"/>
                  <a:pt x="90" y="677"/>
                </a:cubicBezTo>
                <a:cubicBezTo>
                  <a:pt x="90" y="678"/>
                  <a:pt x="91" y="679"/>
                  <a:pt x="92" y="680"/>
                </a:cubicBezTo>
                <a:cubicBezTo>
                  <a:pt x="95" y="678"/>
                  <a:pt x="95" y="678"/>
                  <a:pt x="95" y="678"/>
                </a:cubicBezTo>
                <a:cubicBezTo>
                  <a:pt x="91" y="672"/>
                  <a:pt x="87" y="667"/>
                  <a:pt x="83" y="662"/>
                </a:cubicBezTo>
                <a:close/>
                <a:moveTo>
                  <a:pt x="108" y="693"/>
                </a:moveTo>
                <a:cubicBezTo>
                  <a:pt x="105" y="695"/>
                  <a:pt x="105" y="695"/>
                  <a:pt x="105" y="695"/>
                </a:cubicBezTo>
                <a:cubicBezTo>
                  <a:pt x="107" y="697"/>
                  <a:pt x="108" y="699"/>
                  <a:pt x="110" y="701"/>
                </a:cubicBezTo>
                <a:cubicBezTo>
                  <a:pt x="110" y="701"/>
                  <a:pt x="110" y="701"/>
                  <a:pt x="110" y="701"/>
                </a:cubicBezTo>
                <a:cubicBezTo>
                  <a:pt x="110" y="701"/>
                  <a:pt x="110" y="701"/>
                  <a:pt x="110" y="701"/>
                </a:cubicBezTo>
                <a:cubicBezTo>
                  <a:pt x="110" y="701"/>
                  <a:pt x="110" y="701"/>
                  <a:pt x="110" y="701"/>
                </a:cubicBezTo>
                <a:cubicBezTo>
                  <a:pt x="110" y="701"/>
                  <a:pt x="110" y="701"/>
                  <a:pt x="110" y="701"/>
                </a:cubicBezTo>
                <a:cubicBezTo>
                  <a:pt x="110" y="701"/>
                  <a:pt x="110" y="701"/>
                  <a:pt x="110" y="701"/>
                </a:cubicBezTo>
                <a:cubicBezTo>
                  <a:pt x="110" y="701"/>
                  <a:pt x="110" y="701"/>
                  <a:pt x="111" y="701"/>
                </a:cubicBezTo>
                <a:cubicBezTo>
                  <a:pt x="111" y="701"/>
                  <a:pt x="111" y="701"/>
                  <a:pt x="111" y="701"/>
                </a:cubicBezTo>
                <a:cubicBezTo>
                  <a:pt x="111" y="701"/>
                  <a:pt x="111" y="701"/>
                  <a:pt x="111" y="701"/>
                </a:cubicBezTo>
                <a:cubicBezTo>
                  <a:pt x="111" y="701"/>
                  <a:pt x="111" y="701"/>
                  <a:pt x="111" y="701"/>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1" y="702"/>
                  <a:pt x="111" y="702"/>
                  <a:pt x="111" y="702"/>
                </a:cubicBezTo>
                <a:cubicBezTo>
                  <a:pt x="114" y="705"/>
                  <a:pt x="116" y="707"/>
                  <a:pt x="119" y="710"/>
                </a:cubicBezTo>
                <a:cubicBezTo>
                  <a:pt x="122" y="707"/>
                  <a:pt x="122" y="707"/>
                  <a:pt x="122" y="707"/>
                </a:cubicBezTo>
                <a:cubicBezTo>
                  <a:pt x="117" y="703"/>
                  <a:pt x="113" y="698"/>
                  <a:pt x="108" y="693"/>
                </a:cubicBezTo>
                <a:close/>
                <a:moveTo>
                  <a:pt x="136" y="721"/>
                </a:moveTo>
                <a:cubicBezTo>
                  <a:pt x="133" y="724"/>
                  <a:pt x="133" y="724"/>
                  <a:pt x="133" y="724"/>
                </a:cubicBezTo>
                <a:cubicBezTo>
                  <a:pt x="134" y="725"/>
                  <a:pt x="135" y="726"/>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6" y="727"/>
                  <a:pt x="136" y="727"/>
                  <a:pt x="136"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7"/>
                  <a:pt x="137" y="727"/>
                </a:cubicBezTo>
                <a:cubicBezTo>
                  <a:pt x="137" y="727"/>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7" y="728"/>
                  <a:pt x="137" y="728"/>
                  <a:pt x="137" y="728"/>
                </a:cubicBezTo>
                <a:cubicBezTo>
                  <a:pt x="139" y="730"/>
                  <a:pt x="141" y="731"/>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3" y="733"/>
                  <a:pt x="143" y="733"/>
                  <a:pt x="143" y="733"/>
                </a:cubicBezTo>
                <a:cubicBezTo>
                  <a:pt x="144" y="733"/>
                  <a:pt x="144" y="733"/>
                  <a:pt x="144" y="733"/>
                </a:cubicBezTo>
                <a:cubicBezTo>
                  <a:pt x="144" y="733"/>
                  <a:pt x="144" y="733"/>
                  <a:pt x="144" y="733"/>
                </a:cubicBezTo>
                <a:cubicBezTo>
                  <a:pt x="144" y="733"/>
                  <a:pt x="144" y="733"/>
                  <a:pt x="144" y="733"/>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4" y="734"/>
                </a:cubicBezTo>
                <a:cubicBezTo>
                  <a:pt x="144" y="734"/>
                  <a:pt x="144" y="734"/>
                  <a:pt x="145" y="734"/>
                </a:cubicBezTo>
                <a:cubicBezTo>
                  <a:pt x="145" y="734"/>
                  <a:pt x="145" y="734"/>
                  <a:pt x="145" y="734"/>
                </a:cubicBezTo>
                <a:cubicBezTo>
                  <a:pt x="146" y="735"/>
                  <a:pt x="147" y="736"/>
                  <a:pt x="148" y="737"/>
                </a:cubicBezTo>
                <a:cubicBezTo>
                  <a:pt x="151" y="734"/>
                  <a:pt x="151" y="734"/>
                  <a:pt x="151" y="734"/>
                </a:cubicBezTo>
                <a:cubicBezTo>
                  <a:pt x="146" y="730"/>
                  <a:pt x="141" y="726"/>
                  <a:pt x="136" y="721"/>
                </a:cubicBezTo>
                <a:close/>
                <a:moveTo>
                  <a:pt x="166" y="747"/>
                </a:move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4" y="750"/>
                  <a:pt x="164" y="750"/>
                </a:cubicBezTo>
                <a:cubicBezTo>
                  <a:pt x="164" y="750"/>
                  <a:pt x="165" y="750"/>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5" y="751"/>
                  <a:pt x="165" y="751"/>
                </a:cubicBezTo>
                <a:cubicBezTo>
                  <a:pt x="165" y="751"/>
                  <a:pt x="166" y="751"/>
                  <a:pt x="166" y="751"/>
                </a:cubicBezTo>
                <a:cubicBezTo>
                  <a:pt x="166" y="751"/>
                  <a:pt x="166" y="751"/>
                  <a:pt x="166" y="751"/>
                </a:cubicBezTo>
                <a:cubicBezTo>
                  <a:pt x="166" y="751"/>
                  <a:pt x="166" y="751"/>
                  <a:pt x="166" y="751"/>
                </a:cubicBezTo>
                <a:cubicBezTo>
                  <a:pt x="166" y="751"/>
                  <a:pt x="166" y="751"/>
                  <a:pt x="166" y="751"/>
                </a:cubicBezTo>
                <a:cubicBezTo>
                  <a:pt x="166" y="751"/>
                  <a:pt x="166" y="751"/>
                  <a:pt x="166" y="751"/>
                </a:cubicBezTo>
                <a:cubicBezTo>
                  <a:pt x="166" y="751"/>
                  <a:pt x="166" y="751"/>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6" y="752"/>
                  <a:pt x="166" y="752"/>
                </a:cubicBezTo>
                <a:cubicBezTo>
                  <a:pt x="166"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2"/>
                </a:cubicBezTo>
                <a:cubicBezTo>
                  <a:pt x="167" y="752"/>
                  <a:pt x="167" y="752"/>
                  <a:pt x="167" y="753"/>
                </a:cubicBezTo>
                <a:cubicBezTo>
                  <a:pt x="167" y="753"/>
                  <a:pt x="167" y="753"/>
                  <a:pt x="167" y="753"/>
                </a:cubicBezTo>
                <a:cubicBezTo>
                  <a:pt x="167" y="753"/>
                  <a:pt x="167" y="753"/>
                  <a:pt x="167" y="753"/>
                </a:cubicBezTo>
                <a:cubicBezTo>
                  <a:pt x="167" y="753"/>
                  <a:pt x="167" y="753"/>
                  <a:pt x="167" y="753"/>
                </a:cubicBezTo>
                <a:cubicBezTo>
                  <a:pt x="167" y="753"/>
                  <a:pt x="167" y="753"/>
                  <a:pt x="167" y="753"/>
                </a:cubicBezTo>
                <a:cubicBezTo>
                  <a:pt x="167" y="753"/>
                  <a:pt x="167" y="753"/>
                  <a:pt x="167" y="753"/>
                </a:cubicBezTo>
                <a:cubicBezTo>
                  <a:pt x="167"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8" y="753"/>
                  <a:pt x="168" y="753"/>
                </a:cubicBezTo>
                <a:cubicBezTo>
                  <a:pt x="168" y="753"/>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69" y="754"/>
                  <a:pt x="169" y="754"/>
                  <a:pt x="169" y="754"/>
                </a:cubicBezTo>
                <a:cubicBezTo>
                  <a:pt x="170" y="754"/>
                  <a:pt x="170" y="754"/>
                  <a:pt x="170" y="754"/>
                </a:cubicBezTo>
                <a:cubicBezTo>
                  <a:pt x="170" y="754"/>
                  <a:pt x="170" y="754"/>
                  <a:pt x="170" y="754"/>
                </a:cubicBezTo>
                <a:cubicBezTo>
                  <a:pt x="170" y="754"/>
                  <a:pt x="170" y="754"/>
                  <a:pt x="170" y="754"/>
                </a:cubicBezTo>
                <a:cubicBezTo>
                  <a:pt x="170" y="754"/>
                  <a:pt x="170" y="754"/>
                  <a:pt x="170" y="754"/>
                </a:cubicBezTo>
                <a:cubicBezTo>
                  <a:pt x="170" y="754"/>
                  <a:pt x="170" y="754"/>
                  <a:pt x="170" y="754"/>
                </a:cubicBezTo>
                <a:cubicBezTo>
                  <a:pt x="170" y="754"/>
                  <a:pt x="170" y="754"/>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0" y="755"/>
                  <a:pt x="170" y="755"/>
                  <a:pt x="170"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5"/>
                </a:cubicBezTo>
                <a:cubicBezTo>
                  <a:pt x="171" y="755"/>
                  <a:pt x="171" y="755"/>
                  <a:pt x="171" y="756"/>
                </a:cubicBezTo>
                <a:cubicBezTo>
                  <a:pt x="171" y="756"/>
                  <a:pt x="171" y="756"/>
                  <a:pt x="171" y="756"/>
                </a:cubicBezTo>
                <a:cubicBezTo>
                  <a:pt x="171" y="756"/>
                  <a:pt x="171" y="756"/>
                  <a:pt x="171" y="756"/>
                </a:cubicBezTo>
                <a:cubicBezTo>
                  <a:pt x="171" y="756"/>
                  <a:pt x="171" y="756"/>
                  <a:pt x="171" y="756"/>
                </a:cubicBezTo>
                <a:cubicBezTo>
                  <a:pt x="171" y="756"/>
                  <a:pt x="171" y="756"/>
                  <a:pt x="171" y="756"/>
                </a:cubicBezTo>
                <a:cubicBezTo>
                  <a:pt x="171" y="756"/>
                  <a:pt x="171" y="756"/>
                  <a:pt x="171" y="756"/>
                </a:cubicBezTo>
                <a:cubicBezTo>
                  <a:pt x="172" y="756"/>
                  <a:pt x="172" y="756"/>
                  <a:pt x="172" y="756"/>
                </a:cubicBezTo>
                <a:cubicBezTo>
                  <a:pt x="172" y="756"/>
                  <a:pt x="172" y="756"/>
                  <a:pt x="172" y="756"/>
                </a:cubicBezTo>
                <a:cubicBezTo>
                  <a:pt x="172" y="756"/>
                  <a:pt x="172" y="756"/>
                  <a:pt x="172" y="756"/>
                </a:cubicBezTo>
                <a:cubicBezTo>
                  <a:pt x="172" y="756"/>
                  <a:pt x="172" y="756"/>
                  <a:pt x="172" y="756"/>
                </a:cubicBezTo>
                <a:cubicBezTo>
                  <a:pt x="174" y="757"/>
                  <a:pt x="175" y="759"/>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7" y="760"/>
                  <a:pt x="177" y="760"/>
                  <a:pt x="177"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0"/>
                </a:cubicBezTo>
                <a:cubicBezTo>
                  <a:pt x="178" y="760"/>
                  <a:pt x="178" y="760"/>
                  <a:pt x="178" y="761"/>
                </a:cubicBezTo>
                <a:cubicBezTo>
                  <a:pt x="178" y="761"/>
                  <a:pt x="178" y="761"/>
                  <a:pt x="178" y="761"/>
                </a:cubicBezTo>
                <a:cubicBezTo>
                  <a:pt x="178" y="761"/>
                  <a:pt x="178" y="761"/>
                  <a:pt x="178" y="761"/>
                </a:cubicBezTo>
                <a:cubicBezTo>
                  <a:pt x="178" y="761"/>
                  <a:pt x="178" y="761"/>
                  <a:pt x="178" y="761"/>
                </a:cubicBezTo>
                <a:cubicBezTo>
                  <a:pt x="178" y="761"/>
                  <a:pt x="178" y="761"/>
                  <a:pt x="178" y="761"/>
                </a:cubicBezTo>
                <a:cubicBezTo>
                  <a:pt x="178" y="761"/>
                  <a:pt x="178" y="761"/>
                  <a:pt x="179" y="761"/>
                </a:cubicBezTo>
                <a:cubicBezTo>
                  <a:pt x="179" y="761"/>
                  <a:pt x="179" y="761"/>
                  <a:pt x="179" y="761"/>
                </a:cubicBezTo>
                <a:cubicBezTo>
                  <a:pt x="179" y="761"/>
                  <a:pt x="179" y="761"/>
                  <a:pt x="179" y="761"/>
                </a:cubicBezTo>
                <a:cubicBezTo>
                  <a:pt x="179" y="761"/>
                  <a:pt x="179" y="761"/>
                  <a:pt x="179" y="761"/>
                </a:cubicBezTo>
                <a:cubicBezTo>
                  <a:pt x="179" y="761"/>
                  <a:pt x="179" y="761"/>
                  <a:pt x="179" y="761"/>
                </a:cubicBezTo>
                <a:cubicBezTo>
                  <a:pt x="179" y="761"/>
                  <a:pt x="179" y="761"/>
                  <a:pt x="179" y="761"/>
                </a:cubicBezTo>
                <a:cubicBezTo>
                  <a:pt x="179" y="761"/>
                  <a:pt x="179" y="761"/>
                  <a:pt x="180" y="762"/>
                </a:cubicBezTo>
                <a:cubicBezTo>
                  <a:pt x="182" y="758"/>
                  <a:pt x="182" y="758"/>
                  <a:pt x="182" y="758"/>
                </a:cubicBezTo>
                <a:cubicBezTo>
                  <a:pt x="177" y="755"/>
                  <a:pt x="171" y="751"/>
                  <a:pt x="166" y="747"/>
                </a:cubicBezTo>
                <a:close/>
                <a:moveTo>
                  <a:pt x="199" y="769"/>
                </a:moveTo>
                <a:cubicBezTo>
                  <a:pt x="196" y="773"/>
                  <a:pt x="196" y="773"/>
                  <a:pt x="196" y="773"/>
                </a:cubicBezTo>
                <a:cubicBezTo>
                  <a:pt x="196" y="773"/>
                  <a:pt x="196" y="773"/>
                  <a:pt x="196"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7" y="773"/>
                  <a:pt x="197" y="773"/>
                </a:cubicBezTo>
                <a:cubicBezTo>
                  <a:pt x="197" y="773"/>
                  <a:pt x="198" y="773"/>
                  <a:pt x="198" y="773"/>
                </a:cubicBezTo>
                <a:cubicBezTo>
                  <a:pt x="198" y="773"/>
                  <a:pt x="198" y="773"/>
                  <a:pt x="198" y="773"/>
                </a:cubicBezTo>
                <a:cubicBezTo>
                  <a:pt x="198" y="773"/>
                  <a:pt x="198" y="773"/>
                  <a:pt x="198" y="773"/>
                </a:cubicBezTo>
                <a:cubicBezTo>
                  <a:pt x="198" y="773"/>
                  <a:pt x="198" y="773"/>
                  <a:pt x="198" y="773"/>
                </a:cubicBezTo>
                <a:cubicBezTo>
                  <a:pt x="198" y="773"/>
                  <a:pt x="198" y="773"/>
                  <a:pt x="198" y="773"/>
                </a:cubicBezTo>
                <a:cubicBezTo>
                  <a:pt x="198" y="773"/>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198" y="774"/>
                  <a:pt x="198" y="774"/>
                  <a:pt x="198" y="774"/>
                </a:cubicBezTo>
                <a:cubicBezTo>
                  <a:pt x="203" y="777"/>
                  <a:pt x="208" y="780"/>
                  <a:pt x="214" y="783"/>
                </a:cubicBezTo>
                <a:cubicBezTo>
                  <a:pt x="216" y="779"/>
                  <a:pt x="216" y="779"/>
                  <a:pt x="216" y="779"/>
                </a:cubicBezTo>
                <a:cubicBezTo>
                  <a:pt x="210" y="776"/>
                  <a:pt x="204" y="773"/>
                  <a:pt x="199" y="769"/>
                </a:cubicBezTo>
                <a:close/>
                <a:moveTo>
                  <a:pt x="233" y="789"/>
                </a:moveTo>
                <a:cubicBezTo>
                  <a:pt x="231" y="792"/>
                  <a:pt x="231" y="792"/>
                  <a:pt x="231" y="792"/>
                </a:cubicBezTo>
                <a:cubicBezTo>
                  <a:pt x="237" y="795"/>
                  <a:pt x="243" y="798"/>
                  <a:pt x="249" y="801"/>
                </a:cubicBezTo>
                <a:cubicBezTo>
                  <a:pt x="251" y="797"/>
                  <a:pt x="251" y="797"/>
                  <a:pt x="251" y="797"/>
                </a:cubicBezTo>
                <a:cubicBezTo>
                  <a:pt x="245" y="794"/>
                  <a:pt x="239" y="792"/>
                  <a:pt x="233" y="789"/>
                </a:cubicBezTo>
                <a:close/>
                <a:moveTo>
                  <a:pt x="269" y="805"/>
                </a:moveTo>
                <a:cubicBezTo>
                  <a:pt x="268" y="808"/>
                  <a:pt x="268" y="808"/>
                  <a:pt x="268" y="808"/>
                </a:cubicBezTo>
                <a:cubicBezTo>
                  <a:pt x="268" y="808"/>
                  <a:pt x="268" y="808"/>
                  <a:pt x="268" y="808"/>
                </a:cubicBezTo>
                <a:cubicBezTo>
                  <a:pt x="268" y="808"/>
                  <a:pt x="268" y="808"/>
                  <a:pt x="268" y="808"/>
                </a:cubicBezTo>
                <a:cubicBezTo>
                  <a:pt x="268" y="808"/>
                  <a:pt x="268" y="808"/>
                  <a:pt x="268" y="808"/>
                </a:cubicBezTo>
                <a:cubicBezTo>
                  <a:pt x="268" y="808"/>
                  <a:pt x="268" y="808"/>
                  <a:pt x="268" y="808"/>
                </a:cubicBezTo>
                <a:cubicBezTo>
                  <a:pt x="268" y="808"/>
                  <a:pt x="268" y="809"/>
                  <a:pt x="268" y="809"/>
                </a:cubicBezTo>
                <a:cubicBezTo>
                  <a:pt x="268" y="809"/>
                  <a:pt x="268" y="809"/>
                  <a:pt x="268" y="809"/>
                </a:cubicBezTo>
                <a:cubicBezTo>
                  <a:pt x="268" y="809"/>
                  <a:pt x="268" y="809"/>
                  <a:pt x="268" y="809"/>
                </a:cubicBezTo>
                <a:cubicBezTo>
                  <a:pt x="268" y="809"/>
                  <a:pt x="268" y="809"/>
                  <a:pt x="268"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69" y="809"/>
                  <a:pt x="269" y="809"/>
                  <a:pt x="269"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0" y="809"/>
                </a:cubicBezTo>
                <a:cubicBezTo>
                  <a:pt x="270" y="809"/>
                  <a:pt x="270" y="809"/>
                  <a:pt x="271" y="809"/>
                </a:cubicBezTo>
                <a:cubicBezTo>
                  <a:pt x="271" y="809"/>
                  <a:pt x="271" y="809"/>
                  <a:pt x="271" y="809"/>
                </a:cubicBezTo>
                <a:cubicBezTo>
                  <a:pt x="271" y="809"/>
                  <a:pt x="271" y="809"/>
                  <a:pt x="271" y="809"/>
                </a:cubicBezTo>
                <a:cubicBezTo>
                  <a:pt x="271" y="809"/>
                  <a:pt x="271" y="809"/>
                  <a:pt x="271" y="809"/>
                </a:cubicBezTo>
                <a:cubicBezTo>
                  <a:pt x="271" y="809"/>
                  <a:pt x="271" y="809"/>
                  <a:pt x="271" y="809"/>
                </a:cubicBezTo>
                <a:cubicBezTo>
                  <a:pt x="271" y="809"/>
                  <a:pt x="271" y="809"/>
                  <a:pt x="271" y="809"/>
                </a:cubicBezTo>
                <a:cubicBezTo>
                  <a:pt x="271" y="809"/>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1" y="810"/>
                  <a:pt x="271" y="810"/>
                </a:cubicBezTo>
                <a:cubicBezTo>
                  <a:pt x="271"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2" y="810"/>
                  <a:pt x="272" y="810"/>
                  <a:pt x="272"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3" y="810"/>
                  <a:pt x="273" y="810"/>
                  <a:pt x="273" y="810"/>
                </a:cubicBezTo>
                <a:cubicBezTo>
                  <a:pt x="274" y="810"/>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4" y="811"/>
                  <a:pt x="274" y="811"/>
                  <a:pt x="274" y="811"/>
                </a:cubicBezTo>
                <a:cubicBezTo>
                  <a:pt x="275" y="811"/>
                  <a:pt x="276" y="811"/>
                  <a:pt x="277" y="812"/>
                </a:cubicBezTo>
                <a:cubicBezTo>
                  <a:pt x="277" y="812"/>
                  <a:pt x="277" y="812"/>
                  <a:pt x="277" y="812"/>
                </a:cubicBezTo>
                <a:cubicBezTo>
                  <a:pt x="277" y="812"/>
                  <a:pt x="277" y="812"/>
                  <a:pt x="277" y="812"/>
                </a:cubicBezTo>
                <a:cubicBezTo>
                  <a:pt x="277" y="812"/>
                  <a:pt x="277" y="812"/>
                  <a:pt x="277" y="812"/>
                </a:cubicBezTo>
                <a:cubicBezTo>
                  <a:pt x="277" y="812"/>
                  <a:pt x="277" y="812"/>
                  <a:pt x="277" y="812"/>
                </a:cubicBezTo>
                <a:cubicBezTo>
                  <a:pt x="277" y="812"/>
                  <a:pt x="277" y="812"/>
                  <a:pt x="277" y="812"/>
                </a:cubicBezTo>
                <a:cubicBezTo>
                  <a:pt x="277"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8" y="812"/>
                  <a:pt x="278" y="812"/>
                  <a:pt x="278"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2"/>
                  <a:pt x="279" y="812"/>
                </a:cubicBezTo>
                <a:cubicBezTo>
                  <a:pt x="279" y="812"/>
                  <a:pt x="279" y="813"/>
                  <a:pt x="279" y="813"/>
                </a:cubicBezTo>
                <a:cubicBezTo>
                  <a:pt x="279" y="813"/>
                  <a:pt x="279" y="813"/>
                  <a:pt x="279" y="813"/>
                </a:cubicBezTo>
                <a:cubicBezTo>
                  <a:pt x="279" y="813"/>
                  <a:pt x="279" y="813"/>
                  <a:pt x="279" y="813"/>
                </a:cubicBezTo>
                <a:cubicBezTo>
                  <a:pt x="279" y="813"/>
                  <a:pt x="279" y="813"/>
                  <a:pt x="279" y="813"/>
                </a:cubicBezTo>
                <a:cubicBezTo>
                  <a:pt x="279" y="813"/>
                  <a:pt x="279" y="813"/>
                  <a:pt x="279" y="813"/>
                </a:cubicBezTo>
                <a:cubicBezTo>
                  <a:pt x="279"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0" y="813"/>
                </a:cubicBezTo>
                <a:cubicBezTo>
                  <a:pt x="280" y="813"/>
                  <a:pt x="280"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1" y="813"/>
                </a:cubicBezTo>
                <a:cubicBezTo>
                  <a:pt x="281" y="813"/>
                  <a:pt x="281" y="813"/>
                  <a:pt x="282" y="813"/>
                </a:cubicBezTo>
                <a:cubicBezTo>
                  <a:pt x="282" y="813"/>
                  <a:pt x="282" y="813"/>
                  <a:pt x="282" y="813"/>
                </a:cubicBezTo>
                <a:cubicBezTo>
                  <a:pt x="282" y="814"/>
                  <a:pt x="283" y="814"/>
                  <a:pt x="284" y="814"/>
                </a:cubicBezTo>
                <a:cubicBezTo>
                  <a:pt x="284" y="814"/>
                  <a:pt x="284" y="814"/>
                  <a:pt x="284" y="814"/>
                </a:cubicBezTo>
                <a:cubicBezTo>
                  <a:pt x="285" y="814"/>
                  <a:pt x="286" y="815"/>
                  <a:pt x="287" y="815"/>
                </a:cubicBezTo>
                <a:cubicBezTo>
                  <a:pt x="288" y="811"/>
                  <a:pt x="288" y="811"/>
                  <a:pt x="288" y="811"/>
                </a:cubicBezTo>
                <a:cubicBezTo>
                  <a:pt x="282" y="809"/>
                  <a:pt x="276" y="807"/>
                  <a:pt x="269" y="805"/>
                </a:cubicBezTo>
                <a:close/>
                <a:moveTo>
                  <a:pt x="307" y="817"/>
                </a:moveTo>
                <a:cubicBezTo>
                  <a:pt x="306" y="821"/>
                  <a:pt x="306" y="821"/>
                  <a:pt x="306" y="821"/>
                </a:cubicBezTo>
                <a:cubicBezTo>
                  <a:pt x="312" y="823"/>
                  <a:pt x="319" y="824"/>
                  <a:pt x="325" y="826"/>
                </a:cubicBezTo>
                <a:cubicBezTo>
                  <a:pt x="326" y="822"/>
                  <a:pt x="326" y="822"/>
                  <a:pt x="326" y="822"/>
                </a:cubicBezTo>
                <a:cubicBezTo>
                  <a:pt x="320" y="820"/>
                  <a:pt x="313" y="819"/>
                  <a:pt x="307" y="817"/>
                </a:cubicBezTo>
                <a:close/>
                <a:moveTo>
                  <a:pt x="346" y="826"/>
                </a:moveTo>
                <a:cubicBezTo>
                  <a:pt x="345" y="830"/>
                  <a:pt x="345" y="830"/>
                  <a:pt x="345" y="830"/>
                </a:cubicBezTo>
                <a:cubicBezTo>
                  <a:pt x="346" y="830"/>
                  <a:pt x="346"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7" y="830"/>
                  <a:pt x="347" y="830"/>
                </a:cubicBezTo>
                <a:cubicBezTo>
                  <a:pt x="347"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8" y="830"/>
                  <a:pt x="348" y="830"/>
                  <a:pt x="348" y="830"/>
                </a:cubicBezTo>
                <a:cubicBezTo>
                  <a:pt x="349" y="830"/>
                  <a:pt x="349" y="830"/>
                  <a:pt x="349" y="830"/>
                </a:cubicBezTo>
                <a:cubicBezTo>
                  <a:pt x="349" y="830"/>
                  <a:pt x="349" y="830"/>
                  <a:pt x="349" y="830"/>
                </a:cubicBezTo>
                <a:cubicBezTo>
                  <a:pt x="349" y="830"/>
                  <a:pt x="349" y="830"/>
                  <a:pt x="349" y="831"/>
                </a:cubicBezTo>
                <a:cubicBezTo>
                  <a:pt x="349" y="831"/>
                  <a:pt x="349" y="831"/>
                  <a:pt x="349" y="831"/>
                </a:cubicBezTo>
                <a:cubicBezTo>
                  <a:pt x="349" y="831"/>
                  <a:pt x="349" y="831"/>
                  <a:pt x="349" y="831"/>
                </a:cubicBezTo>
                <a:cubicBezTo>
                  <a:pt x="349" y="831"/>
                  <a:pt x="349" y="831"/>
                  <a:pt x="349" y="831"/>
                </a:cubicBezTo>
                <a:cubicBezTo>
                  <a:pt x="349" y="831"/>
                  <a:pt x="349"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0" y="831"/>
                  <a:pt x="350" y="831"/>
                  <a:pt x="350" y="831"/>
                </a:cubicBezTo>
                <a:cubicBezTo>
                  <a:pt x="355" y="831"/>
                  <a:pt x="360" y="832"/>
                  <a:pt x="365" y="833"/>
                </a:cubicBezTo>
                <a:cubicBezTo>
                  <a:pt x="365" y="829"/>
                  <a:pt x="365" y="829"/>
                  <a:pt x="365" y="829"/>
                </a:cubicBezTo>
                <a:cubicBezTo>
                  <a:pt x="359" y="828"/>
                  <a:pt x="352" y="827"/>
                  <a:pt x="346" y="826"/>
                </a:cubicBezTo>
                <a:close/>
                <a:moveTo>
                  <a:pt x="385" y="831"/>
                </a:moveTo>
                <a:cubicBezTo>
                  <a:pt x="385" y="835"/>
                  <a:pt x="385" y="835"/>
                  <a:pt x="385" y="835"/>
                </a:cubicBezTo>
                <a:cubicBezTo>
                  <a:pt x="385" y="835"/>
                  <a:pt x="385" y="835"/>
                  <a:pt x="385" y="835"/>
                </a:cubicBezTo>
                <a:cubicBezTo>
                  <a:pt x="385" y="835"/>
                  <a:pt x="385" y="835"/>
                  <a:pt x="385" y="835"/>
                </a:cubicBezTo>
                <a:cubicBezTo>
                  <a:pt x="385" y="835"/>
                  <a:pt x="385" y="835"/>
                  <a:pt x="385" y="835"/>
                </a:cubicBezTo>
                <a:cubicBezTo>
                  <a:pt x="385" y="835"/>
                  <a:pt x="385" y="835"/>
                  <a:pt x="385" y="835"/>
                </a:cubicBezTo>
                <a:cubicBezTo>
                  <a:pt x="385"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6" y="835"/>
                </a:cubicBezTo>
                <a:cubicBezTo>
                  <a:pt x="386" y="835"/>
                  <a:pt x="386"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7" y="835"/>
                  <a:pt x="387" y="835"/>
                </a:cubicBezTo>
                <a:cubicBezTo>
                  <a:pt x="387"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88" y="835"/>
                  <a:pt x="388" y="835"/>
                  <a:pt x="388" y="835"/>
                </a:cubicBezTo>
                <a:cubicBezTo>
                  <a:pt x="393" y="835"/>
                  <a:pt x="399"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4" y="836"/>
                  <a:pt x="404" y="836"/>
                </a:cubicBezTo>
                <a:cubicBezTo>
                  <a:pt x="404" y="836"/>
                  <a:pt x="405" y="836"/>
                  <a:pt x="405" y="836"/>
                </a:cubicBezTo>
                <a:cubicBezTo>
                  <a:pt x="405" y="832"/>
                  <a:pt x="405" y="832"/>
                  <a:pt x="405" y="832"/>
                </a:cubicBezTo>
                <a:cubicBezTo>
                  <a:pt x="398" y="832"/>
                  <a:pt x="391" y="831"/>
                  <a:pt x="385" y="831"/>
                </a:cubicBezTo>
                <a:close/>
                <a:moveTo>
                  <a:pt x="444" y="831"/>
                </a:moveTo>
                <a:cubicBezTo>
                  <a:pt x="438" y="832"/>
                  <a:pt x="431" y="832"/>
                  <a:pt x="424" y="832"/>
                </a:cubicBezTo>
                <a:cubicBezTo>
                  <a:pt x="425" y="836"/>
                  <a:pt x="425" y="836"/>
                  <a:pt x="425" y="836"/>
                </a:cubicBezTo>
                <a:cubicBezTo>
                  <a:pt x="430" y="836"/>
                  <a:pt x="435"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0" y="836"/>
                  <a:pt x="440" y="836"/>
                </a:cubicBezTo>
                <a:cubicBezTo>
                  <a:pt x="440" y="836"/>
                  <a:pt x="441" y="836"/>
                  <a:pt x="441" y="836"/>
                </a:cubicBezTo>
                <a:cubicBezTo>
                  <a:pt x="441" y="836"/>
                  <a:pt x="441" y="836"/>
                  <a:pt x="441" y="836"/>
                </a:cubicBezTo>
                <a:cubicBezTo>
                  <a:pt x="441" y="836"/>
                  <a:pt x="441" y="836"/>
                  <a:pt x="441" y="836"/>
                </a:cubicBezTo>
                <a:cubicBezTo>
                  <a:pt x="441" y="836"/>
                  <a:pt x="441" y="836"/>
                  <a:pt x="441" y="836"/>
                </a:cubicBezTo>
                <a:cubicBezTo>
                  <a:pt x="441" y="836"/>
                  <a:pt x="441" y="836"/>
                  <a:pt x="441" y="836"/>
                </a:cubicBezTo>
                <a:cubicBezTo>
                  <a:pt x="441" y="836"/>
                  <a:pt x="441" y="836"/>
                  <a:pt x="441" y="836"/>
                </a:cubicBezTo>
                <a:cubicBezTo>
                  <a:pt x="442" y="835"/>
                  <a:pt x="443" y="835"/>
                  <a:pt x="445" y="835"/>
                </a:cubicBezTo>
                <a:cubicBezTo>
                  <a:pt x="444" y="831"/>
                  <a:pt x="444" y="831"/>
                  <a:pt x="444" y="831"/>
                </a:cubicBezTo>
                <a:close/>
                <a:moveTo>
                  <a:pt x="484" y="827"/>
                </a:moveTo>
                <a:cubicBezTo>
                  <a:pt x="477" y="828"/>
                  <a:pt x="471" y="829"/>
                  <a:pt x="464" y="830"/>
                </a:cubicBezTo>
                <a:cubicBezTo>
                  <a:pt x="464" y="834"/>
                  <a:pt x="464" y="834"/>
                  <a:pt x="464" y="834"/>
                </a:cubicBezTo>
                <a:cubicBezTo>
                  <a:pt x="470" y="833"/>
                  <a:pt x="475" y="832"/>
                  <a:pt x="480" y="832"/>
                </a:cubicBezTo>
                <a:cubicBezTo>
                  <a:pt x="480" y="832"/>
                  <a:pt x="480" y="832"/>
                  <a:pt x="480" y="832"/>
                </a:cubicBezTo>
                <a:cubicBezTo>
                  <a:pt x="480" y="832"/>
                  <a:pt x="480" y="832"/>
                  <a:pt x="480" y="832"/>
                </a:cubicBezTo>
                <a:cubicBezTo>
                  <a:pt x="480" y="832"/>
                  <a:pt x="480" y="832"/>
                  <a:pt x="480" y="832"/>
                </a:cubicBezTo>
                <a:cubicBezTo>
                  <a:pt x="481" y="832"/>
                  <a:pt x="481" y="832"/>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1" y="831"/>
                </a:cubicBezTo>
                <a:cubicBezTo>
                  <a:pt x="481" y="831"/>
                  <a:pt x="481"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2" y="831"/>
                  <a:pt x="482" y="831"/>
                  <a:pt x="482" y="831"/>
                </a:cubicBezTo>
                <a:cubicBezTo>
                  <a:pt x="483" y="831"/>
                  <a:pt x="484" y="831"/>
                  <a:pt x="484" y="831"/>
                </a:cubicBezTo>
                <a:cubicBezTo>
                  <a:pt x="484" y="827"/>
                  <a:pt x="484" y="827"/>
                  <a:pt x="484" y="827"/>
                </a:cubicBezTo>
                <a:close/>
                <a:moveTo>
                  <a:pt x="522" y="819"/>
                </a:moveTo>
                <a:cubicBezTo>
                  <a:pt x="516" y="821"/>
                  <a:pt x="510" y="822"/>
                  <a:pt x="503" y="823"/>
                </a:cubicBezTo>
                <a:cubicBezTo>
                  <a:pt x="504" y="827"/>
                  <a:pt x="504" y="827"/>
                  <a:pt x="504" y="827"/>
                </a:cubicBezTo>
                <a:cubicBezTo>
                  <a:pt x="504" y="827"/>
                  <a:pt x="505" y="827"/>
                  <a:pt x="505" y="827"/>
                </a:cubicBezTo>
                <a:cubicBezTo>
                  <a:pt x="505" y="827"/>
                  <a:pt x="505" y="827"/>
                  <a:pt x="505" y="827"/>
                </a:cubicBezTo>
                <a:cubicBezTo>
                  <a:pt x="505" y="827"/>
                  <a:pt x="505" y="827"/>
                  <a:pt x="505" y="827"/>
                </a:cubicBezTo>
                <a:cubicBezTo>
                  <a:pt x="505" y="827"/>
                  <a:pt x="505" y="827"/>
                  <a:pt x="505" y="827"/>
                </a:cubicBezTo>
                <a:cubicBezTo>
                  <a:pt x="506" y="827"/>
                  <a:pt x="506" y="827"/>
                  <a:pt x="506" y="827"/>
                </a:cubicBezTo>
                <a:cubicBezTo>
                  <a:pt x="506" y="827"/>
                  <a:pt x="506" y="827"/>
                  <a:pt x="506" y="827"/>
                </a:cubicBezTo>
                <a:cubicBezTo>
                  <a:pt x="512" y="826"/>
                  <a:pt x="518" y="824"/>
                  <a:pt x="523" y="823"/>
                </a:cubicBezTo>
                <a:cubicBezTo>
                  <a:pt x="522" y="819"/>
                  <a:pt x="522" y="819"/>
                  <a:pt x="522" y="819"/>
                </a:cubicBezTo>
                <a:close/>
                <a:moveTo>
                  <a:pt x="560" y="807"/>
                </a:moveTo>
                <a:cubicBezTo>
                  <a:pt x="554" y="809"/>
                  <a:pt x="548" y="811"/>
                  <a:pt x="541" y="813"/>
                </a:cubicBezTo>
                <a:cubicBezTo>
                  <a:pt x="543" y="817"/>
                  <a:pt x="543" y="817"/>
                  <a:pt x="543" y="817"/>
                </a:cubicBezTo>
                <a:cubicBezTo>
                  <a:pt x="544" y="817"/>
                  <a:pt x="546" y="816"/>
                  <a:pt x="548" y="815"/>
                </a:cubicBezTo>
                <a:cubicBezTo>
                  <a:pt x="548" y="815"/>
                  <a:pt x="548" y="815"/>
                  <a:pt x="548" y="815"/>
                </a:cubicBezTo>
                <a:cubicBezTo>
                  <a:pt x="548" y="815"/>
                  <a:pt x="548" y="815"/>
                  <a:pt x="548" y="815"/>
                </a:cubicBezTo>
                <a:cubicBezTo>
                  <a:pt x="548" y="815"/>
                  <a:pt x="548" y="815"/>
                  <a:pt x="548" y="815"/>
                </a:cubicBezTo>
                <a:cubicBezTo>
                  <a:pt x="548" y="815"/>
                  <a:pt x="548" y="815"/>
                  <a:pt x="548"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49" y="815"/>
                  <a:pt x="549" y="815"/>
                </a:cubicBezTo>
                <a:cubicBezTo>
                  <a:pt x="549"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0" y="815"/>
                  <a:pt x="550" y="815"/>
                  <a:pt x="550"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5"/>
                  <a:pt x="551" y="815"/>
                </a:cubicBezTo>
                <a:cubicBezTo>
                  <a:pt x="551" y="815"/>
                  <a:pt x="551" y="814"/>
                  <a:pt x="551" y="814"/>
                </a:cubicBezTo>
                <a:cubicBezTo>
                  <a:pt x="551" y="814"/>
                  <a:pt x="551" y="814"/>
                  <a:pt x="551" y="814"/>
                </a:cubicBezTo>
                <a:cubicBezTo>
                  <a:pt x="551" y="814"/>
                  <a:pt x="551" y="814"/>
                  <a:pt x="551" y="814"/>
                </a:cubicBezTo>
                <a:cubicBezTo>
                  <a:pt x="551" y="814"/>
                  <a:pt x="551" y="814"/>
                  <a:pt x="551" y="814"/>
                </a:cubicBezTo>
                <a:cubicBezTo>
                  <a:pt x="555" y="813"/>
                  <a:pt x="558" y="812"/>
                  <a:pt x="562" y="811"/>
                </a:cubicBezTo>
                <a:cubicBezTo>
                  <a:pt x="560" y="807"/>
                  <a:pt x="560" y="807"/>
                  <a:pt x="560" y="807"/>
                </a:cubicBezTo>
                <a:close/>
                <a:moveTo>
                  <a:pt x="597" y="792"/>
                </a:moveTo>
                <a:cubicBezTo>
                  <a:pt x="591" y="795"/>
                  <a:pt x="585" y="797"/>
                  <a:pt x="579" y="800"/>
                </a:cubicBezTo>
                <a:cubicBezTo>
                  <a:pt x="580" y="804"/>
                  <a:pt x="580" y="804"/>
                  <a:pt x="580" y="804"/>
                </a:cubicBezTo>
                <a:cubicBezTo>
                  <a:pt x="584" y="802"/>
                  <a:pt x="588" y="800"/>
                  <a:pt x="592" y="798"/>
                </a:cubicBezTo>
                <a:cubicBezTo>
                  <a:pt x="592" y="798"/>
                  <a:pt x="592" y="798"/>
                  <a:pt x="592"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3" y="798"/>
                  <a:pt x="593" y="798"/>
                </a:cubicBezTo>
                <a:cubicBezTo>
                  <a:pt x="593" y="798"/>
                  <a:pt x="594" y="798"/>
                  <a:pt x="594" y="798"/>
                </a:cubicBezTo>
                <a:cubicBezTo>
                  <a:pt x="594" y="798"/>
                  <a:pt x="594" y="798"/>
                  <a:pt x="594" y="798"/>
                </a:cubicBezTo>
                <a:cubicBezTo>
                  <a:pt x="594" y="798"/>
                  <a:pt x="594" y="798"/>
                  <a:pt x="594" y="798"/>
                </a:cubicBezTo>
                <a:cubicBezTo>
                  <a:pt x="594" y="798"/>
                  <a:pt x="594" y="798"/>
                  <a:pt x="594" y="798"/>
                </a:cubicBezTo>
                <a:cubicBezTo>
                  <a:pt x="594" y="798"/>
                  <a:pt x="594" y="798"/>
                  <a:pt x="594" y="798"/>
                </a:cubicBezTo>
                <a:cubicBezTo>
                  <a:pt x="594" y="797"/>
                  <a:pt x="594" y="797"/>
                  <a:pt x="594" y="797"/>
                </a:cubicBezTo>
                <a:cubicBezTo>
                  <a:pt x="594" y="797"/>
                  <a:pt x="594" y="797"/>
                  <a:pt x="594" y="797"/>
                </a:cubicBezTo>
                <a:cubicBezTo>
                  <a:pt x="594" y="797"/>
                  <a:pt x="594" y="797"/>
                  <a:pt x="594" y="797"/>
                </a:cubicBezTo>
                <a:cubicBezTo>
                  <a:pt x="594" y="797"/>
                  <a:pt x="594" y="797"/>
                  <a:pt x="594" y="797"/>
                </a:cubicBezTo>
                <a:cubicBezTo>
                  <a:pt x="594" y="797"/>
                  <a:pt x="594" y="797"/>
                  <a:pt x="594" y="797"/>
                </a:cubicBezTo>
                <a:cubicBezTo>
                  <a:pt x="596" y="797"/>
                  <a:pt x="597" y="796"/>
                  <a:pt x="598" y="795"/>
                </a:cubicBezTo>
                <a:cubicBezTo>
                  <a:pt x="597" y="792"/>
                  <a:pt x="597" y="792"/>
                  <a:pt x="597" y="792"/>
                </a:cubicBezTo>
                <a:close/>
                <a:moveTo>
                  <a:pt x="632" y="773"/>
                </a:moveTo>
                <a:cubicBezTo>
                  <a:pt x="626" y="776"/>
                  <a:pt x="620" y="780"/>
                  <a:pt x="614" y="783"/>
                </a:cubicBezTo>
                <a:cubicBezTo>
                  <a:pt x="616" y="786"/>
                  <a:pt x="616" y="786"/>
                  <a:pt x="616" y="786"/>
                </a:cubicBezTo>
                <a:cubicBezTo>
                  <a:pt x="618" y="785"/>
                  <a:pt x="620" y="784"/>
                  <a:pt x="621" y="783"/>
                </a:cubicBezTo>
                <a:cubicBezTo>
                  <a:pt x="621" y="783"/>
                  <a:pt x="621" y="783"/>
                  <a:pt x="621" y="783"/>
                </a:cubicBezTo>
                <a:cubicBezTo>
                  <a:pt x="621" y="783"/>
                  <a:pt x="621" y="783"/>
                  <a:pt x="621" y="783"/>
                </a:cubicBezTo>
                <a:cubicBezTo>
                  <a:pt x="621" y="783"/>
                  <a:pt x="621"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2" y="783"/>
                </a:cubicBezTo>
                <a:cubicBezTo>
                  <a:pt x="622" y="783"/>
                  <a:pt x="622"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3"/>
                </a:cubicBezTo>
                <a:cubicBezTo>
                  <a:pt x="623" y="783"/>
                  <a:pt x="623" y="783"/>
                  <a:pt x="623" y="782"/>
                </a:cubicBezTo>
                <a:cubicBezTo>
                  <a:pt x="623" y="782"/>
                  <a:pt x="623" y="782"/>
                  <a:pt x="623" y="782"/>
                </a:cubicBezTo>
                <a:cubicBezTo>
                  <a:pt x="623" y="782"/>
                  <a:pt x="623" y="782"/>
                  <a:pt x="623" y="782"/>
                </a:cubicBezTo>
                <a:cubicBezTo>
                  <a:pt x="623" y="782"/>
                  <a:pt x="623" y="782"/>
                  <a:pt x="623" y="782"/>
                </a:cubicBezTo>
                <a:cubicBezTo>
                  <a:pt x="623" y="782"/>
                  <a:pt x="623" y="782"/>
                  <a:pt x="623" y="782"/>
                </a:cubicBezTo>
                <a:cubicBezTo>
                  <a:pt x="623" y="782"/>
                  <a:pt x="623" y="782"/>
                  <a:pt x="623" y="782"/>
                </a:cubicBezTo>
                <a:cubicBezTo>
                  <a:pt x="624" y="782"/>
                  <a:pt x="624" y="782"/>
                  <a:pt x="624" y="782"/>
                </a:cubicBezTo>
                <a:cubicBezTo>
                  <a:pt x="624" y="782"/>
                  <a:pt x="624" y="782"/>
                  <a:pt x="624" y="782"/>
                </a:cubicBezTo>
                <a:cubicBezTo>
                  <a:pt x="624" y="782"/>
                  <a:pt x="624" y="782"/>
                  <a:pt x="624" y="782"/>
                </a:cubicBezTo>
                <a:cubicBezTo>
                  <a:pt x="627" y="780"/>
                  <a:pt x="630" y="778"/>
                  <a:pt x="634" y="776"/>
                </a:cubicBezTo>
                <a:cubicBezTo>
                  <a:pt x="632" y="773"/>
                  <a:pt x="632" y="773"/>
                  <a:pt x="632" y="773"/>
                </a:cubicBezTo>
                <a:close/>
                <a:moveTo>
                  <a:pt x="664" y="751"/>
                </a:moveTo>
                <a:cubicBezTo>
                  <a:pt x="659" y="755"/>
                  <a:pt x="654" y="759"/>
                  <a:pt x="648" y="762"/>
                </a:cubicBezTo>
                <a:cubicBezTo>
                  <a:pt x="650" y="766"/>
                  <a:pt x="650" y="766"/>
                  <a:pt x="650" y="766"/>
                </a:cubicBezTo>
                <a:cubicBezTo>
                  <a:pt x="656" y="762"/>
                  <a:pt x="661" y="758"/>
                  <a:pt x="667" y="754"/>
                </a:cubicBezTo>
                <a:cubicBezTo>
                  <a:pt x="664" y="751"/>
                  <a:pt x="664" y="751"/>
                  <a:pt x="664" y="751"/>
                </a:cubicBezTo>
                <a:close/>
                <a:moveTo>
                  <a:pt x="695" y="726"/>
                </a:moveTo>
                <a:cubicBezTo>
                  <a:pt x="690" y="730"/>
                  <a:pt x="685" y="735"/>
                  <a:pt x="680" y="739"/>
                </a:cubicBezTo>
                <a:cubicBezTo>
                  <a:pt x="683" y="742"/>
                  <a:pt x="683" y="742"/>
                  <a:pt x="683" y="742"/>
                </a:cubicBezTo>
                <a:cubicBezTo>
                  <a:pt x="686" y="739"/>
                  <a:pt x="690" y="736"/>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3" y="733"/>
                  <a:pt x="693" y="733"/>
                  <a:pt x="693" y="733"/>
                </a:cubicBezTo>
                <a:cubicBezTo>
                  <a:pt x="694" y="733"/>
                  <a:pt x="694" y="733"/>
                  <a:pt x="694" y="733"/>
                </a:cubicBezTo>
                <a:cubicBezTo>
                  <a:pt x="694" y="733"/>
                  <a:pt x="694" y="733"/>
                  <a:pt x="694" y="732"/>
                </a:cubicBezTo>
                <a:cubicBezTo>
                  <a:pt x="694" y="732"/>
                  <a:pt x="694" y="732"/>
                  <a:pt x="694" y="732"/>
                </a:cubicBezTo>
                <a:cubicBezTo>
                  <a:pt x="694" y="732"/>
                  <a:pt x="694" y="732"/>
                  <a:pt x="694" y="732"/>
                </a:cubicBezTo>
                <a:cubicBezTo>
                  <a:pt x="694" y="732"/>
                  <a:pt x="694" y="732"/>
                  <a:pt x="694" y="732"/>
                </a:cubicBezTo>
                <a:cubicBezTo>
                  <a:pt x="694" y="732"/>
                  <a:pt x="694" y="732"/>
                  <a:pt x="694" y="732"/>
                </a:cubicBezTo>
                <a:cubicBezTo>
                  <a:pt x="694" y="732"/>
                  <a:pt x="694" y="732"/>
                  <a:pt x="694" y="732"/>
                </a:cubicBezTo>
                <a:cubicBezTo>
                  <a:pt x="695" y="731"/>
                  <a:pt x="696" y="730"/>
                  <a:pt x="698" y="729"/>
                </a:cubicBezTo>
                <a:cubicBezTo>
                  <a:pt x="695" y="726"/>
                  <a:pt x="695" y="726"/>
                  <a:pt x="695" y="726"/>
                </a:cubicBezTo>
                <a:close/>
                <a:moveTo>
                  <a:pt x="723" y="698"/>
                </a:moveTo>
                <a:cubicBezTo>
                  <a:pt x="719" y="703"/>
                  <a:pt x="714" y="708"/>
                  <a:pt x="709" y="712"/>
                </a:cubicBezTo>
                <a:cubicBezTo>
                  <a:pt x="712" y="715"/>
                  <a:pt x="712" y="715"/>
                  <a:pt x="712" y="715"/>
                </a:cubicBezTo>
                <a:cubicBezTo>
                  <a:pt x="714" y="714"/>
                  <a:pt x="715" y="712"/>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7" y="710"/>
                </a:cubicBezTo>
                <a:cubicBezTo>
                  <a:pt x="717" y="710"/>
                  <a:pt x="717" y="710"/>
                  <a:pt x="718" y="710"/>
                </a:cubicBezTo>
                <a:cubicBezTo>
                  <a:pt x="718" y="710"/>
                  <a:pt x="718" y="710"/>
                  <a:pt x="718" y="710"/>
                </a:cubicBezTo>
                <a:cubicBezTo>
                  <a:pt x="718" y="710"/>
                  <a:pt x="718" y="710"/>
                  <a:pt x="718" y="710"/>
                </a:cubicBezTo>
                <a:cubicBezTo>
                  <a:pt x="718" y="710"/>
                  <a:pt x="718" y="710"/>
                  <a:pt x="718" y="710"/>
                </a:cubicBezTo>
                <a:cubicBezTo>
                  <a:pt x="718" y="710"/>
                  <a:pt x="718" y="710"/>
                  <a:pt x="718" y="710"/>
                </a:cubicBezTo>
                <a:cubicBezTo>
                  <a:pt x="718" y="710"/>
                  <a:pt x="718" y="710"/>
                  <a:pt x="718" y="710"/>
                </a:cubicBezTo>
                <a:cubicBezTo>
                  <a:pt x="718" y="710"/>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8" y="709"/>
                  <a:pt x="718" y="709"/>
                  <a:pt x="718" y="709"/>
                </a:cubicBezTo>
                <a:cubicBezTo>
                  <a:pt x="719" y="709"/>
                  <a:pt x="719" y="709"/>
                  <a:pt x="719" y="709"/>
                </a:cubicBezTo>
                <a:cubicBezTo>
                  <a:pt x="719" y="709"/>
                  <a:pt x="719" y="709"/>
                  <a:pt x="719" y="709"/>
                </a:cubicBezTo>
                <a:cubicBezTo>
                  <a:pt x="719" y="709"/>
                  <a:pt x="719" y="709"/>
                  <a:pt x="719" y="709"/>
                </a:cubicBezTo>
                <a:cubicBezTo>
                  <a:pt x="719" y="709"/>
                  <a:pt x="719" y="709"/>
                  <a:pt x="719" y="709"/>
                </a:cubicBezTo>
                <a:cubicBezTo>
                  <a:pt x="719" y="709"/>
                  <a:pt x="719" y="709"/>
                  <a:pt x="719" y="709"/>
                </a:cubicBezTo>
                <a:cubicBezTo>
                  <a:pt x="719" y="709"/>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19" y="708"/>
                  <a:pt x="719" y="708"/>
                </a:cubicBezTo>
                <a:cubicBezTo>
                  <a:pt x="719" y="708"/>
                  <a:pt x="720" y="708"/>
                  <a:pt x="720" y="708"/>
                </a:cubicBezTo>
                <a:cubicBezTo>
                  <a:pt x="720" y="708"/>
                  <a:pt x="720" y="708"/>
                  <a:pt x="720" y="708"/>
                </a:cubicBezTo>
                <a:cubicBezTo>
                  <a:pt x="720" y="708"/>
                  <a:pt x="720" y="708"/>
                  <a:pt x="720" y="708"/>
                </a:cubicBezTo>
                <a:cubicBezTo>
                  <a:pt x="720" y="708"/>
                  <a:pt x="720" y="708"/>
                  <a:pt x="720" y="708"/>
                </a:cubicBezTo>
                <a:cubicBezTo>
                  <a:pt x="720" y="708"/>
                  <a:pt x="720" y="708"/>
                  <a:pt x="720" y="708"/>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0" y="707"/>
                </a:cubicBezTo>
                <a:cubicBezTo>
                  <a:pt x="720" y="707"/>
                  <a:pt x="720" y="707"/>
                  <a:pt x="721" y="707"/>
                </a:cubicBezTo>
                <a:cubicBezTo>
                  <a:pt x="721" y="707"/>
                  <a:pt x="721" y="707"/>
                  <a:pt x="721" y="707"/>
                </a:cubicBezTo>
                <a:cubicBezTo>
                  <a:pt x="721" y="707"/>
                  <a:pt x="721" y="707"/>
                  <a:pt x="721" y="707"/>
                </a:cubicBezTo>
                <a:cubicBezTo>
                  <a:pt x="721" y="707"/>
                  <a:pt x="721" y="707"/>
                  <a:pt x="721" y="707"/>
                </a:cubicBezTo>
                <a:cubicBezTo>
                  <a:pt x="721" y="707"/>
                  <a:pt x="721" y="707"/>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1" y="706"/>
                  <a:pt x="721" y="706"/>
                  <a:pt x="721" y="706"/>
                </a:cubicBezTo>
                <a:cubicBezTo>
                  <a:pt x="722" y="706"/>
                  <a:pt x="722" y="706"/>
                  <a:pt x="722" y="706"/>
                </a:cubicBezTo>
                <a:cubicBezTo>
                  <a:pt x="722" y="706"/>
                  <a:pt x="722" y="706"/>
                  <a:pt x="722" y="706"/>
                </a:cubicBezTo>
                <a:cubicBezTo>
                  <a:pt x="722" y="706"/>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2" y="705"/>
                </a:cubicBezTo>
                <a:cubicBezTo>
                  <a:pt x="722" y="705"/>
                  <a:pt x="722" y="705"/>
                  <a:pt x="723" y="705"/>
                </a:cubicBezTo>
                <a:cubicBezTo>
                  <a:pt x="723" y="705"/>
                  <a:pt x="723" y="705"/>
                  <a:pt x="723" y="705"/>
                </a:cubicBezTo>
                <a:cubicBezTo>
                  <a:pt x="723" y="704"/>
                  <a:pt x="723" y="704"/>
                  <a:pt x="723" y="704"/>
                </a:cubicBezTo>
                <a:cubicBezTo>
                  <a:pt x="723" y="704"/>
                  <a:pt x="723" y="704"/>
                  <a:pt x="723" y="704"/>
                </a:cubicBezTo>
                <a:cubicBezTo>
                  <a:pt x="723" y="704"/>
                  <a:pt x="723" y="704"/>
                  <a:pt x="723" y="704"/>
                </a:cubicBezTo>
                <a:cubicBezTo>
                  <a:pt x="723" y="704"/>
                  <a:pt x="723" y="704"/>
                  <a:pt x="723" y="704"/>
                </a:cubicBezTo>
                <a:cubicBezTo>
                  <a:pt x="724" y="703"/>
                  <a:pt x="725" y="702"/>
                  <a:pt x="726" y="701"/>
                </a:cubicBezTo>
                <a:cubicBezTo>
                  <a:pt x="723" y="698"/>
                  <a:pt x="723" y="698"/>
                  <a:pt x="723" y="698"/>
                </a:cubicBezTo>
                <a:close/>
                <a:moveTo>
                  <a:pt x="749" y="668"/>
                </a:moveTo>
                <a:cubicBezTo>
                  <a:pt x="745" y="673"/>
                  <a:pt x="740" y="678"/>
                  <a:pt x="736" y="683"/>
                </a:cubicBezTo>
                <a:cubicBezTo>
                  <a:pt x="739" y="686"/>
                  <a:pt x="739" y="686"/>
                  <a:pt x="739" y="686"/>
                </a:cubicBezTo>
                <a:cubicBezTo>
                  <a:pt x="743" y="682"/>
                  <a:pt x="746" y="678"/>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4"/>
                  <a:pt x="749" y="674"/>
                  <a:pt x="749" y="674"/>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49" y="673"/>
                  <a:pt x="749" y="673"/>
                  <a:pt x="749"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3"/>
                </a:cubicBezTo>
                <a:cubicBezTo>
                  <a:pt x="750" y="673"/>
                  <a:pt x="750" y="673"/>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0" y="672"/>
                  <a:pt x="750" y="672"/>
                  <a:pt x="750" y="672"/>
                </a:cubicBezTo>
                <a:cubicBezTo>
                  <a:pt x="751" y="671"/>
                  <a:pt x="751" y="671"/>
                  <a:pt x="752" y="670"/>
                </a:cubicBezTo>
                <a:cubicBezTo>
                  <a:pt x="749" y="668"/>
                  <a:pt x="749" y="668"/>
                  <a:pt x="749" y="668"/>
                </a:cubicBezTo>
                <a:close/>
                <a:moveTo>
                  <a:pt x="771" y="635"/>
                </a:moveTo>
                <a:cubicBezTo>
                  <a:pt x="767" y="640"/>
                  <a:pt x="764" y="646"/>
                  <a:pt x="760" y="651"/>
                </a:cubicBezTo>
                <a:cubicBezTo>
                  <a:pt x="763" y="654"/>
                  <a:pt x="763" y="654"/>
                  <a:pt x="763" y="654"/>
                </a:cubicBezTo>
                <a:cubicBezTo>
                  <a:pt x="767" y="648"/>
                  <a:pt x="771" y="643"/>
                  <a:pt x="774" y="637"/>
                </a:cubicBezTo>
                <a:cubicBezTo>
                  <a:pt x="771" y="635"/>
                  <a:pt x="771" y="635"/>
                  <a:pt x="771" y="635"/>
                </a:cubicBezTo>
                <a:close/>
                <a:moveTo>
                  <a:pt x="790" y="600"/>
                </a:moveTo>
                <a:cubicBezTo>
                  <a:pt x="787" y="606"/>
                  <a:pt x="784" y="612"/>
                  <a:pt x="781" y="618"/>
                </a:cubicBezTo>
                <a:cubicBezTo>
                  <a:pt x="784" y="620"/>
                  <a:pt x="784" y="620"/>
                  <a:pt x="784" y="620"/>
                </a:cubicBezTo>
                <a:cubicBezTo>
                  <a:pt x="788" y="614"/>
                  <a:pt x="791" y="608"/>
                  <a:pt x="794" y="602"/>
                </a:cubicBezTo>
                <a:cubicBezTo>
                  <a:pt x="790" y="600"/>
                  <a:pt x="790" y="600"/>
                  <a:pt x="790" y="600"/>
                </a:cubicBezTo>
                <a:close/>
                <a:moveTo>
                  <a:pt x="806" y="564"/>
                </a:moveTo>
                <a:cubicBezTo>
                  <a:pt x="803" y="570"/>
                  <a:pt x="801" y="576"/>
                  <a:pt x="798" y="582"/>
                </a:cubicBezTo>
                <a:cubicBezTo>
                  <a:pt x="802" y="584"/>
                  <a:pt x="802" y="584"/>
                  <a:pt x="802" y="584"/>
                </a:cubicBezTo>
                <a:cubicBezTo>
                  <a:pt x="802" y="583"/>
                  <a:pt x="802" y="583"/>
                  <a:pt x="802" y="583"/>
                </a:cubicBezTo>
                <a:cubicBezTo>
                  <a:pt x="802" y="583"/>
                  <a:pt x="802" y="583"/>
                  <a:pt x="802" y="583"/>
                </a:cubicBezTo>
                <a:cubicBezTo>
                  <a:pt x="802" y="583"/>
                  <a:pt x="803" y="583"/>
                  <a:pt x="803" y="583"/>
                </a:cubicBezTo>
                <a:cubicBezTo>
                  <a:pt x="803" y="583"/>
                  <a:pt x="803" y="583"/>
                  <a:pt x="803" y="583"/>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2"/>
                </a:cubicBezTo>
                <a:cubicBezTo>
                  <a:pt x="803" y="582"/>
                  <a:pt x="803" y="582"/>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3" y="581"/>
                  <a:pt x="803" y="581"/>
                  <a:pt x="803" y="581"/>
                </a:cubicBezTo>
                <a:cubicBezTo>
                  <a:pt x="804" y="579"/>
                  <a:pt x="805" y="576"/>
                  <a:pt x="806" y="574"/>
                </a:cubicBezTo>
                <a:cubicBezTo>
                  <a:pt x="806" y="574"/>
                  <a:pt x="806" y="574"/>
                  <a:pt x="806" y="574"/>
                </a:cubicBezTo>
                <a:cubicBezTo>
                  <a:pt x="806" y="574"/>
                  <a:pt x="806" y="574"/>
                  <a:pt x="806" y="574"/>
                </a:cubicBezTo>
                <a:cubicBezTo>
                  <a:pt x="806" y="574"/>
                  <a:pt x="806" y="574"/>
                  <a:pt x="806" y="574"/>
                </a:cubicBezTo>
                <a:cubicBezTo>
                  <a:pt x="806" y="574"/>
                  <a:pt x="806" y="574"/>
                  <a:pt x="806" y="574"/>
                </a:cubicBezTo>
                <a:cubicBezTo>
                  <a:pt x="806" y="574"/>
                  <a:pt x="806" y="574"/>
                  <a:pt x="806" y="574"/>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6" y="573"/>
                </a:cubicBezTo>
                <a:cubicBezTo>
                  <a:pt x="806" y="573"/>
                  <a:pt x="806"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3"/>
                  <a:pt x="807" y="573"/>
                  <a:pt x="807" y="573"/>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2"/>
                </a:cubicBezTo>
                <a:cubicBezTo>
                  <a:pt x="807" y="572"/>
                  <a:pt x="807" y="572"/>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1"/>
                  <a:pt x="807" y="571"/>
                  <a:pt x="807" y="571"/>
                </a:cubicBezTo>
                <a:cubicBezTo>
                  <a:pt x="807" y="570"/>
                  <a:pt x="807" y="570"/>
                  <a:pt x="807" y="570"/>
                </a:cubicBezTo>
                <a:cubicBezTo>
                  <a:pt x="808" y="570"/>
                  <a:pt x="808" y="570"/>
                  <a:pt x="808" y="570"/>
                </a:cubicBezTo>
                <a:cubicBezTo>
                  <a:pt x="808" y="570"/>
                  <a:pt x="808" y="570"/>
                  <a:pt x="808" y="570"/>
                </a:cubicBezTo>
                <a:cubicBezTo>
                  <a:pt x="808" y="570"/>
                  <a:pt x="808" y="570"/>
                  <a:pt x="808" y="570"/>
                </a:cubicBezTo>
                <a:cubicBezTo>
                  <a:pt x="808" y="570"/>
                  <a:pt x="808" y="570"/>
                  <a:pt x="808" y="570"/>
                </a:cubicBezTo>
                <a:cubicBezTo>
                  <a:pt x="808" y="569"/>
                  <a:pt x="809" y="568"/>
                  <a:pt x="809" y="567"/>
                </a:cubicBezTo>
                <a:cubicBezTo>
                  <a:pt x="809" y="567"/>
                  <a:pt x="809" y="567"/>
                  <a:pt x="809" y="567"/>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6"/>
                  <a:pt x="809" y="566"/>
                </a:cubicBezTo>
                <a:cubicBezTo>
                  <a:pt x="809" y="566"/>
                  <a:pt x="809" y="565"/>
                  <a:pt x="809" y="565"/>
                </a:cubicBezTo>
                <a:cubicBezTo>
                  <a:pt x="809" y="565"/>
                  <a:pt x="809" y="565"/>
                  <a:pt x="809" y="565"/>
                </a:cubicBezTo>
                <a:cubicBezTo>
                  <a:pt x="809" y="565"/>
                  <a:pt x="809" y="565"/>
                  <a:pt x="809" y="565"/>
                </a:cubicBezTo>
                <a:cubicBezTo>
                  <a:pt x="809" y="565"/>
                  <a:pt x="809" y="565"/>
                  <a:pt x="809" y="565"/>
                </a:cubicBezTo>
                <a:cubicBezTo>
                  <a:pt x="809" y="565"/>
                  <a:pt x="809" y="565"/>
                  <a:pt x="810" y="565"/>
                </a:cubicBezTo>
                <a:cubicBezTo>
                  <a:pt x="806" y="564"/>
                  <a:pt x="806" y="564"/>
                  <a:pt x="806" y="564"/>
                </a:cubicBezTo>
                <a:close/>
                <a:moveTo>
                  <a:pt x="818" y="526"/>
                </a:moveTo>
                <a:cubicBezTo>
                  <a:pt x="816" y="532"/>
                  <a:pt x="814" y="539"/>
                  <a:pt x="812" y="545"/>
                </a:cubicBezTo>
                <a:cubicBezTo>
                  <a:pt x="816" y="546"/>
                  <a:pt x="816" y="546"/>
                  <a:pt x="816" y="546"/>
                </a:cubicBezTo>
                <a:cubicBezTo>
                  <a:pt x="817" y="544"/>
                  <a:pt x="818" y="541"/>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8"/>
                  <a:pt x="819" y="538"/>
                  <a:pt x="819" y="538"/>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7"/>
                </a:cubicBezTo>
                <a:cubicBezTo>
                  <a:pt x="819" y="537"/>
                  <a:pt x="819" y="537"/>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6"/>
                  <a:pt x="819" y="536"/>
                </a:cubicBezTo>
                <a:cubicBezTo>
                  <a:pt x="819" y="536"/>
                  <a:pt x="819" y="535"/>
                  <a:pt x="819" y="535"/>
                </a:cubicBezTo>
                <a:cubicBezTo>
                  <a:pt x="819" y="535"/>
                  <a:pt x="819" y="535"/>
                  <a:pt x="819" y="535"/>
                </a:cubicBezTo>
                <a:cubicBezTo>
                  <a:pt x="819" y="535"/>
                  <a:pt x="819" y="535"/>
                  <a:pt x="819" y="535"/>
                </a:cubicBezTo>
                <a:cubicBezTo>
                  <a:pt x="819" y="535"/>
                  <a:pt x="819" y="535"/>
                  <a:pt x="819"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5"/>
                  <a:pt x="820" y="535"/>
                </a:cubicBezTo>
                <a:cubicBezTo>
                  <a:pt x="820" y="535"/>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4"/>
                  <a:pt x="820" y="534"/>
                </a:cubicBezTo>
                <a:cubicBezTo>
                  <a:pt x="820" y="534"/>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3"/>
                </a:cubicBezTo>
                <a:cubicBezTo>
                  <a:pt x="820" y="533"/>
                  <a:pt x="820" y="533"/>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0" y="532"/>
                  <a:pt x="820" y="532"/>
                  <a:pt x="820" y="532"/>
                </a:cubicBezTo>
                <a:cubicBezTo>
                  <a:pt x="821" y="532"/>
                  <a:pt x="821" y="532"/>
                  <a:pt x="821" y="532"/>
                </a:cubicBezTo>
                <a:cubicBezTo>
                  <a:pt x="821" y="532"/>
                  <a:pt x="821" y="532"/>
                  <a:pt x="821" y="532"/>
                </a:cubicBezTo>
                <a:cubicBezTo>
                  <a:pt x="821" y="532"/>
                  <a:pt x="821" y="531"/>
                  <a:pt x="821" y="531"/>
                </a:cubicBezTo>
                <a:cubicBezTo>
                  <a:pt x="821" y="531"/>
                  <a:pt x="821" y="531"/>
                  <a:pt x="821" y="531"/>
                </a:cubicBezTo>
                <a:cubicBezTo>
                  <a:pt x="821" y="530"/>
                  <a:pt x="821" y="529"/>
                  <a:pt x="822" y="527"/>
                </a:cubicBezTo>
                <a:cubicBezTo>
                  <a:pt x="818" y="526"/>
                  <a:pt x="818" y="526"/>
                  <a:pt x="818" y="526"/>
                </a:cubicBezTo>
                <a:close/>
                <a:moveTo>
                  <a:pt x="826" y="487"/>
                </a:moveTo>
                <a:cubicBezTo>
                  <a:pt x="825" y="494"/>
                  <a:pt x="824" y="500"/>
                  <a:pt x="823" y="507"/>
                </a:cubicBezTo>
                <a:cubicBezTo>
                  <a:pt x="826" y="508"/>
                  <a:pt x="826" y="508"/>
                  <a:pt x="826" y="508"/>
                </a:cubicBezTo>
                <a:cubicBezTo>
                  <a:pt x="827" y="505"/>
                  <a:pt x="828" y="502"/>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9"/>
                  <a:pt x="828" y="499"/>
                  <a:pt x="828" y="499"/>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8" y="498"/>
                </a:cubicBezTo>
                <a:cubicBezTo>
                  <a:pt x="828" y="498"/>
                  <a:pt x="828"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8"/>
                </a:cubicBezTo>
                <a:cubicBezTo>
                  <a:pt x="829" y="498"/>
                  <a:pt x="829" y="498"/>
                  <a:pt x="829" y="497"/>
                </a:cubicBezTo>
                <a:cubicBezTo>
                  <a:pt x="829" y="497"/>
                  <a:pt x="829" y="497"/>
                  <a:pt x="829" y="497"/>
                </a:cubicBezTo>
                <a:cubicBezTo>
                  <a:pt x="829" y="497"/>
                  <a:pt x="829" y="497"/>
                  <a:pt x="829" y="497"/>
                </a:cubicBezTo>
                <a:cubicBezTo>
                  <a:pt x="829" y="497"/>
                  <a:pt x="829" y="497"/>
                  <a:pt x="829" y="497"/>
                </a:cubicBezTo>
                <a:cubicBezTo>
                  <a:pt x="829" y="497"/>
                  <a:pt x="829" y="497"/>
                  <a:pt x="829" y="497"/>
                </a:cubicBezTo>
                <a:cubicBezTo>
                  <a:pt x="829" y="497"/>
                  <a:pt x="829" y="497"/>
                  <a:pt x="829" y="497"/>
                </a:cubicBezTo>
                <a:cubicBezTo>
                  <a:pt x="829" y="494"/>
                  <a:pt x="830" y="491"/>
                  <a:pt x="830" y="488"/>
                </a:cubicBezTo>
                <a:cubicBezTo>
                  <a:pt x="826" y="487"/>
                  <a:pt x="826" y="487"/>
                  <a:pt x="826" y="487"/>
                </a:cubicBezTo>
                <a:close/>
                <a:moveTo>
                  <a:pt x="831" y="448"/>
                </a:moveTo>
                <a:cubicBezTo>
                  <a:pt x="831" y="455"/>
                  <a:pt x="830" y="461"/>
                  <a:pt x="829" y="468"/>
                </a:cubicBezTo>
                <a:cubicBezTo>
                  <a:pt x="833" y="468"/>
                  <a:pt x="833" y="468"/>
                  <a:pt x="833" y="468"/>
                </a:cubicBezTo>
                <a:cubicBezTo>
                  <a:pt x="833" y="467"/>
                  <a:pt x="833" y="466"/>
                  <a:pt x="833" y="465"/>
                </a:cubicBezTo>
                <a:cubicBezTo>
                  <a:pt x="833" y="465"/>
                  <a:pt x="833" y="465"/>
                  <a:pt x="833" y="465"/>
                </a:cubicBezTo>
                <a:cubicBezTo>
                  <a:pt x="833" y="465"/>
                  <a:pt x="833" y="465"/>
                  <a:pt x="833" y="465"/>
                </a:cubicBezTo>
                <a:cubicBezTo>
                  <a:pt x="833" y="465"/>
                  <a:pt x="833" y="465"/>
                  <a:pt x="833" y="465"/>
                </a:cubicBezTo>
                <a:cubicBezTo>
                  <a:pt x="833" y="465"/>
                  <a:pt x="833"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5"/>
                  <a:pt x="834" y="465"/>
                  <a:pt x="834" y="465"/>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4"/>
                </a:cubicBezTo>
                <a:cubicBezTo>
                  <a:pt x="834" y="464"/>
                  <a:pt x="834" y="464"/>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63"/>
                  <a:pt x="834" y="463"/>
                  <a:pt x="834" y="463"/>
                </a:cubicBezTo>
                <a:cubicBezTo>
                  <a:pt x="834" y="458"/>
                  <a:pt x="835" y="453"/>
                  <a:pt x="835" y="448"/>
                </a:cubicBezTo>
                <a:cubicBezTo>
                  <a:pt x="831" y="448"/>
                  <a:pt x="831" y="448"/>
                  <a:pt x="831" y="448"/>
                </a:cubicBezTo>
                <a:close/>
                <a:moveTo>
                  <a:pt x="836" y="408"/>
                </a:moveTo>
                <a:cubicBezTo>
                  <a:pt x="832" y="408"/>
                  <a:pt x="832" y="408"/>
                  <a:pt x="832" y="408"/>
                </a:cubicBezTo>
                <a:cubicBezTo>
                  <a:pt x="832" y="412"/>
                  <a:pt x="832" y="415"/>
                  <a:pt x="832" y="418"/>
                </a:cubicBezTo>
                <a:cubicBezTo>
                  <a:pt x="832" y="421"/>
                  <a:pt x="832" y="425"/>
                  <a:pt x="832" y="428"/>
                </a:cubicBezTo>
                <a:cubicBezTo>
                  <a:pt x="836" y="428"/>
                  <a:pt x="836" y="428"/>
                  <a:pt x="836" y="428"/>
                </a:cubicBezTo>
                <a:cubicBezTo>
                  <a:pt x="836" y="427"/>
                  <a:pt x="836" y="426"/>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4"/>
                  <a:pt x="836" y="424"/>
                  <a:pt x="836" y="424"/>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3"/>
                  <a:pt x="836" y="423"/>
                </a:cubicBezTo>
                <a:cubicBezTo>
                  <a:pt x="836" y="423"/>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2"/>
                </a:cubicBezTo>
                <a:cubicBezTo>
                  <a:pt x="836" y="422"/>
                  <a:pt x="836" y="422"/>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1"/>
                  <a:pt x="836" y="421"/>
                </a:cubicBezTo>
                <a:cubicBezTo>
                  <a:pt x="836" y="421"/>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20"/>
                  <a:pt x="836" y="420"/>
                </a:cubicBezTo>
                <a:cubicBezTo>
                  <a:pt x="836" y="420"/>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9"/>
                </a:cubicBezTo>
                <a:cubicBezTo>
                  <a:pt x="836" y="419"/>
                  <a:pt x="836" y="419"/>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8"/>
                  <a:pt x="836" y="418"/>
                  <a:pt x="836" y="418"/>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7"/>
                  <a:pt x="836" y="417"/>
                  <a:pt x="836" y="417"/>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6"/>
                  <a:pt x="836" y="416"/>
                  <a:pt x="836" y="416"/>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5"/>
                </a:cubicBezTo>
                <a:cubicBezTo>
                  <a:pt x="836" y="415"/>
                  <a:pt x="836" y="415"/>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4"/>
                  <a:pt x="836" y="414"/>
                </a:cubicBezTo>
                <a:cubicBezTo>
                  <a:pt x="836" y="414"/>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3"/>
                </a:cubicBezTo>
                <a:cubicBezTo>
                  <a:pt x="836" y="413"/>
                  <a:pt x="836" y="413"/>
                  <a:pt x="836" y="412"/>
                </a:cubicBezTo>
                <a:cubicBezTo>
                  <a:pt x="836" y="412"/>
                  <a:pt x="836" y="412"/>
                  <a:pt x="836" y="412"/>
                </a:cubicBezTo>
                <a:cubicBezTo>
                  <a:pt x="836" y="412"/>
                  <a:pt x="836" y="412"/>
                  <a:pt x="836" y="412"/>
                </a:cubicBezTo>
                <a:cubicBezTo>
                  <a:pt x="836" y="412"/>
                  <a:pt x="836" y="412"/>
                  <a:pt x="836" y="411"/>
                </a:cubicBezTo>
                <a:cubicBezTo>
                  <a:pt x="836" y="411"/>
                  <a:pt x="836" y="411"/>
                  <a:pt x="836" y="411"/>
                </a:cubicBezTo>
                <a:cubicBezTo>
                  <a:pt x="836" y="411"/>
                  <a:pt x="836" y="411"/>
                  <a:pt x="836" y="411"/>
                </a:cubicBezTo>
                <a:cubicBezTo>
                  <a:pt x="836" y="411"/>
                  <a:pt x="836" y="411"/>
                  <a:pt x="836" y="411"/>
                </a:cubicBezTo>
                <a:cubicBezTo>
                  <a:pt x="836" y="410"/>
                  <a:pt x="836" y="409"/>
                  <a:pt x="836" y="408"/>
                </a:cubicBezTo>
                <a:close/>
                <a:moveTo>
                  <a:pt x="833" y="368"/>
                </a:moveTo>
                <a:cubicBezTo>
                  <a:pt x="829" y="369"/>
                  <a:pt x="829" y="369"/>
                  <a:pt x="829" y="369"/>
                </a:cubicBezTo>
                <a:cubicBezTo>
                  <a:pt x="830" y="375"/>
                  <a:pt x="831" y="382"/>
                  <a:pt x="831" y="389"/>
                </a:cubicBezTo>
                <a:cubicBezTo>
                  <a:pt x="835" y="388"/>
                  <a:pt x="835" y="388"/>
                  <a:pt x="835" y="388"/>
                </a:cubicBezTo>
                <a:cubicBezTo>
                  <a:pt x="835" y="386"/>
                  <a:pt x="835" y="385"/>
                  <a:pt x="835" y="383"/>
                </a:cubicBezTo>
                <a:cubicBezTo>
                  <a:pt x="835" y="383"/>
                  <a:pt x="835" y="383"/>
                  <a:pt x="835" y="383"/>
                </a:cubicBezTo>
                <a:cubicBezTo>
                  <a:pt x="835" y="383"/>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2"/>
                </a:cubicBezTo>
                <a:cubicBezTo>
                  <a:pt x="835" y="382"/>
                  <a:pt x="835" y="382"/>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5" y="381"/>
                  <a:pt x="835" y="381"/>
                  <a:pt x="835" y="381"/>
                </a:cubicBezTo>
                <a:cubicBezTo>
                  <a:pt x="834" y="381"/>
                  <a:pt x="834" y="381"/>
                  <a:pt x="834" y="381"/>
                </a:cubicBezTo>
                <a:cubicBezTo>
                  <a:pt x="834" y="381"/>
                  <a:pt x="834" y="380"/>
                  <a:pt x="834" y="380"/>
                </a:cubicBezTo>
                <a:cubicBezTo>
                  <a:pt x="834" y="380"/>
                  <a:pt x="834" y="380"/>
                  <a:pt x="834" y="380"/>
                </a:cubicBezTo>
                <a:cubicBezTo>
                  <a:pt x="834" y="380"/>
                  <a:pt x="834" y="380"/>
                  <a:pt x="834" y="380"/>
                </a:cubicBezTo>
                <a:cubicBezTo>
                  <a:pt x="834" y="380"/>
                  <a:pt x="834" y="380"/>
                  <a:pt x="834" y="380"/>
                </a:cubicBezTo>
                <a:cubicBezTo>
                  <a:pt x="834" y="380"/>
                  <a:pt x="834" y="380"/>
                  <a:pt x="834" y="380"/>
                </a:cubicBezTo>
                <a:cubicBezTo>
                  <a:pt x="834" y="380"/>
                  <a:pt x="834" y="380"/>
                  <a:pt x="834" y="380"/>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9"/>
                  <a:pt x="834" y="379"/>
                </a:cubicBezTo>
                <a:cubicBezTo>
                  <a:pt x="834" y="379"/>
                  <a:pt x="834" y="378"/>
                  <a:pt x="834" y="378"/>
                </a:cubicBezTo>
                <a:cubicBezTo>
                  <a:pt x="834" y="378"/>
                  <a:pt x="834" y="378"/>
                  <a:pt x="834" y="378"/>
                </a:cubicBezTo>
                <a:cubicBezTo>
                  <a:pt x="834" y="378"/>
                  <a:pt x="834" y="378"/>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7"/>
                  <a:pt x="834" y="377"/>
                  <a:pt x="834" y="377"/>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6"/>
                </a:cubicBezTo>
                <a:cubicBezTo>
                  <a:pt x="834" y="376"/>
                  <a:pt x="834" y="376"/>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5"/>
                  <a:pt x="834" y="375"/>
                  <a:pt x="834" y="375"/>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4"/>
                  <a:pt x="834" y="374"/>
                  <a:pt x="834" y="374"/>
                </a:cubicBezTo>
                <a:cubicBezTo>
                  <a:pt x="834" y="373"/>
                  <a:pt x="834" y="373"/>
                  <a:pt x="834" y="373"/>
                </a:cubicBezTo>
                <a:cubicBezTo>
                  <a:pt x="834" y="373"/>
                  <a:pt x="834" y="373"/>
                  <a:pt x="834" y="373"/>
                </a:cubicBezTo>
                <a:cubicBezTo>
                  <a:pt x="834" y="372"/>
                  <a:pt x="833" y="370"/>
                  <a:pt x="833" y="368"/>
                </a:cubicBezTo>
                <a:close/>
                <a:moveTo>
                  <a:pt x="827" y="329"/>
                </a:moveTo>
                <a:cubicBezTo>
                  <a:pt x="823" y="330"/>
                  <a:pt x="823" y="330"/>
                  <a:pt x="823" y="330"/>
                </a:cubicBezTo>
                <a:cubicBezTo>
                  <a:pt x="824" y="336"/>
                  <a:pt x="825" y="343"/>
                  <a:pt x="826" y="349"/>
                </a:cubicBezTo>
                <a:cubicBezTo>
                  <a:pt x="830" y="349"/>
                  <a:pt x="830" y="349"/>
                  <a:pt x="830" y="349"/>
                </a:cubicBezTo>
                <a:cubicBezTo>
                  <a:pt x="829" y="343"/>
                  <a:pt x="828" y="337"/>
                  <a:pt x="827" y="332"/>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1"/>
                  <a:pt x="827" y="331"/>
                </a:cubicBezTo>
                <a:cubicBezTo>
                  <a:pt x="827" y="331"/>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30"/>
                  <a:pt x="827" y="330"/>
                </a:cubicBezTo>
                <a:cubicBezTo>
                  <a:pt x="827" y="330"/>
                  <a:pt x="827" y="329"/>
                  <a:pt x="827" y="329"/>
                </a:cubicBezTo>
                <a:close/>
                <a:moveTo>
                  <a:pt x="816" y="290"/>
                </a:moveTo>
                <a:cubicBezTo>
                  <a:pt x="812" y="292"/>
                  <a:pt x="812" y="292"/>
                  <a:pt x="812" y="292"/>
                </a:cubicBezTo>
                <a:cubicBezTo>
                  <a:pt x="814" y="298"/>
                  <a:pt x="816" y="304"/>
                  <a:pt x="818" y="311"/>
                </a:cubicBezTo>
                <a:cubicBezTo>
                  <a:pt x="822" y="310"/>
                  <a:pt x="822" y="310"/>
                  <a:pt x="822" y="310"/>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9"/>
                  <a:pt x="822" y="309"/>
                </a:cubicBezTo>
                <a:cubicBezTo>
                  <a:pt x="822" y="309"/>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2" y="308"/>
                </a:cubicBezTo>
                <a:cubicBezTo>
                  <a:pt x="822" y="308"/>
                  <a:pt x="822" y="308"/>
                  <a:pt x="821" y="308"/>
                </a:cubicBezTo>
                <a:cubicBezTo>
                  <a:pt x="821" y="308"/>
                  <a:pt x="821" y="308"/>
                  <a:pt x="821" y="308"/>
                </a:cubicBezTo>
                <a:cubicBezTo>
                  <a:pt x="821" y="308"/>
                  <a:pt x="821" y="308"/>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7"/>
                </a:cubicBezTo>
                <a:cubicBezTo>
                  <a:pt x="821" y="307"/>
                  <a:pt x="821" y="307"/>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6"/>
                  <a:pt x="821" y="306"/>
                  <a:pt x="821" y="306"/>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21" y="305"/>
                  <a:pt x="821" y="305"/>
                  <a:pt x="821" y="305"/>
                </a:cubicBezTo>
                <a:cubicBezTo>
                  <a:pt x="819" y="300"/>
                  <a:pt x="818" y="295"/>
                  <a:pt x="816" y="290"/>
                </a:cubicBezTo>
                <a:close/>
                <a:moveTo>
                  <a:pt x="802" y="253"/>
                </a:moveTo>
                <a:cubicBezTo>
                  <a:pt x="799" y="255"/>
                  <a:pt x="799" y="255"/>
                  <a:pt x="799" y="255"/>
                </a:cubicBezTo>
                <a:cubicBezTo>
                  <a:pt x="801" y="261"/>
                  <a:pt x="804" y="267"/>
                  <a:pt x="806" y="273"/>
                </a:cubicBezTo>
                <a:cubicBezTo>
                  <a:pt x="810" y="272"/>
                  <a:pt x="810" y="272"/>
                  <a:pt x="810" y="272"/>
                </a:cubicBezTo>
                <a:cubicBezTo>
                  <a:pt x="809" y="270"/>
                  <a:pt x="808" y="268"/>
                  <a:pt x="808" y="266"/>
                </a:cubicBezTo>
                <a:cubicBezTo>
                  <a:pt x="808" y="266"/>
                  <a:pt x="808" y="266"/>
                  <a:pt x="808" y="266"/>
                </a:cubicBezTo>
                <a:cubicBezTo>
                  <a:pt x="808" y="266"/>
                  <a:pt x="808" y="266"/>
                  <a:pt x="808" y="266"/>
                </a:cubicBezTo>
                <a:cubicBezTo>
                  <a:pt x="808" y="266"/>
                  <a:pt x="808" y="266"/>
                  <a:pt x="808" y="266"/>
                </a:cubicBezTo>
                <a:cubicBezTo>
                  <a:pt x="808" y="266"/>
                  <a:pt x="807" y="266"/>
                  <a:pt x="807" y="266"/>
                </a:cubicBezTo>
                <a:cubicBezTo>
                  <a:pt x="807" y="266"/>
                  <a:pt x="807" y="266"/>
                  <a:pt x="807" y="266"/>
                </a:cubicBezTo>
                <a:cubicBezTo>
                  <a:pt x="807" y="266"/>
                  <a:pt x="807" y="266"/>
                  <a:pt x="807" y="266"/>
                </a:cubicBezTo>
                <a:cubicBezTo>
                  <a:pt x="807" y="266"/>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5"/>
                  <a:pt x="807" y="265"/>
                  <a:pt x="807" y="265"/>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4"/>
                </a:cubicBezTo>
                <a:cubicBezTo>
                  <a:pt x="807" y="264"/>
                  <a:pt x="807" y="264"/>
                  <a:pt x="807" y="263"/>
                </a:cubicBezTo>
                <a:cubicBezTo>
                  <a:pt x="807" y="263"/>
                  <a:pt x="807" y="263"/>
                  <a:pt x="807" y="263"/>
                </a:cubicBezTo>
                <a:cubicBezTo>
                  <a:pt x="807" y="263"/>
                  <a:pt x="807" y="263"/>
                  <a:pt x="807" y="263"/>
                </a:cubicBezTo>
                <a:cubicBezTo>
                  <a:pt x="807" y="263"/>
                  <a:pt x="807" y="263"/>
                  <a:pt x="807" y="263"/>
                </a:cubicBezTo>
                <a:cubicBezTo>
                  <a:pt x="807" y="263"/>
                  <a:pt x="807" y="263"/>
                  <a:pt x="807"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3"/>
                  <a:pt x="806" y="263"/>
                  <a:pt x="806" y="263"/>
                </a:cubicBezTo>
                <a:cubicBezTo>
                  <a:pt x="806" y="262"/>
                  <a:pt x="806" y="263"/>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6" y="262"/>
                  <a:pt x="806" y="262"/>
                  <a:pt x="806" y="262"/>
                </a:cubicBezTo>
                <a:cubicBezTo>
                  <a:pt x="805" y="259"/>
                  <a:pt x="804" y="256"/>
                  <a:pt x="802" y="253"/>
                </a:cubicBezTo>
                <a:close/>
                <a:moveTo>
                  <a:pt x="785" y="217"/>
                </a:moveTo>
                <a:cubicBezTo>
                  <a:pt x="781" y="219"/>
                  <a:pt x="781" y="219"/>
                  <a:pt x="781" y="219"/>
                </a:cubicBezTo>
                <a:cubicBezTo>
                  <a:pt x="784" y="225"/>
                  <a:pt x="787" y="231"/>
                  <a:pt x="790" y="237"/>
                </a:cubicBezTo>
                <a:cubicBezTo>
                  <a:pt x="794" y="235"/>
                  <a:pt x="794" y="235"/>
                  <a:pt x="794" y="235"/>
                </a:cubicBezTo>
                <a:cubicBezTo>
                  <a:pt x="793" y="233"/>
                  <a:pt x="792" y="230"/>
                  <a:pt x="791" y="228"/>
                </a:cubicBezTo>
                <a:cubicBezTo>
                  <a:pt x="791" y="228"/>
                  <a:pt x="791" y="228"/>
                  <a:pt x="791" y="228"/>
                </a:cubicBezTo>
                <a:cubicBezTo>
                  <a:pt x="791" y="228"/>
                  <a:pt x="791" y="228"/>
                  <a:pt x="791" y="228"/>
                </a:cubicBezTo>
                <a:cubicBezTo>
                  <a:pt x="791" y="228"/>
                  <a:pt x="791" y="228"/>
                  <a:pt x="791" y="228"/>
                </a:cubicBezTo>
                <a:cubicBezTo>
                  <a:pt x="791" y="228"/>
                  <a:pt x="791" y="228"/>
                  <a:pt x="791" y="228"/>
                </a:cubicBezTo>
                <a:cubicBezTo>
                  <a:pt x="791" y="228"/>
                  <a:pt x="791" y="228"/>
                  <a:pt x="791" y="228"/>
                </a:cubicBezTo>
                <a:cubicBezTo>
                  <a:pt x="791"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8"/>
                </a:cubicBezTo>
                <a:cubicBezTo>
                  <a:pt x="790" y="228"/>
                  <a:pt x="790" y="228"/>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7"/>
                  <a:pt x="790" y="227"/>
                  <a:pt x="790" y="227"/>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90" y="226"/>
                  <a:pt x="790" y="226"/>
                </a:cubicBezTo>
                <a:cubicBezTo>
                  <a:pt x="790"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6"/>
                </a:cubicBezTo>
                <a:cubicBezTo>
                  <a:pt x="789" y="226"/>
                  <a:pt x="789" y="226"/>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5"/>
                </a:cubicBezTo>
                <a:cubicBezTo>
                  <a:pt x="789" y="225"/>
                  <a:pt x="789" y="225"/>
                  <a:pt x="789" y="224"/>
                </a:cubicBezTo>
                <a:cubicBezTo>
                  <a:pt x="789" y="224"/>
                  <a:pt x="789" y="224"/>
                  <a:pt x="789" y="224"/>
                </a:cubicBezTo>
                <a:cubicBezTo>
                  <a:pt x="789" y="224"/>
                  <a:pt x="789" y="224"/>
                  <a:pt x="789" y="224"/>
                </a:cubicBezTo>
                <a:cubicBezTo>
                  <a:pt x="789" y="224"/>
                  <a:pt x="789" y="224"/>
                  <a:pt x="789" y="224"/>
                </a:cubicBezTo>
                <a:cubicBezTo>
                  <a:pt x="788" y="223"/>
                  <a:pt x="787" y="222"/>
                  <a:pt x="787" y="220"/>
                </a:cubicBezTo>
                <a:cubicBezTo>
                  <a:pt x="787" y="220"/>
                  <a:pt x="787" y="220"/>
                  <a:pt x="787"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20"/>
                  <a:pt x="786" y="220"/>
                  <a:pt x="786" y="220"/>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9"/>
                  <a:pt x="786" y="219"/>
                </a:cubicBezTo>
                <a:cubicBezTo>
                  <a:pt x="786" y="219"/>
                  <a:pt x="786"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8"/>
                  <a:pt x="785" y="218"/>
                  <a:pt x="785" y="218"/>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ubicBezTo>
                  <a:pt x="785" y="217"/>
                  <a:pt x="785" y="217"/>
                  <a:pt x="785" y="217"/>
                </a:cubicBezTo>
                <a:close/>
                <a:moveTo>
                  <a:pt x="764" y="183"/>
                </a:moveTo>
                <a:cubicBezTo>
                  <a:pt x="761" y="185"/>
                  <a:pt x="761" y="185"/>
                  <a:pt x="761" y="185"/>
                </a:cubicBezTo>
                <a:cubicBezTo>
                  <a:pt x="764" y="191"/>
                  <a:pt x="768" y="196"/>
                  <a:pt x="771" y="202"/>
                </a:cubicBezTo>
                <a:cubicBezTo>
                  <a:pt x="775" y="200"/>
                  <a:pt x="775" y="200"/>
                  <a:pt x="775" y="200"/>
                </a:cubicBezTo>
                <a:cubicBezTo>
                  <a:pt x="774" y="198"/>
                  <a:pt x="773" y="197"/>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72" y="195"/>
                  <a:pt x="772" y="195"/>
                  <a:pt x="772" y="195"/>
                </a:cubicBezTo>
                <a:cubicBezTo>
                  <a:pt x="769" y="191"/>
                  <a:pt x="767" y="187"/>
                  <a:pt x="764" y="183"/>
                </a:cubicBezTo>
                <a:cubicBezTo>
                  <a:pt x="764" y="183"/>
                  <a:pt x="764" y="183"/>
                  <a:pt x="764" y="183"/>
                </a:cubicBezTo>
                <a:close/>
                <a:moveTo>
                  <a:pt x="740" y="151"/>
                </a:moveTo>
                <a:cubicBezTo>
                  <a:pt x="737" y="154"/>
                  <a:pt x="737" y="154"/>
                  <a:pt x="737" y="154"/>
                </a:cubicBezTo>
                <a:cubicBezTo>
                  <a:pt x="741" y="159"/>
                  <a:pt x="745" y="164"/>
                  <a:pt x="749" y="169"/>
                </a:cubicBezTo>
                <a:cubicBezTo>
                  <a:pt x="752" y="167"/>
                  <a:pt x="752" y="167"/>
                  <a:pt x="752" y="167"/>
                </a:cubicBezTo>
                <a:cubicBezTo>
                  <a:pt x="751" y="165"/>
                  <a:pt x="750" y="163"/>
                  <a:pt x="748" y="162"/>
                </a:cubicBezTo>
                <a:cubicBezTo>
                  <a:pt x="748" y="162"/>
                  <a:pt x="748" y="162"/>
                  <a:pt x="748" y="162"/>
                </a:cubicBezTo>
                <a:cubicBezTo>
                  <a:pt x="748" y="162"/>
                  <a:pt x="748" y="162"/>
                  <a:pt x="748" y="162"/>
                </a:cubicBezTo>
                <a:cubicBezTo>
                  <a:pt x="748" y="162"/>
                  <a:pt x="748" y="162"/>
                  <a:pt x="748" y="162"/>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8" y="161"/>
                  <a:pt x="748" y="161"/>
                  <a:pt x="748" y="161"/>
                </a:cubicBezTo>
                <a:cubicBezTo>
                  <a:pt x="747" y="161"/>
                  <a:pt x="747" y="161"/>
                  <a:pt x="747" y="161"/>
                </a:cubicBezTo>
                <a:cubicBezTo>
                  <a:pt x="747" y="161"/>
                  <a:pt x="747" y="161"/>
                  <a:pt x="747" y="161"/>
                </a:cubicBezTo>
                <a:cubicBezTo>
                  <a:pt x="747" y="161"/>
                  <a:pt x="747" y="161"/>
                  <a:pt x="747" y="161"/>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60"/>
                  <a:pt x="747" y="160"/>
                  <a:pt x="747" y="160"/>
                </a:cubicBezTo>
                <a:cubicBezTo>
                  <a:pt x="747" y="159"/>
                  <a:pt x="747" y="159"/>
                  <a:pt x="747" y="159"/>
                </a:cubicBezTo>
                <a:cubicBezTo>
                  <a:pt x="747" y="159"/>
                  <a:pt x="747" y="159"/>
                  <a:pt x="747" y="159"/>
                </a:cubicBezTo>
                <a:cubicBezTo>
                  <a:pt x="747"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9"/>
                  <a:pt x="746" y="159"/>
                  <a:pt x="746" y="159"/>
                </a:cubicBezTo>
                <a:cubicBezTo>
                  <a:pt x="746" y="158"/>
                  <a:pt x="746" y="158"/>
                  <a:pt x="746" y="158"/>
                </a:cubicBezTo>
                <a:cubicBezTo>
                  <a:pt x="746" y="158"/>
                  <a:pt x="746" y="158"/>
                  <a:pt x="746" y="158"/>
                </a:cubicBezTo>
                <a:cubicBezTo>
                  <a:pt x="744" y="156"/>
                  <a:pt x="742" y="153"/>
                  <a:pt x="740" y="151"/>
                </a:cubicBezTo>
                <a:close/>
                <a:moveTo>
                  <a:pt x="713" y="122"/>
                </a:moveTo>
                <a:cubicBezTo>
                  <a:pt x="710" y="124"/>
                  <a:pt x="710" y="124"/>
                  <a:pt x="710" y="124"/>
                </a:cubicBezTo>
                <a:cubicBezTo>
                  <a:pt x="715" y="129"/>
                  <a:pt x="719" y="134"/>
                  <a:pt x="724" y="139"/>
                </a:cubicBezTo>
                <a:cubicBezTo>
                  <a:pt x="727" y="136"/>
                  <a:pt x="727" y="136"/>
                  <a:pt x="727" y="136"/>
                </a:cubicBezTo>
                <a:cubicBezTo>
                  <a:pt x="726" y="135"/>
                  <a:pt x="725" y="134"/>
                  <a:pt x="724" y="133"/>
                </a:cubicBezTo>
                <a:cubicBezTo>
                  <a:pt x="724" y="133"/>
                  <a:pt x="724" y="133"/>
                  <a:pt x="724" y="133"/>
                </a:cubicBezTo>
                <a:cubicBezTo>
                  <a:pt x="724" y="133"/>
                  <a:pt x="724" y="133"/>
                  <a:pt x="723" y="133"/>
                </a:cubicBezTo>
                <a:cubicBezTo>
                  <a:pt x="723" y="133"/>
                  <a:pt x="723" y="133"/>
                  <a:pt x="723" y="133"/>
                </a:cubicBezTo>
                <a:cubicBezTo>
                  <a:pt x="723" y="133"/>
                  <a:pt x="723" y="133"/>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3" y="132"/>
                  <a:pt x="723" y="132"/>
                  <a:pt x="723" y="132"/>
                </a:cubicBezTo>
                <a:cubicBezTo>
                  <a:pt x="722" y="132"/>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1"/>
                  <a:pt x="722" y="131"/>
                  <a:pt x="722" y="131"/>
                </a:cubicBezTo>
                <a:cubicBezTo>
                  <a:pt x="722"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30"/>
                </a:cubicBezTo>
                <a:cubicBezTo>
                  <a:pt x="721" y="130"/>
                  <a:pt x="721" y="130"/>
                  <a:pt x="721" y="129"/>
                </a:cubicBezTo>
                <a:cubicBezTo>
                  <a:pt x="721" y="129"/>
                  <a:pt x="721" y="129"/>
                  <a:pt x="721"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9"/>
                  <a:pt x="720" y="129"/>
                </a:cubicBezTo>
                <a:cubicBezTo>
                  <a:pt x="720" y="129"/>
                  <a:pt x="720" y="128"/>
                  <a:pt x="720" y="128"/>
                </a:cubicBezTo>
                <a:cubicBezTo>
                  <a:pt x="720" y="128"/>
                  <a:pt x="720" y="128"/>
                  <a:pt x="720" y="128"/>
                </a:cubicBezTo>
                <a:cubicBezTo>
                  <a:pt x="720"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8"/>
                  <a:pt x="719" y="128"/>
                </a:cubicBezTo>
                <a:cubicBezTo>
                  <a:pt x="719" y="128"/>
                  <a:pt x="719" y="127"/>
                  <a:pt x="719" y="127"/>
                </a:cubicBezTo>
                <a:cubicBezTo>
                  <a:pt x="719" y="127"/>
                  <a:pt x="719" y="127"/>
                  <a:pt x="719" y="127"/>
                </a:cubicBezTo>
                <a:cubicBezTo>
                  <a:pt x="719" y="127"/>
                  <a:pt x="719"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7"/>
                  <a:pt x="718" y="127"/>
                  <a:pt x="718" y="127"/>
                </a:cubicBezTo>
                <a:cubicBezTo>
                  <a:pt x="718" y="126"/>
                  <a:pt x="718" y="126"/>
                  <a:pt x="718" y="126"/>
                </a:cubicBezTo>
                <a:cubicBezTo>
                  <a:pt x="718" y="126"/>
                  <a:pt x="718" y="126"/>
                  <a:pt x="718" y="126"/>
                </a:cubicBezTo>
                <a:cubicBezTo>
                  <a:pt x="718" y="126"/>
                  <a:pt x="718" y="126"/>
                  <a:pt x="718"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6"/>
                  <a:pt x="717" y="126"/>
                  <a:pt x="717" y="126"/>
                </a:cubicBezTo>
                <a:cubicBezTo>
                  <a:pt x="717" y="125"/>
                  <a:pt x="717" y="125"/>
                  <a:pt x="717" y="125"/>
                </a:cubicBezTo>
                <a:cubicBezTo>
                  <a:pt x="717" y="125"/>
                  <a:pt x="717" y="125"/>
                  <a:pt x="717" y="125"/>
                </a:cubicBezTo>
                <a:cubicBezTo>
                  <a:pt x="717" y="125"/>
                  <a:pt x="717" y="125"/>
                  <a:pt x="717" y="125"/>
                </a:cubicBezTo>
                <a:cubicBezTo>
                  <a:pt x="717" y="125"/>
                  <a:pt x="717"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5"/>
                </a:cubicBezTo>
                <a:cubicBezTo>
                  <a:pt x="716" y="125"/>
                  <a:pt x="716" y="125"/>
                  <a:pt x="716" y="124"/>
                </a:cubicBezTo>
                <a:cubicBezTo>
                  <a:pt x="716" y="124"/>
                  <a:pt x="716" y="124"/>
                  <a:pt x="716" y="124"/>
                </a:cubicBezTo>
                <a:cubicBezTo>
                  <a:pt x="716" y="124"/>
                  <a:pt x="716" y="124"/>
                  <a:pt x="716" y="124"/>
                </a:cubicBezTo>
                <a:cubicBezTo>
                  <a:pt x="716" y="124"/>
                  <a:pt x="716" y="124"/>
                  <a:pt x="716" y="124"/>
                </a:cubicBezTo>
                <a:cubicBezTo>
                  <a:pt x="716" y="124"/>
                  <a:pt x="716"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4"/>
                </a:cubicBezTo>
                <a:cubicBezTo>
                  <a:pt x="715" y="124"/>
                  <a:pt x="715" y="124"/>
                  <a:pt x="715" y="123"/>
                </a:cubicBezTo>
                <a:cubicBezTo>
                  <a:pt x="715" y="123"/>
                  <a:pt x="715" y="123"/>
                  <a:pt x="715" y="123"/>
                </a:cubicBezTo>
                <a:cubicBezTo>
                  <a:pt x="715" y="123"/>
                  <a:pt x="715" y="123"/>
                  <a:pt x="715" y="123"/>
                </a:cubicBezTo>
                <a:cubicBezTo>
                  <a:pt x="715" y="123"/>
                  <a:pt x="715" y="123"/>
                  <a:pt x="715" y="123"/>
                </a:cubicBezTo>
                <a:cubicBezTo>
                  <a:pt x="715" y="123"/>
                  <a:pt x="715"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3"/>
                </a:cubicBezTo>
                <a:cubicBezTo>
                  <a:pt x="714" y="123"/>
                  <a:pt x="714" y="123"/>
                  <a:pt x="714" y="122"/>
                </a:cubicBezTo>
                <a:cubicBezTo>
                  <a:pt x="714" y="122"/>
                  <a:pt x="714" y="122"/>
                  <a:pt x="714" y="122"/>
                </a:cubicBezTo>
                <a:cubicBezTo>
                  <a:pt x="714" y="122"/>
                  <a:pt x="714" y="122"/>
                  <a:pt x="714" y="122"/>
                </a:cubicBezTo>
                <a:cubicBezTo>
                  <a:pt x="714" y="122"/>
                  <a:pt x="714" y="122"/>
                  <a:pt x="714" y="122"/>
                </a:cubicBezTo>
                <a:cubicBezTo>
                  <a:pt x="714" y="122"/>
                  <a:pt x="714"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ubicBezTo>
                  <a:pt x="713" y="122"/>
                  <a:pt x="713" y="122"/>
                  <a:pt x="713" y="122"/>
                </a:cubicBezTo>
                <a:close/>
                <a:moveTo>
                  <a:pt x="683" y="95"/>
                </a:moveTo>
                <a:cubicBezTo>
                  <a:pt x="681" y="98"/>
                  <a:pt x="681" y="98"/>
                  <a:pt x="681" y="98"/>
                </a:cubicBezTo>
                <a:cubicBezTo>
                  <a:pt x="686" y="102"/>
                  <a:pt x="691" y="106"/>
                  <a:pt x="696" y="111"/>
                </a:cubicBezTo>
                <a:cubicBezTo>
                  <a:pt x="698" y="108"/>
                  <a:pt x="698" y="108"/>
                  <a:pt x="698" y="108"/>
                </a:cubicBezTo>
                <a:cubicBezTo>
                  <a:pt x="698" y="108"/>
                  <a:pt x="698" y="108"/>
                  <a:pt x="698" y="108"/>
                </a:cubicBezTo>
                <a:cubicBezTo>
                  <a:pt x="698" y="108"/>
                  <a:pt x="698" y="108"/>
                  <a:pt x="698" y="108"/>
                </a:cubicBezTo>
                <a:cubicBezTo>
                  <a:pt x="698" y="108"/>
                  <a:pt x="698" y="108"/>
                  <a:pt x="698" y="108"/>
                </a:cubicBezTo>
                <a:cubicBezTo>
                  <a:pt x="698" y="108"/>
                  <a:pt x="698" y="108"/>
                  <a:pt x="698" y="108"/>
                </a:cubicBezTo>
                <a:cubicBezTo>
                  <a:pt x="698" y="108"/>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8" y="107"/>
                  <a:pt x="698" y="107"/>
                </a:cubicBezTo>
                <a:cubicBezTo>
                  <a:pt x="698" y="107"/>
                  <a:pt x="697" y="107"/>
                  <a:pt x="697" y="107"/>
                </a:cubicBezTo>
                <a:cubicBezTo>
                  <a:pt x="697" y="107"/>
                  <a:pt x="697" y="107"/>
                  <a:pt x="697" y="107"/>
                </a:cubicBezTo>
                <a:cubicBezTo>
                  <a:pt x="697" y="107"/>
                  <a:pt x="697" y="107"/>
                  <a:pt x="697" y="107"/>
                </a:cubicBezTo>
                <a:cubicBezTo>
                  <a:pt x="697" y="107"/>
                  <a:pt x="697" y="107"/>
                  <a:pt x="697" y="107"/>
                </a:cubicBezTo>
                <a:cubicBezTo>
                  <a:pt x="696" y="105"/>
                  <a:pt x="694" y="104"/>
                  <a:pt x="692" y="103"/>
                </a:cubicBezTo>
                <a:cubicBezTo>
                  <a:pt x="692" y="103"/>
                  <a:pt x="692" y="103"/>
                  <a:pt x="692" y="103"/>
                </a:cubicBezTo>
                <a:cubicBezTo>
                  <a:pt x="692" y="103"/>
                  <a:pt x="692" y="103"/>
                  <a:pt x="692" y="103"/>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2" y="102"/>
                </a:cubicBezTo>
                <a:cubicBezTo>
                  <a:pt x="692" y="102"/>
                  <a:pt x="692"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2"/>
                </a:cubicBezTo>
                <a:cubicBezTo>
                  <a:pt x="691" y="102"/>
                  <a:pt x="691" y="102"/>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1" y="101"/>
                </a:cubicBezTo>
                <a:cubicBezTo>
                  <a:pt x="691" y="101"/>
                  <a:pt x="691"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1"/>
                </a:cubicBezTo>
                <a:cubicBezTo>
                  <a:pt x="690" y="101"/>
                  <a:pt x="690" y="101"/>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90" y="100"/>
                </a:cubicBezTo>
                <a:cubicBezTo>
                  <a:pt x="690" y="100"/>
                  <a:pt x="690"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100"/>
                  <a:pt x="689" y="100"/>
                </a:cubicBezTo>
                <a:cubicBezTo>
                  <a:pt x="689" y="100"/>
                  <a:pt x="689" y="99"/>
                  <a:pt x="689" y="99"/>
                </a:cubicBezTo>
                <a:cubicBezTo>
                  <a:pt x="689" y="99"/>
                  <a:pt x="689" y="99"/>
                  <a:pt x="689" y="99"/>
                </a:cubicBezTo>
                <a:cubicBezTo>
                  <a:pt x="689" y="99"/>
                  <a:pt x="689" y="99"/>
                  <a:pt x="689" y="99"/>
                </a:cubicBezTo>
                <a:cubicBezTo>
                  <a:pt x="689" y="99"/>
                  <a:pt x="689" y="99"/>
                  <a:pt x="689" y="99"/>
                </a:cubicBezTo>
                <a:cubicBezTo>
                  <a:pt x="689" y="99"/>
                  <a:pt x="689" y="99"/>
                  <a:pt x="689" y="99"/>
                </a:cubicBezTo>
                <a:cubicBezTo>
                  <a:pt x="689"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9"/>
                </a:cubicBezTo>
                <a:cubicBezTo>
                  <a:pt x="688" y="99"/>
                  <a:pt x="688" y="99"/>
                  <a:pt x="688" y="98"/>
                </a:cubicBezTo>
                <a:cubicBezTo>
                  <a:pt x="688" y="98"/>
                  <a:pt x="688" y="98"/>
                  <a:pt x="688" y="98"/>
                </a:cubicBezTo>
                <a:cubicBezTo>
                  <a:pt x="688" y="98"/>
                  <a:pt x="688"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7" y="98"/>
                  <a:pt x="687" y="98"/>
                  <a:pt x="687" y="98"/>
                </a:cubicBezTo>
                <a:cubicBezTo>
                  <a:pt x="686" y="98"/>
                  <a:pt x="686" y="98"/>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6" y="97"/>
                  <a:pt x="686" y="97"/>
                </a:cubicBezTo>
                <a:cubicBezTo>
                  <a:pt x="686" y="97"/>
                  <a:pt x="685" y="97"/>
                  <a:pt x="685" y="97"/>
                </a:cubicBezTo>
                <a:cubicBezTo>
                  <a:pt x="685" y="97"/>
                  <a:pt x="685" y="97"/>
                  <a:pt x="685" y="97"/>
                </a:cubicBezTo>
                <a:cubicBezTo>
                  <a:pt x="685" y="97"/>
                  <a:pt x="685" y="97"/>
                  <a:pt x="685" y="97"/>
                </a:cubicBezTo>
                <a:cubicBezTo>
                  <a:pt x="685" y="97"/>
                  <a:pt x="685" y="97"/>
                  <a:pt x="685" y="97"/>
                </a:cubicBezTo>
                <a:cubicBezTo>
                  <a:pt x="685" y="97"/>
                  <a:pt x="685" y="97"/>
                  <a:pt x="685" y="97"/>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5" y="96"/>
                  <a:pt x="685" y="96"/>
                  <a:pt x="685" y="96"/>
                </a:cubicBezTo>
                <a:cubicBezTo>
                  <a:pt x="684" y="96"/>
                  <a:pt x="684" y="95"/>
                  <a:pt x="683" y="95"/>
                </a:cubicBezTo>
                <a:close/>
                <a:moveTo>
                  <a:pt x="651" y="71"/>
                </a:moveTo>
                <a:cubicBezTo>
                  <a:pt x="649" y="74"/>
                  <a:pt x="649" y="74"/>
                  <a:pt x="649" y="74"/>
                </a:cubicBezTo>
                <a:cubicBezTo>
                  <a:pt x="654" y="78"/>
                  <a:pt x="660" y="82"/>
                  <a:pt x="665" y="86"/>
                </a:cubicBezTo>
                <a:cubicBezTo>
                  <a:pt x="667" y="82"/>
                  <a:pt x="667" y="82"/>
                  <a:pt x="667" y="82"/>
                </a:cubicBezTo>
                <a:cubicBezTo>
                  <a:pt x="664" y="80"/>
                  <a:pt x="660" y="77"/>
                  <a:pt x="656" y="74"/>
                </a:cubicBezTo>
                <a:cubicBezTo>
                  <a:pt x="656" y="74"/>
                  <a:pt x="656" y="74"/>
                  <a:pt x="656" y="74"/>
                </a:cubicBezTo>
                <a:cubicBezTo>
                  <a:pt x="656" y="74"/>
                  <a:pt x="656" y="74"/>
                  <a:pt x="656" y="74"/>
                </a:cubicBezTo>
                <a:cubicBezTo>
                  <a:pt x="656" y="74"/>
                  <a:pt x="656" y="74"/>
                  <a:pt x="656" y="74"/>
                </a:cubicBezTo>
                <a:cubicBezTo>
                  <a:pt x="656" y="74"/>
                  <a:pt x="656" y="74"/>
                  <a:pt x="656" y="74"/>
                </a:cubicBezTo>
                <a:cubicBezTo>
                  <a:pt x="656" y="74"/>
                  <a:pt x="656" y="74"/>
                  <a:pt x="656"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4"/>
                  <a:pt x="655" y="74"/>
                </a:cubicBezTo>
                <a:cubicBezTo>
                  <a:pt x="655" y="74"/>
                  <a:pt x="655" y="73"/>
                  <a:pt x="655" y="73"/>
                </a:cubicBezTo>
                <a:cubicBezTo>
                  <a:pt x="655" y="73"/>
                  <a:pt x="655" y="73"/>
                  <a:pt x="655" y="73"/>
                </a:cubicBezTo>
                <a:cubicBezTo>
                  <a:pt x="655" y="73"/>
                  <a:pt x="655" y="73"/>
                  <a:pt x="655" y="73"/>
                </a:cubicBezTo>
                <a:cubicBezTo>
                  <a:pt x="655" y="73"/>
                  <a:pt x="655" y="73"/>
                  <a:pt x="655" y="73"/>
                </a:cubicBezTo>
                <a:cubicBezTo>
                  <a:pt x="655" y="73"/>
                  <a:pt x="655" y="73"/>
                  <a:pt x="655" y="73"/>
                </a:cubicBezTo>
                <a:cubicBezTo>
                  <a:pt x="655" y="73"/>
                  <a:pt x="655" y="73"/>
                  <a:pt x="655"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4" y="73"/>
                  <a:pt x="654" y="73"/>
                  <a:pt x="654" y="73"/>
                </a:cubicBezTo>
                <a:cubicBezTo>
                  <a:pt x="653" y="72"/>
                  <a:pt x="652" y="72"/>
                  <a:pt x="651" y="71"/>
                </a:cubicBezTo>
                <a:close/>
                <a:moveTo>
                  <a:pt x="617" y="50"/>
                </a:moveTo>
                <a:cubicBezTo>
                  <a:pt x="615" y="54"/>
                  <a:pt x="615" y="54"/>
                  <a:pt x="615" y="54"/>
                </a:cubicBezTo>
                <a:cubicBezTo>
                  <a:pt x="621" y="57"/>
                  <a:pt x="626" y="60"/>
                  <a:pt x="632" y="64"/>
                </a:cubicBezTo>
                <a:cubicBezTo>
                  <a:pt x="634" y="60"/>
                  <a:pt x="634" y="60"/>
                  <a:pt x="634" y="60"/>
                </a:cubicBezTo>
                <a:cubicBezTo>
                  <a:pt x="630" y="57"/>
                  <a:pt x="625" y="55"/>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1" y="52"/>
                  <a:pt x="621" y="52"/>
                  <a:pt x="621"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20" y="52"/>
                  <a:pt x="620" y="52"/>
                  <a:pt x="620" y="52"/>
                </a:cubicBezTo>
                <a:cubicBezTo>
                  <a:pt x="619" y="51"/>
                  <a:pt x="618" y="51"/>
                  <a:pt x="617" y="50"/>
                </a:cubicBezTo>
                <a:close/>
                <a:moveTo>
                  <a:pt x="581" y="33"/>
                </a:moveTo>
                <a:cubicBezTo>
                  <a:pt x="579" y="37"/>
                  <a:pt x="579" y="37"/>
                  <a:pt x="579" y="37"/>
                </a:cubicBezTo>
                <a:cubicBezTo>
                  <a:pt x="585" y="39"/>
                  <a:pt x="591" y="42"/>
                  <a:pt x="597" y="45"/>
                </a:cubicBezTo>
                <a:cubicBezTo>
                  <a:pt x="599" y="41"/>
                  <a:pt x="599" y="41"/>
                  <a:pt x="599" y="41"/>
                </a:cubicBezTo>
                <a:cubicBezTo>
                  <a:pt x="593" y="38"/>
                  <a:pt x="587" y="35"/>
                  <a:pt x="581" y="33"/>
                </a:cubicBezTo>
                <a:close/>
                <a:moveTo>
                  <a:pt x="543" y="19"/>
                </a:moveTo>
                <a:cubicBezTo>
                  <a:pt x="542" y="23"/>
                  <a:pt x="542" y="23"/>
                  <a:pt x="542" y="23"/>
                </a:cubicBezTo>
                <a:cubicBezTo>
                  <a:pt x="548" y="25"/>
                  <a:pt x="555" y="27"/>
                  <a:pt x="561" y="29"/>
                </a:cubicBezTo>
                <a:cubicBezTo>
                  <a:pt x="562" y="26"/>
                  <a:pt x="562" y="26"/>
                  <a:pt x="562" y="26"/>
                </a:cubicBezTo>
                <a:cubicBezTo>
                  <a:pt x="562" y="25"/>
                  <a:pt x="562" y="26"/>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2" y="25"/>
                </a:cubicBezTo>
                <a:cubicBezTo>
                  <a:pt x="562" y="25"/>
                  <a:pt x="562"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61" y="25"/>
                  <a:pt x="561" y="25"/>
                  <a:pt x="561" y="25"/>
                </a:cubicBezTo>
                <a:cubicBezTo>
                  <a:pt x="557" y="24"/>
                  <a:pt x="553" y="22"/>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9" y="21"/>
                </a:cubicBezTo>
                <a:cubicBezTo>
                  <a:pt x="549" y="21"/>
                  <a:pt x="549"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1"/>
                </a:cubicBezTo>
                <a:cubicBezTo>
                  <a:pt x="548" y="21"/>
                  <a:pt x="548" y="21"/>
                  <a:pt x="548" y="20"/>
                </a:cubicBezTo>
                <a:cubicBezTo>
                  <a:pt x="548" y="20"/>
                  <a:pt x="548" y="20"/>
                  <a:pt x="548" y="20"/>
                </a:cubicBezTo>
                <a:cubicBezTo>
                  <a:pt x="548" y="20"/>
                  <a:pt x="548" y="20"/>
                  <a:pt x="548" y="20"/>
                </a:cubicBezTo>
                <a:cubicBezTo>
                  <a:pt x="548" y="20"/>
                  <a:pt x="548"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7" y="20"/>
                  <a:pt x="547" y="20"/>
                  <a:pt x="547" y="20"/>
                </a:cubicBezTo>
                <a:cubicBezTo>
                  <a:pt x="546" y="20"/>
                  <a:pt x="544" y="19"/>
                  <a:pt x="543" y="19"/>
                </a:cubicBezTo>
                <a:close/>
                <a:moveTo>
                  <a:pt x="505" y="9"/>
                </a:moveTo>
                <a:cubicBezTo>
                  <a:pt x="504" y="13"/>
                  <a:pt x="504" y="13"/>
                  <a:pt x="504" y="13"/>
                </a:cubicBezTo>
                <a:cubicBezTo>
                  <a:pt x="510" y="14"/>
                  <a:pt x="517" y="16"/>
                  <a:pt x="523" y="17"/>
                </a:cubicBezTo>
                <a:cubicBezTo>
                  <a:pt x="524" y="14"/>
                  <a:pt x="524" y="14"/>
                  <a:pt x="524" y="14"/>
                </a:cubicBezTo>
                <a:cubicBezTo>
                  <a:pt x="519" y="12"/>
                  <a:pt x="514" y="11"/>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8" y="10"/>
                  <a:pt x="508" y="10"/>
                  <a:pt x="508" y="10"/>
                </a:cubicBezTo>
                <a:cubicBezTo>
                  <a:pt x="507" y="10"/>
                  <a:pt x="507" y="10"/>
                  <a:pt x="507" y="10"/>
                </a:cubicBezTo>
                <a:cubicBezTo>
                  <a:pt x="507" y="10"/>
                  <a:pt x="507" y="10"/>
                  <a:pt x="507" y="10"/>
                </a:cubicBezTo>
                <a:cubicBezTo>
                  <a:pt x="507" y="10"/>
                  <a:pt x="507" y="10"/>
                  <a:pt x="507" y="10"/>
                </a:cubicBezTo>
                <a:cubicBezTo>
                  <a:pt x="507" y="10"/>
                  <a:pt x="507" y="10"/>
                  <a:pt x="507" y="10"/>
                </a:cubicBezTo>
                <a:cubicBezTo>
                  <a:pt x="506" y="9"/>
                  <a:pt x="505" y="9"/>
                  <a:pt x="505" y="9"/>
                </a:cubicBezTo>
                <a:close/>
                <a:moveTo>
                  <a:pt x="465" y="3"/>
                </a:moveTo>
                <a:cubicBezTo>
                  <a:pt x="465" y="7"/>
                  <a:pt x="465" y="7"/>
                  <a:pt x="465" y="7"/>
                </a:cubicBezTo>
                <a:cubicBezTo>
                  <a:pt x="471" y="7"/>
                  <a:pt x="478" y="8"/>
                  <a:pt x="484" y="9"/>
                </a:cubicBezTo>
                <a:cubicBezTo>
                  <a:pt x="485" y="5"/>
                  <a:pt x="485" y="5"/>
                  <a:pt x="485" y="5"/>
                </a:cubicBezTo>
                <a:cubicBezTo>
                  <a:pt x="478" y="4"/>
                  <a:pt x="472" y="3"/>
                  <a:pt x="465" y="3"/>
                </a:cubicBezTo>
                <a:close/>
                <a:moveTo>
                  <a:pt x="425" y="0"/>
                </a:moveTo>
                <a:cubicBezTo>
                  <a:pt x="425" y="4"/>
                  <a:pt x="425" y="4"/>
                  <a:pt x="425" y="4"/>
                </a:cubicBezTo>
                <a:cubicBezTo>
                  <a:pt x="432" y="4"/>
                  <a:pt x="438" y="4"/>
                  <a:pt x="445" y="5"/>
                </a:cubicBezTo>
                <a:cubicBezTo>
                  <a:pt x="445" y="1"/>
                  <a:pt x="445" y="1"/>
                  <a:pt x="445" y="1"/>
                </a:cubicBezTo>
                <a:cubicBezTo>
                  <a:pt x="440" y="1"/>
                  <a:pt x="434"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9" y="0"/>
                  <a:pt x="429" y="0"/>
                  <a:pt x="429"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8" y="0"/>
                  <a:pt x="428" y="0"/>
                  <a:pt x="428"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7" y="0"/>
                  <a:pt x="427" y="0"/>
                </a:cubicBezTo>
                <a:cubicBezTo>
                  <a:pt x="427" y="0"/>
                  <a:pt x="426" y="0"/>
                  <a:pt x="426" y="0"/>
                </a:cubicBezTo>
                <a:cubicBezTo>
                  <a:pt x="426" y="0"/>
                  <a:pt x="426" y="0"/>
                  <a:pt x="426" y="0"/>
                </a:cubicBezTo>
                <a:cubicBezTo>
                  <a:pt x="426" y="0"/>
                  <a:pt x="426" y="0"/>
                  <a:pt x="426" y="0"/>
                </a:cubicBezTo>
                <a:cubicBezTo>
                  <a:pt x="426" y="0"/>
                  <a:pt x="426" y="0"/>
                  <a:pt x="426" y="0"/>
                </a:cubicBezTo>
                <a:cubicBezTo>
                  <a:pt x="426" y="0"/>
                  <a:pt x="426" y="0"/>
                  <a:pt x="425"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7" name="Freeform 1034"/>
          <p:cNvSpPr/>
          <p:nvPr/>
        </p:nvSpPr>
        <p:spPr>
          <a:xfrm>
            <a:off x="3733920" y="4857840"/>
            <a:ext cx="7053120" cy="7053120"/>
          </a:xfrm>
          <a:custGeom>
            <a:avLst/>
            <a:gdLst/>
            <a:ahLst/>
            <a:rect l="l" t="t" r="r" b="b"/>
            <a:pathLst>
              <a:path w="732" h="732">
                <a:moveTo>
                  <a:pt x="366" y="0"/>
                </a:moveTo>
                <a:cubicBezTo>
                  <a:pt x="366" y="0"/>
                  <a:pt x="366" y="0"/>
                  <a:pt x="366" y="0"/>
                </a:cubicBezTo>
                <a:cubicBezTo>
                  <a:pt x="366" y="0"/>
                  <a:pt x="366" y="0"/>
                  <a:pt x="366" y="0"/>
                </a:cubicBezTo>
                <a:cubicBezTo>
                  <a:pt x="366" y="0"/>
                  <a:pt x="366" y="0"/>
                  <a:pt x="366" y="0"/>
                </a:cubicBezTo>
                <a:cubicBezTo>
                  <a:pt x="366" y="0"/>
                  <a:pt x="366" y="0"/>
                  <a:pt x="366" y="0"/>
                </a:cubicBezTo>
                <a:cubicBezTo>
                  <a:pt x="366" y="0"/>
                  <a:pt x="366" y="0"/>
                  <a:pt x="366" y="0"/>
                </a:cubicBezTo>
                <a:cubicBezTo>
                  <a:pt x="366" y="0"/>
                  <a:pt x="366" y="0"/>
                  <a:pt x="366" y="0"/>
                </a:cubicBezTo>
                <a:cubicBezTo>
                  <a:pt x="366"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5" y="0"/>
                  <a:pt x="365" y="0"/>
                </a:cubicBezTo>
                <a:cubicBezTo>
                  <a:pt x="365"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4" y="0"/>
                  <a:pt x="364" y="0"/>
                  <a:pt x="364"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3" y="0"/>
                </a:cubicBezTo>
                <a:cubicBezTo>
                  <a:pt x="363" y="0"/>
                  <a:pt x="363"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2" y="0"/>
                  <a:pt x="362" y="0"/>
                  <a:pt x="362"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1" y="0"/>
                  <a:pt x="361" y="0"/>
                </a:cubicBezTo>
                <a:cubicBezTo>
                  <a:pt x="361"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60" y="0"/>
                </a:cubicBezTo>
                <a:cubicBezTo>
                  <a:pt x="360" y="0"/>
                  <a:pt x="360" y="0"/>
                  <a:pt x="359" y="0"/>
                </a:cubicBezTo>
                <a:cubicBezTo>
                  <a:pt x="359" y="0"/>
                  <a:pt x="359" y="0"/>
                  <a:pt x="359" y="0"/>
                </a:cubicBezTo>
                <a:cubicBezTo>
                  <a:pt x="359" y="0"/>
                  <a:pt x="359" y="0"/>
                  <a:pt x="359" y="0"/>
                </a:cubicBezTo>
                <a:cubicBezTo>
                  <a:pt x="359" y="0"/>
                  <a:pt x="359" y="0"/>
                  <a:pt x="359" y="0"/>
                </a:cubicBezTo>
                <a:cubicBezTo>
                  <a:pt x="359" y="0"/>
                  <a:pt x="359" y="0"/>
                  <a:pt x="359" y="0"/>
                </a:cubicBezTo>
                <a:cubicBezTo>
                  <a:pt x="359" y="0"/>
                  <a:pt x="359" y="0"/>
                  <a:pt x="359" y="0"/>
                </a:cubicBezTo>
                <a:cubicBezTo>
                  <a:pt x="355" y="0"/>
                  <a:pt x="350" y="1"/>
                  <a:pt x="346" y="1"/>
                </a:cubicBezTo>
                <a:cubicBezTo>
                  <a:pt x="346" y="5"/>
                  <a:pt x="346" y="5"/>
                  <a:pt x="346" y="5"/>
                </a:cubicBezTo>
                <a:cubicBezTo>
                  <a:pt x="353" y="4"/>
                  <a:pt x="359" y="4"/>
                  <a:pt x="366" y="4"/>
                </a:cubicBezTo>
                <a:cubicBezTo>
                  <a:pt x="366" y="0"/>
                  <a:pt x="366" y="0"/>
                  <a:pt x="366" y="0"/>
                </a:cubicBezTo>
                <a:cubicBezTo>
                  <a:pt x="366" y="0"/>
                  <a:pt x="366" y="0"/>
                  <a:pt x="366" y="0"/>
                </a:cubicBezTo>
                <a:close/>
                <a:moveTo>
                  <a:pt x="326" y="2"/>
                </a:moveTo>
                <a:cubicBezTo>
                  <a:pt x="322" y="3"/>
                  <a:pt x="318" y="3"/>
                  <a:pt x="314" y="4"/>
                </a:cubicBezTo>
                <a:cubicBezTo>
                  <a:pt x="314" y="4"/>
                  <a:pt x="314" y="4"/>
                  <a:pt x="314" y="4"/>
                </a:cubicBezTo>
                <a:cubicBezTo>
                  <a:pt x="314" y="4"/>
                  <a:pt x="314" y="4"/>
                  <a:pt x="314" y="4"/>
                </a:cubicBezTo>
                <a:cubicBezTo>
                  <a:pt x="314" y="4"/>
                  <a:pt x="314" y="4"/>
                  <a:pt x="314" y="4"/>
                </a:cubicBezTo>
                <a:cubicBezTo>
                  <a:pt x="314" y="4"/>
                  <a:pt x="314" y="4"/>
                  <a:pt x="314" y="4"/>
                </a:cubicBezTo>
                <a:cubicBezTo>
                  <a:pt x="314" y="4"/>
                  <a:pt x="314" y="4"/>
                  <a:pt x="314" y="4"/>
                </a:cubicBezTo>
                <a:cubicBezTo>
                  <a:pt x="314"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3" y="4"/>
                </a:cubicBezTo>
                <a:cubicBezTo>
                  <a:pt x="313" y="4"/>
                  <a:pt x="313"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2" y="4"/>
                  <a:pt x="312" y="4"/>
                  <a:pt x="312"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1" y="4"/>
                </a:cubicBezTo>
                <a:cubicBezTo>
                  <a:pt x="311" y="4"/>
                  <a:pt x="311" y="4"/>
                  <a:pt x="310" y="4"/>
                </a:cubicBezTo>
                <a:cubicBezTo>
                  <a:pt x="310" y="4"/>
                  <a:pt x="310" y="4"/>
                  <a:pt x="310" y="4"/>
                </a:cubicBezTo>
                <a:cubicBezTo>
                  <a:pt x="310" y="4"/>
                  <a:pt x="310" y="4"/>
                  <a:pt x="310" y="5"/>
                </a:cubicBezTo>
                <a:cubicBezTo>
                  <a:pt x="310" y="5"/>
                  <a:pt x="310" y="5"/>
                  <a:pt x="310" y="5"/>
                </a:cubicBezTo>
                <a:cubicBezTo>
                  <a:pt x="310" y="5"/>
                  <a:pt x="310" y="5"/>
                  <a:pt x="310" y="5"/>
                </a:cubicBezTo>
                <a:cubicBezTo>
                  <a:pt x="310" y="5"/>
                  <a:pt x="310" y="5"/>
                  <a:pt x="310" y="5"/>
                </a:cubicBezTo>
                <a:cubicBezTo>
                  <a:pt x="309" y="5"/>
                  <a:pt x="308" y="5"/>
                  <a:pt x="306" y="5"/>
                </a:cubicBezTo>
                <a:cubicBezTo>
                  <a:pt x="307" y="9"/>
                  <a:pt x="307" y="9"/>
                  <a:pt x="307" y="9"/>
                </a:cubicBezTo>
                <a:cubicBezTo>
                  <a:pt x="313" y="8"/>
                  <a:pt x="320" y="7"/>
                  <a:pt x="327" y="6"/>
                </a:cubicBezTo>
                <a:cubicBezTo>
                  <a:pt x="326" y="2"/>
                  <a:pt x="326" y="2"/>
                  <a:pt x="326" y="2"/>
                </a:cubicBezTo>
                <a:close/>
                <a:moveTo>
                  <a:pt x="287" y="9"/>
                </a:moveTo>
                <a:cubicBezTo>
                  <a:pt x="284" y="9"/>
                  <a:pt x="282" y="10"/>
                  <a:pt x="280" y="11"/>
                </a:cubicBezTo>
                <a:cubicBezTo>
                  <a:pt x="280" y="11"/>
                  <a:pt x="280" y="11"/>
                  <a:pt x="280" y="11"/>
                </a:cubicBezTo>
                <a:cubicBezTo>
                  <a:pt x="280" y="11"/>
                  <a:pt x="280" y="11"/>
                  <a:pt x="280" y="11"/>
                </a:cubicBezTo>
                <a:cubicBezTo>
                  <a:pt x="280" y="11"/>
                  <a:pt x="280" y="11"/>
                  <a:pt x="280" y="11"/>
                </a:cubicBezTo>
                <a:cubicBezTo>
                  <a:pt x="280" y="11"/>
                  <a:pt x="279" y="11"/>
                  <a:pt x="279" y="11"/>
                </a:cubicBezTo>
                <a:cubicBezTo>
                  <a:pt x="279" y="11"/>
                  <a:pt x="279" y="11"/>
                  <a:pt x="279" y="11"/>
                </a:cubicBezTo>
                <a:cubicBezTo>
                  <a:pt x="279" y="11"/>
                  <a:pt x="279" y="11"/>
                  <a:pt x="279" y="11"/>
                </a:cubicBezTo>
                <a:cubicBezTo>
                  <a:pt x="279" y="11"/>
                  <a:pt x="279" y="11"/>
                  <a:pt x="279" y="11"/>
                </a:cubicBezTo>
                <a:cubicBezTo>
                  <a:pt x="279" y="11"/>
                  <a:pt x="279"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8" y="11"/>
                  <a:pt x="278" y="11"/>
                </a:cubicBezTo>
                <a:cubicBezTo>
                  <a:pt x="278"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7" y="11"/>
                  <a:pt x="277" y="11"/>
                </a:cubicBezTo>
                <a:cubicBezTo>
                  <a:pt x="277"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1"/>
                  <a:pt x="276" y="11"/>
                </a:cubicBezTo>
                <a:cubicBezTo>
                  <a:pt x="276" y="11"/>
                  <a:pt x="276" y="12"/>
                  <a:pt x="276" y="12"/>
                </a:cubicBezTo>
                <a:cubicBezTo>
                  <a:pt x="276" y="12"/>
                  <a:pt x="276" y="12"/>
                  <a:pt x="276" y="12"/>
                </a:cubicBezTo>
                <a:cubicBezTo>
                  <a:pt x="276" y="12"/>
                  <a:pt x="276" y="12"/>
                  <a:pt x="276" y="12"/>
                </a:cubicBezTo>
                <a:cubicBezTo>
                  <a:pt x="276" y="12"/>
                  <a:pt x="276" y="12"/>
                  <a:pt x="276"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5" y="12"/>
                  <a:pt x="275" y="12"/>
                  <a:pt x="275"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4" y="12"/>
                </a:cubicBezTo>
                <a:cubicBezTo>
                  <a:pt x="274" y="12"/>
                  <a:pt x="274" y="12"/>
                  <a:pt x="273" y="12"/>
                </a:cubicBezTo>
                <a:cubicBezTo>
                  <a:pt x="273" y="12"/>
                  <a:pt x="273" y="12"/>
                  <a:pt x="273" y="12"/>
                </a:cubicBezTo>
                <a:cubicBezTo>
                  <a:pt x="273" y="12"/>
                  <a:pt x="273" y="12"/>
                  <a:pt x="273" y="12"/>
                </a:cubicBezTo>
                <a:cubicBezTo>
                  <a:pt x="273" y="12"/>
                  <a:pt x="273" y="12"/>
                  <a:pt x="273" y="12"/>
                </a:cubicBezTo>
                <a:cubicBezTo>
                  <a:pt x="273" y="12"/>
                  <a:pt x="273" y="12"/>
                  <a:pt x="272" y="12"/>
                </a:cubicBezTo>
                <a:cubicBezTo>
                  <a:pt x="272" y="12"/>
                  <a:pt x="272" y="12"/>
                  <a:pt x="272" y="12"/>
                </a:cubicBezTo>
                <a:cubicBezTo>
                  <a:pt x="271" y="13"/>
                  <a:pt x="269" y="13"/>
                  <a:pt x="267" y="14"/>
                </a:cubicBezTo>
                <a:cubicBezTo>
                  <a:pt x="268" y="18"/>
                  <a:pt x="268" y="18"/>
                  <a:pt x="268" y="18"/>
                </a:cubicBezTo>
                <a:cubicBezTo>
                  <a:pt x="275" y="16"/>
                  <a:pt x="281" y="14"/>
                  <a:pt x="288" y="13"/>
                </a:cubicBezTo>
                <a:cubicBezTo>
                  <a:pt x="287" y="9"/>
                  <a:pt x="287" y="9"/>
                  <a:pt x="287" y="9"/>
                </a:cubicBezTo>
                <a:close/>
                <a:moveTo>
                  <a:pt x="248" y="20"/>
                </a:moveTo>
                <a:cubicBezTo>
                  <a:pt x="244" y="21"/>
                  <a:pt x="239" y="23"/>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4" y="25"/>
                  <a:pt x="234" y="25"/>
                </a:cubicBezTo>
                <a:cubicBezTo>
                  <a:pt x="234"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3" y="25"/>
                  <a:pt x="233" y="25"/>
                  <a:pt x="233" y="25"/>
                </a:cubicBezTo>
                <a:cubicBezTo>
                  <a:pt x="232" y="25"/>
                  <a:pt x="232" y="25"/>
                  <a:pt x="232" y="25"/>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2" y="26"/>
                </a:cubicBezTo>
                <a:cubicBezTo>
                  <a:pt x="232" y="26"/>
                  <a:pt x="232" y="26"/>
                  <a:pt x="231" y="26"/>
                </a:cubicBezTo>
                <a:cubicBezTo>
                  <a:pt x="231" y="26"/>
                  <a:pt x="231" y="26"/>
                  <a:pt x="231" y="26"/>
                </a:cubicBezTo>
                <a:cubicBezTo>
                  <a:pt x="231" y="26"/>
                  <a:pt x="230" y="26"/>
                  <a:pt x="229" y="27"/>
                </a:cubicBezTo>
                <a:cubicBezTo>
                  <a:pt x="231" y="30"/>
                  <a:pt x="231" y="30"/>
                  <a:pt x="231" y="30"/>
                </a:cubicBezTo>
                <a:cubicBezTo>
                  <a:pt x="237" y="28"/>
                  <a:pt x="243" y="26"/>
                  <a:pt x="249" y="23"/>
                </a:cubicBezTo>
                <a:cubicBezTo>
                  <a:pt x="248" y="20"/>
                  <a:pt x="248" y="20"/>
                  <a:pt x="248" y="20"/>
                </a:cubicBezTo>
                <a:close/>
                <a:moveTo>
                  <a:pt x="211" y="35"/>
                </a:moveTo>
                <a:cubicBezTo>
                  <a:pt x="205" y="37"/>
                  <a:pt x="199" y="40"/>
                  <a:pt x="193" y="44"/>
                </a:cubicBezTo>
                <a:cubicBezTo>
                  <a:pt x="195" y="47"/>
                  <a:pt x="195" y="47"/>
                  <a:pt x="195" y="47"/>
                </a:cubicBezTo>
                <a:cubicBezTo>
                  <a:pt x="201" y="44"/>
                  <a:pt x="207" y="41"/>
                  <a:pt x="213" y="38"/>
                </a:cubicBezTo>
                <a:cubicBezTo>
                  <a:pt x="211" y="35"/>
                  <a:pt x="211" y="35"/>
                  <a:pt x="211" y="35"/>
                </a:cubicBezTo>
                <a:close/>
                <a:moveTo>
                  <a:pt x="176" y="54"/>
                </a:moveTo>
                <a:cubicBezTo>
                  <a:pt x="170" y="57"/>
                  <a:pt x="165" y="61"/>
                  <a:pt x="159" y="64"/>
                </a:cubicBezTo>
                <a:cubicBezTo>
                  <a:pt x="161" y="68"/>
                  <a:pt x="161" y="68"/>
                  <a:pt x="161" y="68"/>
                </a:cubicBezTo>
                <a:cubicBezTo>
                  <a:pt x="167" y="64"/>
                  <a:pt x="172" y="60"/>
                  <a:pt x="178" y="57"/>
                </a:cubicBezTo>
                <a:cubicBezTo>
                  <a:pt x="176" y="54"/>
                  <a:pt x="176" y="54"/>
                  <a:pt x="176" y="54"/>
                </a:cubicBezTo>
                <a:close/>
                <a:moveTo>
                  <a:pt x="143" y="76"/>
                </a:moveTo>
                <a:cubicBezTo>
                  <a:pt x="142" y="77"/>
                  <a:pt x="140" y="78"/>
                  <a:pt x="139" y="79"/>
                </a:cubicBezTo>
                <a:cubicBezTo>
                  <a:pt x="139" y="79"/>
                  <a:pt x="139" y="79"/>
                  <a:pt x="139" y="79"/>
                </a:cubicBezTo>
                <a:cubicBezTo>
                  <a:pt x="139" y="79"/>
                  <a:pt x="139" y="79"/>
                  <a:pt x="139" y="79"/>
                </a:cubicBezTo>
                <a:cubicBezTo>
                  <a:pt x="139" y="79"/>
                  <a:pt x="139" y="79"/>
                  <a:pt x="139" y="79"/>
                </a:cubicBezTo>
                <a:cubicBezTo>
                  <a:pt x="139" y="79"/>
                  <a:pt x="139" y="79"/>
                  <a:pt x="139" y="79"/>
                </a:cubicBezTo>
                <a:cubicBezTo>
                  <a:pt x="139" y="79"/>
                  <a:pt x="139" y="79"/>
                  <a:pt x="139" y="79"/>
                </a:cubicBezTo>
                <a:cubicBezTo>
                  <a:pt x="139"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8" y="80"/>
                  <a:pt x="138" y="80"/>
                </a:cubicBezTo>
                <a:cubicBezTo>
                  <a:pt x="138" y="80"/>
                  <a:pt x="137" y="80"/>
                  <a:pt x="137" y="80"/>
                </a:cubicBezTo>
                <a:cubicBezTo>
                  <a:pt x="137" y="80"/>
                  <a:pt x="137" y="80"/>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7" y="81"/>
                </a:cubicBezTo>
                <a:cubicBezTo>
                  <a:pt x="137" y="81"/>
                  <a:pt x="137" y="81"/>
                  <a:pt x="136" y="81"/>
                </a:cubicBezTo>
                <a:cubicBezTo>
                  <a:pt x="136" y="81"/>
                  <a:pt x="136" y="81"/>
                  <a:pt x="136" y="81"/>
                </a:cubicBezTo>
                <a:cubicBezTo>
                  <a:pt x="136" y="81"/>
                  <a:pt x="136" y="81"/>
                  <a:pt x="136" y="81"/>
                </a:cubicBezTo>
                <a:cubicBezTo>
                  <a:pt x="136" y="81"/>
                  <a:pt x="136" y="81"/>
                  <a:pt x="136" y="81"/>
                </a:cubicBezTo>
                <a:cubicBezTo>
                  <a:pt x="136" y="81"/>
                  <a:pt x="136" y="81"/>
                  <a:pt x="136" y="81"/>
                </a:cubicBezTo>
                <a:cubicBezTo>
                  <a:pt x="136" y="81"/>
                  <a:pt x="136" y="81"/>
                  <a:pt x="136" y="81"/>
                </a:cubicBezTo>
                <a:cubicBezTo>
                  <a:pt x="136" y="81"/>
                  <a:pt x="136" y="82"/>
                  <a:pt x="136" y="82"/>
                </a:cubicBezTo>
                <a:cubicBezTo>
                  <a:pt x="136" y="82"/>
                  <a:pt x="136" y="82"/>
                  <a:pt x="136" y="82"/>
                </a:cubicBezTo>
                <a:cubicBezTo>
                  <a:pt x="136" y="82"/>
                  <a:pt x="136" y="82"/>
                  <a:pt x="136" y="82"/>
                </a:cubicBezTo>
                <a:cubicBezTo>
                  <a:pt x="136" y="82"/>
                  <a:pt x="136" y="82"/>
                  <a:pt x="136" y="82"/>
                </a:cubicBezTo>
                <a:cubicBezTo>
                  <a:pt x="135" y="82"/>
                  <a:pt x="135" y="82"/>
                  <a:pt x="135" y="82"/>
                </a:cubicBezTo>
                <a:cubicBezTo>
                  <a:pt x="135" y="82"/>
                  <a:pt x="135" y="82"/>
                  <a:pt x="135" y="82"/>
                </a:cubicBezTo>
                <a:cubicBezTo>
                  <a:pt x="135" y="82"/>
                  <a:pt x="135" y="82"/>
                  <a:pt x="135" y="82"/>
                </a:cubicBezTo>
                <a:cubicBezTo>
                  <a:pt x="135" y="82"/>
                  <a:pt x="135" y="82"/>
                  <a:pt x="135" y="82"/>
                </a:cubicBezTo>
                <a:cubicBezTo>
                  <a:pt x="135" y="82"/>
                  <a:pt x="135" y="83"/>
                  <a:pt x="134" y="83"/>
                </a:cubicBezTo>
                <a:cubicBezTo>
                  <a:pt x="134" y="83"/>
                  <a:pt x="134" y="83"/>
                  <a:pt x="134" y="83"/>
                </a:cubicBezTo>
                <a:cubicBezTo>
                  <a:pt x="134" y="83"/>
                  <a:pt x="134" y="83"/>
                  <a:pt x="134" y="84"/>
                </a:cubicBezTo>
                <a:cubicBezTo>
                  <a:pt x="134" y="84"/>
                  <a:pt x="134" y="84"/>
                  <a:pt x="134" y="84"/>
                </a:cubicBezTo>
                <a:cubicBezTo>
                  <a:pt x="134" y="84"/>
                  <a:pt x="134" y="84"/>
                  <a:pt x="134" y="84"/>
                </a:cubicBezTo>
                <a:cubicBezTo>
                  <a:pt x="134" y="84"/>
                  <a:pt x="134" y="84"/>
                  <a:pt x="134" y="84"/>
                </a:cubicBezTo>
                <a:cubicBezTo>
                  <a:pt x="133" y="84"/>
                  <a:pt x="133" y="84"/>
                  <a:pt x="133" y="84"/>
                </a:cubicBezTo>
                <a:cubicBezTo>
                  <a:pt x="133" y="84"/>
                  <a:pt x="133" y="84"/>
                  <a:pt x="133" y="84"/>
                </a:cubicBezTo>
                <a:cubicBezTo>
                  <a:pt x="133" y="84"/>
                  <a:pt x="133" y="84"/>
                  <a:pt x="133" y="84"/>
                </a:cubicBezTo>
                <a:cubicBezTo>
                  <a:pt x="133" y="84"/>
                  <a:pt x="133" y="84"/>
                  <a:pt x="133" y="84"/>
                </a:cubicBezTo>
                <a:cubicBezTo>
                  <a:pt x="133"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2" y="85"/>
                  <a:pt x="132" y="85"/>
                </a:cubicBezTo>
                <a:cubicBezTo>
                  <a:pt x="132" y="85"/>
                  <a:pt x="131" y="85"/>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1" y="86"/>
                </a:cubicBezTo>
                <a:cubicBezTo>
                  <a:pt x="131" y="86"/>
                  <a:pt x="131"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6"/>
                  <a:pt x="130" y="86"/>
                  <a:pt x="130" y="86"/>
                </a:cubicBezTo>
                <a:cubicBezTo>
                  <a:pt x="130" y="87"/>
                  <a:pt x="130" y="87"/>
                  <a:pt x="130" y="87"/>
                </a:cubicBezTo>
                <a:cubicBezTo>
                  <a:pt x="130" y="87"/>
                  <a:pt x="130" y="87"/>
                  <a:pt x="130" y="87"/>
                </a:cubicBezTo>
                <a:cubicBezTo>
                  <a:pt x="130" y="87"/>
                  <a:pt x="130" y="87"/>
                  <a:pt x="130" y="87"/>
                </a:cubicBezTo>
                <a:cubicBezTo>
                  <a:pt x="130" y="87"/>
                  <a:pt x="130" y="87"/>
                  <a:pt x="130" y="87"/>
                </a:cubicBezTo>
                <a:cubicBezTo>
                  <a:pt x="130" y="87"/>
                  <a:pt x="130" y="87"/>
                  <a:pt x="129" y="87"/>
                </a:cubicBezTo>
                <a:cubicBezTo>
                  <a:pt x="129" y="87"/>
                  <a:pt x="129" y="87"/>
                  <a:pt x="129" y="87"/>
                </a:cubicBezTo>
                <a:cubicBezTo>
                  <a:pt x="129" y="87"/>
                  <a:pt x="129" y="87"/>
                  <a:pt x="129" y="87"/>
                </a:cubicBezTo>
                <a:cubicBezTo>
                  <a:pt x="129" y="87"/>
                  <a:pt x="129" y="87"/>
                  <a:pt x="129" y="87"/>
                </a:cubicBezTo>
                <a:cubicBezTo>
                  <a:pt x="129" y="88"/>
                  <a:pt x="128" y="88"/>
                  <a:pt x="127" y="89"/>
                </a:cubicBezTo>
                <a:cubicBezTo>
                  <a:pt x="130" y="92"/>
                  <a:pt x="130" y="92"/>
                  <a:pt x="130" y="92"/>
                </a:cubicBezTo>
                <a:cubicBezTo>
                  <a:pt x="135" y="88"/>
                  <a:pt x="140" y="83"/>
                  <a:pt x="145" y="79"/>
                </a:cubicBezTo>
                <a:cubicBezTo>
                  <a:pt x="143" y="76"/>
                  <a:pt x="143" y="76"/>
                  <a:pt x="143" y="76"/>
                </a:cubicBezTo>
                <a:close/>
                <a:moveTo>
                  <a:pt x="113" y="102"/>
                </a:moveTo>
                <a:cubicBezTo>
                  <a:pt x="111" y="104"/>
                  <a:pt x="109" y="106"/>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6" y="108"/>
                  <a:pt x="106" y="108"/>
                  <a:pt x="106" y="108"/>
                </a:cubicBezTo>
                <a:cubicBezTo>
                  <a:pt x="106" y="108"/>
                  <a:pt x="106" y="108"/>
                  <a:pt x="106" y="108"/>
                </a:cubicBezTo>
                <a:cubicBezTo>
                  <a:pt x="106" y="108"/>
                  <a:pt x="106" y="108"/>
                  <a:pt x="106" y="108"/>
                </a:cubicBezTo>
                <a:cubicBezTo>
                  <a:pt x="106" y="108"/>
                  <a:pt x="106" y="108"/>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6" y="109"/>
                </a:cubicBezTo>
                <a:cubicBezTo>
                  <a:pt x="106" y="109"/>
                  <a:pt x="106" y="109"/>
                  <a:pt x="105" y="109"/>
                </a:cubicBezTo>
                <a:cubicBezTo>
                  <a:pt x="105" y="109"/>
                  <a:pt x="105" y="109"/>
                  <a:pt x="105" y="109"/>
                </a:cubicBezTo>
                <a:cubicBezTo>
                  <a:pt x="105" y="109"/>
                  <a:pt x="105" y="109"/>
                  <a:pt x="105" y="109"/>
                </a:cubicBezTo>
                <a:cubicBezTo>
                  <a:pt x="105" y="109"/>
                  <a:pt x="105" y="109"/>
                  <a:pt x="105" y="109"/>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5" y="110"/>
                  <a:pt x="105" y="110"/>
                </a:cubicBezTo>
                <a:cubicBezTo>
                  <a:pt x="105" y="110"/>
                  <a:pt x="104" y="110"/>
                  <a:pt x="104" y="110"/>
                </a:cubicBezTo>
                <a:cubicBezTo>
                  <a:pt x="104" y="110"/>
                  <a:pt x="104" y="110"/>
                  <a:pt x="104" y="110"/>
                </a:cubicBezTo>
                <a:cubicBezTo>
                  <a:pt x="104" y="110"/>
                  <a:pt x="104" y="110"/>
                  <a:pt x="104" y="110"/>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3" y="111"/>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2" y="112"/>
                </a:cubicBezTo>
                <a:cubicBezTo>
                  <a:pt x="102" y="112"/>
                  <a:pt x="102" y="112"/>
                  <a:pt x="102" y="112"/>
                </a:cubicBezTo>
                <a:cubicBezTo>
                  <a:pt x="102" y="112"/>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2" y="113"/>
                  <a:pt x="102" y="113"/>
                </a:cubicBezTo>
                <a:cubicBezTo>
                  <a:pt x="102" y="113"/>
                  <a:pt x="101" y="113"/>
                  <a:pt x="101" y="113"/>
                </a:cubicBezTo>
                <a:cubicBezTo>
                  <a:pt x="101" y="113"/>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0" y="115"/>
                  <a:pt x="99" y="116"/>
                  <a:pt x="99" y="117"/>
                </a:cubicBezTo>
                <a:cubicBezTo>
                  <a:pt x="102" y="119"/>
                  <a:pt x="102" y="119"/>
                  <a:pt x="102" y="119"/>
                </a:cubicBezTo>
                <a:cubicBezTo>
                  <a:pt x="106" y="114"/>
                  <a:pt x="111" y="110"/>
                  <a:pt x="115" y="105"/>
                </a:cubicBezTo>
                <a:cubicBezTo>
                  <a:pt x="113" y="102"/>
                  <a:pt x="113" y="102"/>
                  <a:pt x="113" y="102"/>
                </a:cubicBezTo>
                <a:close/>
                <a:moveTo>
                  <a:pt x="85" y="131"/>
                </a:moveTo>
                <a:cubicBezTo>
                  <a:pt x="81" y="137"/>
                  <a:pt x="77" y="142"/>
                  <a:pt x="73" y="147"/>
                </a:cubicBezTo>
                <a:cubicBezTo>
                  <a:pt x="76" y="150"/>
                  <a:pt x="76" y="150"/>
                  <a:pt x="76" y="150"/>
                </a:cubicBezTo>
                <a:cubicBezTo>
                  <a:pt x="80" y="144"/>
                  <a:pt x="84" y="139"/>
                  <a:pt x="88" y="134"/>
                </a:cubicBezTo>
                <a:cubicBezTo>
                  <a:pt x="85" y="131"/>
                  <a:pt x="85" y="131"/>
                  <a:pt x="85" y="131"/>
                </a:cubicBezTo>
                <a:close/>
                <a:moveTo>
                  <a:pt x="61" y="164"/>
                </a:moveTo>
                <a:cubicBezTo>
                  <a:pt x="58" y="169"/>
                  <a:pt x="54" y="175"/>
                  <a:pt x="51" y="180"/>
                </a:cubicBezTo>
                <a:cubicBezTo>
                  <a:pt x="54" y="182"/>
                  <a:pt x="54" y="182"/>
                  <a:pt x="54" y="182"/>
                </a:cubicBezTo>
                <a:cubicBezTo>
                  <a:pt x="58" y="177"/>
                  <a:pt x="61" y="171"/>
                  <a:pt x="65" y="166"/>
                </a:cubicBezTo>
                <a:cubicBezTo>
                  <a:pt x="61" y="164"/>
                  <a:pt x="61" y="164"/>
                  <a:pt x="61" y="164"/>
                </a:cubicBezTo>
                <a:close/>
                <a:moveTo>
                  <a:pt x="41" y="198"/>
                </a:moveTo>
                <a:cubicBezTo>
                  <a:pt x="40" y="200"/>
                  <a:pt x="39" y="201"/>
                  <a:pt x="39" y="203"/>
                </a:cubicBezTo>
                <a:cubicBezTo>
                  <a:pt x="39" y="203"/>
                  <a:pt x="39" y="203"/>
                  <a:pt x="39" y="203"/>
                </a:cubicBezTo>
                <a:cubicBezTo>
                  <a:pt x="38" y="203"/>
                  <a:pt x="38" y="203"/>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4"/>
                  <a:pt x="38" y="204"/>
                </a:cubicBezTo>
                <a:cubicBezTo>
                  <a:pt x="38" y="204"/>
                  <a:pt x="38" y="205"/>
                  <a:pt x="38" y="205"/>
                </a:cubicBezTo>
                <a:cubicBezTo>
                  <a:pt x="38" y="205"/>
                  <a:pt x="38" y="205"/>
                  <a:pt x="38" y="205"/>
                </a:cubicBezTo>
                <a:cubicBezTo>
                  <a:pt x="38" y="205"/>
                  <a:pt x="38" y="205"/>
                  <a:pt x="38" y="205"/>
                </a:cubicBezTo>
                <a:cubicBezTo>
                  <a:pt x="38" y="205"/>
                  <a:pt x="38" y="205"/>
                  <a:pt x="38" y="205"/>
                </a:cubicBezTo>
                <a:cubicBezTo>
                  <a:pt x="38" y="205"/>
                  <a:pt x="38" y="205"/>
                  <a:pt x="38" y="205"/>
                </a:cubicBezTo>
                <a:cubicBezTo>
                  <a:pt x="38" y="205"/>
                  <a:pt x="38" y="205"/>
                  <a:pt x="38" y="205"/>
                </a:cubicBezTo>
                <a:cubicBezTo>
                  <a:pt x="38" y="205"/>
                  <a:pt x="38" y="205"/>
                  <a:pt x="37" y="205"/>
                </a:cubicBezTo>
                <a:cubicBezTo>
                  <a:pt x="37" y="205"/>
                  <a:pt x="37" y="205"/>
                  <a:pt x="37" y="205"/>
                </a:cubicBezTo>
                <a:cubicBezTo>
                  <a:pt x="36" y="209"/>
                  <a:pt x="34" y="212"/>
                  <a:pt x="32" y="216"/>
                </a:cubicBezTo>
                <a:cubicBezTo>
                  <a:pt x="36" y="218"/>
                  <a:pt x="36" y="218"/>
                  <a:pt x="36" y="218"/>
                </a:cubicBezTo>
                <a:cubicBezTo>
                  <a:pt x="39" y="212"/>
                  <a:pt x="42" y="206"/>
                  <a:pt x="45" y="200"/>
                </a:cubicBezTo>
                <a:cubicBezTo>
                  <a:pt x="41" y="198"/>
                  <a:pt x="41" y="198"/>
                  <a:pt x="41" y="198"/>
                </a:cubicBezTo>
                <a:close/>
                <a:moveTo>
                  <a:pt x="25" y="234"/>
                </a:moveTo>
                <a:cubicBezTo>
                  <a:pt x="22" y="241"/>
                  <a:pt x="20" y="247"/>
                  <a:pt x="18" y="253"/>
                </a:cubicBezTo>
                <a:cubicBezTo>
                  <a:pt x="22" y="254"/>
                  <a:pt x="22" y="254"/>
                  <a:pt x="22" y="254"/>
                </a:cubicBezTo>
                <a:cubicBezTo>
                  <a:pt x="24" y="248"/>
                  <a:pt x="26" y="242"/>
                  <a:pt x="28" y="236"/>
                </a:cubicBezTo>
                <a:cubicBezTo>
                  <a:pt x="25" y="234"/>
                  <a:pt x="25" y="234"/>
                  <a:pt x="25" y="234"/>
                </a:cubicBezTo>
                <a:close/>
                <a:moveTo>
                  <a:pt x="12" y="272"/>
                </a:moveTo>
                <a:cubicBezTo>
                  <a:pt x="11" y="279"/>
                  <a:pt x="9" y="285"/>
                  <a:pt x="8" y="292"/>
                </a:cubicBezTo>
                <a:cubicBezTo>
                  <a:pt x="12" y="293"/>
                  <a:pt x="12" y="293"/>
                  <a:pt x="12" y="293"/>
                </a:cubicBezTo>
                <a:cubicBezTo>
                  <a:pt x="13" y="286"/>
                  <a:pt x="15" y="280"/>
                  <a:pt x="16" y="273"/>
                </a:cubicBezTo>
                <a:cubicBezTo>
                  <a:pt x="12" y="272"/>
                  <a:pt x="12" y="272"/>
                  <a:pt x="12" y="272"/>
                </a:cubicBezTo>
                <a:close/>
                <a:moveTo>
                  <a:pt x="4" y="312"/>
                </a:moveTo>
                <a:cubicBezTo>
                  <a:pt x="4" y="315"/>
                  <a:pt x="3" y="318"/>
                  <a:pt x="3" y="321"/>
                </a:cubicBezTo>
                <a:cubicBezTo>
                  <a:pt x="3" y="321"/>
                  <a:pt x="3" y="321"/>
                  <a:pt x="3" y="321"/>
                </a:cubicBezTo>
                <a:cubicBezTo>
                  <a:pt x="3" y="321"/>
                  <a:pt x="3" y="321"/>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2"/>
                  <a:pt x="3" y="322"/>
                </a:cubicBezTo>
                <a:cubicBezTo>
                  <a:pt x="3" y="322"/>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3"/>
                  <a:pt x="3" y="323"/>
                </a:cubicBezTo>
                <a:cubicBezTo>
                  <a:pt x="3" y="323"/>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3" y="324"/>
                  <a:pt x="3" y="324"/>
                  <a:pt x="3" y="324"/>
                </a:cubicBezTo>
                <a:cubicBezTo>
                  <a:pt x="2" y="327"/>
                  <a:pt x="2" y="329"/>
                  <a:pt x="2" y="331"/>
                </a:cubicBezTo>
                <a:cubicBezTo>
                  <a:pt x="6" y="332"/>
                  <a:pt x="6" y="332"/>
                  <a:pt x="6" y="332"/>
                </a:cubicBezTo>
                <a:cubicBezTo>
                  <a:pt x="6" y="325"/>
                  <a:pt x="7" y="319"/>
                  <a:pt x="8" y="312"/>
                </a:cubicBezTo>
                <a:cubicBezTo>
                  <a:pt x="4" y="312"/>
                  <a:pt x="4" y="312"/>
                  <a:pt x="4" y="312"/>
                </a:cubicBezTo>
                <a:close/>
                <a:moveTo>
                  <a:pt x="1" y="351"/>
                </a:moveTo>
                <a:cubicBezTo>
                  <a:pt x="0" y="353"/>
                  <a:pt x="0" y="354"/>
                  <a:pt x="0" y="356"/>
                </a:cubicBezTo>
                <a:cubicBezTo>
                  <a:pt x="0" y="356"/>
                  <a:pt x="0" y="356"/>
                  <a:pt x="0" y="356"/>
                </a:cubicBezTo>
                <a:cubicBezTo>
                  <a:pt x="0" y="356"/>
                  <a:pt x="0" y="356"/>
                  <a:pt x="0" y="356"/>
                </a:cubicBezTo>
                <a:cubicBezTo>
                  <a:pt x="0" y="356"/>
                  <a:pt x="0" y="356"/>
                  <a:pt x="0" y="356"/>
                </a:cubicBezTo>
                <a:cubicBezTo>
                  <a:pt x="0" y="356"/>
                  <a:pt x="0" y="356"/>
                  <a:pt x="0" y="356"/>
                </a:cubicBezTo>
                <a:cubicBezTo>
                  <a:pt x="0" y="356"/>
                  <a:pt x="0" y="356"/>
                  <a:pt x="0" y="356"/>
                </a:cubicBezTo>
                <a:cubicBezTo>
                  <a:pt x="0" y="356"/>
                  <a:pt x="0" y="356"/>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7"/>
                  <a:pt x="0" y="357"/>
                  <a:pt x="0" y="357"/>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8"/>
                </a:cubicBezTo>
                <a:cubicBezTo>
                  <a:pt x="0" y="358"/>
                  <a:pt x="0" y="358"/>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59"/>
                </a:cubicBezTo>
                <a:cubicBezTo>
                  <a:pt x="0" y="359"/>
                  <a:pt x="0" y="359"/>
                  <a:pt x="0" y="360"/>
                </a:cubicBezTo>
                <a:cubicBezTo>
                  <a:pt x="0" y="360"/>
                  <a:pt x="0" y="360"/>
                  <a:pt x="0" y="360"/>
                </a:cubicBezTo>
                <a:cubicBezTo>
                  <a:pt x="0" y="360"/>
                  <a:pt x="0" y="360"/>
                  <a:pt x="0" y="360"/>
                </a:cubicBezTo>
                <a:cubicBezTo>
                  <a:pt x="0" y="360"/>
                  <a:pt x="0" y="360"/>
                  <a:pt x="0" y="360"/>
                </a:cubicBezTo>
                <a:cubicBezTo>
                  <a:pt x="0" y="360"/>
                  <a:pt x="0" y="360"/>
                  <a:pt x="0" y="360"/>
                </a:cubicBezTo>
                <a:cubicBezTo>
                  <a:pt x="0" y="360"/>
                  <a:pt x="0" y="360"/>
                  <a:pt x="0" y="360"/>
                </a:cubicBezTo>
                <a:cubicBezTo>
                  <a:pt x="0" y="360"/>
                  <a:pt x="0" y="360"/>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1"/>
                </a:cubicBezTo>
                <a:cubicBezTo>
                  <a:pt x="0" y="361"/>
                  <a:pt x="0" y="361"/>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2"/>
                </a:cubicBezTo>
                <a:cubicBezTo>
                  <a:pt x="0" y="362"/>
                  <a:pt x="0" y="362"/>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3"/>
                  <a:pt x="0" y="363"/>
                </a:cubicBezTo>
                <a:cubicBezTo>
                  <a:pt x="0" y="363"/>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4"/>
                  <a:pt x="0" y="364"/>
                </a:cubicBezTo>
                <a:cubicBezTo>
                  <a:pt x="0" y="364"/>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5"/>
                  <a:pt x="0" y="365"/>
                  <a:pt x="0" y="365"/>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6"/>
                  <a:pt x="0" y="366"/>
                </a:cubicBezTo>
                <a:cubicBezTo>
                  <a:pt x="0" y="366"/>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7"/>
                  <a:pt x="0" y="367"/>
                </a:cubicBezTo>
                <a:cubicBezTo>
                  <a:pt x="0" y="367"/>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8"/>
                  <a:pt x="0" y="368"/>
                  <a:pt x="0" y="368"/>
                </a:cubicBezTo>
                <a:cubicBezTo>
                  <a:pt x="0" y="369"/>
                  <a:pt x="0" y="370"/>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0" y="371"/>
                  <a:pt x="0" y="371"/>
                  <a:pt x="0" y="371"/>
                </a:cubicBezTo>
                <a:cubicBezTo>
                  <a:pt x="4" y="371"/>
                  <a:pt x="4" y="371"/>
                  <a:pt x="4" y="371"/>
                </a:cubicBezTo>
                <a:cubicBezTo>
                  <a:pt x="4" y="370"/>
                  <a:pt x="4" y="368"/>
                  <a:pt x="4" y="366"/>
                </a:cubicBezTo>
                <a:cubicBezTo>
                  <a:pt x="4" y="361"/>
                  <a:pt x="4" y="356"/>
                  <a:pt x="5" y="352"/>
                </a:cubicBezTo>
                <a:cubicBezTo>
                  <a:pt x="1" y="351"/>
                  <a:pt x="1" y="351"/>
                  <a:pt x="1" y="351"/>
                </a:cubicBezTo>
                <a:close/>
                <a:moveTo>
                  <a:pt x="5" y="391"/>
                </a:moveTo>
                <a:cubicBezTo>
                  <a:pt x="1" y="391"/>
                  <a:pt x="1" y="391"/>
                  <a:pt x="1" y="391"/>
                </a:cubicBezTo>
                <a:cubicBezTo>
                  <a:pt x="1" y="391"/>
                  <a:pt x="1" y="391"/>
                  <a:pt x="1" y="391"/>
                </a:cubicBezTo>
                <a:cubicBezTo>
                  <a:pt x="1" y="391"/>
                  <a:pt x="1" y="391"/>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2"/>
                </a:cubicBezTo>
                <a:cubicBezTo>
                  <a:pt x="1" y="392"/>
                  <a:pt x="1" y="392"/>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3"/>
                  <a:pt x="1" y="393"/>
                </a:cubicBezTo>
                <a:cubicBezTo>
                  <a:pt x="1" y="393"/>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4"/>
                  <a:pt x="1" y="394"/>
                </a:cubicBezTo>
                <a:cubicBezTo>
                  <a:pt x="1" y="394"/>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5"/>
                </a:cubicBezTo>
                <a:cubicBezTo>
                  <a:pt x="1" y="395"/>
                  <a:pt x="1" y="395"/>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1" y="396"/>
                  <a:pt x="1" y="396"/>
                  <a:pt x="1" y="396"/>
                </a:cubicBezTo>
                <a:cubicBezTo>
                  <a:pt x="2" y="400"/>
                  <a:pt x="2" y="405"/>
                  <a:pt x="3" y="409"/>
                </a:cubicBezTo>
                <a:cubicBezTo>
                  <a:pt x="3" y="409"/>
                  <a:pt x="3" y="409"/>
                  <a:pt x="3" y="409"/>
                </a:cubicBezTo>
                <a:cubicBezTo>
                  <a:pt x="3" y="409"/>
                  <a:pt x="3" y="409"/>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0"/>
                </a:cubicBezTo>
                <a:cubicBezTo>
                  <a:pt x="3" y="410"/>
                  <a:pt x="3" y="410"/>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3" y="411"/>
                  <a:pt x="3" y="411"/>
                  <a:pt x="3" y="411"/>
                </a:cubicBezTo>
                <a:cubicBezTo>
                  <a:pt x="7" y="411"/>
                  <a:pt x="7" y="411"/>
                  <a:pt x="7" y="411"/>
                </a:cubicBezTo>
                <a:cubicBezTo>
                  <a:pt x="6" y="404"/>
                  <a:pt x="6" y="398"/>
                  <a:pt x="5" y="391"/>
                </a:cubicBezTo>
                <a:close/>
                <a:moveTo>
                  <a:pt x="10" y="430"/>
                </a:moveTo>
                <a:cubicBezTo>
                  <a:pt x="6" y="431"/>
                  <a:pt x="6" y="431"/>
                  <a:pt x="6" y="431"/>
                </a:cubicBezTo>
                <a:cubicBezTo>
                  <a:pt x="7" y="438"/>
                  <a:pt x="9" y="444"/>
                  <a:pt x="10" y="451"/>
                </a:cubicBezTo>
                <a:cubicBezTo>
                  <a:pt x="14" y="450"/>
                  <a:pt x="14" y="450"/>
                  <a:pt x="14" y="450"/>
                </a:cubicBezTo>
                <a:cubicBezTo>
                  <a:pt x="12" y="443"/>
                  <a:pt x="11" y="437"/>
                  <a:pt x="10" y="430"/>
                </a:cubicBezTo>
                <a:close/>
                <a:moveTo>
                  <a:pt x="19" y="469"/>
                </a:moveTo>
                <a:cubicBezTo>
                  <a:pt x="15" y="470"/>
                  <a:pt x="15" y="470"/>
                  <a:pt x="15" y="470"/>
                </a:cubicBezTo>
                <a:cubicBezTo>
                  <a:pt x="17" y="475"/>
                  <a:pt x="18" y="479"/>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4"/>
                  <a:pt x="20" y="484"/>
                </a:cubicBezTo>
                <a:cubicBezTo>
                  <a:pt x="20" y="484"/>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5"/>
                </a:cubicBezTo>
                <a:cubicBezTo>
                  <a:pt x="20" y="485"/>
                  <a:pt x="20" y="485"/>
                  <a:pt x="20" y="486"/>
                </a:cubicBezTo>
                <a:cubicBezTo>
                  <a:pt x="20" y="486"/>
                  <a:pt x="20" y="486"/>
                  <a:pt x="20" y="486"/>
                </a:cubicBezTo>
                <a:cubicBezTo>
                  <a:pt x="20" y="486"/>
                  <a:pt x="20" y="486"/>
                  <a:pt x="20" y="486"/>
                </a:cubicBezTo>
                <a:cubicBezTo>
                  <a:pt x="20" y="486"/>
                  <a:pt x="20" y="486"/>
                  <a:pt x="20" y="486"/>
                </a:cubicBezTo>
                <a:cubicBezTo>
                  <a:pt x="21" y="487"/>
                  <a:pt x="21" y="488"/>
                  <a:pt x="21" y="489"/>
                </a:cubicBezTo>
                <a:cubicBezTo>
                  <a:pt x="25" y="488"/>
                  <a:pt x="25" y="488"/>
                  <a:pt x="25" y="488"/>
                </a:cubicBezTo>
                <a:cubicBezTo>
                  <a:pt x="23" y="481"/>
                  <a:pt x="21" y="475"/>
                  <a:pt x="19" y="469"/>
                </a:cubicBezTo>
                <a:close/>
                <a:moveTo>
                  <a:pt x="32" y="506"/>
                </a:moveTo>
                <a:cubicBezTo>
                  <a:pt x="29" y="508"/>
                  <a:pt x="29" y="508"/>
                  <a:pt x="29" y="508"/>
                </a:cubicBezTo>
                <a:cubicBezTo>
                  <a:pt x="31" y="514"/>
                  <a:pt x="34" y="520"/>
                  <a:pt x="37" y="526"/>
                </a:cubicBezTo>
                <a:cubicBezTo>
                  <a:pt x="41" y="524"/>
                  <a:pt x="41" y="524"/>
                  <a:pt x="41" y="524"/>
                </a:cubicBezTo>
                <a:cubicBezTo>
                  <a:pt x="38" y="518"/>
                  <a:pt x="35" y="512"/>
                  <a:pt x="32" y="506"/>
                </a:cubicBezTo>
                <a:close/>
                <a:moveTo>
                  <a:pt x="50" y="542"/>
                </a:moveTo>
                <a:cubicBezTo>
                  <a:pt x="46" y="544"/>
                  <a:pt x="46" y="544"/>
                  <a:pt x="46" y="544"/>
                </a:cubicBezTo>
                <a:cubicBezTo>
                  <a:pt x="49" y="549"/>
                  <a:pt x="53" y="555"/>
                  <a:pt x="56" y="561"/>
                </a:cubicBezTo>
                <a:cubicBezTo>
                  <a:pt x="60" y="559"/>
                  <a:pt x="60" y="559"/>
                  <a:pt x="60" y="559"/>
                </a:cubicBezTo>
                <a:cubicBezTo>
                  <a:pt x="56" y="553"/>
                  <a:pt x="53" y="547"/>
                  <a:pt x="50" y="542"/>
                </a:cubicBezTo>
                <a:close/>
                <a:moveTo>
                  <a:pt x="71" y="575"/>
                </a:moveTo>
                <a:cubicBezTo>
                  <a:pt x="67" y="577"/>
                  <a:pt x="67" y="577"/>
                  <a:pt x="67" y="577"/>
                </a:cubicBezTo>
                <a:cubicBezTo>
                  <a:pt x="67" y="577"/>
                  <a:pt x="68" y="577"/>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8"/>
                  <a:pt x="68" y="578"/>
                </a:cubicBezTo>
                <a:cubicBezTo>
                  <a:pt x="68" y="578"/>
                  <a:pt x="68" y="579"/>
                  <a:pt x="68" y="579"/>
                </a:cubicBezTo>
                <a:cubicBezTo>
                  <a:pt x="68" y="579"/>
                  <a:pt x="68" y="579"/>
                  <a:pt x="68" y="579"/>
                </a:cubicBezTo>
                <a:cubicBezTo>
                  <a:pt x="68" y="579"/>
                  <a:pt x="68" y="579"/>
                  <a:pt x="68" y="579"/>
                </a:cubicBezTo>
                <a:cubicBezTo>
                  <a:pt x="68" y="579"/>
                  <a:pt x="68" y="579"/>
                  <a:pt x="68" y="579"/>
                </a:cubicBezTo>
                <a:cubicBezTo>
                  <a:pt x="68" y="579"/>
                  <a:pt x="68" y="579"/>
                  <a:pt x="68" y="579"/>
                </a:cubicBezTo>
                <a:cubicBezTo>
                  <a:pt x="68" y="579"/>
                  <a:pt x="68" y="579"/>
                  <a:pt x="68" y="579"/>
                </a:cubicBezTo>
                <a:cubicBezTo>
                  <a:pt x="68"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79"/>
                  <a:pt x="69" y="579"/>
                </a:cubicBezTo>
                <a:cubicBezTo>
                  <a:pt x="69" y="579"/>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69" y="580"/>
                  <a:pt x="69" y="580"/>
                  <a:pt x="69" y="580"/>
                </a:cubicBezTo>
                <a:cubicBezTo>
                  <a:pt x="70" y="580"/>
                  <a:pt x="70" y="580"/>
                  <a:pt x="70" y="580"/>
                </a:cubicBezTo>
                <a:cubicBezTo>
                  <a:pt x="70" y="580"/>
                  <a:pt x="70" y="580"/>
                  <a:pt x="70" y="580"/>
                </a:cubicBezTo>
                <a:cubicBezTo>
                  <a:pt x="70" y="580"/>
                  <a:pt x="70" y="580"/>
                  <a:pt x="70" y="580"/>
                </a:cubicBezTo>
                <a:cubicBezTo>
                  <a:pt x="70" y="580"/>
                  <a:pt x="70" y="580"/>
                  <a:pt x="70" y="580"/>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0" y="581"/>
                  <a:pt x="70" y="581"/>
                  <a:pt x="70" y="581"/>
                </a:cubicBezTo>
                <a:cubicBezTo>
                  <a:pt x="73" y="585"/>
                  <a:pt x="76" y="589"/>
                  <a:pt x="79" y="593"/>
                </a:cubicBezTo>
                <a:cubicBezTo>
                  <a:pt x="83" y="591"/>
                  <a:pt x="83" y="591"/>
                  <a:pt x="83" y="591"/>
                </a:cubicBezTo>
                <a:cubicBezTo>
                  <a:pt x="79" y="586"/>
                  <a:pt x="75" y="580"/>
                  <a:pt x="71" y="575"/>
                </a:cubicBezTo>
                <a:close/>
                <a:moveTo>
                  <a:pt x="95" y="606"/>
                </a:moveTo>
                <a:cubicBezTo>
                  <a:pt x="92" y="609"/>
                  <a:pt x="92" y="609"/>
                  <a:pt x="92" y="609"/>
                </a:cubicBezTo>
                <a:cubicBezTo>
                  <a:pt x="93" y="609"/>
                  <a:pt x="93" y="609"/>
                  <a:pt x="93" y="609"/>
                </a:cubicBezTo>
                <a:cubicBezTo>
                  <a:pt x="93" y="609"/>
                  <a:pt x="93" y="609"/>
                  <a:pt x="93" y="609"/>
                </a:cubicBezTo>
                <a:cubicBezTo>
                  <a:pt x="93" y="609"/>
                  <a:pt x="93" y="609"/>
                  <a:pt x="93" y="610"/>
                </a:cubicBezTo>
                <a:cubicBezTo>
                  <a:pt x="93" y="610"/>
                  <a:pt x="93" y="610"/>
                  <a:pt x="93" y="610"/>
                </a:cubicBezTo>
                <a:cubicBezTo>
                  <a:pt x="93" y="610"/>
                  <a:pt x="93" y="610"/>
                  <a:pt x="93" y="610"/>
                </a:cubicBezTo>
                <a:cubicBezTo>
                  <a:pt x="93" y="610"/>
                  <a:pt x="93" y="610"/>
                  <a:pt x="93" y="610"/>
                </a:cubicBezTo>
                <a:cubicBezTo>
                  <a:pt x="93" y="610"/>
                  <a:pt x="93" y="610"/>
                  <a:pt x="93" y="610"/>
                </a:cubicBezTo>
                <a:cubicBezTo>
                  <a:pt x="93" y="610"/>
                  <a:pt x="93" y="610"/>
                  <a:pt x="93" y="610"/>
                </a:cubicBezTo>
                <a:cubicBezTo>
                  <a:pt x="93" y="610"/>
                  <a:pt x="93"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0"/>
                  <a:pt x="94" y="610"/>
                  <a:pt x="94" y="610"/>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4" y="611"/>
                  <a:pt x="94" y="611"/>
                </a:cubicBezTo>
                <a:cubicBezTo>
                  <a:pt x="94" y="611"/>
                  <a:pt x="95" y="611"/>
                  <a:pt x="95" y="611"/>
                </a:cubicBezTo>
                <a:cubicBezTo>
                  <a:pt x="95" y="611"/>
                  <a:pt x="95" y="611"/>
                  <a:pt x="95" y="611"/>
                </a:cubicBezTo>
                <a:cubicBezTo>
                  <a:pt x="95" y="611"/>
                  <a:pt x="95" y="611"/>
                  <a:pt x="95" y="611"/>
                </a:cubicBezTo>
                <a:cubicBezTo>
                  <a:pt x="95" y="611"/>
                  <a:pt x="95" y="611"/>
                  <a:pt x="95" y="611"/>
                </a:cubicBezTo>
                <a:cubicBezTo>
                  <a:pt x="95" y="611"/>
                  <a:pt x="95" y="611"/>
                  <a:pt x="95" y="611"/>
                </a:cubicBezTo>
                <a:cubicBezTo>
                  <a:pt x="95" y="611"/>
                  <a:pt x="95" y="611"/>
                  <a:pt x="95" y="611"/>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5" y="612"/>
                  <a:pt x="95" y="612"/>
                  <a:pt x="95" y="612"/>
                </a:cubicBezTo>
                <a:cubicBezTo>
                  <a:pt x="96" y="612"/>
                  <a:pt x="96" y="613"/>
                  <a:pt x="96" y="613"/>
                </a:cubicBezTo>
                <a:cubicBezTo>
                  <a:pt x="96" y="613"/>
                  <a:pt x="96" y="613"/>
                  <a:pt x="96" y="613"/>
                </a:cubicBezTo>
                <a:cubicBezTo>
                  <a:pt x="99" y="616"/>
                  <a:pt x="103" y="620"/>
                  <a:pt x="106" y="623"/>
                </a:cubicBezTo>
                <a:cubicBezTo>
                  <a:pt x="106" y="623"/>
                  <a:pt x="106" y="623"/>
                  <a:pt x="106" y="623"/>
                </a:cubicBezTo>
                <a:cubicBezTo>
                  <a:pt x="106" y="623"/>
                  <a:pt x="106" y="623"/>
                  <a:pt x="106" y="623"/>
                </a:cubicBezTo>
                <a:cubicBezTo>
                  <a:pt x="109" y="620"/>
                  <a:pt x="109" y="620"/>
                  <a:pt x="109" y="620"/>
                </a:cubicBezTo>
                <a:cubicBezTo>
                  <a:pt x="104" y="616"/>
                  <a:pt x="100" y="611"/>
                  <a:pt x="95" y="606"/>
                </a:cubicBezTo>
                <a:close/>
                <a:moveTo>
                  <a:pt x="123" y="634"/>
                </a:moveTo>
                <a:cubicBezTo>
                  <a:pt x="120" y="637"/>
                  <a:pt x="120" y="637"/>
                  <a:pt x="120" y="637"/>
                </a:cubicBezTo>
                <a:cubicBezTo>
                  <a:pt x="124" y="640"/>
                  <a:pt x="127" y="643"/>
                  <a:pt x="131" y="646"/>
                </a:cubicBezTo>
                <a:cubicBezTo>
                  <a:pt x="131" y="646"/>
                  <a:pt x="131" y="646"/>
                  <a:pt x="131" y="646"/>
                </a:cubicBezTo>
                <a:cubicBezTo>
                  <a:pt x="131" y="646"/>
                  <a:pt x="131" y="646"/>
                  <a:pt x="131" y="646"/>
                </a:cubicBezTo>
                <a:cubicBezTo>
                  <a:pt x="131" y="646"/>
                  <a:pt x="131" y="646"/>
                  <a:pt x="131" y="646"/>
                </a:cubicBezTo>
                <a:cubicBezTo>
                  <a:pt x="131" y="647"/>
                  <a:pt x="131"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7"/>
                  <a:pt x="132" y="647"/>
                </a:cubicBezTo>
                <a:cubicBezTo>
                  <a:pt x="132" y="647"/>
                  <a:pt x="132" y="648"/>
                  <a:pt x="132" y="648"/>
                </a:cubicBezTo>
                <a:cubicBezTo>
                  <a:pt x="132" y="648"/>
                  <a:pt x="132" y="648"/>
                  <a:pt x="132" y="648"/>
                </a:cubicBezTo>
                <a:cubicBezTo>
                  <a:pt x="132" y="648"/>
                  <a:pt x="132"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3" y="648"/>
                </a:cubicBezTo>
                <a:cubicBezTo>
                  <a:pt x="133" y="648"/>
                  <a:pt x="133" y="648"/>
                  <a:pt x="134" y="648"/>
                </a:cubicBezTo>
                <a:cubicBezTo>
                  <a:pt x="134" y="648"/>
                  <a:pt x="134" y="648"/>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4" y="649"/>
                  <a:pt x="134" y="649"/>
                </a:cubicBezTo>
                <a:cubicBezTo>
                  <a:pt x="134" y="649"/>
                  <a:pt x="135" y="649"/>
                  <a:pt x="135" y="649"/>
                </a:cubicBezTo>
                <a:cubicBezTo>
                  <a:pt x="135" y="649"/>
                  <a:pt x="135" y="649"/>
                  <a:pt x="135" y="649"/>
                </a:cubicBezTo>
                <a:cubicBezTo>
                  <a:pt x="135" y="649"/>
                  <a:pt x="135" y="649"/>
                  <a:pt x="135" y="649"/>
                </a:cubicBezTo>
                <a:cubicBezTo>
                  <a:pt x="135" y="649"/>
                  <a:pt x="135" y="649"/>
                  <a:pt x="135" y="649"/>
                </a:cubicBezTo>
                <a:cubicBezTo>
                  <a:pt x="135" y="649"/>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5" y="650"/>
                  <a:pt x="135" y="650"/>
                </a:cubicBezTo>
                <a:cubicBezTo>
                  <a:pt x="135" y="650"/>
                  <a:pt x="136" y="650"/>
                  <a:pt x="136" y="650"/>
                </a:cubicBezTo>
                <a:cubicBezTo>
                  <a:pt x="138" y="647"/>
                  <a:pt x="138" y="647"/>
                  <a:pt x="138" y="647"/>
                </a:cubicBezTo>
                <a:cubicBezTo>
                  <a:pt x="133" y="643"/>
                  <a:pt x="128" y="639"/>
                  <a:pt x="123" y="634"/>
                </a:cubicBezTo>
                <a:close/>
                <a:moveTo>
                  <a:pt x="154" y="659"/>
                </a:moveTo>
                <a:cubicBezTo>
                  <a:pt x="151" y="662"/>
                  <a:pt x="151" y="662"/>
                  <a:pt x="151" y="662"/>
                </a:cubicBezTo>
                <a:cubicBezTo>
                  <a:pt x="151" y="662"/>
                  <a:pt x="151" y="662"/>
                  <a:pt x="151" y="662"/>
                </a:cubicBezTo>
                <a:cubicBezTo>
                  <a:pt x="152" y="662"/>
                  <a:pt x="152" y="662"/>
                  <a:pt x="152" y="662"/>
                </a:cubicBezTo>
                <a:cubicBezTo>
                  <a:pt x="152" y="662"/>
                  <a:pt x="152" y="662"/>
                  <a:pt x="152" y="662"/>
                </a:cubicBezTo>
                <a:cubicBezTo>
                  <a:pt x="152" y="662"/>
                  <a:pt x="152" y="662"/>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2" y="663"/>
                  <a:pt x="152" y="663"/>
                  <a:pt x="152" y="663"/>
                </a:cubicBezTo>
                <a:cubicBezTo>
                  <a:pt x="153" y="663"/>
                  <a:pt x="153" y="663"/>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3" y="664"/>
                  <a:pt x="153" y="664"/>
                  <a:pt x="153"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4" y="664"/>
                  <a:pt x="154" y="664"/>
                  <a:pt x="154" y="664"/>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5" y="665"/>
                  <a:pt x="155" y="665"/>
                  <a:pt x="155" y="665"/>
                </a:cubicBezTo>
                <a:cubicBezTo>
                  <a:pt x="156" y="665"/>
                  <a:pt x="156" y="665"/>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6" y="666"/>
                  <a:pt x="156" y="666"/>
                </a:cubicBezTo>
                <a:cubicBezTo>
                  <a:pt x="156"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6"/>
                  <a:pt x="157" y="666"/>
                  <a:pt x="157" y="666"/>
                </a:cubicBezTo>
                <a:cubicBezTo>
                  <a:pt x="157" y="667"/>
                  <a:pt x="157" y="667"/>
                  <a:pt x="157" y="667"/>
                </a:cubicBezTo>
                <a:cubicBezTo>
                  <a:pt x="157"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8" y="667"/>
                  <a:pt x="158" y="667"/>
                </a:cubicBezTo>
                <a:cubicBezTo>
                  <a:pt x="158" y="667"/>
                  <a:pt x="159" y="667"/>
                  <a:pt x="159" y="667"/>
                </a:cubicBezTo>
                <a:cubicBezTo>
                  <a:pt x="159" y="667"/>
                  <a:pt x="159" y="667"/>
                  <a:pt x="159" y="667"/>
                </a:cubicBezTo>
                <a:cubicBezTo>
                  <a:pt x="159" y="667"/>
                  <a:pt x="159" y="667"/>
                  <a:pt x="159" y="667"/>
                </a:cubicBezTo>
                <a:cubicBezTo>
                  <a:pt x="159" y="667"/>
                  <a:pt x="159" y="667"/>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59" y="668"/>
                </a:cubicBezTo>
                <a:cubicBezTo>
                  <a:pt x="159" y="668"/>
                  <a:pt x="159"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8"/>
                  <a:pt x="160" y="668"/>
                </a:cubicBezTo>
                <a:cubicBezTo>
                  <a:pt x="160" y="668"/>
                  <a:pt x="160" y="669"/>
                  <a:pt x="160" y="669"/>
                </a:cubicBezTo>
                <a:cubicBezTo>
                  <a:pt x="160" y="669"/>
                  <a:pt x="160" y="669"/>
                  <a:pt x="160" y="669"/>
                </a:cubicBezTo>
                <a:cubicBezTo>
                  <a:pt x="160" y="669"/>
                  <a:pt x="160" y="669"/>
                  <a:pt x="160" y="669"/>
                </a:cubicBezTo>
                <a:cubicBezTo>
                  <a:pt x="160" y="669"/>
                  <a:pt x="160" y="669"/>
                  <a:pt x="160" y="669"/>
                </a:cubicBezTo>
                <a:cubicBezTo>
                  <a:pt x="160" y="669"/>
                  <a:pt x="160"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1" y="669"/>
                  <a:pt x="161" y="669"/>
                </a:cubicBezTo>
                <a:cubicBezTo>
                  <a:pt x="161" y="669"/>
                  <a:pt x="162" y="669"/>
                  <a:pt x="162" y="669"/>
                </a:cubicBezTo>
                <a:cubicBezTo>
                  <a:pt x="162" y="669"/>
                  <a:pt x="162" y="669"/>
                  <a:pt x="162" y="669"/>
                </a:cubicBezTo>
                <a:cubicBezTo>
                  <a:pt x="162" y="669"/>
                  <a:pt x="162" y="669"/>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2" y="670"/>
                  <a:pt x="162" y="670"/>
                  <a:pt x="162"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0"/>
                  <a:pt x="163" y="670"/>
                  <a:pt x="163" y="670"/>
                </a:cubicBezTo>
                <a:cubicBezTo>
                  <a:pt x="163" y="671"/>
                  <a:pt x="163" y="671"/>
                  <a:pt x="164" y="671"/>
                </a:cubicBezTo>
                <a:cubicBezTo>
                  <a:pt x="164" y="671"/>
                  <a:pt x="164" y="671"/>
                  <a:pt x="164" y="671"/>
                </a:cubicBezTo>
                <a:cubicBezTo>
                  <a:pt x="164" y="671"/>
                  <a:pt x="164" y="671"/>
                  <a:pt x="164" y="671"/>
                </a:cubicBezTo>
                <a:cubicBezTo>
                  <a:pt x="164" y="671"/>
                  <a:pt x="164" y="671"/>
                  <a:pt x="164" y="671"/>
                </a:cubicBezTo>
                <a:cubicBezTo>
                  <a:pt x="164" y="671"/>
                  <a:pt x="164" y="671"/>
                  <a:pt x="164" y="671"/>
                </a:cubicBezTo>
                <a:cubicBezTo>
                  <a:pt x="164" y="671"/>
                  <a:pt x="164" y="671"/>
                  <a:pt x="164" y="671"/>
                </a:cubicBezTo>
                <a:cubicBezTo>
                  <a:pt x="165" y="672"/>
                  <a:pt x="167" y="673"/>
                  <a:pt x="168" y="674"/>
                </a:cubicBezTo>
                <a:cubicBezTo>
                  <a:pt x="170" y="670"/>
                  <a:pt x="170" y="670"/>
                  <a:pt x="170" y="670"/>
                </a:cubicBezTo>
                <a:cubicBezTo>
                  <a:pt x="165" y="667"/>
                  <a:pt x="159" y="663"/>
                  <a:pt x="154" y="659"/>
                </a:cubicBezTo>
                <a:close/>
                <a:moveTo>
                  <a:pt x="187" y="681"/>
                </a:moveTo>
                <a:cubicBezTo>
                  <a:pt x="185" y="684"/>
                  <a:pt x="185" y="684"/>
                  <a:pt x="185" y="684"/>
                </a:cubicBezTo>
                <a:cubicBezTo>
                  <a:pt x="185" y="684"/>
                  <a:pt x="185" y="684"/>
                  <a:pt x="185" y="684"/>
                </a:cubicBezTo>
                <a:cubicBezTo>
                  <a:pt x="185" y="684"/>
                  <a:pt x="185" y="684"/>
                  <a:pt x="185" y="684"/>
                </a:cubicBezTo>
                <a:cubicBezTo>
                  <a:pt x="185" y="684"/>
                  <a:pt x="185" y="684"/>
                  <a:pt x="185" y="684"/>
                </a:cubicBezTo>
                <a:cubicBezTo>
                  <a:pt x="185" y="684"/>
                  <a:pt x="185" y="684"/>
                  <a:pt x="185"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4"/>
                  <a:pt x="186" y="684"/>
                  <a:pt x="186" y="684"/>
                </a:cubicBezTo>
                <a:cubicBezTo>
                  <a:pt x="186" y="685"/>
                  <a:pt x="186" y="685"/>
                  <a:pt x="186" y="685"/>
                </a:cubicBezTo>
                <a:cubicBezTo>
                  <a:pt x="186" y="685"/>
                  <a:pt x="186" y="685"/>
                  <a:pt x="186" y="685"/>
                </a:cubicBezTo>
                <a:cubicBezTo>
                  <a:pt x="186"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7" y="685"/>
                  <a:pt x="187" y="685"/>
                  <a:pt x="187" y="685"/>
                </a:cubicBezTo>
                <a:cubicBezTo>
                  <a:pt x="188" y="685"/>
                  <a:pt x="188" y="685"/>
                  <a:pt x="188" y="685"/>
                </a:cubicBezTo>
                <a:cubicBezTo>
                  <a:pt x="188" y="685"/>
                  <a:pt x="188" y="685"/>
                  <a:pt x="188" y="685"/>
                </a:cubicBezTo>
                <a:cubicBezTo>
                  <a:pt x="188" y="685"/>
                  <a:pt x="188" y="685"/>
                  <a:pt x="188" y="685"/>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8" y="686"/>
                  <a:pt x="188" y="686"/>
                  <a:pt x="188"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6"/>
                  <a:pt x="189" y="686"/>
                  <a:pt x="189" y="686"/>
                </a:cubicBezTo>
                <a:cubicBezTo>
                  <a:pt x="189"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0" y="687"/>
                  <a:pt x="190" y="687"/>
                  <a:pt x="190"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7"/>
                </a:cubicBezTo>
                <a:cubicBezTo>
                  <a:pt x="191" y="687"/>
                  <a:pt x="191" y="687"/>
                  <a:pt x="191" y="688"/>
                </a:cubicBezTo>
                <a:cubicBezTo>
                  <a:pt x="191" y="688"/>
                  <a:pt x="191" y="688"/>
                  <a:pt x="191" y="688"/>
                </a:cubicBezTo>
                <a:cubicBezTo>
                  <a:pt x="191" y="688"/>
                  <a:pt x="191" y="688"/>
                  <a:pt x="191" y="688"/>
                </a:cubicBezTo>
                <a:cubicBezTo>
                  <a:pt x="191" y="688"/>
                  <a:pt x="191"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2" y="688"/>
                </a:cubicBezTo>
                <a:cubicBezTo>
                  <a:pt x="192" y="688"/>
                  <a:pt x="192"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8"/>
                </a:cubicBezTo>
                <a:cubicBezTo>
                  <a:pt x="193" y="688"/>
                  <a:pt x="193" y="688"/>
                  <a:pt x="193" y="689"/>
                </a:cubicBezTo>
                <a:cubicBezTo>
                  <a:pt x="193" y="689"/>
                  <a:pt x="193" y="689"/>
                  <a:pt x="193" y="689"/>
                </a:cubicBezTo>
                <a:cubicBezTo>
                  <a:pt x="193" y="689"/>
                  <a:pt x="193" y="689"/>
                  <a:pt x="193" y="689"/>
                </a:cubicBezTo>
                <a:cubicBezTo>
                  <a:pt x="193" y="689"/>
                  <a:pt x="193" y="689"/>
                  <a:pt x="193" y="689"/>
                </a:cubicBezTo>
                <a:cubicBezTo>
                  <a:pt x="193"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4" y="689"/>
                  <a:pt x="194" y="689"/>
                  <a:pt x="194" y="689"/>
                </a:cubicBezTo>
                <a:cubicBezTo>
                  <a:pt x="195" y="689"/>
                  <a:pt x="195" y="689"/>
                  <a:pt x="195" y="690"/>
                </a:cubicBezTo>
                <a:cubicBezTo>
                  <a:pt x="195" y="690"/>
                  <a:pt x="195" y="690"/>
                  <a:pt x="195" y="690"/>
                </a:cubicBezTo>
                <a:cubicBezTo>
                  <a:pt x="198" y="691"/>
                  <a:pt x="200" y="692"/>
                  <a:pt x="203" y="693"/>
                </a:cubicBezTo>
                <a:cubicBezTo>
                  <a:pt x="204" y="690"/>
                  <a:pt x="204" y="690"/>
                  <a:pt x="204" y="690"/>
                </a:cubicBezTo>
                <a:cubicBezTo>
                  <a:pt x="199" y="687"/>
                  <a:pt x="193" y="684"/>
                  <a:pt x="187" y="681"/>
                </a:cubicBezTo>
                <a:close/>
                <a:moveTo>
                  <a:pt x="222" y="698"/>
                </a:moveTo>
                <a:cubicBezTo>
                  <a:pt x="221" y="702"/>
                  <a:pt x="221" y="702"/>
                  <a:pt x="221" y="702"/>
                </a:cubicBezTo>
                <a:cubicBezTo>
                  <a:pt x="221" y="702"/>
                  <a:pt x="221"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2"/>
                </a:cubicBezTo>
                <a:cubicBezTo>
                  <a:pt x="222" y="702"/>
                  <a:pt x="222" y="702"/>
                  <a:pt x="222" y="703"/>
                </a:cubicBezTo>
                <a:cubicBezTo>
                  <a:pt x="222" y="703"/>
                  <a:pt x="222" y="703"/>
                  <a:pt x="222" y="703"/>
                </a:cubicBezTo>
                <a:cubicBezTo>
                  <a:pt x="222" y="703"/>
                  <a:pt x="222"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3" y="703"/>
                  <a:pt x="223" y="703"/>
                  <a:pt x="223"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4" y="703"/>
                  <a:pt x="224" y="703"/>
                  <a:pt x="224" y="703"/>
                </a:cubicBezTo>
                <a:cubicBezTo>
                  <a:pt x="229" y="705"/>
                  <a:pt x="233" y="707"/>
                  <a:pt x="237" y="709"/>
                </a:cubicBezTo>
                <a:cubicBezTo>
                  <a:pt x="237" y="709"/>
                  <a:pt x="237" y="709"/>
                  <a:pt x="237" y="709"/>
                </a:cubicBezTo>
                <a:cubicBezTo>
                  <a:pt x="237" y="709"/>
                  <a:pt x="237" y="709"/>
                  <a:pt x="237" y="709"/>
                </a:cubicBezTo>
                <a:cubicBezTo>
                  <a:pt x="237" y="709"/>
                  <a:pt x="237" y="709"/>
                  <a:pt x="237" y="709"/>
                </a:cubicBezTo>
                <a:cubicBezTo>
                  <a:pt x="237" y="709"/>
                  <a:pt x="237"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8" y="709"/>
                  <a:pt x="238" y="709"/>
                </a:cubicBezTo>
                <a:cubicBezTo>
                  <a:pt x="238"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39" y="709"/>
                  <a:pt x="239" y="709"/>
                  <a:pt x="239" y="709"/>
                </a:cubicBezTo>
                <a:cubicBezTo>
                  <a:pt x="241" y="706"/>
                  <a:pt x="241" y="706"/>
                  <a:pt x="241" y="706"/>
                </a:cubicBezTo>
                <a:cubicBezTo>
                  <a:pt x="235" y="703"/>
                  <a:pt x="228" y="701"/>
                  <a:pt x="222" y="698"/>
                </a:cubicBezTo>
                <a:close/>
                <a:moveTo>
                  <a:pt x="259" y="712"/>
                </a:moveTo>
                <a:cubicBezTo>
                  <a:pt x="258" y="716"/>
                  <a:pt x="258" y="716"/>
                  <a:pt x="258" y="716"/>
                </a:cubicBezTo>
                <a:cubicBezTo>
                  <a:pt x="260" y="716"/>
                  <a:pt x="263" y="717"/>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5" y="718"/>
                </a:cubicBezTo>
                <a:cubicBezTo>
                  <a:pt x="265" y="718"/>
                  <a:pt x="265"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6" y="718"/>
                </a:cubicBezTo>
                <a:cubicBezTo>
                  <a:pt x="266" y="718"/>
                  <a:pt x="266"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7" y="718"/>
                  <a:pt x="267" y="718"/>
                  <a:pt x="267" y="718"/>
                </a:cubicBezTo>
                <a:cubicBezTo>
                  <a:pt x="268" y="718"/>
                  <a:pt x="268" y="718"/>
                  <a:pt x="268" y="718"/>
                </a:cubicBezTo>
                <a:cubicBezTo>
                  <a:pt x="268" y="718"/>
                  <a:pt x="268" y="718"/>
                  <a:pt x="268" y="718"/>
                </a:cubicBezTo>
                <a:cubicBezTo>
                  <a:pt x="268" y="718"/>
                  <a:pt x="268" y="719"/>
                  <a:pt x="268" y="719"/>
                </a:cubicBezTo>
                <a:cubicBezTo>
                  <a:pt x="268" y="719"/>
                  <a:pt x="268" y="719"/>
                  <a:pt x="268" y="719"/>
                </a:cubicBezTo>
                <a:cubicBezTo>
                  <a:pt x="268" y="719"/>
                  <a:pt x="268" y="719"/>
                  <a:pt x="268" y="719"/>
                </a:cubicBezTo>
                <a:cubicBezTo>
                  <a:pt x="268" y="719"/>
                  <a:pt x="268" y="719"/>
                  <a:pt x="268" y="719"/>
                </a:cubicBezTo>
                <a:cubicBezTo>
                  <a:pt x="271" y="719"/>
                  <a:pt x="273" y="720"/>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6" y="721"/>
                  <a:pt x="276" y="721"/>
                </a:cubicBezTo>
                <a:cubicBezTo>
                  <a:pt x="276"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7" y="721"/>
                </a:cubicBezTo>
                <a:cubicBezTo>
                  <a:pt x="277" y="721"/>
                  <a:pt x="277" y="721"/>
                  <a:pt x="278" y="721"/>
                </a:cubicBezTo>
                <a:cubicBezTo>
                  <a:pt x="278" y="721"/>
                  <a:pt x="278" y="721"/>
                  <a:pt x="278" y="721"/>
                </a:cubicBezTo>
                <a:cubicBezTo>
                  <a:pt x="278" y="721"/>
                  <a:pt x="278" y="721"/>
                  <a:pt x="278" y="721"/>
                </a:cubicBezTo>
                <a:cubicBezTo>
                  <a:pt x="279" y="717"/>
                  <a:pt x="279" y="717"/>
                  <a:pt x="279" y="717"/>
                </a:cubicBezTo>
                <a:cubicBezTo>
                  <a:pt x="272" y="716"/>
                  <a:pt x="266" y="714"/>
                  <a:pt x="259" y="712"/>
                </a:cubicBezTo>
                <a:close/>
                <a:moveTo>
                  <a:pt x="298" y="721"/>
                </a:moveTo>
                <a:cubicBezTo>
                  <a:pt x="297" y="725"/>
                  <a:pt x="297" y="725"/>
                  <a:pt x="297" y="725"/>
                </a:cubicBezTo>
                <a:cubicBezTo>
                  <a:pt x="301" y="726"/>
                  <a:pt x="305" y="727"/>
                  <a:pt x="309" y="727"/>
                </a:cubicBezTo>
                <a:cubicBezTo>
                  <a:pt x="309" y="727"/>
                  <a:pt x="309" y="727"/>
                  <a:pt x="309" y="727"/>
                </a:cubicBezTo>
                <a:cubicBezTo>
                  <a:pt x="309" y="727"/>
                  <a:pt x="309" y="728"/>
                  <a:pt x="309" y="728"/>
                </a:cubicBezTo>
                <a:cubicBezTo>
                  <a:pt x="309" y="728"/>
                  <a:pt x="309" y="728"/>
                  <a:pt x="309" y="728"/>
                </a:cubicBezTo>
                <a:cubicBezTo>
                  <a:pt x="309" y="728"/>
                  <a:pt x="309" y="728"/>
                  <a:pt x="309" y="728"/>
                </a:cubicBezTo>
                <a:cubicBezTo>
                  <a:pt x="309"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0" y="728"/>
                  <a:pt x="310" y="728"/>
                </a:cubicBezTo>
                <a:cubicBezTo>
                  <a:pt x="310"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1" y="728"/>
                  <a:pt x="311" y="728"/>
                </a:cubicBezTo>
                <a:cubicBezTo>
                  <a:pt x="311"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2" y="728"/>
                  <a:pt x="312" y="728"/>
                  <a:pt x="312"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3" y="728"/>
                  <a:pt x="313" y="728"/>
                  <a:pt x="313" y="728"/>
                </a:cubicBezTo>
                <a:cubicBezTo>
                  <a:pt x="315" y="728"/>
                  <a:pt x="316" y="728"/>
                  <a:pt x="317" y="729"/>
                </a:cubicBezTo>
                <a:cubicBezTo>
                  <a:pt x="317" y="725"/>
                  <a:pt x="317" y="725"/>
                  <a:pt x="317" y="725"/>
                </a:cubicBezTo>
                <a:cubicBezTo>
                  <a:pt x="311" y="724"/>
                  <a:pt x="304" y="723"/>
                  <a:pt x="298" y="721"/>
                </a:cubicBezTo>
                <a:close/>
                <a:moveTo>
                  <a:pt x="337" y="727"/>
                </a:moveTo>
                <a:cubicBezTo>
                  <a:pt x="337" y="731"/>
                  <a:pt x="337" y="731"/>
                  <a:pt x="337" y="731"/>
                </a:cubicBezTo>
                <a:cubicBezTo>
                  <a:pt x="339" y="731"/>
                  <a:pt x="342"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5" y="731"/>
                  <a:pt x="345" y="731"/>
                  <a:pt x="345" y="731"/>
                </a:cubicBezTo>
                <a:cubicBezTo>
                  <a:pt x="346" y="731"/>
                  <a:pt x="346" y="731"/>
                  <a:pt x="346" y="731"/>
                </a:cubicBezTo>
                <a:cubicBezTo>
                  <a:pt x="346" y="731"/>
                  <a:pt x="346" y="731"/>
                  <a:pt x="346" y="731"/>
                </a:cubicBezTo>
                <a:cubicBezTo>
                  <a:pt x="346" y="731"/>
                  <a:pt x="346" y="731"/>
                  <a:pt x="346" y="731"/>
                </a:cubicBezTo>
                <a:cubicBezTo>
                  <a:pt x="346" y="731"/>
                  <a:pt x="346" y="731"/>
                  <a:pt x="346" y="731"/>
                </a:cubicBezTo>
                <a:cubicBezTo>
                  <a:pt x="346" y="731"/>
                  <a:pt x="346"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7" y="731"/>
                </a:cubicBezTo>
                <a:cubicBezTo>
                  <a:pt x="347" y="731"/>
                  <a:pt x="347"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8" y="731"/>
                </a:cubicBezTo>
                <a:cubicBezTo>
                  <a:pt x="348" y="731"/>
                  <a:pt x="348"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1"/>
                  <a:pt x="349" y="731"/>
                </a:cubicBezTo>
                <a:cubicBezTo>
                  <a:pt x="349" y="731"/>
                  <a:pt x="349" y="732"/>
                  <a:pt x="349" y="732"/>
                </a:cubicBezTo>
                <a:cubicBezTo>
                  <a:pt x="349" y="732"/>
                  <a:pt x="349" y="732"/>
                  <a:pt x="349" y="732"/>
                </a:cubicBezTo>
                <a:cubicBezTo>
                  <a:pt x="349" y="732"/>
                  <a:pt x="349" y="732"/>
                  <a:pt x="349" y="732"/>
                </a:cubicBezTo>
                <a:cubicBezTo>
                  <a:pt x="349"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0" y="732"/>
                  <a:pt x="350" y="732"/>
                  <a:pt x="350" y="732"/>
                </a:cubicBezTo>
                <a:cubicBezTo>
                  <a:pt x="351" y="732"/>
                  <a:pt x="351" y="732"/>
                  <a:pt x="351" y="732"/>
                </a:cubicBezTo>
                <a:cubicBezTo>
                  <a:pt x="351" y="732"/>
                  <a:pt x="351" y="732"/>
                  <a:pt x="351" y="732"/>
                </a:cubicBezTo>
                <a:cubicBezTo>
                  <a:pt x="351" y="732"/>
                  <a:pt x="351" y="732"/>
                  <a:pt x="351" y="732"/>
                </a:cubicBezTo>
                <a:cubicBezTo>
                  <a:pt x="351" y="732"/>
                  <a:pt x="351" y="732"/>
                  <a:pt x="351" y="732"/>
                </a:cubicBezTo>
                <a:cubicBezTo>
                  <a:pt x="353" y="732"/>
                  <a:pt x="355" y="732"/>
                  <a:pt x="357" y="732"/>
                </a:cubicBezTo>
                <a:cubicBezTo>
                  <a:pt x="357" y="728"/>
                  <a:pt x="357" y="728"/>
                  <a:pt x="357" y="728"/>
                </a:cubicBezTo>
                <a:cubicBezTo>
                  <a:pt x="350" y="728"/>
                  <a:pt x="344" y="727"/>
                  <a:pt x="337" y="727"/>
                </a:cubicBezTo>
                <a:close/>
                <a:moveTo>
                  <a:pt x="396" y="727"/>
                </a:moveTo>
                <a:cubicBezTo>
                  <a:pt x="390" y="727"/>
                  <a:pt x="383" y="728"/>
                  <a:pt x="377" y="728"/>
                </a:cubicBezTo>
                <a:cubicBezTo>
                  <a:pt x="377" y="732"/>
                  <a:pt x="377" y="732"/>
                  <a:pt x="377" y="732"/>
                </a:cubicBezTo>
                <a:cubicBezTo>
                  <a:pt x="383" y="732"/>
                  <a:pt x="390" y="731"/>
                  <a:pt x="397" y="731"/>
                </a:cubicBezTo>
                <a:cubicBezTo>
                  <a:pt x="396" y="727"/>
                  <a:pt x="396" y="727"/>
                  <a:pt x="396" y="727"/>
                </a:cubicBezTo>
                <a:close/>
                <a:moveTo>
                  <a:pt x="436" y="721"/>
                </a:moveTo>
                <a:cubicBezTo>
                  <a:pt x="429" y="722"/>
                  <a:pt x="423" y="724"/>
                  <a:pt x="416" y="724"/>
                </a:cubicBezTo>
                <a:cubicBezTo>
                  <a:pt x="417" y="728"/>
                  <a:pt x="417" y="728"/>
                  <a:pt x="417" y="728"/>
                </a:cubicBezTo>
                <a:cubicBezTo>
                  <a:pt x="423" y="728"/>
                  <a:pt x="430" y="726"/>
                  <a:pt x="436" y="725"/>
                </a:cubicBezTo>
                <a:cubicBezTo>
                  <a:pt x="436" y="721"/>
                  <a:pt x="436" y="721"/>
                  <a:pt x="436" y="721"/>
                </a:cubicBezTo>
                <a:close/>
                <a:moveTo>
                  <a:pt x="474" y="712"/>
                </a:moveTo>
                <a:cubicBezTo>
                  <a:pt x="468" y="713"/>
                  <a:pt x="461" y="715"/>
                  <a:pt x="455" y="717"/>
                </a:cubicBezTo>
                <a:cubicBezTo>
                  <a:pt x="456" y="721"/>
                  <a:pt x="456" y="721"/>
                  <a:pt x="456" y="721"/>
                </a:cubicBezTo>
                <a:cubicBezTo>
                  <a:pt x="457" y="721"/>
                  <a:pt x="458" y="720"/>
                  <a:pt x="459" y="720"/>
                </a:cubicBezTo>
                <a:cubicBezTo>
                  <a:pt x="459" y="720"/>
                  <a:pt x="459" y="720"/>
                  <a:pt x="459" y="720"/>
                </a:cubicBezTo>
                <a:cubicBezTo>
                  <a:pt x="459" y="720"/>
                  <a:pt x="459" y="720"/>
                  <a:pt x="459" y="720"/>
                </a:cubicBezTo>
                <a:cubicBezTo>
                  <a:pt x="459" y="720"/>
                  <a:pt x="459" y="720"/>
                  <a:pt x="459" y="720"/>
                </a:cubicBezTo>
                <a:cubicBezTo>
                  <a:pt x="459" y="720"/>
                  <a:pt x="459" y="720"/>
                  <a:pt x="459" y="720"/>
                </a:cubicBezTo>
                <a:cubicBezTo>
                  <a:pt x="459" y="720"/>
                  <a:pt x="459" y="720"/>
                  <a:pt x="459"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0" y="720"/>
                  <a:pt x="460" y="720"/>
                  <a:pt x="460" y="720"/>
                </a:cubicBezTo>
                <a:cubicBezTo>
                  <a:pt x="465" y="718"/>
                  <a:pt x="470" y="717"/>
                  <a:pt x="475" y="715"/>
                </a:cubicBezTo>
                <a:cubicBezTo>
                  <a:pt x="474" y="712"/>
                  <a:pt x="474" y="712"/>
                  <a:pt x="474" y="712"/>
                </a:cubicBezTo>
                <a:close/>
                <a:moveTo>
                  <a:pt x="511" y="698"/>
                </a:moveTo>
                <a:cubicBezTo>
                  <a:pt x="505" y="700"/>
                  <a:pt x="499" y="703"/>
                  <a:pt x="493" y="705"/>
                </a:cubicBezTo>
                <a:cubicBezTo>
                  <a:pt x="494" y="709"/>
                  <a:pt x="494" y="709"/>
                  <a:pt x="494" y="709"/>
                </a:cubicBezTo>
                <a:cubicBezTo>
                  <a:pt x="499" y="707"/>
                  <a:pt x="504" y="705"/>
                  <a:pt x="510" y="703"/>
                </a:cubicBezTo>
                <a:cubicBezTo>
                  <a:pt x="510" y="703"/>
                  <a:pt x="510" y="703"/>
                  <a:pt x="510" y="703"/>
                </a:cubicBezTo>
                <a:cubicBezTo>
                  <a:pt x="510" y="703"/>
                  <a:pt x="510" y="703"/>
                  <a:pt x="510" y="703"/>
                </a:cubicBezTo>
                <a:cubicBezTo>
                  <a:pt x="510" y="703"/>
                  <a:pt x="510" y="703"/>
                  <a:pt x="510" y="703"/>
                </a:cubicBezTo>
                <a:cubicBezTo>
                  <a:pt x="510" y="703"/>
                  <a:pt x="510" y="703"/>
                  <a:pt x="510" y="703"/>
                </a:cubicBezTo>
                <a:cubicBezTo>
                  <a:pt x="510" y="703"/>
                  <a:pt x="510" y="703"/>
                  <a:pt x="510" y="703"/>
                </a:cubicBezTo>
                <a:cubicBezTo>
                  <a:pt x="510" y="703"/>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0" y="702"/>
                </a:cubicBezTo>
                <a:cubicBezTo>
                  <a:pt x="510" y="702"/>
                  <a:pt x="510"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1" y="702"/>
                  <a:pt x="511" y="702"/>
                  <a:pt x="511" y="702"/>
                </a:cubicBezTo>
                <a:cubicBezTo>
                  <a:pt x="512" y="702"/>
                  <a:pt x="512" y="702"/>
                  <a:pt x="513" y="701"/>
                </a:cubicBezTo>
                <a:cubicBezTo>
                  <a:pt x="511" y="698"/>
                  <a:pt x="511" y="698"/>
                  <a:pt x="511" y="698"/>
                </a:cubicBezTo>
                <a:close/>
                <a:moveTo>
                  <a:pt x="546" y="680"/>
                </a:moveTo>
                <a:cubicBezTo>
                  <a:pt x="541" y="683"/>
                  <a:pt x="535" y="686"/>
                  <a:pt x="529" y="689"/>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3"/>
                </a:cubicBezTo>
                <a:cubicBezTo>
                  <a:pt x="531" y="693"/>
                  <a:pt x="531" y="693"/>
                  <a:pt x="531" y="692"/>
                </a:cubicBezTo>
                <a:cubicBezTo>
                  <a:pt x="531" y="692"/>
                  <a:pt x="531" y="692"/>
                  <a:pt x="531" y="692"/>
                </a:cubicBezTo>
                <a:cubicBezTo>
                  <a:pt x="531" y="692"/>
                  <a:pt x="531" y="692"/>
                  <a:pt x="531" y="692"/>
                </a:cubicBezTo>
                <a:cubicBezTo>
                  <a:pt x="531" y="692"/>
                  <a:pt x="531" y="692"/>
                  <a:pt x="532" y="692"/>
                </a:cubicBezTo>
                <a:cubicBezTo>
                  <a:pt x="534" y="691"/>
                  <a:pt x="536" y="690"/>
                  <a:pt x="538" y="689"/>
                </a:cubicBezTo>
                <a:cubicBezTo>
                  <a:pt x="538" y="689"/>
                  <a:pt x="538" y="689"/>
                  <a:pt x="538" y="689"/>
                </a:cubicBezTo>
                <a:cubicBezTo>
                  <a:pt x="538" y="689"/>
                  <a:pt x="538" y="689"/>
                  <a:pt x="538" y="689"/>
                </a:cubicBezTo>
                <a:cubicBezTo>
                  <a:pt x="538" y="689"/>
                  <a:pt x="538" y="689"/>
                  <a:pt x="538" y="689"/>
                </a:cubicBezTo>
                <a:cubicBezTo>
                  <a:pt x="538" y="689"/>
                  <a:pt x="538" y="689"/>
                  <a:pt x="538" y="689"/>
                </a:cubicBezTo>
                <a:cubicBezTo>
                  <a:pt x="538" y="689"/>
                  <a:pt x="538" y="689"/>
                  <a:pt x="538"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9"/>
                </a:cubicBezTo>
                <a:cubicBezTo>
                  <a:pt x="539" y="689"/>
                  <a:pt x="539" y="689"/>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39" y="688"/>
                  <a:pt x="539" y="688"/>
                </a:cubicBezTo>
                <a:cubicBezTo>
                  <a:pt x="539"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0" y="688"/>
                </a:cubicBezTo>
                <a:cubicBezTo>
                  <a:pt x="540" y="688"/>
                  <a:pt x="540" y="688"/>
                  <a:pt x="541" y="688"/>
                </a:cubicBezTo>
                <a:cubicBezTo>
                  <a:pt x="541" y="688"/>
                  <a:pt x="541" y="688"/>
                  <a:pt x="541" y="688"/>
                </a:cubicBezTo>
                <a:cubicBezTo>
                  <a:pt x="541" y="688"/>
                  <a:pt x="541" y="688"/>
                  <a:pt x="541" y="688"/>
                </a:cubicBezTo>
                <a:cubicBezTo>
                  <a:pt x="541" y="688"/>
                  <a:pt x="541" y="688"/>
                  <a:pt x="541" y="688"/>
                </a:cubicBezTo>
                <a:cubicBezTo>
                  <a:pt x="541" y="688"/>
                  <a:pt x="541" y="688"/>
                  <a:pt x="541" y="688"/>
                </a:cubicBezTo>
                <a:cubicBezTo>
                  <a:pt x="541" y="687"/>
                  <a:pt x="541" y="687"/>
                  <a:pt x="541" y="687"/>
                </a:cubicBezTo>
                <a:cubicBezTo>
                  <a:pt x="541" y="687"/>
                  <a:pt x="541" y="687"/>
                  <a:pt x="541" y="687"/>
                </a:cubicBezTo>
                <a:cubicBezTo>
                  <a:pt x="541" y="687"/>
                  <a:pt x="541" y="687"/>
                  <a:pt x="541" y="687"/>
                </a:cubicBezTo>
                <a:cubicBezTo>
                  <a:pt x="543" y="686"/>
                  <a:pt x="544" y="686"/>
                  <a:pt x="546" y="685"/>
                </a:cubicBezTo>
                <a:cubicBezTo>
                  <a:pt x="546" y="685"/>
                  <a:pt x="546" y="685"/>
                  <a:pt x="546" y="685"/>
                </a:cubicBezTo>
                <a:cubicBezTo>
                  <a:pt x="546"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7" y="684"/>
                  <a:pt x="547" y="684"/>
                  <a:pt x="547" y="684"/>
                </a:cubicBezTo>
                <a:cubicBezTo>
                  <a:pt x="548" y="684"/>
                  <a:pt x="548" y="684"/>
                  <a:pt x="548" y="684"/>
                </a:cubicBezTo>
                <a:cubicBezTo>
                  <a:pt x="548" y="684"/>
                  <a:pt x="548" y="684"/>
                  <a:pt x="548" y="684"/>
                </a:cubicBezTo>
                <a:cubicBezTo>
                  <a:pt x="548" y="684"/>
                  <a:pt x="548" y="684"/>
                  <a:pt x="548" y="684"/>
                </a:cubicBezTo>
                <a:cubicBezTo>
                  <a:pt x="548" y="684"/>
                  <a:pt x="548" y="684"/>
                  <a:pt x="548" y="684"/>
                </a:cubicBezTo>
                <a:cubicBezTo>
                  <a:pt x="548" y="684"/>
                  <a:pt x="548" y="684"/>
                  <a:pt x="548" y="683"/>
                </a:cubicBezTo>
                <a:cubicBezTo>
                  <a:pt x="548" y="683"/>
                  <a:pt x="548" y="683"/>
                  <a:pt x="548" y="683"/>
                </a:cubicBezTo>
                <a:cubicBezTo>
                  <a:pt x="548" y="683"/>
                  <a:pt x="548" y="683"/>
                  <a:pt x="548" y="683"/>
                </a:cubicBezTo>
                <a:cubicBezTo>
                  <a:pt x="548" y="683"/>
                  <a:pt x="548" y="683"/>
                  <a:pt x="548" y="683"/>
                </a:cubicBezTo>
                <a:cubicBezTo>
                  <a:pt x="548" y="683"/>
                  <a:pt x="548" y="683"/>
                  <a:pt x="548" y="683"/>
                </a:cubicBezTo>
                <a:cubicBezTo>
                  <a:pt x="546" y="680"/>
                  <a:pt x="546" y="680"/>
                  <a:pt x="546" y="680"/>
                </a:cubicBezTo>
                <a:close/>
                <a:moveTo>
                  <a:pt x="579" y="658"/>
                </a:moveTo>
                <a:cubicBezTo>
                  <a:pt x="574" y="662"/>
                  <a:pt x="569" y="666"/>
                  <a:pt x="563" y="670"/>
                </a:cubicBezTo>
                <a:cubicBezTo>
                  <a:pt x="565" y="673"/>
                  <a:pt x="565" y="673"/>
                  <a:pt x="565" y="673"/>
                </a:cubicBezTo>
                <a:cubicBezTo>
                  <a:pt x="566" y="672"/>
                  <a:pt x="567" y="672"/>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8" y="671"/>
                  <a:pt x="568" y="671"/>
                </a:cubicBezTo>
                <a:cubicBezTo>
                  <a:pt x="568" y="671"/>
                  <a:pt x="569" y="671"/>
                  <a:pt x="569" y="671"/>
                </a:cubicBezTo>
                <a:cubicBezTo>
                  <a:pt x="569" y="671"/>
                  <a:pt x="569" y="671"/>
                  <a:pt x="569" y="671"/>
                </a:cubicBezTo>
                <a:cubicBezTo>
                  <a:pt x="569" y="671"/>
                  <a:pt x="569" y="671"/>
                  <a:pt x="569" y="671"/>
                </a:cubicBezTo>
                <a:cubicBezTo>
                  <a:pt x="569" y="671"/>
                  <a:pt x="569" y="671"/>
                  <a:pt x="569" y="671"/>
                </a:cubicBezTo>
                <a:cubicBezTo>
                  <a:pt x="569" y="671"/>
                  <a:pt x="569" y="671"/>
                  <a:pt x="569" y="671"/>
                </a:cubicBezTo>
                <a:cubicBezTo>
                  <a:pt x="569" y="671"/>
                  <a:pt x="569" y="671"/>
                  <a:pt x="569" y="671"/>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69" y="670"/>
                  <a:pt x="569" y="670"/>
                </a:cubicBezTo>
                <a:cubicBezTo>
                  <a:pt x="569"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70"/>
                  <a:pt x="570" y="670"/>
                </a:cubicBezTo>
                <a:cubicBezTo>
                  <a:pt x="570" y="670"/>
                  <a:pt x="570"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1" y="669"/>
                  <a:pt x="571" y="669"/>
                </a:cubicBezTo>
                <a:cubicBezTo>
                  <a:pt x="571" y="669"/>
                  <a:pt x="572" y="669"/>
                  <a:pt x="572" y="669"/>
                </a:cubicBezTo>
                <a:cubicBezTo>
                  <a:pt x="572" y="669"/>
                  <a:pt x="572" y="669"/>
                  <a:pt x="572" y="669"/>
                </a:cubicBezTo>
                <a:cubicBezTo>
                  <a:pt x="572" y="669"/>
                  <a:pt x="572" y="669"/>
                  <a:pt x="572" y="669"/>
                </a:cubicBezTo>
                <a:cubicBezTo>
                  <a:pt x="572" y="669"/>
                  <a:pt x="572" y="669"/>
                  <a:pt x="572" y="669"/>
                </a:cubicBezTo>
                <a:cubicBezTo>
                  <a:pt x="572" y="669"/>
                  <a:pt x="572" y="669"/>
                  <a:pt x="572" y="668"/>
                </a:cubicBezTo>
                <a:cubicBezTo>
                  <a:pt x="572" y="668"/>
                  <a:pt x="572" y="668"/>
                  <a:pt x="572" y="668"/>
                </a:cubicBezTo>
                <a:cubicBezTo>
                  <a:pt x="572" y="668"/>
                  <a:pt x="572" y="668"/>
                  <a:pt x="572" y="668"/>
                </a:cubicBezTo>
                <a:cubicBezTo>
                  <a:pt x="572" y="668"/>
                  <a:pt x="572" y="668"/>
                  <a:pt x="572" y="668"/>
                </a:cubicBezTo>
                <a:cubicBezTo>
                  <a:pt x="572" y="668"/>
                  <a:pt x="572"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8"/>
                  <a:pt x="573" y="668"/>
                </a:cubicBezTo>
                <a:cubicBezTo>
                  <a:pt x="573" y="668"/>
                  <a:pt x="573"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4" y="667"/>
                  <a:pt x="574" y="667"/>
                </a:cubicBezTo>
                <a:cubicBezTo>
                  <a:pt x="574" y="667"/>
                  <a:pt x="575" y="667"/>
                  <a:pt x="575" y="667"/>
                </a:cubicBezTo>
                <a:cubicBezTo>
                  <a:pt x="575" y="667"/>
                  <a:pt x="575" y="667"/>
                  <a:pt x="575" y="667"/>
                </a:cubicBezTo>
                <a:cubicBezTo>
                  <a:pt x="575" y="667"/>
                  <a:pt x="575" y="667"/>
                  <a:pt x="575" y="667"/>
                </a:cubicBezTo>
                <a:cubicBezTo>
                  <a:pt x="575" y="667"/>
                  <a:pt x="575" y="667"/>
                  <a:pt x="575" y="667"/>
                </a:cubicBezTo>
                <a:cubicBezTo>
                  <a:pt x="575" y="667"/>
                  <a:pt x="575" y="667"/>
                  <a:pt x="575" y="667"/>
                </a:cubicBezTo>
                <a:cubicBezTo>
                  <a:pt x="575" y="667"/>
                  <a:pt x="575" y="667"/>
                  <a:pt x="575" y="667"/>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5" y="666"/>
                  <a:pt x="575" y="666"/>
                  <a:pt x="575"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6"/>
                  <a:pt x="576" y="666"/>
                  <a:pt x="576" y="666"/>
                </a:cubicBezTo>
                <a:cubicBezTo>
                  <a:pt x="576" y="665"/>
                  <a:pt x="576" y="665"/>
                  <a:pt x="576" y="665"/>
                </a:cubicBezTo>
                <a:cubicBezTo>
                  <a:pt x="576" y="665"/>
                  <a:pt x="576" y="665"/>
                  <a:pt x="576" y="665"/>
                </a:cubicBezTo>
                <a:cubicBezTo>
                  <a:pt x="576" y="665"/>
                  <a:pt x="576" y="665"/>
                  <a:pt x="576" y="665"/>
                </a:cubicBezTo>
                <a:cubicBezTo>
                  <a:pt x="576" y="665"/>
                  <a:pt x="576" y="665"/>
                  <a:pt x="576"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7" y="665"/>
                </a:cubicBezTo>
                <a:cubicBezTo>
                  <a:pt x="577" y="665"/>
                  <a:pt x="577" y="665"/>
                  <a:pt x="578" y="665"/>
                </a:cubicBezTo>
                <a:cubicBezTo>
                  <a:pt x="578" y="665"/>
                  <a:pt x="578" y="665"/>
                  <a:pt x="578" y="665"/>
                </a:cubicBezTo>
                <a:cubicBezTo>
                  <a:pt x="578" y="665"/>
                  <a:pt x="578" y="665"/>
                  <a:pt x="578" y="665"/>
                </a:cubicBezTo>
                <a:cubicBezTo>
                  <a:pt x="578" y="665"/>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8" y="664"/>
                  <a:pt x="578" y="664"/>
                </a:cubicBezTo>
                <a:cubicBezTo>
                  <a:pt x="578"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4"/>
                  <a:pt x="579" y="664"/>
                  <a:pt x="579" y="664"/>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79" y="663"/>
                  <a:pt x="579" y="663"/>
                </a:cubicBezTo>
                <a:cubicBezTo>
                  <a:pt x="579"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3"/>
                  <a:pt x="580" y="663"/>
                </a:cubicBezTo>
                <a:cubicBezTo>
                  <a:pt x="580" y="663"/>
                  <a:pt x="580" y="662"/>
                  <a:pt x="580"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1" y="662"/>
                  <a:pt x="581" y="662"/>
                  <a:pt x="581" y="662"/>
                </a:cubicBezTo>
                <a:cubicBezTo>
                  <a:pt x="582" y="662"/>
                  <a:pt x="582" y="662"/>
                  <a:pt x="582" y="662"/>
                </a:cubicBezTo>
                <a:cubicBezTo>
                  <a:pt x="582" y="662"/>
                  <a:pt x="582" y="662"/>
                  <a:pt x="582" y="662"/>
                </a:cubicBezTo>
                <a:cubicBezTo>
                  <a:pt x="582" y="662"/>
                  <a:pt x="582" y="662"/>
                  <a:pt x="582" y="662"/>
                </a:cubicBezTo>
                <a:cubicBezTo>
                  <a:pt x="582" y="662"/>
                  <a:pt x="582" y="662"/>
                  <a:pt x="582" y="662"/>
                </a:cubicBezTo>
                <a:cubicBezTo>
                  <a:pt x="579" y="658"/>
                  <a:pt x="579" y="658"/>
                  <a:pt x="579" y="658"/>
                </a:cubicBezTo>
                <a:close/>
                <a:moveTo>
                  <a:pt x="610" y="633"/>
                </a:moveTo>
                <a:cubicBezTo>
                  <a:pt x="605" y="638"/>
                  <a:pt x="600" y="642"/>
                  <a:pt x="595" y="646"/>
                </a:cubicBezTo>
                <a:cubicBezTo>
                  <a:pt x="598" y="649"/>
                  <a:pt x="598" y="649"/>
                  <a:pt x="598" y="649"/>
                </a:cubicBezTo>
                <a:cubicBezTo>
                  <a:pt x="602" y="646"/>
                  <a:pt x="607" y="642"/>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8"/>
                  <a:pt x="611" y="638"/>
                  <a:pt x="611" y="638"/>
                </a:cubicBezTo>
                <a:cubicBezTo>
                  <a:pt x="611" y="637"/>
                  <a:pt x="611" y="637"/>
                  <a:pt x="611" y="637"/>
                </a:cubicBezTo>
                <a:cubicBezTo>
                  <a:pt x="611" y="637"/>
                  <a:pt x="611" y="637"/>
                  <a:pt x="611" y="637"/>
                </a:cubicBezTo>
                <a:cubicBezTo>
                  <a:pt x="611" y="637"/>
                  <a:pt x="611"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2" y="637"/>
                  <a:pt x="612" y="637"/>
                </a:cubicBezTo>
                <a:cubicBezTo>
                  <a:pt x="612" y="637"/>
                  <a:pt x="613" y="636"/>
                  <a:pt x="613" y="636"/>
                </a:cubicBezTo>
                <a:cubicBezTo>
                  <a:pt x="610" y="633"/>
                  <a:pt x="610" y="633"/>
                  <a:pt x="610" y="633"/>
                </a:cubicBezTo>
                <a:close/>
                <a:moveTo>
                  <a:pt x="638" y="605"/>
                </a:moveTo>
                <a:cubicBezTo>
                  <a:pt x="633" y="610"/>
                  <a:pt x="629" y="615"/>
                  <a:pt x="624" y="620"/>
                </a:cubicBezTo>
                <a:cubicBezTo>
                  <a:pt x="627" y="622"/>
                  <a:pt x="627" y="622"/>
                  <a:pt x="627" y="622"/>
                </a:cubicBezTo>
                <a:cubicBezTo>
                  <a:pt x="632" y="618"/>
                  <a:pt x="636" y="613"/>
                  <a:pt x="641" y="608"/>
                </a:cubicBezTo>
                <a:cubicBezTo>
                  <a:pt x="638" y="605"/>
                  <a:pt x="638" y="605"/>
                  <a:pt x="638" y="605"/>
                </a:cubicBezTo>
                <a:close/>
                <a:moveTo>
                  <a:pt x="662" y="574"/>
                </a:moveTo>
                <a:cubicBezTo>
                  <a:pt x="658" y="579"/>
                  <a:pt x="654" y="585"/>
                  <a:pt x="650" y="590"/>
                </a:cubicBezTo>
                <a:cubicBezTo>
                  <a:pt x="653" y="592"/>
                  <a:pt x="653" y="592"/>
                  <a:pt x="653" y="592"/>
                </a:cubicBezTo>
                <a:cubicBezTo>
                  <a:pt x="654" y="592"/>
                  <a:pt x="655" y="591"/>
                  <a:pt x="655" y="590"/>
                </a:cubicBezTo>
                <a:cubicBezTo>
                  <a:pt x="655" y="590"/>
                  <a:pt x="655" y="590"/>
                  <a:pt x="655" y="590"/>
                </a:cubicBezTo>
                <a:cubicBezTo>
                  <a:pt x="655" y="590"/>
                  <a:pt x="656" y="590"/>
                  <a:pt x="656" y="590"/>
                </a:cubicBezTo>
                <a:cubicBezTo>
                  <a:pt x="656" y="590"/>
                  <a:pt x="656" y="590"/>
                  <a:pt x="656" y="590"/>
                </a:cubicBezTo>
                <a:cubicBezTo>
                  <a:pt x="656" y="590"/>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6" y="589"/>
                </a:cubicBezTo>
                <a:cubicBezTo>
                  <a:pt x="656" y="589"/>
                  <a:pt x="656" y="589"/>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7" y="588"/>
                  <a:pt x="657" y="588"/>
                  <a:pt x="657" y="588"/>
                </a:cubicBezTo>
                <a:cubicBezTo>
                  <a:pt x="658" y="586"/>
                  <a:pt x="660" y="584"/>
                  <a:pt x="661" y="583"/>
                </a:cubicBezTo>
                <a:cubicBezTo>
                  <a:pt x="661" y="583"/>
                  <a:pt x="661" y="583"/>
                  <a:pt x="661" y="583"/>
                </a:cubicBezTo>
                <a:cubicBezTo>
                  <a:pt x="661" y="583"/>
                  <a:pt x="661" y="583"/>
                  <a:pt x="661" y="583"/>
                </a:cubicBezTo>
                <a:cubicBezTo>
                  <a:pt x="661" y="583"/>
                  <a:pt x="661" y="583"/>
                  <a:pt x="661" y="583"/>
                </a:cubicBezTo>
                <a:cubicBezTo>
                  <a:pt x="661" y="583"/>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1" y="582"/>
                </a:cubicBezTo>
                <a:cubicBezTo>
                  <a:pt x="661" y="582"/>
                  <a:pt x="661" y="582"/>
                  <a:pt x="662" y="582"/>
                </a:cubicBezTo>
                <a:cubicBezTo>
                  <a:pt x="662" y="582"/>
                  <a:pt x="662" y="582"/>
                  <a:pt x="662" y="582"/>
                </a:cubicBezTo>
                <a:cubicBezTo>
                  <a:pt x="662" y="582"/>
                  <a:pt x="662" y="582"/>
                  <a:pt x="662" y="582"/>
                </a:cubicBezTo>
                <a:cubicBezTo>
                  <a:pt x="662" y="582"/>
                  <a:pt x="662" y="582"/>
                  <a:pt x="662" y="582"/>
                </a:cubicBezTo>
                <a:cubicBezTo>
                  <a:pt x="662" y="582"/>
                  <a:pt x="662" y="582"/>
                  <a:pt x="662" y="582"/>
                </a:cubicBezTo>
                <a:cubicBezTo>
                  <a:pt x="662" y="582"/>
                  <a:pt x="662" y="582"/>
                  <a:pt x="662" y="582"/>
                </a:cubicBezTo>
                <a:cubicBezTo>
                  <a:pt x="662" y="582"/>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2" y="581"/>
                  <a:pt x="662" y="581"/>
                  <a:pt x="662" y="581"/>
                </a:cubicBezTo>
                <a:cubicBezTo>
                  <a:pt x="663" y="579"/>
                  <a:pt x="664" y="578"/>
                  <a:pt x="665" y="576"/>
                </a:cubicBezTo>
                <a:cubicBezTo>
                  <a:pt x="662" y="574"/>
                  <a:pt x="662" y="574"/>
                  <a:pt x="662" y="574"/>
                </a:cubicBezTo>
                <a:close/>
                <a:moveTo>
                  <a:pt x="683" y="541"/>
                </a:moveTo>
                <a:cubicBezTo>
                  <a:pt x="680" y="546"/>
                  <a:pt x="677" y="552"/>
                  <a:pt x="673" y="558"/>
                </a:cubicBezTo>
                <a:cubicBezTo>
                  <a:pt x="676" y="560"/>
                  <a:pt x="676" y="560"/>
                  <a:pt x="676" y="560"/>
                </a:cubicBezTo>
                <a:cubicBezTo>
                  <a:pt x="680" y="554"/>
                  <a:pt x="683" y="548"/>
                  <a:pt x="687" y="542"/>
                </a:cubicBezTo>
                <a:cubicBezTo>
                  <a:pt x="683" y="541"/>
                  <a:pt x="683" y="541"/>
                  <a:pt x="683" y="541"/>
                </a:cubicBezTo>
                <a:close/>
                <a:moveTo>
                  <a:pt x="700" y="505"/>
                </a:moveTo>
                <a:cubicBezTo>
                  <a:pt x="698" y="511"/>
                  <a:pt x="695" y="517"/>
                  <a:pt x="692" y="523"/>
                </a:cubicBezTo>
                <a:cubicBezTo>
                  <a:pt x="696" y="525"/>
                  <a:pt x="696" y="525"/>
                  <a:pt x="696" y="525"/>
                </a:cubicBezTo>
                <a:cubicBezTo>
                  <a:pt x="696" y="525"/>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4"/>
                  <a:pt x="696" y="524"/>
                </a:cubicBezTo>
                <a:cubicBezTo>
                  <a:pt x="696" y="524"/>
                  <a:pt x="696" y="523"/>
                  <a:pt x="696" y="523"/>
                </a:cubicBezTo>
                <a:cubicBezTo>
                  <a:pt x="696" y="523"/>
                  <a:pt x="696" y="523"/>
                  <a:pt x="696" y="523"/>
                </a:cubicBezTo>
                <a:cubicBezTo>
                  <a:pt x="696" y="523"/>
                  <a:pt x="696"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3"/>
                  <a:pt x="697" y="523"/>
                </a:cubicBezTo>
                <a:cubicBezTo>
                  <a:pt x="697" y="523"/>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2"/>
                  <a:pt x="697" y="522"/>
                </a:cubicBezTo>
                <a:cubicBezTo>
                  <a:pt x="697" y="522"/>
                  <a:pt x="697" y="521"/>
                  <a:pt x="697" y="521"/>
                </a:cubicBezTo>
                <a:cubicBezTo>
                  <a:pt x="697" y="521"/>
                  <a:pt x="697" y="521"/>
                  <a:pt x="697" y="521"/>
                </a:cubicBezTo>
                <a:cubicBezTo>
                  <a:pt x="697" y="521"/>
                  <a:pt x="697"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1"/>
                  <a:pt x="698" y="521"/>
                </a:cubicBezTo>
                <a:cubicBezTo>
                  <a:pt x="698" y="521"/>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20"/>
                </a:cubicBezTo>
                <a:cubicBezTo>
                  <a:pt x="698" y="520"/>
                  <a:pt x="698" y="520"/>
                  <a:pt x="698" y="519"/>
                </a:cubicBezTo>
                <a:cubicBezTo>
                  <a:pt x="698" y="519"/>
                  <a:pt x="698" y="519"/>
                  <a:pt x="698" y="519"/>
                </a:cubicBezTo>
                <a:cubicBezTo>
                  <a:pt x="698" y="519"/>
                  <a:pt x="698" y="519"/>
                  <a:pt x="698" y="519"/>
                </a:cubicBezTo>
                <a:cubicBezTo>
                  <a:pt x="698" y="519"/>
                  <a:pt x="698" y="519"/>
                  <a:pt x="698" y="519"/>
                </a:cubicBezTo>
                <a:cubicBezTo>
                  <a:pt x="698" y="519"/>
                  <a:pt x="699" y="519"/>
                  <a:pt x="699" y="518"/>
                </a:cubicBezTo>
                <a:cubicBezTo>
                  <a:pt x="699" y="518"/>
                  <a:pt x="699" y="518"/>
                  <a:pt x="699" y="518"/>
                </a:cubicBezTo>
                <a:cubicBezTo>
                  <a:pt x="699" y="518"/>
                  <a:pt x="699" y="518"/>
                  <a:pt x="699" y="518"/>
                </a:cubicBezTo>
                <a:cubicBezTo>
                  <a:pt x="699" y="518"/>
                  <a:pt x="699" y="518"/>
                  <a:pt x="699" y="518"/>
                </a:cubicBezTo>
                <a:cubicBezTo>
                  <a:pt x="701" y="514"/>
                  <a:pt x="702" y="510"/>
                  <a:pt x="704" y="506"/>
                </a:cubicBezTo>
                <a:cubicBezTo>
                  <a:pt x="700" y="505"/>
                  <a:pt x="700" y="505"/>
                  <a:pt x="700" y="505"/>
                </a:cubicBezTo>
                <a:close/>
                <a:moveTo>
                  <a:pt x="713" y="468"/>
                </a:moveTo>
                <a:cubicBezTo>
                  <a:pt x="712" y="474"/>
                  <a:pt x="710" y="480"/>
                  <a:pt x="707" y="486"/>
                </a:cubicBezTo>
                <a:cubicBezTo>
                  <a:pt x="711" y="488"/>
                  <a:pt x="711" y="488"/>
                  <a:pt x="711" y="488"/>
                </a:cubicBezTo>
                <a:cubicBezTo>
                  <a:pt x="712" y="485"/>
                  <a:pt x="713" y="482"/>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4" y="478"/>
                  <a:pt x="714" y="478"/>
                  <a:pt x="714" y="478"/>
                </a:cubicBezTo>
                <a:cubicBezTo>
                  <a:pt x="715" y="478"/>
                  <a:pt x="715" y="478"/>
                  <a:pt x="715" y="478"/>
                </a:cubicBezTo>
                <a:cubicBezTo>
                  <a:pt x="715" y="478"/>
                  <a:pt x="715" y="478"/>
                  <a:pt x="715" y="478"/>
                </a:cubicBezTo>
                <a:cubicBezTo>
                  <a:pt x="715" y="478"/>
                  <a:pt x="715" y="478"/>
                  <a:pt x="715" y="478"/>
                </a:cubicBezTo>
                <a:cubicBezTo>
                  <a:pt x="715" y="478"/>
                  <a:pt x="715" y="478"/>
                  <a:pt x="715" y="478"/>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7"/>
                </a:cubicBezTo>
                <a:cubicBezTo>
                  <a:pt x="715" y="477"/>
                  <a:pt x="715" y="477"/>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6"/>
                  <a:pt x="715" y="476"/>
                  <a:pt x="715" y="476"/>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5" y="475"/>
                  <a:pt x="715" y="475"/>
                  <a:pt x="715" y="475"/>
                </a:cubicBezTo>
                <a:cubicBezTo>
                  <a:pt x="716" y="473"/>
                  <a:pt x="717" y="471"/>
                  <a:pt x="717" y="469"/>
                </a:cubicBezTo>
                <a:cubicBezTo>
                  <a:pt x="713" y="468"/>
                  <a:pt x="713" y="468"/>
                  <a:pt x="713" y="468"/>
                </a:cubicBezTo>
                <a:close/>
                <a:moveTo>
                  <a:pt x="722" y="429"/>
                </a:moveTo>
                <a:cubicBezTo>
                  <a:pt x="721" y="436"/>
                  <a:pt x="720" y="442"/>
                  <a:pt x="718" y="448"/>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2" y="449"/>
                </a:cubicBezTo>
                <a:cubicBezTo>
                  <a:pt x="722" y="449"/>
                  <a:pt x="722" y="449"/>
                  <a:pt x="723" y="449"/>
                </a:cubicBezTo>
                <a:cubicBezTo>
                  <a:pt x="723" y="449"/>
                  <a:pt x="723" y="449"/>
                  <a:pt x="723" y="449"/>
                </a:cubicBezTo>
                <a:cubicBezTo>
                  <a:pt x="723" y="449"/>
                  <a:pt x="723" y="449"/>
                  <a:pt x="723" y="449"/>
                </a:cubicBezTo>
                <a:cubicBezTo>
                  <a:pt x="723" y="449"/>
                  <a:pt x="723" y="449"/>
                  <a:pt x="723" y="449"/>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8"/>
                  <a:pt x="723" y="448"/>
                  <a:pt x="723" y="448"/>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7"/>
                </a:cubicBezTo>
                <a:cubicBezTo>
                  <a:pt x="723" y="447"/>
                  <a:pt x="723" y="447"/>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6"/>
                  <a:pt x="723" y="446"/>
                </a:cubicBezTo>
                <a:cubicBezTo>
                  <a:pt x="723" y="446"/>
                  <a:pt x="723" y="445"/>
                  <a:pt x="723" y="445"/>
                </a:cubicBezTo>
                <a:cubicBezTo>
                  <a:pt x="723" y="445"/>
                  <a:pt x="723" y="445"/>
                  <a:pt x="723" y="445"/>
                </a:cubicBezTo>
                <a:cubicBezTo>
                  <a:pt x="723" y="445"/>
                  <a:pt x="723" y="445"/>
                  <a:pt x="723" y="445"/>
                </a:cubicBezTo>
                <a:cubicBezTo>
                  <a:pt x="723" y="445"/>
                  <a:pt x="723" y="445"/>
                  <a:pt x="723" y="445"/>
                </a:cubicBezTo>
                <a:cubicBezTo>
                  <a:pt x="724" y="440"/>
                  <a:pt x="725" y="435"/>
                  <a:pt x="726" y="430"/>
                </a:cubicBezTo>
                <a:cubicBezTo>
                  <a:pt x="722" y="429"/>
                  <a:pt x="722" y="429"/>
                  <a:pt x="722" y="429"/>
                </a:cubicBezTo>
                <a:close/>
                <a:moveTo>
                  <a:pt x="727" y="390"/>
                </a:moveTo>
                <a:cubicBezTo>
                  <a:pt x="727" y="396"/>
                  <a:pt x="726" y="403"/>
                  <a:pt x="725" y="410"/>
                </a:cubicBezTo>
                <a:cubicBezTo>
                  <a:pt x="729" y="410"/>
                  <a:pt x="729" y="410"/>
                  <a:pt x="729" y="410"/>
                </a:cubicBezTo>
                <a:cubicBezTo>
                  <a:pt x="729" y="409"/>
                  <a:pt x="730" y="408"/>
                  <a:pt x="730" y="407"/>
                </a:cubicBezTo>
                <a:cubicBezTo>
                  <a:pt x="730" y="407"/>
                  <a:pt x="730" y="407"/>
                  <a:pt x="730" y="407"/>
                </a:cubicBezTo>
                <a:cubicBezTo>
                  <a:pt x="730" y="407"/>
                  <a:pt x="730" y="407"/>
                  <a:pt x="730" y="407"/>
                </a:cubicBezTo>
                <a:cubicBezTo>
                  <a:pt x="730" y="407"/>
                  <a:pt x="730" y="407"/>
                  <a:pt x="730" y="407"/>
                </a:cubicBezTo>
                <a:cubicBezTo>
                  <a:pt x="730" y="407"/>
                  <a:pt x="730" y="407"/>
                  <a:pt x="730" y="407"/>
                </a:cubicBezTo>
                <a:cubicBezTo>
                  <a:pt x="730" y="407"/>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6"/>
                  <a:pt x="730" y="406"/>
                  <a:pt x="730" y="406"/>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5"/>
                  <a:pt x="730" y="405"/>
                </a:cubicBezTo>
                <a:cubicBezTo>
                  <a:pt x="730" y="405"/>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4"/>
                  <a:pt x="730" y="404"/>
                  <a:pt x="730" y="404"/>
                </a:cubicBezTo>
                <a:cubicBezTo>
                  <a:pt x="730" y="403"/>
                  <a:pt x="730" y="403"/>
                  <a:pt x="730" y="403"/>
                </a:cubicBezTo>
                <a:cubicBezTo>
                  <a:pt x="730" y="403"/>
                  <a:pt x="730" y="403"/>
                  <a:pt x="730" y="403"/>
                </a:cubicBezTo>
                <a:cubicBezTo>
                  <a:pt x="730" y="403"/>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2"/>
                  <a:pt x="730" y="402"/>
                  <a:pt x="730" y="402"/>
                </a:cubicBezTo>
                <a:cubicBezTo>
                  <a:pt x="730" y="401"/>
                  <a:pt x="730" y="401"/>
                  <a:pt x="730" y="401"/>
                </a:cubicBezTo>
                <a:cubicBezTo>
                  <a:pt x="730" y="401"/>
                  <a:pt x="730" y="401"/>
                  <a:pt x="730" y="401"/>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400"/>
                  <a:pt x="730" y="400"/>
                  <a:pt x="730" y="400"/>
                </a:cubicBezTo>
                <a:cubicBezTo>
                  <a:pt x="730" y="399"/>
                  <a:pt x="730" y="399"/>
                  <a:pt x="730" y="399"/>
                </a:cubicBezTo>
                <a:cubicBezTo>
                  <a:pt x="730" y="399"/>
                  <a:pt x="730" y="399"/>
                  <a:pt x="730" y="399"/>
                </a:cubicBezTo>
                <a:cubicBezTo>
                  <a:pt x="730" y="399"/>
                  <a:pt x="730" y="399"/>
                  <a:pt x="730" y="399"/>
                </a:cubicBezTo>
                <a:cubicBezTo>
                  <a:pt x="730" y="399"/>
                  <a:pt x="730" y="399"/>
                  <a:pt x="730" y="399"/>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0" y="398"/>
                  <a:pt x="730" y="398"/>
                  <a:pt x="730"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8"/>
                  <a:pt x="731" y="398"/>
                </a:cubicBezTo>
                <a:cubicBezTo>
                  <a:pt x="731" y="398"/>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7"/>
                  <a:pt x="731" y="397"/>
                  <a:pt x="731" y="397"/>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6"/>
                  <a:pt x="731" y="396"/>
                </a:cubicBezTo>
                <a:cubicBezTo>
                  <a:pt x="731" y="396"/>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5"/>
                </a:cubicBezTo>
                <a:cubicBezTo>
                  <a:pt x="731" y="395"/>
                  <a:pt x="731" y="395"/>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4"/>
                  <a:pt x="731" y="394"/>
                  <a:pt x="731" y="394"/>
                </a:cubicBezTo>
                <a:cubicBezTo>
                  <a:pt x="731" y="393"/>
                  <a:pt x="731" y="393"/>
                  <a:pt x="731" y="393"/>
                </a:cubicBezTo>
                <a:cubicBezTo>
                  <a:pt x="731" y="393"/>
                  <a:pt x="731" y="393"/>
                  <a:pt x="731" y="393"/>
                </a:cubicBezTo>
                <a:cubicBezTo>
                  <a:pt x="731" y="393"/>
                  <a:pt x="731" y="393"/>
                  <a:pt x="731" y="393"/>
                </a:cubicBezTo>
                <a:cubicBezTo>
                  <a:pt x="731" y="393"/>
                  <a:pt x="731" y="393"/>
                  <a:pt x="731" y="393"/>
                </a:cubicBezTo>
                <a:cubicBezTo>
                  <a:pt x="731" y="393"/>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2"/>
                  <a:pt x="731" y="392"/>
                  <a:pt x="731" y="392"/>
                </a:cubicBezTo>
                <a:cubicBezTo>
                  <a:pt x="731" y="391"/>
                  <a:pt x="731" y="391"/>
                  <a:pt x="731" y="390"/>
                </a:cubicBezTo>
                <a:cubicBezTo>
                  <a:pt x="727" y="390"/>
                  <a:pt x="727" y="390"/>
                  <a:pt x="727" y="390"/>
                </a:cubicBezTo>
                <a:close/>
                <a:moveTo>
                  <a:pt x="732" y="350"/>
                </a:moveTo>
                <a:cubicBezTo>
                  <a:pt x="728" y="350"/>
                  <a:pt x="728" y="350"/>
                  <a:pt x="728" y="350"/>
                </a:cubicBezTo>
                <a:cubicBezTo>
                  <a:pt x="728" y="355"/>
                  <a:pt x="728" y="361"/>
                  <a:pt x="728" y="366"/>
                </a:cubicBezTo>
                <a:cubicBezTo>
                  <a:pt x="728" y="367"/>
                  <a:pt x="728" y="369"/>
                  <a:pt x="728" y="370"/>
                </a:cubicBezTo>
                <a:cubicBezTo>
                  <a:pt x="732" y="370"/>
                  <a:pt x="732" y="370"/>
                  <a:pt x="732" y="370"/>
                </a:cubicBezTo>
                <a:cubicBezTo>
                  <a:pt x="732" y="370"/>
                  <a:pt x="732" y="370"/>
                  <a:pt x="732" y="369"/>
                </a:cubicBezTo>
                <a:cubicBezTo>
                  <a:pt x="732" y="369"/>
                  <a:pt x="732" y="369"/>
                  <a:pt x="732" y="369"/>
                </a:cubicBezTo>
                <a:cubicBezTo>
                  <a:pt x="732" y="369"/>
                  <a:pt x="732" y="369"/>
                  <a:pt x="732" y="369"/>
                </a:cubicBezTo>
                <a:cubicBezTo>
                  <a:pt x="732" y="369"/>
                  <a:pt x="732" y="369"/>
                  <a:pt x="732" y="369"/>
                </a:cubicBezTo>
                <a:cubicBezTo>
                  <a:pt x="732" y="369"/>
                  <a:pt x="732" y="369"/>
                  <a:pt x="732" y="369"/>
                </a:cubicBezTo>
                <a:cubicBezTo>
                  <a:pt x="732" y="368"/>
                  <a:pt x="732" y="368"/>
                  <a:pt x="732" y="367"/>
                </a:cubicBezTo>
                <a:cubicBezTo>
                  <a:pt x="732" y="367"/>
                  <a:pt x="732" y="367"/>
                  <a:pt x="732" y="367"/>
                </a:cubicBezTo>
                <a:cubicBezTo>
                  <a:pt x="732" y="367"/>
                  <a:pt x="732" y="367"/>
                  <a:pt x="732" y="367"/>
                </a:cubicBezTo>
                <a:cubicBezTo>
                  <a:pt x="732" y="367"/>
                  <a:pt x="732" y="367"/>
                  <a:pt x="732" y="367"/>
                </a:cubicBezTo>
                <a:cubicBezTo>
                  <a:pt x="732" y="367"/>
                  <a:pt x="732" y="367"/>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6"/>
                  <a:pt x="732" y="366"/>
                  <a:pt x="732" y="366"/>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5"/>
                </a:cubicBezTo>
                <a:cubicBezTo>
                  <a:pt x="732" y="365"/>
                  <a:pt x="732" y="365"/>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4"/>
                  <a:pt x="732" y="364"/>
                </a:cubicBezTo>
                <a:cubicBezTo>
                  <a:pt x="732" y="364"/>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3"/>
                </a:cubicBezTo>
                <a:cubicBezTo>
                  <a:pt x="732" y="363"/>
                  <a:pt x="732" y="363"/>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2"/>
                  <a:pt x="732" y="362"/>
                </a:cubicBezTo>
                <a:cubicBezTo>
                  <a:pt x="732" y="362"/>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1"/>
                </a:cubicBezTo>
                <a:cubicBezTo>
                  <a:pt x="732" y="361"/>
                  <a:pt x="732" y="361"/>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60"/>
                  <a:pt x="732" y="360"/>
                </a:cubicBezTo>
                <a:cubicBezTo>
                  <a:pt x="732" y="360"/>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9"/>
                </a:cubicBezTo>
                <a:cubicBezTo>
                  <a:pt x="732" y="359"/>
                  <a:pt x="732" y="359"/>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8"/>
                  <a:pt x="732" y="358"/>
                </a:cubicBezTo>
                <a:cubicBezTo>
                  <a:pt x="732" y="358"/>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7"/>
                  <a:pt x="732" y="357"/>
                </a:cubicBezTo>
                <a:cubicBezTo>
                  <a:pt x="732" y="357"/>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6"/>
                  <a:pt x="732" y="356"/>
                  <a:pt x="732" y="356"/>
                </a:cubicBezTo>
                <a:cubicBezTo>
                  <a:pt x="732" y="355"/>
                  <a:pt x="732" y="355"/>
                  <a:pt x="732" y="355"/>
                </a:cubicBezTo>
                <a:cubicBezTo>
                  <a:pt x="732" y="355"/>
                  <a:pt x="732" y="355"/>
                  <a:pt x="732" y="355"/>
                </a:cubicBezTo>
                <a:cubicBezTo>
                  <a:pt x="732" y="355"/>
                  <a:pt x="732" y="355"/>
                  <a:pt x="732" y="355"/>
                </a:cubicBezTo>
                <a:cubicBezTo>
                  <a:pt x="732" y="355"/>
                  <a:pt x="732" y="355"/>
                  <a:pt x="732" y="355"/>
                </a:cubicBezTo>
                <a:cubicBezTo>
                  <a:pt x="732" y="353"/>
                  <a:pt x="732" y="352"/>
                  <a:pt x="732" y="350"/>
                </a:cubicBezTo>
                <a:close/>
                <a:moveTo>
                  <a:pt x="728" y="310"/>
                </a:moveTo>
                <a:cubicBezTo>
                  <a:pt x="724" y="311"/>
                  <a:pt x="724" y="311"/>
                  <a:pt x="724" y="311"/>
                </a:cubicBezTo>
                <a:cubicBezTo>
                  <a:pt x="725" y="317"/>
                  <a:pt x="726" y="324"/>
                  <a:pt x="726" y="331"/>
                </a:cubicBezTo>
                <a:cubicBezTo>
                  <a:pt x="730" y="330"/>
                  <a:pt x="730" y="330"/>
                  <a:pt x="730" y="330"/>
                </a:cubicBezTo>
                <a:cubicBezTo>
                  <a:pt x="730" y="330"/>
                  <a:pt x="730" y="330"/>
                  <a:pt x="730" y="330"/>
                </a:cubicBezTo>
                <a:cubicBezTo>
                  <a:pt x="729" y="323"/>
                  <a:pt x="729" y="317"/>
                  <a:pt x="728" y="310"/>
                </a:cubicBezTo>
                <a:close/>
                <a:moveTo>
                  <a:pt x="719" y="271"/>
                </a:moveTo>
                <a:cubicBezTo>
                  <a:pt x="716" y="272"/>
                  <a:pt x="716" y="272"/>
                  <a:pt x="716" y="272"/>
                </a:cubicBezTo>
                <a:cubicBezTo>
                  <a:pt x="717" y="279"/>
                  <a:pt x="719" y="285"/>
                  <a:pt x="720" y="291"/>
                </a:cubicBezTo>
                <a:cubicBezTo>
                  <a:pt x="724" y="291"/>
                  <a:pt x="724" y="291"/>
                  <a:pt x="724" y="291"/>
                </a:cubicBezTo>
                <a:cubicBezTo>
                  <a:pt x="724" y="290"/>
                  <a:pt x="724" y="289"/>
                  <a:pt x="724" y="289"/>
                </a:cubicBezTo>
                <a:cubicBezTo>
                  <a:pt x="724" y="289"/>
                  <a:pt x="724" y="289"/>
                  <a:pt x="724" y="289"/>
                </a:cubicBezTo>
                <a:cubicBezTo>
                  <a:pt x="724" y="289"/>
                  <a:pt x="724" y="289"/>
                  <a:pt x="724" y="289"/>
                </a:cubicBezTo>
                <a:cubicBezTo>
                  <a:pt x="724" y="289"/>
                  <a:pt x="724" y="289"/>
                  <a:pt x="724" y="289"/>
                </a:cubicBezTo>
                <a:cubicBezTo>
                  <a:pt x="724" y="288"/>
                  <a:pt x="724" y="288"/>
                  <a:pt x="724" y="288"/>
                </a:cubicBezTo>
                <a:cubicBezTo>
                  <a:pt x="724" y="288"/>
                  <a:pt x="724" y="288"/>
                  <a:pt x="724" y="288"/>
                </a:cubicBezTo>
                <a:cubicBezTo>
                  <a:pt x="724" y="288"/>
                  <a:pt x="724" y="288"/>
                  <a:pt x="724" y="288"/>
                </a:cubicBezTo>
                <a:cubicBezTo>
                  <a:pt x="723" y="288"/>
                  <a:pt x="723" y="288"/>
                  <a:pt x="723" y="288"/>
                </a:cubicBezTo>
                <a:cubicBezTo>
                  <a:pt x="723" y="288"/>
                  <a:pt x="723" y="288"/>
                  <a:pt x="723" y="288"/>
                </a:cubicBezTo>
                <a:cubicBezTo>
                  <a:pt x="723" y="288"/>
                  <a:pt x="723" y="288"/>
                  <a:pt x="723" y="288"/>
                </a:cubicBezTo>
                <a:cubicBezTo>
                  <a:pt x="723" y="288"/>
                  <a:pt x="723" y="288"/>
                  <a:pt x="723" y="288"/>
                </a:cubicBezTo>
                <a:cubicBezTo>
                  <a:pt x="723" y="288"/>
                  <a:pt x="723" y="288"/>
                  <a:pt x="723" y="288"/>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3" y="287"/>
                  <a:pt x="723" y="287"/>
                  <a:pt x="723" y="287"/>
                </a:cubicBezTo>
                <a:cubicBezTo>
                  <a:pt x="722" y="282"/>
                  <a:pt x="721" y="276"/>
                  <a:pt x="719" y="271"/>
                </a:cubicBezTo>
                <a:close/>
                <a:moveTo>
                  <a:pt x="707" y="233"/>
                </a:moveTo>
                <a:cubicBezTo>
                  <a:pt x="703" y="235"/>
                  <a:pt x="703" y="235"/>
                  <a:pt x="703" y="235"/>
                </a:cubicBezTo>
                <a:cubicBezTo>
                  <a:pt x="706" y="241"/>
                  <a:pt x="708" y="247"/>
                  <a:pt x="710" y="253"/>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2"/>
                </a:cubicBezTo>
                <a:cubicBezTo>
                  <a:pt x="714" y="252"/>
                  <a:pt x="714" y="252"/>
                  <a:pt x="714" y="251"/>
                </a:cubicBezTo>
                <a:cubicBezTo>
                  <a:pt x="714" y="251"/>
                  <a:pt x="714"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3" y="251"/>
                  <a:pt x="713" y="251"/>
                  <a:pt x="713" y="251"/>
                </a:cubicBezTo>
                <a:cubicBezTo>
                  <a:pt x="711" y="245"/>
                  <a:pt x="709" y="239"/>
                  <a:pt x="707" y="233"/>
                </a:cubicBezTo>
                <a:close/>
                <a:moveTo>
                  <a:pt x="690" y="197"/>
                </a:moveTo>
                <a:cubicBezTo>
                  <a:pt x="687" y="199"/>
                  <a:pt x="687" y="199"/>
                  <a:pt x="687" y="199"/>
                </a:cubicBezTo>
                <a:cubicBezTo>
                  <a:pt x="690" y="204"/>
                  <a:pt x="693" y="210"/>
                  <a:pt x="696" y="216"/>
                </a:cubicBezTo>
                <a:cubicBezTo>
                  <a:pt x="699" y="215"/>
                  <a:pt x="699" y="215"/>
                  <a:pt x="699" y="215"/>
                </a:cubicBezTo>
                <a:cubicBezTo>
                  <a:pt x="699" y="214"/>
                  <a:pt x="699" y="214"/>
                  <a:pt x="698" y="213"/>
                </a:cubicBezTo>
                <a:cubicBezTo>
                  <a:pt x="698" y="213"/>
                  <a:pt x="698" y="213"/>
                  <a:pt x="698" y="213"/>
                </a:cubicBezTo>
                <a:cubicBezTo>
                  <a:pt x="698" y="213"/>
                  <a:pt x="698" y="213"/>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2"/>
                  <a:pt x="698" y="212"/>
                </a:cubicBezTo>
                <a:cubicBezTo>
                  <a:pt x="698" y="212"/>
                  <a:pt x="698" y="211"/>
                  <a:pt x="698" y="211"/>
                </a:cubicBezTo>
                <a:cubicBezTo>
                  <a:pt x="698" y="211"/>
                  <a:pt x="698" y="211"/>
                  <a:pt x="698" y="211"/>
                </a:cubicBezTo>
                <a:cubicBezTo>
                  <a:pt x="698" y="211"/>
                  <a:pt x="698" y="211"/>
                  <a:pt x="698" y="211"/>
                </a:cubicBezTo>
                <a:cubicBezTo>
                  <a:pt x="698" y="211"/>
                  <a:pt x="698" y="211"/>
                  <a:pt x="698" y="211"/>
                </a:cubicBezTo>
                <a:cubicBezTo>
                  <a:pt x="698" y="211"/>
                  <a:pt x="698" y="211"/>
                  <a:pt x="698" y="211"/>
                </a:cubicBezTo>
                <a:cubicBezTo>
                  <a:pt x="698" y="211"/>
                  <a:pt x="698" y="211"/>
                  <a:pt x="698"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1"/>
                  <a:pt x="697" y="211"/>
                  <a:pt x="697" y="211"/>
                </a:cubicBezTo>
                <a:cubicBezTo>
                  <a:pt x="697" y="210"/>
                  <a:pt x="697" y="210"/>
                  <a:pt x="697" y="210"/>
                </a:cubicBezTo>
                <a:cubicBezTo>
                  <a:pt x="697" y="210"/>
                  <a:pt x="697" y="210"/>
                  <a:pt x="697" y="210"/>
                </a:cubicBezTo>
                <a:cubicBezTo>
                  <a:pt x="697" y="210"/>
                  <a:pt x="697" y="210"/>
                  <a:pt x="697" y="210"/>
                </a:cubicBezTo>
                <a:cubicBezTo>
                  <a:pt x="697" y="210"/>
                  <a:pt x="697" y="210"/>
                  <a:pt x="697" y="210"/>
                </a:cubicBezTo>
                <a:cubicBezTo>
                  <a:pt x="696" y="209"/>
                  <a:pt x="696" y="208"/>
                  <a:pt x="695" y="207"/>
                </a:cubicBezTo>
                <a:cubicBezTo>
                  <a:pt x="695" y="207"/>
                  <a:pt x="695" y="207"/>
                  <a:pt x="695" y="207"/>
                </a:cubicBezTo>
                <a:cubicBezTo>
                  <a:pt x="695" y="207"/>
                  <a:pt x="695" y="207"/>
                  <a:pt x="695" y="207"/>
                </a:cubicBezTo>
                <a:cubicBezTo>
                  <a:pt x="695" y="207"/>
                  <a:pt x="695" y="207"/>
                  <a:pt x="695" y="207"/>
                </a:cubicBezTo>
                <a:cubicBezTo>
                  <a:pt x="695" y="207"/>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6"/>
                  <a:pt x="695" y="206"/>
                </a:cubicBezTo>
                <a:cubicBezTo>
                  <a:pt x="695" y="206"/>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5" y="205"/>
                  <a:pt x="695" y="205"/>
                </a:cubicBezTo>
                <a:cubicBezTo>
                  <a:pt x="695" y="205"/>
                  <a:pt x="694" y="205"/>
                  <a:pt x="694" y="205"/>
                </a:cubicBezTo>
                <a:cubicBezTo>
                  <a:pt x="694" y="205"/>
                  <a:pt x="694" y="205"/>
                  <a:pt x="694" y="205"/>
                </a:cubicBezTo>
                <a:cubicBezTo>
                  <a:pt x="694" y="205"/>
                  <a:pt x="694" y="205"/>
                  <a:pt x="694" y="205"/>
                </a:cubicBezTo>
                <a:cubicBezTo>
                  <a:pt x="694" y="205"/>
                  <a:pt x="694" y="205"/>
                  <a:pt x="694" y="205"/>
                </a:cubicBezTo>
                <a:cubicBezTo>
                  <a:pt x="694" y="205"/>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4"/>
                </a:cubicBezTo>
                <a:cubicBezTo>
                  <a:pt x="694" y="204"/>
                  <a:pt x="694" y="204"/>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4" y="203"/>
                  <a:pt x="694" y="203"/>
                </a:cubicBezTo>
                <a:cubicBezTo>
                  <a:pt x="694" y="203"/>
                  <a:pt x="693" y="203"/>
                  <a:pt x="693" y="203"/>
                </a:cubicBezTo>
                <a:cubicBezTo>
                  <a:pt x="693" y="203"/>
                  <a:pt x="693" y="203"/>
                  <a:pt x="693" y="203"/>
                </a:cubicBezTo>
                <a:cubicBezTo>
                  <a:pt x="693" y="203"/>
                  <a:pt x="693" y="203"/>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2"/>
                  <a:pt x="693" y="202"/>
                </a:cubicBezTo>
                <a:cubicBezTo>
                  <a:pt x="693" y="202"/>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3" y="201"/>
                </a:cubicBezTo>
                <a:cubicBezTo>
                  <a:pt x="693" y="201"/>
                  <a:pt x="693" y="201"/>
                  <a:pt x="692" y="201"/>
                </a:cubicBezTo>
                <a:cubicBezTo>
                  <a:pt x="692" y="201"/>
                  <a:pt x="692" y="201"/>
                  <a:pt x="692" y="201"/>
                </a:cubicBezTo>
                <a:cubicBezTo>
                  <a:pt x="692" y="201"/>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200"/>
                  <a:pt x="692" y="200"/>
                  <a:pt x="692" y="200"/>
                </a:cubicBezTo>
                <a:cubicBezTo>
                  <a:pt x="692" y="199"/>
                  <a:pt x="692" y="199"/>
                  <a:pt x="692" y="199"/>
                </a:cubicBezTo>
                <a:cubicBezTo>
                  <a:pt x="692" y="199"/>
                  <a:pt x="692" y="199"/>
                  <a:pt x="692" y="199"/>
                </a:cubicBezTo>
                <a:cubicBezTo>
                  <a:pt x="692" y="199"/>
                  <a:pt x="692" y="199"/>
                  <a:pt x="692" y="199"/>
                </a:cubicBezTo>
                <a:cubicBezTo>
                  <a:pt x="692" y="199"/>
                  <a:pt x="692" y="199"/>
                  <a:pt x="692" y="199"/>
                </a:cubicBezTo>
                <a:cubicBezTo>
                  <a:pt x="692" y="199"/>
                  <a:pt x="692" y="199"/>
                  <a:pt x="691" y="199"/>
                </a:cubicBezTo>
                <a:cubicBezTo>
                  <a:pt x="691" y="199"/>
                  <a:pt x="691" y="199"/>
                  <a:pt x="691" y="199"/>
                </a:cubicBezTo>
                <a:cubicBezTo>
                  <a:pt x="691" y="199"/>
                  <a:pt x="691" y="199"/>
                  <a:pt x="691" y="199"/>
                </a:cubicBezTo>
                <a:cubicBezTo>
                  <a:pt x="691" y="199"/>
                  <a:pt x="691" y="199"/>
                  <a:pt x="691" y="199"/>
                </a:cubicBezTo>
                <a:cubicBezTo>
                  <a:pt x="691" y="199"/>
                  <a:pt x="691" y="199"/>
                  <a:pt x="691" y="199"/>
                </a:cubicBezTo>
                <a:cubicBezTo>
                  <a:pt x="691" y="199"/>
                  <a:pt x="691" y="199"/>
                  <a:pt x="691" y="199"/>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8"/>
                  <a:pt x="691" y="198"/>
                </a:cubicBezTo>
                <a:cubicBezTo>
                  <a:pt x="691" y="198"/>
                  <a:pt x="691" y="197"/>
                  <a:pt x="691" y="197"/>
                </a:cubicBezTo>
                <a:cubicBezTo>
                  <a:pt x="691" y="197"/>
                  <a:pt x="691" y="197"/>
                  <a:pt x="691" y="197"/>
                </a:cubicBezTo>
                <a:cubicBezTo>
                  <a:pt x="691" y="197"/>
                  <a:pt x="691" y="197"/>
                  <a:pt x="691" y="197"/>
                </a:cubicBezTo>
                <a:cubicBezTo>
                  <a:pt x="691" y="197"/>
                  <a:pt x="691" y="197"/>
                  <a:pt x="691" y="197"/>
                </a:cubicBezTo>
                <a:cubicBezTo>
                  <a:pt x="691" y="197"/>
                  <a:pt x="691" y="197"/>
                  <a:pt x="691" y="197"/>
                </a:cubicBezTo>
                <a:cubicBezTo>
                  <a:pt x="690" y="197"/>
                  <a:pt x="690" y="197"/>
                  <a:pt x="690" y="197"/>
                </a:cubicBezTo>
                <a:cubicBezTo>
                  <a:pt x="690" y="197"/>
                  <a:pt x="690" y="197"/>
                  <a:pt x="690" y="197"/>
                </a:cubicBezTo>
                <a:close/>
                <a:moveTo>
                  <a:pt x="670" y="162"/>
                </a:moveTo>
                <a:cubicBezTo>
                  <a:pt x="667" y="165"/>
                  <a:pt x="667" y="165"/>
                  <a:pt x="667" y="165"/>
                </a:cubicBezTo>
                <a:cubicBezTo>
                  <a:pt x="670" y="170"/>
                  <a:pt x="674" y="176"/>
                  <a:pt x="677" y="181"/>
                </a:cubicBezTo>
                <a:cubicBezTo>
                  <a:pt x="681" y="179"/>
                  <a:pt x="681" y="179"/>
                  <a:pt x="681" y="179"/>
                </a:cubicBezTo>
                <a:cubicBezTo>
                  <a:pt x="680" y="179"/>
                  <a:pt x="680" y="178"/>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7"/>
                  <a:pt x="679" y="177"/>
                  <a:pt x="679" y="177"/>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9" y="176"/>
                  <a:pt x="679" y="176"/>
                  <a:pt x="679" y="176"/>
                </a:cubicBezTo>
                <a:cubicBezTo>
                  <a:pt x="676" y="172"/>
                  <a:pt x="674" y="169"/>
                  <a:pt x="672" y="165"/>
                </a:cubicBezTo>
                <a:cubicBezTo>
                  <a:pt x="672" y="165"/>
                  <a:pt x="672" y="165"/>
                  <a:pt x="672" y="165"/>
                </a:cubicBezTo>
                <a:cubicBezTo>
                  <a:pt x="672" y="165"/>
                  <a:pt x="672" y="165"/>
                  <a:pt x="672" y="165"/>
                </a:cubicBezTo>
                <a:cubicBezTo>
                  <a:pt x="672" y="165"/>
                  <a:pt x="672" y="165"/>
                  <a:pt x="672" y="165"/>
                </a:cubicBezTo>
                <a:cubicBezTo>
                  <a:pt x="672" y="165"/>
                  <a:pt x="672" y="165"/>
                  <a:pt x="672" y="165"/>
                </a:cubicBezTo>
                <a:cubicBezTo>
                  <a:pt x="672" y="165"/>
                  <a:pt x="672" y="165"/>
                  <a:pt x="672" y="165"/>
                </a:cubicBezTo>
                <a:cubicBezTo>
                  <a:pt x="672" y="165"/>
                  <a:pt x="671" y="165"/>
                  <a:pt x="671" y="165"/>
                </a:cubicBezTo>
                <a:cubicBezTo>
                  <a:pt x="671" y="165"/>
                  <a:pt x="671" y="165"/>
                  <a:pt x="671" y="165"/>
                </a:cubicBezTo>
                <a:cubicBezTo>
                  <a:pt x="671" y="165"/>
                  <a:pt x="671" y="165"/>
                  <a:pt x="671" y="165"/>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4"/>
                  <a:pt x="671" y="164"/>
                  <a:pt x="671" y="164"/>
                </a:cubicBezTo>
                <a:cubicBezTo>
                  <a:pt x="671" y="163"/>
                  <a:pt x="670" y="163"/>
                  <a:pt x="670" y="162"/>
                </a:cubicBezTo>
                <a:close/>
                <a:moveTo>
                  <a:pt x="646" y="130"/>
                </a:moveTo>
                <a:cubicBezTo>
                  <a:pt x="643" y="133"/>
                  <a:pt x="643" y="133"/>
                  <a:pt x="643" y="133"/>
                </a:cubicBezTo>
                <a:cubicBezTo>
                  <a:pt x="647" y="138"/>
                  <a:pt x="651" y="143"/>
                  <a:pt x="655" y="149"/>
                </a:cubicBezTo>
                <a:cubicBezTo>
                  <a:pt x="658" y="146"/>
                  <a:pt x="658" y="146"/>
                  <a:pt x="658" y="146"/>
                </a:cubicBezTo>
                <a:cubicBezTo>
                  <a:pt x="657" y="145"/>
                  <a:pt x="656" y="143"/>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2"/>
                  <a:pt x="655" y="142"/>
                </a:cubicBezTo>
                <a:cubicBezTo>
                  <a:pt x="655" y="142"/>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5" y="141"/>
                  <a:pt x="655" y="141"/>
                </a:cubicBezTo>
                <a:cubicBezTo>
                  <a:pt x="655"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1"/>
                  <a:pt x="654" y="141"/>
                  <a:pt x="654" y="141"/>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4" y="140"/>
                  <a:pt x="654" y="140"/>
                  <a:pt x="654" y="140"/>
                </a:cubicBezTo>
                <a:cubicBezTo>
                  <a:pt x="653" y="140"/>
                  <a:pt x="653" y="139"/>
                  <a:pt x="653" y="139"/>
                </a:cubicBezTo>
                <a:cubicBezTo>
                  <a:pt x="653" y="139"/>
                  <a:pt x="653" y="139"/>
                  <a:pt x="653" y="139"/>
                </a:cubicBezTo>
                <a:cubicBezTo>
                  <a:pt x="653" y="139"/>
                  <a:pt x="653" y="139"/>
                  <a:pt x="653" y="139"/>
                </a:cubicBezTo>
                <a:cubicBezTo>
                  <a:pt x="653" y="139"/>
                  <a:pt x="653" y="139"/>
                  <a:pt x="653" y="139"/>
                </a:cubicBezTo>
                <a:cubicBezTo>
                  <a:pt x="651" y="136"/>
                  <a:pt x="648" y="133"/>
                  <a:pt x="646" y="130"/>
                </a:cubicBezTo>
                <a:close/>
                <a:moveTo>
                  <a:pt x="619" y="101"/>
                </a:moveTo>
                <a:cubicBezTo>
                  <a:pt x="616" y="104"/>
                  <a:pt x="616" y="104"/>
                  <a:pt x="616" y="104"/>
                </a:cubicBezTo>
                <a:cubicBezTo>
                  <a:pt x="621" y="109"/>
                  <a:pt x="625" y="114"/>
                  <a:pt x="630" y="118"/>
                </a:cubicBezTo>
                <a:cubicBezTo>
                  <a:pt x="633" y="116"/>
                  <a:pt x="633" y="116"/>
                  <a:pt x="633" y="116"/>
                </a:cubicBezTo>
                <a:cubicBezTo>
                  <a:pt x="631" y="114"/>
                  <a:pt x="629" y="112"/>
                  <a:pt x="628" y="110"/>
                </a:cubicBezTo>
                <a:cubicBezTo>
                  <a:pt x="628" y="110"/>
                  <a:pt x="628" y="110"/>
                  <a:pt x="628" y="110"/>
                </a:cubicBezTo>
                <a:cubicBezTo>
                  <a:pt x="628" y="110"/>
                  <a:pt x="628" y="110"/>
                  <a:pt x="628" y="110"/>
                </a:cubicBezTo>
                <a:cubicBezTo>
                  <a:pt x="628" y="110"/>
                  <a:pt x="628" y="110"/>
                  <a:pt x="628" y="110"/>
                </a:cubicBezTo>
                <a:cubicBezTo>
                  <a:pt x="628" y="110"/>
                  <a:pt x="628" y="110"/>
                  <a:pt x="628" y="110"/>
                </a:cubicBezTo>
                <a:cubicBezTo>
                  <a:pt x="628" y="110"/>
                  <a:pt x="628" y="110"/>
                  <a:pt x="628" y="110"/>
                </a:cubicBezTo>
                <a:cubicBezTo>
                  <a:pt x="628"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10"/>
                  <a:pt x="627" y="110"/>
                  <a:pt x="627" y="110"/>
                </a:cubicBezTo>
                <a:cubicBezTo>
                  <a:pt x="627" y="109"/>
                  <a:pt x="627" y="109"/>
                  <a:pt x="627" y="109"/>
                </a:cubicBezTo>
                <a:cubicBezTo>
                  <a:pt x="627" y="109"/>
                  <a:pt x="627" y="109"/>
                  <a:pt x="627" y="109"/>
                </a:cubicBezTo>
                <a:cubicBezTo>
                  <a:pt x="627" y="109"/>
                  <a:pt x="627" y="109"/>
                  <a:pt x="627" y="109"/>
                </a:cubicBezTo>
                <a:cubicBezTo>
                  <a:pt x="627" y="109"/>
                  <a:pt x="627" y="109"/>
                  <a:pt x="627" y="109"/>
                </a:cubicBezTo>
                <a:cubicBezTo>
                  <a:pt x="627" y="109"/>
                  <a:pt x="627" y="109"/>
                  <a:pt x="627" y="109"/>
                </a:cubicBezTo>
                <a:cubicBezTo>
                  <a:pt x="627" y="109"/>
                  <a:pt x="627"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9"/>
                  <a:pt x="626" y="109"/>
                  <a:pt x="626" y="109"/>
                </a:cubicBezTo>
                <a:cubicBezTo>
                  <a:pt x="626" y="108"/>
                  <a:pt x="626" y="108"/>
                  <a:pt x="626" y="108"/>
                </a:cubicBezTo>
                <a:cubicBezTo>
                  <a:pt x="626" y="108"/>
                  <a:pt x="626" y="108"/>
                  <a:pt x="626" y="108"/>
                </a:cubicBezTo>
                <a:cubicBezTo>
                  <a:pt x="626" y="108"/>
                  <a:pt x="626" y="108"/>
                  <a:pt x="626" y="108"/>
                </a:cubicBezTo>
                <a:cubicBezTo>
                  <a:pt x="626" y="108"/>
                  <a:pt x="626"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8"/>
                  <a:pt x="625" y="108"/>
                  <a:pt x="625" y="108"/>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5" y="107"/>
                  <a:pt x="625" y="107"/>
                  <a:pt x="625"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7"/>
                  <a:pt x="624" y="107"/>
                </a:cubicBezTo>
                <a:cubicBezTo>
                  <a:pt x="624" y="107"/>
                  <a:pt x="624" y="106"/>
                  <a:pt x="624" y="106"/>
                </a:cubicBezTo>
                <a:cubicBezTo>
                  <a:pt x="624" y="106"/>
                  <a:pt x="624" y="106"/>
                  <a:pt x="624" y="106"/>
                </a:cubicBezTo>
                <a:cubicBezTo>
                  <a:pt x="624" y="106"/>
                  <a:pt x="624" y="106"/>
                  <a:pt x="624" y="106"/>
                </a:cubicBezTo>
                <a:cubicBezTo>
                  <a:pt x="624" y="106"/>
                  <a:pt x="624" y="106"/>
                  <a:pt x="624" y="106"/>
                </a:cubicBezTo>
                <a:cubicBezTo>
                  <a:pt x="624" y="106"/>
                  <a:pt x="624" y="106"/>
                  <a:pt x="624" y="106"/>
                </a:cubicBezTo>
                <a:cubicBezTo>
                  <a:pt x="624" y="106"/>
                  <a:pt x="624" y="106"/>
                  <a:pt x="624"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3" y="106"/>
                  <a:pt x="623" y="106"/>
                  <a:pt x="623" y="106"/>
                </a:cubicBezTo>
                <a:cubicBezTo>
                  <a:pt x="622" y="104"/>
                  <a:pt x="620" y="103"/>
                  <a:pt x="619" y="101"/>
                </a:cubicBezTo>
                <a:close/>
                <a:moveTo>
                  <a:pt x="588" y="75"/>
                </a:moveTo>
                <a:cubicBezTo>
                  <a:pt x="586" y="79"/>
                  <a:pt x="586" y="79"/>
                  <a:pt x="586" y="79"/>
                </a:cubicBezTo>
                <a:cubicBezTo>
                  <a:pt x="591" y="83"/>
                  <a:pt x="596" y="87"/>
                  <a:pt x="601" y="91"/>
                </a:cubicBezTo>
                <a:cubicBezTo>
                  <a:pt x="604" y="88"/>
                  <a:pt x="604" y="88"/>
                  <a:pt x="604" y="88"/>
                </a:cubicBezTo>
                <a:cubicBezTo>
                  <a:pt x="599" y="84"/>
                  <a:pt x="593" y="79"/>
                  <a:pt x="588" y="75"/>
                </a:cubicBezTo>
                <a:close/>
                <a:moveTo>
                  <a:pt x="555" y="53"/>
                </a:moveTo>
                <a:cubicBezTo>
                  <a:pt x="553" y="56"/>
                  <a:pt x="553" y="56"/>
                  <a:pt x="553" y="56"/>
                </a:cubicBezTo>
                <a:cubicBezTo>
                  <a:pt x="559" y="60"/>
                  <a:pt x="564" y="63"/>
                  <a:pt x="570" y="67"/>
                </a:cubicBezTo>
                <a:cubicBezTo>
                  <a:pt x="572" y="64"/>
                  <a:pt x="572" y="64"/>
                  <a:pt x="572" y="64"/>
                </a:cubicBezTo>
                <a:cubicBezTo>
                  <a:pt x="572" y="64"/>
                  <a:pt x="572" y="64"/>
                  <a:pt x="572" y="64"/>
                </a:cubicBezTo>
                <a:cubicBezTo>
                  <a:pt x="572" y="64"/>
                  <a:pt x="572" y="64"/>
                  <a:pt x="572" y="64"/>
                </a:cubicBezTo>
                <a:cubicBezTo>
                  <a:pt x="572" y="64"/>
                  <a:pt x="572" y="64"/>
                  <a:pt x="572" y="64"/>
                </a:cubicBezTo>
                <a:cubicBezTo>
                  <a:pt x="572" y="64"/>
                  <a:pt x="572" y="64"/>
                  <a:pt x="572" y="63"/>
                </a:cubicBezTo>
                <a:cubicBezTo>
                  <a:pt x="572" y="63"/>
                  <a:pt x="572" y="63"/>
                  <a:pt x="572" y="63"/>
                </a:cubicBezTo>
                <a:cubicBezTo>
                  <a:pt x="572" y="63"/>
                  <a:pt x="572" y="63"/>
                  <a:pt x="572" y="63"/>
                </a:cubicBezTo>
                <a:cubicBezTo>
                  <a:pt x="572" y="63"/>
                  <a:pt x="572" y="63"/>
                  <a:pt x="572" y="63"/>
                </a:cubicBezTo>
                <a:cubicBezTo>
                  <a:pt x="572"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1" y="63"/>
                  <a:pt x="571" y="63"/>
                  <a:pt x="571" y="63"/>
                </a:cubicBezTo>
                <a:cubicBezTo>
                  <a:pt x="570" y="63"/>
                  <a:pt x="570" y="63"/>
                  <a:pt x="570" y="63"/>
                </a:cubicBezTo>
                <a:cubicBezTo>
                  <a:pt x="570" y="63"/>
                  <a:pt x="570" y="63"/>
                  <a:pt x="570" y="63"/>
                </a:cubicBezTo>
                <a:cubicBezTo>
                  <a:pt x="570" y="63"/>
                  <a:pt x="570" y="63"/>
                  <a:pt x="570" y="63"/>
                </a:cubicBezTo>
                <a:cubicBezTo>
                  <a:pt x="570" y="63"/>
                  <a:pt x="570" y="63"/>
                  <a:pt x="570" y="63"/>
                </a:cubicBezTo>
                <a:cubicBezTo>
                  <a:pt x="570" y="62"/>
                  <a:pt x="570" y="62"/>
                  <a:pt x="570" y="62"/>
                </a:cubicBezTo>
                <a:cubicBezTo>
                  <a:pt x="570" y="62"/>
                  <a:pt x="570" y="62"/>
                  <a:pt x="570" y="62"/>
                </a:cubicBezTo>
                <a:cubicBezTo>
                  <a:pt x="570" y="62"/>
                  <a:pt x="570" y="62"/>
                  <a:pt x="570" y="62"/>
                </a:cubicBezTo>
                <a:cubicBezTo>
                  <a:pt x="570" y="62"/>
                  <a:pt x="570" y="62"/>
                  <a:pt x="570" y="62"/>
                </a:cubicBezTo>
                <a:cubicBezTo>
                  <a:pt x="570" y="62"/>
                  <a:pt x="570" y="62"/>
                  <a:pt x="570" y="62"/>
                </a:cubicBezTo>
                <a:cubicBezTo>
                  <a:pt x="569" y="62"/>
                  <a:pt x="569" y="62"/>
                  <a:pt x="569" y="62"/>
                </a:cubicBezTo>
                <a:cubicBezTo>
                  <a:pt x="569" y="62"/>
                  <a:pt x="569" y="62"/>
                  <a:pt x="569" y="62"/>
                </a:cubicBezTo>
                <a:cubicBezTo>
                  <a:pt x="569" y="62"/>
                  <a:pt x="569" y="62"/>
                  <a:pt x="569" y="62"/>
                </a:cubicBezTo>
                <a:cubicBezTo>
                  <a:pt x="569" y="62"/>
                  <a:pt x="569" y="62"/>
                  <a:pt x="569" y="61"/>
                </a:cubicBezTo>
                <a:cubicBezTo>
                  <a:pt x="569" y="61"/>
                  <a:pt x="569" y="61"/>
                  <a:pt x="569" y="61"/>
                </a:cubicBezTo>
                <a:cubicBezTo>
                  <a:pt x="566" y="59"/>
                  <a:pt x="563" y="58"/>
                  <a:pt x="560" y="56"/>
                </a:cubicBezTo>
                <a:cubicBezTo>
                  <a:pt x="560" y="56"/>
                  <a:pt x="560" y="56"/>
                  <a:pt x="560" y="56"/>
                </a:cubicBezTo>
                <a:cubicBezTo>
                  <a:pt x="560" y="56"/>
                  <a:pt x="560" y="56"/>
                  <a:pt x="560" y="56"/>
                </a:cubicBezTo>
                <a:cubicBezTo>
                  <a:pt x="560" y="56"/>
                  <a:pt x="560" y="56"/>
                  <a:pt x="560" y="56"/>
                </a:cubicBezTo>
                <a:cubicBezTo>
                  <a:pt x="559" y="56"/>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9" y="55"/>
                  <a:pt x="559" y="55"/>
                  <a:pt x="559" y="55"/>
                </a:cubicBezTo>
                <a:cubicBezTo>
                  <a:pt x="558" y="55"/>
                  <a:pt x="558" y="55"/>
                  <a:pt x="558" y="55"/>
                </a:cubicBezTo>
                <a:cubicBezTo>
                  <a:pt x="558" y="55"/>
                  <a:pt x="558" y="55"/>
                  <a:pt x="558" y="55"/>
                </a:cubicBezTo>
                <a:cubicBezTo>
                  <a:pt x="558" y="55"/>
                  <a:pt x="558" y="55"/>
                  <a:pt x="558" y="55"/>
                </a:cubicBezTo>
                <a:cubicBezTo>
                  <a:pt x="558" y="55"/>
                  <a:pt x="558" y="55"/>
                  <a:pt x="558" y="55"/>
                </a:cubicBezTo>
                <a:cubicBezTo>
                  <a:pt x="558" y="55"/>
                  <a:pt x="558" y="55"/>
                  <a:pt x="558" y="54"/>
                </a:cubicBezTo>
                <a:cubicBezTo>
                  <a:pt x="558" y="54"/>
                  <a:pt x="558" y="54"/>
                  <a:pt x="558" y="54"/>
                </a:cubicBezTo>
                <a:cubicBezTo>
                  <a:pt x="558" y="54"/>
                  <a:pt x="558" y="54"/>
                  <a:pt x="558" y="54"/>
                </a:cubicBezTo>
                <a:cubicBezTo>
                  <a:pt x="558" y="54"/>
                  <a:pt x="558" y="54"/>
                  <a:pt x="558" y="54"/>
                </a:cubicBezTo>
                <a:cubicBezTo>
                  <a:pt x="558" y="54"/>
                  <a:pt x="558" y="54"/>
                  <a:pt x="558" y="54"/>
                </a:cubicBezTo>
                <a:cubicBezTo>
                  <a:pt x="558" y="54"/>
                  <a:pt x="558" y="54"/>
                  <a:pt x="558"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7" y="54"/>
                  <a:pt x="557" y="54"/>
                </a:cubicBezTo>
                <a:cubicBezTo>
                  <a:pt x="557" y="54"/>
                  <a:pt x="556" y="54"/>
                  <a:pt x="556" y="54"/>
                </a:cubicBezTo>
                <a:cubicBezTo>
                  <a:pt x="556" y="54"/>
                  <a:pt x="556" y="54"/>
                  <a:pt x="556" y="54"/>
                </a:cubicBezTo>
                <a:cubicBezTo>
                  <a:pt x="556" y="54"/>
                  <a:pt x="556" y="54"/>
                  <a:pt x="556" y="54"/>
                </a:cubicBezTo>
                <a:cubicBezTo>
                  <a:pt x="556" y="54"/>
                  <a:pt x="556" y="54"/>
                  <a:pt x="556" y="54"/>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6" y="53"/>
                  <a:pt x="556" y="53"/>
                  <a:pt x="556" y="53"/>
                </a:cubicBezTo>
                <a:cubicBezTo>
                  <a:pt x="555" y="53"/>
                  <a:pt x="555" y="53"/>
                  <a:pt x="555" y="53"/>
                </a:cubicBezTo>
                <a:close/>
                <a:moveTo>
                  <a:pt x="520" y="34"/>
                </a:moveTo>
                <a:cubicBezTo>
                  <a:pt x="518" y="38"/>
                  <a:pt x="518" y="38"/>
                  <a:pt x="518" y="38"/>
                </a:cubicBezTo>
                <a:cubicBezTo>
                  <a:pt x="524" y="40"/>
                  <a:pt x="530" y="43"/>
                  <a:pt x="536" y="47"/>
                </a:cubicBezTo>
                <a:cubicBezTo>
                  <a:pt x="538" y="43"/>
                  <a:pt x="538" y="43"/>
                  <a:pt x="538" y="43"/>
                </a:cubicBezTo>
                <a:cubicBezTo>
                  <a:pt x="533" y="40"/>
                  <a:pt x="527" y="38"/>
                  <a:pt x="522" y="35"/>
                </a:cubicBezTo>
                <a:cubicBezTo>
                  <a:pt x="522" y="35"/>
                  <a:pt x="522" y="35"/>
                  <a:pt x="522" y="35"/>
                </a:cubicBezTo>
                <a:cubicBezTo>
                  <a:pt x="522" y="35"/>
                  <a:pt x="521" y="35"/>
                  <a:pt x="521" y="35"/>
                </a:cubicBezTo>
                <a:cubicBezTo>
                  <a:pt x="521" y="35"/>
                  <a:pt x="521" y="35"/>
                  <a:pt x="521" y="35"/>
                </a:cubicBezTo>
                <a:cubicBezTo>
                  <a:pt x="521" y="35"/>
                  <a:pt x="521" y="35"/>
                  <a:pt x="521" y="35"/>
                </a:cubicBezTo>
                <a:cubicBezTo>
                  <a:pt x="521" y="35"/>
                  <a:pt x="521" y="35"/>
                  <a:pt x="521" y="35"/>
                </a:cubicBezTo>
                <a:cubicBezTo>
                  <a:pt x="521" y="35"/>
                  <a:pt x="521" y="35"/>
                  <a:pt x="521" y="35"/>
                </a:cubicBezTo>
                <a:cubicBezTo>
                  <a:pt x="521" y="35"/>
                  <a:pt x="521" y="35"/>
                  <a:pt x="521" y="35"/>
                </a:cubicBezTo>
                <a:cubicBezTo>
                  <a:pt x="521" y="35"/>
                  <a:pt x="521" y="34"/>
                  <a:pt x="521" y="34"/>
                </a:cubicBezTo>
                <a:cubicBezTo>
                  <a:pt x="521" y="34"/>
                  <a:pt x="521" y="34"/>
                  <a:pt x="521" y="34"/>
                </a:cubicBezTo>
                <a:cubicBezTo>
                  <a:pt x="521" y="34"/>
                  <a:pt x="521" y="34"/>
                  <a:pt x="521" y="34"/>
                </a:cubicBezTo>
                <a:cubicBezTo>
                  <a:pt x="521" y="34"/>
                  <a:pt x="521" y="34"/>
                  <a:pt x="521" y="34"/>
                </a:cubicBezTo>
                <a:cubicBezTo>
                  <a:pt x="521" y="34"/>
                  <a:pt x="520" y="34"/>
                  <a:pt x="520" y="34"/>
                </a:cubicBezTo>
                <a:cubicBezTo>
                  <a:pt x="520" y="34"/>
                  <a:pt x="520" y="34"/>
                  <a:pt x="520" y="34"/>
                </a:cubicBezTo>
                <a:cubicBezTo>
                  <a:pt x="520" y="34"/>
                  <a:pt x="520" y="34"/>
                  <a:pt x="520" y="34"/>
                </a:cubicBezTo>
                <a:cubicBezTo>
                  <a:pt x="520" y="34"/>
                  <a:pt x="520" y="34"/>
                  <a:pt x="520" y="34"/>
                </a:cubicBezTo>
                <a:close/>
                <a:moveTo>
                  <a:pt x="483" y="19"/>
                </a:moveTo>
                <a:cubicBezTo>
                  <a:pt x="481" y="23"/>
                  <a:pt x="481" y="23"/>
                  <a:pt x="481" y="23"/>
                </a:cubicBezTo>
                <a:cubicBezTo>
                  <a:pt x="488" y="25"/>
                  <a:pt x="494" y="27"/>
                  <a:pt x="500" y="30"/>
                </a:cubicBezTo>
                <a:cubicBezTo>
                  <a:pt x="501" y="26"/>
                  <a:pt x="501" y="26"/>
                  <a:pt x="501" y="26"/>
                </a:cubicBezTo>
                <a:cubicBezTo>
                  <a:pt x="500" y="26"/>
                  <a:pt x="500" y="25"/>
                  <a:pt x="499" y="25"/>
                </a:cubicBezTo>
                <a:cubicBezTo>
                  <a:pt x="499" y="25"/>
                  <a:pt x="499" y="25"/>
                  <a:pt x="499"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8" y="25"/>
                </a:cubicBezTo>
                <a:cubicBezTo>
                  <a:pt x="498" y="25"/>
                  <a:pt x="498" y="25"/>
                  <a:pt x="497" y="25"/>
                </a:cubicBezTo>
                <a:cubicBezTo>
                  <a:pt x="497" y="25"/>
                  <a:pt x="497" y="25"/>
                  <a:pt x="497" y="25"/>
                </a:cubicBezTo>
                <a:cubicBezTo>
                  <a:pt x="497" y="25"/>
                  <a:pt x="497" y="25"/>
                  <a:pt x="497" y="25"/>
                </a:cubicBezTo>
                <a:cubicBezTo>
                  <a:pt x="497" y="25"/>
                  <a:pt x="497" y="25"/>
                  <a:pt x="497" y="25"/>
                </a:cubicBezTo>
                <a:cubicBezTo>
                  <a:pt x="497" y="25"/>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7" y="24"/>
                  <a:pt x="497" y="24"/>
                  <a:pt x="497"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6" y="24"/>
                  <a:pt x="496" y="24"/>
                  <a:pt x="496" y="24"/>
                </a:cubicBezTo>
                <a:cubicBezTo>
                  <a:pt x="491" y="22"/>
                  <a:pt x="487" y="21"/>
                  <a:pt x="483" y="19"/>
                </a:cubicBezTo>
                <a:close/>
                <a:moveTo>
                  <a:pt x="444" y="9"/>
                </a:moveTo>
                <a:cubicBezTo>
                  <a:pt x="443" y="13"/>
                  <a:pt x="443" y="13"/>
                  <a:pt x="443" y="13"/>
                </a:cubicBezTo>
                <a:cubicBezTo>
                  <a:pt x="450" y="14"/>
                  <a:pt x="456" y="16"/>
                  <a:pt x="463" y="17"/>
                </a:cubicBezTo>
                <a:cubicBezTo>
                  <a:pt x="464" y="13"/>
                  <a:pt x="464" y="13"/>
                  <a:pt x="464" y="13"/>
                </a:cubicBezTo>
                <a:cubicBezTo>
                  <a:pt x="457" y="12"/>
                  <a:pt x="451" y="10"/>
                  <a:pt x="444" y="9"/>
                </a:cubicBezTo>
                <a:close/>
                <a:moveTo>
                  <a:pt x="405" y="2"/>
                </a:moveTo>
                <a:cubicBezTo>
                  <a:pt x="404" y="6"/>
                  <a:pt x="404" y="6"/>
                  <a:pt x="404" y="6"/>
                </a:cubicBezTo>
                <a:cubicBezTo>
                  <a:pt x="411" y="7"/>
                  <a:pt x="417" y="8"/>
                  <a:pt x="424" y="9"/>
                </a:cubicBezTo>
                <a:cubicBezTo>
                  <a:pt x="425" y="5"/>
                  <a:pt x="425" y="5"/>
                  <a:pt x="425" y="5"/>
                </a:cubicBezTo>
                <a:cubicBezTo>
                  <a:pt x="422" y="5"/>
                  <a:pt x="420" y="4"/>
                  <a:pt x="418" y="4"/>
                </a:cubicBezTo>
                <a:cubicBezTo>
                  <a:pt x="418" y="4"/>
                  <a:pt x="418" y="4"/>
                  <a:pt x="418" y="4"/>
                </a:cubicBezTo>
                <a:cubicBezTo>
                  <a:pt x="418" y="4"/>
                  <a:pt x="418" y="4"/>
                  <a:pt x="418" y="4"/>
                </a:cubicBezTo>
                <a:cubicBezTo>
                  <a:pt x="418" y="4"/>
                  <a:pt x="418" y="4"/>
                  <a:pt x="418" y="4"/>
                </a:cubicBezTo>
                <a:cubicBezTo>
                  <a:pt x="418" y="4"/>
                  <a:pt x="418" y="4"/>
                  <a:pt x="418" y="4"/>
                </a:cubicBezTo>
                <a:cubicBezTo>
                  <a:pt x="418" y="4"/>
                  <a:pt x="418" y="4"/>
                  <a:pt x="418" y="4"/>
                </a:cubicBezTo>
                <a:cubicBezTo>
                  <a:pt x="418"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7" y="4"/>
                  <a:pt x="417" y="4"/>
                </a:cubicBezTo>
                <a:cubicBezTo>
                  <a:pt x="417"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6" y="4"/>
                </a:cubicBezTo>
                <a:cubicBezTo>
                  <a:pt x="416" y="4"/>
                  <a:pt x="416" y="4"/>
                  <a:pt x="415" y="4"/>
                </a:cubicBezTo>
                <a:cubicBezTo>
                  <a:pt x="415" y="4"/>
                  <a:pt x="415" y="4"/>
                  <a:pt x="415" y="4"/>
                </a:cubicBezTo>
                <a:cubicBezTo>
                  <a:pt x="415" y="4"/>
                  <a:pt x="415" y="4"/>
                  <a:pt x="415" y="4"/>
                </a:cubicBezTo>
                <a:cubicBezTo>
                  <a:pt x="415" y="4"/>
                  <a:pt x="415" y="4"/>
                  <a:pt x="415" y="4"/>
                </a:cubicBezTo>
                <a:cubicBezTo>
                  <a:pt x="415" y="4"/>
                  <a:pt x="415" y="4"/>
                  <a:pt x="415" y="4"/>
                </a:cubicBezTo>
                <a:cubicBezTo>
                  <a:pt x="412" y="3"/>
                  <a:pt x="408" y="3"/>
                  <a:pt x="405" y="2"/>
                </a:cubicBezTo>
                <a:close/>
                <a:moveTo>
                  <a:pt x="366" y="0"/>
                </a:moveTo>
                <a:cubicBezTo>
                  <a:pt x="366" y="4"/>
                  <a:pt x="366" y="4"/>
                  <a:pt x="366" y="4"/>
                </a:cubicBezTo>
                <a:cubicBezTo>
                  <a:pt x="372" y="4"/>
                  <a:pt x="378" y="4"/>
                  <a:pt x="385" y="5"/>
                </a:cubicBezTo>
                <a:cubicBezTo>
                  <a:pt x="385" y="1"/>
                  <a:pt x="385" y="1"/>
                  <a:pt x="385" y="1"/>
                </a:cubicBezTo>
                <a:cubicBezTo>
                  <a:pt x="384" y="1"/>
                  <a:pt x="384"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3" y="1"/>
                </a:cubicBezTo>
                <a:cubicBezTo>
                  <a:pt x="383" y="1"/>
                  <a:pt x="383"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2" y="1"/>
                  <a:pt x="382" y="1"/>
                </a:cubicBezTo>
                <a:cubicBezTo>
                  <a:pt x="382"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1" y="1"/>
                  <a:pt x="381" y="1"/>
                  <a:pt x="381"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80" y="1"/>
                </a:cubicBezTo>
                <a:cubicBezTo>
                  <a:pt x="380" y="1"/>
                  <a:pt x="380" y="1"/>
                  <a:pt x="379" y="1"/>
                </a:cubicBezTo>
                <a:cubicBezTo>
                  <a:pt x="379" y="1"/>
                  <a:pt x="379" y="1"/>
                  <a:pt x="379" y="1"/>
                </a:cubicBezTo>
                <a:cubicBezTo>
                  <a:pt x="379" y="1"/>
                  <a:pt x="379" y="1"/>
                  <a:pt x="379" y="1"/>
                </a:cubicBezTo>
                <a:cubicBezTo>
                  <a:pt x="379" y="1"/>
                  <a:pt x="379" y="1"/>
                  <a:pt x="379" y="1"/>
                </a:cubicBezTo>
                <a:cubicBezTo>
                  <a:pt x="379" y="1"/>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9" y="0"/>
                  <a:pt x="379" y="0"/>
                </a:cubicBezTo>
                <a:cubicBezTo>
                  <a:pt x="379"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8" y="0"/>
                  <a:pt x="378" y="0"/>
                  <a:pt x="378"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7" y="0"/>
                  <a:pt x="377" y="0"/>
                  <a:pt x="377"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6" y="0"/>
                </a:cubicBezTo>
                <a:cubicBezTo>
                  <a:pt x="376" y="0"/>
                  <a:pt x="376"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5" y="0"/>
                </a:cubicBezTo>
                <a:cubicBezTo>
                  <a:pt x="375" y="0"/>
                  <a:pt x="375"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4" y="0"/>
                </a:cubicBezTo>
                <a:cubicBezTo>
                  <a:pt x="374" y="0"/>
                  <a:pt x="374"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3" y="0"/>
                  <a:pt x="373" y="0"/>
                </a:cubicBezTo>
                <a:cubicBezTo>
                  <a:pt x="373"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2" y="0"/>
                  <a:pt x="372" y="0"/>
                  <a:pt x="372"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1" y="0"/>
                </a:cubicBezTo>
                <a:cubicBezTo>
                  <a:pt x="371" y="0"/>
                  <a:pt x="371"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70" y="0"/>
                </a:cubicBezTo>
                <a:cubicBezTo>
                  <a:pt x="370" y="0"/>
                  <a:pt x="370"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9" y="0"/>
                </a:cubicBezTo>
                <a:cubicBezTo>
                  <a:pt x="369" y="0"/>
                  <a:pt x="369"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8" y="0"/>
                  <a:pt x="368" y="0"/>
                </a:cubicBezTo>
                <a:cubicBezTo>
                  <a:pt x="368"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7" y="0"/>
                  <a:pt x="367" y="0"/>
                  <a:pt x="367" y="0"/>
                </a:cubicBezTo>
                <a:cubicBezTo>
                  <a:pt x="366" y="0"/>
                  <a:pt x="366" y="0"/>
                  <a:pt x="366" y="0"/>
                </a:cubicBezTo>
                <a:cubicBezTo>
                  <a:pt x="366" y="0"/>
                  <a:pt x="366" y="0"/>
                  <a:pt x="366" y="0"/>
                </a:cubicBezTo>
                <a:cubicBezTo>
                  <a:pt x="366" y="0"/>
                  <a:pt x="366" y="0"/>
                  <a:pt x="366"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8" name="Freeform 1035"/>
          <p:cNvSpPr/>
          <p:nvPr/>
        </p:nvSpPr>
        <p:spPr>
          <a:xfrm>
            <a:off x="4248000" y="5372280"/>
            <a:ext cx="6037560" cy="6037200"/>
          </a:xfrm>
          <a:custGeom>
            <a:avLst/>
            <a:gdLst/>
            <a:ahLst/>
            <a:rect l="l" t="t" r="r" b="b"/>
            <a:pathLst>
              <a:path w="627" h="627">
                <a:moveTo>
                  <a:pt x="313" y="0"/>
                </a:move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2" y="0"/>
                  <a:pt x="312" y="0"/>
                  <a:pt x="312"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1" y="0"/>
                  <a:pt x="311" y="0"/>
                  <a:pt x="311"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10" y="0"/>
                </a:cubicBezTo>
                <a:cubicBezTo>
                  <a:pt x="310" y="0"/>
                  <a:pt x="310"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9" y="0"/>
                  <a:pt x="309" y="0"/>
                </a:cubicBezTo>
                <a:cubicBezTo>
                  <a:pt x="309"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8" y="0"/>
                  <a:pt x="308" y="0"/>
                </a:cubicBezTo>
                <a:cubicBezTo>
                  <a:pt x="308"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7" y="0"/>
                </a:cubicBezTo>
                <a:cubicBezTo>
                  <a:pt x="307" y="0"/>
                  <a:pt x="307"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6" y="0"/>
                  <a:pt x="306" y="0"/>
                  <a:pt x="306"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5" y="0"/>
                  <a:pt x="305" y="0"/>
                </a:cubicBezTo>
                <a:cubicBezTo>
                  <a:pt x="305"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4" y="0"/>
                  <a:pt x="304" y="0"/>
                </a:cubicBezTo>
                <a:cubicBezTo>
                  <a:pt x="304"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3" y="0"/>
                  <a:pt x="303" y="0"/>
                  <a:pt x="303"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2" y="0"/>
                  <a:pt x="302" y="0"/>
                  <a:pt x="302"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1" y="0"/>
                </a:cubicBezTo>
                <a:cubicBezTo>
                  <a:pt x="301" y="0"/>
                  <a:pt x="301"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300" y="0"/>
                  <a:pt x="300" y="0"/>
                </a:cubicBezTo>
                <a:cubicBezTo>
                  <a:pt x="300" y="0"/>
                  <a:pt x="299" y="0"/>
                  <a:pt x="299" y="0"/>
                </a:cubicBezTo>
                <a:cubicBezTo>
                  <a:pt x="299" y="0"/>
                  <a:pt x="299" y="0"/>
                  <a:pt x="299" y="0"/>
                </a:cubicBezTo>
                <a:cubicBezTo>
                  <a:pt x="299" y="0"/>
                  <a:pt x="299" y="0"/>
                  <a:pt x="299" y="0"/>
                </a:cubicBezTo>
                <a:cubicBezTo>
                  <a:pt x="299" y="0"/>
                  <a:pt x="299" y="0"/>
                  <a:pt x="299" y="0"/>
                </a:cubicBezTo>
                <a:cubicBezTo>
                  <a:pt x="297" y="0"/>
                  <a:pt x="295" y="0"/>
                  <a:pt x="293" y="0"/>
                </a:cubicBezTo>
                <a:cubicBezTo>
                  <a:pt x="293" y="4"/>
                  <a:pt x="293" y="4"/>
                  <a:pt x="293" y="4"/>
                </a:cubicBezTo>
                <a:cubicBezTo>
                  <a:pt x="300" y="4"/>
                  <a:pt x="306" y="4"/>
                  <a:pt x="313" y="4"/>
                </a:cubicBezTo>
                <a:cubicBezTo>
                  <a:pt x="313" y="0"/>
                  <a:pt x="313" y="0"/>
                  <a:pt x="313" y="0"/>
                </a:cubicBezTo>
                <a:cubicBezTo>
                  <a:pt x="313" y="0"/>
                  <a:pt x="313" y="0"/>
                  <a:pt x="313" y="0"/>
                </a:cubicBezTo>
                <a:close/>
                <a:moveTo>
                  <a:pt x="273" y="2"/>
                </a:moveTo>
                <a:cubicBezTo>
                  <a:pt x="273" y="2"/>
                  <a:pt x="273"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2" y="2"/>
                </a:cubicBezTo>
                <a:cubicBezTo>
                  <a:pt x="272" y="2"/>
                  <a:pt x="272"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1" y="2"/>
                  <a:pt x="271" y="2"/>
                </a:cubicBezTo>
                <a:cubicBezTo>
                  <a:pt x="271"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70" y="2"/>
                  <a:pt x="270" y="2"/>
                  <a:pt x="270" y="2"/>
                </a:cubicBezTo>
                <a:cubicBezTo>
                  <a:pt x="266" y="3"/>
                  <a:pt x="262" y="4"/>
                  <a:pt x="259" y="4"/>
                </a:cubicBezTo>
                <a:cubicBezTo>
                  <a:pt x="259" y="4"/>
                  <a:pt x="259" y="4"/>
                  <a:pt x="259"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8" y="4"/>
                </a:cubicBezTo>
                <a:cubicBezTo>
                  <a:pt x="258" y="4"/>
                  <a:pt x="258" y="4"/>
                  <a:pt x="257" y="4"/>
                </a:cubicBezTo>
                <a:cubicBezTo>
                  <a:pt x="257" y="4"/>
                  <a:pt x="257" y="4"/>
                  <a:pt x="257" y="4"/>
                </a:cubicBezTo>
                <a:cubicBezTo>
                  <a:pt x="257" y="4"/>
                  <a:pt x="257" y="4"/>
                  <a:pt x="257" y="4"/>
                </a:cubicBezTo>
                <a:cubicBezTo>
                  <a:pt x="257" y="4"/>
                  <a:pt x="257" y="4"/>
                  <a:pt x="257" y="4"/>
                </a:cubicBezTo>
                <a:cubicBezTo>
                  <a:pt x="257" y="4"/>
                  <a:pt x="257" y="4"/>
                  <a:pt x="257" y="4"/>
                </a:cubicBezTo>
                <a:cubicBezTo>
                  <a:pt x="257" y="4"/>
                  <a:pt x="257" y="4"/>
                  <a:pt x="257" y="4"/>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7" y="5"/>
                  <a:pt x="257" y="5"/>
                </a:cubicBezTo>
                <a:cubicBezTo>
                  <a:pt x="257"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6" y="5"/>
                  <a:pt x="256" y="5"/>
                  <a:pt x="256" y="5"/>
                </a:cubicBezTo>
                <a:cubicBezTo>
                  <a:pt x="255" y="5"/>
                  <a:pt x="254" y="5"/>
                  <a:pt x="253" y="5"/>
                </a:cubicBezTo>
                <a:cubicBezTo>
                  <a:pt x="254" y="9"/>
                  <a:pt x="254" y="9"/>
                  <a:pt x="254" y="9"/>
                </a:cubicBezTo>
                <a:cubicBezTo>
                  <a:pt x="261" y="8"/>
                  <a:pt x="267" y="7"/>
                  <a:pt x="274" y="6"/>
                </a:cubicBezTo>
                <a:cubicBezTo>
                  <a:pt x="273" y="2"/>
                  <a:pt x="273" y="2"/>
                  <a:pt x="273" y="2"/>
                </a:cubicBezTo>
                <a:close/>
                <a:moveTo>
                  <a:pt x="234" y="10"/>
                </a:moveTo>
                <a:cubicBezTo>
                  <a:pt x="234"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3" y="10"/>
                  <a:pt x="233" y="10"/>
                  <a:pt x="233"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2" y="10"/>
                  <a:pt x="232" y="10"/>
                  <a:pt x="232" y="10"/>
                </a:cubicBezTo>
                <a:cubicBezTo>
                  <a:pt x="231" y="10"/>
                  <a:pt x="231" y="10"/>
                  <a:pt x="231" y="10"/>
                </a:cubicBezTo>
                <a:cubicBezTo>
                  <a:pt x="231" y="10"/>
                  <a:pt x="231" y="10"/>
                  <a:pt x="231" y="10"/>
                </a:cubicBezTo>
                <a:cubicBezTo>
                  <a:pt x="231" y="10"/>
                  <a:pt x="231" y="10"/>
                  <a:pt x="231" y="10"/>
                </a:cubicBezTo>
                <a:cubicBezTo>
                  <a:pt x="226" y="12"/>
                  <a:pt x="221" y="13"/>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6" y="15"/>
                </a:cubicBezTo>
                <a:cubicBezTo>
                  <a:pt x="216" y="15"/>
                  <a:pt x="216"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5" y="15"/>
                  <a:pt x="215" y="15"/>
                  <a:pt x="215" y="15"/>
                </a:cubicBezTo>
                <a:cubicBezTo>
                  <a:pt x="216" y="19"/>
                  <a:pt x="216" y="19"/>
                  <a:pt x="216" y="19"/>
                </a:cubicBezTo>
                <a:cubicBezTo>
                  <a:pt x="222" y="17"/>
                  <a:pt x="229" y="15"/>
                  <a:pt x="235" y="13"/>
                </a:cubicBezTo>
                <a:cubicBezTo>
                  <a:pt x="234" y="10"/>
                  <a:pt x="234" y="10"/>
                  <a:pt x="234" y="10"/>
                </a:cubicBezTo>
                <a:close/>
                <a:moveTo>
                  <a:pt x="196" y="22"/>
                </a:move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6" y="22"/>
                  <a:pt x="196" y="22"/>
                  <a:pt x="196" y="22"/>
                </a:cubicBezTo>
                <a:cubicBezTo>
                  <a:pt x="195" y="22"/>
                  <a:pt x="195" y="22"/>
                  <a:pt x="195" y="22"/>
                </a:cubicBezTo>
                <a:cubicBezTo>
                  <a:pt x="195" y="22"/>
                  <a:pt x="195" y="22"/>
                  <a:pt x="195" y="22"/>
                </a:cubicBezTo>
                <a:cubicBezTo>
                  <a:pt x="195" y="22"/>
                  <a:pt x="195" y="22"/>
                  <a:pt x="195" y="22"/>
                </a:cubicBezTo>
                <a:cubicBezTo>
                  <a:pt x="195" y="22"/>
                  <a:pt x="195" y="22"/>
                  <a:pt x="195" y="22"/>
                </a:cubicBezTo>
                <a:cubicBezTo>
                  <a:pt x="195" y="22"/>
                  <a:pt x="195" y="22"/>
                  <a:pt x="195" y="23"/>
                </a:cubicBezTo>
                <a:cubicBezTo>
                  <a:pt x="195" y="23"/>
                  <a:pt x="195" y="23"/>
                  <a:pt x="195" y="23"/>
                </a:cubicBezTo>
                <a:cubicBezTo>
                  <a:pt x="189" y="25"/>
                  <a:pt x="184" y="27"/>
                  <a:pt x="179" y="30"/>
                </a:cubicBezTo>
                <a:cubicBezTo>
                  <a:pt x="179" y="30"/>
                  <a:pt x="179" y="30"/>
                  <a:pt x="179" y="30"/>
                </a:cubicBezTo>
                <a:cubicBezTo>
                  <a:pt x="179" y="30"/>
                  <a:pt x="179" y="30"/>
                  <a:pt x="179"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8" y="30"/>
                  <a:pt x="178" y="30"/>
                  <a:pt x="178" y="30"/>
                </a:cubicBezTo>
                <a:cubicBezTo>
                  <a:pt x="179" y="34"/>
                  <a:pt x="179" y="34"/>
                  <a:pt x="179" y="34"/>
                </a:cubicBezTo>
                <a:cubicBezTo>
                  <a:pt x="185" y="31"/>
                  <a:pt x="191" y="28"/>
                  <a:pt x="197" y="26"/>
                </a:cubicBezTo>
                <a:cubicBezTo>
                  <a:pt x="196" y="22"/>
                  <a:pt x="196" y="22"/>
                  <a:pt x="196" y="22"/>
                </a:cubicBezTo>
                <a:close/>
                <a:moveTo>
                  <a:pt x="160" y="39"/>
                </a:moveTo>
                <a:cubicBezTo>
                  <a:pt x="154" y="43"/>
                  <a:pt x="148" y="46"/>
                  <a:pt x="143" y="50"/>
                </a:cubicBezTo>
                <a:cubicBezTo>
                  <a:pt x="145" y="53"/>
                  <a:pt x="145" y="53"/>
                  <a:pt x="145" y="53"/>
                </a:cubicBezTo>
                <a:cubicBezTo>
                  <a:pt x="150" y="50"/>
                  <a:pt x="156" y="46"/>
                  <a:pt x="162" y="43"/>
                </a:cubicBezTo>
                <a:cubicBezTo>
                  <a:pt x="160" y="39"/>
                  <a:pt x="160" y="39"/>
                  <a:pt x="160" y="39"/>
                </a:cubicBezTo>
                <a:close/>
                <a:moveTo>
                  <a:pt x="126" y="61"/>
                </a:moveTo>
                <a:cubicBezTo>
                  <a:pt x="126"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2"/>
                  <a:pt x="125" y="62"/>
                  <a:pt x="125" y="62"/>
                </a:cubicBezTo>
                <a:cubicBezTo>
                  <a:pt x="125" y="63"/>
                  <a:pt x="125" y="63"/>
                  <a:pt x="125"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4" y="63"/>
                  <a:pt x="124" y="63"/>
                </a:cubicBezTo>
                <a:cubicBezTo>
                  <a:pt x="124" y="63"/>
                  <a:pt x="123" y="63"/>
                  <a:pt x="123" y="63"/>
                </a:cubicBezTo>
                <a:cubicBezTo>
                  <a:pt x="123" y="63"/>
                  <a:pt x="123" y="63"/>
                  <a:pt x="123" y="63"/>
                </a:cubicBezTo>
                <a:cubicBezTo>
                  <a:pt x="123" y="63"/>
                  <a:pt x="123" y="63"/>
                  <a:pt x="123" y="63"/>
                </a:cubicBezTo>
                <a:cubicBezTo>
                  <a:pt x="123" y="63"/>
                  <a:pt x="123" y="63"/>
                  <a:pt x="123" y="63"/>
                </a:cubicBezTo>
                <a:cubicBezTo>
                  <a:pt x="123" y="64"/>
                  <a:pt x="123" y="64"/>
                  <a:pt x="123" y="64"/>
                </a:cubicBezTo>
                <a:cubicBezTo>
                  <a:pt x="123" y="64"/>
                  <a:pt x="123" y="64"/>
                  <a:pt x="123" y="64"/>
                </a:cubicBezTo>
                <a:cubicBezTo>
                  <a:pt x="123" y="64"/>
                  <a:pt x="123" y="64"/>
                  <a:pt x="123" y="64"/>
                </a:cubicBezTo>
                <a:cubicBezTo>
                  <a:pt x="123" y="64"/>
                  <a:pt x="123" y="64"/>
                  <a:pt x="123" y="64"/>
                </a:cubicBezTo>
                <a:cubicBezTo>
                  <a:pt x="121" y="65"/>
                  <a:pt x="120" y="66"/>
                  <a:pt x="118" y="67"/>
                </a:cubicBezTo>
                <a:cubicBezTo>
                  <a:pt x="118" y="67"/>
                  <a:pt x="118" y="67"/>
                  <a:pt x="118" y="67"/>
                </a:cubicBezTo>
                <a:cubicBezTo>
                  <a:pt x="118" y="67"/>
                  <a:pt x="118" y="67"/>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8" y="68"/>
                  <a:pt x="118" y="68"/>
                </a:cubicBezTo>
                <a:cubicBezTo>
                  <a:pt x="118"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8"/>
                  <a:pt x="117" y="68"/>
                </a:cubicBezTo>
                <a:cubicBezTo>
                  <a:pt x="117" y="68"/>
                  <a:pt x="117" y="69"/>
                  <a:pt x="117" y="69"/>
                </a:cubicBezTo>
                <a:cubicBezTo>
                  <a:pt x="117" y="69"/>
                  <a:pt x="117" y="69"/>
                  <a:pt x="117" y="69"/>
                </a:cubicBezTo>
                <a:cubicBezTo>
                  <a:pt x="117" y="69"/>
                  <a:pt x="117" y="69"/>
                  <a:pt x="117" y="69"/>
                </a:cubicBezTo>
                <a:cubicBezTo>
                  <a:pt x="117" y="69"/>
                  <a:pt x="117" y="69"/>
                  <a:pt x="117" y="69"/>
                </a:cubicBezTo>
                <a:cubicBezTo>
                  <a:pt x="117" y="69"/>
                  <a:pt x="117" y="69"/>
                  <a:pt x="117" y="69"/>
                </a:cubicBezTo>
                <a:cubicBezTo>
                  <a:pt x="117" y="69"/>
                  <a:pt x="117" y="69"/>
                  <a:pt x="117"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69"/>
                  <a:pt x="116" y="69"/>
                </a:cubicBezTo>
                <a:cubicBezTo>
                  <a:pt x="116" y="69"/>
                  <a:pt x="116" y="70"/>
                  <a:pt x="116" y="70"/>
                </a:cubicBezTo>
                <a:cubicBezTo>
                  <a:pt x="116" y="70"/>
                  <a:pt x="116" y="70"/>
                  <a:pt x="116" y="70"/>
                </a:cubicBezTo>
                <a:cubicBezTo>
                  <a:pt x="116" y="70"/>
                  <a:pt x="115" y="70"/>
                  <a:pt x="115" y="70"/>
                </a:cubicBezTo>
                <a:cubicBezTo>
                  <a:pt x="115" y="70"/>
                  <a:pt x="115" y="70"/>
                  <a:pt x="115" y="70"/>
                </a:cubicBezTo>
                <a:cubicBezTo>
                  <a:pt x="115" y="70"/>
                  <a:pt x="115" y="70"/>
                  <a:pt x="115" y="70"/>
                </a:cubicBezTo>
                <a:cubicBezTo>
                  <a:pt x="115" y="70"/>
                  <a:pt x="115" y="70"/>
                  <a:pt x="115" y="70"/>
                </a:cubicBezTo>
                <a:cubicBezTo>
                  <a:pt x="115" y="70"/>
                  <a:pt x="115" y="70"/>
                  <a:pt x="115" y="70"/>
                </a:cubicBezTo>
                <a:cubicBezTo>
                  <a:pt x="115" y="70"/>
                  <a:pt x="115" y="70"/>
                  <a:pt x="115" y="70"/>
                </a:cubicBezTo>
                <a:cubicBezTo>
                  <a:pt x="114" y="71"/>
                  <a:pt x="112" y="72"/>
                  <a:pt x="111" y="74"/>
                </a:cubicBezTo>
                <a:cubicBezTo>
                  <a:pt x="113" y="77"/>
                  <a:pt x="113" y="77"/>
                  <a:pt x="113" y="77"/>
                </a:cubicBezTo>
                <a:cubicBezTo>
                  <a:pt x="118" y="72"/>
                  <a:pt x="123" y="68"/>
                  <a:pt x="129" y="64"/>
                </a:cubicBezTo>
                <a:cubicBezTo>
                  <a:pt x="126" y="61"/>
                  <a:pt x="126" y="61"/>
                  <a:pt x="126" y="61"/>
                </a:cubicBezTo>
                <a:close/>
                <a:moveTo>
                  <a:pt x="96" y="87"/>
                </a:moveTo>
                <a:cubicBezTo>
                  <a:pt x="95" y="87"/>
                  <a:pt x="95" y="88"/>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4" y="89"/>
                  <a:pt x="94" y="89"/>
                  <a:pt x="94" y="89"/>
                </a:cubicBezTo>
                <a:cubicBezTo>
                  <a:pt x="93" y="89"/>
                  <a:pt x="93" y="89"/>
                  <a:pt x="93" y="89"/>
                </a:cubicBezTo>
                <a:cubicBezTo>
                  <a:pt x="93" y="89"/>
                  <a:pt x="93" y="89"/>
                  <a:pt x="93" y="89"/>
                </a:cubicBezTo>
                <a:cubicBezTo>
                  <a:pt x="93" y="89"/>
                  <a:pt x="93" y="89"/>
                  <a:pt x="93" y="89"/>
                </a:cubicBezTo>
                <a:cubicBezTo>
                  <a:pt x="93" y="89"/>
                  <a:pt x="93" y="89"/>
                  <a:pt x="93" y="89"/>
                </a:cubicBezTo>
                <a:cubicBezTo>
                  <a:pt x="93" y="89"/>
                  <a:pt x="93" y="89"/>
                  <a:pt x="93" y="89"/>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3" y="90"/>
                  <a:pt x="93" y="90"/>
                  <a:pt x="93" y="90"/>
                </a:cubicBezTo>
                <a:cubicBezTo>
                  <a:pt x="92" y="90"/>
                  <a:pt x="92" y="90"/>
                  <a:pt x="92" y="90"/>
                </a:cubicBezTo>
                <a:cubicBezTo>
                  <a:pt x="92" y="90"/>
                  <a:pt x="92" y="90"/>
                  <a:pt x="92" y="90"/>
                </a:cubicBezTo>
                <a:cubicBezTo>
                  <a:pt x="92" y="90"/>
                  <a:pt x="92" y="90"/>
                  <a:pt x="92" y="90"/>
                </a:cubicBezTo>
                <a:cubicBezTo>
                  <a:pt x="92" y="90"/>
                  <a:pt x="92" y="90"/>
                  <a:pt x="92" y="90"/>
                </a:cubicBezTo>
                <a:cubicBezTo>
                  <a:pt x="92" y="90"/>
                  <a:pt x="92" y="90"/>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2" y="91"/>
                  <a:pt x="92" y="91"/>
                  <a:pt x="92" y="91"/>
                </a:cubicBezTo>
                <a:cubicBezTo>
                  <a:pt x="91" y="91"/>
                  <a:pt x="91" y="91"/>
                  <a:pt x="91" y="91"/>
                </a:cubicBezTo>
                <a:cubicBezTo>
                  <a:pt x="91" y="91"/>
                  <a:pt x="91" y="91"/>
                  <a:pt x="91" y="91"/>
                </a:cubicBezTo>
                <a:cubicBezTo>
                  <a:pt x="91" y="91"/>
                  <a:pt x="91" y="91"/>
                  <a:pt x="91" y="92"/>
                </a:cubicBezTo>
                <a:cubicBezTo>
                  <a:pt x="91" y="92"/>
                  <a:pt x="91" y="92"/>
                  <a:pt x="91" y="92"/>
                </a:cubicBezTo>
                <a:cubicBezTo>
                  <a:pt x="91" y="92"/>
                  <a:pt x="91" y="92"/>
                  <a:pt x="91" y="92"/>
                </a:cubicBezTo>
                <a:cubicBezTo>
                  <a:pt x="91" y="92"/>
                  <a:pt x="91" y="92"/>
                  <a:pt x="91" y="92"/>
                </a:cubicBezTo>
                <a:cubicBezTo>
                  <a:pt x="91" y="92"/>
                  <a:pt x="91" y="92"/>
                  <a:pt x="90" y="92"/>
                </a:cubicBezTo>
                <a:cubicBezTo>
                  <a:pt x="90" y="92"/>
                  <a:pt x="90" y="92"/>
                  <a:pt x="90" y="92"/>
                </a:cubicBezTo>
                <a:cubicBezTo>
                  <a:pt x="90" y="92"/>
                  <a:pt x="90" y="92"/>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90" y="93"/>
                </a:cubicBezTo>
                <a:cubicBezTo>
                  <a:pt x="90" y="93"/>
                  <a:pt x="90" y="93"/>
                  <a:pt x="89" y="93"/>
                </a:cubicBezTo>
                <a:cubicBezTo>
                  <a:pt x="89" y="93"/>
                  <a:pt x="89" y="93"/>
                  <a:pt x="89" y="93"/>
                </a:cubicBezTo>
                <a:cubicBezTo>
                  <a:pt x="89" y="93"/>
                  <a:pt x="89" y="93"/>
                  <a:pt x="89" y="93"/>
                </a:cubicBezTo>
                <a:cubicBezTo>
                  <a:pt x="89" y="93"/>
                  <a:pt x="89" y="93"/>
                  <a:pt x="89" y="93"/>
                </a:cubicBezTo>
                <a:cubicBezTo>
                  <a:pt x="89" y="93"/>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9" y="94"/>
                </a:cubicBezTo>
                <a:cubicBezTo>
                  <a:pt x="89" y="94"/>
                  <a:pt x="89" y="94"/>
                  <a:pt x="88" y="94"/>
                </a:cubicBezTo>
                <a:cubicBezTo>
                  <a:pt x="88" y="94"/>
                  <a:pt x="88" y="94"/>
                  <a:pt x="88" y="94"/>
                </a:cubicBezTo>
                <a:cubicBezTo>
                  <a:pt x="88" y="94"/>
                  <a:pt x="88" y="94"/>
                  <a:pt x="88" y="94"/>
                </a:cubicBezTo>
                <a:cubicBezTo>
                  <a:pt x="88" y="94"/>
                  <a:pt x="88" y="94"/>
                  <a:pt x="88" y="94"/>
                </a:cubicBezTo>
                <a:cubicBezTo>
                  <a:pt x="88" y="94"/>
                  <a:pt x="88" y="94"/>
                  <a:pt x="88" y="94"/>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8" y="95"/>
                  <a:pt x="88" y="95"/>
                </a:cubicBezTo>
                <a:cubicBezTo>
                  <a:pt x="88" y="95"/>
                  <a:pt x="87" y="95"/>
                  <a:pt x="87" y="95"/>
                </a:cubicBezTo>
                <a:cubicBezTo>
                  <a:pt x="87" y="95"/>
                  <a:pt x="87" y="95"/>
                  <a:pt x="87" y="95"/>
                </a:cubicBezTo>
                <a:cubicBezTo>
                  <a:pt x="87" y="95"/>
                  <a:pt x="87" y="95"/>
                  <a:pt x="87" y="95"/>
                </a:cubicBezTo>
                <a:cubicBezTo>
                  <a:pt x="87" y="95"/>
                  <a:pt x="87" y="95"/>
                  <a:pt x="87" y="95"/>
                </a:cubicBezTo>
                <a:cubicBezTo>
                  <a:pt x="87" y="95"/>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7" y="96"/>
                  <a:pt x="87" y="96"/>
                  <a:pt x="87" y="96"/>
                </a:cubicBezTo>
                <a:cubicBezTo>
                  <a:pt x="85" y="98"/>
                  <a:pt x="83" y="99"/>
                  <a:pt x="82" y="101"/>
                </a:cubicBezTo>
                <a:cubicBezTo>
                  <a:pt x="85" y="104"/>
                  <a:pt x="85" y="104"/>
                  <a:pt x="85" y="104"/>
                </a:cubicBezTo>
                <a:cubicBezTo>
                  <a:pt x="89" y="99"/>
                  <a:pt x="94" y="94"/>
                  <a:pt x="99" y="90"/>
                </a:cubicBezTo>
                <a:cubicBezTo>
                  <a:pt x="96" y="87"/>
                  <a:pt x="96" y="87"/>
                  <a:pt x="96" y="87"/>
                </a:cubicBezTo>
                <a:close/>
                <a:moveTo>
                  <a:pt x="69" y="116"/>
                </a:moveTo>
                <a:cubicBezTo>
                  <a:pt x="69" y="117"/>
                  <a:pt x="68" y="117"/>
                  <a:pt x="68" y="117"/>
                </a:cubicBezTo>
                <a:cubicBezTo>
                  <a:pt x="68" y="117"/>
                  <a:pt x="68" y="117"/>
                  <a:pt x="68" y="117"/>
                </a:cubicBezTo>
                <a:cubicBezTo>
                  <a:pt x="68" y="117"/>
                  <a:pt x="68" y="117"/>
                  <a:pt x="68" y="117"/>
                </a:cubicBezTo>
                <a:cubicBezTo>
                  <a:pt x="68" y="117"/>
                  <a:pt x="68" y="117"/>
                  <a:pt x="68" y="117"/>
                </a:cubicBezTo>
                <a:cubicBezTo>
                  <a:pt x="68" y="117"/>
                  <a:pt x="68" y="117"/>
                  <a:pt x="68" y="117"/>
                </a:cubicBezTo>
                <a:cubicBezTo>
                  <a:pt x="68" y="117"/>
                  <a:pt x="68" y="117"/>
                  <a:pt x="68" y="117"/>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8" y="118"/>
                </a:cubicBezTo>
                <a:cubicBezTo>
                  <a:pt x="68" y="118"/>
                  <a:pt x="68"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8"/>
                  <a:pt x="67" y="118"/>
                </a:cubicBezTo>
                <a:cubicBezTo>
                  <a:pt x="67" y="118"/>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7" y="119"/>
                  <a:pt x="67" y="119"/>
                  <a:pt x="67" y="119"/>
                </a:cubicBezTo>
                <a:cubicBezTo>
                  <a:pt x="66" y="119"/>
                  <a:pt x="66" y="119"/>
                  <a:pt x="66" y="119"/>
                </a:cubicBezTo>
                <a:cubicBezTo>
                  <a:pt x="63" y="123"/>
                  <a:pt x="60" y="127"/>
                  <a:pt x="58" y="131"/>
                </a:cubicBezTo>
                <a:cubicBezTo>
                  <a:pt x="58" y="131"/>
                  <a:pt x="58" y="131"/>
                  <a:pt x="58" y="131"/>
                </a:cubicBezTo>
                <a:cubicBezTo>
                  <a:pt x="58" y="131"/>
                  <a:pt x="57" y="131"/>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57" y="132"/>
                  <a:pt x="57" y="132"/>
                  <a:pt x="57" y="132"/>
                </a:cubicBezTo>
                <a:cubicBezTo>
                  <a:pt x="60" y="135"/>
                  <a:pt x="60" y="135"/>
                  <a:pt x="60" y="135"/>
                </a:cubicBezTo>
                <a:cubicBezTo>
                  <a:pt x="64" y="129"/>
                  <a:pt x="68" y="124"/>
                  <a:pt x="72" y="119"/>
                </a:cubicBezTo>
                <a:cubicBezTo>
                  <a:pt x="69" y="116"/>
                  <a:pt x="69" y="116"/>
                  <a:pt x="69" y="116"/>
                </a:cubicBezTo>
                <a:close/>
                <a:moveTo>
                  <a:pt x="46" y="149"/>
                </a:moveTo>
                <a:cubicBezTo>
                  <a:pt x="45" y="150"/>
                  <a:pt x="44" y="151"/>
                  <a:pt x="44" y="153"/>
                </a:cubicBezTo>
                <a:cubicBezTo>
                  <a:pt x="44" y="153"/>
                  <a:pt x="44" y="153"/>
                  <a:pt x="44" y="153"/>
                </a:cubicBezTo>
                <a:cubicBezTo>
                  <a:pt x="44" y="153"/>
                  <a:pt x="44"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3"/>
                </a:cubicBezTo>
                <a:cubicBezTo>
                  <a:pt x="43" y="153"/>
                  <a:pt x="43" y="153"/>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4"/>
                  <a:pt x="43" y="154"/>
                </a:cubicBezTo>
                <a:cubicBezTo>
                  <a:pt x="43" y="154"/>
                  <a:pt x="43"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5"/>
                </a:cubicBezTo>
                <a:cubicBezTo>
                  <a:pt x="42" y="155"/>
                  <a:pt x="42" y="155"/>
                  <a:pt x="42" y="156"/>
                </a:cubicBezTo>
                <a:cubicBezTo>
                  <a:pt x="42" y="156"/>
                  <a:pt x="42" y="156"/>
                  <a:pt x="42" y="156"/>
                </a:cubicBezTo>
                <a:cubicBezTo>
                  <a:pt x="40" y="158"/>
                  <a:pt x="39" y="161"/>
                  <a:pt x="38" y="163"/>
                </a:cubicBezTo>
                <a:cubicBezTo>
                  <a:pt x="38" y="163"/>
                  <a:pt x="38" y="163"/>
                  <a:pt x="38" y="163"/>
                </a:cubicBezTo>
                <a:cubicBezTo>
                  <a:pt x="38" y="163"/>
                  <a:pt x="38" y="163"/>
                  <a:pt x="38" y="163"/>
                </a:cubicBezTo>
                <a:cubicBezTo>
                  <a:pt x="38" y="163"/>
                  <a:pt x="38" y="163"/>
                  <a:pt x="38" y="163"/>
                </a:cubicBezTo>
                <a:cubicBezTo>
                  <a:pt x="38" y="163"/>
                  <a:pt x="37" y="163"/>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4"/>
                  <a:pt x="37" y="164"/>
                </a:cubicBezTo>
                <a:cubicBezTo>
                  <a:pt x="37" y="164"/>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7" y="165"/>
                  <a:pt x="37" y="165"/>
                </a:cubicBezTo>
                <a:cubicBezTo>
                  <a:pt x="37" y="165"/>
                  <a:pt x="36" y="165"/>
                  <a:pt x="36" y="165"/>
                </a:cubicBezTo>
                <a:cubicBezTo>
                  <a:pt x="36" y="165"/>
                  <a:pt x="36" y="165"/>
                  <a:pt x="36" y="165"/>
                </a:cubicBezTo>
                <a:cubicBezTo>
                  <a:pt x="36" y="165"/>
                  <a:pt x="36" y="165"/>
                  <a:pt x="36" y="165"/>
                </a:cubicBezTo>
                <a:cubicBezTo>
                  <a:pt x="36" y="165"/>
                  <a:pt x="36" y="165"/>
                  <a:pt x="36" y="165"/>
                </a:cubicBezTo>
                <a:cubicBezTo>
                  <a:pt x="36" y="165"/>
                  <a:pt x="36" y="165"/>
                  <a:pt x="36" y="165"/>
                </a:cubicBezTo>
                <a:cubicBezTo>
                  <a:pt x="36" y="165"/>
                  <a:pt x="36" y="165"/>
                  <a:pt x="36" y="165"/>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6" y="166"/>
                  <a:pt x="36" y="166"/>
                  <a:pt x="36" y="166"/>
                </a:cubicBezTo>
                <a:cubicBezTo>
                  <a:pt x="39" y="168"/>
                  <a:pt x="39" y="168"/>
                  <a:pt x="39" y="168"/>
                </a:cubicBezTo>
                <a:cubicBezTo>
                  <a:pt x="42" y="163"/>
                  <a:pt x="46" y="157"/>
                  <a:pt x="49" y="151"/>
                </a:cubicBezTo>
                <a:cubicBezTo>
                  <a:pt x="46" y="149"/>
                  <a:pt x="46" y="149"/>
                  <a:pt x="46" y="149"/>
                </a:cubicBezTo>
                <a:close/>
                <a:moveTo>
                  <a:pt x="27" y="184"/>
                </a:moveTo>
                <a:cubicBezTo>
                  <a:pt x="27" y="185"/>
                  <a:pt x="26" y="186"/>
                  <a:pt x="26" y="186"/>
                </a:cubicBezTo>
                <a:cubicBezTo>
                  <a:pt x="26" y="186"/>
                  <a:pt x="26" y="186"/>
                  <a:pt x="26" y="186"/>
                </a:cubicBezTo>
                <a:cubicBezTo>
                  <a:pt x="26" y="186"/>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7"/>
                </a:cubicBezTo>
                <a:cubicBezTo>
                  <a:pt x="26" y="187"/>
                  <a:pt x="26" y="187"/>
                  <a:pt x="26" y="188"/>
                </a:cubicBezTo>
                <a:cubicBezTo>
                  <a:pt x="26" y="188"/>
                  <a:pt x="26" y="188"/>
                  <a:pt x="26" y="188"/>
                </a:cubicBezTo>
                <a:cubicBezTo>
                  <a:pt x="26" y="188"/>
                  <a:pt x="26" y="188"/>
                  <a:pt x="26" y="188"/>
                </a:cubicBezTo>
                <a:cubicBezTo>
                  <a:pt x="26" y="188"/>
                  <a:pt x="26" y="188"/>
                  <a:pt x="26" y="188"/>
                </a:cubicBezTo>
                <a:cubicBezTo>
                  <a:pt x="26" y="188"/>
                  <a:pt x="26" y="188"/>
                  <a:pt x="26" y="188"/>
                </a:cubicBezTo>
                <a:cubicBezTo>
                  <a:pt x="26" y="188"/>
                  <a:pt x="26" y="188"/>
                  <a:pt x="26" y="188"/>
                </a:cubicBezTo>
                <a:cubicBezTo>
                  <a:pt x="26"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8"/>
                </a:cubicBezTo>
                <a:cubicBezTo>
                  <a:pt x="25" y="188"/>
                  <a:pt x="25" y="188"/>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89"/>
                </a:cubicBezTo>
                <a:cubicBezTo>
                  <a:pt x="25" y="189"/>
                  <a:pt x="25" y="189"/>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5" y="190"/>
                  <a:pt x="25" y="190"/>
                </a:cubicBezTo>
                <a:cubicBezTo>
                  <a:pt x="25" y="190"/>
                  <a:pt x="24" y="190"/>
                  <a:pt x="24" y="190"/>
                </a:cubicBezTo>
                <a:cubicBezTo>
                  <a:pt x="24" y="190"/>
                  <a:pt x="24" y="190"/>
                  <a:pt x="24" y="190"/>
                </a:cubicBezTo>
                <a:cubicBezTo>
                  <a:pt x="24" y="190"/>
                  <a:pt x="24" y="190"/>
                  <a:pt x="24" y="191"/>
                </a:cubicBezTo>
                <a:cubicBezTo>
                  <a:pt x="24" y="191"/>
                  <a:pt x="24" y="191"/>
                  <a:pt x="24" y="191"/>
                </a:cubicBezTo>
                <a:cubicBezTo>
                  <a:pt x="24" y="191"/>
                  <a:pt x="24" y="191"/>
                  <a:pt x="24" y="191"/>
                </a:cubicBezTo>
                <a:cubicBezTo>
                  <a:pt x="24" y="191"/>
                  <a:pt x="24" y="191"/>
                  <a:pt x="24" y="191"/>
                </a:cubicBezTo>
                <a:cubicBezTo>
                  <a:pt x="24" y="191"/>
                  <a:pt x="24" y="191"/>
                  <a:pt x="24" y="191"/>
                </a:cubicBezTo>
                <a:cubicBezTo>
                  <a:pt x="24" y="191"/>
                  <a:pt x="24" y="191"/>
                  <a:pt x="24" y="191"/>
                </a:cubicBezTo>
                <a:cubicBezTo>
                  <a:pt x="24" y="191"/>
                  <a:pt x="24" y="191"/>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2"/>
                  <a:pt x="24" y="192"/>
                  <a:pt x="24" y="192"/>
                </a:cubicBezTo>
                <a:cubicBezTo>
                  <a:pt x="24"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3"/>
                  <a:pt x="23" y="193"/>
                </a:cubicBezTo>
                <a:cubicBezTo>
                  <a:pt x="23" y="193"/>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4"/>
                  <a:pt x="23" y="194"/>
                </a:cubicBezTo>
                <a:cubicBezTo>
                  <a:pt x="23" y="194"/>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3" y="195"/>
                  <a:pt x="23" y="195"/>
                </a:cubicBezTo>
                <a:cubicBezTo>
                  <a:pt x="23"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5"/>
                </a:cubicBezTo>
                <a:cubicBezTo>
                  <a:pt x="22" y="195"/>
                  <a:pt x="22" y="195"/>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6"/>
                </a:cubicBezTo>
                <a:cubicBezTo>
                  <a:pt x="22" y="196"/>
                  <a:pt x="22" y="196"/>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2" y="197"/>
                </a:cubicBezTo>
                <a:cubicBezTo>
                  <a:pt x="22" y="197"/>
                  <a:pt x="22" y="197"/>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8"/>
                  <a:pt x="21" y="198"/>
                </a:cubicBezTo>
                <a:cubicBezTo>
                  <a:pt x="21" y="198"/>
                  <a:pt x="21" y="199"/>
                  <a:pt x="21" y="199"/>
                </a:cubicBezTo>
                <a:cubicBezTo>
                  <a:pt x="21" y="199"/>
                  <a:pt x="21" y="199"/>
                  <a:pt x="21" y="199"/>
                </a:cubicBezTo>
                <a:cubicBezTo>
                  <a:pt x="21" y="199"/>
                  <a:pt x="21" y="199"/>
                  <a:pt x="21" y="199"/>
                </a:cubicBezTo>
                <a:cubicBezTo>
                  <a:pt x="21" y="199"/>
                  <a:pt x="21" y="199"/>
                  <a:pt x="21" y="199"/>
                </a:cubicBezTo>
                <a:cubicBezTo>
                  <a:pt x="21" y="199"/>
                  <a:pt x="21" y="199"/>
                  <a:pt x="21" y="199"/>
                </a:cubicBezTo>
                <a:cubicBezTo>
                  <a:pt x="21" y="199"/>
                  <a:pt x="21" y="199"/>
                  <a:pt x="21" y="199"/>
                </a:cubicBezTo>
                <a:cubicBezTo>
                  <a:pt x="21" y="200"/>
                  <a:pt x="21" y="200"/>
                  <a:pt x="21" y="200"/>
                </a:cubicBezTo>
                <a:cubicBezTo>
                  <a:pt x="21" y="200"/>
                  <a:pt x="21" y="200"/>
                  <a:pt x="21" y="200"/>
                </a:cubicBezTo>
                <a:cubicBezTo>
                  <a:pt x="21" y="200"/>
                  <a:pt x="20" y="200"/>
                  <a:pt x="20" y="200"/>
                </a:cubicBezTo>
                <a:cubicBezTo>
                  <a:pt x="20" y="200"/>
                  <a:pt x="20" y="200"/>
                  <a:pt x="20" y="200"/>
                </a:cubicBezTo>
                <a:cubicBezTo>
                  <a:pt x="20" y="200"/>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1"/>
                  <a:pt x="20" y="201"/>
                  <a:pt x="20" y="201"/>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2"/>
                  <a:pt x="20" y="202"/>
                </a:cubicBezTo>
                <a:cubicBezTo>
                  <a:pt x="20" y="202"/>
                  <a:pt x="20" y="203"/>
                  <a:pt x="20" y="203"/>
                </a:cubicBezTo>
                <a:cubicBezTo>
                  <a:pt x="20" y="203"/>
                  <a:pt x="20" y="203"/>
                  <a:pt x="20" y="203"/>
                </a:cubicBezTo>
                <a:cubicBezTo>
                  <a:pt x="20" y="203"/>
                  <a:pt x="20" y="203"/>
                  <a:pt x="19" y="203"/>
                </a:cubicBezTo>
                <a:cubicBezTo>
                  <a:pt x="19" y="203"/>
                  <a:pt x="19" y="203"/>
                  <a:pt x="19" y="203"/>
                </a:cubicBezTo>
                <a:cubicBezTo>
                  <a:pt x="19" y="203"/>
                  <a:pt x="19" y="203"/>
                  <a:pt x="19" y="203"/>
                </a:cubicBezTo>
                <a:cubicBezTo>
                  <a:pt x="19" y="203"/>
                  <a:pt x="19" y="203"/>
                  <a:pt x="19" y="203"/>
                </a:cubicBezTo>
                <a:cubicBezTo>
                  <a:pt x="23" y="204"/>
                  <a:pt x="23" y="204"/>
                  <a:pt x="23" y="204"/>
                </a:cubicBezTo>
                <a:cubicBezTo>
                  <a:pt x="25" y="198"/>
                  <a:pt x="28" y="192"/>
                  <a:pt x="31" y="186"/>
                </a:cubicBezTo>
                <a:cubicBezTo>
                  <a:pt x="27" y="184"/>
                  <a:pt x="27" y="184"/>
                  <a:pt x="27" y="184"/>
                </a:cubicBezTo>
                <a:close/>
                <a:moveTo>
                  <a:pt x="13" y="222"/>
                </a:moveTo>
                <a:cubicBezTo>
                  <a:pt x="12" y="224"/>
                  <a:pt x="12" y="226"/>
                  <a:pt x="11" y="229"/>
                </a:cubicBezTo>
                <a:cubicBezTo>
                  <a:pt x="11" y="229"/>
                  <a:pt x="11" y="229"/>
                  <a:pt x="11" y="229"/>
                </a:cubicBezTo>
                <a:cubicBezTo>
                  <a:pt x="11" y="229"/>
                  <a:pt x="11" y="229"/>
                  <a:pt x="11" y="229"/>
                </a:cubicBezTo>
                <a:cubicBezTo>
                  <a:pt x="11" y="229"/>
                  <a:pt x="11" y="229"/>
                  <a:pt x="11" y="229"/>
                </a:cubicBezTo>
                <a:cubicBezTo>
                  <a:pt x="11" y="229"/>
                  <a:pt x="11" y="229"/>
                  <a:pt x="11" y="229"/>
                </a:cubicBezTo>
                <a:cubicBezTo>
                  <a:pt x="11" y="229"/>
                  <a:pt x="11" y="229"/>
                  <a:pt x="11" y="229"/>
                </a:cubicBezTo>
                <a:cubicBezTo>
                  <a:pt x="11" y="229"/>
                  <a:pt x="11" y="230"/>
                  <a:pt x="11" y="230"/>
                </a:cubicBezTo>
                <a:cubicBezTo>
                  <a:pt x="11" y="230"/>
                  <a:pt x="11" y="230"/>
                  <a:pt x="11" y="230"/>
                </a:cubicBezTo>
                <a:cubicBezTo>
                  <a:pt x="11" y="230"/>
                  <a:pt x="11" y="230"/>
                  <a:pt x="11" y="230"/>
                </a:cubicBezTo>
                <a:cubicBezTo>
                  <a:pt x="11" y="230"/>
                  <a:pt x="11" y="230"/>
                  <a:pt x="11" y="230"/>
                </a:cubicBezTo>
                <a:cubicBezTo>
                  <a:pt x="11" y="230"/>
                  <a:pt x="11" y="230"/>
                  <a:pt x="11" y="230"/>
                </a:cubicBezTo>
                <a:cubicBezTo>
                  <a:pt x="11" y="230"/>
                  <a:pt x="11" y="230"/>
                  <a:pt x="11" y="230"/>
                </a:cubicBezTo>
                <a:cubicBezTo>
                  <a:pt x="11" y="230"/>
                  <a:pt x="10" y="231"/>
                  <a:pt x="10" y="231"/>
                </a:cubicBezTo>
                <a:cubicBezTo>
                  <a:pt x="10" y="231"/>
                  <a:pt x="10" y="231"/>
                  <a:pt x="10" y="231"/>
                </a:cubicBezTo>
                <a:cubicBezTo>
                  <a:pt x="10" y="231"/>
                  <a:pt x="10" y="231"/>
                  <a:pt x="10" y="231"/>
                </a:cubicBezTo>
                <a:cubicBezTo>
                  <a:pt x="10" y="231"/>
                  <a:pt x="10" y="231"/>
                  <a:pt x="10" y="231"/>
                </a:cubicBezTo>
                <a:cubicBezTo>
                  <a:pt x="10" y="231"/>
                  <a:pt x="10" y="231"/>
                  <a:pt x="10" y="231"/>
                </a:cubicBezTo>
                <a:cubicBezTo>
                  <a:pt x="10" y="231"/>
                  <a:pt x="10" y="231"/>
                  <a:pt x="10" y="231"/>
                </a:cubicBezTo>
                <a:cubicBezTo>
                  <a:pt x="10" y="231"/>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2"/>
                  <a:pt x="10" y="232"/>
                </a:cubicBezTo>
                <a:cubicBezTo>
                  <a:pt x="10" y="232"/>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3"/>
                  <a:pt x="10" y="233"/>
                  <a:pt x="10" y="233"/>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10" y="234"/>
                  <a:pt x="10" y="234"/>
                  <a:pt x="10" y="234"/>
                </a:cubicBezTo>
                <a:cubicBezTo>
                  <a:pt x="9" y="234"/>
                  <a:pt x="9" y="234"/>
                  <a:pt x="9" y="234"/>
                </a:cubicBezTo>
                <a:cubicBezTo>
                  <a:pt x="9" y="234"/>
                  <a:pt x="9" y="234"/>
                  <a:pt x="9" y="234"/>
                </a:cubicBezTo>
                <a:cubicBezTo>
                  <a:pt x="9" y="234"/>
                  <a:pt x="9" y="234"/>
                  <a:pt x="9" y="234"/>
                </a:cubicBezTo>
                <a:cubicBezTo>
                  <a:pt x="9" y="234"/>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5"/>
                </a:cubicBezTo>
                <a:cubicBezTo>
                  <a:pt x="9" y="235"/>
                  <a:pt x="9" y="235"/>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6"/>
                </a:cubicBezTo>
                <a:cubicBezTo>
                  <a:pt x="9" y="236"/>
                  <a:pt x="9" y="236"/>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7"/>
                  <a:pt x="9" y="237"/>
                  <a:pt x="9" y="237"/>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9" y="238"/>
                  <a:pt x="9" y="238"/>
                </a:cubicBezTo>
                <a:cubicBezTo>
                  <a:pt x="9" y="238"/>
                  <a:pt x="8" y="238"/>
                  <a:pt x="8" y="238"/>
                </a:cubicBezTo>
                <a:cubicBezTo>
                  <a:pt x="8" y="238"/>
                  <a:pt x="8" y="238"/>
                  <a:pt x="8" y="238"/>
                </a:cubicBezTo>
                <a:cubicBezTo>
                  <a:pt x="8" y="238"/>
                  <a:pt x="8" y="238"/>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39"/>
                  <a:pt x="8" y="239"/>
                </a:cubicBezTo>
                <a:cubicBezTo>
                  <a:pt x="8" y="239"/>
                  <a:pt x="8" y="240"/>
                  <a:pt x="8" y="240"/>
                </a:cubicBezTo>
                <a:cubicBezTo>
                  <a:pt x="8" y="240"/>
                  <a:pt x="8" y="240"/>
                  <a:pt x="8" y="240"/>
                </a:cubicBezTo>
                <a:cubicBezTo>
                  <a:pt x="8" y="240"/>
                  <a:pt x="8" y="240"/>
                  <a:pt x="8" y="240"/>
                </a:cubicBezTo>
                <a:cubicBezTo>
                  <a:pt x="8" y="240"/>
                  <a:pt x="8" y="240"/>
                  <a:pt x="8" y="240"/>
                </a:cubicBezTo>
                <a:cubicBezTo>
                  <a:pt x="8" y="240"/>
                  <a:pt x="8" y="240"/>
                  <a:pt x="8" y="240"/>
                </a:cubicBezTo>
                <a:cubicBezTo>
                  <a:pt x="8" y="240"/>
                  <a:pt x="8" y="240"/>
                  <a:pt x="8" y="240"/>
                </a:cubicBezTo>
                <a:cubicBezTo>
                  <a:pt x="8" y="240"/>
                  <a:pt x="8" y="241"/>
                  <a:pt x="8" y="241"/>
                </a:cubicBezTo>
                <a:cubicBezTo>
                  <a:pt x="8" y="241"/>
                  <a:pt x="8" y="241"/>
                  <a:pt x="8" y="241"/>
                </a:cubicBezTo>
                <a:cubicBezTo>
                  <a:pt x="8" y="241"/>
                  <a:pt x="8" y="241"/>
                  <a:pt x="8" y="241"/>
                </a:cubicBezTo>
                <a:cubicBezTo>
                  <a:pt x="8" y="241"/>
                  <a:pt x="8" y="241"/>
                  <a:pt x="8" y="241"/>
                </a:cubicBezTo>
                <a:cubicBezTo>
                  <a:pt x="12" y="242"/>
                  <a:pt x="12" y="242"/>
                  <a:pt x="12" y="242"/>
                </a:cubicBezTo>
                <a:cubicBezTo>
                  <a:pt x="13" y="236"/>
                  <a:pt x="15" y="229"/>
                  <a:pt x="17" y="223"/>
                </a:cubicBezTo>
                <a:cubicBezTo>
                  <a:pt x="13" y="222"/>
                  <a:pt x="13" y="222"/>
                  <a:pt x="13" y="222"/>
                </a:cubicBezTo>
                <a:close/>
                <a:moveTo>
                  <a:pt x="4" y="261"/>
                </a:moveTo>
                <a:cubicBezTo>
                  <a:pt x="3" y="264"/>
                  <a:pt x="3" y="268"/>
                  <a:pt x="2" y="272"/>
                </a:cubicBezTo>
                <a:cubicBezTo>
                  <a:pt x="2" y="272"/>
                  <a:pt x="2" y="272"/>
                  <a:pt x="2" y="272"/>
                </a:cubicBezTo>
                <a:cubicBezTo>
                  <a:pt x="2" y="272"/>
                  <a:pt x="2" y="272"/>
                  <a:pt x="2" y="272"/>
                </a:cubicBezTo>
                <a:cubicBezTo>
                  <a:pt x="2" y="272"/>
                  <a:pt x="2" y="272"/>
                  <a:pt x="2" y="272"/>
                </a:cubicBezTo>
                <a:cubicBezTo>
                  <a:pt x="2" y="272"/>
                  <a:pt x="2" y="272"/>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3"/>
                </a:cubicBezTo>
                <a:cubicBezTo>
                  <a:pt x="2" y="273"/>
                  <a:pt x="2" y="273"/>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4"/>
                  <a:pt x="2" y="274"/>
                  <a:pt x="2" y="274"/>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5"/>
                </a:cubicBezTo>
                <a:cubicBezTo>
                  <a:pt x="2" y="275"/>
                  <a:pt x="2" y="275"/>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6"/>
                </a:cubicBezTo>
                <a:cubicBezTo>
                  <a:pt x="2" y="276"/>
                  <a:pt x="2" y="276"/>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7"/>
                  <a:pt x="2" y="277"/>
                </a:cubicBezTo>
                <a:cubicBezTo>
                  <a:pt x="2" y="277"/>
                  <a:pt x="2" y="278"/>
                  <a:pt x="1" y="278"/>
                </a:cubicBezTo>
                <a:cubicBezTo>
                  <a:pt x="1" y="278"/>
                  <a:pt x="1" y="278"/>
                  <a:pt x="1" y="278"/>
                </a:cubicBezTo>
                <a:cubicBezTo>
                  <a:pt x="1" y="279"/>
                  <a:pt x="1" y="280"/>
                  <a:pt x="1" y="281"/>
                </a:cubicBezTo>
                <a:cubicBezTo>
                  <a:pt x="5" y="281"/>
                  <a:pt x="5" y="281"/>
                  <a:pt x="5" y="281"/>
                </a:cubicBezTo>
                <a:cubicBezTo>
                  <a:pt x="6" y="274"/>
                  <a:pt x="7" y="268"/>
                  <a:pt x="8" y="261"/>
                </a:cubicBezTo>
                <a:cubicBezTo>
                  <a:pt x="4" y="261"/>
                  <a:pt x="4" y="261"/>
                  <a:pt x="4" y="261"/>
                </a:cubicBezTo>
                <a:close/>
                <a:moveTo>
                  <a:pt x="0" y="300"/>
                </a:moveTo>
                <a:cubicBezTo>
                  <a:pt x="0" y="304"/>
                  <a:pt x="0" y="307"/>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1"/>
                </a:cubicBezTo>
                <a:cubicBezTo>
                  <a:pt x="0" y="311"/>
                  <a:pt x="0" y="311"/>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2"/>
                  <a:pt x="0" y="312"/>
                </a:cubicBezTo>
                <a:cubicBezTo>
                  <a:pt x="0" y="312"/>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3"/>
                  <a:pt x="0" y="313"/>
                  <a:pt x="0" y="313"/>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4"/>
                  <a:pt x="0" y="314"/>
                </a:cubicBezTo>
                <a:cubicBezTo>
                  <a:pt x="0" y="314"/>
                  <a:pt x="0" y="315"/>
                  <a:pt x="0" y="315"/>
                </a:cubicBezTo>
                <a:cubicBezTo>
                  <a:pt x="0" y="315"/>
                  <a:pt x="0" y="315"/>
                  <a:pt x="0" y="315"/>
                </a:cubicBezTo>
                <a:cubicBezTo>
                  <a:pt x="0" y="315"/>
                  <a:pt x="0" y="315"/>
                  <a:pt x="0" y="315"/>
                </a:cubicBezTo>
                <a:cubicBezTo>
                  <a:pt x="0" y="315"/>
                  <a:pt x="0" y="315"/>
                  <a:pt x="0" y="315"/>
                </a:cubicBezTo>
                <a:cubicBezTo>
                  <a:pt x="0" y="315"/>
                  <a:pt x="0" y="315"/>
                  <a:pt x="0" y="315"/>
                </a:cubicBezTo>
                <a:cubicBezTo>
                  <a:pt x="0" y="315"/>
                  <a:pt x="0" y="315"/>
                  <a:pt x="0" y="315"/>
                </a:cubicBezTo>
                <a:cubicBezTo>
                  <a:pt x="0" y="317"/>
                  <a:pt x="0" y="319"/>
                  <a:pt x="0" y="320"/>
                </a:cubicBezTo>
                <a:cubicBezTo>
                  <a:pt x="0" y="320"/>
                  <a:pt x="0" y="320"/>
                  <a:pt x="0" y="320"/>
                </a:cubicBezTo>
                <a:cubicBezTo>
                  <a:pt x="4" y="320"/>
                  <a:pt x="4" y="320"/>
                  <a:pt x="4" y="320"/>
                </a:cubicBezTo>
                <a:cubicBezTo>
                  <a:pt x="4" y="318"/>
                  <a:pt x="4" y="316"/>
                  <a:pt x="4" y="313"/>
                </a:cubicBezTo>
                <a:cubicBezTo>
                  <a:pt x="4" y="309"/>
                  <a:pt x="4" y="305"/>
                  <a:pt x="4" y="301"/>
                </a:cubicBezTo>
                <a:cubicBezTo>
                  <a:pt x="0" y="300"/>
                  <a:pt x="0" y="300"/>
                  <a:pt x="0" y="300"/>
                </a:cubicBezTo>
                <a:close/>
                <a:moveTo>
                  <a:pt x="5" y="340"/>
                </a:moveTo>
                <a:cubicBezTo>
                  <a:pt x="1" y="340"/>
                  <a:pt x="1" y="340"/>
                  <a:pt x="1" y="340"/>
                </a:cubicBezTo>
                <a:cubicBezTo>
                  <a:pt x="1" y="340"/>
                  <a:pt x="1" y="340"/>
                  <a:pt x="1" y="340"/>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1"/>
                  <a:pt x="1" y="341"/>
                </a:cubicBezTo>
                <a:cubicBezTo>
                  <a:pt x="1" y="341"/>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2"/>
                  <a:pt x="1" y="342"/>
                </a:cubicBezTo>
                <a:cubicBezTo>
                  <a:pt x="1" y="342"/>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3"/>
                  <a:pt x="1" y="343"/>
                  <a:pt x="1" y="343"/>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4"/>
                </a:cubicBezTo>
                <a:cubicBezTo>
                  <a:pt x="1" y="344"/>
                  <a:pt x="1" y="344"/>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5"/>
                  <a:pt x="1" y="345"/>
                  <a:pt x="1" y="345"/>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6"/>
                </a:cubicBezTo>
                <a:cubicBezTo>
                  <a:pt x="1" y="346"/>
                  <a:pt x="1" y="346"/>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7"/>
                </a:cubicBezTo>
                <a:cubicBezTo>
                  <a:pt x="1" y="347"/>
                  <a:pt x="1" y="347"/>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8"/>
                  <a:pt x="1" y="348"/>
                  <a:pt x="1" y="348"/>
                </a:cubicBezTo>
                <a:cubicBezTo>
                  <a:pt x="1" y="349"/>
                  <a:pt x="2" y="349"/>
                  <a:pt x="2" y="349"/>
                </a:cubicBezTo>
                <a:cubicBezTo>
                  <a:pt x="2" y="349"/>
                  <a:pt x="2" y="349"/>
                  <a:pt x="2" y="349"/>
                </a:cubicBezTo>
                <a:cubicBezTo>
                  <a:pt x="2" y="349"/>
                  <a:pt x="2" y="349"/>
                  <a:pt x="2" y="349"/>
                </a:cubicBezTo>
                <a:cubicBezTo>
                  <a:pt x="2" y="349"/>
                  <a:pt x="2" y="349"/>
                  <a:pt x="2" y="349"/>
                </a:cubicBezTo>
                <a:cubicBezTo>
                  <a:pt x="2" y="349"/>
                  <a:pt x="2" y="349"/>
                  <a:pt x="2" y="349"/>
                </a:cubicBezTo>
                <a:cubicBezTo>
                  <a:pt x="2" y="349"/>
                  <a:pt x="2" y="349"/>
                  <a:pt x="2" y="349"/>
                </a:cubicBezTo>
                <a:cubicBezTo>
                  <a:pt x="2" y="349"/>
                  <a:pt x="2" y="350"/>
                  <a:pt x="2" y="350"/>
                </a:cubicBezTo>
                <a:cubicBezTo>
                  <a:pt x="2" y="350"/>
                  <a:pt x="2" y="350"/>
                  <a:pt x="2" y="350"/>
                </a:cubicBezTo>
                <a:cubicBezTo>
                  <a:pt x="2" y="350"/>
                  <a:pt x="2" y="350"/>
                  <a:pt x="2" y="350"/>
                </a:cubicBezTo>
                <a:cubicBezTo>
                  <a:pt x="2" y="350"/>
                  <a:pt x="2" y="350"/>
                  <a:pt x="2" y="350"/>
                </a:cubicBezTo>
                <a:cubicBezTo>
                  <a:pt x="2" y="350"/>
                  <a:pt x="2" y="350"/>
                  <a:pt x="2" y="350"/>
                </a:cubicBezTo>
                <a:cubicBezTo>
                  <a:pt x="2" y="350"/>
                  <a:pt x="2" y="350"/>
                  <a:pt x="2" y="350"/>
                </a:cubicBezTo>
                <a:cubicBezTo>
                  <a:pt x="2" y="350"/>
                  <a:pt x="2" y="350"/>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1"/>
                  <a:pt x="2" y="351"/>
                </a:cubicBezTo>
                <a:cubicBezTo>
                  <a:pt x="2" y="351"/>
                  <a:pt x="2" y="352"/>
                  <a:pt x="2" y="352"/>
                </a:cubicBezTo>
                <a:cubicBezTo>
                  <a:pt x="2" y="352"/>
                  <a:pt x="2" y="352"/>
                  <a:pt x="2" y="352"/>
                </a:cubicBezTo>
                <a:cubicBezTo>
                  <a:pt x="2" y="352"/>
                  <a:pt x="2" y="352"/>
                  <a:pt x="2" y="352"/>
                </a:cubicBezTo>
                <a:cubicBezTo>
                  <a:pt x="2" y="352"/>
                  <a:pt x="2" y="352"/>
                  <a:pt x="2" y="352"/>
                </a:cubicBezTo>
                <a:cubicBezTo>
                  <a:pt x="2" y="352"/>
                  <a:pt x="2" y="352"/>
                  <a:pt x="2" y="352"/>
                </a:cubicBezTo>
                <a:cubicBezTo>
                  <a:pt x="2" y="352"/>
                  <a:pt x="2" y="352"/>
                  <a:pt x="2" y="352"/>
                </a:cubicBezTo>
                <a:cubicBezTo>
                  <a:pt x="2" y="352"/>
                  <a:pt x="2" y="352"/>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3"/>
                </a:cubicBezTo>
                <a:cubicBezTo>
                  <a:pt x="2" y="353"/>
                  <a:pt x="2" y="353"/>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4"/>
                  <a:pt x="2" y="354"/>
                </a:cubicBezTo>
                <a:cubicBezTo>
                  <a:pt x="2" y="354"/>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5"/>
                  <a:pt x="2" y="355"/>
                  <a:pt x="2" y="355"/>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2" y="356"/>
                  <a:pt x="2" y="356"/>
                </a:cubicBezTo>
                <a:cubicBezTo>
                  <a:pt x="2" y="356"/>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7"/>
                </a:cubicBezTo>
                <a:cubicBezTo>
                  <a:pt x="3" y="357"/>
                  <a:pt x="3" y="357"/>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8"/>
                </a:cubicBezTo>
                <a:cubicBezTo>
                  <a:pt x="3" y="358"/>
                  <a:pt x="3" y="358"/>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59"/>
                </a:cubicBezTo>
                <a:cubicBezTo>
                  <a:pt x="3" y="359"/>
                  <a:pt x="3" y="359"/>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3" y="360"/>
                  <a:pt x="3" y="360"/>
                  <a:pt x="3" y="360"/>
                </a:cubicBezTo>
                <a:cubicBezTo>
                  <a:pt x="7" y="360"/>
                  <a:pt x="7" y="360"/>
                  <a:pt x="7" y="360"/>
                </a:cubicBezTo>
                <a:cubicBezTo>
                  <a:pt x="6" y="353"/>
                  <a:pt x="5" y="347"/>
                  <a:pt x="5" y="340"/>
                </a:cubicBezTo>
                <a:close/>
                <a:moveTo>
                  <a:pt x="11" y="379"/>
                </a:moveTo>
                <a:cubicBezTo>
                  <a:pt x="7" y="380"/>
                  <a:pt x="7" y="380"/>
                  <a:pt x="7" y="380"/>
                </a:cubicBezTo>
                <a:cubicBezTo>
                  <a:pt x="7" y="380"/>
                  <a:pt x="7" y="380"/>
                  <a:pt x="7" y="380"/>
                </a:cubicBezTo>
                <a:cubicBezTo>
                  <a:pt x="7" y="380"/>
                  <a:pt x="7" y="380"/>
                  <a:pt x="7" y="380"/>
                </a:cubicBezTo>
                <a:cubicBezTo>
                  <a:pt x="7" y="380"/>
                  <a:pt x="7" y="380"/>
                  <a:pt x="7" y="380"/>
                </a:cubicBezTo>
                <a:cubicBezTo>
                  <a:pt x="7" y="380"/>
                  <a:pt x="7" y="380"/>
                  <a:pt x="7" y="380"/>
                </a:cubicBezTo>
                <a:cubicBezTo>
                  <a:pt x="7" y="380"/>
                  <a:pt x="7" y="380"/>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1"/>
                  <a:pt x="7" y="381"/>
                  <a:pt x="7" y="381"/>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2"/>
                  <a:pt x="7" y="382"/>
                </a:cubicBezTo>
                <a:cubicBezTo>
                  <a:pt x="7" y="382"/>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3"/>
                  <a:pt x="7" y="383"/>
                  <a:pt x="7" y="383"/>
                </a:cubicBezTo>
                <a:cubicBezTo>
                  <a:pt x="7" y="384"/>
                  <a:pt x="8" y="384"/>
                  <a:pt x="8" y="384"/>
                </a:cubicBezTo>
                <a:cubicBezTo>
                  <a:pt x="8" y="384"/>
                  <a:pt x="8" y="384"/>
                  <a:pt x="8" y="384"/>
                </a:cubicBezTo>
                <a:cubicBezTo>
                  <a:pt x="8" y="386"/>
                  <a:pt x="9" y="388"/>
                  <a:pt x="9" y="390"/>
                </a:cubicBezTo>
                <a:cubicBezTo>
                  <a:pt x="9" y="390"/>
                  <a:pt x="9" y="390"/>
                  <a:pt x="9" y="390"/>
                </a:cubicBezTo>
                <a:cubicBezTo>
                  <a:pt x="9" y="390"/>
                  <a:pt x="9" y="390"/>
                  <a:pt x="9" y="390"/>
                </a:cubicBezTo>
                <a:cubicBezTo>
                  <a:pt x="9" y="390"/>
                  <a:pt x="9" y="390"/>
                  <a:pt x="9" y="390"/>
                </a:cubicBezTo>
                <a:cubicBezTo>
                  <a:pt x="9" y="390"/>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1"/>
                  <a:pt x="9" y="391"/>
                  <a:pt x="9" y="391"/>
                </a:cubicBezTo>
                <a:cubicBezTo>
                  <a:pt x="9" y="392"/>
                  <a:pt x="9" y="392"/>
                  <a:pt x="9" y="392"/>
                </a:cubicBezTo>
                <a:cubicBezTo>
                  <a:pt x="9" y="392"/>
                  <a:pt x="9" y="392"/>
                  <a:pt x="9" y="392"/>
                </a:cubicBezTo>
                <a:cubicBezTo>
                  <a:pt x="9" y="392"/>
                  <a:pt x="9" y="392"/>
                  <a:pt x="9" y="392"/>
                </a:cubicBezTo>
                <a:cubicBezTo>
                  <a:pt x="9" y="392"/>
                  <a:pt x="9" y="392"/>
                  <a:pt x="9" y="392"/>
                </a:cubicBezTo>
                <a:cubicBezTo>
                  <a:pt x="9"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2"/>
                  <a:pt x="10" y="392"/>
                  <a:pt x="10" y="392"/>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3"/>
                  <a:pt x="10" y="393"/>
                </a:cubicBezTo>
                <a:cubicBezTo>
                  <a:pt x="10" y="393"/>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4"/>
                  <a:pt x="10" y="394"/>
                </a:cubicBezTo>
                <a:cubicBezTo>
                  <a:pt x="10" y="394"/>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5"/>
                </a:cubicBezTo>
                <a:cubicBezTo>
                  <a:pt x="10" y="395"/>
                  <a:pt x="10" y="395"/>
                  <a:pt x="10" y="396"/>
                </a:cubicBezTo>
                <a:cubicBezTo>
                  <a:pt x="10" y="396"/>
                  <a:pt x="10" y="396"/>
                  <a:pt x="10" y="396"/>
                </a:cubicBezTo>
                <a:cubicBezTo>
                  <a:pt x="10" y="396"/>
                  <a:pt x="10"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6"/>
                </a:cubicBezTo>
                <a:cubicBezTo>
                  <a:pt x="11" y="396"/>
                  <a:pt x="11" y="396"/>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7"/>
                  <a:pt x="11" y="397"/>
                </a:cubicBezTo>
                <a:cubicBezTo>
                  <a:pt x="11" y="397"/>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8"/>
                  <a:pt x="11" y="398"/>
                  <a:pt x="11" y="398"/>
                </a:cubicBezTo>
                <a:cubicBezTo>
                  <a:pt x="11" y="399"/>
                  <a:pt x="11" y="399"/>
                  <a:pt x="11" y="399"/>
                </a:cubicBezTo>
                <a:cubicBezTo>
                  <a:pt x="11" y="399"/>
                  <a:pt x="11" y="399"/>
                  <a:pt x="11" y="399"/>
                </a:cubicBezTo>
                <a:cubicBezTo>
                  <a:pt x="11" y="399"/>
                  <a:pt x="11" y="399"/>
                  <a:pt x="11" y="399"/>
                </a:cubicBezTo>
                <a:cubicBezTo>
                  <a:pt x="11" y="399"/>
                  <a:pt x="11" y="399"/>
                  <a:pt x="11" y="399"/>
                </a:cubicBezTo>
                <a:cubicBezTo>
                  <a:pt x="11" y="399"/>
                  <a:pt x="12" y="399"/>
                  <a:pt x="12" y="399"/>
                </a:cubicBezTo>
                <a:cubicBezTo>
                  <a:pt x="15" y="398"/>
                  <a:pt x="15" y="398"/>
                  <a:pt x="15" y="398"/>
                </a:cubicBezTo>
                <a:cubicBezTo>
                  <a:pt x="14" y="392"/>
                  <a:pt x="12" y="386"/>
                  <a:pt x="11" y="379"/>
                </a:cubicBezTo>
                <a:close/>
                <a:moveTo>
                  <a:pt x="21" y="417"/>
                </a:moveTo>
                <a:cubicBezTo>
                  <a:pt x="18" y="418"/>
                  <a:pt x="18" y="418"/>
                  <a:pt x="18" y="418"/>
                </a:cubicBezTo>
                <a:cubicBezTo>
                  <a:pt x="18" y="418"/>
                  <a:pt x="18" y="418"/>
                  <a:pt x="18" y="419"/>
                </a:cubicBezTo>
                <a:cubicBezTo>
                  <a:pt x="18" y="419"/>
                  <a:pt x="18" y="419"/>
                  <a:pt x="18" y="419"/>
                </a:cubicBezTo>
                <a:cubicBezTo>
                  <a:pt x="18" y="419"/>
                  <a:pt x="18" y="419"/>
                  <a:pt x="18" y="419"/>
                </a:cubicBezTo>
                <a:cubicBezTo>
                  <a:pt x="18" y="419"/>
                  <a:pt x="18" y="419"/>
                  <a:pt x="18" y="419"/>
                </a:cubicBezTo>
                <a:cubicBezTo>
                  <a:pt x="20" y="425"/>
                  <a:pt x="22" y="431"/>
                  <a:pt x="25" y="437"/>
                </a:cubicBezTo>
                <a:cubicBezTo>
                  <a:pt x="29" y="435"/>
                  <a:pt x="29" y="435"/>
                  <a:pt x="29" y="435"/>
                </a:cubicBezTo>
                <a:cubicBezTo>
                  <a:pt x="26" y="429"/>
                  <a:pt x="24" y="423"/>
                  <a:pt x="21" y="417"/>
                </a:cubicBezTo>
                <a:close/>
                <a:moveTo>
                  <a:pt x="37" y="453"/>
                </a:moveTo>
                <a:cubicBezTo>
                  <a:pt x="33" y="455"/>
                  <a:pt x="33" y="455"/>
                  <a:pt x="33" y="455"/>
                </a:cubicBezTo>
                <a:cubicBezTo>
                  <a:pt x="33" y="455"/>
                  <a:pt x="33" y="455"/>
                  <a:pt x="33" y="455"/>
                </a:cubicBezTo>
                <a:cubicBezTo>
                  <a:pt x="33" y="455"/>
                  <a:pt x="34" y="455"/>
                  <a:pt x="34" y="455"/>
                </a:cubicBezTo>
                <a:cubicBezTo>
                  <a:pt x="34" y="455"/>
                  <a:pt x="34" y="455"/>
                  <a:pt x="34" y="455"/>
                </a:cubicBezTo>
                <a:cubicBezTo>
                  <a:pt x="34" y="455"/>
                  <a:pt x="34" y="455"/>
                  <a:pt x="34" y="455"/>
                </a:cubicBezTo>
                <a:cubicBezTo>
                  <a:pt x="34" y="455"/>
                  <a:pt x="34" y="455"/>
                  <a:pt x="34" y="455"/>
                </a:cubicBezTo>
                <a:cubicBezTo>
                  <a:pt x="34" y="455"/>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6"/>
                </a:cubicBezTo>
                <a:cubicBezTo>
                  <a:pt x="34" y="456"/>
                  <a:pt x="34" y="456"/>
                  <a:pt x="34" y="457"/>
                </a:cubicBezTo>
                <a:cubicBezTo>
                  <a:pt x="34" y="457"/>
                  <a:pt x="34" y="457"/>
                  <a:pt x="34" y="457"/>
                </a:cubicBezTo>
                <a:cubicBezTo>
                  <a:pt x="34" y="457"/>
                  <a:pt x="34" y="457"/>
                  <a:pt x="34" y="457"/>
                </a:cubicBezTo>
                <a:cubicBezTo>
                  <a:pt x="34" y="457"/>
                  <a:pt x="34" y="457"/>
                  <a:pt x="34" y="457"/>
                </a:cubicBezTo>
                <a:cubicBezTo>
                  <a:pt x="34" y="457"/>
                  <a:pt x="34" y="457"/>
                  <a:pt x="34" y="457"/>
                </a:cubicBezTo>
                <a:cubicBezTo>
                  <a:pt x="34" y="457"/>
                  <a:pt x="34" y="457"/>
                  <a:pt x="34" y="457"/>
                </a:cubicBezTo>
                <a:cubicBezTo>
                  <a:pt x="34" y="457"/>
                  <a:pt x="34" y="457"/>
                  <a:pt x="35" y="457"/>
                </a:cubicBezTo>
                <a:cubicBezTo>
                  <a:pt x="35" y="457"/>
                  <a:pt x="35" y="457"/>
                  <a:pt x="35" y="457"/>
                </a:cubicBezTo>
                <a:cubicBezTo>
                  <a:pt x="35" y="457"/>
                  <a:pt x="35" y="457"/>
                  <a:pt x="35" y="457"/>
                </a:cubicBezTo>
                <a:cubicBezTo>
                  <a:pt x="35" y="457"/>
                  <a:pt x="35" y="457"/>
                  <a:pt x="35" y="457"/>
                </a:cubicBezTo>
                <a:cubicBezTo>
                  <a:pt x="35" y="457"/>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8"/>
                </a:cubicBezTo>
                <a:cubicBezTo>
                  <a:pt x="35" y="458"/>
                  <a:pt x="35" y="458"/>
                  <a:pt x="35" y="459"/>
                </a:cubicBezTo>
                <a:cubicBezTo>
                  <a:pt x="35" y="459"/>
                  <a:pt x="35" y="459"/>
                  <a:pt x="35" y="459"/>
                </a:cubicBezTo>
                <a:cubicBezTo>
                  <a:pt x="37" y="461"/>
                  <a:pt x="38" y="464"/>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7"/>
                </a:cubicBezTo>
                <a:cubicBezTo>
                  <a:pt x="40" y="467"/>
                  <a:pt x="40" y="467"/>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0" y="468"/>
                  <a:pt x="40" y="468"/>
                  <a:pt x="40" y="468"/>
                </a:cubicBezTo>
                <a:cubicBezTo>
                  <a:pt x="41" y="468"/>
                  <a:pt x="41" y="468"/>
                  <a:pt x="41" y="468"/>
                </a:cubicBezTo>
                <a:cubicBezTo>
                  <a:pt x="41" y="468"/>
                  <a:pt x="41" y="468"/>
                  <a:pt x="41" y="468"/>
                </a:cubicBezTo>
                <a:cubicBezTo>
                  <a:pt x="41" y="468"/>
                  <a:pt x="41" y="468"/>
                  <a:pt x="41" y="468"/>
                </a:cubicBezTo>
                <a:cubicBezTo>
                  <a:pt x="41" y="468"/>
                  <a:pt x="41" y="468"/>
                  <a:pt x="41" y="468"/>
                </a:cubicBezTo>
                <a:cubicBezTo>
                  <a:pt x="41" y="468"/>
                  <a:pt x="41" y="468"/>
                  <a:pt x="41" y="469"/>
                </a:cubicBezTo>
                <a:cubicBezTo>
                  <a:pt x="41" y="469"/>
                  <a:pt x="41" y="469"/>
                  <a:pt x="41" y="469"/>
                </a:cubicBezTo>
                <a:cubicBezTo>
                  <a:pt x="41" y="469"/>
                  <a:pt x="41" y="469"/>
                  <a:pt x="41" y="469"/>
                </a:cubicBezTo>
                <a:cubicBezTo>
                  <a:pt x="41" y="469"/>
                  <a:pt x="41" y="469"/>
                  <a:pt x="41" y="469"/>
                </a:cubicBezTo>
                <a:cubicBezTo>
                  <a:pt x="41" y="469"/>
                  <a:pt x="41" y="469"/>
                  <a:pt x="41" y="469"/>
                </a:cubicBezTo>
                <a:cubicBezTo>
                  <a:pt x="41" y="469"/>
                  <a:pt x="41" y="469"/>
                  <a:pt x="41" y="469"/>
                </a:cubicBezTo>
                <a:cubicBezTo>
                  <a:pt x="42" y="470"/>
                  <a:pt x="42" y="471"/>
                  <a:pt x="43" y="473"/>
                </a:cubicBezTo>
                <a:cubicBezTo>
                  <a:pt x="47" y="471"/>
                  <a:pt x="47" y="471"/>
                  <a:pt x="47" y="471"/>
                </a:cubicBezTo>
                <a:cubicBezTo>
                  <a:pt x="43" y="465"/>
                  <a:pt x="40" y="459"/>
                  <a:pt x="37" y="453"/>
                </a:cubicBezTo>
                <a:close/>
                <a:moveTo>
                  <a:pt x="57" y="487"/>
                </a:moveTo>
                <a:cubicBezTo>
                  <a:pt x="54" y="490"/>
                  <a:pt x="54" y="490"/>
                  <a:pt x="54" y="490"/>
                </a:cubicBezTo>
                <a:cubicBezTo>
                  <a:pt x="55" y="492"/>
                  <a:pt x="57" y="494"/>
                  <a:pt x="59" y="496"/>
                </a:cubicBezTo>
                <a:cubicBezTo>
                  <a:pt x="59" y="496"/>
                  <a:pt x="59" y="496"/>
                  <a:pt x="59" y="496"/>
                </a:cubicBezTo>
                <a:cubicBezTo>
                  <a:pt x="59" y="496"/>
                  <a:pt x="59" y="496"/>
                  <a:pt x="59" y="496"/>
                </a:cubicBezTo>
                <a:cubicBezTo>
                  <a:pt x="59" y="496"/>
                  <a:pt x="59" y="496"/>
                  <a:pt x="59" y="496"/>
                </a:cubicBezTo>
                <a:cubicBezTo>
                  <a:pt x="59" y="496"/>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7"/>
                  <a:pt x="59" y="497"/>
                </a:cubicBezTo>
                <a:cubicBezTo>
                  <a:pt x="59" y="497"/>
                  <a:pt x="59"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8"/>
                  <a:pt x="60" y="498"/>
                  <a:pt x="60" y="498"/>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0" y="499"/>
                </a:cubicBezTo>
                <a:cubicBezTo>
                  <a:pt x="60" y="499"/>
                  <a:pt x="60"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499"/>
                </a:cubicBezTo>
                <a:cubicBezTo>
                  <a:pt x="61" y="499"/>
                  <a:pt x="61" y="499"/>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1" y="500"/>
                </a:cubicBezTo>
                <a:cubicBezTo>
                  <a:pt x="61" y="500"/>
                  <a:pt x="61" y="500"/>
                  <a:pt x="62" y="500"/>
                </a:cubicBezTo>
                <a:cubicBezTo>
                  <a:pt x="62" y="500"/>
                  <a:pt x="62" y="500"/>
                  <a:pt x="62" y="500"/>
                </a:cubicBezTo>
                <a:cubicBezTo>
                  <a:pt x="62" y="500"/>
                  <a:pt x="62" y="500"/>
                  <a:pt x="62" y="500"/>
                </a:cubicBezTo>
                <a:cubicBezTo>
                  <a:pt x="62" y="500"/>
                  <a:pt x="62" y="500"/>
                  <a:pt x="62" y="500"/>
                </a:cubicBezTo>
                <a:cubicBezTo>
                  <a:pt x="62" y="500"/>
                  <a:pt x="62" y="500"/>
                  <a:pt x="62" y="500"/>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1"/>
                </a:cubicBezTo>
                <a:cubicBezTo>
                  <a:pt x="62" y="501"/>
                  <a:pt x="62" y="501"/>
                  <a:pt x="62" y="502"/>
                </a:cubicBezTo>
                <a:cubicBezTo>
                  <a:pt x="62" y="502"/>
                  <a:pt x="62" y="502"/>
                  <a:pt x="62" y="502"/>
                </a:cubicBezTo>
                <a:cubicBezTo>
                  <a:pt x="63" y="502"/>
                  <a:pt x="63" y="502"/>
                  <a:pt x="63" y="502"/>
                </a:cubicBezTo>
                <a:cubicBezTo>
                  <a:pt x="63" y="502"/>
                  <a:pt x="63" y="502"/>
                  <a:pt x="63" y="502"/>
                </a:cubicBezTo>
                <a:cubicBezTo>
                  <a:pt x="63" y="502"/>
                  <a:pt x="63" y="502"/>
                  <a:pt x="63" y="502"/>
                </a:cubicBezTo>
                <a:cubicBezTo>
                  <a:pt x="63" y="502"/>
                  <a:pt x="63" y="502"/>
                  <a:pt x="63" y="502"/>
                </a:cubicBezTo>
                <a:cubicBezTo>
                  <a:pt x="64" y="503"/>
                  <a:pt x="65" y="505"/>
                  <a:pt x="66" y="506"/>
                </a:cubicBezTo>
                <a:cubicBezTo>
                  <a:pt x="69" y="503"/>
                  <a:pt x="69" y="503"/>
                  <a:pt x="69" y="503"/>
                </a:cubicBezTo>
                <a:cubicBezTo>
                  <a:pt x="65" y="498"/>
                  <a:pt x="61" y="493"/>
                  <a:pt x="57" y="487"/>
                </a:cubicBezTo>
                <a:close/>
                <a:moveTo>
                  <a:pt x="81" y="518"/>
                </a:moveTo>
                <a:cubicBezTo>
                  <a:pt x="78" y="521"/>
                  <a:pt x="78" y="521"/>
                  <a:pt x="78" y="521"/>
                </a:cubicBezTo>
                <a:cubicBezTo>
                  <a:pt x="81" y="524"/>
                  <a:pt x="84" y="527"/>
                  <a:pt x="87" y="530"/>
                </a:cubicBezTo>
                <a:cubicBezTo>
                  <a:pt x="87" y="530"/>
                  <a:pt x="87" y="530"/>
                  <a:pt x="87" y="530"/>
                </a:cubicBezTo>
                <a:cubicBezTo>
                  <a:pt x="87" y="531"/>
                  <a:pt x="87" y="531"/>
                  <a:pt x="87" y="531"/>
                </a:cubicBezTo>
                <a:cubicBezTo>
                  <a:pt x="87" y="531"/>
                  <a:pt x="87" y="531"/>
                  <a:pt x="87" y="531"/>
                </a:cubicBezTo>
                <a:cubicBezTo>
                  <a:pt x="87"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1"/>
                </a:cubicBezTo>
                <a:cubicBezTo>
                  <a:pt x="88" y="531"/>
                  <a:pt x="88" y="531"/>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8" y="532"/>
                  <a:pt x="88" y="532"/>
                  <a:pt x="88" y="532"/>
                </a:cubicBezTo>
                <a:cubicBezTo>
                  <a:pt x="89" y="532"/>
                  <a:pt x="89" y="532"/>
                  <a:pt x="89" y="532"/>
                </a:cubicBezTo>
                <a:cubicBezTo>
                  <a:pt x="89" y="532"/>
                  <a:pt x="89" y="532"/>
                  <a:pt x="89" y="532"/>
                </a:cubicBezTo>
                <a:cubicBezTo>
                  <a:pt x="89" y="532"/>
                  <a:pt x="89" y="532"/>
                  <a:pt x="89" y="532"/>
                </a:cubicBezTo>
                <a:cubicBezTo>
                  <a:pt x="89" y="532"/>
                  <a:pt x="89" y="532"/>
                  <a:pt x="89" y="532"/>
                </a:cubicBezTo>
                <a:cubicBezTo>
                  <a:pt x="90" y="533"/>
                  <a:pt x="91" y="534"/>
                  <a:pt x="92" y="536"/>
                </a:cubicBezTo>
                <a:cubicBezTo>
                  <a:pt x="95" y="533"/>
                  <a:pt x="95" y="533"/>
                  <a:pt x="95" y="533"/>
                </a:cubicBezTo>
                <a:cubicBezTo>
                  <a:pt x="90" y="528"/>
                  <a:pt x="86" y="523"/>
                  <a:pt x="81" y="518"/>
                </a:cubicBezTo>
                <a:close/>
                <a:moveTo>
                  <a:pt x="109" y="546"/>
                </a:moveTo>
                <a:cubicBezTo>
                  <a:pt x="107" y="549"/>
                  <a:pt x="107" y="549"/>
                  <a:pt x="107" y="549"/>
                </a:cubicBezTo>
                <a:cubicBezTo>
                  <a:pt x="109" y="551"/>
                  <a:pt x="111" y="552"/>
                  <a:pt x="112" y="554"/>
                </a:cubicBezTo>
                <a:cubicBezTo>
                  <a:pt x="112" y="554"/>
                  <a:pt x="112" y="554"/>
                  <a:pt x="112" y="554"/>
                </a:cubicBezTo>
                <a:cubicBezTo>
                  <a:pt x="113" y="554"/>
                  <a:pt x="113" y="554"/>
                  <a:pt x="113" y="554"/>
                </a:cubicBezTo>
                <a:cubicBezTo>
                  <a:pt x="113" y="554"/>
                  <a:pt x="113" y="554"/>
                  <a:pt x="113" y="554"/>
                </a:cubicBezTo>
                <a:cubicBezTo>
                  <a:pt x="113" y="554"/>
                  <a:pt x="113" y="554"/>
                  <a:pt x="113" y="554"/>
                </a:cubicBezTo>
                <a:cubicBezTo>
                  <a:pt x="113" y="554"/>
                  <a:pt x="113" y="554"/>
                  <a:pt x="113" y="554"/>
                </a:cubicBezTo>
                <a:cubicBezTo>
                  <a:pt x="113" y="555"/>
                  <a:pt x="113" y="555"/>
                  <a:pt x="113" y="555"/>
                </a:cubicBezTo>
                <a:cubicBezTo>
                  <a:pt x="113" y="555"/>
                  <a:pt x="113" y="555"/>
                  <a:pt x="113" y="555"/>
                </a:cubicBezTo>
                <a:cubicBezTo>
                  <a:pt x="113" y="555"/>
                  <a:pt x="113" y="555"/>
                  <a:pt x="113" y="555"/>
                </a:cubicBezTo>
                <a:cubicBezTo>
                  <a:pt x="113" y="555"/>
                  <a:pt x="113" y="555"/>
                  <a:pt x="113" y="555"/>
                </a:cubicBezTo>
                <a:cubicBezTo>
                  <a:pt x="113" y="555"/>
                  <a:pt x="113"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5"/>
                  <a:pt x="114" y="555"/>
                  <a:pt x="114" y="555"/>
                </a:cubicBezTo>
                <a:cubicBezTo>
                  <a:pt x="114" y="556"/>
                  <a:pt x="114" y="556"/>
                  <a:pt x="114" y="556"/>
                </a:cubicBezTo>
                <a:cubicBezTo>
                  <a:pt x="114" y="556"/>
                  <a:pt x="114" y="556"/>
                  <a:pt x="114" y="556"/>
                </a:cubicBezTo>
                <a:cubicBezTo>
                  <a:pt x="114" y="556"/>
                  <a:pt x="114" y="556"/>
                  <a:pt x="114" y="556"/>
                </a:cubicBezTo>
                <a:cubicBezTo>
                  <a:pt x="114" y="556"/>
                  <a:pt x="114" y="556"/>
                  <a:pt x="114" y="556"/>
                </a:cubicBezTo>
                <a:cubicBezTo>
                  <a:pt x="114" y="556"/>
                  <a:pt x="114"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6"/>
                  <a:pt x="115" y="556"/>
                  <a:pt x="115" y="556"/>
                </a:cubicBezTo>
                <a:cubicBezTo>
                  <a:pt x="115" y="557"/>
                  <a:pt x="115" y="557"/>
                  <a:pt x="115" y="557"/>
                </a:cubicBezTo>
                <a:cubicBezTo>
                  <a:pt x="115"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6" y="557"/>
                  <a:pt x="116" y="557"/>
                  <a:pt x="116" y="557"/>
                </a:cubicBezTo>
                <a:cubicBezTo>
                  <a:pt x="117" y="557"/>
                  <a:pt x="117" y="557"/>
                  <a:pt x="117" y="557"/>
                </a:cubicBezTo>
                <a:cubicBezTo>
                  <a:pt x="117" y="557"/>
                  <a:pt x="117" y="557"/>
                  <a:pt x="117" y="557"/>
                </a:cubicBezTo>
                <a:cubicBezTo>
                  <a:pt x="117" y="557"/>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7" y="558"/>
                  <a:pt x="117" y="558"/>
                </a:cubicBezTo>
                <a:cubicBezTo>
                  <a:pt x="117"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8"/>
                </a:cubicBezTo>
                <a:cubicBezTo>
                  <a:pt x="118" y="558"/>
                  <a:pt x="118" y="558"/>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8" y="559"/>
                  <a:pt x="118" y="559"/>
                  <a:pt x="118" y="559"/>
                </a:cubicBezTo>
                <a:cubicBezTo>
                  <a:pt x="119" y="559"/>
                  <a:pt x="119" y="559"/>
                  <a:pt x="119" y="559"/>
                </a:cubicBezTo>
                <a:cubicBezTo>
                  <a:pt x="119" y="559"/>
                  <a:pt x="119" y="559"/>
                  <a:pt x="119" y="559"/>
                </a:cubicBezTo>
                <a:cubicBezTo>
                  <a:pt x="120" y="560"/>
                  <a:pt x="121" y="561"/>
                  <a:pt x="122" y="562"/>
                </a:cubicBezTo>
                <a:cubicBezTo>
                  <a:pt x="125" y="559"/>
                  <a:pt x="125" y="559"/>
                  <a:pt x="125" y="559"/>
                </a:cubicBezTo>
                <a:cubicBezTo>
                  <a:pt x="119" y="555"/>
                  <a:pt x="114" y="551"/>
                  <a:pt x="109" y="546"/>
                </a:cubicBezTo>
                <a:close/>
                <a:moveTo>
                  <a:pt x="141" y="570"/>
                </a:moveTo>
                <a:cubicBezTo>
                  <a:pt x="138" y="574"/>
                  <a:pt x="138" y="574"/>
                  <a:pt x="138" y="574"/>
                </a:cubicBezTo>
                <a:cubicBezTo>
                  <a:pt x="140" y="575"/>
                  <a:pt x="142" y="576"/>
                  <a:pt x="144" y="577"/>
                </a:cubicBezTo>
                <a:cubicBezTo>
                  <a:pt x="144" y="577"/>
                  <a:pt x="144" y="577"/>
                  <a:pt x="144" y="577"/>
                </a:cubicBezTo>
                <a:cubicBezTo>
                  <a:pt x="144" y="577"/>
                  <a:pt x="144" y="577"/>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5" y="578"/>
                  <a:pt x="145" y="578"/>
                  <a:pt x="145"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8"/>
                  <a:pt x="146" y="578"/>
                  <a:pt x="146" y="578"/>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6" y="579"/>
                </a:cubicBezTo>
                <a:cubicBezTo>
                  <a:pt x="146" y="579"/>
                  <a:pt x="146"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7" y="579"/>
                </a:cubicBezTo>
                <a:cubicBezTo>
                  <a:pt x="147" y="579"/>
                  <a:pt x="147" y="579"/>
                  <a:pt x="148" y="579"/>
                </a:cubicBezTo>
                <a:cubicBezTo>
                  <a:pt x="148" y="579"/>
                  <a:pt x="148" y="579"/>
                  <a:pt x="148" y="579"/>
                </a:cubicBezTo>
                <a:cubicBezTo>
                  <a:pt x="148" y="579"/>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8" y="580"/>
                  <a:pt x="148" y="580"/>
                </a:cubicBezTo>
                <a:cubicBezTo>
                  <a:pt x="148" y="580"/>
                  <a:pt x="149" y="580"/>
                  <a:pt x="149" y="580"/>
                </a:cubicBezTo>
                <a:cubicBezTo>
                  <a:pt x="149" y="580"/>
                  <a:pt x="149" y="580"/>
                  <a:pt x="149" y="580"/>
                </a:cubicBezTo>
                <a:cubicBezTo>
                  <a:pt x="149" y="580"/>
                  <a:pt x="149" y="580"/>
                  <a:pt x="149" y="580"/>
                </a:cubicBezTo>
                <a:cubicBezTo>
                  <a:pt x="149" y="580"/>
                  <a:pt x="149" y="580"/>
                  <a:pt x="149" y="580"/>
                </a:cubicBezTo>
                <a:cubicBezTo>
                  <a:pt x="151" y="582"/>
                  <a:pt x="153" y="583"/>
                  <a:pt x="155" y="584"/>
                </a:cubicBezTo>
                <a:cubicBezTo>
                  <a:pt x="157" y="581"/>
                  <a:pt x="157" y="581"/>
                  <a:pt x="157" y="581"/>
                </a:cubicBezTo>
                <a:cubicBezTo>
                  <a:pt x="152" y="577"/>
                  <a:pt x="146" y="574"/>
                  <a:pt x="141" y="570"/>
                </a:cubicBezTo>
                <a:close/>
                <a:moveTo>
                  <a:pt x="175" y="590"/>
                </a:moveTo>
                <a:cubicBezTo>
                  <a:pt x="173" y="594"/>
                  <a:pt x="173" y="594"/>
                  <a:pt x="173" y="594"/>
                </a:cubicBezTo>
                <a:cubicBezTo>
                  <a:pt x="175" y="595"/>
                  <a:pt x="177" y="595"/>
                  <a:pt x="178" y="596"/>
                </a:cubicBezTo>
                <a:cubicBezTo>
                  <a:pt x="178" y="596"/>
                  <a:pt x="178" y="596"/>
                  <a:pt x="178" y="596"/>
                </a:cubicBezTo>
                <a:cubicBezTo>
                  <a:pt x="178" y="596"/>
                  <a:pt x="178" y="596"/>
                  <a:pt x="178" y="596"/>
                </a:cubicBezTo>
                <a:cubicBezTo>
                  <a:pt x="178" y="596"/>
                  <a:pt x="178" y="596"/>
                  <a:pt x="178" y="596"/>
                </a:cubicBezTo>
                <a:cubicBezTo>
                  <a:pt x="179" y="596"/>
                  <a:pt x="179" y="596"/>
                  <a:pt x="179" y="596"/>
                </a:cubicBezTo>
                <a:cubicBezTo>
                  <a:pt x="179" y="596"/>
                  <a:pt x="179" y="596"/>
                  <a:pt x="179" y="596"/>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79" y="597"/>
                  <a:pt x="179" y="597"/>
                </a:cubicBezTo>
                <a:cubicBezTo>
                  <a:pt x="179"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0" y="597"/>
                  <a:pt x="180" y="597"/>
                </a:cubicBezTo>
                <a:cubicBezTo>
                  <a:pt x="180" y="597"/>
                  <a:pt x="181" y="597"/>
                  <a:pt x="181" y="597"/>
                </a:cubicBezTo>
                <a:cubicBezTo>
                  <a:pt x="181" y="597"/>
                  <a:pt x="181" y="597"/>
                  <a:pt x="181" y="597"/>
                </a:cubicBezTo>
                <a:cubicBezTo>
                  <a:pt x="181" y="597"/>
                  <a:pt x="181" y="597"/>
                  <a:pt x="181" y="597"/>
                </a:cubicBezTo>
                <a:cubicBezTo>
                  <a:pt x="181" y="597"/>
                  <a:pt x="181" y="597"/>
                  <a:pt x="181" y="597"/>
                </a:cubicBezTo>
                <a:cubicBezTo>
                  <a:pt x="181" y="597"/>
                  <a:pt x="181" y="598"/>
                  <a:pt x="181" y="598"/>
                </a:cubicBezTo>
                <a:cubicBezTo>
                  <a:pt x="181" y="598"/>
                  <a:pt x="181" y="598"/>
                  <a:pt x="181" y="598"/>
                </a:cubicBezTo>
                <a:cubicBezTo>
                  <a:pt x="181" y="598"/>
                  <a:pt x="181" y="598"/>
                  <a:pt x="181" y="598"/>
                </a:cubicBezTo>
                <a:cubicBezTo>
                  <a:pt x="181" y="598"/>
                  <a:pt x="181" y="598"/>
                  <a:pt x="181" y="598"/>
                </a:cubicBezTo>
                <a:cubicBezTo>
                  <a:pt x="181" y="598"/>
                  <a:pt x="181" y="598"/>
                  <a:pt x="182" y="598"/>
                </a:cubicBezTo>
                <a:cubicBezTo>
                  <a:pt x="182" y="598"/>
                  <a:pt x="182" y="598"/>
                  <a:pt x="182" y="598"/>
                </a:cubicBezTo>
                <a:cubicBezTo>
                  <a:pt x="182" y="598"/>
                  <a:pt x="182" y="598"/>
                  <a:pt x="182" y="598"/>
                </a:cubicBezTo>
                <a:cubicBezTo>
                  <a:pt x="182" y="598"/>
                  <a:pt x="182" y="598"/>
                  <a:pt x="182" y="598"/>
                </a:cubicBezTo>
                <a:cubicBezTo>
                  <a:pt x="185" y="599"/>
                  <a:pt x="188" y="601"/>
                  <a:pt x="191" y="602"/>
                </a:cubicBezTo>
                <a:cubicBezTo>
                  <a:pt x="193" y="598"/>
                  <a:pt x="193" y="598"/>
                  <a:pt x="193" y="598"/>
                </a:cubicBezTo>
                <a:cubicBezTo>
                  <a:pt x="187" y="596"/>
                  <a:pt x="181" y="593"/>
                  <a:pt x="175" y="590"/>
                </a:cubicBezTo>
                <a:close/>
                <a:moveTo>
                  <a:pt x="211" y="605"/>
                </a:move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0" y="609"/>
                  <a:pt x="210" y="609"/>
                </a:cubicBezTo>
                <a:cubicBezTo>
                  <a:pt x="210" y="609"/>
                  <a:pt x="211" y="609"/>
                  <a:pt x="211" y="609"/>
                </a:cubicBezTo>
                <a:cubicBezTo>
                  <a:pt x="211" y="609"/>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1" y="610"/>
                </a:cubicBezTo>
                <a:cubicBezTo>
                  <a:pt x="211" y="610"/>
                  <a:pt x="211"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2" y="610"/>
                  <a:pt x="212" y="610"/>
                </a:cubicBezTo>
                <a:cubicBezTo>
                  <a:pt x="212"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3" y="610"/>
                  <a:pt x="213" y="610"/>
                  <a:pt x="213" y="610"/>
                </a:cubicBezTo>
                <a:cubicBezTo>
                  <a:pt x="214" y="610"/>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4" y="611"/>
                  <a:pt x="214" y="611"/>
                </a:cubicBezTo>
                <a:cubicBezTo>
                  <a:pt x="214"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5" y="611"/>
                  <a:pt x="215" y="611"/>
                </a:cubicBezTo>
                <a:cubicBezTo>
                  <a:pt x="215"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6" y="611"/>
                  <a:pt x="216" y="611"/>
                </a:cubicBezTo>
                <a:cubicBezTo>
                  <a:pt x="216" y="611"/>
                  <a:pt x="217" y="611"/>
                  <a:pt x="217" y="612"/>
                </a:cubicBezTo>
                <a:cubicBezTo>
                  <a:pt x="217" y="612"/>
                  <a:pt x="217" y="612"/>
                  <a:pt x="217" y="612"/>
                </a:cubicBezTo>
                <a:cubicBezTo>
                  <a:pt x="220" y="612"/>
                  <a:pt x="222" y="613"/>
                  <a:pt x="225" y="614"/>
                </a:cubicBezTo>
                <a:cubicBezTo>
                  <a:pt x="225" y="614"/>
                  <a:pt x="225" y="614"/>
                  <a:pt x="225" y="614"/>
                </a:cubicBezTo>
                <a:cubicBezTo>
                  <a:pt x="225"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4"/>
                  <a:pt x="226" y="614"/>
                  <a:pt x="226" y="614"/>
                </a:cubicBezTo>
                <a:cubicBezTo>
                  <a:pt x="226" y="615"/>
                  <a:pt x="226" y="615"/>
                  <a:pt x="226"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7" y="615"/>
                  <a:pt x="227" y="615"/>
                  <a:pt x="227" y="615"/>
                </a:cubicBezTo>
                <a:cubicBezTo>
                  <a:pt x="228" y="615"/>
                  <a:pt x="228" y="615"/>
                  <a:pt x="228" y="615"/>
                </a:cubicBezTo>
                <a:cubicBezTo>
                  <a:pt x="228" y="615"/>
                  <a:pt x="228" y="615"/>
                  <a:pt x="228" y="615"/>
                </a:cubicBezTo>
                <a:cubicBezTo>
                  <a:pt x="228" y="615"/>
                  <a:pt x="229" y="615"/>
                  <a:pt x="229" y="615"/>
                </a:cubicBezTo>
                <a:cubicBezTo>
                  <a:pt x="230" y="611"/>
                  <a:pt x="230" y="611"/>
                  <a:pt x="230" y="611"/>
                </a:cubicBezTo>
                <a:cubicBezTo>
                  <a:pt x="224" y="610"/>
                  <a:pt x="217" y="608"/>
                  <a:pt x="211" y="605"/>
                </a:cubicBezTo>
                <a:close/>
                <a:moveTo>
                  <a:pt x="249" y="616"/>
                </a:moveTo>
                <a:cubicBezTo>
                  <a:pt x="248" y="620"/>
                  <a:pt x="248" y="620"/>
                  <a:pt x="248" y="620"/>
                </a:cubicBezTo>
                <a:cubicBezTo>
                  <a:pt x="251" y="620"/>
                  <a:pt x="254" y="621"/>
                  <a:pt x="256" y="622"/>
                </a:cubicBezTo>
                <a:cubicBezTo>
                  <a:pt x="256" y="622"/>
                  <a:pt x="256" y="622"/>
                  <a:pt x="256" y="622"/>
                </a:cubicBezTo>
                <a:cubicBezTo>
                  <a:pt x="256"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7" y="622"/>
                </a:cubicBezTo>
                <a:cubicBezTo>
                  <a:pt x="257" y="622"/>
                  <a:pt x="257"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8" y="622"/>
                </a:cubicBezTo>
                <a:cubicBezTo>
                  <a:pt x="258" y="622"/>
                  <a:pt x="258"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59" y="622"/>
                  <a:pt x="259" y="622"/>
                  <a:pt x="259" y="622"/>
                </a:cubicBezTo>
                <a:cubicBezTo>
                  <a:pt x="260" y="622"/>
                  <a:pt x="260" y="622"/>
                  <a:pt x="260" y="622"/>
                </a:cubicBezTo>
                <a:cubicBezTo>
                  <a:pt x="260" y="622"/>
                  <a:pt x="260" y="622"/>
                  <a:pt x="260" y="622"/>
                </a:cubicBezTo>
                <a:cubicBezTo>
                  <a:pt x="262" y="623"/>
                  <a:pt x="265" y="623"/>
                  <a:pt x="268" y="623"/>
                </a:cubicBezTo>
                <a:cubicBezTo>
                  <a:pt x="269" y="619"/>
                  <a:pt x="269" y="619"/>
                  <a:pt x="269" y="619"/>
                </a:cubicBezTo>
                <a:cubicBezTo>
                  <a:pt x="262" y="619"/>
                  <a:pt x="256" y="617"/>
                  <a:pt x="249" y="616"/>
                </a:cubicBezTo>
                <a:close/>
                <a:moveTo>
                  <a:pt x="288" y="622"/>
                </a:moveTo>
                <a:cubicBezTo>
                  <a:pt x="288" y="626"/>
                  <a:pt x="288" y="626"/>
                  <a:pt x="288" y="626"/>
                </a:cubicBezTo>
                <a:cubicBezTo>
                  <a:pt x="289" y="626"/>
                  <a:pt x="290" y="626"/>
                  <a:pt x="291" y="626"/>
                </a:cubicBezTo>
                <a:cubicBezTo>
                  <a:pt x="291" y="626"/>
                  <a:pt x="291" y="626"/>
                  <a:pt x="291" y="626"/>
                </a:cubicBezTo>
                <a:cubicBezTo>
                  <a:pt x="291" y="626"/>
                  <a:pt x="291" y="626"/>
                  <a:pt x="291" y="626"/>
                </a:cubicBezTo>
                <a:cubicBezTo>
                  <a:pt x="291" y="626"/>
                  <a:pt x="291" y="626"/>
                  <a:pt x="291" y="626"/>
                </a:cubicBezTo>
                <a:cubicBezTo>
                  <a:pt x="291"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2" y="626"/>
                  <a:pt x="292" y="626"/>
                  <a:pt x="292"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3" y="626"/>
                  <a:pt x="293" y="626"/>
                </a:cubicBezTo>
                <a:cubicBezTo>
                  <a:pt x="293"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4" y="626"/>
                  <a:pt x="294" y="626"/>
                  <a:pt x="294"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5" y="626"/>
                  <a:pt x="295" y="626"/>
                  <a:pt x="295"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6" y="626"/>
                  <a:pt x="296" y="626"/>
                  <a:pt x="296" y="626"/>
                </a:cubicBezTo>
                <a:cubicBezTo>
                  <a:pt x="297" y="626"/>
                  <a:pt x="297" y="626"/>
                  <a:pt x="297" y="626"/>
                </a:cubicBezTo>
                <a:cubicBezTo>
                  <a:pt x="297" y="626"/>
                  <a:pt x="297" y="626"/>
                  <a:pt x="297" y="626"/>
                </a:cubicBezTo>
                <a:cubicBezTo>
                  <a:pt x="297" y="626"/>
                  <a:pt x="297" y="626"/>
                  <a:pt x="297" y="626"/>
                </a:cubicBezTo>
                <a:cubicBezTo>
                  <a:pt x="297" y="626"/>
                  <a:pt x="297" y="626"/>
                  <a:pt x="297" y="626"/>
                </a:cubicBezTo>
                <a:cubicBezTo>
                  <a:pt x="297" y="626"/>
                  <a:pt x="298" y="626"/>
                  <a:pt x="298" y="626"/>
                </a:cubicBezTo>
                <a:cubicBezTo>
                  <a:pt x="298" y="626"/>
                  <a:pt x="298" y="626"/>
                  <a:pt x="298" y="626"/>
                </a:cubicBezTo>
                <a:cubicBezTo>
                  <a:pt x="298" y="626"/>
                  <a:pt x="298" y="626"/>
                  <a:pt x="298" y="626"/>
                </a:cubicBezTo>
                <a:cubicBezTo>
                  <a:pt x="299" y="626"/>
                  <a:pt x="299" y="626"/>
                  <a:pt x="299" y="626"/>
                </a:cubicBezTo>
                <a:cubicBezTo>
                  <a:pt x="299" y="626"/>
                  <a:pt x="299" y="626"/>
                  <a:pt x="299" y="626"/>
                </a:cubicBezTo>
                <a:cubicBezTo>
                  <a:pt x="299" y="626"/>
                  <a:pt x="299" y="626"/>
                  <a:pt x="299" y="626"/>
                </a:cubicBezTo>
                <a:cubicBezTo>
                  <a:pt x="299" y="626"/>
                  <a:pt x="300" y="626"/>
                  <a:pt x="300" y="626"/>
                </a:cubicBezTo>
                <a:cubicBezTo>
                  <a:pt x="300" y="626"/>
                  <a:pt x="300" y="626"/>
                  <a:pt x="300" y="626"/>
                </a:cubicBezTo>
                <a:cubicBezTo>
                  <a:pt x="300" y="626"/>
                  <a:pt x="300" y="626"/>
                  <a:pt x="300" y="626"/>
                </a:cubicBezTo>
                <a:cubicBezTo>
                  <a:pt x="300" y="626"/>
                  <a:pt x="300" y="626"/>
                  <a:pt x="300" y="626"/>
                </a:cubicBezTo>
                <a:cubicBezTo>
                  <a:pt x="300" y="626"/>
                  <a:pt x="300" y="626"/>
                  <a:pt x="301" y="626"/>
                </a:cubicBezTo>
                <a:cubicBezTo>
                  <a:pt x="301" y="626"/>
                  <a:pt x="301" y="626"/>
                  <a:pt x="301" y="626"/>
                </a:cubicBezTo>
                <a:cubicBezTo>
                  <a:pt x="301" y="626"/>
                  <a:pt x="301" y="626"/>
                  <a:pt x="301" y="626"/>
                </a:cubicBezTo>
                <a:cubicBezTo>
                  <a:pt x="301" y="626"/>
                  <a:pt x="301" y="626"/>
                  <a:pt x="301" y="626"/>
                </a:cubicBezTo>
                <a:cubicBezTo>
                  <a:pt x="301" y="626"/>
                  <a:pt x="301" y="626"/>
                  <a:pt x="301" y="626"/>
                </a:cubicBezTo>
                <a:cubicBezTo>
                  <a:pt x="301" y="626"/>
                  <a:pt x="301" y="626"/>
                  <a:pt x="301" y="626"/>
                </a:cubicBezTo>
                <a:cubicBezTo>
                  <a:pt x="301" y="626"/>
                  <a:pt x="301"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2" y="626"/>
                  <a:pt x="302" y="626"/>
                  <a:pt x="302" y="626"/>
                </a:cubicBezTo>
                <a:cubicBezTo>
                  <a:pt x="303" y="626"/>
                  <a:pt x="303" y="626"/>
                  <a:pt x="303" y="626"/>
                </a:cubicBezTo>
                <a:cubicBezTo>
                  <a:pt x="303" y="626"/>
                  <a:pt x="303" y="626"/>
                  <a:pt x="303" y="626"/>
                </a:cubicBezTo>
                <a:cubicBezTo>
                  <a:pt x="303" y="626"/>
                  <a:pt x="303" y="626"/>
                  <a:pt x="303" y="626"/>
                </a:cubicBezTo>
                <a:cubicBezTo>
                  <a:pt x="303" y="626"/>
                  <a:pt x="303" y="626"/>
                  <a:pt x="303" y="626"/>
                </a:cubicBezTo>
                <a:cubicBezTo>
                  <a:pt x="303" y="626"/>
                  <a:pt x="303" y="626"/>
                  <a:pt x="303" y="626"/>
                </a:cubicBezTo>
                <a:cubicBezTo>
                  <a:pt x="304" y="626"/>
                  <a:pt x="304" y="626"/>
                  <a:pt x="304" y="626"/>
                </a:cubicBezTo>
                <a:cubicBezTo>
                  <a:pt x="304" y="626"/>
                  <a:pt x="304" y="626"/>
                  <a:pt x="304" y="626"/>
                </a:cubicBezTo>
                <a:cubicBezTo>
                  <a:pt x="304" y="626"/>
                  <a:pt x="304" y="626"/>
                  <a:pt x="304" y="626"/>
                </a:cubicBezTo>
                <a:cubicBezTo>
                  <a:pt x="304" y="626"/>
                  <a:pt x="304" y="626"/>
                  <a:pt x="304" y="626"/>
                </a:cubicBezTo>
                <a:cubicBezTo>
                  <a:pt x="304" y="626"/>
                  <a:pt x="304" y="626"/>
                  <a:pt x="304" y="626"/>
                </a:cubicBezTo>
                <a:cubicBezTo>
                  <a:pt x="304" y="626"/>
                  <a:pt x="304" y="626"/>
                  <a:pt x="304" y="627"/>
                </a:cubicBezTo>
                <a:cubicBezTo>
                  <a:pt x="304" y="627"/>
                  <a:pt x="304" y="627"/>
                  <a:pt x="304" y="627"/>
                </a:cubicBezTo>
                <a:cubicBezTo>
                  <a:pt x="304" y="627"/>
                  <a:pt x="304" y="627"/>
                  <a:pt x="304" y="627"/>
                </a:cubicBezTo>
                <a:cubicBezTo>
                  <a:pt x="304" y="627"/>
                  <a:pt x="304" y="627"/>
                  <a:pt x="304" y="627"/>
                </a:cubicBezTo>
                <a:cubicBezTo>
                  <a:pt x="304" y="627"/>
                  <a:pt x="304" y="627"/>
                  <a:pt x="304" y="627"/>
                </a:cubicBezTo>
                <a:cubicBezTo>
                  <a:pt x="304" y="627"/>
                  <a:pt x="304" y="627"/>
                  <a:pt x="304"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5" y="627"/>
                </a:cubicBezTo>
                <a:cubicBezTo>
                  <a:pt x="305" y="627"/>
                  <a:pt x="305"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6" y="627"/>
                  <a:pt x="306" y="627"/>
                </a:cubicBezTo>
                <a:cubicBezTo>
                  <a:pt x="306"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7" y="627"/>
                  <a:pt x="307" y="627"/>
                </a:cubicBezTo>
                <a:cubicBezTo>
                  <a:pt x="307" y="627"/>
                  <a:pt x="308" y="627"/>
                  <a:pt x="308" y="627"/>
                </a:cubicBezTo>
                <a:cubicBezTo>
                  <a:pt x="308" y="627"/>
                  <a:pt x="308" y="627"/>
                  <a:pt x="308" y="627"/>
                </a:cubicBezTo>
                <a:cubicBezTo>
                  <a:pt x="308" y="627"/>
                  <a:pt x="308" y="627"/>
                  <a:pt x="308" y="627"/>
                </a:cubicBezTo>
                <a:cubicBezTo>
                  <a:pt x="308" y="627"/>
                  <a:pt x="308" y="627"/>
                  <a:pt x="308" y="627"/>
                </a:cubicBezTo>
                <a:cubicBezTo>
                  <a:pt x="308" y="627"/>
                  <a:pt x="308" y="627"/>
                  <a:pt x="308" y="627"/>
                </a:cubicBezTo>
                <a:cubicBezTo>
                  <a:pt x="308" y="627"/>
                  <a:pt x="308" y="627"/>
                  <a:pt x="308" y="627"/>
                </a:cubicBezTo>
                <a:cubicBezTo>
                  <a:pt x="308" y="623"/>
                  <a:pt x="308" y="623"/>
                  <a:pt x="308" y="623"/>
                </a:cubicBezTo>
                <a:cubicBezTo>
                  <a:pt x="301" y="622"/>
                  <a:pt x="295" y="622"/>
                  <a:pt x="288" y="622"/>
                </a:cubicBezTo>
                <a:close/>
                <a:moveTo>
                  <a:pt x="347" y="621"/>
                </a:moveTo>
                <a:cubicBezTo>
                  <a:pt x="341" y="621"/>
                  <a:pt x="334" y="622"/>
                  <a:pt x="328" y="622"/>
                </a:cubicBezTo>
                <a:cubicBezTo>
                  <a:pt x="328" y="626"/>
                  <a:pt x="328" y="626"/>
                  <a:pt x="328" y="626"/>
                </a:cubicBezTo>
                <a:cubicBezTo>
                  <a:pt x="330" y="626"/>
                  <a:pt x="331"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3" y="626"/>
                  <a:pt x="333" y="626"/>
                  <a:pt x="333"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4" y="626"/>
                </a:cubicBezTo>
                <a:cubicBezTo>
                  <a:pt x="334" y="626"/>
                  <a:pt x="334"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5" y="626"/>
                  <a:pt x="335" y="626"/>
                  <a:pt x="335" y="626"/>
                </a:cubicBezTo>
                <a:cubicBezTo>
                  <a:pt x="339" y="626"/>
                  <a:pt x="344" y="625"/>
                  <a:pt x="348" y="625"/>
                </a:cubicBezTo>
                <a:cubicBezTo>
                  <a:pt x="347" y="621"/>
                  <a:pt x="347" y="621"/>
                  <a:pt x="347" y="621"/>
                </a:cubicBezTo>
                <a:close/>
                <a:moveTo>
                  <a:pt x="386" y="614"/>
                </a:moveTo>
                <a:cubicBezTo>
                  <a:pt x="380" y="615"/>
                  <a:pt x="373" y="617"/>
                  <a:pt x="367" y="618"/>
                </a:cubicBezTo>
                <a:cubicBezTo>
                  <a:pt x="368" y="622"/>
                  <a:pt x="368" y="622"/>
                  <a:pt x="368" y="622"/>
                </a:cubicBezTo>
                <a:cubicBezTo>
                  <a:pt x="369" y="622"/>
                  <a:pt x="370" y="622"/>
                  <a:pt x="370" y="621"/>
                </a:cubicBezTo>
                <a:cubicBezTo>
                  <a:pt x="370" y="621"/>
                  <a:pt x="370"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1" y="621"/>
                  <a:pt x="371" y="621"/>
                  <a:pt x="371"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2" y="621"/>
                </a:cubicBezTo>
                <a:cubicBezTo>
                  <a:pt x="372" y="621"/>
                  <a:pt x="372"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3" y="621"/>
                  <a:pt x="373" y="621"/>
                  <a:pt x="373" y="621"/>
                </a:cubicBezTo>
                <a:cubicBezTo>
                  <a:pt x="378" y="620"/>
                  <a:pt x="383" y="619"/>
                  <a:pt x="387" y="618"/>
                </a:cubicBezTo>
                <a:cubicBezTo>
                  <a:pt x="386" y="614"/>
                  <a:pt x="386" y="614"/>
                  <a:pt x="386" y="614"/>
                </a:cubicBezTo>
                <a:close/>
                <a:moveTo>
                  <a:pt x="424" y="602"/>
                </a:moveTo>
                <a:cubicBezTo>
                  <a:pt x="418" y="605"/>
                  <a:pt x="412" y="607"/>
                  <a:pt x="405" y="609"/>
                </a:cubicBezTo>
                <a:cubicBezTo>
                  <a:pt x="406" y="612"/>
                  <a:pt x="406" y="612"/>
                  <a:pt x="406" y="612"/>
                </a:cubicBezTo>
                <a:cubicBezTo>
                  <a:pt x="407" y="612"/>
                  <a:pt x="408" y="612"/>
                  <a:pt x="409" y="612"/>
                </a:cubicBezTo>
                <a:cubicBezTo>
                  <a:pt x="409" y="612"/>
                  <a:pt x="409" y="612"/>
                  <a:pt x="409" y="612"/>
                </a:cubicBezTo>
                <a:cubicBezTo>
                  <a:pt x="409" y="612"/>
                  <a:pt x="409" y="612"/>
                  <a:pt x="410" y="612"/>
                </a:cubicBezTo>
                <a:cubicBezTo>
                  <a:pt x="410" y="612"/>
                  <a:pt x="410" y="612"/>
                  <a:pt x="410" y="612"/>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0" y="611"/>
                  <a:pt x="410" y="611"/>
                </a:cubicBezTo>
                <a:cubicBezTo>
                  <a:pt x="410"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1" y="611"/>
                </a:cubicBezTo>
                <a:cubicBezTo>
                  <a:pt x="411" y="611"/>
                  <a:pt x="411"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2" y="611"/>
                  <a:pt x="412" y="611"/>
                  <a:pt x="412" y="611"/>
                </a:cubicBezTo>
                <a:cubicBezTo>
                  <a:pt x="413" y="611"/>
                  <a:pt x="413" y="611"/>
                  <a:pt x="413" y="611"/>
                </a:cubicBezTo>
                <a:cubicBezTo>
                  <a:pt x="413" y="611"/>
                  <a:pt x="413" y="611"/>
                  <a:pt x="413" y="611"/>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3" y="610"/>
                  <a:pt x="413" y="610"/>
                  <a:pt x="413"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4" y="610"/>
                  <a:pt x="414" y="610"/>
                  <a:pt x="414" y="610"/>
                </a:cubicBezTo>
                <a:cubicBezTo>
                  <a:pt x="415" y="610"/>
                  <a:pt x="415" y="610"/>
                  <a:pt x="415" y="610"/>
                </a:cubicBezTo>
                <a:cubicBezTo>
                  <a:pt x="415" y="610"/>
                  <a:pt x="415" y="610"/>
                  <a:pt x="415" y="610"/>
                </a:cubicBezTo>
                <a:cubicBezTo>
                  <a:pt x="417" y="609"/>
                  <a:pt x="418" y="608"/>
                  <a:pt x="420" y="608"/>
                </a:cubicBezTo>
                <a:cubicBezTo>
                  <a:pt x="420" y="608"/>
                  <a:pt x="420" y="608"/>
                  <a:pt x="420" y="608"/>
                </a:cubicBezTo>
                <a:cubicBezTo>
                  <a:pt x="420" y="608"/>
                  <a:pt x="421" y="608"/>
                  <a:pt x="421" y="608"/>
                </a:cubicBezTo>
                <a:cubicBezTo>
                  <a:pt x="421" y="608"/>
                  <a:pt x="421" y="608"/>
                  <a:pt x="421" y="608"/>
                </a:cubicBezTo>
                <a:cubicBezTo>
                  <a:pt x="421" y="608"/>
                  <a:pt x="421" y="608"/>
                  <a:pt x="421" y="608"/>
                </a:cubicBezTo>
                <a:cubicBezTo>
                  <a:pt x="421" y="608"/>
                  <a:pt x="421" y="608"/>
                  <a:pt x="421" y="608"/>
                </a:cubicBezTo>
                <a:cubicBezTo>
                  <a:pt x="421" y="607"/>
                  <a:pt x="421" y="607"/>
                  <a:pt x="421" y="607"/>
                </a:cubicBezTo>
                <a:cubicBezTo>
                  <a:pt x="421" y="607"/>
                  <a:pt x="421" y="607"/>
                  <a:pt x="421" y="607"/>
                </a:cubicBezTo>
                <a:cubicBezTo>
                  <a:pt x="421" y="607"/>
                  <a:pt x="421"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2" y="607"/>
                  <a:pt x="422" y="607"/>
                  <a:pt x="422"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3" y="607"/>
                  <a:pt x="423" y="607"/>
                </a:cubicBezTo>
                <a:cubicBezTo>
                  <a:pt x="423" y="607"/>
                  <a:pt x="424" y="607"/>
                  <a:pt x="424" y="607"/>
                </a:cubicBezTo>
                <a:cubicBezTo>
                  <a:pt x="424" y="607"/>
                  <a:pt x="424" y="607"/>
                  <a:pt x="424" y="607"/>
                </a:cubicBezTo>
                <a:cubicBezTo>
                  <a:pt x="424" y="607"/>
                  <a:pt x="424" y="607"/>
                  <a:pt x="424" y="607"/>
                </a:cubicBezTo>
                <a:cubicBezTo>
                  <a:pt x="424" y="607"/>
                  <a:pt x="424" y="607"/>
                  <a:pt x="424" y="607"/>
                </a:cubicBezTo>
                <a:cubicBezTo>
                  <a:pt x="424" y="607"/>
                  <a:pt x="424" y="606"/>
                  <a:pt x="424" y="606"/>
                </a:cubicBezTo>
                <a:cubicBezTo>
                  <a:pt x="424" y="606"/>
                  <a:pt x="424" y="606"/>
                  <a:pt x="424" y="606"/>
                </a:cubicBezTo>
                <a:cubicBezTo>
                  <a:pt x="424" y="606"/>
                  <a:pt x="424" y="606"/>
                  <a:pt x="424" y="606"/>
                </a:cubicBezTo>
                <a:cubicBezTo>
                  <a:pt x="424" y="606"/>
                  <a:pt x="424" y="606"/>
                  <a:pt x="424" y="606"/>
                </a:cubicBezTo>
                <a:cubicBezTo>
                  <a:pt x="425" y="606"/>
                  <a:pt x="425" y="606"/>
                  <a:pt x="425" y="606"/>
                </a:cubicBezTo>
                <a:cubicBezTo>
                  <a:pt x="424" y="602"/>
                  <a:pt x="424" y="602"/>
                  <a:pt x="424" y="602"/>
                </a:cubicBezTo>
                <a:close/>
                <a:moveTo>
                  <a:pt x="460" y="586"/>
                </a:moveTo>
                <a:cubicBezTo>
                  <a:pt x="454" y="589"/>
                  <a:pt x="448" y="592"/>
                  <a:pt x="442" y="595"/>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4" y="598"/>
                </a:cubicBezTo>
                <a:cubicBezTo>
                  <a:pt x="444" y="598"/>
                  <a:pt x="444" y="598"/>
                  <a:pt x="445" y="598"/>
                </a:cubicBezTo>
                <a:cubicBezTo>
                  <a:pt x="445" y="598"/>
                  <a:pt x="445" y="598"/>
                  <a:pt x="445" y="598"/>
                </a:cubicBezTo>
                <a:cubicBezTo>
                  <a:pt x="445" y="598"/>
                  <a:pt x="445" y="598"/>
                  <a:pt x="445" y="598"/>
                </a:cubicBezTo>
                <a:cubicBezTo>
                  <a:pt x="445" y="598"/>
                  <a:pt x="445" y="598"/>
                  <a:pt x="445" y="598"/>
                </a:cubicBezTo>
                <a:cubicBezTo>
                  <a:pt x="445" y="598"/>
                  <a:pt x="445" y="598"/>
                  <a:pt x="445" y="598"/>
                </a:cubicBezTo>
                <a:cubicBezTo>
                  <a:pt x="445" y="598"/>
                  <a:pt x="445" y="598"/>
                  <a:pt x="445" y="598"/>
                </a:cubicBezTo>
                <a:cubicBezTo>
                  <a:pt x="450" y="595"/>
                  <a:pt x="455" y="593"/>
                  <a:pt x="460" y="590"/>
                </a:cubicBezTo>
                <a:cubicBezTo>
                  <a:pt x="460" y="590"/>
                  <a:pt x="460" y="590"/>
                  <a:pt x="460" y="590"/>
                </a:cubicBezTo>
                <a:cubicBezTo>
                  <a:pt x="460" y="590"/>
                  <a:pt x="460" y="590"/>
                  <a:pt x="460" y="590"/>
                </a:cubicBezTo>
                <a:cubicBezTo>
                  <a:pt x="460" y="590"/>
                  <a:pt x="460" y="590"/>
                  <a:pt x="460" y="590"/>
                </a:cubicBezTo>
                <a:cubicBezTo>
                  <a:pt x="460" y="590"/>
                  <a:pt x="460" y="590"/>
                  <a:pt x="460" y="590"/>
                </a:cubicBezTo>
                <a:cubicBezTo>
                  <a:pt x="460" y="590"/>
                  <a:pt x="460" y="590"/>
                  <a:pt x="460"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90"/>
                  <a:pt x="461" y="590"/>
                </a:cubicBezTo>
                <a:cubicBezTo>
                  <a:pt x="461" y="590"/>
                  <a:pt x="461" y="589"/>
                  <a:pt x="461" y="589"/>
                </a:cubicBezTo>
                <a:cubicBezTo>
                  <a:pt x="461" y="589"/>
                  <a:pt x="461" y="589"/>
                  <a:pt x="461" y="589"/>
                </a:cubicBezTo>
                <a:cubicBezTo>
                  <a:pt x="461" y="589"/>
                  <a:pt x="461" y="589"/>
                  <a:pt x="461" y="589"/>
                </a:cubicBezTo>
                <a:cubicBezTo>
                  <a:pt x="461" y="589"/>
                  <a:pt x="461" y="589"/>
                  <a:pt x="461" y="589"/>
                </a:cubicBezTo>
                <a:cubicBezTo>
                  <a:pt x="462" y="589"/>
                  <a:pt x="462" y="589"/>
                  <a:pt x="462" y="589"/>
                </a:cubicBezTo>
                <a:cubicBezTo>
                  <a:pt x="460" y="586"/>
                  <a:pt x="460" y="586"/>
                  <a:pt x="460" y="586"/>
                </a:cubicBezTo>
                <a:close/>
                <a:moveTo>
                  <a:pt x="493" y="565"/>
                </a:moveTo>
                <a:cubicBezTo>
                  <a:pt x="488" y="569"/>
                  <a:pt x="482" y="572"/>
                  <a:pt x="477" y="576"/>
                </a:cubicBezTo>
                <a:cubicBezTo>
                  <a:pt x="479" y="579"/>
                  <a:pt x="479" y="579"/>
                  <a:pt x="479" y="579"/>
                </a:cubicBezTo>
                <a:cubicBezTo>
                  <a:pt x="481" y="578"/>
                  <a:pt x="484" y="576"/>
                  <a:pt x="486" y="574"/>
                </a:cubicBezTo>
                <a:cubicBezTo>
                  <a:pt x="486" y="574"/>
                  <a:pt x="486" y="574"/>
                  <a:pt x="486" y="574"/>
                </a:cubicBezTo>
                <a:cubicBezTo>
                  <a:pt x="486" y="574"/>
                  <a:pt x="486" y="574"/>
                  <a:pt x="486" y="574"/>
                </a:cubicBezTo>
                <a:cubicBezTo>
                  <a:pt x="486" y="574"/>
                  <a:pt x="486" y="574"/>
                  <a:pt x="486"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7" y="574"/>
                  <a:pt x="487" y="574"/>
                  <a:pt x="487" y="574"/>
                </a:cubicBezTo>
                <a:cubicBezTo>
                  <a:pt x="488" y="574"/>
                  <a:pt x="488" y="574"/>
                  <a:pt x="488" y="574"/>
                </a:cubicBezTo>
                <a:cubicBezTo>
                  <a:pt x="488" y="574"/>
                  <a:pt x="488" y="574"/>
                  <a:pt x="488" y="574"/>
                </a:cubicBezTo>
                <a:cubicBezTo>
                  <a:pt x="488" y="574"/>
                  <a:pt x="488" y="574"/>
                  <a:pt x="488" y="574"/>
                </a:cubicBezTo>
                <a:cubicBezTo>
                  <a:pt x="488" y="574"/>
                  <a:pt x="488" y="574"/>
                  <a:pt x="488" y="574"/>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88" y="573"/>
                  <a:pt x="488" y="573"/>
                  <a:pt x="488" y="573"/>
                </a:cubicBezTo>
                <a:cubicBezTo>
                  <a:pt x="491" y="571"/>
                  <a:pt x="493" y="570"/>
                  <a:pt x="496" y="568"/>
                </a:cubicBezTo>
                <a:cubicBezTo>
                  <a:pt x="496" y="568"/>
                  <a:pt x="496" y="568"/>
                  <a:pt x="496" y="568"/>
                </a:cubicBezTo>
                <a:cubicBezTo>
                  <a:pt x="496" y="568"/>
                  <a:pt x="496" y="568"/>
                  <a:pt x="496" y="568"/>
                </a:cubicBezTo>
                <a:cubicBezTo>
                  <a:pt x="493" y="565"/>
                  <a:pt x="493" y="565"/>
                  <a:pt x="493" y="565"/>
                </a:cubicBezTo>
                <a:close/>
                <a:moveTo>
                  <a:pt x="524" y="540"/>
                </a:moveTo>
                <a:cubicBezTo>
                  <a:pt x="519" y="544"/>
                  <a:pt x="514" y="549"/>
                  <a:pt x="509" y="553"/>
                </a:cubicBezTo>
                <a:cubicBezTo>
                  <a:pt x="511" y="556"/>
                  <a:pt x="511" y="556"/>
                  <a:pt x="511" y="556"/>
                </a:cubicBezTo>
                <a:cubicBezTo>
                  <a:pt x="517" y="552"/>
                  <a:pt x="522" y="547"/>
                  <a:pt x="527" y="543"/>
                </a:cubicBezTo>
                <a:cubicBezTo>
                  <a:pt x="524" y="540"/>
                  <a:pt x="524" y="540"/>
                  <a:pt x="524" y="540"/>
                </a:cubicBezTo>
                <a:close/>
                <a:moveTo>
                  <a:pt x="551" y="511"/>
                </a:moveTo>
                <a:cubicBezTo>
                  <a:pt x="547" y="516"/>
                  <a:pt x="542" y="521"/>
                  <a:pt x="538" y="526"/>
                </a:cubicBezTo>
                <a:cubicBezTo>
                  <a:pt x="541" y="529"/>
                  <a:pt x="541" y="529"/>
                  <a:pt x="541" y="529"/>
                </a:cubicBezTo>
                <a:cubicBezTo>
                  <a:pt x="541" y="529"/>
                  <a:pt x="541" y="529"/>
                  <a:pt x="541" y="529"/>
                </a:cubicBezTo>
                <a:cubicBezTo>
                  <a:pt x="541" y="529"/>
                  <a:pt x="541" y="529"/>
                  <a:pt x="541" y="529"/>
                </a:cubicBezTo>
                <a:cubicBezTo>
                  <a:pt x="541" y="529"/>
                  <a:pt x="541" y="529"/>
                  <a:pt x="541" y="529"/>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1" y="528"/>
                  <a:pt x="541" y="528"/>
                </a:cubicBezTo>
                <a:cubicBezTo>
                  <a:pt x="541"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8"/>
                </a:cubicBezTo>
                <a:cubicBezTo>
                  <a:pt x="542" y="528"/>
                  <a:pt x="542" y="528"/>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2" y="527"/>
                </a:cubicBezTo>
                <a:cubicBezTo>
                  <a:pt x="542" y="527"/>
                  <a:pt x="542" y="527"/>
                  <a:pt x="543" y="527"/>
                </a:cubicBezTo>
                <a:cubicBezTo>
                  <a:pt x="543" y="527"/>
                  <a:pt x="543" y="527"/>
                  <a:pt x="543" y="527"/>
                </a:cubicBezTo>
                <a:cubicBezTo>
                  <a:pt x="543" y="527"/>
                  <a:pt x="543" y="527"/>
                  <a:pt x="543" y="527"/>
                </a:cubicBezTo>
                <a:cubicBezTo>
                  <a:pt x="543" y="527"/>
                  <a:pt x="543" y="527"/>
                  <a:pt x="543" y="527"/>
                </a:cubicBezTo>
                <a:cubicBezTo>
                  <a:pt x="543" y="527"/>
                  <a:pt x="543" y="527"/>
                  <a:pt x="543" y="527"/>
                </a:cubicBezTo>
                <a:cubicBezTo>
                  <a:pt x="543" y="527"/>
                  <a:pt x="543" y="527"/>
                  <a:pt x="543" y="527"/>
                </a:cubicBezTo>
                <a:cubicBezTo>
                  <a:pt x="543" y="527"/>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3" y="526"/>
                </a:cubicBezTo>
                <a:cubicBezTo>
                  <a:pt x="543" y="526"/>
                  <a:pt x="543" y="526"/>
                  <a:pt x="544" y="526"/>
                </a:cubicBezTo>
                <a:cubicBezTo>
                  <a:pt x="544" y="526"/>
                  <a:pt x="544" y="526"/>
                  <a:pt x="544" y="526"/>
                </a:cubicBezTo>
                <a:cubicBezTo>
                  <a:pt x="544" y="526"/>
                  <a:pt x="544" y="525"/>
                  <a:pt x="544" y="525"/>
                </a:cubicBezTo>
                <a:cubicBezTo>
                  <a:pt x="544" y="525"/>
                  <a:pt x="544" y="525"/>
                  <a:pt x="544" y="525"/>
                </a:cubicBezTo>
                <a:cubicBezTo>
                  <a:pt x="547" y="522"/>
                  <a:pt x="550" y="518"/>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4" y="514"/>
                  <a:pt x="554" y="514"/>
                  <a:pt x="554" y="514"/>
                </a:cubicBezTo>
                <a:cubicBezTo>
                  <a:pt x="551" y="511"/>
                  <a:pt x="551" y="511"/>
                  <a:pt x="551" y="511"/>
                </a:cubicBezTo>
                <a:close/>
                <a:moveTo>
                  <a:pt x="574" y="479"/>
                </a:moveTo>
                <a:cubicBezTo>
                  <a:pt x="571" y="485"/>
                  <a:pt x="567" y="490"/>
                  <a:pt x="563" y="496"/>
                </a:cubicBezTo>
                <a:cubicBezTo>
                  <a:pt x="566" y="498"/>
                  <a:pt x="566" y="498"/>
                  <a:pt x="566" y="498"/>
                </a:cubicBezTo>
                <a:cubicBezTo>
                  <a:pt x="566" y="498"/>
                  <a:pt x="566" y="498"/>
                  <a:pt x="566" y="498"/>
                </a:cubicBezTo>
                <a:cubicBezTo>
                  <a:pt x="566" y="498"/>
                  <a:pt x="566" y="498"/>
                  <a:pt x="566" y="498"/>
                </a:cubicBezTo>
                <a:cubicBezTo>
                  <a:pt x="566" y="498"/>
                  <a:pt x="566" y="498"/>
                  <a:pt x="566" y="498"/>
                </a:cubicBezTo>
                <a:cubicBezTo>
                  <a:pt x="566" y="498"/>
                  <a:pt x="566" y="498"/>
                  <a:pt x="566" y="498"/>
                </a:cubicBezTo>
                <a:cubicBezTo>
                  <a:pt x="567" y="498"/>
                  <a:pt x="567" y="498"/>
                  <a:pt x="567" y="498"/>
                </a:cubicBezTo>
                <a:cubicBezTo>
                  <a:pt x="567" y="498"/>
                  <a:pt x="567" y="498"/>
                  <a:pt x="567" y="498"/>
                </a:cubicBezTo>
                <a:cubicBezTo>
                  <a:pt x="567" y="498"/>
                  <a:pt x="567" y="497"/>
                  <a:pt x="567" y="497"/>
                </a:cubicBezTo>
                <a:cubicBezTo>
                  <a:pt x="567" y="497"/>
                  <a:pt x="567" y="497"/>
                  <a:pt x="567" y="497"/>
                </a:cubicBezTo>
                <a:cubicBezTo>
                  <a:pt x="571" y="492"/>
                  <a:pt x="574" y="487"/>
                  <a:pt x="578" y="481"/>
                </a:cubicBezTo>
                <a:cubicBezTo>
                  <a:pt x="574" y="479"/>
                  <a:pt x="574" y="479"/>
                  <a:pt x="574" y="479"/>
                </a:cubicBezTo>
                <a:close/>
                <a:moveTo>
                  <a:pt x="593" y="445"/>
                </a:moveTo>
                <a:cubicBezTo>
                  <a:pt x="591" y="451"/>
                  <a:pt x="587" y="457"/>
                  <a:pt x="584" y="462"/>
                </a:cubicBezTo>
                <a:cubicBezTo>
                  <a:pt x="588" y="464"/>
                  <a:pt x="588" y="464"/>
                  <a:pt x="588" y="464"/>
                </a:cubicBezTo>
                <a:cubicBezTo>
                  <a:pt x="589" y="463"/>
                  <a:pt x="589" y="462"/>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60"/>
                </a:cubicBezTo>
                <a:cubicBezTo>
                  <a:pt x="590" y="460"/>
                  <a:pt x="590" y="460"/>
                  <a:pt x="590" y="459"/>
                </a:cubicBezTo>
                <a:cubicBezTo>
                  <a:pt x="590" y="459"/>
                  <a:pt x="590" y="459"/>
                  <a:pt x="590" y="459"/>
                </a:cubicBezTo>
                <a:cubicBezTo>
                  <a:pt x="590" y="459"/>
                  <a:pt x="590" y="459"/>
                  <a:pt x="590" y="459"/>
                </a:cubicBezTo>
                <a:cubicBezTo>
                  <a:pt x="590" y="459"/>
                  <a:pt x="590" y="459"/>
                  <a:pt x="590"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9"/>
                  <a:pt x="591" y="459"/>
                  <a:pt x="591" y="459"/>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8"/>
                  <a:pt x="591" y="458"/>
                </a:cubicBezTo>
                <a:cubicBezTo>
                  <a:pt x="591" y="458"/>
                  <a:pt x="591" y="457"/>
                  <a:pt x="591" y="457"/>
                </a:cubicBezTo>
                <a:cubicBezTo>
                  <a:pt x="591" y="457"/>
                  <a:pt x="591" y="457"/>
                  <a:pt x="591"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7"/>
                </a:cubicBezTo>
                <a:cubicBezTo>
                  <a:pt x="592" y="457"/>
                  <a:pt x="592" y="457"/>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6"/>
                </a:cubicBezTo>
                <a:cubicBezTo>
                  <a:pt x="592" y="456"/>
                  <a:pt x="592" y="456"/>
                  <a:pt x="592" y="455"/>
                </a:cubicBezTo>
                <a:cubicBezTo>
                  <a:pt x="593" y="455"/>
                  <a:pt x="593" y="455"/>
                  <a:pt x="593" y="455"/>
                </a:cubicBezTo>
                <a:cubicBezTo>
                  <a:pt x="593" y="455"/>
                  <a:pt x="593" y="455"/>
                  <a:pt x="593" y="455"/>
                </a:cubicBezTo>
                <a:cubicBezTo>
                  <a:pt x="594" y="452"/>
                  <a:pt x="596" y="449"/>
                  <a:pt x="597" y="446"/>
                </a:cubicBezTo>
                <a:cubicBezTo>
                  <a:pt x="593" y="445"/>
                  <a:pt x="593" y="445"/>
                  <a:pt x="593" y="445"/>
                </a:cubicBezTo>
                <a:close/>
                <a:moveTo>
                  <a:pt x="608" y="408"/>
                </a:moveTo>
                <a:cubicBezTo>
                  <a:pt x="606" y="414"/>
                  <a:pt x="604" y="421"/>
                  <a:pt x="601" y="427"/>
                </a:cubicBezTo>
                <a:cubicBezTo>
                  <a:pt x="605" y="428"/>
                  <a:pt x="605" y="428"/>
                  <a:pt x="605" y="428"/>
                </a:cubicBezTo>
                <a:cubicBezTo>
                  <a:pt x="605" y="427"/>
                  <a:pt x="606" y="425"/>
                  <a:pt x="607" y="424"/>
                </a:cubicBezTo>
                <a:cubicBezTo>
                  <a:pt x="607" y="424"/>
                  <a:pt x="607" y="424"/>
                  <a:pt x="607" y="424"/>
                </a:cubicBezTo>
                <a:cubicBezTo>
                  <a:pt x="607" y="424"/>
                  <a:pt x="607" y="424"/>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3"/>
                  <a:pt x="607" y="423"/>
                  <a:pt x="607" y="423"/>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2"/>
                  <a:pt x="607" y="422"/>
                  <a:pt x="607" y="422"/>
                </a:cubicBezTo>
                <a:cubicBezTo>
                  <a:pt x="607" y="421"/>
                  <a:pt x="607" y="421"/>
                  <a:pt x="607" y="421"/>
                </a:cubicBezTo>
                <a:cubicBezTo>
                  <a:pt x="607" y="421"/>
                  <a:pt x="607" y="421"/>
                  <a:pt x="607" y="421"/>
                </a:cubicBezTo>
                <a:cubicBezTo>
                  <a:pt x="607" y="421"/>
                  <a:pt x="607" y="421"/>
                  <a:pt x="607" y="421"/>
                </a:cubicBezTo>
                <a:cubicBezTo>
                  <a:pt x="607" y="421"/>
                  <a:pt x="607" y="421"/>
                  <a:pt x="607" y="421"/>
                </a:cubicBezTo>
                <a:cubicBezTo>
                  <a:pt x="607" y="421"/>
                  <a:pt x="607"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1"/>
                  <a:pt x="608" y="421"/>
                  <a:pt x="608" y="421"/>
                </a:cubicBezTo>
                <a:cubicBezTo>
                  <a:pt x="608" y="420"/>
                  <a:pt x="608" y="421"/>
                  <a:pt x="608" y="420"/>
                </a:cubicBezTo>
                <a:cubicBezTo>
                  <a:pt x="609" y="417"/>
                  <a:pt x="610" y="413"/>
                  <a:pt x="612" y="409"/>
                </a:cubicBezTo>
                <a:cubicBezTo>
                  <a:pt x="608" y="408"/>
                  <a:pt x="608" y="408"/>
                  <a:pt x="608" y="408"/>
                </a:cubicBezTo>
                <a:close/>
                <a:moveTo>
                  <a:pt x="617" y="370"/>
                </a:moveTo>
                <a:cubicBezTo>
                  <a:pt x="616" y="376"/>
                  <a:pt x="615" y="383"/>
                  <a:pt x="613" y="389"/>
                </a:cubicBezTo>
                <a:cubicBezTo>
                  <a:pt x="617" y="390"/>
                  <a:pt x="617" y="390"/>
                  <a:pt x="617" y="390"/>
                </a:cubicBezTo>
                <a:cubicBezTo>
                  <a:pt x="619" y="384"/>
                  <a:pt x="620" y="377"/>
                  <a:pt x="621" y="371"/>
                </a:cubicBezTo>
                <a:cubicBezTo>
                  <a:pt x="617" y="370"/>
                  <a:pt x="617" y="370"/>
                  <a:pt x="617" y="370"/>
                </a:cubicBezTo>
                <a:close/>
                <a:moveTo>
                  <a:pt x="622" y="331"/>
                </a:moveTo>
                <a:cubicBezTo>
                  <a:pt x="622" y="337"/>
                  <a:pt x="621" y="344"/>
                  <a:pt x="620" y="350"/>
                </a:cubicBezTo>
                <a:cubicBezTo>
                  <a:pt x="624" y="351"/>
                  <a:pt x="624" y="351"/>
                  <a:pt x="624" y="351"/>
                </a:cubicBezTo>
                <a:cubicBezTo>
                  <a:pt x="625" y="344"/>
                  <a:pt x="626" y="338"/>
                  <a:pt x="626" y="331"/>
                </a:cubicBezTo>
                <a:cubicBezTo>
                  <a:pt x="622" y="331"/>
                  <a:pt x="622" y="331"/>
                  <a:pt x="622" y="331"/>
                </a:cubicBezTo>
                <a:close/>
                <a:moveTo>
                  <a:pt x="626" y="291"/>
                </a:moveTo>
                <a:cubicBezTo>
                  <a:pt x="622" y="291"/>
                  <a:pt x="622" y="291"/>
                  <a:pt x="622" y="291"/>
                </a:cubicBezTo>
                <a:cubicBezTo>
                  <a:pt x="622" y="298"/>
                  <a:pt x="623" y="304"/>
                  <a:pt x="623" y="311"/>
                </a:cubicBezTo>
                <a:cubicBezTo>
                  <a:pt x="627" y="311"/>
                  <a:pt x="627" y="311"/>
                  <a:pt x="627" y="311"/>
                </a:cubicBezTo>
                <a:cubicBezTo>
                  <a:pt x="627" y="311"/>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10"/>
                  <a:pt x="627" y="310"/>
                  <a:pt x="627" y="310"/>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9"/>
                </a:cubicBezTo>
                <a:cubicBezTo>
                  <a:pt x="627" y="309"/>
                  <a:pt x="627" y="309"/>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8"/>
                  <a:pt x="627" y="308"/>
                </a:cubicBezTo>
                <a:cubicBezTo>
                  <a:pt x="627" y="308"/>
                  <a:pt x="627" y="307"/>
                  <a:pt x="627" y="307"/>
                </a:cubicBezTo>
                <a:cubicBezTo>
                  <a:pt x="627" y="307"/>
                  <a:pt x="627" y="307"/>
                  <a:pt x="627" y="307"/>
                </a:cubicBezTo>
                <a:cubicBezTo>
                  <a:pt x="627" y="307"/>
                  <a:pt x="627" y="307"/>
                  <a:pt x="627" y="307"/>
                </a:cubicBezTo>
                <a:cubicBezTo>
                  <a:pt x="627" y="307"/>
                  <a:pt x="627" y="307"/>
                  <a:pt x="627" y="307"/>
                </a:cubicBezTo>
                <a:cubicBezTo>
                  <a:pt x="626" y="303"/>
                  <a:pt x="626" y="299"/>
                  <a:pt x="626" y="296"/>
                </a:cubicBezTo>
                <a:cubicBezTo>
                  <a:pt x="626" y="296"/>
                  <a:pt x="626" y="296"/>
                  <a:pt x="626" y="296"/>
                </a:cubicBezTo>
                <a:cubicBezTo>
                  <a:pt x="626" y="295"/>
                  <a:pt x="626" y="295"/>
                  <a:pt x="626" y="295"/>
                </a:cubicBezTo>
                <a:cubicBezTo>
                  <a:pt x="626" y="295"/>
                  <a:pt x="626" y="295"/>
                  <a:pt x="626" y="295"/>
                </a:cubicBezTo>
                <a:cubicBezTo>
                  <a:pt x="626" y="295"/>
                  <a:pt x="626" y="295"/>
                  <a:pt x="626" y="295"/>
                </a:cubicBezTo>
                <a:cubicBezTo>
                  <a:pt x="626" y="295"/>
                  <a:pt x="626" y="295"/>
                  <a:pt x="626" y="295"/>
                </a:cubicBezTo>
                <a:cubicBezTo>
                  <a:pt x="626" y="295"/>
                  <a:pt x="626" y="295"/>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4"/>
                  <a:pt x="626" y="294"/>
                  <a:pt x="626" y="294"/>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3"/>
                </a:cubicBezTo>
                <a:cubicBezTo>
                  <a:pt x="626" y="293"/>
                  <a:pt x="626" y="293"/>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2"/>
                </a:cubicBezTo>
                <a:cubicBezTo>
                  <a:pt x="626" y="292"/>
                  <a:pt x="626" y="292"/>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ubicBezTo>
                  <a:pt x="626" y="291"/>
                  <a:pt x="626" y="291"/>
                  <a:pt x="626" y="291"/>
                </a:cubicBezTo>
                <a:close/>
                <a:moveTo>
                  <a:pt x="621" y="251"/>
                </a:moveTo>
                <a:cubicBezTo>
                  <a:pt x="617" y="252"/>
                  <a:pt x="617" y="252"/>
                  <a:pt x="617" y="252"/>
                </a:cubicBezTo>
                <a:cubicBezTo>
                  <a:pt x="618" y="258"/>
                  <a:pt x="619" y="265"/>
                  <a:pt x="620" y="271"/>
                </a:cubicBezTo>
                <a:cubicBezTo>
                  <a:pt x="624" y="271"/>
                  <a:pt x="624" y="271"/>
                  <a:pt x="624" y="271"/>
                </a:cubicBezTo>
                <a:cubicBezTo>
                  <a:pt x="623" y="265"/>
                  <a:pt x="622" y="260"/>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4"/>
                </a:cubicBezTo>
                <a:cubicBezTo>
                  <a:pt x="621" y="254"/>
                  <a:pt x="621" y="254"/>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3"/>
                  <a:pt x="621" y="253"/>
                </a:cubicBezTo>
                <a:cubicBezTo>
                  <a:pt x="621" y="253"/>
                  <a:pt x="621" y="252"/>
                  <a:pt x="621" y="252"/>
                </a:cubicBezTo>
                <a:cubicBezTo>
                  <a:pt x="621" y="252"/>
                  <a:pt x="621" y="252"/>
                  <a:pt x="621" y="252"/>
                </a:cubicBezTo>
                <a:cubicBezTo>
                  <a:pt x="621" y="252"/>
                  <a:pt x="621" y="252"/>
                  <a:pt x="621" y="251"/>
                </a:cubicBezTo>
                <a:close/>
                <a:moveTo>
                  <a:pt x="610" y="213"/>
                </a:moveTo>
                <a:cubicBezTo>
                  <a:pt x="606" y="214"/>
                  <a:pt x="606" y="214"/>
                  <a:pt x="606" y="214"/>
                </a:cubicBezTo>
                <a:cubicBezTo>
                  <a:pt x="608" y="220"/>
                  <a:pt x="610" y="226"/>
                  <a:pt x="612" y="233"/>
                </a:cubicBezTo>
                <a:cubicBezTo>
                  <a:pt x="616" y="232"/>
                  <a:pt x="616" y="232"/>
                  <a:pt x="616" y="232"/>
                </a:cubicBezTo>
                <a:cubicBezTo>
                  <a:pt x="616" y="231"/>
                  <a:pt x="616" y="231"/>
                  <a:pt x="616" y="231"/>
                </a:cubicBezTo>
                <a:cubicBezTo>
                  <a:pt x="616" y="231"/>
                  <a:pt x="616" y="231"/>
                  <a:pt x="616" y="231"/>
                </a:cubicBezTo>
                <a:cubicBezTo>
                  <a:pt x="616" y="231"/>
                  <a:pt x="616" y="231"/>
                  <a:pt x="616" y="231"/>
                </a:cubicBezTo>
                <a:cubicBezTo>
                  <a:pt x="616" y="231"/>
                  <a:pt x="616" y="231"/>
                  <a:pt x="616" y="231"/>
                </a:cubicBezTo>
                <a:cubicBezTo>
                  <a:pt x="616" y="230"/>
                  <a:pt x="616" y="230"/>
                  <a:pt x="616" y="230"/>
                </a:cubicBezTo>
                <a:cubicBezTo>
                  <a:pt x="616" y="230"/>
                  <a:pt x="616" y="230"/>
                  <a:pt x="616" y="230"/>
                </a:cubicBezTo>
                <a:cubicBezTo>
                  <a:pt x="616" y="230"/>
                  <a:pt x="616" y="230"/>
                  <a:pt x="616" y="230"/>
                </a:cubicBezTo>
                <a:cubicBezTo>
                  <a:pt x="616" y="230"/>
                  <a:pt x="616" y="230"/>
                  <a:pt x="616" y="230"/>
                </a:cubicBezTo>
                <a:cubicBezTo>
                  <a:pt x="616" y="230"/>
                  <a:pt x="616" y="230"/>
                  <a:pt x="616"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30"/>
                  <a:pt x="615" y="230"/>
                  <a:pt x="615" y="230"/>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9"/>
                  <a:pt x="615" y="229"/>
                </a:cubicBezTo>
                <a:cubicBezTo>
                  <a:pt x="615" y="229"/>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5" y="228"/>
                  <a:pt x="615" y="228"/>
                  <a:pt x="615" y="228"/>
                </a:cubicBezTo>
                <a:cubicBezTo>
                  <a:pt x="613" y="223"/>
                  <a:pt x="612" y="218"/>
                  <a:pt x="610" y="213"/>
                </a:cubicBezTo>
                <a:close/>
                <a:moveTo>
                  <a:pt x="595" y="176"/>
                </a:moveTo>
                <a:cubicBezTo>
                  <a:pt x="591" y="177"/>
                  <a:pt x="591" y="177"/>
                  <a:pt x="591" y="177"/>
                </a:cubicBezTo>
                <a:cubicBezTo>
                  <a:pt x="594" y="183"/>
                  <a:pt x="597" y="189"/>
                  <a:pt x="599" y="195"/>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4"/>
                </a:cubicBezTo>
                <a:cubicBezTo>
                  <a:pt x="603" y="194"/>
                  <a:pt x="603" y="194"/>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3"/>
                  <a:pt x="603" y="193"/>
                </a:cubicBezTo>
                <a:cubicBezTo>
                  <a:pt x="603" y="193"/>
                  <a:pt x="603" y="192"/>
                  <a:pt x="603" y="192"/>
                </a:cubicBezTo>
                <a:cubicBezTo>
                  <a:pt x="603" y="192"/>
                  <a:pt x="603" y="192"/>
                  <a:pt x="603" y="192"/>
                </a:cubicBezTo>
                <a:cubicBezTo>
                  <a:pt x="603" y="192"/>
                  <a:pt x="603" y="192"/>
                  <a:pt x="603" y="192"/>
                </a:cubicBezTo>
                <a:cubicBezTo>
                  <a:pt x="603" y="192"/>
                  <a:pt x="603" y="192"/>
                  <a:pt x="602" y="192"/>
                </a:cubicBezTo>
                <a:cubicBezTo>
                  <a:pt x="602" y="192"/>
                  <a:pt x="602" y="192"/>
                  <a:pt x="602" y="192"/>
                </a:cubicBezTo>
                <a:cubicBezTo>
                  <a:pt x="602" y="192"/>
                  <a:pt x="602" y="192"/>
                  <a:pt x="602" y="192"/>
                </a:cubicBezTo>
                <a:cubicBezTo>
                  <a:pt x="602" y="192"/>
                  <a:pt x="602" y="192"/>
                  <a:pt x="602" y="192"/>
                </a:cubicBezTo>
                <a:cubicBezTo>
                  <a:pt x="602" y="192"/>
                  <a:pt x="602" y="192"/>
                  <a:pt x="602" y="192"/>
                </a:cubicBezTo>
                <a:cubicBezTo>
                  <a:pt x="602" y="192"/>
                  <a:pt x="602" y="192"/>
                  <a:pt x="602" y="191"/>
                </a:cubicBezTo>
                <a:cubicBezTo>
                  <a:pt x="602" y="191"/>
                  <a:pt x="602" y="191"/>
                  <a:pt x="602" y="191"/>
                </a:cubicBezTo>
                <a:cubicBezTo>
                  <a:pt x="601" y="189"/>
                  <a:pt x="600" y="187"/>
                  <a:pt x="600" y="185"/>
                </a:cubicBezTo>
                <a:cubicBezTo>
                  <a:pt x="600" y="185"/>
                  <a:pt x="600" y="185"/>
                  <a:pt x="600" y="185"/>
                </a:cubicBezTo>
                <a:cubicBezTo>
                  <a:pt x="599" y="185"/>
                  <a:pt x="599" y="185"/>
                  <a:pt x="599" y="185"/>
                </a:cubicBezTo>
                <a:cubicBezTo>
                  <a:pt x="599" y="185"/>
                  <a:pt x="599" y="185"/>
                  <a:pt x="599" y="185"/>
                </a:cubicBezTo>
                <a:cubicBezTo>
                  <a:pt x="599" y="185"/>
                  <a:pt x="599" y="185"/>
                  <a:pt x="599" y="185"/>
                </a:cubicBezTo>
                <a:cubicBezTo>
                  <a:pt x="599" y="185"/>
                  <a:pt x="599" y="185"/>
                  <a:pt x="599" y="185"/>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4"/>
                  <a:pt x="599" y="184"/>
                  <a:pt x="599" y="184"/>
                </a:cubicBezTo>
                <a:cubicBezTo>
                  <a:pt x="599" y="183"/>
                  <a:pt x="599" y="183"/>
                  <a:pt x="599" y="183"/>
                </a:cubicBezTo>
                <a:cubicBezTo>
                  <a:pt x="599" y="183"/>
                  <a:pt x="599" y="183"/>
                  <a:pt x="599" y="183"/>
                </a:cubicBezTo>
                <a:cubicBezTo>
                  <a:pt x="599" y="183"/>
                  <a:pt x="599"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3"/>
                  <a:pt x="598" y="183"/>
                  <a:pt x="598" y="183"/>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2"/>
                </a:cubicBezTo>
                <a:cubicBezTo>
                  <a:pt x="598" y="182"/>
                  <a:pt x="598" y="182"/>
                  <a:pt x="598" y="181"/>
                </a:cubicBezTo>
                <a:cubicBezTo>
                  <a:pt x="598" y="181"/>
                  <a:pt x="598" y="181"/>
                  <a:pt x="598" y="181"/>
                </a:cubicBezTo>
                <a:cubicBezTo>
                  <a:pt x="598" y="181"/>
                  <a:pt x="598" y="181"/>
                  <a:pt x="598" y="181"/>
                </a:cubicBezTo>
                <a:cubicBezTo>
                  <a:pt x="598" y="181"/>
                  <a:pt x="598" y="181"/>
                  <a:pt x="598" y="181"/>
                </a:cubicBezTo>
                <a:cubicBezTo>
                  <a:pt x="598" y="181"/>
                  <a:pt x="598" y="181"/>
                  <a:pt x="598" y="181"/>
                </a:cubicBezTo>
                <a:cubicBezTo>
                  <a:pt x="598" y="181"/>
                  <a:pt x="598" y="181"/>
                  <a:pt x="598" y="181"/>
                </a:cubicBezTo>
                <a:cubicBezTo>
                  <a:pt x="597" y="181"/>
                  <a:pt x="597" y="181"/>
                  <a:pt x="597" y="181"/>
                </a:cubicBezTo>
                <a:cubicBezTo>
                  <a:pt x="597" y="181"/>
                  <a:pt x="597" y="181"/>
                  <a:pt x="597" y="181"/>
                </a:cubicBezTo>
                <a:cubicBezTo>
                  <a:pt x="597" y="181"/>
                  <a:pt x="597" y="181"/>
                  <a:pt x="597" y="181"/>
                </a:cubicBezTo>
                <a:cubicBezTo>
                  <a:pt x="597" y="181"/>
                  <a:pt x="597" y="181"/>
                  <a:pt x="597" y="181"/>
                </a:cubicBezTo>
                <a:cubicBezTo>
                  <a:pt x="597" y="181"/>
                  <a:pt x="597" y="181"/>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80"/>
                  <a:pt x="597" y="180"/>
                </a:cubicBezTo>
                <a:cubicBezTo>
                  <a:pt x="597" y="180"/>
                  <a:pt x="597" y="179"/>
                  <a:pt x="597" y="179"/>
                </a:cubicBezTo>
                <a:cubicBezTo>
                  <a:pt x="597" y="179"/>
                  <a:pt x="597" y="179"/>
                  <a:pt x="597" y="179"/>
                </a:cubicBezTo>
                <a:cubicBezTo>
                  <a:pt x="597" y="179"/>
                  <a:pt x="597" y="179"/>
                  <a:pt x="597" y="179"/>
                </a:cubicBezTo>
                <a:cubicBezTo>
                  <a:pt x="597" y="179"/>
                  <a:pt x="597" y="179"/>
                  <a:pt x="597" y="179"/>
                </a:cubicBezTo>
                <a:cubicBezTo>
                  <a:pt x="596" y="178"/>
                  <a:pt x="596" y="177"/>
                  <a:pt x="595" y="176"/>
                </a:cubicBezTo>
                <a:close/>
                <a:moveTo>
                  <a:pt x="575" y="141"/>
                </a:moveTo>
                <a:cubicBezTo>
                  <a:pt x="572" y="143"/>
                  <a:pt x="572" y="143"/>
                  <a:pt x="572" y="143"/>
                </a:cubicBezTo>
                <a:cubicBezTo>
                  <a:pt x="575" y="149"/>
                  <a:pt x="579" y="154"/>
                  <a:pt x="582" y="160"/>
                </a:cubicBezTo>
                <a:cubicBezTo>
                  <a:pt x="586" y="158"/>
                  <a:pt x="586" y="158"/>
                  <a:pt x="586" y="158"/>
                </a:cubicBezTo>
                <a:cubicBezTo>
                  <a:pt x="585" y="157"/>
                  <a:pt x="584" y="156"/>
                  <a:pt x="584" y="155"/>
                </a:cubicBezTo>
                <a:cubicBezTo>
                  <a:pt x="584" y="155"/>
                  <a:pt x="584" y="155"/>
                  <a:pt x="584" y="155"/>
                </a:cubicBezTo>
                <a:cubicBezTo>
                  <a:pt x="584" y="155"/>
                  <a:pt x="584" y="154"/>
                  <a:pt x="584"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4"/>
                  <a:pt x="583" y="154"/>
                  <a:pt x="583" y="154"/>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3" y="153"/>
                  <a:pt x="583" y="153"/>
                </a:cubicBezTo>
                <a:cubicBezTo>
                  <a:pt x="583" y="153"/>
                  <a:pt x="582" y="153"/>
                  <a:pt x="582" y="153"/>
                </a:cubicBezTo>
                <a:cubicBezTo>
                  <a:pt x="582" y="153"/>
                  <a:pt x="582" y="153"/>
                  <a:pt x="582" y="153"/>
                </a:cubicBezTo>
                <a:cubicBezTo>
                  <a:pt x="582" y="153"/>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2"/>
                  <a:pt x="582" y="152"/>
                </a:cubicBezTo>
                <a:cubicBezTo>
                  <a:pt x="582" y="152"/>
                  <a:pt x="582" y="151"/>
                  <a:pt x="582" y="151"/>
                </a:cubicBezTo>
                <a:cubicBezTo>
                  <a:pt x="582" y="151"/>
                  <a:pt x="582" y="151"/>
                  <a:pt x="582" y="151"/>
                </a:cubicBezTo>
                <a:cubicBezTo>
                  <a:pt x="582" y="151"/>
                  <a:pt x="582" y="151"/>
                  <a:pt x="582" y="151"/>
                </a:cubicBezTo>
                <a:cubicBezTo>
                  <a:pt x="582" y="151"/>
                  <a:pt x="582" y="151"/>
                  <a:pt x="582" y="151"/>
                </a:cubicBezTo>
                <a:cubicBezTo>
                  <a:pt x="582" y="151"/>
                  <a:pt x="582" y="151"/>
                  <a:pt x="582" y="151"/>
                </a:cubicBezTo>
                <a:cubicBezTo>
                  <a:pt x="582" y="151"/>
                  <a:pt x="582" y="151"/>
                  <a:pt x="582" y="151"/>
                </a:cubicBezTo>
                <a:cubicBezTo>
                  <a:pt x="582" y="151"/>
                  <a:pt x="581" y="151"/>
                  <a:pt x="581" y="151"/>
                </a:cubicBezTo>
                <a:cubicBezTo>
                  <a:pt x="581" y="151"/>
                  <a:pt x="581" y="151"/>
                  <a:pt x="581" y="151"/>
                </a:cubicBezTo>
                <a:cubicBezTo>
                  <a:pt x="581" y="151"/>
                  <a:pt x="581" y="151"/>
                  <a:pt x="581" y="150"/>
                </a:cubicBezTo>
                <a:cubicBezTo>
                  <a:pt x="581" y="150"/>
                  <a:pt x="581" y="150"/>
                  <a:pt x="581" y="150"/>
                </a:cubicBezTo>
                <a:cubicBezTo>
                  <a:pt x="580" y="149"/>
                  <a:pt x="579" y="147"/>
                  <a:pt x="578" y="145"/>
                </a:cubicBezTo>
                <a:cubicBezTo>
                  <a:pt x="578" y="145"/>
                  <a:pt x="578" y="145"/>
                  <a:pt x="578" y="145"/>
                </a:cubicBezTo>
                <a:cubicBezTo>
                  <a:pt x="578" y="145"/>
                  <a:pt x="578" y="145"/>
                  <a:pt x="578" y="145"/>
                </a:cubicBezTo>
                <a:cubicBezTo>
                  <a:pt x="578" y="145"/>
                  <a:pt x="578" y="145"/>
                  <a:pt x="578" y="145"/>
                </a:cubicBezTo>
                <a:cubicBezTo>
                  <a:pt x="578" y="145"/>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4"/>
                </a:cubicBezTo>
                <a:cubicBezTo>
                  <a:pt x="577" y="144"/>
                  <a:pt x="577" y="144"/>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7" y="143"/>
                  <a:pt x="577" y="143"/>
                  <a:pt x="577"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3"/>
                  <a:pt x="576" y="143"/>
                </a:cubicBezTo>
                <a:cubicBezTo>
                  <a:pt x="576" y="143"/>
                  <a:pt x="576" y="142"/>
                  <a:pt x="576" y="142"/>
                </a:cubicBezTo>
                <a:cubicBezTo>
                  <a:pt x="576" y="142"/>
                  <a:pt x="576" y="142"/>
                  <a:pt x="576" y="142"/>
                </a:cubicBezTo>
                <a:cubicBezTo>
                  <a:pt x="576" y="142"/>
                  <a:pt x="576" y="142"/>
                  <a:pt x="576" y="142"/>
                </a:cubicBezTo>
                <a:cubicBezTo>
                  <a:pt x="576" y="142"/>
                  <a:pt x="576" y="142"/>
                  <a:pt x="576" y="142"/>
                </a:cubicBezTo>
                <a:cubicBezTo>
                  <a:pt x="576" y="142"/>
                  <a:pt x="576" y="142"/>
                  <a:pt x="576" y="142"/>
                </a:cubicBezTo>
                <a:cubicBezTo>
                  <a:pt x="576" y="142"/>
                  <a:pt x="576" y="142"/>
                  <a:pt x="576" y="142"/>
                </a:cubicBezTo>
                <a:cubicBezTo>
                  <a:pt x="576" y="142"/>
                  <a:pt x="575" y="141"/>
                  <a:pt x="575" y="141"/>
                </a:cubicBezTo>
                <a:close/>
                <a:moveTo>
                  <a:pt x="551" y="109"/>
                </a:moveTo>
                <a:cubicBezTo>
                  <a:pt x="548" y="112"/>
                  <a:pt x="548" y="112"/>
                  <a:pt x="548" y="112"/>
                </a:cubicBezTo>
                <a:cubicBezTo>
                  <a:pt x="552" y="117"/>
                  <a:pt x="557" y="122"/>
                  <a:pt x="560" y="127"/>
                </a:cubicBezTo>
                <a:cubicBezTo>
                  <a:pt x="564" y="125"/>
                  <a:pt x="564" y="125"/>
                  <a:pt x="564" y="125"/>
                </a:cubicBezTo>
                <a:cubicBezTo>
                  <a:pt x="563" y="124"/>
                  <a:pt x="563" y="124"/>
                  <a:pt x="563" y="123"/>
                </a:cubicBezTo>
                <a:cubicBezTo>
                  <a:pt x="563" y="123"/>
                  <a:pt x="563"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3"/>
                  <a:pt x="562" y="123"/>
                </a:cubicBezTo>
                <a:cubicBezTo>
                  <a:pt x="562" y="123"/>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62" y="122"/>
                  <a:pt x="562" y="122"/>
                  <a:pt x="562" y="122"/>
                </a:cubicBezTo>
                <a:cubicBezTo>
                  <a:pt x="559" y="118"/>
                  <a:pt x="556" y="115"/>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3" y="111"/>
                  <a:pt x="553" y="111"/>
                  <a:pt x="553" y="111"/>
                </a:cubicBezTo>
                <a:cubicBezTo>
                  <a:pt x="552" y="111"/>
                  <a:pt x="552" y="111"/>
                  <a:pt x="552" y="111"/>
                </a:cubicBezTo>
                <a:cubicBezTo>
                  <a:pt x="552" y="111"/>
                  <a:pt x="552" y="111"/>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2" y="110"/>
                  <a:pt x="552" y="110"/>
                </a:cubicBezTo>
                <a:cubicBezTo>
                  <a:pt x="552" y="110"/>
                  <a:pt x="551" y="109"/>
                  <a:pt x="551" y="109"/>
                </a:cubicBezTo>
                <a:close/>
                <a:moveTo>
                  <a:pt x="523" y="80"/>
                </a:moveTo>
                <a:cubicBezTo>
                  <a:pt x="521" y="83"/>
                  <a:pt x="521" y="83"/>
                  <a:pt x="521" y="83"/>
                </a:cubicBezTo>
                <a:cubicBezTo>
                  <a:pt x="525" y="88"/>
                  <a:pt x="530" y="92"/>
                  <a:pt x="535" y="97"/>
                </a:cubicBezTo>
                <a:cubicBezTo>
                  <a:pt x="538" y="94"/>
                  <a:pt x="538" y="94"/>
                  <a:pt x="538" y="94"/>
                </a:cubicBezTo>
                <a:cubicBezTo>
                  <a:pt x="537" y="94"/>
                  <a:pt x="537" y="93"/>
                  <a:pt x="536" y="93"/>
                </a:cubicBezTo>
                <a:cubicBezTo>
                  <a:pt x="536" y="93"/>
                  <a:pt x="536" y="93"/>
                  <a:pt x="536" y="93"/>
                </a:cubicBezTo>
                <a:cubicBezTo>
                  <a:pt x="536" y="93"/>
                  <a:pt x="536" y="93"/>
                  <a:pt x="536" y="93"/>
                </a:cubicBezTo>
                <a:cubicBezTo>
                  <a:pt x="536" y="93"/>
                  <a:pt x="536" y="93"/>
                  <a:pt x="536" y="93"/>
                </a:cubicBezTo>
                <a:cubicBezTo>
                  <a:pt x="536" y="93"/>
                  <a:pt x="536" y="93"/>
                  <a:pt x="536" y="93"/>
                </a:cubicBezTo>
                <a:cubicBezTo>
                  <a:pt x="536" y="93"/>
                  <a:pt x="536" y="93"/>
                  <a:pt x="536" y="93"/>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6" y="92"/>
                  <a:pt x="536" y="92"/>
                  <a:pt x="536"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2"/>
                  <a:pt x="535" y="92"/>
                  <a:pt x="535" y="92"/>
                </a:cubicBezTo>
                <a:cubicBezTo>
                  <a:pt x="535" y="91"/>
                  <a:pt x="535" y="91"/>
                  <a:pt x="535" y="91"/>
                </a:cubicBezTo>
                <a:cubicBezTo>
                  <a:pt x="535" y="91"/>
                  <a:pt x="535" y="91"/>
                  <a:pt x="535" y="91"/>
                </a:cubicBezTo>
                <a:cubicBezTo>
                  <a:pt x="535" y="91"/>
                  <a:pt x="535" y="91"/>
                  <a:pt x="535" y="91"/>
                </a:cubicBezTo>
                <a:cubicBezTo>
                  <a:pt x="535" y="91"/>
                  <a:pt x="535" y="91"/>
                  <a:pt x="535" y="91"/>
                </a:cubicBezTo>
                <a:cubicBezTo>
                  <a:pt x="535" y="91"/>
                  <a:pt x="534" y="91"/>
                  <a:pt x="534" y="91"/>
                </a:cubicBezTo>
                <a:cubicBezTo>
                  <a:pt x="534" y="91"/>
                  <a:pt x="534" y="91"/>
                  <a:pt x="534" y="91"/>
                </a:cubicBezTo>
                <a:cubicBezTo>
                  <a:pt x="533" y="90"/>
                  <a:pt x="532" y="88"/>
                  <a:pt x="530" y="87"/>
                </a:cubicBezTo>
                <a:cubicBezTo>
                  <a:pt x="530" y="87"/>
                  <a:pt x="530" y="87"/>
                  <a:pt x="530" y="87"/>
                </a:cubicBezTo>
                <a:cubicBezTo>
                  <a:pt x="530" y="87"/>
                  <a:pt x="530" y="87"/>
                  <a:pt x="530" y="87"/>
                </a:cubicBezTo>
                <a:cubicBezTo>
                  <a:pt x="530" y="87"/>
                  <a:pt x="530" y="87"/>
                  <a:pt x="530" y="87"/>
                </a:cubicBezTo>
                <a:cubicBezTo>
                  <a:pt x="530" y="87"/>
                  <a:pt x="530" y="87"/>
                  <a:pt x="530" y="87"/>
                </a:cubicBezTo>
                <a:cubicBezTo>
                  <a:pt x="530" y="87"/>
                  <a:pt x="530" y="87"/>
                  <a:pt x="530" y="87"/>
                </a:cubicBezTo>
                <a:cubicBezTo>
                  <a:pt x="530" y="86"/>
                  <a:pt x="530" y="86"/>
                  <a:pt x="530" y="86"/>
                </a:cubicBezTo>
                <a:cubicBezTo>
                  <a:pt x="530" y="86"/>
                  <a:pt x="530" y="86"/>
                  <a:pt x="530" y="86"/>
                </a:cubicBezTo>
                <a:cubicBezTo>
                  <a:pt x="530" y="86"/>
                  <a:pt x="530" y="86"/>
                  <a:pt x="530"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6"/>
                  <a:pt x="529" y="86"/>
                </a:cubicBezTo>
                <a:cubicBezTo>
                  <a:pt x="529" y="86"/>
                  <a:pt x="529" y="85"/>
                  <a:pt x="529" y="85"/>
                </a:cubicBezTo>
                <a:cubicBezTo>
                  <a:pt x="529" y="85"/>
                  <a:pt x="529" y="85"/>
                  <a:pt x="529" y="85"/>
                </a:cubicBezTo>
                <a:cubicBezTo>
                  <a:pt x="529" y="85"/>
                  <a:pt x="529" y="85"/>
                  <a:pt x="529" y="85"/>
                </a:cubicBezTo>
                <a:cubicBezTo>
                  <a:pt x="529" y="85"/>
                  <a:pt x="529" y="85"/>
                  <a:pt x="529" y="85"/>
                </a:cubicBezTo>
                <a:cubicBezTo>
                  <a:pt x="529" y="85"/>
                  <a:pt x="529" y="85"/>
                  <a:pt x="529"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5"/>
                  <a:pt x="528" y="85"/>
                </a:cubicBezTo>
                <a:cubicBezTo>
                  <a:pt x="528" y="85"/>
                  <a:pt x="528" y="84"/>
                  <a:pt x="528" y="84"/>
                </a:cubicBezTo>
                <a:cubicBezTo>
                  <a:pt x="528" y="84"/>
                  <a:pt x="528" y="84"/>
                  <a:pt x="528" y="84"/>
                </a:cubicBezTo>
                <a:cubicBezTo>
                  <a:pt x="528" y="84"/>
                  <a:pt x="528" y="84"/>
                  <a:pt x="528" y="84"/>
                </a:cubicBezTo>
                <a:cubicBezTo>
                  <a:pt x="528" y="84"/>
                  <a:pt x="528" y="84"/>
                  <a:pt x="528" y="84"/>
                </a:cubicBezTo>
                <a:cubicBezTo>
                  <a:pt x="527" y="84"/>
                  <a:pt x="527" y="84"/>
                  <a:pt x="527" y="84"/>
                </a:cubicBezTo>
                <a:cubicBezTo>
                  <a:pt x="527" y="84"/>
                  <a:pt x="527" y="84"/>
                  <a:pt x="527" y="84"/>
                </a:cubicBezTo>
                <a:cubicBezTo>
                  <a:pt x="526" y="83"/>
                  <a:pt x="525" y="82"/>
                  <a:pt x="523" y="80"/>
                </a:cubicBezTo>
                <a:close/>
                <a:moveTo>
                  <a:pt x="492" y="55"/>
                </a:moveTo>
                <a:cubicBezTo>
                  <a:pt x="490" y="59"/>
                  <a:pt x="490" y="59"/>
                  <a:pt x="490" y="59"/>
                </a:cubicBezTo>
                <a:cubicBezTo>
                  <a:pt x="495" y="63"/>
                  <a:pt x="500" y="66"/>
                  <a:pt x="505" y="71"/>
                </a:cubicBezTo>
                <a:cubicBezTo>
                  <a:pt x="508" y="67"/>
                  <a:pt x="508" y="67"/>
                  <a:pt x="508" y="67"/>
                </a:cubicBezTo>
                <a:cubicBezTo>
                  <a:pt x="503" y="63"/>
                  <a:pt x="498" y="60"/>
                  <a:pt x="493" y="56"/>
                </a:cubicBezTo>
                <a:cubicBezTo>
                  <a:pt x="493" y="56"/>
                  <a:pt x="493" y="56"/>
                  <a:pt x="493" y="56"/>
                </a:cubicBezTo>
                <a:cubicBezTo>
                  <a:pt x="493" y="56"/>
                  <a:pt x="493"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6"/>
                  <a:pt x="492" y="56"/>
                </a:cubicBezTo>
                <a:cubicBezTo>
                  <a:pt x="492" y="56"/>
                  <a:pt x="492" y="55"/>
                  <a:pt x="492" y="55"/>
                </a:cubicBezTo>
                <a:close/>
                <a:moveTo>
                  <a:pt x="458" y="35"/>
                </a:moveTo>
                <a:cubicBezTo>
                  <a:pt x="456" y="38"/>
                  <a:pt x="456" y="38"/>
                  <a:pt x="456" y="38"/>
                </a:cubicBezTo>
                <a:cubicBezTo>
                  <a:pt x="462" y="41"/>
                  <a:pt x="467" y="45"/>
                  <a:pt x="473" y="48"/>
                </a:cubicBezTo>
                <a:cubicBezTo>
                  <a:pt x="475" y="45"/>
                  <a:pt x="475" y="45"/>
                  <a:pt x="475" y="45"/>
                </a:cubicBezTo>
                <a:cubicBezTo>
                  <a:pt x="473" y="43"/>
                  <a:pt x="471" y="42"/>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9" y="41"/>
                  <a:pt x="469" y="41"/>
                </a:cubicBezTo>
                <a:cubicBezTo>
                  <a:pt x="469" y="41"/>
                  <a:pt x="468" y="41"/>
                  <a:pt x="468" y="41"/>
                </a:cubicBezTo>
                <a:cubicBezTo>
                  <a:pt x="468" y="41"/>
                  <a:pt x="468" y="41"/>
                  <a:pt x="468" y="41"/>
                </a:cubicBezTo>
                <a:cubicBezTo>
                  <a:pt x="468" y="41"/>
                  <a:pt x="468" y="41"/>
                  <a:pt x="468" y="41"/>
                </a:cubicBezTo>
                <a:cubicBezTo>
                  <a:pt x="468" y="41"/>
                  <a:pt x="468" y="41"/>
                  <a:pt x="468" y="41"/>
                </a:cubicBezTo>
                <a:cubicBezTo>
                  <a:pt x="468" y="41"/>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8" y="40"/>
                </a:cubicBezTo>
                <a:cubicBezTo>
                  <a:pt x="468" y="40"/>
                  <a:pt x="468"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7" y="40"/>
                </a:cubicBezTo>
                <a:cubicBezTo>
                  <a:pt x="467" y="40"/>
                  <a:pt x="467" y="40"/>
                  <a:pt x="466" y="40"/>
                </a:cubicBezTo>
                <a:cubicBezTo>
                  <a:pt x="466" y="40"/>
                  <a:pt x="466" y="40"/>
                  <a:pt x="466" y="40"/>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6" y="39"/>
                  <a:pt x="466" y="39"/>
                  <a:pt x="466" y="39"/>
                </a:cubicBezTo>
                <a:cubicBezTo>
                  <a:pt x="465" y="39"/>
                  <a:pt x="465" y="39"/>
                  <a:pt x="465" y="39"/>
                </a:cubicBezTo>
                <a:cubicBezTo>
                  <a:pt x="465" y="39"/>
                  <a:pt x="465" y="39"/>
                  <a:pt x="465" y="39"/>
                </a:cubicBezTo>
                <a:cubicBezTo>
                  <a:pt x="465" y="39"/>
                  <a:pt x="465" y="39"/>
                  <a:pt x="465" y="39"/>
                </a:cubicBezTo>
                <a:cubicBezTo>
                  <a:pt x="465" y="39"/>
                  <a:pt x="465" y="39"/>
                  <a:pt x="465" y="39"/>
                </a:cubicBezTo>
                <a:cubicBezTo>
                  <a:pt x="462" y="37"/>
                  <a:pt x="460" y="36"/>
                  <a:pt x="458" y="35"/>
                </a:cubicBezTo>
                <a:close/>
                <a:moveTo>
                  <a:pt x="421" y="19"/>
                </a:moveTo>
                <a:cubicBezTo>
                  <a:pt x="420" y="22"/>
                  <a:pt x="420" y="22"/>
                  <a:pt x="420" y="22"/>
                </a:cubicBezTo>
                <a:cubicBezTo>
                  <a:pt x="426" y="25"/>
                  <a:pt x="432" y="27"/>
                  <a:pt x="438" y="30"/>
                </a:cubicBezTo>
                <a:cubicBezTo>
                  <a:pt x="440" y="26"/>
                  <a:pt x="440" y="26"/>
                  <a:pt x="440" y="26"/>
                </a:cubicBezTo>
                <a:cubicBezTo>
                  <a:pt x="434" y="23"/>
                  <a:pt x="427" y="21"/>
                  <a:pt x="421" y="19"/>
                </a:cubicBezTo>
                <a:close/>
                <a:moveTo>
                  <a:pt x="383" y="7"/>
                </a:moveTo>
                <a:cubicBezTo>
                  <a:pt x="382" y="11"/>
                  <a:pt x="382" y="11"/>
                  <a:pt x="382" y="11"/>
                </a:cubicBezTo>
                <a:cubicBezTo>
                  <a:pt x="388" y="13"/>
                  <a:pt x="395" y="14"/>
                  <a:pt x="401" y="16"/>
                </a:cubicBezTo>
                <a:cubicBezTo>
                  <a:pt x="402" y="12"/>
                  <a:pt x="402" y="12"/>
                  <a:pt x="402" y="12"/>
                </a:cubicBezTo>
                <a:cubicBezTo>
                  <a:pt x="401" y="12"/>
                  <a:pt x="400" y="12"/>
                  <a:pt x="399" y="12"/>
                </a:cubicBezTo>
                <a:cubicBezTo>
                  <a:pt x="399" y="12"/>
                  <a:pt x="399" y="12"/>
                  <a:pt x="399" y="12"/>
                </a:cubicBezTo>
                <a:cubicBezTo>
                  <a:pt x="399" y="11"/>
                  <a:pt x="399" y="11"/>
                  <a:pt x="399" y="11"/>
                </a:cubicBezTo>
                <a:cubicBezTo>
                  <a:pt x="399" y="11"/>
                  <a:pt x="399" y="11"/>
                  <a:pt x="399" y="11"/>
                </a:cubicBezTo>
                <a:cubicBezTo>
                  <a:pt x="399" y="11"/>
                  <a:pt x="399" y="11"/>
                  <a:pt x="399" y="11"/>
                </a:cubicBezTo>
                <a:cubicBezTo>
                  <a:pt x="399" y="11"/>
                  <a:pt x="399" y="11"/>
                  <a:pt x="399" y="11"/>
                </a:cubicBezTo>
                <a:cubicBezTo>
                  <a:pt x="399" y="11"/>
                  <a:pt x="399"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8" y="11"/>
                  <a:pt x="398" y="11"/>
                  <a:pt x="398"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7" y="11"/>
                </a:cubicBezTo>
                <a:cubicBezTo>
                  <a:pt x="397" y="11"/>
                  <a:pt x="397"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1"/>
                </a:cubicBezTo>
                <a:cubicBezTo>
                  <a:pt x="396" y="11"/>
                  <a:pt x="396" y="11"/>
                  <a:pt x="396" y="10"/>
                </a:cubicBezTo>
                <a:cubicBezTo>
                  <a:pt x="396" y="10"/>
                  <a:pt x="396" y="10"/>
                  <a:pt x="396" y="10"/>
                </a:cubicBezTo>
                <a:cubicBezTo>
                  <a:pt x="396"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5" y="10"/>
                </a:cubicBezTo>
                <a:cubicBezTo>
                  <a:pt x="395" y="10"/>
                  <a:pt x="395"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4" y="10"/>
                </a:cubicBezTo>
                <a:cubicBezTo>
                  <a:pt x="394" y="10"/>
                  <a:pt x="394"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3" y="10"/>
                  <a:pt x="393" y="10"/>
                  <a:pt x="393"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10"/>
                  <a:pt x="392" y="10"/>
                  <a:pt x="392" y="10"/>
                </a:cubicBezTo>
                <a:cubicBezTo>
                  <a:pt x="392" y="9"/>
                  <a:pt x="392" y="9"/>
                  <a:pt x="391" y="9"/>
                </a:cubicBezTo>
                <a:cubicBezTo>
                  <a:pt x="391" y="9"/>
                  <a:pt x="391" y="9"/>
                  <a:pt x="391" y="9"/>
                </a:cubicBezTo>
                <a:cubicBezTo>
                  <a:pt x="389" y="9"/>
                  <a:pt x="386" y="8"/>
                  <a:pt x="383" y="7"/>
                </a:cubicBezTo>
                <a:close/>
                <a:moveTo>
                  <a:pt x="343" y="1"/>
                </a:moveTo>
                <a:cubicBezTo>
                  <a:pt x="343" y="5"/>
                  <a:pt x="343" y="5"/>
                  <a:pt x="343" y="5"/>
                </a:cubicBezTo>
                <a:cubicBezTo>
                  <a:pt x="349" y="6"/>
                  <a:pt x="356" y="6"/>
                  <a:pt x="363" y="7"/>
                </a:cubicBezTo>
                <a:cubicBezTo>
                  <a:pt x="363" y="4"/>
                  <a:pt x="363" y="4"/>
                  <a:pt x="363" y="4"/>
                </a:cubicBezTo>
                <a:cubicBezTo>
                  <a:pt x="363" y="4"/>
                  <a:pt x="363" y="4"/>
                  <a:pt x="363" y="4"/>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3" y="3"/>
                  <a:pt x="363" y="3"/>
                </a:cubicBezTo>
                <a:cubicBezTo>
                  <a:pt x="363"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2" y="3"/>
                  <a:pt x="362" y="3"/>
                  <a:pt x="362"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1" y="3"/>
                  <a:pt x="361" y="3"/>
                </a:cubicBezTo>
                <a:cubicBezTo>
                  <a:pt x="361"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60" y="3"/>
                  <a:pt x="360" y="3"/>
                </a:cubicBezTo>
                <a:cubicBezTo>
                  <a:pt x="360"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9" y="3"/>
                  <a:pt x="359" y="3"/>
                </a:cubicBezTo>
                <a:cubicBezTo>
                  <a:pt x="359"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8" y="3"/>
                  <a:pt x="358" y="3"/>
                  <a:pt x="358"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7" y="3"/>
                  <a:pt x="357" y="3"/>
                </a:cubicBezTo>
                <a:cubicBezTo>
                  <a:pt x="357" y="3"/>
                  <a:pt x="356" y="3"/>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6" y="2"/>
                  <a:pt x="356" y="2"/>
                  <a:pt x="356"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5" y="2"/>
                  <a:pt x="355" y="2"/>
                  <a:pt x="355"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4" y="2"/>
                </a:cubicBezTo>
                <a:cubicBezTo>
                  <a:pt x="354" y="2"/>
                  <a:pt x="354"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3" y="2"/>
                  <a:pt x="353" y="2"/>
                </a:cubicBezTo>
                <a:cubicBezTo>
                  <a:pt x="353" y="2"/>
                  <a:pt x="352" y="2"/>
                  <a:pt x="352" y="2"/>
                </a:cubicBezTo>
                <a:cubicBezTo>
                  <a:pt x="352" y="2"/>
                  <a:pt x="352" y="2"/>
                  <a:pt x="352" y="2"/>
                </a:cubicBezTo>
                <a:cubicBezTo>
                  <a:pt x="352" y="2"/>
                  <a:pt x="352" y="2"/>
                  <a:pt x="352" y="2"/>
                </a:cubicBezTo>
                <a:cubicBezTo>
                  <a:pt x="352" y="2"/>
                  <a:pt x="352" y="2"/>
                  <a:pt x="352" y="2"/>
                </a:cubicBezTo>
                <a:cubicBezTo>
                  <a:pt x="352" y="2"/>
                  <a:pt x="352" y="2"/>
                  <a:pt x="352" y="2"/>
                </a:cubicBezTo>
                <a:cubicBezTo>
                  <a:pt x="352" y="2"/>
                  <a:pt x="352" y="2"/>
                  <a:pt x="352" y="2"/>
                </a:cubicBezTo>
                <a:cubicBezTo>
                  <a:pt x="352" y="2"/>
                  <a:pt x="351" y="2"/>
                  <a:pt x="351" y="2"/>
                </a:cubicBezTo>
                <a:cubicBezTo>
                  <a:pt x="351" y="2"/>
                  <a:pt x="351" y="2"/>
                  <a:pt x="351" y="2"/>
                </a:cubicBezTo>
                <a:cubicBezTo>
                  <a:pt x="351" y="2"/>
                  <a:pt x="351" y="2"/>
                  <a:pt x="351" y="2"/>
                </a:cubicBezTo>
                <a:cubicBezTo>
                  <a:pt x="351" y="2"/>
                  <a:pt x="351" y="2"/>
                  <a:pt x="351" y="2"/>
                </a:cubicBezTo>
                <a:cubicBezTo>
                  <a:pt x="351" y="2"/>
                  <a:pt x="351" y="2"/>
                  <a:pt x="350" y="2"/>
                </a:cubicBezTo>
                <a:cubicBezTo>
                  <a:pt x="350" y="2"/>
                  <a:pt x="350" y="2"/>
                  <a:pt x="350" y="2"/>
                </a:cubicBezTo>
                <a:cubicBezTo>
                  <a:pt x="348" y="1"/>
                  <a:pt x="346" y="1"/>
                  <a:pt x="343" y="1"/>
                </a:cubicBezTo>
                <a:close/>
                <a:moveTo>
                  <a:pt x="313" y="0"/>
                </a:moveTo>
                <a:cubicBezTo>
                  <a:pt x="313" y="4"/>
                  <a:pt x="313" y="4"/>
                  <a:pt x="313" y="4"/>
                </a:cubicBezTo>
                <a:cubicBezTo>
                  <a:pt x="316" y="4"/>
                  <a:pt x="320" y="4"/>
                  <a:pt x="323" y="4"/>
                </a:cubicBezTo>
                <a:cubicBezTo>
                  <a:pt x="323" y="0"/>
                  <a:pt x="323" y="0"/>
                  <a:pt x="323" y="0"/>
                </a:cubicBezTo>
                <a:cubicBezTo>
                  <a:pt x="321" y="0"/>
                  <a:pt x="319"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7" y="0"/>
                  <a:pt x="317" y="0"/>
                </a:cubicBezTo>
                <a:cubicBezTo>
                  <a:pt x="317"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6" y="0"/>
                </a:cubicBezTo>
                <a:cubicBezTo>
                  <a:pt x="316" y="0"/>
                  <a:pt x="316"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5" y="0"/>
                </a:cubicBezTo>
                <a:cubicBezTo>
                  <a:pt x="315" y="0"/>
                  <a:pt x="315"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4" y="0"/>
                  <a:pt x="314" y="0"/>
                  <a:pt x="314"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ubicBezTo>
                  <a:pt x="313" y="0"/>
                  <a:pt x="313" y="0"/>
                  <a:pt x="313"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49" name="Freeform 1036"/>
          <p:cNvSpPr/>
          <p:nvPr/>
        </p:nvSpPr>
        <p:spPr>
          <a:xfrm>
            <a:off x="4749840" y="5869080"/>
            <a:ext cx="5025960" cy="5030640"/>
          </a:xfrm>
          <a:custGeom>
            <a:avLst/>
            <a:gdLst/>
            <a:ahLst/>
            <a:rect l="l" t="t" r="r" b="b"/>
            <a:pathLst>
              <a:path w="522" h="522">
                <a:moveTo>
                  <a:pt x="261" y="0"/>
                </a:move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60" y="0"/>
                </a:cubicBezTo>
                <a:cubicBezTo>
                  <a:pt x="260" y="0"/>
                  <a:pt x="260"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9" y="0"/>
                  <a:pt x="259" y="0"/>
                  <a:pt x="259"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8" y="0"/>
                  <a:pt x="258" y="0"/>
                  <a:pt x="258"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7" y="0"/>
                  <a:pt x="257" y="0"/>
                  <a:pt x="257"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6" y="0"/>
                  <a:pt x="256" y="0"/>
                </a:cubicBezTo>
                <a:cubicBezTo>
                  <a:pt x="256"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5" y="0"/>
                </a:cubicBezTo>
                <a:cubicBezTo>
                  <a:pt x="255" y="0"/>
                  <a:pt x="255" y="0"/>
                  <a:pt x="254" y="0"/>
                </a:cubicBezTo>
                <a:cubicBezTo>
                  <a:pt x="254" y="0"/>
                  <a:pt x="254" y="0"/>
                  <a:pt x="254" y="0"/>
                </a:cubicBezTo>
                <a:cubicBezTo>
                  <a:pt x="254" y="0"/>
                  <a:pt x="254" y="0"/>
                  <a:pt x="254" y="0"/>
                </a:cubicBezTo>
                <a:cubicBezTo>
                  <a:pt x="254" y="0"/>
                  <a:pt x="254" y="0"/>
                  <a:pt x="254" y="0"/>
                </a:cubicBezTo>
                <a:cubicBezTo>
                  <a:pt x="254" y="0"/>
                  <a:pt x="254" y="0"/>
                  <a:pt x="254" y="0"/>
                </a:cubicBezTo>
                <a:cubicBezTo>
                  <a:pt x="254" y="0"/>
                  <a:pt x="254" y="0"/>
                  <a:pt x="254" y="0"/>
                </a:cubicBezTo>
                <a:cubicBezTo>
                  <a:pt x="250" y="0"/>
                  <a:pt x="245" y="0"/>
                  <a:pt x="241" y="1"/>
                </a:cubicBezTo>
                <a:cubicBezTo>
                  <a:pt x="241" y="5"/>
                  <a:pt x="241" y="5"/>
                  <a:pt x="241" y="5"/>
                </a:cubicBezTo>
                <a:cubicBezTo>
                  <a:pt x="248" y="4"/>
                  <a:pt x="255" y="4"/>
                  <a:pt x="261" y="4"/>
                </a:cubicBezTo>
                <a:cubicBezTo>
                  <a:pt x="261" y="0"/>
                  <a:pt x="261" y="0"/>
                  <a:pt x="261" y="0"/>
                </a:cubicBezTo>
                <a:cubicBezTo>
                  <a:pt x="261" y="0"/>
                  <a:pt x="261" y="0"/>
                  <a:pt x="261" y="0"/>
                </a:cubicBezTo>
                <a:close/>
                <a:moveTo>
                  <a:pt x="221" y="3"/>
                </a:moveTo>
                <a:cubicBezTo>
                  <a:pt x="220" y="3"/>
                  <a:pt x="219" y="3"/>
                  <a:pt x="218" y="3"/>
                </a:cubicBezTo>
                <a:cubicBezTo>
                  <a:pt x="218" y="3"/>
                  <a:pt x="218" y="3"/>
                  <a:pt x="218" y="3"/>
                </a:cubicBezTo>
                <a:cubicBezTo>
                  <a:pt x="218" y="3"/>
                  <a:pt x="218" y="3"/>
                  <a:pt x="218" y="3"/>
                </a:cubicBezTo>
                <a:cubicBezTo>
                  <a:pt x="218" y="3"/>
                  <a:pt x="218" y="3"/>
                  <a:pt x="218"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3"/>
                </a:cubicBezTo>
                <a:cubicBezTo>
                  <a:pt x="217" y="3"/>
                  <a:pt x="217" y="3"/>
                  <a:pt x="217" y="4"/>
                </a:cubicBezTo>
                <a:cubicBezTo>
                  <a:pt x="217" y="4"/>
                  <a:pt x="217" y="4"/>
                  <a:pt x="217" y="4"/>
                </a:cubicBezTo>
                <a:cubicBezTo>
                  <a:pt x="217" y="4"/>
                  <a:pt x="217" y="4"/>
                  <a:pt x="217" y="4"/>
                </a:cubicBezTo>
                <a:cubicBezTo>
                  <a:pt x="217" y="4"/>
                  <a:pt x="217" y="4"/>
                  <a:pt x="217" y="4"/>
                </a:cubicBezTo>
                <a:cubicBezTo>
                  <a:pt x="217" y="4"/>
                  <a:pt x="217" y="4"/>
                  <a:pt x="217" y="4"/>
                </a:cubicBezTo>
                <a:cubicBezTo>
                  <a:pt x="217" y="4"/>
                  <a:pt x="217" y="4"/>
                  <a:pt x="217" y="4"/>
                </a:cubicBezTo>
                <a:cubicBezTo>
                  <a:pt x="213" y="4"/>
                  <a:pt x="209" y="5"/>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5" y="6"/>
                </a:cubicBezTo>
                <a:cubicBezTo>
                  <a:pt x="205" y="6"/>
                  <a:pt x="205"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4" y="6"/>
                  <a:pt x="204" y="6"/>
                  <a:pt x="204" y="6"/>
                </a:cubicBezTo>
                <a:cubicBezTo>
                  <a:pt x="203" y="6"/>
                  <a:pt x="202" y="6"/>
                  <a:pt x="202" y="7"/>
                </a:cubicBezTo>
                <a:cubicBezTo>
                  <a:pt x="202" y="10"/>
                  <a:pt x="202" y="10"/>
                  <a:pt x="202" y="10"/>
                </a:cubicBezTo>
                <a:cubicBezTo>
                  <a:pt x="209" y="9"/>
                  <a:pt x="215" y="8"/>
                  <a:pt x="222" y="7"/>
                </a:cubicBezTo>
                <a:cubicBezTo>
                  <a:pt x="221" y="3"/>
                  <a:pt x="221" y="3"/>
                  <a:pt x="221" y="3"/>
                </a:cubicBezTo>
                <a:close/>
                <a:moveTo>
                  <a:pt x="182" y="12"/>
                </a:moveTo>
                <a:cubicBezTo>
                  <a:pt x="181" y="12"/>
                  <a:pt x="180"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8" y="13"/>
                  <a:pt x="178" y="13"/>
                  <a:pt x="178" y="13"/>
                </a:cubicBezTo>
                <a:cubicBezTo>
                  <a:pt x="177" y="13"/>
                  <a:pt x="177" y="13"/>
                  <a:pt x="177" y="13"/>
                </a:cubicBezTo>
                <a:cubicBezTo>
                  <a:pt x="177" y="13"/>
                  <a:pt x="177" y="13"/>
                  <a:pt x="177" y="13"/>
                </a:cubicBezTo>
                <a:cubicBezTo>
                  <a:pt x="177" y="13"/>
                  <a:pt x="177" y="13"/>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7" y="14"/>
                </a:cubicBezTo>
                <a:cubicBezTo>
                  <a:pt x="177" y="14"/>
                  <a:pt x="177"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6" y="14"/>
                  <a:pt x="176" y="14"/>
                </a:cubicBezTo>
                <a:cubicBezTo>
                  <a:pt x="176"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5" y="14"/>
                  <a:pt x="175" y="14"/>
                  <a:pt x="175" y="14"/>
                </a:cubicBezTo>
                <a:cubicBezTo>
                  <a:pt x="174" y="14"/>
                  <a:pt x="174" y="14"/>
                  <a:pt x="174" y="14"/>
                </a:cubicBezTo>
                <a:cubicBezTo>
                  <a:pt x="174" y="14"/>
                  <a:pt x="174" y="14"/>
                  <a:pt x="174" y="14"/>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4" y="15"/>
                </a:cubicBezTo>
                <a:cubicBezTo>
                  <a:pt x="174" y="15"/>
                  <a:pt x="174"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3" y="15"/>
                  <a:pt x="173" y="15"/>
                  <a:pt x="173"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2" y="15"/>
                  <a:pt x="172" y="15"/>
                </a:cubicBezTo>
                <a:cubicBezTo>
                  <a:pt x="172" y="15"/>
                  <a:pt x="171" y="16"/>
                  <a:pt x="171" y="16"/>
                </a:cubicBezTo>
                <a:cubicBezTo>
                  <a:pt x="171" y="16"/>
                  <a:pt x="171" y="16"/>
                  <a:pt x="171" y="16"/>
                </a:cubicBezTo>
                <a:cubicBezTo>
                  <a:pt x="169" y="17"/>
                  <a:pt x="166" y="18"/>
                  <a:pt x="163" y="19"/>
                </a:cubicBezTo>
                <a:cubicBezTo>
                  <a:pt x="165" y="22"/>
                  <a:pt x="165" y="22"/>
                  <a:pt x="165" y="22"/>
                </a:cubicBezTo>
                <a:cubicBezTo>
                  <a:pt x="171" y="20"/>
                  <a:pt x="177" y="18"/>
                  <a:pt x="183" y="16"/>
                </a:cubicBezTo>
                <a:cubicBezTo>
                  <a:pt x="182" y="12"/>
                  <a:pt x="182" y="12"/>
                  <a:pt x="182" y="12"/>
                </a:cubicBezTo>
                <a:close/>
                <a:moveTo>
                  <a:pt x="145" y="27"/>
                </a:moveTo>
                <a:cubicBezTo>
                  <a:pt x="143" y="28"/>
                  <a:pt x="140" y="30"/>
                  <a:pt x="137" y="31"/>
                </a:cubicBezTo>
                <a:cubicBezTo>
                  <a:pt x="137" y="31"/>
                  <a:pt x="137" y="31"/>
                  <a:pt x="137" y="31"/>
                </a:cubicBezTo>
                <a:cubicBezTo>
                  <a:pt x="137" y="31"/>
                  <a:pt x="137" y="31"/>
                  <a:pt x="137" y="31"/>
                </a:cubicBezTo>
                <a:cubicBezTo>
                  <a:pt x="137" y="31"/>
                  <a:pt x="137" y="31"/>
                  <a:pt x="137" y="31"/>
                </a:cubicBezTo>
                <a:cubicBezTo>
                  <a:pt x="134" y="33"/>
                  <a:pt x="131" y="35"/>
                  <a:pt x="128" y="36"/>
                </a:cubicBezTo>
                <a:cubicBezTo>
                  <a:pt x="130" y="40"/>
                  <a:pt x="130" y="40"/>
                  <a:pt x="130" y="40"/>
                </a:cubicBezTo>
                <a:cubicBezTo>
                  <a:pt x="135" y="36"/>
                  <a:pt x="141" y="33"/>
                  <a:pt x="147" y="30"/>
                </a:cubicBezTo>
                <a:cubicBezTo>
                  <a:pt x="145" y="27"/>
                  <a:pt x="145" y="27"/>
                  <a:pt x="145" y="27"/>
                </a:cubicBezTo>
                <a:close/>
                <a:moveTo>
                  <a:pt x="111" y="47"/>
                </a:moveTo>
                <a:cubicBezTo>
                  <a:pt x="105" y="51"/>
                  <a:pt x="100" y="55"/>
                  <a:pt x="95" y="59"/>
                </a:cubicBezTo>
                <a:cubicBezTo>
                  <a:pt x="98" y="62"/>
                  <a:pt x="98" y="62"/>
                  <a:pt x="98" y="62"/>
                </a:cubicBezTo>
                <a:cubicBezTo>
                  <a:pt x="103" y="58"/>
                  <a:pt x="108" y="54"/>
                  <a:pt x="113" y="51"/>
                </a:cubicBezTo>
                <a:cubicBezTo>
                  <a:pt x="111" y="47"/>
                  <a:pt x="111" y="47"/>
                  <a:pt x="111" y="47"/>
                </a:cubicBezTo>
                <a:close/>
                <a:moveTo>
                  <a:pt x="80" y="73"/>
                </a:moveTo>
                <a:cubicBezTo>
                  <a:pt x="78" y="75"/>
                  <a:pt x="75" y="78"/>
                  <a:pt x="73" y="80"/>
                </a:cubicBezTo>
                <a:cubicBezTo>
                  <a:pt x="73" y="80"/>
                  <a:pt x="73" y="80"/>
                  <a:pt x="73" y="80"/>
                </a:cubicBezTo>
                <a:cubicBezTo>
                  <a:pt x="73" y="80"/>
                  <a:pt x="73" y="80"/>
                  <a:pt x="72" y="80"/>
                </a:cubicBezTo>
                <a:cubicBezTo>
                  <a:pt x="72" y="80"/>
                  <a:pt x="72" y="80"/>
                  <a:pt x="72" y="80"/>
                </a:cubicBezTo>
                <a:cubicBezTo>
                  <a:pt x="72" y="80"/>
                  <a:pt x="72" y="80"/>
                  <a:pt x="72" y="80"/>
                </a:cubicBezTo>
                <a:cubicBezTo>
                  <a:pt x="72" y="80"/>
                  <a:pt x="72" y="80"/>
                  <a:pt x="72" y="80"/>
                </a:cubicBezTo>
                <a:cubicBezTo>
                  <a:pt x="72" y="80"/>
                  <a:pt x="72" y="80"/>
                  <a:pt x="72" y="80"/>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2" y="81"/>
                </a:cubicBezTo>
                <a:cubicBezTo>
                  <a:pt x="72" y="81"/>
                  <a:pt x="72" y="81"/>
                  <a:pt x="71" y="81"/>
                </a:cubicBezTo>
                <a:cubicBezTo>
                  <a:pt x="71" y="81"/>
                  <a:pt x="71" y="81"/>
                  <a:pt x="71" y="81"/>
                </a:cubicBezTo>
                <a:cubicBezTo>
                  <a:pt x="71" y="81"/>
                  <a:pt x="71" y="81"/>
                  <a:pt x="71" y="81"/>
                </a:cubicBezTo>
                <a:cubicBezTo>
                  <a:pt x="71" y="81"/>
                  <a:pt x="71" y="81"/>
                  <a:pt x="71" y="81"/>
                </a:cubicBezTo>
                <a:cubicBezTo>
                  <a:pt x="71" y="81"/>
                  <a:pt x="71" y="81"/>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1" y="82"/>
                  <a:pt x="71" y="82"/>
                  <a:pt x="71" y="82"/>
                </a:cubicBezTo>
                <a:cubicBezTo>
                  <a:pt x="70" y="82"/>
                  <a:pt x="70" y="82"/>
                  <a:pt x="70" y="82"/>
                </a:cubicBezTo>
                <a:cubicBezTo>
                  <a:pt x="70" y="82"/>
                  <a:pt x="70" y="82"/>
                  <a:pt x="70" y="82"/>
                </a:cubicBezTo>
                <a:cubicBezTo>
                  <a:pt x="70" y="82"/>
                  <a:pt x="70" y="82"/>
                  <a:pt x="70" y="82"/>
                </a:cubicBezTo>
                <a:cubicBezTo>
                  <a:pt x="70" y="82"/>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70" y="83"/>
                  <a:pt x="70" y="83"/>
                </a:cubicBezTo>
                <a:cubicBezTo>
                  <a:pt x="70" y="83"/>
                  <a:pt x="69" y="83"/>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9" y="84"/>
                  <a:pt x="69" y="84"/>
                  <a:pt x="69" y="84"/>
                </a:cubicBezTo>
                <a:cubicBezTo>
                  <a:pt x="68" y="84"/>
                  <a:pt x="68" y="84"/>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5"/>
                  <a:pt x="68" y="85"/>
                  <a:pt x="68" y="85"/>
                </a:cubicBezTo>
                <a:cubicBezTo>
                  <a:pt x="68" y="86"/>
                  <a:pt x="68"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6"/>
                  <a:pt x="67" y="86"/>
                </a:cubicBezTo>
                <a:cubicBezTo>
                  <a:pt x="67" y="86"/>
                  <a:pt x="67" y="87"/>
                  <a:pt x="67" y="87"/>
                </a:cubicBezTo>
                <a:cubicBezTo>
                  <a:pt x="67" y="87"/>
                  <a:pt x="67" y="87"/>
                  <a:pt x="67" y="87"/>
                </a:cubicBezTo>
                <a:cubicBezTo>
                  <a:pt x="67" y="87"/>
                  <a:pt x="67" y="87"/>
                  <a:pt x="66" y="87"/>
                </a:cubicBezTo>
                <a:cubicBezTo>
                  <a:pt x="66" y="87"/>
                  <a:pt x="66" y="87"/>
                  <a:pt x="66" y="87"/>
                </a:cubicBezTo>
                <a:cubicBezTo>
                  <a:pt x="66" y="87"/>
                  <a:pt x="66" y="87"/>
                  <a:pt x="66" y="87"/>
                </a:cubicBezTo>
                <a:cubicBezTo>
                  <a:pt x="66" y="87"/>
                  <a:pt x="66" y="87"/>
                  <a:pt x="66" y="87"/>
                </a:cubicBezTo>
                <a:cubicBezTo>
                  <a:pt x="66" y="87"/>
                  <a:pt x="66" y="87"/>
                  <a:pt x="66" y="87"/>
                </a:cubicBezTo>
                <a:cubicBezTo>
                  <a:pt x="66" y="87"/>
                  <a:pt x="66" y="87"/>
                  <a:pt x="66" y="87"/>
                </a:cubicBezTo>
                <a:cubicBezTo>
                  <a:pt x="69" y="90"/>
                  <a:pt x="69" y="90"/>
                  <a:pt x="69" y="90"/>
                </a:cubicBezTo>
                <a:cubicBezTo>
                  <a:pt x="74" y="85"/>
                  <a:pt x="78" y="80"/>
                  <a:pt x="83" y="76"/>
                </a:cubicBezTo>
                <a:cubicBezTo>
                  <a:pt x="80" y="73"/>
                  <a:pt x="80" y="73"/>
                  <a:pt x="80" y="73"/>
                </a:cubicBezTo>
                <a:close/>
                <a:moveTo>
                  <a:pt x="53" y="102"/>
                </a:moveTo>
                <a:cubicBezTo>
                  <a:pt x="53" y="104"/>
                  <a:pt x="52" y="105"/>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0" y="106"/>
                  <a:pt x="50" y="106"/>
                  <a:pt x="50" y="106"/>
                </a:cubicBezTo>
                <a:cubicBezTo>
                  <a:pt x="50" y="106"/>
                  <a:pt x="50" y="106"/>
                  <a:pt x="50" y="106"/>
                </a:cubicBezTo>
                <a:cubicBezTo>
                  <a:pt x="50" y="106"/>
                  <a:pt x="50" y="106"/>
                  <a:pt x="50" y="106"/>
                </a:cubicBezTo>
                <a:cubicBezTo>
                  <a:pt x="50" y="106"/>
                  <a:pt x="50" y="106"/>
                  <a:pt x="50" y="106"/>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47" y="111"/>
                  <a:pt x="45" y="115"/>
                  <a:pt x="42" y="119"/>
                </a:cubicBezTo>
                <a:cubicBezTo>
                  <a:pt x="45" y="121"/>
                  <a:pt x="45" y="121"/>
                  <a:pt x="45" y="121"/>
                </a:cubicBezTo>
                <a:cubicBezTo>
                  <a:pt x="49" y="115"/>
                  <a:pt x="53" y="110"/>
                  <a:pt x="57" y="105"/>
                </a:cubicBezTo>
                <a:cubicBezTo>
                  <a:pt x="53" y="102"/>
                  <a:pt x="53" y="102"/>
                  <a:pt x="53" y="102"/>
                </a:cubicBezTo>
                <a:close/>
                <a:moveTo>
                  <a:pt x="32" y="136"/>
                </a:moveTo>
                <a:cubicBezTo>
                  <a:pt x="31" y="136"/>
                  <a:pt x="31" y="137"/>
                  <a:pt x="31" y="137"/>
                </a:cubicBezTo>
                <a:cubicBezTo>
                  <a:pt x="31" y="137"/>
                  <a:pt x="31" y="137"/>
                  <a:pt x="31" y="137"/>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1" y="138"/>
                </a:cubicBezTo>
                <a:cubicBezTo>
                  <a:pt x="31" y="138"/>
                  <a:pt x="31"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30" y="138"/>
                  <a:pt x="30" y="138"/>
                  <a:pt x="30" y="138"/>
                </a:cubicBezTo>
                <a:cubicBezTo>
                  <a:pt x="28" y="143"/>
                  <a:pt x="25" y="148"/>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3"/>
                  <a:pt x="23" y="153"/>
                  <a:pt x="23" y="153"/>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3" y="154"/>
                  <a:pt x="23" y="154"/>
                  <a:pt x="23" y="154"/>
                </a:cubicBezTo>
                <a:cubicBezTo>
                  <a:pt x="26" y="155"/>
                  <a:pt x="26" y="155"/>
                  <a:pt x="26" y="155"/>
                </a:cubicBezTo>
                <a:cubicBezTo>
                  <a:pt x="29" y="150"/>
                  <a:pt x="32" y="144"/>
                  <a:pt x="35" y="138"/>
                </a:cubicBezTo>
                <a:cubicBezTo>
                  <a:pt x="32" y="136"/>
                  <a:pt x="32" y="136"/>
                  <a:pt x="32" y="136"/>
                </a:cubicBezTo>
                <a:close/>
                <a:moveTo>
                  <a:pt x="15" y="172"/>
                </a:moveTo>
                <a:cubicBezTo>
                  <a:pt x="14" y="176"/>
                  <a:pt x="13" y="180"/>
                  <a:pt x="11" y="184"/>
                </a:cubicBezTo>
                <a:cubicBezTo>
                  <a:pt x="11" y="184"/>
                  <a:pt x="11" y="184"/>
                  <a:pt x="11" y="184"/>
                </a:cubicBezTo>
                <a:cubicBezTo>
                  <a:pt x="11" y="184"/>
                  <a:pt x="11" y="184"/>
                  <a:pt x="11" y="184"/>
                </a:cubicBezTo>
                <a:cubicBezTo>
                  <a:pt x="11" y="184"/>
                  <a:pt x="11" y="184"/>
                  <a:pt x="11" y="184"/>
                </a:cubicBezTo>
                <a:cubicBezTo>
                  <a:pt x="11" y="187"/>
                  <a:pt x="10" y="189"/>
                  <a:pt x="9" y="191"/>
                </a:cubicBezTo>
                <a:cubicBezTo>
                  <a:pt x="13" y="192"/>
                  <a:pt x="13" y="192"/>
                  <a:pt x="13" y="192"/>
                </a:cubicBezTo>
                <a:cubicBezTo>
                  <a:pt x="15" y="186"/>
                  <a:pt x="17" y="180"/>
                  <a:pt x="19" y="174"/>
                </a:cubicBezTo>
                <a:cubicBezTo>
                  <a:pt x="15" y="172"/>
                  <a:pt x="15" y="172"/>
                  <a:pt x="15" y="172"/>
                </a:cubicBezTo>
                <a:close/>
                <a:moveTo>
                  <a:pt x="5" y="211"/>
                </a:moveTo>
                <a:cubicBezTo>
                  <a:pt x="4" y="213"/>
                  <a:pt x="4" y="215"/>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8"/>
                </a:cubicBezTo>
                <a:cubicBezTo>
                  <a:pt x="3" y="218"/>
                  <a:pt x="3" y="218"/>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19"/>
                  <a:pt x="3" y="219"/>
                  <a:pt x="3" y="219"/>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3" y="220"/>
                  <a:pt x="3" y="220"/>
                  <a:pt x="3" y="220"/>
                </a:cubicBezTo>
                <a:cubicBezTo>
                  <a:pt x="2" y="224"/>
                  <a:pt x="2" y="227"/>
                  <a:pt x="2" y="231"/>
                </a:cubicBezTo>
                <a:cubicBezTo>
                  <a:pt x="6" y="231"/>
                  <a:pt x="6" y="231"/>
                  <a:pt x="6" y="231"/>
                </a:cubicBezTo>
                <a:cubicBezTo>
                  <a:pt x="6" y="225"/>
                  <a:pt x="7" y="218"/>
                  <a:pt x="9" y="212"/>
                </a:cubicBezTo>
                <a:cubicBezTo>
                  <a:pt x="5" y="211"/>
                  <a:pt x="5" y="211"/>
                  <a:pt x="5" y="211"/>
                </a:cubicBezTo>
                <a:close/>
                <a:moveTo>
                  <a:pt x="0" y="251"/>
                </a:moveTo>
                <a:cubicBezTo>
                  <a:pt x="0" y="251"/>
                  <a:pt x="0" y="252"/>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3"/>
                </a:cubicBezTo>
                <a:cubicBezTo>
                  <a:pt x="0" y="253"/>
                  <a:pt x="0" y="253"/>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4"/>
                </a:cubicBezTo>
                <a:cubicBezTo>
                  <a:pt x="0" y="254"/>
                  <a:pt x="0" y="254"/>
                  <a:pt x="0" y="255"/>
                </a:cubicBezTo>
                <a:cubicBezTo>
                  <a:pt x="0" y="255"/>
                  <a:pt x="0" y="255"/>
                  <a:pt x="0" y="255"/>
                </a:cubicBezTo>
                <a:cubicBezTo>
                  <a:pt x="0" y="255"/>
                  <a:pt x="0" y="256"/>
                  <a:pt x="0" y="257"/>
                </a:cubicBezTo>
                <a:cubicBezTo>
                  <a:pt x="0" y="257"/>
                  <a:pt x="0" y="257"/>
                  <a:pt x="0" y="257"/>
                </a:cubicBezTo>
                <a:cubicBezTo>
                  <a:pt x="0" y="257"/>
                  <a:pt x="0" y="257"/>
                  <a:pt x="0" y="257"/>
                </a:cubicBezTo>
                <a:cubicBezTo>
                  <a:pt x="0" y="257"/>
                  <a:pt x="0" y="257"/>
                  <a:pt x="0" y="257"/>
                </a:cubicBezTo>
                <a:cubicBezTo>
                  <a:pt x="0" y="257"/>
                  <a:pt x="0" y="257"/>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8"/>
                  <a:pt x="0" y="258"/>
                </a:cubicBezTo>
                <a:cubicBezTo>
                  <a:pt x="0" y="258"/>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59"/>
                </a:cubicBezTo>
                <a:cubicBezTo>
                  <a:pt x="0" y="259"/>
                  <a:pt x="0" y="259"/>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0"/>
                  <a:pt x="0" y="260"/>
                </a:cubicBezTo>
                <a:cubicBezTo>
                  <a:pt x="0" y="260"/>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1"/>
                </a:cubicBezTo>
                <a:cubicBezTo>
                  <a:pt x="0" y="261"/>
                  <a:pt x="0" y="261"/>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2"/>
                  <a:pt x="0" y="262"/>
                </a:cubicBezTo>
                <a:cubicBezTo>
                  <a:pt x="0" y="262"/>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3"/>
                  <a:pt x="0" y="263"/>
                  <a:pt x="0" y="263"/>
                </a:cubicBezTo>
                <a:cubicBezTo>
                  <a:pt x="0" y="264"/>
                  <a:pt x="0" y="265"/>
                  <a:pt x="0" y="266"/>
                </a:cubicBezTo>
                <a:cubicBezTo>
                  <a:pt x="0" y="266"/>
                  <a:pt x="0" y="266"/>
                  <a:pt x="0" y="266"/>
                </a:cubicBezTo>
                <a:cubicBezTo>
                  <a:pt x="0" y="266"/>
                  <a:pt x="0" y="266"/>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7"/>
                  <a:pt x="0" y="267"/>
                  <a:pt x="0" y="267"/>
                </a:cubicBezTo>
                <a:cubicBezTo>
                  <a:pt x="0" y="268"/>
                  <a:pt x="0" y="268"/>
                  <a:pt x="0" y="268"/>
                </a:cubicBezTo>
                <a:cubicBezTo>
                  <a:pt x="0" y="268"/>
                  <a:pt x="0" y="268"/>
                  <a:pt x="0" y="268"/>
                </a:cubicBezTo>
                <a:cubicBezTo>
                  <a:pt x="0" y="268"/>
                  <a:pt x="0" y="268"/>
                  <a:pt x="0" y="268"/>
                </a:cubicBezTo>
                <a:cubicBezTo>
                  <a:pt x="0" y="268"/>
                  <a:pt x="0" y="268"/>
                  <a:pt x="0" y="268"/>
                </a:cubicBezTo>
                <a:cubicBezTo>
                  <a:pt x="0" y="268"/>
                  <a:pt x="0" y="268"/>
                  <a:pt x="0" y="268"/>
                </a:cubicBezTo>
                <a:cubicBezTo>
                  <a:pt x="0" y="268"/>
                  <a:pt x="0" y="268"/>
                  <a:pt x="0" y="268"/>
                </a:cubicBezTo>
                <a:cubicBezTo>
                  <a:pt x="0" y="269"/>
                  <a:pt x="0" y="270"/>
                  <a:pt x="0" y="271"/>
                </a:cubicBezTo>
                <a:cubicBezTo>
                  <a:pt x="4" y="270"/>
                  <a:pt x="4" y="270"/>
                  <a:pt x="4" y="270"/>
                </a:cubicBezTo>
                <a:cubicBezTo>
                  <a:pt x="4" y="267"/>
                  <a:pt x="4" y="264"/>
                  <a:pt x="4" y="261"/>
                </a:cubicBezTo>
                <a:cubicBezTo>
                  <a:pt x="4" y="258"/>
                  <a:pt x="4" y="254"/>
                  <a:pt x="4" y="251"/>
                </a:cubicBezTo>
                <a:cubicBezTo>
                  <a:pt x="0" y="251"/>
                  <a:pt x="0" y="251"/>
                  <a:pt x="0" y="251"/>
                </a:cubicBezTo>
                <a:close/>
                <a:moveTo>
                  <a:pt x="5" y="290"/>
                </a:move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1" y="291"/>
                </a:cubicBezTo>
                <a:cubicBezTo>
                  <a:pt x="1" y="291"/>
                  <a:pt x="1" y="291"/>
                  <a:pt x="2" y="291"/>
                </a:cubicBezTo>
                <a:cubicBezTo>
                  <a:pt x="2" y="291"/>
                  <a:pt x="2" y="291"/>
                  <a:pt x="2" y="291"/>
                </a:cubicBezTo>
                <a:cubicBezTo>
                  <a:pt x="2" y="291"/>
                  <a:pt x="2" y="291"/>
                  <a:pt x="2" y="291"/>
                </a:cubicBezTo>
                <a:cubicBezTo>
                  <a:pt x="2" y="291"/>
                  <a:pt x="2" y="291"/>
                  <a:pt x="2" y="291"/>
                </a:cubicBezTo>
                <a:cubicBezTo>
                  <a:pt x="2" y="291"/>
                  <a:pt x="2" y="291"/>
                  <a:pt x="2" y="291"/>
                </a:cubicBezTo>
                <a:cubicBezTo>
                  <a:pt x="2" y="291"/>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2"/>
                  <a:pt x="2" y="292"/>
                  <a:pt x="2" y="292"/>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3"/>
                </a:cubicBezTo>
                <a:cubicBezTo>
                  <a:pt x="2" y="293"/>
                  <a:pt x="2" y="293"/>
                  <a:pt x="2" y="294"/>
                </a:cubicBezTo>
                <a:cubicBezTo>
                  <a:pt x="2" y="294"/>
                  <a:pt x="2" y="294"/>
                  <a:pt x="2" y="294"/>
                </a:cubicBezTo>
                <a:cubicBezTo>
                  <a:pt x="2" y="298"/>
                  <a:pt x="3" y="302"/>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7"/>
                </a:cubicBezTo>
                <a:cubicBezTo>
                  <a:pt x="4" y="307"/>
                  <a:pt x="4" y="307"/>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8"/>
                  <a:pt x="4" y="308"/>
                  <a:pt x="4" y="308"/>
                </a:cubicBezTo>
                <a:cubicBezTo>
                  <a:pt x="4" y="309"/>
                  <a:pt x="4" y="310"/>
                  <a:pt x="4" y="310"/>
                </a:cubicBezTo>
                <a:cubicBezTo>
                  <a:pt x="8" y="310"/>
                  <a:pt x="8" y="310"/>
                  <a:pt x="8" y="310"/>
                </a:cubicBezTo>
                <a:cubicBezTo>
                  <a:pt x="7" y="303"/>
                  <a:pt x="6" y="297"/>
                  <a:pt x="5" y="290"/>
                </a:cubicBezTo>
                <a:close/>
                <a:moveTo>
                  <a:pt x="13" y="329"/>
                </a:moveTo>
                <a:cubicBezTo>
                  <a:pt x="9" y="330"/>
                  <a:pt x="9" y="330"/>
                  <a:pt x="9" y="330"/>
                </a:cubicBezTo>
                <a:cubicBezTo>
                  <a:pt x="11" y="336"/>
                  <a:pt x="13" y="343"/>
                  <a:pt x="15" y="349"/>
                </a:cubicBezTo>
                <a:cubicBezTo>
                  <a:pt x="19" y="348"/>
                  <a:pt x="19" y="348"/>
                  <a:pt x="19" y="348"/>
                </a:cubicBezTo>
                <a:cubicBezTo>
                  <a:pt x="16" y="341"/>
                  <a:pt x="14" y="335"/>
                  <a:pt x="13" y="329"/>
                </a:cubicBezTo>
                <a:close/>
                <a:moveTo>
                  <a:pt x="26" y="366"/>
                </a:moveTo>
                <a:cubicBezTo>
                  <a:pt x="22" y="367"/>
                  <a:pt x="22" y="367"/>
                  <a:pt x="22" y="367"/>
                </a:cubicBezTo>
                <a:cubicBezTo>
                  <a:pt x="23" y="370"/>
                  <a:pt x="24" y="372"/>
                  <a:pt x="26" y="374"/>
                </a:cubicBezTo>
                <a:cubicBezTo>
                  <a:pt x="26" y="374"/>
                  <a:pt x="26" y="374"/>
                  <a:pt x="26" y="374"/>
                </a:cubicBezTo>
                <a:cubicBezTo>
                  <a:pt x="27" y="378"/>
                  <a:pt x="29" y="382"/>
                  <a:pt x="31" y="385"/>
                </a:cubicBezTo>
                <a:cubicBezTo>
                  <a:pt x="35" y="383"/>
                  <a:pt x="35" y="383"/>
                  <a:pt x="35" y="383"/>
                </a:cubicBezTo>
                <a:cubicBezTo>
                  <a:pt x="32" y="378"/>
                  <a:pt x="29" y="372"/>
                  <a:pt x="26" y="366"/>
                </a:cubicBezTo>
                <a:close/>
                <a:moveTo>
                  <a:pt x="45" y="400"/>
                </a:move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1" y="403"/>
                  <a:pt x="41" y="403"/>
                  <a:pt x="41" y="403"/>
                </a:cubicBezTo>
                <a:cubicBezTo>
                  <a:pt x="45" y="408"/>
                  <a:pt x="48" y="413"/>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2" y="418"/>
                </a:cubicBezTo>
                <a:cubicBezTo>
                  <a:pt x="52" y="418"/>
                  <a:pt x="52" y="418"/>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3" y="419"/>
                  <a:pt x="53" y="419"/>
                  <a:pt x="53" y="419"/>
                </a:cubicBezTo>
                <a:cubicBezTo>
                  <a:pt x="56" y="417"/>
                  <a:pt x="56" y="417"/>
                  <a:pt x="56" y="417"/>
                </a:cubicBezTo>
                <a:cubicBezTo>
                  <a:pt x="52" y="411"/>
                  <a:pt x="48" y="406"/>
                  <a:pt x="45" y="400"/>
                </a:cubicBezTo>
                <a:close/>
                <a:moveTo>
                  <a:pt x="69" y="432"/>
                </a:moveTo>
                <a:cubicBezTo>
                  <a:pt x="66" y="434"/>
                  <a:pt x="66" y="434"/>
                  <a:pt x="66" y="434"/>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6" y="435"/>
                  <a:pt x="66" y="435"/>
                </a:cubicBezTo>
                <a:cubicBezTo>
                  <a:pt x="66" y="435"/>
                  <a:pt x="67" y="435"/>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6"/>
                  <a:pt x="67" y="436"/>
                  <a:pt x="67" y="436"/>
                </a:cubicBezTo>
                <a:cubicBezTo>
                  <a:pt x="67" y="437"/>
                  <a:pt x="67"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7"/>
                </a:cubicBezTo>
                <a:cubicBezTo>
                  <a:pt x="68" y="437"/>
                  <a:pt x="68" y="437"/>
                  <a:pt x="68" y="438"/>
                </a:cubicBezTo>
                <a:cubicBezTo>
                  <a:pt x="68" y="438"/>
                  <a:pt x="68" y="438"/>
                  <a:pt x="68" y="438"/>
                </a:cubicBezTo>
                <a:cubicBezTo>
                  <a:pt x="68" y="438"/>
                  <a:pt x="68" y="438"/>
                  <a:pt x="68" y="438"/>
                </a:cubicBezTo>
                <a:cubicBezTo>
                  <a:pt x="68" y="438"/>
                  <a:pt x="68" y="438"/>
                  <a:pt x="68"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8"/>
                  <a:pt x="69" y="438"/>
                </a:cubicBezTo>
                <a:cubicBezTo>
                  <a:pt x="69" y="438"/>
                  <a:pt x="69" y="439"/>
                  <a:pt x="69" y="439"/>
                </a:cubicBezTo>
                <a:cubicBezTo>
                  <a:pt x="69" y="439"/>
                  <a:pt x="69" y="439"/>
                  <a:pt x="69" y="439"/>
                </a:cubicBezTo>
                <a:cubicBezTo>
                  <a:pt x="69" y="439"/>
                  <a:pt x="69" y="439"/>
                  <a:pt x="69" y="439"/>
                </a:cubicBezTo>
                <a:cubicBezTo>
                  <a:pt x="69" y="439"/>
                  <a:pt x="69" y="439"/>
                  <a:pt x="69" y="439"/>
                </a:cubicBezTo>
                <a:cubicBezTo>
                  <a:pt x="69" y="439"/>
                  <a:pt x="69"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39"/>
                  <a:pt x="70" y="439"/>
                  <a:pt x="70" y="439"/>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0" y="440"/>
                  <a:pt x="70" y="440"/>
                  <a:pt x="70"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0"/>
                  <a:pt x="71" y="440"/>
                  <a:pt x="71" y="440"/>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1" y="441"/>
                  <a:pt x="71" y="441"/>
                </a:cubicBezTo>
                <a:cubicBezTo>
                  <a:pt x="71"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1"/>
                </a:cubicBezTo>
                <a:cubicBezTo>
                  <a:pt x="72" y="441"/>
                  <a:pt x="72" y="441"/>
                  <a:pt x="72" y="442"/>
                </a:cubicBezTo>
                <a:cubicBezTo>
                  <a:pt x="72" y="442"/>
                  <a:pt x="72" y="442"/>
                  <a:pt x="72" y="442"/>
                </a:cubicBezTo>
                <a:cubicBezTo>
                  <a:pt x="72" y="442"/>
                  <a:pt x="72" y="442"/>
                  <a:pt x="72" y="442"/>
                </a:cubicBezTo>
                <a:cubicBezTo>
                  <a:pt x="72" y="442"/>
                  <a:pt x="72" y="442"/>
                  <a:pt x="72" y="442"/>
                </a:cubicBezTo>
                <a:cubicBezTo>
                  <a:pt x="72" y="442"/>
                  <a:pt x="72" y="442"/>
                  <a:pt x="72" y="442"/>
                </a:cubicBezTo>
                <a:cubicBezTo>
                  <a:pt x="72" y="442"/>
                  <a:pt x="72" y="442"/>
                  <a:pt x="72" y="442"/>
                </a:cubicBezTo>
                <a:cubicBezTo>
                  <a:pt x="72" y="442"/>
                  <a:pt x="72"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2"/>
                </a:cubicBezTo>
                <a:cubicBezTo>
                  <a:pt x="73" y="442"/>
                  <a:pt x="73" y="442"/>
                  <a:pt x="73" y="443"/>
                </a:cubicBezTo>
                <a:cubicBezTo>
                  <a:pt x="73" y="443"/>
                  <a:pt x="73" y="443"/>
                  <a:pt x="73" y="443"/>
                </a:cubicBezTo>
                <a:cubicBezTo>
                  <a:pt x="73" y="443"/>
                  <a:pt x="73" y="443"/>
                  <a:pt x="73" y="443"/>
                </a:cubicBezTo>
                <a:cubicBezTo>
                  <a:pt x="73" y="443"/>
                  <a:pt x="73" y="443"/>
                  <a:pt x="73" y="443"/>
                </a:cubicBezTo>
                <a:cubicBezTo>
                  <a:pt x="73" y="443"/>
                  <a:pt x="73" y="443"/>
                  <a:pt x="73" y="443"/>
                </a:cubicBezTo>
                <a:cubicBezTo>
                  <a:pt x="73" y="443"/>
                  <a:pt x="73" y="443"/>
                  <a:pt x="73" y="443"/>
                </a:cubicBezTo>
                <a:cubicBezTo>
                  <a:pt x="75" y="445"/>
                  <a:pt x="77" y="447"/>
                  <a:pt x="79" y="449"/>
                </a:cubicBezTo>
                <a:cubicBezTo>
                  <a:pt x="82" y="446"/>
                  <a:pt x="82" y="446"/>
                  <a:pt x="82" y="446"/>
                </a:cubicBezTo>
                <a:cubicBezTo>
                  <a:pt x="77" y="441"/>
                  <a:pt x="73" y="437"/>
                  <a:pt x="69" y="432"/>
                </a:cubicBezTo>
                <a:close/>
                <a:moveTo>
                  <a:pt x="97" y="459"/>
                </a:moveTo>
                <a:cubicBezTo>
                  <a:pt x="94" y="462"/>
                  <a:pt x="94" y="462"/>
                  <a:pt x="94" y="462"/>
                </a:cubicBezTo>
                <a:cubicBezTo>
                  <a:pt x="97" y="464"/>
                  <a:pt x="99" y="466"/>
                  <a:pt x="102" y="468"/>
                </a:cubicBezTo>
                <a:cubicBezTo>
                  <a:pt x="102" y="468"/>
                  <a:pt x="102" y="468"/>
                  <a:pt x="102" y="468"/>
                </a:cubicBezTo>
                <a:cubicBezTo>
                  <a:pt x="102" y="468"/>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2" y="469"/>
                </a:cubicBezTo>
                <a:cubicBezTo>
                  <a:pt x="102" y="469"/>
                  <a:pt x="102"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69"/>
                </a:cubicBezTo>
                <a:cubicBezTo>
                  <a:pt x="103" y="469"/>
                  <a:pt x="103" y="469"/>
                  <a:pt x="103" y="470"/>
                </a:cubicBezTo>
                <a:cubicBezTo>
                  <a:pt x="103" y="470"/>
                  <a:pt x="103" y="470"/>
                  <a:pt x="103"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4" y="470"/>
                  <a:pt x="104" y="470"/>
                  <a:pt x="104" y="470"/>
                </a:cubicBezTo>
                <a:cubicBezTo>
                  <a:pt x="106" y="471"/>
                  <a:pt x="108" y="473"/>
                  <a:pt x="110" y="474"/>
                </a:cubicBezTo>
                <a:cubicBezTo>
                  <a:pt x="112" y="471"/>
                  <a:pt x="112" y="471"/>
                  <a:pt x="112" y="471"/>
                </a:cubicBezTo>
                <a:cubicBezTo>
                  <a:pt x="107" y="467"/>
                  <a:pt x="102" y="463"/>
                  <a:pt x="97" y="459"/>
                </a:cubicBezTo>
                <a:close/>
                <a:moveTo>
                  <a:pt x="129" y="482"/>
                </a:moveTo>
                <a:cubicBezTo>
                  <a:pt x="127" y="485"/>
                  <a:pt x="127" y="485"/>
                  <a:pt x="127" y="485"/>
                </a:cubicBezTo>
                <a:cubicBezTo>
                  <a:pt x="128" y="486"/>
                  <a:pt x="129"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0" y="487"/>
                  <a:pt x="130" y="487"/>
                </a:cubicBezTo>
                <a:cubicBezTo>
                  <a:pt x="130" y="487"/>
                  <a:pt x="131" y="487"/>
                  <a:pt x="131" y="487"/>
                </a:cubicBezTo>
                <a:cubicBezTo>
                  <a:pt x="131" y="487"/>
                  <a:pt x="131" y="487"/>
                  <a:pt x="131" y="487"/>
                </a:cubicBezTo>
                <a:cubicBezTo>
                  <a:pt x="131" y="487"/>
                  <a:pt x="131" y="488"/>
                  <a:pt x="131" y="488"/>
                </a:cubicBezTo>
                <a:cubicBezTo>
                  <a:pt x="131" y="488"/>
                  <a:pt x="131" y="488"/>
                  <a:pt x="131" y="488"/>
                </a:cubicBezTo>
                <a:cubicBezTo>
                  <a:pt x="131" y="488"/>
                  <a:pt x="131" y="488"/>
                  <a:pt x="131" y="488"/>
                </a:cubicBezTo>
                <a:cubicBezTo>
                  <a:pt x="131" y="488"/>
                  <a:pt x="131" y="488"/>
                  <a:pt x="131" y="488"/>
                </a:cubicBezTo>
                <a:cubicBezTo>
                  <a:pt x="131" y="488"/>
                  <a:pt x="131" y="488"/>
                  <a:pt x="131" y="488"/>
                </a:cubicBezTo>
                <a:cubicBezTo>
                  <a:pt x="131" y="488"/>
                  <a:pt x="131" y="488"/>
                  <a:pt x="131" y="488"/>
                </a:cubicBezTo>
                <a:cubicBezTo>
                  <a:pt x="133" y="489"/>
                  <a:pt x="135" y="490"/>
                  <a:pt x="137" y="491"/>
                </a:cubicBezTo>
                <a:cubicBezTo>
                  <a:pt x="137" y="491"/>
                  <a:pt x="137" y="491"/>
                  <a:pt x="137" y="491"/>
                </a:cubicBezTo>
                <a:cubicBezTo>
                  <a:pt x="138" y="491"/>
                  <a:pt x="138" y="491"/>
                  <a:pt x="138" y="491"/>
                </a:cubicBezTo>
                <a:cubicBezTo>
                  <a:pt x="138" y="491"/>
                  <a:pt x="138" y="491"/>
                  <a:pt x="138" y="491"/>
                </a:cubicBezTo>
                <a:cubicBezTo>
                  <a:pt x="138" y="491"/>
                  <a:pt x="138" y="491"/>
                  <a:pt x="138" y="491"/>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8" y="492"/>
                  <a:pt x="138" y="492"/>
                  <a:pt x="138"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39" y="492"/>
                  <a:pt x="139" y="492"/>
                  <a:pt x="139" y="492"/>
                </a:cubicBezTo>
                <a:cubicBezTo>
                  <a:pt x="141" y="493"/>
                  <a:pt x="143" y="494"/>
                  <a:pt x="144" y="495"/>
                </a:cubicBezTo>
                <a:cubicBezTo>
                  <a:pt x="146" y="491"/>
                  <a:pt x="146" y="491"/>
                  <a:pt x="146" y="491"/>
                </a:cubicBezTo>
                <a:cubicBezTo>
                  <a:pt x="140" y="488"/>
                  <a:pt x="135" y="485"/>
                  <a:pt x="129" y="482"/>
                </a:cubicBezTo>
                <a:close/>
                <a:moveTo>
                  <a:pt x="164" y="499"/>
                </a:moveTo>
                <a:cubicBezTo>
                  <a:pt x="163" y="503"/>
                  <a:pt x="163" y="503"/>
                  <a:pt x="163" y="503"/>
                </a:cubicBezTo>
                <a:cubicBezTo>
                  <a:pt x="165" y="504"/>
                  <a:pt x="167" y="505"/>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69" y="506"/>
                </a:cubicBezTo>
                <a:cubicBezTo>
                  <a:pt x="169" y="506"/>
                  <a:pt x="169"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0" y="506"/>
                  <a:pt x="170" y="506"/>
                  <a:pt x="170" y="506"/>
                </a:cubicBezTo>
                <a:cubicBezTo>
                  <a:pt x="174" y="507"/>
                  <a:pt x="177" y="509"/>
                  <a:pt x="180" y="510"/>
                </a:cubicBezTo>
                <a:cubicBezTo>
                  <a:pt x="180" y="510"/>
                  <a:pt x="180" y="510"/>
                  <a:pt x="180" y="510"/>
                </a:cubicBezTo>
                <a:cubicBezTo>
                  <a:pt x="180" y="510"/>
                  <a:pt x="180"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1" y="510"/>
                  <a:pt x="181" y="510"/>
                  <a:pt x="181" y="510"/>
                </a:cubicBezTo>
                <a:cubicBezTo>
                  <a:pt x="183" y="506"/>
                  <a:pt x="183" y="506"/>
                  <a:pt x="183" y="506"/>
                </a:cubicBezTo>
                <a:cubicBezTo>
                  <a:pt x="176" y="504"/>
                  <a:pt x="170" y="502"/>
                  <a:pt x="164" y="499"/>
                </a:cubicBezTo>
                <a:close/>
                <a:moveTo>
                  <a:pt x="202" y="511"/>
                </a:move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5"/>
                  <a:pt x="201" y="515"/>
                </a:cubicBezTo>
                <a:cubicBezTo>
                  <a:pt x="201" y="515"/>
                  <a:pt x="201" y="516"/>
                  <a:pt x="201" y="516"/>
                </a:cubicBezTo>
                <a:cubicBezTo>
                  <a:pt x="201" y="516"/>
                  <a:pt x="201" y="516"/>
                  <a:pt x="201" y="516"/>
                </a:cubicBezTo>
                <a:cubicBezTo>
                  <a:pt x="201" y="516"/>
                  <a:pt x="201" y="516"/>
                  <a:pt x="201" y="516"/>
                </a:cubicBezTo>
                <a:cubicBezTo>
                  <a:pt x="201" y="516"/>
                  <a:pt x="201" y="516"/>
                  <a:pt x="201"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2" y="516"/>
                  <a:pt x="202" y="516"/>
                </a:cubicBezTo>
                <a:cubicBezTo>
                  <a:pt x="202"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3" y="516"/>
                  <a:pt x="203" y="516"/>
                </a:cubicBezTo>
                <a:cubicBezTo>
                  <a:pt x="203"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4" y="516"/>
                  <a:pt x="204" y="516"/>
                </a:cubicBezTo>
                <a:cubicBezTo>
                  <a:pt x="204"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5" y="516"/>
                </a:cubicBezTo>
                <a:cubicBezTo>
                  <a:pt x="205" y="516"/>
                  <a:pt x="205" y="516"/>
                  <a:pt x="206" y="516"/>
                </a:cubicBezTo>
                <a:cubicBezTo>
                  <a:pt x="206" y="516"/>
                  <a:pt x="206" y="516"/>
                  <a:pt x="206" y="516"/>
                </a:cubicBezTo>
                <a:cubicBezTo>
                  <a:pt x="206" y="516"/>
                  <a:pt x="206" y="516"/>
                  <a:pt x="206" y="516"/>
                </a:cubicBezTo>
                <a:cubicBezTo>
                  <a:pt x="206" y="516"/>
                  <a:pt x="206" y="516"/>
                  <a:pt x="206" y="516"/>
                </a:cubicBezTo>
                <a:cubicBezTo>
                  <a:pt x="206" y="516"/>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6" y="517"/>
                </a:cubicBezTo>
                <a:cubicBezTo>
                  <a:pt x="206" y="517"/>
                  <a:pt x="206"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7" y="517"/>
                  <a:pt x="207" y="517"/>
                  <a:pt x="207"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8" y="517"/>
                  <a:pt x="208" y="517"/>
                  <a:pt x="208"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09" y="517"/>
                  <a:pt x="209" y="517"/>
                  <a:pt x="209"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0" y="517"/>
                </a:cubicBezTo>
                <a:cubicBezTo>
                  <a:pt x="210" y="517"/>
                  <a:pt x="210" y="517"/>
                  <a:pt x="211" y="517"/>
                </a:cubicBezTo>
                <a:cubicBezTo>
                  <a:pt x="211" y="517"/>
                  <a:pt x="211" y="517"/>
                  <a:pt x="211" y="517"/>
                </a:cubicBezTo>
                <a:cubicBezTo>
                  <a:pt x="211" y="517"/>
                  <a:pt x="211" y="518"/>
                  <a:pt x="211" y="518"/>
                </a:cubicBezTo>
                <a:cubicBezTo>
                  <a:pt x="211" y="518"/>
                  <a:pt x="211" y="518"/>
                  <a:pt x="211" y="518"/>
                </a:cubicBezTo>
                <a:cubicBezTo>
                  <a:pt x="211" y="518"/>
                  <a:pt x="211" y="518"/>
                  <a:pt x="211" y="518"/>
                </a:cubicBezTo>
                <a:cubicBezTo>
                  <a:pt x="211" y="518"/>
                  <a:pt x="211" y="518"/>
                  <a:pt x="211" y="518"/>
                </a:cubicBezTo>
                <a:cubicBezTo>
                  <a:pt x="214" y="518"/>
                  <a:pt x="217" y="519"/>
                  <a:pt x="220" y="519"/>
                </a:cubicBezTo>
                <a:cubicBezTo>
                  <a:pt x="221" y="515"/>
                  <a:pt x="221" y="515"/>
                  <a:pt x="221" y="515"/>
                </a:cubicBezTo>
                <a:cubicBezTo>
                  <a:pt x="214" y="514"/>
                  <a:pt x="208" y="513"/>
                  <a:pt x="202" y="511"/>
                </a:cubicBezTo>
                <a:close/>
                <a:moveTo>
                  <a:pt x="240" y="518"/>
                </a:moveTo>
                <a:cubicBezTo>
                  <a:pt x="240" y="522"/>
                  <a:pt x="240" y="522"/>
                  <a:pt x="240" y="522"/>
                </a:cubicBezTo>
                <a:cubicBezTo>
                  <a:pt x="243" y="522"/>
                  <a:pt x="247"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0" y="522"/>
                  <a:pt x="250" y="522"/>
                </a:cubicBezTo>
                <a:cubicBezTo>
                  <a:pt x="250"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1" y="522"/>
                  <a:pt x="251" y="522"/>
                </a:cubicBezTo>
                <a:cubicBezTo>
                  <a:pt x="251"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2" y="522"/>
                  <a:pt x="252" y="522"/>
                  <a:pt x="252" y="522"/>
                </a:cubicBezTo>
                <a:cubicBezTo>
                  <a:pt x="253" y="522"/>
                  <a:pt x="253" y="522"/>
                  <a:pt x="253" y="522"/>
                </a:cubicBezTo>
                <a:cubicBezTo>
                  <a:pt x="253" y="522"/>
                  <a:pt x="253" y="522"/>
                  <a:pt x="253" y="522"/>
                </a:cubicBezTo>
                <a:cubicBezTo>
                  <a:pt x="255" y="522"/>
                  <a:pt x="258" y="522"/>
                  <a:pt x="260" y="522"/>
                </a:cubicBezTo>
                <a:cubicBezTo>
                  <a:pt x="260" y="518"/>
                  <a:pt x="260" y="518"/>
                  <a:pt x="260" y="518"/>
                </a:cubicBezTo>
                <a:cubicBezTo>
                  <a:pt x="254" y="518"/>
                  <a:pt x="247" y="518"/>
                  <a:pt x="240" y="518"/>
                </a:cubicBezTo>
                <a:close/>
                <a:moveTo>
                  <a:pt x="299" y="516"/>
                </a:moveTo>
                <a:cubicBezTo>
                  <a:pt x="293" y="516"/>
                  <a:pt x="286" y="517"/>
                  <a:pt x="280" y="518"/>
                </a:cubicBezTo>
                <a:cubicBezTo>
                  <a:pt x="280" y="522"/>
                  <a:pt x="280" y="522"/>
                  <a:pt x="280" y="522"/>
                </a:cubicBezTo>
                <a:cubicBezTo>
                  <a:pt x="287" y="521"/>
                  <a:pt x="293" y="520"/>
                  <a:pt x="300" y="519"/>
                </a:cubicBezTo>
                <a:cubicBezTo>
                  <a:pt x="299" y="516"/>
                  <a:pt x="299" y="516"/>
                  <a:pt x="299" y="516"/>
                </a:cubicBezTo>
                <a:close/>
                <a:moveTo>
                  <a:pt x="338" y="507"/>
                </a:moveTo>
                <a:cubicBezTo>
                  <a:pt x="331" y="509"/>
                  <a:pt x="325" y="510"/>
                  <a:pt x="319" y="512"/>
                </a:cubicBezTo>
                <a:cubicBezTo>
                  <a:pt x="320" y="516"/>
                  <a:pt x="320" y="516"/>
                  <a:pt x="320" y="516"/>
                </a:cubicBezTo>
                <a:cubicBezTo>
                  <a:pt x="320" y="516"/>
                  <a:pt x="320" y="516"/>
                  <a:pt x="320" y="516"/>
                </a:cubicBezTo>
                <a:cubicBezTo>
                  <a:pt x="320" y="516"/>
                  <a:pt x="320" y="516"/>
                  <a:pt x="320" y="516"/>
                </a:cubicBezTo>
                <a:cubicBezTo>
                  <a:pt x="320" y="516"/>
                  <a:pt x="320" y="516"/>
                  <a:pt x="320" y="516"/>
                </a:cubicBezTo>
                <a:cubicBezTo>
                  <a:pt x="320" y="516"/>
                  <a:pt x="320" y="516"/>
                  <a:pt x="320" y="516"/>
                </a:cubicBezTo>
                <a:cubicBezTo>
                  <a:pt x="321" y="516"/>
                  <a:pt x="321" y="516"/>
                  <a:pt x="321" y="516"/>
                </a:cubicBezTo>
                <a:cubicBezTo>
                  <a:pt x="321" y="516"/>
                  <a:pt x="321" y="516"/>
                  <a:pt x="321" y="516"/>
                </a:cubicBezTo>
                <a:cubicBezTo>
                  <a:pt x="321" y="516"/>
                  <a:pt x="321" y="516"/>
                  <a:pt x="321" y="516"/>
                </a:cubicBezTo>
                <a:cubicBezTo>
                  <a:pt x="321" y="516"/>
                  <a:pt x="321" y="516"/>
                  <a:pt x="321" y="516"/>
                </a:cubicBezTo>
                <a:cubicBezTo>
                  <a:pt x="321" y="516"/>
                  <a:pt x="321" y="516"/>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1" y="515"/>
                  <a:pt x="321" y="515"/>
                </a:cubicBezTo>
                <a:cubicBezTo>
                  <a:pt x="321"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2" y="515"/>
                </a:cubicBezTo>
                <a:cubicBezTo>
                  <a:pt x="322" y="515"/>
                  <a:pt x="322"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3" y="515"/>
                  <a:pt x="323" y="515"/>
                  <a:pt x="323" y="515"/>
                </a:cubicBezTo>
                <a:cubicBezTo>
                  <a:pt x="325" y="514"/>
                  <a:pt x="327" y="514"/>
                  <a:pt x="328" y="514"/>
                </a:cubicBezTo>
                <a:cubicBezTo>
                  <a:pt x="328" y="514"/>
                  <a:pt x="328" y="514"/>
                  <a:pt x="328" y="514"/>
                </a:cubicBezTo>
                <a:cubicBezTo>
                  <a:pt x="328" y="514"/>
                  <a:pt x="329" y="514"/>
                  <a:pt x="329" y="514"/>
                </a:cubicBezTo>
                <a:cubicBezTo>
                  <a:pt x="329" y="514"/>
                  <a:pt x="329" y="514"/>
                  <a:pt x="329" y="514"/>
                </a:cubicBezTo>
                <a:cubicBezTo>
                  <a:pt x="329" y="514"/>
                  <a:pt x="329" y="514"/>
                  <a:pt x="329" y="514"/>
                </a:cubicBezTo>
                <a:cubicBezTo>
                  <a:pt x="329" y="514"/>
                  <a:pt x="329" y="514"/>
                  <a:pt x="329" y="514"/>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29" y="513"/>
                  <a:pt x="329" y="513"/>
                </a:cubicBezTo>
                <a:cubicBezTo>
                  <a:pt x="329"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0" y="513"/>
                  <a:pt x="330" y="513"/>
                  <a:pt x="330"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1" y="513"/>
                  <a:pt x="331" y="513"/>
                  <a:pt x="331"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2" y="513"/>
                  <a:pt x="332" y="513"/>
                  <a:pt x="332" y="513"/>
                </a:cubicBezTo>
                <a:cubicBezTo>
                  <a:pt x="334" y="512"/>
                  <a:pt x="337" y="511"/>
                  <a:pt x="339" y="511"/>
                </a:cubicBezTo>
                <a:cubicBezTo>
                  <a:pt x="338" y="507"/>
                  <a:pt x="338" y="507"/>
                  <a:pt x="338" y="507"/>
                </a:cubicBezTo>
                <a:close/>
                <a:moveTo>
                  <a:pt x="374" y="492"/>
                </a:moveTo>
                <a:cubicBezTo>
                  <a:pt x="368" y="495"/>
                  <a:pt x="362" y="498"/>
                  <a:pt x="356" y="500"/>
                </a:cubicBezTo>
                <a:cubicBezTo>
                  <a:pt x="358" y="504"/>
                  <a:pt x="358" y="504"/>
                  <a:pt x="358" y="504"/>
                </a:cubicBezTo>
                <a:cubicBezTo>
                  <a:pt x="364" y="501"/>
                  <a:pt x="370" y="499"/>
                  <a:pt x="375" y="496"/>
                </a:cubicBezTo>
                <a:cubicBezTo>
                  <a:pt x="375" y="496"/>
                  <a:pt x="375" y="496"/>
                  <a:pt x="375"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6" y="496"/>
                  <a:pt x="376" y="496"/>
                  <a:pt x="376" y="496"/>
                </a:cubicBezTo>
                <a:cubicBezTo>
                  <a:pt x="374" y="492"/>
                  <a:pt x="374" y="492"/>
                  <a:pt x="374" y="492"/>
                </a:cubicBezTo>
                <a:close/>
                <a:moveTo>
                  <a:pt x="408" y="472"/>
                </a:moveTo>
                <a:cubicBezTo>
                  <a:pt x="403" y="476"/>
                  <a:pt x="397" y="480"/>
                  <a:pt x="392" y="483"/>
                </a:cubicBezTo>
                <a:cubicBezTo>
                  <a:pt x="394" y="486"/>
                  <a:pt x="394" y="486"/>
                  <a:pt x="394" y="486"/>
                </a:cubicBezTo>
                <a:cubicBezTo>
                  <a:pt x="399" y="483"/>
                  <a:pt x="405" y="479"/>
                  <a:pt x="410" y="475"/>
                </a:cubicBezTo>
                <a:cubicBezTo>
                  <a:pt x="408" y="472"/>
                  <a:pt x="408" y="472"/>
                  <a:pt x="408" y="472"/>
                </a:cubicBezTo>
                <a:close/>
                <a:moveTo>
                  <a:pt x="439" y="447"/>
                </a:moveTo>
                <a:cubicBezTo>
                  <a:pt x="434" y="452"/>
                  <a:pt x="429" y="456"/>
                  <a:pt x="424" y="460"/>
                </a:cubicBezTo>
                <a:cubicBezTo>
                  <a:pt x="426" y="463"/>
                  <a:pt x="426" y="463"/>
                  <a:pt x="426" y="463"/>
                </a:cubicBezTo>
                <a:cubicBezTo>
                  <a:pt x="428" y="462"/>
                  <a:pt x="429" y="461"/>
                  <a:pt x="431" y="460"/>
                </a:cubicBezTo>
                <a:cubicBezTo>
                  <a:pt x="431" y="460"/>
                  <a:pt x="431" y="460"/>
                  <a:pt x="431" y="460"/>
                </a:cubicBezTo>
                <a:cubicBezTo>
                  <a:pt x="431" y="460"/>
                  <a:pt x="431" y="460"/>
                  <a:pt x="431" y="460"/>
                </a:cubicBezTo>
                <a:cubicBezTo>
                  <a:pt x="431" y="460"/>
                  <a:pt x="431" y="460"/>
                  <a:pt x="431" y="460"/>
                </a:cubicBezTo>
                <a:cubicBezTo>
                  <a:pt x="431" y="460"/>
                  <a:pt x="431" y="460"/>
                  <a:pt x="431" y="460"/>
                </a:cubicBezTo>
                <a:cubicBezTo>
                  <a:pt x="431" y="460"/>
                  <a:pt x="431" y="460"/>
                  <a:pt x="431" y="460"/>
                </a:cubicBezTo>
                <a:cubicBezTo>
                  <a:pt x="431" y="460"/>
                  <a:pt x="431" y="460"/>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1" y="459"/>
                  <a:pt x="431" y="459"/>
                </a:cubicBezTo>
                <a:cubicBezTo>
                  <a:pt x="431"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9"/>
                </a:cubicBezTo>
                <a:cubicBezTo>
                  <a:pt x="432" y="459"/>
                  <a:pt x="432" y="459"/>
                  <a:pt x="432" y="458"/>
                </a:cubicBezTo>
                <a:cubicBezTo>
                  <a:pt x="432" y="458"/>
                  <a:pt x="432" y="458"/>
                  <a:pt x="432" y="458"/>
                </a:cubicBezTo>
                <a:cubicBezTo>
                  <a:pt x="432" y="458"/>
                  <a:pt x="432" y="458"/>
                  <a:pt x="432" y="458"/>
                </a:cubicBezTo>
                <a:cubicBezTo>
                  <a:pt x="432" y="458"/>
                  <a:pt x="432" y="458"/>
                  <a:pt x="432" y="458"/>
                </a:cubicBezTo>
                <a:cubicBezTo>
                  <a:pt x="432" y="458"/>
                  <a:pt x="432" y="458"/>
                  <a:pt x="432" y="458"/>
                </a:cubicBezTo>
                <a:cubicBezTo>
                  <a:pt x="432"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3" y="458"/>
                  <a:pt x="433" y="458"/>
                  <a:pt x="433" y="458"/>
                </a:cubicBezTo>
                <a:cubicBezTo>
                  <a:pt x="436" y="455"/>
                  <a:pt x="439" y="453"/>
                  <a:pt x="441" y="450"/>
                </a:cubicBezTo>
                <a:cubicBezTo>
                  <a:pt x="439" y="447"/>
                  <a:pt x="439" y="447"/>
                  <a:pt x="439" y="447"/>
                </a:cubicBezTo>
                <a:close/>
                <a:moveTo>
                  <a:pt x="465" y="418"/>
                </a:moveTo>
                <a:cubicBezTo>
                  <a:pt x="461" y="423"/>
                  <a:pt x="457" y="428"/>
                  <a:pt x="452" y="433"/>
                </a:cubicBezTo>
                <a:cubicBezTo>
                  <a:pt x="455" y="436"/>
                  <a:pt x="455" y="436"/>
                  <a:pt x="455" y="436"/>
                </a:cubicBezTo>
                <a:cubicBezTo>
                  <a:pt x="457" y="434"/>
                  <a:pt x="458" y="433"/>
                  <a:pt x="459" y="431"/>
                </a:cubicBezTo>
                <a:cubicBezTo>
                  <a:pt x="459" y="431"/>
                  <a:pt x="459" y="431"/>
                  <a:pt x="459" y="431"/>
                </a:cubicBezTo>
                <a:cubicBezTo>
                  <a:pt x="459" y="431"/>
                  <a:pt x="459" y="431"/>
                  <a:pt x="459" y="431"/>
                </a:cubicBezTo>
                <a:cubicBezTo>
                  <a:pt x="459" y="431"/>
                  <a:pt x="459" y="431"/>
                  <a:pt x="459" y="431"/>
                </a:cubicBezTo>
                <a:cubicBezTo>
                  <a:pt x="460" y="431"/>
                  <a:pt x="460" y="431"/>
                  <a:pt x="460" y="431"/>
                </a:cubicBezTo>
                <a:cubicBezTo>
                  <a:pt x="460" y="431"/>
                  <a:pt x="460" y="431"/>
                  <a:pt x="460" y="431"/>
                </a:cubicBezTo>
                <a:cubicBezTo>
                  <a:pt x="460" y="431"/>
                  <a:pt x="460" y="431"/>
                  <a:pt x="460" y="431"/>
                </a:cubicBezTo>
                <a:cubicBezTo>
                  <a:pt x="460" y="431"/>
                  <a:pt x="460" y="431"/>
                  <a:pt x="460" y="431"/>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0" y="430"/>
                  <a:pt x="460" y="430"/>
                </a:cubicBezTo>
                <a:cubicBezTo>
                  <a:pt x="460"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30"/>
                </a:cubicBezTo>
                <a:cubicBezTo>
                  <a:pt x="461" y="430"/>
                  <a:pt x="461" y="430"/>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1" y="429"/>
                  <a:pt x="461" y="429"/>
                  <a:pt x="461" y="429"/>
                </a:cubicBezTo>
                <a:cubicBezTo>
                  <a:pt x="462" y="429"/>
                  <a:pt x="462" y="429"/>
                  <a:pt x="462" y="429"/>
                </a:cubicBezTo>
                <a:cubicBezTo>
                  <a:pt x="462" y="429"/>
                  <a:pt x="462" y="429"/>
                  <a:pt x="462" y="429"/>
                </a:cubicBezTo>
                <a:cubicBezTo>
                  <a:pt x="462" y="429"/>
                  <a:pt x="462" y="429"/>
                  <a:pt x="462" y="429"/>
                </a:cubicBezTo>
                <a:cubicBezTo>
                  <a:pt x="462" y="429"/>
                  <a:pt x="462" y="429"/>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2" y="428"/>
                  <a:pt x="462" y="428"/>
                  <a:pt x="462" y="428"/>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7"/>
                </a:cubicBezTo>
                <a:cubicBezTo>
                  <a:pt x="463" y="427"/>
                  <a:pt x="463" y="427"/>
                  <a:pt x="463" y="426"/>
                </a:cubicBezTo>
                <a:cubicBezTo>
                  <a:pt x="463" y="426"/>
                  <a:pt x="463" y="426"/>
                  <a:pt x="463" y="426"/>
                </a:cubicBezTo>
                <a:cubicBezTo>
                  <a:pt x="463" y="426"/>
                  <a:pt x="463" y="426"/>
                  <a:pt x="463" y="426"/>
                </a:cubicBezTo>
                <a:cubicBezTo>
                  <a:pt x="463" y="426"/>
                  <a:pt x="463" y="426"/>
                  <a:pt x="463"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6"/>
                  <a:pt x="464" y="426"/>
                  <a:pt x="464" y="426"/>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4" y="425"/>
                  <a:pt x="464" y="425"/>
                </a:cubicBezTo>
                <a:cubicBezTo>
                  <a:pt x="464"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5"/>
                </a:cubicBezTo>
                <a:cubicBezTo>
                  <a:pt x="465" y="425"/>
                  <a:pt x="465" y="425"/>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5" y="424"/>
                </a:cubicBezTo>
                <a:cubicBezTo>
                  <a:pt x="465" y="424"/>
                  <a:pt x="465" y="424"/>
                  <a:pt x="466" y="424"/>
                </a:cubicBezTo>
                <a:cubicBezTo>
                  <a:pt x="466" y="424"/>
                  <a:pt x="466" y="424"/>
                  <a:pt x="466" y="424"/>
                </a:cubicBezTo>
                <a:cubicBezTo>
                  <a:pt x="466" y="424"/>
                  <a:pt x="466" y="424"/>
                  <a:pt x="466" y="424"/>
                </a:cubicBezTo>
                <a:cubicBezTo>
                  <a:pt x="466" y="424"/>
                  <a:pt x="466" y="424"/>
                  <a:pt x="466" y="424"/>
                </a:cubicBezTo>
                <a:cubicBezTo>
                  <a:pt x="466" y="424"/>
                  <a:pt x="466" y="424"/>
                  <a:pt x="466" y="424"/>
                </a:cubicBezTo>
                <a:cubicBezTo>
                  <a:pt x="466" y="424"/>
                  <a:pt x="466" y="424"/>
                  <a:pt x="466" y="424"/>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6" y="423"/>
                  <a:pt x="466" y="423"/>
                  <a:pt x="466" y="423"/>
                </a:cubicBezTo>
                <a:cubicBezTo>
                  <a:pt x="467" y="423"/>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2"/>
                  <a:pt x="467" y="422"/>
                </a:cubicBezTo>
                <a:cubicBezTo>
                  <a:pt x="467" y="422"/>
                  <a:pt x="467" y="421"/>
                  <a:pt x="467" y="421"/>
                </a:cubicBezTo>
                <a:cubicBezTo>
                  <a:pt x="467" y="421"/>
                  <a:pt x="467" y="421"/>
                  <a:pt x="467" y="421"/>
                </a:cubicBezTo>
                <a:cubicBezTo>
                  <a:pt x="467" y="421"/>
                  <a:pt x="467" y="421"/>
                  <a:pt x="467" y="421"/>
                </a:cubicBezTo>
                <a:cubicBezTo>
                  <a:pt x="467" y="421"/>
                  <a:pt x="467" y="421"/>
                  <a:pt x="467" y="421"/>
                </a:cubicBezTo>
                <a:cubicBezTo>
                  <a:pt x="467"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1"/>
                </a:cubicBezTo>
                <a:cubicBezTo>
                  <a:pt x="468" y="421"/>
                  <a:pt x="468" y="421"/>
                  <a:pt x="468" y="420"/>
                </a:cubicBezTo>
                <a:cubicBezTo>
                  <a:pt x="468" y="420"/>
                  <a:pt x="468" y="420"/>
                  <a:pt x="468" y="420"/>
                </a:cubicBezTo>
                <a:cubicBezTo>
                  <a:pt x="465" y="418"/>
                  <a:pt x="465" y="418"/>
                  <a:pt x="465" y="418"/>
                </a:cubicBezTo>
                <a:close/>
                <a:moveTo>
                  <a:pt x="487" y="385"/>
                </a:moveTo>
                <a:cubicBezTo>
                  <a:pt x="483" y="391"/>
                  <a:pt x="480" y="397"/>
                  <a:pt x="476" y="402"/>
                </a:cubicBezTo>
                <a:cubicBezTo>
                  <a:pt x="480" y="404"/>
                  <a:pt x="480" y="404"/>
                  <a:pt x="480" y="404"/>
                </a:cubicBezTo>
                <a:cubicBezTo>
                  <a:pt x="480" y="403"/>
                  <a:pt x="481" y="402"/>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2" y="401"/>
                  <a:pt x="482" y="401"/>
                  <a:pt x="482" y="401"/>
                </a:cubicBezTo>
                <a:cubicBezTo>
                  <a:pt x="485" y="396"/>
                  <a:pt x="488" y="392"/>
                  <a:pt x="490" y="387"/>
                </a:cubicBezTo>
                <a:cubicBezTo>
                  <a:pt x="487" y="385"/>
                  <a:pt x="487" y="385"/>
                  <a:pt x="487" y="385"/>
                </a:cubicBezTo>
                <a:close/>
                <a:moveTo>
                  <a:pt x="503" y="349"/>
                </a:moveTo>
                <a:cubicBezTo>
                  <a:pt x="501" y="355"/>
                  <a:pt x="498" y="362"/>
                  <a:pt x="495" y="368"/>
                </a:cubicBezTo>
                <a:cubicBezTo>
                  <a:pt x="499" y="369"/>
                  <a:pt x="499" y="369"/>
                  <a:pt x="499" y="369"/>
                </a:cubicBezTo>
                <a:cubicBezTo>
                  <a:pt x="499" y="369"/>
                  <a:pt x="499"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8"/>
                  <a:pt x="500" y="368"/>
                  <a:pt x="500" y="368"/>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7"/>
                </a:cubicBezTo>
                <a:cubicBezTo>
                  <a:pt x="500" y="367"/>
                  <a:pt x="500" y="367"/>
                  <a:pt x="500" y="366"/>
                </a:cubicBezTo>
                <a:cubicBezTo>
                  <a:pt x="500" y="366"/>
                  <a:pt x="500" y="366"/>
                  <a:pt x="500" y="366"/>
                </a:cubicBezTo>
                <a:cubicBezTo>
                  <a:pt x="500" y="366"/>
                  <a:pt x="500" y="366"/>
                  <a:pt x="500" y="366"/>
                </a:cubicBezTo>
                <a:cubicBezTo>
                  <a:pt x="500" y="366"/>
                  <a:pt x="500" y="366"/>
                  <a:pt x="500" y="366"/>
                </a:cubicBezTo>
                <a:cubicBezTo>
                  <a:pt x="501" y="364"/>
                  <a:pt x="502" y="362"/>
                  <a:pt x="503" y="360"/>
                </a:cubicBezTo>
                <a:cubicBezTo>
                  <a:pt x="503" y="360"/>
                  <a:pt x="503" y="360"/>
                  <a:pt x="503" y="360"/>
                </a:cubicBezTo>
                <a:cubicBezTo>
                  <a:pt x="503" y="360"/>
                  <a:pt x="503" y="360"/>
                  <a:pt x="503" y="360"/>
                </a:cubicBezTo>
                <a:cubicBezTo>
                  <a:pt x="503" y="360"/>
                  <a:pt x="503" y="360"/>
                  <a:pt x="503" y="360"/>
                </a:cubicBezTo>
                <a:cubicBezTo>
                  <a:pt x="503" y="360"/>
                  <a:pt x="503" y="360"/>
                  <a:pt x="503" y="360"/>
                </a:cubicBezTo>
                <a:cubicBezTo>
                  <a:pt x="503" y="360"/>
                  <a:pt x="503" y="360"/>
                  <a:pt x="503" y="360"/>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3" y="359"/>
                  <a:pt x="503" y="359"/>
                  <a:pt x="503" y="359"/>
                </a:cubicBezTo>
                <a:cubicBezTo>
                  <a:pt x="504" y="359"/>
                  <a:pt x="504" y="359"/>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8"/>
                </a:cubicBezTo>
                <a:cubicBezTo>
                  <a:pt x="504" y="358"/>
                  <a:pt x="504" y="358"/>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7"/>
                </a:cubicBezTo>
                <a:cubicBezTo>
                  <a:pt x="504" y="357"/>
                  <a:pt x="504" y="357"/>
                  <a:pt x="504" y="356"/>
                </a:cubicBezTo>
                <a:cubicBezTo>
                  <a:pt x="504" y="356"/>
                  <a:pt x="504" y="356"/>
                  <a:pt x="504" y="356"/>
                </a:cubicBezTo>
                <a:cubicBezTo>
                  <a:pt x="504" y="356"/>
                  <a:pt x="504" y="356"/>
                  <a:pt x="504" y="356"/>
                </a:cubicBezTo>
                <a:cubicBezTo>
                  <a:pt x="504" y="356"/>
                  <a:pt x="504" y="356"/>
                  <a:pt x="504" y="356"/>
                </a:cubicBezTo>
                <a:cubicBezTo>
                  <a:pt x="504" y="356"/>
                  <a:pt x="505" y="356"/>
                  <a:pt x="505" y="356"/>
                </a:cubicBezTo>
                <a:cubicBezTo>
                  <a:pt x="505" y="356"/>
                  <a:pt x="505" y="356"/>
                  <a:pt x="505" y="356"/>
                </a:cubicBezTo>
                <a:cubicBezTo>
                  <a:pt x="505" y="356"/>
                  <a:pt x="505" y="356"/>
                  <a:pt x="505" y="356"/>
                </a:cubicBezTo>
                <a:cubicBezTo>
                  <a:pt x="505" y="356"/>
                  <a:pt x="505" y="356"/>
                  <a:pt x="505" y="356"/>
                </a:cubicBezTo>
                <a:cubicBezTo>
                  <a:pt x="505" y="354"/>
                  <a:pt x="506" y="352"/>
                  <a:pt x="507" y="351"/>
                </a:cubicBezTo>
                <a:cubicBezTo>
                  <a:pt x="503" y="349"/>
                  <a:pt x="503" y="349"/>
                  <a:pt x="503" y="349"/>
                </a:cubicBezTo>
                <a:close/>
                <a:moveTo>
                  <a:pt x="513" y="311"/>
                </a:moveTo>
                <a:cubicBezTo>
                  <a:pt x="512" y="318"/>
                  <a:pt x="511" y="324"/>
                  <a:pt x="509" y="331"/>
                </a:cubicBezTo>
                <a:cubicBezTo>
                  <a:pt x="513" y="332"/>
                  <a:pt x="513" y="332"/>
                  <a:pt x="513" y="332"/>
                </a:cubicBezTo>
                <a:cubicBezTo>
                  <a:pt x="513" y="332"/>
                  <a:pt x="513" y="332"/>
                  <a:pt x="513" y="332"/>
                </a:cubicBezTo>
                <a:cubicBezTo>
                  <a:pt x="513" y="332"/>
                  <a:pt x="513" y="332"/>
                  <a:pt x="513" y="332"/>
                </a:cubicBezTo>
                <a:cubicBezTo>
                  <a:pt x="513" y="332"/>
                  <a:pt x="513" y="332"/>
                  <a:pt x="513" y="332"/>
                </a:cubicBezTo>
                <a:cubicBezTo>
                  <a:pt x="513" y="332"/>
                  <a:pt x="513" y="332"/>
                  <a:pt x="513" y="332"/>
                </a:cubicBezTo>
                <a:cubicBezTo>
                  <a:pt x="513" y="332"/>
                  <a:pt x="513" y="331"/>
                  <a:pt x="513" y="331"/>
                </a:cubicBezTo>
                <a:cubicBezTo>
                  <a:pt x="513" y="331"/>
                  <a:pt x="513" y="331"/>
                  <a:pt x="513" y="331"/>
                </a:cubicBezTo>
                <a:cubicBezTo>
                  <a:pt x="513" y="331"/>
                  <a:pt x="513" y="331"/>
                  <a:pt x="513" y="331"/>
                </a:cubicBezTo>
                <a:cubicBezTo>
                  <a:pt x="513" y="331"/>
                  <a:pt x="513" y="331"/>
                  <a:pt x="513" y="331"/>
                </a:cubicBezTo>
                <a:cubicBezTo>
                  <a:pt x="513" y="331"/>
                  <a:pt x="513" y="331"/>
                  <a:pt x="513" y="331"/>
                </a:cubicBezTo>
                <a:cubicBezTo>
                  <a:pt x="513" y="331"/>
                  <a:pt x="513" y="331"/>
                  <a:pt x="513" y="331"/>
                </a:cubicBezTo>
                <a:cubicBezTo>
                  <a:pt x="515" y="325"/>
                  <a:pt x="516" y="319"/>
                  <a:pt x="517" y="312"/>
                </a:cubicBezTo>
                <a:cubicBezTo>
                  <a:pt x="513" y="311"/>
                  <a:pt x="513" y="311"/>
                  <a:pt x="513" y="311"/>
                </a:cubicBezTo>
                <a:close/>
                <a:moveTo>
                  <a:pt x="518" y="272"/>
                </a:moveTo>
                <a:cubicBezTo>
                  <a:pt x="518" y="279"/>
                  <a:pt x="517" y="285"/>
                  <a:pt x="517" y="292"/>
                </a:cubicBezTo>
                <a:cubicBezTo>
                  <a:pt x="520" y="292"/>
                  <a:pt x="520" y="292"/>
                  <a:pt x="520" y="292"/>
                </a:cubicBezTo>
                <a:cubicBezTo>
                  <a:pt x="521" y="286"/>
                  <a:pt x="522" y="279"/>
                  <a:pt x="522" y="273"/>
                </a:cubicBezTo>
                <a:cubicBezTo>
                  <a:pt x="518" y="272"/>
                  <a:pt x="518" y="272"/>
                  <a:pt x="518" y="272"/>
                </a:cubicBezTo>
                <a:close/>
                <a:moveTo>
                  <a:pt x="521" y="233"/>
                </a:moveTo>
                <a:cubicBezTo>
                  <a:pt x="517" y="233"/>
                  <a:pt x="517" y="233"/>
                  <a:pt x="517" y="233"/>
                </a:cubicBezTo>
                <a:cubicBezTo>
                  <a:pt x="518" y="239"/>
                  <a:pt x="518" y="246"/>
                  <a:pt x="518" y="253"/>
                </a:cubicBezTo>
                <a:cubicBezTo>
                  <a:pt x="522" y="253"/>
                  <a:pt x="522" y="253"/>
                  <a:pt x="522" y="253"/>
                </a:cubicBezTo>
                <a:cubicBezTo>
                  <a:pt x="522" y="250"/>
                  <a:pt x="522" y="248"/>
                  <a:pt x="522" y="246"/>
                </a:cubicBezTo>
                <a:cubicBezTo>
                  <a:pt x="522" y="246"/>
                  <a:pt x="522" y="246"/>
                  <a:pt x="522" y="246"/>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5"/>
                </a:cubicBezTo>
                <a:cubicBezTo>
                  <a:pt x="522" y="245"/>
                  <a:pt x="522" y="245"/>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4"/>
                </a:cubicBezTo>
                <a:cubicBezTo>
                  <a:pt x="522" y="244"/>
                  <a:pt x="522" y="244"/>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3"/>
                </a:cubicBezTo>
                <a:cubicBezTo>
                  <a:pt x="522" y="243"/>
                  <a:pt x="522" y="243"/>
                  <a:pt x="522" y="242"/>
                </a:cubicBezTo>
                <a:cubicBezTo>
                  <a:pt x="522" y="242"/>
                  <a:pt x="522" y="242"/>
                  <a:pt x="522" y="242"/>
                </a:cubicBezTo>
                <a:cubicBezTo>
                  <a:pt x="521" y="239"/>
                  <a:pt x="521" y="236"/>
                  <a:pt x="521" y="233"/>
                </a:cubicBezTo>
                <a:close/>
                <a:moveTo>
                  <a:pt x="513" y="193"/>
                </a:moveTo>
                <a:cubicBezTo>
                  <a:pt x="510" y="194"/>
                  <a:pt x="510" y="194"/>
                  <a:pt x="510" y="194"/>
                </a:cubicBezTo>
                <a:cubicBezTo>
                  <a:pt x="511" y="201"/>
                  <a:pt x="513" y="207"/>
                  <a:pt x="514" y="214"/>
                </a:cubicBezTo>
                <a:cubicBezTo>
                  <a:pt x="518" y="213"/>
                  <a:pt x="518" y="213"/>
                  <a:pt x="518" y="213"/>
                </a:cubicBezTo>
                <a:cubicBezTo>
                  <a:pt x="517" y="206"/>
                  <a:pt x="515" y="200"/>
                  <a:pt x="513" y="193"/>
                </a:cubicBezTo>
                <a:close/>
                <a:moveTo>
                  <a:pt x="500" y="156"/>
                </a:moveTo>
                <a:cubicBezTo>
                  <a:pt x="497" y="157"/>
                  <a:pt x="497" y="157"/>
                  <a:pt x="497" y="157"/>
                </a:cubicBezTo>
                <a:cubicBezTo>
                  <a:pt x="499" y="163"/>
                  <a:pt x="502" y="169"/>
                  <a:pt x="504" y="176"/>
                </a:cubicBezTo>
                <a:cubicBezTo>
                  <a:pt x="508" y="174"/>
                  <a:pt x="508" y="174"/>
                  <a:pt x="508" y="174"/>
                </a:cubicBezTo>
                <a:cubicBezTo>
                  <a:pt x="505" y="168"/>
                  <a:pt x="503" y="162"/>
                  <a:pt x="501" y="156"/>
                </a:cubicBezTo>
                <a:cubicBezTo>
                  <a:pt x="501" y="156"/>
                  <a:pt x="501" y="156"/>
                  <a:pt x="501"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ubicBezTo>
                  <a:pt x="500" y="156"/>
                  <a:pt x="500" y="156"/>
                  <a:pt x="500" y="156"/>
                </a:cubicBezTo>
                <a:close/>
                <a:moveTo>
                  <a:pt x="481" y="120"/>
                </a:moveTo>
                <a:cubicBezTo>
                  <a:pt x="478" y="123"/>
                  <a:pt x="478" y="123"/>
                  <a:pt x="478" y="123"/>
                </a:cubicBezTo>
                <a:cubicBezTo>
                  <a:pt x="481" y="128"/>
                  <a:pt x="485" y="134"/>
                  <a:pt x="488" y="140"/>
                </a:cubicBezTo>
                <a:cubicBezTo>
                  <a:pt x="491" y="138"/>
                  <a:pt x="491" y="138"/>
                  <a:pt x="491" y="138"/>
                </a:cubicBezTo>
                <a:cubicBezTo>
                  <a:pt x="491" y="137"/>
                  <a:pt x="491" y="137"/>
                  <a:pt x="491" y="137"/>
                </a:cubicBezTo>
                <a:cubicBezTo>
                  <a:pt x="491" y="137"/>
                  <a:pt x="491" y="137"/>
                  <a:pt x="491" y="137"/>
                </a:cubicBezTo>
                <a:cubicBezTo>
                  <a:pt x="491" y="137"/>
                  <a:pt x="491" y="137"/>
                  <a:pt x="491" y="137"/>
                </a:cubicBezTo>
                <a:cubicBezTo>
                  <a:pt x="491" y="137"/>
                  <a:pt x="491" y="137"/>
                  <a:pt x="491" y="137"/>
                </a:cubicBezTo>
                <a:cubicBezTo>
                  <a:pt x="491" y="137"/>
                  <a:pt x="491" y="137"/>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1" y="136"/>
                </a:cubicBezTo>
                <a:cubicBezTo>
                  <a:pt x="491" y="136"/>
                  <a:pt x="491"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6"/>
                </a:cubicBezTo>
                <a:cubicBezTo>
                  <a:pt x="490" y="136"/>
                  <a:pt x="490" y="136"/>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5"/>
                  <a:pt x="490" y="135"/>
                </a:cubicBezTo>
                <a:cubicBezTo>
                  <a:pt x="490" y="135"/>
                  <a:pt x="490" y="134"/>
                  <a:pt x="490" y="134"/>
                </a:cubicBezTo>
                <a:cubicBezTo>
                  <a:pt x="490" y="134"/>
                  <a:pt x="490" y="134"/>
                  <a:pt x="490" y="134"/>
                </a:cubicBezTo>
                <a:cubicBezTo>
                  <a:pt x="490" y="134"/>
                  <a:pt x="490" y="134"/>
                  <a:pt x="490" y="134"/>
                </a:cubicBezTo>
                <a:cubicBezTo>
                  <a:pt x="490" y="134"/>
                  <a:pt x="490" y="134"/>
                  <a:pt x="490" y="134"/>
                </a:cubicBezTo>
                <a:cubicBezTo>
                  <a:pt x="490" y="134"/>
                  <a:pt x="490" y="134"/>
                  <a:pt x="489" y="134"/>
                </a:cubicBezTo>
                <a:cubicBezTo>
                  <a:pt x="489" y="134"/>
                  <a:pt x="489" y="134"/>
                  <a:pt x="489" y="134"/>
                </a:cubicBezTo>
                <a:cubicBezTo>
                  <a:pt x="487" y="129"/>
                  <a:pt x="484" y="125"/>
                  <a:pt x="481" y="120"/>
                </a:cubicBezTo>
                <a:close/>
                <a:moveTo>
                  <a:pt x="457" y="88"/>
                </a:moveTo>
                <a:cubicBezTo>
                  <a:pt x="454" y="91"/>
                  <a:pt x="454" y="91"/>
                  <a:pt x="454" y="91"/>
                </a:cubicBezTo>
                <a:cubicBezTo>
                  <a:pt x="459" y="96"/>
                  <a:pt x="463" y="101"/>
                  <a:pt x="467" y="106"/>
                </a:cubicBezTo>
                <a:cubicBezTo>
                  <a:pt x="470" y="104"/>
                  <a:pt x="470" y="104"/>
                  <a:pt x="470" y="104"/>
                </a:cubicBezTo>
                <a:cubicBezTo>
                  <a:pt x="466" y="99"/>
                  <a:pt x="462" y="93"/>
                  <a:pt x="457" y="88"/>
                </a:cubicBezTo>
                <a:close/>
                <a:moveTo>
                  <a:pt x="429" y="61"/>
                </a:moveTo>
                <a:cubicBezTo>
                  <a:pt x="426" y="64"/>
                  <a:pt x="426" y="64"/>
                  <a:pt x="426" y="64"/>
                </a:cubicBezTo>
                <a:cubicBezTo>
                  <a:pt x="431" y="68"/>
                  <a:pt x="436" y="72"/>
                  <a:pt x="441" y="77"/>
                </a:cubicBezTo>
                <a:cubicBezTo>
                  <a:pt x="443" y="74"/>
                  <a:pt x="443" y="74"/>
                  <a:pt x="443" y="74"/>
                </a:cubicBezTo>
                <a:cubicBezTo>
                  <a:pt x="439" y="70"/>
                  <a:pt x="435" y="66"/>
                  <a:pt x="430" y="62"/>
                </a:cubicBezTo>
                <a:cubicBezTo>
                  <a:pt x="430" y="62"/>
                  <a:pt x="430" y="62"/>
                  <a:pt x="430" y="62"/>
                </a:cubicBezTo>
                <a:cubicBezTo>
                  <a:pt x="430" y="62"/>
                  <a:pt x="430" y="61"/>
                  <a:pt x="430" y="61"/>
                </a:cubicBezTo>
                <a:cubicBezTo>
                  <a:pt x="430" y="61"/>
                  <a:pt x="430" y="61"/>
                  <a:pt x="430" y="61"/>
                </a:cubicBezTo>
                <a:cubicBezTo>
                  <a:pt x="430"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ubicBezTo>
                  <a:pt x="429" y="61"/>
                  <a:pt x="429" y="61"/>
                  <a:pt x="429" y="61"/>
                </a:cubicBezTo>
                <a:close/>
                <a:moveTo>
                  <a:pt x="396" y="37"/>
                </a:moveTo>
                <a:cubicBezTo>
                  <a:pt x="394" y="41"/>
                  <a:pt x="394" y="41"/>
                  <a:pt x="394" y="41"/>
                </a:cubicBezTo>
                <a:cubicBezTo>
                  <a:pt x="400" y="44"/>
                  <a:pt x="405" y="48"/>
                  <a:pt x="410" y="52"/>
                </a:cubicBezTo>
                <a:cubicBezTo>
                  <a:pt x="413" y="48"/>
                  <a:pt x="413" y="48"/>
                  <a:pt x="413" y="48"/>
                </a:cubicBezTo>
                <a:cubicBezTo>
                  <a:pt x="410" y="47"/>
                  <a:pt x="408" y="45"/>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5" y="43"/>
                  <a:pt x="405" y="43"/>
                </a:cubicBezTo>
                <a:cubicBezTo>
                  <a:pt x="405" y="43"/>
                  <a:pt x="404" y="43"/>
                  <a:pt x="404" y="43"/>
                </a:cubicBezTo>
                <a:cubicBezTo>
                  <a:pt x="404" y="43"/>
                  <a:pt x="404" y="43"/>
                  <a:pt x="404" y="43"/>
                </a:cubicBezTo>
                <a:cubicBezTo>
                  <a:pt x="404" y="43"/>
                  <a:pt x="404" y="43"/>
                  <a:pt x="404" y="43"/>
                </a:cubicBezTo>
                <a:cubicBezTo>
                  <a:pt x="404" y="43"/>
                  <a:pt x="404" y="43"/>
                  <a:pt x="404" y="43"/>
                </a:cubicBezTo>
                <a:cubicBezTo>
                  <a:pt x="404" y="43"/>
                  <a:pt x="404" y="43"/>
                  <a:pt x="404" y="43"/>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4" y="42"/>
                </a:cubicBezTo>
                <a:cubicBezTo>
                  <a:pt x="404" y="42"/>
                  <a:pt x="404"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2"/>
                </a:cubicBezTo>
                <a:cubicBezTo>
                  <a:pt x="403" y="42"/>
                  <a:pt x="403" y="42"/>
                  <a:pt x="403" y="41"/>
                </a:cubicBezTo>
                <a:cubicBezTo>
                  <a:pt x="403" y="41"/>
                  <a:pt x="403" y="41"/>
                  <a:pt x="403" y="41"/>
                </a:cubicBezTo>
                <a:cubicBezTo>
                  <a:pt x="403" y="41"/>
                  <a:pt x="403" y="41"/>
                  <a:pt x="403" y="41"/>
                </a:cubicBezTo>
                <a:cubicBezTo>
                  <a:pt x="403" y="41"/>
                  <a:pt x="403" y="41"/>
                  <a:pt x="403" y="41"/>
                </a:cubicBezTo>
                <a:cubicBezTo>
                  <a:pt x="403" y="41"/>
                  <a:pt x="403" y="41"/>
                  <a:pt x="403" y="41"/>
                </a:cubicBezTo>
                <a:cubicBezTo>
                  <a:pt x="403" y="41"/>
                  <a:pt x="403" y="41"/>
                  <a:pt x="403" y="41"/>
                </a:cubicBezTo>
                <a:cubicBezTo>
                  <a:pt x="403"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2" y="41"/>
                  <a:pt x="402" y="41"/>
                </a:cubicBezTo>
                <a:cubicBezTo>
                  <a:pt x="402" y="41"/>
                  <a:pt x="401" y="41"/>
                  <a:pt x="401" y="41"/>
                </a:cubicBezTo>
                <a:cubicBezTo>
                  <a:pt x="401" y="41"/>
                  <a:pt x="401" y="41"/>
                  <a:pt x="401" y="41"/>
                </a:cubicBezTo>
                <a:cubicBezTo>
                  <a:pt x="400" y="39"/>
                  <a:pt x="398" y="38"/>
                  <a:pt x="396" y="37"/>
                </a:cubicBezTo>
                <a:close/>
                <a:moveTo>
                  <a:pt x="360" y="19"/>
                </a:moveTo>
                <a:cubicBezTo>
                  <a:pt x="359" y="23"/>
                  <a:pt x="359" y="23"/>
                  <a:pt x="359" y="23"/>
                </a:cubicBezTo>
                <a:cubicBezTo>
                  <a:pt x="365" y="26"/>
                  <a:pt x="371" y="28"/>
                  <a:pt x="377" y="31"/>
                </a:cubicBezTo>
                <a:cubicBezTo>
                  <a:pt x="379" y="28"/>
                  <a:pt x="379" y="28"/>
                  <a:pt x="379" y="28"/>
                </a:cubicBezTo>
                <a:cubicBezTo>
                  <a:pt x="379" y="28"/>
                  <a:pt x="379" y="28"/>
                  <a:pt x="379" y="28"/>
                </a:cubicBezTo>
                <a:cubicBezTo>
                  <a:pt x="379" y="28"/>
                  <a:pt x="379" y="28"/>
                  <a:pt x="379" y="28"/>
                </a:cubicBezTo>
                <a:cubicBezTo>
                  <a:pt x="379" y="28"/>
                  <a:pt x="379" y="28"/>
                  <a:pt x="379" y="28"/>
                </a:cubicBezTo>
                <a:cubicBezTo>
                  <a:pt x="379" y="28"/>
                  <a:pt x="379" y="28"/>
                  <a:pt x="378" y="28"/>
                </a:cubicBezTo>
                <a:cubicBezTo>
                  <a:pt x="378" y="28"/>
                  <a:pt x="378" y="28"/>
                  <a:pt x="378" y="28"/>
                </a:cubicBezTo>
                <a:cubicBezTo>
                  <a:pt x="378" y="28"/>
                  <a:pt x="378" y="28"/>
                  <a:pt x="378" y="28"/>
                </a:cubicBezTo>
                <a:cubicBezTo>
                  <a:pt x="378" y="28"/>
                  <a:pt x="378" y="28"/>
                  <a:pt x="378" y="28"/>
                </a:cubicBezTo>
                <a:cubicBezTo>
                  <a:pt x="378" y="28"/>
                  <a:pt x="378" y="27"/>
                  <a:pt x="378" y="27"/>
                </a:cubicBezTo>
                <a:cubicBezTo>
                  <a:pt x="378" y="27"/>
                  <a:pt x="378" y="27"/>
                  <a:pt x="378" y="27"/>
                </a:cubicBezTo>
                <a:cubicBezTo>
                  <a:pt x="378" y="27"/>
                  <a:pt x="378" y="27"/>
                  <a:pt x="378" y="27"/>
                </a:cubicBezTo>
                <a:cubicBezTo>
                  <a:pt x="378" y="27"/>
                  <a:pt x="378" y="27"/>
                  <a:pt x="378" y="27"/>
                </a:cubicBezTo>
                <a:cubicBezTo>
                  <a:pt x="376" y="26"/>
                  <a:pt x="373" y="25"/>
                  <a:pt x="371" y="24"/>
                </a:cubicBezTo>
                <a:cubicBezTo>
                  <a:pt x="371" y="24"/>
                  <a:pt x="371" y="24"/>
                  <a:pt x="371" y="24"/>
                </a:cubicBezTo>
                <a:cubicBezTo>
                  <a:pt x="370" y="24"/>
                  <a:pt x="370" y="24"/>
                  <a:pt x="370" y="24"/>
                </a:cubicBezTo>
                <a:cubicBezTo>
                  <a:pt x="370" y="24"/>
                  <a:pt x="370" y="24"/>
                  <a:pt x="370" y="24"/>
                </a:cubicBezTo>
                <a:cubicBezTo>
                  <a:pt x="370" y="24"/>
                  <a:pt x="370" y="24"/>
                  <a:pt x="370" y="24"/>
                </a:cubicBezTo>
                <a:cubicBezTo>
                  <a:pt x="370" y="24"/>
                  <a:pt x="370" y="24"/>
                  <a:pt x="370" y="24"/>
                </a:cubicBezTo>
                <a:cubicBezTo>
                  <a:pt x="370" y="24"/>
                  <a:pt x="370" y="24"/>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70" y="23"/>
                  <a:pt x="370" y="23"/>
                </a:cubicBezTo>
                <a:cubicBezTo>
                  <a:pt x="370"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9" y="23"/>
                </a:cubicBezTo>
                <a:cubicBezTo>
                  <a:pt x="369" y="23"/>
                  <a:pt x="369"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3"/>
                  <a:pt x="368" y="23"/>
                  <a:pt x="368" y="23"/>
                </a:cubicBezTo>
                <a:cubicBezTo>
                  <a:pt x="368" y="22"/>
                  <a:pt x="368" y="22"/>
                  <a:pt x="368" y="22"/>
                </a:cubicBezTo>
                <a:cubicBezTo>
                  <a:pt x="368" y="22"/>
                  <a:pt x="368" y="22"/>
                  <a:pt x="368" y="22"/>
                </a:cubicBezTo>
                <a:cubicBezTo>
                  <a:pt x="368" y="22"/>
                  <a:pt x="368" y="22"/>
                  <a:pt x="368" y="22"/>
                </a:cubicBezTo>
                <a:cubicBezTo>
                  <a:pt x="368" y="22"/>
                  <a:pt x="368" y="22"/>
                  <a:pt x="368" y="22"/>
                </a:cubicBezTo>
                <a:cubicBezTo>
                  <a:pt x="368" y="22"/>
                  <a:pt x="368" y="22"/>
                  <a:pt x="368"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7" y="22"/>
                  <a:pt x="367" y="22"/>
                  <a:pt x="367"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2"/>
                </a:cubicBezTo>
                <a:cubicBezTo>
                  <a:pt x="366" y="22"/>
                  <a:pt x="366" y="22"/>
                  <a:pt x="366" y="21"/>
                </a:cubicBezTo>
                <a:cubicBezTo>
                  <a:pt x="366" y="21"/>
                  <a:pt x="366"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5" y="21"/>
                </a:cubicBezTo>
                <a:cubicBezTo>
                  <a:pt x="365" y="21"/>
                  <a:pt x="365" y="21"/>
                  <a:pt x="364" y="21"/>
                </a:cubicBezTo>
                <a:cubicBezTo>
                  <a:pt x="364" y="21"/>
                  <a:pt x="364" y="21"/>
                  <a:pt x="364" y="21"/>
                </a:cubicBezTo>
                <a:cubicBezTo>
                  <a:pt x="364" y="21"/>
                  <a:pt x="364" y="21"/>
                  <a:pt x="364" y="21"/>
                </a:cubicBezTo>
                <a:cubicBezTo>
                  <a:pt x="364" y="21"/>
                  <a:pt x="364" y="21"/>
                  <a:pt x="364" y="21"/>
                </a:cubicBezTo>
                <a:cubicBezTo>
                  <a:pt x="364" y="21"/>
                  <a:pt x="364" y="21"/>
                  <a:pt x="364" y="21"/>
                </a:cubicBezTo>
                <a:cubicBezTo>
                  <a:pt x="364" y="21"/>
                  <a:pt x="364" y="21"/>
                  <a:pt x="364" y="21"/>
                </a:cubicBezTo>
                <a:cubicBezTo>
                  <a:pt x="363" y="20"/>
                  <a:pt x="362" y="20"/>
                  <a:pt x="360" y="19"/>
                </a:cubicBezTo>
                <a:close/>
                <a:moveTo>
                  <a:pt x="322" y="7"/>
                </a:moveTo>
                <a:cubicBezTo>
                  <a:pt x="321" y="11"/>
                  <a:pt x="321" y="11"/>
                  <a:pt x="321" y="11"/>
                </a:cubicBezTo>
                <a:cubicBezTo>
                  <a:pt x="328" y="12"/>
                  <a:pt x="334" y="14"/>
                  <a:pt x="340" y="16"/>
                </a:cubicBezTo>
                <a:cubicBezTo>
                  <a:pt x="342" y="12"/>
                  <a:pt x="342" y="12"/>
                  <a:pt x="342" y="12"/>
                </a:cubicBezTo>
                <a:cubicBezTo>
                  <a:pt x="341" y="12"/>
                  <a:pt x="341"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40" y="12"/>
                  <a:pt x="340" y="12"/>
                  <a:pt x="340"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2"/>
                  <a:pt x="339" y="12"/>
                </a:cubicBezTo>
                <a:cubicBezTo>
                  <a:pt x="339" y="12"/>
                  <a:pt x="339" y="11"/>
                  <a:pt x="339" y="11"/>
                </a:cubicBezTo>
                <a:cubicBezTo>
                  <a:pt x="339" y="11"/>
                  <a:pt x="339" y="11"/>
                  <a:pt x="339" y="11"/>
                </a:cubicBezTo>
                <a:cubicBezTo>
                  <a:pt x="339" y="11"/>
                  <a:pt x="339" y="11"/>
                  <a:pt x="339" y="11"/>
                </a:cubicBezTo>
                <a:cubicBezTo>
                  <a:pt x="339" y="11"/>
                  <a:pt x="339" y="11"/>
                  <a:pt x="339" y="11"/>
                </a:cubicBezTo>
                <a:cubicBezTo>
                  <a:pt x="338" y="11"/>
                  <a:pt x="338" y="11"/>
                  <a:pt x="338" y="11"/>
                </a:cubicBezTo>
                <a:cubicBezTo>
                  <a:pt x="338" y="11"/>
                  <a:pt x="338" y="11"/>
                  <a:pt x="338" y="11"/>
                </a:cubicBezTo>
                <a:cubicBezTo>
                  <a:pt x="338" y="11"/>
                  <a:pt x="338" y="11"/>
                  <a:pt x="338" y="11"/>
                </a:cubicBezTo>
                <a:cubicBezTo>
                  <a:pt x="338" y="11"/>
                  <a:pt x="338" y="11"/>
                  <a:pt x="338" y="11"/>
                </a:cubicBezTo>
                <a:cubicBezTo>
                  <a:pt x="333" y="10"/>
                  <a:pt x="328" y="8"/>
                  <a:pt x="322" y="7"/>
                </a:cubicBezTo>
                <a:close/>
                <a:moveTo>
                  <a:pt x="283" y="1"/>
                </a:moveTo>
                <a:cubicBezTo>
                  <a:pt x="283" y="5"/>
                  <a:pt x="283" y="5"/>
                  <a:pt x="283" y="5"/>
                </a:cubicBezTo>
                <a:cubicBezTo>
                  <a:pt x="289" y="5"/>
                  <a:pt x="296" y="6"/>
                  <a:pt x="302" y="7"/>
                </a:cubicBezTo>
                <a:cubicBezTo>
                  <a:pt x="303" y="3"/>
                  <a:pt x="303" y="3"/>
                  <a:pt x="303" y="3"/>
                </a:cubicBezTo>
                <a:cubicBezTo>
                  <a:pt x="303" y="3"/>
                  <a:pt x="303" y="3"/>
                  <a:pt x="303" y="3"/>
                </a:cubicBezTo>
                <a:cubicBezTo>
                  <a:pt x="303" y="3"/>
                  <a:pt x="303" y="3"/>
                  <a:pt x="303" y="3"/>
                </a:cubicBezTo>
                <a:cubicBezTo>
                  <a:pt x="303" y="3"/>
                  <a:pt x="303" y="3"/>
                  <a:pt x="303" y="3"/>
                </a:cubicBezTo>
                <a:cubicBezTo>
                  <a:pt x="297" y="2"/>
                  <a:pt x="292" y="2"/>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7" y="1"/>
                  <a:pt x="287" y="1"/>
                  <a:pt x="287"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6" y="1"/>
                  <a:pt x="286" y="1"/>
                  <a:pt x="286" y="1"/>
                </a:cubicBezTo>
                <a:cubicBezTo>
                  <a:pt x="285" y="1"/>
                  <a:pt x="284" y="1"/>
                  <a:pt x="283" y="1"/>
                </a:cubicBezTo>
                <a:close/>
                <a:moveTo>
                  <a:pt x="261" y="0"/>
                </a:moveTo>
                <a:cubicBezTo>
                  <a:pt x="261" y="4"/>
                  <a:pt x="261" y="4"/>
                  <a:pt x="261" y="4"/>
                </a:cubicBezTo>
                <a:cubicBezTo>
                  <a:pt x="263" y="4"/>
                  <a:pt x="263" y="4"/>
                  <a:pt x="263" y="4"/>
                </a:cubicBezTo>
                <a:cubicBezTo>
                  <a:pt x="263" y="0"/>
                  <a:pt x="263" y="0"/>
                  <a:pt x="263" y="0"/>
                </a:cubicBezTo>
                <a:cubicBezTo>
                  <a:pt x="263" y="0"/>
                  <a:pt x="263" y="0"/>
                  <a:pt x="263" y="0"/>
                </a:cubicBezTo>
                <a:cubicBezTo>
                  <a:pt x="263" y="0"/>
                  <a:pt x="263" y="0"/>
                  <a:pt x="263" y="0"/>
                </a:cubicBezTo>
                <a:cubicBezTo>
                  <a:pt x="263" y="0"/>
                  <a:pt x="263" y="0"/>
                  <a:pt x="263" y="0"/>
                </a:cubicBezTo>
                <a:cubicBezTo>
                  <a:pt x="263" y="0"/>
                  <a:pt x="263" y="0"/>
                  <a:pt x="263" y="0"/>
                </a:cubicBezTo>
                <a:cubicBezTo>
                  <a:pt x="263"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2" y="0"/>
                  <a:pt x="262" y="0"/>
                </a:cubicBezTo>
                <a:cubicBezTo>
                  <a:pt x="262"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ubicBezTo>
                  <a:pt x="261" y="0"/>
                  <a:pt x="261" y="0"/>
                  <a:pt x="261" y="0"/>
                </a:cubicBezTo>
                <a:close/>
              </a:path>
            </a:pathLst>
          </a:custGeom>
          <a:solidFill>
            <a:srgbClr val="d6d7d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0" name="Freeform 1037"/>
          <p:cNvSpPr/>
          <p:nvPr/>
        </p:nvSpPr>
        <p:spPr>
          <a:xfrm>
            <a:off x="3208320" y="4327560"/>
            <a:ext cx="8109000" cy="8113680"/>
          </a:xfrm>
          <a:custGeom>
            <a:avLst/>
            <a:gdLst/>
            <a:ahLst/>
            <a:rect l="l" t="t" r="r" b="b"/>
            <a:pathLst>
              <a:path w="842" h="842">
                <a:moveTo>
                  <a:pt x="421" y="842"/>
                </a:moveTo>
                <a:cubicBezTo>
                  <a:pt x="189" y="842"/>
                  <a:pt x="0" y="653"/>
                  <a:pt x="0" y="421"/>
                </a:cubicBezTo>
                <a:cubicBezTo>
                  <a:pt x="0" y="309"/>
                  <a:pt x="44" y="203"/>
                  <a:pt x="124" y="124"/>
                </a:cubicBezTo>
                <a:cubicBezTo>
                  <a:pt x="203" y="44"/>
                  <a:pt x="309" y="0"/>
                  <a:pt x="421" y="0"/>
                </a:cubicBezTo>
                <a:cubicBezTo>
                  <a:pt x="421" y="0"/>
                  <a:pt x="421" y="0"/>
                  <a:pt x="421" y="0"/>
                </a:cubicBezTo>
                <a:cubicBezTo>
                  <a:pt x="653" y="0"/>
                  <a:pt x="842" y="189"/>
                  <a:pt x="842" y="421"/>
                </a:cubicBezTo>
                <a:cubicBezTo>
                  <a:pt x="802" y="421"/>
                  <a:pt x="802" y="421"/>
                  <a:pt x="802" y="421"/>
                </a:cubicBezTo>
                <a:cubicBezTo>
                  <a:pt x="802" y="211"/>
                  <a:pt x="631" y="40"/>
                  <a:pt x="421" y="40"/>
                </a:cubicBezTo>
                <a:cubicBezTo>
                  <a:pt x="319" y="40"/>
                  <a:pt x="224" y="80"/>
                  <a:pt x="152" y="152"/>
                </a:cubicBezTo>
                <a:cubicBezTo>
                  <a:pt x="80" y="224"/>
                  <a:pt x="40" y="319"/>
                  <a:pt x="40" y="421"/>
                </a:cubicBezTo>
                <a:cubicBezTo>
                  <a:pt x="40" y="631"/>
                  <a:pt x="211" y="802"/>
                  <a:pt x="421" y="802"/>
                </a:cubicBezTo>
                <a:lnTo>
                  <a:pt x="421" y="842"/>
                </a:lnTo>
                <a:close/>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1" name="Freeform 1038"/>
          <p:cNvSpPr/>
          <p:nvPr/>
        </p:nvSpPr>
        <p:spPr>
          <a:xfrm>
            <a:off x="3718080" y="4842000"/>
            <a:ext cx="6933960" cy="7084800"/>
          </a:xfrm>
          <a:custGeom>
            <a:avLst/>
            <a:gdLst/>
            <a:ahLst/>
            <a:rect l="l" t="t" r="r" b="b"/>
            <a:pathLst>
              <a:path w="720" h="736">
                <a:moveTo>
                  <a:pt x="368" y="736"/>
                </a:moveTo>
                <a:cubicBezTo>
                  <a:pt x="165" y="736"/>
                  <a:pt x="0" y="571"/>
                  <a:pt x="0" y="368"/>
                </a:cubicBezTo>
                <a:cubicBezTo>
                  <a:pt x="0" y="270"/>
                  <a:pt x="38" y="177"/>
                  <a:pt x="108" y="108"/>
                </a:cubicBezTo>
                <a:cubicBezTo>
                  <a:pt x="177" y="38"/>
                  <a:pt x="270" y="0"/>
                  <a:pt x="368" y="0"/>
                </a:cubicBezTo>
                <a:cubicBezTo>
                  <a:pt x="368" y="0"/>
                  <a:pt x="368" y="0"/>
                  <a:pt x="368" y="0"/>
                </a:cubicBezTo>
                <a:cubicBezTo>
                  <a:pt x="448" y="0"/>
                  <a:pt x="524" y="25"/>
                  <a:pt x="588" y="73"/>
                </a:cubicBezTo>
                <a:cubicBezTo>
                  <a:pt x="650" y="119"/>
                  <a:pt x="697" y="184"/>
                  <a:pt x="720" y="258"/>
                </a:cubicBezTo>
                <a:cubicBezTo>
                  <a:pt x="681" y="270"/>
                  <a:pt x="681" y="270"/>
                  <a:pt x="681" y="270"/>
                </a:cubicBezTo>
                <a:cubicBezTo>
                  <a:pt x="638" y="132"/>
                  <a:pt x="512" y="40"/>
                  <a:pt x="368" y="40"/>
                </a:cubicBezTo>
                <a:cubicBezTo>
                  <a:pt x="280" y="40"/>
                  <a:pt x="198" y="74"/>
                  <a:pt x="136" y="136"/>
                </a:cubicBezTo>
                <a:cubicBezTo>
                  <a:pt x="74" y="198"/>
                  <a:pt x="40" y="280"/>
                  <a:pt x="40" y="368"/>
                </a:cubicBezTo>
                <a:cubicBezTo>
                  <a:pt x="40" y="549"/>
                  <a:pt x="187" y="696"/>
                  <a:pt x="368" y="696"/>
                </a:cubicBezTo>
                <a:lnTo>
                  <a:pt x="368" y="736"/>
                </a:lnTo>
                <a:close/>
              </a:path>
            </a:pathLst>
          </a:custGeom>
          <a:solidFill>
            <a:srgbClr val="5f5f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2" name="Freeform 1039"/>
          <p:cNvSpPr/>
          <p:nvPr/>
        </p:nvSpPr>
        <p:spPr>
          <a:xfrm>
            <a:off x="4219560" y="5338800"/>
            <a:ext cx="5014800" cy="6091200"/>
          </a:xfrm>
          <a:custGeom>
            <a:avLst/>
            <a:gdLst/>
            <a:ahLst/>
            <a:rect l="l" t="t" r="r" b="b"/>
            <a:pathLst>
              <a:path w="521" h="632">
                <a:moveTo>
                  <a:pt x="316" y="632"/>
                </a:moveTo>
                <a:cubicBezTo>
                  <a:pt x="142" y="632"/>
                  <a:pt x="0" y="490"/>
                  <a:pt x="0" y="316"/>
                </a:cubicBezTo>
                <a:cubicBezTo>
                  <a:pt x="0" y="232"/>
                  <a:pt x="33" y="152"/>
                  <a:pt x="93" y="93"/>
                </a:cubicBezTo>
                <a:cubicBezTo>
                  <a:pt x="152" y="33"/>
                  <a:pt x="232" y="0"/>
                  <a:pt x="316" y="0"/>
                </a:cubicBezTo>
                <a:cubicBezTo>
                  <a:pt x="316" y="0"/>
                  <a:pt x="316" y="0"/>
                  <a:pt x="316" y="0"/>
                </a:cubicBezTo>
                <a:cubicBezTo>
                  <a:pt x="391" y="0"/>
                  <a:pt x="464" y="27"/>
                  <a:pt x="521" y="75"/>
                </a:cubicBezTo>
                <a:cubicBezTo>
                  <a:pt x="495" y="106"/>
                  <a:pt x="495" y="106"/>
                  <a:pt x="495" y="106"/>
                </a:cubicBezTo>
                <a:cubicBezTo>
                  <a:pt x="445" y="63"/>
                  <a:pt x="382" y="40"/>
                  <a:pt x="316" y="40"/>
                </a:cubicBezTo>
                <a:cubicBezTo>
                  <a:pt x="242" y="40"/>
                  <a:pt x="173" y="69"/>
                  <a:pt x="121" y="121"/>
                </a:cubicBezTo>
                <a:cubicBezTo>
                  <a:pt x="69" y="173"/>
                  <a:pt x="40" y="242"/>
                  <a:pt x="40" y="316"/>
                </a:cubicBezTo>
                <a:cubicBezTo>
                  <a:pt x="40" y="468"/>
                  <a:pt x="164" y="592"/>
                  <a:pt x="316" y="592"/>
                </a:cubicBezTo>
                <a:lnTo>
                  <a:pt x="316" y="632"/>
                </a:lnTo>
                <a:close/>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3" name="Freeform 1040"/>
          <p:cNvSpPr/>
          <p:nvPr/>
        </p:nvSpPr>
        <p:spPr>
          <a:xfrm>
            <a:off x="4716360" y="5840280"/>
            <a:ext cx="2911680" cy="5088240"/>
          </a:xfrm>
          <a:custGeom>
            <a:avLst/>
            <a:gdLst/>
            <a:ahLst/>
            <a:rect l="l" t="t" r="r" b="b"/>
            <a:pathLst>
              <a:path w="302" h="528">
                <a:moveTo>
                  <a:pt x="264" y="528"/>
                </a:moveTo>
                <a:cubicBezTo>
                  <a:pt x="119" y="528"/>
                  <a:pt x="0" y="410"/>
                  <a:pt x="0" y="264"/>
                </a:cubicBezTo>
                <a:cubicBezTo>
                  <a:pt x="0" y="119"/>
                  <a:pt x="119" y="0"/>
                  <a:pt x="264" y="0"/>
                </a:cubicBezTo>
                <a:cubicBezTo>
                  <a:pt x="277" y="0"/>
                  <a:pt x="289" y="1"/>
                  <a:pt x="302" y="3"/>
                </a:cubicBezTo>
                <a:cubicBezTo>
                  <a:pt x="296" y="42"/>
                  <a:pt x="296" y="42"/>
                  <a:pt x="296" y="42"/>
                </a:cubicBezTo>
                <a:cubicBezTo>
                  <a:pt x="286" y="41"/>
                  <a:pt x="275" y="40"/>
                  <a:pt x="264" y="40"/>
                </a:cubicBezTo>
                <a:cubicBezTo>
                  <a:pt x="141" y="40"/>
                  <a:pt x="40" y="141"/>
                  <a:pt x="40" y="264"/>
                </a:cubicBezTo>
                <a:cubicBezTo>
                  <a:pt x="40" y="388"/>
                  <a:pt x="141" y="488"/>
                  <a:pt x="264" y="488"/>
                </a:cubicBezTo>
                <a:lnTo>
                  <a:pt x="264" y="528"/>
                </a:lnTo>
                <a:close/>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54" name="Rectangle 1117"/>
          <p:cNvSpPr/>
          <p:nvPr/>
        </p:nvSpPr>
        <p:spPr>
          <a:xfrm>
            <a:off x="12287160" y="4356000"/>
            <a:ext cx="4240440" cy="57960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5" name="Rectangle 1118"/>
          <p:cNvSpPr/>
          <p:nvPr/>
        </p:nvSpPr>
        <p:spPr>
          <a:xfrm>
            <a:off x="12287160" y="4356000"/>
            <a:ext cx="3273480" cy="579600"/>
          </a:xfrm>
          <a:prstGeom prst="rect">
            <a:avLst/>
          </a:prstGeom>
          <a:solidFill>
            <a:srgbClr val="4d4d4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6" name="Rectangle 1134"/>
          <p:cNvSpPr/>
          <p:nvPr/>
        </p:nvSpPr>
        <p:spPr>
          <a:xfrm>
            <a:off x="16909920" y="4356000"/>
            <a:ext cx="4240440" cy="57960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7" name="Rectangle 1135"/>
          <p:cNvSpPr/>
          <p:nvPr/>
        </p:nvSpPr>
        <p:spPr>
          <a:xfrm>
            <a:off x="16909920" y="4356000"/>
            <a:ext cx="2890800" cy="57960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8" name="Oval 1268"/>
          <p:cNvSpPr/>
          <p:nvPr/>
        </p:nvSpPr>
        <p:spPr>
          <a:xfrm>
            <a:off x="12328560" y="859644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59" name="Oval 1398"/>
          <p:cNvSpPr/>
          <p:nvPr/>
        </p:nvSpPr>
        <p:spPr>
          <a:xfrm>
            <a:off x="16951320" y="8596440"/>
            <a:ext cx="190440" cy="191880"/>
          </a:xfrm>
          <a:prstGeom prst="ellipse">
            <a:avLst/>
          </a:prstGeom>
          <a:solidFill>
            <a:srgbClr val="969696"/>
          </a:solidFill>
          <a:ln w="9360">
            <a:solidFill>
              <a:srgbClr val="969696"/>
            </a:solidFill>
            <a:miter/>
          </a:ln>
        </p:spPr>
        <p:style>
          <a:lnRef idx="0"/>
          <a:fillRef idx="0"/>
          <a:effectRef idx="0"/>
          <a:fontRef idx="minor"/>
        </p:style>
        <p:txBody>
          <a:bodyPr lIns="219600" rIns="219600" tIns="25920" bIns="2592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0" name="Rectangle 1399"/>
          <p:cNvSpPr/>
          <p:nvPr/>
        </p:nvSpPr>
        <p:spPr>
          <a:xfrm>
            <a:off x="12287160" y="7634160"/>
            <a:ext cx="4240440" cy="57492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1" name="Rectangle 1400"/>
          <p:cNvSpPr/>
          <p:nvPr/>
        </p:nvSpPr>
        <p:spPr>
          <a:xfrm>
            <a:off x="12287160" y="7634160"/>
            <a:ext cx="2698920" cy="574920"/>
          </a:xfrm>
          <a:prstGeom prst="rect">
            <a:avLst/>
          </a:prstGeom>
          <a:solidFill>
            <a:srgbClr val="969696"/>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2" name="Rectangle 1404"/>
          <p:cNvSpPr/>
          <p:nvPr/>
        </p:nvSpPr>
        <p:spPr>
          <a:xfrm>
            <a:off x="16909920" y="7634160"/>
            <a:ext cx="4240440" cy="574920"/>
          </a:xfrm>
          <a:prstGeom prst="rect">
            <a:avLst/>
          </a:prstGeom>
          <a:solidFill>
            <a:srgbClr val="999999"/>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3" name="Rectangle 1405"/>
          <p:cNvSpPr/>
          <p:nvPr/>
        </p:nvSpPr>
        <p:spPr>
          <a:xfrm>
            <a:off x="16909920" y="7634160"/>
            <a:ext cx="2119320" cy="574920"/>
          </a:xfrm>
          <a:prstGeom prst="rect">
            <a:avLst/>
          </a:prstGeom>
          <a:solidFill>
            <a:srgbClr val="5f5f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4" name="Rectangle 1409"/>
          <p:cNvSpPr/>
          <p:nvPr/>
        </p:nvSpPr>
        <p:spPr>
          <a:xfrm>
            <a:off x="14944680" y="7634160"/>
            <a:ext cx="77760" cy="57492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5" name="Rectangle 1410"/>
          <p:cNvSpPr/>
          <p:nvPr/>
        </p:nvSpPr>
        <p:spPr>
          <a:xfrm>
            <a:off x="19759680" y="4356000"/>
            <a:ext cx="77760" cy="57960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6" name="Rectangle 1411"/>
          <p:cNvSpPr/>
          <p:nvPr/>
        </p:nvSpPr>
        <p:spPr>
          <a:xfrm>
            <a:off x="18989640" y="7634160"/>
            <a:ext cx="77760" cy="57492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7" name="Rectangle 1412"/>
          <p:cNvSpPr/>
          <p:nvPr/>
        </p:nvSpPr>
        <p:spPr>
          <a:xfrm>
            <a:off x="19221480" y="12122280"/>
            <a:ext cx="1928880" cy="199800"/>
          </a:xfrm>
          <a:prstGeom prst="rect">
            <a:avLst/>
          </a:prstGeom>
          <a:solidFill>
            <a:srgbClr val="969696"/>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8" name="Rectangle 1413"/>
          <p:cNvSpPr/>
          <p:nvPr/>
        </p:nvSpPr>
        <p:spPr>
          <a:xfrm>
            <a:off x="17102160" y="12122280"/>
            <a:ext cx="2119320" cy="199800"/>
          </a:xfrm>
          <a:prstGeom prst="rect">
            <a:avLst/>
          </a:prstGeom>
          <a:solidFill>
            <a:srgbClr val="b2b2b2"/>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69" name="Rectangle 1414"/>
          <p:cNvSpPr/>
          <p:nvPr/>
        </p:nvSpPr>
        <p:spPr>
          <a:xfrm>
            <a:off x="14790600" y="12122280"/>
            <a:ext cx="2311560" cy="199800"/>
          </a:xfrm>
          <a:prstGeom prst="rect">
            <a:avLst/>
          </a:prstGeom>
          <a:solidFill>
            <a:srgbClr val="5f5f5f"/>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0" name="Rectangle 1415"/>
          <p:cNvSpPr/>
          <p:nvPr/>
        </p:nvSpPr>
        <p:spPr>
          <a:xfrm>
            <a:off x="12287160" y="12122280"/>
            <a:ext cx="2503440" cy="199800"/>
          </a:xfrm>
          <a:prstGeom prst="rect">
            <a:avLst/>
          </a:prstGeom>
          <a:solidFill>
            <a:srgbClr val="4d4d4d"/>
          </a:solidFill>
          <a:ln w="0">
            <a:noFill/>
          </a:ln>
        </p:spPr>
        <p:style>
          <a:lnRef idx="0"/>
          <a:fillRef idx="0"/>
          <a:effectRef idx="0"/>
          <a:fontRef idx="minor"/>
        </p:style>
        <p:txBody>
          <a:bodyPr lIns="219600" rIns="219600" tIns="90000" bIns="900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1" name="Freeform 1416"/>
          <p:cNvSpPr/>
          <p:nvPr/>
        </p:nvSpPr>
        <p:spPr>
          <a:xfrm>
            <a:off x="19991520" y="11947680"/>
            <a:ext cx="358560" cy="174600"/>
          </a:xfrm>
          <a:custGeom>
            <a:avLst/>
            <a:gdLst/>
            <a:ahLst/>
            <a:rect l="l" t="t" r="r" b="b"/>
            <a:pathLst>
              <a:path w="88" h="43">
                <a:moveTo>
                  <a:pt x="88" y="43"/>
                </a:moveTo>
                <a:lnTo>
                  <a:pt x="43" y="0"/>
                </a:lnTo>
                <a:lnTo>
                  <a:pt x="0" y="43"/>
                </a:lnTo>
                <a:lnTo>
                  <a:pt x="88" y="43"/>
                </a:lnTo>
                <a:close/>
              </a:path>
            </a:pathLst>
          </a:custGeom>
          <a:solidFill>
            <a:srgbClr val="969696"/>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2" name="Freeform 1417"/>
          <p:cNvSpPr/>
          <p:nvPr/>
        </p:nvSpPr>
        <p:spPr>
          <a:xfrm>
            <a:off x="17991000" y="11947680"/>
            <a:ext cx="354240" cy="174600"/>
          </a:xfrm>
          <a:custGeom>
            <a:avLst/>
            <a:gdLst/>
            <a:ahLst/>
            <a:rect l="l" t="t" r="r" b="b"/>
            <a:pathLst>
              <a:path w="87" h="43">
                <a:moveTo>
                  <a:pt x="87" y="43"/>
                </a:moveTo>
                <a:lnTo>
                  <a:pt x="42" y="0"/>
                </a:lnTo>
                <a:lnTo>
                  <a:pt x="0" y="43"/>
                </a:lnTo>
                <a:lnTo>
                  <a:pt x="87" y="43"/>
                </a:lnTo>
                <a:close/>
              </a:path>
            </a:pathLst>
          </a:custGeom>
          <a:solidFill>
            <a:srgbClr val="b2b2b2"/>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3" name="Freeform 1418"/>
          <p:cNvSpPr/>
          <p:nvPr/>
        </p:nvSpPr>
        <p:spPr>
          <a:xfrm>
            <a:off x="15784560" y="11947680"/>
            <a:ext cx="347760" cy="174600"/>
          </a:xfrm>
          <a:custGeom>
            <a:avLst/>
            <a:gdLst/>
            <a:ahLst/>
            <a:rect l="l" t="t" r="r" b="b"/>
            <a:pathLst>
              <a:path w="85" h="43">
                <a:moveTo>
                  <a:pt x="85" y="43"/>
                </a:moveTo>
                <a:lnTo>
                  <a:pt x="42" y="0"/>
                </a:lnTo>
                <a:lnTo>
                  <a:pt x="0" y="43"/>
                </a:lnTo>
                <a:lnTo>
                  <a:pt x="85" y="43"/>
                </a:lnTo>
                <a:close/>
              </a:path>
            </a:pathLst>
          </a:custGeom>
          <a:solidFill>
            <a:srgbClr val="5f5f5f"/>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4" name="Freeform 1419"/>
          <p:cNvSpPr/>
          <p:nvPr/>
        </p:nvSpPr>
        <p:spPr>
          <a:xfrm>
            <a:off x="13355640" y="11947680"/>
            <a:ext cx="358920" cy="174600"/>
          </a:xfrm>
          <a:custGeom>
            <a:avLst/>
            <a:gdLst/>
            <a:ahLst/>
            <a:rect l="l" t="t" r="r" b="b"/>
            <a:pathLst>
              <a:path w="88" h="43">
                <a:moveTo>
                  <a:pt x="88" y="43"/>
                </a:moveTo>
                <a:lnTo>
                  <a:pt x="45" y="0"/>
                </a:lnTo>
                <a:lnTo>
                  <a:pt x="0" y="43"/>
                </a:lnTo>
                <a:lnTo>
                  <a:pt x="88" y="43"/>
                </a:lnTo>
                <a:close/>
              </a:path>
            </a:pathLst>
          </a:custGeom>
          <a:solidFill>
            <a:srgbClr val="4d4d4d"/>
          </a:solidFill>
          <a:ln w="0">
            <a:noFill/>
          </a:ln>
        </p:spPr>
        <p:style>
          <a:lnRef idx="0"/>
          <a:fillRef idx="0"/>
          <a:effectRef idx="0"/>
          <a:fontRef idx="minor"/>
        </p:style>
        <p:txBody>
          <a:bodyPr lIns="219240" rIns="219240" tIns="65160" bIns="65160" anchor="t">
            <a:noAutofit/>
          </a:bodyPr>
          <a:p>
            <a:endParaRPr b="0" lang="en-US" sz="3500" spc="-1" strike="noStrike">
              <a:solidFill>
                <a:srgbClr val="000000"/>
              </a:solidFill>
              <a:latin typeface="Open Sans Light"/>
            </a:endParaRPr>
          </a:p>
        </p:txBody>
      </p:sp>
      <p:sp>
        <p:nvSpPr>
          <p:cNvPr id="2575" name="Rectangle 1420"/>
          <p:cNvSpPr/>
          <p:nvPr/>
        </p:nvSpPr>
        <p:spPr>
          <a:xfrm>
            <a:off x="15524280" y="4356000"/>
            <a:ext cx="77760" cy="579600"/>
          </a:xfrm>
          <a:prstGeom prst="rect">
            <a:avLst/>
          </a:prstGeom>
          <a:solidFill>
            <a:srgbClr val="f2f1f0"/>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576"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CIRCLE INFOGRAPHICS</a:t>
            </a:r>
            <a:endParaRPr b="0" lang="en-US" sz="6600" spc="-1" strike="noStrike">
              <a:solidFill>
                <a:srgbClr val="000000"/>
              </a:solidFill>
              <a:latin typeface="Open Sans Light"/>
            </a:endParaRPr>
          </a:p>
        </p:txBody>
      </p:sp>
      <p:sp>
        <p:nvSpPr>
          <p:cNvPr id="2577" name="Rectangle 1421"/>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578" name="TextBox 1428"/>
          <p:cNvSpPr/>
          <p:nvPr/>
        </p:nvSpPr>
        <p:spPr>
          <a:xfrm>
            <a:off x="12920760" y="44384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75%</a:t>
            </a:r>
            <a:endParaRPr b="0" lang="en-US" sz="2800" spc="-1" strike="noStrike">
              <a:solidFill>
                <a:srgbClr val="000000"/>
              </a:solidFill>
              <a:latin typeface="Open Sans Light"/>
            </a:endParaRPr>
          </a:p>
        </p:txBody>
      </p:sp>
      <p:sp>
        <p:nvSpPr>
          <p:cNvPr id="2579" name="TextBox 1429"/>
          <p:cNvSpPr/>
          <p:nvPr/>
        </p:nvSpPr>
        <p:spPr>
          <a:xfrm>
            <a:off x="17514720" y="4438440"/>
            <a:ext cx="109728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68%</a:t>
            </a:r>
            <a:endParaRPr b="0" lang="en-US" sz="2800" spc="-1" strike="noStrike">
              <a:solidFill>
                <a:srgbClr val="000000"/>
              </a:solidFill>
              <a:latin typeface="Open Sans Light"/>
            </a:endParaRPr>
          </a:p>
        </p:txBody>
      </p:sp>
      <p:sp>
        <p:nvSpPr>
          <p:cNvPr id="2580" name="TextBox 1430"/>
          <p:cNvSpPr/>
          <p:nvPr/>
        </p:nvSpPr>
        <p:spPr>
          <a:xfrm>
            <a:off x="12920760" y="77072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60%</a:t>
            </a:r>
            <a:endParaRPr b="0" lang="en-US" sz="2800" spc="-1" strike="noStrike">
              <a:solidFill>
                <a:srgbClr val="000000"/>
              </a:solidFill>
              <a:latin typeface="Open Sans Light"/>
            </a:endParaRPr>
          </a:p>
        </p:txBody>
      </p:sp>
      <p:sp>
        <p:nvSpPr>
          <p:cNvPr id="2581" name="TextBox 1431"/>
          <p:cNvSpPr/>
          <p:nvPr/>
        </p:nvSpPr>
        <p:spPr>
          <a:xfrm>
            <a:off x="17492760" y="7707240"/>
            <a:ext cx="109692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ffffff"/>
                </a:solidFill>
                <a:latin typeface="Montserrat Semi Bold"/>
              </a:rPr>
              <a:t>52%</a:t>
            </a:r>
            <a:endParaRPr b="0" lang="en-US" sz="2800" spc="-1" strike="noStrike">
              <a:solidFill>
                <a:srgbClr val="000000"/>
              </a:solidFill>
              <a:latin typeface="Open Sans Light"/>
            </a:endParaRPr>
          </a:p>
        </p:txBody>
      </p:sp>
      <p:sp>
        <p:nvSpPr>
          <p:cNvPr id="2582" name="TextBox 1432"/>
          <p:cNvSpPr/>
          <p:nvPr/>
        </p:nvSpPr>
        <p:spPr>
          <a:xfrm>
            <a:off x="13239720" y="11420280"/>
            <a:ext cx="786456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800" spc="-1" strike="noStrike">
                <a:solidFill>
                  <a:srgbClr val="7f7f7f"/>
                </a:solidFill>
                <a:latin typeface="Montserrat Semi Bold"/>
              </a:rPr>
              <a:t>75%                68%                60%             52%</a:t>
            </a:r>
            <a:endParaRPr b="0" lang="en-US" sz="2800" spc="-1" strike="noStrike">
              <a:solidFill>
                <a:srgbClr val="000000"/>
              </a:solidFill>
              <a:latin typeface="Open Sans Light"/>
            </a:endParaRPr>
          </a:p>
        </p:txBody>
      </p:sp>
      <p:sp>
        <p:nvSpPr>
          <p:cNvPr id="2583" name="TextBox 1433"/>
          <p:cNvSpPr/>
          <p:nvPr/>
        </p:nvSpPr>
        <p:spPr>
          <a:xfrm>
            <a:off x="12371400" y="12524760"/>
            <a:ext cx="8778960" cy="366120"/>
          </a:xfrm>
          <a:prstGeom prst="rect">
            <a:avLst/>
          </a:prstGeom>
          <a:noFill/>
          <a:ln w="0">
            <a:noFill/>
          </a:ln>
        </p:spPr>
        <p:style>
          <a:lnRef idx="0"/>
          <a:fillRef idx="0"/>
          <a:effectRef idx="0"/>
          <a:fontRef idx="minor"/>
        </p:style>
        <p:txBody>
          <a:bodyPr lIns="0" rIns="0" tIns="0" bIns="0" anchor="ctr">
            <a:spAutoFit/>
          </a:bodyPr>
          <a:p>
            <a:pPr>
              <a:tabLst>
                <a:tab algn="l" pos="0"/>
                <a:tab algn="l" pos="1827360"/>
                <a:tab algn="l" pos="3654360"/>
                <a:tab algn="l" pos="5481720"/>
                <a:tab algn="l" pos="7308720"/>
                <a:tab algn="l" pos="9136080"/>
                <a:tab algn="l" pos="10963440"/>
              </a:tabLst>
            </a:pPr>
            <a:r>
              <a:rPr b="1" lang="en-US" sz="2400" spc="-1" strike="noStrike">
                <a:solidFill>
                  <a:srgbClr val="7f7f7f"/>
                </a:solidFill>
                <a:latin typeface="Open Sans Light"/>
              </a:rPr>
              <a:t>OPTION 1              OPTION 2          OPTION 3        OPTION 4</a:t>
            </a:r>
            <a:endParaRPr b="0" lang="en-US" sz="2400" spc="-1" strike="noStrike">
              <a:solidFill>
                <a:srgbClr val="000000"/>
              </a:solidFill>
              <a:latin typeface="Open Sans Light"/>
            </a:endParaRPr>
          </a:p>
        </p:txBody>
      </p:sp>
      <p:sp>
        <p:nvSpPr>
          <p:cNvPr id="2584" name="TextBox 1434"/>
          <p:cNvSpPr/>
          <p:nvPr/>
        </p:nvSpPr>
        <p:spPr>
          <a:xfrm>
            <a:off x="12738240" y="5236560"/>
            <a:ext cx="3290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5" name="TextBox 1435"/>
          <p:cNvSpPr/>
          <p:nvPr/>
        </p:nvSpPr>
        <p:spPr>
          <a:xfrm>
            <a:off x="17354520" y="5236560"/>
            <a:ext cx="3292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6" name="TextBox 1436"/>
          <p:cNvSpPr/>
          <p:nvPr/>
        </p:nvSpPr>
        <p:spPr>
          <a:xfrm>
            <a:off x="12738240" y="8482320"/>
            <a:ext cx="3290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7" name="TextBox 1437"/>
          <p:cNvSpPr/>
          <p:nvPr/>
        </p:nvSpPr>
        <p:spPr>
          <a:xfrm>
            <a:off x="17354520" y="8482320"/>
            <a:ext cx="3292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Montserrat Semi Bold"/>
              </a:rPr>
              <a:t>AWESOME QUALITY</a:t>
            </a:r>
            <a:endParaRPr b="0" lang="en-US" sz="2400" spc="-1" strike="noStrike">
              <a:solidFill>
                <a:srgbClr val="000000"/>
              </a:solidFill>
              <a:latin typeface="Open Sans Light"/>
            </a:endParaRPr>
          </a:p>
        </p:txBody>
      </p:sp>
      <p:sp>
        <p:nvSpPr>
          <p:cNvPr id="2588" name="Subtitle 2"/>
          <p:cNvSpPr/>
          <p:nvPr/>
        </p:nvSpPr>
        <p:spPr>
          <a:xfrm>
            <a:off x="12166560" y="57150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89" name="Subtitle 2"/>
          <p:cNvSpPr/>
          <p:nvPr/>
        </p:nvSpPr>
        <p:spPr>
          <a:xfrm>
            <a:off x="16738560" y="57150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0" name="Subtitle 2"/>
          <p:cNvSpPr/>
          <p:nvPr/>
        </p:nvSpPr>
        <p:spPr>
          <a:xfrm>
            <a:off x="12166560" y="89838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1" name="Subtitle 2"/>
          <p:cNvSpPr/>
          <p:nvPr/>
        </p:nvSpPr>
        <p:spPr>
          <a:xfrm>
            <a:off x="16738560" y="898380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592" name="TextBox 1442"/>
          <p:cNvSpPr/>
          <p:nvPr/>
        </p:nvSpPr>
        <p:spPr>
          <a:xfrm>
            <a:off x="7684920" y="6128640"/>
            <a:ext cx="109728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52%</a:t>
            </a:r>
            <a:endParaRPr b="0" lang="en-US" sz="1900" spc="-1" strike="noStrike">
              <a:solidFill>
                <a:srgbClr val="000000"/>
              </a:solidFill>
              <a:latin typeface="Open Sans Light"/>
            </a:endParaRPr>
          </a:p>
        </p:txBody>
      </p:sp>
      <p:sp>
        <p:nvSpPr>
          <p:cNvPr id="2593" name="TextBox 1443"/>
          <p:cNvSpPr/>
          <p:nvPr/>
        </p:nvSpPr>
        <p:spPr>
          <a:xfrm>
            <a:off x="8896320" y="6449400"/>
            <a:ext cx="109872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60%</a:t>
            </a:r>
            <a:endParaRPr b="0" lang="en-US" sz="1900" spc="-1" strike="noStrike">
              <a:solidFill>
                <a:srgbClr val="000000"/>
              </a:solidFill>
              <a:latin typeface="Open Sans Light"/>
            </a:endParaRPr>
          </a:p>
        </p:txBody>
      </p:sp>
      <p:sp>
        <p:nvSpPr>
          <p:cNvPr id="2594" name="TextBox 1444"/>
          <p:cNvSpPr/>
          <p:nvPr/>
        </p:nvSpPr>
        <p:spPr>
          <a:xfrm>
            <a:off x="10153800" y="7524000"/>
            <a:ext cx="109836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68%</a:t>
            </a:r>
            <a:endParaRPr b="0" lang="en-US" sz="1900" spc="-1" strike="noStrike">
              <a:solidFill>
                <a:srgbClr val="000000"/>
              </a:solidFill>
              <a:latin typeface="Open Sans Light"/>
            </a:endParaRPr>
          </a:p>
        </p:txBody>
      </p:sp>
      <p:sp>
        <p:nvSpPr>
          <p:cNvPr id="2595" name="TextBox 1445"/>
          <p:cNvSpPr/>
          <p:nvPr/>
        </p:nvSpPr>
        <p:spPr>
          <a:xfrm>
            <a:off x="10634760" y="8460720"/>
            <a:ext cx="1096920" cy="2898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1827360"/>
                <a:tab algn="l" pos="3654360"/>
                <a:tab algn="l" pos="5481720"/>
                <a:tab algn="l" pos="7308720"/>
                <a:tab algn="l" pos="9136080"/>
                <a:tab algn="l" pos="10963440"/>
              </a:tabLst>
            </a:pPr>
            <a:r>
              <a:rPr b="1" lang="en-US" sz="1900" spc="-1" strike="noStrike">
                <a:solidFill>
                  <a:srgbClr val="a6a6a6"/>
                </a:solidFill>
                <a:latin typeface="Montserrat Semi Bold"/>
              </a:rPr>
              <a:t>75%</a:t>
            </a:r>
            <a:endParaRPr b="0" lang="en-US" sz="1900" spc="-1" strike="noStrike">
              <a:solidFill>
                <a:srgbClr val="000000"/>
              </a:solidFill>
              <a:latin typeface="Open Sans Light"/>
            </a:endParaRPr>
          </a:p>
        </p:txBody>
      </p:sp>
      <p:sp>
        <p:nvSpPr>
          <p:cNvPr id="2596" name="TextBox 1446"/>
          <p:cNvSpPr/>
          <p:nvPr/>
        </p:nvSpPr>
        <p:spPr>
          <a:xfrm>
            <a:off x="7388280" y="10504440"/>
            <a:ext cx="1439640" cy="1918440"/>
          </a:xfrm>
          <a:prstGeom prst="rect">
            <a:avLst/>
          </a:prstGeom>
          <a:noFill/>
          <a:ln w="0">
            <a:noFill/>
          </a:ln>
        </p:spPr>
        <p:style>
          <a:lnRef idx="0"/>
          <a:fillRef idx="0"/>
          <a:effectRef idx="0"/>
          <a:fontRef idx="minor"/>
        </p:style>
        <p:txBody>
          <a:bodyPr lIns="0" rIns="0" tIns="0" bIns="0" anchor="t">
            <a:spAutoFit/>
          </a:bodyPr>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1</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2</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3</a:t>
            </a:r>
            <a:endParaRPr b="0" lang="en-US" sz="1900" spc="-1" strike="noStrike">
              <a:solidFill>
                <a:srgbClr val="000000"/>
              </a:solidFill>
              <a:latin typeface="Open Sans Light"/>
            </a:endParaRPr>
          </a:p>
          <a:p>
            <a:pPr>
              <a:lnSpc>
                <a:spcPct val="150000"/>
              </a:lnSpc>
              <a:spcAft>
                <a:spcPts val="476"/>
              </a:spcAft>
              <a:tabLst>
                <a:tab algn="l" pos="0"/>
                <a:tab algn="l" pos="1827360"/>
                <a:tab algn="l" pos="3654360"/>
                <a:tab algn="l" pos="5481720"/>
                <a:tab algn="l" pos="7308720"/>
                <a:tab algn="l" pos="9136080"/>
                <a:tab algn="l" pos="10963440"/>
              </a:tabLst>
            </a:pPr>
            <a:r>
              <a:rPr b="1" lang="en-US" sz="1900" spc="-1" strike="noStrike">
                <a:solidFill>
                  <a:srgbClr val="7f7f7f"/>
                </a:solidFill>
                <a:latin typeface="Open Sans Light"/>
              </a:rPr>
              <a:t>OPTION 4</a:t>
            </a:r>
            <a:endParaRPr b="0" lang="en-US" sz="1900" spc="-1" strike="noStrike">
              <a:solidFill>
                <a:srgbClr val="000000"/>
              </a:solidFill>
              <a:latin typeface="Open Sans Light"/>
            </a:endParaRPr>
          </a:p>
        </p:txBody>
      </p:sp>
      <p:pic>
        <p:nvPicPr>
          <p:cNvPr id="2597" name="Group 60"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9">
                                  <p:stCondLst>
                                    <p:cond delay="0"/>
                                  </p:stCondLst>
                                  <p:childTnLst>
                                    <p:set>
                                      <p:cBhvr>
                                        <p:cTn id="408" dur="1" fill="hold">
                                          <p:stCondLst>
                                            <p:cond delay="0"/>
                                          </p:stCondLst>
                                        </p:cTn>
                                        <p:tgtEl>
                                          <p:spTgt spid="2588"/>
                                        </p:tgtEl>
                                        <p:attrNameLst>
                                          <p:attrName>style.visibility</p:attrName>
                                        </p:attrNameLst>
                                      </p:cBhvr>
                                      <p:to>
                                        <p:strVal val="visible"/>
                                      </p:to>
                                    </p:set>
                                    <p:animEffect filter="dissolve" transition="in">
                                      <p:cBhvr additive="repl">
                                        <p:cTn id="409" dur="500"/>
                                        <p:tgtEl>
                                          <p:spTgt spid="2588"/>
                                        </p:tgtEl>
                                      </p:cBhvr>
                                    </p:animEffect>
                                  </p:childTnLst>
                                </p:cTn>
                              </p:par>
                            </p:childTnLst>
                          </p:cTn>
                        </p:par>
                        <p:par>
                          <p:cTn id="410" fill="hold">
                            <p:stCondLst>
                              <p:cond delay="500"/>
                            </p:stCondLst>
                            <p:childTnLst>
                              <p:par>
                                <p:cTn id="411" nodeType="afterEffect" fill="hold" presetClass="entr" presetID="9">
                                  <p:stCondLst>
                                    <p:cond delay="0"/>
                                  </p:stCondLst>
                                  <p:childTnLst>
                                    <p:set>
                                      <p:cBhvr>
                                        <p:cTn id="412" dur="1" fill="hold">
                                          <p:stCondLst>
                                            <p:cond delay="0"/>
                                          </p:stCondLst>
                                        </p:cTn>
                                        <p:tgtEl>
                                          <p:spTgt spid="2589"/>
                                        </p:tgtEl>
                                        <p:attrNameLst>
                                          <p:attrName>style.visibility</p:attrName>
                                        </p:attrNameLst>
                                      </p:cBhvr>
                                      <p:to>
                                        <p:strVal val="visible"/>
                                      </p:to>
                                    </p:set>
                                    <p:animEffect filter="dissolve" transition="in">
                                      <p:cBhvr additive="repl">
                                        <p:cTn id="413" dur="500"/>
                                        <p:tgtEl>
                                          <p:spTgt spid="2589"/>
                                        </p:tgtEl>
                                      </p:cBhvr>
                                    </p:animEffect>
                                  </p:childTnLst>
                                </p:cTn>
                              </p:par>
                            </p:childTnLst>
                          </p:cTn>
                        </p:par>
                        <p:par>
                          <p:cTn id="414" fill="hold">
                            <p:stCondLst>
                              <p:cond delay="1000"/>
                            </p:stCondLst>
                            <p:childTnLst>
                              <p:par>
                                <p:cTn id="415" nodeType="afterEffect" fill="hold" presetClass="entr" presetID="9">
                                  <p:stCondLst>
                                    <p:cond delay="0"/>
                                  </p:stCondLst>
                                  <p:childTnLst>
                                    <p:set>
                                      <p:cBhvr>
                                        <p:cTn id="416" dur="1" fill="hold">
                                          <p:stCondLst>
                                            <p:cond delay="0"/>
                                          </p:stCondLst>
                                        </p:cTn>
                                        <p:tgtEl>
                                          <p:spTgt spid="2590"/>
                                        </p:tgtEl>
                                        <p:attrNameLst>
                                          <p:attrName>style.visibility</p:attrName>
                                        </p:attrNameLst>
                                      </p:cBhvr>
                                      <p:to>
                                        <p:strVal val="visible"/>
                                      </p:to>
                                    </p:set>
                                    <p:animEffect filter="dissolve" transition="in">
                                      <p:cBhvr additive="repl">
                                        <p:cTn id="417" dur="500"/>
                                        <p:tgtEl>
                                          <p:spTgt spid="2590"/>
                                        </p:tgtEl>
                                      </p:cBhvr>
                                    </p:animEffect>
                                  </p:childTnLst>
                                </p:cTn>
                              </p:par>
                            </p:childTnLst>
                          </p:cTn>
                        </p:par>
                        <p:par>
                          <p:cTn id="418" fill="hold">
                            <p:stCondLst>
                              <p:cond delay="1500"/>
                            </p:stCondLst>
                            <p:childTnLst>
                              <p:par>
                                <p:cTn id="419" nodeType="afterEffect" fill="hold" presetClass="entr" presetID="9">
                                  <p:stCondLst>
                                    <p:cond delay="0"/>
                                  </p:stCondLst>
                                  <p:childTnLst>
                                    <p:set>
                                      <p:cBhvr>
                                        <p:cTn id="420" dur="1" fill="hold">
                                          <p:stCondLst>
                                            <p:cond delay="0"/>
                                          </p:stCondLst>
                                        </p:cTn>
                                        <p:tgtEl>
                                          <p:spTgt spid="2591"/>
                                        </p:tgtEl>
                                        <p:attrNameLst>
                                          <p:attrName>style.visibility</p:attrName>
                                        </p:attrNameLst>
                                      </p:cBhvr>
                                      <p:to>
                                        <p:strVal val="visible"/>
                                      </p:to>
                                    </p:set>
                                    <p:animEffect filter="dissolve" transition="in">
                                      <p:cBhvr additive="repl">
                                        <p:cTn id="421" dur="500"/>
                                        <p:tgtEl>
                                          <p:spTgt spid="2591"/>
                                        </p:tgtEl>
                                      </p:cBhvr>
                                    </p:animEffect>
                                  </p:childTnLst>
                                </p:cTn>
                              </p:par>
                            </p:childTnLst>
                          </p:cTn>
                        </p:par>
                        <p:par>
                          <p:cTn id="422" fill="hold">
                            <p:stCondLst>
                              <p:cond delay="2000"/>
                            </p:stCondLst>
                            <p:childTnLst>
                              <p:par>
                                <p:cTn id="423" nodeType="afterEffect" fill="hold" presetClass="entr" presetID="49">
                                  <p:stCondLst>
                                    <p:cond delay="0"/>
                                  </p:stCondLst>
                                  <p:childTnLst>
                                    <p:set>
                                      <p:cBhvr>
                                        <p:cTn id="424" dur="1" fill="hold">
                                          <p:stCondLst>
                                            <p:cond delay="0"/>
                                          </p:stCondLst>
                                        </p:cTn>
                                        <p:tgtEl>
                                          <p:spTgt spid="2597"/>
                                        </p:tgtEl>
                                        <p:attrNameLst>
                                          <p:attrName>style.visibility</p:attrName>
                                        </p:attrNameLst>
                                      </p:cBhvr>
                                      <p:to>
                                        <p:strVal val="visible"/>
                                      </p:to>
                                    </p:set>
                                    <p:anim calcmode="lin" valueType="num">
                                      <p:cBhvr additive="repl">
                                        <p:cTn id="425" dur="500" fill="hold"/>
                                        <p:tgtEl>
                                          <p:spTgt spid="2597"/>
                                        </p:tgtEl>
                                        <p:attrNameLst>
                                          <p:attrName>ppt_w</p:attrName>
                                        </p:attrNameLst>
                                      </p:cBhvr>
                                      <p:tavLst>
                                        <p:tav tm="0">
                                          <p:val>
                                            <p:fltVal val="0"/>
                                          </p:val>
                                        </p:tav>
                                        <p:tav tm="100000">
                                          <p:val>
                                            <p:strVal val="#ppt_w"/>
                                          </p:val>
                                        </p:tav>
                                      </p:tavLst>
                                    </p:anim>
                                    <p:anim calcmode="lin" valueType="num">
                                      <p:cBhvr additive="repl">
                                        <p:cTn id="426" dur="500" fill="hold"/>
                                        <p:tgtEl>
                                          <p:spTgt spid="2597"/>
                                        </p:tgtEl>
                                        <p:attrNameLst>
                                          <p:attrName>ppt_h</p:attrName>
                                        </p:attrNameLst>
                                      </p:cBhvr>
                                      <p:tavLst>
                                        <p:tav tm="0">
                                          <p:val>
                                            <p:fltVal val="0"/>
                                          </p:val>
                                        </p:tav>
                                        <p:tav tm="100000">
                                          <p:val>
                                            <p:strVal val="#ppt_h"/>
                                          </p:val>
                                        </p:tav>
                                      </p:tavLst>
                                    </p:anim>
                                    <p:anim calcmode="lin" valueType="num">
                                      <p:cBhvr additive="repl">
                                        <p:cTn id="427" dur="500" fill="hold"/>
                                        <p:tgtEl>
                                          <p:spTgt spid="2597"/>
                                        </p:tgtEl>
                                        <p:attrNameLst>
                                          <p:attrName>r</p:attrName>
                                        </p:attrNameLst>
                                      </p:cBhvr>
                                      <p:tavLst>
                                        <p:tav tm="0">
                                          <p:val>
                                            <p:strVal val="360"/>
                                          </p:val>
                                        </p:tav>
                                        <p:tav tm="100000">
                                          <p:val>
                                            <p:strVal val="0"/>
                                          </p:val>
                                        </p:tav>
                                      </p:tavLst>
                                    </p:anim>
                                    <p:animEffect filter="fade" transition="in">
                                      <p:cBhvr additive="repl">
                                        <p:cTn id="428" dur="500"/>
                                        <p:tgtEl>
                                          <p:spTgt spid="2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Freeform 204"/>
          <p:cNvSpPr/>
          <p:nvPr/>
        </p:nvSpPr>
        <p:spPr>
          <a:xfrm>
            <a:off x="7513560" y="5027760"/>
            <a:ext cx="4689720" cy="3481200"/>
          </a:xfrm>
          <a:custGeom>
            <a:avLst/>
            <a:gdLst/>
            <a:ahLst/>
            <a:rect l="l" t="t" r="r" b="b"/>
            <a:pathLst>
              <a:path w="539" h="400">
                <a:moveTo>
                  <a:pt x="329" y="0"/>
                </a:moveTo>
                <a:cubicBezTo>
                  <a:pt x="225" y="0"/>
                  <a:pt x="140" y="75"/>
                  <a:pt x="123" y="173"/>
                </a:cubicBezTo>
                <a:cubicBezTo>
                  <a:pt x="122" y="173"/>
                  <a:pt x="121" y="173"/>
                  <a:pt x="120" y="173"/>
                </a:cubicBezTo>
                <a:cubicBezTo>
                  <a:pt x="54" y="173"/>
                  <a:pt x="0" y="228"/>
                  <a:pt x="0" y="294"/>
                </a:cubicBezTo>
                <a:cubicBezTo>
                  <a:pt x="0" y="336"/>
                  <a:pt x="23" y="377"/>
                  <a:pt x="56" y="400"/>
                </a:cubicBezTo>
                <a:cubicBezTo>
                  <a:pt x="56" y="397"/>
                  <a:pt x="55" y="394"/>
                  <a:pt x="55" y="391"/>
                </a:cubicBezTo>
                <a:cubicBezTo>
                  <a:pt x="55" y="353"/>
                  <a:pt x="86" y="321"/>
                  <a:pt x="125" y="321"/>
                </a:cubicBezTo>
                <a:cubicBezTo>
                  <a:pt x="125" y="321"/>
                  <a:pt x="126" y="321"/>
                  <a:pt x="127" y="321"/>
                </a:cubicBezTo>
                <a:cubicBezTo>
                  <a:pt x="136" y="264"/>
                  <a:pt x="186" y="220"/>
                  <a:pt x="246" y="220"/>
                </a:cubicBezTo>
                <a:cubicBezTo>
                  <a:pt x="274" y="220"/>
                  <a:pt x="300" y="230"/>
                  <a:pt x="321" y="246"/>
                </a:cubicBezTo>
                <a:cubicBezTo>
                  <a:pt x="351" y="212"/>
                  <a:pt x="405" y="190"/>
                  <a:pt x="494" y="189"/>
                </a:cubicBezTo>
                <a:cubicBezTo>
                  <a:pt x="501" y="162"/>
                  <a:pt x="517" y="138"/>
                  <a:pt x="539" y="123"/>
                </a:cubicBezTo>
                <a:cubicBezTo>
                  <a:pt x="532" y="121"/>
                  <a:pt x="525" y="120"/>
                  <a:pt x="517" y="120"/>
                </a:cubicBezTo>
                <a:cubicBezTo>
                  <a:pt x="484" y="49"/>
                  <a:pt x="412" y="0"/>
                  <a:pt x="329" y="0"/>
                </a:cubicBezTo>
              </a:path>
            </a:pathLst>
          </a:custGeom>
          <a:solidFill>
            <a:srgbClr val="e5e5e5"/>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599" name="Freeform 205"/>
          <p:cNvSpPr/>
          <p:nvPr/>
        </p:nvSpPr>
        <p:spPr>
          <a:xfrm>
            <a:off x="12203280" y="4540320"/>
            <a:ext cx="4822560" cy="3349440"/>
          </a:xfrm>
          <a:custGeom>
            <a:avLst/>
            <a:gdLst/>
            <a:ahLst/>
            <a:rect l="l" t="t" r="r" b="b"/>
            <a:pathLst>
              <a:path w="554" h="385">
                <a:moveTo>
                  <a:pt x="253" y="0"/>
                </a:moveTo>
                <a:cubicBezTo>
                  <a:pt x="162" y="0"/>
                  <a:pt x="85" y="65"/>
                  <a:pt x="67" y="151"/>
                </a:cubicBezTo>
                <a:cubicBezTo>
                  <a:pt x="74" y="155"/>
                  <a:pt x="82" y="159"/>
                  <a:pt x="89" y="163"/>
                </a:cubicBezTo>
                <a:cubicBezTo>
                  <a:pt x="86" y="168"/>
                  <a:pt x="86" y="168"/>
                  <a:pt x="86" y="168"/>
                </a:cubicBezTo>
                <a:cubicBezTo>
                  <a:pt x="80" y="164"/>
                  <a:pt x="73" y="160"/>
                  <a:pt x="65" y="157"/>
                </a:cubicBezTo>
                <a:cubicBezTo>
                  <a:pt x="65" y="158"/>
                  <a:pt x="65" y="158"/>
                  <a:pt x="65" y="159"/>
                </a:cubicBezTo>
                <a:cubicBezTo>
                  <a:pt x="64" y="159"/>
                  <a:pt x="63" y="159"/>
                  <a:pt x="62" y="159"/>
                </a:cubicBezTo>
                <a:cubicBezTo>
                  <a:pt x="39" y="159"/>
                  <a:pt x="18" y="166"/>
                  <a:pt x="0" y="179"/>
                </a:cubicBezTo>
                <a:cubicBezTo>
                  <a:pt x="28" y="185"/>
                  <a:pt x="53" y="199"/>
                  <a:pt x="73" y="219"/>
                </a:cubicBezTo>
                <a:cubicBezTo>
                  <a:pt x="84" y="205"/>
                  <a:pt x="98" y="194"/>
                  <a:pt x="114" y="185"/>
                </a:cubicBezTo>
                <a:cubicBezTo>
                  <a:pt x="116" y="183"/>
                  <a:pt x="116" y="183"/>
                  <a:pt x="116" y="183"/>
                </a:cubicBezTo>
                <a:cubicBezTo>
                  <a:pt x="116" y="183"/>
                  <a:pt x="116" y="183"/>
                  <a:pt x="116" y="183"/>
                </a:cubicBezTo>
                <a:cubicBezTo>
                  <a:pt x="137" y="172"/>
                  <a:pt x="161" y="166"/>
                  <a:pt x="186" y="166"/>
                </a:cubicBezTo>
                <a:cubicBezTo>
                  <a:pt x="246" y="166"/>
                  <a:pt x="297" y="201"/>
                  <a:pt x="321" y="251"/>
                </a:cubicBezTo>
                <a:cubicBezTo>
                  <a:pt x="376" y="255"/>
                  <a:pt x="420" y="302"/>
                  <a:pt x="420" y="358"/>
                </a:cubicBezTo>
                <a:cubicBezTo>
                  <a:pt x="420" y="367"/>
                  <a:pt x="419" y="376"/>
                  <a:pt x="417" y="385"/>
                </a:cubicBezTo>
                <a:cubicBezTo>
                  <a:pt x="508" y="375"/>
                  <a:pt x="554" y="317"/>
                  <a:pt x="554" y="248"/>
                </a:cubicBezTo>
                <a:cubicBezTo>
                  <a:pt x="554" y="176"/>
                  <a:pt x="498" y="115"/>
                  <a:pt x="426" y="110"/>
                </a:cubicBezTo>
                <a:cubicBezTo>
                  <a:pt x="396" y="45"/>
                  <a:pt x="330" y="0"/>
                  <a:pt x="253" y="0"/>
                </a:cubicBezTo>
              </a:path>
            </a:pathLst>
          </a:custGeom>
          <a:solidFill>
            <a:srgbClr val="e5e5e5"/>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0" name="Freeform 206"/>
          <p:cNvSpPr/>
          <p:nvPr/>
        </p:nvSpPr>
        <p:spPr>
          <a:xfrm>
            <a:off x="11812680" y="6099120"/>
            <a:ext cx="1028520" cy="1182600"/>
          </a:xfrm>
          <a:custGeom>
            <a:avLst/>
            <a:gdLst/>
            <a:ahLst/>
            <a:rect l="l" t="t" r="r" b="b"/>
            <a:pathLst>
              <a:path w="118" h="136">
                <a:moveTo>
                  <a:pt x="45" y="0"/>
                </a:moveTo>
                <a:cubicBezTo>
                  <a:pt x="23" y="15"/>
                  <a:pt x="7" y="39"/>
                  <a:pt x="0" y="66"/>
                </a:cubicBezTo>
                <a:cubicBezTo>
                  <a:pt x="3" y="66"/>
                  <a:pt x="5" y="66"/>
                  <a:pt x="7" y="66"/>
                </a:cubicBezTo>
                <a:cubicBezTo>
                  <a:pt x="7" y="66"/>
                  <a:pt x="7" y="66"/>
                  <a:pt x="7" y="66"/>
                </a:cubicBezTo>
                <a:cubicBezTo>
                  <a:pt x="7" y="66"/>
                  <a:pt x="7" y="66"/>
                  <a:pt x="7" y="66"/>
                </a:cubicBezTo>
                <a:cubicBezTo>
                  <a:pt x="7" y="66"/>
                  <a:pt x="7" y="66"/>
                  <a:pt x="7" y="66"/>
                </a:cubicBezTo>
                <a:cubicBezTo>
                  <a:pt x="7" y="66"/>
                  <a:pt x="7" y="66"/>
                  <a:pt x="7" y="66"/>
                </a:cubicBezTo>
                <a:cubicBezTo>
                  <a:pt x="7" y="136"/>
                  <a:pt x="7" y="136"/>
                  <a:pt x="7" y="136"/>
                </a:cubicBezTo>
                <a:cubicBezTo>
                  <a:pt x="7" y="136"/>
                  <a:pt x="7" y="136"/>
                  <a:pt x="7" y="136"/>
                </a:cubicBezTo>
                <a:cubicBezTo>
                  <a:pt x="7" y="66"/>
                  <a:pt x="7" y="66"/>
                  <a:pt x="7" y="66"/>
                </a:cubicBezTo>
                <a:cubicBezTo>
                  <a:pt x="7" y="66"/>
                  <a:pt x="7" y="66"/>
                  <a:pt x="7" y="66"/>
                </a:cubicBezTo>
                <a:cubicBezTo>
                  <a:pt x="41" y="66"/>
                  <a:pt x="71" y="69"/>
                  <a:pt x="96" y="75"/>
                </a:cubicBezTo>
                <a:cubicBezTo>
                  <a:pt x="101" y="62"/>
                  <a:pt x="109" y="50"/>
                  <a:pt x="118" y="40"/>
                </a:cubicBezTo>
                <a:cubicBezTo>
                  <a:pt x="98" y="20"/>
                  <a:pt x="73" y="6"/>
                  <a:pt x="45"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1" name="Freeform 208"/>
          <p:cNvSpPr/>
          <p:nvPr/>
        </p:nvSpPr>
        <p:spPr>
          <a:xfrm>
            <a:off x="12203280" y="5627520"/>
            <a:ext cx="236520" cy="173160"/>
          </a:xfrm>
          <a:custGeom>
            <a:avLst/>
            <a:gdLst/>
            <a:ahLst/>
            <a:rect l="l" t="t" r="r" b="b"/>
            <a:pathLst>
              <a:path w="27" h="20">
                <a:moveTo>
                  <a:pt x="5" y="0"/>
                </a:moveTo>
                <a:cubicBezTo>
                  <a:pt x="0" y="2"/>
                  <a:pt x="0" y="2"/>
                  <a:pt x="0" y="2"/>
                </a:cubicBezTo>
                <a:cubicBezTo>
                  <a:pt x="3" y="7"/>
                  <a:pt x="5" y="12"/>
                  <a:pt x="7" y="17"/>
                </a:cubicBezTo>
                <a:cubicBezTo>
                  <a:pt x="8" y="18"/>
                  <a:pt x="8" y="18"/>
                  <a:pt x="8" y="18"/>
                </a:cubicBezTo>
                <a:cubicBezTo>
                  <a:pt x="10" y="19"/>
                  <a:pt x="10" y="19"/>
                  <a:pt x="10" y="19"/>
                </a:cubicBezTo>
                <a:cubicBezTo>
                  <a:pt x="15" y="19"/>
                  <a:pt x="21" y="20"/>
                  <a:pt x="26" y="20"/>
                </a:cubicBezTo>
                <a:cubicBezTo>
                  <a:pt x="27" y="15"/>
                  <a:pt x="27" y="15"/>
                  <a:pt x="27" y="15"/>
                </a:cubicBezTo>
                <a:cubicBezTo>
                  <a:pt x="22" y="14"/>
                  <a:pt x="17" y="14"/>
                  <a:pt x="12" y="13"/>
                </a:cubicBezTo>
                <a:cubicBezTo>
                  <a:pt x="10" y="9"/>
                  <a:pt x="7" y="4"/>
                  <a:pt x="5" y="0"/>
                </a:cubicBezTo>
              </a:path>
            </a:pathLst>
          </a:custGeom>
          <a:solidFill>
            <a:srgbClr val="e3ecf2"/>
          </a:solidFill>
          <a:ln w="0">
            <a:noFill/>
          </a:ln>
        </p:spPr>
        <p:style>
          <a:lnRef idx="0"/>
          <a:fillRef idx="0"/>
          <a:effectRef idx="0"/>
          <a:fontRef idx="minor"/>
        </p:style>
        <p:txBody>
          <a:bodyPr lIns="219240" rIns="219240" tIns="63720" bIns="63720" anchor="t">
            <a:noAutofit/>
          </a:bodyPr>
          <a:p>
            <a:endParaRPr b="0" lang="en-US" sz="3500" spc="-1" strike="noStrike">
              <a:solidFill>
                <a:srgbClr val="000000"/>
              </a:solidFill>
              <a:latin typeface="Open Sans Light"/>
            </a:endParaRPr>
          </a:p>
        </p:txBody>
      </p:sp>
      <p:sp>
        <p:nvSpPr>
          <p:cNvPr id="2602" name="Freeform 209"/>
          <p:cNvSpPr/>
          <p:nvPr/>
        </p:nvSpPr>
        <p:spPr>
          <a:xfrm>
            <a:off x="8383680" y="4522680"/>
            <a:ext cx="3698640" cy="1366920"/>
          </a:xfrm>
          <a:custGeom>
            <a:avLst/>
            <a:gdLst/>
            <a:ahLst/>
            <a:rect l="l" t="t" r="r" b="b"/>
            <a:pathLst>
              <a:path w="425" h="157">
                <a:moveTo>
                  <a:pt x="15" y="124"/>
                </a:moveTo>
                <a:cubicBezTo>
                  <a:pt x="9" y="134"/>
                  <a:pt x="4" y="144"/>
                  <a:pt x="0" y="155"/>
                </a:cubicBezTo>
                <a:cubicBezTo>
                  <a:pt x="5" y="157"/>
                  <a:pt x="5" y="157"/>
                  <a:pt x="5" y="157"/>
                </a:cubicBezTo>
                <a:cubicBezTo>
                  <a:pt x="9" y="147"/>
                  <a:pt x="14" y="136"/>
                  <a:pt x="20" y="127"/>
                </a:cubicBezTo>
                <a:cubicBezTo>
                  <a:pt x="15" y="124"/>
                  <a:pt x="15" y="124"/>
                  <a:pt x="15" y="124"/>
                </a:cubicBezTo>
                <a:moveTo>
                  <a:pt x="402" y="72"/>
                </a:moveTo>
                <a:cubicBezTo>
                  <a:pt x="398" y="76"/>
                  <a:pt x="398" y="76"/>
                  <a:pt x="398" y="76"/>
                </a:cubicBezTo>
                <a:cubicBezTo>
                  <a:pt x="406" y="84"/>
                  <a:pt x="414" y="92"/>
                  <a:pt x="420" y="101"/>
                </a:cubicBezTo>
                <a:cubicBezTo>
                  <a:pt x="425" y="98"/>
                  <a:pt x="425" y="98"/>
                  <a:pt x="425" y="98"/>
                </a:cubicBezTo>
                <a:cubicBezTo>
                  <a:pt x="418" y="89"/>
                  <a:pt x="410" y="80"/>
                  <a:pt x="402" y="72"/>
                </a:cubicBezTo>
                <a:moveTo>
                  <a:pt x="57" y="69"/>
                </a:moveTo>
                <a:cubicBezTo>
                  <a:pt x="49" y="77"/>
                  <a:pt x="41" y="86"/>
                  <a:pt x="34" y="95"/>
                </a:cubicBezTo>
                <a:cubicBezTo>
                  <a:pt x="39" y="99"/>
                  <a:pt x="39" y="99"/>
                  <a:pt x="39" y="99"/>
                </a:cubicBezTo>
                <a:cubicBezTo>
                  <a:pt x="46" y="90"/>
                  <a:pt x="53" y="81"/>
                  <a:pt x="61" y="73"/>
                </a:cubicBezTo>
                <a:cubicBezTo>
                  <a:pt x="57" y="69"/>
                  <a:pt x="57" y="69"/>
                  <a:pt x="57" y="69"/>
                </a:cubicBezTo>
                <a:moveTo>
                  <a:pt x="347" y="30"/>
                </a:moveTo>
                <a:cubicBezTo>
                  <a:pt x="344" y="35"/>
                  <a:pt x="344" y="35"/>
                  <a:pt x="344" y="35"/>
                </a:cubicBezTo>
                <a:cubicBezTo>
                  <a:pt x="354" y="40"/>
                  <a:pt x="363" y="47"/>
                  <a:pt x="372" y="53"/>
                </a:cubicBezTo>
                <a:cubicBezTo>
                  <a:pt x="376" y="49"/>
                  <a:pt x="376" y="49"/>
                  <a:pt x="376" y="49"/>
                </a:cubicBezTo>
                <a:cubicBezTo>
                  <a:pt x="366" y="42"/>
                  <a:pt x="357" y="36"/>
                  <a:pt x="347" y="30"/>
                </a:cubicBezTo>
                <a:moveTo>
                  <a:pt x="113" y="29"/>
                </a:moveTo>
                <a:cubicBezTo>
                  <a:pt x="103" y="34"/>
                  <a:pt x="93" y="40"/>
                  <a:pt x="84" y="47"/>
                </a:cubicBezTo>
                <a:cubicBezTo>
                  <a:pt x="87" y="51"/>
                  <a:pt x="87" y="51"/>
                  <a:pt x="87" y="51"/>
                </a:cubicBezTo>
                <a:cubicBezTo>
                  <a:pt x="96" y="45"/>
                  <a:pt x="106" y="39"/>
                  <a:pt x="116" y="34"/>
                </a:cubicBezTo>
                <a:cubicBezTo>
                  <a:pt x="113" y="29"/>
                  <a:pt x="113" y="29"/>
                  <a:pt x="113" y="29"/>
                </a:cubicBezTo>
                <a:moveTo>
                  <a:pt x="282" y="6"/>
                </a:moveTo>
                <a:cubicBezTo>
                  <a:pt x="281" y="11"/>
                  <a:pt x="281" y="11"/>
                  <a:pt x="281" y="11"/>
                </a:cubicBezTo>
                <a:cubicBezTo>
                  <a:pt x="292" y="14"/>
                  <a:pt x="303" y="17"/>
                  <a:pt x="313" y="21"/>
                </a:cubicBezTo>
                <a:cubicBezTo>
                  <a:pt x="315" y="16"/>
                  <a:pt x="315" y="16"/>
                  <a:pt x="315" y="16"/>
                </a:cubicBezTo>
                <a:cubicBezTo>
                  <a:pt x="304" y="12"/>
                  <a:pt x="293" y="8"/>
                  <a:pt x="282" y="6"/>
                </a:cubicBezTo>
                <a:moveTo>
                  <a:pt x="179" y="5"/>
                </a:moveTo>
                <a:cubicBezTo>
                  <a:pt x="167" y="8"/>
                  <a:pt x="156" y="11"/>
                  <a:pt x="145" y="15"/>
                </a:cubicBezTo>
                <a:cubicBezTo>
                  <a:pt x="147" y="20"/>
                  <a:pt x="147" y="20"/>
                  <a:pt x="147" y="20"/>
                </a:cubicBezTo>
                <a:cubicBezTo>
                  <a:pt x="158" y="16"/>
                  <a:pt x="169" y="13"/>
                  <a:pt x="180" y="11"/>
                </a:cubicBezTo>
                <a:cubicBezTo>
                  <a:pt x="179" y="5"/>
                  <a:pt x="179" y="5"/>
                  <a:pt x="179" y="5"/>
                </a:cubicBezTo>
                <a:moveTo>
                  <a:pt x="229" y="0"/>
                </a:moveTo>
                <a:cubicBezTo>
                  <a:pt x="229" y="0"/>
                  <a:pt x="229" y="0"/>
                  <a:pt x="229" y="0"/>
                </a:cubicBezTo>
                <a:cubicBezTo>
                  <a:pt x="223" y="0"/>
                  <a:pt x="218" y="0"/>
                  <a:pt x="213" y="1"/>
                </a:cubicBezTo>
                <a:cubicBezTo>
                  <a:pt x="213" y="6"/>
                  <a:pt x="213" y="6"/>
                  <a:pt x="213" y="6"/>
                </a:cubicBezTo>
                <a:cubicBezTo>
                  <a:pt x="218" y="6"/>
                  <a:pt x="223" y="6"/>
                  <a:pt x="229" y="6"/>
                </a:cubicBezTo>
                <a:cubicBezTo>
                  <a:pt x="229" y="6"/>
                  <a:pt x="229" y="6"/>
                  <a:pt x="229" y="6"/>
                </a:cubicBezTo>
                <a:cubicBezTo>
                  <a:pt x="235" y="6"/>
                  <a:pt x="241" y="6"/>
                  <a:pt x="247" y="6"/>
                </a:cubicBezTo>
                <a:cubicBezTo>
                  <a:pt x="248" y="1"/>
                  <a:pt x="248" y="1"/>
                  <a:pt x="248" y="1"/>
                </a:cubicBezTo>
                <a:cubicBezTo>
                  <a:pt x="241" y="0"/>
                  <a:pt x="235" y="0"/>
                  <a:pt x="229"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3" name="Freeform 210"/>
          <p:cNvSpPr/>
          <p:nvPr/>
        </p:nvSpPr>
        <p:spPr>
          <a:xfrm>
            <a:off x="8140680" y="6157800"/>
            <a:ext cx="190440" cy="177840"/>
          </a:xfrm>
          <a:custGeom>
            <a:avLst/>
            <a:gdLst/>
            <a:ahLst/>
            <a:rect l="l" t="t" r="r" b="b"/>
            <a:pathLst>
              <a:path w="22" h="20">
                <a:moveTo>
                  <a:pt x="17" y="0"/>
                </a:moveTo>
                <a:cubicBezTo>
                  <a:pt x="16" y="5"/>
                  <a:pt x="15" y="10"/>
                  <a:pt x="14" y="14"/>
                </a:cubicBezTo>
                <a:cubicBezTo>
                  <a:pt x="14" y="14"/>
                  <a:pt x="13" y="14"/>
                  <a:pt x="13" y="14"/>
                </a:cubicBezTo>
                <a:cubicBezTo>
                  <a:pt x="8" y="14"/>
                  <a:pt x="4" y="14"/>
                  <a:pt x="0" y="15"/>
                </a:cubicBezTo>
                <a:cubicBezTo>
                  <a:pt x="0" y="20"/>
                  <a:pt x="0" y="20"/>
                  <a:pt x="0" y="20"/>
                </a:cubicBezTo>
                <a:cubicBezTo>
                  <a:pt x="4" y="20"/>
                  <a:pt x="7" y="20"/>
                  <a:pt x="11" y="20"/>
                </a:cubicBezTo>
                <a:cubicBezTo>
                  <a:pt x="12" y="20"/>
                  <a:pt x="13" y="20"/>
                  <a:pt x="15" y="20"/>
                </a:cubicBezTo>
                <a:cubicBezTo>
                  <a:pt x="15" y="20"/>
                  <a:pt x="16" y="20"/>
                  <a:pt x="16" y="20"/>
                </a:cubicBezTo>
                <a:cubicBezTo>
                  <a:pt x="19" y="20"/>
                  <a:pt x="19" y="20"/>
                  <a:pt x="19" y="20"/>
                </a:cubicBezTo>
                <a:cubicBezTo>
                  <a:pt x="19" y="18"/>
                  <a:pt x="19" y="18"/>
                  <a:pt x="19" y="18"/>
                </a:cubicBezTo>
                <a:cubicBezTo>
                  <a:pt x="20" y="12"/>
                  <a:pt x="21" y="7"/>
                  <a:pt x="22" y="2"/>
                </a:cubicBezTo>
                <a:cubicBezTo>
                  <a:pt x="17" y="0"/>
                  <a:pt x="17" y="0"/>
                  <a:pt x="17" y="0"/>
                </a:cubicBezTo>
              </a:path>
            </a:pathLst>
          </a:custGeom>
          <a:solidFill>
            <a:srgbClr val="dddddd"/>
          </a:solidFill>
          <a:ln w="0">
            <a:noFill/>
          </a:ln>
        </p:spPr>
        <p:style>
          <a:lnRef idx="0"/>
          <a:fillRef idx="0"/>
          <a:effectRef idx="0"/>
          <a:fontRef idx="minor"/>
        </p:style>
        <p:txBody>
          <a:bodyPr lIns="219240" rIns="219240" tIns="68400" bIns="68400" anchor="t">
            <a:noAutofit/>
          </a:bodyPr>
          <a:p>
            <a:endParaRPr b="0" lang="en-US" sz="3500" spc="-1" strike="noStrike">
              <a:solidFill>
                <a:srgbClr val="000000"/>
              </a:solidFill>
              <a:latin typeface="Open Sans Light"/>
            </a:endParaRPr>
          </a:p>
        </p:txBody>
      </p:sp>
      <p:sp>
        <p:nvSpPr>
          <p:cNvPr id="2604" name="Freeform 211"/>
          <p:cNvSpPr/>
          <p:nvPr/>
        </p:nvSpPr>
        <p:spPr>
          <a:xfrm>
            <a:off x="12701520" y="5837400"/>
            <a:ext cx="84240" cy="69840"/>
          </a:xfrm>
          <a:custGeom>
            <a:avLst/>
            <a:gdLst/>
            <a:ahLst/>
            <a:rect l="l" t="t" r="r" b="b"/>
            <a:pathLst>
              <a:path w="10" h="8">
                <a:moveTo>
                  <a:pt x="2" y="0"/>
                </a:moveTo>
                <a:cubicBezTo>
                  <a:pt x="0" y="5"/>
                  <a:pt x="0" y="5"/>
                  <a:pt x="0" y="5"/>
                </a:cubicBezTo>
                <a:cubicBezTo>
                  <a:pt x="3" y="6"/>
                  <a:pt x="6" y="7"/>
                  <a:pt x="8" y="8"/>
                </a:cubicBezTo>
                <a:cubicBezTo>
                  <a:pt x="9" y="6"/>
                  <a:pt x="9" y="4"/>
                  <a:pt x="10" y="2"/>
                </a:cubicBezTo>
                <a:cubicBezTo>
                  <a:pt x="7" y="1"/>
                  <a:pt x="5" y="0"/>
                  <a:pt x="2" y="0"/>
                </a:cubicBezTo>
              </a:path>
            </a:pathLst>
          </a:custGeom>
          <a:solidFill>
            <a:srgbClr val="dddddd"/>
          </a:solidFill>
          <a:ln w="0">
            <a:noFill/>
          </a:ln>
        </p:spPr>
        <p:style>
          <a:lnRef idx="0"/>
          <a:fillRef idx="0"/>
          <a:effectRef idx="0"/>
          <a:fontRef idx="minor"/>
        </p:style>
        <p:txBody>
          <a:bodyPr lIns="219240" rIns="219240" tIns="-39600" bIns="-39600" anchor="t">
            <a:noAutofit/>
          </a:bodyPr>
          <a:p>
            <a:endParaRPr b="0" lang="en-US" sz="3500" spc="-1" strike="noStrike">
              <a:solidFill>
                <a:srgbClr val="000000"/>
              </a:solidFill>
              <a:latin typeface="Open Sans Light"/>
            </a:endParaRPr>
          </a:p>
        </p:txBody>
      </p:sp>
      <p:sp>
        <p:nvSpPr>
          <p:cNvPr id="2605" name="Freeform 212"/>
          <p:cNvSpPr/>
          <p:nvPr/>
        </p:nvSpPr>
        <p:spPr>
          <a:xfrm>
            <a:off x="12771360" y="5856120"/>
            <a:ext cx="441360" cy="295560"/>
          </a:xfrm>
          <a:custGeom>
            <a:avLst/>
            <a:gdLst/>
            <a:ahLst/>
            <a:rect l="l" t="t" r="r" b="b"/>
            <a:pathLst>
              <a:path w="51" h="34">
                <a:moveTo>
                  <a:pt x="51" y="32"/>
                </a:moveTo>
                <a:cubicBezTo>
                  <a:pt x="49" y="34"/>
                  <a:pt x="49" y="34"/>
                  <a:pt x="49" y="34"/>
                </a:cubicBezTo>
                <a:cubicBezTo>
                  <a:pt x="50" y="33"/>
                  <a:pt x="51" y="33"/>
                  <a:pt x="51" y="32"/>
                </a:cubicBezTo>
                <a:cubicBezTo>
                  <a:pt x="51" y="32"/>
                  <a:pt x="51" y="32"/>
                  <a:pt x="51" y="32"/>
                </a:cubicBezTo>
                <a:moveTo>
                  <a:pt x="2" y="0"/>
                </a:moveTo>
                <a:cubicBezTo>
                  <a:pt x="1" y="2"/>
                  <a:pt x="1" y="4"/>
                  <a:pt x="0" y="6"/>
                </a:cubicBezTo>
                <a:cubicBezTo>
                  <a:pt x="8" y="9"/>
                  <a:pt x="15" y="13"/>
                  <a:pt x="21" y="17"/>
                </a:cubicBezTo>
                <a:cubicBezTo>
                  <a:pt x="24" y="12"/>
                  <a:pt x="24" y="12"/>
                  <a:pt x="24" y="12"/>
                </a:cubicBezTo>
                <a:cubicBezTo>
                  <a:pt x="17" y="8"/>
                  <a:pt x="9" y="4"/>
                  <a:pt x="2"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6" name="Freeform 213"/>
          <p:cNvSpPr/>
          <p:nvPr/>
        </p:nvSpPr>
        <p:spPr>
          <a:xfrm>
            <a:off x="7016760" y="6350040"/>
            <a:ext cx="898560" cy="2446200"/>
          </a:xfrm>
          <a:custGeom>
            <a:avLst/>
            <a:gdLst/>
            <a:ahLst/>
            <a:rect l="l" t="t" r="r" b="b"/>
            <a:pathLst>
              <a:path w="103" h="281">
                <a:moveTo>
                  <a:pt x="74" y="262"/>
                </a:moveTo>
                <a:cubicBezTo>
                  <a:pt x="71" y="266"/>
                  <a:pt x="71" y="266"/>
                  <a:pt x="71" y="266"/>
                </a:cubicBezTo>
                <a:cubicBezTo>
                  <a:pt x="81" y="272"/>
                  <a:pt x="91" y="277"/>
                  <a:pt x="101" y="281"/>
                </a:cubicBezTo>
                <a:cubicBezTo>
                  <a:pt x="103" y="275"/>
                  <a:pt x="103" y="275"/>
                  <a:pt x="103" y="275"/>
                </a:cubicBezTo>
                <a:cubicBezTo>
                  <a:pt x="93" y="272"/>
                  <a:pt x="83" y="267"/>
                  <a:pt x="74" y="262"/>
                </a:cubicBezTo>
                <a:moveTo>
                  <a:pt x="29" y="217"/>
                </a:moveTo>
                <a:cubicBezTo>
                  <a:pt x="24" y="220"/>
                  <a:pt x="24" y="220"/>
                  <a:pt x="24" y="220"/>
                </a:cubicBezTo>
                <a:cubicBezTo>
                  <a:pt x="31" y="229"/>
                  <a:pt x="37" y="238"/>
                  <a:pt x="45" y="245"/>
                </a:cubicBezTo>
                <a:cubicBezTo>
                  <a:pt x="49" y="242"/>
                  <a:pt x="49" y="242"/>
                  <a:pt x="49" y="242"/>
                </a:cubicBezTo>
                <a:cubicBezTo>
                  <a:pt x="42" y="234"/>
                  <a:pt x="35" y="226"/>
                  <a:pt x="29" y="217"/>
                </a:cubicBezTo>
                <a:moveTo>
                  <a:pt x="7" y="157"/>
                </a:moveTo>
                <a:cubicBezTo>
                  <a:pt x="1" y="158"/>
                  <a:pt x="1" y="158"/>
                  <a:pt x="1" y="158"/>
                </a:cubicBezTo>
                <a:cubicBezTo>
                  <a:pt x="3" y="169"/>
                  <a:pt x="6" y="179"/>
                  <a:pt x="10" y="190"/>
                </a:cubicBezTo>
                <a:cubicBezTo>
                  <a:pt x="15" y="188"/>
                  <a:pt x="15" y="188"/>
                  <a:pt x="15" y="188"/>
                </a:cubicBezTo>
                <a:cubicBezTo>
                  <a:pt x="11" y="178"/>
                  <a:pt x="8" y="167"/>
                  <a:pt x="7" y="157"/>
                </a:cubicBezTo>
                <a:moveTo>
                  <a:pt x="7" y="92"/>
                </a:moveTo>
                <a:cubicBezTo>
                  <a:pt x="3" y="103"/>
                  <a:pt x="1" y="113"/>
                  <a:pt x="0" y="125"/>
                </a:cubicBezTo>
                <a:cubicBezTo>
                  <a:pt x="5" y="125"/>
                  <a:pt x="5" y="125"/>
                  <a:pt x="5" y="125"/>
                </a:cubicBezTo>
                <a:cubicBezTo>
                  <a:pt x="6" y="114"/>
                  <a:pt x="8" y="104"/>
                  <a:pt x="12" y="94"/>
                </a:cubicBezTo>
                <a:cubicBezTo>
                  <a:pt x="7" y="92"/>
                  <a:pt x="7" y="92"/>
                  <a:pt x="7" y="92"/>
                </a:cubicBezTo>
                <a:moveTo>
                  <a:pt x="41" y="35"/>
                </a:moveTo>
                <a:cubicBezTo>
                  <a:pt x="33" y="43"/>
                  <a:pt x="26" y="52"/>
                  <a:pt x="20" y="62"/>
                </a:cubicBezTo>
                <a:cubicBezTo>
                  <a:pt x="25" y="65"/>
                  <a:pt x="25" y="65"/>
                  <a:pt x="25" y="65"/>
                </a:cubicBezTo>
                <a:cubicBezTo>
                  <a:pt x="31" y="55"/>
                  <a:pt x="37" y="47"/>
                  <a:pt x="45" y="39"/>
                </a:cubicBezTo>
                <a:cubicBezTo>
                  <a:pt x="41" y="35"/>
                  <a:pt x="41" y="35"/>
                  <a:pt x="41" y="35"/>
                </a:cubicBezTo>
                <a:moveTo>
                  <a:pt x="96" y="0"/>
                </a:moveTo>
                <a:cubicBezTo>
                  <a:pt x="86" y="3"/>
                  <a:pt x="76" y="8"/>
                  <a:pt x="66" y="14"/>
                </a:cubicBezTo>
                <a:cubicBezTo>
                  <a:pt x="69" y="19"/>
                  <a:pt x="69" y="19"/>
                  <a:pt x="69" y="19"/>
                </a:cubicBezTo>
                <a:cubicBezTo>
                  <a:pt x="78" y="13"/>
                  <a:pt x="88" y="9"/>
                  <a:pt x="98" y="5"/>
                </a:cubicBezTo>
                <a:cubicBezTo>
                  <a:pt x="96" y="0"/>
                  <a:pt x="96" y="0"/>
                  <a:pt x="96"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07" name="Freeform 214"/>
          <p:cNvSpPr/>
          <p:nvPr/>
        </p:nvSpPr>
        <p:spPr>
          <a:xfrm>
            <a:off x="8183520" y="8796240"/>
            <a:ext cx="287280" cy="50760"/>
          </a:xfrm>
          <a:custGeom>
            <a:avLst/>
            <a:gdLst/>
            <a:ahLst/>
            <a:rect l="l" t="t" r="r" b="b"/>
            <a:pathLst>
              <a:path w="33" h="6">
                <a:moveTo>
                  <a:pt x="0" y="0"/>
                </a:moveTo>
                <a:cubicBezTo>
                  <a:pt x="0" y="6"/>
                  <a:pt x="0" y="6"/>
                  <a:pt x="0" y="6"/>
                </a:cubicBezTo>
                <a:cubicBezTo>
                  <a:pt x="2" y="6"/>
                  <a:pt x="5" y="6"/>
                  <a:pt x="8" y="6"/>
                </a:cubicBezTo>
                <a:cubicBezTo>
                  <a:pt x="8" y="6"/>
                  <a:pt x="8" y="6"/>
                  <a:pt x="8" y="6"/>
                </a:cubicBezTo>
                <a:cubicBezTo>
                  <a:pt x="33" y="6"/>
                  <a:pt x="33" y="6"/>
                  <a:pt x="33" y="6"/>
                </a:cubicBezTo>
                <a:cubicBezTo>
                  <a:pt x="33" y="1"/>
                  <a:pt x="33" y="1"/>
                  <a:pt x="33" y="1"/>
                </a:cubicBezTo>
                <a:cubicBezTo>
                  <a:pt x="8" y="1"/>
                  <a:pt x="8" y="1"/>
                  <a:pt x="8" y="1"/>
                </a:cubicBezTo>
                <a:cubicBezTo>
                  <a:pt x="5" y="1"/>
                  <a:pt x="3" y="1"/>
                  <a:pt x="0" y="0"/>
                </a:cubicBezTo>
              </a:path>
            </a:pathLst>
          </a:custGeom>
          <a:solidFill>
            <a:srgbClr val="dddddd"/>
          </a:solidFill>
          <a:ln w="0">
            <a:noFill/>
          </a:ln>
        </p:spPr>
        <p:style>
          <a:lnRef idx="0"/>
          <a:fillRef idx="0"/>
          <a:effectRef idx="0"/>
          <a:fontRef idx="minor"/>
        </p:style>
        <p:txBody>
          <a:bodyPr lIns="219240" rIns="219240" tIns="-58680" bIns="-58680" anchor="t">
            <a:noAutofit/>
          </a:bodyPr>
          <a:p>
            <a:endParaRPr b="0" lang="en-US" sz="3500" spc="-1" strike="noStrike">
              <a:solidFill>
                <a:srgbClr val="000000"/>
              </a:solidFill>
              <a:latin typeface="Open Sans Light"/>
            </a:endParaRPr>
          </a:p>
        </p:txBody>
      </p:sp>
      <p:sp>
        <p:nvSpPr>
          <p:cNvPr id="2608" name="Freeform 215"/>
          <p:cNvSpPr/>
          <p:nvPr/>
        </p:nvSpPr>
        <p:spPr>
          <a:xfrm>
            <a:off x="8747280" y="8804160"/>
            <a:ext cx="1271520" cy="42840"/>
          </a:xfrm>
          <a:custGeom>
            <a:avLst/>
            <a:gdLst/>
            <a:ahLst/>
            <a:rect l="l" t="t" r="r" b="b"/>
            <a:pathLst>
              <a:path w="146" h="5">
                <a:moveTo>
                  <a:pt x="33" y="0"/>
                </a:moveTo>
                <a:cubicBezTo>
                  <a:pt x="0" y="0"/>
                  <a:pt x="0" y="0"/>
                  <a:pt x="0" y="0"/>
                </a:cubicBezTo>
                <a:cubicBezTo>
                  <a:pt x="0" y="5"/>
                  <a:pt x="0" y="5"/>
                  <a:pt x="0" y="5"/>
                </a:cubicBezTo>
                <a:cubicBezTo>
                  <a:pt x="33" y="5"/>
                  <a:pt x="33" y="5"/>
                  <a:pt x="33" y="5"/>
                </a:cubicBezTo>
                <a:cubicBezTo>
                  <a:pt x="33" y="0"/>
                  <a:pt x="33" y="0"/>
                  <a:pt x="33" y="0"/>
                </a:cubicBezTo>
                <a:moveTo>
                  <a:pt x="98" y="0"/>
                </a:moveTo>
                <a:cubicBezTo>
                  <a:pt x="66" y="0"/>
                  <a:pt x="66" y="0"/>
                  <a:pt x="66" y="0"/>
                </a:cubicBezTo>
                <a:cubicBezTo>
                  <a:pt x="66" y="5"/>
                  <a:pt x="66" y="5"/>
                  <a:pt x="66" y="5"/>
                </a:cubicBezTo>
                <a:cubicBezTo>
                  <a:pt x="98" y="5"/>
                  <a:pt x="98" y="5"/>
                  <a:pt x="98" y="5"/>
                </a:cubicBezTo>
                <a:cubicBezTo>
                  <a:pt x="98" y="0"/>
                  <a:pt x="98" y="0"/>
                  <a:pt x="98" y="0"/>
                </a:cubicBezTo>
                <a:moveTo>
                  <a:pt x="144" y="0"/>
                </a:moveTo>
                <a:cubicBezTo>
                  <a:pt x="131" y="0"/>
                  <a:pt x="131" y="0"/>
                  <a:pt x="131" y="0"/>
                </a:cubicBezTo>
                <a:cubicBezTo>
                  <a:pt x="131" y="5"/>
                  <a:pt x="131" y="5"/>
                  <a:pt x="131" y="5"/>
                </a:cubicBezTo>
                <a:cubicBezTo>
                  <a:pt x="146" y="5"/>
                  <a:pt x="146" y="5"/>
                  <a:pt x="146" y="5"/>
                </a:cubicBezTo>
                <a:cubicBezTo>
                  <a:pt x="145" y="3"/>
                  <a:pt x="145" y="1"/>
                  <a:pt x="144" y="0"/>
                </a:cubicBezTo>
              </a:path>
            </a:pathLst>
          </a:custGeom>
          <a:solidFill>
            <a:srgbClr val="dddddd"/>
          </a:solidFill>
          <a:ln w="0">
            <a:noFill/>
          </a:ln>
        </p:spPr>
        <p:style>
          <a:lnRef idx="0"/>
          <a:fillRef idx="0"/>
          <a:effectRef idx="0"/>
          <a:fontRef idx="minor"/>
        </p:style>
        <p:txBody>
          <a:bodyPr lIns="219240" rIns="219240" tIns="-66600" bIns="-66600" anchor="t">
            <a:noAutofit/>
          </a:bodyPr>
          <a:p>
            <a:endParaRPr b="0" lang="en-US" sz="3500" spc="-1" strike="noStrike">
              <a:solidFill>
                <a:srgbClr val="000000"/>
              </a:solidFill>
              <a:latin typeface="Open Sans Light"/>
            </a:endParaRPr>
          </a:p>
        </p:txBody>
      </p:sp>
      <p:sp>
        <p:nvSpPr>
          <p:cNvPr id="2609" name="Rectangle 217"/>
          <p:cNvSpPr/>
          <p:nvPr/>
        </p:nvSpPr>
        <p:spPr>
          <a:xfrm>
            <a:off x="11404440" y="10988640"/>
            <a:ext cx="25560" cy="477720"/>
          </a:xfrm>
          <a:prstGeom prst="rect">
            <a:avLst/>
          </a:prstGeom>
          <a:solidFill>
            <a:srgbClr val="3247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0" name="Rectangle 218"/>
          <p:cNvSpPr/>
          <p:nvPr/>
        </p:nvSpPr>
        <p:spPr>
          <a:xfrm>
            <a:off x="11404440" y="10988640"/>
            <a:ext cx="25560" cy="477720"/>
          </a:xfrm>
          <a:prstGeom prst="rect">
            <a:avLst/>
          </a:prstGeom>
          <a:no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1" name="Rectangle 219"/>
          <p:cNvSpPr/>
          <p:nvPr/>
        </p:nvSpPr>
        <p:spPr>
          <a:xfrm>
            <a:off x="12317400" y="10988640"/>
            <a:ext cx="19080" cy="477720"/>
          </a:xfrm>
          <a:prstGeom prst="rect">
            <a:avLst/>
          </a:prstGeom>
          <a:solidFill>
            <a:srgbClr val="32475f"/>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2" name="Rectangle 220"/>
          <p:cNvSpPr/>
          <p:nvPr/>
        </p:nvSpPr>
        <p:spPr>
          <a:xfrm>
            <a:off x="12317400" y="10988640"/>
            <a:ext cx="19080" cy="477720"/>
          </a:xfrm>
          <a:prstGeom prst="rect">
            <a:avLst/>
          </a:prstGeom>
          <a:no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13" name="Freeform 221"/>
          <p:cNvSpPr/>
          <p:nvPr/>
        </p:nvSpPr>
        <p:spPr>
          <a:xfrm>
            <a:off x="8043840" y="6673680"/>
            <a:ext cx="3827520" cy="4314960"/>
          </a:xfrm>
          <a:custGeom>
            <a:avLst/>
            <a:gdLst/>
            <a:ahLst/>
            <a:rect l="l" t="t" r="r" b="b"/>
            <a:pathLst>
              <a:path w="440" h="496">
                <a:moveTo>
                  <a:pt x="440" y="0"/>
                </a:moveTo>
                <a:cubicBezTo>
                  <a:pt x="0" y="0"/>
                  <a:pt x="385" y="496"/>
                  <a:pt x="385" y="496"/>
                </a:cubicBezTo>
                <a:cubicBezTo>
                  <a:pt x="401" y="496"/>
                  <a:pt x="401" y="496"/>
                  <a:pt x="401" y="496"/>
                </a:cubicBezTo>
                <a:cubicBezTo>
                  <a:pt x="314" y="365"/>
                  <a:pt x="134" y="44"/>
                  <a:pt x="440" y="0"/>
                </a:cubicBezTo>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4" name="Freeform 222"/>
          <p:cNvSpPr/>
          <p:nvPr/>
        </p:nvSpPr>
        <p:spPr>
          <a:xfrm>
            <a:off x="9212400" y="6673680"/>
            <a:ext cx="2658960" cy="4314960"/>
          </a:xfrm>
          <a:custGeom>
            <a:avLst/>
            <a:gdLst/>
            <a:ahLst/>
            <a:rect l="l" t="t" r="r" b="b"/>
            <a:pathLst>
              <a:path w="306" h="496">
                <a:moveTo>
                  <a:pt x="306" y="0"/>
                </a:moveTo>
                <a:cubicBezTo>
                  <a:pt x="0" y="44"/>
                  <a:pt x="180" y="365"/>
                  <a:pt x="267" y="496"/>
                </a:cubicBezTo>
                <a:cubicBezTo>
                  <a:pt x="278" y="496"/>
                  <a:pt x="278" y="496"/>
                  <a:pt x="278" y="496"/>
                </a:cubicBezTo>
                <a:cubicBezTo>
                  <a:pt x="216" y="365"/>
                  <a:pt x="87" y="44"/>
                  <a:pt x="306"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5" name="Freeform 223"/>
          <p:cNvSpPr/>
          <p:nvPr/>
        </p:nvSpPr>
        <p:spPr>
          <a:xfrm>
            <a:off x="10733040" y="6673680"/>
            <a:ext cx="1138320" cy="4314960"/>
          </a:xfrm>
          <a:custGeom>
            <a:avLst/>
            <a:gdLst/>
            <a:ahLst/>
            <a:rect l="l" t="t" r="r" b="b"/>
            <a:pathLst>
              <a:path w="131" h="496">
                <a:moveTo>
                  <a:pt x="131" y="0"/>
                </a:moveTo>
                <a:cubicBezTo>
                  <a:pt x="0" y="44"/>
                  <a:pt x="77" y="365"/>
                  <a:pt x="114" y="496"/>
                </a:cubicBezTo>
                <a:cubicBezTo>
                  <a:pt x="131" y="496"/>
                  <a:pt x="131" y="496"/>
                  <a:pt x="131" y="496"/>
                </a:cubicBezTo>
                <a:cubicBezTo>
                  <a:pt x="131" y="0"/>
                  <a:pt x="131" y="0"/>
                  <a:pt x="131"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6" name="Freeform 224"/>
          <p:cNvSpPr/>
          <p:nvPr/>
        </p:nvSpPr>
        <p:spPr>
          <a:xfrm>
            <a:off x="9968040" y="6673680"/>
            <a:ext cx="1903320" cy="4314960"/>
          </a:xfrm>
          <a:custGeom>
            <a:avLst/>
            <a:gdLst/>
            <a:ahLst/>
            <a:rect l="l" t="t" r="r" b="b"/>
            <a:pathLst>
              <a:path w="219" h="496">
                <a:moveTo>
                  <a:pt x="219" y="0"/>
                </a:moveTo>
                <a:cubicBezTo>
                  <a:pt x="0" y="44"/>
                  <a:pt x="129" y="365"/>
                  <a:pt x="191" y="496"/>
                </a:cubicBezTo>
                <a:cubicBezTo>
                  <a:pt x="202" y="496"/>
                  <a:pt x="202" y="496"/>
                  <a:pt x="202" y="496"/>
                </a:cubicBezTo>
                <a:cubicBezTo>
                  <a:pt x="165" y="365"/>
                  <a:pt x="88" y="44"/>
                  <a:pt x="219"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7" name="Freeform 225"/>
          <p:cNvSpPr/>
          <p:nvPr/>
        </p:nvSpPr>
        <p:spPr>
          <a:xfrm>
            <a:off x="11871360" y="6673680"/>
            <a:ext cx="3832200" cy="4314960"/>
          </a:xfrm>
          <a:custGeom>
            <a:avLst/>
            <a:gdLst/>
            <a:ahLst/>
            <a:rect l="l" t="t" r="r" b="b"/>
            <a:pathLst>
              <a:path w="440" h="496">
                <a:moveTo>
                  <a:pt x="0" y="0"/>
                </a:moveTo>
                <a:cubicBezTo>
                  <a:pt x="440" y="0"/>
                  <a:pt x="55" y="496"/>
                  <a:pt x="55" y="496"/>
                </a:cubicBezTo>
                <a:cubicBezTo>
                  <a:pt x="39" y="496"/>
                  <a:pt x="39" y="496"/>
                  <a:pt x="39" y="496"/>
                </a:cubicBezTo>
                <a:cubicBezTo>
                  <a:pt x="126" y="365"/>
                  <a:pt x="306" y="44"/>
                  <a:pt x="0" y="0"/>
                </a:cubicBezTo>
              </a:path>
            </a:pathLst>
          </a:custGeom>
          <a:solidFill>
            <a:srgbClr val="808080"/>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8" name="Freeform 226"/>
          <p:cNvSpPr/>
          <p:nvPr/>
        </p:nvSpPr>
        <p:spPr>
          <a:xfrm>
            <a:off x="11871360" y="6673680"/>
            <a:ext cx="2663640" cy="4314960"/>
          </a:xfrm>
          <a:custGeom>
            <a:avLst/>
            <a:gdLst/>
            <a:ahLst/>
            <a:rect l="l" t="t" r="r" b="b"/>
            <a:pathLst>
              <a:path w="306" h="496">
                <a:moveTo>
                  <a:pt x="0" y="0"/>
                </a:moveTo>
                <a:cubicBezTo>
                  <a:pt x="306" y="44"/>
                  <a:pt x="126" y="365"/>
                  <a:pt x="39" y="496"/>
                </a:cubicBezTo>
                <a:cubicBezTo>
                  <a:pt x="28" y="496"/>
                  <a:pt x="28" y="496"/>
                  <a:pt x="28" y="496"/>
                </a:cubicBezTo>
                <a:cubicBezTo>
                  <a:pt x="90" y="365"/>
                  <a:pt x="218" y="44"/>
                  <a:pt x="0" y="0"/>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19" name="Freeform 227"/>
          <p:cNvSpPr/>
          <p:nvPr/>
        </p:nvSpPr>
        <p:spPr>
          <a:xfrm>
            <a:off x="11871360" y="6673680"/>
            <a:ext cx="1143000" cy="4314960"/>
          </a:xfrm>
          <a:custGeom>
            <a:avLst/>
            <a:gdLst/>
            <a:ahLst/>
            <a:rect l="l" t="t" r="r" b="b"/>
            <a:pathLst>
              <a:path w="131" h="496">
                <a:moveTo>
                  <a:pt x="0" y="0"/>
                </a:moveTo>
                <a:cubicBezTo>
                  <a:pt x="131" y="44"/>
                  <a:pt x="54" y="365"/>
                  <a:pt x="17" y="496"/>
                </a:cubicBezTo>
                <a:cubicBezTo>
                  <a:pt x="0" y="496"/>
                  <a:pt x="0" y="496"/>
                  <a:pt x="0" y="496"/>
                </a:cubicBezTo>
                <a:cubicBezTo>
                  <a:pt x="0" y="0"/>
                  <a:pt x="0" y="0"/>
                  <a:pt x="0"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0" name="Freeform 228"/>
          <p:cNvSpPr/>
          <p:nvPr/>
        </p:nvSpPr>
        <p:spPr>
          <a:xfrm>
            <a:off x="11871360" y="6673680"/>
            <a:ext cx="1898640" cy="4314960"/>
          </a:xfrm>
          <a:custGeom>
            <a:avLst/>
            <a:gdLst/>
            <a:ahLst/>
            <a:rect l="l" t="t" r="r" b="b"/>
            <a:pathLst>
              <a:path w="218" h="496">
                <a:moveTo>
                  <a:pt x="0" y="0"/>
                </a:moveTo>
                <a:cubicBezTo>
                  <a:pt x="218" y="44"/>
                  <a:pt x="90" y="365"/>
                  <a:pt x="28" y="496"/>
                </a:cubicBezTo>
                <a:cubicBezTo>
                  <a:pt x="17" y="496"/>
                  <a:pt x="17" y="496"/>
                  <a:pt x="17" y="496"/>
                </a:cubicBezTo>
                <a:cubicBezTo>
                  <a:pt x="54" y="365"/>
                  <a:pt x="131" y="44"/>
                  <a:pt x="0"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1" name="Freeform 230"/>
          <p:cNvSpPr/>
          <p:nvPr/>
        </p:nvSpPr>
        <p:spPr>
          <a:xfrm>
            <a:off x="13511160" y="9786960"/>
            <a:ext cx="1182600" cy="906480"/>
          </a:xfrm>
          <a:custGeom>
            <a:avLst/>
            <a:gdLst/>
            <a:ahLst/>
            <a:rect l="l" t="t" r="r" b="b"/>
            <a:pathLst>
              <a:path w="136" h="104">
                <a:moveTo>
                  <a:pt x="136" y="0"/>
                </a:moveTo>
                <a:cubicBezTo>
                  <a:pt x="0" y="73"/>
                  <a:pt x="0" y="73"/>
                  <a:pt x="0" y="73"/>
                </a:cubicBezTo>
                <a:cubicBezTo>
                  <a:pt x="48" y="64"/>
                  <a:pt x="105" y="104"/>
                  <a:pt x="105" y="104"/>
                </a:cubicBezTo>
                <a:cubicBezTo>
                  <a:pt x="136" y="0"/>
                  <a:pt x="136" y="0"/>
                  <a:pt x="136" y="0"/>
                </a:cubicBezTo>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2" name="Freeform 231"/>
          <p:cNvSpPr/>
          <p:nvPr/>
        </p:nvSpPr>
        <p:spPr>
          <a:xfrm>
            <a:off x="14911560" y="10476000"/>
            <a:ext cx="755640" cy="1322280"/>
          </a:xfrm>
          <a:custGeom>
            <a:avLst/>
            <a:gdLst/>
            <a:ahLst/>
            <a:rect l="l" t="t" r="r" b="b"/>
            <a:pathLst>
              <a:path w="87" h="152">
                <a:moveTo>
                  <a:pt x="87" y="0"/>
                </a:moveTo>
                <a:cubicBezTo>
                  <a:pt x="65" y="152"/>
                  <a:pt x="65" y="152"/>
                  <a:pt x="65" y="152"/>
                </a:cubicBezTo>
                <a:cubicBezTo>
                  <a:pt x="56" y="104"/>
                  <a:pt x="0" y="64"/>
                  <a:pt x="0" y="64"/>
                </a:cubicBezTo>
                <a:lnTo>
                  <a:pt x="87" y="0"/>
                </a:lnTo>
                <a:close/>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3" name="Freeform 232"/>
          <p:cNvSpPr/>
          <p:nvPr/>
        </p:nvSpPr>
        <p:spPr>
          <a:xfrm>
            <a:off x="14425560" y="9109080"/>
            <a:ext cx="1660680" cy="1924200"/>
          </a:xfrm>
          <a:custGeom>
            <a:avLst/>
            <a:gdLst/>
            <a:ahLst/>
            <a:rect l="l" t="t" r="r" b="b"/>
            <a:pathLst>
              <a:path w="191" h="221">
                <a:moveTo>
                  <a:pt x="146" y="33"/>
                </a:moveTo>
                <a:cubicBezTo>
                  <a:pt x="131" y="22"/>
                  <a:pt x="118" y="11"/>
                  <a:pt x="105" y="0"/>
                </a:cubicBezTo>
                <a:cubicBezTo>
                  <a:pt x="58" y="25"/>
                  <a:pt x="7" y="76"/>
                  <a:pt x="0" y="182"/>
                </a:cubicBezTo>
                <a:cubicBezTo>
                  <a:pt x="28" y="202"/>
                  <a:pt x="28" y="202"/>
                  <a:pt x="28" y="202"/>
                </a:cubicBezTo>
                <a:cubicBezTo>
                  <a:pt x="56" y="221"/>
                  <a:pt x="56" y="221"/>
                  <a:pt x="56" y="221"/>
                </a:cubicBezTo>
                <a:cubicBezTo>
                  <a:pt x="153" y="178"/>
                  <a:pt x="183" y="113"/>
                  <a:pt x="191" y="60"/>
                </a:cubicBezTo>
                <a:cubicBezTo>
                  <a:pt x="176" y="52"/>
                  <a:pt x="161" y="43"/>
                  <a:pt x="146" y="33"/>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4" name="Freeform 233"/>
          <p:cNvSpPr/>
          <p:nvPr/>
        </p:nvSpPr>
        <p:spPr>
          <a:xfrm>
            <a:off x="14425560" y="9109080"/>
            <a:ext cx="1266840" cy="1757520"/>
          </a:xfrm>
          <a:custGeom>
            <a:avLst/>
            <a:gdLst/>
            <a:ahLst/>
            <a:rect l="l" t="t" r="r" b="b"/>
            <a:pathLst>
              <a:path w="146" h="202">
                <a:moveTo>
                  <a:pt x="105" y="0"/>
                </a:moveTo>
                <a:cubicBezTo>
                  <a:pt x="58" y="25"/>
                  <a:pt x="7" y="76"/>
                  <a:pt x="0" y="182"/>
                </a:cubicBezTo>
                <a:cubicBezTo>
                  <a:pt x="28" y="202"/>
                  <a:pt x="28" y="202"/>
                  <a:pt x="28" y="202"/>
                </a:cubicBezTo>
                <a:cubicBezTo>
                  <a:pt x="146" y="33"/>
                  <a:pt x="146" y="33"/>
                  <a:pt x="146" y="33"/>
                </a:cubicBezTo>
                <a:cubicBezTo>
                  <a:pt x="131" y="22"/>
                  <a:pt x="118" y="11"/>
                  <a:pt x="105"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5" name="Freeform 234"/>
          <p:cNvSpPr/>
          <p:nvPr/>
        </p:nvSpPr>
        <p:spPr>
          <a:xfrm>
            <a:off x="15338520" y="8899560"/>
            <a:ext cx="704880" cy="496800"/>
          </a:xfrm>
          <a:custGeom>
            <a:avLst/>
            <a:gdLst/>
            <a:ahLst/>
            <a:rect l="l" t="t" r="r" b="b"/>
            <a:pathLst>
              <a:path w="81" h="57">
                <a:moveTo>
                  <a:pt x="0" y="24"/>
                </a:moveTo>
                <a:cubicBezTo>
                  <a:pt x="13" y="35"/>
                  <a:pt x="26" y="46"/>
                  <a:pt x="41" y="57"/>
                </a:cubicBezTo>
                <a:cubicBezTo>
                  <a:pt x="81" y="0"/>
                  <a:pt x="81" y="0"/>
                  <a:pt x="81" y="0"/>
                </a:cubicBezTo>
                <a:cubicBezTo>
                  <a:pt x="81" y="0"/>
                  <a:pt x="42" y="2"/>
                  <a:pt x="0" y="24"/>
                </a:cubicBezTo>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6" name="Freeform 235"/>
          <p:cNvSpPr/>
          <p:nvPr/>
        </p:nvSpPr>
        <p:spPr>
          <a:xfrm>
            <a:off x="15338520" y="8899560"/>
            <a:ext cx="704880" cy="496800"/>
          </a:xfrm>
          <a:custGeom>
            <a:avLst/>
            <a:gdLst/>
            <a:ahLst/>
            <a:rect l="l" t="t" r="r" b="b"/>
            <a:pathLst>
              <a:path w="81" h="57">
                <a:moveTo>
                  <a:pt x="81" y="0"/>
                </a:moveTo>
                <a:cubicBezTo>
                  <a:pt x="81" y="0"/>
                  <a:pt x="42" y="2"/>
                  <a:pt x="0" y="24"/>
                </a:cubicBezTo>
                <a:cubicBezTo>
                  <a:pt x="13" y="35"/>
                  <a:pt x="26" y="46"/>
                  <a:pt x="41" y="57"/>
                </a:cubicBezTo>
                <a:cubicBezTo>
                  <a:pt x="81" y="0"/>
                  <a:pt x="81" y="0"/>
                  <a:pt x="81" y="0"/>
                </a:cubicBezTo>
              </a:path>
            </a:pathLst>
          </a:custGeom>
          <a:solidFill>
            <a:srgbClr val="444247"/>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7" name="Freeform 236"/>
          <p:cNvSpPr/>
          <p:nvPr/>
        </p:nvSpPr>
        <p:spPr>
          <a:xfrm>
            <a:off x="15692400" y="8899560"/>
            <a:ext cx="453960" cy="733320"/>
          </a:xfrm>
          <a:custGeom>
            <a:avLst/>
            <a:gdLst/>
            <a:ahLst/>
            <a:rect l="l" t="t" r="r" b="b"/>
            <a:pathLst>
              <a:path w="52" h="84">
                <a:moveTo>
                  <a:pt x="40" y="0"/>
                </a:moveTo>
                <a:cubicBezTo>
                  <a:pt x="0" y="57"/>
                  <a:pt x="0" y="57"/>
                  <a:pt x="0" y="57"/>
                </a:cubicBezTo>
                <a:cubicBezTo>
                  <a:pt x="15" y="67"/>
                  <a:pt x="30" y="76"/>
                  <a:pt x="45" y="84"/>
                </a:cubicBezTo>
                <a:cubicBezTo>
                  <a:pt x="52" y="37"/>
                  <a:pt x="40" y="0"/>
                  <a:pt x="40" y="0"/>
                </a:cubicBezTo>
                <a:close/>
              </a:path>
            </a:pathLst>
          </a:custGeom>
          <a:solidFill>
            <a:srgbClr val="4a48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8" name="Freeform 237"/>
          <p:cNvSpPr/>
          <p:nvPr/>
        </p:nvSpPr>
        <p:spPr>
          <a:xfrm>
            <a:off x="15354360" y="9466200"/>
            <a:ext cx="338040" cy="339840"/>
          </a:xfrm>
          <a:custGeom>
            <a:avLst/>
            <a:gdLst/>
            <a:ahLst/>
            <a:rect l="l" t="t" r="r" b="b"/>
            <a:pathLst>
              <a:path w="39" h="39">
                <a:moveTo>
                  <a:pt x="34" y="30"/>
                </a:moveTo>
                <a:cubicBezTo>
                  <a:pt x="28" y="37"/>
                  <a:pt x="17" y="39"/>
                  <a:pt x="10" y="34"/>
                </a:cubicBezTo>
                <a:cubicBezTo>
                  <a:pt x="2" y="28"/>
                  <a:pt x="0" y="18"/>
                  <a:pt x="5" y="10"/>
                </a:cubicBezTo>
                <a:cubicBezTo>
                  <a:pt x="11" y="2"/>
                  <a:pt x="22" y="0"/>
                  <a:pt x="29" y="6"/>
                </a:cubicBezTo>
                <a:cubicBezTo>
                  <a:pt x="37" y="11"/>
                  <a:pt x="39" y="22"/>
                  <a:pt x="34" y="30"/>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29" name="Freeform 238"/>
          <p:cNvSpPr/>
          <p:nvPr/>
        </p:nvSpPr>
        <p:spPr>
          <a:xfrm>
            <a:off x="15327360" y="9441000"/>
            <a:ext cx="395280" cy="390240"/>
          </a:xfrm>
          <a:custGeom>
            <a:avLst/>
            <a:gdLst/>
            <a:ahLst/>
            <a:rect l="l" t="t" r="r" b="b"/>
            <a:pathLst>
              <a:path w="45" h="45">
                <a:moveTo>
                  <a:pt x="11" y="39"/>
                </a:moveTo>
                <a:cubicBezTo>
                  <a:pt x="2" y="33"/>
                  <a:pt x="0" y="20"/>
                  <a:pt x="6" y="11"/>
                </a:cubicBezTo>
                <a:cubicBezTo>
                  <a:pt x="13" y="3"/>
                  <a:pt x="25" y="0"/>
                  <a:pt x="34" y="7"/>
                </a:cubicBezTo>
                <a:cubicBezTo>
                  <a:pt x="43" y="13"/>
                  <a:pt x="45" y="25"/>
                  <a:pt x="39" y="34"/>
                </a:cubicBezTo>
                <a:cubicBezTo>
                  <a:pt x="32" y="43"/>
                  <a:pt x="20" y="45"/>
                  <a:pt x="11" y="39"/>
                </a:cubicBezTo>
                <a:close/>
                <a:moveTo>
                  <a:pt x="31" y="11"/>
                </a:moveTo>
                <a:cubicBezTo>
                  <a:pt x="24" y="6"/>
                  <a:pt x="15" y="8"/>
                  <a:pt x="11" y="14"/>
                </a:cubicBezTo>
                <a:cubicBezTo>
                  <a:pt x="6" y="21"/>
                  <a:pt x="8" y="30"/>
                  <a:pt x="14" y="35"/>
                </a:cubicBezTo>
                <a:cubicBezTo>
                  <a:pt x="21" y="39"/>
                  <a:pt x="30" y="38"/>
                  <a:pt x="35" y="31"/>
                </a:cubicBezTo>
                <a:cubicBezTo>
                  <a:pt x="39" y="25"/>
                  <a:pt x="38" y="15"/>
                  <a:pt x="31" y="11"/>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0" name="Freeform 239"/>
          <p:cNvSpPr/>
          <p:nvPr/>
        </p:nvSpPr>
        <p:spPr>
          <a:xfrm>
            <a:off x="15092280" y="9839160"/>
            <a:ext cx="343080" cy="338400"/>
          </a:xfrm>
          <a:custGeom>
            <a:avLst/>
            <a:gdLst/>
            <a:ahLst/>
            <a:rect l="l" t="t" r="r" b="b"/>
            <a:pathLst>
              <a:path w="39" h="39">
                <a:moveTo>
                  <a:pt x="34" y="29"/>
                </a:moveTo>
                <a:cubicBezTo>
                  <a:pt x="29" y="37"/>
                  <a:pt x="18" y="39"/>
                  <a:pt x="10" y="33"/>
                </a:cubicBezTo>
                <a:cubicBezTo>
                  <a:pt x="2" y="28"/>
                  <a:pt x="0" y="17"/>
                  <a:pt x="6" y="9"/>
                </a:cubicBezTo>
                <a:cubicBezTo>
                  <a:pt x="11" y="1"/>
                  <a:pt x="22" y="0"/>
                  <a:pt x="30" y="5"/>
                </a:cubicBezTo>
                <a:cubicBezTo>
                  <a:pt x="38" y="10"/>
                  <a:pt x="39" y="21"/>
                  <a:pt x="34" y="29"/>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1" name="Freeform 240"/>
          <p:cNvSpPr/>
          <p:nvPr/>
        </p:nvSpPr>
        <p:spPr>
          <a:xfrm>
            <a:off x="15067080" y="9812160"/>
            <a:ext cx="393480" cy="395640"/>
          </a:xfrm>
          <a:custGeom>
            <a:avLst/>
            <a:gdLst/>
            <a:ahLst/>
            <a:rect l="l" t="t" r="r" b="b"/>
            <a:pathLst>
              <a:path w="45" h="45">
                <a:moveTo>
                  <a:pt x="12" y="38"/>
                </a:moveTo>
                <a:cubicBezTo>
                  <a:pt x="3" y="32"/>
                  <a:pt x="0" y="20"/>
                  <a:pt x="7" y="11"/>
                </a:cubicBezTo>
                <a:cubicBezTo>
                  <a:pt x="13" y="2"/>
                  <a:pt x="25" y="0"/>
                  <a:pt x="34" y="6"/>
                </a:cubicBezTo>
                <a:cubicBezTo>
                  <a:pt x="43" y="12"/>
                  <a:pt x="45" y="25"/>
                  <a:pt x="39" y="33"/>
                </a:cubicBezTo>
                <a:cubicBezTo>
                  <a:pt x="33" y="42"/>
                  <a:pt x="21" y="45"/>
                  <a:pt x="12" y="38"/>
                </a:cubicBezTo>
                <a:close/>
                <a:moveTo>
                  <a:pt x="31" y="10"/>
                </a:moveTo>
                <a:cubicBezTo>
                  <a:pt x="25" y="5"/>
                  <a:pt x="16" y="7"/>
                  <a:pt x="11" y="14"/>
                </a:cubicBezTo>
                <a:cubicBezTo>
                  <a:pt x="6" y="20"/>
                  <a:pt x="8" y="29"/>
                  <a:pt x="15" y="34"/>
                </a:cubicBezTo>
                <a:cubicBezTo>
                  <a:pt x="21" y="39"/>
                  <a:pt x="30" y="37"/>
                  <a:pt x="35" y="30"/>
                </a:cubicBezTo>
                <a:cubicBezTo>
                  <a:pt x="40" y="24"/>
                  <a:pt x="38" y="15"/>
                  <a:pt x="31" y="10"/>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2" name="Freeform 241"/>
          <p:cNvSpPr/>
          <p:nvPr/>
        </p:nvSpPr>
        <p:spPr>
          <a:xfrm>
            <a:off x="14841360" y="10207800"/>
            <a:ext cx="339840" cy="338040"/>
          </a:xfrm>
          <a:custGeom>
            <a:avLst/>
            <a:gdLst/>
            <a:ahLst/>
            <a:rect l="l" t="t" r="r" b="b"/>
            <a:pathLst>
              <a:path w="39" h="39">
                <a:moveTo>
                  <a:pt x="33" y="29"/>
                </a:moveTo>
                <a:cubicBezTo>
                  <a:pt x="28" y="37"/>
                  <a:pt x="17" y="39"/>
                  <a:pt x="9" y="33"/>
                </a:cubicBezTo>
                <a:cubicBezTo>
                  <a:pt x="2" y="28"/>
                  <a:pt x="0" y="17"/>
                  <a:pt x="5" y="9"/>
                </a:cubicBezTo>
                <a:cubicBezTo>
                  <a:pt x="11" y="2"/>
                  <a:pt x="21" y="0"/>
                  <a:pt x="29" y="5"/>
                </a:cubicBezTo>
                <a:cubicBezTo>
                  <a:pt x="37" y="11"/>
                  <a:pt x="39" y="21"/>
                  <a:pt x="33" y="29"/>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3" name="Freeform 242"/>
          <p:cNvSpPr/>
          <p:nvPr/>
        </p:nvSpPr>
        <p:spPr>
          <a:xfrm>
            <a:off x="14816160" y="10177560"/>
            <a:ext cx="390600" cy="393480"/>
          </a:xfrm>
          <a:custGeom>
            <a:avLst/>
            <a:gdLst/>
            <a:ahLst/>
            <a:rect l="l" t="t" r="r" b="b"/>
            <a:pathLst>
              <a:path w="45" h="45">
                <a:moveTo>
                  <a:pt x="11" y="39"/>
                </a:moveTo>
                <a:cubicBezTo>
                  <a:pt x="2" y="32"/>
                  <a:pt x="0" y="20"/>
                  <a:pt x="6" y="11"/>
                </a:cubicBezTo>
                <a:cubicBezTo>
                  <a:pt x="12" y="2"/>
                  <a:pt x="25" y="0"/>
                  <a:pt x="34" y="6"/>
                </a:cubicBezTo>
                <a:cubicBezTo>
                  <a:pt x="43" y="12"/>
                  <a:pt x="45" y="25"/>
                  <a:pt x="39" y="34"/>
                </a:cubicBezTo>
                <a:cubicBezTo>
                  <a:pt x="32" y="43"/>
                  <a:pt x="20" y="45"/>
                  <a:pt x="11" y="39"/>
                </a:cubicBezTo>
                <a:close/>
                <a:moveTo>
                  <a:pt x="31" y="10"/>
                </a:moveTo>
                <a:cubicBezTo>
                  <a:pt x="24" y="6"/>
                  <a:pt x="15" y="7"/>
                  <a:pt x="10" y="14"/>
                </a:cubicBezTo>
                <a:cubicBezTo>
                  <a:pt x="6" y="21"/>
                  <a:pt x="7" y="30"/>
                  <a:pt x="14" y="34"/>
                </a:cubicBezTo>
                <a:cubicBezTo>
                  <a:pt x="21" y="39"/>
                  <a:pt x="30" y="37"/>
                  <a:pt x="34" y="31"/>
                </a:cubicBezTo>
                <a:cubicBezTo>
                  <a:pt x="39" y="24"/>
                  <a:pt x="37" y="15"/>
                  <a:pt x="31" y="10"/>
                </a:cubicBezTo>
                <a:close/>
              </a:path>
            </a:pathLst>
          </a:custGeom>
          <a:solidFill>
            <a:srgbClr val="32475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4" name="Freeform 243"/>
          <p:cNvSpPr/>
          <p:nvPr/>
        </p:nvSpPr>
        <p:spPr>
          <a:xfrm>
            <a:off x="13736520" y="10693440"/>
            <a:ext cx="1175040" cy="1322280"/>
          </a:xfrm>
          <a:custGeom>
            <a:avLst/>
            <a:gdLst/>
            <a:ahLst/>
            <a:rect l="l" t="t" r="r" b="b"/>
            <a:pathLst>
              <a:path w="135" h="152">
                <a:moveTo>
                  <a:pt x="124" y="116"/>
                </a:moveTo>
                <a:cubicBezTo>
                  <a:pt x="115" y="68"/>
                  <a:pt x="135" y="39"/>
                  <a:pt x="135" y="39"/>
                </a:cubicBezTo>
                <a:cubicBezTo>
                  <a:pt x="107" y="20"/>
                  <a:pt x="107" y="20"/>
                  <a:pt x="107" y="20"/>
                </a:cubicBezTo>
                <a:cubicBezTo>
                  <a:pt x="79" y="0"/>
                  <a:pt x="79" y="0"/>
                  <a:pt x="79" y="0"/>
                </a:cubicBezTo>
                <a:cubicBezTo>
                  <a:pt x="79" y="0"/>
                  <a:pt x="59" y="28"/>
                  <a:pt x="11" y="37"/>
                </a:cubicBezTo>
                <a:cubicBezTo>
                  <a:pt x="11" y="37"/>
                  <a:pt x="67" y="76"/>
                  <a:pt x="0" y="113"/>
                </a:cubicBezTo>
                <a:cubicBezTo>
                  <a:pt x="48" y="104"/>
                  <a:pt x="48" y="104"/>
                  <a:pt x="48" y="104"/>
                </a:cubicBezTo>
                <a:cubicBezTo>
                  <a:pt x="56" y="152"/>
                  <a:pt x="56" y="152"/>
                  <a:pt x="56" y="152"/>
                </a:cubicBezTo>
                <a:cubicBezTo>
                  <a:pt x="67" y="76"/>
                  <a:pt x="124" y="116"/>
                  <a:pt x="124" y="116"/>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5" name="Freeform 244"/>
          <p:cNvSpPr/>
          <p:nvPr/>
        </p:nvSpPr>
        <p:spPr>
          <a:xfrm>
            <a:off x="13736520" y="10693440"/>
            <a:ext cx="932040" cy="984240"/>
          </a:xfrm>
          <a:custGeom>
            <a:avLst/>
            <a:gdLst/>
            <a:ahLst/>
            <a:rect l="l" t="t" r="r" b="b"/>
            <a:pathLst>
              <a:path w="107" h="113">
                <a:moveTo>
                  <a:pt x="79" y="0"/>
                </a:moveTo>
                <a:cubicBezTo>
                  <a:pt x="79" y="0"/>
                  <a:pt x="59" y="28"/>
                  <a:pt x="11" y="37"/>
                </a:cubicBezTo>
                <a:cubicBezTo>
                  <a:pt x="11" y="37"/>
                  <a:pt x="33" y="52"/>
                  <a:pt x="33" y="72"/>
                </a:cubicBezTo>
                <a:cubicBezTo>
                  <a:pt x="33" y="85"/>
                  <a:pt x="25" y="99"/>
                  <a:pt x="0" y="113"/>
                </a:cubicBezTo>
                <a:cubicBezTo>
                  <a:pt x="48" y="104"/>
                  <a:pt x="48" y="104"/>
                  <a:pt x="48" y="104"/>
                </a:cubicBezTo>
                <a:cubicBezTo>
                  <a:pt x="107" y="20"/>
                  <a:pt x="107" y="20"/>
                  <a:pt x="107" y="20"/>
                </a:cubicBezTo>
                <a:cubicBezTo>
                  <a:pt x="79" y="0"/>
                  <a:pt x="79" y="0"/>
                  <a:pt x="79" y="0"/>
                </a:cubicBezTo>
              </a:path>
            </a:pathLst>
          </a:custGeom>
          <a:solidFill>
            <a:srgbClr val="b2b2b2"/>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6" name="Freeform 245"/>
          <p:cNvSpPr/>
          <p:nvPr/>
        </p:nvSpPr>
        <p:spPr>
          <a:xfrm>
            <a:off x="12350880" y="10980720"/>
            <a:ext cx="2880" cy="7920"/>
          </a:xfrm>
          <a:custGeom>
            <a:avLst/>
            <a:gdLst/>
            <a:ahLst/>
            <a:rect l="l" t="t" r="r" b="b"/>
            <a:pathLst>
              <a:path w="3684"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e7e8e9"/>
          </a:solidFill>
          <a:ln w="0">
            <a:noFill/>
          </a:ln>
        </p:spPr>
        <p:style>
          <a:lnRef idx="0"/>
          <a:fillRef idx="0"/>
          <a:effectRef idx="0"/>
          <a:fontRef idx="minor"/>
        </p:style>
        <p:txBody>
          <a:bodyPr lIns="219240" rIns="219240" tIns="-101520" bIns="-101520" anchor="t">
            <a:noAutofit/>
          </a:bodyPr>
          <a:p>
            <a:endParaRPr b="0" lang="en-US" sz="3500" spc="-1" strike="noStrike">
              <a:solidFill>
                <a:srgbClr val="000000"/>
              </a:solidFill>
              <a:latin typeface="Open Sans Light"/>
            </a:endParaRPr>
          </a:p>
        </p:txBody>
      </p:sp>
      <p:sp>
        <p:nvSpPr>
          <p:cNvPr id="2637" name="Freeform 246"/>
          <p:cNvSpPr/>
          <p:nvPr/>
        </p:nvSpPr>
        <p:spPr>
          <a:xfrm>
            <a:off x="12214080" y="8420040"/>
            <a:ext cx="1444680" cy="2568600"/>
          </a:xfrm>
          <a:custGeom>
            <a:avLst/>
            <a:gdLst/>
            <a:ahLst/>
            <a:rect l="l" t="t" r="r" b="b"/>
            <a:pathLst>
              <a:path w="166" h="295">
                <a:moveTo>
                  <a:pt x="166" y="0"/>
                </a:moveTo>
                <a:cubicBezTo>
                  <a:pt x="154" y="2"/>
                  <a:pt x="141" y="4"/>
                  <a:pt x="129" y="7"/>
                </a:cubicBezTo>
                <a:cubicBezTo>
                  <a:pt x="113" y="111"/>
                  <a:pt x="44" y="228"/>
                  <a:pt x="0"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5"/>
                  <a:pt x="16" y="295"/>
                </a:cubicBezTo>
                <a:cubicBezTo>
                  <a:pt x="16" y="295"/>
                  <a:pt x="16" y="294"/>
                  <a:pt x="16" y="294"/>
                </a:cubicBezTo>
                <a:cubicBezTo>
                  <a:pt x="16" y="294"/>
                  <a:pt x="16" y="294"/>
                  <a:pt x="16" y="294"/>
                </a:cubicBezTo>
                <a:cubicBezTo>
                  <a:pt x="16" y="294"/>
                  <a:pt x="16" y="294"/>
                  <a:pt x="16" y="294"/>
                </a:cubicBezTo>
                <a:cubicBezTo>
                  <a:pt x="16" y="294"/>
                  <a:pt x="16" y="294"/>
                  <a:pt x="16" y="294"/>
                </a:cubicBezTo>
                <a:cubicBezTo>
                  <a:pt x="16" y="294"/>
                  <a:pt x="16" y="294"/>
                  <a:pt x="16" y="294"/>
                </a:cubicBezTo>
                <a:cubicBezTo>
                  <a:pt x="16" y="294"/>
                  <a:pt x="16" y="294"/>
                  <a:pt x="16" y="294"/>
                </a:cubicBezTo>
                <a:cubicBezTo>
                  <a:pt x="24" y="285"/>
                  <a:pt x="139" y="133"/>
                  <a:pt x="166" y="0"/>
                </a:cubicBezTo>
              </a:path>
            </a:pathLst>
          </a:custGeom>
          <a:solidFill>
            <a:srgbClr val="8b8688"/>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8" name="Freeform 247"/>
          <p:cNvSpPr/>
          <p:nvPr/>
        </p:nvSpPr>
        <p:spPr>
          <a:xfrm>
            <a:off x="12119040" y="8483760"/>
            <a:ext cx="1216080" cy="2504880"/>
          </a:xfrm>
          <a:custGeom>
            <a:avLst/>
            <a:gdLst/>
            <a:ahLst/>
            <a:rect l="l" t="t" r="r" b="b"/>
            <a:pathLst>
              <a:path w="140" h="288">
                <a:moveTo>
                  <a:pt x="140" y="0"/>
                </a:moveTo>
                <a:cubicBezTo>
                  <a:pt x="124" y="3"/>
                  <a:pt x="107" y="7"/>
                  <a:pt x="90" y="11"/>
                </a:cubicBezTo>
                <a:cubicBezTo>
                  <a:pt x="77" y="112"/>
                  <a:pt x="30" y="223"/>
                  <a:pt x="0" y="288"/>
                </a:cubicBezTo>
                <a:cubicBezTo>
                  <a:pt x="11" y="288"/>
                  <a:pt x="11" y="288"/>
                  <a:pt x="11" y="288"/>
                </a:cubicBezTo>
                <a:cubicBezTo>
                  <a:pt x="55" y="221"/>
                  <a:pt x="124" y="104"/>
                  <a:pt x="140" y="0"/>
                </a:cubicBezTo>
              </a:path>
            </a:pathLst>
          </a:custGeom>
          <a:solidFill>
            <a:srgbClr val="9f9a99"/>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39" name="Freeform 248"/>
          <p:cNvSpPr/>
          <p:nvPr/>
        </p:nvSpPr>
        <p:spPr>
          <a:xfrm>
            <a:off x="11396520" y="10988640"/>
            <a:ext cx="3240" cy="3240"/>
          </a:xfrm>
          <a:custGeom>
            <a:avLst/>
            <a:gdLst/>
            <a:ahLst/>
            <a:rect l="l" t="t" r="r" b="b"/>
            <a:pathLst>
              <a:path w="3684" h="3684">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e7e8e9"/>
          </a:solidFill>
          <a:ln w="0">
            <a:noFill/>
          </a:ln>
        </p:spPr>
        <p:style>
          <a:lnRef idx="0"/>
          <a:fillRef idx="0"/>
          <a:effectRef idx="0"/>
          <a:fontRef idx="minor"/>
        </p:style>
        <p:txBody>
          <a:bodyPr lIns="219240" rIns="219240" tIns="-106200" bIns="-106200" anchor="t">
            <a:noAutofit/>
          </a:bodyPr>
          <a:p>
            <a:endParaRPr b="0" lang="en-US" sz="3500" spc="-1" strike="noStrike">
              <a:solidFill>
                <a:srgbClr val="000000"/>
              </a:solidFill>
              <a:latin typeface="Open Sans Light"/>
            </a:endParaRPr>
          </a:p>
        </p:txBody>
      </p:sp>
      <p:sp>
        <p:nvSpPr>
          <p:cNvPr id="2640" name="Freeform 255"/>
          <p:cNvSpPr/>
          <p:nvPr/>
        </p:nvSpPr>
        <p:spPr>
          <a:xfrm>
            <a:off x="12088800" y="8107200"/>
            <a:ext cx="2100240" cy="1347840"/>
          </a:xfrm>
          <a:custGeom>
            <a:avLst/>
            <a:gdLst/>
            <a:ahLst/>
            <a:rect l="l" t="t" r="r" b="b"/>
            <a:pathLst>
              <a:path w="241" h="155">
                <a:moveTo>
                  <a:pt x="190" y="44"/>
                </a:moveTo>
                <a:cubicBezTo>
                  <a:pt x="178" y="18"/>
                  <a:pt x="151" y="0"/>
                  <a:pt x="121" y="0"/>
                </a:cubicBezTo>
                <a:cubicBezTo>
                  <a:pt x="83" y="0"/>
                  <a:pt x="52" y="28"/>
                  <a:pt x="45" y="64"/>
                </a:cubicBezTo>
                <a:cubicBezTo>
                  <a:pt x="45" y="64"/>
                  <a:pt x="45" y="64"/>
                  <a:pt x="44" y="64"/>
                </a:cubicBezTo>
                <a:cubicBezTo>
                  <a:pt x="20" y="64"/>
                  <a:pt x="0" y="84"/>
                  <a:pt x="0" y="108"/>
                </a:cubicBezTo>
                <a:cubicBezTo>
                  <a:pt x="0" y="132"/>
                  <a:pt x="20" y="155"/>
                  <a:pt x="44" y="155"/>
                </a:cubicBezTo>
                <a:cubicBezTo>
                  <a:pt x="175" y="155"/>
                  <a:pt x="175" y="155"/>
                  <a:pt x="175" y="155"/>
                </a:cubicBezTo>
                <a:cubicBezTo>
                  <a:pt x="219" y="155"/>
                  <a:pt x="241" y="130"/>
                  <a:pt x="241" y="99"/>
                </a:cubicBezTo>
                <a:cubicBezTo>
                  <a:pt x="241" y="70"/>
                  <a:pt x="218" y="46"/>
                  <a:pt x="190" y="44"/>
                </a:cubicBezTo>
                <a:close/>
              </a:path>
            </a:pathLst>
          </a:custGeom>
          <a:solidFill>
            <a:srgbClr val="ffffff"/>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1" name="Freeform 256"/>
          <p:cNvSpPr/>
          <p:nvPr/>
        </p:nvSpPr>
        <p:spPr>
          <a:xfrm>
            <a:off x="11231640" y="11466360"/>
            <a:ext cx="1278000" cy="959040"/>
          </a:xfrm>
          <a:custGeom>
            <a:avLst/>
            <a:gdLst/>
            <a:ahLst/>
            <a:rect l="l" t="t" r="r" b="b"/>
            <a:pathLst>
              <a:path w="147" h="110">
                <a:moveTo>
                  <a:pt x="147" y="96"/>
                </a:moveTo>
                <a:cubicBezTo>
                  <a:pt x="147" y="104"/>
                  <a:pt x="141" y="110"/>
                  <a:pt x="133" y="110"/>
                </a:cubicBezTo>
                <a:cubicBezTo>
                  <a:pt x="14" y="110"/>
                  <a:pt x="14" y="110"/>
                  <a:pt x="14" y="110"/>
                </a:cubicBezTo>
                <a:cubicBezTo>
                  <a:pt x="7" y="110"/>
                  <a:pt x="0" y="104"/>
                  <a:pt x="0" y="96"/>
                </a:cubicBezTo>
                <a:cubicBezTo>
                  <a:pt x="0" y="13"/>
                  <a:pt x="0" y="13"/>
                  <a:pt x="0" y="13"/>
                </a:cubicBezTo>
                <a:cubicBezTo>
                  <a:pt x="0" y="6"/>
                  <a:pt x="7" y="0"/>
                  <a:pt x="14" y="0"/>
                </a:cubicBezTo>
                <a:cubicBezTo>
                  <a:pt x="133" y="0"/>
                  <a:pt x="133" y="0"/>
                  <a:pt x="133" y="0"/>
                </a:cubicBezTo>
                <a:cubicBezTo>
                  <a:pt x="141" y="0"/>
                  <a:pt x="147" y="6"/>
                  <a:pt x="147" y="13"/>
                </a:cubicBezTo>
                <a:cubicBezTo>
                  <a:pt x="147" y="96"/>
                  <a:pt x="147" y="96"/>
                  <a:pt x="147" y="96"/>
                </a:cubicBezTo>
              </a:path>
            </a:pathLst>
          </a:custGeom>
          <a:solidFill>
            <a:srgbClr val="969696"/>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2" name="Freeform 257"/>
          <p:cNvSpPr/>
          <p:nvPr/>
        </p:nvSpPr>
        <p:spPr>
          <a:xfrm>
            <a:off x="11856960" y="11466360"/>
            <a:ext cx="652680" cy="959040"/>
          </a:xfrm>
          <a:custGeom>
            <a:avLst/>
            <a:gdLst/>
            <a:ahLst/>
            <a:rect l="l" t="t" r="r" b="b"/>
            <a:pathLst>
              <a:path w="75" h="110">
                <a:moveTo>
                  <a:pt x="61" y="0"/>
                </a:moveTo>
                <a:cubicBezTo>
                  <a:pt x="55" y="0"/>
                  <a:pt x="55" y="0"/>
                  <a:pt x="55" y="0"/>
                </a:cubicBezTo>
                <a:cubicBezTo>
                  <a:pt x="53" y="0"/>
                  <a:pt x="53" y="0"/>
                  <a:pt x="53" y="0"/>
                </a:cubicBezTo>
                <a:cubicBezTo>
                  <a:pt x="0" y="0"/>
                  <a:pt x="0" y="0"/>
                  <a:pt x="0" y="0"/>
                </a:cubicBezTo>
                <a:cubicBezTo>
                  <a:pt x="0" y="110"/>
                  <a:pt x="0" y="110"/>
                  <a:pt x="0" y="110"/>
                </a:cubicBezTo>
                <a:cubicBezTo>
                  <a:pt x="61" y="110"/>
                  <a:pt x="61" y="110"/>
                  <a:pt x="61" y="110"/>
                </a:cubicBezTo>
                <a:cubicBezTo>
                  <a:pt x="69" y="110"/>
                  <a:pt x="75" y="104"/>
                  <a:pt x="75" y="96"/>
                </a:cubicBezTo>
                <a:cubicBezTo>
                  <a:pt x="75" y="13"/>
                  <a:pt x="75" y="13"/>
                  <a:pt x="75" y="13"/>
                </a:cubicBezTo>
                <a:cubicBezTo>
                  <a:pt x="75" y="6"/>
                  <a:pt x="69" y="0"/>
                  <a:pt x="61" y="0"/>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3" name="Freeform 258"/>
          <p:cNvSpPr/>
          <p:nvPr/>
        </p:nvSpPr>
        <p:spPr>
          <a:xfrm>
            <a:off x="9794880" y="7134120"/>
            <a:ext cx="511200" cy="1941480"/>
          </a:xfrm>
          <a:custGeom>
            <a:avLst/>
            <a:gdLst/>
            <a:ahLst/>
            <a:rect l="l" t="t" r="r" b="b"/>
            <a:pathLst>
              <a:path w="59" h="223">
                <a:moveTo>
                  <a:pt x="53" y="0"/>
                </a:moveTo>
                <a:cubicBezTo>
                  <a:pt x="0" y="44"/>
                  <a:pt x="1" y="117"/>
                  <a:pt x="24" y="192"/>
                </a:cubicBezTo>
                <a:cubicBezTo>
                  <a:pt x="44" y="192"/>
                  <a:pt x="44" y="192"/>
                  <a:pt x="44" y="192"/>
                </a:cubicBezTo>
                <a:cubicBezTo>
                  <a:pt x="44" y="197"/>
                  <a:pt x="44" y="197"/>
                  <a:pt x="44" y="197"/>
                </a:cubicBezTo>
                <a:cubicBezTo>
                  <a:pt x="26" y="197"/>
                  <a:pt x="26" y="197"/>
                  <a:pt x="26" y="197"/>
                </a:cubicBezTo>
                <a:cubicBezTo>
                  <a:pt x="29" y="206"/>
                  <a:pt x="32" y="214"/>
                  <a:pt x="35" y="223"/>
                </a:cubicBezTo>
                <a:cubicBezTo>
                  <a:pt x="56" y="223"/>
                  <a:pt x="56" y="223"/>
                  <a:pt x="56" y="223"/>
                </a:cubicBezTo>
                <a:cubicBezTo>
                  <a:pt x="26" y="147"/>
                  <a:pt x="13" y="68"/>
                  <a:pt x="51" y="14"/>
                </a:cubicBezTo>
                <a:cubicBezTo>
                  <a:pt x="51" y="14"/>
                  <a:pt x="51" y="14"/>
                  <a:pt x="51" y="14"/>
                </a:cubicBezTo>
                <a:cubicBezTo>
                  <a:pt x="51" y="14"/>
                  <a:pt x="51" y="14"/>
                  <a:pt x="51" y="14"/>
                </a:cubicBezTo>
                <a:cubicBezTo>
                  <a:pt x="51" y="14"/>
                  <a:pt x="51" y="14"/>
                  <a:pt x="51" y="14"/>
                </a:cubicBezTo>
                <a:cubicBezTo>
                  <a:pt x="51" y="14"/>
                  <a:pt x="51" y="14"/>
                  <a:pt x="51" y="14"/>
                </a:cubicBezTo>
                <a:cubicBezTo>
                  <a:pt x="52" y="14"/>
                  <a:pt x="52" y="14"/>
                  <a:pt x="52" y="14"/>
                </a:cubicBezTo>
                <a:cubicBezTo>
                  <a:pt x="52" y="14"/>
                  <a:pt x="52" y="14"/>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3"/>
                  <a:pt x="52" y="13"/>
                  <a:pt x="52" y="13"/>
                </a:cubicBezTo>
                <a:cubicBezTo>
                  <a:pt x="52" y="12"/>
                  <a:pt x="52" y="12"/>
                  <a:pt x="52" y="12"/>
                </a:cubicBezTo>
                <a:cubicBezTo>
                  <a:pt x="52" y="12"/>
                  <a:pt x="52" y="12"/>
                  <a:pt x="52" y="12"/>
                </a:cubicBezTo>
                <a:cubicBezTo>
                  <a:pt x="52" y="12"/>
                  <a:pt x="53" y="12"/>
                  <a:pt x="53" y="12"/>
                </a:cubicBezTo>
                <a:cubicBezTo>
                  <a:pt x="53" y="12"/>
                  <a:pt x="53" y="12"/>
                  <a:pt x="53" y="12"/>
                </a:cubicBezTo>
                <a:cubicBezTo>
                  <a:pt x="53" y="12"/>
                  <a:pt x="53" y="12"/>
                  <a:pt x="53" y="12"/>
                </a:cubicBezTo>
                <a:cubicBezTo>
                  <a:pt x="53" y="12"/>
                  <a:pt x="53" y="12"/>
                  <a:pt x="53" y="12"/>
                </a:cubicBezTo>
                <a:cubicBezTo>
                  <a:pt x="55" y="9"/>
                  <a:pt x="57" y="7"/>
                  <a:pt x="59" y="4"/>
                </a:cubicBezTo>
                <a:cubicBezTo>
                  <a:pt x="57" y="3"/>
                  <a:pt x="55" y="1"/>
                  <a:pt x="53" y="0"/>
                </a:cubicBezTo>
              </a:path>
            </a:pathLst>
          </a:custGeom>
          <a:solidFill>
            <a:srgbClr val="ddddd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4" name="Freeform 259"/>
          <p:cNvSpPr/>
          <p:nvPr/>
        </p:nvSpPr>
        <p:spPr>
          <a:xfrm>
            <a:off x="10004400" y="8804160"/>
            <a:ext cx="173160" cy="42840"/>
          </a:xfrm>
          <a:custGeom>
            <a:avLst/>
            <a:gdLst/>
            <a:ahLst/>
            <a:rect l="l" t="t" r="r" b="b"/>
            <a:pathLst>
              <a:path w="20" h="5">
                <a:moveTo>
                  <a:pt x="20" y="0"/>
                </a:moveTo>
                <a:cubicBezTo>
                  <a:pt x="0" y="0"/>
                  <a:pt x="0" y="0"/>
                  <a:pt x="0" y="0"/>
                </a:cubicBezTo>
                <a:cubicBezTo>
                  <a:pt x="1" y="1"/>
                  <a:pt x="1" y="3"/>
                  <a:pt x="2" y="5"/>
                </a:cubicBezTo>
                <a:cubicBezTo>
                  <a:pt x="20" y="5"/>
                  <a:pt x="20" y="5"/>
                  <a:pt x="20" y="5"/>
                </a:cubicBezTo>
                <a:cubicBezTo>
                  <a:pt x="20" y="0"/>
                  <a:pt x="20" y="0"/>
                  <a:pt x="20" y="0"/>
                </a:cubicBezTo>
              </a:path>
            </a:pathLst>
          </a:custGeom>
          <a:solidFill>
            <a:srgbClr val="d7dce0"/>
          </a:solidFill>
          <a:ln w="0">
            <a:noFill/>
          </a:ln>
        </p:spPr>
        <p:style>
          <a:lnRef idx="0"/>
          <a:fillRef idx="0"/>
          <a:effectRef idx="0"/>
          <a:fontRef idx="minor"/>
        </p:style>
        <p:txBody>
          <a:bodyPr lIns="219240" rIns="219240" tIns="-66600" bIns="-66600" anchor="t">
            <a:noAutofit/>
          </a:bodyPr>
          <a:p>
            <a:endParaRPr b="0" lang="en-US" sz="3500" spc="-1" strike="noStrike">
              <a:solidFill>
                <a:srgbClr val="000000"/>
              </a:solidFill>
              <a:latin typeface="Open Sans Light"/>
            </a:endParaRPr>
          </a:p>
        </p:txBody>
      </p:sp>
      <p:sp>
        <p:nvSpPr>
          <p:cNvPr id="2645" name="Freeform 260"/>
          <p:cNvSpPr/>
          <p:nvPr/>
        </p:nvSpPr>
        <p:spPr>
          <a:xfrm>
            <a:off x="9907560" y="7237440"/>
            <a:ext cx="372960" cy="1838160"/>
          </a:xfrm>
          <a:custGeom>
            <a:avLst/>
            <a:gdLst/>
            <a:ahLst/>
            <a:rect l="l" t="t" r="r" b="b"/>
            <a:pathLst>
              <a:path w="43" h="211">
                <a:moveTo>
                  <a:pt x="38" y="2"/>
                </a:moveTo>
                <a:cubicBezTo>
                  <a:pt x="0" y="56"/>
                  <a:pt x="13" y="135"/>
                  <a:pt x="43" y="211"/>
                </a:cubicBezTo>
                <a:cubicBezTo>
                  <a:pt x="43" y="211"/>
                  <a:pt x="43" y="211"/>
                  <a:pt x="43" y="211"/>
                </a:cubicBezTo>
                <a:cubicBezTo>
                  <a:pt x="13" y="135"/>
                  <a:pt x="0" y="56"/>
                  <a:pt x="38" y="2"/>
                </a:cubicBezTo>
                <a:moveTo>
                  <a:pt x="38" y="2"/>
                </a:moveTo>
                <a:cubicBezTo>
                  <a:pt x="38" y="2"/>
                  <a:pt x="38" y="2"/>
                  <a:pt x="38" y="2"/>
                </a:cubicBezTo>
                <a:cubicBezTo>
                  <a:pt x="38" y="2"/>
                  <a:pt x="38" y="2"/>
                  <a:pt x="38" y="2"/>
                </a:cubicBezTo>
                <a:moveTo>
                  <a:pt x="38" y="2"/>
                </a:moveTo>
                <a:cubicBezTo>
                  <a:pt x="38" y="2"/>
                  <a:pt x="38" y="2"/>
                  <a:pt x="38" y="2"/>
                </a:cubicBezTo>
                <a:cubicBezTo>
                  <a:pt x="38" y="2"/>
                  <a:pt x="38" y="2"/>
                  <a:pt x="38" y="2"/>
                </a:cubicBezTo>
                <a:moveTo>
                  <a:pt x="39" y="1"/>
                </a:moveTo>
                <a:cubicBezTo>
                  <a:pt x="39" y="2"/>
                  <a:pt x="39" y="2"/>
                  <a:pt x="39" y="2"/>
                </a:cubicBezTo>
                <a:cubicBezTo>
                  <a:pt x="39" y="2"/>
                  <a:pt x="39" y="2"/>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1"/>
                </a:moveTo>
                <a:cubicBezTo>
                  <a:pt x="39" y="1"/>
                  <a:pt x="39" y="1"/>
                  <a:pt x="39" y="1"/>
                </a:cubicBezTo>
                <a:cubicBezTo>
                  <a:pt x="39" y="1"/>
                  <a:pt x="39" y="1"/>
                  <a:pt x="39" y="1"/>
                </a:cubicBezTo>
                <a:moveTo>
                  <a:pt x="39" y="0"/>
                </a:moveTo>
                <a:cubicBezTo>
                  <a:pt x="39" y="0"/>
                  <a:pt x="39" y="0"/>
                  <a:pt x="39" y="0"/>
                </a:cubicBezTo>
                <a:cubicBezTo>
                  <a:pt x="39" y="0"/>
                  <a:pt x="39" y="0"/>
                  <a:pt x="39" y="0"/>
                </a:cubicBezTo>
                <a:moveTo>
                  <a:pt x="40" y="0"/>
                </a:moveTo>
                <a:cubicBezTo>
                  <a:pt x="40" y="0"/>
                  <a:pt x="40" y="0"/>
                  <a:pt x="40" y="0"/>
                </a:cubicBezTo>
                <a:cubicBezTo>
                  <a:pt x="40" y="0"/>
                  <a:pt x="40" y="0"/>
                  <a:pt x="40" y="0"/>
                </a:cubicBezTo>
                <a:moveTo>
                  <a:pt x="40" y="0"/>
                </a:moveTo>
                <a:cubicBezTo>
                  <a:pt x="40" y="0"/>
                  <a:pt x="40" y="0"/>
                  <a:pt x="40" y="0"/>
                </a:cubicBezTo>
                <a:cubicBezTo>
                  <a:pt x="40" y="0"/>
                  <a:pt x="40" y="0"/>
                  <a:pt x="40" y="0"/>
                </a:cubicBezTo>
              </a:path>
            </a:pathLst>
          </a:custGeom>
          <a:solidFill>
            <a:srgbClr val="2d3e4b"/>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6" name="Oval 530"/>
          <p:cNvSpPr/>
          <p:nvPr/>
        </p:nvSpPr>
        <p:spPr>
          <a:xfrm>
            <a:off x="4249800" y="4681440"/>
            <a:ext cx="1531800" cy="152892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47" name="Freeform 531"/>
          <p:cNvSpPr/>
          <p:nvPr/>
        </p:nvSpPr>
        <p:spPr>
          <a:xfrm>
            <a:off x="5016600" y="4681440"/>
            <a:ext cx="765000" cy="1303560"/>
          </a:xfrm>
          <a:custGeom>
            <a:avLst/>
            <a:gdLst/>
            <a:ahLst/>
            <a:rect l="l" t="t" r="r" b="b"/>
            <a:pathLst>
              <a:path w="88" h="150">
                <a:moveTo>
                  <a:pt x="62" y="150"/>
                </a:moveTo>
                <a:cubicBezTo>
                  <a:pt x="78" y="134"/>
                  <a:pt x="88" y="112"/>
                  <a:pt x="88" y="88"/>
                </a:cubicBezTo>
                <a:cubicBezTo>
                  <a:pt x="88" y="39"/>
                  <a:pt x="48" y="0"/>
                  <a:pt x="0" y="0"/>
                </a:cubicBezTo>
                <a:cubicBezTo>
                  <a:pt x="0" y="88"/>
                  <a:pt x="0" y="88"/>
                  <a:pt x="0" y="88"/>
                </a:cubicBezTo>
                <a:cubicBezTo>
                  <a:pt x="62" y="150"/>
                  <a:pt x="62" y="150"/>
                  <a:pt x="62" y="150"/>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48" name="Oval 532"/>
          <p:cNvSpPr/>
          <p:nvPr/>
        </p:nvSpPr>
        <p:spPr>
          <a:xfrm>
            <a:off x="4352760" y="4776840"/>
            <a:ext cx="1325880" cy="133020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49" name="Oval 537"/>
          <p:cNvSpPr/>
          <p:nvPr/>
        </p:nvSpPr>
        <p:spPr>
          <a:xfrm>
            <a:off x="18599040" y="4297320"/>
            <a:ext cx="1533600" cy="153360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0" name="Freeform 538"/>
          <p:cNvSpPr/>
          <p:nvPr/>
        </p:nvSpPr>
        <p:spPr>
          <a:xfrm>
            <a:off x="18635760" y="4297320"/>
            <a:ext cx="1496880" cy="1533600"/>
          </a:xfrm>
          <a:custGeom>
            <a:avLst/>
            <a:gdLst/>
            <a:ahLst/>
            <a:rect l="l" t="t" r="r" b="b"/>
            <a:pathLst>
              <a:path w="172" h="176">
                <a:moveTo>
                  <a:pt x="0" y="116"/>
                </a:moveTo>
                <a:cubicBezTo>
                  <a:pt x="12" y="150"/>
                  <a:pt x="45" y="176"/>
                  <a:pt x="84" y="176"/>
                </a:cubicBezTo>
                <a:cubicBezTo>
                  <a:pt x="132" y="176"/>
                  <a:pt x="172" y="136"/>
                  <a:pt x="172" y="88"/>
                </a:cubicBezTo>
                <a:cubicBezTo>
                  <a:pt x="172" y="39"/>
                  <a:pt x="132" y="0"/>
                  <a:pt x="84" y="0"/>
                </a:cubicBezTo>
                <a:cubicBezTo>
                  <a:pt x="84" y="88"/>
                  <a:pt x="84" y="88"/>
                  <a:pt x="84" y="88"/>
                </a:cubicBezTo>
                <a:cubicBezTo>
                  <a:pt x="0" y="116"/>
                  <a:pt x="0" y="116"/>
                  <a:pt x="0" y="116"/>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1" name="Oval 539"/>
          <p:cNvSpPr/>
          <p:nvPr/>
        </p:nvSpPr>
        <p:spPr>
          <a:xfrm>
            <a:off x="18695880" y="4394160"/>
            <a:ext cx="1333440" cy="132876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2" name="Oval 543"/>
          <p:cNvSpPr/>
          <p:nvPr/>
        </p:nvSpPr>
        <p:spPr>
          <a:xfrm>
            <a:off x="6415200" y="9882360"/>
            <a:ext cx="1533240" cy="153324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3" name="Freeform 544"/>
          <p:cNvSpPr/>
          <p:nvPr/>
        </p:nvSpPr>
        <p:spPr>
          <a:xfrm>
            <a:off x="6939000" y="9882360"/>
            <a:ext cx="1009440" cy="1533240"/>
          </a:xfrm>
          <a:custGeom>
            <a:avLst/>
            <a:gdLst/>
            <a:ahLst/>
            <a:rect l="l" t="t" r="r" b="b"/>
            <a:pathLst>
              <a:path w="116" h="176">
                <a:moveTo>
                  <a:pt x="0" y="171"/>
                </a:moveTo>
                <a:cubicBezTo>
                  <a:pt x="9" y="174"/>
                  <a:pt x="18" y="176"/>
                  <a:pt x="28" y="176"/>
                </a:cubicBezTo>
                <a:cubicBezTo>
                  <a:pt x="76" y="176"/>
                  <a:pt x="116" y="136"/>
                  <a:pt x="116" y="88"/>
                </a:cubicBezTo>
                <a:cubicBezTo>
                  <a:pt x="116" y="39"/>
                  <a:pt x="76" y="0"/>
                  <a:pt x="28" y="0"/>
                </a:cubicBezTo>
                <a:cubicBezTo>
                  <a:pt x="28" y="88"/>
                  <a:pt x="28" y="88"/>
                  <a:pt x="28" y="88"/>
                </a:cubicBezTo>
                <a:cubicBezTo>
                  <a:pt x="0" y="171"/>
                  <a:pt x="0" y="171"/>
                  <a:pt x="0" y="171"/>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4" name="Oval 545"/>
          <p:cNvSpPr/>
          <p:nvPr/>
        </p:nvSpPr>
        <p:spPr>
          <a:xfrm>
            <a:off x="6523200" y="9979200"/>
            <a:ext cx="1322280" cy="133020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5" name="Oval 549"/>
          <p:cNvSpPr/>
          <p:nvPr/>
        </p:nvSpPr>
        <p:spPr>
          <a:xfrm>
            <a:off x="17932320" y="8885160"/>
            <a:ext cx="1528920" cy="1528920"/>
          </a:xfrm>
          <a:prstGeom prst="ellipse">
            <a:avLst/>
          </a:prstGeom>
          <a:solidFill>
            <a:srgbClr val="dddddd"/>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6" name="Freeform 550"/>
          <p:cNvSpPr/>
          <p:nvPr/>
        </p:nvSpPr>
        <p:spPr>
          <a:xfrm>
            <a:off x="18695880" y="8885160"/>
            <a:ext cx="503280" cy="762120"/>
          </a:xfrm>
          <a:custGeom>
            <a:avLst/>
            <a:gdLst/>
            <a:ahLst/>
            <a:rect l="l" t="t" r="r" b="b"/>
            <a:pathLst>
              <a:path w="58" h="88">
                <a:moveTo>
                  <a:pt x="58" y="22"/>
                </a:moveTo>
                <a:cubicBezTo>
                  <a:pt x="42" y="9"/>
                  <a:pt x="22" y="0"/>
                  <a:pt x="0" y="0"/>
                </a:cubicBezTo>
                <a:cubicBezTo>
                  <a:pt x="0" y="88"/>
                  <a:pt x="0" y="88"/>
                  <a:pt x="0" y="88"/>
                </a:cubicBezTo>
                <a:cubicBezTo>
                  <a:pt x="58" y="22"/>
                  <a:pt x="58" y="22"/>
                  <a:pt x="58" y="22"/>
                </a:cubicBezTo>
              </a:path>
            </a:pathLst>
          </a:custGeom>
          <a:solidFill>
            <a:srgbClr val="4d4d4d"/>
          </a:solidFill>
          <a:ln w="0">
            <a:noFill/>
          </a:ln>
        </p:spPr>
        <p:style>
          <a:lnRef idx="0"/>
          <a:fillRef idx="0"/>
          <a:effectRef idx="0"/>
          <a:fontRef idx="minor"/>
        </p:style>
        <p:txBody>
          <a:bodyPr lIns="219240" rIns="219240" tIns="109440" bIns="109440" anchor="t">
            <a:noAutofit/>
          </a:bodyPr>
          <a:p>
            <a:endParaRPr b="0" lang="en-US" sz="3500" spc="-1" strike="noStrike">
              <a:solidFill>
                <a:srgbClr val="000000"/>
              </a:solidFill>
              <a:latin typeface="Open Sans Light"/>
            </a:endParaRPr>
          </a:p>
        </p:txBody>
      </p:sp>
      <p:sp>
        <p:nvSpPr>
          <p:cNvPr id="2657" name="Oval 551"/>
          <p:cNvSpPr/>
          <p:nvPr/>
        </p:nvSpPr>
        <p:spPr>
          <a:xfrm>
            <a:off x="18035640" y="8988480"/>
            <a:ext cx="1322280" cy="1328760"/>
          </a:xfrm>
          <a:prstGeom prst="ellipse">
            <a:avLst/>
          </a:prstGeom>
          <a:solidFill>
            <a:srgbClr val="f5f5f5"/>
          </a:solidFill>
          <a:ln w="0">
            <a:noFill/>
          </a:ln>
        </p:spPr>
        <p:style>
          <a:lnRef idx="0"/>
          <a:fillRef idx="0"/>
          <a:effectRef idx="0"/>
          <a:fontRef idx="minor"/>
        </p:style>
        <p:txBody>
          <a:bodyPr lIns="219600" rIns="219600" tIns="109800" bIns="109800" anchor="t">
            <a:noAutofit/>
          </a:bodyPr>
          <a:p>
            <a:pP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65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CLOUD INFOGRAPHICS</a:t>
            </a:r>
            <a:endParaRPr b="0" lang="en-US" sz="6600" spc="-1" strike="noStrike">
              <a:solidFill>
                <a:srgbClr val="000000"/>
              </a:solidFill>
              <a:latin typeface="Open Sans Light"/>
            </a:endParaRPr>
          </a:p>
        </p:txBody>
      </p:sp>
      <p:sp>
        <p:nvSpPr>
          <p:cNvPr id="2659" name="Rectangle 556"/>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sp>
        <p:nvSpPr>
          <p:cNvPr id="2660" name="TextBox 563"/>
          <p:cNvSpPr/>
          <p:nvPr/>
        </p:nvSpPr>
        <p:spPr>
          <a:xfrm>
            <a:off x="18827640" y="479844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69%</a:t>
            </a:r>
            <a:endParaRPr b="0" lang="en-US" sz="3300" spc="-1" strike="noStrike">
              <a:solidFill>
                <a:srgbClr val="000000"/>
              </a:solidFill>
              <a:latin typeface="Open Sans Light"/>
            </a:endParaRPr>
          </a:p>
        </p:txBody>
      </p:sp>
      <p:sp>
        <p:nvSpPr>
          <p:cNvPr id="2661" name="TextBox 564"/>
          <p:cNvSpPr/>
          <p:nvPr/>
        </p:nvSpPr>
        <p:spPr>
          <a:xfrm>
            <a:off x="4452840" y="518256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37%</a:t>
            </a:r>
            <a:endParaRPr b="0" lang="en-US" sz="3300" spc="-1" strike="noStrike">
              <a:solidFill>
                <a:srgbClr val="000000"/>
              </a:solidFill>
              <a:latin typeface="Open Sans Light"/>
            </a:endParaRPr>
          </a:p>
        </p:txBody>
      </p:sp>
      <p:sp>
        <p:nvSpPr>
          <p:cNvPr id="2662" name="TextBox 565"/>
          <p:cNvSpPr/>
          <p:nvPr/>
        </p:nvSpPr>
        <p:spPr>
          <a:xfrm>
            <a:off x="6647040" y="10422000"/>
            <a:ext cx="109836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55%</a:t>
            </a:r>
            <a:endParaRPr b="0" lang="en-US" sz="3300" spc="-1" strike="noStrike">
              <a:solidFill>
                <a:srgbClr val="000000"/>
              </a:solidFill>
              <a:latin typeface="Open Sans Light"/>
            </a:endParaRPr>
          </a:p>
        </p:txBody>
      </p:sp>
      <p:sp>
        <p:nvSpPr>
          <p:cNvPr id="2663" name="TextBox 566"/>
          <p:cNvSpPr/>
          <p:nvPr/>
        </p:nvSpPr>
        <p:spPr>
          <a:xfrm>
            <a:off x="18178560" y="9425880"/>
            <a:ext cx="1096920" cy="502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3300" spc="-1" strike="noStrike">
                <a:solidFill>
                  <a:srgbClr val="a6a6a6"/>
                </a:solidFill>
                <a:latin typeface="Montserrat Semi Bold"/>
              </a:rPr>
              <a:t>11%</a:t>
            </a:r>
            <a:endParaRPr b="0" lang="en-US" sz="3300" spc="-1" strike="noStrike">
              <a:solidFill>
                <a:srgbClr val="000000"/>
              </a:solidFill>
              <a:latin typeface="Open Sans Light"/>
            </a:endParaRPr>
          </a:p>
        </p:txBody>
      </p:sp>
      <p:sp>
        <p:nvSpPr>
          <p:cNvPr id="2664" name="TextBox 567"/>
          <p:cNvSpPr/>
          <p:nvPr/>
        </p:nvSpPr>
        <p:spPr>
          <a:xfrm>
            <a:off x="2741760" y="6417360"/>
            <a:ext cx="419544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5" name="Subtitle 2"/>
          <p:cNvSpPr/>
          <p:nvPr/>
        </p:nvSpPr>
        <p:spPr>
          <a:xfrm>
            <a:off x="2793960" y="6811920"/>
            <a:ext cx="4091040" cy="1325520"/>
          </a:xfrm>
          <a:prstGeom prst="rect">
            <a:avLst/>
          </a:prstGeom>
          <a:noFill/>
          <a:ln w="0">
            <a:noFill/>
          </a:ln>
        </p:spPr>
        <p:style>
          <a:lnRef idx="0"/>
          <a:fillRef idx="0"/>
          <a:effectRef idx="0"/>
          <a:fontRef idx="minor"/>
        </p:style>
        <p:txBody>
          <a:bodyPr lIns="219240" rIns="219240" tIns="109800" bIns="109800" anchor="t">
            <a:normAutofit fontScale="95000"/>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66" name="TextBox 569"/>
          <p:cNvSpPr/>
          <p:nvPr/>
        </p:nvSpPr>
        <p:spPr>
          <a:xfrm>
            <a:off x="5045040" y="11629800"/>
            <a:ext cx="41148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7" name="Subtitle 2"/>
          <p:cNvSpPr/>
          <p:nvPr/>
        </p:nvSpPr>
        <p:spPr>
          <a:xfrm>
            <a:off x="4394160" y="12023640"/>
            <a:ext cx="5416560" cy="132732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68" name="TextBox 571"/>
          <p:cNvSpPr/>
          <p:nvPr/>
        </p:nvSpPr>
        <p:spPr>
          <a:xfrm>
            <a:off x="17368920" y="6097320"/>
            <a:ext cx="40734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69" name="Subtitle 2"/>
          <p:cNvSpPr/>
          <p:nvPr/>
        </p:nvSpPr>
        <p:spPr>
          <a:xfrm>
            <a:off x="17359200" y="6492960"/>
            <a:ext cx="4092840" cy="1325520"/>
          </a:xfrm>
          <a:prstGeom prst="rect">
            <a:avLst/>
          </a:prstGeom>
          <a:noFill/>
          <a:ln w="0">
            <a:noFill/>
          </a:ln>
        </p:spPr>
        <p:style>
          <a:lnRef idx="0"/>
          <a:fillRef idx="0"/>
          <a:effectRef idx="0"/>
          <a:fontRef idx="minor"/>
        </p:style>
        <p:txBody>
          <a:bodyPr lIns="219240" rIns="219240" tIns="109800" bIns="109800" anchor="t">
            <a:normAutofit fontScale="95000"/>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sp>
        <p:nvSpPr>
          <p:cNvPr id="2670" name="TextBox 573"/>
          <p:cNvSpPr/>
          <p:nvPr/>
        </p:nvSpPr>
        <p:spPr>
          <a:xfrm>
            <a:off x="16845120" y="10669320"/>
            <a:ext cx="3776400" cy="426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1827360"/>
                <a:tab algn="l" pos="3654360"/>
                <a:tab algn="l" pos="5481720"/>
                <a:tab algn="l" pos="7308720"/>
                <a:tab algn="l" pos="9136080"/>
                <a:tab algn="l" pos="10963440"/>
              </a:tabLst>
            </a:pPr>
            <a:r>
              <a:rPr b="1" lang="en-US" sz="2800" spc="-1" strike="noStrike">
                <a:solidFill>
                  <a:srgbClr val="000000"/>
                </a:solidFill>
                <a:latin typeface="Montserrat Semi Bold"/>
              </a:rPr>
              <a:t>AWESOME QUALITY</a:t>
            </a:r>
            <a:endParaRPr b="0" lang="en-US" sz="2800" spc="-1" strike="noStrike">
              <a:solidFill>
                <a:srgbClr val="000000"/>
              </a:solidFill>
              <a:latin typeface="Open Sans Light"/>
            </a:endParaRPr>
          </a:p>
        </p:txBody>
      </p:sp>
      <p:sp>
        <p:nvSpPr>
          <p:cNvPr id="2671" name="Subtitle 2"/>
          <p:cNvSpPr/>
          <p:nvPr/>
        </p:nvSpPr>
        <p:spPr>
          <a:xfrm>
            <a:off x="16024320" y="11064960"/>
            <a:ext cx="5418000" cy="1325520"/>
          </a:xfrm>
          <a:prstGeom prst="rect">
            <a:avLst/>
          </a:prstGeom>
          <a:noFill/>
          <a:ln w="0">
            <a:noFill/>
          </a:ln>
        </p:spPr>
        <p:style>
          <a:lnRef idx="0"/>
          <a:fillRef idx="0"/>
          <a:effectRef idx="0"/>
          <a:fontRef idx="minor"/>
        </p:style>
        <p:txBody>
          <a:bodyPr lIns="219240" rIns="219240" tIns="109800" bIns="109800" anchor="t">
            <a:norm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a6a6a6"/>
                </a:solidFill>
                <a:latin typeface="Open Sans Light"/>
                <a:ea typeface="Calibri"/>
              </a:rPr>
              <a:t>Lorem Ipsum is simply dummy text of the printing and typesetting industry. Lorem ipsum dolor sit amet.</a:t>
            </a:r>
            <a:endParaRPr b="0" lang="en-US" sz="1900" spc="-1" strike="noStrike">
              <a:solidFill>
                <a:srgbClr val="000000"/>
              </a:solidFill>
              <a:latin typeface="Open Sans Light"/>
            </a:endParaRPr>
          </a:p>
        </p:txBody>
      </p:sp>
      <p:pic>
        <p:nvPicPr>
          <p:cNvPr id="2672" name="Group 89"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9">
                                  <p:stCondLst>
                                    <p:cond delay="0"/>
                                  </p:stCondLst>
                                  <p:childTnLst>
                                    <p:set>
                                      <p:cBhvr>
                                        <p:cTn id="434" dur="1" fill="hold">
                                          <p:stCondLst>
                                            <p:cond delay="0"/>
                                          </p:stCondLst>
                                        </p:cTn>
                                        <p:tgtEl>
                                          <p:spTgt spid="2665"/>
                                        </p:tgtEl>
                                        <p:attrNameLst>
                                          <p:attrName>style.visibility</p:attrName>
                                        </p:attrNameLst>
                                      </p:cBhvr>
                                      <p:to>
                                        <p:strVal val="visible"/>
                                      </p:to>
                                    </p:set>
                                    <p:animEffect filter="dissolve" transition="in">
                                      <p:cBhvr additive="repl">
                                        <p:cTn id="435" dur="500"/>
                                        <p:tgtEl>
                                          <p:spTgt spid="2665"/>
                                        </p:tgtEl>
                                      </p:cBhvr>
                                    </p:animEffect>
                                  </p:childTnLst>
                                </p:cTn>
                              </p:par>
                            </p:childTnLst>
                          </p:cTn>
                        </p:par>
                        <p:par>
                          <p:cTn id="436" fill="hold">
                            <p:stCondLst>
                              <p:cond delay="500"/>
                            </p:stCondLst>
                            <p:childTnLst>
                              <p:par>
                                <p:cTn id="437" nodeType="afterEffect" fill="hold" presetClass="entr" presetID="9">
                                  <p:stCondLst>
                                    <p:cond delay="0"/>
                                  </p:stCondLst>
                                  <p:childTnLst>
                                    <p:set>
                                      <p:cBhvr>
                                        <p:cTn id="438" dur="1" fill="hold">
                                          <p:stCondLst>
                                            <p:cond delay="0"/>
                                          </p:stCondLst>
                                        </p:cTn>
                                        <p:tgtEl>
                                          <p:spTgt spid="2667"/>
                                        </p:tgtEl>
                                        <p:attrNameLst>
                                          <p:attrName>style.visibility</p:attrName>
                                        </p:attrNameLst>
                                      </p:cBhvr>
                                      <p:to>
                                        <p:strVal val="visible"/>
                                      </p:to>
                                    </p:set>
                                    <p:animEffect filter="dissolve" transition="in">
                                      <p:cBhvr additive="repl">
                                        <p:cTn id="439" dur="500"/>
                                        <p:tgtEl>
                                          <p:spTgt spid="2667"/>
                                        </p:tgtEl>
                                      </p:cBhvr>
                                    </p:animEffect>
                                  </p:childTnLst>
                                </p:cTn>
                              </p:par>
                            </p:childTnLst>
                          </p:cTn>
                        </p:par>
                        <p:par>
                          <p:cTn id="440" fill="hold">
                            <p:stCondLst>
                              <p:cond delay="1000"/>
                            </p:stCondLst>
                            <p:childTnLst>
                              <p:par>
                                <p:cTn id="441" nodeType="afterEffect" fill="hold" presetClass="entr" presetID="9">
                                  <p:stCondLst>
                                    <p:cond delay="0"/>
                                  </p:stCondLst>
                                  <p:childTnLst>
                                    <p:set>
                                      <p:cBhvr>
                                        <p:cTn id="442" dur="1" fill="hold">
                                          <p:stCondLst>
                                            <p:cond delay="0"/>
                                          </p:stCondLst>
                                        </p:cTn>
                                        <p:tgtEl>
                                          <p:spTgt spid="2669"/>
                                        </p:tgtEl>
                                        <p:attrNameLst>
                                          <p:attrName>style.visibility</p:attrName>
                                        </p:attrNameLst>
                                      </p:cBhvr>
                                      <p:to>
                                        <p:strVal val="visible"/>
                                      </p:to>
                                    </p:set>
                                    <p:animEffect filter="dissolve" transition="in">
                                      <p:cBhvr additive="repl">
                                        <p:cTn id="443" dur="500"/>
                                        <p:tgtEl>
                                          <p:spTgt spid="2669"/>
                                        </p:tgtEl>
                                      </p:cBhvr>
                                    </p:animEffect>
                                  </p:childTnLst>
                                </p:cTn>
                              </p:par>
                            </p:childTnLst>
                          </p:cTn>
                        </p:par>
                        <p:par>
                          <p:cTn id="444" fill="hold">
                            <p:stCondLst>
                              <p:cond delay="1500"/>
                            </p:stCondLst>
                            <p:childTnLst>
                              <p:par>
                                <p:cTn id="445" nodeType="afterEffect" fill="hold" presetClass="entr" presetID="9">
                                  <p:stCondLst>
                                    <p:cond delay="0"/>
                                  </p:stCondLst>
                                  <p:childTnLst>
                                    <p:set>
                                      <p:cBhvr>
                                        <p:cTn id="446" dur="1" fill="hold">
                                          <p:stCondLst>
                                            <p:cond delay="0"/>
                                          </p:stCondLst>
                                        </p:cTn>
                                        <p:tgtEl>
                                          <p:spTgt spid="2671"/>
                                        </p:tgtEl>
                                        <p:attrNameLst>
                                          <p:attrName>style.visibility</p:attrName>
                                        </p:attrNameLst>
                                      </p:cBhvr>
                                      <p:to>
                                        <p:strVal val="visible"/>
                                      </p:to>
                                    </p:set>
                                    <p:animEffect filter="dissolve" transition="in">
                                      <p:cBhvr additive="repl">
                                        <p:cTn id="447" dur="500"/>
                                        <p:tgtEl>
                                          <p:spTgt spid="2671"/>
                                        </p:tgtEl>
                                      </p:cBhvr>
                                    </p:animEffect>
                                  </p:childTnLst>
                                </p:cTn>
                              </p:par>
                            </p:childTnLst>
                          </p:cTn>
                        </p:par>
                        <p:par>
                          <p:cTn id="448" fill="hold">
                            <p:stCondLst>
                              <p:cond delay="2000"/>
                            </p:stCondLst>
                            <p:childTnLst>
                              <p:par>
                                <p:cTn id="449" nodeType="afterEffect" fill="hold" presetClass="entr" presetID="49">
                                  <p:stCondLst>
                                    <p:cond delay="0"/>
                                  </p:stCondLst>
                                  <p:childTnLst>
                                    <p:set>
                                      <p:cBhvr>
                                        <p:cTn id="450" dur="1" fill="hold">
                                          <p:stCondLst>
                                            <p:cond delay="0"/>
                                          </p:stCondLst>
                                        </p:cTn>
                                        <p:tgtEl>
                                          <p:spTgt spid="2672"/>
                                        </p:tgtEl>
                                        <p:attrNameLst>
                                          <p:attrName>style.visibility</p:attrName>
                                        </p:attrNameLst>
                                      </p:cBhvr>
                                      <p:to>
                                        <p:strVal val="visible"/>
                                      </p:to>
                                    </p:set>
                                    <p:anim calcmode="lin" valueType="num">
                                      <p:cBhvr additive="repl">
                                        <p:cTn id="451" dur="500" fill="hold"/>
                                        <p:tgtEl>
                                          <p:spTgt spid="2672"/>
                                        </p:tgtEl>
                                        <p:attrNameLst>
                                          <p:attrName>ppt_w</p:attrName>
                                        </p:attrNameLst>
                                      </p:cBhvr>
                                      <p:tavLst>
                                        <p:tav tm="0">
                                          <p:val>
                                            <p:fltVal val="0"/>
                                          </p:val>
                                        </p:tav>
                                        <p:tav tm="100000">
                                          <p:val>
                                            <p:strVal val="#ppt_w"/>
                                          </p:val>
                                        </p:tav>
                                      </p:tavLst>
                                    </p:anim>
                                    <p:anim calcmode="lin" valueType="num">
                                      <p:cBhvr additive="repl">
                                        <p:cTn id="452" dur="500" fill="hold"/>
                                        <p:tgtEl>
                                          <p:spTgt spid="2672"/>
                                        </p:tgtEl>
                                        <p:attrNameLst>
                                          <p:attrName>ppt_h</p:attrName>
                                        </p:attrNameLst>
                                      </p:cBhvr>
                                      <p:tavLst>
                                        <p:tav tm="0">
                                          <p:val>
                                            <p:fltVal val="0"/>
                                          </p:val>
                                        </p:tav>
                                        <p:tav tm="100000">
                                          <p:val>
                                            <p:strVal val="#ppt_h"/>
                                          </p:val>
                                        </p:tav>
                                      </p:tavLst>
                                    </p:anim>
                                    <p:anim calcmode="lin" valueType="num">
                                      <p:cBhvr additive="repl">
                                        <p:cTn id="453" dur="500" fill="hold"/>
                                        <p:tgtEl>
                                          <p:spTgt spid="2672"/>
                                        </p:tgtEl>
                                        <p:attrNameLst>
                                          <p:attrName>r</p:attrName>
                                        </p:attrNameLst>
                                      </p:cBhvr>
                                      <p:tavLst>
                                        <p:tav tm="0">
                                          <p:val>
                                            <p:strVal val="360"/>
                                          </p:val>
                                        </p:tav>
                                        <p:tav tm="100000">
                                          <p:val>
                                            <p:strVal val="0"/>
                                          </p:val>
                                        </p:tav>
                                      </p:tavLst>
                                    </p:anim>
                                    <p:animEffect filter="fade" transition="in">
                                      <p:cBhvr additive="repl">
                                        <p:cTn id="454" dur="500"/>
                                        <p:tgtEl>
                                          <p:spTgt spid="2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3" name="Group 417"/>
          <p:cNvGrpSpPr/>
          <p:nvPr/>
        </p:nvGrpSpPr>
        <p:grpSpPr>
          <a:xfrm>
            <a:off x="2313000" y="4619520"/>
            <a:ext cx="15405120" cy="7809120"/>
            <a:chOff x="2313000" y="4619520"/>
            <a:chExt cx="15405120" cy="7809120"/>
          </a:xfrm>
        </p:grpSpPr>
        <p:pic>
          <p:nvPicPr>
            <p:cNvPr id="2674" name="Group 1862" descr=""/>
            <p:cNvPicPr/>
            <p:nvPr/>
          </p:nvPicPr>
          <p:blipFill>
            <a:blip r:embed="rId1"/>
            <a:stretch/>
          </p:blipFill>
          <p:spPr>
            <a:xfrm>
              <a:off x="2313000" y="4619520"/>
              <a:ext cx="15405120" cy="7809120"/>
            </a:xfrm>
            <a:prstGeom prst="rect">
              <a:avLst/>
            </a:prstGeom>
            <a:ln w="0">
              <a:noFill/>
            </a:ln>
          </p:spPr>
        </p:pic>
        <p:sp>
          <p:nvSpPr>
            <p:cNvPr id="2675" name="Shape 1863"/>
            <p:cNvSpPr/>
            <p:nvPr/>
          </p:nvSpPr>
          <p:spPr>
            <a:xfrm>
              <a:off x="4283640" y="64152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6" name="Shape 1864"/>
            <p:cNvSpPr/>
            <p:nvPr/>
          </p:nvSpPr>
          <p:spPr>
            <a:xfrm>
              <a:off x="6877440" y="982548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7" name="Shape 1865"/>
            <p:cNvSpPr/>
            <p:nvPr/>
          </p:nvSpPr>
          <p:spPr>
            <a:xfrm>
              <a:off x="7790760" y="519444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8" name="Shape 1866"/>
            <p:cNvSpPr/>
            <p:nvPr/>
          </p:nvSpPr>
          <p:spPr>
            <a:xfrm>
              <a:off x="10096200" y="85122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79" name="Shape 1867"/>
            <p:cNvSpPr/>
            <p:nvPr/>
          </p:nvSpPr>
          <p:spPr>
            <a:xfrm>
              <a:off x="10594080" y="585360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0" name="Shape 1868"/>
            <p:cNvSpPr/>
            <p:nvPr/>
          </p:nvSpPr>
          <p:spPr>
            <a:xfrm>
              <a:off x="14310360" y="742104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1" name="Shape 1869"/>
            <p:cNvSpPr/>
            <p:nvPr/>
          </p:nvSpPr>
          <p:spPr>
            <a:xfrm>
              <a:off x="10594080" y="1067256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2" name="Shape 1870"/>
            <p:cNvSpPr/>
            <p:nvPr/>
          </p:nvSpPr>
          <p:spPr>
            <a:xfrm>
              <a:off x="15086160" y="1052712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sp>
          <p:nvSpPr>
            <p:cNvPr id="2683" name="Shape 1871"/>
            <p:cNvSpPr/>
            <p:nvPr/>
          </p:nvSpPr>
          <p:spPr>
            <a:xfrm>
              <a:off x="13918680" y="9486360"/>
              <a:ext cx="368280" cy="3682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808080"/>
            </a:solidFill>
            <a:ln w="0">
              <a:noFill/>
            </a:ln>
          </p:spPr>
          <p:style>
            <a:lnRef idx="0"/>
            <a:fillRef idx="0"/>
            <a:effectRef idx="0"/>
            <a:fontRef idx="minor"/>
          </p:style>
          <p:txBody>
            <a:bodyPr lIns="60840" rIns="60840" tIns="60840" bIns="60840" anchor="ctr">
              <a:noAutofit/>
            </a:bodyPr>
            <a:p>
              <a:endParaRPr b="0" lang="en-US" sz="3500" spc="-1" strike="noStrike">
                <a:solidFill>
                  <a:srgbClr val="000000"/>
                </a:solidFill>
                <a:latin typeface="Open Sans Light"/>
              </a:endParaRPr>
            </a:p>
          </p:txBody>
        </p:sp>
        <p:grpSp>
          <p:nvGrpSpPr>
            <p:cNvPr id="2684" name="Group 1886"/>
            <p:cNvGrpSpPr/>
            <p:nvPr/>
          </p:nvGrpSpPr>
          <p:grpSpPr>
            <a:xfrm>
              <a:off x="4467600" y="5067000"/>
              <a:ext cx="10868040" cy="5954040"/>
              <a:chOff x="4467600" y="5067000"/>
              <a:chExt cx="10868040" cy="5954040"/>
            </a:xfrm>
          </p:grpSpPr>
          <p:sp>
            <p:nvSpPr>
              <p:cNvPr id="2685" name="Shape 1918"/>
              <p:cNvSpPr/>
              <p:nvPr/>
            </p:nvSpPr>
            <p:spPr>
              <a:xfrm>
                <a:off x="6832440" y="5378760"/>
                <a:ext cx="1141920" cy="4457520"/>
              </a:xfrm>
              <a:custGeom>
                <a:avLst/>
                <a:gdLst/>
                <a:ahLst/>
                <a:rect l="l" t="t" r="r" b="b"/>
                <a:pathLst>
                  <a:path w="18150" h="21600">
                    <a:moveTo>
                      <a:pt x="2154" y="21600"/>
                    </a:moveTo>
                    <a:cubicBezTo>
                      <a:pt x="-3450" y="14579"/>
                      <a:pt x="1882" y="7379"/>
                      <a:pt x="1815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86" name="Shape 1919"/>
              <p:cNvSpPr/>
              <p:nvPr/>
            </p:nvSpPr>
            <p:spPr>
              <a:xfrm rot="156600">
                <a:off x="10723320" y="6158880"/>
                <a:ext cx="847080" cy="4697640"/>
              </a:xfrm>
              <a:custGeom>
                <a:avLst/>
                <a:gdLst/>
                <a:ahLst/>
                <a:rect l="l" t="t" r="r" b="b"/>
                <a:pathLst>
                  <a:path w="16207" h="21600">
                    <a:moveTo>
                      <a:pt x="0" y="0"/>
                    </a:moveTo>
                    <a:cubicBezTo>
                      <a:pt x="21164" y="7153"/>
                      <a:pt x="21600" y="14353"/>
                      <a:pt x="1308"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87" name="Shape 1920"/>
              <p:cNvSpPr/>
              <p:nvPr/>
            </p:nvSpPr>
            <p:spPr>
              <a:xfrm>
                <a:off x="7061400" y="10009440"/>
                <a:ext cx="3549240" cy="1011600"/>
              </a:xfrm>
              <a:custGeom>
                <a:avLst/>
                <a:gdLst/>
                <a:ahLst/>
                <a:rect l="l" t="t" r="r" b="b"/>
                <a:pathLst>
                  <a:path w="21600" h="17943">
                    <a:moveTo>
                      <a:pt x="21600" y="15396"/>
                    </a:moveTo>
                    <a:cubicBezTo>
                      <a:pt x="14027" y="21600"/>
                      <a:pt x="6827" y="16468"/>
                      <a:pt x="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grpSp>
            <p:nvGrpSpPr>
              <p:cNvPr id="2688" name="Group 1885"/>
              <p:cNvGrpSpPr/>
              <p:nvPr/>
            </p:nvGrpSpPr>
            <p:grpSpPr>
              <a:xfrm>
                <a:off x="4467600" y="5067000"/>
                <a:ext cx="10868040" cy="5942160"/>
                <a:chOff x="4467600" y="5067000"/>
                <a:chExt cx="10868040" cy="5942160"/>
              </a:xfrm>
            </p:grpSpPr>
            <p:sp>
              <p:nvSpPr>
                <p:cNvPr id="2689" name="Shape 1921"/>
                <p:cNvSpPr/>
                <p:nvPr/>
              </p:nvSpPr>
              <p:spPr>
                <a:xfrm>
                  <a:off x="4467600" y="6587640"/>
                  <a:ext cx="5812920" cy="2108520"/>
                </a:xfrm>
                <a:custGeom>
                  <a:avLst/>
                  <a:gdLst/>
                  <a:ahLst/>
                  <a:rect l="l" t="t" r="r" b="b"/>
                  <a:pathLst>
                    <a:path w="21600" h="20623">
                      <a:moveTo>
                        <a:pt x="0" y="112"/>
                      </a:moveTo>
                      <a:cubicBezTo>
                        <a:pt x="8286" y="-977"/>
                        <a:pt x="15486" y="5860"/>
                        <a:pt x="21600" y="20623"/>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0" name="Shape 1922"/>
                <p:cNvSpPr/>
                <p:nvPr/>
              </p:nvSpPr>
              <p:spPr>
                <a:xfrm>
                  <a:off x="7186680" y="7125840"/>
                  <a:ext cx="7307640" cy="2765880"/>
                </a:xfrm>
                <a:custGeom>
                  <a:avLst/>
                  <a:gdLst/>
                  <a:ahLst/>
                  <a:rect l="l" t="t" r="r" b="b"/>
                  <a:pathLst>
                    <a:path w="21600" h="17708">
                      <a:moveTo>
                        <a:pt x="0" y="17708"/>
                      </a:moveTo>
                      <a:cubicBezTo>
                        <a:pt x="2486" y="988"/>
                        <a:pt x="9686" y="-3892"/>
                        <a:pt x="21600" y="3068"/>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1" name="Shape 1923"/>
                <p:cNvSpPr/>
                <p:nvPr/>
              </p:nvSpPr>
              <p:spPr>
                <a:xfrm>
                  <a:off x="4467600" y="6599160"/>
                  <a:ext cx="6310440" cy="4257360"/>
                </a:xfrm>
                <a:custGeom>
                  <a:avLst/>
                  <a:gdLst/>
                  <a:ahLst/>
                  <a:rect l="l" t="t" r="r" b="b"/>
                  <a:pathLst>
                    <a:path w="21600" h="21600">
                      <a:moveTo>
                        <a:pt x="0" y="0"/>
                      </a:moveTo>
                      <a:cubicBezTo>
                        <a:pt x="8848" y="3577"/>
                        <a:pt x="16048" y="10777"/>
                        <a:pt x="21600"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2" name="Shape 1924"/>
                <p:cNvSpPr/>
                <p:nvPr/>
              </p:nvSpPr>
              <p:spPr>
                <a:xfrm>
                  <a:off x="8136000" y="5428080"/>
                  <a:ext cx="5966640" cy="4242240"/>
                </a:xfrm>
                <a:custGeom>
                  <a:avLst/>
                  <a:gdLst/>
                  <a:ahLst/>
                  <a:rect l="l" t="t" r="r" b="b"/>
                  <a:pathLst>
                    <a:path w="21600" h="21600">
                      <a:moveTo>
                        <a:pt x="0" y="0"/>
                      </a:moveTo>
                      <a:cubicBezTo>
                        <a:pt x="9006" y="3625"/>
                        <a:pt x="16206" y="10825"/>
                        <a:pt x="21600"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3" name="Shape 1926"/>
                <p:cNvSpPr/>
                <p:nvPr/>
              </p:nvSpPr>
              <p:spPr>
                <a:xfrm>
                  <a:off x="8057160" y="5067000"/>
                  <a:ext cx="6437160" cy="2538360"/>
                </a:xfrm>
                <a:custGeom>
                  <a:avLst/>
                  <a:gdLst/>
                  <a:ahLst/>
                  <a:rect l="l" t="t" r="r" b="b"/>
                  <a:pathLst>
                    <a:path w="21600" h="18900">
                      <a:moveTo>
                        <a:pt x="0" y="1126"/>
                      </a:moveTo>
                      <a:cubicBezTo>
                        <a:pt x="9575" y="-2700"/>
                        <a:pt x="16775" y="3225"/>
                        <a:pt x="21600" y="189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4" name="Shape 1927"/>
                <p:cNvSpPr/>
                <p:nvPr/>
              </p:nvSpPr>
              <p:spPr>
                <a:xfrm>
                  <a:off x="14549400" y="7753320"/>
                  <a:ext cx="786240" cy="2957760"/>
                </a:xfrm>
                <a:custGeom>
                  <a:avLst/>
                  <a:gdLst/>
                  <a:ahLst/>
                  <a:rect l="l" t="t" r="r" b="b"/>
                  <a:pathLst>
                    <a:path w="18542" h="21600">
                      <a:moveTo>
                        <a:pt x="0" y="0"/>
                      </a:moveTo>
                      <a:cubicBezTo>
                        <a:pt x="15936" y="6328"/>
                        <a:pt x="21600" y="13528"/>
                        <a:pt x="16991" y="2160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5" name="Shape 1928"/>
                <p:cNvSpPr/>
                <p:nvPr/>
              </p:nvSpPr>
              <p:spPr>
                <a:xfrm rot="21441600">
                  <a:off x="10778040" y="9833400"/>
                  <a:ext cx="3387600" cy="1098000"/>
                </a:xfrm>
                <a:custGeom>
                  <a:avLst/>
                  <a:gdLst/>
                  <a:ahLst/>
                  <a:rect l="l" t="t" r="r" b="b"/>
                  <a:pathLst>
                    <a:path w="21600" h="18759">
                      <a:moveTo>
                        <a:pt x="21600" y="0"/>
                      </a:moveTo>
                      <a:cubicBezTo>
                        <a:pt x="16116" y="15774"/>
                        <a:pt x="8916" y="21600"/>
                        <a:pt x="0" y="17477"/>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6" name="Shape 1929"/>
                <p:cNvSpPr/>
                <p:nvPr/>
              </p:nvSpPr>
              <p:spPr>
                <a:xfrm>
                  <a:off x="4467600" y="6599160"/>
                  <a:ext cx="2441880" cy="3437280"/>
                </a:xfrm>
                <a:custGeom>
                  <a:avLst/>
                  <a:gdLst/>
                  <a:ahLst/>
                  <a:rect l="l" t="t" r="r" b="b"/>
                  <a:pathLst>
                    <a:path w="21600" h="21600">
                      <a:moveTo>
                        <a:pt x="21600" y="21600"/>
                      </a:moveTo>
                      <a:cubicBezTo>
                        <a:pt x="10366" y="17258"/>
                        <a:pt x="3166" y="10058"/>
                        <a:pt x="0" y="0"/>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7" name="Shape 1930"/>
                <p:cNvSpPr/>
                <p:nvPr/>
              </p:nvSpPr>
              <p:spPr>
                <a:xfrm>
                  <a:off x="4467600" y="5343840"/>
                  <a:ext cx="3507120" cy="1254960"/>
                </a:xfrm>
                <a:custGeom>
                  <a:avLst/>
                  <a:gdLst/>
                  <a:ahLst/>
                  <a:rect l="l" t="t" r="r" b="b"/>
                  <a:pathLst>
                    <a:path w="21600" h="19606">
                      <a:moveTo>
                        <a:pt x="0" y="19606"/>
                      </a:moveTo>
                      <a:cubicBezTo>
                        <a:pt x="5369" y="4360"/>
                        <a:pt x="12569" y="-1994"/>
                        <a:pt x="21600" y="543"/>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sp>
              <p:nvSpPr>
                <p:cNvPr id="2698" name="Shape 1925"/>
                <p:cNvSpPr/>
                <p:nvPr/>
              </p:nvSpPr>
              <p:spPr>
                <a:xfrm>
                  <a:off x="10374480" y="8845200"/>
                  <a:ext cx="4895280" cy="1973520"/>
                </a:xfrm>
                <a:custGeom>
                  <a:avLst/>
                  <a:gdLst/>
                  <a:ahLst/>
                  <a:rect l="l" t="t" r="r" b="b"/>
                  <a:pathLst>
                    <a:path w="21600" h="18782">
                      <a:moveTo>
                        <a:pt x="0" y="0"/>
                      </a:moveTo>
                      <a:cubicBezTo>
                        <a:pt x="6181" y="15757"/>
                        <a:pt x="13381" y="21600"/>
                        <a:pt x="21600" y="17528"/>
                      </a:cubicBezTo>
                    </a:path>
                  </a:pathLst>
                </a:custGeom>
                <a:noFill/>
                <a:ln w="12600">
                  <a:solidFill>
                    <a:srgbClr val="53585f"/>
                  </a:solidFill>
                  <a:miter/>
                </a:ln>
              </p:spPr>
              <p:style>
                <a:lnRef idx="0"/>
                <a:fillRef idx="0"/>
                <a:effectRef idx="0"/>
                <a:fontRef idx="minor"/>
              </p:style>
              <p:txBody>
                <a:bodyPr lIns="90000" rIns="90000" tIns="46800" bIns="46800" anchor="t">
                  <a:noAutofit/>
                </a:bodyPr>
                <a:p>
                  <a:endParaRPr b="0" lang="en-US" sz="3500" spc="-1" strike="noStrike">
                    <a:solidFill>
                      <a:srgbClr val="000000"/>
                    </a:solidFill>
                    <a:latin typeface="Open Sans Light"/>
                  </a:endParaRPr>
                </a:p>
              </p:txBody>
            </p:sp>
          </p:grpSp>
        </p:grpSp>
        <p:sp>
          <p:nvSpPr>
            <p:cNvPr id="2699" name="Shape 1887"/>
            <p:cNvSpPr/>
            <p:nvPr/>
          </p:nvSpPr>
          <p:spPr>
            <a:xfrm rot="1688400">
              <a:off x="11816640" y="5254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969696"/>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0" name="Shape 1888"/>
            <p:cNvSpPr/>
            <p:nvPr/>
          </p:nvSpPr>
          <p:spPr>
            <a:xfrm rot="1597200">
              <a:off x="7643160" y="686376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5f5f5f"/>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1" name="Shape 1889"/>
            <p:cNvSpPr/>
            <p:nvPr/>
          </p:nvSpPr>
          <p:spPr>
            <a:xfrm rot="1597200">
              <a:off x="11815200" y="9988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dddddd"/>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2" name="Shape 1890"/>
            <p:cNvSpPr/>
            <p:nvPr/>
          </p:nvSpPr>
          <p:spPr>
            <a:xfrm rot="11556000">
              <a:off x="8352000" y="1055628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5f5f5f"/>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3" name="Shape 1891"/>
            <p:cNvSpPr/>
            <p:nvPr/>
          </p:nvSpPr>
          <p:spPr>
            <a:xfrm rot="14373600">
              <a:off x="4852800" y="81601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4" name="Shape 1892"/>
            <p:cNvSpPr/>
            <p:nvPr/>
          </p:nvSpPr>
          <p:spPr>
            <a:xfrm rot="20790600">
              <a:off x="5850000" y="516492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5" name="Shape 1893"/>
            <p:cNvSpPr/>
            <p:nvPr/>
          </p:nvSpPr>
          <p:spPr>
            <a:xfrm rot="9823200">
              <a:off x="9646920" y="6926400"/>
              <a:ext cx="716040" cy="67320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dddddd"/>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6" name="Shape 1894"/>
            <p:cNvSpPr/>
            <p:nvPr/>
          </p:nvSpPr>
          <p:spPr>
            <a:xfrm rot="2866200">
              <a:off x="12494520" y="78379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969696"/>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sp>
          <p:nvSpPr>
            <p:cNvPr id="2707" name="Shape 1895"/>
            <p:cNvSpPr/>
            <p:nvPr/>
          </p:nvSpPr>
          <p:spPr>
            <a:xfrm rot="14953200">
              <a:off x="14876640" y="8660520"/>
              <a:ext cx="716040" cy="67284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b2b2b2"/>
            </a:solidFill>
            <a:ln w="0">
              <a:noFill/>
            </a:ln>
          </p:spPr>
          <p:style>
            <a:lnRef idx="0"/>
            <a:fillRef idx="0"/>
            <a:effectRef idx="0"/>
            <a:fontRef idx="minor"/>
          </p:style>
          <p:txBody>
            <a:bodyPr lIns="45360" rIns="45360" tIns="45360" bIns="45360" anchor="ctr">
              <a:noAutofit/>
            </a:bodyPr>
            <a:p>
              <a:endParaRPr b="0" lang="en-US" sz="3500" spc="-1" strike="noStrike">
                <a:solidFill>
                  <a:srgbClr val="000000"/>
                </a:solidFill>
                <a:latin typeface="Open Sans Light"/>
              </a:endParaRPr>
            </a:p>
          </p:txBody>
        </p:sp>
      </p:grpSp>
      <p:sp>
        <p:nvSpPr>
          <p:cNvPr id="270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10101"/>
                </a:solidFill>
                <a:latin typeface="Montserrat Semi Bold"/>
                <a:ea typeface="Open Sans Extrabold"/>
              </a:rPr>
              <a:t>WORLD MAP DATA</a:t>
            </a:r>
            <a:endParaRPr b="0" lang="en-US" sz="6600" spc="-1" strike="noStrike">
              <a:solidFill>
                <a:srgbClr val="000000"/>
              </a:solidFill>
              <a:latin typeface="Open Sans Light"/>
            </a:endParaRPr>
          </a:p>
        </p:txBody>
      </p:sp>
      <p:sp>
        <p:nvSpPr>
          <p:cNvPr id="2709" name="Rectangle 419"/>
          <p:cNvSpPr/>
          <p:nvPr/>
        </p:nvSpPr>
        <p:spPr>
          <a:xfrm>
            <a:off x="4788000" y="2835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grpSp>
        <p:nvGrpSpPr>
          <p:cNvPr id="2710" name="Group 1899"/>
          <p:cNvGrpSpPr/>
          <p:nvPr/>
        </p:nvGrpSpPr>
        <p:grpSpPr>
          <a:xfrm>
            <a:off x="18224640" y="5943600"/>
            <a:ext cx="801720" cy="803160"/>
            <a:chOff x="18224640" y="5943600"/>
            <a:chExt cx="801720" cy="803160"/>
          </a:xfrm>
        </p:grpSpPr>
        <p:sp>
          <p:nvSpPr>
            <p:cNvPr id="2711" name="Shape 1897"/>
            <p:cNvSpPr/>
            <p:nvPr/>
          </p:nvSpPr>
          <p:spPr>
            <a:xfrm>
              <a:off x="18224640" y="594360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dddddd"/>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2" name="Shape 1898"/>
            <p:cNvSpPr/>
            <p:nvPr/>
          </p:nvSpPr>
          <p:spPr>
            <a:xfrm>
              <a:off x="18446040" y="617616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3" name="Group 1904"/>
          <p:cNvGrpSpPr/>
          <p:nvPr/>
        </p:nvGrpSpPr>
        <p:grpSpPr>
          <a:xfrm>
            <a:off x="18224640" y="7224480"/>
            <a:ext cx="801720" cy="803160"/>
            <a:chOff x="18224640" y="7224480"/>
            <a:chExt cx="801720" cy="803160"/>
          </a:xfrm>
        </p:grpSpPr>
        <p:sp>
          <p:nvSpPr>
            <p:cNvPr id="2714" name="Shape 1902"/>
            <p:cNvSpPr/>
            <p:nvPr/>
          </p:nvSpPr>
          <p:spPr>
            <a:xfrm rot="16200000">
              <a:off x="18223920" y="7225200"/>
              <a:ext cx="803160" cy="801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969696"/>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5" name="Shape 1903"/>
            <p:cNvSpPr/>
            <p:nvPr/>
          </p:nvSpPr>
          <p:spPr>
            <a:xfrm>
              <a:off x="18446040" y="745740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6" name="Group 1909"/>
          <p:cNvGrpSpPr/>
          <p:nvPr/>
        </p:nvGrpSpPr>
        <p:grpSpPr>
          <a:xfrm>
            <a:off x="18224640" y="8504280"/>
            <a:ext cx="801720" cy="803160"/>
            <a:chOff x="18224640" y="8504280"/>
            <a:chExt cx="801720" cy="803160"/>
          </a:xfrm>
        </p:grpSpPr>
        <p:sp>
          <p:nvSpPr>
            <p:cNvPr id="2717" name="Shape 1907"/>
            <p:cNvSpPr/>
            <p:nvPr/>
          </p:nvSpPr>
          <p:spPr>
            <a:xfrm>
              <a:off x="18224640" y="850428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5f5f5f"/>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18" name="Shape 1908"/>
            <p:cNvSpPr/>
            <p:nvPr/>
          </p:nvSpPr>
          <p:spPr>
            <a:xfrm>
              <a:off x="18446040" y="873684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grpSp>
        <p:nvGrpSpPr>
          <p:cNvPr id="2719" name="Group 1914"/>
          <p:cNvGrpSpPr/>
          <p:nvPr/>
        </p:nvGrpSpPr>
        <p:grpSpPr>
          <a:xfrm>
            <a:off x="18224640" y="9782280"/>
            <a:ext cx="801720" cy="803160"/>
            <a:chOff x="18224640" y="9782280"/>
            <a:chExt cx="801720" cy="803160"/>
          </a:xfrm>
        </p:grpSpPr>
        <p:sp>
          <p:nvSpPr>
            <p:cNvPr id="2720" name="Shape 1912"/>
            <p:cNvSpPr/>
            <p:nvPr/>
          </p:nvSpPr>
          <p:spPr>
            <a:xfrm>
              <a:off x="18224640" y="9782280"/>
              <a:ext cx="801720" cy="8031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b2b2b2"/>
            </a:solidFill>
            <a:ln w="0">
              <a:noFill/>
            </a:ln>
          </p:spPr>
          <p:style>
            <a:lnRef idx="0"/>
            <a:fillRef idx="0"/>
            <a:effectRef idx="0"/>
            <a:fontRef idx="minor"/>
          </p:style>
          <p:txBody>
            <a:bodyPr lIns="121680" rIns="121680" tIns="121680" bIns="121680" anchor="ctr">
              <a:noAutofit/>
            </a:bodyPr>
            <a:p>
              <a:endParaRPr b="0" lang="en-US" sz="3500" spc="-1" strike="noStrike">
                <a:solidFill>
                  <a:srgbClr val="000000"/>
                </a:solidFill>
                <a:latin typeface="Open Sans Light"/>
              </a:endParaRPr>
            </a:p>
          </p:txBody>
        </p:sp>
        <p:sp>
          <p:nvSpPr>
            <p:cNvPr id="2721" name="Shape 1913"/>
            <p:cNvSpPr/>
            <p:nvPr/>
          </p:nvSpPr>
          <p:spPr>
            <a:xfrm>
              <a:off x="18446040" y="10014840"/>
              <a:ext cx="358560" cy="337680"/>
            </a:xfrm>
            <a:custGeom>
              <a:avLst/>
              <a:gdLst/>
              <a:ahLst/>
              <a:rect l="l" t="t" r="r" b="b"/>
              <a:pathLst>
                <a:path w="21600" h="21600">
                  <a:moveTo>
                    <a:pt x="5778" y="21600"/>
                  </a:moveTo>
                  <a:lnTo>
                    <a:pt x="7938" y="21600"/>
                  </a:lnTo>
                  <a:lnTo>
                    <a:pt x="12785" y="12409"/>
                  </a:lnTo>
                  <a:lnTo>
                    <a:pt x="18360" y="12409"/>
                  </a:lnTo>
                  <a:cubicBezTo>
                    <a:pt x="18360" y="12409"/>
                    <a:pt x="21600" y="12409"/>
                    <a:pt x="21600" y="10800"/>
                  </a:cubicBezTo>
                  <a:cubicBezTo>
                    <a:pt x="21600" y="9191"/>
                    <a:pt x="18360" y="9191"/>
                    <a:pt x="18360" y="9191"/>
                  </a:cubicBezTo>
                  <a:lnTo>
                    <a:pt x="12785" y="9191"/>
                  </a:lnTo>
                  <a:lnTo>
                    <a:pt x="7938" y="0"/>
                  </a:lnTo>
                  <a:lnTo>
                    <a:pt x="5778" y="0"/>
                  </a:lnTo>
                  <a:lnTo>
                    <a:pt x="8465" y="9191"/>
                  </a:lnTo>
                  <a:lnTo>
                    <a:pt x="4591" y="9191"/>
                  </a:lnTo>
                  <a:lnTo>
                    <a:pt x="2160" y="6893"/>
                  </a:lnTo>
                  <a:lnTo>
                    <a:pt x="0" y="6893"/>
                  </a:lnTo>
                  <a:lnTo>
                    <a:pt x="1728" y="10800"/>
                  </a:lnTo>
                  <a:lnTo>
                    <a:pt x="0" y="14707"/>
                  </a:lnTo>
                  <a:lnTo>
                    <a:pt x="2160" y="14707"/>
                  </a:lnTo>
                  <a:lnTo>
                    <a:pt x="4591" y="12409"/>
                  </a:lnTo>
                  <a:lnTo>
                    <a:pt x="8465" y="12409"/>
                  </a:lnTo>
                  <a:cubicBezTo>
                    <a:pt x="8465" y="12409"/>
                    <a:pt x="5778" y="21600"/>
                    <a:pt x="5778" y="21600"/>
                  </a:cubicBezTo>
                  <a:close/>
                </a:path>
              </a:pathLst>
            </a:custGeom>
            <a:solidFill>
              <a:srgbClr val="ffffff"/>
            </a:solidFill>
            <a:ln w="0">
              <a:noFill/>
            </a:ln>
          </p:spPr>
          <p:style>
            <a:lnRef idx="0"/>
            <a:fillRef idx="0"/>
            <a:effectRef idx="0"/>
            <a:fontRef idx="minor"/>
          </p:style>
          <p:txBody>
            <a:bodyPr tIns="91440" bIns="91440" anchor="ctr">
              <a:noAutofit/>
            </a:bodyPr>
            <a:p>
              <a:endParaRPr b="0" lang="en-US" sz="3500" spc="-1" strike="noStrike">
                <a:solidFill>
                  <a:srgbClr val="000000"/>
                </a:solidFill>
                <a:latin typeface="Open Sans Light"/>
              </a:endParaRPr>
            </a:p>
          </p:txBody>
        </p:sp>
      </p:grpSp>
      <p:sp>
        <p:nvSpPr>
          <p:cNvPr id="2722" name="Text Placeholder 2"/>
          <p:cNvSpPr/>
          <p:nvPr/>
        </p:nvSpPr>
        <p:spPr>
          <a:xfrm>
            <a:off x="19181880" y="5964120"/>
            <a:ext cx="463392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BEST INCOME</a:t>
            </a:r>
            <a:endParaRPr b="0" lang="en-US" sz="2600" spc="-1" strike="noStrike">
              <a:solidFill>
                <a:srgbClr val="000000"/>
              </a:solidFill>
              <a:latin typeface="Open Sans Light"/>
            </a:endParaRPr>
          </a:p>
        </p:txBody>
      </p:sp>
      <p:sp>
        <p:nvSpPr>
          <p:cNvPr id="2723" name="Text Placeholder 2"/>
          <p:cNvSpPr/>
          <p:nvPr/>
        </p:nvSpPr>
        <p:spPr>
          <a:xfrm>
            <a:off x="19167480" y="7245360"/>
            <a:ext cx="463248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BEST ROUTE</a:t>
            </a:r>
            <a:endParaRPr b="0" lang="en-US" sz="2600" spc="-1" strike="noStrike">
              <a:solidFill>
                <a:srgbClr val="000000"/>
              </a:solidFill>
              <a:latin typeface="Open Sans Light"/>
            </a:endParaRPr>
          </a:p>
        </p:txBody>
      </p:sp>
      <p:sp>
        <p:nvSpPr>
          <p:cNvPr id="2724" name="Text Placeholder 2"/>
          <p:cNvSpPr/>
          <p:nvPr/>
        </p:nvSpPr>
        <p:spPr>
          <a:xfrm>
            <a:off x="19197720" y="8526600"/>
            <a:ext cx="4632120" cy="7603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NEW AIRPLANE</a:t>
            </a:r>
            <a:endParaRPr b="0" lang="en-US" sz="2600" spc="-1" strike="noStrike">
              <a:solidFill>
                <a:srgbClr val="000000"/>
              </a:solidFill>
              <a:latin typeface="Open Sans Light"/>
            </a:endParaRPr>
          </a:p>
        </p:txBody>
      </p:sp>
      <p:sp>
        <p:nvSpPr>
          <p:cNvPr id="2725" name="Text Placeholder 2"/>
          <p:cNvSpPr/>
          <p:nvPr/>
        </p:nvSpPr>
        <p:spPr>
          <a:xfrm>
            <a:off x="19181880" y="9802800"/>
            <a:ext cx="4633920" cy="762120"/>
          </a:xfrm>
          <a:prstGeom prst="rect">
            <a:avLst/>
          </a:prstGeom>
          <a:noFill/>
          <a:ln w="0">
            <a:noFill/>
          </a:ln>
        </p:spPr>
        <p:style>
          <a:lnRef idx="0"/>
          <a:fillRef idx="0"/>
          <a:effectRef idx="0"/>
          <a:fontRef idx="minor"/>
        </p:style>
        <p:txBody>
          <a:bodyPr lIns="90000" rIns="90000" tIns="46800" bIns="46800" anchor="ctr">
            <a:noAutofit/>
          </a:bodyPr>
          <a:p>
            <a:pPr marL="822240" indent="-822240">
              <a:lnSpc>
                <a:spcPct val="100000"/>
              </a:lnSpc>
              <a:spcBef>
                <a:spcPts val="649"/>
              </a:spcBef>
              <a:tabLst>
                <a:tab algn="l" pos="0"/>
                <a:tab algn="l" pos="2193840"/>
                <a:tab algn="l" pos="4387680"/>
                <a:tab algn="l" pos="6581880"/>
                <a:tab algn="l" pos="8775720"/>
                <a:tab algn="l" pos="10969560"/>
              </a:tabLst>
            </a:pPr>
            <a:r>
              <a:rPr b="0" lang="en-US" sz="2600" spc="-1" strike="noStrike">
                <a:solidFill>
                  <a:srgbClr val="b2b2b2"/>
                </a:solidFill>
                <a:latin typeface="Montserrat Semi Bold"/>
              </a:rPr>
              <a:t>MOST EXPENSIVE</a:t>
            </a:r>
            <a:endParaRPr b="0" lang="en-US" sz="2600" spc="-1" strike="noStrike">
              <a:solidFill>
                <a:srgbClr val="000000"/>
              </a:solidFill>
              <a:latin typeface="Open Sans Light"/>
            </a:endParaRPr>
          </a:p>
        </p:txBody>
      </p:sp>
      <p:sp>
        <p:nvSpPr>
          <p:cNvPr id="2726" name="Rectangular Callout 445"/>
          <p:cNvSpPr/>
          <p:nvPr/>
        </p:nvSpPr>
        <p:spPr>
          <a:xfrm>
            <a:off x="2495520" y="4114800"/>
            <a:ext cx="4572000" cy="2035080"/>
          </a:xfrm>
          <a:prstGeom prst="wedgeRectCallout">
            <a:avLst>
              <a:gd name="adj1" fmla="val -20833"/>
              <a:gd name="adj2" fmla="val 62500"/>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27" name="Text Placeholder 18"/>
          <p:cNvSpPr/>
          <p:nvPr/>
        </p:nvSpPr>
        <p:spPr>
          <a:xfrm>
            <a:off x="2843280" y="4865760"/>
            <a:ext cx="3581280" cy="134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01"/>
              </a:spcBef>
              <a:tabLst>
                <a:tab algn="l" pos="0"/>
                <a:tab algn="l" pos="2193840"/>
                <a:tab algn="l" pos="4387680"/>
                <a:tab algn="l" pos="6581880"/>
                <a:tab algn="l" pos="8775720"/>
                <a:tab algn="l" pos="10969560"/>
              </a:tabLst>
            </a:pPr>
            <a:r>
              <a:rPr b="0" lang="en-US" sz="2100" spc="-1" strike="noStrike">
                <a:solidFill>
                  <a:srgbClr val="ffffff"/>
                </a:solidFill>
                <a:latin typeface="Open Sans Light"/>
                <a:ea typeface="Open Sans Light"/>
              </a:rPr>
              <a:t>conseSed ut perspiciamnis iste natus error sit voluptatem</a:t>
            </a:r>
            <a:endParaRPr b="0" lang="en-US" sz="2100" spc="-1" strike="noStrike">
              <a:solidFill>
                <a:srgbClr val="000000"/>
              </a:solidFill>
              <a:latin typeface="Open Sans Light"/>
            </a:endParaRPr>
          </a:p>
        </p:txBody>
      </p:sp>
      <p:sp>
        <p:nvSpPr>
          <p:cNvPr id="2728" name="Content Placeholder 1"/>
          <p:cNvSpPr/>
          <p:nvPr/>
        </p:nvSpPr>
        <p:spPr>
          <a:xfrm>
            <a:off x="2843280" y="4368960"/>
            <a:ext cx="4048200" cy="701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01"/>
              </a:spcBef>
              <a:tabLst>
                <a:tab algn="l" pos="0"/>
                <a:tab algn="l" pos="2193840"/>
                <a:tab algn="l" pos="4387680"/>
                <a:tab algn="l" pos="6581880"/>
                <a:tab algn="l" pos="8775720"/>
                <a:tab algn="l" pos="10969560"/>
              </a:tabLst>
            </a:pPr>
            <a:r>
              <a:rPr b="1" lang="id-ID" sz="2800" spc="-1" strike="noStrike">
                <a:solidFill>
                  <a:srgbClr val="ffffff"/>
                </a:solidFill>
                <a:latin typeface="Montserrat Semi Bold"/>
                <a:ea typeface="Open Sans Extrabold"/>
              </a:rPr>
              <a:t>NORTH AMERICA</a:t>
            </a:r>
            <a:endParaRPr b="0" lang="en-US" sz="2800" spc="-1" strike="noStrike">
              <a:solidFill>
                <a:srgbClr val="000000"/>
              </a:solidFill>
              <a:latin typeface="Open Sans Light"/>
            </a:endParaRPr>
          </a:p>
        </p:txBody>
      </p:sp>
      <p:sp>
        <p:nvSpPr>
          <p:cNvPr id="2729" name="Rectangular Callout 448"/>
          <p:cNvSpPr/>
          <p:nvPr/>
        </p:nvSpPr>
        <p:spPr>
          <a:xfrm>
            <a:off x="10177560" y="10782360"/>
            <a:ext cx="4572000" cy="2036880"/>
          </a:xfrm>
          <a:prstGeom prst="wedgeRectCallout">
            <a:avLst>
              <a:gd name="adj1" fmla="val -20833"/>
              <a:gd name="adj2" fmla="val 62500"/>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30" name="Text Placeholder 18"/>
          <p:cNvSpPr/>
          <p:nvPr/>
        </p:nvSpPr>
        <p:spPr>
          <a:xfrm>
            <a:off x="10909440" y="11582280"/>
            <a:ext cx="3579840" cy="13464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2401"/>
              </a:spcBef>
              <a:tabLst>
                <a:tab algn="l" pos="0"/>
                <a:tab algn="l" pos="2193840"/>
                <a:tab algn="l" pos="4387680"/>
                <a:tab algn="l" pos="6581880"/>
                <a:tab algn="l" pos="8775720"/>
                <a:tab algn="l" pos="10969560"/>
              </a:tabLst>
            </a:pPr>
            <a:r>
              <a:rPr b="0" lang="en-US" sz="2100" spc="-1" strike="noStrike">
                <a:solidFill>
                  <a:srgbClr val="ffffff"/>
                </a:solidFill>
                <a:latin typeface="Open Sans Light"/>
                <a:ea typeface="Open Sans Light"/>
              </a:rPr>
              <a:t>conseSed ut perspiciamnis iste natus error sit voluptatem</a:t>
            </a:r>
            <a:endParaRPr b="0" lang="en-US" sz="2100" spc="-1" strike="noStrike">
              <a:solidFill>
                <a:srgbClr val="000000"/>
              </a:solidFill>
              <a:latin typeface="Open Sans Light"/>
            </a:endParaRPr>
          </a:p>
        </p:txBody>
      </p:sp>
      <p:sp>
        <p:nvSpPr>
          <p:cNvPr id="2731" name="Content Placeholder 1"/>
          <p:cNvSpPr/>
          <p:nvPr/>
        </p:nvSpPr>
        <p:spPr>
          <a:xfrm>
            <a:off x="10524960" y="11085480"/>
            <a:ext cx="4048200" cy="7016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2401"/>
              </a:spcBef>
              <a:tabLst>
                <a:tab algn="l" pos="0"/>
                <a:tab algn="l" pos="2193840"/>
                <a:tab algn="l" pos="4387680"/>
                <a:tab algn="l" pos="6581880"/>
                <a:tab algn="l" pos="8775720"/>
                <a:tab algn="l" pos="10969560"/>
              </a:tabLst>
            </a:pPr>
            <a:r>
              <a:rPr b="1" lang="en-US" sz="2800" spc="-1" strike="noStrike">
                <a:solidFill>
                  <a:srgbClr val="ffffff"/>
                </a:solidFill>
                <a:latin typeface="Montserrat Semi Bold"/>
                <a:ea typeface="Open Sans Extrabold"/>
              </a:rPr>
              <a:t>AUSTRALIA</a:t>
            </a:r>
            <a:endParaRPr b="0" lang="en-US" sz="2800" spc="-1" strike="noStrike">
              <a:solidFill>
                <a:srgbClr val="000000"/>
              </a:solidFill>
              <a:latin typeface="Open Sans Light"/>
            </a:endParaRPr>
          </a:p>
        </p:txBody>
      </p:sp>
      <p:pic>
        <p:nvPicPr>
          <p:cNvPr id="2732" name="Group 442" descr=""/>
          <p:cNvPicPr/>
          <p:nvPr/>
        </p:nvPicPr>
        <p:blipFill>
          <a:blip r:embed="rId2"/>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0">
                                  <p:stCondLst>
                                    <p:cond delay="0"/>
                                  </p:stCondLst>
                                  <p:childTnLst>
                                    <p:set>
                                      <p:cBhvr>
                                        <p:cTn id="460" dur="1" fill="hold">
                                          <p:stCondLst>
                                            <p:cond delay="0"/>
                                          </p:stCondLst>
                                        </p:cTn>
                                        <p:tgtEl>
                                          <p:spTgt spid="2710"/>
                                        </p:tgtEl>
                                        <p:attrNameLst>
                                          <p:attrName>style.visibility</p:attrName>
                                        </p:attrNameLst>
                                      </p:cBhvr>
                                      <p:to>
                                        <p:strVal val="visible"/>
                                      </p:to>
                                    </p:set>
                                    <p:animEffect filter="fade" transition="in">
                                      <p:cBhvr additive="repl">
                                        <p:cTn id="461" dur="500"/>
                                        <p:tgtEl>
                                          <p:spTgt spid="2710"/>
                                        </p:tgtEl>
                                      </p:cBhvr>
                                    </p:animEffect>
                                  </p:childTnLst>
                                </p:cTn>
                              </p:par>
                              <p:par>
                                <p:cTn id="462" nodeType="withEffect" fill="hold" presetClass="entr" presetID="10">
                                  <p:stCondLst>
                                    <p:cond delay="0"/>
                                  </p:stCondLst>
                                  <p:childTnLst>
                                    <p:set>
                                      <p:cBhvr>
                                        <p:cTn id="463" dur="1" fill="hold">
                                          <p:stCondLst>
                                            <p:cond delay="0"/>
                                          </p:stCondLst>
                                        </p:cTn>
                                        <p:tgtEl>
                                          <p:spTgt spid="2722">
                                            <p:txEl>
                                              <p:pRg st="0" end="0"/>
                                            </p:txEl>
                                          </p:spTgt>
                                        </p:tgtEl>
                                        <p:attrNameLst>
                                          <p:attrName>style.visibility</p:attrName>
                                        </p:attrNameLst>
                                      </p:cBhvr>
                                      <p:to>
                                        <p:strVal val="visible"/>
                                      </p:to>
                                    </p:set>
                                    <p:animEffect filter="fade" transition="in">
                                      <p:cBhvr additive="repl">
                                        <p:cTn id="464" dur="500"/>
                                        <p:tgtEl>
                                          <p:spTgt spid="2722">
                                            <p:txEl>
                                              <p:pRg st="0" end="0"/>
                                            </p:txEl>
                                          </p:spTgt>
                                        </p:tgtEl>
                                      </p:cBhvr>
                                    </p:animEffect>
                                  </p:childTnLst>
                                </p:cTn>
                              </p:par>
                            </p:childTnLst>
                          </p:cTn>
                        </p:par>
                        <p:par>
                          <p:cTn id="465" fill="hold">
                            <p:stCondLst>
                              <p:cond delay="500"/>
                            </p:stCondLst>
                            <p:childTnLst>
                              <p:par>
                                <p:cTn id="466" nodeType="afterEffect" fill="hold" presetClass="entr" presetID="10">
                                  <p:stCondLst>
                                    <p:cond delay="0"/>
                                  </p:stCondLst>
                                  <p:childTnLst>
                                    <p:set>
                                      <p:cBhvr>
                                        <p:cTn id="467" dur="1" fill="hold">
                                          <p:stCondLst>
                                            <p:cond delay="0"/>
                                          </p:stCondLst>
                                        </p:cTn>
                                        <p:tgtEl>
                                          <p:spTgt spid="2713"/>
                                        </p:tgtEl>
                                        <p:attrNameLst>
                                          <p:attrName>style.visibility</p:attrName>
                                        </p:attrNameLst>
                                      </p:cBhvr>
                                      <p:to>
                                        <p:strVal val="visible"/>
                                      </p:to>
                                    </p:set>
                                    <p:animEffect filter="fade" transition="in">
                                      <p:cBhvr additive="repl">
                                        <p:cTn id="468" dur="500"/>
                                        <p:tgtEl>
                                          <p:spTgt spid="2713"/>
                                        </p:tgtEl>
                                      </p:cBhvr>
                                    </p:animEffect>
                                  </p:childTnLst>
                                </p:cTn>
                              </p:par>
                              <p:par>
                                <p:cTn id="469" nodeType="withEffect" fill="hold" presetClass="entr" presetID="10">
                                  <p:stCondLst>
                                    <p:cond delay="0"/>
                                  </p:stCondLst>
                                  <p:childTnLst>
                                    <p:set>
                                      <p:cBhvr>
                                        <p:cTn id="470" dur="1" fill="hold">
                                          <p:stCondLst>
                                            <p:cond delay="0"/>
                                          </p:stCondLst>
                                        </p:cTn>
                                        <p:tgtEl>
                                          <p:spTgt spid="2723">
                                            <p:txEl>
                                              <p:pRg st="0" end="0"/>
                                            </p:txEl>
                                          </p:spTgt>
                                        </p:tgtEl>
                                        <p:attrNameLst>
                                          <p:attrName>style.visibility</p:attrName>
                                        </p:attrNameLst>
                                      </p:cBhvr>
                                      <p:to>
                                        <p:strVal val="visible"/>
                                      </p:to>
                                    </p:set>
                                    <p:animEffect filter="fade" transition="in">
                                      <p:cBhvr additive="repl">
                                        <p:cTn id="471" dur="500"/>
                                        <p:tgtEl>
                                          <p:spTgt spid="2723">
                                            <p:txEl>
                                              <p:pRg st="0" end="0"/>
                                            </p:txEl>
                                          </p:spTgt>
                                        </p:tgtEl>
                                      </p:cBhvr>
                                    </p:animEffect>
                                  </p:childTnLst>
                                </p:cTn>
                              </p:par>
                            </p:childTnLst>
                          </p:cTn>
                        </p:par>
                        <p:par>
                          <p:cTn id="472" fill="hold">
                            <p:stCondLst>
                              <p:cond delay="1000"/>
                            </p:stCondLst>
                            <p:childTnLst>
                              <p:par>
                                <p:cTn id="473" nodeType="afterEffect" fill="hold" presetClass="entr" presetID="10">
                                  <p:stCondLst>
                                    <p:cond delay="0"/>
                                  </p:stCondLst>
                                  <p:childTnLst>
                                    <p:set>
                                      <p:cBhvr>
                                        <p:cTn id="474" dur="1" fill="hold">
                                          <p:stCondLst>
                                            <p:cond delay="0"/>
                                          </p:stCondLst>
                                        </p:cTn>
                                        <p:tgtEl>
                                          <p:spTgt spid="2716"/>
                                        </p:tgtEl>
                                        <p:attrNameLst>
                                          <p:attrName>style.visibility</p:attrName>
                                        </p:attrNameLst>
                                      </p:cBhvr>
                                      <p:to>
                                        <p:strVal val="visible"/>
                                      </p:to>
                                    </p:set>
                                    <p:animEffect filter="fade" transition="in">
                                      <p:cBhvr additive="repl">
                                        <p:cTn id="475" dur="500"/>
                                        <p:tgtEl>
                                          <p:spTgt spid="2716"/>
                                        </p:tgtEl>
                                      </p:cBhvr>
                                    </p:animEffect>
                                  </p:childTnLst>
                                </p:cTn>
                              </p:par>
                              <p:par>
                                <p:cTn id="476" nodeType="withEffect" fill="hold" presetClass="entr" presetID="10">
                                  <p:stCondLst>
                                    <p:cond delay="0"/>
                                  </p:stCondLst>
                                  <p:childTnLst>
                                    <p:set>
                                      <p:cBhvr>
                                        <p:cTn id="477" dur="1" fill="hold">
                                          <p:stCondLst>
                                            <p:cond delay="0"/>
                                          </p:stCondLst>
                                        </p:cTn>
                                        <p:tgtEl>
                                          <p:spTgt spid="2724">
                                            <p:txEl>
                                              <p:pRg st="0" end="0"/>
                                            </p:txEl>
                                          </p:spTgt>
                                        </p:tgtEl>
                                        <p:attrNameLst>
                                          <p:attrName>style.visibility</p:attrName>
                                        </p:attrNameLst>
                                      </p:cBhvr>
                                      <p:to>
                                        <p:strVal val="visible"/>
                                      </p:to>
                                    </p:set>
                                    <p:animEffect filter="fade" transition="in">
                                      <p:cBhvr additive="repl">
                                        <p:cTn id="478" dur="500"/>
                                        <p:tgtEl>
                                          <p:spTgt spid="2724">
                                            <p:txEl>
                                              <p:pRg st="0" end="0"/>
                                            </p:txEl>
                                          </p:spTgt>
                                        </p:tgtEl>
                                      </p:cBhvr>
                                    </p:animEffect>
                                  </p:childTnLst>
                                </p:cTn>
                              </p:par>
                            </p:childTnLst>
                          </p:cTn>
                        </p:par>
                        <p:par>
                          <p:cTn id="479" fill="hold">
                            <p:stCondLst>
                              <p:cond delay="1500"/>
                            </p:stCondLst>
                            <p:childTnLst>
                              <p:par>
                                <p:cTn id="480" nodeType="afterEffect" fill="hold" presetClass="entr" presetID="10">
                                  <p:stCondLst>
                                    <p:cond delay="0"/>
                                  </p:stCondLst>
                                  <p:childTnLst>
                                    <p:set>
                                      <p:cBhvr>
                                        <p:cTn id="481" dur="1" fill="hold">
                                          <p:stCondLst>
                                            <p:cond delay="0"/>
                                          </p:stCondLst>
                                        </p:cTn>
                                        <p:tgtEl>
                                          <p:spTgt spid="2719"/>
                                        </p:tgtEl>
                                        <p:attrNameLst>
                                          <p:attrName>style.visibility</p:attrName>
                                        </p:attrNameLst>
                                      </p:cBhvr>
                                      <p:to>
                                        <p:strVal val="visible"/>
                                      </p:to>
                                    </p:set>
                                    <p:animEffect filter="fade" transition="in">
                                      <p:cBhvr additive="repl">
                                        <p:cTn id="482" dur="500"/>
                                        <p:tgtEl>
                                          <p:spTgt spid="2719"/>
                                        </p:tgtEl>
                                      </p:cBhvr>
                                    </p:animEffect>
                                  </p:childTnLst>
                                </p:cTn>
                              </p:par>
                              <p:par>
                                <p:cTn id="483" nodeType="withEffect" fill="hold" presetClass="entr" presetID="10">
                                  <p:stCondLst>
                                    <p:cond delay="0"/>
                                  </p:stCondLst>
                                  <p:childTnLst>
                                    <p:set>
                                      <p:cBhvr>
                                        <p:cTn id="484" dur="1" fill="hold">
                                          <p:stCondLst>
                                            <p:cond delay="0"/>
                                          </p:stCondLst>
                                        </p:cTn>
                                        <p:tgtEl>
                                          <p:spTgt spid="2725">
                                            <p:txEl>
                                              <p:pRg st="0" end="0"/>
                                            </p:txEl>
                                          </p:spTgt>
                                        </p:tgtEl>
                                        <p:attrNameLst>
                                          <p:attrName>style.visibility</p:attrName>
                                        </p:attrNameLst>
                                      </p:cBhvr>
                                      <p:to>
                                        <p:strVal val="visible"/>
                                      </p:to>
                                    </p:set>
                                    <p:animEffect filter="fade" transition="in">
                                      <p:cBhvr additive="repl">
                                        <p:cTn id="485" dur="500"/>
                                        <p:tgtEl>
                                          <p:spTgt spid="2725">
                                            <p:txEl>
                                              <p:pRg st="0" end="0"/>
                                            </p:txEl>
                                          </p:spTgt>
                                        </p:tgtEl>
                                      </p:cBhvr>
                                    </p:animEffect>
                                  </p:childTnLst>
                                </p:cTn>
                              </p:par>
                            </p:childTnLst>
                          </p:cTn>
                        </p:par>
                        <p:par>
                          <p:cTn id="486" fill="hold">
                            <p:stCondLst>
                              <p:cond delay="2000"/>
                            </p:stCondLst>
                            <p:childTnLst>
                              <p:par>
                                <p:cTn id="487" nodeType="afterEffect" fill="hold" presetClass="entr" presetID="22" presetSubtype="4">
                                  <p:stCondLst>
                                    <p:cond delay="0"/>
                                  </p:stCondLst>
                                  <p:childTnLst>
                                    <p:set>
                                      <p:cBhvr>
                                        <p:cTn id="488" dur="1" fill="hold">
                                          <p:stCondLst>
                                            <p:cond delay="0"/>
                                          </p:stCondLst>
                                        </p:cTn>
                                        <p:tgtEl>
                                          <p:spTgt spid="2726"/>
                                        </p:tgtEl>
                                        <p:attrNameLst>
                                          <p:attrName>style.visibility</p:attrName>
                                        </p:attrNameLst>
                                      </p:cBhvr>
                                      <p:to>
                                        <p:strVal val="visible"/>
                                      </p:to>
                                    </p:set>
                                    <p:animEffect filter="wipe(down)" transition="in">
                                      <p:cBhvr additive="repl">
                                        <p:cTn id="489" dur="500"/>
                                        <p:tgtEl>
                                          <p:spTgt spid="2726"/>
                                        </p:tgtEl>
                                      </p:cBhvr>
                                    </p:animEffect>
                                  </p:childTnLst>
                                </p:cTn>
                              </p:par>
                            </p:childTnLst>
                          </p:cTn>
                        </p:par>
                        <p:par>
                          <p:cTn id="490" fill="hold">
                            <p:stCondLst>
                              <p:cond delay="2500"/>
                            </p:stCondLst>
                            <p:childTnLst>
                              <p:par>
                                <p:cTn id="491" nodeType="afterEffect" fill="hold" presetClass="entr" presetID="10">
                                  <p:stCondLst>
                                    <p:cond delay="0"/>
                                  </p:stCondLst>
                                  <p:childTnLst>
                                    <p:set>
                                      <p:cBhvr>
                                        <p:cTn id="492" dur="1" fill="hold">
                                          <p:stCondLst>
                                            <p:cond delay="0"/>
                                          </p:stCondLst>
                                        </p:cTn>
                                        <p:tgtEl>
                                          <p:spTgt spid="2728">
                                            <p:txEl>
                                              <p:pRg st="0" end="0"/>
                                            </p:txEl>
                                          </p:spTgt>
                                        </p:tgtEl>
                                        <p:attrNameLst>
                                          <p:attrName>style.visibility</p:attrName>
                                        </p:attrNameLst>
                                      </p:cBhvr>
                                      <p:to>
                                        <p:strVal val="visible"/>
                                      </p:to>
                                    </p:set>
                                    <p:animEffect filter="fade" transition="in">
                                      <p:cBhvr additive="repl">
                                        <p:cTn id="493" dur="500"/>
                                        <p:tgtEl>
                                          <p:spTgt spid="2728">
                                            <p:txEl>
                                              <p:pRg st="0" end="0"/>
                                            </p:txEl>
                                          </p:spTgt>
                                        </p:tgtEl>
                                      </p:cBhvr>
                                    </p:animEffect>
                                  </p:childTnLst>
                                </p:cTn>
                              </p:par>
                              <p:par>
                                <p:cTn id="494" nodeType="withEffect" fill="hold" presetClass="entr" presetID="10">
                                  <p:stCondLst>
                                    <p:cond delay="0"/>
                                  </p:stCondLst>
                                  <p:childTnLst>
                                    <p:set>
                                      <p:cBhvr>
                                        <p:cTn id="495" dur="1" fill="hold">
                                          <p:stCondLst>
                                            <p:cond delay="0"/>
                                          </p:stCondLst>
                                        </p:cTn>
                                        <p:tgtEl>
                                          <p:spTgt spid="2727">
                                            <p:txEl>
                                              <p:pRg st="0" end="0"/>
                                            </p:txEl>
                                          </p:spTgt>
                                        </p:tgtEl>
                                        <p:attrNameLst>
                                          <p:attrName>style.visibility</p:attrName>
                                        </p:attrNameLst>
                                      </p:cBhvr>
                                      <p:to>
                                        <p:strVal val="visible"/>
                                      </p:to>
                                    </p:set>
                                    <p:animEffect filter="fade" transition="in">
                                      <p:cBhvr additive="repl">
                                        <p:cTn id="496" dur="500"/>
                                        <p:tgtEl>
                                          <p:spTgt spid="2727">
                                            <p:txEl>
                                              <p:pRg st="0" end="0"/>
                                            </p:txEl>
                                          </p:spTgt>
                                        </p:tgtEl>
                                      </p:cBhvr>
                                    </p:animEffect>
                                  </p:childTnLst>
                                </p:cTn>
                              </p:par>
                            </p:childTnLst>
                          </p:cTn>
                        </p:par>
                        <p:par>
                          <p:cTn id="497" fill="hold">
                            <p:stCondLst>
                              <p:cond delay="3000"/>
                            </p:stCondLst>
                            <p:childTnLst>
                              <p:par>
                                <p:cTn id="498" nodeType="afterEffect" fill="hold" presetClass="entr" presetID="22" presetSubtype="4">
                                  <p:stCondLst>
                                    <p:cond delay="0"/>
                                  </p:stCondLst>
                                  <p:childTnLst>
                                    <p:set>
                                      <p:cBhvr>
                                        <p:cTn id="499" dur="1" fill="hold">
                                          <p:stCondLst>
                                            <p:cond delay="0"/>
                                          </p:stCondLst>
                                        </p:cTn>
                                        <p:tgtEl>
                                          <p:spTgt spid="2729"/>
                                        </p:tgtEl>
                                        <p:attrNameLst>
                                          <p:attrName>style.visibility</p:attrName>
                                        </p:attrNameLst>
                                      </p:cBhvr>
                                      <p:to>
                                        <p:strVal val="visible"/>
                                      </p:to>
                                    </p:set>
                                    <p:animEffect filter="wipe(down)" transition="in">
                                      <p:cBhvr additive="repl">
                                        <p:cTn id="500" dur="500"/>
                                        <p:tgtEl>
                                          <p:spTgt spid="2729"/>
                                        </p:tgtEl>
                                      </p:cBhvr>
                                    </p:animEffect>
                                  </p:childTnLst>
                                </p:cTn>
                              </p:par>
                            </p:childTnLst>
                          </p:cTn>
                        </p:par>
                        <p:par>
                          <p:cTn id="501" fill="hold">
                            <p:stCondLst>
                              <p:cond delay="3500"/>
                            </p:stCondLst>
                            <p:childTnLst>
                              <p:par>
                                <p:cTn id="502" nodeType="afterEffect" fill="hold" presetClass="entr" presetID="10">
                                  <p:stCondLst>
                                    <p:cond delay="0"/>
                                  </p:stCondLst>
                                  <p:childTnLst>
                                    <p:set>
                                      <p:cBhvr>
                                        <p:cTn id="503" dur="1" fill="hold">
                                          <p:stCondLst>
                                            <p:cond delay="0"/>
                                          </p:stCondLst>
                                        </p:cTn>
                                        <p:tgtEl>
                                          <p:spTgt spid="2731">
                                            <p:txEl>
                                              <p:pRg st="0" end="0"/>
                                            </p:txEl>
                                          </p:spTgt>
                                        </p:tgtEl>
                                        <p:attrNameLst>
                                          <p:attrName>style.visibility</p:attrName>
                                        </p:attrNameLst>
                                      </p:cBhvr>
                                      <p:to>
                                        <p:strVal val="visible"/>
                                      </p:to>
                                    </p:set>
                                    <p:animEffect filter="fade" transition="in">
                                      <p:cBhvr additive="repl">
                                        <p:cTn id="504" dur="500"/>
                                        <p:tgtEl>
                                          <p:spTgt spid="2731">
                                            <p:txEl>
                                              <p:pRg st="0" end="0"/>
                                            </p:txEl>
                                          </p:spTgt>
                                        </p:tgtEl>
                                      </p:cBhvr>
                                    </p:animEffect>
                                  </p:childTnLst>
                                </p:cTn>
                              </p:par>
                              <p:par>
                                <p:cTn id="505" nodeType="withEffect" fill="hold" presetClass="entr" presetID="10">
                                  <p:stCondLst>
                                    <p:cond delay="0"/>
                                  </p:stCondLst>
                                  <p:childTnLst>
                                    <p:set>
                                      <p:cBhvr>
                                        <p:cTn id="506" dur="1" fill="hold">
                                          <p:stCondLst>
                                            <p:cond delay="0"/>
                                          </p:stCondLst>
                                        </p:cTn>
                                        <p:tgtEl>
                                          <p:spTgt spid="2730">
                                            <p:txEl>
                                              <p:pRg st="0" end="0"/>
                                            </p:txEl>
                                          </p:spTgt>
                                        </p:tgtEl>
                                        <p:attrNameLst>
                                          <p:attrName>style.visibility</p:attrName>
                                        </p:attrNameLst>
                                      </p:cBhvr>
                                      <p:to>
                                        <p:strVal val="visible"/>
                                      </p:to>
                                    </p:set>
                                    <p:animEffect filter="fade" transition="in">
                                      <p:cBhvr additive="repl">
                                        <p:cTn id="507" dur="500"/>
                                        <p:tgtEl>
                                          <p:spTgt spid="2730">
                                            <p:txEl>
                                              <p:pRg st="0" end="0"/>
                                            </p:txEl>
                                          </p:spTgt>
                                        </p:tgtEl>
                                      </p:cBhvr>
                                    </p:animEffect>
                                  </p:childTnLst>
                                </p:cTn>
                              </p:par>
                            </p:childTnLst>
                          </p:cTn>
                        </p:par>
                        <p:par>
                          <p:cTn id="508" fill="hold">
                            <p:stCondLst>
                              <p:cond delay="4000"/>
                            </p:stCondLst>
                            <p:childTnLst>
                              <p:par>
                                <p:cTn id="509" nodeType="afterEffect" fill="hold" presetClass="entr" presetID="49">
                                  <p:stCondLst>
                                    <p:cond delay="0"/>
                                  </p:stCondLst>
                                  <p:childTnLst>
                                    <p:set>
                                      <p:cBhvr>
                                        <p:cTn id="510" dur="1" fill="hold">
                                          <p:stCondLst>
                                            <p:cond delay="0"/>
                                          </p:stCondLst>
                                        </p:cTn>
                                        <p:tgtEl>
                                          <p:spTgt spid="2732"/>
                                        </p:tgtEl>
                                        <p:attrNameLst>
                                          <p:attrName>style.visibility</p:attrName>
                                        </p:attrNameLst>
                                      </p:cBhvr>
                                      <p:to>
                                        <p:strVal val="visible"/>
                                      </p:to>
                                    </p:set>
                                    <p:anim calcmode="lin" valueType="num">
                                      <p:cBhvr additive="repl">
                                        <p:cTn id="511" dur="500" fill="hold"/>
                                        <p:tgtEl>
                                          <p:spTgt spid="2732"/>
                                        </p:tgtEl>
                                        <p:attrNameLst>
                                          <p:attrName>ppt_w</p:attrName>
                                        </p:attrNameLst>
                                      </p:cBhvr>
                                      <p:tavLst>
                                        <p:tav tm="0">
                                          <p:val>
                                            <p:fltVal val="0"/>
                                          </p:val>
                                        </p:tav>
                                        <p:tav tm="100000">
                                          <p:val>
                                            <p:strVal val="#ppt_w"/>
                                          </p:val>
                                        </p:tav>
                                      </p:tavLst>
                                    </p:anim>
                                    <p:anim calcmode="lin" valueType="num">
                                      <p:cBhvr additive="repl">
                                        <p:cTn id="512" dur="500" fill="hold"/>
                                        <p:tgtEl>
                                          <p:spTgt spid="2732"/>
                                        </p:tgtEl>
                                        <p:attrNameLst>
                                          <p:attrName>ppt_h</p:attrName>
                                        </p:attrNameLst>
                                      </p:cBhvr>
                                      <p:tavLst>
                                        <p:tav tm="0">
                                          <p:val>
                                            <p:fltVal val="0"/>
                                          </p:val>
                                        </p:tav>
                                        <p:tav tm="100000">
                                          <p:val>
                                            <p:strVal val="#ppt_h"/>
                                          </p:val>
                                        </p:tav>
                                      </p:tavLst>
                                    </p:anim>
                                    <p:anim calcmode="lin" valueType="num">
                                      <p:cBhvr additive="repl">
                                        <p:cTn id="513" dur="500" fill="hold"/>
                                        <p:tgtEl>
                                          <p:spTgt spid="2732"/>
                                        </p:tgtEl>
                                        <p:attrNameLst>
                                          <p:attrName>r</p:attrName>
                                        </p:attrNameLst>
                                      </p:cBhvr>
                                      <p:tavLst>
                                        <p:tav tm="0">
                                          <p:val>
                                            <p:strVal val="360"/>
                                          </p:val>
                                        </p:tav>
                                        <p:tav tm="100000">
                                          <p:val>
                                            <p:strVal val="0"/>
                                          </p:val>
                                        </p:tav>
                                      </p:tavLst>
                                    </p:anim>
                                    <p:animEffect filter="fade" transition="in">
                                      <p:cBhvr additive="repl">
                                        <p:cTn id="514" dur="500"/>
                                        <p:tgtEl>
                                          <p:spTgt spid="2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CONTACT US</a:t>
            </a:r>
            <a:endParaRPr b="0" lang="en-US" sz="6600" spc="-1" strike="noStrike">
              <a:solidFill>
                <a:srgbClr val="000000"/>
              </a:solidFill>
              <a:latin typeface="Open Sans Light"/>
            </a:endParaRPr>
          </a:p>
        </p:txBody>
      </p:sp>
      <p:grpSp>
        <p:nvGrpSpPr>
          <p:cNvPr id="2734" name="Group 20"/>
          <p:cNvGrpSpPr/>
          <p:nvPr/>
        </p:nvGrpSpPr>
        <p:grpSpPr>
          <a:xfrm>
            <a:off x="4149000" y="9702720"/>
            <a:ext cx="3664440" cy="2858400"/>
            <a:chOff x="4149000" y="9702720"/>
            <a:chExt cx="3664440" cy="2858400"/>
          </a:xfrm>
        </p:grpSpPr>
        <p:sp>
          <p:nvSpPr>
            <p:cNvPr id="2735" name="TextBox 21"/>
            <p:cNvSpPr/>
            <p:nvPr/>
          </p:nvSpPr>
          <p:spPr>
            <a:xfrm>
              <a:off x="4258440" y="9702720"/>
              <a:ext cx="350136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123 Street Main Road</a:t>
              </a:r>
              <a:endParaRPr b="0" lang="en-US" sz="2600" spc="-1" strike="noStrike">
                <a:solidFill>
                  <a:srgbClr val="000000"/>
                </a:solidFill>
                <a:latin typeface="Open Sans Light"/>
              </a:endParaRPr>
            </a:p>
          </p:txBody>
        </p:sp>
        <p:sp>
          <p:nvSpPr>
            <p:cNvPr id="2736" name="TextBox 22"/>
            <p:cNvSpPr/>
            <p:nvPr/>
          </p:nvSpPr>
          <p:spPr>
            <a:xfrm>
              <a:off x="5473080" y="10888200"/>
              <a:ext cx="224100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123 456 7890</a:t>
              </a:r>
              <a:endParaRPr b="0" lang="en-US" sz="2600" spc="-1" strike="noStrike">
                <a:solidFill>
                  <a:srgbClr val="000000"/>
                </a:solidFill>
                <a:latin typeface="Open Sans Light"/>
              </a:endParaRPr>
            </a:p>
          </p:txBody>
        </p:sp>
        <p:sp>
          <p:nvSpPr>
            <p:cNvPr id="2737" name="TextBox 23"/>
            <p:cNvSpPr/>
            <p:nvPr/>
          </p:nvSpPr>
          <p:spPr>
            <a:xfrm>
              <a:off x="4149000" y="12071160"/>
              <a:ext cx="3664440" cy="48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youremail@gmail.com</a:t>
              </a:r>
              <a:endParaRPr b="0" lang="en-US" sz="2600" spc="-1" strike="noStrike">
                <a:solidFill>
                  <a:srgbClr val="000000"/>
                </a:solidFill>
                <a:latin typeface="Open Sans Light"/>
              </a:endParaRPr>
            </a:p>
          </p:txBody>
        </p:sp>
      </p:grpSp>
      <p:sp>
        <p:nvSpPr>
          <p:cNvPr id="2738" name="Oval 24"/>
          <p:cNvSpPr/>
          <p:nvPr/>
        </p:nvSpPr>
        <p:spPr>
          <a:xfrm>
            <a:off x="7885080" y="957276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39" name="Rectangle 25"/>
          <p:cNvSpPr/>
          <p:nvPr/>
        </p:nvSpPr>
        <p:spPr>
          <a:xfrm>
            <a:off x="8189640" y="973152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0" name="Oval 26"/>
          <p:cNvSpPr/>
          <p:nvPr/>
        </p:nvSpPr>
        <p:spPr>
          <a:xfrm>
            <a:off x="7885080" y="1075860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1" name="Rectangle 27"/>
          <p:cNvSpPr/>
          <p:nvPr/>
        </p:nvSpPr>
        <p:spPr>
          <a:xfrm>
            <a:off x="8137800" y="10917360"/>
            <a:ext cx="4611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2" name="Oval 28"/>
          <p:cNvSpPr/>
          <p:nvPr/>
        </p:nvSpPr>
        <p:spPr>
          <a:xfrm>
            <a:off x="7885080" y="11941200"/>
            <a:ext cx="98604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3" name="Rectangle 29"/>
          <p:cNvSpPr/>
          <p:nvPr/>
        </p:nvSpPr>
        <p:spPr>
          <a:xfrm>
            <a:off x="8168760" y="12099960"/>
            <a:ext cx="41220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4" name="Oval 30"/>
          <p:cNvSpPr/>
          <p:nvPr/>
        </p:nvSpPr>
        <p:spPr>
          <a:xfrm>
            <a:off x="15397200" y="9551880"/>
            <a:ext cx="985680" cy="98604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5" name="Rectangle 31"/>
          <p:cNvSpPr/>
          <p:nvPr/>
        </p:nvSpPr>
        <p:spPr>
          <a:xfrm>
            <a:off x="15677280" y="971064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6" name="Oval 32"/>
          <p:cNvSpPr/>
          <p:nvPr/>
        </p:nvSpPr>
        <p:spPr>
          <a:xfrm>
            <a:off x="15397200" y="10734840"/>
            <a:ext cx="98568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7" name="Rectangle 33"/>
          <p:cNvSpPr/>
          <p:nvPr/>
        </p:nvSpPr>
        <p:spPr>
          <a:xfrm>
            <a:off x="15683400" y="1091556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sp>
        <p:nvSpPr>
          <p:cNvPr id="2748" name="Oval 34"/>
          <p:cNvSpPr/>
          <p:nvPr/>
        </p:nvSpPr>
        <p:spPr>
          <a:xfrm>
            <a:off x="15397200" y="11917440"/>
            <a:ext cx="985680" cy="9856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2749" name="Rectangle 35"/>
          <p:cNvSpPr/>
          <p:nvPr/>
        </p:nvSpPr>
        <p:spPr>
          <a:xfrm>
            <a:off x="15683400" y="12098160"/>
            <a:ext cx="357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800" spc="-1" strike="noStrike">
                <a:solidFill>
                  <a:srgbClr val="262626"/>
                </a:solidFill>
                <a:latin typeface="et-line"/>
                <a:ea typeface="et-line"/>
              </a:rPr>
              <a:t></a:t>
            </a:r>
            <a:endParaRPr b="0" lang="en-US" sz="3800" spc="-1" strike="noStrike">
              <a:solidFill>
                <a:srgbClr val="000000"/>
              </a:solidFill>
              <a:latin typeface="Open Sans Light"/>
            </a:endParaRPr>
          </a:p>
        </p:txBody>
      </p:sp>
      <p:grpSp>
        <p:nvGrpSpPr>
          <p:cNvPr id="2750" name="Group 36"/>
          <p:cNvGrpSpPr/>
          <p:nvPr/>
        </p:nvGrpSpPr>
        <p:grpSpPr>
          <a:xfrm>
            <a:off x="16382880" y="9659880"/>
            <a:ext cx="5487120" cy="2891880"/>
            <a:chOff x="16382880" y="9659880"/>
            <a:chExt cx="5487120" cy="2891880"/>
          </a:xfrm>
        </p:grpSpPr>
        <p:sp>
          <p:nvSpPr>
            <p:cNvPr id="2751" name="TextBox 37"/>
            <p:cNvSpPr/>
            <p:nvPr/>
          </p:nvSpPr>
          <p:spPr>
            <a:xfrm>
              <a:off x="16404840" y="9659880"/>
              <a:ext cx="37148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www.yourwebsite.com</a:t>
              </a:r>
              <a:endParaRPr b="0" lang="en-US" sz="2600" spc="-1" strike="noStrike">
                <a:solidFill>
                  <a:srgbClr val="000000"/>
                </a:solidFill>
                <a:latin typeface="Open Sans Light"/>
              </a:endParaRPr>
            </a:p>
          </p:txBody>
        </p:sp>
        <p:sp>
          <p:nvSpPr>
            <p:cNvPr id="2752" name="TextBox 38"/>
            <p:cNvSpPr/>
            <p:nvPr/>
          </p:nvSpPr>
          <p:spPr>
            <a:xfrm>
              <a:off x="16382880" y="10878840"/>
              <a:ext cx="548712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www.facebook.com/yourfacebook</a:t>
              </a:r>
              <a:endParaRPr b="0" lang="en-US" sz="2600" spc="-1" strike="noStrike">
                <a:solidFill>
                  <a:srgbClr val="000000"/>
                </a:solidFill>
                <a:latin typeface="Open Sans Light"/>
              </a:endParaRPr>
            </a:p>
          </p:txBody>
        </p:sp>
        <p:sp>
          <p:nvSpPr>
            <p:cNvPr id="2753" name="TextBox 39"/>
            <p:cNvSpPr/>
            <p:nvPr/>
          </p:nvSpPr>
          <p:spPr>
            <a:xfrm>
              <a:off x="16442640" y="12061800"/>
              <a:ext cx="2213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7360"/>
                  <a:tab algn="l" pos="3654360"/>
                  <a:tab algn="l" pos="5481720"/>
                  <a:tab algn="l" pos="7308720"/>
                  <a:tab algn="l" pos="9136080"/>
                  <a:tab algn="l" pos="10963440"/>
                </a:tabLst>
              </a:pPr>
              <a:r>
                <a:rPr b="0" lang="en-US" sz="2600" spc="-1" strike="noStrike">
                  <a:solidFill>
                    <a:srgbClr val="7f7f7f"/>
                  </a:solidFill>
                  <a:latin typeface="Open Sans Light"/>
                  <a:ea typeface="Open Sans Light"/>
                </a:rPr>
                <a:t>@yourtwitter</a:t>
              </a:r>
              <a:endParaRPr b="0" lang="en-US" sz="2600" spc="-1" strike="noStrike">
                <a:solidFill>
                  <a:srgbClr val="000000"/>
                </a:solidFill>
                <a:latin typeface="Open Sans Light"/>
              </a:endParaRPr>
            </a:p>
          </p:txBody>
        </p:sp>
      </p:grpSp>
      <p:sp>
        <p:nvSpPr>
          <p:cNvPr id="2754" name="Rectangle 40"/>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2755" name="Group 41" descr=""/>
          <p:cNvPicPr/>
          <p:nvPr/>
        </p:nvPicPr>
        <p:blipFill>
          <a:blip r:embed="rId1"/>
          <a:stretch/>
        </p:blipFill>
        <p:spPr>
          <a:xfrm>
            <a:off x="11271240" y="2651040"/>
            <a:ext cx="1828800" cy="111240"/>
          </a:xfrm>
          <a:prstGeom prst="rect">
            <a:avLst/>
          </a:prstGeom>
          <a:ln w="0">
            <a:noFill/>
          </a:ln>
        </p:spPr>
      </p:pic>
      <p:pic>
        <p:nvPicPr>
          <p:cNvPr id="2756" name="" descr=""/>
          <p:cNvPicPr/>
          <p:nvPr/>
        </p:nvPicPr>
        <p:blipFill>
          <a:blip r:embed="rId2"/>
          <a:stretch/>
        </p:blipFill>
        <p:spPr>
          <a:xfrm>
            <a:off x="9223200" y="7497360"/>
            <a:ext cx="5686560" cy="62182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49">
                                  <p:stCondLst>
                                    <p:cond delay="0"/>
                                  </p:stCondLst>
                                  <p:childTnLst>
                                    <p:set>
                                      <p:cBhvr>
                                        <p:cTn id="520" dur="1" fill="hold">
                                          <p:stCondLst>
                                            <p:cond delay="0"/>
                                          </p:stCondLst>
                                        </p:cTn>
                                        <p:tgtEl>
                                          <p:spTgt spid="2755"/>
                                        </p:tgtEl>
                                        <p:attrNameLst>
                                          <p:attrName>style.visibility</p:attrName>
                                        </p:attrNameLst>
                                      </p:cBhvr>
                                      <p:to>
                                        <p:strVal val="visible"/>
                                      </p:to>
                                    </p:set>
                                    <p:anim calcmode="lin" valueType="num">
                                      <p:cBhvr additive="repl">
                                        <p:cTn id="521" dur="500" fill="hold"/>
                                        <p:tgtEl>
                                          <p:spTgt spid="2755"/>
                                        </p:tgtEl>
                                        <p:attrNameLst>
                                          <p:attrName>ppt_w</p:attrName>
                                        </p:attrNameLst>
                                      </p:cBhvr>
                                      <p:tavLst>
                                        <p:tav tm="0">
                                          <p:val>
                                            <p:fltVal val="0"/>
                                          </p:val>
                                        </p:tav>
                                        <p:tav tm="100000">
                                          <p:val>
                                            <p:strVal val="#ppt_w"/>
                                          </p:val>
                                        </p:tav>
                                      </p:tavLst>
                                    </p:anim>
                                    <p:anim calcmode="lin" valueType="num">
                                      <p:cBhvr additive="repl">
                                        <p:cTn id="522" dur="500" fill="hold"/>
                                        <p:tgtEl>
                                          <p:spTgt spid="2755"/>
                                        </p:tgtEl>
                                        <p:attrNameLst>
                                          <p:attrName>ppt_h</p:attrName>
                                        </p:attrNameLst>
                                      </p:cBhvr>
                                      <p:tavLst>
                                        <p:tav tm="0">
                                          <p:val>
                                            <p:fltVal val="0"/>
                                          </p:val>
                                        </p:tav>
                                        <p:tav tm="100000">
                                          <p:val>
                                            <p:strVal val="#ppt_h"/>
                                          </p:val>
                                        </p:tav>
                                      </p:tavLst>
                                    </p:anim>
                                    <p:anim calcmode="lin" valueType="num">
                                      <p:cBhvr additive="repl">
                                        <p:cTn id="523" dur="500" fill="hold"/>
                                        <p:tgtEl>
                                          <p:spTgt spid="2755"/>
                                        </p:tgtEl>
                                        <p:attrNameLst>
                                          <p:attrName>r</p:attrName>
                                        </p:attrNameLst>
                                      </p:cBhvr>
                                      <p:tavLst>
                                        <p:tav tm="0">
                                          <p:val>
                                            <p:strVal val="360"/>
                                          </p:val>
                                        </p:tav>
                                        <p:tav tm="100000">
                                          <p:val>
                                            <p:strVal val="0"/>
                                          </p:val>
                                        </p:tav>
                                      </p:tavLst>
                                    </p:anim>
                                    <p:animEffect filter="fade" transition="in">
                                      <p:cBhvr additive="repl">
                                        <p:cTn id="524" dur="500"/>
                                        <p:tgtEl>
                                          <p:spTgt spid="2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Shape 101"/>
          <p:cNvSpPr/>
          <p:nvPr/>
        </p:nvSpPr>
        <p:spPr>
          <a:xfrm>
            <a:off x="8988480" y="8093160"/>
            <a:ext cx="6400800" cy="1150920"/>
          </a:xfrm>
          <a:prstGeom prst="rect">
            <a:avLst/>
          </a:prstGeom>
          <a:solidFill>
            <a:srgbClr val="4d4d4d"/>
          </a:solidFill>
          <a:ln w="0">
            <a:noFill/>
          </a:ln>
        </p:spPr>
        <p:style>
          <a:lnRef idx="0"/>
          <a:fillRef idx="0"/>
          <a:effectRef idx="0"/>
          <a:fontRef idx="minor"/>
        </p:style>
        <p:txBody>
          <a:bodyPr lIns="122040" rIns="122040" tIns="122040" bIns="122040" anchor="ctr">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i="1" lang="en-US" sz="3600" spc="-1" strike="noStrike">
                <a:solidFill>
                  <a:srgbClr val="ffffff"/>
                </a:solidFill>
                <a:latin typeface="Montserrat Light"/>
                <a:ea typeface="Open Sans"/>
              </a:rPr>
              <a:t>Now… Lets talk about…</a:t>
            </a:r>
            <a:endParaRPr b="0" lang="en-US" sz="3600" spc="-1" strike="noStrike">
              <a:solidFill>
                <a:srgbClr val="000000"/>
              </a:solidFill>
              <a:latin typeface="Open Sans Light"/>
            </a:endParaRPr>
          </a:p>
        </p:txBody>
      </p:sp>
      <p:sp>
        <p:nvSpPr>
          <p:cNvPr id="1923" name="Title 5"/>
          <p:cNvSpPr/>
          <p:nvPr/>
        </p:nvSpPr>
        <p:spPr>
          <a:xfrm>
            <a:off x="1216080" y="10150560"/>
            <a:ext cx="21939120" cy="128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2193840"/>
                <a:tab algn="l" pos="4387680"/>
                <a:tab algn="l" pos="6581880"/>
                <a:tab algn="l" pos="8775720"/>
                <a:tab algn="l" pos="10969560"/>
              </a:tabLst>
            </a:pPr>
            <a:r>
              <a:rPr b="0" lang="en-US" sz="10500" spc="-1" strike="noStrike">
                <a:solidFill>
                  <a:srgbClr val="000000"/>
                </a:solidFill>
                <a:latin typeface="Montserrat Semi Bold"/>
              </a:rPr>
              <a:t>INTRODUCTION</a:t>
            </a:r>
            <a:endParaRPr b="0" lang="en-US" sz="10500" spc="-1" strike="noStrike">
              <a:solidFill>
                <a:srgbClr val="000000"/>
              </a:solidFill>
              <a:latin typeface="Open Sans Light"/>
            </a:endParaRPr>
          </a:p>
        </p:txBody>
      </p:sp>
      <p:pic>
        <p:nvPicPr>
          <p:cNvPr id="1924" name="Group 14" descr=""/>
          <p:cNvPicPr/>
          <p:nvPr/>
        </p:nvPicPr>
        <p:blipFill>
          <a:blip r:embed="rId1"/>
          <a:stretch/>
        </p:blipFill>
        <p:spPr>
          <a:xfrm>
            <a:off x="11271240" y="12026880"/>
            <a:ext cx="1828800" cy="104760"/>
          </a:xfrm>
          <a:prstGeom prst="rect">
            <a:avLst/>
          </a:prstGeom>
          <a:ln w="0">
            <a:noFill/>
          </a:ln>
        </p:spPr>
      </p:pic>
      <p:pic>
        <p:nvPicPr>
          <p:cNvPr id="1925" name="" descr=""/>
          <p:cNvPicPr/>
          <p:nvPr/>
        </p:nvPicPr>
        <p:blipFill>
          <a:blip r:embed="rId2"/>
          <a:stretch/>
        </p:blipFill>
        <p:spPr>
          <a:xfrm>
            <a:off x="0" y="0"/>
            <a:ext cx="24377760" cy="8686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1922"/>
                                        </p:tgtEl>
                                        <p:attrNameLst>
                                          <p:attrName>style.visibility</p:attrName>
                                        </p:attrNameLst>
                                      </p:cBhvr>
                                      <p:to>
                                        <p:strVal val="visible"/>
                                      </p:to>
                                    </p:set>
                                    <p:animEffect filter="fade" transition="in">
                                      <p:cBhvr additive="repl">
                                        <p:cTn id="47" dur="500"/>
                                        <p:tgtEl>
                                          <p:spTgt spid="1922"/>
                                        </p:tgtEl>
                                      </p:cBhvr>
                                    </p:animEffect>
                                  </p:childTnLst>
                                </p:cTn>
                              </p:par>
                            </p:childTnLst>
                          </p:cTn>
                        </p:par>
                        <p:par>
                          <p:cTn id="48" fill="hold">
                            <p:stCondLst>
                              <p:cond delay="500"/>
                            </p:stCondLst>
                            <p:childTnLst>
                              <p:par>
                                <p:cTn id="49" nodeType="afterEffect" fill="hold" presetClass="entr" presetID="10">
                                  <p:stCondLst>
                                    <p:cond delay="0"/>
                                  </p:stCondLst>
                                  <p:childTnLst>
                                    <p:set>
                                      <p:cBhvr>
                                        <p:cTn id="50" dur="1" fill="hold">
                                          <p:stCondLst>
                                            <p:cond delay="0"/>
                                          </p:stCondLst>
                                        </p:cTn>
                                        <p:tgtEl>
                                          <p:spTgt spid="1923"/>
                                        </p:tgtEl>
                                        <p:attrNameLst>
                                          <p:attrName>style.visibility</p:attrName>
                                        </p:attrNameLst>
                                      </p:cBhvr>
                                      <p:to>
                                        <p:strVal val="visible"/>
                                      </p:to>
                                    </p:set>
                                    <p:animEffect filter="fade" transition="in">
                                      <p:cBhvr additive="repl">
                                        <p:cTn id="51" dur="500"/>
                                        <p:tgtEl>
                                          <p:spTgt spid="1923"/>
                                        </p:tgtEl>
                                      </p:cBhvr>
                                    </p:animEffect>
                                  </p:childTnLst>
                                </p:cTn>
                              </p:par>
                            </p:childTnLst>
                          </p:cTn>
                        </p:par>
                        <p:par>
                          <p:cTn id="52" fill="hold">
                            <p:stCondLst>
                              <p:cond delay="1000"/>
                            </p:stCondLst>
                            <p:childTnLst>
                              <p:par>
                                <p:cTn id="53" nodeType="afterEffect" fill="hold" presetClass="entr" presetID="49">
                                  <p:stCondLst>
                                    <p:cond delay="0"/>
                                  </p:stCondLst>
                                  <p:childTnLst>
                                    <p:set>
                                      <p:cBhvr>
                                        <p:cTn id="54" dur="1" fill="hold">
                                          <p:stCondLst>
                                            <p:cond delay="0"/>
                                          </p:stCondLst>
                                        </p:cTn>
                                        <p:tgtEl>
                                          <p:spTgt spid="1924"/>
                                        </p:tgtEl>
                                        <p:attrNameLst>
                                          <p:attrName>style.visibility</p:attrName>
                                        </p:attrNameLst>
                                      </p:cBhvr>
                                      <p:to>
                                        <p:strVal val="visible"/>
                                      </p:to>
                                    </p:set>
                                    <p:anim calcmode="lin" valueType="num">
                                      <p:cBhvr additive="repl">
                                        <p:cTn id="55" dur="500" fill="hold"/>
                                        <p:tgtEl>
                                          <p:spTgt spid="1924"/>
                                        </p:tgtEl>
                                        <p:attrNameLst>
                                          <p:attrName>ppt_w</p:attrName>
                                        </p:attrNameLst>
                                      </p:cBhvr>
                                      <p:tavLst>
                                        <p:tav tm="0">
                                          <p:val>
                                            <p:fltVal val="0"/>
                                          </p:val>
                                        </p:tav>
                                        <p:tav tm="100000">
                                          <p:val>
                                            <p:strVal val="#ppt_w"/>
                                          </p:val>
                                        </p:tav>
                                      </p:tavLst>
                                    </p:anim>
                                    <p:anim calcmode="lin" valueType="num">
                                      <p:cBhvr additive="repl">
                                        <p:cTn id="56" dur="500" fill="hold"/>
                                        <p:tgtEl>
                                          <p:spTgt spid="1924"/>
                                        </p:tgtEl>
                                        <p:attrNameLst>
                                          <p:attrName>ppt_h</p:attrName>
                                        </p:attrNameLst>
                                      </p:cBhvr>
                                      <p:tavLst>
                                        <p:tav tm="0">
                                          <p:val>
                                            <p:fltVal val="0"/>
                                          </p:val>
                                        </p:tav>
                                        <p:tav tm="100000">
                                          <p:val>
                                            <p:strVal val="#ppt_h"/>
                                          </p:val>
                                        </p:tav>
                                      </p:tavLst>
                                    </p:anim>
                                    <p:anim calcmode="lin" valueType="num">
                                      <p:cBhvr additive="repl">
                                        <p:cTn id="57" dur="500" fill="hold"/>
                                        <p:tgtEl>
                                          <p:spTgt spid="1924"/>
                                        </p:tgtEl>
                                        <p:attrNameLst>
                                          <p:attrName>r</p:attrName>
                                        </p:attrNameLst>
                                      </p:cBhvr>
                                      <p:tavLst>
                                        <p:tav tm="0">
                                          <p:val>
                                            <p:strVal val="360"/>
                                          </p:val>
                                        </p:tav>
                                        <p:tav tm="100000">
                                          <p:val>
                                            <p:strVal val="0"/>
                                          </p:val>
                                        </p:tav>
                                      </p:tavLst>
                                    </p:anim>
                                    <p:animEffect filter="fade" transition="in">
                                      <p:cBhvr additive="repl">
                                        <p:cTn id="58" dur="500"/>
                                        <p:tgtEl>
                                          <p:spTgt spid="1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txBox="1"/>
          <p:nvPr/>
        </p:nvSpPr>
        <p:spPr>
          <a:xfrm>
            <a:off x="12174480" y="572436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2800" spc="-1" strike="noStrike">
                <a:solidFill>
                  <a:srgbClr val="595959"/>
                </a:solidFill>
                <a:latin typeface="Montserrat Semi Bold"/>
              </a:rPr>
              <a:t>SUB HEADING RUNS HERE</a:t>
            </a:r>
            <a:endParaRPr b="0" lang="en-US" sz="2800" spc="-1" strike="noStrike">
              <a:solidFill>
                <a:srgbClr val="000000"/>
              </a:solidFill>
              <a:latin typeface="Open Sans Light"/>
            </a:endParaRPr>
          </a:p>
        </p:txBody>
      </p:sp>
      <p:sp>
        <p:nvSpPr>
          <p:cNvPr id="1927" name="PlaceHolder 1"/>
          <p:cNvSpPr>
            <a:spLocks noGrp="1"/>
          </p:cNvSpPr>
          <p:nvPr>
            <p:ph/>
          </p:nvPr>
        </p:nvSpPr>
        <p:spPr>
          <a:xfrm>
            <a:off x="12175920" y="6586560"/>
            <a:ext cx="9342360" cy="539280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ea typeface="Open Sans Light"/>
              </a:rPr>
              <a:t>Contrary to popular belief, Lorem Ipsum is not simply random text. It has roots in a piece of classical Latin literature from 45 BC, making it over 2000 years old. </a:t>
            </a:r>
            <a:endParaRPr b="0" lang="en-US" sz="2400" spc="-1" strike="noStrike">
              <a:solidFill>
                <a:srgbClr val="000000"/>
              </a:solidFill>
              <a:latin typeface="Open Sans Light"/>
            </a:endParaRPr>
          </a:p>
          <a:p>
            <a:pPr indent="0">
              <a:lnSpc>
                <a:spcPts val="2812"/>
              </a:lnSpc>
              <a:spcBef>
                <a:spcPts val="2812"/>
              </a:spcBef>
              <a:buNone/>
              <a:tabLst>
                <a:tab algn="l" pos="0"/>
                <a:tab algn="l" pos="1827360"/>
                <a:tab algn="l" pos="3654360"/>
                <a:tab algn="l" pos="5481720"/>
                <a:tab algn="l" pos="7308720"/>
                <a:tab algn="l" pos="9136080"/>
                <a:tab algn="l" pos="10963440"/>
              </a:tabLst>
            </a:pPr>
            <a:endParaRPr b="0" lang="en-US" sz="2400" spc="-1" strike="noStrike">
              <a:solidFill>
                <a:srgbClr val="000000"/>
              </a:solidFill>
              <a:latin typeface="Open Sans Light"/>
            </a:endParaRPr>
          </a:p>
        </p:txBody>
      </p:sp>
      <p:sp>
        <p:nvSpPr>
          <p:cNvPr id="192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ABOUT US</a:t>
            </a:r>
            <a:endParaRPr b="0" lang="en-US" sz="6600" spc="-1" strike="noStrike">
              <a:solidFill>
                <a:srgbClr val="000000"/>
              </a:solidFill>
              <a:latin typeface="Open Sans Light"/>
            </a:endParaRPr>
          </a:p>
        </p:txBody>
      </p:sp>
      <p:sp>
        <p:nvSpPr>
          <p:cNvPr id="1929" name="Rectangle 16"/>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30" name="Group 17" descr=""/>
          <p:cNvPicPr/>
          <p:nvPr/>
        </p:nvPicPr>
        <p:blipFill>
          <a:blip r:embed="rId1"/>
          <a:stretch/>
        </p:blipFill>
        <p:spPr>
          <a:xfrm>
            <a:off x="11271240" y="2651040"/>
            <a:ext cx="1828800" cy="111240"/>
          </a:xfrm>
          <a:prstGeom prst="rect">
            <a:avLst/>
          </a:prstGeom>
          <a:ln w="0">
            <a:noFill/>
          </a:ln>
        </p:spPr>
      </p:pic>
      <p:pic>
        <p:nvPicPr>
          <p:cNvPr id="1931" name="" descr=""/>
          <p:cNvPicPr/>
          <p:nvPr/>
        </p:nvPicPr>
        <p:blipFill>
          <a:blip r:embed="rId2"/>
          <a:stretch/>
        </p:blipFill>
        <p:spPr>
          <a:xfrm>
            <a:off x="5149440" y="5468760"/>
            <a:ext cx="5575320" cy="35625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9">
                                  <p:stCondLst>
                                    <p:cond delay="0"/>
                                  </p:stCondLst>
                                  <p:childTnLst>
                                    <p:set>
                                      <p:cBhvr>
                                        <p:cTn id="64" dur="1" fill="hold">
                                          <p:stCondLst>
                                            <p:cond delay="0"/>
                                          </p:stCondLst>
                                        </p:cTn>
                                        <p:tgtEl>
                                          <p:spTgt spid="1930"/>
                                        </p:tgtEl>
                                        <p:attrNameLst>
                                          <p:attrName>style.visibility</p:attrName>
                                        </p:attrNameLst>
                                      </p:cBhvr>
                                      <p:to>
                                        <p:strVal val="visible"/>
                                      </p:to>
                                    </p:set>
                                    <p:anim calcmode="lin" valueType="num">
                                      <p:cBhvr additive="repl">
                                        <p:cTn id="65" dur="500" fill="hold"/>
                                        <p:tgtEl>
                                          <p:spTgt spid="1930"/>
                                        </p:tgtEl>
                                        <p:attrNameLst>
                                          <p:attrName>ppt_w</p:attrName>
                                        </p:attrNameLst>
                                      </p:cBhvr>
                                      <p:tavLst>
                                        <p:tav tm="0">
                                          <p:val>
                                            <p:fltVal val="0"/>
                                          </p:val>
                                        </p:tav>
                                        <p:tav tm="100000">
                                          <p:val>
                                            <p:strVal val="#ppt_w"/>
                                          </p:val>
                                        </p:tav>
                                      </p:tavLst>
                                    </p:anim>
                                    <p:anim calcmode="lin" valueType="num">
                                      <p:cBhvr additive="repl">
                                        <p:cTn id="66" dur="500" fill="hold"/>
                                        <p:tgtEl>
                                          <p:spTgt spid="1930"/>
                                        </p:tgtEl>
                                        <p:attrNameLst>
                                          <p:attrName>ppt_h</p:attrName>
                                        </p:attrNameLst>
                                      </p:cBhvr>
                                      <p:tavLst>
                                        <p:tav tm="0">
                                          <p:val>
                                            <p:fltVal val="0"/>
                                          </p:val>
                                        </p:tav>
                                        <p:tav tm="100000">
                                          <p:val>
                                            <p:strVal val="#ppt_h"/>
                                          </p:val>
                                        </p:tav>
                                      </p:tavLst>
                                    </p:anim>
                                    <p:anim calcmode="lin" valueType="num">
                                      <p:cBhvr additive="repl">
                                        <p:cTn id="67" dur="500" fill="hold"/>
                                        <p:tgtEl>
                                          <p:spTgt spid="1930"/>
                                        </p:tgtEl>
                                        <p:attrNameLst>
                                          <p:attrName>r</p:attrName>
                                        </p:attrNameLst>
                                      </p:cBhvr>
                                      <p:tavLst>
                                        <p:tav tm="0">
                                          <p:val>
                                            <p:strVal val="360"/>
                                          </p:val>
                                        </p:tav>
                                        <p:tav tm="100000">
                                          <p:val>
                                            <p:strVal val="0"/>
                                          </p:val>
                                        </p:tav>
                                      </p:tavLst>
                                    </p:anim>
                                    <p:animEffect filter="fade" transition="in">
                                      <p:cBhvr additive="repl">
                                        <p:cTn id="68" dur="500"/>
                                        <p:tgtEl>
                                          <p:spTgt spid="1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2" name="Group 65"/>
          <p:cNvGrpSpPr/>
          <p:nvPr/>
        </p:nvGrpSpPr>
        <p:grpSpPr>
          <a:xfrm>
            <a:off x="9385200" y="9105840"/>
            <a:ext cx="1824120" cy="1825560"/>
            <a:chOff x="9385200" y="9105840"/>
            <a:chExt cx="1824120" cy="1825560"/>
          </a:xfrm>
        </p:grpSpPr>
        <p:sp>
          <p:nvSpPr>
            <p:cNvPr id="1933" name="Oval 40"/>
            <p:cNvSpPr/>
            <p:nvPr/>
          </p:nvSpPr>
          <p:spPr>
            <a:xfrm>
              <a:off x="9385200" y="9105840"/>
              <a:ext cx="1824120" cy="1825560"/>
            </a:xfrm>
            <a:prstGeom prst="ellipse">
              <a:avLst/>
            </a:prstGeom>
            <a:solidFill>
              <a:srgbClr val="4d4d4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34" name="Freeform 3"/>
            <p:cNvSpPr/>
            <p:nvPr/>
          </p:nvSpPr>
          <p:spPr>
            <a:xfrm>
              <a:off x="9909720" y="9676080"/>
              <a:ext cx="794520" cy="640080"/>
            </a:xfrm>
            <a:custGeom>
              <a:avLst/>
              <a:gdLst/>
              <a:ahLst/>
              <a:rect l="l" t="t" r="r" b="b"/>
              <a:pathLst>
                <a:path w="497" h="400">
                  <a:moveTo>
                    <a:pt x="487" y="71"/>
                  </a:moveTo>
                  <a:lnTo>
                    <a:pt x="487" y="71"/>
                  </a:lnTo>
                  <a:cubicBezTo>
                    <a:pt x="372" y="0"/>
                    <a:pt x="372" y="0"/>
                    <a:pt x="372" y="0"/>
                  </a:cubicBezTo>
                  <a:cubicBezTo>
                    <a:pt x="363" y="0"/>
                    <a:pt x="363" y="0"/>
                    <a:pt x="354" y="0"/>
                  </a:cubicBezTo>
                  <a:cubicBezTo>
                    <a:pt x="248" y="71"/>
                    <a:pt x="248" y="71"/>
                    <a:pt x="248" y="71"/>
                  </a:cubicBezTo>
                  <a:cubicBezTo>
                    <a:pt x="142" y="0"/>
                    <a:pt x="142" y="0"/>
                    <a:pt x="142" y="0"/>
                  </a:cubicBezTo>
                  <a:cubicBezTo>
                    <a:pt x="132" y="0"/>
                    <a:pt x="132" y="0"/>
                    <a:pt x="123" y="0"/>
                  </a:cubicBezTo>
                  <a:cubicBezTo>
                    <a:pt x="8" y="71"/>
                    <a:pt x="8" y="71"/>
                    <a:pt x="8" y="71"/>
                  </a:cubicBezTo>
                  <a:cubicBezTo>
                    <a:pt x="0" y="80"/>
                    <a:pt x="0" y="80"/>
                    <a:pt x="0" y="89"/>
                  </a:cubicBezTo>
                  <a:cubicBezTo>
                    <a:pt x="0" y="382"/>
                    <a:pt x="0" y="382"/>
                    <a:pt x="0" y="382"/>
                  </a:cubicBezTo>
                  <a:cubicBezTo>
                    <a:pt x="0" y="382"/>
                    <a:pt x="0" y="390"/>
                    <a:pt x="8" y="390"/>
                  </a:cubicBezTo>
                  <a:cubicBezTo>
                    <a:pt x="8" y="399"/>
                    <a:pt x="17" y="399"/>
                    <a:pt x="26" y="390"/>
                  </a:cubicBezTo>
                  <a:cubicBezTo>
                    <a:pt x="132" y="328"/>
                    <a:pt x="132" y="328"/>
                    <a:pt x="132" y="328"/>
                  </a:cubicBezTo>
                  <a:cubicBezTo>
                    <a:pt x="239" y="390"/>
                    <a:pt x="239" y="390"/>
                    <a:pt x="239" y="390"/>
                  </a:cubicBezTo>
                  <a:cubicBezTo>
                    <a:pt x="248" y="399"/>
                    <a:pt x="248" y="399"/>
                    <a:pt x="257" y="390"/>
                  </a:cubicBezTo>
                  <a:cubicBezTo>
                    <a:pt x="363" y="328"/>
                    <a:pt x="363" y="328"/>
                    <a:pt x="363" y="328"/>
                  </a:cubicBezTo>
                  <a:cubicBezTo>
                    <a:pt x="470" y="390"/>
                    <a:pt x="470" y="390"/>
                    <a:pt x="470" y="390"/>
                  </a:cubicBezTo>
                  <a:cubicBezTo>
                    <a:pt x="470" y="399"/>
                    <a:pt x="478" y="399"/>
                    <a:pt x="478" y="399"/>
                  </a:cubicBezTo>
                  <a:cubicBezTo>
                    <a:pt x="478" y="399"/>
                    <a:pt x="487" y="399"/>
                    <a:pt x="487" y="390"/>
                  </a:cubicBezTo>
                  <a:cubicBezTo>
                    <a:pt x="496" y="390"/>
                    <a:pt x="496" y="382"/>
                    <a:pt x="496" y="382"/>
                  </a:cubicBezTo>
                  <a:cubicBezTo>
                    <a:pt x="496" y="89"/>
                    <a:pt x="496" y="89"/>
                    <a:pt x="496" y="89"/>
                  </a:cubicBezTo>
                  <a:cubicBezTo>
                    <a:pt x="496" y="80"/>
                    <a:pt x="496" y="80"/>
                    <a:pt x="487" y="71"/>
                  </a:cubicBezTo>
                  <a:close/>
                  <a:moveTo>
                    <a:pt x="115" y="293"/>
                  </a:moveTo>
                  <a:lnTo>
                    <a:pt x="115" y="293"/>
                  </a:lnTo>
                  <a:cubicBezTo>
                    <a:pt x="35" y="346"/>
                    <a:pt x="35" y="346"/>
                    <a:pt x="35" y="346"/>
                  </a:cubicBezTo>
                  <a:cubicBezTo>
                    <a:pt x="35" y="98"/>
                    <a:pt x="35" y="98"/>
                    <a:pt x="35" y="98"/>
                  </a:cubicBezTo>
                  <a:cubicBezTo>
                    <a:pt x="115" y="44"/>
                    <a:pt x="115" y="44"/>
                    <a:pt x="115" y="44"/>
                  </a:cubicBezTo>
                  <a:lnTo>
                    <a:pt x="115" y="293"/>
                  </a:lnTo>
                  <a:close/>
                  <a:moveTo>
                    <a:pt x="230" y="346"/>
                  </a:moveTo>
                  <a:lnTo>
                    <a:pt x="230" y="346"/>
                  </a:lnTo>
                  <a:cubicBezTo>
                    <a:pt x="150" y="293"/>
                    <a:pt x="150" y="293"/>
                    <a:pt x="150" y="293"/>
                  </a:cubicBezTo>
                  <a:cubicBezTo>
                    <a:pt x="150" y="44"/>
                    <a:pt x="150" y="44"/>
                    <a:pt x="150" y="44"/>
                  </a:cubicBezTo>
                  <a:cubicBezTo>
                    <a:pt x="230" y="98"/>
                    <a:pt x="230" y="98"/>
                    <a:pt x="230" y="98"/>
                  </a:cubicBezTo>
                  <a:lnTo>
                    <a:pt x="230" y="346"/>
                  </a:lnTo>
                  <a:close/>
                  <a:moveTo>
                    <a:pt x="345" y="293"/>
                  </a:moveTo>
                  <a:lnTo>
                    <a:pt x="345" y="293"/>
                  </a:lnTo>
                  <a:cubicBezTo>
                    <a:pt x="266" y="346"/>
                    <a:pt x="266" y="346"/>
                    <a:pt x="266" y="346"/>
                  </a:cubicBezTo>
                  <a:cubicBezTo>
                    <a:pt x="266" y="98"/>
                    <a:pt x="266" y="98"/>
                    <a:pt x="266" y="98"/>
                  </a:cubicBezTo>
                  <a:cubicBezTo>
                    <a:pt x="345" y="44"/>
                    <a:pt x="345" y="44"/>
                    <a:pt x="345" y="44"/>
                  </a:cubicBezTo>
                  <a:lnTo>
                    <a:pt x="345" y="293"/>
                  </a:lnTo>
                  <a:close/>
                  <a:moveTo>
                    <a:pt x="461" y="346"/>
                  </a:moveTo>
                  <a:lnTo>
                    <a:pt x="461" y="346"/>
                  </a:lnTo>
                  <a:cubicBezTo>
                    <a:pt x="380" y="293"/>
                    <a:pt x="380" y="293"/>
                    <a:pt x="380" y="293"/>
                  </a:cubicBezTo>
                  <a:cubicBezTo>
                    <a:pt x="380" y="44"/>
                    <a:pt x="380" y="44"/>
                    <a:pt x="380" y="44"/>
                  </a:cubicBezTo>
                  <a:cubicBezTo>
                    <a:pt x="461" y="98"/>
                    <a:pt x="461" y="98"/>
                    <a:pt x="461" y="98"/>
                  </a:cubicBezTo>
                  <a:lnTo>
                    <a:pt x="461" y="34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35" name="Group 62"/>
          <p:cNvGrpSpPr/>
          <p:nvPr/>
        </p:nvGrpSpPr>
        <p:grpSpPr>
          <a:xfrm>
            <a:off x="13712760" y="5079960"/>
            <a:ext cx="1825560" cy="1825560"/>
            <a:chOff x="13712760" y="5079960"/>
            <a:chExt cx="1825560" cy="1825560"/>
          </a:xfrm>
        </p:grpSpPr>
        <p:sp>
          <p:nvSpPr>
            <p:cNvPr id="1936" name="Oval 43"/>
            <p:cNvSpPr/>
            <p:nvPr/>
          </p:nvSpPr>
          <p:spPr>
            <a:xfrm>
              <a:off x="13712760" y="5079960"/>
              <a:ext cx="1825560" cy="1825560"/>
            </a:xfrm>
            <a:prstGeom prst="ellipse">
              <a:avLst/>
            </a:prstGeom>
            <a:solidFill>
              <a:srgbClr val="969696"/>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37" name="Freeform 22"/>
            <p:cNvSpPr/>
            <p:nvPr/>
          </p:nvSpPr>
          <p:spPr>
            <a:xfrm>
              <a:off x="14275800" y="5636160"/>
              <a:ext cx="739080" cy="738720"/>
            </a:xfrm>
            <a:custGeom>
              <a:avLst/>
              <a:gdLst/>
              <a:ahLst/>
              <a:rect l="l" t="t" r="r" b="b"/>
              <a:pathLst>
                <a:path w="461" h="461">
                  <a:moveTo>
                    <a:pt x="230" y="8"/>
                  </a:moveTo>
                  <a:lnTo>
                    <a:pt x="230" y="8"/>
                  </a:lnTo>
                  <a:cubicBezTo>
                    <a:pt x="97" y="8"/>
                    <a:pt x="0" y="106"/>
                    <a:pt x="0" y="239"/>
                  </a:cubicBezTo>
                  <a:cubicBezTo>
                    <a:pt x="0" y="363"/>
                    <a:pt x="106" y="460"/>
                    <a:pt x="230" y="460"/>
                  </a:cubicBezTo>
                  <a:cubicBezTo>
                    <a:pt x="363" y="460"/>
                    <a:pt x="460" y="354"/>
                    <a:pt x="460" y="230"/>
                  </a:cubicBezTo>
                  <a:cubicBezTo>
                    <a:pt x="460" y="106"/>
                    <a:pt x="354" y="0"/>
                    <a:pt x="230" y="8"/>
                  </a:cubicBezTo>
                  <a:close/>
                  <a:moveTo>
                    <a:pt x="230" y="35"/>
                  </a:moveTo>
                  <a:lnTo>
                    <a:pt x="230" y="35"/>
                  </a:lnTo>
                  <a:cubicBezTo>
                    <a:pt x="256" y="35"/>
                    <a:pt x="291" y="44"/>
                    <a:pt x="319" y="53"/>
                  </a:cubicBezTo>
                  <a:cubicBezTo>
                    <a:pt x="291" y="106"/>
                    <a:pt x="291" y="106"/>
                    <a:pt x="291" y="106"/>
                  </a:cubicBezTo>
                  <a:cubicBezTo>
                    <a:pt x="275" y="97"/>
                    <a:pt x="247" y="97"/>
                    <a:pt x="230" y="97"/>
                  </a:cubicBezTo>
                  <a:cubicBezTo>
                    <a:pt x="203" y="97"/>
                    <a:pt x="185" y="97"/>
                    <a:pt x="168" y="106"/>
                  </a:cubicBezTo>
                  <a:cubicBezTo>
                    <a:pt x="141" y="53"/>
                    <a:pt x="141" y="53"/>
                    <a:pt x="141" y="53"/>
                  </a:cubicBezTo>
                  <a:cubicBezTo>
                    <a:pt x="168" y="44"/>
                    <a:pt x="194" y="35"/>
                    <a:pt x="230" y="35"/>
                  </a:cubicBezTo>
                  <a:close/>
                  <a:moveTo>
                    <a:pt x="106" y="292"/>
                  </a:moveTo>
                  <a:lnTo>
                    <a:pt x="106" y="292"/>
                  </a:lnTo>
                  <a:cubicBezTo>
                    <a:pt x="53" y="327"/>
                    <a:pt x="53" y="327"/>
                    <a:pt x="53" y="327"/>
                  </a:cubicBezTo>
                  <a:cubicBezTo>
                    <a:pt x="35" y="301"/>
                    <a:pt x="35" y="265"/>
                    <a:pt x="35" y="239"/>
                  </a:cubicBezTo>
                  <a:cubicBezTo>
                    <a:pt x="26" y="204"/>
                    <a:pt x="35" y="167"/>
                    <a:pt x="53" y="141"/>
                  </a:cubicBezTo>
                  <a:cubicBezTo>
                    <a:pt x="106" y="167"/>
                    <a:pt x="106" y="167"/>
                    <a:pt x="106" y="167"/>
                  </a:cubicBezTo>
                  <a:cubicBezTo>
                    <a:pt x="97" y="185"/>
                    <a:pt x="88" y="212"/>
                    <a:pt x="88" y="230"/>
                  </a:cubicBezTo>
                  <a:cubicBezTo>
                    <a:pt x="88" y="257"/>
                    <a:pt x="97" y="274"/>
                    <a:pt x="106" y="292"/>
                  </a:cubicBezTo>
                  <a:close/>
                  <a:moveTo>
                    <a:pt x="230" y="433"/>
                  </a:moveTo>
                  <a:lnTo>
                    <a:pt x="230" y="433"/>
                  </a:lnTo>
                  <a:cubicBezTo>
                    <a:pt x="194" y="433"/>
                    <a:pt x="168" y="425"/>
                    <a:pt x="141" y="407"/>
                  </a:cubicBezTo>
                  <a:cubicBezTo>
                    <a:pt x="168" y="354"/>
                    <a:pt x="168" y="354"/>
                    <a:pt x="168" y="354"/>
                  </a:cubicBezTo>
                  <a:cubicBezTo>
                    <a:pt x="185" y="363"/>
                    <a:pt x="203" y="372"/>
                    <a:pt x="230" y="372"/>
                  </a:cubicBezTo>
                  <a:cubicBezTo>
                    <a:pt x="247" y="372"/>
                    <a:pt x="275" y="363"/>
                    <a:pt x="291" y="354"/>
                  </a:cubicBezTo>
                  <a:cubicBezTo>
                    <a:pt x="319" y="407"/>
                    <a:pt x="319" y="407"/>
                    <a:pt x="319" y="407"/>
                  </a:cubicBezTo>
                  <a:cubicBezTo>
                    <a:pt x="291" y="425"/>
                    <a:pt x="266" y="433"/>
                    <a:pt x="230" y="433"/>
                  </a:cubicBezTo>
                  <a:close/>
                  <a:moveTo>
                    <a:pt x="230" y="345"/>
                  </a:moveTo>
                  <a:lnTo>
                    <a:pt x="230" y="345"/>
                  </a:lnTo>
                  <a:cubicBezTo>
                    <a:pt x="168" y="345"/>
                    <a:pt x="124" y="292"/>
                    <a:pt x="124" y="230"/>
                  </a:cubicBezTo>
                  <a:cubicBezTo>
                    <a:pt x="124" y="167"/>
                    <a:pt x="168" y="123"/>
                    <a:pt x="230" y="123"/>
                  </a:cubicBezTo>
                  <a:cubicBezTo>
                    <a:pt x="291" y="123"/>
                    <a:pt x="336" y="167"/>
                    <a:pt x="336" y="230"/>
                  </a:cubicBezTo>
                  <a:cubicBezTo>
                    <a:pt x="336" y="292"/>
                    <a:pt x="291" y="345"/>
                    <a:pt x="230" y="345"/>
                  </a:cubicBezTo>
                  <a:close/>
                  <a:moveTo>
                    <a:pt x="354" y="292"/>
                  </a:moveTo>
                  <a:lnTo>
                    <a:pt x="354" y="292"/>
                  </a:lnTo>
                  <a:cubicBezTo>
                    <a:pt x="363" y="274"/>
                    <a:pt x="372" y="257"/>
                    <a:pt x="372" y="230"/>
                  </a:cubicBezTo>
                  <a:cubicBezTo>
                    <a:pt x="372" y="212"/>
                    <a:pt x="363" y="185"/>
                    <a:pt x="354" y="167"/>
                  </a:cubicBezTo>
                  <a:cubicBezTo>
                    <a:pt x="407" y="141"/>
                    <a:pt x="407" y="141"/>
                    <a:pt x="407" y="141"/>
                  </a:cubicBezTo>
                  <a:cubicBezTo>
                    <a:pt x="416" y="167"/>
                    <a:pt x="425" y="195"/>
                    <a:pt x="425" y="230"/>
                  </a:cubicBezTo>
                  <a:cubicBezTo>
                    <a:pt x="425" y="265"/>
                    <a:pt x="416" y="292"/>
                    <a:pt x="407" y="327"/>
                  </a:cubicBezTo>
                  <a:lnTo>
                    <a:pt x="354" y="29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38" name="Group 61"/>
          <p:cNvGrpSpPr/>
          <p:nvPr/>
        </p:nvGrpSpPr>
        <p:grpSpPr>
          <a:xfrm>
            <a:off x="9385200" y="5079960"/>
            <a:ext cx="1824120" cy="1825560"/>
            <a:chOff x="9385200" y="5079960"/>
            <a:chExt cx="1824120" cy="1825560"/>
          </a:xfrm>
        </p:grpSpPr>
        <p:sp>
          <p:nvSpPr>
            <p:cNvPr id="1939" name="Oval 39"/>
            <p:cNvSpPr/>
            <p:nvPr/>
          </p:nvSpPr>
          <p:spPr>
            <a:xfrm>
              <a:off x="9385200" y="5079960"/>
              <a:ext cx="1824120" cy="1825560"/>
            </a:xfrm>
            <a:prstGeom prst="ellipse">
              <a:avLst/>
            </a:prstGeom>
            <a:solidFill>
              <a:srgbClr val="b2b2b2"/>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0" name="Freeform 97"/>
            <p:cNvSpPr/>
            <p:nvPr/>
          </p:nvSpPr>
          <p:spPr>
            <a:xfrm>
              <a:off x="9909720" y="5571000"/>
              <a:ext cx="794520" cy="682560"/>
            </a:xfrm>
            <a:custGeom>
              <a:avLst/>
              <a:gdLst/>
              <a:ahLst/>
              <a:rect l="l" t="t" r="r" b="b"/>
              <a:pathLst>
                <a:path w="497" h="426">
                  <a:moveTo>
                    <a:pt x="230" y="231"/>
                  </a:moveTo>
                  <a:lnTo>
                    <a:pt x="230" y="231"/>
                  </a:lnTo>
                  <a:cubicBezTo>
                    <a:pt x="274" y="231"/>
                    <a:pt x="274" y="231"/>
                    <a:pt x="274" y="231"/>
                  </a:cubicBezTo>
                  <a:cubicBezTo>
                    <a:pt x="274" y="275"/>
                    <a:pt x="274" y="275"/>
                    <a:pt x="274" y="275"/>
                  </a:cubicBezTo>
                  <a:cubicBezTo>
                    <a:pt x="496" y="275"/>
                    <a:pt x="496" y="275"/>
                    <a:pt x="496" y="275"/>
                  </a:cubicBezTo>
                  <a:cubicBezTo>
                    <a:pt x="496" y="275"/>
                    <a:pt x="496" y="168"/>
                    <a:pt x="487" y="133"/>
                  </a:cubicBezTo>
                  <a:cubicBezTo>
                    <a:pt x="487" y="97"/>
                    <a:pt x="478" y="80"/>
                    <a:pt x="443" y="80"/>
                  </a:cubicBezTo>
                  <a:cubicBezTo>
                    <a:pt x="363" y="80"/>
                    <a:pt x="363" y="80"/>
                    <a:pt x="363" y="80"/>
                  </a:cubicBezTo>
                  <a:cubicBezTo>
                    <a:pt x="345" y="53"/>
                    <a:pt x="337" y="27"/>
                    <a:pt x="337" y="27"/>
                  </a:cubicBezTo>
                  <a:cubicBezTo>
                    <a:pt x="328" y="9"/>
                    <a:pt x="319" y="0"/>
                    <a:pt x="300" y="0"/>
                  </a:cubicBezTo>
                  <a:cubicBezTo>
                    <a:pt x="194" y="0"/>
                    <a:pt x="194" y="0"/>
                    <a:pt x="194" y="0"/>
                  </a:cubicBezTo>
                  <a:cubicBezTo>
                    <a:pt x="177" y="0"/>
                    <a:pt x="168" y="9"/>
                    <a:pt x="168" y="27"/>
                  </a:cubicBezTo>
                  <a:cubicBezTo>
                    <a:pt x="159" y="27"/>
                    <a:pt x="150" y="53"/>
                    <a:pt x="133" y="80"/>
                  </a:cubicBezTo>
                  <a:cubicBezTo>
                    <a:pt x="53" y="80"/>
                    <a:pt x="53" y="80"/>
                    <a:pt x="53" y="80"/>
                  </a:cubicBezTo>
                  <a:cubicBezTo>
                    <a:pt x="17" y="80"/>
                    <a:pt x="9" y="97"/>
                    <a:pt x="9" y="133"/>
                  </a:cubicBezTo>
                  <a:cubicBezTo>
                    <a:pt x="0" y="168"/>
                    <a:pt x="0" y="275"/>
                    <a:pt x="0" y="275"/>
                  </a:cubicBezTo>
                  <a:cubicBezTo>
                    <a:pt x="230" y="275"/>
                    <a:pt x="230" y="275"/>
                    <a:pt x="230" y="275"/>
                  </a:cubicBezTo>
                  <a:lnTo>
                    <a:pt x="230" y="231"/>
                  </a:lnTo>
                  <a:close/>
                  <a:moveTo>
                    <a:pt x="186" y="53"/>
                  </a:moveTo>
                  <a:lnTo>
                    <a:pt x="186" y="53"/>
                  </a:lnTo>
                  <a:cubicBezTo>
                    <a:pt x="194" y="44"/>
                    <a:pt x="194" y="36"/>
                    <a:pt x="212" y="36"/>
                  </a:cubicBezTo>
                  <a:cubicBezTo>
                    <a:pt x="284" y="36"/>
                    <a:pt x="284" y="36"/>
                    <a:pt x="284" y="36"/>
                  </a:cubicBezTo>
                  <a:cubicBezTo>
                    <a:pt x="300" y="36"/>
                    <a:pt x="300" y="44"/>
                    <a:pt x="309" y="53"/>
                  </a:cubicBezTo>
                  <a:cubicBezTo>
                    <a:pt x="309" y="53"/>
                    <a:pt x="319" y="71"/>
                    <a:pt x="319" y="80"/>
                  </a:cubicBezTo>
                  <a:cubicBezTo>
                    <a:pt x="177" y="80"/>
                    <a:pt x="177" y="80"/>
                    <a:pt x="177" y="80"/>
                  </a:cubicBezTo>
                  <a:cubicBezTo>
                    <a:pt x="186" y="71"/>
                    <a:pt x="186" y="53"/>
                    <a:pt x="186" y="53"/>
                  </a:cubicBezTo>
                  <a:close/>
                  <a:moveTo>
                    <a:pt x="274" y="355"/>
                  </a:moveTo>
                  <a:lnTo>
                    <a:pt x="274" y="355"/>
                  </a:lnTo>
                  <a:cubicBezTo>
                    <a:pt x="230" y="355"/>
                    <a:pt x="230" y="355"/>
                    <a:pt x="230" y="355"/>
                  </a:cubicBezTo>
                  <a:cubicBezTo>
                    <a:pt x="230" y="302"/>
                    <a:pt x="230" y="302"/>
                    <a:pt x="230" y="302"/>
                  </a:cubicBezTo>
                  <a:cubicBezTo>
                    <a:pt x="9" y="302"/>
                    <a:pt x="9" y="302"/>
                    <a:pt x="9" y="302"/>
                  </a:cubicBezTo>
                  <a:cubicBezTo>
                    <a:pt x="9" y="302"/>
                    <a:pt x="17" y="346"/>
                    <a:pt x="17" y="381"/>
                  </a:cubicBezTo>
                  <a:cubicBezTo>
                    <a:pt x="17" y="399"/>
                    <a:pt x="26" y="425"/>
                    <a:pt x="62" y="425"/>
                  </a:cubicBezTo>
                  <a:cubicBezTo>
                    <a:pt x="434" y="425"/>
                    <a:pt x="434" y="425"/>
                    <a:pt x="434" y="425"/>
                  </a:cubicBezTo>
                  <a:cubicBezTo>
                    <a:pt x="469" y="425"/>
                    <a:pt x="478" y="399"/>
                    <a:pt x="478" y="381"/>
                  </a:cubicBezTo>
                  <a:cubicBezTo>
                    <a:pt x="478" y="346"/>
                    <a:pt x="487" y="302"/>
                    <a:pt x="487" y="302"/>
                  </a:cubicBezTo>
                  <a:cubicBezTo>
                    <a:pt x="274" y="302"/>
                    <a:pt x="274" y="302"/>
                    <a:pt x="274" y="302"/>
                  </a:cubicBezTo>
                  <a:lnTo>
                    <a:pt x="274" y="35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1" name="Group 66"/>
          <p:cNvGrpSpPr/>
          <p:nvPr/>
        </p:nvGrpSpPr>
        <p:grpSpPr>
          <a:xfrm>
            <a:off x="13712760" y="9105840"/>
            <a:ext cx="1825560" cy="1825560"/>
            <a:chOff x="13712760" y="9105840"/>
            <a:chExt cx="1825560" cy="1825560"/>
          </a:xfrm>
        </p:grpSpPr>
        <p:sp>
          <p:nvSpPr>
            <p:cNvPr id="1942" name="Oval 44"/>
            <p:cNvSpPr/>
            <p:nvPr/>
          </p:nvSpPr>
          <p:spPr>
            <a:xfrm>
              <a:off x="13712760" y="9105840"/>
              <a:ext cx="1825560" cy="1825560"/>
            </a:xfrm>
            <a:prstGeom prst="ellipse">
              <a:avLst/>
            </a:prstGeom>
            <a:solidFill>
              <a:srgbClr val="ddddd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3" name="Freeform 101"/>
            <p:cNvSpPr/>
            <p:nvPr/>
          </p:nvSpPr>
          <p:spPr>
            <a:xfrm>
              <a:off x="14241600" y="9720000"/>
              <a:ext cx="795240" cy="612000"/>
            </a:xfrm>
            <a:custGeom>
              <a:avLst/>
              <a:gdLst/>
              <a:ahLst/>
              <a:rect l="l" t="t" r="r" b="b"/>
              <a:pathLst>
                <a:path w="497" h="382">
                  <a:moveTo>
                    <a:pt x="80" y="248"/>
                  </a:moveTo>
                  <a:lnTo>
                    <a:pt x="80" y="248"/>
                  </a:lnTo>
                  <a:cubicBezTo>
                    <a:pt x="97" y="293"/>
                    <a:pt x="106" y="311"/>
                    <a:pt x="159" y="328"/>
                  </a:cubicBezTo>
                  <a:cubicBezTo>
                    <a:pt x="203" y="355"/>
                    <a:pt x="230" y="381"/>
                    <a:pt x="248" y="381"/>
                  </a:cubicBezTo>
                  <a:cubicBezTo>
                    <a:pt x="266" y="381"/>
                    <a:pt x="293" y="355"/>
                    <a:pt x="337" y="337"/>
                  </a:cubicBezTo>
                  <a:cubicBezTo>
                    <a:pt x="390" y="311"/>
                    <a:pt x="372" y="311"/>
                    <a:pt x="390" y="258"/>
                  </a:cubicBezTo>
                  <a:cubicBezTo>
                    <a:pt x="248" y="328"/>
                    <a:pt x="248" y="328"/>
                    <a:pt x="248" y="328"/>
                  </a:cubicBezTo>
                  <a:lnTo>
                    <a:pt x="80" y="248"/>
                  </a:lnTo>
                  <a:close/>
                  <a:moveTo>
                    <a:pt x="487" y="124"/>
                  </a:moveTo>
                  <a:lnTo>
                    <a:pt x="487" y="124"/>
                  </a:lnTo>
                  <a:cubicBezTo>
                    <a:pt x="274" y="9"/>
                    <a:pt x="274" y="9"/>
                    <a:pt x="274" y="9"/>
                  </a:cubicBezTo>
                  <a:cubicBezTo>
                    <a:pt x="266" y="0"/>
                    <a:pt x="239" y="0"/>
                    <a:pt x="221" y="9"/>
                  </a:cubicBezTo>
                  <a:cubicBezTo>
                    <a:pt x="9" y="124"/>
                    <a:pt x="9" y="124"/>
                    <a:pt x="9" y="124"/>
                  </a:cubicBezTo>
                  <a:cubicBezTo>
                    <a:pt x="0" y="133"/>
                    <a:pt x="0" y="142"/>
                    <a:pt x="9" y="160"/>
                  </a:cubicBezTo>
                  <a:cubicBezTo>
                    <a:pt x="221" y="275"/>
                    <a:pt x="221" y="275"/>
                    <a:pt x="221" y="275"/>
                  </a:cubicBezTo>
                  <a:cubicBezTo>
                    <a:pt x="239" y="284"/>
                    <a:pt x="266" y="284"/>
                    <a:pt x="274" y="275"/>
                  </a:cubicBezTo>
                  <a:cubicBezTo>
                    <a:pt x="408" y="195"/>
                    <a:pt x="408" y="195"/>
                    <a:pt x="408" y="195"/>
                  </a:cubicBezTo>
                  <a:cubicBezTo>
                    <a:pt x="266" y="160"/>
                    <a:pt x="266" y="160"/>
                    <a:pt x="266" y="160"/>
                  </a:cubicBezTo>
                  <a:cubicBezTo>
                    <a:pt x="257" y="160"/>
                    <a:pt x="257" y="168"/>
                    <a:pt x="248" y="168"/>
                  </a:cubicBezTo>
                  <a:cubicBezTo>
                    <a:pt x="221" y="168"/>
                    <a:pt x="203" y="151"/>
                    <a:pt x="203" y="133"/>
                  </a:cubicBezTo>
                  <a:cubicBezTo>
                    <a:pt x="203" y="124"/>
                    <a:pt x="221" y="107"/>
                    <a:pt x="248" y="107"/>
                  </a:cubicBezTo>
                  <a:cubicBezTo>
                    <a:pt x="266" y="107"/>
                    <a:pt x="284" y="115"/>
                    <a:pt x="293" y="124"/>
                  </a:cubicBezTo>
                  <a:cubicBezTo>
                    <a:pt x="443" y="177"/>
                    <a:pt x="443" y="177"/>
                    <a:pt x="443" y="177"/>
                  </a:cubicBezTo>
                  <a:cubicBezTo>
                    <a:pt x="487" y="160"/>
                    <a:pt x="487" y="160"/>
                    <a:pt x="487" y="160"/>
                  </a:cubicBezTo>
                  <a:cubicBezTo>
                    <a:pt x="496" y="142"/>
                    <a:pt x="496" y="133"/>
                    <a:pt x="487" y="124"/>
                  </a:cubicBezTo>
                  <a:close/>
                  <a:moveTo>
                    <a:pt x="425" y="346"/>
                  </a:moveTo>
                  <a:lnTo>
                    <a:pt x="425" y="346"/>
                  </a:lnTo>
                  <a:cubicBezTo>
                    <a:pt x="416" y="355"/>
                    <a:pt x="452" y="364"/>
                    <a:pt x="461" y="337"/>
                  </a:cubicBezTo>
                  <a:cubicBezTo>
                    <a:pt x="469" y="213"/>
                    <a:pt x="443" y="177"/>
                    <a:pt x="443" y="177"/>
                  </a:cubicBezTo>
                  <a:cubicBezTo>
                    <a:pt x="408" y="195"/>
                    <a:pt x="408" y="195"/>
                    <a:pt x="408" y="195"/>
                  </a:cubicBezTo>
                  <a:cubicBezTo>
                    <a:pt x="408" y="195"/>
                    <a:pt x="443" y="222"/>
                    <a:pt x="425" y="34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4" name="Group 63"/>
          <p:cNvGrpSpPr/>
          <p:nvPr/>
        </p:nvGrpSpPr>
        <p:grpSpPr>
          <a:xfrm>
            <a:off x="18040320" y="5079960"/>
            <a:ext cx="1825560" cy="1825560"/>
            <a:chOff x="18040320" y="5079960"/>
            <a:chExt cx="1825560" cy="1825560"/>
          </a:xfrm>
        </p:grpSpPr>
        <p:sp>
          <p:nvSpPr>
            <p:cNvPr id="1945" name="Oval 41"/>
            <p:cNvSpPr/>
            <p:nvPr/>
          </p:nvSpPr>
          <p:spPr>
            <a:xfrm>
              <a:off x="18040320" y="5079960"/>
              <a:ext cx="1825560" cy="1825560"/>
            </a:xfrm>
            <a:prstGeom prst="ellipse">
              <a:avLst/>
            </a:prstGeom>
            <a:solidFill>
              <a:srgbClr val="808080"/>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6" name="Freeform 102"/>
            <p:cNvSpPr/>
            <p:nvPr/>
          </p:nvSpPr>
          <p:spPr>
            <a:xfrm>
              <a:off x="18572400" y="5621040"/>
              <a:ext cx="795240" cy="710640"/>
            </a:xfrm>
            <a:custGeom>
              <a:avLst/>
              <a:gdLst/>
              <a:ahLst/>
              <a:rect l="l" t="t" r="r" b="b"/>
              <a:pathLst>
                <a:path w="498" h="445">
                  <a:moveTo>
                    <a:pt x="80" y="151"/>
                  </a:moveTo>
                  <a:lnTo>
                    <a:pt x="80" y="151"/>
                  </a:lnTo>
                  <a:cubicBezTo>
                    <a:pt x="97" y="134"/>
                    <a:pt x="116" y="143"/>
                    <a:pt x="142" y="169"/>
                  </a:cubicBezTo>
                  <a:cubicBezTo>
                    <a:pt x="151" y="178"/>
                    <a:pt x="151" y="169"/>
                    <a:pt x="151" y="169"/>
                  </a:cubicBezTo>
                  <a:cubicBezTo>
                    <a:pt x="160" y="169"/>
                    <a:pt x="186" y="134"/>
                    <a:pt x="195" y="134"/>
                  </a:cubicBezTo>
                  <a:cubicBezTo>
                    <a:pt x="195" y="134"/>
                    <a:pt x="195" y="134"/>
                    <a:pt x="195" y="125"/>
                  </a:cubicBezTo>
                  <a:cubicBezTo>
                    <a:pt x="186" y="125"/>
                    <a:pt x="178" y="116"/>
                    <a:pt x="178" y="107"/>
                  </a:cubicBezTo>
                  <a:cubicBezTo>
                    <a:pt x="133" y="45"/>
                    <a:pt x="301" y="10"/>
                    <a:pt x="275" y="10"/>
                  </a:cubicBezTo>
                  <a:cubicBezTo>
                    <a:pt x="257" y="0"/>
                    <a:pt x="204" y="0"/>
                    <a:pt x="195" y="0"/>
                  </a:cubicBezTo>
                  <a:cubicBezTo>
                    <a:pt x="169" y="10"/>
                    <a:pt x="125" y="36"/>
                    <a:pt x="107" y="54"/>
                  </a:cubicBezTo>
                  <a:cubicBezTo>
                    <a:pt x="80" y="72"/>
                    <a:pt x="72" y="81"/>
                    <a:pt x="72" y="81"/>
                  </a:cubicBezTo>
                  <a:cubicBezTo>
                    <a:pt x="62" y="89"/>
                    <a:pt x="72" y="107"/>
                    <a:pt x="53" y="116"/>
                  </a:cubicBezTo>
                  <a:cubicBezTo>
                    <a:pt x="36" y="125"/>
                    <a:pt x="27" y="116"/>
                    <a:pt x="18" y="125"/>
                  </a:cubicBezTo>
                  <a:cubicBezTo>
                    <a:pt x="18" y="134"/>
                    <a:pt x="9" y="134"/>
                    <a:pt x="0" y="143"/>
                  </a:cubicBezTo>
                  <a:lnTo>
                    <a:pt x="0" y="151"/>
                  </a:lnTo>
                  <a:lnTo>
                    <a:pt x="36" y="187"/>
                  </a:lnTo>
                  <a:cubicBezTo>
                    <a:pt x="36" y="196"/>
                    <a:pt x="44" y="196"/>
                    <a:pt x="53" y="196"/>
                  </a:cubicBezTo>
                  <a:cubicBezTo>
                    <a:pt x="53" y="187"/>
                    <a:pt x="62" y="178"/>
                    <a:pt x="72" y="178"/>
                  </a:cubicBezTo>
                  <a:cubicBezTo>
                    <a:pt x="72" y="178"/>
                    <a:pt x="72" y="151"/>
                    <a:pt x="80" y="151"/>
                  </a:cubicBezTo>
                  <a:close/>
                  <a:moveTo>
                    <a:pt x="222" y="160"/>
                  </a:moveTo>
                  <a:lnTo>
                    <a:pt x="222" y="160"/>
                  </a:lnTo>
                  <a:cubicBezTo>
                    <a:pt x="213" y="160"/>
                    <a:pt x="213" y="160"/>
                    <a:pt x="213" y="160"/>
                  </a:cubicBezTo>
                  <a:cubicBezTo>
                    <a:pt x="178" y="187"/>
                    <a:pt x="178" y="187"/>
                    <a:pt x="178" y="187"/>
                  </a:cubicBezTo>
                  <a:cubicBezTo>
                    <a:pt x="169" y="196"/>
                    <a:pt x="169" y="196"/>
                    <a:pt x="169" y="204"/>
                  </a:cubicBezTo>
                  <a:cubicBezTo>
                    <a:pt x="381" y="435"/>
                    <a:pt x="381" y="435"/>
                    <a:pt x="381" y="435"/>
                  </a:cubicBezTo>
                  <a:cubicBezTo>
                    <a:pt x="381" y="444"/>
                    <a:pt x="391" y="444"/>
                    <a:pt x="399" y="435"/>
                  </a:cubicBezTo>
                  <a:cubicBezTo>
                    <a:pt x="426" y="417"/>
                    <a:pt x="426" y="417"/>
                    <a:pt x="426" y="417"/>
                  </a:cubicBezTo>
                  <a:cubicBezTo>
                    <a:pt x="426" y="408"/>
                    <a:pt x="426" y="400"/>
                    <a:pt x="426" y="400"/>
                  </a:cubicBezTo>
                  <a:lnTo>
                    <a:pt x="222" y="160"/>
                  </a:lnTo>
                  <a:close/>
                  <a:moveTo>
                    <a:pt x="497" y="63"/>
                  </a:moveTo>
                  <a:lnTo>
                    <a:pt x="497" y="63"/>
                  </a:lnTo>
                  <a:cubicBezTo>
                    <a:pt x="488" y="45"/>
                    <a:pt x="488" y="54"/>
                    <a:pt x="479" y="54"/>
                  </a:cubicBezTo>
                  <a:cubicBezTo>
                    <a:pt x="479" y="63"/>
                    <a:pt x="461" y="81"/>
                    <a:pt x="461" y="89"/>
                  </a:cubicBezTo>
                  <a:cubicBezTo>
                    <a:pt x="452" y="107"/>
                    <a:pt x="435" y="125"/>
                    <a:pt x="408" y="107"/>
                  </a:cubicBezTo>
                  <a:cubicBezTo>
                    <a:pt x="381" y="81"/>
                    <a:pt x="391" y="72"/>
                    <a:pt x="399" y="63"/>
                  </a:cubicBezTo>
                  <a:cubicBezTo>
                    <a:pt x="399" y="54"/>
                    <a:pt x="417" y="28"/>
                    <a:pt x="417" y="19"/>
                  </a:cubicBezTo>
                  <a:cubicBezTo>
                    <a:pt x="426" y="19"/>
                    <a:pt x="417" y="10"/>
                    <a:pt x="408" y="10"/>
                  </a:cubicBezTo>
                  <a:cubicBezTo>
                    <a:pt x="399" y="19"/>
                    <a:pt x="346" y="36"/>
                    <a:pt x="337" y="72"/>
                  </a:cubicBezTo>
                  <a:cubicBezTo>
                    <a:pt x="328" y="98"/>
                    <a:pt x="346" y="125"/>
                    <a:pt x="319" y="151"/>
                  </a:cubicBezTo>
                  <a:cubicBezTo>
                    <a:pt x="284" y="187"/>
                    <a:pt x="284" y="187"/>
                    <a:pt x="284" y="187"/>
                  </a:cubicBezTo>
                  <a:cubicBezTo>
                    <a:pt x="319" y="231"/>
                    <a:pt x="319" y="231"/>
                    <a:pt x="319" y="231"/>
                  </a:cubicBezTo>
                  <a:cubicBezTo>
                    <a:pt x="364" y="187"/>
                    <a:pt x="364" y="187"/>
                    <a:pt x="364" y="187"/>
                  </a:cubicBezTo>
                  <a:cubicBezTo>
                    <a:pt x="372" y="178"/>
                    <a:pt x="391" y="169"/>
                    <a:pt x="408" y="178"/>
                  </a:cubicBezTo>
                  <a:cubicBezTo>
                    <a:pt x="452" y="187"/>
                    <a:pt x="470" y="169"/>
                    <a:pt x="488" y="143"/>
                  </a:cubicBezTo>
                  <a:cubicBezTo>
                    <a:pt x="497" y="116"/>
                    <a:pt x="497" y="72"/>
                    <a:pt x="497" y="63"/>
                  </a:cubicBezTo>
                  <a:close/>
                  <a:moveTo>
                    <a:pt x="72" y="400"/>
                  </a:moveTo>
                  <a:lnTo>
                    <a:pt x="72" y="400"/>
                  </a:lnTo>
                  <a:cubicBezTo>
                    <a:pt x="62" y="408"/>
                    <a:pt x="62" y="417"/>
                    <a:pt x="72" y="417"/>
                  </a:cubicBezTo>
                  <a:cubicBezTo>
                    <a:pt x="89" y="444"/>
                    <a:pt x="89" y="444"/>
                    <a:pt x="89" y="444"/>
                  </a:cubicBezTo>
                  <a:cubicBezTo>
                    <a:pt x="97" y="444"/>
                    <a:pt x="107" y="444"/>
                    <a:pt x="107" y="435"/>
                  </a:cubicBezTo>
                  <a:cubicBezTo>
                    <a:pt x="231" y="320"/>
                    <a:pt x="231" y="320"/>
                    <a:pt x="231" y="320"/>
                  </a:cubicBezTo>
                  <a:cubicBezTo>
                    <a:pt x="195" y="275"/>
                    <a:pt x="195" y="275"/>
                    <a:pt x="195" y="275"/>
                  </a:cubicBezTo>
                  <a:lnTo>
                    <a:pt x="72" y="4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47" name="Group 60"/>
          <p:cNvGrpSpPr/>
          <p:nvPr/>
        </p:nvGrpSpPr>
        <p:grpSpPr>
          <a:xfrm>
            <a:off x="5056200" y="5079960"/>
            <a:ext cx="1825560" cy="1825560"/>
            <a:chOff x="5056200" y="5079960"/>
            <a:chExt cx="1825560" cy="1825560"/>
          </a:xfrm>
        </p:grpSpPr>
        <p:sp>
          <p:nvSpPr>
            <p:cNvPr id="1948" name="Oval 37"/>
            <p:cNvSpPr/>
            <p:nvPr/>
          </p:nvSpPr>
          <p:spPr>
            <a:xfrm>
              <a:off x="5056200" y="5079960"/>
              <a:ext cx="1825560" cy="1825560"/>
            </a:xfrm>
            <a:prstGeom prst="ellipse">
              <a:avLst/>
            </a:prstGeom>
            <a:solidFill>
              <a:srgbClr val="dddddd"/>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49" name="Freeform 104"/>
            <p:cNvSpPr/>
            <p:nvPr/>
          </p:nvSpPr>
          <p:spPr>
            <a:xfrm>
              <a:off x="5574600" y="5643000"/>
              <a:ext cx="795240" cy="534600"/>
            </a:xfrm>
            <a:custGeom>
              <a:avLst/>
              <a:gdLst/>
              <a:ahLst/>
              <a:rect l="l" t="t" r="r" b="b"/>
              <a:pathLst>
                <a:path w="497" h="337">
                  <a:moveTo>
                    <a:pt x="203" y="257"/>
                  </a:moveTo>
                  <a:lnTo>
                    <a:pt x="203" y="257"/>
                  </a:lnTo>
                  <a:cubicBezTo>
                    <a:pt x="186" y="283"/>
                    <a:pt x="194" y="310"/>
                    <a:pt x="221" y="327"/>
                  </a:cubicBezTo>
                  <a:cubicBezTo>
                    <a:pt x="239" y="336"/>
                    <a:pt x="266" y="336"/>
                    <a:pt x="283" y="310"/>
                  </a:cubicBezTo>
                  <a:cubicBezTo>
                    <a:pt x="301" y="274"/>
                    <a:pt x="407" y="9"/>
                    <a:pt x="398" y="9"/>
                  </a:cubicBezTo>
                  <a:cubicBezTo>
                    <a:pt x="389" y="0"/>
                    <a:pt x="221" y="230"/>
                    <a:pt x="203" y="257"/>
                  </a:cubicBezTo>
                  <a:close/>
                  <a:moveTo>
                    <a:pt x="248" y="71"/>
                  </a:moveTo>
                  <a:lnTo>
                    <a:pt x="248" y="71"/>
                  </a:lnTo>
                  <a:cubicBezTo>
                    <a:pt x="257" y="71"/>
                    <a:pt x="266" y="71"/>
                    <a:pt x="274" y="71"/>
                  </a:cubicBezTo>
                  <a:cubicBezTo>
                    <a:pt x="292" y="53"/>
                    <a:pt x="301" y="44"/>
                    <a:pt x="310" y="26"/>
                  </a:cubicBezTo>
                  <a:cubicBezTo>
                    <a:pt x="292" y="17"/>
                    <a:pt x="274" y="17"/>
                    <a:pt x="248" y="17"/>
                  </a:cubicBezTo>
                  <a:cubicBezTo>
                    <a:pt x="106" y="17"/>
                    <a:pt x="0" y="133"/>
                    <a:pt x="0" y="283"/>
                  </a:cubicBezTo>
                  <a:cubicBezTo>
                    <a:pt x="0" y="292"/>
                    <a:pt x="0" y="301"/>
                    <a:pt x="0" y="310"/>
                  </a:cubicBezTo>
                  <a:cubicBezTo>
                    <a:pt x="0" y="327"/>
                    <a:pt x="17" y="336"/>
                    <a:pt x="26" y="336"/>
                  </a:cubicBezTo>
                  <a:cubicBezTo>
                    <a:pt x="44" y="336"/>
                    <a:pt x="53" y="319"/>
                    <a:pt x="53" y="310"/>
                  </a:cubicBezTo>
                  <a:cubicBezTo>
                    <a:pt x="53" y="301"/>
                    <a:pt x="53" y="292"/>
                    <a:pt x="53" y="283"/>
                  </a:cubicBezTo>
                  <a:cubicBezTo>
                    <a:pt x="53" y="160"/>
                    <a:pt x="132" y="71"/>
                    <a:pt x="248" y="71"/>
                  </a:cubicBezTo>
                  <a:close/>
                  <a:moveTo>
                    <a:pt x="425" y="98"/>
                  </a:moveTo>
                  <a:lnTo>
                    <a:pt x="425" y="98"/>
                  </a:lnTo>
                  <a:cubicBezTo>
                    <a:pt x="416" y="115"/>
                    <a:pt x="416" y="133"/>
                    <a:pt x="407" y="151"/>
                  </a:cubicBezTo>
                  <a:cubicBezTo>
                    <a:pt x="433" y="186"/>
                    <a:pt x="442" y="239"/>
                    <a:pt x="442" y="283"/>
                  </a:cubicBezTo>
                  <a:cubicBezTo>
                    <a:pt x="442" y="292"/>
                    <a:pt x="442" y="301"/>
                    <a:pt x="442" y="310"/>
                  </a:cubicBezTo>
                  <a:cubicBezTo>
                    <a:pt x="442" y="319"/>
                    <a:pt x="451" y="336"/>
                    <a:pt x="469" y="336"/>
                  </a:cubicBezTo>
                  <a:lnTo>
                    <a:pt x="469" y="336"/>
                  </a:lnTo>
                  <a:cubicBezTo>
                    <a:pt x="478" y="336"/>
                    <a:pt x="496" y="327"/>
                    <a:pt x="496" y="310"/>
                  </a:cubicBezTo>
                  <a:cubicBezTo>
                    <a:pt x="496" y="301"/>
                    <a:pt x="496" y="292"/>
                    <a:pt x="496" y="283"/>
                  </a:cubicBezTo>
                  <a:cubicBezTo>
                    <a:pt x="496" y="213"/>
                    <a:pt x="469" y="151"/>
                    <a:pt x="425" y="9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50" name="Group 64"/>
          <p:cNvGrpSpPr/>
          <p:nvPr/>
        </p:nvGrpSpPr>
        <p:grpSpPr>
          <a:xfrm>
            <a:off x="5056200" y="9105840"/>
            <a:ext cx="1825560" cy="1825560"/>
            <a:chOff x="5056200" y="9105840"/>
            <a:chExt cx="1825560" cy="1825560"/>
          </a:xfrm>
        </p:grpSpPr>
        <p:sp>
          <p:nvSpPr>
            <p:cNvPr id="1951" name="Oval 38"/>
            <p:cNvSpPr/>
            <p:nvPr/>
          </p:nvSpPr>
          <p:spPr>
            <a:xfrm>
              <a:off x="5056200" y="9105840"/>
              <a:ext cx="1825560" cy="1825560"/>
            </a:xfrm>
            <a:prstGeom prst="ellipse">
              <a:avLst/>
            </a:prstGeom>
            <a:solidFill>
              <a:srgbClr val="5f5f5f"/>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52" name="Freeform 110"/>
            <p:cNvSpPr/>
            <p:nvPr/>
          </p:nvSpPr>
          <p:spPr>
            <a:xfrm>
              <a:off x="5535000" y="9698040"/>
              <a:ext cx="739080" cy="597960"/>
            </a:xfrm>
            <a:custGeom>
              <a:avLst/>
              <a:gdLst/>
              <a:ahLst/>
              <a:rect l="l" t="t" r="r" b="b"/>
              <a:pathLst>
                <a:path w="462" h="373">
                  <a:moveTo>
                    <a:pt x="444" y="9"/>
                  </a:moveTo>
                  <a:lnTo>
                    <a:pt x="444" y="9"/>
                  </a:lnTo>
                  <a:cubicBezTo>
                    <a:pt x="434" y="9"/>
                    <a:pt x="18" y="160"/>
                    <a:pt x="9" y="160"/>
                  </a:cubicBezTo>
                  <a:cubicBezTo>
                    <a:pt x="0" y="160"/>
                    <a:pt x="0" y="169"/>
                    <a:pt x="9" y="169"/>
                  </a:cubicBezTo>
                  <a:cubicBezTo>
                    <a:pt x="18" y="177"/>
                    <a:pt x="98" y="213"/>
                    <a:pt x="98" y="213"/>
                  </a:cubicBezTo>
                  <a:lnTo>
                    <a:pt x="98" y="213"/>
                  </a:lnTo>
                  <a:cubicBezTo>
                    <a:pt x="160" y="230"/>
                    <a:pt x="160" y="230"/>
                    <a:pt x="160" y="230"/>
                  </a:cubicBezTo>
                  <a:cubicBezTo>
                    <a:pt x="160" y="230"/>
                    <a:pt x="425" y="35"/>
                    <a:pt x="434" y="35"/>
                  </a:cubicBezTo>
                  <a:cubicBezTo>
                    <a:pt x="434" y="26"/>
                    <a:pt x="434" y="35"/>
                    <a:pt x="434" y="35"/>
                  </a:cubicBezTo>
                  <a:lnTo>
                    <a:pt x="240" y="248"/>
                  </a:lnTo>
                  <a:lnTo>
                    <a:pt x="240" y="248"/>
                  </a:lnTo>
                  <a:cubicBezTo>
                    <a:pt x="231" y="257"/>
                    <a:pt x="231" y="257"/>
                    <a:pt x="231" y="257"/>
                  </a:cubicBezTo>
                  <a:cubicBezTo>
                    <a:pt x="240" y="266"/>
                    <a:pt x="240" y="266"/>
                    <a:pt x="240" y="266"/>
                  </a:cubicBezTo>
                  <a:lnTo>
                    <a:pt x="240" y="266"/>
                  </a:lnTo>
                  <a:cubicBezTo>
                    <a:pt x="240" y="266"/>
                    <a:pt x="363" y="328"/>
                    <a:pt x="363" y="337"/>
                  </a:cubicBezTo>
                  <a:cubicBezTo>
                    <a:pt x="372" y="337"/>
                    <a:pt x="381" y="337"/>
                    <a:pt x="390" y="328"/>
                  </a:cubicBezTo>
                  <a:cubicBezTo>
                    <a:pt x="390" y="319"/>
                    <a:pt x="461" y="26"/>
                    <a:pt x="461" y="18"/>
                  </a:cubicBezTo>
                  <a:cubicBezTo>
                    <a:pt x="461" y="9"/>
                    <a:pt x="453" y="0"/>
                    <a:pt x="444" y="9"/>
                  </a:cubicBezTo>
                  <a:close/>
                  <a:moveTo>
                    <a:pt x="160" y="363"/>
                  </a:moveTo>
                  <a:lnTo>
                    <a:pt x="160" y="363"/>
                  </a:lnTo>
                  <a:cubicBezTo>
                    <a:pt x="160" y="372"/>
                    <a:pt x="160" y="372"/>
                    <a:pt x="169" y="372"/>
                  </a:cubicBezTo>
                  <a:cubicBezTo>
                    <a:pt x="169" y="363"/>
                    <a:pt x="240" y="310"/>
                    <a:pt x="240" y="310"/>
                  </a:cubicBezTo>
                  <a:cubicBezTo>
                    <a:pt x="160" y="266"/>
                    <a:pt x="160" y="266"/>
                    <a:pt x="160" y="266"/>
                  </a:cubicBezTo>
                  <a:lnTo>
                    <a:pt x="160" y="363"/>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grpSp>
        <p:nvGrpSpPr>
          <p:cNvPr id="1953" name="Group 67"/>
          <p:cNvGrpSpPr/>
          <p:nvPr/>
        </p:nvGrpSpPr>
        <p:grpSpPr>
          <a:xfrm>
            <a:off x="18040320" y="9105840"/>
            <a:ext cx="1825560" cy="1825560"/>
            <a:chOff x="18040320" y="9105840"/>
            <a:chExt cx="1825560" cy="1825560"/>
          </a:xfrm>
        </p:grpSpPr>
        <p:sp>
          <p:nvSpPr>
            <p:cNvPr id="1954" name="Oval 42"/>
            <p:cNvSpPr/>
            <p:nvPr/>
          </p:nvSpPr>
          <p:spPr>
            <a:xfrm>
              <a:off x="18040320" y="9105840"/>
              <a:ext cx="1825560" cy="1825560"/>
            </a:xfrm>
            <a:prstGeom prst="ellipse">
              <a:avLst/>
            </a:prstGeom>
            <a:solidFill>
              <a:srgbClr val="b2b2b2"/>
            </a:solidFill>
            <a:ln w="0">
              <a:noFill/>
            </a:ln>
          </p:spPr>
          <p:style>
            <a:lnRef idx="0"/>
            <a:fillRef idx="0"/>
            <a:effectRef idx="0"/>
            <a:fontRef idx="minor"/>
          </p:style>
          <p:txBody>
            <a:bodyPr lIns="438840" rIns="438840" tIns="219240" bIns="21924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55" name="Freeform 97"/>
            <p:cNvSpPr/>
            <p:nvPr/>
          </p:nvSpPr>
          <p:spPr>
            <a:xfrm>
              <a:off x="18572400" y="9631800"/>
              <a:ext cx="795240" cy="682560"/>
            </a:xfrm>
            <a:custGeom>
              <a:avLst/>
              <a:gdLst/>
              <a:ahLst/>
              <a:rect l="l" t="t" r="r" b="b"/>
              <a:pathLst>
                <a:path w="497" h="426">
                  <a:moveTo>
                    <a:pt x="230" y="231"/>
                  </a:moveTo>
                  <a:lnTo>
                    <a:pt x="230" y="231"/>
                  </a:lnTo>
                  <a:cubicBezTo>
                    <a:pt x="274" y="231"/>
                    <a:pt x="274" y="231"/>
                    <a:pt x="274" y="231"/>
                  </a:cubicBezTo>
                  <a:cubicBezTo>
                    <a:pt x="274" y="275"/>
                    <a:pt x="274" y="275"/>
                    <a:pt x="274" y="275"/>
                  </a:cubicBezTo>
                  <a:cubicBezTo>
                    <a:pt x="496" y="275"/>
                    <a:pt x="496" y="275"/>
                    <a:pt x="496" y="275"/>
                  </a:cubicBezTo>
                  <a:cubicBezTo>
                    <a:pt x="496" y="275"/>
                    <a:pt x="496" y="168"/>
                    <a:pt x="487" y="133"/>
                  </a:cubicBezTo>
                  <a:cubicBezTo>
                    <a:pt x="487" y="97"/>
                    <a:pt x="478" y="80"/>
                    <a:pt x="443" y="80"/>
                  </a:cubicBezTo>
                  <a:cubicBezTo>
                    <a:pt x="363" y="80"/>
                    <a:pt x="363" y="80"/>
                    <a:pt x="363" y="80"/>
                  </a:cubicBezTo>
                  <a:cubicBezTo>
                    <a:pt x="345" y="53"/>
                    <a:pt x="337" y="27"/>
                    <a:pt x="337" y="27"/>
                  </a:cubicBezTo>
                  <a:cubicBezTo>
                    <a:pt x="328" y="9"/>
                    <a:pt x="319" y="0"/>
                    <a:pt x="300" y="0"/>
                  </a:cubicBezTo>
                  <a:cubicBezTo>
                    <a:pt x="194" y="0"/>
                    <a:pt x="194" y="0"/>
                    <a:pt x="194" y="0"/>
                  </a:cubicBezTo>
                  <a:cubicBezTo>
                    <a:pt x="177" y="0"/>
                    <a:pt x="168" y="9"/>
                    <a:pt x="168" y="27"/>
                  </a:cubicBezTo>
                  <a:cubicBezTo>
                    <a:pt x="159" y="27"/>
                    <a:pt x="150" y="53"/>
                    <a:pt x="133" y="80"/>
                  </a:cubicBezTo>
                  <a:cubicBezTo>
                    <a:pt x="53" y="80"/>
                    <a:pt x="53" y="80"/>
                    <a:pt x="53" y="80"/>
                  </a:cubicBezTo>
                  <a:cubicBezTo>
                    <a:pt x="17" y="80"/>
                    <a:pt x="9" y="97"/>
                    <a:pt x="9" y="133"/>
                  </a:cubicBezTo>
                  <a:cubicBezTo>
                    <a:pt x="0" y="168"/>
                    <a:pt x="0" y="275"/>
                    <a:pt x="0" y="275"/>
                  </a:cubicBezTo>
                  <a:cubicBezTo>
                    <a:pt x="230" y="275"/>
                    <a:pt x="230" y="275"/>
                    <a:pt x="230" y="275"/>
                  </a:cubicBezTo>
                  <a:lnTo>
                    <a:pt x="230" y="231"/>
                  </a:lnTo>
                  <a:close/>
                  <a:moveTo>
                    <a:pt x="186" y="53"/>
                  </a:moveTo>
                  <a:lnTo>
                    <a:pt x="186" y="53"/>
                  </a:lnTo>
                  <a:cubicBezTo>
                    <a:pt x="194" y="44"/>
                    <a:pt x="194" y="36"/>
                    <a:pt x="212" y="36"/>
                  </a:cubicBezTo>
                  <a:cubicBezTo>
                    <a:pt x="284" y="36"/>
                    <a:pt x="284" y="36"/>
                    <a:pt x="284" y="36"/>
                  </a:cubicBezTo>
                  <a:cubicBezTo>
                    <a:pt x="300" y="36"/>
                    <a:pt x="300" y="44"/>
                    <a:pt x="309" y="53"/>
                  </a:cubicBezTo>
                  <a:cubicBezTo>
                    <a:pt x="309" y="53"/>
                    <a:pt x="319" y="71"/>
                    <a:pt x="319" y="80"/>
                  </a:cubicBezTo>
                  <a:cubicBezTo>
                    <a:pt x="177" y="80"/>
                    <a:pt x="177" y="80"/>
                    <a:pt x="177" y="80"/>
                  </a:cubicBezTo>
                  <a:cubicBezTo>
                    <a:pt x="186" y="71"/>
                    <a:pt x="186" y="53"/>
                    <a:pt x="186" y="53"/>
                  </a:cubicBezTo>
                  <a:close/>
                  <a:moveTo>
                    <a:pt x="274" y="355"/>
                  </a:moveTo>
                  <a:lnTo>
                    <a:pt x="274" y="355"/>
                  </a:lnTo>
                  <a:cubicBezTo>
                    <a:pt x="230" y="355"/>
                    <a:pt x="230" y="355"/>
                    <a:pt x="230" y="355"/>
                  </a:cubicBezTo>
                  <a:cubicBezTo>
                    <a:pt x="230" y="302"/>
                    <a:pt x="230" y="302"/>
                    <a:pt x="230" y="302"/>
                  </a:cubicBezTo>
                  <a:cubicBezTo>
                    <a:pt x="9" y="302"/>
                    <a:pt x="9" y="302"/>
                    <a:pt x="9" y="302"/>
                  </a:cubicBezTo>
                  <a:cubicBezTo>
                    <a:pt x="9" y="302"/>
                    <a:pt x="17" y="346"/>
                    <a:pt x="17" y="381"/>
                  </a:cubicBezTo>
                  <a:cubicBezTo>
                    <a:pt x="17" y="399"/>
                    <a:pt x="26" y="425"/>
                    <a:pt x="62" y="425"/>
                  </a:cubicBezTo>
                  <a:cubicBezTo>
                    <a:pt x="434" y="425"/>
                    <a:pt x="434" y="425"/>
                    <a:pt x="434" y="425"/>
                  </a:cubicBezTo>
                  <a:cubicBezTo>
                    <a:pt x="469" y="425"/>
                    <a:pt x="478" y="399"/>
                    <a:pt x="478" y="381"/>
                  </a:cubicBezTo>
                  <a:cubicBezTo>
                    <a:pt x="478" y="346"/>
                    <a:pt x="487" y="302"/>
                    <a:pt x="487" y="302"/>
                  </a:cubicBezTo>
                  <a:cubicBezTo>
                    <a:pt x="274" y="302"/>
                    <a:pt x="274" y="302"/>
                    <a:pt x="274" y="302"/>
                  </a:cubicBezTo>
                  <a:lnTo>
                    <a:pt x="274" y="35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3500" spc="-1" strike="noStrike">
                <a:solidFill>
                  <a:srgbClr val="000000"/>
                </a:solidFill>
                <a:latin typeface="Open Sans Light"/>
              </a:endParaRPr>
            </a:p>
          </p:txBody>
        </p:sp>
      </p:grpSp>
      <p:sp>
        <p:nvSpPr>
          <p:cNvPr id="1956" name="TextBox 68"/>
          <p:cNvSpPr/>
          <p:nvPr/>
        </p:nvSpPr>
        <p:spPr>
          <a:xfrm>
            <a:off x="3811680" y="709128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CREATIVITY</a:t>
            </a:r>
            <a:br>
              <a:rPr sz="2800"/>
            </a:br>
            <a:r>
              <a:rPr b="0" lang="en-US" sz="2400" spc="-1" strike="noStrike">
                <a:solidFill>
                  <a:srgbClr val="7f7f7f"/>
                </a:solidFill>
                <a:latin typeface="Open Sans Light"/>
                <a:ea typeface="Open Sans Light"/>
              </a:rPr>
              <a:t>Lorem ipsum dolor, sit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57" name="TextBox 70"/>
          <p:cNvSpPr/>
          <p:nvPr/>
        </p:nvSpPr>
        <p:spPr>
          <a:xfrm>
            <a:off x="8160120" y="709128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LEADERSHIP</a:t>
            </a:r>
            <a:br>
              <a:rPr sz="2800"/>
            </a:br>
            <a:r>
              <a:rPr b="0" lang="en-US" sz="2400" spc="-1" strike="noStrike">
                <a:solidFill>
                  <a:srgbClr val="7f7f7f"/>
                </a:solidFill>
                <a:latin typeface="Open Sans Light"/>
                <a:ea typeface="Open Sans Light"/>
              </a:rPr>
              <a:t>Lorem ipsum dolor sit amet,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ea typeface="Open Sans Light"/>
              </a:rPr>
              <a:t> </a:t>
            </a:r>
            <a:r>
              <a:rPr b="0" lang="en-US" sz="2400" spc="-1" strike="noStrike">
                <a:solidFill>
                  <a:srgbClr val="7f7f7f"/>
                </a:solidFill>
                <a:latin typeface="Open Sans Light"/>
                <a:ea typeface="Open Sans Light"/>
              </a:rPr>
              <a:t>tetuer adipiscing elit.</a:t>
            </a:r>
            <a:endParaRPr b="0" lang="en-US" sz="2400" spc="-1" strike="noStrike">
              <a:solidFill>
                <a:srgbClr val="000000"/>
              </a:solidFill>
              <a:latin typeface="Open Sans Light"/>
            </a:endParaRPr>
          </a:p>
        </p:txBody>
      </p:sp>
      <p:sp>
        <p:nvSpPr>
          <p:cNvPr id="1958" name="TextBox 71"/>
          <p:cNvSpPr/>
          <p:nvPr/>
        </p:nvSpPr>
        <p:spPr>
          <a:xfrm>
            <a:off x="12481200" y="709128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SUPPORT</a:t>
            </a:r>
            <a:br>
              <a:rPr sz="2800"/>
            </a:br>
            <a:r>
              <a:rPr b="0" lang="en-US" sz="2400" spc="-1" strike="noStrike">
                <a:solidFill>
                  <a:srgbClr val="7f7f7f"/>
                </a:solidFill>
                <a:latin typeface="Open Sans Light"/>
                <a:ea typeface="Open Sans Light"/>
              </a:rPr>
              <a:t>Lorem ipsum dolor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59" name="TextBox 72"/>
          <p:cNvSpPr/>
          <p:nvPr/>
        </p:nvSpPr>
        <p:spPr>
          <a:xfrm>
            <a:off x="16830360" y="709128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TOOLS</a:t>
            </a:r>
            <a:br>
              <a:rPr sz="2800"/>
            </a:br>
            <a:r>
              <a:rPr b="0" lang="en-US" sz="2400" spc="-1" strike="noStrike">
                <a:solidFill>
                  <a:srgbClr val="7f7f7f"/>
                </a:solidFill>
                <a:latin typeface="Open Sans Light"/>
                <a:ea typeface="Open Sans Light"/>
              </a:rPr>
              <a:t>Lorem ipsum dolor sit amet, </a:t>
            </a:r>
            <a:br>
              <a:rPr sz="2400"/>
            </a:br>
            <a:r>
              <a:rPr b="0" lang="en-US" sz="2400" spc="-1" strike="noStrike">
                <a:solidFill>
                  <a:srgbClr val="7f7f7f"/>
                </a:solidFill>
                <a:latin typeface="Open Sans Light"/>
                <a:ea typeface="Open Sans Light"/>
              </a:rPr>
              <a:t>consec  tetuer</a:t>
            </a:r>
            <a:endParaRPr b="0" lang="en-US" sz="2400" spc="-1" strike="noStrike">
              <a:solidFill>
                <a:srgbClr val="000000"/>
              </a:solidFill>
              <a:latin typeface="Open Sans Light"/>
            </a:endParaRPr>
          </a:p>
        </p:txBody>
      </p:sp>
      <p:sp>
        <p:nvSpPr>
          <p:cNvPr id="1960" name="TextBox 73"/>
          <p:cNvSpPr/>
          <p:nvPr/>
        </p:nvSpPr>
        <p:spPr>
          <a:xfrm>
            <a:off x="3811680" y="1112364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BUSINESS</a:t>
            </a:r>
            <a:br>
              <a:rPr sz="2800"/>
            </a:br>
            <a:r>
              <a:rPr b="0" lang="en-US" sz="2400" spc="-1" strike="noStrike">
                <a:solidFill>
                  <a:srgbClr val="7f7f7f"/>
                </a:solidFill>
                <a:latin typeface="Open Sans Light"/>
                <a:ea typeface="Open Sans Light"/>
              </a:rPr>
              <a:t>Lorem ipsum dolor, sit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61" name="TextBox 74"/>
          <p:cNvSpPr/>
          <p:nvPr/>
        </p:nvSpPr>
        <p:spPr>
          <a:xfrm>
            <a:off x="8160120" y="1112364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RENEWAL</a:t>
            </a:r>
            <a:br>
              <a:rPr sz="2800"/>
            </a:br>
            <a:r>
              <a:rPr b="0" lang="en-US" sz="2400" spc="-1" strike="noStrike">
                <a:solidFill>
                  <a:srgbClr val="7f7f7f"/>
                </a:solidFill>
                <a:latin typeface="Open Sans Light"/>
                <a:ea typeface="Open Sans Light"/>
              </a:rPr>
              <a:t>Lorem ipsum dolor sit amet, </a:t>
            </a:r>
            <a:endParaRPr b="0" lang="en-US" sz="2400" spc="-1" strike="noStrike">
              <a:solidFill>
                <a:srgbClr val="000000"/>
              </a:solidFill>
              <a:latin typeface="Open Sans Light"/>
            </a:endParaRPr>
          </a:p>
          <a:p>
            <a:pPr algn="ctr">
              <a:tabLst>
                <a:tab algn="l" pos="0"/>
                <a:tab algn="l" pos="1827360"/>
                <a:tab algn="l" pos="3654360"/>
                <a:tab algn="l" pos="5481720"/>
                <a:tab algn="l" pos="7308720"/>
                <a:tab algn="l" pos="9136080"/>
                <a:tab algn="l" pos="10963440"/>
              </a:tabLst>
            </a:pPr>
            <a:r>
              <a:rPr b="0" lang="en-US" sz="2400" spc="-1" strike="noStrike">
                <a:solidFill>
                  <a:srgbClr val="7f7f7f"/>
                </a:solidFill>
                <a:latin typeface="Open Sans Light"/>
                <a:ea typeface="Open Sans Light"/>
              </a:rPr>
              <a:t> </a:t>
            </a:r>
            <a:r>
              <a:rPr b="0" lang="en-US" sz="2400" spc="-1" strike="noStrike">
                <a:solidFill>
                  <a:srgbClr val="7f7f7f"/>
                </a:solidFill>
                <a:latin typeface="Open Sans Light"/>
                <a:ea typeface="Open Sans Light"/>
              </a:rPr>
              <a:t>tetuer adipiscing elit.</a:t>
            </a:r>
            <a:endParaRPr b="0" lang="en-US" sz="2400" spc="-1" strike="noStrike">
              <a:solidFill>
                <a:srgbClr val="000000"/>
              </a:solidFill>
              <a:latin typeface="Open Sans Light"/>
            </a:endParaRPr>
          </a:p>
        </p:txBody>
      </p:sp>
      <p:sp>
        <p:nvSpPr>
          <p:cNvPr id="1962" name="TextBox 75"/>
          <p:cNvSpPr/>
          <p:nvPr/>
        </p:nvSpPr>
        <p:spPr>
          <a:xfrm>
            <a:off x="12481200" y="11123640"/>
            <a:ext cx="43365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SKILLS</a:t>
            </a:r>
            <a:br>
              <a:rPr sz="2800"/>
            </a:br>
            <a:r>
              <a:rPr b="0" lang="en-US" sz="2400" spc="-1" strike="noStrike">
                <a:solidFill>
                  <a:srgbClr val="7f7f7f"/>
                </a:solidFill>
                <a:latin typeface="Open Sans Light"/>
                <a:ea typeface="Open Sans Light"/>
              </a:rPr>
              <a:t>Lorem ipsum dolor </a:t>
            </a:r>
            <a:br>
              <a:rPr sz="2400"/>
            </a:br>
            <a:r>
              <a:rPr b="0" lang="en-US" sz="2400" spc="-1" strike="noStrike">
                <a:solidFill>
                  <a:srgbClr val="7f7f7f"/>
                </a:solidFill>
                <a:latin typeface="Open Sans Light"/>
                <a:ea typeface="Open Sans Light"/>
              </a:rPr>
              <a:t>consec  tetuer adipiscing elit.</a:t>
            </a:r>
            <a:endParaRPr b="0" lang="en-US" sz="2400" spc="-1" strike="noStrike">
              <a:solidFill>
                <a:srgbClr val="000000"/>
              </a:solidFill>
              <a:latin typeface="Open Sans Light"/>
            </a:endParaRPr>
          </a:p>
        </p:txBody>
      </p:sp>
      <p:sp>
        <p:nvSpPr>
          <p:cNvPr id="1963" name="TextBox 76"/>
          <p:cNvSpPr/>
          <p:nvPr/>
        </p:nvSpPr>
        <p:spPr>
          <a:xfrm>
            <a:off x="16830360" y="11123640"/>
            <a:ext cx="4309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800" spc="-1" strike="noStrike">
                <a:solidFill>
                  <a:srgbClr val="595959"/>
                </a:solidFill>
                <a:latin typeface="Montserrat Semi Bold"/>
                <a:ea typeface="Open Sans Extrabold"/>
              </a:rPr>
              <a:t>PORTFOLIO</a:t>
            </a:r>
            <a:br>
              <a:rPr sz="2800"/>
            </a:br>
            <a:r>
              <a:rPr b="0" lang="en-US" sz="2400" spc="-1" strike="noStrike">
                <a:solidFill>
                  <a:srgbClr val="7f7f7f"/>
                </a:solidFill>
                <a:latin typeface="Open Sans Light"/>
                <a:ea typeface="Open Sans Light"/>
              </a:rPr>
              <a:t>Lorem ipsum dolor sit amet, </a:t>
            </a:r>
            <a:br>
              <a:rPr sz="2400"/>
            </a:br>
            <a:r>
              <a:rPr b="0" lang="en-US" sz="2400" spc="-1" strike="noStrike">
                <a:solidFill>
                  <a:srgbClr val="7f7f7f"/>
                </a:solidFill>
                <a:latin typeface="Open Sans Light"/>
                <a:ea typeface="Open Sans Light"/>
              </a:rPr>
              <a:t>consec  tetuer</a:t>
            </a:r>
            <a:endParaRPr b="0" lang="en-US" sz="2400" spc="-1" strike="noStrike">
              <a:solidFill>
                <a:srgbClr val="000000"/>
              </a:solidFill>
              <a:latin typeface="Open Sans Light"/>
            </a:endParaRPr>
          </a:p>
        </p:txBody>
      </p:sp>
      <p:sp>
        <p:nvSpPr>
          <p:cNvPr id="1964"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UR FEATURES</a:t>
            </a:r>
            <a:endParaRPr b="0" lang="en-US" sz="6600" spc="-1" strike="noStrike">
              <a:solidFill>
                <a:srgbClr val="000000"/>
              </a:solidFill>
              <a:latin typeface="Open Sans Light"/>
            </a:endParaRPr>
          </a:p>
        </p:txBody>
      </p:sp>
      <p:sp>
        <p:nvSpPr>
          <p:cNvPr id="1965" name="Rectangle 54"/>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66" name="Group 5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9">
                                  <p:stCondLst>
                                    <p:cond delay="0"/>
                                  </p:stCondLst>
                                  <p:childTnLst>
                                    <p:set>
                                      <p:cBhvr>
                                        <p:cTn id="74" dur="1" fill="hold">
                                          <p:stCondLst>
                                            <p:cond delay="0"/>
                                          </p:stCondLst>
                                        </p:cTn>
                                        <p:tgtEl>
                                          <p:spTgt spid="1966"/>
                                        </p:tgtEl>
                                        <p:attrNameLst>
                                          <p:attrName>style.visibility</p:attrName>
                                        </p:attrNameLst>
                                      </p:cBhvr>
                                      <p:to>
                                        <p:strVal val="visible"/>
                                      </p:to>
                                    </p:set>
                                    <p:anim calcmode="lin" valueType="num">
                                      <p:cBhvr additive="repl">
                                        <p:cTn id="75" dur="500" fill="hold"/>
                                        <p:tgtEl>
                                          <p:spTgt spid="1966"/>
                                        </p:tgtEl>
                                        <p:attrNameLst>
                                          <p:attrName>ppt_w</p:attrName>
                                        </p:attrNameLst>
                                      </p:cBhvr>
                                      <p:tavLst>
                                        <p:tav tm="0">
                                          <p:val>
                                            <p:fltVal val="0"/>
                                          </p:val>
                                        </p:tav>
                                        <p:tav tm="100000">
                                          <p:val>
                                            <p:strVal val="#ppt_w"/>
                                          </p:val>
                                        </p:tav>
                                      </p:tavLst>
                                    </p:anim>
                                    <p:anim calcmode="lin" valueType="num">
                                      <p:cBhvr additive="repl">
                                        <p:cTn id="76" dur="500" fill="hold"/>
                                        <p:tgtEl>
                                          <p:spTgt spid="1966"/>
                                        </p:tgtEl>
                                        <p:attrNameLst>
                                          <p:attrName>ppt_h</p:attrName>
                                        </p:attrNameLst>
                                      </p:cBhvr>
                                      <p:tavLst>
                                        <p:tav tm="0">
                                          <p:val>
                                            <p:fltVal val="0"/>
                                          </p:val>
                                        </p:tav>
                                        <p:tav tm="100000">
                                          <p:val>
                                            <p:strVal val="#ppt_h"/>
                                          </p:val>
                                        </p:tav>
                                      </p:tavLst>
                                    </p:anim>
                                    <p:anim calcmode="lin" valueType="num">
                                      <p:cBhvr additive="repl">
                                        <p:cTn id="77" dur="500" fill="hold"/>
                                        <p:tgtEl>
                                          <p:spTgt spid="1966"/>
                                        </p:tgtEl>
                                        <p:attrNameLst>
                                          <p:attrName>r</p:attrName>
                                        </p:attrNameLst>
                                      </p:cBhvr>
                                      <p:tavLst>
                                        <p:tav tm="0">
                                          <p:val>
                                            <p:strVal val="360"/>
                                          </p:val>
                                        </p:tav>
                                        <p:tav tm="100000">
                                          <p:val>
                                            <p:strVal val="0"/>
                                          </p:val>
                                        </p:tav>
                                      </p:tavLst>
                                    </p:anim>
                                    <p:animEffect filter="fade" transition="in">
                                      <p:cBhvr additive="repl">
                                        <p:cTn id="78" dur="500"/>
                                        <p:tgtEl>
                                          <p:spTgt spid="1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10"/>
          <p:cNvSpPr/>
          <p:nvPr/>
        </p:nvSpPr>
        <p:spPr>
          <a:xfrm>
            <a:off x="15548040" y="0"/>
            <a:ext cx="6234120" cy="9966240"/>
          </a:xfrm>
          <a:prstGeom prst="rect">
            <a:avLst/>
          </a:prstGeom>
          <a:solidFill>
            <a:srgbClr val="6f6f6f">
              <a:alpha val="50000"/>
            </a:srgbClr>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00000"/>
              </a:solidFill>
              <a:latin typeface="Open Sans Light"/>
            </a:endParaRPr>
          </a:p>
        </p:txBody>
      </p:sp>
      <p:sp>
        <p:nvSpPr>
          <p:cNvPr id="1968" name="TextBox 11"/>
          <p:cNvSpPr/>
          <p:nvPr/>
        </p:nvSpPr>
        <p:spPr>
          <a:xfrm>
            <a:off x="15873480" y="7223040"/>
            <a:ext cx="5311800" cy="21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7360"/>
                <a:tab algn="l" pos="3654360"/>
                <a:tab algn="l" pos="5481720"/>
                <a:tab algn="l" pos="7308720"/>
                <a:tab algn="l" pos="9136080"/>
                <a:tab algn="l" pos="10963440"/>
              </a:tabLst>
            </a:pPr>
            <a:r>
              <a:rPr b="1" i="1" lang="en-US" sz="3300" spc="-1" strike="noStrike">
                <a:solidFill>
                  <a:srgbClr val="ffffff"/>
                </a:solidFill>
                <a:latin typeface="Open Sans Light"/>
                <a:ea typeface="Open Sans Semibold"/>
              </a:rPr>
              <a:t>Lorem Ipsum is simply dummy text of the printing and typesetting industry.</a:t>
            </a:r>
            <a:endParaRPr b="0" lang="en-US" sz="3300" spc="-1" strike="noStrike">
              <a:solidFill>
                <a:srgbClr val="000000"/>
              </a:solidFill>
              <a:latin typeface="Open Sans Light"/>
            </a:endParaRPr>
          </a:p>
        </p:txBody>
      </p:sp>
      <p:sp>
        <p:nvSpPr>
          <p:cNvPr id="1969" name="TextBox 12"/>
          <p:cNvSpPr/>
          <p:nvPr/>
        </p:nvSpPr>
        <p:spPr>
          <a:xfrm>
            <a:off x="15663960" y="4732200"/>
            <a:ext cx="1720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6000" spc="-1" strike="noStrike">
                <a:solidFill>
                  <a:srgbClr val="ffffff"/>
                </a:solidFill>
                <a:latin typeface="Century725 Cn BT"/>
              </a:rPr>
              <a:t>“</a:t>
            </a:r>
            <a:endParaRPr b="0" lang="en-US" sz="36000" spc="-1" strike="noStrike">
              <a:solidFill>
                <a:srgbClr val="000000"/>
              </a:solidFill>
              <a:latin typeface="Open Sans Light"/>
            </a:endParaRPr>
          </a:p>
        </p:txBody>
      </p:sp>
      <p:sp>
        <p:nvSpPr>
          <p:cNvPr id="1970" name="TextBox 13"/>
          <p:cNvSpPr/>
          <p:nvPr/>
        </p:nvSpPr>
        <p:spPr>
          <a:xfrm>
            <a:off x="15362280" y="9958320"/>
            <a:ext cx="6716520" cy="96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5700" spc="-1" strike="noStrike">
                <a:solidFill>
                  <a:srgbClr val="ffffff"/>
                </a:solidFill>
                <a:latin typeface="Montserrat Semi Bold"/>
                <a:ea typeface="Open Sans Extrabold"/>
              </a:rPr>
              <a:t>OUR SLOGAN</a:t>
            </a:r>
            <a:endParaRPr b="0" lang="en-US" sz="5700" spc="-1" strike="noStrike">
              <a:solidFill>
                <a:srgbClr val="000000"/>
              </a:solidFill>
              <a:latin typeface="Open Sans Light"/>
            </a:endParaRPr>
          </a:p>
        </p:txBody>
      </p:sp>
      <p:pic>
        <p:nvPicPr>
          <p:cNvPr id="1971" name="" descr=""/>
          <p:cNvPicPr/>
          <p:nvPr/>
        </p:nvPicPr>
        <p:blipFill>
          <a:blip r:embed="rId1"/>
          <a:stretch/>
        </p:blipFill>
        <p:spPr>
          <a:xfrm>
            <a:off x="0" y="0"/>
            <a:ext cx="24377760" cy="137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
          <p:cNvSpPr txBox="1"/>
          <p:nvPr/>
        </p:nvSpPr>
        <p:spPr>
          <a:xfrm>
            <a:off x="12720240" y="6089400"/>
            <a:ext cx="3668760" cy="78732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Mr. SERMARAJ S</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CEO &amp; CO-FOUNDER</a:t>
            </a:r>
            <a:endParaRPr b="0" lang="en-US" sz="2000" spc="-1" strike="noStrike">
              <a:solidFill>
                <a:srgbClr val="000000"/>
              </a:solidFill>
              <a:latin typeface="Open Sans Light"/>
            </a:endParaRPr>
          </a:p>
        </p:txBody>
      </p:sp>
      <p:sp>
        <p:nvSpPr>
          <p:cNvPr id="1973" name=""/>
          <p:cNvSpPr txBox="1"/>
          <p:nvPr/>
        </p:nvSpPr>
        <p:spPr>
          <a:xfrm>
            <a:off x="9912240" y="8924400"/>
            <a:ext cx="2748240" cy="814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STEFFI</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FINANCE</a:t>
            </a:r>
            <a:endParaRPr b="0" lang="en-US" sz="2000" spc="-1" strike="noStrike">
              <a:solidFill>
                <a:srgbClr val="000000"/>
              </a:solidFill>
              <a:latin typeface="Open Sans Light"/>
            </a:endParaRPr>
          </a:p>
        </p:txBody>
      </p:sp>
      <p:sp>
        <p:nvSpPr>
          <p:cNvPr id="1974" name=""/>
          <p:cNvSpPr txBox="1"/>
          <p:nvPr/>
        </p:nvSpPr>
        <p:spPr>
          <a:xfrm>
            <a:off x="7148520" y="11810880"/>
            <a:ext cx="3000240" cy="79704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CATHERINE</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MARKETIN MANAGER</a:t>
            </a:r>
            <a:endParaRPr b="0" lang="en-US" sz="2000" spc="-1" strike="noStrike">
              <a:solidFill>
                <a:srgbClr val="000000"/>
              </a:solidFill>
              <a:latin typeface="Open Sans Light"/>
            </a:endParaRPr>
          </a:p>
        </p:txBody>
      </p:sp>
      <p:sp>
        <p:nvSpPr>
          <p:cNvPr id="1975" name=""/>
          <p:cNvSpPr txBox="1"/>
          <p:nvPr/>
        </p:nvSpPr>
        <p:spPr>
          <a:xfrm>
            <a:off x="12609000" y="11831400"/>
            <a:ext cx="3000600" cy="796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JAYA SJ</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ART DIRECTOR</a:t>
            </a:r>
            <a:endParaRPr b="0" lang="en-US" sz="2000" spc="-1" strike="noStrike">
              <a:solidFill>
                <a:srgbClr val="000000"/>
              </a:solidFill>
              <a:latin typeface="Open Sans Light"/>
            </a:endParaRPr>
          </a:p>
        </p:txBody>
      </p:sp>
      <p:sp>
        <p:nvSpPr>
          <p:cNvPr id="1976" name=""/>
          <p:cNvSpPr txBox="1"/>
          <p:nvPr/>
        </p:nvSpPr>
        <p:spPr>
          <a:xfrm>
            <a:off x="18151560" y="11831400"/>
            <a:ext cx="3000240" cy="796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ANNA</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HR - ADMIN</a:t>
            </a:r>
            <a:endParaRPr b="0" lang="en-US" sz="2000" spc="-1" strike="noStrike">
              <a:solidFill>
                <a:srgbClr val="000000"/>
              </a:solidFill>
              <a:latin typeface="Open Sans Light"/>
            </a:endParaRPr>
          </a:p>
        </p:txBody>
      </p:sp>
      <p:sp>
        <p:nvSpPr>
          <p:cNvPr id="1977" name=""/>
          <p:cNvSpPr txBox="1"/>
          <p:nvPr/>
        </p:nvSpPr>
        <p:spPr>
          <a:xfrm>
            <a:off x="15177960" y="8924400"/>
            <a:ext cx="2749680" cy="814680"/>
          </a:xfrm>
          <a:prstGeom prst="rect">
            <a:avLst/>
          </a:prstGeom>
          <a:noFill/>
          <a:ln w="0">
            <a:noFill/>
          </a:ln>
        </p:spPr>
        <p:txBody>
          <a:bodyPr anchor="t">
            <a:normAutofit/>
          </a:bodyPr>
          <a:p>
            <a:pPr>
              <a:lnSpc>
                <a:spcPct val="100000"/>
              </a:lnSpc>
              <a:tabLst>
                <a:tab algn="l" pos="0"/>
                <a:tab algn="l" pos="1827360"/>
                <a:tab algn="l" pos="3654360"/>
                <a:tab algn="l" pos="5481720"/>
                <a:tab algn="l" pos="7308720"/>
                <a:tab algn="l" pos="9136080"/>
                <a:tab algn="l" pos="10963440"/>
              </a:tabLst>
            </a:pPr>
            <a:r>
              <a:rPr b="1" lang="en-US" sz="2400" spc="-1" strike="noStrike">
                <a:solidFill>
                  <a:srgbClr val="000000"/>
                </a:solidFill>
                <a:latin typeface="Open Sans Light"/>
              </a:rPr>
              <a:t>SELENA GOMES</a:t>
            </a:r>
            <a:endParaRPr b="0" lang="en-US" sz="2400" spc="-1" strike="noStrike">
              <a:solidFill>
                <a:srgbClr val="000000"/>
              </a:solidFill>
              <a:latin typeface="Open Sans Light"/>
            </a:endParaRPr>
          </a:p>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00000"/>
                </a:solidFill>
                <a:latin typeface="Open Sans Light"/>
              </a:rPr>
              <a:t>SR. DEVELOPER</a:t>
            </a:r>
            <a:endParaRPr b="0" lang="en-US" sz="2000" spc="-1" strike="noStrike">
              <a:solidFill>
                <a:srgbClr val="000000"/>
              </a:solidFill>
              <a:latin typeface="Open Sans Light"/>
            </a:endParaRPr>
          </a:p>
        </p:txBody>
      </p:sp>
      <p:sp>
        <p:nvSpPr>
          <p:cNvPr id="1978"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ORGANIZATION</a:t>
            </a:r>
            <a:endParaRPr b="0" lang="en-US" sz="6600" spc="-1" strike="noStrike">
              <a:solidFill>
                <a:srgbClr val="000000"/>
              </a:solidFill>
              <a:latin typeface="Open Sans Light"/>
            </a:endParaRPr>
          </a:p>
        </p:txBody>
      </p:sp>
      <p:sp>
        <p:nvSpPr>
          <p:cNvPr id="1979" name="Rectangle 21"/>
          <p:cNvSpPr/>
          <p:nvPr/>
        </p:nvSpPr>
        <p:spPr>
          <a:xfrm>
            <a:off x="4788000" y="2997360"/>
            <a:ext cx="148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00000"/>
                </a:solidFill>
                <a:latin typeface="Montserrat Hairline"/>
                <a:ea typeface="Open Sans Light"/>
              </a:rPr>
              <a:t>Lorem Ipsum is simply dummy text of the printing and typesetting industry. It has survived not only five centuries, but also the leap into electronic typesetting.</a:t>
            </a:r>
            <a:endParaRPr b="0" lang="en-US" sz="2400" spc="-1" strike="noStrike">
              <a:solidFill>
                <a:srgbClr val="000000"/>
              </a:solidFill>
              <a:latin typeface="Open Sans Light"/>
            </a:endParaRPr>
          </a:p>
        </p:txBody>
      </p:sp>
      <p:pic>
        <p:nvPicPr>
          <p:cNvPr id="1980" name="Group 22" descr=""/>
          <p:cNvPicPr/>
          <p:nvPr/>
        </p:nvPicPr>
        <p:blipFill>
          <a:blip r:embed="rId1"/>
          <a:stretch/>
        </p:blipFill>
        <p:spPr>
          <a:xfrm>
            <a:off x="11271240" y="2651040"/>
            <a:ext cx="1828800" cy="111240"/>
          </a:xfrm>
          <a:prstGeom prst="rect">
            <a:avLst/>
          </a:prstGeom>
          <a:ln w="0">
            <a:noFill/>
          </a:ln>
        </p:spPr>
      </p:pic>
      <p:pic>
        <p:nvPicPr>
          <p:cNvPr id="1981" name="" descr=""/>
          <p:cNvPicPr/>
          <p:nvPr/>
        </p:nvPicPr>
        <p:blipFill>
          <a:blip r:embed="rId2"/>
          <a:stretch/>
        </p:blipFill>
        <p:spPr>
          <a:xfrm>
            <a:off x="10594800" y="5211720"/>
            <a:ext cx="1609920" cy="1665360"/>
          </a:xfrm>
          <a:prstGeom prst="rect">
            <a:avLst/>
          </a:prstGeom>
          <a:ln w="0">
            <a:noFill/>
          </a:ln>
        </p:spPr>
      </p:pic>
      <p:pic>
        <p:nvPicPr>
          <p:cNvPr id="1982" name="" descr=""/>
          <p:cNvPicPr/>
          <p:nvPr/>
        </p:nvPicPr>
        <p:blipFill>
          <a:blip r:embed="rId3"/>
          <a:stretch/>
        </p:blipFill>
        <p:spPr>
          <a:xfrm>
            <a:off x="7772040" y="8040600"/>
            <a:ext cx="1609560" cy="1665360"/>
          </a:xfrm>
          <a:prstGeom prst="rect">
            <a:avLst/>
          </a:prstGeom>
          <a:ln w="0">
            <a:noFill/>
          </a:ln>
        </p:spPr>
      </p:pic>
      <p:pic>
        <p:nvPicPr>
          <p:cNvPr id="1983" name="" descr=""/>
          <p:cNvPicPr/>
          <p:nvPr/>
        </p:nvPicPr>
        <p:blipFill>
          <a:blip r:embed="rId4"/>
          <a:stretch/>
        </p:blipFill>
        <p:spPr>
          <a:xfrm>
            <a:off x="13039560" y="8040600"/>
            <a:ext cx="1609920" cy="1665360"/>
          </a:xfrm>
          <a:prstGeom prst="rect">
            <a:avLst/>
          </a:prstGeom>
          <a:ln w="0">
            <a:noFill/>
          </a:ln>
        </p:spPr>
      </p:pic>
      <p:pic>
        <p:nvPicPr>
          <p:cNvPr id="1984" name="" descr=""/>
          <p:cNvPicPr/>
          <p:nvPr/>
        </p:nvPicPr>
        <p:blipFill>
          <a:blip r:embed="rId5"/>
          <a:stretch/>
        </p:blipFill>
        <p:spPr>
          <a:xfrm>
            <a:off x="16093800" y="10944000"/>
            <a:ext cx="1609560" cy="1663560"/>
          </a:xfrm>
          <a:prstGeom prst="rect">
            <a:avLst/>
          </a:prstGeom>
          <a:ln w="0">
            <a:noFill/>
          </a:ln>
        </p:spPr>
      </p:pic>
      <p:pic>
        <p:nvPicPr>
          <p:cNvPr id="1985" name="" descr=""/>
          <p:cNvPicPr/>
          <p:nvPr/>
        </p:nvPicPr>
        <p:blipFill>
          <a:blip r:embed="rId6"/>
          <a:stretch/>
        </p:blipFill>
        <p:spPr>
          <a:xfrm>
            <a:off x="10583640" y="10951920"/>
            <a:ext cx="1608120" cy="1663560"/>
          </a:xfrm>
          <a:prstGeom prst="rect">
            <a:avLst/>
          </a:prstGeom>
          <a:ln w="0">
            <a:noFill/>
          </a:ln>
        </p:spPr>
      </p:pic>
      <p:pic>
        <p:nvPicPr>
          <p:cNvPr id="1986" name="" descr=""/>
          <p:cNvPicPr/>
          <p:nvPr/>
        </p:nvPicPr>
        <p:blipFill>
          <a:blip r:embed="rId7"/>
          <a:stretch/>
        </p:blipFill>
        <p:spPr>
          <a:xfrm>
            <a:off x="5090760" y="10948680"/>
            <a:ext cx="1609560" cy="16635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49">
                                  <p:stCondLst>
                                    <p:cond delay="0"/>
                                  </p:stCondLst>
                                  <p:childTnLst>
                                    <p:set>
                                      <p:cBhvr>
                                        <p:cTn id="84" dur="1" fill="hold">
                                          <p:stCondLst>
                                            <p:cond delay="0"/>
                                          </p:stCondLst>
                                        </p:cTn>
                                        <p:tgtEl>
                                          <p:spTgt spid="1980"/>
                                        </p:tgtEl>
                                        <p:attrNameLst>
                                          <p:attrName>style.visibility</p:attrName>
                                        </p:attrNameLst>
                                      </p:cBhvr>
                                      <p:to>
                                        <p:strVal val="visible"/>
                                      </p:to>
                                    </p:set>
                                    <p:anim calcmode="lin" valueType="num">
                                      <p:cBhvr additive="repl">
                                        <p:cTn id="85" dur="500" fill="hold"/>
                                        <p:tgtEl>
                                          <p:spTgt spid="1980"/>
                                        </p:tgtEl>
                                        <p:attrNameLst>
                                          <p:attrName>ppt_w</p:attrName>
                                        </p:attrNameLst>
                                      </p:cBhvr>
                                      <p:tavLst>
                                        <p:tav tm="0">
                                          <p:val>
                                            <p:fltVal val="0"/>
                                          </p:val>
                                        </p:tav>
                                        <p:tav tm="100000">
                                          <p:val>
                                            <p:strVal val="#ppt_w"/>
                                          </p:val>
                                        </p:tav>
                                      </p:tavLst>
                                    </p:anim>
                                    <p:anim calcmode="lin" valueType="num">
                                      <p:cBhvr additive="repl">
                                        <p:cTn id="86" dur="500" fill="hold"/>
                                        <p:tgtEl>
                                          <p:spTgt spid="1980"/>
                                        </p:tgtEl>
                                        <p:attrNameLst>
                                          <p:attrName>ppt_h</p:attrName>
                                        </p:attrNameLst>
                                      </p:cBhvr>
                                      <p:tavLst>
                                        <p:tav tm="0">
                                          <p:val>
                                            <p:fltVal val="0"/>
                                          </p:val>
                                        </p:tav>
                                        <p:tav tm="100000">
                                          <p:val>
                                            <p:strVal val="#ppt_h"/>
                                          </p:val>
                                        </p:tav>
                                      </p:tavLst>
                                    </p:anim>
                                    <p:anim calcmode="lin" valueType="num">
                                      <p:cBhvr additive="repl">
                                        <p:cTn id="87" dur="500" fill="hold"/>
                                        <p:tgtEl>
                                          <p:spTgt spid="1980"/>
                                        </p:tgtEl>
                                        <p:attrNameLst>
                                          <p:attrName>r</p:attrName>
                                        </p:attrNameLst>
                                      </p:cBhvr>
                                      <p:tavLst>
                                        <p:tav tm="0">
                                          <p:val>
                                            <p:strVal val="360"/>
                                          </p:val>
                                        </p:tav>
                                        <p:tav tm="100000">
                                          <p:val>
                                            <p:strVal val="0"/>
                                          </p:val>
                                        </p:tav>
                                      </p:tavLst>
                                    </p:anim>
                                    <p:animEffect filter="fade" transition="in">
                                      <p:cBhvr additive="repl">
                                        <p:cTn id="88" dur="500"/>
                                        <p:tgtEl>
                                          <p:spTgt spid="1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
          <p:cNvSpPr txBox="1"/>
          <p:nvPr/>
        </p:nvSpPr>
        <p:spPr>
          <a:xfrm>
            <a:off x="12174480" y="533412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3300" spc="-1" strike="noStrike">
                <a:solidFill>
                  <a:srgbClr val="595959"/>
                </a:solidFill>
                <a:latin typeface="Montserrat Semi Bold"/>
              </a:rPr>
              <a:t>VISION</a:t>
            </a:r>
            <a:endParaRPr b="0" lang="en-US" sz="3300" spc="-1" strike="noStrike">
              <a:solidFill>
                <a:srgbClr val="000000"/>
              </a:solidFill>
              <a:latin typeface="Open Sans Light"/>
            </a:endParaRPr>
          </a:p>
        </p:txBody>
      </p:sp>
      <p:sp>
        <p:nvSpPr>
          <p:cNvPr id="1988" name="PlaceHolder 1"/>
          <p:cNvSpPr>
            <a:spLocks noGrp="1"/>
          </p:cNvSpPr>
          <p:nvPr>
            <p:ph/>
          </p:nvPr>
        </p:nvSpPr>
        <p:spPr>
          <a:xfrm>
            <a:off x="12174480" y="6095520"/>
            <a:ext cx="10530000" cy="2073240"/>
          </a:xfrm>
          <a:prstGeom prst="rect">
            <a:avLst/>
          </a:prstGeom>
          <a:noFill/>
          <a:ln w="0">
            <a:noFill/>
          </a:ln>
        </p:spPr>
        <p:txBody>
          <a:bodyPr lIns="0" rIns="0" tIns="0" bIns="0" anchor="t">
            <a:normAutofit/>
          </a:bodyPr>
          <a:p>
            <a:pPr indent="0">
              <a:lnSpc>
                <a:spcPct val="100000"/>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2400" spc="-1" strike="noStrike">
              <a:solidFill>
                <a:srgbClr val="000000"/>
              </a:solidFill>
              <a:latin typeface="Open Sans Light"/>
            </a:endParaRPr>
          </a:p>
        </p:txBody>
      </p:sp>
      <p:sp>
        <p:nvSpPr>
          <p:cNvPr id="1989" name=""/>
          <p:cNvSpPr txBox="1"/>
          <p:nvPr/>
        </p:nvSpPr>
        <p:spPr>
          <a:xfrm>
            <a:off x="12188880" y="9509040"/>
            <a:ext cx="5943600" cy="457200"/>
          </a:xfrm>
          <a:prstGeom prst="rect">
            <a:avLst/>
          </a:prstGeom>
          <a:noFill/>
          <a:ln w="0">
            <a:noFill/>
          </a:ln>
        </p:spPr>
        <p:txBody>
          <a:bodyPr lIns="0" rIns="0" tIns="0" bIns="0" anchor="ctr">
            <a:normAutofit/>
          </a:bodyPr>
          <a:p>
            <a:pPr>
              <a:lnSpc>
                <a:spcPct val="90000"/>
              </a:lnSpc>
              <a:spcBef>
                <a:spcPts val="2001"/>
              </a:spcBef>
              <a:tabLst>
                <a:tab algn="l" pos="0"/>
                <a:tab algn="l" pos="1827360"/>
                <a:tab algn="l" pos="3654360"/>
                <a:tab algn="l" pos="5481720"/>
                <a:tab algn="l" pos="7308720"/>
                <a:tab algn="l" pos="9136080"/>
                <a:tab algn="l" pos="10963440"/>
              </a:tabLst>
            </a:pPr>
            <a:r>
              <a:rPr b="1" lang="en-US" sz="3300" spc="-1" strike="noStrike">
                <a:solidFill>
                  <a:srgbClr val="595959"/>
                </a:solidFill>
                <a:latin typeface="Montserrat Semi Bold"/>
              </a:rPr>
              <a:t>MISION</a:t>
            </a:r>
            <a:endParaRPr b="0" lang="en-US" sz="3300" spc="-1" strike="noStrike">
              <a:solidFill>
                <a:srgbClr val="000000"/>
              </a:solidFill>
              <a:latin typeface="Open Sans Light"/>
            </a:endParaRPr>
          </a:p>
        </p:txBody>
      </p:sp>
      <p:sp>
        <p:nvSpPr>
          <p:cNvPr id="1990" name="PlaceHolder 2"/>
          <p:cNvSpPr>
            <a:spLocks noGrp="1"/>
          </p:cNvSpPr>
          <p:nvPr>
            <p:ph/>
          </p:nvPr>
        </p:nvSpPr>
        <p:spPr>
          <a:xfrm>
            <a:off x="12188880" y="10270800"/>
            <a:ext cx="10530000" cy="2073240"/>
          </a:xfrm>
          <a:prstGeom prst="rect">
            <a:avLst/>
          </a:prstGeom>
          <a:noFill/>
          <a:ln w="0">
            <a:noFill/>
          </a:ln>
        </p:spPr>
        <p:txBody>
          <a:bodyPr lIns="0" rIns="0" tIns="0" bIns="0" anchor="t">
            <a:normAutofit/>
          </a:bodyPr>
          <a:p>
            <a:pPr indent="0">
              <a:lnSpc>
                <a:spcPts val="2812"/>
              </a:lnSpc>
              <a:spcBef>
                <a:spcPts val="2812"/>
              </a:spcBef>
              <a:buNone/>
              <a:tabLst>
                <a:tab algn="l" pos="0"/>
                <a:tab algn="l" pos="1827360"/>
                <a:tab algn="l" pos="3654360"/>
                <a:tab algn="l" pos="5481720"/>
                <a:tab algn="l" pos="7308720"/>
                <a:tab algn="l" pos="9136080"/>
                <a:tab algn="l" pos="10963440"/>
              </a:tabLst>
            </a:pPr>
            <a:r>
              <a:rPr b="0" lang="en-US" sz="2400" spc="-1" strike="noStrike">
                <a:solidFill>
                  <a:srgbClr val="595959"/>
                </a:solidFill>
                <a:latin typeface="Open Sans Light"/>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a:t>
            </a:r>
            <a:endParaRPr b="0" lang="en-US" sz="2400" spc="-1" strike="noStrike">
              <a:solidFill>
                <a:srgbClr val="000000"/>
              </a:solidFill>
              <a:latin typeface="Open Sans Light"/>
            </a:endParaRPr>
          </a:p>
        </p:txBody>
      </p:sp>
      <p:sp>
        <p:nvSpPr>
          <p:cNvPr id="1991" name="Title 2"/>
          <p:cNvSpPr/>
          <p:nvPr/>
        </p:nvSpPr>
        <p:spPr>
          <a:xfrm>
            <a:off x="1216080" y="1554120"/>
            <a:ext cx="21945600" cy="1071720"/>
          </a:xfrm>
          <a:prstGeom prst="rect">
            <a:avLst/>
          </a:prstGeom>
          <a:noFill/>
          <a:ln w="0">
            <a:noFill/>
          </a:ln>
        </p:spPr>
        <p:style>
          <a:lnRef idx="0"/>
          <a:fillRef idx="0"/>
          <a:effectRef idx="0"/>
          <a:fontRef idx="minor"/>
        </p:style>
        <p:txBody>
          <a:bodyPr lIns="219600" rIns="219600" tIns="109800" bIns="109800" anchor="ctr">
            <a:noAutofit/>
          </a:bodyPr>
          <a:p>
            <a:pPr algn="ctr">
              <a:lnSpc>
                <a:spcPct val="100000"/>
              </a:lnSpc>
              <a:tabLst>
                <a:tab algn="l" pos="0"/>
                <a:tab algn="l" pos="2193840"/>
                <a:tab algn="l" pos="4387680"/>
                <a:tab algn="l" pos="6581880"/>
                <a:tab algn="l" pos="8775720"/>
                <a:tab algn="l" pos="10969560"/>
              </a:tabLst>
            </a:pPr>
            <a:r>
              <a:rPr b="0" lang="en-US" sz="6600" spc="-1" strike="noStrike">
                <a:solidFill>
                  <a:srgbClr val="000000"/>
                </a:solidFill>
                <a:latin typeface="Montserrat Semi Bold"/>
                <a:ea typeface="Open Sans Extrabold"/>
              </a:rPr>
              <a:t>VISION &amp; MISSION</a:t>
            </a:r>
            <a:endParaRPr b="0" lang="en-US" sz="6600" spc="-1" strike="noStrike">
              <a:solidFill>
                <a:srgbClr val="000000"/>
              </a:solidFill>
              <a:latin typeface="Open Sans Light"/>
            </a:endParaRPr>
          </a:p>
        </p:txBody>
      </p:sp>
      <p:sp>
        <p:nvSpPr>
          <p:cNvPr id="1992" name="Rectangle 21"/>
          <p:cNvSpPr/>
          <p:nvPr/>
        </p:nvSpPr>
        <p:spPr>
          <a:xfrm>
            <a:off x="4788000" y="2997360"/>
            <a:ext cx="14801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7360"/>
                <a:tab algn="l" pos="3654360"/>
                <a:tab algn="l" pos="5481720"/>
                <a:tab algn="l" pos="7308720"/>
                <a:tab algn="l" pos="9136080"/>
                <a:tab algn="l" pos="10963440"/>
              </a:tabLst>
            </a:pPr>
            <a:r>
              <a:rPr b="0" lang="en-US" sz="2400" spc="-1" strike="noStrike">
                <a:solidFill>
                  <a:srgbClr val="000000"/>
                </a:solidFill>
                <a:latin typeface="Open Sans Light"/>
                <a:ea typeface="Open Sans Light"/>
              </a:rPr>
              <a:t>Lorem Ipsum is simply dummy text of the printing and typesetting industry.</a:t>
            </a:r>
            <a:endParaRPr b="0" lang="en-US" sz="2400" spc="-1" strike="noStrike">
              <a:solidFill>
                <a:srgbClr val="000000"/>
              </a:solidFill>
              <a:latin typeface="Open Sans Light"/>
            </a:endParaRPr>
          </a:p>
        </p:txBody>
      </p:sp>
      <p:pic>
        <p:nvPicPr>
          <p:cNvPr id="1993" name="Group 15" descr=""/>
          <p:cNvPicPr/>
          <p:nvPr/>
        </p:nvPicPr>
        <p:blipFill>
          <a:blip r:embed="rId1"/>
          <a:stretch/>
        </p:blipFill>
        <p:spPr>
          <a:xfrm>
            <a:off x="11271240" y="2651040"/>
            <a:ext cx="1828800" cy="111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9">
                                  <p:stCondLst>
                                    <p:cond delay="0"/>
                                  </p:stCondLst>
                                  <p:childTnLst>
                                    <p:set>
                                      <p:cBhvr>
                                        <p:cTn id="94" dur="1" fill="hold">
                                          <p:stCondLst>
                                            <p:cond delay="0"/>
                                          </p:stCondLst>
                                        </p:cTn>
                                        <p:tgtEl>
                                          <p:spTgt spid="1993"/>
                                        </p:tgtEl>
                                        <p:attrNameLst>
                                          <p:attrName>style.visibility</p:attrName>
                                        </p:attrNameLst>
                                      </p:cBhvr>
                                      <p:to>
                                        <p:strVal val="visible"/>
                                      </p:to>
                                    </p:set>
                                    <p:anim calcmode="lin" valueType="num">
                                      <p:cBhvr additive="repl">
                                        <p:cTn id="95" dur="500" fill="hold"/>
                                        <p:tgtEl>
                                          <p:spTgt spid="1993"/>
                                        </p:tgtEl>
                                        <p:attrNameLst>
                                          <p:attrName>ppt_w</p:attrName>
                                        </p:attrNameLst>
                                      </p:cBhvr>
                                      <p:tavLst>
                                        <p:tav tm="0">
                                          <p:val>
                                            <p:fltVal val="0"/>
                                          </p:val>
                                        </p:tav>
                                        <p:tav tm="100000">
                                          <p:val>
                                            <p:strVal val="#ppt_w"/>
                                          </p:val>
                                        </p:tav>
                                      </p:tavLst>
                                    </p:anim>
                                    <p:anim calcmode="lin" valueType="num">
                                      <p:cBhvr additive="repl">
                                        <p:cTn id="96" dur="500" fill="hold"/>
                                        <p:tgtEl>
                                          <p:spTgt spid="1993"/>
                                        </p:tgtEl>
                                        <p:attrNameLst>
                                          <p:attrName>ppt_h</p:attrName>
                                        </p:attrNameLst>
                                      </p:cBhvr>
                                      <p:tavLst>
                                        <p:tav tm="0">
                                          <p:val>
                                            <p:fltVal val="0"/>
                                          </p:val>
                                        </p:tav>
                                        <p:tav tm="100000">
                                          <p:val>
                                            <p:strVal val="#ppt_h"/>
                                          </p:val>
                                        </p:tav>
                                      </p:tavLst>
                                    </p:anim>
                                    <p:anim calcmode="lin" valueType="num">
                                      <p:cBhvr additive="repl">
                                        <p:cTn id="97" dur="500" fill="hold"/>
                                        <p:tgtEl>
                                          <p:spTgt spid="1993"/>
                                        </p:tgtEl>
                                        <p:attrNameLst>
                                          <p:attrName>r</p:attrName>
                                        </p:attrNameLst>
                                      </p:cBhvr>
                                      <p:tavLst>
                                        <p:tav tm="0">
                                          <p:val>
                                            <p:strVal val="360"/>
                                          </p:val>
                                        </p:tav>
                                        <p:tav tm="100000">
                                          <p:val>
                                            <p:strVal val="0"/>
                                          </p:val>
                                        </p:tav>
                                      </p:tavLst>
                                    </p:anim>
                                    <p:animEffect filter="fade" transition="in">
                                      <p:cBhvr additive="repl">
                                        <p:cTn id="98" dur="500"/>
                                        <p:tgtEl>
                                          <p:spTgt spid="1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02:51:09Z</dcterms:created>
  <dc:creator>graphix_shiv</dc:creator>
  <dc:description/>
  <dc:language>en-US</dc:language>
  <cp:lastModifiedBy>Pragya</cp:lastModifiedBy>
  <dcterms:modified xsi:type="dcterms:W3CDTF">2018-08-27T02:21:57Z</dcterms:modified>
  <cp:revision>784</cp:revision>
  <dc:subject/>
  <dc:title>PowerPoint Presentation</dc:title>
</cp:coreProperties>
</file>