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Click to move the slide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781A-4B6E-4E89-870E-0363FDF9A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C9BE-42CE-4E62-A7DE-65E6062D6540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5CC5-B571-42E9-9330-67EEA8A4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3854-6C34-4B74-90C7-CAF991DB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5168-61A0-4974-BC2B-3C515736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30DC-6594-4CF1-A590-80264961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D027-4A54-4778-8546-5005D61C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8EC0-8A1E-48AE-8E9C-2BB150B1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FF7F-C4BD-4E47-8F51-D8C5E2AC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B082-895F-4EA5-A516-7B55853D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3F5B-AFAF-46EF-A02E-7212B278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DF18-8F51-4290-92A6-51EBB51E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7B6D-7C49-4FD6-88CF-FF8144FB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4CD4-B63E-4106-A476-70CABB6B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BAE2-3087-4E9C-BCA8-D9E7F52C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8D44-8717-41E0-B4A3-0A179531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DEB9-1413-4678-B0D5-8887F514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074A-5831-4450-85B6-41B48B4F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ECE2-8876-4EE5-AB09-369EF90D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4F4D-2BBD-4171-96E2-CCD654B9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10E6-F91B-4DA9-ADB9-422F9821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0E73-B200-480D-B7F8-C6BB86A6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51B6-E6FA-418A-AB58-715A3EAA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530C-0EC7-4308-A057-42B9D9C2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325-1079-49EF-BA2C-C514A532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07D7-7033-437A-A3CC-A1BB578C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29292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E970-951B-47EF-8416-5E28E730212B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4714920" y="1133640"/>
            <a:ext cx="2762280" cy="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29292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7C95-0E3B-4271-AF40-2CFC1E78417B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80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201132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6000" spc="-1" strike="noStrike">
                <a:solidFill>
                  <a:srgbClr val="ffffff"/>
                </a:solidFill>
                <a:latin typeface="Poppins"/>
              </a:rPr>
              <a:t>PUZZLE DIAGRAM</a:t>
            </a:r>
            <a:endParaRPr b="0" lang="en-US" sz="6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3880" y="449064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pen Sans"/>
              </a:rPr>
              <a:t>Is a diagram to show about relationship between an object, describe a component and to show a process about business model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" name="Straight Connector 6"/>
          <p:cNvSpPr/>
          <p:nvPr/>
        </p:nvSpPr>
        <p:spPr>
          <a:xfrm>
            <a:off x="4714920" y="4386240"/>
            <a:ext cx="276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5464080" y="1779480"/>
            <a:ext cx="1352520" cy="1322640"/>
          </a:xfrm>
          <a:custGeom>
            <a:avLst/>
            <a:gdLst/>
            <a:ahLst/>
            <a:rect l="l" t="t" r="r" b="b"/>
            <a:pathLst>
              <a:path w="196" h="190">
                <a:moveTo>
                  <a:pt x="104" y="174"/>
                </a:moveTo>
                <a:cubicBezTo>
                  <a:pt x="102" y="162"/>
                  <a:pt x="102" y="162"/>
                  <a:pt x="102" y="162"/>
                </a:cubicBezTo>
                <a:cubicBezTo>
                  <a:pt x="93" y="160"/>
                  <a:pt x="85" y="153"/>
                  <a:pt x="82" y="144"/>
                </a:cubicBezTo>
                <a:cubicBezTo>
                  <a:pt x="77" y="130"/>
                  <a:pt x="85" y="115"/>
                  <a:pt x="99" y="110"/>
                </a:cubicBezTo>
                <a:cubicBezTo>
                  <a:pt x="113" y="106"/>
                  <a:pt x="128" y="113"/>
                  <a:pt x="132" y="127"/>
                </a:cubicBezTo>
                <a:cubicBezTo>
                  <a:pt x="135" y="137"/>
                  <a:pt x="133" y="147"/>
                  <a:pt x="126" y="154"/>
                </a:cubicBezTo>
                <a:cubicBezTo>
                  <a:pt x="131" y="162"/>
                  <a:pt x="131" y="162"/>
                  <a:pt x="131" y="162"/>
                </a:cubicBezTo>
                <a:cubicBezTo>
                  <a:pt x="144" y="156"/>
                  <a:pt x="153" y="151"/>
                  <a:pt x="153" y="151"/>
                </a:cubicBezTo>
                <a:cubicBezTo>
                  <a:pt x="157" y="150"/>
                  <a:pt x="159" y="145"/>
                  <a:pt x="158" y="141"/>
                </a:cubicBezTo>
                <a:cubicBezTo>
                  <a:pt x="158" y="141"/>
                  <a:pt x="151" y="125"/>
                  <a:pt x="143" y="106"/>
                </a:cubicBezTo>
                <a:cubicBezTo>
                  <a:pt x="148" y="102"/>
                  <a:pt x="148" y="102"/>
                  <a:pt x="148" y="102"/>
                </a:cubicBezTo>
                <a:cubicBezTo>
                  <a:pt x="154" y="109"/>
                  <a:pt x="165" y="112"/>
                  <a:pt x="175" y="109"/>
                </a:cubicBezTo>
                <a:cubicBezTo>
                  <a:pt x="189" y="104"/>
                  <a:pt x="196" y="89"/>
                  <a:pt x="192" y="75"/>
                </a:cubicBezTo>
                <a:cubicBezTo>
                  <a:pt x="187" y="61"/>
                  <a:pt x="172" y="54"/>
                  <a:pt x="158" y="58"/>
                </a:cubicBezTo>
                <a:cubicBezTo>
                  <a:pt x="148" y="61"/>
                  <a:pt x="142" y="70"/>
                  <a:pt x="140" y="79"/>
                </a:cubicBezTo>
                <a:cubicBezTo>
                  <a:pt x="133" y="80"/>
                  <a:pt x="133" y="80"/>
                  <a:pt x="133" y="80"/>
                </a:cubicBezTo>
                <a:cubicBezTo>
                  <a:pt x="129" y="65"/>
                  <a:pt x="125" y="50"/>
                  <a:pt x="125" y="40"/>
                </a:cubicBezTo>
                <a:cubicBezTo>
                  <a:pt x="121" y="37"/>
                  <a:pt x="119" y="34"/>
                  <a:pt x="115" y="35"/>
                </a:cubicBezTo>
                <a:cubicBezTo>
                  <a:pt x="115" y="35"/>
                  <a:pt x="96" y="44"/>
                  <a:pt x="74" y="53"/>
                </a:cubicBezTo>
                <a:cubicBezTo>
                  <a:pt x="71" y="49"/>
                  <a:pt x="71" y="49"/>
                  <a:pt x="71" y="49"/>
                </a:cubicBezTo>
                <a:cubicBezTo>
                  <a:pt x="78" y="42"/>
                  <a:pt x="81" y="32"/>
                  <a:pt x="78" y="22"/>
                </a:cubicBezTo>
                <a:cubicBezTo>
                  <a:pt x="73" y="8"/>
                  <a:pt x="58" y="0"/>
                  <a:pt x="44" y="5"/>
                </a:cubicBezTo>
                <a:cubicBezTo>
                  <a:pt x="30" y="9"/>
                  <a:pt x="23" y="24"/>
                  <a:pt x="27" y="38"/>
                </a:cubicBezTo>
                <a:cubicBezTo>
                  <a:pt x="31" y="48"/>
                  <a:pt x="39" y="54"/>
                  <a:pt x="48" y="56"/>
                </a:cubicBezTo>
                <a:cubicBezTo>
                  <a:pt x="49" y="62"/>
                  <a:pt x="49" y="62"/>
                  <a:pt x="49" y="62"/>
                </a:cubicBezTo>
                <a:cubicBezTo>
                  <a:pt x="31" y="68"/>
                  <a:pt x="14" y="73"/>
                  <a:pt x="6" y="71"/>
                </a:cubicBezTo>
                <a:cubicBezTo>
                  <a:pt x="2" y="74"/>
                  <a:pt x="0" y="77"/>
                  <a:pt x="1" y="81"/>
                </a:cubicBezTo>
                <a:cubicBezTo>
                  <a:pt x="0" y="90"/>
                  <a:pt x="5" y="106"/>
                  <a:pt x="10" y="123"/>
                </a:cubicBezTo>
                <a:cubicBezTo>
                  <a:pt x="19" y="121"/>
                  <a:pt x="19" y="121"/>
                  <a:pt x="19" y="121"/>
                </a:cubicBezTo>
                <a:cubicBezTo>
                  <a:pt x="21" y="112"/>
                  <a:pt x="28" y="104"/>
                  <a:pt x="37" y="101"/>
                </a:cubicBezTo>
                <a:cubicBezTo>
                  <a:pt x="51" y="96"/>
                  <a:pt x="66" y="104"/>
                  <a:pt x="71" y="118"/>
                </a:cubicBezTo>
                <a:cubicBezTo>
                  <a:pt x="75" y="132"/>
                  <a:pt x="68" y="147"/>
                  <a:pt x="54" y="152"/>
                </a:cubicBezTo>
                <a:cubicBezTo>
                  <a:pt x="44" y="155"/>
                  <a:pt x="34" y="152"/>
                  <a:pt x="27" y="145"/>
                </a:cubicBezTo>
                <a:cubicBezTo>
                  <a:pt x="20" y="149"/>
                  <a:pt x="20" y="149"/>
                  <a:pt x="20" y="149"/>
                </a:cubicBezTo>
                <a:cubicBezTo>
                  <a:pt x="28" y="168"/>
                  <a:pt x="34" y="182"/>
                  <a:pt x="34" y="182"/>
                </a:cubicBezTo>
                <a:cubicBezTo>
                  <a:pt x="36" y="186"/>
                  <a:pt x="36" y="186"/>
                  <a:pt x="44" y="187"/>
                </a:cubicBezTo>
                <a:cubicBezTo>
                  <a:pt x="57" y="190"/>
                  <a:pt x="81" y="183"/>
                  <a:pt x="104" y="17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Poppins"/>
              </a:rPr>
              <a:t>STRATEGY PUZZLE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21" name="Freeform 5"/>
          <p:cNvSpPr/>
          <p:nvPr/>
        </p:nvSpPr>
        <p:spPr>
          <a:xfrm>
            <a:off x="4568760" y="1623960"/>
            <a:ext cx="2592360" cy="2076480"/>
          </a:xfrm>
          <a:custGeom>
            <a:avLst/>
            <a:gdLst/>
            <a:ahLst/>
            <a:rect l="l" t="t" r="r" b="b"/>
            <a:pathLst>
              <a:path w="870" h="697">
                <a:moveTo>
                  <a:pt x="84" y="695"/>
                </a:moveTo>
                <a:cubicBezTo>
                  <a:pt x="94" y="697"/>
                  <a:pt x="104" y="695"/>
                  <a:pt x="113" y="689"/>
                </a:cubicBezTo>
                <a:cubicBezTo>
                  <a:pt x="252" y="591"/>
                  <a:pt x="252" y="591"/>
                  <a:pt x="252" y="591"/>
                </a:cubicBezTo>
                <a:cubicBezTo>
                  <a:pt x="269" y="579"/>
                  <a:pt x="292" y="580"/>
                  <a:pt x="307" y="594"/>
                </a:cubicBezTo>
                <a:cubicBezTo>
                  <a:pt x="345" y="629"/>
                  <a:pt x="398" y="642"/>
                  <a:pt x="448" y="629"/>
                </a:cubicBezTo>
                <a:cubicBezTo>
                  <a:pt x="465" y="624"/>
                  <a:pt x="481" y="616"/>
                  <a:pt x="495" y="606"/>
                </a:cubicBezTo>
                <a:cubicBezTo>
                  <a:pt x="603" y="441"/>
                  <a:pt x="603" y="441"/>
                  <a:pt x="603" y="441"/>
                </a:cubicBezTo>
                <a:cubicBezTo>
                  <a:pt x="619" y="417"/>
                  <a:pt x="640" y="405"/>
                  <a:pt x="662" y="409"/>
                </a:cubicBezTo>
                <a:cubicBezTo>
                  <a:pt x="684" y="412"/>
                  <a:pt x="701" y="429"/>
                  <a:pt x="708" y="454"/>
                </a:cubicBezTo>
                <a:cubicBezTo>
                  <a:pt x="717" y="486"/>
                  <a:pt x="741" y="509"/>
                  <a:pt x="770" y="514"/>
                </a:cubicBezTo>
                <a:cubicBezTo>
                  <a:pt x="800" y="519"/>
                  <a:pt x="829" y="505"/>
                  <a:pt x="850" y="475"/>
                </a:cubicBezTo>
                <a:cubicBezTo>
                  <a:pt x="869" y="443"/>
                  <a:pt x="870" y="411"/>
                  <a:pt x="853" y="386"/>
                </a:cubicBezTo>
                <a:cubicBezTo>
                  <a:pt x="837" y="361"/>
                  <a:pt x="806" y="349"/>
                  <a:pt x="774" y="353"/>
                </a:cubicBezTo>
                <a:cubicBezTo>
                  <a:pt x="748" y="357"/>
                  <a:pt x="725" y="348"/>
                  <a:pt x="713" y="330"/>
                </a:cubicBezTo>
                <a:cubicBezTo>
                  <a:pt x="701" y="311"/>
                  <a:pt x="703" y="286"/>
                  <a:pt x="719" y="262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627" y="0"/>
                  <a:pt x="476" y="24"/>
                  <a:pt x="386" y="63"/>
                </a:cubicBezTo>
                <a:cubicBezTo>
                  <a:pt x="337" y="84"/>
                  <a:pt x="313" y="141"/>
                  <a:pt x="332" y="191"/>
                </a:cubicBezTo>
                <a:cubicBezTo>
                  <a:pt x="217" y="85"/>
                  <a:pt x="217" y="85"/>
                  <a:pt x="217" y="85"/>
                </a:cubicBezTo>
                <a:cubicBezTo>
                  <a:pt x="210" y="79"/>
                  <a:pt x="201" y="78"/>
                  <a:pt x="193" y="82"/>
                </a:cubicBezTo>
                <a:cubicBezTo>
                  <a:pt x="186" y="87"/>
                  <a:pt x="182" y="96"/>
                  <a:pt x="184" y="104"/>
                </a:cubicBezTo>
                <a:cubicBezTo>
                  <a:pt x="222" y="248"/>
                  <a:pt x="222" y="248"/>
                  <a:pt x="222" y="248"/>
                </a:cubicBezTo>
                <a:cubicBezTo>
                  <a:pt x="208" y="259"/>
                  <a:pt x="196" y="272"/>
                  <a:pt x="186" y="288"/>
                </a:cubicBezTo>
                <a:cubicBezTo>
                  <a:pt x="8" y="566"/>
                  <a:pt x="8" y="566"/>
                  <a:pt x="8" y="566"/>
                </a:cubicBezTo>
                <a:cubicBezTo>
                  <a:pt x="0" y="579"/>
                  <a:pt x="0" y="597"/>
                  <a:pt x="9" y="609"/>
                </a:cubicBezTo>
                <a:cubicBezTo>
                  <a:pt x="59" y="680"/>
                  <a:pt x="59" y="680"/>
                  <a:pt x="59" y="680"/>
                </a:cubicBezTo>
                <a:cubicBezTo>
                  <a:pt x="65" y="688"/>
                  <a:pt x="74" y="694"/>
                  <a:pt x="84" y="695"/>
                </a:cubicBezTo>
                <a:close/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2" name="Freeform 6"/>
          <p:cNvSpPr/>
          <p:nvPr/>
        </p:nvSpPr>
        <p:spPr>
          <a:xfrm>
            <a:off x="6091200" y="2065320"/>
            <a:ext cx="1773360" cy="2441520"/>
          </a:xfrm>
          <a:custGeom>
            <a:avLst/>
            <a:gdLst/>
            <a:ahLst/>
            <a:rect l="l" t="t" r="r" b="b"/>
            <a:pathLst>
              <a:path w="595" h="820">
                <a:moveTo>
                  <a:pt x="0" y="514"/>
                </a:moveTo>
                <a:cubicBezTo>
                  <a:pt x="90" y="556"/>
                  <a:pt x="90" y="556"/>
                  <a:pt x="90" y="556"/>
                </a:cubicBezTo>
                <a:cubicBezTo>
                  <a:pt x="116" y="568"/>
                  <a:pt x="131" y="588"/>
                  <a:pt x="131" y="610"/>
                </a:cubicBezTo>
                <a:cubicBezTo>
                  <a:pt x="131" y="632"/>
                  <a:pt x="116" y="652"/>
                  <a:pt x="93" y="662"/>
                </a:cubicBezTo>
                <a:cubicBezTo>
                  <a:pt x="63" y="676"/>
                  <a:pt x="43" y="702"/>
                  <a:pt x="42" y="732"/>
                </a:cubicBezTo>
                <a:cubicBezTo>
                  <a:pt x="42" y="762"/>
                  <a:pt x="60" y="789"/>
                  <a:pt x="92" y="806"/>
                </a:cubicBezTo>
                <a:cubicBezTo>
                  <a:pt x="126" y="820"/>
                  <a:pt x="159" y="816"/>
                  <a:pt x="181" y="796"/>
                </a:cubicBezTo>
                <a:cubicBezTo>
                  <a:pt x="203" y="776"/>
                  <a:pt x="211" y="744"/>
                  <a:pt x="202" y="713"/>
                </a:cubicBezTo>
                <a:cubicBezTo>
                  <a:pt x="194" y="688"/>
                  <a:pt x="200" y="664"/>
                  <a:pt x="216" y="650"/>
                </a:cubicBezTo>
                <a:cubicBezTo>
                  <a:pt x="233" y="635"/>
                  <a:pt x="258" y="633"/>
                  <a:pt x="284" y="646"/>
                </a:cubicBezTo>
                <a:cubicBezTo>
                  <a:pt x="431" y="713"/>
                  <a:pt x="431" y="713"/>
                  <a:pt x="431" y="713"/>
                </a:cubicBezTo>
                <a:cubicBezTo>
                  <a:pt x="518" y="556"/>
                  <a:pt x="595" y="299"/>
                  <a:pt x="365" y="59"/>
                </a:cubicBezTo>
                <a:cubicBezTo>
                  <a:pt x="344" y="37"/>
                  <a:pt x="323" y="17"/>
                  <a:pt x="302" y="0"/>
                </a:cubicBezTo>
                <a:cubicBezTo>
                  <a:pt x="222" y="122"/>
                  <a:pt x="222" y="122"/>
                  <a:pt x="222" y="122"/>
                </a:cubicBezTo>
                <a:cubicBezTo>
                  <a:pt x="209" y="141"/>
                  <a:pt x="207" y="160"/>
                  <a:pt x="216" y="173"/>
                </a:cubicBezTo>
                <a:cubicBezTo>
                  <a:pt x="224" y="186"/>
                  <a:pt x="241" y="192"/>
                  <a:pt x="260" y="190"/>
                </a:cubicBezTo>
                <a:cubicBezTo>
                  <a:pt x="299" y="184"/>
                  <a:pt x="336" y="199"/>
                  <a:pt x="356" y="229"/>
                </a:cubicBezTo>
                <a:cubicBezTo>
                  <a:pt x="376" y="259"/>
                  <a:pt x="375" y="298"/>
                  <a:pt x="353" y="335"/>
                </a:cubicBezTo>
                <a:cubicBezTo>
                  <a:pt x="352" y="336"/>
                  <a:pt x="352" y="336"/>
                  <a:pt x="352" y="336"/>
                </a:cubicBezTo>
                <a:cubicBezTo>
                  <a:pt x="327" y="371"/>
                  <a:pt x="292" y="388"/>
                  <a:pt x="256" y="381"/>
                </a:cubicBezTo>
                <a:cubicBezTo>
                  <a:pt x="221" y="375"/>
                  <a:pt x="192" y="348"/>
                  <a:pt x="182" y="310"/>
                </a:cubicBezTo>
                <a:cubicBezTo>
                  <a:pt x="177" y="292"/>
                  <a:pt x="164" y="279"/>
                  <a:pt x="149" y="276"/>
                </a:cubicBezTo>
                <a:cubicBezTo>
                  <a:pt x="133" y="274"/>
                  <a:pt x="117" y="283"/>
                  <a:pt x="105" y="302"/>
                </a:cubicBezTo>
                <a:cubicBezTo>
                  <a:pt x="27" y="422"/>
                  <a:pt x="27" y="422"/>
                  <a:pt x="27" y="422"/>
                </a:cubicBezTo>
                <a:cubicBezTo>
                  <a:pt x="28" y="447"/>
                  <a:pt x="22" y="478"/>
                  <a:pt x="0" y="514"/>
                </a:cubicBez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3" name="Freeform 7"/>
          <p:cNvSpPr/>
          <p:nvPr/>
        </p:nvSpPr>
        <p:spPr>
          <a:xfrm>
            <a:off x="4327560" y="5029200"/>
            <a:ext cx="3087720" cy="1047600"/>
          </a:xfrm>
          <a:custGeom>
            <a:avLst/>
            <a:gdLst/>
            <a:ahLst/>
            <a:rect l="l" t="t" r="r" b="b"/>
            <a:pathLst>
              <a:path w="1036" h="352">
                <a:moveTo>
                  <a:pt x="959" y="199"/>
                </a:moveTo>
                <a:cubicBezTo>
                  <a:pt x="939" y="199"/>
                  <a:pt x="939" y="199"/>
                  <a:pt x="939" y="199"/>
                </a:cubicBezTo>
                <a:cubicBezTo>
                  <a:pt x="936" y="183"/>
                  <a:pt x="932" y="124"/>
                  <a:pt x="930" y="102"/>
                </a:cubicBezTo>
                <a:cubicBezTo>
                  <a:pt x="959" y="102"/>
                  <a:pt x="959" y="102"/>
                  <a:pt x="959" y="102"/>
                </a:cubicBezTo>
                <a:cubicBezTo>
                  <a:pt x="988" y="102"/>
                  <a:pt x="1010" y="79"/>
                  <a:pt x="1010" y="51"/>
                </a:cubicBezTo>
                <a:cubicBezTo>
                  <a:pt x="1010" y="22"/>
                  <a:pt x="988" y="0"/>
                  <a:pt x="959" y="0"/>
                </a:cubicBezTo>
                <a:cubicBezTo>
                  <a:pt x="611" y="0"/>
                  <a:pt x="611" y="0"/>
                  <a:pt x="611" y="0"/>
                </a:cubicBezTo>
                <a:cubicBezTo>
                  <a:pt x="597" y="3"/>
                  <a:pt x="588" y="10"/>
                  <a:pt x="583" y="20"/>
                </a:cubicBezTo>
                <a:cubicBezTo>
                  <a:pt x="577" y="35"/>
                  <a:pt x="581" y="52"/>
                  <a:pt x="593" y="67"/>
                </a:cubicBezTo>
                <a:cubicBezTo>
                  <a:pt x="619" y="96"/>
                  <a:pt x="627" y="135"/>
                  <a:pt x="613" y="168"/>
                </a:cubicBezTo>
                <a:cubicBezTo>
                  <a:pt x="599" y="201"/>
                  <a:pt x="566" y="222"/>
                  <a:pt x="522" y="224"/>
                </a:cubicBezTo>
                <a:cubicBezTo>
                  <a:pt x="522" y="224"/>
                  <a:pt x="522" y="224"/>
                  <a:pt x="522" y="224"/>
                </a:cubicBezTo>
                <a:cubicBezTo>
                  <a:pt x="522" y="224"/>
                  <a:pt x="522" y="224"/>
                  <a:pt x="522" y="224"/>
                </a:cubicBezTo>
                <a:cubicBezTo>
                  <a:pt x="478" y="222"/>
                  <a:pt x="445" y="202"/>
                  <a:pt x="431" y="168"/>
                </a:cubicBezTo>
                <a:cubicBezTo>
                  <a:pt x="417" y="135"/>
                  <a:pt x="424" y="97"/>
                  <a:pt x="450" y="67"/>
                </a:cubicBezTo>
                <a:cubicBezTo>
                  <a:pt x="462" y="53"/>
                  <a:pt x="466" y="35"/>
                  <a:pt x="460" y="21"/>
                </a:cubicBezTo>
                <a:cubicBezTo>
                  <a:pt x="455" y="10"/>
                  <a:pt x="443" y="2"/>
                  <a:pt x="427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34" y="0"/>
                  <a:pt x="11" y="22"/>
                  <a:pt x="11" y="51"/>
                </a:cubicBezTo>
                <a:cubicBezTo>
                  <a:pt x="11" y="79"/>
                  <a:pt x="34" y="102"/>
                  <a:pt x="62" y="102"/>
                </a:cubicBezTo>
                <a:cubicBezTo>
                  <a:pt x="82" y="102"/>
                  <a:pt x="82" y="102"/>
                  <a:pt x="82" y="102"/>
                </a:cubicBezTo>
                <a:cubicBezTo>
                  <a:pt x="80" y="122"/>
                  <a:pt x="79" y="179"/>
                  <a:pt x="78" y="199"/>
                </a:cubicBezTo>
                <a:cubicBezTo>
                  <a:pt x="76" y="199"/>
                  <a:pt x="76" y="199"/>
                  <a:pt x="76" y="199"/>
                </a:cubicBezTo>
                <a:cubicBezTo>
                  <a:pt x="34" y="199"/>
                  <a:pt x="0" y="234"/>
                  <a:pt x="0" y="276"/>
                </a:cubicBezTo>
                <a:cubicBezTo>
                  <a:pt x="0" y="318"/>
                  <a:pt x="34" y="352"/>
                  <a:pt x="76" y="352"/>
                </a:cubicBezTo>
                <a:cubicBezTo>
                  <a:pt x="959" y="352"/>
                  <a:pt x="959" y="352"/>
                  <a:pt x="959" y="352"/>
                </a:cubicBezTo>
                <a:cubicBezTo>
                  <a:pt x="1002" y="352"/>
                  <a:pt x="1036" y="318"/>
                  <a:pt x="1036" y="276"/>
                </a:cubicBezTo>
                <a:cubicBezTo>
                  <a:pt x="1036" y="234"/>
                  <a:pt x="1002" y="199"/>
                  <a:pt x="959" y="199"/>
                </a:cubicBezTo>
                <a:close/>
              </a:path>
            </a:pathLst>
          </a:cu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4" name="Freeform 8"/>
          <p:cNvSpPr/>
          <p:nvPr/>
        </p:nvSpPr>
        <p:spPr>
          <a:xfrm>
            <a:off x="4741920" y="3638520"/>
            <a:ext cx="2611440" cy="2008080"/>
          </a:xfrm>
          <a:custGeom>
            <a:avLst/>
            <a:gdLst/>
            <a:ahLst/>
            <a:rect l="l" t="t" r="r" b="b"/>
            <a:pathLst>
              <a:path w="876" h="675">
                <a:moveTo>
                  <a:pt x="731" y="132"/>
                </a:moveTo>
                <a:cubicBezTo>
                  <a:pt x="710" y="123"/>
                  <a:pt x="692" y="123"/>
                  <a:pt x="680" y="134"/>
                </a:cubicBezTo>
                <a:cubicBezTo>
                  <a:pt x="668" y="144"/>
                  <a:pt x="664" y="162"/>
                  <a:pt x="670" y="180"/>
                </a:cubicBezTo>
                <a:cubicBezTo>
                  <a:pt x="681" y="218"/>
                  <a:pt x="671" y="256"/>
                  <a:pt x="645" y="280"/>
                </a:cubicBezTo>
                <a:cubicBezTo>
                  <a:pt x="628" y="295"/>
                  <a:pt x="608" y="302"/>
                  <a:pt x="585" y="302"/>
                </a:cubicBezTo>
                <a:cubicBezTo>
                  <a:pt x="570" y="302"/>
                  <a:pt x="555" y="299"/>
                  <a:pt x="539" y="292"/>
                </a:cubicBezTo>
                <a:cubicBezTo>
                  <a:pt x="538" y="292"/>
                  <a:pt x="538" y="292"/>
                  <a:pt x="538" y="292"/>
                </a:cubicBezTo>
                <a:cubicBezTo>
                  <a:pt x="500" y="272"/>
                  <a:pt x="478" y="240"/>
                  <a:pt x="479" y="203"/>
                </a:cubicBezTo>
                <a:cubicBezTo>
                  <a:pt x="481" y="168"/>
                  <a:pt x="503" y="135"/>
                  <a:pt x="539" y="120"/>
                </a:cubicBezTo>
                <a:cubicBezTo>
                  <a:pt x="557" y="112"/>
                  <a:pt x="568" y="97"/>
                  <a:pt x="568" y="82"/>
                </a:cubicBezTo>
                <a:cubicBezTo>
                  <a:pt x="568" y="66"/>
                  <a:pt x="557" y="52"/>
                  <a:pt x="536" y="43"/>
                </a:cubicBezTo>
                <a:cubicBezTo>
                  <a:pt x="444" y="0"/>
                  <a:pt x="444" y="0"/>
                  <a:pt x="444" y="0"/>
                </a:cubicBezTo>
                <a:cubicBezTo>
                  <a:pt x="416" y="40"/>
                  <a:pt x="369" y="85"/>
                  <a:pt x="292" y="135"/>
                </a:cubicBezTo>
                <a:cubicBezTo>
                  <a:pt x="149" y="228"/>
                  <a:pt x="55" y="324"/>
                  <a:pt x="0" y="450"/>
                </a:cubicBezTo>
                <a:cubicBezTo>
                  <a:pt x="275" y="450"/>
                  <a:pt x="275" y="450"/>
                  <a:pt x="275" y="450"/>
                </a:cubicBezTo>
                <a:cubicBezTo>
                  <a:pt x="275" y="450"/>
                  <a:pt x="275" y="450"/>
                  <a:pt x="276" y="450"/>
                </a:cubicBezTo>
                <a:cubicBezTo>
                  <a:pt x="296" y="450"/>
                  <a:pt x="313" y="456"/>
                  <a:pt x="325" y="467"/>
                </a:cubicBezTo>
                <a:cubicBezTo>
                  <a:pt x="325" y="467"/>
                  <a:pt x="325" y="467"/>
                  <a:pt x="325" y="467"/>
                </a:cubicBezTo>
                <a:cubicBezTo>
                  <a:pt x="326" y="468"/>
                  <a:pt x="327" y="469"/>
                  <a:pt x="328" y="470"/>
                </a:cubicBezTo>
                <a:cubicBezTo>
                  <a:pt x="328" y="470"/>
                  <a:pt x="328" y="470"/>
                  <a:pt x="328" y="470"/>
                </a:cubicBezTo>
                <a:cubicBezTo>
                  <a:pt x="329" y="471"/>
                  <a:pt x="330" y="472"/>
                  <a:pt x="330" y="473"/>
                </a:cubicBezTo>
                <a:cubicBezTo>
                  <a:pt x="331" y="473"/>
                  <a:pt x="331" y="473"/>
                  <a:pt x="331" y="474"/>
                </a:cubicBezTo>
                <a:cubicBezTo>
                  <a:pt x="332" y="475"/>
                  <a:pt x="332" y="476"/>
                  <a:pt x="333" y="477"/>
                </a:cubicBezTo>
                <a:cubicBezTo>
                  <a:pt x="333" y="477"/>
                  <a:pt x="333" y="477"/>
                  <a:pt x="333" y="477"/>
                </a:cubicBezTo>
                <a:cubicBezTo>
                  <a:pt x="334" y="479"/>
                  <a:pt x="335" y="480"/>
                  <a:pt x="335" y="481"/>
                </a:cubicBezTo>
                <a:cubicBezTo>
                  <a:pt x="336" y="482"/>
                  <a:pt x="336" y="483"/>
                  <a:pt x="336" y="484"/>
                </a:cubicBezTo>
                <a:cubicBezTo>
                  <a:pt x="336" y="484"/>
                  <a:pt x="336" y="484"/>
                  <a:pt x="336" y="484"/>
                </a:cubicBezTo>
                <a:cubicBezTo>
                  <a:pt x="344" y="503"/>
                  <a:pt x="339" y="526"/>
                  <a:pt x="323" y="545"/>
                </a:cubicBezTo>
                <a:cubicBezTo>
                  <a:pt x="301" y="569"/>
                  <a:pt x="295" y="602"/>
                  <a:pt x="306" y="629"/>
                </a:cubicBezTo>
                <a:cubicBezTo>
                  <a:pt x="318" y="657"/>
                  <a:pt x="346" y="673"/>
                  <a:pt x="383" y="675"/>
                </a:cubicBezTo>
                <a:cubicBezTo>
                  <a:pt x="420" y="673"/>
                  <a:pt x="447" y="656"/>
                  <a:pt x="459" y="629"/>
                </a:cubicBezTo>
                <a:cubicBezTo>
                  <a:pt x="471" y="601"/>
                  <a:pt x="464" y="569"/>
                  <a:pt x="442" y="544"/>
                </a:cubicBezTo>
                <a:cubicBezTo>
                  <a:pt x="425" y="525"/>
                  <a:pt x="420" y="501"/>
                  <a:pt x="429" y="481"/>
                </a:cubicBezTo>
                <a:cubicBezTo>
                  <a:pt x="430" y="480"/>
                  <a:pt x="431" y="478"/>
                  <a:pt x="431" y="477"/>
                </a:cubicBezTo>
                <a:cubicBezTo>
                  <a:pt x="431" y="477"/>
                  <a:pt x="431" y="477"/>
                  <a:pt x="432" y="477"/>
                </a:cubicBezTo>
                <a:cubicBezTo>
                  <a:pt x="432" y="475"/>
                  <a:pt x="433" y="474"/>
                  <a:pt x="434" y="473"/>
                </a:cubicBezTo>
                <a:cubicBezTo>
                  <a:pt x="434" y="473"/>
                  <a:pt x="434" y="473"/>
                  <a:pt x="434" y="473"/>
                </a:cubicBezTo>
                <a:cubicBezTo>
                  <a:pt x="435" y="471"/>
                  <a:pt x="437" y="469"/>
                  <a:pt x="439" y="467"/>
                </a:cubicBezTo>
                <a:cubicBezTo>
                  <a:pt x="451" y="455"/>
                  <a:pt x="468" y="449"/>
                  <a:pt x="489" y="449"/>
                </a:cubicBezTo>
                <a:cubicBezTo>
                  <a:pt x="794" y="448"/>
                  <a:pt x="794" y="448"/>
                  <a:pt x="794" y="448"/>
                </a:cubicBezTo>
                <a:cubicBezTo>
                  <a:pt x="806" y="376"/>
                  <a:pt x="827" y="298"/>
                  <a:pt x="865" y="217"/>
                </a:cubicBezTo>
                <a:cubicBezTo>
                  <a:pt x="869" y="211"/>
                  <a:pt x="872" y="205"/>
                  <a:pt x="876" y="199"/>
                </a:cubicBezTo>
                <a:lnTo>
                  <a:pt x="731" y="132"/>
                </a:lnTo>
                <a:close/>
              </a:path>
            </a:pathLst>
          </a:cu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425" name="Group 6" descr=""/>
          <p:cNvPicPr/>
          <p:nvPr/>
        </p:nvPicPr>
        <p:blipFill>
          <a:blip r:embed="rId1"/>
          <a:stretch/>
        </p:blipFill>
        <p:spPr>
          <a:xfrm>
            <a:off x="6394320" y="5284800"/>
            <a:ext cx="378000" cy="426960"/>
          </a:xfrm>
          <a:prstGeom prst="rect">
            <a:avLst/>
          </a:prstGeom>
          <a:ln w="0">
            <a:noFill/>
          </a:ln>
        </p:spPr>
      </p:pic>
      <p:pic>
        <p:nvPicPr>
          <p:cNvPr id="426" name="Group 13" descr=""/>
          <p:cNvPicPr/>
          <p:nvPr/>
        </p:nvPicPr>
        <p:blipFill>
          <a:blip r:embed="rId2"/>
          <a:stretch/>
        </p:blipFill>
        <p:spPr>
          <a:xfrm>
            <a:off x="5565600" y="4286160"/>
            <a:ext cx="378000" cy="438120"/>
          </a:xfrm>
          <a:prstGeom prst="rect">
            <a:avLst/>
          </a:prstGeom>
          <a:ln w="0">
            <a:noFill/>
          </a:ln>
        </p:spPr>
      </p:pic>
      <p:pic>
        <p:nvPicPr>
          <p:cNvPr id="427" name="Group 17" descr=""/>
          <p:cNvPicPr/>
          <p:nvPr/>
        </p:nvPicPr>
        <p:blipFill>
          <a:blip r:embed="rId3"/>
          <a:stretch/>
        </p:blipFill>
        <p:spPr>
          <a:xfrm>
            <a:off x="6845400" y="3408480"/>
            <a:ext cx="384120" cy="382320"/>
          </a:xfrm>
          <a:prstGeom prst="rect">
            <a:avLst/>
          </a:prstGeom>
          <a:ln w="0">
            <a:noFill/>
          </a:ln>
        </p:spPr>
      </p:pic>
      <p:pic>
        <p:nvPicPr>
          <p:cNvPr id="428" name="Group 21" descr=""/>
          <p:cNvPicPr/>
          <p:nvPr/>
        </p:nvPicPr>
        <p:blipFill>
          <a:blip r:embed="rId4"/>
          <a:stretch/>
        </p:blipFill>
        <p:spPr>
          <a:xfrm>
            <a:off x="5389560" y="2505240"/>
            <a:ext cx="474840" cy="475920"/>
          </a:xfrm>
          <a:prstGeom prst="rect">
            <a:avLst/>
          </a:prstGeom>
          <a:ln w="0">
            <a:noFill/>
          </a:ln>
        </p:spPr>
      </p:pic>
      <p:sp>
        <p:nvSpPr>
          <p:cNvPr id="429" name="Title 1"/>
          <p:cNvSpPr/>
          <p:nvPr/>
        </p:nvSpPr>
        <p:spPr>
          <a:xfrm>
            <a:off x="8194680" y="2706840"/>
            <a:ext cx="26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0" name="Details 1"/>
          <p:cNvSpPr/>
          <p:nvPr/>
        </p:nvSpPr>
        <p:spPr>
          <a:xfrm>
            <a:off x="8194680" y="2922480"/>
            <a:ext cx="3191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Great Paragraph line is a sample Lorem ipsum dolor sit amet. Consectetur adipiscing eliteiusmod temp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1" name="Title 1"/>
          <p:cNvSpPr/>
          <p:nvPr/>
        </p:nvSpPr>
        <p:spPr>
          <a:xfrm>
            <a:off x="1436760" y="1992240"/>
            <a:ext cx="26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2" name="Details 1"/>
          <p:cNvSpPr/>
          <p:nvPr/>
        </p:nvSpPr>
        <p:spPr>
          <a:xfrm>
            <a:off x="954000" y="2208240"/>
            <a:ext cx="3108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Great Paragraph line is a sample Lorem ipsum dolor sit amet. Consectetur adipiscing eliteiusmod temp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3" name="Title 1"/>
          <p:cNvSpPr/>
          <p:nvPr/>
        </p:nvSpPr>
        <p:spPr>
          <a:xfrm>
            <a:off x="8002440" y="4938840"/>
            <a:ext cx="26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4" name="Details 1"/>
          <p:cNvSpPr/>
          <p:nvPr/>
        </p:nvSpPr>
        <p:spPr>
          <a:xfrm>
            <a:off x="8002440" y="5153040"/>
            <a:ext cx="3191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Great Paragraph line is a sample Lorem ipsum dolor sit amet. Consectetur adipiscing eliteiusmod temp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5" name="Title 1"/>
          <p:cNvSpPr/>
          <p:nvPr/>
        </p:nvSpPr>
        <p:spPr>
          <a:xfrm>
            <a:off x="1114560" y="3898800"/>
            <a:ext cx="26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6" name="Details 1"/>
          <p:cNvSpPr/>
          <p:nvPr/>
        </p:nvSpPr>
        <p:spPr>
          <a:xfrm>
            <a:off x="630360" y="4114800"/>
            <a:ext cx="31096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Great Paragraph line is a sample Lorem ipsum dolor sit amet. Consectetur adipiscing eliteiusmod temp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cxnSp>
        <p:nvCxnSpPr>
          <p:cNvPr id="437" name="Straight Arrow Connector 3"/>
          <p:cNvCxnSpPr/>
          <p:nvPr/>
        </p:nvCxnSpPr>
        <p:spPr>
          <a:xfrm flipH="1">
            <a:off x="4327200" y="2285640"/>
            <a:ext cx="923040" cy="1080"/>
          </a:xfrm>
          <a:prstGeom prst="straightConnector1">
            <a:avLst/>
          </a:prstGeom>
          <a:ln w="12600">
            <a:solidFill>
              <a:srgbClr val="2980b9"/>
            </a:solidFill>
            <a:miter/>
            <a:tailEnd len="med" type="oval" w="med"/>
          </a:ln>
        </p:spPr>
      </p:cxnSp>
      <p:cxnSp>
        <p:nvCxnSpPr>
          <p:cNvPr id="438" name="Straight Arrow Connector 33"/>
          <p:cNvCxnSpPr/>
          <p:nvPr/>
        </p:nvCxnSpPr>
        <p:spPr>
          <a:xfrm flipH="1">
            <a:off x="3983760" y="4206600"/>
            <a:ext cx="1505880" cy="1080"/>
          </a:xfrm>
          <a:prstGeom prst="straightConnector1">
            <a:avLst/>
          </a:prstGeom>
          <a:ln w="12600">
            <a:solidFill>
              <a:srgbClr val="f39c12"/>
            </a:solidFill>
            <a:miter/>
            <a:tailEnd len="med" type="oval" w="med"/>
          </a:ln>
        </p:spPr>
      </p:cxnSp>
      <p:cxnSp>
        <p:nvCxnSpPr>
          <p:cNvPr id="439" name="Straight Arrow Connector 34"/>
          <p:cNvCxnSpPr/>
          <p:nvPr/>
        </p:nvCxnSpPr>
        <p:spPr>
          <a:xfrm>
            <a:off x="7376760" y="2991960"/>
            <a:ext cx="747000" cy="1080"/>
          </a:xfrm>
          <a:prstGeom prst="straightConnector1">
            <a:avLst/>
          </a:prstGeom>
          <a:ln w="12600">
            <a:solidFill>
              <a:srgbClr val="9bbb59"/>
            </a:solidFill>
            <a:miter/>
            <a:tailEnd len="med" type="oval" w="med"/>
          </a:ln>
        </p:spPr>
      </p:cxnSp>
      <p:cxnSp>
        <p:nvCxnSpPr>
          <p:cNvPr id="440" name="Straight Arrow Connector 35"/>
          <p:cNvCxnSpPr/>
          <p:nvPr/>
        </p:nvCxnSpPr>
        <p:spPr>
          <a:xfrm>
            <a:off x="7046640" y="5248080"/>
            <a:ext cx="818280" cy="1080"/>
          </a:xfrm>
          <a:prstGeom prst="straightConnector1">
            <a:avLst/>
          </a:prstGeom>
          <a:ln w="12600">
            <a:solidFill>
              <a:srgbClr val="c0392b"/>
            </a:solidFill>
            <a:miter/>
            <a:tailEnd len="med" type="oval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0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Poppins"/>
              </a:rPr>
              <a:t>ROCKET PUZZLE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42" name="Freeform 5"/>
          <p:cNvSpPr/>
          <p:nvPr/>
        </p:nvSpPr>
        <p:spPr>
          <a:xfrm rot="2700000">
            <a:off x="838800" y="2754720"/>
            <a:ext cx="1015920" cy="1836720"/>
          </a:xfrm>
          <a:custGeom>
            <a:avLst/>
            <a:gdLst/>
            <a:ahLst/>
            <a:rect l="l" t="t" r="r" b="b"/>
            <a:pathLst>
              <a:path w="438" h="793">
                <a:moveTo>
                  <a:pt x="134" y="123"/>
                </a:moveTo>
                <a:cubicBezTo>
                  <a:pt x="32" y="265"/>
                  <a:pt x="0" y="480"/>
                  <a:pt x="42" y="745"/>
                </a:cubicBezTo>
                <a:cubicBezTo>
                  <a:pt x="45" y="764"/>
                  <a:pt x="56" y="779"/>
                  <a:pt x="73" y="786"/>
                </a:cubicBezTo>
                <a:cubicBezTo>
                  <a:pt x="91" y="793"/>
                  <a:pt x="109" y="791"/>
                  <a:pt x="124" y="781"/>
                </a:cubicBezTo>
                <a:cubicBezTo>
                  <a:pt x="438" y="565"/>
                  <a:pt x="438" y="565"/>
                  <a:pt x="438" y="565"/>
                </a:cubicBezTo>
                <a:cubicBezTo>
                  <a:pt x="385" y="419"/>
                  <a:pt x="319" y="213"/>
                  <a:pt x="275" y="0"/>
                </a:cubicBezTo>
                <a:cubicBezTo>
                  <a:pt x="242" y="16"/>
                  <a:pt x="185" y="52"/>
                  <a:pt x="134" y="123"/>
                </a:cubicBezTo>
                <a:close/>
                <a:moveTo>
                  <a:pt x="134" y="123"/>
                </a:moveTo>
                <a:cubicBezTo>
                  <a:pt x="134" y="123"/>
                  <a:pt x="134" y="123"/>
                  <a:pt x="134" y="123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3" name="Freeform 6"/>
          <p:cNvSpPr/>
          <p:nvPr/>
        </p:nvSpPr>
        <p:spPr>
          <a:xfrm rot="2700000">
            <a:off x="2619000" y="4532400"/>
            <a:ext cx="1016280" cy="1841400"/>
          </a:xfrm>
          <a:custGeom>
            <a:avLst/>
            <a:gdLst/>
            <a:ahLst/>
            <a:rect l="l" t="t" r="r" b="b"/>
            <a:pathLst>
              <a:path w="438" h="795">
                <a:moveTo>
                  <a:pt x="304" y="124"/>
                </a:moveTo>
                <a:cubicBezTo>
                  <a:pt x="253" y="53"/>
                  <a:pt x="195" y="16"/>
                  <a:pt x="163" y="0"/>
                </a:cubicBezTo>
                <a:cubicBezTo>
                  <a:pt x="119" y="214"/>
                  <a:pt x="53" y="419"/>
                  <a:pt x="0" y="565"/>
                </a:cubicBezTo>
                <a:cubicBezTo>
                  <a:pt x="314" y="782"/>
                  <a:pt x="314" y="782"/>
                  <a:pt x="314" y="782"/>
                </a:cubicBezTo>
                <a:cubicBezTo>
                  <a:pt x="329" y="793"/>
                  <a:pt x="348" y="795"/>
                  <a:pt x="365" y="787"/>
                </a:cubicBezTo>
                <a:cubicBezTo>
                  <a:pt x="382" y="780"/>
                  <a:pt x="394" y="765"/>
                  <a:pt x="397" y="747"/>
                </a:cubicBezTo>
                <a:cubicBezTo>
                  <a:pt x="438" y="481"/>
                  <a:pt x="406" y="266"/>
                  <a:pt x="304" y="124"/>
                </a:cubicBezTo>
                <a:close/>
                <a:moveTo>
                  <a:pt x="304" y="124"/>
                </a:moveTo>
                <a:cubicBezTo>
                  <a:pt x="304" y="124"/>
                  <a:pt x="304" y="124"/>
                  <a:pt x="304" y="124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4" name="Freeform 7"/>
          <p:cNvSpPr/>
          <p:nvPr/>
        </p:nvSpPr>
        <p:spPr>
          <a:xfrm rot="2700000">
            <a:off x="2803680" y="2284920"/>
            <a:ext cx="2237040" cy="1219320"/>
          </a:xfrm>
          <a:custGeom>
            <a:avLst/>
            <a:gdLst/>
            <a:ahLst/>
            <a:rect l="l" t="t" r="r" b="b"/>
            <a:pathLst>
              <a:path w="964" h="526">
                <a:moveTo>
                  <a:pt x="841" y="0"/>
                </a:moveTo>
                <a:cubicBezTo>
                  <a:pt x="447" y="0"/>
                  <a:pt x="447" y="0"/>
                  <a:pt x="447" y="0"/>
                </a:cubicBezTo>
                <a:cubicBezTo>
                  <a:pt x="434" y="0"/>
                  <a:pt x="423" y="5"/>
                  <a:pt x="420" y="14"/>
                </a:cubicBezTo>
                <a:cubicBezTo>
                  <a:pt x="416" y="23"/>
                  <a:pt x="418" y="34"/>
                  <a:pt x="426" y="43"/>
                </a:cubicBezTo>
                <a:cubicBezTo>
                  <a:pt x="443" y="64"/>
                  <a:pt x="448" y="91"/>
                  <a:pt x="439" y="113"/>
                </a:cubicBezTo>
                <a:cubicBezTo>
                  <a:pt x="429" y="137"/>
                  <a:pt x="408" y="151"/>
                  <a:pt x="379" y="152"/>
                </a:cubicBezTo>
                <a:cubicBezTo>
                  <a:pt x="379" y="152"/>
                  <a:pt x="379" y="152"/>
                  <a:pt x="379" y="152"/>
                </a:cubicBezTo>
                <a:cubicBezTo>
                  <a:pt x="378" y="152"/>
                  <a:pt x="378" y="152"/>
                  <a:pt x="378" y="152"/>
                </a:cubicBezTo>
                <a:cubicBezTo>
                  <a:pt x="350" y="151"/>
                  <a:pt x="328" y="137"/>
                  <a:pt x="318" y="114"/>
                </a:cubicBezTo>
                <a:cubicBezTo>
                  <a:pt x="309" y="91"/>
                  <a:pt x="314" y="64"/>
                  <a:pt x="331" y="44"/>
                </a:cubicBezTo>
                <a:cubicBezTo>
                  <a:pt x="338" y="34"/>
                  <a:pt x="341" y="23"/>
                  <a:pt x="337" y="15"/>
                </a:cubicBezTo>
                <a:cubicBezTo>
                  <a:pt x="333" y="6"/>
                  <a:pt x="323" y="1"/>
                  <a:pt x="309" y="1"/>
                </a:cubicBezTo>
                <a:cubicBezTo>
                  <a:pt x="123" y="1"/>
                  <a:pt x="123" y="1"/>
                  <a:pt x="123" y="1"/>
                </a:cubicBezTo>
                <a:cubicBezTo>
                  <a:pt x="71" y="94"/>
                  <a:pt x="29" y="199"/>
                  <a:pt x="8" y="316"/>
                </a:cubicBezTo>
                <a:cubicBezTo>
                  <a:pt x="5" y="335"/>
                  <a:pt x="2" y="354"/>
                  <a:pt x="0" y="374"/>
                </a:cubicBezTo>
                <a:cubicBezTo>
                  <a:pt x="528" y="374"/>
                  <a:pt x="528" y="374"/>
                  <a:pt x="528" y="374"/>
                </a:cubicBezTo>
                <a:cubicBezTo>
                  <a:pt x="548" y="374"/>
                  <a:pt x="562" y="382"/>
                  <a:pt x="569" y="397"/>
                </a:cubicBezTo>
                <a:cubicBezTo>
                  <a:pt x="575" y="411"/>
                  <a:pt x="572" y="428"/>
                  <a:pt x="560" y="441"/>
                </a:cubicBezTo>
                <a:cubicBezTo>
                  <a:pt x="547" y="458"/>
                  <a:pt x="543" y="479"/>
                  <a:pt x="550" y="496"/>
                </a:cubicBezTo>
                <a:cubicBezTo>
                  <a:pt x="557" y="514"/>
                  <a:pt x="575" y="525"/>
                  <a:pt x="598" y="526"/>
                </a:cubicBezTo>
                <a:cubicBezTo>
                  <a:pt x="620" y="525"/>
                  <a:pt x="638" y="514"/>
                  <a:pt x="645" y="496"/>
                </a:cubicBezTo>
                <a:cubicBezTo>
                  <a:pt x="652" y="478"/>
                  <a:pt x="648" y="457"/>
                  <a:pt x="635" y="441"/>
                </a:cubicBezTo>
                <a:cubicBezTo>
                  <a:pt x="623" y="428"/>
                  <a:pt x="620" y="411"/>
                  <a:pt x="626" y="397"/>
                </a:cubicBezTo>
                <a:cubicBezTo>
                  <a:pt x="632" y="382"/>
                  <a:pt x="647" y="374"/>
                  <a:pt x="666" y="374"/>
                </a:cubicBezTo>
                <a:cubicBezTo>
                  <a:pt x="964" y="374"/>
                  <a:pt x="964" y="374"/>
                  <a:pt x="964" y="374"/>
                </a:cubicBezTo>
                <a:cubicBezTo>
                  <a:pt x="962" y="354"/>
                  <a:pt x="959" y="335"/>
                  <a:pt x="956" y="316"/>
                </a:cubicBezTo>
                <a:cubicBezTo>
                  <a:pt x="935" y="199"/>
                  <a:pt x="893" y="93"/>
                  <a:pt x="841" y="0"/>
                </a:cubicBez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5" name="Freeform 8"/>
          <p:cNvSpPr/>
          <p:nvPr/>
        </p:nvSpPr>
        <p:spPr>
          <a:xfrm rot="2700000">
            <a:off x="1584720" y="3560040"/>
            <a:ext cx="2130480" cy="1217520"/>
          </a:xfrm>
          <a:custGeom>
            <a:avLst/>
            <a:gdLst/>
            <a:ahLst/>
            <a:rect l="l" t="t" r="r" b="b"/>
            <a:pathLst>
              <a:path w="918" h="526">
                <a:moveTo>
                  <a:pt x="716" y="375"/>
                </a:moveTo>
                <a:cubicBezTo>
                  <a:pt x="829" y="375"/>
                  <a:pt x="829" y="375"/>
                  <a:pt x="829" y="375"/>
                </a:cubicBezTo>
                <a:cubicBezTo>
                  <a:pt x="863" y="259"/>
                  <a:pt x="896" y="129"/>
                  <a:pt x="918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53" y="0"/>
                  <a:pt x="343" y="5"/>
                  <a:pt x="339" y="14"/>
                </a:cubicBezTo>
                <a:cubicBezTo>
                  <a:pt x="335" y="23"/>
                  <a:pt x="338" y="34"/>
                  <a:pt x="346" y="43"/>
                </a:cubicBezTo>
                <a:cubicBezTo>
                  <a:pt x="363" y="64"/>
                  <a:pt x="368" y="91"/>
                  <a:pt x="358" y="113"/>
                </a:cubicBezTo>
                <a:cubicBezTo>
                  <a:pt x="349" y="137"/>
                  <a:pt x="327" y="151"/>
                  <a:pt x="298" y="152"/>
                </a:cubicBezTo>
                <a:cubicBezTo>
                  <a:pt x="298" y="152"/>
                  <a:pt x="298" y="152"/>
                  <a:pt x="298" y="152"/>
                </a:cubicBezTo>
                <a:cubicBezTo>
                  <a:pt x="297" y="152"/>
                  <a:pt x="297" y="152"/>
                  <a:pt x="297" y="152"/>
                </a:cubicBezTo>
                <a:cubicBezTo>
                  <a:pt x="269" y="151"/>
                  <a:pt x="247" y="137"/>
                  <a:pt x="237" y="113"/>
                </a:cubicBezTo>
                <a:cubicBezTo>
                  <a:pt x="228" y="90"/>
                  <a:pt x="233" y="64"/>
                  <a:pt x="250" y="43"/>
                </a:cubicBezTo>
                <a:cubicBezTo>
                  <a:pt x="258" y="34"/>
                  <a:pt x="260" y="23"/>
                  <a:pt x="257" y="14"/>
                </a:cubicBezTo>
                <a:cubicBezTo>
                  <a:pt x="253" y="5"/>
                  <a:pt x="243" y="0"/>
                  <a:pt x="229" y="0"/>
                </a:cubicBezTo>
                <a:cubicBezTo>
                  <a:pt x="0" y="0"/>
                  <a:pt x="0" y="0"/>
                  <a:pt x="0" y="0"/>
                </a:cubicBezTo>
                <a:cubicBezTo>
                  <a:pt x="22" y="129"/>
                  <a:pt x="55" y="258"/>
                  <a:pt x="89" y="374"/>
                </a:cubicBezTo>
                <a:cubicBezTo>
                  <a:pt x="578" y="374"/>
                  <a:pt x="578" y="374"/>
                  <a:pt x="578" y="374"/>
                </a:cubicBezTo>
                <a:cubicBezTo>
                  <a:pt x="598" y="374"/>
                  <a:pt x="612" y="382"/>
                  <a:pt x="618" y="397"/>
                </a:cubicBezTo>
                <a:cubicBezTo>
                  <a:pt x="624" y="411"/>
                  <a:pt x="621" y="428"/>
                  <a:pt x="610" y="442"/>
                </a:cubicBezTo>
                <a:cubicBezTo>
                  <a:pt x="596" y="458"/>
                  <a:pt x="592" y="479"/>
                  <a:pt x="599" y="496"/>
                </a:cubicBezTo>
                <a:cubicBezTo>
                  <a:pt x="606" y="514"/>
                  <a:pt x="624" y="525"/>
                  <a:pt x="647" y="526"/>
                </a:cubicBezTo>
                <a:cubicBezTo>
                  <a:pt x="669" y="525"/>
                  <a:pt x="687" y="515"/>
                  <a:pt x="694" y="497"/>
                </a:cubicBezTo>
                <a:cubicBezTo>
                  <a:pt x="701" y="479"/>
                  <a:pt x="698" y="458"/>
                  <a:pt x="684" y="442"/>
                </a:cubicBezTo>
                <a:cubicBezTo>
                  <a:pt x="673" y="428"/>
                  <a:pt x="670" y="411"/>
                  <a:pt x="676" y="397"/>
                </a:cubicBezTo>
                <a:cubicBezTo>
                  <a:pt x="682" y="383"/>
                  <a:pt x="697" y="375"/>
                  <a:pt x="716" y="375"/>
                </a:cubicBezTo>
                <a:close/>
              </a:path>
            </a:pathLst>
          </a:custGeom>
          <a:solidFill>
            <a:srgbClr val="41b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6" name="Freeform 9"/>
          <p:cNvSpPr/>
          <p:nvPr/>
        </p:nvSpPr>
        <p:spPr>
          <a:xfrm rot="2700000">
            <a:off x="2142000" y="2919960"/>
            <a:ext cx="2287800" cy="1222560"/>
          </a:xfrm>
          <a:custGeom>
            <a:avLst/>
            <a:gdLst/>
            <a:ahLst/>
            <a:rect l="l" t="t" r="r" b="b"/>
            <a:pathLst>
              <a:path w="986" h="527">
                <a:moveTo>
                  <a:pt x="650" y="15"/>
                </a:moveTo>
                <a:cubicBezTo>
                  <a:pt x="646" y="23"/>
                  <a:pt x="648" y="35"/>
                  <a:pt x="656" y="44"/>
                </a:cubicBezTo>
                <a:cubicBezTo>
                  <a:pt x="673" y="64"/>
                  <a:pt x="678" y="91"/>
                  <a:pt x="669" y="114"/>
                </a:cubicBezTo>
                <a:cubicBezTo>
                  <a:pt x="659" y="137"/>
                  <a:pt x="637" y="151"/>
                  <a:pt x="609" y="153"/>
                </a:cubicBezTo>
                <a:cubicBezTo>
                  <a:pt x="609" y="153"/>
                  <a:pt x="609" y="153"/>
                  <a:pt x="609" y="153"/>
                </a:cubicBezTo>
                <a:cubicBezTo>
                  <a:pt x="608" y="153"/>
                  <a:pt x="608" y="153"/>
                  <a:pt x="608" y="153"/>
                </a:cubicBezTo>
                <a:cubicBezTo>
                  <a:pt x="580" y="151"/>
                  <a:pt x="558" y="137"/>
                  <a:pt x="548" y="114"/>
                </a:cubicBezTo>
                <a:cubicBezTo>
                  <a:pt x="539" y="91"/>
                  <a:pt x="544" y="64"/>
                  <a:pt x="561" y="44"/>
                </a:cubicBezTo>
                <a:cubicBezTo>
                  <a:pt x="568" y="35"/>
                  <a:pt x="571" y="24"/>
                  <a:pt x="567" y="15"/>
                </a:cubicBezTo>
                <a:cubicBezTo>
                  <a:pt x="563" y="6"/>
                  <a:pt x="553" y="1"/>
                  <a:pt x="539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0" y="115"/>
                  <a:pt x="11" y="244"/>
                  <a:pt x="32" y="374"/>
                </a:cubicBezTo>
                <a:cubicBezTo>
                  <a:pt x="263" y="374"/>
                  <a:pt x="263" y="374"/>
                  <a:pt x="263" y="374"/>
                </a:cubicBezTo>
                <a:cubicBezTo>
                  <a:pt x="282" y="374"/>
                  <a:pt x="297" y="383"/>
                  <a:pt x="303" y="397"/>
                </a:cubicBezTo>
                <a:cubicBezTo>
                  <a:pt x="309" y="411"/>
                  <a:pt x="306" y="428"/>
                  <a:pt x="295" y="442"/>
                </a:cubicBezTo>
                <a:cubicBezTo>
                  <a:pt x="281" y="458"/>
                  <a:pt x="277" y="479"/>
                  <a:pt x="284" y="497"/>
                </a:cubicBezTo>
                <a:cubicBezTo>
                  <a:pt x="292" y="515"/>
                  <a:pt x="309" y="526"/>
                  <a:pt x="332" y="527"/>
                </a:cubicBezTo>
                <a:cubicBezTo>
                  <a:pt x="355" y="526"/>
                  <a:pt x="372" y="515"/>
                  <a:pt x="379" y="497"/>
                </a:cubicBezTo>
                <a:cubicBezTo>
                  <a:pt x="387" y="479"/>
                  <a:pt x="383" y="458"/>
                  <a:pt x="369" y="442"/>
                </a:cubicBezTo>
                <a:cubicBezTo>
                  <a:pt x="358" y="428"/>
                  <a:pt x="354" y="411"/>
                  <a:pt x="361" y="397"/>
                </a:cubicBezTo>
                <a:cubicBezTo>
                  <a:pt x="367" y="383"/>
                  <a:pt x="381" y="375"/>
                  <a:pt x="401" y="375"/>
                </a:cubicBezTo>
                <a:cubicBezTo>
                  <a:pt x="954" y="375"/>
                  <a:pt x="954" y="375"/>
                  <a:pt x="954" y="375"/>
                </a:cubicBezTo>
                <a:cubicBezTo>
                  <a:pt x="976" y="244"/>
                  <a:pt x="986" y="115"/>
                  <a:pt x="976" y="0"/>
                </a:cubicBezTo>
                <a:cubicBezTo>
                  <a:pt x="677" y="0"/>
                  <a:pt x="677" y="0"/>
                  <a:pt x="677" y="0"/>
                </a:cubicBezTo>
                <a:cubicBezTo>
                  <a:pt x="664" y="1"/>
                  <a:pt x="654" y="6"/>
                  <a:pt x="650" y="15"/>
                </a:cubicBezTo>
                <a:close/>
              </a:path>
            </a:pathLst>
          </a:cu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7" name="Freeform 10"/>
          <p:cNvSpPr/>
          <p:nvPr/>
        </p:nvSpPr>
        <p:spPr>
          <a:xfrm rot="2700000">
            <a:off x="3751920" y="1632600"/>
            <a:ext cx="1629000" cy="1239840"/>
          </a:xfrm>
          <a:custGeom>
            <a:avLst/>
            <a:gdLst/>
            <a:ahLst/>
            <a:rect l="l" t="t" r="r" b="b"/>
            <a:pathLst>
              <a:path w="702" h="535">
                <a:moveTo>
                  <a:pt x="178" y="383"/>
                </a:moveTo>
                <a:cubicBezTo>
                  <a:pt x="198" y="383"/>
                  <a:pt x="212" y="391"/>
                  <a:pt x="219" y="406"/>
                </a:cubicBezTo>
                <a:cubicBezTo>
                  <a:pt x="225" y="420"/>
                  <a:pt x="221" y="437"/>
                  <a:pt x="210" y="450"/>
                </a:cubicBezTo>
                <a:cubicBezTo>
                  <a:pt x="197" y="466"/>
                  <a:pt x="193" y="487"/>
                  <a:pt x="200" y="505"/>
                </a:cubicBezTo>
                <a:cubicBezTo>
                  <a:pt x="207" y="523"/>
                  <a:pt x="225" y="534"/>
                  <a:pt x="248" y="535"/>
                </a:cubicBezTo>
                <a:cubicBezTo>
                  <a:pt x="270" y="534"/>
                  <a:pt x="288" y="523"/>
                  <a:pt x="295" y="505"/>
                </a:cubicBezTo>
                <a:cubicBezTo>
                  <a:pt x="302" y="487"/>
                  <a:pt x="298" y="466"/>
                  <a:pt x="285" y="450"/>
                </a:cubicBezTo>
                <a:cubicBezTo>
                  <a:pt x="273" y="437"/>
                  <a:pt x="270" y="419"/>
                  <a:pt x="276" y="405"/>
                </a:cubicBezTo>
                <a:cubicBezTo>
                  <a:pt x="282" y="391"/>
                  <a:pt x="297" y="382"/>
                  <a:pt x="316" y="382"/>
                </a:cubicBezTo>
                <a:cubicBezTo>
                  <a:pt x="702" y="382"/>
                  <a:pt x="702" y="382"/>
                  <a:pt x="702" y="382"/>
                </a:cubicBezTo>
                <a:cubicBezTo>
                  <a:pt x="698" y="375"/>
                  <a:pt x="694" y="369"/>
                  <a:pt x="690" y="362"/>
                </a:cubicBezTo>
                <a:cubicBezTo>
                  <a:pt x="623" y="261"/>
                  <a:pt x="623" y="261"/>
                  <a:pt x="623" y="261"/>
                </a:cubicBezTo>
                <a:cubicBezTo>
                  <a:pt x="543" y="153"/>
                  <a:pt x="456" y="69"/>
                  <a:pt x="392" y="15"/>
                </a:cubicBezTo>
                <a:cubicBezTo>
                  <a:pt x="380" y="5"/>
                  <a:pt x="365" y="0"/>
                  <a:pt x="351" y="0"/>
                </a:cubicBezTo>
                <a:cubicBezTo>
                  <a:pt x="337" y="0"/>
                  <a:pt x="322" y="5"/>
                  <a:pt x="311" y="15"/>
                </a:cubicBezTo>
                <a:cubicBezTo>
                  <a:pt x="246" y="69"/>
                  <a:pt x="159" y="153"/>
                  <a:pt x="79" y="261"/>
                </a:cubicBezTo>
                <a:cubicBezTo>
                  <a:pt x="12" y="362"/>
                  <a:pt x="12" y="362"/>
                  <a:pt x="12" y="362"/>
                </a:cubicBezTo>
                <a:cubicBezTo>
                  <a:pt x="8" y="369"/>
                  <a:pt x="4" y="376"/>
                  <a:pt x="0" y="383"/>
                </a:cubicBezTo>
                <a:lnTo>
                  <a:pt x="178" y="383"/>
                </a:lnTo>
                <a:close/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8" name="Freeform 11"/>
          <p:cNvSpPr/>
          <p:nvPr/>
        </p:nvSpPr>
        <p:spPr>
          <a:xfrm rot="2700000">
            <a:off x="1268640" y="4236120"/>
            <a:ext cx="1697040" cy="927000"/>
          </a:xfrm>
          <a:custGeom>
            <a:avLst/>
            <a:gdLst/>
            <a:ahLst/>
            <a:rect l="l" t="t" r="r" b="b"/>
            <a:pathLst>
              <a:path w="732" h="400">
                <a:moveTo>
                  <a:pt x="623" y="1"/>
                </a:moveTo>
                <a:cubicBezTo>
                  <a:pt x="609" y="1"/>
                  <a:pt x="599" y="6"/>
                  <a:pt x="595" y="15"/>
                </a:cubicBezTo>
                <a:cubicBezTo>
                  <a:pt x="592" y="24"/>
                  <a:pt x="594" y="35"/>
                  <a:pt x="602" y="44"/>
                </a:cubicBezTo>
                <a:cubicBezTo>
                  <a:pt x="619" y="65"/>
                  <a:pt x="623" y="91"/>
                  <a:pt x="614" y="114"/>
                </a:cubicBezTo>
                <a:cubicBezTo>
                  <a:pt x="604" y="138"/>
                  <a:pt x="582" y="152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25" y="152"/>
                  <a:pt x="503" y="137"/>
                  <a:pt x="493" y="114"/>
                </a:cubicBezTo>
                <a:cubicBezTo>
                  <a:pt x="484" y="91"/>
                  <a:pt x="489" y="64"/>
                  <a:pt x="506" y="44"/>
                </a:cubicBezTo>
                <a:cubicBezTo>
                  <a:pt x="514" y="35"/>
                  <a:pt x="516" y="24"/>
                  <a:pt x="513" y="15"/>
                </a:cubicBezTo>
                <a:cubicBezTo>
                  <a:pt x="509" y="6"/>
                  <a:pt x="499" y="1"/>
                  <a:pt x="485" y="1"/>
                </a:cubicBezTo>
                <a:cubicBezTo>
                  <a:pt x="0" y="0"/>
                  <a:pt x="0" y="0"/>
                  <a:pt x="0" y="0"/>
                </a:cubicBezTo>
                <a:cubicBezTo>
                  <a:pt x="47" y="159"/>
                  <a:pt x="96" y="291"/>
                  <a:pt x="122" y="360"/>
                </a:cubicBezTo>
                <a:cubicBezTo>
                  <a:pt x="132" y="384"/>
                  <a:pt x="155" y="400"/>
                  <a:pt x="181" y="400"/>
                </a:cubicBezTo>
                <a:cubicBezTo>
                  <a:pt x="551" y="400"/>
                  <a:pt x="551" y="400"/>
                  <a:pt x="551" y="400"/>
                </a:cubicBezTo>
                <a:cubicBezTo>
                  <a:pt x="577" y="400"/>
                  <a:pt x="600" y="384"/>
                  <a:pt x="610" y="360"/>
                </a:cubicBezTo>
                <a:cubicBezTo>
                  <a:pt x="637" y="291"/>
                  <a:pt x="685" y="159"/>
                  <a:pt x="732" y="1"/>
                </a:cubicBezTo>
                <a:lnTo>
                  <a:pt x="623" y="1"/>
                </a:lnTo>
                <a:close/>
              </a:path>
            </a:pathLst>
          </a:custGeom>
          <a:solidFill>
            <a:srgbClr val="954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9" name="Freeform 12"/>
          <p:cNvSpPr/>
          <p:nvPr/>
        </p:nvSpPr>
        <p:spPr>
          <a:xfrm rot="2700000">
            <a:off x="999720" y="4936680"/>
            <a:ext cx="779760" cy="982800"/>
          </a:xfrm>
          <a:custGeom>
            <a:avLst/>
            <a:gdLst/>
            <a:ahLst/>
            <a:rect l="l" t="t" r="r" b="b"/>
            <a:pathLst>
              <a:path w="336" h="424">
                <a:moveTo>
                  <a:pt x="336" y="168"/>
                </a:moveTo>
                <a:cubicBezTo>
                  <a:pt x="336" y="261"/>
                  <a:pt x="168" y="424"/>
                  <a:pt x="168" y="424"/>
                </a:cubicBezTo>
                <a:cubicBezTo>
                  <a:pt x="168" y="424"/>
                  <a:pt x="0" y="261"/>
                  <a:pt x="0" y="168"/>
                </a:cubicBezTo>
                <a:cubicBezTo>
                  <a:pt x="0" y="75"/>
                  <a:pt x="75" y="0"/>
                  <a:pt x="168" y="0"/>
                </a:cubicBezTo>
                <a:cubicBezTo>
                  <a:pt x="261" y="0"/>
                  <a:pt x="336" y="75"/>
                  <a:pt x="336" y="168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50" name="Freeform 101"/>
          <p:cNvSpPr/>
          <p:nvPr/>
        </p:nvSpPr>
        <p:spPr>
          <a:xfrm>
            <a:off x="1882800" y="4440240"/>
            <a:ext cx="352440" cy="357120"/>
          </a:xfrm>
          <a:custGeom>
            <a:avLst/>
            <a:gdLst/>
            <a:ahLst/>
            <a:rect l="l" t="t" r="r" b="b"/>
            <a:pathLst>
              <a:path w="94" h="95">
                <a:moveTo>
                  <a:pt x="78" y="43"/>
                </a:moveTo>
                <a:cubicBezTo>
                  <a:pt x="26" y="95"/>
                  <a:pt x="26" y="95"/>
                  <a:pt x="26" y="95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69"/>
                  <a:pt x="0" y="69"/>
                  <a:pt x="0" y="69"/>
                </a:cubicBezTo>
                <a:cubicBezTo>
                  <a:pt x="52" y="17"/>
                  <a:pt x="52" y="17"/>
                  <a:pt x="52" y="17"/>
                </a:cubicBezTo>
                <a:lnTo>
                  <a:pt x="78" y="43"/>
                </a:lnTo>
                <a:close/>
                <a:moveTo>
                  <a:pt x="28" y="81"/>
                </a:moveTo>
                <a:cubicBezTo>
                  <a:pt x="13" y="67"/>
                  <a:pt x="13" y="67"/>
                  <a:pt x="13" y="67"/>
                </a:cubicBezTo>
                <a:cubicBezTo>
                  <a:pt x="8" y="72"/>
                  <a:pt x="8" y="72"/>
                  <a:pt x="8" y="72"/>
                </a:cubicBezTo>
                <a:cubicBezTo>
                  <a:pt x="8" y="79"/>
                  <a:pt x="8" y="79"/>
                  <a:pt x="8" y="79"/>
                </a:cubicBezTo>
                <a:cubicBezTo>
                  <a:pt x="16" y="79"/>
                  <a:pt x="16" y="79"/>
                  <a:pt x="16" y="79"/>
                </a:cubicBezTo>
                <a:cubicBezTo>
                  <a:pt x="16" y="87"/>
                  <a:pt x="16" y="87"/>
                  <a:pt x="16" y="87"/>
                </a:cubicBezTo>
                <a:cubicBezTo>
                  <a:pt x="22" y="87"/>
                  <a:pt x="22" y="87"/>
                  <a:pt x="22" y="87"/>
                </a:cubicBezTo>
                <a:lnTo>
                  <a:pt x="28" y="81"/>
                </a:lnTo>
                <a:close/>
                <a:moveTo>
                  <a:pt x="54" y="28"/>
                </a:moveTo>
                <a:cubicBezTo>
                  <a:pt x="53" y="28"/>
                  <a:pt x="53" y="28"/>
                  <a:pt x="53" y="28"/>
                </a:cubicBezTo>
                <a:cubicBezTo>
                  <a:pt x="19" y="62"/>
                  <a:pt x="19" y="62"/>
                  <a:pt x="19" y="62"/>
                </a:cubicBezTo>
                <a:cubicBezTo>
                  <a:pt x="19" y="62"/>
                  <a:pt x="18" y="63"/>
                  <a:pt x="18" y="63"/>
                </a:cubicBezTo>
                <a:cubicBezTo>
                  <a:pt x="18" y="64"/>
                  <a:pt x="19" y="64"/>
                  <a:pt x="20" y="64"/>
                </a:cubicBezTo>
                <a:cubicBezTo>
                  <a:pt x="20" y="64"/>
                  <a:pt x="21" y="64"/>
                  <a:pt x="21" y="64"/>
                </a:cubicBezTo>
                <a:cubicBezTo>
                  <a:pt x="55" y="30"/>
                  <a:pt x="55" y="30"/>
                  <a:pt x="55" y="30"/>
                </a:cubicBezTo>
                <a:cubicBezTo>
                  <a:pt x="55" y="30"/>
                  <a:pt x="55" y="29"/>
                  <a:pt x="55" y="29"/>
                </a:cubicBezTo>
                <a:cubicBezTo>
                  <a:pt x="55" y="28"/>
                  <a:pt x="55" y="28"/>
                  <a:pt x="54" y="28"/>
                </a:cubicBezTo>
                <a:close/>
                <a:moveTo>
                  <a:pt x="92" y="29"/>
                </a:moveTo>
                <a:cubicBezTo>
                  <a:pt x="82" y="39"/>
                  <a:pt x="82" y="39"/>
                  <a:pt x="82" y="39"/>
                </a:cubicBezTo>
                <a:cubicBezTo>
                  <a:pt x="56" y="13"/>
                  <a:pt x="56" y="13"/>
                  <a:pt x="56" y="13"/>
                </a:cubicBezTo>
                <a:cubicBezTo>
                  <a:pt x="66" y="3"/>
                  <a:pt x="66" y="3"/>
                  <a:pt x="66" y="3"/>
                </a:cubicBezTo>
                <a:cubicBezTo>
                  <a:pt x="68" y="1"/>
                  <a:pt x="70" y="0"/>
                  <a:pt x="72" y="0"/>
                </a:cubicBezTo>
                <a:cubicBezTo>
                  <a:pt x="74" y="0"/>
                  <a:pt x="76" y="1"/>
                  <a:pt x="77" y="3"/>
                </a:cubicBezTo>
                <a:cubicBezTo>
                  <a:pt x="92" y="17"/>
                  <a:pt x="92" y="17"/>
                  <a:pt x="92" y="17"/>
                </a:cubicBezTo>
                <a:cubicBezTo>
                  <a:pt x="94" y="19"/>
                  <a:pt x="94" y="21"/>
                  <a:pt x="94" y="23"/>
                </a:cubicBezTo>
                <a:cubicBezTo>
                  <a:pt x="94" y="25"/>
                  <a:pt x="94" y="27"/>
                  <a:pt x="92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51" name="Freeform 126"/>
          <p:cNvSpPr/>
          <p:nvPr/>
        </p:nvSpPr>
        <p:spPr>
          <a:xfrm>
            <a:off x="4370400" y="1998720"/>
            <a:ext cx="450720" cy="412560"/>
          </a:xfrm>
          <a:custGeom>
            <a:avLst/>
            <a:gdLst/>
            <a:ahLst/>
            <a:rect l="l" t="t" r="r" b="b"/>
            <a:pathLst>
              <a:path w="120" h="110">
                <a:moveTo>
                  <a:pt x="80" y="61"/>
                </a:moveTo>
                <a:cubicBezTo>
                  <a:pt x="80" y="62"/>
                  <a:pt x="80" y="63"/>
                  <a:pt x="79" y="63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6"/>
                  <a:pt x="68" y="67"/>
                  <a:pt x="67" y="69"/>
                </a:cubicBezTo>
                <a:cubicBezTo>
                  <a:pt x="69" y="71"/>
                  <a:pt x="71" y="74"/>
                  <a:pt x="73" y="76"/>
                </a:cubicBezTo>
                <a:cubicBezTo>
                  <a:pt x="73" y="77"/>
                  <a:pt x="73" y="77"/>
                  <a:pt x="73" y="77"/>
                </a:cubicBezTo>
                <a:cubicBezTo>
                  <a:pt x="73" y="78"/>
                  <a:pt x="73" y="78"/>
                  <a:pt x="73" y="79"/>
                </a:cubicBezTo>
                <a:cubicBezTo>
                  <a:pt x="71" y="80"/>
                  <a:pt x="64" y="88"/>
                  <a:pt x="63" y="88"/>
                </a:cubicBezTo>
                <a:cubicBezTo>
                  <a:pt x="62" y="88"/>
                  <a:pt x="62" y="88"/>
                  <a:pt x="61" y="87"/>
                </a:cubicBezTo>
                <a:cubicBezTo>
                  <a:pt x="54" y="82"/>
                  <a:pt x="54" y="82"/>
                  <a:pt x="54" y="82"/>
                </a:cubicBezTo>
                <a:cubicBezTo>
                  <a:pt x="53" y="83"/>
                  <a:pt x="51" y="83"/>
                  <a:pt x="49" y="84"/>
                </a:cubicBezTo>
                <a:cubicBezTo>
                  <a:pt x="49" y="87"/>
                  <a:pt x="49" y="90"/>
                  <a:pt x="48" y="93"/>
                </a:cubicBezTo>
                <a:cubicBezTo>
                  <a:pt x="48" y="94"/>
                  <a:pt x="47" y="95"/>
                  <a:pt x="46" y="95"/>
                </a:cubicBezTo>
                <a:cubicBezTo>
                  <a:pt x="34" y="95"/>
                  <a:pt x="34" y="95"/>
                  <a:pt x="34" y="95"/>
                </a:cubicBezTo>
                <a:cubicBezTo>
                  <a:pt x="34" y="95"/>
                  <a:pt x="33" y="94"/>
                  <a:pt x="33" y="93"/>
                </a:cubicBezTo>
                <a:cubicBezTo>
                  <a:pt x="31" y="84"/>
                  <a:pt x="31" y="84"/>
                  <a:pt x="31" y="84"/>
                </a:cubicBezTo>
                <a:cubicBezTo>
                  <a:pt x="29" y="83"/>
                  <a:pt x="28" y="83"/>
                  <a:pt x="26" y="82"/>
                </a:cubicBezTo>
                <a:cubicBezTo>
                  <a:pt x="19" y="87"/>
                  <a:pt x="19" y="87"/>
                  <a:pt x="19" y="87"/>
                </a:cubicBezTo>
                <a:cubicBezTo>
                  <a:pt x="19" y="88"/>
                  <a:pt x="18" y="88"/>
                  <a:pt x="18" y="88"/>
                </a:cubicBezTo>
                <a:cubicBezTo>
                  <a:pt x="17" y="88"/>
                  <a:pt x="17" y="88"/>
                  <a:pt x="16" y="87"/>
                </a:cubicBezTo>
                <a:cubicBezTo>
                  <a:pt x="15" y="86"/>
                  <a:pt x="7" y="79"/>
                  <a:pt x="7" y="77"/>
                </a:cubicBezTo>
                <a:cubicBezTo>
                  <a:pt x="7" y="77"/>
                  <a:pt x="8" y="77"/>
                  <a:pt x="8" y="76"/>
                </a:cubicBezTo>
                <a:cubicBezTo>
                  <a:pt x="10" y="74"/>
                  <a:pt x="12" y="72"/>
                  <a:pt x="13" y="69"/>
                </a:cubicBezTo>
                <a:cubicBezTo>
                  <a:pt x="13" y="67"/>
                  <a:pt x="12" y="66"/>
                  <a:pt x="11" y="64"/>
                </a:cubicBezTo>
                <a:cubicBezTo>
                  <a:pt x="2" y="62"/>
                  <a:pt x="2" y="62"/>
                  <a:pt x="2" y="62"/>
                </a:cubicBezTo>
                <a:cubicBezTo>
                  <a:pt x="1" y="62"/>
                  <a:pt x="0" y="62"/>
                  <a:pt x="0" y="61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48"/>
                  <a:pt x="1" y="47"/>
                  <a:pt x="2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12" y="44"/>
                  <a:pt x="13" y="43"/>
                  <a:pt x="13" y="41"/>
                </a:cubicBezTo>
                <a:cubicBezTo>
                  <a:pt x="12" y="38"/>
                  <a:pt x="10" y="36"/>
                  <a:pt x="8" y="34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2"/>
                  <a:pt x="7" y="32"/>
                  <a:pt x="8" y="31"/>
                </a:cubicBezTo>
                <a:cubicBezTo>
                  <a:pt x="9" y="30"/>
                  <a:pt x="16" y="22"/>
                  <a:pt x="18" y="22"/>
                </a:cubicBezTo>
                <a:cubicBezTo>
                  <a:pt x="18" y="22"/>
                  <a:pt x="19" y="22"/>
                  <a:pt x="19" y="23"/>
                </a:cubicBezTo>
                <a:cubicBezTo>
                  <a:pt x="26" y="28"/>
                  <a:pt x="26" y="28"/>
                  <a:pt x="26" y="28"/>
                </a:cubicBezTo>
                <a:cubicBezTo>
                  <a:pt x="28" y="27"/>
                  <a:pt x="29" y="27"/>
                  <a:pt x="31" y="26"/>
                </a:cubicBezTo>
                <a:cubicBezTo>
                  <a:pt x="31" y="23"/>
                  <a:pt x="32" y="20"/>
                  <a:pt x="33" y="17"/>
                </a:cubicBezTo>
                <a:cubicBezTo>
                  <a:pt x="33" y="16"/>
                  <a:pt x="34" y="15"/>
                  <a:pt x="34" y="15"/>
                </a:cubicBezTo>
                <a:cubicBezTo>
                  <a:pt x="46" y="15"/>
                  <a:pt x="46" y="15"/>
                  <a:pt x="46" y="15"/>
                </a:cubicBezTo>
                <a:cubicBezTo>
                  <a:pt x="47" y="15"/>
                  <a:pt x="48" y="16"/>
                  <a:pt x="48" y="17"/>
                </a:cubicBezTo>
                <a:cubicBezTo>
                  <a:pt x="49" y="26"/>
                  <a:pt x="49" y="26"/>
                  <a:pt x="49" y="26"/>
                </a:cubicBezTo>
                <a:cubicBezTo>
                  <a:pt x="51" y="27"/>
                  <a:pt x="53" y="27"/>
                  <a:pt x="54" y="28"/>
                </a:cubicBezTo>
                <a:cubicBezTo>
                  <a:pt x="61" y="23"/>
                  <a:pt x="61" y="23"/>
                  <a:pt x="61" y="23"/>
                </a:cubicBezTo>
                <a:cubicBezTo>
                  <a:pt x="62" y="22"/>
                  <a:pt x="62" y="22"/>
                  <a:pt x="63" y="22"/>
                </a:cubicBezTo>
                <a:cubicBezTo>
                  <a:pt x="63" y="22"/>
                  <a:pt x="64" y="22"/>
                  <a:pt x="64" y="23"/>
                </a:cubicBezTo>
                <a:cubicBezTo>
                  <a:pt x="66" y="24"/>
                  <a:pt x="73" y="31"/>
                  <a:pt x="73" y="33"/>
                </a:cubicBezTo>
                <a:cubicBezTo>
                  <a:pt x="73" y="33"/>
                  <a:pt x="73" y="33"/>
                  <a:pt x="72" y="34"/>
                </a:cubicBezTo>
                <a:cubicBezTo>
                  <a:pt x="71" y="36"/>
                  <a:pt x="69" y="38"/>
                  <a:pt x="67" y="41"/>
                </a:cubicBezTo>
                <a:cubicBezTo>
                  <a:pt x="68" y="43"/>
                  <a:pt x="69" y="44"/>
                  <a:pt x="69" y="46"/>
                </a:cubicBezTo>
                <a:cubicBezTo>
                  <a:pt x="79" y="47"/>
                  <a:pt x="79" y="47"/>
                  <a:pt x="79" y="47"/>
                </a:cubicBezTo>
                <a:cubicBezTo>
                  <a:pt x="80" y="48"/>
                  <a:pt x="80" y="48"/>
                  <a:pt x="80" y="49"/>
                </a:cubicBezTo>
                <a:lnTo>
                  <a:pt x="80" y="61"/>
                </a:lnTo>
                <a:close/>
                <a:moveTo>
                  <a:pt x="40" y="39"/>
                </a:moveTo>
                <a:cubicBezTo>
                  <a:pt x="31" y="39"/>
                  <a:pt x="24" y="46"/>
                  <a:pt x="24" y="55"/>
                </a:cubicBezTo>
                <a:cubicBezTo>
                  <a:pt x="24" y="64"/>
                  <a:pt x="31" y="71"/>
                  <a:pt x="40" y="71"/>
                </a:cubicBezTo>
                <a:cubicBezTo>
                  <a:pt x="49" y="71"/>
                  <a:pt x="56" y="64"/>
                  <a:pt x="56" y="55"/>
                </a:cubicBezTo>
                <a:cubicBezTo>
                  <a:pt x="56" y="46"/>
                  <a:pt x="49" y="39"/>
                  <a:pt x="40" y="39"/>
                </a:cubicBezTo>
                <a:close/>
                <a:moveTo>
                  <a:pt x="120" y="27"/>
                </a:moveTo>
                <a:cubicBezTo>
                  <a:pt x="120" y="28"/>
                  <a:pt x="112" y="29"/>
                  <a:pt x="111" y="29"/>
                </a:cubicBezTo>
                <a:cubicBezTo>
                  <a:pt x="110" y="31"/>
                  <a:pt x="110" y="32"/>
                  <a:pt x="109" y="33"/>
                </a:cubicBezTo>
                <a:cubicBezTo>
                  <a:pt x="110" y="34"/>
                  <a:pt x="112" y="40"/>
                  <a:pt x="112" y="41"/>
                </a:cubicBezTo>
                <a:cubicBezTo>
                  <a:pt x="112" y="41"/>
                  <a:pt x="112" y="41"/>
                  <a:pt x="112" y="42"/>
                </a:cubicBezTo>
                <a:cubicBezTo>
                  <a:pt x="111" y="42"/>
                  <a:pt x="104" y="46"/>
                  <a:pt x="104" y="46"/>
                </a:cubicBezTo>
                <a:cubicBezTo>
                  <a:pt x="103" y="46"/>
                  <a:pt x="99" y="40"/>
                  <a:pt x="98" y="39"/>
                </a:cubicBezTo>
                <a:cubicBezTo>
                  <a:pt x="97" y="39"/>
                  <a:pt x="97" y="39"/>
                  <a:pt x="96" y="39"/>
                </a:cubicBezTo>
                <a:cubicBezTo>
                  <a:pt x="96" y="39"/>
                  <a:pt x="95" y="39"/>
                  <a:pt x="94" y="39"/>
                </a:cubicBezTo>
                <a:cubicBezTo>
                  <a:pt x="94" y="40"/>
                  <a:pt x="89" y="46"/>
                  <a:pt x="88" y="46"/>
                </a:cubicBezTo>
                <a:cubicBezTo>
                  <a:pt x="88" y="46"/>
                  <a:pt x="81" y="42"/>
                  <a:pt x="80" y="42"/>
                </a:cubicBezTo>
                <a:cubicBezTo>
                  <a:pt x="80" y="41"/>
                  <a:pt x="80" y="41"/>
                  <a:pt x="80" y="41"/>
                </a:cubicBezTo>
                <a:cubicBezTo>
                  <a:pt x="80" y="40"/>
                  <a:pt x="83" y="34"/>
                  <a:pt x="83" y="33"/>
                </a:cubicBezTo>
                <a:cubicBezTo>
                  <a:pt x="83" y="32"/>
                  <a:pt x="82" y="31"/>
                  <a:pt x="81" y="29"/>
                </a:cubicBezTo>
                <a:cubicBezTo>
                  <a:pt x="80" y="29"/>
                  <a:pt x="72" y="28"/>
                  <a:pt x="72" y="27"/>
                </a:cubicBezTo>
                <a:cubicBezTo>
                  <a:pt x="72" y="19"/>
                  <a:pt x="72" y="19"/>
                  <a:pt x="72" y="19"/>
                </a:cubicBezTo>
                <a:cubicBezTo>
                  <a:pt x="72" y="18"/>
                  <a:pt x="80" y="17"/>
                  <a:pt x="81" y="17"/>
                </a:cubicBezTo>
                <a:cubicBezTo>
                  <a:pt x="82" y="16"/>
                  <a:pt x="83" y="14"/>
                  <a:pt x="83" y="13"/>
                </a:cubicBezTo>
                <a:cubicBezTo>
                  <a:pt x="83" y="12"/>
                  <a:pt x="80" y="6"/>
                  <a:pt x="80" y="5"/>
                </a:cubicBezTo>
                <a:cubicBezTo>
                  <a:pt x="80" y="5"/>
                  <a:pt x="80" y="5"/>
                  <a:pt x="80" y="4"/>
                </a:cubicBezTo>
                <a:cubicBezTo>
                  <a:pt x="81" y="4"/>
                  <a:pt x="88" y="0"/>
                  <a:pt x="88" y="0"/>
                </a:cubicBezTo>
                <a:cubicBezTo>
                  <a:pt x="89" y="0"/>
                  <a:pt x="94" y="6"/>
                  <a:pt x="94" y="7"/>
                </a:cubicBezTo>
                <a:cubicBezTo>
                  <a:pt x="95" y="7"/>
                  <a:pt x="96" y="7"/>
                  <a:pt x="96" y="7"/>
                </a:cubicBezTo>
                <a:cubicBezTo>
                  <a:pt x="97" y="7"/>
                  <a:pt x="97" y="7"/>
                  <a:pt x="98" y="7"/>
                </a:cubicBezTo>
                <a:cubicBezTo>
                  <a:pt x="100" y="5"/>
                  <a:pt x="102" y="2"/>
                  <a:pt x="104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0"/>
                  <a:pt x="111" y="4"/>
                  <a:pt x="112" y="4"/>
                </a:cubicBezTo>
                <a:cubicBezTo>
                  <a:pt x="112" y="5"/>
                  <a:pt x="112" y="5"/>
                  <a:pt x="112" y="5"/>
                </a:cubicBezTo>
                <a:cubicBezTo>
                  <a:pt x="112" y="6"/>
                  <a:pt x="110" y="12"/>
                  <a:pt x="109" y="13"/>
                </a:cubicBezTo>
                <a:cubicBezTo>
                  <a:pt x="110" y="14"/>
                  <a:pt x="110" y="16"/>
                  <a:pt x="111" y="17"/>
                </a:cubicBezTo>
                <a:cubicBezTo>
                  <a:pt x="112" y="17"/>
                  <a:pt x="120" y="18"/>
                  <a:pt x="120" y="19"/>
                </a:cubicBezTo>
                <a:lnTo>
                  <a:pt x="120" y="27"/>
                </a:lnTo>
                <a:close/>
                <a:moveTo>
                  <a:pt x="120" y="91"/>
                </a:moveTo>
                <a:cubicBezTo>
                  <a:pt x="120" y="92"/>
                  <a:pt x="112" y="93"/>
                  <a:pt x="111" y="93"/>
                </a:cubicBezTo>
                <a:cubicBezTo>
                  <a:pt x="110" y="94"/>
                  <a:pt x="110" y="96"/>
                  <a:pt x="109" y="97"/>
                </a:cubicBezTo>
                <a:cubicBezTo>
                  <a:pt x="110" y="98"/>
                  <a:pt x="112" y="104"/>
                  <a:pt x="112" y="105"/>
                </a:cubicBezTo>
                <a:cubicBezTo>
                  <a:pt x="112" y="105"/>
                  <a:pt x="112" y="105"/>
                  <a:pt x="112" y="106"/>
                </a:cubicBezTo>
                <a:cubicBezTo>
                  <a:pt x="111" y="106"/>
                  <a:pt x="104" y="110"/>
                  <a:pt x="104" y="110"/>
                </a:cubicBezTo>
                <a:cubicBezTo>
                  <a:pt x="103" y="110"/>
                  <a:pt x="99" y="104"/>
                  <a:pt x="98" y="103"/>
                </a:cubicBezTo>
                <a:cubicBezTo>
                  <a:pt x="97" y="103"/>
                  <a:pt x="97" y="103"/>
                  <a:pt x="96" y="103"/>
                </a:cubicBezTo>
                <a:cubicBezTo>
                  <a:pt x="96" y="103"/>
                  <a:pt x="95" y="103"/>
                  <a:pt x="94" y="103"/>
                </a:cubicBezTo>
                <a:cubicBezTo>
                  <a:pt x="94" y="104"/>
                  <a:pt x="89" y="110"/>
                  <a:pt x="88" y="110"/>
                </a:cubicBezTo>
                <a:cubicBezTo>
                  <a:pt x="88" y="110"/>
                  <a:pt x="81" y="106"/>
                  <a:pt x="80" y="106"/>
                </a:cubicBezTo>
                <a:cubicBezTo>
                  <a:pt x="80" y="105"/>
                  <a:pt x="80" y="105"/>
                  <a:pt x="80" y="105"/>
                </a:cubicBezTo>
                <a:cubicBezTo>
                  <a:pt x="80" y="104"/>
                  <a:pt x="83" y="98"/>
                  <a:pt x="83" y="97"/>
                </a:cubicBezTo>
                <a:cubicBezTo>
                  <a:pt x="83" y="96"/>
                  <a:pt x="82" y="94"/>
                  <a:pt x="81" y="93"/>
                </a:cubicBezTo>
                <a:cubicBezTo>
                  <a:pt x="80" y="93"/>
                  <a:pt x="72" y="92"/>
                  <a:pt x="72" y="91"/>
                </a:cubicBezTo>
                <a:cubicBezTo>
                  <a:pt x="72" y="83"/>
                  <a:pt x="72" y="83"/>
                  <a:pt x="72" y="83"/>
                </a:cubicBezTo>
                <a:cubicBezTo>
                  <a:pt x="72" y="82"/>
                  <a:pt x="80" y="81"/>
                  <a:pt x="81" y="81"/>
                </a:cubicBezTo>
                <a:cubicBezTo>
                  <a:pt x="82" y="80"/>
                  <a:pt x="83" y="78"/>
                  <a:pt x="83" y="77"/>
                </a:cubicBezTo>
                <a:cubicBezTo>
                  <a:pt x="83" y="76"/>
                  <a:pt x="80" y="70"/>
                  <a:pt x="80" y="69"/>
                </a:cubicBezTo>
                <a:cubicBezTo>
                  <a:pt x="80" y="69"/>
                  <a:pt x="80" y="68"/>
                  <a:pt x="80" y="68"/>
                </a:cubicBezTo>
                <a:cubicBezTo>
                  <a:pt x="81" y="68"/>
                  <a:pt x="88" y="64"/>
                  <a:pt x="88" y="64"/>
                </a:cubicBezTo>
                <a:cubicBezTo>
                  <a:pt x="89" y="64"/>
                  <a:pt x="94" y="70"/>
                  <a:pt x="94" y="71"/>
                </a:cubicBezTo>
                <a:cubicBezTo>
                  <a:pt x="95" y="71"/>
                  <a:pt x="96" y="71"/>
                  <a:pt x="96" y="71"/>
                </a:cubicBezTo>
                <a:cubicBezTo>
                  <a:pt x="97" y="71"/>
                  <a:pt x="97" y="71"/>
                  <a:pt x="98" y="71"/>
                </a:cubicBezTo>
                <a:cubicBezTo>
                  <a:pt x="100" y="69"/>
                  <a:pt x="102" y="66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11" y="68"/>
                  <a:pt x="112" y="68"/>
                </a:cubicBezTo>
                <a:cubicBezTo>
                  <a:pt x="112" y="68"/>
                  <a:pt x="112" y="69"/>
                  <a:pt x="112" y="69"/>
                </a:cubicBezTo>
                <a:cubicBezTo>
                  <a:pt x="112" y="70"/>
                  <a:pt x="110" y="76"/>
                  <a:pt x="109" y="77"/>
                </a:cubicBezTo>
                <a:cubicBezTo>
                  <a:pt x="110" y="78"/>
                  <a:pt x="110" y="80"/>
                  <a:pt x="111" y="81"/>
                </a:cubicBezTo>
                <a:cubicBezTo>
                  <a:pt x="112" y="81"/>
                  <a:pt x="120" y="82"/>
                  <a:pt x="120" y="83"/>
                </a:cubicBezTo>
                <a:lnTo>
                  <a:pt x="120" y="91"/>
                </a:lnTo>
                <a:close/>
                <a:moveTo>
                  <a:pt x="96" y="15"/>
                </a:moveTo>
                <a:cubicBezTo>
                  <a:pt x="92" y="15"/>
                  <a:pt x="88" y="19"/>
                  <a:pt x="88" y="23"/>
                </a:cubicBezTo>
                <a:cubicBezTo>
                  <a:pt x="88" y="27"/>
                  <a:pt x="92" y="31"/>
                  <a:pt x="96" y="31"/>
                </a:cubicBezTo>
                <a:cubicBezTo>
                  <a:pt x="101" y="31"/>
                  <a:pt x="104" y="27"/>
                  <a:pt x="104" y="23"/>
                </a:cubicBezTo>
                <a:cubicBezTo>
                  <a:pt x="104" y="19"/>
                  <a:pt x="101" y="15"/>
                  <a:pt x="96" y="15"/>
                </a:cubicBezTo>
                <a:close/>
                <a:moveTo>
                  <a:pt x="96" y="79"/>
                </a:moveTo>
                <a:cubicBezTo>
                  <a:pt x="92" y="79"/>
                  <a:pt x="88" y="83"/>
                  <a:pt x="88" y="87"/>
                </a:cubicBezTo>
                <a:cubicBezTo>
                  <a:pt x="88" y="91"/>
                  <a:pt x="92" y="95"/>
                  <a:pt x="96" y="95"/>
                </a:cubicBezTo>
                <a:cubicBezTo>
                  <a:pt x="101" y="95"/>
                  <a:pt x="104" y="91"/>
                  <a:pt x="104" y="87"/>
                </a:cubicBezTo>
                <a:cubicBezTo>
                  <a:pt x="104" y="83"/>
                  <a:pt x="101" y="79"/>
                  <a:pt x="96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52" name="Freeform 127"/>
          <p:cNvSpPr/>
          <p:nvPr/>
        </p:nvSpPr>
        <p:spPr>
          <a:xfrm>
            <a:off x="4044960" y="2817720"/>
            <a:ext cx="419040" cy="331920"/>
          </a:xfrm>
          <a:custGeom>
            <a:avLst/>
            <a:gdLst/>
            <a:ahLst/>
            <a:rect l="l" t="t" r="r" b="b"/>
            <a:pathLst>
              <a:path w="112" h="88">
                <a:moveTo>
                  <a:pt x="44" y="64"/>
                </a:moveTo>
                <a:cubicBezTo>
                  <a:pt x="40" y="64"/>
                  <a:pt x="36" y="64"/>
                  <a:pt x="33" y="63"/>
                </a:cubicBezTo>
                <a:cubicBezTo>
                  <a:pt x="28" y="67"/>
                  <a:pt x="22" y="69"/>
                  <a:pt x="16" y="71"/>
                </a:cubicBezTo>
                <a:cubicBezTo>
                  <a:pt x="14" y="71"/>
                  <a:pt x="12" y="72"/>
                  <a:pt x="10" y="72"/>
                </a:cubicBezTo>
                <a:cubicBezTo>
                  <a:pt x="10" y="72"/>
                  <a:pt x="10" y="72"/>
                  <a:pt x="10" y="72"/>
                </a:cubicBezTo>
                <a:cubicBezTo>
                  <a:pt x="9" y="72"/>
                  <a:pt x="8" y="71"/>
                  <a:pt x="8" y="70"/>
                </a:cubicBezTo>
                <a:cubicBezTo>
                  <a:pt x="8" y="69"/>
                  <a:pt x="9" y="68"/>
                  <a:pt x="9" y="67"/>
                </a:cubicBezTo>
                <a:cubicBezTo>
                  <a:pt x="12" y="65"/>
                  <a:pt x="15" y="62"/>
                  <a:pt x="17" y="57"/>
                </a:cubicBezTo>
                <a:cubicBezTo>
                  <a:pt x="7" y="51"/>
                  <a:pt x="0" y="42"/>
                  <a:pt x="0" y="32"/>
                </a:cubicBezTo>
                <a:cubicBezTo>
                  <a:pt x="0" y="14"/>
                  <a:pt x="20" y="0"/>
                  <a:pt x="44" y="0"/>
                </a:cubicBezTo>
                <a:cubicBezTo>
                  <a:pt x="68" y="0"/>
                  <a:pt x="88" y="14"/>
                  <a:pt x="88" y="32"/>
                </a:cubicBezTo>
                <a:cubicBezTo>
                  <a:pt x="88" y="50"/>
                  <a:pt x="68" y="64"/>
                  <a:pt x="44" y="64"/>
                </a:cubicBezTo>
                <a:close/>
                <a:moveTo>
                  <a:pt x="95" y="73"/>
                </a:moveTo>
                <a:cubicBezTo>
                  <a:pt x="97" y="78"/>
                  <a:pt x="100" y="81"/>
                  <a:pt x="103" y="83"/>
                </a:cubicBezTo>
                <a:cubicBezTo>
                  <a:pt x="103" y="84"/>
                  <a:pt x="104" y="85"/>
                  <a:pt x="104" y="86"/>
                </a:cubicBezTo>
                <a:cubicBezTo>
                  <a:pt x="104" y="87"/>
                  <a:pt x="103" y="88"/>
                  <a:pt x="102" y="88"/>
                </a:cubicBezTo>
                <a:cubicBezTo>
                  <a:pt x="100" y="88"/>
                  <a:pt x="98" y="87"/>
                  <a:pt x="96" y="87"/>
                </a:cubicBezTo>
                <a:cubicBezTo>
                  <a:pt x="90" y="85"/>
                  <a:pt x="84" y="83"/>
                  <a:pt x="79" y="79"/>
                </a:cubicBezTo>
                <a:cubicBezTo>
                  <a:pt x="75" y="80"/>
                  <a:pt x="72" y="80"/>
                  <a:pt x="68" y="80"/>
                </a:cubicBezTo>
                <a:cubicBezTo>
                  <a:pt x="57" y="80"/>
                  <a:pt x="46" y="77"/>
                  <a:pt x="38" y="72"/>
                </a:cubicBezTo>
                <a:cubicBezTo>
                  <a:pt x="40" y="72"/>
                  <a:pt x="42" y="72"/>
                  <a:pt x="44" y="72"/>
                </a:cubicBezTo>
                <a:cubicBezTo>
                  <a:pt x="57" y="72"/>
                  <a:pt x="70" y="68"/>
                  <a:pt x="80" y="61"/>
                </a:cubicBezTo>
                <a:cubicBezTo>
                  <a:pt x="90" y="53"/>
                  <a:pt x="96" y="43"/>
                  <a:pt x="96" y="32"/>
                </a:cubicBezTo>
                <a:cubicBezTo>
                  <a:pt x="96" y="29"/>
                  <a:pt x="95" y="26"/>
                  <a:pt x="95" y="22"/>
                </a:cubicBezTo>
                <a:cubicBezTo>
                  <a:pt x="105" y="28"/>
                  <a:pt x="112" y="38"/>
                  <a:pt x="112" y="48"/>
                </a:cubicBezTo>
                <a:cubicBezTo>
                  <a:pt x="112" y="58"/>
                  <a:pt x="105" y="67"/>
                  <a:pt x="95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53" name="Freeform 133"/>
          <p:cNvSpPr/>
          <p:nvPr/>
        </p:nvSpPr>
        <p:spPr>
          <a:xfrm>
            <a:off x="2774880" y="3959280"/>
            <a:ext cx="271440" cy="390600"/>
          </a:xfrm>
          <a:custGeom>
            <a:avLst/>
            <a:gdLst/>
            <a:ahLst/>
            <a:rect l="l" t="t" r="r" b="b"/>
            <a:pathLst>
              <a:path w="72" h="104">
                <a:moveTo>
                  <a:pt x="68" y="72"/>
                </a:moveTo>
                <a:cubicBezTo>
                  <a:pt x="41" y="72"/>
                  <a:pt x="41" y="72"/>
                  <a:pt x="41" y="72"/>
                </a:cubicBezTo>
                <a:cubicBezTo>
                  <a:pt x="38" y="102"/>
                  <a:pt x="38" y="102"/>
                  <a:pt x="38" y="102"/>
                </a:cubicBezTo>
                <a:cubicBezTo>
                  <a:pt x="38" y="103"/>
                  <a:pt x="37" y="104"/>
                  <a:pt x="36" y="104"/>
                </a:cubicBezTo>
                <a:cubicBezTo>
                  <a:pt x="36" y="104"/>
                  <a:pt x="36" y="104"/>
                  <a:pt x="36" y="104"/>
                </a:cubicBezTo>
                <a:cubicBezTo>
                  <a:pt x="35" y="104"/>
                  <a:pt x="34" y="103"/>
                  <a:pt x="34" y="102"/>
                </a:cubicBezTo>
                <a:cubicBezTo>
                  <a:pt x="29" y="72"/>
                  <a:pt x="29" y="72"/>
                  <a:pt x="29" y="72"/>
                </a:cubicBezTo>
                <a:cubicBezTo>
                  <a:pt x="4" y="72"/>
                  <a:pt x="4" y="72"/>
                  <a:pt x="4" y="72"/>
                </a:cubicBezTo>
                <a:cubicBezTo>
                  <a:pt x="2" y="72"/>
                  <a:pt x="0" y="70"/>
                  <a:pt x="0" y="68"/>
                </a:cubicBezTo>
                <a:cubicBezTo>
                  <a:pt x="0" y="58"/>
                  <a:pt x="8" y="48"/>
                  <a:pt x="16" y="48"/>
                </a:cubicBezTo>
                <a:cubicBezTo>
                  <a:pt x="16" y="16"/>
                  <a:pt x="16" y="16"/>
                  <a:pt x="16" y="16"/>
                </a:cubicBezTo>
                <a:cubicBezTo>
                  <a:pt x="11" y="16"/>
                  <a:pt x="8" y="12"/>
                  <a:pt x="8" y="8"/>
                </a:cubicBezTo>
                <a:cubicBezTo>
                  <a:pt x="8" y="3"/>
                  <a:pt x="11" y="0"/>
                  <a:pt x="16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60" y="0"/>
                  <a:pt x="64" y="3"/>
                  <a:pt x="64" y="8"/>
                </a:cubicBezTo>
                <a:cubicBezTo>
                  <a:pt x="64" y="12"/>
                  <a:pt x="60" y="16"/>
                  <a:pt x="56" y="16"/>
                </a:cubicBezTo>
                <a:cubicBezTo>
                  <a:pt x="56" y="48"/>
                  <a:pt x="56" y="48"/>
                  <a:pt x="56" y="48"/>
                </a:cubicBezTo>
                <a:cubicBezTo>
                  <a:pt x="64" y="48"/>
                  <a:pt x="72" y="58"/>
                  <a:pt x="72" y="68"/>
                </a:cubicBezTo>
                <a:cubicBezTo>
                  <a:pt x="72" y="70"/>
                  <a:pt x="70" y="72"/>
                  <a:pt x="68" y="72"/>
                </a:cubicBezTo>
                <a:close/>
                <a:moveTo>
                  <a:pt x="30" y="18"/>
                </a:moveTo>
                <a:cubicBezTo>
                  <a:pt x="30" y="17"/>
                  <a:pt x="29" y="16"/>
                  <a:pt x="28" y="16"/>
                </a:cubicBezTo>
                <a:cubicBezTo>
                  <a:pt x="27" y="16"/>
                  <a:pt x="26" y="17"/>
                  <a:pt x="26" y="18"/>
                </a:cubicBezTo>
                <a:cubicBezTo>
                  <a:pt x="26" y="46"/>
                  <a:pt x="26" y="46"/>
                  <a:pt x="26" y="46"/>
                </a:cubicBezTo>
                <a:cubicBezTo>
                  <a:pt x="26" y="47"/>
                  <a:pt x="27" y="48"/>
                  <a:pt x="28" y="48"/>
                </a:cubicBezTo>
                <a:cubicBezTo>
                  <a:pt x="29" y="48"/>
                  <a:pt x="30" y="47"/>
                  <a:pt x="30" y="46"/>
                </a:cubicBezTo>
                <a:lnTo>
                  <a:pt x="30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54" name="Freeform 149"/>
          <p:cNvSpPr/>
          <p:nvPr/>
        </p:nvSpPr>
        <p:spPr>
          <a:xfrm>
            <a:off x="3006720" y="3006720"/>
            <a:ext cx="420840" cy="363600"/>
          </a:xfrm>
          <a:custGeom>
            <a:avLst/>
            <a:gdLst/>
            <a:ahLst/>
            <a:rect l="l" t="t" r="r" b="b"/>
            <a:pathLst>
              <a:path w="112" h="97">
                <a:moveTo>
                  <a:pt x="112" y="40"/>
                </a:moveTo>
                <a:cubicBezTo>
                  <a:pt x="112" y="44"/>
                  <a:pt x="108" y="48"/>
                  <a:pt x="104" y="48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104" y="76"/>
                  <a:pt x="100" y="80"/>
                  <a:pt x="96" y="80"/>
                </a:cubicBezTo>
                <a:cubicBezTo>
                  <a:pt x="84" y="70"/>
                  <a:pt x="67" y="58"/>
                  <a:pt x="45" y="56"/>
                </a:cubicBezTo>
                <a:cubicBezTo>
                  <a:pt x="37" y="58"/>
                  <a:pt x="35" y="67"/>
                  <a:pt x="40" y="72"/>
                </a:cubicBezTo>
                <a:cubicBezTo>
                  <a:pt x="35" y="79"/>
                  <a:pt x="41" y="84"/>
                  <a:pt x="48" y="89"/>
                </a:cubicBezTo>
                <a:cubicBezTo>
                  <a:pt x="44" y="97"/>
                  <a:pt x="28" y="97"/>
                  <a:pt x="22" y="92"/>
                </a:cubicBezTo>
                <a:cubicBezTo>
                  <a:pt x="18" y="81"/>
                  <a:pt x="13" y="70"/>
                  <a:pt x="17" y="56"/>
                </a:cubicBezTo>
                <a:cubicBezTo>
                  <a:pt x="10" y="56"/>
                  <a:pt x="10" y="56"/>
                  <a:pt x="10" y="56"/>
                </a:cubicBezTo>
                <a:cubicBezTo>
                  <a:pt x="4" y="56"/>
                  <a:pt x="0" y="51"/>
                  <a:pt x="0" y="46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28"/>
                  <a:pt x="4" y="24"/>
                  <a:pt x="10" y="24"/>
                </a:cubicBezTo>
                <a:cubicBezTo>
                  <a:pt x="40" y="24"/>
                  <a:pt x="40" y="24"/>
                  <a:pt x="40" y="24"/>
                </a:cubicBezTo>
                <a:cubicBezTo>
                  <a:pt x="64" y="24"/>
                  <a:pt x="84" y="10"/>
                  <a:pt x="96" y="0"/>
                </a:cubicBezTo>
                <a:cubicBezTo>
                  <a:pt x="100" y="0"/>
                  <a:pt x="104" y="3"/>
                  <a:pt x="104" y="8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8" y="32"/>
                  <a:pt x="112" y="35"/>
                  <a:pt x="112" y="40"/>
                </a:cubicBezTo>
                <a:close/>
                <a:moveTo>
                  <a:pt x="96" y="10"/>
                </a:moveTo>
                <a:cubicBezTo>
                  <a:pt x="79" y="22"/>
                  <a:pt x="63" y="29"/>
                  <a:pt x="48" y="31"/>
                </a:cubicBezTo>
                <a:cubicBezTo>
                  <a:pt x="48" y="48"/>
                  <a:pt x="48" y="48"/>
                  <a:pt x="48" y="48"/>
                </a:cubicBezTo>
                <a:cubicBezTo>
                  <a:pt x="63" y="50"/>
                  <a:pt x="79" y="57"/>
                  <a:pt x="96" y="69"/>
                </a:cubicBezTo>
                <a:lnTo>
                  <a:pt x="96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455" name="Group 94"/>
          <p:cNvGrpSpPr/>
          <p:nvPr/>
        </p:nvGrpSpPr>
        <p:grpSpPr>
          <a:xfrm>
            <a:off x="5851440" y="3947400"/>
            <a:ext cx="4222800" cy="150840"/>
            <a:chOff x="5851440" y="3947400"/>
            <a:chExt cx="4222800" cy="150840"/>
          </a:xfrm>
        </p:grpSpPr>
        <p:sp>
          <p:nvSpPr>
            <p:cNvPr id="456" name="Flowchart: Data 12"/>
            <p:cNvSpPr/>
            <p:nvPr/>
          </p:nvSpPr>
          <p:spPr>
            <a:xfrm flipH="1" flipV="1" rot="10800000">
              <a:off x="9691920" y="394704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57" name="Flowchart: Data 13"/>
            <p:cNvSpPr/>
            <p:nvPr/>
          </p:nvSpPr>
          <p:spPr>
            <a:xfrm flipH="1" flipV="1" rot="10800000">
              <a:off x="9309240" y="394704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58" name="Flowchart: Data 14"/>
            <p:cNvSpPr/>
            <p:nvPr/>
          </p:nvSpPr>
          <p:spPr>
            <a:xfrm flipH="1" flipV="1" rot="10800000">
              <a:off x="8912160" y="394704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59" name="Flowchart: Data 15"/>
            <p:cNvSpPr/>
            <p:nvPr/>
          </p:nvSpPr>
          <p:spPr>
            <a:xfrm flipH="1" flipV="1" rot="10800000">
              <a:off x="8529480" y="394704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60" name="Flowchart: Data 16"/>
            <p:cNvSpPr/>
            <p:nvPr/>
          </p:nvSpPr>
          <p:spPr>
            <a:xfrm flipH="1" flipV="1" rot="10800000">
              <a:off x="8147160" y="394704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61" name="Flowchart: Data 17"/>
            <p:cNvSpPr/>
            <p:nvPr/>
          </p:nvSpPr>
          <p:spPr>
            <a:xfrm flipH="1" flipV="1" rot="10800000">
              <a:off x="7764480" y="394704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62" name="Flowchart: Data 18"/>
            <p:cNvSpPr/>
            <p:nvPr/>
          </p:nvSpPr>
          <p:spPr>
            <a:xfrm flipH="1" flipV="1" rot="10800000">
              <a:off x="7381800" y="394704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63" name="Flowchart: Data 19"/>
            <p:cNvSpPr/>
            <p:nvPr/>
          </p:nvSpPr>
          <p:spPr>
            <a:xfrm flipH="1" flipV="1" rot="10800000">
              <a:off x="6999120" y="394704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64" name="Flowchart: Data 20"/>
            <p:cNvSpPr/>
            <p:nvPr/>
          </p:nvSpPr>
          <p:spPr>
            <a:xfrm flipH="1" flipV="1" rot="10800000">
              <a:off x="6616440" y="394704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65" name="Flowchart: Data 21"/>
            <p:cNvSpPr/>
            <p:nvPr/>
          </p:nvSpPr>
          <p:spPr>
            <a:xfrm flipH="1" flipV="1" rot="10800000">
              <a:off x="6233760" y="394704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66" name="Flowchart: Data 22"/>
            <p:cNvSpPr/>
            <p:nvPr/>
          </p:nvSpPr>
          <p:spPr>
            <a:xfrm flipH="1" flipV="1" rot="10800000">
              <a:off x="5851440" y="394704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467" name="TextBox 106"/>
          <p:cNvSpPr/>
          <p:nvPr/>
        </p:nvSpPr>
        <p:spPr>
          <a:xfrm>
            <a:off x="5733000" y="352440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468" name="Group 14"/>
          <p:cNvGrpSpPr/>
          <p:nvPr/>
        </p:nvGrpSpPr>
        <p:grpSpPr>
          <a:xfrm>
            <a:off x="5851440" y="4818960"/>
            <a:ext cx="4222800" cy="152280"/>
            <a:chOff x="5851440" y="4818960"/>
            <a:chExt cx="4222800" cy="152280"/>
          </a:xfrm>
        </p:grpSpPr>
        <p:sp>
          <p:nvSpPr>
            <p:cNvPr id="469" name="Flowchart: Data 25"/>
            <p:cNvSpPr/>
            <p:nvPr/>
          </p:nvSpPr>
          <p:spPr>
            <a:xfrm flipH="1" flipV="1" rot="10800000">
              <a:off x="9691920" y="4818600"/>
              <a:ext cx="382320" cy="15228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70" name="Flowchart: Data 27"/>
            <p:cNvSpPr/>
            <p:nvPr/>
          </p:nvSpPr>
          <p:spPr>
            <a:xfrm flipH="1" flipV="1" rot="10800000">
              <a:off x="9309240" y="4818600"/>
              <a:ext cx="382320" cy="15228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71" name="Flowchart: Data 28"/>
            <p:cNvSpPr/>
            <p:nvPr/>
          </p:nvSpPr>
          <p:spPr>
            <a:xfrm flipH="1" flipV="1" rot="10800000">
              <a:off x="8912160" y="4818600"/>
              <a:ext cx="382320" cy="15228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72" name="Flowchart: Data 35"/>
            <p:cNvSpPr/>
            <p:nvPr/>
          </p:nvSpPr>
          <p:spPr>
            <a:xfrm flipH="1" flipV="1" rot="10800000">
              <a:off x="8529480" y="4818600"/>
              <a:ext cx="382320" cy="15228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41b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73" name="Flowchart: Data 36"/>
            <p:cNvSpPr/>
            <p:nvPr/>
          </p:nvSpPr>
          <p:spPr>
            <a:xfrm flipH="1" flipV="1" rot="10800000">
              <a:off x="8147160" y="4818600"/>
              <a:ext cx="382320" cy="15228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41b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74" name="Flowchart: Data 37"/>
            <p:cNvSpPr/>
            <p:nvPr/>
          </p:nvSpPr>
          <p:spPr>
            <a:xfrm flipH="1" flipV="1" rot="10800000">
              <a:off x="7764480" y="4818600"/>
              <a:ext cx="382320" cy="15228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41b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75" name="Flowchart: Data 38"/>
            <p:cNvSpPr/>
            <p:nvPr/>
          </p:nvSpPr>
          <p:spPr>
            <a:xfrm flipH="1" flipV="1" rot="10800000">
              <a:off x="7381800" y="4818600"/>
              <a:ext cx="382320" cy="15228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41b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76" name="Flowchart: Data 39"/>
            <p:cNvSpPr/>
            <p:nvPr/>
          </p:nvSpPr>
          <p:spPr>
            <a:xfrm flipH="1" flipV="1" rot="10800000">
              <a:off x="6999120" y="4818600"/>
              <a:ext cx="382320" cy="15228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41b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77" name="Flowchart: Data 40"/>
            <p:cNvSpPr/>
            <p:nvPr/>
          </p:nvSpPr>
          <p:spPr>
            <a:xfrm flipH="1" flipV="1" rot="10800000">
              <a:off x="6616440" y="4818600"/>
              <a:ext cx="382320" cy="15228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41b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78" name="Flowchart: Data 41"/>
            <p:cNvSpPr/>
            <p:nvPr/>
          </p:nvSpPr>
          <p:spPr>
            <a:xfrm flipH="1" flipV="1" rot="10800000">
              <a:off x="6233760" y="4818600"/>
              <a:ext cx="382320" cy="15228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41b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79" name="Flowchart: Data 42"/>
            <p:cNvSpPr/>
            <p:nvPr/>
          </p:nvSpPr>
          <p:spPr>
            <a:xfrm flipH="1" flipV="1" rot="10800000">
              <a:off x="5851440" y="4818600"/>
              <a:ext cx="382320" cy="15228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41b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480" name="TextBox 119"/>
          <p:cNvSpPr/>
          <p:nvPr/>
        </p:nvSpPr>
        <p:spPr>
          <a:xfrm>
            <a:off x="5733000" y="439884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481" name="Group 15"/>
          <p:cNvGrpSpPr/>
          <p:nvPr/>
        </p:nvGrpSpPr>
        <p:grpSpPr>
          <a:xfrm>
            <a:off x="5851440" y="5685840"/>
            <a:ext cx="4222800" cy="150840"/>
            <a:chOff x="5851440" y="5685840"/>
            <a:chExt cx="4222800" cy="150840"/>
          </a:xfrm>
        </p:grpSpPr>
        <p:sp>
          <p:nvSpPr>
            <p:cNvPr id="482" name="Flowchart: Data 45"/>
            <p:cNvSpPr/>
            <p:nvPr/>
          </p:nvSpPr>
          <p:spPr>
            <a:xfrm flipH="1" flipV="1" rot="10800000">
              <a:off x="9691920" y="568548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83" name="Flowchart: Data 46"/>
            <p:cNvSpPr/>
            <p:nvPr/>
          </p:nvSpPr>
          <p:spPr>
            <a:xfrm flipH="1" flipV="1" rot="10800000">
              <a:off x="9309240" y="568548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84" name="Flowchart: Data 47"/>
            <p:cNvSpPr/>
            <p:nvPr/>
          </p:nvSpPr>
          <p:spPr>
            <a:xfrm flipH="1" flipV="1" rot="10800000">
              <a:off x="8912160" y="568548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85" name="Flowchart: Data 48"/>
            <p:cNvSpPr/>
            <p:nvPr/>
          </p:nvSpPr>
          <p:spPr>
            <a:xfrm flipH="1" flipV="1" rot="10800000">
              <a:off x="8529480" y="568548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86" name="Flowchart: Data 49"/>
            <p:cNvSpPr/>
            <p:nvPr/>
          </p:nvSpPr>
          <p:spPr>
            <a:xfrm flipH="1" flipV="1" rot="10800000">
              <a:off x="8147160" y="568548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954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87" name="Flowchart: Data 50"/>
            <p:cNvSpPr/>
            <p:nvPr/>
          </p:nvSpPr>
          <p:spPr>
            <a:xfrm flipH="1" flipV="1" rot="10800000">
              <a:off x="7764480" y="568548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954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88" name="Flowchart: Data 51"/>
            <p:cNvSpPr/>
            <p:nvPr/>
          </p:nvSpPr>
          <p:spPr>
            <a:xfrm flipH="1" flipV="1" rot="10800000">
              <a:off x="7381800" y="568548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954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89" name="Flowchart: Data 52"/>
            <p:cNvSpPr/>
            <p:nvPr/>
          </p:nvSpPr>
          <p:spPr>
            <a:xfrm flipH="1" flipV="1" rot="10800000">
              <a:off x="6999120" y="568548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954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90" name="Flowchart: Data 53"/>
            <p:cNvSpPr/>
            <p:nvPr/>
          </p:nvSpPr>
          <p:spPr>
            <a:xfrm flipH="1" flipV="1" rot="10800000">
              <a:off x="6616440" y="568548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954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91" name="Flowchart: Data 54"/>
            <p:cNvSpPr/>
            <p:nvPr/>
          </p:nvSpPr>
          <p:spPr>
            <a:xfrm flipH="1" flipV="1" rot="10800000">
              <a:off x="6233760" y="568548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954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92" name="Flowchart: Data 55"/>
            <p:cNvSpPr/>
            <p:nvPr/>
          </p:nvSpPr>
          <p:spPr>
            <a:xfrm flipH="1" flipV="1" rot="10800000">
              <a:off x="5851440" y="568548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954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493" name="TextBox 132"/>
          <p:cNvSpPr/>
          <p:nvPr/>
        </p:nvSpPr>
        <p:spPr>
          <a:xfrm>
            <a:off x="5733000" y="526572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94" name="TextBox 133"/>
          <p:cNvSpPr/>
          <p:nvPr/>
        </p:nvSpPr>
        <p:spPr>
          <a:xfrm>
            <a:off x="5733000" y="178272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495" name="Group 4"/>
          <p:cNvGrpSpPr/>
          <p:nvPr/>
        </p:nvGrpSpPr>
        <p:grpSpPr>
          <a:xfrm>
            <a:off x="5851440" y="2204280"/>
            <a:ext cx="4222800" cy="152280"/>
            <a:chOff x="5851440" y="2204280"/>
            <a:chExt cx="4222800" cy="152280"/>
          </a:xfrm>
        </p:grpSpPr>
        <p:sp>
          <p:nvSpPr>
            <p:cNvPr id="496" name="Flowchart: Data 59"/>
            <p:cNvSpPr/>
            <p:nvPr/>
          </p:nvSpPr>
          <p:spPr>
            <a:xfrm flipH="1" flipV="1" rot="10800000">
              <a:off x="9691920" y="2203920"/>
              <a:ext cx="382320" cy="15228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97" name="Flowchart: Data 60"/>
            <p:cNvSpPr/>
            <p:nvPr/>
          </p:nvSpPr>
          <p:spPr>
            <a:xfrm flipH="1" flipV="1" rot="10800000">
              <a:off x="9309240" y="2203920"/>
              <a:ext cx="382320" cy="15228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98" name="Flowchart: Data 61"/>
            <p:cNvSpPr/>
            <p:nvPr/>
          </p:nvSpPr>
          <p:spPr>
            <a:xfrm flipH="1" flipV="1" rot="10800000">
              <a:off x="8912160" y="2203920"/>
              <a:ext cx="382320" cy="15228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99" name="Flowchart: Data 62"/>
            <p:cNvSpPr/>
            <p:nvPr/>
          </p:nvSpPr>
          <p:spPr>
            <a:xfrm flipH="1" flipV="1" rot="10800000">
              <a:off x="8529480" y="2203920"/>
              <a:ext cx="382320" cy="15228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500" name="Flowchart: Data 63"/>
            <p:cNvSpPr/>
            <p:nvPr/>
          </p:nvSpPr>
          <p:spPr>
            <a:xfrm flipH="1" flipV="1" rot="10800000">
              <a:off x="8147160" y="2203920"/>
              <a:ext cx="382320" cy="15228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501" name="Flowchart: Data 64"/>
            <p:cNvSpPr/>
            <p:nvPr/>
          </p:nvSpPr>
          <p:spPr>
            <a:xfrm flipH="1" flipV="1" rot="10800000">
              <a:off x="7764480" y="2203920"/>
              <a:ext cx="382320" cy="15228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502" name="Flowchart: Data 65"/>
            <p:cNvSpPr/>
            <p:nvPr/>
          </p:nvSpPr>
          <p:spPr>
            <a:xfrm flipH="1" flipV="1" rot="10800000">
              <a:off x="7381800" y="2203920"/>
              <a:ext cx="382320" cy="15228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503" name="Flowchart: Data 66"/>
            <p:cNvSpPr/>
            <p:nvPr/>
          </p:nvSpPr>
          <p:spPr>
            <a:xfrm flipH="1" flipV="1" rot="10800000">
              <a:off x="6999120" y="2203920"/>
              <a:ext cx="382320" cy="15228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504" name="Flowchart: Data 67"/>
            <p:cNvSpPr/>
            <p:nvPr/>
          </p:nvSpPr>
          <p:spPr>
            <a:xfrm flipH="1" flipV="1" rot="10800000">
              <a:off x="6616440" y="2203920"/>
              <a:ext cx="382320" cy="15228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505" name="Flowchart: Data 68"/>
            <p:cNvSpPr/>
            <p:nvPr/>
          </p:nvSpPr>
          <p:spPr>
            <a:xfrm flipH="1" flipV="1" rot="10800000">
              <a:off x="6233760" y="2203920"/>
              <a:ext cx="382320" cy="15228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506" name="Flowchart: Data 69"/>
            <p:cNvSpPr/>
            <p:nvPr/>
          </p:nvSpPr>
          <p:spPr>
            <a:xfrm flipH="1" flipV="1" rot="10800000">
              <a:off x="5851440" y="2203920"/>
              <a:ext cx="382320" cy="15228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507" name="TextBox 146"/>
          <p:cNvSpPr/>
          <p:nvPr/>
        </p:nvSpPr>
        <p:spPr>
          <a:xfrm>
            <a:off x="5733000" y="264636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508" name="Group 5"/>
          <p:cNvGrpSpPr/>
          <p:nvPr/>
        </p:nvGrpSpPr>
        <p:grpSpPr>
          <a:xfrm>
            <a:off x="5851440" y="3069360"/>
            <a:ext cx="4222800" cy="150840"/>
            <a:chOff x="5851440" y="3069360"/>
            <a:chExt cx="4222800" cy="150840"/>
          </a:xfrm>
        </p:grpSpPr>
        <p:sp>
          <p:nvSpPr>
            <p:cNvPr id="509" name="Flowchart: Data 72"/>
            <p:cNvSpPr/>
            <p:nvPr/>
          </p:nvSpPr>
          <p:spPr>
            <a:xfrm flipH="1" flipV="1" rot="10800000">
              <a:off x="9691920" y="306900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510" name="Flowchart: Data 73"/>
            <p:cNvSpPr/>
            <p:nvPr/>
          </p:nvSpPr>
          <p:spPr>
            <a:xfrm flipH="1" flipV="1" rot="10800000">
              <a:off x="9309240" y="306900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511" name="Flowchart: Data 74"/>
            <p:cNvSpPr/>
            <p:nvPr/>
          </p:nvSpPr>
          <p:spPr>
            <a:xfrm flipH="1" flipV="1" rot="10800000">
              <a:off x="8912160" y="306900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512" name="Flowchart: Data 75"/>
            <p:cNvSpPr/>
            <p:nvPr/>
          </p:nvSpPr>
          <p:spPr>
            <a:xfrm flipH="1" flipV="1" rot="10800000">
              <a:off x="8529480" y="306900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513" name="Flowchart: Data 76"/>
            <p:cNvSpPr/>
            <p:nvPr/>
          </p:nvSpPr>
          <p:spPr>
            <a:xfrm flipH="1" flipV="1" rot="10800000">
              <a:off x="8147160" y="306900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514" name="Flowchart: Data 77"/>
            <p:cNvSpPr/>
            <p:nvPr/>
          </p:nvSpPr>
          <p:spPr>
            <a:xfrm flipH="1" flipV="1" rot="10800000">
              <a:off x="7764480" y="306900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515" name="Flowchart: Data 78"/>
            <p:cNvSpPr/>
            <p:nvPr/>
          </p:nvSpPr>
          <p:spPr>
            <a:xfrm flipH="1" flipV="1" rot="10800000">
              <a:off x="7381800" y="306900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516" name="Flowchart: Data 79"/>
            <p:cNvSpPr/>
            <p:nvPr/>
          </p:nvSpPr>
          <p:spPr>
            <a:xfrm flipH="1" flipV="1" rot="10800000">
              <a:off x="6999120" y="306900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517" name="Flowchart: Data 80"/>
            <p:cNvSpPr/>
            <p:nvPr/>
          </p:nvSpPr>
          <p:spPr>
            <a:xfrm flipH="1" flipV="1" rot="10800000">
              <a:off x="6616440" y="306900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518" name="Flowchart: Data 81"/>
            <p:cNvSpPr/>
            <p:nvPr/>
          </p:nvSpPr>
          <p:spPr>
            <a:xfrm flipH="1" flipV="1" rot="10800000">
              <a:off x="6233760" y="306900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519" name="Flowchart: Data 82"/>
            <p:cNvSpPr/>
            <p:nvPr/>
          </p:nvSpPr>
          <p:spPr>
            <a:xfrm flipH="1" flipV="1" rot="10800000">
              <a:off x="5851440" y="3069000"/>
              <a:ext cx="382320" cy="150840"/>
            </a:xfrm>
            <a:custGeom>
              <a:avLst/>
              <a:gdLst>
                <a:gd name="textAreaLeft" fmla="*/ 360 w 382320"/>
                <a:gd name="textAreaRight" fmla="*/ 383040 w 382320"/>
                <a:gd name="textAreaTop" fmla="*/ -36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5" y="0"/>
                  </a:lnTo>
                  <a:lnTo>
                    <a:pt x="21600" y="10800"/>
                  </a:lnTo>
                  <a:lnTo>
                    <a:pt x="17305" y="21600"/>
                  </a:lnTo>
                  <a:lnTo>
                    <a:pt x="0" y="21600"/>
                  </a:lnTo>
                  <a:lnTo>
                    <a:pt x="4295" y="1080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520" name="TextBox 159"/>
          <p:cNvSpPr/>
          <p:nvPr/>
        </p:nvSpPr>
        <p:spPr>
          <a:xfrm>
            <a:off x="10250640" y="212076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2980b9"/>
                </a:solidFill>
                <a:latin typeface="Poppins"/>
              </a:rPr>
              <a:t>$620M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1" name="TextBox 160"/>
          <p:cNvSpPr/>
          <p:nvPr/>
        </p:nvSpPr>
        <p:spPr>
          <a:xfrm>
            <a:off x="10254600" y="298440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9bbb59"/>
                </a:solidFill>
                <a:latin typeface="Poppins"/>
              </a:rPr>
              <a:t>$835M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2" name="TextBox 161"/>
          <p:cNvSpPr/>
          <p:nvPr/>
        </p:nvSpPr>
        <p:spPr>
          <a:xfrm>
            <a:off x="10232640" y="384804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39c12"/>
                </a:solidFill>
                <a:latin typeface="Poppins"/>
              </a:rPr>
              <a:t>$1,020M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3" name="TextBox 162"/>
          <p:cNvSpPr/>
          <p:nvPr/>
        </p:nvSpPr>
        <p:spPr>
          <a:xfrm>
            <a:off x="10235520" y="473220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41b176"/>
                </a:solidFill>
                <a:latin typeface="Poppins"/>
              </a:rPr>
              <a:t>$819M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4" name="TextBox 163"/>
          <p:cNvSpPr/>
          <p:nvPr/>
        </p:nvSpPr>
        <p:spPr>
          <a:xfrm>
            <a:off x="10250640" y="560232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954f72"/>
                </a:solidFill>
                <a:latin typeface="Poppins"/>
              </a:rPr>
              <a:t>$785M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0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Poppins"/>
              </a:rPr>
              <a:t>PADLOCK PUZZLE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26" name="Freeform 5"/>
          <p:cNvSpPr/>
          <p:nvPr/>
        </p:nvSpPr>
        <p:spPr>
          <a:xfrm>
            <a:off x="4888080" y="1316160"/>
            <a:ext cx="2415960" cy="1819080"/>
          </a:xfrm>
          <a:custGeom>
            <a:avLst/>
            <a:gdLst/>
            <a:ahLst/>
            <a:rect l="l" t="t" r="r" b="b"/>
            <a:pathLst>
              <a:path w="819" h="617">
                <a:moveTo>
                  <a:pt x="202" y="409"/>
                </a:moveTo>
                <a:cubicBezTo>
                  <a:pt x="202" y="295"/>
                  <a:pt x="296" y="202"/>
                  <a:pt x="410" y="202"/>
                </a:cubicBezTo>
                <a:cubicBezTo>
                  <a:pt x="524" y="202"/>
                  <a:pt x="617" y="295"/>
                  <a:pt x="617" y="409"/>
                </a:cubicBezTo>
                <a:cubicBezTo>
                  <a:pt x="617" y="617"/>
                  <a:pt x="617" y="617"/>
                  <a:pt x="617" y="617"/>
                </a:cubicBezTo>
                <a:cubicBezTo>
                  <a:pt x="819" y="617"/>
                  <a:pt x="819" y="617"/>
                  <a:pt x="819" y="617"/>
                </a:cubicBezTo>
                <a:cubicBezTo>
                  <a:pt x="819" y="409"/>
                  <a:pt x="819" y="409"/>
                  <a:pt x="819" y="409"/>
                </a:cubicBezTo>
                <a:cubicBezTo>
                  <a:pt x="819" y="183"/>
                  <a:pt x="635" y="0"/>
                  <a:pt x="410" y="0"/>
                </a:cubicBezTo>
                <a:cubicBezTo>
                  <a:pt x="185" y="0"/>
                  <a:pt x="0" y="183"/>
                  <a:pt x="0" y="409"/>
                </a:cubicBezTo>
                <a:cubicBezTo>
                  <a:pt x="0" y="617"/>
                  <a:pt x="0" y="617"/>
                  <a:pt x="0" y="617"/>
                </a:cubicBezTo>
                <a:cubicBezTo>
                  <a:pt x="202" y="617"/>
                  <a:pt x="202" y="617"/>
                  <a:pt x="202" y="617"/>
                </a:cubicBezTo>
                <a:lnTo>
                  <a:pt x="202" y="409"/>
                </a:lnTo>
                <a:close/>
                <a:moveTo>
                  <a:pt x="202" y="409"/>
                </a:moveTo>
                <a:cubicBezTo>
                  <a:pt x="202" y="409"/>
                  <a:pt x="202" y="409"/>
                  <a:pt x="202" y="409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7" name="Line 6"/>
          <p:cNvSpPr/>
          <p:nvPr/>
        </p:nvSpPr>
        <p:spPr>
          <a:xfrm>
            <a:off x="7116840" y="55976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8" name="Line 7"/>
          <p:cNvSpPr/>
          <p:nvPr/>
        </p:nvSpPr>
        <p:spPr>
          <a:xfrm>
            <a:off x="7116840" y="55976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9" name="Freeform 8"/>
          <p:cNvSpPr/>
          <p:nvPr/>
        </p:nvSpPr>
        <p:spPr>
          <a:xfrm>
            <a:off x="4173480" y="3254400"/>
            <a:ext cx="1893960" cy="1460520"/>
          </a:xfrm>
          <a:custGeom>
            <a:avLst/>
            <a:gdLst/>
            <a:ahLst/>
            <a:rect l="l" t="t" r="r" b="b"/>
            <a:pathLst>
              <a:path w="566" h="437">
                <a:moveTo>
                  <a:pt x="187" y="437"/>
                </a:moveTo>
                <a:cubicBezTo>
                  <a:pt x="199" y="437"/>
                  <a:pt x="207" y="433"/>
                  <a:pt x="211" y="425"/>
                </a:cubicBezTo>
                <a:cubicBezTo>
                  <a:pt x="211" y="423"/>
                  <a:pt x="212" y="421"/>
                  <a:pt x="212" y="419"/>
                </a:cubicBezTo>
                <a:cubicBezTo>
                  <a:pt x="212" y="413"/>
                  <a:pt x="209" y="407"/>
                  <a:pt x="205" y="402"/>
                </a:cubicBezTo>
                <a:cubicBezTo>
                  <a:pt x="194" y="390"/>
                  <a:pt x="188" y="375"/>
                  <a:pt x="188" y="360"/>
                </a:cubicBezTo>
                <a:cubicBezTo>
                  <a:pt x="188" y="353"/>
                  <a:pt x="190" y="345"/>
                  <a:pt x="193" y="338"/>
                </a:cubicBezTo>
                <a:cubicBezTo>
                  <a:pt x="202" y="317"/>
                  <a:pt x="223" y="304"/>
                  <a:pt x="250" y="303"/>
                </a:cubicBezTo>
                <a:cubicBezTo>
                  <a:pt x="250" y="303"/>
                  <a:pt x="250" y="303"/>
                  <a:pt x="250" y="303"/>
                </a:cubicBezTo>
                <a:cubicBezTo>
                  <a:pt x="278" y="304"/>
                  <a:pt x="299" y="317"/>
                  <a:pt x="308" y="338"/>
                </a:cubicBezTo>
                <a:cubicBezTo>
                  <a:pt x="311" y="345"/>
                  <a:pt x="313" y="352"/>
                  <a:pt x="313" y="360"/>
                </a:cubicBezTo>
                <a:cubicBezTo>
                  <a:pt x="313" y="375"/>
                  <a:pt x="307" y="390"/>
                  <a:pt x="296" y="402"/>
                </a:cubicBezTo>
                <a:cubicBezTo>
                  <a:pt x="292" y="407"/>
                  <a:pt x="289" y="413"/>
                  <a:pt x="289" y="418"/>
                </a:cubicBezTo>
                <a:cubicBezTo>
                  <a:pt x="289" y="421"/>
                  <a:pt x="290" y="423"/>
                  <a:pt x="291" y="425"/>
                </a:cubicBezTo>
                <a:cubicBezTo>
                  <a:pt x="294" y="432"/>
                  <a:pt x="302" y="436"/>
                  <a:pt x="314" y="436"/>
                </a:cubicBezTo>
                <a:cubicBezTo>
                  <a:pt x="505" y="436"/>
                  <a:pt x="505" y="436"/>
                  <a:pt x="505" y="436"/>
                </a:cubicBezTo>
                <a:cubicBezTo>
                  <a:pt x="481" y="416"/>
                  <a:pt x="466" y="386"/>
                  <a:pt x="466" y="354"/>
                </a:cubicBezTo>
                <a:cubicBezTo>
                  <a:pt x="466" y="296"/>
                  <a:pt x="510" y="250"/>
                  <a:pt x="566" y="246"/>
                </a:cubicBezTo>
                <a:cubicBezTo>
                  <a:pt x="566" y="192"/>
                  <a:pt x="566" y="192"/>
                  <a:pt x="566" y="192"/>
                </a:cubicBezTo>
                <a:cubicBezTo>
                  <a:pt x="566" y="180"/>
                  <a:pt x="562" y="172"/>
                  <a:pt x="555" y="169"/>
                </a:cubicBezTo>
                <a:cubicBezTo>
                  <a:pt x="553" y="168"/>
                  <a:pt x="551" y="167"/>
                  <a:pt x="548" y="167"/>
                </a:cubicBezTo>
                <a:cubicBezTo>
                  <a:pt x="543" y="167"/>
                  <a:pt x="537" y="170"/>
                  <a:pt x="532" y="174"/>
                </a:cubicBezTo>
                <a:cubicBezTo>
                  <a:pt x="520" y="185"/>
                  <a:pt x="505" y="191"/>
                  <a:pt x="490" y="191"/>
                </a:cubicBezTo>
                <a:cubicBezTo>
                  <a:pt x="482" y="191"/>
                  <a:pt x="475" y="189"/>
                  <a:pt x="468" y="186"/>
                </a:cubicBezTo>
                <a:cubicBezTo>
                  <a:pt x="446" y="177"/>
                  <a:pt x="433" y="157"/>
                  <a:pt x="432" y="129"/>
                </a:cubicBezTo>
                <a:cubicBezTo>
                  <a:pt x="432" y="129"/>
                  <a:pt x="432" y="129"/>
                  <a:pt x="432" y="129"/>
                </a:cubicBezTo>
                <a:cubicBezTo>
                  <a:pt x="433" y="101"/>
                  <a:pt x="446" y="80"/>
                  <a:pt x="468" y="71"/>
                </a:cubicBezTo>
                <a:cubicBezTo>
                  <a:pt x="475" y="68"/>
                  <a:pt x="482" y="67"/>
                  <a:pt x="490" y="67"/>
                </a:cubicBezTo>
                <a:cubicBezTo>
                  <a:pt x="505" y="67"/>
                  <a:pt x="520" y="72"/>
                  <a:pt x="532" y="83"/>
                </a:cubicBezTo>
                <a:cubicBezTo>
                  <a:pt x="537" y="87"/>
                  <a:pt x="542" y="90"/>
                  <a:pt x="548" y="90"/>
                </a:cubicBezTo>
                <a:cubicBezTo>
                  <a:pt x="550" y="90"/>
                  <a:pt x="553" y="89"/>
                  <a:pt x="555" y="88"/>
                </a:cubicBezTo>
                <a:cubicBezTo>
                  <a:pt x="562" y="85"/>
                  <a:pt x="566" y="77"/>
                  <a:pt x="566" y="65"/>
                </a:cubicBezTo>
                <a:cubicBezTo>
                  <a:pt x="566" y="0"/>
                  <a:pt x="566" y="0"/>
                  <a:pt x="566" y="0"/>
                </a:cubicBezTo>
                <a:cubicBezTo>
                  <a:pt x="111" y="0"/>
                  <a:pt x="111" y="0"/>
                  <a:pt x="111" y="0"/>
                </a:cubicBezTo>
                <a:cubicBezTo>
                  <a:pt x="50" y="0"/>
                  <a:pt x="0" y="50"/>
                  <a:pt x="0" y="111"/>
                </a:cubicBezTo>
                <a:cubicBezTo>
                  <a:pt x="0" y="437"/>
                  <a:pt x="0" y="437"/>
                  <a:pt x="0" y="437"/>
                </a:cubicBezTo>
                <a:lnTo>
                  <a:pt x="187" y="437"/>
                </a:lnTo>
                <a:close/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0" name="Freeform 9"/>
          <p:cNvSpPr/>
          <p:nvPr/>
        </p:nvSpPr>
        <p:spPr>
          <a:xfrm>
            <a:off x="5680080" y="3254400"/>
            <a:ext cx="2338560" cy="1898640"/>
          </a:xfrm>
          <a:custGeom>
            <a:avLst/>
            <a:gdLst/>
            <a:ahLst/>
            <a:rect l="l" t="t" r="r" b="b"/>
            <a:pathLst>
              <a:path w="699" h="568">
                <a:moveTo>
                  <a:pt x="133" y="65"/>
                </a:moveTo>
                <a:cubicBezTo>
                  <a:pt x="133" y="84"/>
                  <a:pt x="125" y="98"/>
                  <a:pt x="112" y="104"/>
                </a:cubicBezTo>
                <a:cubicBezTo>
                  <a:pt x="108" y="106"/>
                  <a:pt x="103" y="107"/>
                  <a:pt x="98" y="107"/>
                </a:cubicBezTo>
                <a:cubicBezTo>
                  <a:pt x="88" y="107"/>
                  <a:pt x="78" y="103"/>
                  <a:pt x="70" y="96"/>
                </a:cubicBezTo>
                <a:cubicBezTo>
                  <a:pt x="61" y="88"/>
                  <a:pt x="50" y="84"/>
                  <a:pt x="40" y="84"/>
                </a:cubicBezTo>
                <a:cubicBezTo>
                  <a:pt x="34" y="84"/>
                  <a:pt x="29" y="85"/>
                  <a:pt x="24" y="87"/>
                </a:cubicBezTo>
                <a:cubicBezTo>
                  <a:pt x="9" y="94"/>
                  <a:pt x="0" y="109"/>
                  <a:pt x="0" y="129"/>
                </a:cubicBezTo>
                <a:cubicBezTo>
                  <a:pt x="1" y="149"/>
                  <a:pt x="10" y="164"/>
                  <a:pt x="25" y="170"/>
                </a:cubicBezTo>
                <a:cubicBezTo>
                  <a:pt x="29" y="172"/>
                  <a:pt x="35" y="173"/>
                  <a:pt x="40" y="173"/>
                </a:cubicBezTo>
                <a:cubicBezTo>
                  <a:pt x="51" y="173"/>
                  <a:pt x="61" y="169"/>
                  <a:pt x="70" y="161"/>
                </a:cubicBezTo>
                <a:cubicBezTo>
                  <a:pt x="79" y="154"/>
                  <a:pt x="88" y="150"/>
                  <a:pt x="98" y="150"/>
                </a:cubicBezTo>
                <a:cubicBezTo>
                  <a:pt x="103" y="150"/>
                  <a:pt x="108" y="151"/>
                  <a:pt x="112" y="153"/>
                </a:cubicBezTo>
                <a:cubicBezTo>
                  <a:pt x="126" y="159"/>
                  <a:pt x="134" y="173"/>
                  <a:pt x="134" y="192"/>
                </a:cubicBezTo>
                <a:cubicBezTo>
                  <a:pt x="134" y="246"/>
                  <a:pt x="134" y="246"/>
                  <a:pt x="134" y="246"/>
                </a:cubicBezTo>
                <a:cubicBezTo>
                  <a:pt x="189" y="251"/>
                  <a:pt x="232" y="298"/>
                  <a:pt x="232" y="354"/>
                </a:cubicBezTo>
                <a:cubicBezTo>
                  <a:pt x="232" y="387"/>
                  <a:pt x="217" y="415"/>
                  <a:pt x="194" y="435"/>
                </a:cubicBezTo>
                <a:cubicBezTo>
                  <a:pt x="370" y="435"/>
                  <a:pt x="370" y="435"/>
                  <a:pt x="370" y="435"/>
                </a:cubicBezTo>
                <a:cubicBezTo>
                  <a:pt x="389" y="435"/>
                  <a:pt x="403" y="442"/>
                  <a:pt x="409" y="456"/>
                </a:cubicBezTo>
                <a:cubicBezTo>
                  <a:pt x="411" y="460"/>
                  <a:pt x="412" y="465"/>
                  <a:pt x="412" y="470"/>
                </a:cubicBezTo>
                <a:cubicBezTo>
                  <a:pt x="412" y="479"/>
                  <a:pt x="408" y="489"/>
                  <a:pt x="401" y="497"/>
                </a:cubicBezTo>
                <a:cubicBezTo>
                  <a:pt x="393" y="506"/>
                  <a:pt x="389" y="517"/>
                  <a:pt x="389" y="528"/>
                </a:cubicBezTo>
                <a:cubicBezTo>
                  <a:pt x="389" y="533"/>
                  <a:pt x="390" y="538"/>
                  <a:pt x="392" y="543"/>
                </a:cubicBezTo>
                <a:cubicBezTo>
                  <a:pt x="399" y="558"/>
                  <a:pt x="414" y="567"/>
                  <a:pt x="434" y="568"/>
                </a:cubicBezTo>
                <a:cubicBezTo>
                  <a:pt x="454" y="567"/>
                  <a:pt x="469" y="558"/>
                  <a:pt x="475" y="543"/>
                </a:cubicBezTo>
                <a:cubicBezTo>
                  <a:pt x="477" y="538"/>
                  <a:pt x="478" y="533"/>
                  <a:pt x="478" y="528"/>
                </a:cubicBezTo>
                <a:cubicBezTo>
                  <a:pt x="478" y="517"/>
                  <a:pt x="474" y="506"/>
                  <a:pt x="466" y="497"/>
                </a:cubicBezTo>
                <a:cubicBezTo>
                  <a:pt x="459" y="489"/>
                  <a:pt x="455" y="479"/>
                  <a:pt x="455" y="469"/>
                </a:cubicBezTo>
                <a:cubicBezTo>
                  <a:pt x="455" y="464"/>
                  <a:pt x="456" y="460"/>
                  <a:pt x="458" y="455"/>
                </a:cubicBezTo>
                <a:cubicBezTo>
                  <a:pt x="464" y="442"/>
                  <a:pt x="478" y="434"/>
                  <a:pt x="497" y="434"/>
                </a:cubicBezTo>
                <a:cubicBezTo>
                  <a:pt x="698" y="434"/>
                  <a:pt x="698" y="434"/>
                  <a:pt x="698" y="434"/>
                </a:cubicBezTo>
                <a:cubicBezTo>
                  <a:pt x="698" y="111"/>
                  <a:pt x="698" y="111"/>
                  <a:pt x="698" y="111"/>
                </a:cubicBezTo>
                <a:cubicBezTo>
                  <a:pt x="699" y="50"/>
                  <a:pt x="649" y="0"/>
                  <a:pt x="587" y="0"/>
                </a:cubicBezTo>
                <a:cubicBezTo>
                  <a:pt x="133" y="0"/>
                  <a:pt x="133" y="0"/>
                  <a:pt x="133" y="0"/>
                </a:cubicBezTo>
                <a:lnTo>
                  <a:pt x="133" y="65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1" name="Freeform 10"/>
          <p:cNvSpPr/>
          <p:nvPr/>
        </p:nvSpPr>
        <p:spPr>
          <a:xfrm>
            <a:off x="6124680" y="4762440"/>
            <a:ext cx="1890720" cy="1443240"/>
          </a:xfrm>
          <a:custGeom>
            <a:avLst/>
            <a:gdLst/>
            <a:ahLst/>
            <a:rect l="l" t="t" r="r" b="b"/>
            <a:pathLst>
              <a:path w="565" h="432">
                <a:moveTo>
                  <a:pt x="364" y="0"/>
                </a:moveTo>
                <a:cubicBezTo>
                  <a:pt x="352" y="0"/>
                  <a:pt x="344" y="5"/>
                  <a:pt x="341" y="12"/>
                </a:cubicBezTo>
                <a:cubicBezTo>
                  <a:pt x="340" y="14"/>
                  <a:pt x="339" y="16"/>
                  <a:pt x="339" y="18"/>
                </a:cubicBezTo>
                <a:cubicBezTo>
                  <a:pt x="339" y="24"/>
                  <a:pt x="342" y="30"/>
                  <a:pt x="346" y="35"/>
                </a:cubicBezTo>
                <a:cubicBezTo>
                  <a:pt x="357" y="47"/>
                  <a:pt x="363" y="62"/>
                  <a:pt x="363" y="77"/>
                </a:cubicBezTo>
                <a:cubicBezTo>
                  <a:pt x="363" y="84"/>
                  <a:pt x="361" y="92"/>
                  <a:pt x="358" y="99"/>
                </a:cubicBezTo>
                <a:cubicBezTo>
                  <a:pt x="349" y="120"/>
                  <a:pt x="328" y="133"/>
                  <a:pt x="301" y="134"/>
                </a:cubicBezTo>
                <a:cubicBezTo>
                  <a:pt x="301" y="134"/>
                  <a:pt x="301" y="134"/>
                  <a:pt x="301" y="134"/>
                </a:cubicBezTo>
                <a:cubicBezTo>
                  <a:pt x="273" y="133"/>
                  <a:pt x="252" y="121"/>
                  <a:pt x="243" y="99"/>
                </a:cubicBezTo>
                <a:cubicBezTo>
                  <a:pt x="240" y="92"/>
                  <a:pt x="239" y="85"/>
                  <a:pt x="239" y="77"/>
                </a:cubicBezTo>
                <a:cubicBezTo>
                  <a:pt x="239" y="62"/>
                  <a:pt x="244" y="47"/>
                  <a:pt x="255" y="35"/>
                </a:cubicBezTo>
                <a:cubicBezTo>
                  <a:pt x="259" y="30"/>
                  <a:pt x="262" y="24"/>
                  <a:pt x="262" y="19"/>
                </a:cubicBezTo>
                <a:cubicBezTo>
                  <a:pt x="262" y="16"/>
                  <a:pt x="261" y="14"/>
                  <a:pt x="260" y="12"/>
                </a:cubicBezTo>
                <a:cubicBezTo>
                  <a:pt x="257" y="5"/>
                  <a:pt x="249" y="1"/>
                  <a:pt x="237" y="1"/>
                </a:cubicBezTo>
                <a:cubicBezTo>
                  <a:pt x="47" y="1"/>
                  <a:pt x="47" y="1"/>
                  <a:pt x="47" y="1"/>
                </a:cubicBezTo>
                <a:cubicBezTo>
                  <a:pt x="82" y="188"/>
                  <a:pt x="82" y="188"/>
                  <a:pt x="82" y="188"/>
                </a:cubicBezTo>
                <a:cubicBezTo>
                  <a:pt x="0" y="188"/>
                  <a:pt x="0" y="188"/>
                  <a:pt x="0" y="188"/>
                </a:cubicBezTo>
                <a:cubicBezTo>
                  <a:pt x="1" y="239"/>
                  <a:pt x="1" y="239"/>
                  <a:pt x="1" y="239"/>
                </a:cubicBezTo>
                <a:cubicBezTo>
                  <a:pt x="1" y="251"/>
                  <a:pt x="5" y="259"/>
                  <a:pt x="12" y="262"/>
                </a:cubicBezTo>
                <a:cubicBezTo>
                  <a:pt x="14" y="263"/>
                  <a:pt x="16" y="264"/>
                  <a:pt x="18" y="264"/>
                </a:cubicBezTo>
                <a:cubicBezTo>
                  <a:pt x="24" y="264"/>
                  <a:pt x="30" y="261"/>
                  <a:pt x="35" y="257"/>
                </a:cubicBezTo>
                <a:cubicBezTo>
                  <a:pt x="47" y="246"/>
                  <a:pt x="62" y="240"/>
                  <a:pt x="77" y="240"/>
                </a:cubicBezTo>
                <a:cubicBezTo>
                  <a:pt x="85" y="240"/>
                  <a:pt x="92" y="241"/>
                  <a:pt x="99" y="244"/>
                </a:cubicBezTo>
                <a:cubicBezTo>
                  <a:pt x="120" y="254"/>
                  <a:pt x="133" y="274"/>
                  <a:pt x="135" y="302"/>
                </a:cubicBezTo>
                <a:cubicBezTo>
                  <a:pt x="135" y="302"/>
                  <a:pt x="135" y="302"/>
                  <a:pt x="135" y="302"/>
                </a:cubicBezTo>
                <a:cubicBezTo>
                  <a:pt x="134" y="330"/>
                  <a:pt x="121" y="350"/>
                  <a:pt x="99" y="360"/>
                </a:cubicBezTo>
                <a:cubicBezTo>
                  <a:pt x="92" y="363"/>
                  <a:pt x="85" y="364"/>
                  <a:pt x="77" y="364"/>
                </a:cubicBezTo>
                <a:cubicBezTo>
                  <a:pt x="62" y="364"/>
                  <a:pt x="47" y="358"/>
                  <a:pt x="35" y="348"/>
                </a:cubicBezTo>
                <a:cubicBezTo>
                  <a:pt x="30" y="343"/>
                  <a:pt x="24" y="341"/>
                  <a:pt x="19" y="341"/>
                </a:cubicBezTo>
                <a:cubicBezTo>
                  <a:pt x="16" y="341"/>
                  <a:pt x="14" y="342"/>
                  <a:pt x="12" y="343"/>
                </a:cubicBezTo>
                <a:cubicBezTo>
                  <a:pt x="5" y="346"/>
                  <a:pt x="1" y="354"/>
                  <a:pt x="1" y="366"/>
                </a:cubicBezTo>
                <a:cubicBezTo>
                  <a:pt x="1" y="432"/>
                  <a:pt x="1" y="432"/>
                  <a:pt x="1" y="432"/>
                </a:cubicBezTo>
                <a:cubicBezTo>
                  <a:pt x="455" y="432"/>
                  <a:pt x="455" y="432"/>
                  <a:pt x="455" y="432"/>
                </a:cubicBezTo>
                <a:cubicBezTo>
                  <a:pt x="516" y="432"/>
                  <a:pt x="565" y="382"/>
                  <a:pt x="565" y="321"/>
                </a:cubicBezTo>
                <a:cubicBezTo>
                  <a:pt x="565" y="0"/>
                  <a:pt x="565" y="0"/>
                  <a:pt x="565" y="0"/>
                </a:cubicBezTo>
                <a:lnTo>
                  <a:pt x="364" y="0"/>
                </a:lnTo>
                <a:close/>
              </a:path>
            </a:pathLst>
          </a:cu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2" name="Freeform 11"/>
          <p:cNvSpPr/>
          <p:nvPr/>
        </p:nvSpPr>
        <p:spPr>
          <a:xfrm>
            <a:off x="4173480" y="4322880"/>
            <a:ext cx="2341800" cy="1882800"/>
          </a:xfrm>
          <a:custGeom>
            <a:avLst/>
            <a:gdLst/>
            <a:ahLst/>
            <a:rect l="l" t="t" r="r" b="b"/>
            <a:pathLst>
              <a:path w="700" h="563">
                <a:moveTo>
                  <a:pt x="567" y="497"/>
                </a:moveTo>
                <a:cubicBezTo>
                  <a:pt x="567" y="478"/>
                  <a:pt x="574" y="464"/>
                  <a:pt x="588" y="458"/>
                </a:cubicBezTo>
                <a:cubicBezTo>
                  <a:pt x="592" y="456"/>
                  <a:pt x="597" y="455"/>
                  <a:pt x="602" y="455"/>
                </a:cubicBezTo>
                <a:cubicBezTo>
                  <a:pt x="612" y="455"/>
                  <a:pt x="621" y="459"/>
                  <a:pt x="630" y="466"/>
                </a:cubicBezTo>
                <a:cubicBezTo>
                  <a:pt x="638" y="474"/>
                  <a:pt x="649" y="478"/>
                  <a:pt x="660" y="478"/>
                </a:cubicBezTo>
                <a:cubicBezTo>
                  <a:pt x="665" y="478"/>
                  <a:pt x="671" y="477"/>
                  <a:pt x="675" y="475"/>
                </a:cubicBezTo>
                <a:cubicBezTo>
                  <a:pt x="690" y="468"/>
                  <a:pt x="699" y="453"/>
                  <a:pt x="700" y="433"/>
                </a:cubicBezTo>
                <a:cubicBezTo>
                  <a:pt x="699" y="413"/>
                  <a:pt x="690" y="398"/>
                  <a:pt x="675" y="392"/>
                </a:cubicBezTo>
                <a:cubicBezTo>
                  <a:pt x="670" y="390"/>
                  <a:pt x="665" y="388"/>
                  <a:pt x="660" y="388"/>
                </a:cubicBezTo>
                <a:cubicBezTo>
                  <a:pt x="649" y="388"/>
                  <a:pt x="638" y="393"/>
                  <a:pt x="629" y="401"/>
                </a:cubicBezTo>
                <a:cubicBezTo>
                  <a:pt x="621" y="408"/>
                  <a:pt x="611" y="412"/>
                  <a:pt x="601" y="412"/>
                </a:cubicBezTo>
                <a:cubicBezTo>
                  <a:pt x="597" y="412"/>
                  <a:pt x="592" y="411"/>
                  <a:pt x="588" y="409"/>
                </a:cubicBezTo>
                <a:cubicBezTo>
                  <a:pt x="574" y="403"/>
                  <a:pt x="566" y="389"/>
                  <a:pt x="566" y="370"/>
                </a:cubicBezTo>
                <a:cubicBezTo>
                  <a:pt x="566" y="319"/>
                  <a:pt x="566" y="319"/>
                  <a:pt x="566" y="319"/>
                </a:cubicBezTo>
                <a:cubicBezTo>
                  <a:pt x="483" y="319"/>
                  <a:pt x="483" y="319"/>
                  <a:pt x="483" y="319"/>
                </a:cubicBezTo>
                <a:cubicBezTo>
                  <a:pt x="518" y="133"/>
                  <a:pt x="518" y="133"/>
                  <a:pt x="518" y="133"/>
                </a:cubicBezTo>
                <a:cubicBezTo>
                  <a:pt x="314" y="134"/>
                  <a:pt x="314" y="134"/>
                  <a:pt x="314" y="134"/>
                </a:cubicBezTo>
                <a:cubicBezTo>
                  <a:pt x="295" y="134"/>
                  <a:pt x="281" y="126"/>
                  <a:pt x="275" y="112"/>
                </a:cubicBezTo>
                <a:cubicBezTo>
                  <a:pt x="273" y="108"/>
                  <a:pt x="272" y="103"/>
                  <a:pt x="272" y="98"/>
                </a:cubicBezTo>
                <a:cubicBezTo>
                  <a:pt x="272" y="89"/>
                  <a:pt x="276" y="79"/>
                  <a:pt x="283" y="71"/>
                </a:cubicBezTo>
                <a:cubicBezTo>
                  <a:pt x="291" y="62"/>
                  <a:pt x="295" y="51"/>
                  <a:pt x="295" y="40"/>
                </a:cubicBezTo>
                <a:cubicBezTo>
                  <a:pt x="295" y="35"/>
                  <a:pt x="294" y="30"/>
                  <a:pt x="292" y="25"/>
                </a:cubicBezTo>
                <a:cubicBezTo>
                  <a:pt x="286" y="10"/>
                  <a:pt x="270" y="1"/>
                  <a:pt x="250" y="0"/>
                </a:cubicBezTo>
                <a:cubicBezTo>
                  <a:pt x="230" y="1"/>
                  <a:pt x="215" y="10"/>
                  <a:pt x="209" y="25"/>
                </a:cubicBezTo>
                <a:cubicBezTo>
                  <a:pt x="207" y="30"/>
                  <a:pt x="206" y="35"/>
                  <a:pt x="206" y="40"/>
                </a:cubicBezTo>
                <a:cubicBezTo>
                  <a:pt x="206" y="51"/>
                  <a:pt x="210" y="62"/>
                  <a:pt x="218" y="71"/>
                </a:cubicBezTo>
                <a:cubicBezTo>
                  <a:pt x="225" y="79"/>
                  <a:pt x="229" y="89"/>
                  <a:pt x="229" y="99"/>
                </a:cubicBezTo>
                <a:cubicBezTo>
                  <a:pt x="229" y="104"/>
                  <a:pt x="228" y="108"/>
                  <a:pt x="226" y="113"/>
                </a:cubicBezTo>
                <a:cubicBezTo>
                  <a:pt x="220" y="126"/>
                  <a:pt x="206" y="134"/>
                  <a:pt x="187" y="134"/>
                </a:cubicBezTo>
                <a:cubicBezTo>
                  <a:pt x="0" y="134"/>
                  <a:pt x="0" y="134"/>
                  <a:pt x="0" y="134"/>
                </a:cubicBezTo>
                <a:cubicBezTo>
                  <a:pt x="0" y="452"/>
                  <a:pt x="0" y="452"/>
                  <a:pt x="0" y="452"/>
                </a:cubicBezTo>
                <a:cubicBezTo>
                  <a:pt x="0" y="513"/>
                  <a:pt x="50" y="563"/>
                  <a:pt x="111" y="563"/>
                </a:cubicBezTo>
                <a:cubicBezTo>
                  <a:pt x="567" y="563"/>
                  <a:pt x="567" y="563"/>
                  <a:pt x="567" y="563"/>
                </a:cubicBezTo>
                <a:lnTo>
                  <a:pt x="567" y="497"/>
                </a:lnTo>
                <a:close/>
              </a:path>
            </a:pathLst>
          </a:cu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3" name="Freeform 12"/>
          <p:cNvSpPr/>
          <p:nvPr/>
        </p:nvSpPr>
        <p:spPr>
          <a:xfrm>
            <a:off x="5778360" y="4116240"/>
            <a:ext cx="630360" cy="1224000"/>
          </a:xfrm>
          <a:custGeom>
            <a:avLst/>
            <a:gdLst/>
            <a:ahLst/>
            <a:rect l="l" t="t" r="r" b="b"/>
            <a:pathLst>
              <a:path w="188" h="366">
                <a:moveTo>
                  <a:pt x="20" y="366"/>
                </a:moveTo>
                <a:cubicBezTo>
                  <a:pt x="55" y="180"/>
                  <a:pt x="55" y="180"/>
                  <a:pt x="55" y="180"/>
                </a:cubicBezTo>
                <a:cubicBezTo>
                  <a:pt x="46" y="175"/>
                  <a:pt x="46" y="175"/>
                  <a:pt x="46" y="175"/>
                </a:cubicBezTo>
                <a:cubicBezTo>
                  <a:pt x="18" y="158"/>
                  <a:pt x="0" y="126"/>
                  <a:pt x="0" y="94"/>
                </a:cubicBezTo>
                <a:cubicBezTo>
                  <a:pt x="0" y="43"/>
                  <a:pt x="42" y="0"/>
                  <a:pt x="94" y="0"/>
                </a:cubicBezTo>
                <a:cubicBezTo>
                  <a:pt x="146" y="0"/>
                  <a:pt x="188" y="43"/>
                  <a:pt x="188" y="94"/>
                </a:cubicBezTo>
                <a:cubicBezTo>
                  <a:pt x="188" y="128"/>
                  <a:pt x="171" y="158"/>
                  <a:pt x="141" y="175"/>
                </a:cubicBezTo>
                <a:cubicBezTo>
                  <a:pt x="133" y="179"/>
                  <a:pt x="133" y="179"/>
                  <a:pt x="133" y="179"/>
                </a:cubicBezTo>
                <a:cubicBezTo>
                  <a:pt x="168" y="366"/>
                  <a:pt x="168" y="366"/>
                  <a:pt x="168" y="366"/>
                </a:cubicBezTo>
                <a:lnTo>
                  <a:pt x="20" y="366"/>
                </a:lnTo>
                <a:close/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4" name="Title 1"/>
          <p:cNvSpPr/>
          <p:nvPr/>
        </p:nvSpPr>
        <p:spPr>
          <a:xfrm>
            <a:off x="4103640" y="5514840"/>
            <a:ext cx="189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5" name="Title 1"/>
          <p:cNvSpPr/>
          <p:nvPr/>
        </p:nvSpPr>
        <p:spPr>
          <a:xfrm>
            <a:off x="4103640" y="3932280"/>
            <a:ext cx="189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6" name="Title 1"/>
          <p:cNvSpPr/>
          <p:nvPr/>
        </p:nvSpPr>
        <p:spPr>
          <a:xfrm>
            <a:off x="6270480" y="4168800"/>
            <a:ext cx="16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7" name="Title 1"/>
          <p:cNvSpPr/>
          <p:nvPr/>
        </p:nvSpPr>
        <p:spPr>
          <a:xfrm>
            <a:off x="6170760" y="5818320"/>
            <a:ext cx="18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538" name="Group 36" descr=""/>
          <p:cNvPicPr/>
          <p:nvPr/>
        </p:nvPicPr>
        <p:blipFill>
          <a:blip r:embed="rId1"/>
          <a:stretch/>
        </p:blipFill>
        <p:spPr>
          <a:xfrm>
            <a:off x="6931080" y="5284800"/>
            <a:ext cx="371520" cy="433440"/>
          </a:xfrm>
          <a:prstGeom prst="rect">
            <a:avLst/>
          </a:prstGeom>
          <a:ln w="0">
            <a:noFill/>
          </a:ln>
        </p:spPr>
      </p:pic>
      <p:pic>
        <p:nvPicPr>
          <p:cNvPr id="539" name="Group 39" descr=""/>
          <p:cNvPicPr/>
          <p:nvPr/>
        </p:nvPicPr>
        <p:blipFill>
          <a:blip r:embed="rId2"/>
          <a:stretch/>
        </p:blipFill>
        <p:spPr>
          <a:xfrm>
            <a:off x="6931080" y="3687840"/>
            <a:ext cx="371520" cy="439560"/>
          </a:xfrm>
          <a:prstGeom prst="rect">
            <a:avLst/>
          </a:prstGeom>
          <a:ln w="0">
            <a:noFill/>
          </a:ln>
        </p:spPr>
      </p:pic>
      <p:pic>
        <p:nvPicPr>
          <p:cNvPr id="540" name="Group 43" descr=""/>
          <p:cNvPicPr/>
          <p:nvPr/>
        </p:nvPicPr>
        <p:blipFill>
          <a:blip r:embed="rId3"/>
          <a:stretch/>
        </p:blipFill>
        <p:spPr>
          <a:xfrm>
            <a:off x="4857840" y="3486240"/>
            <a:ext cx="384120" cy="379440"/>
          </a:xfrm>
          <a:prstGeom prst="rect">
            <a:avLst/>
          </a:prstGeom>
          <a:ln w="0">
            <a:noFill/>
          </a:ln>
        </p:spPr>
      </p:pic>
      <p:pic>
        <p:nvPicPr>
          <p:cNvPr id="541" name="Group 47" descr=""/>
          <p:cNvPicPr/>
          <p:nvPr/>
        </p:nvPicPr>
        <p:blipFill>
          <a:blip r:embed="rId4"/>
          <a:stretch/>
        </p:blipFill>
        <p:spPr>
          <a:xfrm>
            <a:off x="4809960" y="5016600"/>
            <a:ext cx="481320" cy="476280"/>
          </a:xfrm>
          <a:prstGeom prst="rect">
            <a:avLst/>
          </a:prstGeom>
          <a:ln w="0">
            <a:noFill/>
          </a:ln>
        </p:spPr>
      </p:pic>
      <p:grpSp>
        <p:nvGrpSpPr>
          <p:cNvPr id="542" name="Group 51"/>
          <p:cNvGrpSpPr/>
          <p:nvPr/>
        </p:nvGrpSpPr>
        <p:grpSpPr>
          <a:xfrm>
            <a:off x="3207600" y="2677680"/>
            <a:ext cx="1338840" cy="635400"/>
            <a:chOff x="3207600" y="2677680"/>
            <a:chExt cx="1338840" cy="635400"/>
          </a:xfrm>
        </p:grpSpPr>
        <p:sp>
          <p:nvSpPr>
            <p:cNvPr id="543" name="Straight Connector 52"/>
            <p:cNvSpPr/>
            <p:nvPr/>
          </p:nvSpPr>
          <p:spPr>
            <a:xfrm flipH="1" flipV="1">
              <a:off x="3911400" y="2678040"/>
              <a:ext cx="635040" cy="635040"/>
            </a:xfrm>
            <a:prstGeom prst="line">
              <a:avLst/>
            </a:prstGeom>
            <a:ln w="19080">
              <a:solidFill>
                <a:srgbClr val="2980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544" name="Straight Arrow Connector 53"/>
            <p:cNvCxnSpPr/>
            <p:nvPr/>
          </p:nvCxnSpPr>
          <p:spPr>
            <a:xfrm flipH="1">
              <a:off x="3207600" y="2677680"/>
              <a:ext cx="703800" cy="1080"/>
            </a:xfrm>
            <a:prstGeom prst="straightConnector1">
              <a:avLst/>
            </a:prstGeom>
            <a:ln w="19080">
              <a:solidFill>
                <a:srgbClr val="2980b9"/>
              </a:solidFill>
              <a:miter/>
              <a:tailEnd len="med" type="oval" w="med"/>
            </a:ln>
          </p:spPr>
        </p:cxnSp>
      </p:grpSp>
      <p:grpSp>
        <p:nvGrpSpPr>
          <p:cNvPr id="545" name="Group 63"/>
          <p:cNvGrpSpPr/>
          <p:nvPr/>
        </p:nvGrpSpPr>
        <p:grpSpPr>
          <a:xfrm>
            <a:off x="7645320" y="2677680"/>
            <a:ext cx="1338840" cy="635400"/>
            <a:chOff x="7645320" y="2677680"/>
            <a:chExt cx="1338840" cy="635400"/>
          </a:xfrm>
        </p:grpSpPr>
        <p:sp>
          <p:nvSpPr>
            <p:cNvPr id="546" name="Straight Connector 64"/>
            <p:cNvSpPr/>
            <p:nvPr/>
          </p:nvSpPr>
          <p:spPr>
            <a:xfrm flipV="1">
              <a:off x="7645320" y="2678040"/>
              <a:ext cx="635040" cy="635040"/>
            </a:xfrm>
            <a:prstGeom prst="line">
              <a:avLst/>
            </a:prstGeom>
            <a:ln w="190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547" name="Straight Arrow Connector 65"/>
            <p:cNvCxnSpPr/>
            <p:nvPr/>
          </p:nvCxnSpPr>
          <p:spPr>
            <a:xfrm>
              <a:off x="8280360" y="2677680"/>
              <a:ext cx="704160" cy="1080"/>
            </a:xfrm>
            <a:prstGeom prst="straightConnector1">
              <a:avLst/>
            </a:prstGeom>
            <a:ln w="19080">
              <a:solidFill>
                <a:srgbClr val="9bbb59"/>
              </a:solidFill>
              <a:miter/>
              <a:tailEnd len="med" type="oval" w="med"/>
            </a:ln>
          </p:spPr>
        </p:cxnSp>
      </p:grpSp>
      <p:cxnSp>
        <p:nvCxnSpPr>
          <p:cNvPr id="548" name="Straight Arrow Connector 66"/>
          <p:cNvCxnSpPr/>
          <p:nvPr/>
        </p:nvCxnSpPr>
        <p:spPr>
          <a:xfrm flipH="1">
            <a:off x="3254040" y="4959000"/>
            <a:ext cx="1054800" cy="1080"/>
          </a:xfrm>
          <a:prstGeom prst="straightConnector1">
            <a:avLst/>
          </a:prstGeom>
          <a:ln w="19080">
            <a:solidFill>
              <a:srgbClr val="c0392b"/>
            </a:solidFill>
            <a:miter/>
            <a:tailEnd len="med" type="oval" w="med"/>
          </a:ln>
        </p:spPr>
      </p:cxnSp>
      <p:cxnSp>
        <p:nvCxnSpPr>
          <p:cNvPr id="549" name="Straight Arrow Connector 67"/>
          <p:cNvCxnSpPr/>
          <p:nvPr/>
        </p:nvCxnSpPr>
        <p:spPr>
          <a:xfrm>
            <a:off x="7845480" y="4959000"/>
            <a:ext cx="1054800" cy="1080"/>
          </a:xfrm>
          <a:prstGeom prst="straightConnector1">
            <a:avLst/>
          </a:prstGeom>
          <a:ln w="19080">
            <a:solidFill>
              <a:srgbClr val="f39c12"/>
            </a:solidFill>
            <a:miter/>
            <a:tailEnd len="med" type="oval" w="med"/>
          </a:ln>
        </p:spPr>
      </p:cxnSp>
      <p:sp>
        <p:nvSpPr>
          <p:cNvPr id="550" name="TextBox 68"/>
          <p:cNvSpPr/>
          <p:nvPr/>
        </p:nvSpPr>
        <p:spPr>
          <a:xfrm>
            <a:off x="9867240" y="228600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1" name="Rectangle 69"/>
          <p:cNvSpPr/>
          <p:nvPr/>
        </p:nvSpPr>
        <p:spPr>
          <a:xfrm>
            <a:off x="9893160" y="2505240"/>
            <a:ext cx="2259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2" name="TextBox 70"/>
          <p:cNvSpPr/>
          <p:nvPr/>
        </p:nvSpPr>
        <p:spPr>
          <a:xfrm>
            <a:off x="1221840" y="237024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3" name="Rectangle 71"/>
          <p:cNvSpPr/>
          <p:nvPr/>
        </p:nvSpPr>
        <p:spPr>
          <a:xfrm>
            <a:off x="-36360" y="2568600"/>
            <a:ext cx="2447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4" name="TextBox 72"/>
          <p:cNvSpPr/>
          <p:nvPr/>
        </p:nvSpPr>
        <p:spPr>
          <a:xfrm>
            <a:off x="9699840" y="462600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5" name="Rectangle 73"/>
          <p:cNvSpPr/>
          <p:nvPr/>
        </p:nvSpPr>
        <p:spPr>
          <a:xfrm>
            <a:off x="9726480" y="4844880"/>
            <a:ext cx="2175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6" name="TextBox 74"/>
          <p:cNvSpPr/>
          <p:nvPr/>
        </p:nvSpPr>
        <p:spPr>
          <a:xfrm>
            <a:off x="1231200" y="459252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7" name="Rectangle 75"/>
          <p:cNvSpPr/>
          <p:nvPr/>
        </p:nvSpPr>
        <p:spPr>
          <a:xfrm>
            <a:off x="-27000" y="4792680"/>
            <a:ext cx="2448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8" name="TextBox 76"/>
          <p:cNvSpPr/>
          <p:nvPr/>
        </p:nvSpPr>
        <p:spPr>
          <a:xfrm>
            <a:off x="8915400" y="4659480"/>
            <a:ext cx="11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9c12"/>
                </a:solidFill>
                <a:latin typeface="Bebas"/>
              </a:rPr>
              <a:t>15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9" name="TextBox 77"/>
          <p:cNvSpPr/>
          <p:nvPr/>
        </p:nvSpPr>
        <p:spPr>
          <a:xfrm>
            <a:off x="2313360" y="46054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392b"/>
                </a:solidFill>
                <a:latin typeface="Bebas"/>
              </a:rPr>
              <a:t>10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0" name="TextBox 78"/>
          <p:cNvSpPr/>
          <p:nvPr/>
        </p:nvSpPr>
        <p:spPr>
          <a:xfrm>
            <a:off x="8975520" y="233676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bb59"/>
                </a:solidFill>
                <a:latin typeface="Bebas"/>
              </a:rPr>
              <a:t>20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1" name="TextBox 79"/>
          <p:cNvSpPr/>
          <p:nvPr/>
        </p:nvSpPr>
        <p:spPr>
          <a:xfrm>
            <a:off x="2316600" y="23814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80b9"/>
                </a:solidFill>
                <a:latin typeface="Bebas"/>
              </a:rPr>
              <a:t>15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0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Poppins"/>
              </a:rPr>
              <a:t>PUZZLE DIAGRAM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63" name="Freeform 5"/>
          <p:cNvSpPr/>
          <p:nvPr/>
        </p:nvSpPr>
        <p:spPr>
          <a:xfrm rot="5400000">
            <a:off x="9180360" y="1952280"/>
            <a:ext cx="2082600" cy="2454480"/>
          </a:xfrm>
          <a:custGeom>
            <a:avLst/>
            <a:gdLst/>
            <a:ahLst/>
            <a:rect l="l" t="t" r="r" b="b"/>
            <a:pathLst>
              <a:path w="402" h="475">
                <a:moveTo>
                  <a:pt x="374" y="0"/>
                </a:moveTo>
                <a:cubicBezTo>
                  <a:pt x="374" y="0"/>
                  <a:pt x="402" y="92"/>
                  <a:pt x="374" y="120"/>
                </a:cubicBezTo>
                <a:cubicBezTo>
                  <a:pt x="349" y="145"/>
                  <a:pt x="294" y="96"/>
                  <a:pt x="269" y="120"/>
                </a:cubicBezTo>
                <a:cubicBezTo>
                  <a:pt x="244" y="145"/>
                  <a:pt x="244" y="201"/>
                  <a:pt x="269" y="225"/>
                </a:cubicBezTo>
                <a:cubicBezTo>
                  <a:pt x="294" y="250"/>
                  <a:pt x="349" y="201"/>
                  <a:pt x="374" y="225"/>
                </a:cubicBezTo>
                <a:cubicBezTo>
                  <a:pt x="402" y="254"/>
                  <a:pt x="374" y="346"/>
                  <a:pt x="374" y="346"/>
                </a:cubicBezTo>
                <a:cubicBezTo>
                  <a:pt x="374" y="346"/>
                  <a:pt x="282" y="317"/>
                  <a:pt x="254" y="346"/>
                </a:cubicBezTo>
                <a:cubicBezTo>
                  <a:pt x="229" y="370"/>
                  <a:pt x="279" y="426"/>
                  <a:pt x="254" y="451"/>
                </a:cubicBezTo>
                <a:cubicBezTo>
                  <a:pt x="229" y="475"/>
                  <a:pt x="174" y="475"/>
                  <a:pt x="149" y="451"/>
                </a:cubicBezTo>
                <a:cubicBezTo>
                  <a:pt x="124" y="426"/>
                  <a:pt x="174" y="370"/>
                  <a:pt x="149" y="346"/>
                </a:cubicBezTo>
                <a:cubicBezTo>
                  <a:pt x="120" y="317"/>
                  <a:pt x="29" y="346"/>
                  <a:pt x="29" y="346"/>
                </a:cubicBezTo>
                <a:cubicBezTo>
                  <a:pt x="29" y="346"/>
                  <a:pt x="0" y="254"/>
                  <a:pt x="29" y="225"/>
                </a:cubicBezTo>
                <a:cubicBezTo>
                  <a:pt x="53" y="201"/>
                  <a:pt x="109" y="250"/>
                  <a:pt x="134" y="225"/>
                </a:cubicBezTo>
                <a:cubicBezTo>
                  <a:pt x="158" y="201"/>
                  <a:pt x="158" y="145"/>
                  <a:pt x="134" y="120"/>
                </a:cubicBezTo>
                <a:cubicBezTo>
                  <a:pt x="109" y="96"/>
                  <a:pt x="53" y="145"/>
                  <a:pt x="29" y="120"/>
                </a:cubicBezTo>
                <a:cubicBezTo>
                  <a:pt x="0" y="92"/>
                  <a:pt x="29" y="0"/>
                  <a:pt x="29" y="0"/>
                </a:cubicBezTo>
                <a:cubicBezTo>
                  <a:pt x="144" y="0"/>
                  <a:pt x="259" y="0"/>
                  <a:pt x="374" y="0"/>
                </a:cubicBezTo>
                <a:close/>
              </a:path>
            </a:pathLst>
          </a:custGeom>
          <a:solidFill>
            <a:srgbClr val="954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4" name="Freeform 6"/>
          <p:cNvSpPr/>
          <p:nvPr/>
        </p:nvSpPr>
        <p:spPr>
          <a:xfrm rot="5400000">
            <a:off x="7132680" y="2219400"/>
            <a:ext cx="3137040" cy="1930320"/>
          </a:xfrm>
          <a:custGeom>
            <a:avLst/>
            <a:gdLst/>
            <a:ahLst/>
            <a:rect l="l" t="t" r="r" b="b"/>
            <a:pathLst>
              <a:path w="605" h="374">
                <a:moveTo>
                  <a:pt x="580" y="121"/>
                </a:moveTo>
                <a:cubicBezTo>
                  <a:pt x="555" y="96"/>
                  <a:pt x="500" y="145"/>
                  <a:pt x="475" y="121"/>
                </a:cubicBezTo>
                <a:cubicBezTo>
                  <a:pt x="453" y="99"/>
                  <a:pt x="465" y="37"/>
                  <a:pt x="472" y="12"/>
                </a:cubicBezTo>
                <a:cubicBezTo>
                  <a:pt x="471" y="12"/>
                  <a:pt x="471" y="12"/>
                  <a:pt x="471" y="12"/>
                </a:cubicBezTo>
                <a:cubicBezTo>
                  <a:pt x="471" y="12"/>
                  <a:pt x="432" y="0"/>
                  <a:pt x="399" y="0"/>
                </a:cubicBezTo>
                <a:cubicBezTo>
                  <a:pt x="381" y="0"/>
                  <a:pt x="369" y="3"/>
                  <a:pt x="363" y="9"/>
                </a:cubicBezTo>
                <a:cubicBezTo>
                  <a:pt x="356" y="16"/>
                  <a:pt x="360" y="29"/>
                  <a:pt x="366" y="50"/>
                </a:cubicBezTo>
                <a:cubicBezTo>
                  <a:pt x="373" y="72"/>
                  <a:pt x="380" y="97"/>
                  <a:pt x="363" y="114"/>
                </a:cubicBezTo>
                <a:cubicBezTo>
                  <a:pt x="349" y="128"/>
                  <a:pt x="327" y="136"/>
                  <a:pt x="302" y="136"/>
                </a:cubicBezTo>
                <a:cubicBezTo>
                  <a:pt x="278" y="136"/>
                  <a:pt x="255" y="128"/>
                  <a:pt x="241" y="114"/>
                </a:cubicBezTo>
                <a:cubicBezTo>
                  <a:pt x="224" y="97"/>
                  <a:pt x="232" y="72"/>
                  <a:pt x="239" y="50"/>
                </a:cubicBezTo>
                <a:cubicBezTo>
                  <a:pt x="245" y="30"/>
                  <a:pt x="248" y="16"/>
                  <a:pt x="241" y="9"/>
                </a:cubicBezTo>
                <a:cubicBezTo>
                  <a:pt x="235" y="3"/>
                  <a:pt x="223" y="0"/>
                  <a:pt x="206" y="0"/>
                </a:cubicBezTo>
                <a:cubicBezTo>
                  <a:pt x="173" y="0"/>
                  <a:pt x="133" y="12"/>
                  <a:pt x="133" y="12"/>
                </a:cubicBezTo>
                <a:cubicBezTo>
                  <a:pt x="133" y="12"/>
                  <a:pt x="133" y="12"/>
                  <a:pt x="133" y="12"/>
                </a:cubicBezTo>
                <a:cubicBezTo>
                  <a:pt x="139" y="37"/>
                  <a:pt x="152" y="99"/>
                  <a:pt x="130" y="121"/>
                </a:cubicBezTo>
                <a:cubicBezTo>
                  <a:pt x="105" y="145"/>
                  <a:pt x="49" y="96"/>
                  <a:pt x="25" y="121"/>
                </a:cubicBezTo>
                <a:cubicBezTo>
                  <a:pt x="0" y="145"/>
                  <a:pt x="0" y="201"/>
                  <a:pt x="25" y="226"/>
                </a:cubicBezTo>
                <a:cubicBezTo>
                  <a:pt x="49" y="251"/>
                  <a:pt x="105" y="201"/>
                  <a:pt x="130" y="226"/>
                </a:cubicBezTo>
                <a:cubicBezTo>
                  <a:pt x="158" y="254"/>
                  <a:pt x="130" y="346"/>
                  <a:pt x="130" y="346"/>
                </a:cubicBezTo>
                <a:cubicBezTo>
                  <a:pt x="130" y="346"/>
                  <a:pt x="221" y="374"/>
                  <a:pt x="250" y="346"/>
                </a:cubicBezTo>
                <a:cubicBezTo>
                  <a:pt x="275" y="321"/>
                  <a:pt x="225" y="266"/>
                  <a:pt x="250" y="241"/>
                </a:cubicBezTo>
                <a:cubicBezTo>
                  <a:pt x="275" y="216"/>
                  <a:pt x="330" y="216"/>
                  <a:pt x="355" y="241"/>
                </a:cubicBezTo>
                <a:cubicBezTo>
                  <a:pt x="380" y="266"/>
                  <a:pt x="330" y="321"/>
                  <a:pt x="355" y="346"/>
                </a:cubicBezTo>
                <a:cubicBezTo>
                  <a:pt x="383" y="374"/>
                  <a:pt x="475" y="346"/>
                  <a:pt x="475" y="346"/>
                </a:cubicBezTo>
                <a:cubicBezTo>
                  <a:pt x="475" y="346"/>
                  <a:pt x="447" y="254"/>
                  <a:pt x="475" y="226"/>
                </a:cubicBezTo>
                <a:cubicBezTo>
                  <a:pt x="500" y="201"/>
                  <a:pt x="555" y="251"/>
                  <a:pt x="580" y="226"/>
                </a:cubicBezTo>
                <a:cubicBezTo>
                  <a:pt x="605" y="201"/>
                  <a:pt x="605" y="145"/>
                  <a:pt x="580" y="121"/>
                </a:cubicBezTo>
                <a:close/>
              </a:path>
            </a:pathLst>
          </a:custGeom>
          <a:solidFill>
            <a:srgbClr val="41b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5" name="Freeform 7"/>
          <p:cNvSpPr/>
          <p:nvPr/>
        </p:nvSpPr>
        <p:spPr>
          <a:xfrm rot="5400000">
            <a:off x="5898960" y="1663200"/>
            <a:ext cx="2082600" cy="3032280"/>
          </a:xfrm>
          <a:custGeom>
            <a:avLst/>
            <a:gdLst/>
            <a:ahLst/>
            <a:rect l="l" t="t" r="r" b="b"/>
            <a:pathLst>
              <a:path w="402" h="587">
                <a:moveTo>
                  <a:pt x="374" y="232"/>
                </a:moveTo>
                <a:cubicBezTo>
                  <a:pt x="396" y="210"/>
                  <a:pt x="384" y="149"/>
                  <a:pt x="377" y="123"/>
                </a:cubicBezTo>
                <a:cubicBezTo>
                  <a:pt x="373" y="124"/>
                  <a:pt x="333" y="136"/>
                  <a:pt x="298" y="136"/>
                </a:cubicBezTo>
                <a:cubicBezTo>
                  <a:pt x="274" y="136"/>
                  <a:pt x="256" y="131"/>
                  <a:pt x="246" y="120"/>
                </a:cubicBezTo>
                <a:cubicBezTo>
                  <a:pt x="228" y="103"/>
                  <a:pt x="236" y="78"/>
                  <a:pt x="243" y="56"/>
                </a:cubicBezTo>
                <a:cubicBezTo>
                  <a:pt x="249" y="36"/>
                  <a:pt x="252" y="22"/>
                  <a:pt x="246" y="15"/>
                </a:cubicBezTo>
                <a:cubicBezTo>
                  <a:pt x="236" y="6"/>
                  <a:pt x="220" y="0"/>
                  <a:pt x="201" y="0"/>
                </a:cubicBezTo>
                <a:cubicBezTo>
                  <a:pt x="183" y="0"/>
                  <a:pt x="167" y="6"/>
                  <a:pt x="157" y="15"/>
                </a:cubicBezTo>
                <a:cubicBezTo>
                  <a:pt x="150" y="22"/>
                  <a:pt x="154" y="36"/>
                  <a:pt x="160" y="56"/>
                </a:cubicBezTo>
                <a:cubicBezTo>
                  <a:pt x="167" y="78"/>
                  <a:pt x="174" y="103"/>
                  <a:pt x="157" y="120"/>
                </a:cubicBezTo>
                <a:cubicBezTo>
                  <a:pt x="146" y="131"/>
                  <a:pt x="129" y="136"/>
                  <a:pt x="105" y="136"/>
                </a:cubicBezTo>
                <a:cubicBezTo>
                  <a:pt x="69" y="136"/>
                  <a:pt x="30" y="124"/>
                  <a:pt x="26" y="123"/>
                </a:cubicBezTo>
                <a:cubicBezTo>
                  <a:pt x="19" y="149"/>
                  <a:pt x="6" y="210"/>
                  <a:pt x="29" y="232"/>
                </a:cubicBezTo>
                <a:cubicBezTo>
                  <a:pt x="53" y="257"/>
                  <a:pt x="109" y="207"/>
                  <a:pt x="134" y="232"/>
                </a:cubicBezTo>
                <a:cubicBezTo>
                  <a:pt x="158" y="257"/>
                  <a:pt x="158" y="312"/>
                  <a:pt x="134" y="337"/>
                </a:cubicBezTo>
                <a:cubicBezTo>
                  <a:pt x="109" y="362"/>
                  <a:pt x="53" y="312"/>
                  <a:pt x="29" y="337"/>
                </a:cubicBezTo>
                <a:cubicBezTo>
                  <a:pt x="0" y="365"/>
                  <a:pt x="29" y="457"/>
                  <a:pt x="29" y="457"/>
                </a:cubicBezTo>
                <a:cubicBezTo>
                  <a:pt x="29" y="457"/>
                  <a:pt x="120" y="429"/>
                  <a:pt x="149" y="457"/>
                </a:cubicBezTo>
                <a:cubicBezTo>
                  <a:pt x="174" y="482"/>
                  <a:pt x="124" y="538"/>
                  <a:pt x="149" y="562"/>
                </a:cubicBezTo>
                <a:cubicBezTo>
                  <a:pt x="174" y="587"/>
                  <a:pt x="229" y="587"/>
                  <a:pt x="254" y="562"/>
                </a:cubicBezTo>
                <a:cubicBezTo>
                  <a:pt x="279" y="538"/>
                  <a:pt x="229" y="482"/>
                  <a:pt x="254" y="457"/>
                </a:cubicBezTo>
                <a:cubicBezTo>
                  <a:pt x="282" y="429"/>
                  <a:pt x="374" y="457"/>
                  <a:pt x="374" y="457"/>
                </a:cubicBezTo>
                <a:cubicBezTo>
                  <a:pt x="374" y="457"/>
                  <a:pt x="402" y="365"/>
                  <a:pt x="374" y="337"/>
                </a:cubicBezTo>
                <a:cubicBezTo>
                  <a:pt x="349" y="312"/>
                  <a:pt x="294" y="362"/>
                  <a:pt x="269" y="337"/>
                </a:cubicBezTo>
                <a:cubicBezTo>
                  <a:pt x="244" y="312"/>
                  <a:pt x="244" y="257"/>
                  <a:pt x="269" y="232"/>
                </a:cubicBezTo>
                <a:cubicBezTo>
                  <a:pt x="294" y="207"/>
                  <a:pt x="349" y="257"/>
                  <a:pt x="374" y="232"/>
                </a:cubicBezTo>
                <a:close/>
              </a:path>
            </a:pathLst>
          </a:cu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6" name="Freeform 8"/>
          <p:cNvSpPr/>
          <p:nvPr/>
        </p:nvSpPr>
        <p:spPr>
          <a:xfrm rot="5400000">
            <a:off x="3564000" y="2216160"/>
            <a:ext cx="3137040" cy="1936800"/>
          </a:xfrm>
          <a:custGeom>
            <a:avLst/>
            <a:gdLst/>
            <a:ahLst/>
            <a:rect l="l" t="t" r="r" b="b"/>
            <a:pathLst>
              <a:path w="605" h="375">
                <a:moveTo>
                  <a:pt x="580" y="121"/>
                </a:moveTo>
                <a:cubicBezTo>
                  <a:pt x="555" y="97"/>
                  <a:pt x="500" y="146"/>
                  <a:pt x="475" y="121"/>
                </a:cubicBezTo>
                <a:cubicBezTo>
                  <a:pt x="453" y="99"/>
                  <a:pt x="465" y="38"/>
                  <a:pt x="472" y="12"/>
                </a:cubicBezTo>
                <a:cubicBezTo>
                  <a:pt x="471" y="12"/>
                  <a:pt x="471" y="12"/>
                  <a:pt x="471" y="12"/>
                </a:cubicBezTo>
                <a:cubicBezTo>
                  <a:pt x="471" y="12"/>
                  <a:pt x="432" y="0"/>
                  <a:pt x="399" y="0"/>
                </a:cubicBezTo>
                <a:cubicBezTo>
                  <a:pt x="381" y="0"/>
                  <a:pt x="369" y="3"/>
                  <a:pt x="363" y="9"/>
                </a:cubicBezTo>
                <a:cubicBezTo>
                  <a:pt x="356" y="16"/>
                  <a:pt x="360" y="30"/>
                  <a:pt x="366" y="50"/>
                </a:cubicBezTo>
                <a:cubicBezTo>
                  <a:pt x="373" y="72"/>
                  <a:pt x="380" y="97"/>
                  <a:pt x="363" y="115"/>
                </a:cubicBezTo>
                <a:cubicBezTo>
                  <a:pt x="349" y="129"/>
                  <a:pt x="327" y="137"/>
                  <a:pt x="302" y="137"/>
                </a:cubicBezTo>
                <a:cubicBezTo>
                  <a:pt x="278" y="137"/>
                  <a:pt x="255" y="129"/>
                  <a:pt x="241" y="115"/>
                </a:cubicBezTo>
                <a:cubicBezTo>
                  <a:pt x="224" y="97"/>
                  <a:pt x="232" y="72"/>
                  <a:pt x="239" y="50"/>
                </a:cubicBezTo>
                <a:cubicBezTo>
                  <a:pt x="245" y="30"/>
                  <a:pt x="248" y="16"/>
                  <a:pt x="241" y="9"/>
                </a:cubicBezTo>
                <a:cubicBezTo>
                  <a:pt x="235" y="3"/>
                  <a:pt x="223" y="0"/>
                  <a:pt x="206" y="0"/>
                </a:cubicBezTo>
                <a:cubicBezTo>
                  <a:pt x="173" y="0"/>
                  <a:pt x="133" y="12"/>
                  <a:pt x="133" y="12"/>
                </a:cubicBezTo>
                <a:cubicBezTo>
                  <a:pt x="133" y="12"/>
                  <a:pt x="133" y="12"/>
                  <a:pt x="133" y="12"/>
                </a:cubicBezTo>
                <a:cubicBezTo>
                  <a:pt x="139" y="38"/>
                  <a:pt x="152" y="99"/>
                  <a:pt x="130" y="121"/>
                </a:cubicBezTo>
                <a:cubicBezTo>
                  <a:pt x="105" y="146"/>
                  <a:pt x="49" y="97"/>
                  <a:pt x="25" y="121"/>
                </a:cubicBezTo>
                <a:cubicBezTo>
                  <a:pt x="0" y="146"/>
                  <a:pt x="0" y="202"/>
                  <a:pt x="25" y="226"/>
                </a:cubicBezTo>
                <a:cubicBezTo>
                  <a:pt x="49" y="251"/>
                  <a:pt x="105" y="202"/>
                  <a:pt x="130" y="226"/>
                </a:cubicBezTo>
                <a:cubicBezTo>
                  <a:pt x="158" y="255"/>
                  <a:pt x="130" y="347"/>
                  <a:pt x="130" y="347"/>
                </a:cubicBezTo>
                <a:cubicBezTo>
                  <a:pt x="130" y="347"/>
                  <a:pt x="221" y="375"/>
                  <a:pt x="250" y="347"/>
                </a:cubicBezTo>
                <a:cubicBezTo>
                  <a:pt x="275" y="322"/>
                  <a:pt x="225" y="266"/>
                  <a:pt x="250" y="241"/>
                </a:cubicBezTo>
                <a:cubicBezTo>
                  <a:pt x="275" y="217"/>
                  <a:pt x="330" y="217"/>
                  <a:pt x="355" y="241"/>
                </a:cubicBezTo>
                <a:cubicBezTo>
                  <a:pt x="380" y="266"/>
                  <a:pt x="330" y="322"/>
                  <a:pt x="355" y="347"/>
                </a:cubicBezTo>
                <a:cubicBezTo>
                  <a:pt x="383" y="375"/>
                  <a:pt x="475" y="347"/>
                  <a:pt x="475" y="347"/>
                </a:cubicBezTo>
                <a:cubicBezTo>
                  <a:pt x="475" y="347"/>
                  <a:pt x="447" y="255"/>
                  <a:pt x="475" y="226"/>
                </a:cubicBezTo>
                <a:cubicBezTo>
                  <a:pt x="500" y="202"/>
                  <a:pt x="555" y="251"/>
                  <a:pt x="580" y="226"/>
                </a:cubicBezTo>
                <a:cubicBezTo>
                  <a:pt x="605" y="202"/>
                  <a:pt x="605" y="146"/>
                  <a:pt x="580" y="121"/>
                </a:cubicBezTo>
                <a:close/>
              </a:path>
            </a:pathLst>
          </a:cu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7" name="Freeform 9"/>
          <p:cNvSpPr/>
          <p:nvPr/>
        </p:nvSpPr>
        <p:spPr>
          <a:xfrm rot="5400000">
            <a:off x="2327760" y="1662480"/>
            <a:ext cx="2082600" cy="3033720"/>
          </a:xfrm>
          <a:custGeom>
            <a:avLst/>
            <a:gdLst/>
            <a:ahLst/>
            <a:rect l="l" t="t" r="r" b="b"/>
            <a:pathLst>
              <a:path w="402" h="587">
                <a:moveTo>
                  <a:pt x="374" y="232"/>
                </a:moveTo>
                <a:cubicBezTo>
                  <a:pt x="396" y="209"/>
                  <a:pt x="384" y="148"/>
                  <a:pt x="377" y="123"/>
                </a:cubicBezTo>
                <a:cubicBezTo>
                  <a:pt x="373" y="124"/>
                  <a:pt x="333" y="136"/>
                  <a:pt x="298" y="136"/>
                </a:cubicBezTo>
                <a:cubicBezTo>
                  <a:pt x="274" y="136"/>
                  <a:pt x="256" y="130"/>
                  <a:pt x="246" y="120"/>
                </a:cubicBezTo>
                <a:cubicBezTo>
                  <a:pt x="228" y="102"/>
                  <a:pt x="236" y="77"/>
                  <a:pt x="243" y="56"/>
                </a:cubicBezTo>
                <a:cubicBezTo>
                  <a:pt x="249" y="35"/>
                  <a:pt x="252" y="22"/>
                  <a:pt x="246" y="15"/>
                </a:cubicBezTo>
                <a:cubicBezTo>
                  <a:pt x="236" y="5"/>
                  <a:pt x="220" y="0"/>
                  <a:pt x="201" y="0"/>
                </a:cubicBezTo>
                <a:cubicBezTo>
                  <a:pt x="183" y="0"/>
                  <a:pt x="166" y="5"/>
                  <a:pt x="157" y="15"/>
                </a:cubicBezTo>
                <a:cubicBezTo>
                  <a:pt x="150" y="22"/>
                  <a:pt x="154" y="35"/>
                  <a:pt x="160" y="55"/>
                </a:cubicBezTo>
                <a:cubicBezTo>
                  <a:pt x="167" y="77"/>
                  <a:pt x="174" y="102"/>
                  <a:pt x="157" y="120"/>
                </a:cubicBezTo>
                <a:cubicBezTo>
                  <a:pt x="146" y="130"/>
                  <a:pt x="129" y="136"/>
                  <a:pt x="105" y="136"/>
                </a:cubicBezTo>
                <a:cubicBezTo>
                  <a:pt x="69" y="136"/>
                  <a:pt x="30" y="124"/>
                  <a:pt x="26" y="123"/>
                </a:cubicBezTo>
                <a:cubicBezTo>
                  <a:pt x="19" y="148"/>
                  <a:pt x="6" y="209"/>
                  <a:pt x="29" y="232"/>
                </a:cubicBezTo>
                <a:cubicBezTo>
                  <a:pt x="53" y="256"/>
                  <a:pt x="109" y="207"/>
                  <a:pt x="134" y="232"/>
                </a:cubicBezTo>
                <a:cubicBezTo>
                  <a:pt x="158" y="256"/>
                  <a:pt x="158" y="312"/>
                  <a:pt x="134" y="337"/>
                </a:cubicBezTo>
                <a:cubicBezTo>
                  <a:pt x="109" y="361"/>
                  <a:pt x="53" y="312"/>
                  <a:pt x="29" y="337"/>
                </a:cubicBezTo>
                <a:cubicBezTo>
                  <a:pt x="0" y="365"/>
                  <a:pt x="29" y="457"/>
                  <a:pt x="29" y="457"/>
                </a:cubicBezTo>
                <a:cubicBezTo>
                  <a:pt x="29" y="457"/>
                  <a:pt x="120" y="428"/>
                  <a:pt x="149" y="457"/>
                </a:cubicBezTo>
                <a:cubicBezTo>
                  <a:pt x="174" y="482"/>
                  <a:pt x="124" y="537"/>
                  <a:pt x="149" y="562"/>
                </a:cubicBezTo>
                <a:cubicBezTo>
                  <a:pt x="174" y="587"/>
                  <a:pt x="229" y="587"/>
                  <a:pt x="254" y="562"/>
                </a:cubicBezTo>
                <a:cubicBezTo>
                  <a:pt x="279" y="537"/>
                  <a:pt x="229" y="482"/>
                  <a:pt x="254" y="457"/>
                </a:cubicBezTo>
                <a:cubicBezTo>
                  <a:pt x="282" y="428"/>
                  <a:pt x="374" y="457"/>
                  <a:pt x="374" y="457"/>
                </a:cubicBezTo>
                <a:cubicBezTo>
                  <a:pt x="374" y="457"/>
                  <a:pt x="402" y="365"/>
                  <a:pt x="374" y="337"/>
                </a:cubicBezTo>
                <a:cubicBezTo>
                  <a:pt x="349" y="312"/>
                  <a:pt x="294" y="361"/>
                  <a:pt x="269" y="337"/>
                </a:cubicBezTo>
                <a:cubicBezTo>
                  <a:pt x="244" y="312"/>
                  <a:pt x="244" y="256"/>
                  <a:pt x="269" y="232"/>
                </a:cubicBezTo>
                <a:cubicBezTo>
                  <a:pt x="294" y="207"/>
                  <a:pt x="349" y="256"/>
                  <a:pt x="374" y="232"/>
                </a:cubicBez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8" name="Freeform 10"/>
          <p:cNvSpPr/>
          <p:nvPr/>
        </p:nvSpPr>
        <p:spPr>
          <a:xfrm rot="5400000">
            <a:off x="67680" y="2290680"/>
            <a:ext cx="3137040" cy="1787400"/>
          </a:xfrm>
          <a:custGeom>
            <a:avLst/>
            <a:gdLst/>
            <a:ahLst/>
            <a:rect l="l" t="t" r="r" b="b"/>
            <a:pathLst>
              <a:path w="605" h="346">
                <a:moveTo>
                  <a:pt x="580" y="121"/>
                </a:moveTo>
                <a:cubicBezTo>
                  <a:pt x="555" y="96"/>
                  <a:pt x="500" y="146"/>
                  <a:pt x="475" y="121"/>
                </a:cubicBezTo>
                <a:cubicBezTo>
                  <a:pt x="453" y="99"/>
                  <a:pt x="465" y="38"/>
                  <a:pt x="472" y="12"/>
                </a:cubicBezTo>
                <a:cubicBezTo>
                  <a:pt x="471" y="12"/>
                  <a:pt x="471" y="12"/>
                  <a:pt x="471" y="12"/>
                </a:cubicBezTo>
                <a:cubicBezTo>
                  <a:pt x="471" y="12"/>
                  <a:pt x="432" y="0"/>
                  <a:pt x="399" y="0"/>
                </a:cubicBezTo>
                <a:cubicBezTo>
                  <a:pt x="381" y="0"/>
                  <a:pt x="369" y="3"/>
                  <a:pt x="363" y="9"/>
                </a:cubicBezTo>
                <a:cubicBezTo>
                  <a:pt x="356" y="16"/>
                  <a:pt x="360" y="30"/>
                  <a:pt x="366" y="50"/>
                </a:cubicBezTo>
                <a:cubicBezTo>
                  <a:pt x="373" y="72"/>
                  <a:pt x="380" y="97"/>
                  <a:pt x="363" y="114"/>
                </a:cubicBezTo>
                <a:cubicBezTo>
                  <a:pt x="349" y="128"/>
                  <a:pt x="327" y="136"/>
                  <a:pt x="302" y="136"/>
                </a:cubicBezTo>
                <a:cubicBezTo>
                  <a:pt x="278" y="136"/>
                  <a:pt x="255" y="128"/>
                  <a:pt x="241" y="114"/>
                </a:cubicBezTo>
                <a:cubicBezTo>
                  <a:pt x="224" y="97"/>
                  <a:pt x="232" y="72"/>
                  <a:pt x="239" y="50"/>
                </a:cubicBezTo>
                <a:cubicBezTo>
                  <a:pt x="245" y="30"/>
                  <a:pt x="248" y="16"/>
                  <a:pt x="241" y="9"/>
                </a:cubicBezTo>
                <a:cubicBezTo>
                  <a:pt x="235" y="3"/>
                  <a:pt x="223" y="0"/>
                  <a:pt x="206" y="0"/>
                </a:cubicBezTo>
                <a:cubicBezTo>
                  <a:pt x="173" y="0"/>
                  <a:pt x="133" y="12"/>
                  <a:pt x="133" y="12"/>
                </a:cubicBezTo>
                <a:cubicBezTo>
                  <a:pt x="133" y="12"/>
                  <a:pt x="133" y="12"/>
                  <a:pt x="133" y="12"/>
                </a:cubicBezTo>
                <a:cubicBezTo>
                  <a:pt x="139" y="38"/>
                  <a:pt x="152" y="99"/>
                  <a:pt x="130" y="121"/>
                </a:cubicBezTo>
                <a:cubicBezTo>
                  <a:pt x="105" y="146"/>
                  <a:pt x="49" y="96"/>
                  <a:pt x="25" y="121"/>
                </a:cubicBezTo>
                <a:cubicBezTo>
                  <a:pt x="0" y="146"/>
                  <a:pt x="0" y="201"/>
                  <a:pt x="25" y="226"/>
                </a:cubicBezTo>
                <a:cubicBezTo>
                  <a:pt x="49" y="251"/>
                  <a:pt x="105" y="201"/>
                  <a:pt x="130" y="226"/>
                </a:cubicBezTo>
                <a:cubicBezTo>
                  <a:pt x="158" y="254"/>
                  <a:pt x="130" y="346"/>
                  <a:pt x="130" y="346"/>
                </a:cubicBezTo>
                <a:cubicBezTo>
                  <a:pt x="245" y="346"/>
                  <a:pt x="360" y="346"/>
                  <a:pt x="475" y="346"/>
                </a:cubicBezTo>
                <a:cubicBezTo>
                  <a:pt x="475" y="346"/>
                  <a:pt x="447" y="254"/>
                  <a:pt x="475" y="226"/>
                </a:cubicBezTo>
                <a:cubicBezTo>
                  <a:pt x="500" y="201"/>
                  <a:pt x="555" y="251"/>
                  <a:pt x="580" y="226"/>
                </a:cubicBezTo>
                <a:cubicBezTo>
                  <a:pt x="605" y="201"/>
                  <a:pt x="605" y="146"/>
                  <a:pt x="580" y="121"/>
                </a:cubicBezTo>
                <a:close/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9" name="TextBox 27"/>
          <p:cNvSpPr/>
          <p:nvPr/>
        </p:nvSpPr>
        <p:spPr>
          <a:xfrm>
            <a:off x="954000" y="491976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70" name="Rectangle 28"/>
          <p:cNvSpPr/>
          <p:nvPr/>
        </p:nvSpPr>
        <p:spPr>
          <a:xfrm>
            <a:off x="333360" y="5119560"/>
            <a:ext cx="2448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71" name="TextBox 29"/>
          <p:cNvSpPr/>
          <p:nvPr/>
        </p:nvSpPr>
        <p:spPr>
          <a:xfrm>
            <a:off x="2792520" y="428004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72" name="Rectangle 30"/>
          <p:cNvSpPr/>
          <p:nvPr/>
        </p:nvSpPr>
        <p:spPr>
          <a:xfrm>
            <a:off x="2171880" y="4479840"/>
            <a:ext cx="2447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73" name="TextBox 31"/>
          <p:cNvSpPr/>
          <p:nvPr/>
        </p:nvSpPr>
        <p:spPr>
          <a:xfrm>
            <a:off x="4579920" y="491976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74" name="Rectangle 32"/>
          <p:cNvSpPr/>
          <p:nvPr/>
        </p:nvSpPr>
        <p:spPr>
          <a:xfrm>
            <a:off x="3959280" y="5119560"/>
            <a:ext cx="2448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75" name="TextBox 33"/>
          <p:cNvSpPr/>
          <p:nvPr/>
        </p:nvSpPr>
        <p:spPr>
          <a:xfrm>
            <a:off x="6418080" y="428004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76" name="Rectangle 34"/>
          <p:cNvSpPr/>
          <p:nvPr/>
        </p:nvSpPr>
        <p:spPr>
          <a:xfrm>
            <a:off x="5797440" y="4479840"/>
            <a:ext cx="2448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77" name="TextBox 35"/>
          <p:cNvSpPr/>
          <p:nvPr/>
        </p:nvSpPr>
        <p:spPr>
          <a:xfrm>
            <a:off x="8192880" y="491976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78" name="Rectangle 36"/>
          <p:cNvSpPr/>
          <p:nvPr/>
        </p:nvSpPr>
        <p:spPr>
          <a:xfrm>
            <a:off x="7572240" y="5119560"/>
            <a:ext cx="2448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79" name="TextBox 37"/>
          <p:cNvSpPr/>
          <p:nvPr/>
        </p:nvSpPr>
        <p:spPr>
          <a:xfrm>
            <a:off x="10031400" y="428004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0" name="Rectangle 38"/>
          <p:cNvSpPr/>
          <p:nvPr/>
        </p:nvSpPr>
        <p:spPr>
          <a:xfrm>
            <a:off x="9410760" y="4479840"/>
            <a:ext cx="2448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581" name="Group 20" descr=""/>
          <p:cNvPicPr/>
          <p:nvPr/>
        </p:nvPicPr>
        <p:blipFill>
          <a:blip r:embed="rId1"/>
          <a:stretch/>
        </p:blipFill>
        <p:spPr>
          <a:xfrm>
            <a:off x="1219320" y="2962440"/>
            <a:ext cx="401400" cy="403200"/>
          </a:xfrm>
          <a:prstGeom prst="rect">
            <a:avLst/>
          </a:prstGeom>
          <a:ln w="0">
            <a:noFill/>
          </a:ln>
        </p:spPr>
      </p:pic>
      <p:pic>
        <p:nvPicPr>
          <p:cNvPr id="582" name="Group 46" descr=""/>
          <p:cNvPicPr/>
          <p:nvPr/>
        </p:nvPicPr>
        <p:blipFill>
          <a:blip r:embed="rId2"/>
          <a:stretch/>
        </p:blipFill>
        <p:spPr>
          <a:xfrm>
            <a:off x="10339560" y="2975040"/>
            <a:ext cx="401400" cy="377640"/>
          </a:xfrm>
          <a:prstGeom prst="rect">
            <a:avLst/>
          </a:prstGeom>
          <a:ln w="0">
            <a:noFill/>
          </a:ln>
        </p:spPr>
      </p:pic>
      <p:sp>
        <p:nvSpPr>
          <p:cNvPr id="583" name="Freeform 113"/>
          <p:cNvSpPr/>
          <p:nvPr/>
        </p:nvSpPr>
        <p:spPr>
          <a:xfrm>
            <a:off x="8547120" y="2963880"/>
            <a:ext cx="411120" cy="39996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584" name="Group 50" descr=""/>
          <p:cNvPicPr/>
          <p:nvPr/>
        </p:nvPicPr>
        <p:blipFill>
          <a:blip r:embed="rId3"/>
          <a:stretch/>
        </p:blipFill>
        <p:spPr>
          <a:xfrm>
            <a:off x="5059440" y="2962440"/>
            <a:ext cx="274680" cy="403200"/>
          </a:xfrm>
          <a:prstGeom prst="rect">
            <a:avLst/>
          </a:prstGeom>
          <a:ln w="0">
            <a:noFill/>
          </a:ln>
        </p:spPr>
      </p:pic>
      <p:pic>
        <p:nvPicPr>
          <p:cNvPr id="585" name="Group 53" descr=""/>
          <p:cNvPicPr/>
          <p:nvPr/>
        </p:nvPicPr>
        <p:blipFill>
          <a:blip r:embed="rId4"/>
          <a:stretch/>
        </p:blipFill>
        <p:spPr>
          <a:xfrm>
            <a:off x="3267000" y="2962440"/>
            <a:ext cx="304920" cy="403200"/>
          </a:xfrm>
          <a:prstGeom prst="rect">
            <a:avLst/>
          </a:prstGeom>
          <a:ln w="0">
            <a:noFill/>
          </a:ln>
        </p:spPr>
      </p:pic>
      <p:pic>
        <p:nvPicPr>
          <p:cNvPr id="586" name="Group 56" descr=""/>
          <p:cNvPicPr/>
          <p:nvPr/>
        </p:nvPicPr>
        <p:blipFill>
          <a:blip r:embed="rId5"/>
          <a:stretch/>
        </p:blipFill>
        <p:spPr>
          <a:xfrm>
            <a:off x="6802560" y="2962440"/>
            <a:ext cx="40320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nodeType="clickEffect" fill="hold">
                      <p:stCondLst>
                        <p:cond delay="0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Poppins"/>
              </a:rPr>
              <a:t>BRAIN PUZZLE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88" name="Freeform 5"/>
          <p:cNvSpPr/>
          <p:nvPr/>
        </p:nvSpPr>
        <p:spPr>
          <a:xfrm>
            <a:off x="3751200" y="1825560"/>
            <a:ext cx="4442040" cy="6059520"/>
          </a:xfrm>
          <a:custGeom>
            <a:avLst/>
            <a:gdLst/>
            <a:ahLst/>
            <a:rect l="l" t="t" r="r" b="b"/>
            <a:pathLst>
              <a:path w="1971" h="2690">
                <a:moveTo>
                  <a:pt x="1842" y="1073"/>
                </a:moveTo>
                <a:cubicBezTo>
                  <a:pt x="1842" y="1073"/>
                  <a:pt x="1971" y="771"/>
                  <a:pt x="1853" y="450"/>
                </a:cubicBezTo>
                <a:cubicBezTo>
                  <a:pt x="1735" y="128"/>
                  <a:pt x="1358" y="0"/>
                  <a:pt x="1096" y="0"/>
                </a:cubicBezTo>
                <a:cubicBezTo>
                  <a:pt x="834" y="1"/>
                  <a:pt x="484" y="90"/>
                  <a:pt x="292" y="491"/>
                </a:cubicBezTo>
                <a:cubicBezTo>
                  <a:pt x="292" y="491"/>
                  <a:pt x="194" y="715"/>
                  <a:pt x="202" y="836"/>
                </a:cubicBezTo>
                <a:cubicBezTo>
                  <a:pt x="202" y="836"/>
                  <a:pt x="284" y="905"/>
                  <a:pt x="211" y="986"/>
                </a:cubicBezTo>
                <a:cubicBezTo>
                  <a:pt x="142" y="1062"/>
                  <a:pt x="22" y="1228"/>
                  <a:pt x="22" y="1228"/>
                </a:cubicBezTo>
                <a:cubicBezTo>
                  <a:pt x="22" y="1228"/>
                  <a:pt x="0" y="1275"/>
                  <a:pt x="44" y="1297"/>
                </a:cubicBezTo>
                <a:cubicBezTo>
                  <a:pt x="89" y="1319"/>
                  <a:pt x="123" y="1319"/>
                  <a:pt x="150" y="1340"/>
                </a:cubicBezTo>
                <a:cubicBezTo>
                  <a:pt x="177" y="1362"/>
                  <a:pt x="185" y="1381"/>
                  <a:pt x="152" y="1411"/>
                </a:cubicBezTo>
                <a:cubicBezTo>
                  <a:pt x="119" y="1442"/>
                  <a:pt x="132" y="1484"/>
                  <a:pt x="155" y="1499"/>
                </a:cubicBezTo>
                <a:cubicBezTo>
                  <a:pt x="179" y="1514"/>
                  <a:pt x="189" y="1519"/>
                  <a:pt x="189" y="1519"/>
                </a:cubicBezTo>
                <a:cubicBezTo>
                  <a:pt x="189" y="1519"/>
                  <a:pt x="137" y="1559"/>
                  <a:pt x="185" y="1600"/>
                </a:cubicBezTo>
                <a:cubicBezTo>
                  <a:pt x="232" y="1640"/>
                  <a:pt x="223" y="1661"/>
                  <a:pt x="219" y="1688"/>
                </a:cubicBezTo>
                <a:cubicBezTo>
                  <a:pt x="215" y="1714"/>
                  <a:pt x="192" y="1753"/>
                  <a:pt x="209" y="1788"/>
                </a:cubicBezTo>
                <a:cubicBezTo>
                  <a:pt x="225" y="1823"/>
                  <a:pt x="258" y="1852"/>
                  <a:pt x="346" y="1864"/>
                </a:cubicBezTo>
                <a:cubicBezTo>
                  <a:pt x="346" y="1864"/>
                  <a:pt x="544" y="1854"/>
                  <a:pt x="594" y="1865"/>
                </a:cubicBezTo>
                <a:cubicBezTo>
                  <a:pt x="637" y="1872"/>
                  <a:pt x="640" y="1874"/>
                  <a:pt x="640" y="1874"/>
                </a:cubicBezTo>
                <a:cubicBezTo>
                  <a:pt x="640" y="1874"/>
                  <a:pt x="702" y="1907"/>
                  <a:pt x="720" y="2012"/>
                </a:cubicBezTo>
                <a:cubicBezTo>
                  <a:pt x="739" y="2118"/>
                  <a:pt x="746" y="2161"/>
                  <a:pt x="746" y="2161"/>
                </a:cubicBezTo>
                <a:cubicBezTo>
                  <a:pt x="746" y="2161"/>
                  <a:pt x="745" y="2556"/>
                  <a:pt x="506" y="2690"/>
                </a:cubicBezTo>
                <a:cubicBezTo>
                  <a:pt x="1804" y="2690"/>
                  <a:pt x="1804" y="2690"/>
                  <a:pt x="1804" y="2690"/>
                </a:cubicBezTo>
                <a:cubicBezTo>
                  <a:pt x="1804" y="2690"/>
                  <a:pt x="1580" y="2093"/>
                  <a:pt x="1534" y="1847"/>
                </a:cubicBezTo>
                <a:cubicBezTo>
                  <a:pt x="1534" y="1847"/>
                  <a:pt x="1500" y="1696"/>
                  <a:pt x="1511" y="1635"/>
                </a:cubicBezTo>
                <a:cubicBezTo>
                  <a:pt x="1522" y="1573"/>
                  <a:pt x="1516" y="1563"/>
                  <a:pt x="1593" y="1454"/>
                </a:cubicBezTo>
                <a:cubicBezTo>
                  <a:pt x="1669" y="1346"/>
                  <a:pt x="1808" y="1159"/>
                  <a:pt x="1826" y="1107"/>
                </a:cubicBezTo>
                <a:cubicBezTo>
                  <a:pt x="1829" y="1101"/>
                  <a:pt x="1842" y="1073"/>
                  <a:pt x="1842" y="1073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9" name="Freeform 6"/>
          <p:cNvSpPr/>
          <p:nvPr/>
        </p:nvSpPr>
        <p:spPr>
          <a:xfrm>
            <a:off x="5921280" y="3240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0" name="Freeform 7"/>
          <p:cNvSpPr/>
          <p:nvPr/>
        </p:nvSpPr>
        <p:spPr>
          <a:xfrm>
            <a:off x="5937120" y="2021040"/>
            <a:ext cx="1568520" cy="1568160"/>
          </a:xfrm>
          <a:custGeom>
            <a:avLst/>
            <a:gdLst/>
            <a:ahLst/>
            <a:rect l="l" t="t" r="r" b="b"/>
            <a:pathLst>
              <a:path w="696" h="696">
                <a:moveTo>
                  <a:pt x="469" y="380"/>
                </a:moveTo>
                <a:cubicBezTo>
                  <a:pt x="463" y="374"/>
                  <a:pt x="455" y="371"/>
                  <a:pt x="447" y="370"/>
                </a:cubicBezTo>
                <a:cubicBezTo>
                  <a:pt x="447" y="370"/>
                  <a:pt x="447" y="370"/>
                  <a:pt x="447" y="370"/>
                </a:cubicBezTo>
                <a:cubicBezTo>
                  <a:pt x="445" y="370"/>
                  <a:pt x="443" y="369"/>
                  <a:pt x="440" y="370"/>
                </a:cubicBezTo>
                <a:cubicBezTo>
                  <a:pt x="426" y="368"/>
                  <a:pt x="423" y="362"/>
                  <a:pt x="425" y="355"/>
                </a:cubicBezTo>
                <a:cubicBezTo>
                  <a:pt x="488" y="289"/>
                  <a:pt x="575" y="235"/>
                  <a:pt x="696" y="202"/>
                </a:cubicBezTo>
                <a:cubicBezTo>
                  <a:pt x="657" y="161"/>
                  <a:pt x="612" y="126"/>
                  <a:pt x="562" y="97"/>
                </a:cubicBezTo>
                <a:cubicBezTo>
                  <a:pt x="451" y="34"/>
                  <a:pt x="313" y="2"/>
                  <a:pt x="151" y="0"/>
                </a:cubicBezTo>
                <a:cubicBezTo>
                  <a:pt x="151" y="1"/>
                  <a:pt x="151" y="1"/>
                  <a:pt x="151" y="1"/>
                </a:cubicBezTo>
                <a:cubicBezTo>
                  <a:pt x="147" y="90"/>
                  <a:pt x="135" y="176"/>
                  <a:pt x="116" y="255"/>
                </a:cubicBezTo>
                <a:cubicBezTo>
                  <a:pt x="117" y="255"/>
                  <a:pt x="118" y="254"/>
                  <a:pt x="120" y="253"/>
                </a:cubicBezTo>
                <a:cubicBezTo>
                  <a:pt x="122" y="252"/>
                  <a:pt x="124" y="251"/>
                  <a:pt x="126" y="251"/>
                </a:cubicBezTo>
                <a:cubicBezTo>
                  <a:pt x="132" y="249"/>
                  <a:pt x="138" y="248"/>
                  <a:pt x="143" y="248"/>
                </a:cubicBezTo>
                <a:cubicBezTo>
                  <a:pt x="148" y="248"/>
                  <a:pt x="152" y="248"/>
                  <a:pt x="156" y="249"/>
                </a:cubicBezTo>
                <a:cubicBezTo>
                  <a:pt x="182" y="256"/>
                  <a:pt x="197" y="283"/>
                  <a:pt x="190" y="309"/>
                </a:cubicBezTo>
                <a:cubicBezTo>
                  <a:pt x="184" y="330"/>
                  <a:pt x="165" y="344"/>
                  <a:pt x="143" y="344"/>
                </a:cubicBezTo>
                <a:cubicBezTo>
                  <a:pt x="139" y="344"/>
                  <a:pt x="135" y="344"/>
                  <a:pt x="131" y="343"/>
                </a:cubicBezTo>
                <a:cubicBezTo>
                  <a:pt x="121" y="340"/>
                  <a:pt x="112" y="335"/>
                  <a:pt x="106" y="327"/>
                </a:cubicBezTo>
                <a:cubicBezTo>
                  <a:pt x="104" y="325"/>
                  <a:pt x="103" y="323"/>
                  <a:pt x="102" y="321"/>
                </a:cubicBezTo>
                <a:cubicBezTo>
                  <a:pt x="101" y="320"/>
                  <a:pt x="100" y="318"/>
                  <a:pt x="99" y="318"/>
                </a:cubicBezTo>
                <a:cubicBezTo>
                  <a:pt x="75" y="397"/>
                  <a:pt x="43" y="471"/>
                  <a:pt x="4" y="538"/>
                </a:cubicBezTo>
                <a:cubicBezTo>
                  <a:pt x="0" y="546"/>
                  <a:pt x="0" y="546"/>
                  <a:pt x="0" y="546"/>
                </a:cubicBezTo>
                <a:cubicBezTo>
                  <a:pt x="31" y="570"/>
                  <a:pt x="68" y="591"/>
                  <a:pt x="110" y="604"/>
                </a:cubicBezTo>
                <a:cubicBezTo>
                  <a:pt x="109" y="607"/>
                  <a:pt x="106" y="611"/>
                  <a:pt x="100" y="615"/>
                </a:cubicBezTo>
                <a:cubicBezTo>
                  <a:pt x="98" y="616"/>
                  <a:pt x="97" y="617"/>
                  <a:pt x="95" y="618"/>
                </a:cubicBezTo>
                <a:cubicBezTo>
                  <a:pt x="95" y="618"/>
                  <a:pt x="95" y="618"/>
                  <a:pt x="95" y="618"/>
                </a:cubicBezTo>
                <a:cubicBezTo>
                  <a:pt x="88" y="623"/>
                  <a:pt x="83" y="630"/>
                  <a:pt x="80" y="638"/>
                </a:cubicBezTo>
                <a:cubicBezTo>
                  <a:pt x="74" y="660"/>
                  <a:pt x="85" y="682"/>
                  <a:pt x="106" y="689"/>
                </a:cubicBezTo>
                <a:cubicBezTo>
                  <a:pt x="128" y="696"/>
                  <a:pt x="150" y="685"/>
                  <a:pt x="157" y="663"/>
                </a:cubicBezTo>
                <a:cubicBezTo>
                  <a:pt x="160" y="655"/>
                  <a:pt x="160" y="647"/>
                  <a:pt x="157" y="639"/>
                </a:cubicBezTo>
                <a:cubicBezTo>
                  <a:pt x="157" y="639"/>
                  <a:pt x="157" y="639"/>
                  <a:pt x="157" y="639"/>
                </a:cubicBezTo>
                <a:cubicBezTo>
                  <a:pt x="157" y="637"/>
                  <a:pt x="156" y="635"/>
                  <a:pt x="155" y="633"/>
                </a:cubicBezTo>
                <a:cubicBezTo>
                  <a:pt x="152" y="623"/>
                  <a:pt x="153" y="618"/>
                  <a:pt x="156" y="615"/>
                </a:cubicBezTo>
                <a:cubicBezTo>
                  <a:pt x="197" y="622"/>
                  <a:pt x="243" y="622"/>
                  <a:pt x="293" y="613"/>
                </a:cubicBezTo>
                <a:cubicBezTo>
                  <a:pt x="310" y="539"/>
                  <a:pt x="339" y="464"/>
                  <a:pt x="389" y="398"/>
                </a:cubicBezTo>
                <a:cubicBezTo>
                  <a:pt x="395" y="397"/>
                  <a:pt x="400" y="400"/>
                  <a:pt x="402" y="412"/>
                </a:cubicBezTo>
                <a:cubicBezTo>
                  <a:pt x="402" y="415"/>
                  <a:pt x="402" y="417"/>
                  <a:pt x="403" y="419"/>
                </a:cubicBezTo>
                <a:cubicBezTo>
                  <a:pt x="403" y="419"/>
                  <a:pt x="403" y="419"/>
                  <a:pt x="403" y="419"/>
                </a:cubicBezTo>
                <a:cubicBezTo>
                  <a:pt x="405" y="427"/>
                  <a:pt x="409" y="434"/>
                  <a:pt x="415" y="440"/>
                </a:cubicBezTo>
                <a:cubicBezTo>
                  <a:pt x="432" y="455"/>
                  <a:pt x="458" y="454"/>
                  <a:pt x="472" y="437"/>
                </a:cubicBezTo>
                <a:cubicBezTo>
                  <a:pt x="487" y="420"/>
                  <a:pt x="486" y="395"/>
                  <a:pt x="469" y="380"/>
                </a:cubicBez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1" name="Freeform 8"/>
          <p:cNvSpPr/>
          <p:nvPr/>
        </p:nvSpPr>
        <p:spPr>
          <a:xfrm>
            <a:off x="4424400" y="2021040"/>
            <a:ext cx="1933560" cy="1987560"/>
          </a:xfrm>
          <a:custGeom>
            <a:avLst/>
            <a:gdLst/>
            <a:ahLst/>
            <a:rect l="l" t="t" r="r" b="b"/>
            <a:pathLst>
              <a:path w="858" h="882">
                <a:moveTo>
                  <a:pt x="668" y="534"/>
                </a:moveTo>
                <a:cubicBezTo>
                  <a:pt x="668" y="534"/>
                  <a:pt x="668" y="534"/>
                  <a:pt x="669" y="534"/>
                </a:cubicBezTo>
                <a:cubicBezTo>
                  <a:pt x="702" y="476"/>
                  <a:pt x="730" y="413"/>
                  <a:pt x="753" y="346"/>
                </a:cubicBezTo>
                <a:cubicBezTo>
                  <a:pt x="753" y="345"/>
                  <a:pt x="753" y="344"/>
                  <a:pt x="753" y="344"/>
                </a:cubicBezTo>
                <a:cubicBezTo>
                  <a:pt x="756" y="335"/>
                  <a:pt x="759" y="326"/>
                  <a:pt x="762" y="317"/>
                </a:cubicBezTo>
                <a:cubicBezTo>
                  <a:pt x="763" y="314"/>
                  <a:pt x="764" y="311"/>
                  <a:pt x="765" y="307"/>
                </a:cubicBezTo>
                <a:cubicBezTo>
                  <a:pt x="765" y="307"/>
                  <a:pt x="765" y="307"/>
                  <a:pt x="765" y="307"/>
                </a:cubicBezTo>
                <a:cubicBezTo>
                  <a:pt x="766" y="303"/>
                  <a:pt x="766" y="303"/>
                  <a:pt x="766" y="303"/>
                </a:cubicBezTo>
                <a:cubicBezTo>
                  <a:pt x="775" y="312"/>
                  <a:pt x="775" y="312"/>
                  <a:pt x="775" y="312"/>
                </a:cubicBezTo>
                <a:cubicBezTo>
                  <a:pt x="775" y="312"/>
                  <a:pt x="775" y="312"/>
                  <a:pt x="775" y="312"/>
                </a:cubicBezTo>
                <a:cubicBezTo>
                  <a:pt x="775" y="312"/>
                  <a:pt x="775" y="312"/>
                  <a:pt x="775" y="312"/>
                </a:cubicBezTo>
                <a:cubicBezTo>
                  <a:pt x="776" y="312"/>
                  <a:pt x="776" y="313"/>
                  <a:pt x="777" y="313"/>
                </a:cubicBezTo>
                <a:cubicBezTo>
                  <a:pt x="777" y="314"/>
                  <a:pt x="777" y="314"/>
                  <a:pt x="778" y="314"/>
                </a:cubicBezTo>
                <a:cubicBezTo>
                  <a:pt x="778" y="315"/>
                  <a:pt x="779" y="315"/>
                  <a:pt x="779" y="316"/>
                </a:cubicBezTo>
                <a:cubicBezTo>
                  <a:pt x="779" y="316"/>
                  <a:pt x="779" y="316"/>
                  <a:pt x="779" y="316"/>
                </a:cubicBezTo>
                <a:cubicBezTo>
                  <a:pt x="779" y="316"/>
                  <a:pt x="779" y="316"/>
                  <a:pt x="779" y="316"/>
                </a:cubicBezTo>
                <a:cubicBezTo>
                  <a:pt x="779" y="316"/>
                  <a:pt x="779" y="316"/>
                  <a:pt x="779" y="316"/>
                </a:cubicBezTo>
                <a:cubicBezTo>
                  <a:pt x="780" y="318"/>
                  <a:pt x="782" y="320"/>
                  <a:pt x="783" y="321"/>
                </a:cubicBezTo>
                <a:cubicBezTo>
                  <a:pt x="783" y="321"/>
                  <a:pt x="783" y="321"/>
                  <a:pt x="783" y="322"/>
                </a:cubicBezTo>
                <a:cubicBezTo>
                  <a:pt x="783" y="322"/>
                  <a:pt x="783" y="322"/>
                  <a:pt x="783" y="322"/>
                </a:cubicBezTo>
                <a:cubicBezTo>
                  <a:pt x="783" y="322"/>
                  <a:pt x="783" y="322"/>
                  <a:pt x="783" y="322"/>
                </a:cubicBezTo>
                <a:cubicBezTo>
                  <a:pt x="784" y="323"/>
                  <a:pt x="786" y="325"/>
                  <a:pt x="787" y="326"/>
                </a:cubicBezTo>
                <a:cubicBezTo>
                  <a:pt x="787" y="326"/>
                  <a:pt x="787" y="326"/>
                  <a:pt x="788" y="326"/>
                </a:cubicBezTo>
                <a:cubicBezTo>
                  <a:pt x="789" y="328"/>
                  <a:pt x="791" y="329"/>
                  <a:pt x="792" y="330"/>
                </a:cubicBezTo>
                <a:cubicBezTo>
                  <a:pt x="792" y="330"/>
                  <a:pt x="792" y="330"/>
                  <a:pt x="793" y="330"/>
                </a:cubicBezTo>
                <a:cubicBezTo>
                  <a:pt x="794" y="331"/>
                  <a:pt x="796" y="332"/>
                  <a:pt x="798" y="333"/>
                </a:cubicBezTo>
                <a:cubicBezTo>
                  <a:pt x="798" y="333"/>
                  <a:pt x="798" y="333"/>
                  <a:pt x="798" y="333"/>
                </a:cubicBezTo>
                <a:cubicBezTo>
                  <a:pt x="800" y="334"/>
                  <a:pt x="802" y="334"/>
                  <a:pt x="804" y="335"/>
                </a:cubicBezTo>
                <a:cubicBezTo>
                  <a:pt x="805" y="335"/>
                  <a:pt x="807" y="336"/>
                  <a:pt x="808" y="336"/>
                </a:cubicBezTo>
                <a:cubicBezTo>
                  <a:pt x="809" y="336"/>
                  <a:pt x="809" y="336"/>
                  <a:pt x="810" y="336"/>
                </a:cubicBezTo>
                <a:cubicBezTo>
                  <a:pt x="811" y="336"/>
                  <a:pt x="812" y="336"/>
                  <a:pt x="813" y="336"/>
                </a:cubicBezTo>
                <a:cubicBezTo>
                  <a:pt x="814" y="336"/>
                  <a:pt x="815" y="336"/>
                  <a:pt x="815" y="336"/>
                </a:cubicBezTo>
                <a:cubicBezTo>
                  <a:pt x="816" y="336"/>
                  <a:pt x="816" y="336"/>
                  <a:pt x="817" y="336"/>
                </a:cubicBezTo>
                <a:cubicBezTo>
                  <a:pt x="817" y="336"/>
                  <a:pt x="818" y="336"/>
                  <a:pt x="819" y="336"/>
                </a:cubicBezTo>
                <a:cubicBezTo>
                  <a:pt x="819" y="336"/>
                  <a:pt x="820" y="336"/>
                  <a:pt x="820" y="336"/>
                </a:cubicBezTo>
                <a:cubicBezTo>
                  <a:pt x="821" y="336"/>
                  <a:pt x="822" y="336"/>
                  <a:pt x="823" y="336"/>
                </a:cubicBezTo>
                <a:cubicBezTo>
                  <a:pt x="823" y="335"/>
                  <a:pt x="823" y="335"/>
                  <a:pt x="824" y="335"/>
                </a:cubicBezTo>
                <a:cubicBezTo>
                  <a:pt x="825" y="335"/>
                  <a:pt x="826" y="335"/>
                  <a:pt x="827" y="334"/>
                </a:cubicBezTo>
                <a:cubicBezTo>
                  <a:pt x="827" y="334"/>
                  <a:pt x="827" y="334"/>
                  <a:pt x="827" y="334"/>
                </a:cubicBezTo>
                <a:cubicBezTo>
                  <a:pt x="828" y="334"/>
                  <a:pt x="830" y="333"/>
                  <a:pt x="831" y="333"/>
                </a:cubicBezTo>
                <a:cubicBezTo>
                  <a:pt x="831" y="333"/>
                  <a:pt x="831" y="333"/>
                  <a:pt x="832" y="332"/>
                </a:cubicBezTo>
                <a:cubicBezTo>
                  <a:pt x="833" y="332"/>
                  <a:pt x="833" y="332"/>
                  <a:pt x="834" y="331"/>
                </a:cubicBezTo>
                <a:cubicBezTo>
                  <a:pt x="834" y="331"/>
                  <a:pt x="835" y="331"/>
                  <a:pt x="835" y="330"/>
                </a:cubicBezTo>
                <a:cubicBezTo>
                  <a:pt x="836" y="330"/>
                  <a:pt x="836" y="330"/>
                  <a:pt x="837" y="330"/>
                </a:cubicBezTo>
                <a:cubicBezTo>
                  <a:pt x="837" y="329"/>
                  <a:pt x="838" y="329"/>
                  <a:pt x="838" y="328"/>
                </a:cubicBezTo>
                <a:cubicBezTo>
                  <a:pt x="839" y="328"/>
                  <a:pt x="839" y="328"/>
                  <a:pt x="840" y="327"/>
                </a:cubicBezTo>
                <a:cubicBezTo>
                  <a:pt x="840" y="327"/>
                  <a:pt x="841" y="327"/>
                  <a:pt x="841" y="326"/>
                </a:cubicBezTo>
                <a:cubicBezTo>
                  <a:pt x="841" y="326"/>
                  <a:pt x="842" y="326"/>
                  <a:pt x="842" y="325"/>
                </a:cubicBezTo>
                <a:cubicBezTo>
                  <a:pt x="844" y="324"/>
                  <a:pt x="846" y="322"/>
                  <a:pt x="847" y="320"/>
                </a:cubicBezTo>
                <a:cubicBezTo>
                  <a:pt x="847" y="319"/>
                  <a:pt x="848" y="319"/>
                  <a:pt x="848" y="318"/>
                </a:cubicBezTo>
                <a:cubicBezTo>
                  <a:pt x="848" y="318"/>
                  <a:pt x="849" y="317"/>
                  <a:pt x="849" y="317"/>
                </a:cubicBezTo>
                <a:cubicBezTo>
                  <a:pt x="849" y="316"/>
                  <a:pt x="850" y="316"/>
                  <a:pt x="850" y="315"/>
                </a:cubicBezTo>
                <a:cubicBezTo>
                  <a:pt x="850" y="315"/>
                  <a:pt x="850" y="314"/>
                  <a:pt x="851" y="314"/>
                </a:cubicBezTo>
                <a:cubicBezTo>
                  <a:pt x="851" y="313"/>
                  <a:pt x="851" y="312"/>
                  <a:pt x="852" y="311"/>
                </a:cubicBezTo>
                <a:cubicBezTo>
                  <a:pt x="852" y="311"/>
                  <a:pt x="852" y="311"/>
                  <a:pt x="852" y="310"/>
                </a:cubicBezTo>
                <a:cubicBezTo>
                  <a:pt x="853" y="309"/>
                  <a:pt x="853" y="308"/>
                  <a:pt x="853" y="307"/>
                </a:cubicBezTo>
                <a:cubicBezTo>
                  <a:pt x="853" y="306"/>
                  <a:pt x="854" y="306"/>
                  <a:pt x="854" y="305"/>
                </a:cubicBezTo>
                <a:cubicBezTo>
                  <a:pt x="858" y="285"/>
                  <a:pt x="847" y="265"/>
                  <a:pt x="829" y="258"/>
                </a:cubicBezTo>
                <a:cubicBezTo>
                  <a:pt x="827" y="258"/>
                  <a:pt x="826" y="257"/>
                  <a:pt x="825" y="257"/>
                </a:cubicBezTo>
                <a:cubicBezTo>
                  <a:pt x="825" y="257"/>
                  <a:pt x="825" y="257"/>
                  <a:pt x="825" y="257"/>
                </a:cubicBezTo>
                <a:cubicBezTo>
                  <a:pt x="823" y="257"/>
                  <a:pt x="822" y="256"/>
                  <a:pt x="820" y="256"/>
                </a:cubicBezTo>
                <a:cubicBezTo>
                  <a:pt x="820" y="256"/>
                  <a:pt x="820" y="256"/>
                  <a:pt x="819" y="256"/>
                </a:cubicBezTo>
                <a:cubicBezTo>
                  <a:pt x="818" y="256"/>
                  <a:pt x="816" y="256"/>
                  <a:pt x="815" y="256"/>
                </a:cubicBezTo>
                <a:cubicBezTo>
                  <a:pt x="814" y="256"/>
                  <a:pt x="814" y="256"/>
                  <a:pt x="813" y="256"/>
                </a:cubicBezTo>
                <a:cubicBezTo>
                  <a:pt x="813" y="256"/>
                  <a:pt x="812" y="256"/>
                  <a:pt x="811" y="256"/>
                </a:cubicBezTo>
                <a:cubicBezTo>
                  <a:pt x="811" y="256"/>
                  <a:pt x="810" y="256"/>
                  <a:pt x="810" y="256"/>
                </a:cubicBezTo>
                <a:cubicBezTo>
                  <a:pt x="809" y="256"/>
                  <a:pt x="809" y="256"/>
                  <a:pt x="808" y="256"/>
                </a:cubicBezTo>
                <a:cubicBezTo>
                  <a:pt x="808" y="256"/>
                  <a:pt x="807" y="256"/>
                  <a:pt x="807" y="256"/>
                </a:cubicBezTo>
                <a:cubicBezTo>
                  <a:pt x="806" y="256"/>
                  <a:pt x="805" y="257"/>
                  <a:pt x="805" y="257"/>
                </a:cubicBezTo>
                <a:cubicBezTo>
                  <a:pt x="804" y="257"/>
                  <a:pt x="804" y="257"/>
                  <a:pt x="803" y="257"/>
                </a:cubicBezTo>
                <a:cubicBezTo>
                  <a:pt x="802" y="257"/>
                  <a:pt x="801" y="258"/>
                  <a:pt x="800" y="258"/>
                </a:cubicBezTo>
                <a:cubicBezTo>
                  <a:pt x="800" y="258"/>
                  <a:pt x="800" y="258"/>
                  <a:pt x="800" y="258"/>
                </a:cubicBezTo>
                <a:cubicBezTo>
                  <a:pt x="798" y="259"/>
                  <a:pt x="796" y="260"/>
                  <a:pt x="795" y="261"/>
                </a:cubicBezTo>
                <a:cubicBezTo>
                  <a:pt x="794" y="261"/>
                  <a:pt x="794" y="261"/>
                  <a:pt x="794" y="261"/>
                </a:cubicBezTo>
                <a:cubicBezTo>
                  <a:pt x="794" y="261"/>
                  <a:pt x="794" y="261"/>
                  <a:pt x="794" y="261"/>
                </a:cubicBezTo>
                <a:cubicBezTo>
                  <a:pt x="794" y="261"/>
                  <a:pt x="794" y="261"/>
                  <a:pt x="794" y="261"/>
                </a:cubicBezTo>
                <a:cubicBezTo>
                  <a:pt x="793" y="261"/>
                  <a:pt x="793" y="261"/>
                  <a:pt x="792" y="262"/>
                </a:cubicBezTo>
                <a:cubicBezTo>
                  <a:pt x="792" y="262"/>
                  <a:pt x="791" y="262"/>
                  <a:pt x="791" y="262"/>
                </a:cubicBezTo>
                <a:cubicBezTo>
                  <a:pt x="790" y="262"/>
                  <a:pt x="789" y="262"/>
                  <a:pt x="788" y="263"/>
                </a:cubicBezTo>
                <a:cubicBezTo>
                  <a:pt x="776" y="266"/>
                  <a:pt x="776" y="266"/>
                  <a:pt x="776" y="266"/>
                </a:cubicBezTo>
                <a:cubicBezTo>
                  <a:pt x="777" y="261"/>
                  <a:pt x="777" y="261"/>
                  <a:pt x="777" y="261"/>
                </a:cubicBezTo>
                <a:cubicBezTo>
                  <a:pt x="777" y="261"/>
                  <a:pt x="777" y="261"/>
                  <a:pt x="777" y="261"/>
                </a:cubicBezTo>
                <a:cubicBezTo>
                  <a:pt x="778" y="258"/>
                  <a:pt x="779" y="255"/>
                  <a:pt x="779" y="251"/>
                </a:cubicBezTo>
                <a:cubicBezTo>
                  <a:pt x="781" y="242"/>
                  <a:pt x="783" y="234"/>
                  <a:pt x="785" y="224"/>
                </a:cubicBezTo>
                <a:cubicBezTo>
                  <a:pt x="786" y="224"/>
                  <a:pt x="786" y="223"/>
                  <a:pt x="786" y="222"/>
                </a:cubicBezTo>
                <a:cubicBezTo>
                  <a:pt x="788" y="212"/>
                  <a:pt x="790" y="203"/>
                  <a:pt x="792" y="193"/>
                </a:cubicBezTo>
                <a:cubicBezTo>
                  <a:pt x="792" y="193"/>
                  <a:pt x="792" y="193"/>
                  <a:pt x="792" y="192"/>
                </a:cubicBezTo>
                <a:cubicBezTo>
                  <a:pt x="799" y="152"/>
                  <a:pt x="805" y="110"/>
                  <a:pt x="809" y="66"/>
                </a:cubicBezTo>
                <a:cubicBezTo>
                  <a:pt x="809" y="66"/>
                  <a:pt x="809" y="66"/>
                  <a:pt x="809" y="66"/>
                </a:cubicBezTo>
                <a:cubicBezTo>
                  <a:pt x="810" y="55"/>
                  <a:pt x="811" y="45"/>
                  <a:pt x="812" y="34"/>
                </a:cubicBezTo>
                <a:cubicBezTo>
                  <a:pt x="812" y="33"/>
                  <a:pt x="812" y="33"/>
                  <a:pt x="812" y="32"/>
                </a:cubicBezTo>
                <a:cubicBezTo>
                  <a:pt x="813" y="22"/>
                  <a:pt x="814" y="11"/>
                  <a:pt x="814" y="0"/>
                </a:cubicBezTo>
                <a:cubicBezTo>
                  <a:pt x="814" y="0"/>
                  <a:pt x="814" y="0"/>
                  <a:pt x="814" y="0"/>
                </a:cubicBezTo>
                <a:cubicBezTo>
                  <a:pt x="813" y="0"/>
                  <a:pt x="811" y="0"/>
                  <a:pt x="810" y="0"/>
                </a:cubicBezTo>
                <a:cubicBezTo>
                  <a:pt x="803" y="0"/>
                  <a:pt x="795" y="0"/>
                  <a:pt x="788" y="0"/>
                </a:cubicBezTo>
                <a:cubicBezTo>
                  <a:pt x="783" y="0"/>
                  <a:pt x="783" y="0"/>
                  <a:pt x="783" y="0"/>
                </a:cubicBezTo>
                <a:cubicBezTo>
                  <a:pt x="775" y="0"/>
                  <a:pt x="775" y="0"/>
                  <a:pt x="775" y="0"/>
                </a:cubicBezTo>
                <a:cubicBezTo>
                  <a:pt x="603" y="1"/>
                  <a:pt x="455" y="36"/>
                  <a:pt x="335" y="104"/>
                </a:cubicBezTo>
                <a:cubicBezTo>
                  <a:pt x="237" y="160"/>
                  <a:pt x="158" y="238"/>
                  <a:pt x="101" y="335"/>
                </a:cubicBezTo>
                <a:cubicBezTo>
                  <a:pt x="97" y="341"/>
                  <a:pt x="94" y="347"/>
                  <a:pt x="91" y="353"/>
                </a:cubicBezTo>
                <a:cubicBezTo>
                  <a:pt x="3" y="511"/>
                  <a:pt x="0" y="664"/>
                  <a:pt x="0" y="670"/>
                </a:cubicBezTo>
                <a:cubicBezTo>
                  <a:pt x="0" y="673"/>
                  <a:pt x="0" y="673"/>
                  <a:pt x="0" y="673"/>
                </a:cubicBezTo>
                <a:cubicBezTo>
                  <a:pt x="0" y="676"/>
                  <a:pt x="0" y="676"/>
                  <a:pt x="0" y="676"/>
                </a:cubicBezTo>
                <a:cubicBezTo>
                  <a:pt x="18" y="807"/>
                  <a:pt x="114" y="882"/>
                  <a:pt x="263" y="882"/>
                </a:cubicBezTo>
                <a:cubicBezTo>
                  <a:pt x="267" y="882"/>
                  <a:pt x="286" y="874"/>
                  <a:pt x="286" y="874"/>
                </a:cubicBezTo>
                <a:cubicBezTo>
                  <a:pt x="339" y="850"/>
                  <a:pt x="419" y="806"/>
                  <a:pt x="499" y="732"/>
                </a:cubicBezTo>
                <a:cubicBezTo>
                  <a:pt x="500" y="732"/>
                  <a:pt x="500" y="731"/>
                  <a:pt x="500" y="731"/>
                </a:cubicBezTo>
                <a:cubicBezTo>
                  <a:pt x="500" y="731"/>
                  <a:pt x="500" y="731"/>
                  <a:pt x="500" y="731"/>
                </a:cubicBezTo>
                <a:cubicBezTo>
                  <a:pt x="500" y="731"/>
                  <a:pt x="498" y="730"/>
                  <a:pt x="491" y="729"/>
                </a:cubicBezTo>
                <a:cubicBezTo>
                  <a:pt x="489" y="728"/>
                  <a:pt x="487" y="728"/>
                  <a:pt x="484" y="728"/>
                </a:cubicBezTo>
                <a:cubicBezTo>
                  <a:pt x="474" y="726"/>
                  <a:pt x="465" y="721"/>
                  <a:pt x="458" y="714"/>
                </a:cubicBezTo>
                <a:cubicBezTo>
                  <a:pt x="439" y="695"/>
                  <a:pt x="439" y="665"/>
                  <a:pt x="458" y="646"/>
                </a:cubicBezTo>
                <a:cubicBezTo>
                  <a:pt x="468" y="637"/>
                  <a:pt x="480" y="632"/>
                  <a:pt x="493" y="632"/>
                </a:cubicBezTo>
                <a:cubicBezTo>
                  <a:pt x="506" y="632"/>
                  <a:pt x="518" y="637"/>
                  <a:pt x="527" y="646"/>
                </a:cubicBezTo>
                <a:cubicBezTo>
                  <a:pt x="534" y="653"/>
                  <a:pt x="539" y="662"/>
                  <a:pt x="540" y="672"/>
                </a:cubicBezTo>
                <a:cubicBezTo>
                  <a:pt x="541" y="675"/>
                  <a:pt x="541" y="677"/>
                  <a:pt x="541" y="679"/>
                </a:cubicBezTo>
                <a:cubicBezTo>
                  <a:pt x="542" y="686"/>
                  <a:pt x="544" y="688"/>
                  <a:pt x="544" y="688"/>
                </a:cubicBezTo>
                <a:cubicBezTo>
                  <a:pt x="544" y="688"/>
                  <a:pt x="544" y="688"/>
                  <a:pt x="545" y="687"/>
                </a:cubicBezTo>
                <a:cubicBezTo>
                  <a:pt x="587" y="642"/>
                  <a:pt x="625" y="592"/>
                  <a:pt x="657" y="537"/>
                </a:cubicBezTo>
                <a:cubicBezTo>
                  <a:pt x="662" y="529"/>
                  <a:pt x="662" y="529"/>
                  <a:pt x="662" y="529"/>
                </a:cubicBezTo>
                <a:lnTo>
                  <a:pt x="668" y="534"/>
                </a:lnTo>
                <a:close/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2" name="Freeform 9"/>
          <p:cNvSpPr/>
          <p:nvPr/>
        </p:nvSpPr>
        <p:spPr>
          <a:xfrm>
            <a:off x="5997600" y="3911760"/>
            <a:ext cx="1370160" cy="1376280"/>
          </a:xfrm>
          <a:custGeom>
            <a:avLst/>
            <a:gdLst/>
            <a:ahLst/>
            <a:rect l="l" t="t" r="r" b="b"/>
            <a:pathLst>
              <a:path w="608" h="611">
                <a:moveTo>
                  <a:pt x="458" y="90"/>
                </a:moveTo>
                <a:cubicBezTo>
                  <a:pt x="457" y="87"/>
                  <a:pt x="459" y="82"/>
                  <a:pt x="465" y="76"/>
                </a:cubicBezTo>
                <a:cubicBezTo>
                  <a:pt x="467" y="75"/>
                  <a:pt x="469" y="73"/>
                  <a:pt x="470" y="72"/>
                </a:cubicBezTo>
                <a:cubicBezTo>
                  <a:pt x="470" y="72"/>
                  <a:pt x="470" y="72"/>
                  <a:pt x="470" y="72"/>
                </a:cubicBezTo>
                <a:cubicBezTo>
                  <a:pt x="476" y="66"/>
                  <a:pt x="480" y="58"/>
                  <a:pt x="481" y="50"/>
                </a:cubicBezTo>
                <a:cubicBezTo>
                  <a:pt x="485" y="27"/>
                  <a:pt x="469" y="7"/>
                  <a:pt x="447" y="4"/>
                </a:cubicBezTo>
                <a:cubicBezTo>
                  <a:pt x="425" y="0"/>
                  <a:pt x="405" y="15"/>
                  <a:pt x="401" y="37"/>
                </a:cubicBezTo>
                <a:cubicBezTo>
                  <a:pt x="400" y="46"/>
                  <a:pt x="401" y="55"/>
                  <a:pt x="405" y="62"/>
                </a:cubicBezTo>
                <a:cubicBezTo>
                  <a:pt x="405" y="62"/>
                  <a:pt x="405" y="62"/>
                  <a:pt x="405" y="62"/>
                </a:cubicBezTo>
                <a:cubicBezTo>
                  <a:pt x="406" y="64"/>
                  <a:pt x="407" y="66"/>
                  <a:pt x="408" y="67"/>
                </a:cubicBezTo>
                <a:cubicBezTo>
                  <a:pt x="412" y="74"/>
                  <a:pt x="413" y="79"/>
                  <a:pt x="412" y="83"/>
                </a:cubicBezTo>
                <a:cubicBezTo>
                  <a:pt x="359" y="76"/>
                  <a:pt x="311" y="76"/>
                  <a:pt x="268" y="82"/>
                </a:cubicBezTo>
                <a:cubicBezTo>
                  <a:pt x="269" y="90"/>
                  <a:pt x="269" y="90"/>
                  <a:pt x="269" y="90"/>
                </a:cubicBezTo>
                <a:cubicBezTo>
                  <a:pt x="261" y="91"/>
                  <a:pt x="261" y="91"/>
                  <a:pt x="261" y="91"/>
                </a:cubicBezTo>
                <a:cubicBezTo>
                  <a:pt x="225" y="97"/>
                  <a:pt x="190" y="108"/>
                  <a:pt x="158" y="123"/>
                </a:cubicBezTo>
                <a:cubicBezTo>
                  <a:pt x="159" y="124"/>
                  <a:pt x="161" y="125"/>
                  <a:pt x="164" y="126"/>
                </a:cubicBezTo>
                <a:cubicBezTo>
                  <a:pt x="166" y="127"/>
                  <a:pt x="169" y="128"/>
                  <a:pt x="171" y="129"/>
                </a:cubicBezTo>
                <a:cubicBezTo>
                  <a:pt x="180" y="133"/>
                  <a:pt x="187" y="140"/>
                  <a:pt x="192" y="149"/>
                </a:cubicBezTo>
                <a:cubicBezTo>
                  <a:pt x="198" y="161"/>
                  <a:pt x="200" y="174"/>
                  <a:pt x="196" y="186"/>
                </a:cubicBezTo>
                <a:cubicBezTo>
                  <a:pt x="193" y="199"/>
                  <a:pt x="185" y="209"/>
                  <a:pt x="173" y="215"/>
                </a:cubicBezTo>
                <a:cubicBezTo>
                  <a:pt x="166" y="219"/>
                  <a:pt x="158" y="221"/>
                  <a:pt x="150" y="221"/>
                </a:cubicBezTo>
                <a:cubicBezTo>
                  <a:pt x="150" y="221"/>
                  <a:pt x="150" y="221"/>
                  <a:pt x="150" y="221"/>
                </a:cubicBezTo>
                <a:cubicBezTo>
                  <a:pt x="132" y="221"/>
                  <a:pt x="116" y="212"/>
                  <a:pt x="107" y="196"/>
                </a:cubicBezTo>
                <a:cubicBezTo>
                  <a:pt x="102" y="187"/>
                  <a:pt x="100" y="177"/>
                  <a:pt x="102" y="167"/>
                </a:cubicBezTo>
                <a:cubicBezTo>
                  <a:pt x="102" y="165"/>
                  <a:pt x="102" y="162"/>
                  <a:pt x="103" y="160"/>
                </a:cubicBezTo>
                <a:cubicBezTo>
                  <a:pt x="103" y="157"/>
                  <a:pt x="103" y="155"/>
                  <a:pt x="103" y="154"/>
                </a:cubicBezTo>
                <a:cubicBezTo>
                  <a:pt x="64" y="181"/>
                  <a:pt x="29" y="216"/>
                  <a:pt x="0" y="258"/>
                </a:cubicBezTo>
                <a:cubicBezTo>
                  <a:pt x="60" y="305"/>
                  <a:pt x="125" y="477"/>
                  <a:pt x="153" y="576"/>
                </a:cubicBezTo>
                <a:cubicBezTo>
                  <a:pt x="161" y="606"/>
                  <a:pt x="161" y="606"/>
                  <a:pt x="161" y="606"/>
                </a:cubicBezTo>
                <a:cubicBezTo>
                  <a:pt x="402" y="611"/>
                  <a:pt x="402" y="611"/>
                  <a:pt x="402" y="611"/>
                </a:cubicBezTo>
                <a:cubicBezTo>
                  <a:pt x="363" y="381"/>
                  <a:pt x="363" y="381"/>
                  <a:pt x="363" y="381"/>
                </a:cubicBezTo>
                <a:cubicBezTo>
                  <a:pt x="375" y="361"/>
                  <a:pt x="388" y="358"/>
                  <a:pt x="423" y="349"/>
                </a:cubicBezTo>
                <a:cubicBezTo>
                  <a:pt x="442" y="345"/>
                  <a:pt x="467" y="339"/>
                  <a:pt x="495" y="328"/>
                </a:cubicBezTo>
                <a:cubicBezTo>
                  <a:pt x="577" y="296"/>
                  <a:pt x="598" y="196"/>
                  <a:pt x="602" y="136"/>
                </a:cubicBezTo>
                <a:cubicBezTo>
                  <a:pt x="604" y="135"/>
                  <a:pt x="606" y="135"/>
                  <a:pt x="608" y="135"/>
                </a:cubicBezTo>
                <a:cubicBezTo>
                  <a:pt x="554" y="114"/>
                  <a:pt x="504" y="100"/>
                  <a:pt x="458" y="90"/>
                </a:cubicBezTo>
                <a:close/>
              </a:path>
            </a:pathLst>
          </a:custGeom>
          <a:solidFill>
            <a:srgbClr val="41b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3" name="Freeform 10"/>
          <p:cNvSpPr/>
          <p:nvPr/>
        </p:nvSpPr>
        <p:spPr>
          <a:xfrm>
            <a:off x="6381720" y="2492280"/>
            <a:ext cx="1509840" cy="1714680"/>
          </a:xfrm>
          <a:custGeom>
            <a:avLst/>
            <a:gdLst/>
            <a:ahLst/>
            <a:rect l="l" t="t" r="r" b="b"/>
            <a:pathLst>
              <a:path w="670" h="761">
                <a:moveTo>
                  <a:pt x="669" y="441"/>
                </a:moveTo>
                <a:cubicBezTo>
                  <a:pt x="667" y="372"/>
                  <a:pt x="656" y="268"/>
                  <a:pt x="610" y="162"/>
                </a:cubicBezTo>
                <a:cubicBezTo>
                  <a:pt x="603" y="148"/>
                  <a:pt x="597" y="134"/>
                  <a:pt x="590" y="120"/>
                </a:cubicBezTo>
                <a:cubicBezTo>
                  <a:pt x="566" y="76"/>
                  <a:pt x="538" y="36"/>
                  <a:pt x="505" y="0"/>
                </a:cubicBezTo>
                <a:cubicBezTo>
                  <a:pt x="501" y="1"/>
                  <a:pt x="501" y="1"/>
                  <a:pt x="501" y="1"/>
                </a:cubicBezTo>
                <a:cubicBezTo>
                  <a:pt x="391" y="31"/>
                  <a:pt x="302" y="81"/>
                  <a:pt x="235" y="150"/>
                </a:cubicBezTo>
                <a:cubicBezTo>
                  <a:pt x="235" y="150"/>
                  <a:pt x="235" y="150"/>
                  <a:pt x="235" y="150"/>
                </a:cubicBezTo>
                <a:cubicBezTo>
                  <a:pt x="235" y="150"/>
                  <a:pt x="235" y="150"/>
                  <a:pt x="235" y="150"/>
                </a:cubicBezTo>
                <a:cubicBezTo>
                  <a:pt x="235" y="150"/>
                  <a:pt x="237" y="152"/>
                  <a:pt x="244" y="153"/>
                </a:cubicBezTo>
                <a:cubicBezTo>
                  <a:pt x="244" y="153"/>
                  <a:pt x="245" y="153"/>
                  <a:pt x="245" y="153"/>
                </a:cubicBezTo>
                <a:cubicBezTo>
                  <a:pt x="247" y="153"/>
                  <a:pt x="249" y="153"/>
                  <a:pt x="251" y="153"/>
                </a:cubicBezTo>
                <a:cubicBezTo>
                  <a:pt x="261" y="154"/>
                  <a:pt x="270" y="158"/>
                  <a:pt x="278" y="165"/>
                </a:cubicBezTo>
                <a:cubicBezTo>
                  <a:pt x="298" y="183"/>
                  <a:pt x="299" y="213"/>
                  <a:pt x="281" y="233"/>
                </a:cubicBezTo>
                <a:cubicBezTo>
                  <a:pt x="272" y="244"/>
                  <a:pt x="259" y="249"/>
                  <a:pt x="245" y="249"/>
                </a:cubicBezTo>
                <a:cubicBezTo>
                  <a:pt x="245" y="249"/>
                  <a:pt x="245" y="249"/>
                  <a:pt x="245" y="249"/>
                </a:cubicBezTo>
                <a:cubicBezTo>
                  <a:pt x="233" y="249"/>
                  <a:pt x="222" y="245"/>
                  <a:pt x="213" y="237"/>
                </a:cubicBezTo>
                <a:cubicBezTo>
                  <a:pt x="205" y="230"/>
                  <a:pt x="200" y="221"/>
                  <a:pt x="198" y="212"/>
                </a:cubicBezTo>
                <a:cubicBezTo>
                  <a:pt x="198" y="209"/>
                  <a:pt x="197" y="207"/>
                  <a:pt x="197" y="205"/>
                </a:cubicBezTo>
                <a:cubicBezTo>
                  <a:pt x="196" y="201"/>
                  <a:pt x="196" y="199"/>
                  <a:pt x="195" y="198"/>
                </a:cubicBezTo>
                <a:cubicBezTo>
                  <a:pt x="152" y="257"/>
                  <a:pt x="122" y="326"/>
                  <a:pt x="104" y="406"/>
                </a:cubicBezTo>
                <a:cubicBezTo>
                  <a:pt x="95" y="450"/>
                  <a:pt x="90" y="493"/>
                  <a:pt x="88" y="535"/>
                </a:cubicBezTo>
                <a:cubicBezTo>
                  <a:pt x="77" y="530"/>
                  <a:pt x="77" y="530"/>
                  <a:pt x="77" y="530"/>
                </a:cubicBezTo>
                <a:cubicBezTo>
                  <a:pt x="77" y="530"/>
                  <a:pt x="77" y="530"/>
                  <a:pt x="76" y="529"/>
                </a:cubicBezTo>
                <a:cubicBezTo>
                  <a:pt x="76" y="529"/>
                  <a:pt x="75" y="529"/>
                  <a:pt x="75" y="528"/>
                </a:cubicBezTo>
                <a:cubicBezTo>
                  <a:pt x="74" y="528"/>
                  <a:pt x="74" y="528"/>
                  <a:pt x="73" y="528"/>
                </a:cubicBezTo>
                <a:cubicBezTo>
                  <a:pt x="72" y="527"/>
                  <a:pt x="72" y="527"/>
                  <a:pt x="71" y="526"/>
                </a:cubicBezTo>
                <a:cubicBezTo>
                  <a:pt x="71" y="526"/>
                  <a:pt x="70" y="526"/>
                  <a:pt x="70" y="525"/>
                </a:cubicBezTo>
                <a:cubicBezTo>
                  <a:pt x="69" y="525"/>
                  <a:pt x="69" y="525"/>
                  <a:pt x="69" y="525"/>
                </a:cubicBezTo>
                <a:cubicBezTo>
                  <a:pt x="69" y="525"/>
                  <a:pt x="69" y="525"/>
                  <a:pt x="69" y="525"/>
                </a:cubicBezTo>
                <a:cubicBezTo>
                  <a:pt x="69" y="525"/>
                  <a:pt x="69" y="525"/>
                  <a:pt x="69" y="525"/>
                </a:cubicBezTo>
                <a:cubicBezTo>
                  <a:pt x="69" y="525"/>
                  <a:pt x="69" y="525"/>
                  <a:pt x="69" y="524"/>
                </a:cubicBezTo>
                <a:cubicBezTo>
                  <a:pt x="67" y="523"/>
                  <a:pt x="66" y="522"/>
                  <a:pt x="65" y="521"/>
                </a:cubicBezTo>
                <a:cubicBezTo>
                  <a:pt x="65" y="521"/>
                  <a:pt x="65" y="521"/>
                  <a:pt x="65" y="521"/>
                </a:cubicBezTo>
                <a:cubicBezTo>
                  <a:pt x="65" y="521"/>
                  <a:pt x="65" y="521"/>
                  <a:pt x="65" y="521"/>
                </a:cubicBezTo>
                <a:cubicBezTo>
                  <a:pt x="65" y="521"/>
                  <a:pt x="64" y="521"/>
                  <a:pt x="64" y="521"/>
                </a:cubicBezTo>
                <a:cubicBezTo>
                  <a:pt x="64" y="520"/>
                  <a:pt x="63" y="520"/>
                  <a:pt x="62" y="519"/>
                </a:cubicBezTo>
                <a:cubicBezTo>
                  <a:pt x="62" y="519"/>
                  <a:pt x="61" y="518"/>
                  <a:pt x="60" y="518"/>
                </a:cubicBezTo>
                <a:cubicBezTo>
                  <a:pt x="60" y="518"/>
                  <a:pt x="60" y="518"/>
                  <a:pt x="59" y="518"/>
                </a:cubicBezTo>
                <a:cubicBezTo>
                  <a:pt x="59" y="517"/>
                  <a:pt x="58" y="517"/>
                  <a:pt x="57" y="517"/>
                </a:cubicBezTo>
                <a:cubicBezTo>
                  <a:pt x="57" y="516"/>
                  <a:pt x="57" y="516"/>
                  <a:pt x="57" y="516"/>
                </a:cubicBezTo>
                <a:cubicBezTo>
                  <a:pt x="56" y="516"/>
                  <a:pt x="55" y="516"/>
                  <a:pt x="54" y="515"/>
                </a:cubicBezTo>
                <a:cubicBezTo>
                  <a:pt x="54" y="515"/>
                  <a:pt x="54" y="515"/>
                  <a:pt x="54" y="515"/>
                </a:cubicBezTo>
                <a:cubicBezTo>
                  <a:pt x="53" y="515"/>
                  <a:pt x="52" y="515"/>
                  <a:pt x="51" y="514"/>
                </a:cubicBezTo>
                <a:cubicBezTo>
                  <a:pt x="51" y="514"/>
                  <a:pt x="51" y="514"/>
                  <a:pt x="51" y="514"/>
                </a:cubicBezTo>
                <a:cubicBezTo>
                  <a:pt x="50" y="514"/>
                  <a:pt x="49" y="514"/>
                  <a:pt x="49" y="514"/>
                </a:cubicBezTo>
                <a:cubicBezTo>
                  <a:pt x="48" y="514"/>
                  <a:pt x="48" y="514"/>
                  <a:pt x="48" y="514"/>
                </a:cubicBezTo>
                <a:cubicBezTo>
                  <a:pt x="47" y="513"/>
                  <a:pt x="46" y="513"/>
                  <a:pt x="46" y="513"/>
                </a:cubicBezTo>
                <a:cubicBezTo>
                  <a:pt x="45" y="513"/>
                  <a:pt x="45" y="513"/>
                  <a:pt x="44" y="513"/>
                </a:cubicBezTo>
                <a:cubicBezTo>
                  <a:pt x="44" y="513"/>
                  <a:pt x="43" y="513"/>
                  <a:pt x="42" y="513"/>
                </a:cubicBezTo>
                <a:cubicBezTo>
                  <a:pt x="42" y="513"/>
                  <a:pt x="42" y="513"/>
                  <a:pt x="41" y="513"/>
                </a:cubicBezTo>
                <a:cubicBezTo>
                  <a:pt x="40" y="513"/>
                  <a:pt x="38" y="513"/>
                  <a:pt x="36" y="513"/>
                </a:cubicBezTo>
                <a:cubicBezTo>
                  <a:pt x="36" y="513"/>
                  <a:pt x="35" y="513"/>
                  <a:pt x="35" y="513"/>
                </a:cubicBezTo>
                <a:cubicBezTo>
                  <a:pt x="34" y="514"/>
                  <a:pt x="32" y="514"/>
                  <a:pt x="31" y="514"/>
                </a:cubicBezTo>
                <a:cubicBezTo>
                  <a:pt x="31" y="514"/>
                  <a:pt x="30" y="514"/>
                  <a:pt x="30" y="514"/>
                </a:cubicBezTo>
                <a:cubicBezTo>
                  <a:pt x="27" y="515"/>
                  <a:pt x="24" y="516"/>
                  <a:pt x="21" y="518"/>
                </a:cubicBezTo>
                <a:cubicBezTo>
                  <a:pt x="21" y="518"/>
                  <a:pt x="20" y="518"/>
                  <a:pt x="20" y="519"/>
                </a:cubicBezTo>
                <a:cubicBezTo>
                  <a:pt x="19" y="519"/>
                  <a:pt x="18" y="520"/>
                  <a:pt x="17" y="521"/>
                </a:cubicBezTo>
                <a:cubicBezTo>
                  <a:pt x="16" y="521"/>
                  <a:pt x="16" y="521"/>
                  <a:pt x="16" y="521"/>
                </a:cubicBezTo>
                <a:cubicBezTo>
                  <a:pt x="15" y="522"/>
                  <a:pt x="13" y="523"/>
                  <a:pt x="12" y="525"/>
                </a:cubicBezTo>
                <a:cubicBezTo>
                  <a:pt x="12" y="525"/>
                  <a:pt x="12" y="525"/>
                  <a:pt x="12" y="525"/>
                </a:cubicBezTo>
                <a:cubicBezTo>
                  <a:pt x="11" y="526"/>
                  <a:pt x="10" y="527"/>
                  <a:pt x="9" y="528"/>
                </a:cubicBezTo>
                <a:cubicBezTo>
                  <a:pt x="9" y="529"/>
                  <a:pt x="8" y="529"/>
                  <a:pt x="8" y="529"/>
                </a:cubicBezTo>
                <a:cubicBezTo>
                  <a:pt x="7" y="530"/>
                  <a:pt x="6" y="532"/>
                  <a:pt x="6" y="533"/>
                </a:cubicBezTo>
                <a:cubicBezTo>
                  <a:pt x="6" y="533"/>
                  <a:pt x="5" y="533"/>
                  <a:pt x="5" y="533"/>
                </a:cubicBezTo>
                <a:cubicBezTo>
                  <a:pt x="5" y="535"/>
                  <a:pt x="4" y="536"/>
                  <a:pt x="3" y="538"/>
                </a:cubicBezTo>
                <a:cubicBezTo>
                  <a:pt x="3" y="538"/>
                  <a:pt x="3" y="538"/>
                  <a:pt x="3" y="539"/>
                </a:cubicBezTo>
                <a:cubicBezTo>
                  <a:pt x="3" y="540"/>
                  <a:pt x="2" y="541"/>
                  <a:pt x="2" y="542"/>
                </a:cubicBezTo>
                <a:cubicBezTo>
                  <a:pt x="2" y="542"/>
                  <a:pt x="2" y="543"/>
                  <a:pt x="1" y="543"/>
                </a:cubicBezTo>
                <a:cubicBezTo>
                  <a:pt x="1" y="544"/>
                  <a:pt x="1" y="546"/>
                  <a:pt x="1" y="547"/>
                </a:cubicBezTo>
                <a:cubicBezTo>
                  <a:pt x="1" y="547"/>
                  <a:pt x="1" y="548"/>
                  <a:pt x="0" y="548"/>
                </a:cubicBezTo>
                <a:cubicBezTo>
                  <a:pt x="0" y="550"/>
                  <a:pt x="0" y="551"/>
                  <a:pt x="0" y="553"/>
                </a:cubicBezTo>
                <a:cubicBezTo>
                  <a:pt x="0" y="553"/>
                  <a:pt x="0" y="553"/>
                  <a:pt x="0" y="553"/>
                </a:cubicBezTo>
                <a:cubicBezTo>
                  <a:pt x="0" y="554"/>
                  <a:pt x="0" y="556"/>
                  <a:pt x="0" y="557"/>
                </a:cubicBezTo>
                <a:cubicBezTo>
                  <a:pt x="0" y="557"/>
                  <a:pt x="0" y="557"/>
                  <a:pt x="0" y="558"/>
                </a:cubicBezTo>
                <a:cubicBezTo>
                  <a:pt x="0" y="559"/>
                  <a:pt x="1" y="560"/>
                  <a:pt x="1" y="561"/>
                </a:cubicBezTo>
                <a:cubicBezTo>
                  <a:pt x="1" y="561"/>
                  <a:pt x="1" y="561"/>
                  <a:pt x="1" y="562"/>
                </a:cubicBezTo>
                <a:cubicBezTo>
                  <a:pt x="1" y="563"/>
                  <a:pt x="1" y="564"/>
                  <a:pt x="2" y="565"/>
                </a:cubicBezTo>
                <a:cubicBezTo>
                  <a:pt x="2" y="565"/>
                  <a:pt x="2" y="565"/>
                  <a:pt x="2" y="565"/>
                </a:cubicBezTo>
                <a:cubicBezTo>
                  <a:pt x="2" y="566"/>
                  <a:pt x="3" y="567"/>
                  <a:pt x="3" y="568"/>
                </a:cubicBezTo>
                <a:cubicBezTo>
                  <a:pt x="3" y="569"/>
                  <a:pt x="3" y="569"/>
                  <a:pt x="3" y="569"/>
                </a:cubicBezTo>
                <a:cubicBezTo>
                  <a:pt x="4" y="570"/>
                  <a:pt x="4" y="571"/>
                  <a:pt x="5" y="572"/>
                </a:cubicBezTo>
                <a:cubicBezTo>
                  <a:pt x="5" y="572"/>
                  <a:pt x="5" y="572"/>
                  <a:pt x="5" y="572"/>
                </a:cubicBezTo>
                <a:cubicBezTo>
                  <a:pt x="5" y="573"/>
                  <a:pt x="6" y="574"/>
                  <a:pt x="7" y="575"/>
                </a:cubicBezTo>
                <a:cubicBezTo>
                  <a:pt x="7" y="576"/>
                  <a:pt x="7" y="576"/>
                  <a:pt x="7" y="576"/>
                </a:cubicBezTo>
                <a:cubicBezTo>
                  <a:pt x="8" y="577"/>
                  <a:pt x="8" y="578"/>
                  <a:pt x="9" y="579"/>
                </a:cubicBezTo>
                <a:cubicBezTo>
                  <a:pt x="10" y="579"/>
                  <a:pt x="10" y="580"/>
                  <a:pt x="11" y="581"/>
                </a:cubicBezTo>
                <a:cubicBezTo>
                  <a:pt x="11" y="581"/>
                  <a:pt x="12" y="582"/>
                  <a:pt x="12" y="582"/>
                </a:cubicBezTo>
                <a:cubicBezTo>
                  <a:pt x="13" y="583"/>
                  <a:pt x="13" y="583"/>
                  <a:pt x="14" y="584"/>
                </a:cubicBezTo>
                <a:cubicBezTo>
                  <a:pt x="15" y="585"/>
                  <a:pt x="16" y="585"/>
                  <a:pt x="17" y="586"/>
                </a:cubicBezTo>
                <a:cubicBezTo>
                  <a:pt x="17" y="586"/>
                  <a:pt x="17" y="586"/>
                  <a:pt x="17" y="587"/>
                </a:cubicBezTo>
                <a:cubicBezTo>
                  <a:pt x="18" y="587"/>
                  <a:pt x="19" y="588"/>
                  <a:pt x="21" y="589"/>
                </a:cubicBezTo>
                <a:cubicBezTo>
                  <a:pt x="21" y="589"/>
                  <a:pt x="21" y="589"/>
                  <a:pt x="21" y="589"/>
                </a:cubicBezTo>
                <a:cubicBezTo>
                  <a:pt x="22" y="589"/>
                  <a:pt x="23" y="590"/>
                  <a:pt x="24" y="590"/>
                </a:cubicBezTo>
                <a:cubicBezTo>
                  <a:pt x="24" y="590"/>
                  <a:pt x="24" y="590"/>
                  <a:pt x="24" y="590"/>
                </a:cubicBezTo>
                <a:cubicBezTo>
                  <a:pt x="25" y="591"/>
                  <a:pt x="26" y="591"/>
                  <a:pt x="28" y="592"/>
                </a:cubicBezTo>
                <a:cubicBezTo>
                  <a:pt x="28" y="592"/>
                  <a:pt x="28" y="592"/>
                  <a:pt x="28" y="592"/>
                </a:cubicBezTo>
                <a:cubicBezTo>
                  <a:pt x="29" y="592"/>
                  <a:pt x="30" y="592"/>
                  <a:pt x="31" y="593"/>
                </a:cubicBezTo>
                <a:cubicBezTo>
                  <a:pt x="31" y="593"/>
                  <a:pt x="32" y="593"/>
                  <a:pt x="32" y="593"/>
                </a:cubicBezTo>
                <a:cubicBezTo>
                  <a:pt x="33" y="593"/>
                  <a:pt x="34" y="593"/>
                  <a:pt x="35" y="593"/>
                </a:cubicBezTo>
                <a:cubicBezTo>
                  <a:pt x="35" y="593"/>
                  <a:pt x="35" y="594"/>
                  <a:pt x="36" y="594"/>
                </a:cubicBezTo>
                <a:cubicBezTo>
                  <a:pt x="37" y="594"/>
                  <a:pt x="38" y="594"/>
                  <a:pt x="40" y="594"/>
                </a:cubicBezTo>
                <a:cubicBezTo>
                  <a:pt x="40" y="594"/>
                  <a:pt x="40" y="594"/>
                  <a:pt x="40" y="594"/>
                </a:cubicBezTo>
                <a:cubicBezTo>
                  <a:pt x="42" y="594"/>
                  <a:pt x="44" y="594"/>
                  <a:pt x="46" y="593"/>
                </a:cubicBezTo>
                <a:cubicBezTo>
                  <a:pt x="47" y="593"/>
                  <a:pt x="47" y="593"/>
                  <a:pt x="48" y="593"/>
                </a:cubicBezTo>
                <a:cubicBezTo>
                  <a:pt x="50" y="593"/>
                  <a:pt x="51" y="592"/>
                  <a:pt x="52" y="592"/>
                </a:cubicBezTo>
                <a:cubicBezTo>
                  <a:pt x="53" y="592"/>
                  <a:pt x="54" y="591"/>
                  <a:pt x="55" y="591"/>
                </a:cubicBezTo>
                <a:cubicBezTo>
                  <a:pt x="56" y="591"/>
                  <a:pt x="57" y="590"/>
                  <a:pt x="58" y="590"/>
                </a:cubicBezTo>
                <a:cubicBezTo>
                  <a:pt x="60" y="589"/>
                  <a:pt x="62" y="588"/>
                  <a:pt x="63" y="587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5" y="586"/>
                  <a:pt x="66" y="584"/>
                  <a:pt x="68" y="583"/>
                </a:cubicBezTo>
                <a:cubicBezTo>
                  <a:pt x="68" y="583"/>
                  <a:pt x="68" y="583"/>
                  <a:pt x="68" y="583"/>
                </a:cubicBezTo>
                <a:cubicBezTo>
                  <a:pt x="68" y="583"/>
                  <a:pt x="68" y="583"/>
                  <a:pt x="68" y="583"/>
                </a:cubicBezTo>
                <a:cubicBezTo>
                  <a:pt x="68" y="583"/>
                  <a:pt x="68" y="583"/>
                  <a:pt x="68" y="583"/>
                </a:cubicBezTo>
                <a:cubicBezTo>
                  <a:pt x="69" y="582"/>
                  <a:pt x="69" y="582"/>
                  <a:pt x="69" y="582"/>
                </a:cubicBezTo>
                <a:cubicBezTo>
                  <a:pt x="70" y="582"/>
                  <a:pt x="71" y="581"/>
                  <a:pt x="72" y="580"/>
                </a:cubicBezTo>
                <a:cubicBezTo>
                  <a:pt x="72" y="580"/>
                  <a:pt x="72" y="580"/>
                  <a:pt x="73" y="580"/>
                </a:cubicBezTo>
                <a:cubicBezTo>
                  <a:pt x="73" y="580"/>
                  <a:pt x="74" y="579"/>
                  <a:pt x="75" y="579"/>
                </a:cubicBezTo>
                <a:cubicBezTo>
                  <a:pt x="75" y="579"/>
                  <a:pt x="75" y="579"/>
                  <a:pt x="76" y="578"/>
                </a:cubicBezTo>
                <a:cubicBezTo>
                  <a:pt x="76" y="578"/>
                  <a:pt x="77" y="578"/>
                  <a:pt x="78" y="578"/>
                </a:cubicBezTo>
                <a:cubicBezTo>
                  <a:pt x="78" y="578"/>
                  <a:pt x="78" y="578"/>
                  <a:pt x="78" y="578"/>
                </a:cubicBezTo>
                <a:cubicBezTo>
                  <a:pt x="78" y="578"/>
                  <a:pt x="78" y="578"/>
                  <a:pt x="79" y="577"/>
                </a:cubicBezTo>
                <a:cubicBezTo>
                  <a:pt x="87" y="575"/>
                  <a:pt x="87" y="575"/>
                  <a:pt x="87" y="575"/>
                </a:cubicBezTo>
                <a:cubicBezTo>
                  <a:pt x="88" y="624"/>
                  <a:pt x="92" y="668"/>
                  <a:pt x="97" y="705"/>
                </a:cubicBezTo>
                <a:cubicBezTo>
                  <a:pt x="97" y="704"/>
                  <a:pt x="97" y="704"/>
                  <a:pt x="97" y="704"/>
                </a:cubicBezTo>
                <a:cubicBezTo>
                  <a:pt x="119" y="701"/>
                  <a:pt x="143" y="700"/>
                  <a:pt x="167" y="700"/>
                </a:cubicBezTo>
                <a:cubicBezTo>
                  <a:pt x="188" y="700"/>
                  <a:pt x="210" y="701"/>
                  <a:pt x="233" y="704"/>
                </a:cubicBezTo>
                <a:cubicBezTo>
                  <a:pt x="232" y="703"/>
                  <a:pt x="232" y="702"/>
                  <a:pt x="232" y="701"/>
                </a:cubicBezTo>
                <a:cubicBezTo>
                  <a:pt x="230" y="700"/>
                  <a:pt x="229" y="698"/>
                  <a:pt x="228" y="695"/>
                </a:cubicBezTo>
                <a:cubicBezTo>
                  <a:pt x="223" y="686"/>
                  <a:pt x="222" y="676"/>
                  <a:pt x="223" y="666"/>
                </a:cubicBezTo>
                <a:cubicBezTo>
                  <a:pt x="227" y="643"/>
                  <a:pt x="247" y="625"/>
                  <a:pt x="271" y="625"/>
                </a:cubicBezTo>
                <a:cubicBezTo>
                  <a:pt x="274" y="625"/>
                  <a:pt x="276" y="625"/>
                  <a:pt x="278" y="626"/>
                </a:cubicBezTo>
                <a:cubicBezTo>
                  <a:pt x="305" y="630"/>
                  <a:pt x="323" y="654"/>
                  <a:pt x="319" y="681"/>
                </a:cubicBezTo>
                <a:cubicBezTo>
                  <a:pt x="318" y="691"/>
                  <a:pt x="313" y="700"/>
                  <a:pt x="306" y="707"/>
                </a:cubicBezTo>
                <a:cubicBezTo>
                  <a:pt x="304" y="709"/>
                  <a:pt x="303" y="710"/>
                  <a:pt x="301" y="712"/>
                </a:cubicBezTo>
                <a:cubicBezTo>
                  <a:pt x="300" y="713"/>
                  <a:pt x="299" y="714"/>
                  <a:pt x="298" y="714"/>
                </a:cubicBezTo>
                <a:cubicBezTo>
                  <a:pt x="344" y="724"/>
                  <a:pt x="391" y="738"/>
                  <a:pt x="440" y="757"/>
                </a:cubicBezTo>
                <a:cubicBezTo>
                  <a:pt x="451" y="761"/>
                  <a:pt x="451" y="761"/>
                  <a:pt x="451" y="761"/>
                </a:cubicBezTo>
                <a:cubicBezTo>
                  <a:pt x="452" y="761"/>
                  <a:pt x="453" y="760"/>
                  <a:pt x="454" y="760"/>
                </a:cubicBezTo>
                <a:cubicBezTo>
                  <a:pt x="582" y="724"/>
                  <a:pt x="623" y="665"/>
                  <a:pt x="633" y="647"/>
                </a:cubicBezTo>
                <a:cubicBezTo>
                  <a:pt x="656" y="610"/>
                  <a:pt x="670" y="529"/>
                  <a:pt x="669" y="441"/>
                </a:cubicBezTo>
                <a:close/>
              </a:path>
            </a:pathLst>
          </a:cu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4" name="Freeform 11"/>
          <p:cNvSpPr/>
          <p:nvPr/>
        </p:nvSpPr>
        <p:spPr>
          <a:xfrm>
            <a:off x="5083200" y="3255840"/>
            <a:ext cx="1512720" cy="1252800"/>
          </a:xfrm>
          <a:custGeom>
            <a:avLst/>
            <a:gdLst/>
            <a:ahLst/>
            <a:rect l="l" t="t" r="r" b="b"/>
            <a:pathLst>
              <a:path w="671" h="556">
                <a:moveTo>
                  <a:pt x="666" y="373"/>
                </a:moveTo>
                <a:cubicBezTo>
                  <a:pt x="665" y="367"/>
                  <a:pt x="665" y="367"/>
                  <a:pt x="665" y="367"/>
                </a:cubicBezTo>
                <a:cubicBezTo>
                  <a:pt x="665" y="367"/>
                  <a:pt x="665" y="367"/>
                  <a:pt x="665" y="367"/>
                </a:cubicBezTo>
                <a:cubicBezTo>
                  <a:pt x="665" y="367"/>
                  <a:pt x="665" y="367"/>
                  <a:pt x="665" y="367"/>
                </a:cubicBezTo>
                <a:cubicBezTo>
                  <a:pt x="661" y="341"/>
                  <a:pt x="659" y="315"/>
                  <a:pt x="657" y="290"/>
                </a:cubicBezTo>
                <a:cubicBezTo>
                  <a:pt x="657" y="288"/>
                  <a:pt x="657" y="286"/>
                  <a:pt x="657" y="285"/>
                </a:cubicBezTo>
                <a:cubicBezTo>
                  <a:pt x="657" y="281"/>
                  <a:pt x="657" y="277"/>
                  <a:pt x="656" y="274"/>
                </a:cubicBezTo>
                <a:cubicBezTo>
                  <a:pt x="656" y="271"/>
                  <a:pt x="656" y="269"/>
                  <a:pt x="656" y="266"/>
                </a:cubicBezTo>
                <a:cubicBezTo>
                  <a:pt x="656" y="263"/>
                  <a:pt x="656" y="260"/>
                  <a:pt x="656" y="257"/>
                </a:cubicBezTo>
                <a:cubicBezTo>
                  <a:pt x="656" y="255"/>
                  <a:pt x="656" y="252"/>
                  <a:pt x="656" y="249"/>
                </a:cubicBezTo>
                <a:cubicBezTo>
                  <a:pt x="656" y="248"/>
                  <a:pt x="656" y="247"/>
                  <a:pt x="656" y="247"/>
                </a:cubicBezTo>
                <a:cubicBezTo>
                  <a:pt x="655" y="247"/>
                  <a:pt x="655" y="247"/>
                  <a:pt x="655" y="247"/>
                </a:cubicBezTo>
                <a:cubicBezTo>
                  <a:pt x="654" y="247"/>
                  <a:pt x="654" y="247"/>
                  <a:pt x="654" y="247"/>
                </a:cubicBezTo>
                <a:cubicBezTo>
                  <a:pt x="654" y="247"/>
                  <a:pt x="653" y="248"/>
                  <a:pt x="652" y="248"/>
                </a:cubicBezTo>
                <a:cubicBezTo>
                  <a:pt x="652" y="248"/>
                  <a:pt x="652" y="248"/>
                  <a:pt x="652" y="248"/>
                </a:cubicBezTo>
                <a:cubicBezTo>
                  <a:pt x="651" y="249"/>
                  <a:pt x="650" y="249"/>
                  <a:pt x="650" y="250"/>
                </a:cubicBezTo>
                <a:cubicBezTo>
                  <a:pt x="649" y="251"/>
                  <a:pt x="649" y="251"/>
                  <a:pt x="649" y="251"/>
                </a:cubicBezTo>
                <a:cubicBezTo>
                  <a:pt x="648" y="251"/>
                  <a:pt x="648" y="251"/>
                  <a:pt x="648" y="251"/>
                </a:cubicBezTo>
                <a:cubicBezTo>
                  <a:pt x="647" y="252"/>
                  <a:pt x="646" y="253"/>
                  <a:pt x="645" y="254"/>
                </a:cubicBezTo>
                <a:cubicBezTo>
                  <a:pt x="644" y="254"/>
                  <a:pt x="644" y="254"/>
                  <a:pt x="644" y="254"/>
                </a:cubicBezTo>
                <a:cubicBezTo>
                  <a:pt x="642" y="256"/>
                  <a:pt x="640" y="257"/>
                  <a:pt x="638" y="258"/>
                </a:cubicBezTo>
                <a:cubicBezTo>
                  <a:pt x="637" y="259"/>
                  <a:pt x="635" y="259"/>
                  <a:pt x="634" y="259"/>
                </a:cubicBezTo>
                <a:cubicBezTo>
                  <a:pt x="633" y="260"/>
                  <a:pt x="633" y="260"/>
                  <a:pt x="633" y="260"/>
                </a:cubicBezTo>
                <a:cubicBezTo>
                  <a:pt x="632" y="260"/>
                  <a:pt x="631" y="260"/>
                  <a:pt x="631" y="261"/>
                </a:cubicBezTo>
                <a:cubicBezTo>
                  <a:pt x="629" y="261"/>
                  <a:pt x="627" y="262"/>
                  <a:pt x="626" y="262"/>
                </a:cubicBezTo>
                <a:cubicBezTo>
                  <a:pt x="625" y="262"/>
                  <a:pt x="625" y="262"/>
                  <a:pt x="625" y="262"/>
                </a:cubicBezTo>
                <a:cubicBezTo>
                  <a:pt x="625" y="262"/>
                  <a:pt x="624" y="262"/>
                  <a:pt x="623" y="262"/>
                </a:cubicBezTo>
                <a:cubicBezTo>
                  <a:pt x="621" y="263"/>
                  <a:pt x="619" y="263"/>
                  <a:pt x="617" y="263"/>
                </a:cubicBezTo>
                <a:cubicBezTo>
                  <a:pt x="615" y="263"/>
                  <a:pt x="615" y="263"/>
                  <a:pt x="615" y="263"/>
                </a:cubicBezTo>
                <a:cubicBezTo>
                  <a:pt x="614" y="263"/>
                  <a:pt x="612" y="263"/>
                  <a:pt x="611" y="262"/>
                </a:cubicBezTo>
                <a:cubicBezTo>
                  <a:pt x="611" y="262"/>
                  <a:pt x="610" y="262"/>
                  <a:pt x="610" y="262"/>
                </a:cubicBezTo>
                <a:cubicBezTo>
                  <a:pt x="608" y="262"/>
                  <a:pt x="607" y="262"/>
                  <a:pt x="606" y="262"/>
                </a:cubicBezTo>
                <a:cubicBezTo>
                  <a:pt x="606" y="262"/>
                  <a:pt x="605" y="262"/>
                  <a:pt x="605" y="261"/>
                </a:cubicBezTo>
                <a:cubicBezTo>
                  <a:pt x="604" y="261"/>
                  <a:pt x="603" y="261"/>
                  <a:pt x="601" y="260"/>
                </a:cubicBezTo>
                <a:cubicBezTo>
                  <a:pt x="601" y="260"/>
                  <a:pt x="601" y="260"/>
                  <a:pt x="601" y="260"/>
                </a:cubicBezTo>
                <a:cubicBezTo>
                  <a:pt x="600" y="260"/>
                  <a:pt x="598" y="259"/>
                  <a:pt x="597" y="259"/>
                </a:cubicBezTo>
                <a:cubicBezTo>
                  <a:pt x="597" y="259"/>
                  <a:pt x="597" y="259"/>
                  <a:pt x="597" y="259"/>
                </a:cubicBezTo>
                <a:cubicBezTo>
                  <a:pt x="595" y="258"/>
                  <a:pt x="594" y="257"/>
                  <a:pt x="593" y="257"/>
                </a:cubicBezTo>
                <a:cubicBezTo>
                  <a:pt x="592" y="256"/>
                  <a:pt x="592" y="256"/>
                  <a:pt x="592" y="256"/>
                </a:cubicBezTo>
                <a:cubicBezTo>
                  <a:pt x="591" y="256"/>
                  <a:pt x="590" y="255"/>
                  <a:pt x="589" y="254"/>
                </a:cubicBezTo>
                <a:cubicBezTo>
                  <a:pt x="588" y="254"/>
                  <a:pt x="588" y="254"/>
                  <a:pt x="588" y="254"/>
                </a:cubicBezTo>
                <a:cubicBezTo>
                  <a:pt x="587" y="253"/>
                  <a:pt x="586" y="252"/>
                  <a:pt x="585" y="251"/>
                </a:cubicBezTo>
                <a:cubicBezTo>
                  <a:pt x="584" y="250"/>
                  <a:pt x="583" y="249"/>
                  <a:pt x="582" y="248"/>
                </a:cubicBezTo>
                <a:cubicBezTo>
                  <a:pt x="581" y="248"/>
                  <a:pt x="581" y="248"/>
                  <a:pt x="581" y="248"/>
                </a:cubicBezTo>
                <a:cubicBezTo>
                  <a:pt x="580" y="247"/>
                  <a:pt x="579" y="246"/>
                  <a:pt x="579" y="245"/>
                </a:cubicBezTo>
                <a:cubicBezTo>
                  <a:pt x="578" y="244"/>
                  <a:pt x="577" y="243"/>
                  <a:pt x="576" y="242"/>
                </a:cubicBezTo>
                <a:cubicBezTo>
                  <a:pt x="576" y="241"/>
                  <a:pt x="576" y="241"/>
                  <a:pt x="576" y="241"/>
                </a:cubicBezTo>
                <a:cubicBezTo>
                  <a:pt x="575" y="240"/>
                  <a:pt x="574" y="238"/>
                  <a:pt x="574" y="237"/>
                </a:cubicBezTo>
                <a:cubicBezTo>
                  <a:pt x="573" y="235"/>
                  <a:pt x="572" y="234"/>
                  <a:pt x="572" y="233"/>
                </a:cubicBezTo>
                <a:cubicBezTo>
                  <a:pt x="572" y="232"/>
                  <a:pt x="572" y="232"/>
                  <a:pt x="572" y="232"/>
                </a:cubicBezTo>
                <a:cubicBezTo>
                  <a:pt x="571" y="231"/>
                  <a:pt x="571" y="230"/>
                  <a:pt x="570" y="228"/>
                </a:cubicBezTo>
                <a:cubicBezTo>
                  <a:pt x="570" y="228"/>
                  <a:pt x="570" y="228"/>
                  <a:pt x="570" y="228"/>
                </a:cubicBezTo>
                <a:cubicBezTo>
                  <a:pt x="570" y="227"/>
                  <a:pt x="569" y="225"/>
                  <a:pt x="569" y="224"/>
                </a:cubicBezTo>
                <a:cubicBezTo>
                  <a:pt x="569" y="224"/>
                  <a:pt x="569" y="224"/>
                  <a:pt x="569" y="223"/>
                </a:cubicBezTo>
                <a:cubicBezTo>
                  <a:pt x="569" y="222"/>
                  <a:pt x="569" y="221"/>
                  <a:pt x="568" y="220"/>
                </a:cubicBezTo>
                <a:cubicBezTo>
                  <a:pt x="568" y="219"/>
                  <a:pt x="568" y="219"/>
                  <a:pt x="568" y="218"/>
                </a:cubicBezTo>
                <a:cubicBezTo>
                  <a:pt x="568" y="217"/>
                  <a:pt x="568" y="215"/>
                  <a:pt x="568" y="214"/>
                </a:cubicBezTo>
                <a:cubicBezTo>
                  <a:pt x="568" y="212"/>
                  <a:pt x="568" y="210"/>
                  <a:pt x="569" y="208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5"/>
                  <a:pt x="569" y="204"/>
                  <a:pt x="570" y="202"/>
                </a:cubicBezTo>
                <a:cubicBezTo>
                  <a:pt x="570" y="202"/>
                  <a:pt x="570" y="201"/>
                  <a:pt x="570" y="201"/>
                </a:cubicBezTo>
                <a:cubicBezTo>
                  <a:pt x="571" y="199"/>
                  <a:pt x="571" y="198"/>
                  <a:pt x="572" y="197"/>
                </a:cubicBezTo>
                <a:cubicBezTo>
                  <a:pt x="572" y="196"/>
                  <a:pt x="572" y="196"/>
                  <a:pt x="572" y="195"/>
                </a:cubicBezTo>
                <a:cubicBezTo>
                  <a:pt x="573" y="194"/>
                  <a:pt x="574" y="192"/>
                  <a:pt x="574" y="190"/>
                </a:cubicBezTo>
                <a:cubicBezTo>
                  <a:pt x="575" y="190"/>
                  <a:pt x="575" y="190"/>
                  <a:pt x="575" y="190"/>
                </a:cubicBezTo>
                <a:cubicBezTo>
                  <a:pt x="576" y="188"/>
                  <a:pt x="577" y="187"/>
                  <a:pt x="578" y="185"/>
                </a:cubicBezTo>
                <a:cubicBezTo>
                  <a:pt x="578" y="185"/>
                  <a:pt x="578" y="185"/>
                  <a:pt x="579" y="184"/>
                </a:cubicBezTo>
                <a:cubicBezTo>
                  <a:pt x="580" y="183"/>
                  <a:pt x="581" y="182"/>
                  <a:pt x="582" y="181"/>
                </a:cubicBezTo>
                <a:cubicBezTo>
                  <a:pt x="582" y="180"/>
                  <a:pt x="582" y="180"/>
                  <a:pt x="583" y="180"/>
                </a:cubicBezTo>
                <a:cubicBezTo>
                  <a:pt x="584" y="178"/>
                  <a:pt x="585" y="177"/>
                  <a:pt x="587" y="176"/>
                </a:cubicBezTo>
                <a:cubicBezTo>
                  <a:pt x="587" y="176"/>
                  <a:pt x="588" y="176"/>
                  <a:pt x="588" y="175"/>
                </a:cubicBezTo>
                <a:cubicBezTo>
                  <a:pt x="589" y="174"/>
                  <a:pt x="591" y="173"/>
                  <a:pt x="592" y="173"/>
                </a:cubicBezTo>
                <a:cubicBezTo>
                  <a:pt x="593" y="172"/>
                  <a:pt x="593" y="172"/>
                  <a:pt x="593" y="172"/>
                </a:cubicBezTo>
                <a:cubicBezTo>
                  <a:pt x="597" y="170"/>
                  <a:pt x="600" y="169"/>
                  <a:pt x="604" y="168"/>
                </a:cubicBezTo>
                <a:cubicBezTo>
                  <a:pt x="605" y="167"/>
                  <a:pt x="605" y="167"/>
                  <a:pt x="605" y="167"/>
                </a:cubicBezTo>
                <a:cubicBezTo>
                  <a:pt x="607" y="167"/>
                  <a:pt x="608" y="167"/>
                  <a:pt x="610" y="166"/>
                </a:cubicBezTo>
                <a:cubicBezTo>
                  <a:pt x="611" y="166"/>
                  <a:pt x="611" y="166"/>
                  <a:pt x="611" y="166"/>
                </a:cubicBezTo>
                <a:cubicBezTo>
                  <a:pt x="613" y="166"/>
                  <a:pt x="615" y="166"/>
                  <a:pt x="617" y="166"/>
                </a:cubicBezTo>
                <a:cubicBezTo>
                  <a:pt x="617" y="166"/>
                  <a:pt x="617" y="166"/>
                  <a:pt x="617" y="166"/>
                </a:cubicBezTo>
                <a:cubicBezTo>
                  <a:pt x="618" y="166"/>
                  <a:pt x="618" y="166"/>
                  <a:pt x="618" y="166"/>
                </a:cubicBezTo>
                <a:cubicBezTo>
                  <a:pt x="619" y="166"/>
                  <a:pt x="620" y="166"/>
                  <a:pt x="621" y="166"/>
                </a:cubicBezTo>
                <a:cubicBezTo>
                  <a:pt x="622" y="166"/>
                  <a:pt x="622" y="166"/>
                  <a:pt x="622" y="166"/>
                </a:cubicBezTo>
                <a:cubicBezTo>
                  <a:pt x="623" y="166"/>
                  <a:pt x="623" y="166"/>
                  <a:pt x="623" y="166"/>
                </a:cubicBezTo>
                <a:cubicBezTo>
                  <a:pt x="624" y="166"/>
                  <a:pt x="624" y="167"/>
                  <a:pt x="625" y="167"/>
                </a:cubicBezTo>
                <a:cubicBezTo>
                  <a:pt x="625" y="167"/>
                  <a:pt x="626" y="167"/>
                  <a:pt x="626" y="167"/>
                </a:cubicBezTo>
                <a:cubicBezTo>
                  <a:pt x="627" y="167"/>
                  <a:pt x="628" y="167"/>
                  <a:pt x="629" y="167"/>
                </a:cubicBezTo>
                <a:cubicBezTo>
                  <a:pt x="630" y="168"/>
                  <a:pt x="630" y="168"/>
                  <a:pt x="630" y="168"/>
                </a:cubicBezTo>
                <a:cubicBezTo>
                  <a:pt x="631" y="168"/>
                  <a:pt x="631" y="168"/>
                  <a:pt x="632" y="169"/>
                </a:cubicBezTo>
                <a:cubicBezTo>
                  <a:pt x="633" y="169"/>
                  <a:pt x="633" y="169"/>
                  <a:pt x="633" y="169"/>
                </a:cubicBezTo>
                <a:cubicBezTo>
                  <a:pt x="634" y="169"/>
                  <a:pt x="635" y="170"/>
                  <a:pt x="636" y="170"/>
                </a:cubicBezTo>
                <a:cubicBezTo>
                  <a:pt x="636" y="170"/>
                  <a:pt x="636" y="170"/>
                  <a:pt x="637" y="170"/>
                </a:cubicBezTo>
                <a:cubicBezTo>
                  <a:pt x="637" y="171"/>
                  <a:pt x="638" y="171"/>
                  <a:pt x="639" y="171"/>
                </a:cubicBezTo>
                <a:cubicBezTo>
                  <a:pt x="639" y="172"/>
                  <a:pt x="640" y="172"/>
                  <a:pt x="640" y="172"/>
                </a:cubicBezTo>
                <a:cubicBezTo>
                  <a:pt x="641" y="172"/>
                  <a:pt x="641" y="172"/>
                  <a:pt x="641" y="172"/>
                </a:cubicBezTo>
                <a:cubicBezTo>
                  <a:pt x="641" y="173"/>
                  <a:pt x="642" y="173"/>
                  <a:pt x="642" y="173"/>
                </a:cubicBezTo>
                <a:cubicBezTo>
                  <a:pt x="643" y="174"/>
                  <a:pt x="644" y="175"/>
                  <a:pt x="645" y="175"/>
                </a:cubicBezTo>
                <a:cubicBezTo>
                  <a:pt x="647" y="177"/>
                  <a:pt x="649" y="178"/>
                  <a:pt x="650" y="180"/>
                </a:cubicBezTo>
                <a:cubicBezTo>
                  <a:pt x="650" y="180"/>
                  <a:pt x="650" y="180"/>
                  <a:pt x="650" y="180"/>
                </a:cubicBezTo>
                <a:cubicBezTo>
                  <a:pt x="651" y="180"/>
                  <a:pt x="651" y="180"/>
                  <a:pt x="651" y="180"/>
                </a:cubicBezTo>
                <a:cubicBezTo>
                  <a:pt x="651" y="180"/>
                  <a:pt x="651" y="180"/>
                  <a:pt x="652" y="181"/>
                </a:cubicBezTo>
                <a:cubicBezTo>
                  <a:pt x="652" y="181"/>
                  <a:pt x="653" y="182"/>
                  <a:pt x="653" y="182"/>
                </a:cubicBezTo>
                <a:cubicBezTo>
                  <a:pt x="654" y="182"/>
                  <a:pt x="654" y="182"/>
                  <a:pt x="654" y="182"/>
                </a:cubicBezTo>
                <a:cubicBezTo>
                  <a:pt x="655" y="183"/>
                  <a:pt x="655" y="183"/>
                  <a:pt x="656" y="183"/>
                </a:cubicBezTo>
                <a:cubicBezTo>
                  <a:pt x="656" y="183"/>
                  <a:pt x="656" y="183"/>
                  <a:pt x="656" y="183"/>
                </a:cubicBezTo>
                <a:cubicBezTo>
                  <a:pt x="657" y="184"/>
                  <a:pt x="657" y="184"/>
                  <a:pt x="657" y="184"/>
                </a:cubicBezTo>
                <a:cubicBezTo>
                  <a:pt x="657" y="182"/>
                  <a:pt x="657" y="181"/>
                  <a:pt x="657" y="180"/>
                </a:cubicBezTo>
                <a:cubicBezTo>
                  <a:pt x="657" y="177"/>
                  <a:pt x="657" y="175"/>
                  <a:pt x="658" y="172"/>
                </a:cubicBezTo>
                <a:cubicBezTo>
                  <a:pt x="658" y="168"/>
                  <a:pt x="658" y="165"/>
                  <a:pt x="658" y="161"/>
                </a:cubicBezTo>
                <a:cubicBezTo>
                  <a:pt x="659" y="159"/>
                  <a:pt x="659" y="156"/>
                  <a:pt x="659" y="154"/>
                </a:cubicBezTo>
                <a:cubicBezTo>
                  <a:pt x="659" y="148"/>
                  <a:pt x="660" y="143"/>
                  <a:pt x="661" y="137"/>
                </a:cubicBezTo>
                <a:cubicBezTo>
                  <a:pt x="661" y="135"/>
                  <a:pt x="661" y="133"/>
                  <a:pt x="661" y="132"/>
                </a:cubicBezTo>
                <a:cubicBezTo>
                  <a:pt x="662" y="127"/>
                  <a:pt x="662" y="122"/>
                  <a:pt x="663" y="118"/>
                </a:cubicBezTo>
                <a:cubicBezTo>
                  <a:pt x="663" y="116"/>
                  <a:pt x="664" y="114"/>
                  <a:pt x="664" y="112"/>
                </a:cubicBezTo>
                <a:cubicBezTo>
                  <a:pt x="666" y="100"/>
                  <a:pt x="668" y="87"/>
                  <a:pt x="670" y="75"/>
                </a:cubicBezTo>
                <a:cubicBezTo>
                  <a:pt x="671" y="74"/>
                  <a:pt x="671" y="74"/>
                  <a:pt x="671" y="73"/>
                </a:cubicBezTo>
                <a:cubicBezTo>
                  <a:pt x="645" y="78"/>
                  <a:pt x="620" y="80"/>
                  <a:pt x="596" y="80"/>
                </a:cubicBezTo>
                <a:cubicBezTo>
                  <a:pt x="577" y="80"/>
                  <a:pt x="558" y="79"/>
                  <a:pt x="540" y="76"/>
                </a:cubicBezTo>
                <a:cubicBezTo>
                  <a:pt x="540" y="77"/>
                  <a:pt x="541" y="79"/>
                  <a:pt x="542" y="82"/>
                </a:cubicBezTo>
                <a:cubicBezTo>
                  <a:pt x="543" y="84"/>
                  <a:pt x="543" y="86"/>
                  <a:pt x="544" y="88"/>
                </a:cubicBezTo>
                <a:cubicBezTo>
                  <a:pt x="547" y="98"/>
                  <a:pt x="547" y="108"/>
                  <a:pt x="544" y="118"/>
                </a:cubicBezTo>
                <a:cubicBezTo>
                  <a:pt x="537" y="138"/>
                  <a:pt x="519" y="151"/>
                  <a:pt x="498" y="151"/>
                </a:cubicBezTo>
                <a:cubicBezTo>
                  <a:pt x="493" y="151"/>
                  <a:pt x="488" y="151"/>
                  <a:pt x="483" y="149"/>
                </a:cubicBezTo>
                <a:cubicBezTo>
                  <a:pt x="457" y="141"/>
                  <a:pt x="444" y="113"/>
                  <a:pt x="452" y="88"/>
                </a:cubicBezTo>
                <a:cubicBezTo>
                  <a:pt x="455" y="78"/>
                  <a:pt x="461" y="70"/>
                  <a:pt x="469" y="64"/>
                </a:cubicBezTo>
                <a:cubicBezTo>
                  <a:pt x="471" y="63"/>
                  <a:pt x="473" y="61"/>
                  <a:pt x="475" y="60"/>
                </a:cubicBezTo>
                <a:cubicBezTo>
                  <a:pt x="475" y="60"/>
                  <a:pt x="475" y="60"/>
                  <a:pt x="475" y="60"/>
                </a:cubicBezTo>
                <a:cubicBezTo>
                  <a:pt x="440" y="47"/>
                  <a:pt x="406" y="29"/>
                  <a:pt x="374" y="5"/>
                </a:cubicBezTo>
                <a:cubicBezTo>
                  <a:pt x="368" y="0"/>
                  <a:pt x="368" y="0"/>
                  <a:pt x="368" y="0"/>
                </a:cubicBezTo>
                <a:cubicBezTo>
                  <a:pt x="368" y="0"/>
                  <a:pt x="363" y="8"/>
                  <a:pt x="359" y="14"/>
                </a:cubicBezTo>
                <a:cubicBezTo>
                  <a:pt x="357" y="18"/>
                  <a:pt x="355" y="21"/>
                  <a:pt x="353" y="24"/>
                </a:cubicBezTo>
                <a:cubicBezTo>
                  <a:pt x="351" y="28"/>
                  <a:pt x="349" y="31"/>
                  <a:pt x="346" y="35"/>
                </a:cubicBezTo>
                <a:cubicBezTo>
                  <a:pt x="343" y="39"/>
                  <a:pt x="341" y="43"/>
                  <a:pt x="338" y="47"/>
                </a:cubicBezTo>
                <a:cubicBezTo>
                  <a:pt x="336" y="49"/>
                  <a:pt x="334" y="52"/>
                  <a:pt x="333" y="54"/>
                </a:cubicBezTo>
                <a:cubicBezTo>
                  <a:pt x="329" y="59"/>
                  <a:pt x="326" y="63"/>
                  <a:pt x="323" y="68"/>
                </a:cubicBezTo>
                <a:cubicBezTo>
                  <a:pt x="322" y="70"/>
                  <a:pt x="320" y="72"/>
                  <a:pt x="319" y="73"/>
                </a:cubicBezTo>
                <a:cubicBezTo>
                  <a:pt x="315" y="78"/>
                  <a:pt x="312" y="82"/>
                  <a:pt x="308" y="87"/>
                </a:cubicBezTo>
                <a:cubicBezTo>
                  <a:pt x="307" y="89"/>
                  <a:pt x="306" y="90"/>
                  <a:pt x="304" y="92"/>
                </a:cubicBezTo>
                <a:cubicBezTo>
                  <a:pt x="301" y="96"/>
                  <a:pt x="297" y="101"/>
                  <a:pt x="294" y="105"/>
                </a:cubicBezTo>
                <a:cubicBezTo>
                  <a:pt x="292" y="107"/>
                  <a:pt x="291" y="109"/>
                  <a:pt x="289" y="111"/>
                </a:cubicBezTo>
                <a:cubicBezTo>
                  <a:pt x="286" y="114"/>
                  <a:pt x="283" y="118"/>
                  <a:pt x="279" y="122"/>
                </a:cubicBezTo>
                <a:cubicBezTo>
                  <a:pt x="277" y="124"/>
                  <a:pt x="276" y="126"/>
                  <a:pt x="274" y="128"/>
                </a:cubicBezTo>
                <a:cubicBezTo>
                  <a:pt x="270" y="132"/>
                  <a:pt x="267" y="136"/>
                  <a:pt x="264" y="139"/>
                </a:cubicBezTo>
                <a:cubicBezTo>
                  <a:pt x="262" y="141"/>
                  <a:pt x="260" y="143"/>
                  <a:pt x="259" y="145"/>
                </a:cubicBezTo>
                <a:cubicBezTo>
                  <a:pt x="258" y="146"/>
                  <a:pt x="258" y="146"/>
                  <a:pt x="258" y="146"/>
                </a:cubicBezTo>
                <a:cubicBezTo>
                  <a:pt x="256" y="147"/>
                  <a:pt x="256" y="147"/>
                  <a:pt x="256" y="147"/>
                </a:cubicBezTo>
                <a:cubicBezTo>
                  <a:pt x="255" y="147"/>
                  <a:pt x="255" y="147"/>
                  <a:pt x="254" y="147"/>
                </a:cubicBezTo>
                <a:cubicBezTo>
                  <a:pt x="254" y="147"/>
                  <a:pt x="254" y="147"/>
                  <a:pt x="254" y="147"/>
                </a:cubicBezTo>
                <a:cubicBezTo>
                  <a:pt x="252" y="148"/>
                  <a:pt x="249" y="148"/>
                  <a:pt x="247" y="146"/>
                </a:cubicBezTo>
                <a:cubicBezTo>
                  <a:pt x="247" y="146"/>
                  <a:pt x="247" y="146"/>
                  <a:pt x="247" y="146"/>
                </a:cubicBezTo>
                <a:cubicBezTo>
                  <a:pt x="247" y="146"/>
                  <a:pt x="247" y="146"/>
                  <a:pt x="247" y="146"/>
                </a:cubicBezTo>
                <a:cubicBezTo>
                  <a:pt x="247" y="146"/>
                  <a:pt x="246" y="146"/>
                  <a:pt x="246" y="145"/>
                </a:cubicBezTo>
                <a:cubicBezTo>
                  <a:pt x="246" y="145"/>
                  <a:pt x="246" y="145"/>
                  <a:pt x="246" y="145"/>
                </a:cubicBezTo>
                <a:cubicBezTo>
                  <a:pt x="245" y="145"/>
                  <a:pt x="245" y="144"/>
                  <a:pt x="245" y="144"/>
                </a:cubicBezTo>
                <a:cubicBezTo>
                  <a:pt x="245" y="144"/>
                  <a:pt x="245" y="144"/>
                  <a:pt x="245" y="143"/>
                </a:cubicBezTo>
                <a:cubicBezTo>
                  <a:pt x="244" y="143"/>
                  <a:pt x="244" y="143"/>
                  <a:pt x="244" y="143"/>
                </a:cubicBezTo>
                <a:cubicBezTo>
                  <a:pt x="244" y="143"/>
                  <a:pt x="244" y="142"/>
                  <a:pt x="244" y="142"/>
                </a:cubicBezTo>
                <a:cubicBezTo>
                  <a:pt x="244" y="142"/>
                  <a:pt x="243" y="141"/>
                  <a:pt x="243" y="141"/>
                </a:cubicBezTo>
                <a:cubicBezTo>
                  <a:pt x="243" y="140"/>
                  <a:pt x="242" y="137"/>
                  <a:pt x="241" y="135"/>
                </a:cubicBezTo>
                <a:cubicBezTo>
                  <a:pt x="241" y="135"/>
                  <a:pt x="241" y="134"/>
                  <a:pt x="241" y="134"/>
                </a:cubicBezTo>
                <a:cubicBezTo>
                  <a:pt x="241" y="134"/>
                  <a:pt x="241" y="133"/>
                  <a:pt x="241" y="132"/>
                </a:cubicBezTo>
                <a:cubicBezTo>
                  <a:pt x="241" y="132"/>
                  <a:pt x="241" y="132"/>
                  <a:pt x="241" y="132"/>
                </a:cubicBezTo>
                <a:cubicBezTo>
                  <a:pt x="241" y="132"/>
                  <a:pt x="241" y="132"/>
                  <a:pt x="241" y="132"/>
                </a:cubicBezTo>
                <a:cubicBezTo>
                  <a:pt x="241" y="132"/>
                  <a:pt x="241" y="132"/>
                  <a:pt x="241" y="132"/>
                </a:cubicBezTo>
                <a:cubicBezTo>
                  <a:pt x="241" y="132"/>
                  <a:pt x="241" y="131"/>
                  <a:pt x="241" y="131"/>
                </a:cubicBezTo>
                <a:cubicBezTo>
                  <a:pt x="241" y="129"/>
                  <a:pt x="241" y="127"/>
                  <a:pt x="240" y="126"/>
                </a:cubicBezTo>
                <a:cubicBezTo>
                  <a:pt x="240" y="125"/>
                  <a:pt x="240" y="124"/>
                  <a:pt x="240" y="123"/>
                </a:cubicBezTo>
                <a:cubicBezTo>
                  <a:pt x="240" y="122"/>
                  <a:pt x="240" y="122"/>
                  <a:pt x="239" y="121"/>
                </a:cubicBezTo>
                <a:cubicBezTo>
                  <a:pt x="239" y="121"/>
                  <a:pt x="239" y="120"/>
                  <a:pt x="239" y="120"/>
                </a:cubicBezTo>
                <a:cubicBezTo>
                  <a:pt x="239" y="119"/>
                  <a:pt x="238" y="118"/>
                  <a:pt x="238" y="118"/>
                </a:cubicBezTo>
                <a:cubicBezTo>
                  <a:pt x="238" y="117"/>
                  <a:pt x="238" y="117"/>
                  <a:pt x="238" y="117"/>
                </a:cubicBezTo>
                <a:cubicBezTo>
                  <a:pt x="238" y="116"/>
                  <a:pt x="237" y="115"/>
                  <a:pt x="237" y="115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36" y="113"/>
                  <a:pt x="236" y="112"/>
                  <a:pt x="235" y="112"/>
                </a:cubicBezTo>
                <a:cubicBezTo>
                  <a:pt x="235" y="112"/>
                  <a:pt x="235" y="111"/>
                  <a:pt x="235" y="111"/>
                </a:cubicBezTo>
                <a:cubicBezTo>
                  <a:pt x="235" y="110"/>
                  <a:pt x="234" y="110"/>
                  <a:pt x="234" y="109"/>
                </a:cubicBezTo>
                <a:cubicBezTo>
                  <a:pt x="234" y="109"/>
                  <a:pt x="234" y="109"/>
                  <a:pt x="233" y="109"/>
                </a:cubicBezTo>
                <a:cubicBezTo>
                  <a:pt x="233" y="108"/>
                  <a:pt x="232" y="107"/>
                  <a:pt x="232" y="107"/>
                </a:cubicBezTo>
                <a:cubicBezTo>
                  <a:pt x="232" y="106"/>
                  <a:pt x="232" y="106"/>
                  <a:pt x="231" y="106"/>
                </a:cubicBezTo>
                <a:cubicBezTo>
                  <a:pt x="231" y="105"/>
                  <a:pt x="230" y="104"/>
                  <a:pt x="229" y="104"/>
                </a:cubicBezTo>
                <a:cubicBezTo>
                  <a:pt x="229" y="104"/>
                  <a:pt x="229" y="104"/>
                  <a:pt x="229" y="104"/>
                </a:cubicBezTo>
                <a:cubicBezTo>
                  <a:pt x="229" y="104"/>
                  <a:pt x="229" y="104"/>
                  <a:pt x="229" y="104"/>
                </a:cubicBezTo>
                <a:cubicBezTo>
                  <a:pt x="228" y="103"/>
                  <a:pt x="227" y="102"/>
                  <a:pt x="226" y="101"/>
                </a:cubicBezTo>
                <a:cubicBezTo>
                  <a:pt x="226" y="101"/>
                  <a:pt x="226" y="101"/>
                  <a:pt x="225" y="100"/>
                </a:cubicBezTo>
                <a:cubicBezTo>
                  <a:pt x="225" y="100"/>
                  <a:pt x="224" y="99"/>
                  <a:pt x="223" y="98"/>
                </a:cubicBezTo>
                <a:cubicBezTo>
                  <a:pt x="223" y="98"/>
                  <a:pt x="223" y="98"/>
                  <a:pt x="222" y="98"/>
                </a:cubicBezTo>
                <a:cubicBezTo>
                  <a:pt x="217" y="94"/>
                  <a:pt x="210" y="92"/>
                  <a:pt x="203" y="92"/>
                </a:cubicBezTo>
                <a:cubicBezTo>
                  <a:pt x="202" y="92"/>
                  <a:pt x="202" y="92"/>
                  <a:pt x="201" y="92"/>
                </a:cubicBezTo>
                <a:cubicBezTo>
                  <a:pt x="200" y="92"/>
                  <a:pt x="199" y="92"/>
                  <a:pt x="199" y="92"/>
                </a:cubicBezTo>
                <a:cubicBezTo>
                  <a:pt x="198" y="92"/>
                  <a:pt x="197" y="92"/>
                  <a:pt x="197" y="92"/>
                </a:cubicBezTo>
                <a:cubicBezTo>
                  <a:pt x="196" y="92"/>
                  <a:pt x="195" y="92"/>
                  <a:pt x="194" y="92"/>
                </a:cubicBezTo>
                <a:cubicBezTo>
                  <a:pt x="194" y="92"/>
                  <a:pt x="193" y="92"/>
                  <a:pt x="193" y="92"/>
                </a:cubicBezTo>
                <a:cubicBezTo>
                  <a:pt x="192" y="93"/>
                  <a:pt x="191" y="93"/>
                  <a:pt x="190" y="93"/>
                </a:cubicBezTo>
                <a:cubicBezTo>
                  <a:pt x="190" y="93"/>
                  <a:pt x="189" y="93"/>
                  <a:pt x="189" y="93"/>
                </a:cubicBezTo>
                <a:cubicBezTo>
                  <a:pt x="188" y="94"/>
                  <a:pt x="187" y="94"/>
                  <a:pt x="186" y="94"/>
                </a:cubicBezTo>
                <a:cubicBezTo>
                  <a:pt x="186" y="94"/>
                  <a:pt x="186" y="95"/>
                  <a:pt x="185" y="95"/>
                </a:cubicBezTo>
                <a:cubicBezTo>
                  <a:pt x="184" y="95"/>
                  <a:pt x="183" y="95"/>
                  <a:pt x="182" y="96"/>
                </a:cubicBezTo>
                <a:cubicBezTo>
                  <a:pt x="182" y="96"/>
                  <a:pt x="182" y="96"/>
                  <a:pt x="182" y="96"/>
                </a:cubicBezTo>
                <a:cubicBezTo>
                  <a:pt x="181" y="97"/>
                  <a:pt x="180" y="97"/>
                  <a:pt x="179" y="98"/>
                </a:cubicBezTo>
                <a:cubicBezTo>
                  <a:pt x="179" y="98"/>
                  <a:pt x="179" y="98"/>
                  <a:pt x="178" y="98"/>
                </a:cubicBezTo>
                <a:cubicBezTo>
                  <a:pt x="177" y="99"/>
                  <a:pt x="177" y="100"/>
                  <a:pt x="176" y="100"/>
                </a:cubicBezTo>
                <a:cubicBezTo>
                  <a:pt x="175" y="100"/>
                  <a:pt x="175" y="100"/>
                  <a:pt x="175" y="101"/>
                </a:cubicBezTo>
                <a:cubicBezTo>
                  <a:pt x="174" y="102"/>
                  <a:pt x="173" y="102"/>
                  <a:pt x="172" y="103"/>
                </a:cubicBezTo>
                <a:cubicBezTo>
                  <a:pt x="171" y="104"/>
                  <a:pt x="170" y="106"/>
                  <a:pt x="169" y="107"/>
                </a:cubicBezTo>
                <a:cubicBezTo>
                  <a:pt x="156" y="123"/>
                  <a:pt x="157" y="146"/>
                  <a:pt x="172" y="161"/>
                </a:cubicBezTo>
                <a:cubicBezTo>
                  <a:pt x="172" y="161"/>
                  <a:pt x="172" y="161"/>
                  <a:pt x="173" y="161"/>
                </a:cubicBezTo>
                <a:cubicBezTo>
                  <a:pt x="173" y="162"/>
                  <a:pt x="174" y="162"/>
                  <a:pt x="174" y="163"/>
                </a:cubicBezTo>
                <a:cubicBezTo>
                  <a:pt x="174" y="163"/>
                  <a:pt x="175" y="163"/>
                  <a:pt x="175" y="164"/>
                </a:cubicBezTo>
                <a:cubicBezTo>
                  <a:pt x="176" y="164"/>
                  <a:pt x="176" y="164"/>
                  <a:pt x="177" y="165"/>
                </a:cubicBezTo>
                <a:cubicBezTo>
                  <a:pt x="177" y="165"/>
                  <a:pt x="177" y="165"/>
                  <a:pt x="177" y="165"/>
                </a:cubicBezTo>
                <a:cubicBezTo>
                  <a:pt x="178" y="166"/>
                  <a:pt x="179" y="166"/>
                  <a:pt x="179" y="167"/>
                </a:cubicBezTo>
                <a:cubicBezTo>
                  <a:pt x="180" y="167"/>
                  <a:pt x="180" y="167"/>
                  <a:pt x="180" y="167"/>
                </a:cubicBezTo>
                <a:cubicBezTo>
                  <a:pt x="181" y="167"/>
                  <a:pt x="181" y="168"/>
                  <a:pt x="182" y="168"/>
                </a:cubicBezTo>
                <a:cubicBezTo>
                  <a:pt x="182" y="168"/>
                  <a:pt x="182" y="168"/>
                  <a:pt x="183" y="168"/>
                </a:cubicBezTo>
                <a:cubicBezTo>
                  <a:pt x="183" y="169"/>
                  <a:pt x="184" y="169"/>
                  <a:pt x="185" y="169"/>
                </a:cubicBezTo>
                <a:cubicBezTo>
                  <a:pt x="185" y="170"/>
                  <a:pt x="185" y="170"/>
                  <a:pt x="186" y="170"/>
                </a:cubicBezTo>
                <a:cubicBezTo>
                  <a:pt x="186" y="170"/>
                  <a:pt x="187" y="170"/>
                  <a:pt x="188" y="170"/>
                </a:cubicBezTo>
                <a:cubicBezTo>
                  <a:pt x="188" y="171"/>
                  <a:pt x="189" y="171"/>
                  <a:pt x="189" y="171"/>
                </a:cubicBezTo>
                <a:cubicBezTo>
                  <a:pt x="190" y="171"/>
                  <a:pt x="190" y="171"/>
                  <a:pt x="191" y="171"/>
                </a:cubicBezTo>
                <a:cubicBezTo>
                  <a:pt x="192" y="172"/>
                  <a:pt x="192" y="172"/>
                  <a:pt x="193" y="172"/>
                </a:cubicBezTo>
                <a:cubicBezTo>
                  <a:pt x="193" y="172"/>
                  <a:pt x="194" y="172"/>
                  <a:pt x="194" y="172"/>
                </a:cubicBezTo>
                <a:cubicBezTo>
                  <a:pt x="194" y="172"/>
                  <a:pt x="194" y="172"/>
                  <a:pt x="194" y="172"/>
                </a:cubicBezTo>
                <a:cubicBezTo>
                  <a:pt x="194" y="172"/>
                  <a:pt x="194" y="172"/>
                  <a:pt x="194" y="172"/>
                </a:cubicBezTo>
                <a:cubicBezTo>
                  <a:pt x="196" y="172"/>
                  <a:pt x="197" y="172"/>
                  <a:pt x="199" y="173"/>
                </a:cubicBezTo>
                <a:cubicBezTo>
                  <a:pt x="199" y="173"/>
                  <a:pt x="200" y="173"/>
                  <a:pt x="200" y="173"/>
                </a:cubicBezTo>
                <a:cubicBezTo>
                  <a:pt x="200" y="173"/>
                  <a:pt x="200" y="173"/>
                  <a:pt x="200" y="173"/>
                </a:cubicBezTo>
                <a:cubicBezTo>
                  <a:pt x="200" y="173"/>
                  <a:pt x="200" y="173"/>
                  <a:pt x="200" y="173"/>
                </a:cubicBezTo>
                <a:cubicBezTo>
                  <a:pt x="201" y="173"/>
                  <a:pt x="201" y="173"/>
                  <a:pt x="201" y="173"/>
                </a:cubicBezTo>
                <a:cubicBezTo>
                  <a:pt x="201" y="173"/>
                  <a:pt x="201" y="173"/>
                  <a:pt x="202" y="173"/>
                </a:cubicBezTo>
                <a:cubicBezTo>
                  <a:pt x="202" y="173"/>
                  <a:pt x="203" y="173"/>
                  <a:pt x="203" y="173"/>
                </a:cubicBezTo>
                <a:cubicBezTo>
                  <a:pt x="204" y="173"/>
                  <a:pt x="204" y="173"/>
                  <a:pt x="205" y="174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6" y="174"/>
                  <a:pt x="207" y="174"/>
                  <a:pt x="207" y="174"/>
                </a:cubicBezTo>
                <a:cubicBezTo>
                  <a:pt x="207" y="174"/>
                  <a:pt x="207" y="174"/>
                  <a:pt x="207" y="174"/>
                </a:cubicBezTo>
                <a:cubicBezTo>
                  <a:pt x="208" y="175"/>
                  <a:pt x="209" y="175"/>
                  <a:pt x="210" y="175"/>
                </a:cubicBezTo>
                <a:cubicBezTo>
                  <a:pt x="210" y="175"/>
                  <a:pt x="214" y="177"/>
                  <a:pt x="215" y="178"/>
                </a:cubicBezTo>
                <a:cubicBezTo>
                  <a:pt x="217" y="180"/>
                  <a:pt x="216" y="183"/>
                  <a:pt x="216" y="183"/>
                </a:cubicBezTo>
                <a:cubicBezTo>
                  <a:pt x="216" y="183"/>
                  <a:pt x="216" y="183"/>
                  <a:pt x="216" y="183"/>
                </a:cubicBezTo>
                <a:cubicBezTo>
                  <a:pt x="216" y="184"/>
                  <a:pt x="216" y="184"/>
                  <a:pt x="215" y="185"/>
                </a:cubicBezTo>
                <a:cubicBezTo>
                  <a:pt x="215" y="185"/>
                  <a:pt x="215" y="185"/>
                  <a:pt x="215" y="185"/>
                </a:cubicBezTo>
                <a:cubicBezTo>
                  <a:pt x="215" y="186"/>
                  <a:pt x="215" y="186"/>
                  <a:pt x="215" y="187"/>
                </a:cubicBezTo>
                <a:cubicBezTo>
                  <a:pt x="215" y="187"/>
                  <a:pt x="215" y="187"/>
                  <a:pt x="215" y="187"/>
                </a:cubicBezTo>
                <a:cubicBezTo>
                  <a:pt x="214" y="189"/>
                  <a:pt x="214" y="189"/>
                  <a:pt x="214" y="189"/>
                </a:cubicBezTo>
                <a:cubicBezTo>
                  <a:pt x="213" y="190"/>
                  <a:pt x="213" y="190"/>
                  <a:pt x="213" y="190"/>
                </a:cubicBezTo>
                <a:cubicBezTo>
                  <a:pt x="211" y="192"/>
                  <a:pt x="209" y="194"/>
                  <a:pt x="206" y="196"/>
                </a:cubicBezTo>
                <a:cubicBezTo>
                  <a:pt x="204" y="198"/>
                  <a:pt x="201" y="201"/>
                  <a:pt x="198" y="203"/>
                </a:cubicBezTo>
                <a:cubicBezTo>
                  <a:pt x="197" y="204"/>
                  <a:pt x="196" y="205"/>
                  <a:pt x="194" y="207"/>
                </a:cubicBezTo>
                <a:cubicBezTo>
                  <a:pt x="135" y="258"/>
                  <a:pt x="76" y="294"/>
                  <a:pt x="26" y="319"/>
                </a:cubicBezTo>
                <a:cubicBezTo>
                  <a:pt x="25" y="320"/>
                  <a:pt x="24" y="320"/>
                  <a:pt x="23" y="320"/>
                </a:cubicBezTo>
                <a:cubicBezTo>
                  <a:pt x="21" y="322"/>
                  <a:pt x="19" y="323"/>
                  <a:pt x="16" y="324"/>
                </a:cubicBezTo>
                <a:cubicBezTo>
                  <a:pt x="15" y="325"/>
                  <a:pt x="13" y="326"/>
                  <a:pt x="11" y="326"/>
                </a:cubicBezTo>
                <a:cubicBezTo>
                  <a:pt x="10" y="327"/>
                  <a:pt x="8" y="328"/>
                  <a:pt x="6" y="329"/>
                </a:cubicBezTo>
                <a:cubicBezTo>
                  <a:pt x="5" y="329"/>
                  <a:pt x="1" y="331"/>
                  <a:pt x="0" y="332"/>
                </a:cubicBezTo>
                <a:cubicBezTo>
                  <a:pt x="2" y="341"/>
                  <a:pt x="2" y="341"/>
                  <a:pt x="2" y="341"/>
                </a:cubicBezTo>
                <a:cubicBezTo>
                  <a:pt x="7" y="379"/>
                  <a:pt x="18" y="412"/>
                  <a:pt x="18" y="414"/>
                </a:cubicBezTo>
                <a:cubicBezTo>
                  <a:pt x="19" y="416"/>
                  <a:pt x="19" y="416"/>
                  <a:pt x="19" y="416"/>
                </a:cubicBezTo>
                <a:cubicBezTo>
                  <a:pt x="20" y="418"/>
                  <a:pt x="20" y="418"/>
                  <a:pt x="20" y="418"/>
                </a:cubicBezTo>
                <a:cubicBezTo>
                  <a:pt x="59" y="508"/>
                  <a:pt x="157" y="556"/>
                  <a:pt x="302" y="556"/>
                </a:cubicBezTo>
                <a:cubicBezTo>
                  <a:pt x="340" y="556"/>
                  <a:pt x="374" y="553"/>
                  <a:pt x="395" y="550"/>
                </a:cubicBezTo>
                <a:cubicBezTo>
                  <a:pt x="419" y="515"/>
                  <a:pt x="450" y="480"/>
                  <a:pt x="489" y="450"/>
                </a:cubicBezTo>
                <a:cubicBezTo>
                  <a:pt x="490" y="449"/>
                  <a:pt x="490" y="449"/>
                  <a:pt x="490" y="449"/>
                </a:cubicBezTo>
                <a:cubicBezTo>
                  <a:pt x="495" y="445"/>
                  <a:pt x="499" y="442"/>
                  <a:pt x="503" y="439"/>
                </a:cubicBezTo>
                <a:cubicBezTo>
                  <a:pt x="504" y="439"/>
                  <a:pt x="504" y="439"/>
                  <a:pt x="505" y="438"/>
                </a:cubicBezTo>
                <a:cubicBezTo>
                  <a:pt x="516" y="431"/>
                  <a:pt x="516" y="431"/>
                  <a:pt x="516" y="431"/>
                </a:cubicBezTo>
                <a:cubicBezTo>
                  <a:pt x="517" y="444"/>
                  <a:pt x="517" y="444"/>
                  <a:pt x="517" y="444"/>
                </a:cubicBezTo>
                <a:cubicBezTo>
                  <a:pt x="517" y="444"/>
                  <a:pt x="517" y="444"/>
                  <a:pt x="517" y="445"/>
                </a:cubicBezTo>
                <a:cubicBezTo>
                  <a:pt x="517" y="445"/>
                  <a:pt x="517" y="446"/>
                  <a:pt x="517" y="447"/>
                </a:cubicBezTo>
                <a:cubicBezTo>
                  <a:pt x="517" y="447"/>
                  <a:pt x="517" y="448"/>
                  <a:pt x="517" y="448"/>
                </a:cubicBezTo>
                <a:cubicBezTo>
                  <a:pt x="517" y="449"/>
                  <a:pt x="517" y="450"/>
                  <a:pt x="517" y="451"/>
                </a:cubicBezTo>
                <a:cubicBezTo>
                  <a:pt x="517" y="451"/>
                  <a:pt x="517" y="452"/>
                  <a:pt x="517" y="452"/>
                </a:cubicBezTo>
                <a:cubicBezTo>
                  <a:pt x="517" y="453"/>
                  <a:pt x="517" y="453"/>
                  <a:pt x="517" y="453"/>
                </a:cubicBezTo>
                <a:cubicBezTo>
                  <a:pt x="517" y="453"/>
                  <a:pt x="517" y="453"/>
                  <a:pt x="517" y="453"/>
                </a:cubicBezTo>
                <a:cubicBezTo>
                  <a:pt x="517" y="453"/>
                  <a:pt x="517" y="453"/>
                  <a:pt x="517" y="453"/>
                </a:cubicBezTo>
                <a:cubicBezTo>
                  <a:pt x="517" y="453"/>
                  <a:pt x="517" y="453"/>
                  <a:pt x="517" y="454"/>
                </a:cubicBezTo>
                <a:cubicBezTo>
                  <a:pt x="516" y="455"/>
                  <a:pt x="516" y="457"/>
                  <a:pt x="516" y="459"/>
                </a:cubicBezTo>
                <a:cubicBezTo>
                  <a:pt x="516" y="459"/>
                  <a:pt x="516" y="459"/>
                  <a:pt x="516" y="459"/>
                </a:cubicBezTo>
                <a:cubicBezTo>
                  <a:pt x="516" y="459"/>
                  <a:pt x="516" y="459"/>
                  <a:pt x="516" y="459"/>
                </a:cubicBezTo>
                <a:cubicBezTo>
                  <a:pt x="516" y="459"/>
                  <a:pt x="516" y="459"/>
                  <a:pt x="516" y="459"/>
                </a:cubicBezTo>
                <a:cubicBezTo>
                  <a:pt x="515" y="460"/>
                  <a:pt x="515" y="461"/>
                  <a:pt x="515" y="462"/>
                </a:cubicBezTo>
                <a:cubicBezTo>
                  <a:pt x="515" y="463"/>
                  <a:pt x="515" y="463"/>
                  <a:pt x="515" y="464"/>
                </a:cubicBezTo>
                <a:cubicBezTo>
                  <a:pt x="515" y="464"/>
                  <a:pt x="515" y="465"/>
                  <a:pt x="515" y="465"/>
                </a:cubicBezTo>
                <a:cubicBezTo>
                  <a:pt x="515" y="466"/>
                  <a:pt x="515" y="467"/>
                  <a:pt x="516" y="468"/>
                </a:cubicBezTo>
                <a:cubicBezTo>
                  <a:pt x="516" y="468"/>
                  <a:pt x="516" y="468"/>
                  <a:pt x="516" y="468"/>
                </a:cubicBezTo>
                <a:cubicBezTo>
                  <a:pt x="516" y="469"/>
                  <a:pt x="516" y="470"/>
                  <a:pt x="516" y="471"/>
                </a:cubicBezTo>
                <a:cubicBezTo>
                  <a:pt x="516" y="471"/>
                  <a:pt x="516" y="471"/>
                  <a:pt x="516" y="471"/>
                </a:cubicBezTo>
                <a:cubicBezTo>
                  <a:pt x="516" y="472"/>
                  <a:pt x="516" y="473"/>
                  <a:pt x="517" y="474"/>
                </a:cubicBezTo>
                <a:cubicBezTo>
                  <a:pt x="517" y="474"/>
                  <a:pt x="517" y="474"/>
                  <a:pt x="517" y="474"/>
                </a:cubicBezTo>
                <a:cubicBezTo>
                  <a:pt x="517" y="475"/>
                  <a:pt x="517" y="476"/>
                  <a:pt x="517" y="477"/>
                </a:cubicBezTo>
                <a:cubicBezTo>
                  <a:pt x="518" y="477"/>
                  <a:pt x="518" y="477"/>
                  <a:pt x="518" y="477"/>
                </a:cubicBezTo>
                <a:cubicBezTo>
                  <a:pt x="518" y="478"/>
                  <a:pt x="518" y="479"/>
                  <a:pt x="518" y="479"/>
                </a:cubicBezTo>
                <a:cubicBezTo>
                  <a:pt x="519" y="480"/>
                  <a:pt x="519" y="480"/>
                  <a:pt x="519" y="480"/>
                </a:cubicBezTo>
                <a:cubicBezTo>
                  <a:pt x="519" y="481"/>
                  <a:pt x="520" y="482"/>
                  <a:pt x="520" y="482"/>
                </a:cubicBezTo>
                <a:cubicBezTo>
                  <a:pt x="520" y="483"/>
                  <a:pt x="520" y="483"/>
                  <a:pt x="520" y="483"/>
                </a:cubicBezTo>
                <a:cubicBezTo>
                  <a:pt x="521" y="485"/>
                  <a:pt x="522" y="486"/>
                  <a:pt x="523" y="487"/>
                </a:cubicBezTo>
                <a:cubicBezTo>
                  <a:pt x="523" y="488"/>
                  <a:pt x="524" y="488"/>
                  <a:pt x="524" y="488"/>
                </a:cubicBezTo>
                <a:cubicBezTo>
                  <a:pt x="525" y="490"/>
                  <a:pt x="525" y="491"/>
                  <a:pt x="526" y="491"/>
                </a:cubicBezTo>
                <a:cubicBezTo>
                  <a:pt x="527" y="492"/>
                  <a:pt x="527" y="492"/>
                  <a:pt x="527" y="492"/>
                </a:cubicBezTo>
                <a:cubicBezTo>
                  <a:pt x="529" y="495"/>
                  <a:pt x="532" y="497"/>
                  <a:pt x="535" y="498"/>
                </a:cubicBezTo>
                <a:cubicBezTo>
                  <a:pt x="535" y="499"/>
                  <a:pt x="535" y="499"/>
                  <a:pt x="536" y="499"/>
                </a:cubicBezTo>
                <a:cubicBezTo>
                  <a:pt x="537" y="500"/>
                  <a:pt x="538" y="500"/>
                  <a:pt x="539" y="501"/>
                </a:cubicBezTo>
                <a:cubicBezTo>
                  <a:pt x="540" y="501"/>
                  <a:pt x="540" y="501"/>
                  <a:pt x="540" y="501"/>
                </a:cubicBezTo>
                <a:cubicBezTo>
                  <a:pt x="542" y="502"/>
                  <a:pt x="543" y="502"/>
                  <a:pt x="545" y="503"/>
                </a:cubicBezTo>
                <a:cubicBezTo>
                  <a:pt x="545" y="503"/>
                  <a:pt x="545" y="503"/>
                  <a:pt x="546" y="503"/>
                </a:cubicBezTo>
                <a:cubicBezTo>
                  <a:pt x="547" y="503"/>
                  <a:pt x="548" y="503"/>
                  <a:pt x="550" y="504"/>
                </a:cubicBezTo>
                <a:cubicBezTo>
                  <a:pt x="550" y="504"/>
                  <a:pt x="551" y="504"/>
                  <a:pt x="551" y="504"/>
                </a:cubicBezTo>
                <a:cubicBezTo>
                  <a:pt x="552" y="504"/>
                  <a:pt x="554" y="504"/>
                  <a:pt x="555" y="504"/>
                </a:cubicBezTo>
                <a:cubicBezTo>
                  <a:pt x="556" y="504"/>
                  <a:pt x="556" y="504"/>
                  <a:pt x="556" y="504"/>
                </a:cubicBezTo>
                <a:cubicBezTo>
                  <a:pt x="557" y="504"/>
                  <a:pt x="559" y="504"/>
                  <a:pt x="561" y="504"/>
                </a:cubicBezTo>
                <a:cubicBezTo>
                  <a:pt x="561" y="504"/>
                  <a:pt x="561" y="504"/>
                  <a:pt x="562" y="504"/>
                </a:cubicBezTo>
                <a:cubicBezTo>
                  <a:pt x="563" y="504"/>
                  <a:pt x="564" y="503"/>
                  <a:pt x="565" y="503"/>
                </a:cubicBezTo>
                <a:cubicBezTo>
                  <a:pt x="566" y="503"/>
                  <a:pt x="566" y="503"/>
                  <a:pt x="566" y="503"/>
                </a:cubicBezTo>
                <a:cubicBezTo>
                  <a:pt x="568" y="502"/>
                  <a:pt x="569" y="502"/>
                  <a:pt x="570" y="502"/>
                </a:cubicBezTo>
                <a:cubicBezTo>
                  <a:pt x="570" y="501"/>
                  <a:pt x="571" y="501"/>
                  <a:pt x="571" y="501"/>
                </a:cubicBezTo>
                <a:cubicBezTo>
                  <a:pt x="572" y="501"/>
                  <a:pt x="574" y="500"/>
                  <a:pt x="575" y="499"/>
                </a:cubicBezTo>
                <a:cubicBezTo>
                  <a:pt x="575" y="499"/>
                  <a:pt x="575" y="499"/>
                  <a:pt x="575" y="499"/>
                </a:cubicBezTo>
                <a:cubicBezTo>
                  <a:pt x="577" y="498"/>
                  <a:pt x="578" y="498"/>
                  <a:pt x="579" y="497"/>
                </a:cubicBezTo>
                <a:cubicBezTo>
                  <a:pt x="579" y="497"/>
                  <a:pt x="579" y="497"/>
                  <a:pt x="580" y="496"/>
                </a:cubicBezTo>
                <a:cubicBezTo>
                  <a:pt x="580" y="496"/>
                  <a:pt x="581" y="495"/>
                  <a:pt x="582" y="495"/>
                </a:cubicBezTo>
                <a:cubicBezTo>
                  <a:pt x="582" y="494"/>
                  <a:pt x="582" y="494"/>
                  <a:pt x="583" y="494"/>
                </a:cubicBezTo>
                <a:cubicBezTo>
                  <a:pt x="583" y="493"/>
                  <a:pt x="584" y="493"/>
                  <a:pt x="585" y="492"/>
                </a:cubicBezTo>
                <a:cubicBezTo>
                  <a:pt x="585" y="492"/>
                  <a:pt x="585" y="492"/>
                  <a:pt x="585" y="491"/>
                </a:cubicBezTo>
                <a:cubicBezTo>
                  <a:pt x="586" y="491"/>
                  <a:pt x="587" y="490"/>
                  <a:pt x="588" y="489"/>
                </a:cubicBezTo>
                <a:cubicBezTo>
                  <a:pt x="588" y="489"/>
                  <a:pt x="588" y="489"/>
                  <a:pt x="588" y="489"/>
                </a:cubicBezTo>
                <a:cubicBezTo>
                  <a:pt x="588" y="488"/>
                  <a:pt x="589" y="487"/>
                  <a:pt x="590" y="486"/>
                </a:cubicBezTo>
                <a:cubicBezTo>
                  <a:pt x="590" y="486"/>
                  <a:pt x="590" y="485"/>
                  <a:pt x="590" y="485"/>
                </a:cubicBezTo>
                <a:cubicBezTo>
                  <a:pt x="591" y="484"/>
                  <a:pt x="591" y="483"/>
                  <a:pt x="592" y="482"/>
                </a:cubicBezTo>
                <a:cubicBezTo>
                  <a:pt x="592" y="482"/>
                  <a:pt x="592" y="482"/>
                  <a:pt x="592" y="481"/>
                </a:cubicBezTo>
                <a:cubicBezTo>
                  <a:pt x="593" y="481"/>
                  <a:pt x="593" y="480"/>
                  <a:pt x="593" y="479"/>
                </a:cubicBezTo>
                <a:cubicBezTo>
                  <a:pt x="594" y="478"/>
                  <a:pt x="594" y="477"/>
                  <a:pt x="594" y="475"/>
                </a:cubicBezTo>
                <a:cubicBezTo>
                  <a:pt x="595" y="475"/>
                  <a:pt x="595" y="475"/>
                  <a:pt x="595" y="475"/>
                </a:cubicBezTo>
                <a:cubicBezTo>
                  <a:pt x="595" y="473"/>
                  <a:pt x="595" y="472"/>
                  <a:pt x="596" y="471"/>
                </a:cubicBezTo>
                <a:cubicBezTo>
                  <a:pt x="596" y="470"/>
                  <a:pt x="596" y="469"/>
                  <a:pt x="596" y="468"/>
                </a:cubicBezTo>
                <a:cubicBezTo>
                  <a:pt x="596" y="468"/>
                  <a:pt x="596" y="468"/>
                  <a:pt x="596" y="467"/>
                </a:cubicBezTo>
                <a:cubicBezTo>
                  <a:pt x="596" y="466"/>
                  <a:pt x="596" y="465"/>
                  <a:pt x="596" y="464"/>
                </a:cubicBezTo>
                <a:cubicBezTo>
                  <a:pt x="596" y="464"/>
                  <a:pt x="596" y="463"/>
                  <a:pt x="596" y="463"/>
                </a:cubicBezTo>
                <a:cubicBezTo>
                  <a:pt x="596" y="462"/>
                  <a:pt x="596" y="461"/>
                  <a:pt x="596" y="460"/>
                </a:cubicBezTo>
                <a:cubicBezTo>
                  <a:pt x="596" y="460"/>
                  <a:pt x="596" y="460"/>
                  <a:pt x="596" y="460"/>
                </a:cubicBezTo>
                <a:cubicBezTo>
                  <a:pt x="596" y="458"/>
                  <a:pt x="596" y="457"/>
                  <a:pt x="595" y="456"/>
                </a:cubicBezTo>
                <a:cubicBezTo>
                  <a:pt x="595" y="456"/>
                  <a:pt x="595" y="456"/>
                  <a:pt x="595" y="456"/>
                </a:cubicBezTo>
                <a:cubicBezTo>
                  <a:pt x="595" y="455"/>
                  <a:pt x="595" y="453"/>
                  <a:pt x="595" y="452"/>
                </a:cubicBezTo>
                <a:cubicBezTo>
                  <a:pt x="595" y="452"/>
                  <a:pt x="594" y="452"/>
                  <a:pt x="594" y="452"/>
                </a:cubicBezTo>
                <a:cubicBezTo>
                  <a:pt x="594" y="451"/>
                  <a:pt x="594" y="450"/>
                  <a:pt x="593" y="449"/>
                </a:cubicBezTo>
                <a:cubicBezTo>
                  <a:pt x="593" y="448"/>
                  <a:pt x="593" y="448"/>
                  <a:pt x="593" y="448"/>
                </a:cubicBezTo>
                <a:cubicBezTo>
                  <a:pt x="592" y="447"/>
                  <a:pt x="592" y="445"/>
                  <a:pt x="591" y="444"/>
                </a:cubicBezTo>
                <a:cubicBezTo>
                  <a:pt x="591" y="444"/>
                  <a:pt x="591" y="444"/>
                  <a:pt x="591" y="444"/>
                </a:cubicBezTo>
                <a:cubicBezTo>
                  <a:pt x="590" y="442"/>
                  <a:pt x="589" y="441"/>
                  <a:pt x="588" y="439"/>
                </a:cubicBezTo>
                <a:cubicBezTo>
                  <a:pt x="587" y="438"/>
                  <a:pt x="587" y="438"/>
                  <a:pt x="586" y="437"/>
                </a:cubicBezTo>
                <a:cubicBezTo>
                  <a:pt x="585" y="436"/>
                  <a:pt x="585" y="435"/>
                  <a:pt x="583" y="434"/>
                </a:cubicBezTo>
                <a:cubicBezTo>
                  <a:pt x="583" y="434"/>
                  <a:pt x="582" y="433"/>
                  <a:pt x="581" y="433"/>
                </a:cubicBezTo>
                <a:cubicBezTo>
                  <a:pt x="581" y="432"/>
                  <a:pt x="580" y="431"/>
                  <a:pt x="579" y="430"/>
                </a:cubicBezTo>
                <a:cubicBezTo>
                  <a:pt x="577" y="429"/>
                  <a:pt x="575" y="428"/>
                  <a:pt x="573" y="427"/>
                </a:cubicBezTo>
                <a:cubicBezTo>
                  <a:pt x="573" y="427"/>
                  <a:pt x="573" y="427"/>
                  <a:pt x="573" y="427"/>
                </a:cubicBezTo>
                <a:cubicBezTo>
                  <a:pt x="573" y="427"/>
                  <a:pt x="573" y="427"/>
                  <a:pt x="573" y="427"/>
                </a:cubicBezTo>
                <a:cubicBezTo>
                  <a:pt x="572" y="426"/>
                  <a:pt x="570" y="426"/>
                  <a:pt x="568" y="425"/>
                </a:cubicBezTo>
                <a:cubicBezTo>
                  <a:pt x="568" y="425"/>
                  <a:pt x="568" y="425"/>
                  <a:pt x="567" y="425"/>
                </a:cubicBezTo>
                <a:cubicBezTo>
                  <a:pt x="567" y="425"/>
                  <a:pt x="567" y="425"/>
                  <a:pt x="567" y="425"/>
                </a:cubicBezTo>
                <a:cubicBezTo>
                  <a:pt x="567" y="425"/>
                  <a:pt x="567" y="425"/>
                  <a:pt x="567" y="425"/>
                </a:cubicBezTo>
                <a:cubicBezTo>
                  <a:pt x="567" y="425"/>
                  <a:pt x="567" y="425"/>
                  <a:pt x="567" y="425"/>
                </a:cubicBezTo>
                <a:cubicBezTo>
                  <a:pt x="566" y="424"/>
                  <a:pt x="565" y="424"/>
                  <a:pt x="564" y="423"/>
                </a:cubicBezTo>
                <a:cubicBezTo>
                  <a:pt x="563" y="423"/>
                  <a:pt x="563" y="423"/>
                  <a:pt x="563" y="423"/>
                </a:cubicBezTo>
                <a:cubicBezTo>
                  <a:pt x="562" y="422"/>
                  <a:pt x="561" y="422"/>
                  <a:pt x="561" y="421"/>
                </a:cubicBezTo>
                <a:cubicBezTo>
                  <a:pt x="560" y="421"/>
                  <a:pt x="560" y="421"/>
                  <a:pt x="560" y="421"/>
                </a:cubicBezTo>
                <a:cubicBezTo>
                  <a:pt x="559" y="420"/>
                  <a:pt x="559" y="420"/>
                  <a:pt x="558" y="419"/>
                </a:cubicBezTo>
                <a:cubicBezTo>
                  <a:pt x="558" y="419"/>
                  <a:pt x="558" y="419"/>
                  <a:pt x="558" y="419"/>
                </a:cubicBezTo>
                <a:cubicBezTo>
                  <a:pt x="558" y="419"/>
                  <a:pt x="558" y="419"/>
                  <a:pt x="558" y="419"/>
                </a:cubicBezTo>
                <a:cubicBezTo>
                  <a:pt x="550" y="411"/>
                  <a:pt x="550" y="411"/>
                  <a:pt x="550" y="411"/>
                </a:cubicBezTo>
                <a:cubicBezTo>
                  <a:pt x="561" y="406"/>
                  <a:pt x="561" y="406"/>
                  <a:pt x="561" y="406"/>
                </a:cubicBezTo>
                <a:cubicBezTo>
                  <a:pt x="562" y="406"/>
                  <a:pt x="563" y="405"/>
                  <a:pt x="564" y="405"/>
                </a:cubicBezTo>
                <a:cubicBezTo>
                  <a:pt x="567" y="404"/>
                  <a:pt x="569" y="403"/>
                  <a:pt x="571" y="402"/>
                </a:cubicBezTo>
                <a:cubicBezTo>
                  <a:pt x="573" y="401"/>
                  <a:pt x="575" y="400"/>
                  <a:pt x="577" y="399"/>
                </a:cubicBezTo>
                <a:cubicBezTo>
                  <a:pt x="579" y="398"/>
                  <a:pt x="581" y="398"/>
                  <a:pt x="584" y="397"/>
                </a:cubicBezTo>
                <a:cubicBezTo>
                  <a:pt x="586" y="396"/>
                  <a:pt x="587" y="395"/>
                  <a:pt x="589" y="395"/>
                </a:cubicBezTo>
                <a:cubicBezTo>
                  <a:pt x="592" y="394"/>
                  <a:pt x="594" y="393"/>
                  <a:pt x="597" y="392"/>
                </a:cubicBezTo>
                <a:cubicBezTo>
                  <a:pt x="599" y="391"/>
                  <a:pt x="600" y="391"/>
                  <a:pt x="602" y="390"/>
                </a:cubicBezTo>
                <a:cubicBezTo>
                  <a:pt x="605" y="389"/>
                  <a:pt x="608" y="388"/>
                  <a:pt x="610" y="387"/>
                </a:cubicBezTo>
                <a:cubicBezTo>
                  <a:pt x="612" y="387"/>
                  <a:pt x="614" y="386"/>
                  <a:pt x="615" y="386"/>
                </a:cubicBezTo>
                <a:cubicBezTo>
                  <a:pt x="618" y="385"/>
                  <a:pt x="621" y="384"/>
                  <a:pt x="624" y="384"/>
                </a:cubicBezTo>
                <a:cubicBezTo>
                  <a:pt x="626" y="383"/>
                  <a:pt x="628" y="383"/>
                  <a:pt x="630" y="382"/>
                </a:cubicBezTo>
                <a:cubicBezTo>
                  <a:pt x="632" y="381"/>
                  <a:pt x="635" y="381"/>
                  <a:pt x="638" y="380"/>
                </a:cubicBezTo>
                <a:cubicBezTo>
                  <a:pt x="640" y="380"/>
                  <a:pt x="643" y="379"/>
                  <a:pt x="645" y="378"/>
                </a:cubicBezTo>
                <a:cubicBezTo>
                  <a:pt x="647" y="378"/>
                  <a:pt x="650" y="378"/>
                  <a:pt x="652" y="377"/>
                </a:cubicBezTo>
                <a:cubicBezTo>
                  <a:pt x="656" y="376"/>
                  <a:pt x="661" y="375"/>
                  <a:pt x="666" y="375"/>
                </a:cubicBezTo>
                <a:lnTo>
                  <a:pt x="666" y="373"/>
                </a:lnTo>
                <a:close/>
              </a:path>
            </a:pathLst>
          </a:cu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595" name="Group 13" descr=""/>
          <p:cNvPicPr/>
          <p:nvPr/>
        </p:nvPicPr>
        <p:blipFill>
          <a:blip r:embed="rId1"/>
          <a:stretch/>
        </p:blipFill>
        <p:spPr>
          <a:xfrm>
            <a:off x="7053120" y="3260880"/>
            <a:ext cx="401760" cy="396720"/>
          </a:xfrm>
          <a:prstGeom prst="rect">
            <a:avLst/>
          </a:prstGeom>
          <a:ln w="0">
            <a:noFill/>
          </a:ln>
        </p:spPr>
      </p:pic>
      <p:pic>
        <p:nvPicPr>
          <p:cNvPr id="596" name="Group 20" descr=""/>
          <p:cNvPicPr/>
          <p:nvPr/>
        </p:nvPicPr>
        <p:blipFill>
          <a:blip r:embed="rId2"/>
          <a:stretch/>
        </p:blipFill>
        <p:spPr>
          <a:xfrm>
            <a:off x="6546960" y="4286160"/>
            <a:ext cx="403200" cy="352440"/>
          </a:xfrm>
          <a:prstGeom prst="rect">
            <a:avLst/>
          </a:prstGeom>
          <a:ln w="0">
            <a:noFill/>
          </a:ln>
        </p:spPr>
      </p:pic>
      <p:sp>
        <p:nvSpPr>
          <p:cNvPr id="597" name="Freeform 60"/>
          <p:cNvSpPr/>
          <p:nvPr/>
        </p:nvSpPr>
        <p:spPr>
          <a:xfrm>
            <a:off x="6346800" y="2600280"/>
            <a:ext cx="399960" cy="3999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6" y="1"/>
                </a:moveTo>
                <a:cubicBezTo>
                  <a:pt x="126" y="0"/>
                  <a:pt x="125" y="0"/>
                  <a:pt x="124" y="0"/>
                </a:cubicBezTo>
                <a:cubicBezTo>
                  <a:pt x="123" y="0"/>
                  <a:pt x="122" y="0"/>
                  <a:pt x="122" y="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81"/>
                  <a:pt x="0" y="83"/>
                  <a:pt x="0" y="84"/>
                </a:cubicBezTo>
                <a:cubicBezTo>
                  <a:pt x="0" y="86"/>
                  <a:pt x="1" y="87"/>
                  <a:pt x="3" y="88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49" y="126"/>
                  <a:pt x="49" y="126"/>
                  <a:pt x="49" y="126"/>
                </a:cubicBezTo>
                <a:cubicBezTo>
                  <a:pt x="49" y="127"/>
                  <a:pt x="51" y="128"/>
                  <a:pt x="52" y="128"/>
                </a:cubicBezTo>
                <a:cubicBezTo>
                  <a:pt x="52" y="128"/>
                  <a:pt x="52" y="128"/>
                  <a:pt x="52" y="128"/>
                </a:cubicBezTo>
                <a:cubicBezTo>
                  <a:pt x="53" y="128"/>
                  <a:pt x="55" y="127"/>
                  <a:pt x="55" y="126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4" y="128"/>
                </a:cubicBezTo>
                <a:cubicBezTo>
                  <a:pt x="105" y="128"/>
                  <a:pt x="105" y="128"/>
                  <a:pt x="106" y="127"/>
                </a:cubicBezTo>
                <a:cubicBezTo>
                  <a:pt x="107" y="127"/>
                  <a:pt x="108" y="126"/>
                  <a:pt x="108" y="125"/>
                </a:cubicBezTo>
                <a:cubicBezTo>
                  <a:pt x="128" y="5"/>
                  <a:pt x="128" y="5"/>
                  <a:pt x="128" y="5"/>
                </a:cubicBezTo>
                <a:cubicBezTo>
                  <a:pt x="128" y="3"/>
                  <a:pt x="128" y="2"/>
                  <a:pt x="126" y="1"/>
                </a:cubicBezTo>
                <a:close/>
                <a:moveTo>
                  <a:pt x="13" y="83"/>
                </a:moveTo>
                <a:cubicBezTo>
                  <a:pt x="105" y="21"/>
                  <a:pt x="105" y="21"/>
                  <a:pt x="105" y="21"/>
                </a:cubicBezTo>
                <a:cubicBezTo>
                  <a:pt x="38" y="93"/>
                  <a:pt x="38" y="93"/>
                  <a:pt x="38" y="93"/>
                </a:cubicBezTo>
                <a:cubicBezTo>
                  <a:pt x="37" y="93"/>
                  <a:pt x="37" y="93"/>
                  <a:pt x="37" y="93"/>
                </a:cubicBezTo>
                <a:lnTo>
                  <a:pt x="13" y="83"/>
                </a:lnTo>
                <a:close/>
                <a:moveTo>
                  <a:pt x="41" y="96"/>
                </a:moveTo>
                <a:cubicBezTo>
                  <a:pt x="41" y="96"/>
                  <a:pt x="41" y="96"/>
                  <a:pt x="41" y="96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52" y="116"/>
                  <a:pt x="52" y="116"/>
                  <a:pt x="52" y="116"/>
                </a:cubicBezTo>
                <a:lnTo>
                  <a:pt x="41" y="96"/>
                </a:lnTo>
                <a:close/>
                <a:moveTo>
                  <a:pt x="101" y="118"/>
                </a:moveTo>
                <a:cubicBezTo>
                  <a:pt x="67" y="105"/>
                  <a:pt x="67" y="105"/>
                  <a:pt x="67" y="105"/>
                </a:cubicBezTo>
                <a:cubicBezTo>
                  <a:pt x="66" y="104"/>
                  <a:pt x="65" y="104"/>
                  <a:pt x="64" y="104"/>
                </a:cubicBezTo>
                <a:cubicBezTo>
                  <a:pt x="117" y="23"/>
                  <a:pt x="117" y="23"/>
                  <a:pt x="117" y="23"/>
                </a:cubicBezTo>
                <a:lnTo>
                  <a:pt x="101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598" name="Group 25" descr=""/>
          <p:cNvPicPr/>
          <p:nvPr/>
        </p:nvPicPr>
        <p:blipFill>
          <a:blip r:embed="rId3"/>
          <a:stretch/>
        </p:blipFill>
        <p:spPr>
          <a:xfrm>
            <a:off x="5694480" y="3681360"/>
            <a:ext cx="401400" cy="403200"/>
          </a:xfrm>
          <a:prstGeom prst="rect">
            <a:avLst/>
          </a:prstGeom>
          <a:ln w="0">
            <a:noFill/>
          </a:ln>
        </p:spPr>
      </p:pic>
      <p:pic>
        <p:nvPicPr>
          <p:cNvPr id="599" name="Group 28" descr=""/>
          <p:cNvPicPr/>
          <p:nvPr/>
        </p:nvPicPr>
        <p:blipFill>
          <a:blip r:embed="rId4"/>
          <a:stretch/>
        </p:blipFill>
        <p:spPr>
          <a:xfrm>
            <a:off x="5145120" y="2798640"/>
            <a:ext cx="401760" cy="352440"/>
          </a:xfrm>
          <a:prstGeom prst="rect">
            <a:avLst/>
          </a:prstGeom>
          <a:ln w="0">
            <a:noFill/>
          </a:ln>
        </p:spPr>
      </p:pic>
      <p:grpSp>
        <p:nvGrpSpPr>
          <p:cNvPr id="600" name="Group 31"/>
          <p:cNvGrpSpPr/>
          <p:nvPr/>
        </p:nvGrpSpPr>
        <p:grpSpPr>
          <a:xfrm>
            <a:off x="4167000" y="1896840"/>
            <a:ext cx="1054440" cy="403560"/>
            <a:chOff x="4167000" y="1896840"/>
            <a:chExt cx="1054440" cy="403560"/>
          </a:xfrm>
        </p:grpSpPr>
        <p:sp>
          <p:nvSpPr>
            <p:cNvPr id="601" name="Straight Connector 32"/>
            <p:cNvSpPr/>
            <p:nvPr/>
          </p:nvSpPr>
          <p:spPr>
            <a:xfrm flipH="1" flipV="1">
              <a:off x="4818240" y="1897200"/>
              <a:ext cx="403200" cy="403200"/>
            </a:xfrm>
            <a:prstGeom prst="line">
              <a:avLst/>
            </a:prstGeom>
            <a:ln w="19080">
              <a:solidFill>
                <a:srgbClr val="2980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602" name="Straight Arrow Connector 33"/>
            <p:cNvCxnSpPr/>
            <p:nvPr/>
          </p:nvCxnSpPr>
          <p:spPr>
            <a:xfrm flipH="1">
              <a:off x="4167000" y="1896840"/>
              <a:ext cx="653040" cy="1080"/>
            </a:xfrm>
            <a:prstGeom prst="straightConnector1">
              <a:avLst/>
            </a:prstGeom>
            <a:ln w="19080">
              <a:solidFill>
                <a:srgbClr val="2980b9"/>
              </a:solidFill>
              <a:miter/>
              <a:tailEnd len="med" type="oval" w="med"/>
            </a:ln>
          </p:spPr>
        </p:cxnSp>
      </p:grpSp>
      <p:grpSp>
        <p:nvGrpSpPr>
          <p:cNvPr id="603" name="Group 34"/>
          <p:cNvGrpSpPr/>
          <p:nvPr/>
        </p:nvGrpSpPr>
        <p:grpSpPr>
          <a:xfrm>
            <a:off x="3750480" y="4170240"/>
            <a:ext cx="1595880" cy="911880"/>
            <a:chOff x="3750480" y="4170240"/>
            <a:chExt cx="1595880" cy="911880"/>
          </a:xfrm>
        </p:grpSpPr>
        <p:sp>
          <p:nvSpPr>
            <p:cNvPr id="604" name="Straight Connector 35"/>
            <p:cNvSpPr/>
            <p:nvPr/>
          </p:nvSpPr>
          <p:spPr>
            <a:xfrm flipH="1">
              <a:off x="4435200" y="4170240"/>
              <a:ext cx="911160" cy="911520"/>
            </a:xfrm>
            <a:prstGeom prst="line">
              <a:avLst/>
            </a:prstGeom>
            <a:ln w="19080">
              <a:solidFill>
                <a:srgbClr val="c039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605" name="Straight Arrow Connector 36"/>
            <p:cNvCxnSpPr/>
            <p:nvPr/>
          </p:nvCxnSpPr>
          <p:spPr>
            <a:xfrm flipH="1" flipV="1">
              <a:off x="3750480" y="5081400"/>
              <a:ext cx="686520" cy="1080"/>
            </a:xfrm>
            <a:prstGeom prst="straightConnector1">
              <a:avLst/>
            </a:prstGeom>
            <a:ln w="19080">
              <a:solidFill>
                <a:srgbClr val="c0392b"/>
              </a:solidFill>
              <a:miter/>
              <a:tailEnd len="med" type="oval" w="med"/>
            </a:ln>
          </p:spPr>
        </p:cxnSp>
      </p:grpSp>
      <p:grpSp>
        <p:nvGrpSpPr>
          <p:cNvPr id="606" name="Group 37"/>
          <p:cNvGrpSpPr/>
          <p:nvPr/>
        </p:nvGrpSpPr>
        <p:grpSpPr>
          <a:xfrm>
            <a:off x="7135560" y="1904760"/>
            <a:ext cx="849960" cy="403560"/>
            <a:chOff x="7135560" y="1904760"/>
            <a:chExt cx="849960" cy="403560"/>
          </a:xfrm>
        </p:grpSpPr>
        <p:sp>
          <p:nvSpPr>
            <p:cNvPr id="607" name="Straight Connector 38"/>
            <p:cNvSpPr/>
            <p:nvPr/>
          </p:nvSpPr>
          <p:spPr>
            <a:xfrm flipV="1">
              <a:off x="7135560" y="1905120"/>
              <a:ext cx="403200" cy="403200"/>
            </a:xfrm>
            <a:prstGeom prst="line">
              <a:avLst/>
            </a:prstGeom>
            <a:ln w="190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608" name="Straight Arrow Connector 39"/>
            <p:cNvCxnSpPr/>
            <p:nvPr/>
          </p:nvCxnSpPr>
          <p:spPr>
            <a:xfrm>
              <a:off x="7539120" y="1904760"/>
              <a:ext cx="446760" cy="1080"/>
            </a:xfrm>
            <a:prstGeom prst="straightConnector1">
              <a:avLst/>
            </a:prstGeom>
            <a:ln w="19080">
              <a:solidFill>
                <a:srgbClr val="9bbb59"/>
              </a:solidFill>
              <a:miter/>
              <a:tailEnd len="med" type="oval" w="med"/>
            </a:ln>
          </p:spPr>
        </p:cxnSp>
      </p:grpSp>
      <p:grpSp>
        <p:nvGrpSpPr>
          <p:cNvPr id="609" name="Group 40"/>
          <p:cNvGrpSpPr/>
          <p:nvPr/>
        </p:nvGrpSpPr>
        <p:grpSpPr>
          <a:xfrm>
            <a:off x="7110720" y="4592520"/>
            <a:ext cx="1038600" cy="590760"/>
            <a:chOff x="7110720" y="4592520"/>
            <a:chExt cx="1038600" cy="590760"/>
          </a:xfrm>
        </p:grpSpPr>
        <p:sp>
          <p:nvSpPr>
            <p:cNvPr id="610" name="Straight Connector 41"/>
            <p:cNvSpPr/>
            <p:nvPr/>
          </p:nvSpPr>
          <p:spPr>
            <a:xfrm>
              <a:off x="7110720" y="4592520"/>
              <a:ext cx="592200" cy="590760"/>
            </a:xfrm>
            <a:prstGeom prst="line">
              <a:avLst/>
            </a:prstGeom>
            <a:ln w="19080">
              <a:solidFill>
                <a:srgbClr val="41b1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611" name="Straight Arrow Connector 42"/>
            <p:cNvCxnSpPr/>
            <p:nvPr/>
          </p:nvCxnSpPr>
          <p:spPr>
            <a:xfrm flipV="1">
              <a:off x="7702920" y="5182560"/>
              <a:ext cx="446760" cy="1080"/>
            </a:xfrm>
            <a:prstGeom prst="straightConnector1">
              <a:avLst/>
            </a:prstGeom>
            <a:ln w="19080">
              <a:solidFill>
                <a:srgbClr val="41b176"/>
              </a:solidFill>
              <a:miter/>
              <a:tailEnd len="med" type="oval" w="med"/>
            </a:ln>
          </p:spPr>
        </p:cxnSp>
      </p:grpSp>
      <p:cxnSp>
        <p:nvCxnSpPr>
          <p:cNvPr id="612" name="Straight Arrow Connector 43"/>
          <p:cNvCxnSpPr/>
          <p:nvPr/>
        </p:nvCxnSpPr>
        <p:spPr>
          <a:xfrm>
            <a:off x="7702560" y="3588840"/>
            <a:ext cx="1053360" cy="1080"/>
          </a:xfrm>
          <a:prstGeom prst="straightConnector1">
            <a:avLst/>
          </a:prstGeom>
          <a:ln w="19080">
            <a:solidFill>
              <a:srgbClr val="f39c12"/>
            </a:solidFill>
            <a:miter/>
            <a:tailEnd len="med" type="oval" w="med"/>
          </a:ln>
        </p:spPr>
      </p:cxnSp>
      <p:sp>
        <p:nvSpPr>
          <p:cNvPr id="613" name="TextBox 44"/>
          <p:cNvSpPr/>
          <p:nvPr/>
        </p:nvSpPr>
        <p:spPr>
          <a:xfrm>
            <a:off x="8121600" y="161280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4" name="Rectangle 45"/>
          <p:cNvSpPr/>
          <p:nvPr/>
        </p:nvSpPr>
        <p:spPr>
          <a:xfrm>
            <a:off x="8148600" y="1832040"/>
            <a:ext cx="2259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5" name="TextBox 46"/>
          <p:cNvSpPr/>
          <p:nvPr/>
        </p:nvSpPr>
        <p:spPr>
          <a:xfrm>
            <a:off x="2710800" y="171144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6" name="Rectangle 47"/>
          <p:cNvSpPr/>
          <p:nvPr/>
        </p:nvSpPr>
        <p:spPr>
          <a:xfrm>
            <a:off x="1452600" y="1911240"/>
            <a:ext cx="2448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7" name="TextBox 50"/>
          <p:cNvSpPr/>
          <p:nvPr/>
        </p:nvSpPr>
        <p:spPr>
          <a:xfrm>
            <a:off x="8255880" y="490212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8" name="Rectangle 51"/>
          <p:cNvSpPr/>
          <p:nvPr/>
        </p:nvSpPr>
        <p:spPr>
          <a:xfrm>
            <a:off x="8282160" y="5121360"/>
            <a:ext cx="217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9" name="TextBox 52"/>
          <p:cNvSpPr/>
          <p:nvPr/>
        </p:nvSpPr>
        <p:spPr>
          <a:xfrm>
            <a:off x="2460600" y="47656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0" name="Rectangle 53"/>
          <p:cNvSpPr/>
          <p:nvPr/>
        </p:nvSpPr>
        <p:spPr>
          <a:xfrm>
            <a:off x="1203480" y="4964040"/>
            <a:ext cx="2447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1" name="TextBox 54"/>
          <p:cNvSpPr/>
          <p:nvPr/>
        </p:nvSpPr>
        <p:spPr>
          <a:xfrm>
            <a:off x="8814600" y="334152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2" name="Rectangle 55"/>
          <p:cNvSpPr/>
          <p:nvPr/>
        </p:nvSpPr>
        <p:spPr>
          <a:xfrm>
            <a:off x="8840880" y="3560760"/>
            <a:ext cx="2259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nodeType="clickEffect" fill="hold">
                      <p:stCondLst>
                        <p:cond delay="0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Poppins"/>
              </a:rPr>
              <a:t>PUZZLE DIAGRAM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24" name="Freeform 5"/>
          <p:cNvSpPr/>
          <p:nvPr/>
        </p:nvSpPr>
        <p:spPr>
          <a:xfrm rot="2700000">
            <a:off x="4628520" y="4217760"/>
            <a:ext cx="2554560" cy="2033640"/>
          </a:xfrm>
          <a:custGeom>
            <a:avLst/>
            <a:gdLst/>
            <a:ahLst/>
            <a:rect l="l" t="t" r="r" b="b"/>
            <a:pathLst>
              <a:path w="941" h="749">
                <a:moveTo>
                  <a:pt x="817" y="221"/>
                </a:moveTo>
                <a:cubicBezTo>
                  <a:pt x="789" y="247"/>
                  <a:pt x="748" y="235"/>
                  <a:pt x="748" y="185"/>
                </a:cubicBezTo>
                <a:cubicBezTo>
                  <a:pt x="748" y="65"/>
                  <a:pt x="748" y="65"/>
                  <a:pt x="748" y="65"/>
                </a:cubicBezTo>
                <a:cubicBezTo>
                  <a:pt x="748" y="29"/>
                  <a:pt x="718" y="0"/>
                  <a:pt x="682" y="0"/>
                </a:cubicBezTo>
                <a:cubicBezTo>
                  <a:pt x="597" y="0"/>
                  <a:pt x="597" y="0"/>
                  <a:pt x="597" y="0"/>
                </a:cubicBezTo>
                <a:cubicBezTo>
                  <a:pt x="607" y="19"/>
                  <a:pt x="612" y="40"/>
                  <a:pt x="612" y="61"/>
                </a:cubicBezTo>
                <a:cubicBezTo>
                  <a:pt x="612" y="135"/>
                  <a:pt x="555" y="191"/>
                  <a:pt x="475" y="194"/>
                </a:cubicBezTo>
                <a:cubicBezTo>
                  <a:pt x="470" y="194"/>
                  <a:pt x="470" y="194"/>
                  <a:pt x="470" y="194"/>
                </a:cubicBezTo>
                <a:cubicBezTo>
                  <a:pt x="391" y="191"/>
                  <a:pt x="333" y="135"/>
                  <a:pt x="333" y="61"/>
                </a:cubicBezTo>
                <a:cubicBezTo>
                  <a:pt x="333" y="40"/>
                  <a:pt x="338" y="19"/>
                  <a:pt x="348" y="0"/>
                </a:cubicBezTo>
                <a:cubicBezTo>
                  <a:pt x="259" y="0"/>
                  <a:pt x="259" y="0"/>
                  <a:pt x="259" y="0"/>
                </a:cubicBezTo>
                <a:cubicBezTo>
                  <a:pt x="223" y="0"/>
                  <a:pt x="194" y="28"/>
                  <a:pt x="194" y="64"/>
                </a:cubicBezTo>
                <a:cubicBezTo>
                  <a:pt x="194" y="185"/>
                  <a:pt x="194" y="185"/>
                  <a:pt x="194" y="185"/>
                </a:cubicBezTo>
                <a:cubicBezTo>
                  <a:pt x="194" y="235"/>
                  <a:pt x="152" y="246"/>
                  <a:pt x="124" y="221"/>
                </a:cubicBezTo>
                <a:cubicBezTo>
                  <a:pt x="76" y="179"/>
                  <a:pt x="3" y="201"/>
                  <a:pt x="0" y="278"/>
                </a:cubicBezTo>
                <a:cubicBezTo>
                  <a:pt x="3" y="354"/>
                  <a:pt x="76" y="377"/>
                  <a:pt x="123" y="335"/>
                </a:cubicBezTo>
                <a:cubicBezTo>
                  <a:pt x="152" y="309"/>
                  <a:pt x="194" y="320"/>
                  <a:pt x="194" y="370"/>
                </a:cubicBezTo>
                <a:cubicBezTo>
                  <a:pt x="194" y="489"/>
                  <a:pt x="194" y="489"/>
                  <a:pt x="194" y="489"/>
                </a:cubicBezTo>
                <a:cubicBezTo>
                  <a:pt x="194" y="525"/>
                  <a:pt x="223" y="554"/>
                  <a:pt x="259" y="554"/>
                </a:cubicBezTo>
                <a:cubicBezTo>
                  <a:pt x="379" y="554"/>
                  <a:pt x="379" y="554"/>
                  <a:pt x="379" y="554"/>
                </a:cubicBezTo>
                <a:cubicBezTo>
                  <a:pt x="429" y="554"/>
                  <a:pt x="440" y="596"/>
                  <a:pt x="414" y="624"/>
                </a:cubicBezTo>
                <a:cubicBezTo>
                  <a:pt x="373" y="672"/>
                  <a:pt x="395" y="745"/>
                  <a:pt x="471" y="749"/>
                </a:cubicBezTo>
                <a:cubicBezTo>
                  <a:pt x="548" y="745"/>
                  <a:pt x="570" y="672"/>
                  <a:pt x="528" y="624"/>
                </a:cubicBezTo>
                <a:cubicBezTo>
                  <a:pt x="503" y="596"/>
                  <a:pt x="514" y="553"/>
                  <a:pt x="564" y="553"/>
                </a:cubicBezTo>
                <a:cubicBezTo>
                  <a:pt x="684" y="553"/>
                  <a:pt x="684" y="553"/>
                  <a:pt x="684" y="553"/>
                </a:cubicBezTo>
                <a:cubicBezTo>
                  <a:pt x="719" y="553"/>
                  <a:pt x="748" y="525"/>
                  <a:pt x="748" y="489"/>
                </a:cubicBezTo>
                <a:cubicBezTo>
                  <a:pt x="748" y="370"/>
                  <a:pt x="748" y="370"/>
                  <a:pt x="748" y="370"/>
                </a:cubicBezTo>
                <a:cubicBezTo>
                  <a:pt x="748" y="320"/>
                  <a:pt x="789" y="309"/>
                  <a:pt x="818" y="335"/>
                </a:cubicBezTo>
                <a:cubicBezTo>
                  <a:pt x="865" y="376"/>
                  <a:pt x="937" y="354"/>
                  <a:pt x="941" y="278"/>
                </a:cubicBezTo>
                <a:cubicBezTo>
                  <a:pt x="937" y="201"/>
                  <a:pt x="865" y="179"/>
                  <a:pt x="817" y="221"/>
                </a:cubicBezTo>
                <a:close/>
                <a:moveTo>
                  <a:pt x="817" y="221"/>
                </a:moveTo>
                <a:cubicBezTo>
                  <a:pt x="817" y="221"/>
                  <a:pt x="817" y="221"/>
                  <a:pt x="817" y="221"/>
                </a:cubicBezTo>
              </a:path>
            </a:pathLst>
          </a:cu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5" name="Freeform 6"/>
          <p:cNvSpPr/>
          <p:nvPr/>
        </p:nvSpPr>
        <p:spPr>
          <a:xfrm rot="2700000">
            <a:off x="6445800" y="2772360"/>
            <a:ext cx="2033280" cy="2552760"/>
          </a:xfrm>
          <a:custGeom>
            <a:avLst/>
            <a:gdLst/>
            <a:ahLst/>
            <a:rect l="l" t="t" r="r" b="b"/>
            <a:pathLst>
              <a:path w="749" h="940">
                <a:moveTo>
                  <a:pt x="625" y="412"/>
                </a:moveTo>
                <a:cubicBezTo>
                  <a:pt x="596" y="437"/>
                  <a:pt x="554" y="426"/>
                  <a:pt x="554" y="376"/>
                </a:cubicBezTo>
                <a:cubicBezTo>
                  <a:pt x="554" y="257"/>
                  <a:pt x="554" y="257"/>
                  <a:pt x="554" y="257"/>
                </a:cubicBezTo>
                <a:cubicBezTo>
                  <a:pt x="554" y="222"/>
                  <a:pt x="525" y="193"/>
                  <a:pt x="489" y="193"/>
                </a:cubicBezTo>
                <a:cubicBezTo>
                  <a:pt x="371" y="193"/>
                  <a:pt x="371" y="193"/>
                  <a:pt x="371" y="193"/>
                </a:cubicBezTo>
                <a:cubicBezTo>
                  <a:pt x="321" y="193"/>
                  <a:pt x="310" y="152"/>
                  <a:pt x="335" y="123"/>
                </a:cubicBezTo>
                <a:cubicBezTo>
                  <a:pt x="377" y="75"/>
                  <a:pt x="355" y="3"/>
                  <a:pt x="278" y="0"/>
                </a:cubicBezTo>
                <a:cubicBezTo>
                  <a:pt x="202" y="3"/>
                  <a:pt x="179" y="75"/>
                  <a:pt x="221" y="123"/>
                </a:cubicBezTo>
                <a:cubicBezTo>
                  <a:pt x="247" y="152"/>
                  <a:pt x="236" y="193"/>
                  <a:pt x="186" y="193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29" y="193"/>
                  <a:pt x="0" y="222"/>
                  <a:pt x="0" y="258"/>
                </a:cubicBezTo>
                <a:cubicBezTo>
                  <a:pt x="0" y="343"/>
                  <a:pt x="0" y="343"/>
                  <a:pt x="0" y="343"/>
                </a:cubicBezTo>
                <a:cubicBezTo>
                  <a:pt x="19" y="333"/>
                  <a:pt x="40" y="328"/>
                  <a:pt x="61" y="328"/>
                </a:cubicBezTo>
                <a:cubicBezTo>
                  <a:pt x="136" y="328"/>
                  <a:pt x="192" y="386"/>
                  <a:pt x="195" y="465"/>
                </a:cubicBezTo>
                <a:cubicBezTo>
                  <a:pt x="195" y="470"/>
                  <a:pt x="195" y="470"/>
                  <a:pt x="195" y="470"/>
                </a:cubicBezTo>
                <a:cubicBezTo>
                  <a:pt x="192" y="549"/>
                  <a:pt x="136" y="607"/>
                  <a:pt x="62" y="607"/>
                </a:cubicBezTo>
                <a:cubicBezTo>
                  <a:pt x="40" y="607"/>
                  <a:pt x="19" y="602"/>
                  <a:pt x="0" y="592"/>
                </a:cubicBezTo>
                <a:cubicBezTo>
                  <a:pt x="0" y="682"/>
                  <a:pt x="0" y="682"/>
                  <a:pt x="0" y="682"/>
                </a:cubicBezTo>
                <a:cubicBezTo>
                  <a:pt x="0" y="717"/>
                  <a:pt x="29" y="746"/>
                  <a:pt x="65" y="746"/>
                </a:cubicBezTo>
                <a:cubicBezTo>
                  <a:pt x="186" y="746"/>
                  <a:pt x="186" y="746"/>
                  <a:pt x="186" y="746"/>
                </a:cubicBezTo>
                <a:cubicBezTo>
                  <a:pt x="236" y="746"/>
                  <a:pt x="247" y="788"/>
                  <a:pt x="221" y="817"/>
                </a:cubicBezTo>
                <a:cubicBezTo>
                  <a:pt x="180" y="864"/>
                  <a:pt x="202" y="937"/>
                  <a:pt x="278" y="940"/>
                </a:cubicBezTo>
                <a:cubicBezTo>
                  <a:pt x="355" y="937"/>
                  <a:pt x="377" y="864"/>
                  <a:pt x="335" y="817"/>
                </a:cubicBezTo>
                <a:cubicBezTo>
                  <a:pt x="310" y="788"/>
                  <a:pt x="321" y="746"/>
                  <a:pt x="371" y="746"/>
                </a:cubicBezTo>
                <a:cubicBezTo>
                  <a:pt x="490" y="746"/>
                  <a:pt x="490" y="746"/>
                  <a:pt x="490" y="746"/>
                </a:cubicBezTo>
                <a:cubicBezTo>
                  <a:pt x="525" y="746"/>
                  <a:pt x="554" y="717"/>
                  <a:pt x="554" y="682"/>
                </a:cubicBezTo>
                <a:cubicBezTo>
                  <a:pt x="554" y="561"/>
                  <a:pt x="554" y="561"/>
                  <a:pt x="554" y="561"/>
                </a:cubicBezTo>
                <a:cubicBezTo>
                  <a:pt x="554" y="511"/>
                  <a:pt x="596" y="500"/>
                  <a:pt x="625" y="526"/>
                </a:cubicBezTo>
                <a:cubicBezTo>
                  <a:pt x="673" y="568"/>
                  <a:pt x="746" y="545"/>
                  <a:pt x="749" y="469"/>
                </a:cubicBezTo>
                <a:cubicBezTo>
                  <a:pt x="746" y="392"/>
                  <a:pt x="673" y="370"/>
                  <a:pt x="625" y="412"/>
                </a:cubicBezTo>
                <a:close/>
                <a:moveTo>
                  <a:pt x="625" y="412"/>
                </a:moveTo>
                <a:cubicBezTo>
                  <a:pt x="625" y="412"/>
                  <a:pt x="625" y="412"/>
                  <a:pt x="625" y="412"/>
                </a:cubicBezTo>
              </a:path>
            </a:pathLst>
          </a:cu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6" name="Freeform 7"/>
          <p:cNvSpPr/>
          <p:nvPr/>
        </p:nvSpPr>
        <p:spPr>
          <a:xfrm rot="2700000">
            <a:off x="3715200" y="2402280"/>
            <a:ext cx="2033640" cy="2552760"/>
          </a:xfrm>
          <a:custGeom>
            <a:avLst/>
            <a:gdLst/>
            <a:ahLst/>
            <a:rect l="l" t="t" r="r" b="b"/>
            <a:pathLst>
              <a:path w="749" h="940">
                <a:moveTo>
                  <a:pt x="684" y="194"/>
                </a:moveTo>
                <a:cubicBezTo>
                  <a:pt x="563" y="194"/>
                  <a:pt x="563" y="194"/>
                  <a:pt x="563" y="194"/>
                </a:cubicBezTo>
                <a:cubicBezTo>
                  <a:pt x="513" y="194"/>
                  <a:pt x="502" y="152"/>
                  <a:pt x="528" y="123"/>
                </a:cubicBezTo>
                <a:cubicBezTo>
                  <a:pt x="570" y="75"/>
                  <a:pt x="547" y="3"/>
                  <a:pt x="471" y="0"/>
                </a:cubicBezTo>
                <a:cubicBezTo>
                  <a:pt x="394" y="3"/>
                  <a:pt x="372" y="75"/>
                  <a:pt x="414" y="123"/>
                </a:cubicBezTo>
                <a:cubicBezTo>
                  <a:pt x="439" y="152"/>
                  <a:pt x="428" y="194"/>
                  <a:pt x="378" y="194"/>
                </a:cubicBezTo>
                <a:cubicBezTo>
                  <a:pt x="260" y="194"/>
                  <a:pt x="260" y="194"/>
                  <a:pt x="260" y="194"/>
                </a:cubicBezTo>
                <a:cubicBezTo>
                  <a:pt x="224" y="194"/>
                  <a:pt x="195" y="222"/>
                  <a:pt x="195" y="258"/>
                </a:cubicBezTo>
                <a:cubicBezTo>
                  <a:pt x="195" y="379"/>
                  <a:pt x="195" y="379"/>
                  <a:pt x="195" y="379"/>
                </a:cubicBezTo>
                <a:cubicBezTo>
                  <a:pt x="195" y="428"/>
                  <a:pt x="153" y="439"/>
                  <a:pt x="124" y="414"/>
                </a:cubicBezTo>
                <a:cubicBezTo>
                  <a:pt x="76" y="372"/>
                  <a:pt x="3" y="395"/>
                  <a:pt x="0" y="471"/>
                </a:cubicBezTo>
                <a:cubicBezTo>
                  <a:pt x="3" y="547"/>
                  <a:pt x="76" y="569"/>
                  <a:pt x="124" y="527"/>
                </a:cubicBezTo>
                <a:cubicBezTo>
                  <a:pt x="153" y="502"/>
                  <a:pt x="195" y="513"/>
                  <a:pt x="195" y="563"/>
                </a:cubicBezTo>
                <a:cubicBezTo>
                  <a:pt x="195" y="683"/>
                  <a:pt x="195" y="683"/>
                  <a:pt x="195" y="683"/>
                </a:cubicBezTo>
                <a:cubicBezTo>
                  <a:pt x="195" y="718"/>
                  <a:pt x="224" y="747"/>
                  <a:pt x="260" y="747"/>
                </a:cubicBezTo>
                <a:cubicBezTo>
                  <a:pt x="378" y="747"/>
                  <a:pt x="378" y="747"/>
                  <a:pt x="378" y="747"/>
                </a:cubicBezTo>
                <a:cubicBezTo>
                  <a:pt x="428" y="747"/>
                  <a:pt x="439" y="788"/>
                  <a:pt x="414" y="817"/>
                </a:cubicBezTo>
                <a:cubicBezTo>
                  <a:pt x="372" y="864"/>
                  <a:pt x="394" y="937"/>
                  <a:pt x="471" y="940"/>
                </a:cubicBezTo>
                <a:cubicBezTo>
                  <a:pt x="547" y="937"/>
                  <a:pt x="570" y="865"/>
                  <a:pt x="528" y="817"/>
                </a:cubicBezTo>
                <a:cubicBezTo>
                  <a:pt x="502" y="788"/>
                  <a:pt x="513" y="747"/>
                  <a:pt x="563" y="747"/>
                </a:cubicBezTo>
                <a:cubicBezTo>
                  <a:pt x="683" y="747"/>
                  <a:pt x="683" y="747"/>
                  <a:pt x="683" y="747"/>
                </a:cubicBezTo>
                <a:cubicBezTo>
                  <a:pt x="719" y="747"/>
                  <a:pt x="749" y="717"/>
                  <a:pt x="749" y="681"/>
                </a:cubicBezTo>
                <a:cubicBezTo>
                  <a:pt x="749" y="597"/>
                  <a:pt x="749" y="597"/>
                  <a:pt x="749" y="597"/>
                </a:cubicBezTo>
                <a:cubicBezTo>
                  <a:pt x="730" y="607"/>
                  <a:pt x="708" y="612"/>
                  <a:pt x="687" y="612"/>
                </a:cubicBezTo>
                <a:cubicBezTo>
                  <a:pt x="613" y="612"/>
                  <a:pt x="557" y="554"/>
                  <a:pt x="554" y="475"/>
                </a:cubicBezTo>
                <a:cubicBezTo>
                  <a:pt x="554" y="470"/>
                  <a:pt x="554" y="470"/>
                  <a:pt x="554" y="470"/>
                </a:cubicBezTo>
                <a:cubicBezTo>
                  <a:pt x="557" y="390"/>
                  <a:pt x="613" y="333"/>
                  <a:pt x="687" y="333"/>
                </a:cubicBezTo>
                <a:cubicBezTo>
                  <a:pt x="709" y="333"/>
                  <a:pt x="730" y="338"/>
                  <a:pt x="749" y="347"/>
                </a:cubicBezTo>
                <a:cubicBezTo>
                  <a:pt x="749" y="258"/>
                  <a:pt x="749" y="258"/>
                  <a:pt x="749" y="258"/>
                </a:cubicBezTo>
                <a:cubicBezTo>
                  <a:pt x="749" y="223"/>
                  <a:pt x="720" y="194"/>
                  <a:pt x="684" y="194"/>
                </a:cubicBezTo>
                <a:close/>
                <a:moveTo>
                  <a:pt x="684" y="194"/>
                </a:moveTo>
                <a:cubicBezTo>
                  <a:pt x="684" y="194"/>
                  <a:pt x="684" y="194"/>
                  <a:pt x="684" y="194"/>
                </a:cubicBezTo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7" name="Freeform 8"/>
          <p:cNvSpPr/>
          <p:nvPr/>
        </p:nvSpPr>
        <p:spPr>
          <a:xfrm rot="2700000">
            <a:off x="5011200" y="1481040"/>
            <a:ext cx="2551320" cy="2033640"/>
          </a:xfrm>
          <a:custGeom>
            <a:avLst/>
            <a:gdLst/>
            <a:ahLst/>
            <a:rect l="l" t="t" r="r" b="b"/>
            <a:pathLst>
              <a:path w="940" h="749">
                <a:moveTo>
                  <a:pt x="817" y="413"/>
                </a:moveTo>
                <a:cubicBezTo>
                  <a:pt x="788" y="439"/>
                  <a:pt x="746" y="428"/>
                  <a:pt x="746" y="378"/>
                </a:cubicBezTo>
                <a:cubicBezTo>
                  <a:pt x="746" y="260"/>
                  <a:pt x="746" y="260"/>
                  <a:pt x="746" y="260"/>
                </a:cubicBezTo>
                <a:cubicBezTo>
                  <a:pt x="746" y="224"/>
                  <a:pt x="717" y="195"/>
                  <a:pt x="682" y="195"/>
                </a:cubicBezTo>
                <a:cubicBezTo>
                  <a:pt x="561" y="195"/>
                  <a:pt x="561" y="195"/>
                  <a:pt x="561" y="195"/>
                </a:cubicBezTo>
                <a:cubicBezTo>
                  <a:pt x="511" y="195"/>
                  <a:pt x="500" y="153"/>
                  <a:pt x="526" y="124"/>
                </a:cubicBezTo>
                <a:cubicBezTo>
                  <a:pt x="568" y="76"/>
                  <a:pt x="545" y="3"/>
                  <a:pt x="469" y="0"/>
                </a:cubicBezTo>
                <a:cubicBezTo>
                  <a:pt x="392" y="3"/>
                  <a:pt x="370" y="76"/>
                  <a:pt x="412" y="124"/>
                </a:cubicBezTo>
                <a:cubicBezTo>
                  <a:pt x="437" y="153"/>
                  <a:pt x="426" y="195"/>
                  <a:pt x="376" y="195"/>
                </a:cubicBezTo>
                <a:cubicBezTo>
                  <a:pt x="257" y="195"/>
                  <a:pt x="257" y="195"/>
                  <a:pt x="257" y="195"/>
                </a:cubicBezTo>
                <a:cubicBezTo>
                  <a:pt x="222" y="195"/>
                  <a:pt x="193" y="224"/>
                  <a:pt x="193" y="260"/>
                </a:cubicBezTo>
                <a:cubicBezTo>
                  <a:pt x="193" y="379"/>
                  <a:pt x="193" y="379"/>
                  <a:pt x="193" y="379"/>
                </a:cubicBezTo>
                <a:cubicBezTo>
                  <a:pt x="193" y="428"/>
                  <a:pt x="152" y="439"/>
                  <a:pt x="123" y="414"/>
                </a:cubicBezTo>
                <a:cubicBezTo>
                  <a:pt x="75" y="372"/>
                  <a:pt x="3" y="395"/>
                  <a:pt x="0" y="471"/>
                </a:cubicBezTo>
                <a:cubicBezTo>
                  <a:pt x="3" y="547"/>
                  <a:pt x="75" y="569"/>
                  <a:pt x="123" y="527"/>
                </a:cubicBezTo>
                <a:cubicBezTo>
                  <a:pt x="152" y="502"/>
                  <a:pt x="193" y="513"/>
                  <a:pt x="193" y="563"/>
                </a:cubicBezTo>
                <a:cubicBezTo>
                  <a:pt x="193" y="683"/>
                  <a:pt x="193" y="683"/>
                  <a:pt x="193" y="683"/>
                </a:cubicBezTo>
                <a:cubicBezTo>
                  <a:pt x="193" y="719"/>
                  <a:pt x="222" y="749"/>
                  <a:pt x="258" y="749"/>
                </a:cubicBezTo>
                <a:cubicBezTo>
                  <a:pt x="343" y="749"/>
                  <a:pt x="343" y="749"/>
                  <a:pt x="343" y="749"/>
                </a:cubicBezTo>
                <a:cubicBezTo>
                  <a:pt x="333" y="729"/>
                  <a:pt x="328" y="708"/>
                  <a:pt x="328" y="687"/>
                </a:cubicBezTo>
                <a:cubicBezTo>
                  <a:pt x="328" y="613"/>
                  <a:pt x="386" y="557"/>
                  <a:pt x="465" y="554"/>
                </a:cubicBezTo>
                <a:cubicBezTo>
                  <a:pt x="470" y="554"/>
                  <a:pt x="470" y="554"/>
                  <a:pt x="470" y="554"/>
                </a:cubicBezTo>
                <a:cubicBezTo>
                  <a:pt x="549" y="557"/>
                  <a:pt x="607" y="613"/>
                  <a:pt x="607" y="687"/>
                </a:cubicBezTo>
                <a:cubicBezTo>
                  <a:pt x="607" y="708"/>
                  <a:pt x="602" y="730"/>
                  <a:pt x="592" y="749"/>
                </a:cubicBezTo>
                <a:cubicBezTo>
                  <a:pt x="682" y="749"/>
                  <a:pt x="682" y="749"/>
                  <a:pt x="682" y="749"/>
                </a:cubicBezTo>
                <a:cubicBezTo>
                  <a:pt x="717" y="749"/>
                  <a:pt x="746" y="720"/>
                  <a:pt x="746" y="684"/>
                </a:cubicBezTo>
                <a:cubicBezTo>
                  <a:pt x="746" y="563"/>
                  <a:pt x="746" y="563"/>
                  <a:pt x="746" y="563"/>
                </a:cubicBezTo>
                <a:cubicBezTo>
                  <a:pt x="746" y="513"/>
                  <a:pt x="788" y="502"/>
                  <a:pt x="817" y="527"/>
                </a:cubicBezTo>
                <a:cubicBezTo>
                  <a:pt x="864" y="569"/>
                  <a:pt x="937" y="547"/>
                  <a:pt x="940" y="470"/>
                </a:cubicBezTo>
                <a:cubicBezTo>
                  <a:pt x="937" y="394"/>
                  <a:pt x="864" y="372"/>
                  <a:pt x="817" y="413"/>
                </a:cubicBezTo>
                <a:close/>
                <a:moveTo>
                  <a:pt x="817" y="413"/>
                </a:moveTo>
                <a:cubicBezTo>
                  <a:pt x="817" y="413"/>
                  <a:pt x="817" y="413"/>
                  <a:pt x="817" y="413"/>
                </a:cubicBezTo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628" name="Group 10" descr=""/>
          <p:cNvPicPr/>
          <p:nvPr/>
        </p:nvPicPr>
        <p:blipFill>
          <a:blip r:embed="rId1"/>
          <a:stretch/>
        </p:blipFill>
        <p:spPr>
          <a:xfrm>
            <a:off x="5992920" y="5059440"/>
            <a:ext cx="358560" cy="347760"/>
          </a:xfrm>
          <a:prstGeom prst="rect">
            <a:avLst/>
          </a:prstGeom>
          <a:ln w="0">
            <a:noFill/>
          </a:ln>
        </p:spPr>
      </p:pic>
      <p:sp>
        <p:nvSpPr>
          <p:cNvPr id="629" name="Freeform 27"/>
          <p:cNvSpPr/>
          <p:nvPr/>
        </p:nvSpPr>
        <p:spPr>
          <a:xfrm>
            <a:off x="5935680" y="2425680"/>
            <a:ext cx="469800" cy="316080"/>
          </a:xfrm>
          <a:custGeom>
            <a:avLst/>
            <a:gdLst/>
            <a:ahLst/>
            <a:rect l="l" t="t" r="r" b="b"/>
            <a:pathLst>
              <a:path w="125" h="84">
                <a:moveTo>
                  <a:pt x="125" y="32"/>
                </a:moveTo>
                <a:cubicBezTo>
                  <a:pt x="62" y="0"/>
                  <a:pt x="62" y="0"/>
                  <a:pt x="62" y="0"/>
                </a:cubicBezTo>
                <a:cubicBezTo>
                  <a:pt x="0" y="32"/>
                  <a:pt x="0" y="32"/>
                  <a:pt x="0" y="32"/>
                </a:cubicBezTo>
                <a:cubicBezTo>
                  <a:pt x="6" y="36"/>
                  <a:pt x="6" y="36"/>
                  <a:pt x="6" y="36"/>
                </a:cubicBezTo>
                <a:cubicBezTo>
                  <a:pt x="6" y="69"/>
                  <a:pt x="6" y="69"/>
                  <a:pt x="6" y="69"/>
                </a:cubicBezTo>
                <a:cubicBezTo>
                  <a:pt x="4" y="71"/>
                  <a:pt x="2" y="73"/>
                  <a:pt x="2" y="76"/>
                </a:cubicBezTo>
                <a:cubicBezTo>
                  <a:pt x="2" y="81"/>
                  <a:pt x="6" y="84"/>
                  <a:pt x="10" y="84"/>
                </a:cubicBezTo>
                <a:cubicBezTo>
                  <a:pt x="15" y="84"/>
                  <a:pt x="18" y="81"/>
                  <a:pt x="18" y="76"/>
                </a:cubicBezTo>
                <a:cubicBezTo>
                  <a:pt x="18" y="73"/>
                  <a:pt x="17" y="71"/>
                  <a:pt x="14" y="69"/>
                </a:cubicBezTo>
                <a:cubicBezTo>
                  <a:pt x="14" y="40"/>
                  <a:pt x="14" y="40"/>
                  <a:pt x="14" y="40"/>
                </a:cubicBezTo>
                <a:cubicBezTo>
                  <a:pt x="22" y="44"/>
                  <a:pt x="22" y="44"/>
                  <a:pt x="22" y="44"/>
                </a:cubicBezTo>
                <a:cubicBezTo>
                  <a:pt x="22" y="64"/>
                  <a:pt x="22" y="64"/>
                  <a:pt x="22" y="64"/>
                </a:cubicBezTo>
                <a:cubicBezTo>
                  <a:pt x="22" y="75"/>
                  <a:pt x="53" y="76"/>
                  <a:pt x="62" y="76"/>
                </a:cubicBezTo>
                <a:cubicBezTo>
                  <a:pt x="72" y="76"/>
                  <a:pt x="102" y="75"/>
                  <a:pt x="102" y="64"/>
                </a:cubicBezTo>
                <a:cubicBezTo>
                  <a:pt x="102" y="44"/>
                  <a:pt x="102" y="44"/>
                  <a:pt x="102" y="44"/>
                </a:cubicBezTo>
                <a:lnTo>
                  <a:pt x="125" y="32"/>
                </a:lnTo>
                <a:close/>
                <a:moveTo>
                  <a:pt x="62" y="9"/>
                </a:moveTo>
                <a:cubicBezTo>
                  <a:pt x="108" y="32"/>
                  <a:pt x="108" y="32"/>
                  <a:pt x="108" y="32"/>
                </a:cubicBezTo>
                <a:cubicBezTo>
                  <a:pt x="101" y="36"/>
                  <a:pt x="101" y="36"/>
                  <a:pt x="101" y="36"/>
                </a:cubicBezTo>
                <a:cubicBezTo>
                  <a:pt x="94" y="29"/>
                  <a:pt x="70" y="28"/>
                  <a:pt x="62" y="28"/>
                </a:cubicBezTo>
                <a:cubicBezTo>
                  <a:pt x="54" y="28"/>
                  <a:pt x="31" y="29"/>
                  <a:pt x="24" y="36"/>
                </a:cubicBezTo>
                <a:cubicBezTo>
                  <a:pt x="17" y="32"/>
                  <a:pt x="17" y="32"/>
                  <a:pt x="17" y="32"/>
                </a:cubicBezTo>
                <a:lnTo>
                  <a:pt x="62" y="9"/>
                </a:lnTo>
                <a:close/>
                <a:moveTo>
                  <a:pt x="94" y="56"/>
                </a:moveTo>
                <a:cubicBezTo>
                  <a:pt x="85" y="53"/>
                  <a:pt x="69" y="52"/>
                  <a:pt x="62" y="52"/>
                </a:cubicBezTo>
                <a:cubicBezTo>
                  <a:pt x="56" y="52"/>
                  <a:pt x="40" y="53"/>
                  <a:pt x="30" y="56"/>
                </a:cubicBezTo>
                <a:cubicBezTo>
                  <a:pt x="30" y="41"/>
                  <a:pt x="30" y="41"/>
                  <a:pt x="30" y="41"/>
                </a:cubicBezTo>
                <a:cubicBezTo>
                  <a:pt x="33" y="39"/>
                  <a:pt x="44" y="36"/>
                  <a:pt x="62" y="36"/>
                </a:cubicBezTo>
                <a:cubicBezTo>
                  <a:pt x="81" y="36"/>
                  <a:pt x="92" y="39"/>
                  <a:pt x="94" y="41"/>
                </a:cubicBezTo>
                <a:lnTo>
                  <a:pt x="94" y="56"/>
                </a:lnTo>
                <a:close/>
                <a:moveTo>
                  <a:pt x="62" y="68"/>
                </a:moveTo>
                <a:cubicBezTo>
                  <a:pt x="47" y="68"/>
                  <a:pt x="36" y="66"/>
                  <a:pt x="32" y="64"/>
                </a:cubicBezTo>
                <a:cubicBezTo>
                  <a:pt x="36" y="62"/>
                  <a:pt x="47" y="60"/>
                  <a:pt x="62" y="60"/>
                </a:cubicBezTo>
                <a:cubicBezTo>
                  <a:pt x="78" y="60"/>
                  <a:pt x="89" y="62"/>
                  <a:pt x="93" y="64"/>
                </a:cubicBezTo>
                <a:cubicBezTo>
                  <a:pt x="89" y="66"/>
                  <a:pt x="78" y="68"/>
                  <a:pt x="62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630" name="Group 14" descr=""/>
          <p:cNvPicPr/>
          <p:nvPr/>
        </p:nvPicPr>
        <p:blipFill>
          <a:blip r:embed="rId2"/>
          <a:stretch/>
        </p:blipFill>
        <p:spPr>
          <a:xfrm>
            <a:off x="7149960" y="3687840"/>
            <a:ext cx="420840" cy="396720"/>
          </a:xfrm>
          <a:prstGeom prst="rect">
            <a:avLst/>
          </a:prstGeom>
          <a:ln w="0">
            <a:noFill/>
          </a:ln>
        </p:spPr>
      </p:pic>
      <p:sp>
        <p:nvSpPr>
          <p:cNvPr id="631" name="Freeform 40"/>
          <p:cNvSpPr/>
          <p:nvPr/>
        </p:nvSpPr>
        <p:spPr>
          <a:xfrm>
            <a:off x="4589640" y="3706920"/>
            <a:ext cx="390240" cy="361800"/>
          </a:xfrm>
          <a:custGeom>
            <a:avLst/>
            <a:gdLst/>
            <a:ahLst/>
            <a:rect l="l" t="t" r="r" b="b"/>
            <a:pathLst>
              <a:path w="246" h="228">
                <a:moveTo>
                  <a:pt x="246" y="76"/>
                </a:moveTo>
                <a:lnTo>
                  <a:pt x="246" y="50"/>
                </a:lnTo>
                <a:lnTo>
                  <a:pt x="123" y="0"/>
                </a:lnTo>
                <a:lnTo>
                  <a:pt x="0" y="50"/>
                </a:lnTo>
                <a:lnTo>
                  <a:pt x="0" y="76"/>
                </a:lnTo>
                <a:lnTo>
                  <a:pt x="19" y="76"/>
                </a:lnTo>
                <a:lnTo>
                  <a:pt x="19" y="181"/>
                </a:lnTo>
                <a:lnTo>
                  <a:pt x="0" y="181"/>
                </a:lnTo>
                <a:lnTo>
                  <a:pt x="0" y="228"/>
                </a:lnTo>
                <a:lnTo>
                  <a:pt x="246" y="228"/>
                </a:lnTo>
                <a:lnTo>
                  <a:pt x="246" y="181"/>
                </a:lnTo>
                <a:lnTo>
                  <a:pt x="227" y="181"/>
                </a:lnTo>
                <a:lnTo>
                  <a:pt x="227" y="76"/>
                </a:lnTo>
                <a:lnTo>
                  <a:pt x="246" y="76"/>
                </a:lnTo>
                <a:close/>
                <a:moveTo>
                  <a:pt x="123" y="19"/>
                </a:moveTo>
                <a:lnTo>
                  <a:pt x="211" y="57"/>
                </a:lnTo>
                <a:lnTo>
                  <a:pt x="33" y="57"/>
                </a:lnTo>
                <a:lnTo>
                  <a:pt x="123" y="19"/>
                </a:lnTo>
                <a:close/>
                <a:moveTo>
                  <a:pt x="152" y="181"/>
                </a:moveTo>
                <a:lnTo>
                  <a:pt x="152" y="76"/>
                </a:lnTo>
                <a:lnTo>
                  <a:pt x="170" y="76"/>
                </a:lnTo>
                <a:lnTo>
                  <a:pt x="170" y="181"/>
                </a:lnTo>
                <a:lnTo>
                  <a:pt x="152" y="181"/>
                </a:lnTo>
                <a:close/>
                <a:moveTo>
                  <a:pt x="95" y="76"/>
                </a:moveTo>
                <a:lnTo>
                  <a:pt x="95" y="181"/>
                </a:lnTo>
                <a:lnTo>
                  <a:pt x="76" y="181"/>
                </a:lnTo>
                <a:lnTo>
                  <a:pt x="76" y="76"/>
                </a:lnTo>
                <a:lnTo>
                  <a:pt x="95" y="76"/>
                </a:lnTo>
                <a:close/>
                <a:moveTo>
                  <a:pt x="114" y="76"/>
                </a:moveTo>
                <a:lnTo>
                  <a:pt x="133" y="76"/>
                </a:lnTo>
                <a:lnTo>
                  <a:pt x="133" y="181"/>
                </a:lnTo>
                <a:lnTo>
                  <a:pt x="114" y="181"/>
                </a:lnTo>
                <a:lnTo>
                  <a:pt x="114" y="76"/>
                </a:lnTo>
                <a:close/>
                <a:moveTo>
                  <a:pt x="38" y="76"/>
                </a:moveTo>
                <a:lnTo>
                  <a:pt x="57" y="76"/>
                </a:lnTo>
                <a:lnTo>
                  <a:pt x="57" y="181"/>
                </a:lnTo>
                <a:lnTo>
                  <a:pt x="38" y="181"/>
                </a:lnTo>
                <a:lnTo>
                  <a:pt x="38" y="76"/>
                </a:lnTo>
                <a:close/>
                <a:moveTo>
                  <a:pt x="227" y="209"/>
                </a:moveTo>
                <a:lnTo>
                  <a:pt x="19" y="209"/>
                </a:lnTo>
                <a:lnTo>
                  <a:pt x="19" y="200"/>
                </a:lnTo>
                <a:lnTo>
                  <a:pt x="227" y="200"/>
                </a:lnTo>
                <a:lnTo>
                  <a:pt x="227" y="209"/>
                </a:lnTo>
                <a:close/>
                <a:moveTo>
                  <a:pt x="208" y="181"/>
                </a:moveTo>
                <a:lnTo>
                  <a:pt x="189" y="181"/>
                </a:lnTo>
                <a:lnTo>
                  <a:pt x="189" y="76"/>
                </a:lnTo>
                <a:lnTo>
                  <a:pt x="208" y="76"/>
                </a:lnTo>
                <a:lnTo>
                  <a:pt x="208" y="1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2" name="Title 1"/>
          <p:cNvSpPr/>
          <p:nvPr/>
        </p:nvSpPr>
        <p:spPr>
          <a:xfrm>
            <a:off x="8445600" y="2752560"/>
            <a:ext cx="26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3" name="Details 1"/>
          <p:cNvSpPr/>
          <p:nvPr/>
        </p:nvSpPr>
        <p:spPr>
          <a:xfrm>
            <a:off x="8445600" y="2967120"/>
            <a:ext cx="3192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Great Paragraph line is a sample Lorem ipsum dolor sit amet. Consectetur adipiscing eliteiusmod temp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4" name="Title 1"/>
          <p:cNvSpPr/>
          <p:nvPr/>
        </p:nvSpPr>
        <p:spPr>
          <a:xfrm>
            <a:off x="2073240" y="1469880"/>
            <a:ext cx="26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5" name="Details 1"/>
          <p:cNvSpPr/>
          <p:nvPr/>
        </p:nvSpPr>
        <p:spPr>
          <a:xfrm>
            <a:off x="1589040" y="1685880"/>
            <a:ext cx="31100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Great Paragraph line is a sample Lorem ipsum dolor sit amet. Consectetur adipiscing eliteiusmod temp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6" name="Title 1"/>
          <p:cNvSpPr/>
          <p:nvPr/>
        </p:nvSpPr>
        <p:spPr>
          <a:xfrm>
            <a:off x="7250040" y="5289480"/>
            <a:ext cx="26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7" name="Details 1"/>
          <p:cNvSpPr/>
          <p:nvPr/>
        </p:nvSpPr>
        <p:spPr>
          <a:xfrm>
            <a:off x="7250040" y="5505480"/>
            <a:ext cx="3191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Great Paragraph line is a sample Lorem ipsum dolor sit amet. Consectetur adipiscing eliteiusmod temp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8" name="Title 1"/>
          <p:cNvSpPr/>
          <p:nvPr/>
        </p:nvSpPr>
        <p:spPr>
          <a:xfrm>
            <a:off x="1122480" y="3490920"/>
            <a:ext cx="26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9" name="Details 1"/>
          <p:cNvSpPr/>
          <p:nvPr/>
        </p:nvSpPr>
        <p:spPr>
          <a:xfrm>
            <a:off x="638280" y="3706920"/>
            <a:ext cx="31096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Great Paragraph line is a sample Lorem ipsum dolor sit amet. Consectetur adipiscing eliteiusmod temp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nodeType="clickEffect" fill="hold">
                      <p:stCondLst>
                        <p:cond delay="0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Poppins"/>
              </a:rPr>
              <a:t>CHEMISTRY FLASK PUZZLE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41" name="Freeform 5"/>
          <p:cNvSpPr/>
          <p:nvPr/>
        </p:nvSpPr>
        <p:spPr>
          <a:xfrm>
            <a:off x="3940200" y="1473120"/>
            <a:ext cx="4311720" cy="5019840"/>
          </a:xfrm>
          <a:custGeom>
            <a:avLst/>
            <a:gdLst/>
            <a:ahLst/>
            <a:rect l="l" t="t" r="r" b="b"/>
            <a:pathLst>
              <a:path w="1036" h="1207">
                <a:moveTo>
                  <a:pt x="288" y="0"/>
                </a:moveTo>
                <a:cubicBezTo>
                  <a:pt x="345" y="58"/>
                  <a:pt x="345" y="104"/>
                  <a:pt x="345" y="173"/>
                </a:cubicBezTo>
                <a:cubicBezTo>
                  <a:pt x="345" y="317"/>
                  <a:pt x="345" y="317"/>
                  <a:pt x="345" y="317"/>
                </a:cubicBezTo>
                <a:cubicBezTo>
                  <a:pt x="144" y="385"/>
                  <a:pt x="0" y="566"/>
                  <a:pt x="0" y="779"/>
                </a:cubicBezTo>
                <a:cubicBezTo>
                  <a:pt x="0" y="963"/>
                  <a:pt x="106" y="1123"/>
                  <a:pt x="264" y="1207"/>
                </a:cubicBezTo>
                <a:cubicBezTo>
                  <a:pt x="772" y="1207"/>
                  <a:pt x="772" y="1207"/>
                  <a:pt x="772" y="1207"/>
                </a:cubicBezTo>
                <a:cubicBezTo>
                  <a:pt x="929" y="1123"/>
                  <a:pt x="1036" y="963"/>
                  <a:pt x="1036" y="779"/>
                </a:cubicBezTo>
                <a:cubicBezTo>
                  <a:pt x="1036" y="566"/>
                  <a:pt x="891" y="385"/>
                  <a:pt x="690" y="317"/>
                </a:cubicBezTo>
                <a:cubicBezTo>
                  <a:pt x="690" y="173"/>
                  <a:pt x="690" y="173"/>
                  <a:pt x="690" y="173"/>
                </a:cubicBezTo>
                <a:cubicBezTo>
                  <a:pt x="690" y="104"/>
                  <a:pt x="690" y="58"/>
                  <a:pt x="748" y="0"/>
                </a:cubicBezTo>
                <a:lnTo>
                  <a:pt x="288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2" name="Freeform 6"/>
          <p:cNvSpPr/>
          <p:nvPr/>
        </p:nvSpPr>
        <p:spPr>
          <a:xfrm>
            <a:off x="4363920" y="2887560"/>
            <a:ext cx="3436920" cy="1209600"/>
          </a:xfrm>
          <a:custGeom>
            <a:avLst/>
            <a:gdLst/>
            <a:ahLst/>
            <a:rect l="l" t="t" r="r" b="b"/>
            <a:pathLst>
              <a:path w="826" h="291">
                <a:moveTo>
                  <a:pt x="184" y="194"/>
                </a:moveTo>
                <a:cubicBezTo>
                  <a:pt x="197" y="194"/>
                  <a:pt x="207" y="199"/>
                  <a:pt x="211" y="209"/>
                </a:cubicBezTo>
                <a:cubicBezTo>
                  <a:pt x="215" y="218"/>
                  <a:pt x="213" y="229"/>
                  <a:pt x="205" y="238"/>
                </a:cubicBezTo>
                <a:cubicBezTo>
                  <a:pt x="196" y="248"/>
                  <a:pt x="193" y="261"/>
                  <a:pt x="198" y="272"/>
                </a:cubicBezTo>
                <a:cubicBezTo>
                  <a:pt x="203" y="283"/>
                  <a:pt x="214" y="290"/>
                  <a:pt x="229" y="291"/>
                </a:cubicBezTo>
                <a:cubicBezTo>
                  <a:pt x="245" y="290"/>
                  <a:pt x="256" y="283"/>
                  <a:pt x="261" y="272"/>
                </a:cubicBezTo>
                <a:cubicBezTo>
                  <a:pt x="265" y="261"/>
                  <a:pt x="263" y="248"/>
                  <a:pt x="254" y="238"/>
                </a:cubicBezTo>
                <a:cubicBezTo>
                  <a:pt x="246" y="229"/>
                  <a:pt x="244" y="218"/>
                  <a:pt x="248" y="209"/>
                </a:cubicBezTo>
                <a:cubicBezTo>
                  <a:pt x="252" y="199"/>
                  <a:pt x="262" y="194"/>
                  <a:pt x="275" y="194"/>
                </a:cubicBezTo>
                <a:cubicBezTo>
                  <a:pt x="826" y="194"/>
                  <a:pt x="826" y="194"/>
                  <a:pt x="826" y="194"/>
                </a:cubicBezTo>
                <a:cubicBezTo>
                  <a:pt x="769" y="108"/>
                  <a:pt x="682" y="41"/>
                  <a:pt x="576" y="5"/>
                </a:cubicBezTo>
                <a:cubicBezTo>
                  <a:pt x="560" y="0"/>
                  <a:pt x="560" y="0"/>
                  <a:pt x="560" y="0"/>
                </a:cubicBezTo>
                <a:cubicBezTo>
                  <a:pt x="462" y="0"/>
                  <a:pt x="462" y="0"/>
                  <a:pt x="462" y="0"/>
                </a:cubicBezTo>
                <a:cubicBezTo>
                  <a:pt x="453" y="0"/>
                  <a:pt x="447" y="3"/>
                  <a:pt x="444" y="9"/>
                </a:cubicBezTo>
                <a:cubicBezTo>
                  <a:pt x="442" y="14"/>
                  <a:pt x="443" y="21"/>
                  <a:pt x="448" y="27"/>
                </a:cubicBezTo>
                <a:cubicBezTo>
                  <a:pt x="460" y="40"/>
                  <a:pt x="463" y="57"/>
                  <a:pt x="457" y="72"/>
                </a:cubicBezTo>
                <a:cubicBezTo>
                  <a:pt x="450" y="87"/>
                  <a:pt x="436" y="96"/>
                  <a:pt x="417" y="97"/>
                </a:cubicBezTo>
                <a:cubicBezTo>
                  <a:pt x="416" y="97"/>
                  <a:pt x="416" y="97"/>
                  <a:pt x="416" y="97"/>
                </a:cubicBezTo>
                <a:cubicBezTo>
                  <a:pt x="416" y="97"/>
                  <a:pt x="416" y="97"/>
                  <a:pt x="416" y="97"/>
                </a:cubicBezTo>
                <a:cubicBezTo>
                  <a:pt x="397" y="96"/>
                  <a:pt x="382" y="87"/>
                  <a:pt x="376" y="72"/>
                </a:cubicBezTo>
                <a:cubicBezTo>
                  <a:pt x="370" y="57"/>
                  <a:pt x="373" y="40"/>
                  <a:pt x="384" y="27"/>
                </a:cubicBezTo>
                <a:cubicBezTo>
                  <a:pt x="389" y="21"/>
                  <a:pt x="391" y="14"/>
                  <a:pt x="389" y="9"/>
                </a:cubicBezTo>
                <a:cubicBezTo>
                  <a:pt x="386" y="3"/>
                  <a:pt x="380" y="0"/>
                  <a:pt x="371" y="0"/>
                </a:cubicBezTo>
                <a:cubicBezTo>
                  <a:pt x="266" y="0"/>
                  <a:pt x="266" y="0"/>
                  <a:pt x="266" y="0"/>
                </a:cubicBezTo>
                <a:cubicBezTo>
                  <a:pt x="250" y="5"/>
                  <a:pt x="250" y="5"/>
                  <a:pt x="250" y="5"/>
                </a:cubicBezTo>
                <a:cubicBezTo>
                  <a:pt x="144" y="41"/>
                  <a:pt x="57" y="108"/>
                  <a:pt x="0" y="194"/>
                </a:cubicBezTo>
                <a:lnTo>
                  <a:pt x="184" y="194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3" name="Freeform 7"/>
          <p:cNvSpPr/>
          <p:nvPr/>
        </p:nvSpPr>
        <p:spPr>
          <a:xfrm>
            <a:off x="4060800" y="3735360"/>
            <a:ext cx="4044960" cy="1197000"/>
          </a:xfrm>
          <a:custGeom>
            <a:avLst/>
            <a:gdLst/>
            <a:ahLst/>
            <a:rect l="l" t="t" r="r" b="b"/>
            <a:pathLst>
              <a:path w="972" h="288">
                <a:moveTo>
                  <a:pt x="713" y="191"/>
                </a:moveTo>
                <a:cubicBezTo>
                  <a:pt x="972" y="191"/>
                  <a:pt x="972" y="191"/>
                  <a:pt x="972" y="191"/>
                </a:cubicBezTo>
                <a:cubicBezTo>
                  <a:pt x="965" y="122"/>
                  <a:pt x="942" y="57"/>
                  <a:pt x="906" y="0"/>
                </a:cubicBezTo>
                <a:cubicBezTo>
                  <a:pt x="348" y="0"/>
                  <a:pt x="348" y="0"/>
                  <a:pt x="348" y="0"/>
                </a:cubicBezTo>
                <a:cubicBezTo>
                  <a:pt x="339" y="0"/>
                  <a:pt x="333" y="3"/>
                  <a:pt x="330" y="9"/>
                </a:cubicBezTo>
                <a:cubicBezTo>
                  <a:pt x="328" y="14"/>
                  <a:pt x="329" y="21"/>
                  <a:pt x="334" y="27"/>
                </a:cubicBezTo>
                <a:cubicBezTo>
                  <a:pt x="346" y="40"/>
                  <a:pt x="349" y="57"/>
                  <a:pt x="343" y="72"/>
                </a:cubicBezTo>
                <a:cubicBezTo>
                  <a:pt x="337" y="87"/>
                  <a:pt x="322" y="96"/>
                  <a:pt x="303" y="97"/>
                </a:cubicBezTo>
                <a:cubicBezTo>
                  <a:pt x="302" y="97"/>
                  <a:pt x="302" y="97"/>
                  <a:pt x="302" y="97"/>
                </a:cubicBezTo>
                <a:cubicBezTo>
                  <a:pt x="302" y="97"/>
                  <a:pt x="302" y="97"/>
                  <a:pt x="302" y="97"/>
                </a:cubicBezTo>
                <a:cubicBezTo>
                  <a:pt x="283" y="96"/>
                  <a:pt x="268" y="87"/>
                  <a:pt x="262" y="72"/>
                </a:cubicBezTo>
                <a:cubicBezTo>
                  <a:pt x="256" y="57"/>
                  <a:pt x="259" y="40"/>
                  <a:pt x="270" y="27"/>
                </a:cubicBezTo>
                <a:cubicBezTo>
                  <a:pt x="275" y="21"/>
                  <a:pt x="277" y="14"/>
                  <a:pt x="275" y="9"/>
                </a:cubicBezTo>
                <a:cubicBezTo>
                  <a:pt x="272" y="3"/>
                  <a:pt x="266" y="0"/>
                  <a:pt x="257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31" y="58"/>
                  <a:pt x="7" y="123"/>
                  <a:pt x="0" y="191"/>
                </a:cubicBezTo>
                <a:cubicBezTo>
                  <a:pt x="622" y="191"/>
                  <a:pt x="622" y="191"/>
                  <a:pt x="622" y="191"/>
                </a:cubicBezTo>
                <a:cubicBezTo>
                  <a:pt x="635" y="191"/>
                  <a:pt x="644" y="196"/>
                  <a:pt x="649" y="206"/>
                </a:cubicBezTo>
                <a:cubicBezTo>
                  <a:pt x="653" y="215"/>
                  <a:pt x="651" y="226"/>
                  <a:pt x="643" y="234"/>
                </a:cubicBezTo>
                <a:cubicBezTo>
                  <a:pt x="634" y="245"/>
                  <a:pt x="631" y="258"/>
                  <a:pt x="636" y="269"/>
                </a:cubicBezTo>
                <a:cubicBezTo>
                  <a:pt x="641" y="280"/>
                  <a:pt x="652" y="287"/>
                  <a:pt x="667" y="288"/>
                </a:cubicBezTo>
                <a:cubicBezTo>
                  <a:pt x="682" y="287"/>
                  <a:pt x="694" y="280"/>
                  <a:pt x="699" y="269"/>
                </a:cubicBezTo>
                <a:cubicBezTo>
                  <a:pt x="703" y="258"/>
                  <a:pt x="701" y="245"/>
                  <a:pt x="692" y="234"/>
                </a:cubicBezTo>
                <a:cubicBezTo>
                  <a:pt x="684" y="226"/>
                  <a:pt x="682" y="215"/>
                  <a:pt x="686" y="206"/>
                </a:cubicBezTo>
                <a:cubicBezTo>
                  <a:pt x="690" y="196"/>
                  <a:pt x="700" y="191"/>
                  <a:pt x="713" y="191"/>
                </a:cubicBezTo>
                <a:close/>
              </a:path>
            </a:pathLst>
          </a:cu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4" name="Freeform 8"/>
          <p:cNvSpPr/>
          <p:nvPr/>
        </p:nvSpPr>
        <p:spPr>
          <a:xfrm>
            <a:off x="5380200" y="1598760"/>
            <a:ext cx="1406520" cy="1650960"/>
          </a:xfrm>
          <a:custGeom>
            <a:avLst/>
            <a:gdLst/>
            <a:ahLst/>
            <a:rect l="l" t="t" r="r" b="b"/>
            <a:pathLst>
              <a:path w="338" h="397">
                <a:moveTo>
                  <a:pt x="26" y="300"/>
                </a:moveTo>
                <a:cubicBezTo>
                  <a:pt x="127" y="300"/>
                  <a:pt x="127" y="300"/>
                  <a:pt x="127" y="300"/>
                </a:cubicBezTo>
                <a:cubicBezTo>
                  <a:pt x="140" y="300"/>
                  <a:pt x="149" y="305"/>
                  <a:pt x="154" y="315"/>
                </a:cubicBezTo>
                <a:cubicBezTo>
                  <a:pt x="158" y="324"/>
                  <a:pt x="156" y="335"/>
                  <a:pt x="148" y="343"/>
                </a:cubicBezTo>
                <a:cubicBezTo>
                  <a:pt x="139" y="354"/>
                  <a:pt x="136" y="367"/>
                  <a:pt x="141" y="378"/>
                </a:cubicBezTo>
                <a:cubicBezTo>
                  <a:pt x="146" y="389"/>
                  <a:pt x="157" y="396"/>
                  <a:pt x="172" y="397"/>
                </a:cubicBezTo>
                <a:cubicBezTo>
                  <a:pt x="187" y="396"/>
                  <a:pt x="199" y="389"/>
                  <a:pt x="204" y="378"/>
                </a:cubicBezTo>
                <a:cubicBezTo>
                  <a:pt x="208" y="367"/>
                  <a:pt x="206" y="354"/>
                  <a:pt x="197" y="343"/>
                </a:cubicBezTo>
                <a:cubicBezTo>
                  <a:pt x="189" y="335"/>
                  <a:pt x="187" y="324"/>
                  <a:pt x="191" y="315"/>
                </a:cubicBezTo>
                <a:cubicBezTo>
                  <a:pt x="195" y="305"/>
                  <a:pt x="205" y="300"/>
                  <a:pt x="218" y="300"/>
                </a:cubicBezTo>
                <a:cubicBezTo>
                  <a:pt x="312" y="300"/>
                  <a:pt x="312" y="300"/>
                  <a:pt x="312" y="300"/>
                </a:cubicBezTo>
                <a:cubicBezTo>
                  <a:pt x="312" y="142"/>
                  <a:pt x="312" y="142"/>
                  <a:pt x="312" y="142"/>
                </a:cubicBezTo>
                <a:cubicBezTo>
                  <a:pt x="312" y="90"/>
                  <a:pt x="312" y="46"/>
                  <a:pt x="338" y="0"/>
                </a:cubicBezTo>
                <a:cubicBezTo>
                  <a:pt x="0" y="0"/>
                  <a:pt x="0" y="0"/>
                  <a:pt x="0" y="0"/>
                </a:cubicBezTo>
                <a:cubicBezTo>
                  <a:pt x="26" y="46"/>
                  <a:pt x="26" y="90"/>
                  <a:pt x="26" y="142"/>
                </a:cubicBezTo>
                <a:lnTo>
                  <a:pt x="26" y="300"/>
                </a:lnTo>
                <a:close/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5" name="Freeform 9"/>
          <p:cNvSpPr/>
          <p:nvPr/>
        </p:nvSpPr>
        <p:spPr>
          <a:xfrm>
            <a:off x="4052880" y="4570560"/>
            <a:ext cx="4060800" cy="1198440"/>
          </a:xfrm>
          <a:custGeom>
            <a:avLst/>
            <a:gdLst/>
            <a:ahLst/>
            <a:rect l="l" t="t" r="r" b="b"/>
            <a:pathLst>
              <a:path w="976" h="288">
                <a:moveTo>
                  <a:pt x="381" y="191"/>
                </a:moveTo>
                <a:cubicBezTo>
                  <a:pt x="394" y="191"/>
                  <a:pt x="404" y="196"/>
                  <a:pt x="408" y="206"/>
                </a:cubicBezTo>
                <a:cubicBezTo>
                  <a:pt x="412" y="215"/>
                  <a:pt x="410" y="226"/>
                  <a:pt x="402" y="234"/>
                </a:cubicBezTo>
                <a:cubicBezTo>
                  <a:pt x="393" y="245"/>
                  <a:pt x="391" y="258"/>
                  <a:pt x="395" y="269"/>
                </a:cubicBezTo>
                <a:cubicBezTo>
                  <a:pt x="400" y="280"/>
                  <a:pt x="412" y="287"/>
                  <a:pt x="427" y="288"/>
                </a:cubicBezTo>
                <a:cubicBezTo>
                  <a:pt x="442" y="287"/>
                  <a:pt x="453" y="280"/>
                  <a:pt x="458" y="269"/>
                </a:cubicBezTo>
                <a:cubicBezTo>
                  <a:pt x="463" y="258"/>
                  <a:pt x="460" y="245"/>
                  <a:pt x="451" y="234"/>
                </a:cubicBezTo>
                <a:cubicBezTo>
                  <a:pt x="444" y="226"/>
                  <a:pt x="441" y="215"/>
                  <a:pt x="445" y="206"/>
                </a:cubicBezTo>
                <a:cubicBezTo>
                  <a:pt x="450" y="196"/>
                  <a:pt x="460" y="191"/>
                  <a:pt x="473" y="191"/>
                </a:cubicBezTo>
                <a:cubicBezTo>
                  <a:pt x="947" y="191"/>
                  <a:pt x="947" y="191"/>
                  <a:pt x="947" y="191"/>
                </a:cubicBezTo>
                <a:cubicBezTo>
                  <a:pt x="966" y="141"/>
                  <a:pt x="976" y="88"/>
                  <a:pt x="976" y="34"/>
                </a:cubicBezTo>
                <a:cubicBezTo>
                  <a:pt x="976" y="23"/>
                  <a:pt x="976" y="11"/>
                  <a:pt x="975" y="0"/>
                </a:cubicBezTo>
                <a:cubicBezTo>
                  <a:pt x="715" y="0"/>
                  <a:pt x="715" y="0"/>
                  <a:pt x="715" y="0"/>
                </a:cubicBezTo>
                <a:cubicBezTo>
                  <a:pt x="706" y="0"/>
                  <a:pt x="700" y="3"/>
                  <a:pt x="697" y="9"/>
                </a:cubicBezTo>
                <a:cubicBezTo>
                  <a:pt x="695" y="14"/>
                  <a:pt x="696" y="21"/>
                  <a:pt x="701" y="27"/>
                </a:cubicBezTo>
                <a:cubicBezTo>
                  <a:pt x="713" y="40"/>
                  <a:pt x="716" y="57"/>
                  <a:pt x="710" y="72"/>
                </a:cubicBezTo>
                <a:cubicBezTo>
                  <a:pt x="703" y="87"/>
                  <a:pt x="689" y="96"/>
                  <a:pt x="670" y="97"/>
                </a:cubicBezTo>
                <a:cubicBezTo>
                  <a:pt x="669" y="97"/>
                  <a:pt x="669" y="97"/>
                  <a:pt x="669" y="97"/>
                </a:cubicBezTo>
                <a:cubicBezTo>
                  <a:pt x="669" y="97"/>
                  <a:pt x="669" y="97"/>
                  <a:pt x="669" y="97"/>
                </a:cubicBezTo>
                <a:cubicBezTo>
                  <a:pt x="650" y="96"/>
                  <a:pt x="635" y="87"/>
                  <a:pt x="629" y="72"/>
                </a:cubicBezTo>
                <a:cubicBezTo>
                  <a:pt x="623" y="57"/>
                  <a:pt x="626" y="40"/>
                  <a:pt x="637" y="27"/>
                </a:cubicBezTo>
                <a:cubicBezTo>
                  <a:pt x="642" y="21"/>
                  <a:pt x="644" y="14"/>
                  <a:pt x="642" y="9"/>
                </a:cubicBezTo>
                <a:cubicBezTo>
                  <a:pt x="639" y="3"/>
                  <a:pt x="633" y="0"/>
                  <a:pt x="624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1"/>
                  <a:pt x="0" y="23"/>
                  <a:pt x="0" y="34"/>
                </a:cubicBezTo>
                <a:cubicBezTo>
                  <a:pt x="0" y="89"/>
                  <a:pt x="10" y="141"/>
                  <a:pt x="29" y="191"/>
                </a:cubicBezTo>
                <a:lnTo>
                  <a:pt x="381" y="191"/>
                </a:lnTo>
                <a:close/>
              </a:path>
            </a:pathLst>
          </a:cu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6" name="Freeform 10"/>
          <p:cNvSpPr/>
          <p:nvPr/>
        </p:nvSpPr>
        <p:spPr>
          <a:xfrm>
            <a:off x="4189320" y="5407200"/>
            <a:ext cx="3787920" cy="960120"/>
          </a:xfrm>
          <a:custGeom>
            <a:avLst/>
            <a:gdLst/>
            <a:ahLst/>
            <a:rect l="l" t="t" r="r" b="b"/>
            <a:pathLst>
              <a:path w="910" h="231">
                <a:moveTo>
                  <a:pt x="440" y="0"/>
                </a:moveTo>
                <a:cubicBezTo>
                  <a:pt x="431" y="0"/>
                  <a:pt x="424" y="3"/>
                  <a:pt x="422" y="9"/>
                </a:cubicBezTo>
                <a:cubicBezTo>
                  <a:pt x="419" y="14"/>
                  <a:pt x="421" y="21"/>
                  <a:pt x="426" y="27"/>
                </a:cubicBezTo>
                <a:cubicBezTo>
                  <a:pt x="437" y="40"/>
                  <a:pt x="440" y="57"/>
                  <a:pt x="434" y="72"/>
                </a:cubicBezTo>
                <a:cubicBezTo>
                  <a:pt x="428" y="87"/>
                  <a:pt x="413" y="96"/>
                  <a:pt x="394" y="97"/>
                </a:cubicBezTo>
                <a:cubicBezTo>
                  <a:pt x="394" y="97"/>
                  <a:pt x="394" y="97"/>
                  <a:pt x="394" y="97"/>
                </a:cubicBezTo>
                <a:cubicBezTo>
                  <a:pt x="394" y="97"/>
                  <a:pt x="394" y="97"/>
                  <a:pt x="394" y="97"/>
                </a:cubicBezTo>
                <a:cubicBezTo>
                  <a:pt x="374" y="96"/>
                  <a:pt x="360" y="87"/>
                  <a:pt x="353" y="72"/>
                </a:cubicBezTo>
                <a:cubicBezTo>
                  <a:pt x="347" y="57"/>
                  <a:pt x="350" y="40"/>
                  <a:pt x="362" y="27"/>
                </a:cubicBezTo>
                <a:cubicBezTo>
                  <a:pt x="367" y="21"/>
                  <a:pt x="368" y="14"/>
                  <a:pt x="366" y="9"/>
                </a:cubicBezTo>
                <a:cubicBezTo>
                  <a:pt x="363" y="3"/>
                  <a:pt x="357" y="0"/>
                  <a:pt x="348" y="0"/>
                </a:cubicBezTo>
                <a:cubicBezTo>
                  <a:pt x="0" y="0"/>
                  <a:pt x="0" y="0"/>
                  <a:pt x="0" y="0"/>
                </a:cubicBezTo>
                <a:cubicBezTo>
                  <a:pt x="40" y="96"/>
                  <a:pt x="112" y="178"/>
                  <a:pt x="209" y="231"/>
                </a:cubicBezTo>
                <a:cubicBezTo>
                  <a:pt x="702" y="231"/>
                  <a:pt x="702" y="231"/>
                  <a:pt x="702" y="231"/>
                </a:cubicBezTo>
                <a:cubicBezTo>
                  <a:pt x="798" y="178"/>
                  <a:pt x="871" y="96"/>
                  <a:pt x="910" y="0"/>
                </a:cubicBezTo>
                <a:lnTo>
                  <a:pt x="440" y="0"/>
                </a:lnTo>
                <a:close/>
              </a:path>
            </a:pathLst>
          </a:custGeom>
          <a:solidFill>
            <a:srgbClr val="41b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7" name="TextBox 12"/>
          <p:cNvSpPr/>
          <p:nvPr/>
        </p:nvSpPr>
        <p:spPr>
          <a:xfrm>
            <a:off x="5575320" y="206064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oppins"/>
              </a:rPr>
              <a:t>20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8" name="TextBox 13"/>
          <p:cNvSpPr/>
          <p:nvPr/>
        </p:nvSpPr>
        <p:spPr>
          <a:xfrm>
            <a:off x="4872600" y="312732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oppins"/>
              </a:rPr>
              <a:t>20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9" name="TextBox 14"/>
          <p:cNvSpPr/>
          <p:nvPr/>
        </p:nvSpPr>
        <p:spPr>
          <a:xfrm>
            <a:off x="6277680" y="387504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oppins"/>
              </a:rPr>
              <a:t>20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0" name="TextBox 15"/>
          <p:cNvSpPr/>
          <p:nvPr/>
        </p:nvSpPr>
        <p:spPr>
          <a:xfrm>
            <a:off x="4989960" y="471024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oppins"/>
              </a:rPr>
              <a:t>20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1" name="TextBox 16"/>
          <p:cNvSpPr/>
          <p:nvPr/>
        </p:nvSpPr>
        <p:spPr>
          <a:xfrm>
            <a:off x="6325920" y="564984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oppins"/>
              </a:rPr>
              <a:t>20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cxnSp>
        <p:nvCxnSpPr>
          <p:cNvPr id="652" name="Straight Arrow Connector 17"/>
          <p:cNvCxnSpPr/>
          <p:nvPr/>
        </p:nvCxnSpPr>
        <p:spPr>
          <a:xfrm flipH="1">
            <a:off x="4708080" y="2060280"/>
            <a:ext cx="923040" cy="1080"/>
          </a:xfrm>
          <a:prstGeom prst="straightConnector1">
            <a:avLst/>
          </a:prstGeom>
          <a:ln w="12600">
            <a:solidFill>
              <a:srgbClr val="2980b9"/>
            </a:solidFill>
            <a:miter/>
            <a:tailEnd len="med" type="oval" w="med"/>
          </a:ln>
        </p:spPr>
      </p:cxnSp>
      <p:cxnSp>
        <p:nvCxnSpPr>
          <p:cNvPr id="653" name="Straight Arrow Connector 18"/>
          <p:cNvCxnSpPr/>
          <p:nvPr/>
        </p:nvCxnSpPr>
        <p:spPr>
          <a:xfrm flipH="1">
            <a:off x="3603240" y="4080960"/>
            <a:ext cx="1003680" cy="1080"/>
          </a:xfrm>
          <a:prstGeom prst="straightConnector1">
            <a:avLst/>
          </a:prstGeom>
          <a:ln w="12600">
            <a:solidFill>
              <a:srgbClr val="f39c12"/>
            </a:solidFill>
            <a:miter/>
            <a:tailEnd len="med" type="oval" w="med"/>
          </a:ln>
        </p:spPr>
      </p:cxnSp>
      <p:cxnSp>
        <p:nvCxnSpPr>
          <p:cNvPr id="654" name="Straight Arrow Connector 19"/>
          <p:cNvCxnSpPr/>
          <p:nvPr/>
        </p:nvCxnSpPr>
        <p:spPr>
          <a:xfrm>
            <a:off x="7230600" y="3249360"/>
            <a:ext cx="747000" cy="1080"/>
          </a:xfrm>
          <a:prstGeom prst="straightConnector1">
            <a:avLst/>
          </a:prstGeom>
          <a:ln w="12600">
            <a:solidFill>
              <a:srgbClr val="9bbb59"/>
            </a:solidFill>
            <a:miter/>
            <a:tailEnd len="med" type="oval" w="med"/>
          </a:ln>
        </p:spPr>
      </p:cxnSp>
      <p:cxnSp>
        <p:nvCxnSpPr>
          <p:cNvPr id="655" name="Straight Arrow Connector 20"/>
          <p:cNvCxnSpPr/>
          <p:nvPr/>
        </p:nvCxnSpPr>
        <p:spPr>
          <a:xfrm>
            <a:off x="7922880" y="4944600"/>
            <a:ext cx="818280" cy="1080"/>
          </a:xfrm>
          <a:prstGeom prst="straightConnector1">
            <a:avLst/>
          </a:prstGeom>
          <a:ln w="12600">
            <a:solidFill>
              <a:srgbClr val="c0392b"/>
            </a:solidFill>
            <a:miter/>
            <a:tailEnd len="med" type="oval" w="med"/>
          </a:ln>
        </p:spPr>
      </p:cxnSp>
      <p:cxnSp>
        <p:nvCxnSpPr>
          <p:cNvPr id="656" name="Straight Arrow Connector 21"/>
          <p:cNvCxnSpPr/>
          <p:nvPr/>
        </p:nvCxnSpPr>
        <p:spPr>
          <a:xfrm flipH="1">
            <a:off x="3604320" y="5649480"/>
            <a:ext cx="1002600" cy="1080"/>
          </a:xfrm>
          <a:prstGeom prst="straightConnector1">
            <a:avLst/>
          </a:prstGeom>
          <a:ln w="12600">
            <a:solidFill>
              <a:srgbClr val="41b176"/>
            </a:solidFill>
            <a:miter/>
            <a:tailEnd len="med" type="oval" w="med"/>
          </a:ln>
        </p:spPr>
      </p:cxnSp>
      <p:sp>
        <p:nvSpPr>
          <p:cNvPr id="657" name="TextBox 22"/>
          <p:cNvSpPr/>
          <p:nvPr/>
        </p:nvSpPr>
        <p:spPr>
          <a:xfrm>
            <a:off x="8702640" y="299232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8" name="Rectangle 23"/>
          <p:cNvSpPr/>
          <p:nvPr/>
        </p:nvSpPr>
        <p:spPr>
          <a:xfrm>
            <a:off x="8729640" y="3213000"/>
            <a:ext cx="2259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9" name="TextBox 24"/>
          <p:cNvSpPr/>
          <p:nvPr/>
        </p:nvSpPr>
        <p:spPr>
          <a:xfrm>
            <a:off x="2863080" y="180036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0" name="Rectangle 25"/>
          <p:cNvSpPr/>
          <p:nvPr/>
        </p:nvSpPr>
        <p:spPr>
          <a:xfrm>
            <a:off x="1604880" y="1998720"/>
            <a:ext cx="2448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1" name="TextBox 26"/>
          <p:cNvSpPr/>
          <p:nvPr/>
        </p:nvSpPr>
        <p:spPr>
          <a:xfrm>
            <a:off x="1824840" y="541512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2" name="Rectangle 27"/>
          <p:cNvSpPr/>
          <p:nvPr/>
        </p:nvSpPr>
        <p:spPr>
          <a:xfrm>
            <a:off x="568440" y="5613480"/>
            <a:ext cx="2446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3" name="TextBox 28"/>
          <p:cNvSpPr/>
          <p:nvPr/>
        </p:nvSpPr>
        <p:spPr>
          <a:xfrm>
            <a:off x="9236160" y="470700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4" name="Rectangle 29"/>
          <p:cNvSpPr/>
          <p:nvPr/>
        </p:nvSpPr>
        <p:spPr>
          <a:xfrm>
            <a:off x="9263160" y="4925880"/>
            <a:ext cx="217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5" name="TextBox 30"/>
          <p:cNvSpPr/>
          <p:nvPr/>
        </p:nvSpPr>
        <p:spPr>
          <a:xfrm>
            <a:off x="1799640" y="383076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6" name="Rectangle 31"/>
          <p:cNvSpPr/>
          <p:nvPr/>
        </p:nvSpPr>
        <p:spPr>
          <a:xfrm>
            <a:off x="541440" y="4030560"/>
            <a:ext cx="2448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7" name="Freeform 38"/>
          <p:cNvSpPr/>
          <p:nvPr/>
        </p:nvSpPr>
        <p:spPr>
          <a:xfrm>
            <a:off x="4162320" y="1820880"/>
            <a:ext cx="357120" cy="592200"/>
          </a:xfrm>
          <a:custGeom>
            <a:avLst/>
            <a:gdLst/>
            <a:ahLst/>
            <a:rect l="l" t="t" r="r" b="b"/>
            <a:pathLst>
              <a:path w="125" h="206">
                <a:moveTo>
                  <a:pt x="125" y="143"/>
                </a:moveTo>
                <a:cubicBezTo>
                  <a:pt x="125" y="178"/>
                  <a:pt x="96" y="206"/>
                  <a:pt x="62" y="206"/>
                </a:cubicBezTo>
                <a:cubicBezTo>
                  <a:pt x="28" y="206"/>
                  <a:pt x="0" y="178"/>
                  <a:pt x="0" y="143"/>
                </a:cubicBezTo>
                <a:cubicBezTo>
                  <a:pt x="0" y="121"/>
                  <a:pt x="11" y="101"/>
                  <a:pt x="29" y="90"/>
                </a:cubicBezTo>
                <a:cubicBezTo>
                  <a:pt x="30" y="90"/>
                  <a:pt x="30" y="89"/>
                  <a:pt x="31" y="89"/>
                </a:cubicBezTo>
                <a:cubicBezTo>
                  <a:pt x="32" y="89"/>
                  <a:pt x="34" y="87"/>
                  <a:pt x="34" y="87"/>
                </a:cubicBezTo>
                <a:cubicBezTo>
                  <a:pt x="34" y="32"/>
                  <a:pt x="34" y="32"/>
                  <a:pt x="34" y="32"/>
                </a:cubicBezTo>
                <a:cubicBezTo>
                  <a:pt x="31" y="32"/>
                  <a:pt x="31" y="32"/>
                  <a:pt x="31" y="32"/>
                </a:cubicBezTo>
                <a:cubicBezTo>
                  <a:pt x="28" y="32"/>
                  <a:pt x="26" y="30"/>
                  <a:pt x="26" y="27"/>
                </a:cubicBezTo>
                <a:cubicBezTo>
                  <a:pt x="26" y="24"/>
                  <a:pt x="28" y="21"/>
                  <a:pt x="31" y="21"/>
                </a:cubicBezTo>
                <a:cubicBezTo>
                  <a:pt x="45" y="21"/>
                  <a:pt x="45" y="21"/>
                  <a:pt x="45" y="21"/>
                </a:cubicBezTo>
                <a:cubicBezTo>
                  <a:pt x="45" y="87"/>
                  <a:pt x="45" y="87"/>
                  <a:pt x="45" y="87"/>
                </a:cubicBezTo>
                <a:cubicBezTo>
                  <a:pt x="45" y="94"/>
                  <a:pt x="39" y="97"/>
                  <a:pt x="36" y="98"/>
                </a:cubicBezTo>
                <a:cubicBezTo>
                  <a:pt x="36" y="99"/>
                  <a:pt x="35" y="99"/>
                  <a:pt x="35" y="99"/>
                </a:cubicBezTo>
                <a:cubicBezTo>
                  <a:pt x="19" y="109"/>
                  <a:pt x="10" y="125"/>
                  <a:pt x="10" y="143"/>
                </a:cubicBezTo>
                <a:cubicBezTo>
                  <a:pt x="10" y="172"/>
                  <a:pt x="33" y="195"/>
                  <a:pt x="62" y="195"/>
                </a:cubicBezTo>
                <a:cubicBezTo>
                  <a:pt x="91" y="195"/>
                  <a:pt x="114" y="172"/>
                  <a:pt x="114" y="143"/>
                </a:cubicBezTo>
                <a:cubicBezTo>
                  <a:pt x="114" y="125"/>
                  <a:pt x="105" y="109"/>
                  <a:pt x="90" y="99"/>
                </a:cubicBezTo>
                <a:cubicBezTo>
                  <a:pt x="89" y="99"/>
                  <a:pt x="89" y="99"/>
                  <a:pt x="88" y="99"/>
                </a:cubicBezTo>
                <a:cubicBezTo>
                  <a:pt x="85" y="97"/>
                  <a:pt x="79" y="93"/>
                  <a:pt x="79" y="87"/>
                </a:cubicBezTo>
                <a:cubicBezTo>
                  <a:pt x="79" y="21"/>
                  <a:pt x="79" y="21"/>
                  <a:pt x="79" y="21"/>
                </a:cubicBezTo>
                <a:cubicBezTo>
                  <a:pt x="93" y="21"/>
                  <a:pt x="93" y="21"/>
                  <a:pt x="93" y="21"/>
                </a:cubicBezTo>
                <a:cubicBezTo>
                  <a:pt x="96" y="21"/>
                  <a:pt x="98" y="24"/>
                  <a:pt x="98" y="27"/>
                </a:cubicBezTo>
                <a:cubicBezTo>
                  <a:pt x="98" y="30"/>
                  <a:pt x="96" y="32"/>
                  <a:pt x="93" y="32"/>
                </a:cubicBezTo>
                <a:cubicBezTo>
                  <a:pt x="90" y="32"/>
                  <a:pt x="90" y="32"/>
                  <a:pt x="90" y="32"/>
                </a:cubicBezTo>
                <a:cubicBezTo>
                  <a:pt x="90" y="87"/>
                  <a:pt x="90" y="87"/>
                  <a:pt x="90" y="87"/>
                </a:cubicBezTo>
                <a:cubicBezTo>
                  <a:pt x="91" y="88"/>
                  <a:pt x="93" y="89"/>
                  <a:pt x="94" y="89"/>
                </a:cubicBezTo>
                <a:cubicBezTo>
                  <a:pt x="94" y="90"/>
                  <a:pt x="95" y="90"/>
                  <a:pt x="95" y="90"/>
                </a:cubicBezTo>
                <a:cubicBezTo>
                  <a:pt x="114" y="102"/>
                  <a:pt x="125" y="122"/>
                  <a:pt x="125" y="143"/>
                </a:cubicBezTo>
                <a:close/>
                <a:moveTo>
                  <a:pt x="54" y="121"/>
                </a:moveTo>
                <a:cubicBezTo>
                  <a:pt x="54" y="116"/>
                  <a:pt x="58" y="112"/>
                  <a:pt x="63" y="112"/>
                </a:cubicBezTo>
                <a:cubicBezTo>
                  <a:pt x="68" y="112"/>
                  <a:pt x="72" y="116"/>
                  <a:pt x="72" y="121"/>
                </a:cubicBezTo>
                <a:cubicBezTo>
                  <a:pt x="72" y="126"/>
                  <a:pt x="68" y="130"/>
                  <a:pt x="63" y="130"/>
                </a:cubicBezTo>
                <a:cubicBezTo>
                  <a:pt x="58" y="130"/>
                  <a:pt x="54" y="126"/>
                  <a:pt x="54" y="121"/>
                </a:cubicBezTo>
                <a:close/>
                <a:moveTo>
                  <a:pt x="57" y="121"/>
                </a:moveTo>
                <a:cubicBezTo>
                  <a:pt x="57" y="124"/>
                  <a:pt x="60" y="127"/>
                  <a:pt x="63" y="127"/>
                </a:cubicBezTo>
                <a:cubicBezTo>
                  <a:pt x="66" y="127"/>
                  <a:pt x="69" y="124"/>
                  <a:pt x="69" y="121"/>
                </a:cubicBezTo>
                <a:cubicBezTo>
                  <a:pt x="69" y="118"/>
                  <a:pt x="66" y="115"/>
                  <a:pt x="63" y="115"/>
                </a:cubicBezTo>
                <a:cubicBezTo>
                  <a:pt x="60" y="115"/>
                  <a:pt x="57" y="118"/>
                  <a:pt x="57" y="121"/>
                </a:cubicBezTo>
                <a:close/>
                <a:moveTo>
                  <a:pt x="78" y="126"/>
                </a:moveTo>
                <a:cubicBezTo>
                  <a:pt x="83" y="126"/>
                  <a:pt x="87" y="129"/>
                  <a:pt x="88" y="134"/>
                </a:cubicBezTo>
                <a:cubicBezTo>
                  <a:pt x="106" y="134"/>
                  <a:pt x="106" y="134"/>
                  <a:pt x="106" y="134"/>
                </a:cubicBezTo>
                <a:cubicBezTo>
                  <a:pt x="107" y="137"/>
                  <a:pt x="107" y="140"/>
                  <a:pt x="107" y="144"/>
                </a:cubicBezTo>
                <a:cubicBezTo>
                  <a:pt x="107" y="169"/>
                  <a:pt x="87" y="189"/>
                  <a:pt x="62" y="189"/>
                </a:cubicBezTo>
                <a:cubicBezTo>
                  <a:pt x="37" y="189"/>
                  <a:pt x="17" y="169"/>
                  <a:pt x="17" y="144"/>
                </a:cubicBezTo>
                <a:cubicBezTo>
                  <a:pt x="17" y="140"/>
                  <a:pt x="17" y="137"/>
                  <a:pt x="18" y="134"/>
                </a:cubicBezTo>
                <a:cubicBezTo>
                  <a:pt x="29" y="134"/>
                  <a:pt x="29" y="134"/>
                  <a:pt x="29" y="134"/>
                </a:cubicBezTo>
                <a:cubicBezTo>
                  <a:pt x="30" y="128"/>
                  <a:pt x="35" y="123"/>
                  <a:pt x="41" y="123"/>
                </a:cubicBezTo>
                <a:cubicBezTo>
                  <a:pt x="47" y="123"/>
                  <a:pt x="52" y="128"/>
                  <a:pt x="53" y="134"/>
                </a:cubicBezTo>
                <a:cubicBezTo>
                  <a:pt x="68" y="134"/>
                  <a:pt x="68" y="134"/>
                  <a:pt x="68" y="134"/>
                </a:cubicBezTo>
                <a:cubicBezTo>
                  <a:pt x="69" y="129"/>
                  <a:pt x="73" y="126"/>
                  <a:pt x="78" y="126"/>
                </a:cubicBezTo>
                <a:close/>
                <a:moveTo>
                  <a:pt x="50" y="135"/>
                </a:moveTo>
                <a:cubicBezTo>
                  <a:pt x="50" y="130"/>
                  <a:pt x="46" y="127"/>
                  <a:pt x="41" y="127"/>
                </a:cubicBezTo>
                <a:cubicBezTo>
                  <a:pt x="36" y="127"/>
                  <a:pt x="32" y="130"/>
                  <a:pt x="32" y="135"/>
                </a:cubicBezTo>
                <a:cubicBezTo>
                  <a:pt x="32" y="140"/>
                  <a:pt x="36" y="144"/>
                  <a:pt x="41" y="144"/>
                </a:cubicBezTo>
                <a:cubicBezTo>
                  <a:pt x="46" y="144"/>
                  <a:pt x="50" y="140"/>
                  <a:pt x="50" y="135"/>
                </a:cubicBezTo>
                <a:close/>
                <a:moveTo>
                  <a:pt x="71" y="136"/>
                </a:moveTo>
                <a:cubicBezTo>
                  <a:pt x="71" y="140"/>
                  <a:pt x="74" y="143"/>
                  <a:pt x="78" y="143"/>
                </a:cubicBezTo>
                <a:cubicBezTo>
                  <a:pt x="82" y="143"/>
                  <a:pt x="85" y="140"/>
                  <a:pt x="85" y="136"/>
                </a:cubicBezTo>
                <a:cubicBezTo>
                  <a:pt x="85" y="136"/>
                  <a:pt x="85" y="135"/>
                  <a:pt x="84" y="135"/>
                </a:cubicBezTo>
                <a:cubicBezTo>
                  <a:pt x="84" y="134"/>
                  <a:pt x="84" y="134"/>
                  <a:pt x="84" y="134"/>
                </a:cubicBezTo>
                <a:cubicBezTo>
                  <a:pt x="83" y="131"/>
                  <a:pt x="81" y="129"/>
                  <a:pt x="78" y="129"/>
                </a:cubicBezTo>
                <a:cubicBezTo>
                  <a:pt x="75" y="129"/>
                  <a:pt x="73" y="131"/>
                  <a:pt x="72" y="134"/>
                </a:cubicBezTo>
                <a:cubicBezTo>
                  <a:pt x="72" y="134"/>
                  <a:pt x="72" y="134"/>
                  <a:pt x="71" y="135"/>
                </a:cubicBezTo>
                <a:cubicBezTo>
                  <a:pt x="71" y="135"/>
                  <a:pt x="71" y="136"/>
                  <a:pt x="71" y="136"/>
                </a:cubicBezTo>
                <a:close/>
                <a:moveTo>
                  <a:pt x="63" y="99"/>
                </a:moveTo>
                <a:cubicBezTo>
                  <a:pt x="63" y="94"/>
                  <a:pt x="66" y="90"/>
                  <a:pt x="71" y="90"/>
                </a:cubicBezTo>
                <a:cubicBezTo>
                  <a:pt x="76" y="90"/>
                  <a:pt x="80" y="94"/>
                  <a:pt x="80" y="99"/>
                </a:cubicBezTo>
                <a:cubicBezTo>
                  <a:pt x="80" y="104"/>
                  <a:pt x="76" y="108"/>
                  <a:pt x="71" y="108"/>
                </a:cubicBezTo>
                <a:cubicBezTo>
                  <a:pt x="66" y="108"/>
                  <a:pt x="63" y="104"/>
                  <a:pt x="63" y="99"/>
                </a:cubicBezTo>
                <a:close/>
                <a:moveTo>
                  <a:pt x="66" y="99"/>
                </a:moveTo>
                <a:cubicBezTo>
                  <a:pt x="66" y="102"/>
                  <a:pt x="68" y="104"/>
                  <a:pt x="71" y="104"/>
                </a:cubicBezTo>
                <a:cubicBezTo>
                  <a:pt x="74" y="104"/>
                  <a:pt x="76" y="102"/>
                  <a:pt x="76" y="99"/>
                </a:cubicBezTo>
                <a:cubicBezTo>
                  <a:pt x="76" y="96"/>
                  <a:pt x="74" y="94"/>
                  <a:pt x="71" y="94"/>
                </a:cubicBezTo>
                <a:cubicBezTo>
                  <a:pt x="68" y="94"/>
                  <a:pt x="66" y="96"/>
                  <a:pt x="66" y="99"/>
                </a:cubicBezTo>
                <a:close/>
                <a:moveTo>
                  <a:pt x="59" y="16"/>
                </a:moveTo>
                <a:cubicBezTo>
                  <a:pt x="59" y="11"/>
                  <a:pt x="63" y="7"/>
                  <a:pt x="67" y="7"/>
                </a:cubicBezTo>
                <a:cubicBezTo>
                  <a:pt x="72" y="7"/>
                  <a:pt x="76" y="11"/>
                  <a:pt x="76" y="16"/>
                </a:cubicBezTo>
                <a:cubicBezTo>
                  <a:pt x="76" y="21"/>
                  <a:pt x="72" y="24"/>
                  <a:pt x="67" y="24"/>
                </a:cubicBezTo>
                <a:cubicBezTo>
                  <a:pt x="63" y="24"/>
                  <a:pt x="59" y="21"/>
                  <a:pt x="59" y="16"/>
                </a:cubicBezTo>
                <a:close/>
                <a:moveTo>
                  <a:pt x="62" y="16"/>
                </a:moveTo>
                <a:cubicBezTo>
                  <a:pt x="62" y="19"/>
                  <a:pt x="65" y="21"/>
                  <a:pt x="67" y="21"/>
                </a:cubicBezTo>
                <a:cubicBezTo>
                  <a:pt x="70" y="21"/>
                  <a:pt x="72" y="19"/>
                  <a:pt x="72" y="16"/>
                </a:cubicBezTo>
                <a:cubicBezTo>
                  <a:pt x="72" y="13"/>
                  <a:pt x="70" y="11"/>
                  <a:pt x="67" y="11"/>
                </a:cubicBezTo>
                <a:cubicBezTo>
                  <a:pt x="65" y="11"/>
                  <a:pt x="62" y="13"/>
                  <a:pt x="62" y="16"/>
                </a:cubicBezTo>
                <a:close/>
                <a:moveTo>
                  <a:pt x="48" y="105"/>
                </a:moveTo>
                <a:cubicBezTo>
                  <a:pt x="52" y="105"/>
                  <a:pt x="55" y="108"/>
                  <a:pt x="55" y="112"/>
                </a:cubicBezTo>
                <a:cubicBezTo>
                  <a:pt x="55" y="116"/>
                  <a:pt x="52" y="119"/>
                  <a:pt x="48" y="119"/>
                </a:cubicBezTo>
                <a:cubicBezTo>
                  <a:pt x="45" y="119"/>
                  <a:pt x="42" y="116"/>
                  <a:pt x="42" y="112"/>
                </a:cubicBezTo>
                <a:cubicBezTo>
                  <a:pt x="42" y="108"/>
                  <a:pt x="45" y="105"/>
                  <a:pt x="48" y="105"/>
                </a:cubicBezTo>
                <a:close/>
                <a:moveTo>
                  <a:pt x="45" y="112"/>
                </a:moveTo>
                <a:cubicBezTo>
                  <a:pt x="45" y="114"/>
                  <a:pt x="47" y="115"/>
                  <a:pt x="48" y="115"/>
                </a:cubicBezTo>
                <a:cubicBezTo>
                  <a:pt x="50" y="115"/>
                  <a:pt x="52" y="114"/>
                  <a:pt x="52" y="112"/>
                </a:cubicBezTo>
                <a:cubicBezTo>
                  <a:pt x="52" y="110"/>
                  <a:pt x="50" y="109"/>
                  <a:pt x="48" y="109"/>
                </a:cubicBezTo>
                <a:cubicBezTo>
                  <a:pt x="47" y="109"/>
                  <a:pt x="45" y="110"/>
                  <a:pt x="45" y="112"/>
                </a:cubicBezTo>
                <a:close/>
                <a:moveTo>
                  <a:pt x="48" y="0"/>
                </a:moveTo>
                <a:cubicBezTo>
                  <a:pt x="52" y="0"/>
                  <a:pt x="55" y="4"/>
                  <a:pt x="55" y="7"/>
                </a:cubicBezTo>
                <a:cubicBezTo>
                  <a:pt x="55" y="11"/>
                  <a:pt x="52" y="14"/>
                  <a:pt x="48" y="14"/>
                </a:cubicBezTo>
                <a:cubicBezTo>
                  <a:pt x="45" y="14"/>
                  <a:pt x="42" y="11"/>
                  <a:pt x="42" y="7"/>
                </a:cubicBezTo>
                <a:cubicBezTo>
                  <a:pt x="42" y="4"/>
                  <a:pt x="45" y="0"/>
                  <a:pt x="48" y="0"/>
                </a:cubicBezTo>
                <a:close/>
                <a:moveTo>
                  <a:pt x="45" y="7"/>
                </a:moveTo>
                <a:cubicBezTo>
                  <a:pt x="45" y="9"/>
                  <a:pt x="47" y="11"/>
                  <a:pt x="48" y="11"/>
                </a:cubicBezTo>
                <a:cubicBezTo>
                  <a:pt x="50" y="11"/>
                  <a:pt x="52" y="9"/>
                  <a:pt x="52" y="7"/>
                </a:cubicBezTo>
                <a:cubicBezTo>
                  <a:pt x="52" y="5"/>
                  <a:pt x="50" y="4"/>
                  <a:pt x="48" y="4"/>
                </a:cubicBezTo>
                <a:cubicBezTo>
                  <a:pt x="47" y="4"/>
                  <a:pt x="45" y="5"/>
                  <a:pt x="45" y="7"/>
                </a:cubicBezTo>
                <a:close/>
                <a:moveTo>
                  <a:pt x="59" y="29"/>
                </a:moveTo>
                <a:cubicBezTo>
                  <a:pt x="63" y="29"/>
                  <a:pt x="66" y="32"/>
                  <a:pt x="66" y="35"/>
                </a:cubicBezTo>
                <a:cubicBezTo>
                  <a:pt x="66" y="39"/>
                  <a:pt x="63" y="42"/>
                  <a:pt x="59" y="42"/>
                </a:cubicBezTo>
                <a:cubicBezTo>
                  <a:pt x="55" y="42"/>
                  <a:pt x="52" y="39"/>
                  <a:pt x="52" y="35"/>
                </a:cubicBezTo>
                <a:cubicBezTo>
                  <a:pt x="52" y="32"/>
                  <a:pt x="55" y="29"/>
                  <a:pt x="59" y="29"/>
                </a:cubicBezTo>
                <a:close/>
                <a:moveTo>
                  <a:pt x="56" y="35"/>
                </a:moveTo>
                <a:cubicBezTo>
                  <a:pt x="56" y="37"/>
                  <a:pt x="57" y="39"/>
                  <a:pt x="59" y="39"/>
                </a:cubicBezTo>
                <a:cubicBezTo>
                  <a:pt x="61" y="39"/>
                  <a:pt x="62" y="37"/>
                  <a:pt x="62" y="35"/>
                </a:cubicBezTo>
                <a:cubicBezTo>
                  <a:pt x="62" y="34"/>
                  <a:pt x="61" y="32"/>
                  <a:pt x="59" y="32"/>
                </a:cubicBezTo>
                <a:cubicBezTo>
                  <a:pt x="57" y="32"/>
                  <a:pt x="56" y="34"/>
                  <a:pt x="56" y="35"/>
                </a:cubicBezTo>
                <a:close/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8" name="Freeform 42"/>
          <p:cNvSpPr/>
          <p:nvPr/>
        </p:nvSpPr>
        <p:spPr>
          <a:xfrm>
            <a:off x="3065400" y="5452920"/>
            <a:ext cx="457200" cy="540000"/>
          </a:xfrm>
          <a:custGeom>
            <a:avLst/>
            <a:gdLst/>
            <a:ahLst/>
            <a:rect l="l" t="t" r="r" b="b"/>
            <a:pathLst>
              <a:path w="159" h="188">
                <a:moveTo>
                  <a:pt x="28" y="130"/>
                </a:moveTo>
                <a:cubicBezTo>
                  <a:pt x="28" y="134"/>
                  <a:pt x="25" y="137"/>
                  <a:pt x="21" y="137"/>
                </a:cubicBezTo>
                <a:cubicBezTo>
                  <a:pt x="17" y="137"/>
                  <a:pt x="14" y="134"/>
                  <a:pt x="14" y="130"/>
                </a:cubicBezTo>
                <a:cubicBezTo>
                  <a:pt x="14" y="126"/>
                  <a:pt x="17" y="123"/>
                  <a:pt x="21" y="123"/>
                </a:cubicBezTo>
                <a:cubicBezTo>
                  <a:pt x="25" y="123"/>
                  <a:pt x="28" y="126"/>
                  <a:pt x="28" y="130"/>
                </a:cubicBezTo>
                <a:close/>
                <a:moveTo>
                  <a:pt x="159" y="161"/>
                </a:moveTo>
                <a:cubicBezTo>
                  <a:pt x="159" y="177"/>
                  <a:pt x="159" y="177"/>
                  <a:pt x="159" y="177"/>
                </a:cubicBezTo>
                <a:cubicBezTo>
                  <a:pt x="159" y="183"/>
                  <a:pt x="154" y="188"/>
                  <a:pt x="148" y="188"/>
                </a:cubicBezTo>
                <a:cubicBezTo>
                  <a:pt x="29" y="188"/>
                  <a:pt x="29" y="188"/>
                  <a:pt x="29" y="188"/>
                </a:cubicBezTo>
                <a:cubicBezTo>
                  <a:pt x="23" y="188"/>
                  <a:pt x="18" y="183"/>
                  <a:pt x="18" y="177"/>
                </a:cubicBezTo>
                <a:cubicBezTo>
                  <a:pt x="18" y="172"/>
                  <a:pt x="18" y="172"/>
                  <a:pt x="18" y="172"/>
                </a:cubicBezTo>
                <a:cubicBezTo>
                  <a:pt x="15" y="172"/>
                  <a:pt x="15" y="172"/>
                  <a:pt x="15" y="172"/>
                </a:cubicBezTo>
                <a:cubicBezTo>
                  <a:pt x="15" y="150"/>
                  <a:pt x="15" y="150"/>
                  <a:pt x="15" y="150"/>
                </a:cubicBezTo>
                <a:cubicBezTo>
                  <a:pt x="7" y="147"/>
                  <a:pt x="0" y="139"/>
                  <a:pt x="0" y="130"/>
                </a:cubicBezTo>
                <a:cubicBezTo>
                  <a:pt x="0" y="119"/>
                  <a:pt x="10" y="109"/>
                  <a:pt x="21" y="109"/>
                </a:cubicBezTo>
                <a:cubicBezTo>
                  <a:pt x="33" y="109"/>
                  <a:pt x="42" y="119"/>
                  <a:pt x="42" y="130"/>
                </a:cubicBezTo>
                <a:cubicBezTo>
                  <a:pt x="42" y="139"/>
                  <a:pt x="36" y="147"/>
                  <a:pt x="27" y="150"/>
                </a:cubicBezTo>
                <a:cubicBezTo>
                  <a:pt x="27" y="172"/>
                  <a:pt x="27" y="172"/>
                  <a:pt x="27" y="172"/>
                </a:cubicBezTo>
                <a:cubicBezTo>
                  <a:pt x="24" y="172"/>
                  <a:pt x="24" y="172"/>
                  <a:pt x="24" y="172"/>
                </a:cubicBezTo>
                <a:cubicBezTo>
                  <a:pt x="24" y="177"/>
                  <a:pt x="24" y="177"/>
                  <a:pt x="24" y="177"/>
                </a:cubicBezTo>
                <a:cubicBezTo>
                  <a:pt x="24" y="180"/>
                  <a:pt x="26" y="182"/>
                  <a:pt x="29" y="182"/>
                </a:cubicBezTo>
                <a:cubicBezTo>
                  <a:pt x="148" y="182"/>
                  <a:pt x="148" y="182"/>
                  <a:pt x="148" y="182"/>
                </a:cubicBezTo>
                <a:cubicBezTo>
                  <a:pt x="151" y="182"/>
                  <a:pt x="153" y="180"/>
                  <a:pt x="153" y="177"/>
                </a:cubicBezTo>
                <a:cubicBezTo>
                  <a:pt x="153" y="161"/>
                  <a:pt x="153" y="161"/>
                  <a:pt x="153" y="161"/>
                </a:cubicBezTo>
                <a:cubicBezTo>
                  <a:pt x="153" y="158"/>
                  <a:pt x="151" y="156"/>
                  <a:pt x="148" y="156"/>
                </a:cubicBezTo>
                <a:cubicBezTo>
                  <a:pt x="97" y="156"/>
                  <a:pt x="97" y="156"/>
                  <a:pt x="97" y="156"/>
                </a:cubicBezTo>
                <a:cubicBezTo>
                  <a:pt x="91" y="156"/>
                  <a:pt x="86" y="151"/>
                  <a:pt x="86" y="145"/>
                </a:cubicBezTo>
                <a:cubicBezTo>
                  <a:pt x="86" y="143"/>
                  <a:pt x="86" y="143"/>
                  <a:pt x="86" y="143"/>
                </a:cubicBezTo>
                <a:cubicBezTo>
                  <a:pt x="84" y="142"/>
                  <a:pt x="83" y="140"/>
                  <a:pt x="83" y="138"/>
                </a:cubicBezTo>
                <a:cubicBezTo>
                  <a:pt x="83" y="130"/>
                  <a:pt x="83" y="130"/>
                  <a:pt x="83" y="130"/>
                </a:cubicBezTo>
                <a:cubicBezTo>
                  <a:pt x="76" y="130"/>
                  <a:pt x="76" y="130"/>
                  <a:pt x="76" y="130"/>
                </a:cubicBezTo>
                <a:cubicBezTo>
                  <a:pt x="71" y="130"/>
                  <a:pt x="65" y="128"/>
                  <a:pt x="59" y="123"/>
                </a:cubicBezTo>
                <a:cubicBezTo>
                  <a:pt x="58" y="121"/>
                  <a:pt x="57" y="120"/>
                  <a:pt x="57" y="118"/>
                </a:cubicBezTo>
                <a:cubicBezTo>
                  <a:pt x="37" y="98"/>
                  <a:pt x="21" y="56"/>
                  <a:pt x="21" y="46"/>
                </a:cubicBezTo>
                <a:cubicBezTo>
                  <a:pt x="21" y="31"/>
                  <a:pt x="37" y="21"/>
                  <a:pt x="41" y="18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0"/>
                  <a:pt x="43" y="7"/>
                  <a:pt x="46" y="7"/>
                </a:cubicBezTo>
                <a:cubicBezTo>
                  <a:pt x="46" y="7"/>
                  <a:pt x="46" y="7"/>
                  <a:pt x="46" y="7"/>
                </a:cubicBezTo>
                <a:cubicBezTo>
                  <a:pt x="46" y="3"/>
                  <a:pt x="49" y="0"/>
                  <a:pt x="53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7" y="0"/>
                  <a:pt x="61" y="3"/>
                  <a:pt x="61" y="7"/>
                </a:cubicBezTo>
                <a:cubicBezTo>
                  <a:pt x="61" y="29"/>
                  <a:pt x="61" y="29"/>
                  <a:pt x="61" y="29"/>
                </a:cubicBezTo>
                <a:cubicBezTo>
                  <a:pt x="61" y="33"/>
                  <a:pt x="57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49" y="36"/>
                  <a:pt x="46" y="33"/>
                  <a:pt x="46" y="29"/>
                </a:cubicBezTo>
                <a:cubicBezTo>
                  <a:pt x="46" y="29"/>
                  <a:pt x="46" y="29"/>
                  <a:pt x="46" y="29"/>
                </a:cubicBezTo>
                <a:cubicBezTo>
                  <a:pt x="44" y="29"/>
                  <a:pt x="43" y="28"/>
                  <a:pt x="42" y="26"/>
                </a:cubicBezTo>
                <a:cubicBezTo>
                  <a:pt x="37" y="30"/>
                  <a:pt x="28" y="38"/>
                  <a:pt x="28" y="46"/>
                </a:cubicBezTo>
                <a:cubicBezTo>
                  <a:pt x="28" y="56"/>
                  <a:pt x="45" y="96"/>
                  <a:pt x="62" y="113"/>
                </a:cubicBezTo>
                <a:cubicBezTo>
                  <a:pt x="63" y="113"/>
                  <a:pt x="65" y="113"/>
                  <a:pt x="66" y="114"/>
                </a:cubicBezTo>
                <a:cubicBezTo>
                  <a:pt x="70" y="117"/>
                  <a:pt x="74" y="119"/>
                  <a:pt x="76" y="119"/>
                </a:cubicBezTo>
                <a:cubicBezTo>
                  <a:pt x="103" y="119"/>
                  <a:pt x="103" y="119"/>
                  <a:pt x="103" y="119"/>
                </a:cubicBezTo>
                <a:cubicBezTo>
                  <a:pt x="105" y="119"/>
                  <a:pt x="109" y="117"/>
                  <a:pt x="113" y="114"/>
                </a:cubicBezTo>
                <a:cubicBezTo>
                  <a:pt x="114" y="113"/>
                  <a:pt x="116" y="113"/>
                  <a:pt x="117" y="113"/>
                </a:cubicBezTo>
                <a:cubicBezTo>
                  <a:pt x="134" y="96"/>
                  <a:pt x="151" y="56"/>
                  <a:pt x="151" y="46"/>
                </a:cubicBezTo>
                <a:cubicBezTo>
                  <a:pt x="151" y="38"/>
                  <a:pt x="142" y="30"/>
                  <a:pt x="137" y="26"/>
                </a:cubicBezTo>
                <a:cubicBezTo>
                  <a:pt x="136" y="28"/>
                  <a:pt x="135" y="29"/>
                  <a:pt x="133" y="29"/>
                </a:cubicBezTo>
                <a:cubicBezTo>
                  <a:pt x="133" y="29"/>
                  <a:pt x="133" y="29"/>
                  <a:pt x="133" y="29"/>
                </a:cubicBezTo>
                <a:cubicBezTo>
                  <a:pt x="133" y="33"/>
                  <a:pt x="130" y="36"/>
                  <a:pt x="126" y="36"/>
                </a:cubicBezTo>
                <a:cubicBezTo>
                  <a:pt x="126" y="36"/>
                  <a:pt x="126" y="36"/>
                  <a:pt x="126" y="36"/>
                </a:cubicBezTo>
                <a:cubicBezTo>
                  <a:pt x="122" y="36"/>
                  <a:pt x="118" y="33"/>
                  <a:pt x="118" y="29"/>
                </a:cubicBezTo>
                <a:cubicBezTo>
                  <a:pt x="118" y="7"/>
                  <a:pt x="118" y="7"/>
                  <a:pt x="118" y="7"/>
                </a:cubicBezTo>
                <a:cubicBezTo>
                  <a:pt x="118" y="3"/>
                  <a:pt x="122" y="0"/>
                  <a:pt x="126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30" y="0"/>
                  <a:pt x="133" y="3"/>
                  <a:pt x="133" y="7"/>
                </a:cubicBezTo>
                <a:cubicBezTo>
                  <a:pt x="133" y="7"/>
                  <a:pt x="133" y="7"/>
                  <a:pt x="133" y="7"/>
                </a:cubicBezTo>
                <a:cubicBezTo>
                  <a:pt x="136" y="7"/>
                  <a:pt x="138" y="10"/>
                  <a:pt x="138" y="14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42" y="21"/>
                  <a:pt x="158" y="31"/>
                  <a:pt x="158" y="46"/>
                </a:cubicBezTo>
                <a:cubicBezTo>
                  <a:pt x="158" y="56"/>
                  <a:pt x="141" y="98"/>
                  <a:pt x="122" y="118"/>
                </a:cubicBezTo>
                <a:cubicBezTo>
                  <a:pt x="122" y="120"/>
                  <a:pt x="121" y="121"/>
                  <a:pt x="120" y="123"/>
                </a:cubicBezTo>
                <a:cubicBezTo>
                  <a:pt x="114" y="128"/>
                  <a:pt x="108" y="130"/>
                  <a:pt x="103" y="130"/>
                </a:cubicBezTo>
                <a:cubicBezTo>
                  <a:pt x="95" y="130"/>
                  <a:pt x="95" y="130"/>
                  <a:pt x="95" y="130"/>
                </a:cubicBezTo>
                <a:cubicBezTo>
                  <a:pt x="95" y="138"/>
                  <a:pt x="95" y="138"/>
                  <a:pt x="95" y="138"/>
                </a:cubicBezTo>
                <a:cubicBezTo>
                  <a:pt x="95" y="140"/>
                  <a:pt x="93" y="142"/>
                  <a:pt x="92" y="143"/>
                </a:cubicBezTo>
                <a:cubicBezTo>
                  <a:pt x="92" y="145"/>
                  <a:pt x="92" y="145"/>
                  <a:pt x="92" y="145"/>
                </a:cubicBezTo>
                <a:cubicBezTo>
                  <a:pt x="92" y="148"/>
                  <a:pt x="94" y="150"/>
                  <a:pt x="97" y="150"/>
                </a:cubicBezTo>
                <a:cubicBezTo>
                  <a:pt x="148" y="150"/>
                  <a:pt x="148" y="150"/>
                  <a:pt x="148" y="150"/>
                </a:cubicBezTo>
                <a:cubicBezTo>
                  <a:pt x="154" y="150"/>
                  <a:pt x="159" y="155"/>
                  <a:pt x="159" y="161"/>
                </a:cubicBezTo>
                <a:close/>
                <a:moveTo>
                  <a:pt x="34" y="130"/>
                </a:moveTo>
                <a:cubicBezTo>
                  <a:pt x="34" y="123"/>
                  <a:pt x="28" y="117"/>
                  <a:pt x="21" y="117"/>
                </a:cubicBezTo>
                <a:cubicBezTo>
                  <a:pt x="14" y="117"/>
                  <a:pt x="8" y="123"/>
                  <a:pt x="8" y="130"/>
                </a:cubicBezTo>
                <a:cubicBezTo>
                  <a:pt x="8" y="137"/>
                  <a:pt x="14" y="143"/>
                  <a:pt x="21" y="143"/>
                </a:cubicBezTo>
                <a:cubicBezTo>
                  <a:pt x="28" y="143"/>
                  <a:pt x="34" y="137"/>
                  <a:pt x="34" y="130"/>
                </a:cubicBezTo>
                <a:close/>
              </a:path>
            </a:pathLst>
          </a:custGeom>
          <a:solidFill>
            <a:srgbClr val="41b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9" name="Freeform 43"/>
          <p:cNvSpPr/>
          <p:nvPr/>
        </p:nvSpPr>
        <p:spPr>
          <a:xfrm>
            <a:off x="8886960" y="4653000"/>
            <a:ext cx="352440" cy="546120"/>
          </a:xfrm>
          <a:custGeom>
            <a:avLst/>
            <a:gdLst/>
            <a:ahLst/>
            <a:rect l="l" t="t" r="r" b="b"/>
            <a:pathLst>
              <a:path w="123" h="190">
                <a:moveTo>
                  <a:pt x="61" y="0"/>
                </a:moveTo>
                <a:cubicBezTo>
                  <a:pt x="61" y="0"/>
                  <a:pt x="0" y="95"/>
                  <a:pt x="0" y="129"/>
                </a:cubicBezTo>
                <a:cubicBezTo>
                  <a:pt x="0" y="163"/>
                  <a:pt x="28" y="190"/>
                  <a:pt x="61" y="190"/>
                </a:cubicBezTo>
                <a:cubicBezTo>
                  <a:pt x="95" y="190"/>
                  <a:pt x="123" y="163"/>
                  <a:pt x="123" y="129"/>
                </a:cubicBezTo>
                <a:cubicBezTo>
                  <a:pt x="123" y="95"/>
                  <a:pt x="61" y="0"/>
                  <a:pt x="61" y="0"/>
                </a:cubicBezTo>
                <a:close/>
                <a:moveTo>
                  <a:pt x="28" y="154"/>
                </a:moveTo>
                <a:cubicBezTo>
                  <a:pt x="27" y="155"/>
                  <a:pt x="26" y="155"/>
                  <a:pt x="25" y="155"/>
                </a:cubicBezTo>
                <a:cubicBezTo>
                  <a:pt x="24" y="155"/>
                  <a:pt x="22" y="154"/>
                  <a:pt x="21" y="153"/>
                </a:cubicBezTo>
                <a:cubicBezTo>
                  <a:pt x="17" y="146"/>
                  <a:pt x="14" y="138"/>
                  <a:pt x="14" y="130"/>
                </a:cubicBezTo>
                <a:cubicBezTo>
                  <a:pt x="14" y="102"/>
                  <a:pt x="49" y="45"/>
                  <a:pt x="49" y="45"/>
                </a:cubicBezTo>
                <a:cubicBezTo>
                  <a:pt x="49" y="45"/>
                  <a:pt x="25" y="106"/>
                  <a:pt x="25" y="130"/>
                </a:cubicBezTo>
                <a:cubicBezTo>
                  <a:pt x="25" y="136"/>
                  <a:pt x="26" y="142"/>
                  <a:pt x="30" y="147"/>
                </a:cubicBezTo>
                <a:cubicBezTo>
                  <a:pt x="31" y="150"/>
                  <a:pt x="30" y="153"/>
                  <a:pt x="28" y="154"/>
                </a:cubicBezTo>
                <a:close/>
                <a:moveTo>
                  <a:pt x="58" y="174"/>
                </a:moveTo>
                <a:cubicBezTo>
                  <a:pt x="51" y="174"/>
                  <a:pt x="43" y="171"/>
                  <a:pt x="36" y="168"/>
                </a:cubicBezTo>
                <a:cubicBezTo>
                  <a:pt x="34" y="166"/>
                  <a:pt x="33" y="163"/>
                  <a:pt x="34" y="161"/>
                </a:cubicBezTo>
                <a:cubicBezTo>
                  <a:pt x="36" y="158"/>
                  <a:pt x="39" y="157"/>
                  <a:pt x="42" y="159"/>
                </a:cubicBezTo>
                <a:cubicBezTo>
                  <a:pt x="47" y="162"/>
                  <a:pt x="52" y="163"/>
                  <a:pt x="58" y="163"/>
                </a:cubicBezTo>
                <a:cubicBezTo>
                  <a:pt x="61" y="163"/>
                  <a:pt x="63" y="166"/>
                  <a:pt x="63" y="168"/>
                </a:cubicBezTo>
                <a:cubicBezTo>
                  <a:pt x="63" y="171"/>
                  <a:pt x="61" y="174"/>
                  <a:pt x="58" y="174"/>
                </a:cubicBezTo>
                <a:close/>
              </a:path>
            </a:pathLst>
          </a:cu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0" name="Freeform 45"/>
          <p:cNvSpPr/>
          <p:nvPr/>
        </p:nvSpPr>
        <p:spPr>
          <a:xfrm>
            <a:off x="8147160" y="2987640"/>
            <a:ext cx="536400" cy="542880"/>
          </a:xfrm>
          <a:custGeom>
            <a:avLst/>
            <a:gdLst/>
            <a:ahLst/>
            <a:rect l="l" t="t" r="r" b="b"/>
            <a:pathLst>
              <a:path w="187" h="188">
                <a:moveTo>
                  <a:pt x="99" y="52"/>
                </a:moveTo>
                <a:cubicBezTo>
                  <a:pt x="97" y="50"/>
                  <a:pt x="94" y="49"/>
                  <a:pt x="91" y="49"/>
                </a:cubicBezTo>
                <a:cubicBezTo>
                  <a:pt x="88" y="49"/>
                  <a:pt x="86" y="50"/>
                  <a:pt x="84" y="52"/>
                </a:cubicBezTo>
                <a:cubicBezTo>
                  <a:pt x="68" y="68"/>
                  <a:pt x="68" y="68"/>
                  <a:pt x="68" y="68"/>
                </a:cubicBezTo>
                <a:cubicBezTo>
                  <a:pt x="52" y="84"/>
                  <a:pt x="52" y="84"/>
                  <a:pt x="52" y="84"/>
                </a:cubicBezTo>
                <a:cubicBezTo>
                  <a:pt x="48" y="88"/>
                  <a:pt x="48" y="95"/>
                  <a:pt x="52" y="99"/>
                </a:cubicBezTo>
                <a:cubicBezTo>
                  <a:pt x="88" y="135"/>
                  <a:pt x="88" y="135"/>
                  <a:pt x="88" y="135"/>
                </a:cubicBezTo>
                <a:cubicBezTo>
                  <a:pt x="92" y="139"/>
                  <a:pt x="99" y="139"/>
                  <a:pt x="103" y="135"/>
                </a:cubicBezTo>
                <a:cubicBezTo>
                  <a:pt x="135" y="103"/>
                  <a:pt x="135" y="103"/>
                  <a:pt x="135" y="103"/>
                </a:cubicBezTo>
                <a:cubicBezTo>
                  <a:pt x="137" y="101"/>
                  <a:pt x="138" y="99"/>
                  <a:pt x="138" y="96"/>
                </a:cubicBezTo>
                <a:cubicBezTo>
                  <a:pt x="138" y="93"/>
                  <a:pt x="137" y="90"/>
                  <a:pt x="135" y="88"/>
                </a:cubicBezTo>
                <a:lnTo>
                  <a:pt x="99" y="52"/>
                </a:lnTo>
                <a:close/>
                <a:moveTo>
                  <a:pt x="63" y="90"/>
                </a:moveTo>
                <a:cubicBezTo>
                  <a:pt x="62" y="91"/>
                  <a:pt x="61" y="91"/>
                  <a:pt x="61" y="90"/>
                </a:cubicBezTo>
                <a:cubicBezTo>
                  <a:pt x="60" y="89"/>
                  <a:pt x="60" y="89"/>
                  <a:pt x="60" y="89"/>
                </a:cubicBezTo>
                <a:cubicBezTo>
                  <a:pt x="59" y="89"/>
                  <a:pt x="59" y="88"/>
                  <a:pt x="60" y="87"/>
                </a:cubicBezTo>
                <a:cubicBezTo>
                  <a:pt x="60" y="87"/>
                  <a:pt x="61" y="87"/>
                  <a:pt x="62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9"/>
                  <a:pt x="63" y="90"/>
                  <a:pt x="63" y="90"/>
                </a:cubicBezTo>
                <a:close/>
                <a:moveTo>
                  <a:pt x="70" y="98"/>
                </a:moveTo>
                <a:cubicBezTo>
                  <a:pt x="70" y="99"/>
                  <a:pt x="69" y="98"/>
                  <a:pt x="68" y="98"/>
                </a:cubicBezTo>
                <a:cubicBezTo>
                  <a:pt x="67" y="96"/>
                  <a:pt x="67" y="96"/>
                  <a:pt x="67" y="96"/>
                </a:cubicBezTo>
                <a:cubicBezTo>
                  <a:pt x="66" y="96"/>
                  <a:pt x="66" y="95"/>
                  <a:pt x="67" y="94"/>
                </a:cubicBezTo>
                <a:cubicBezTo>
                  <a:pt x="67" y="93"/>
                  <a:pt x="68" y="94"/>
                  <a:pt x="69" y="94"/>
                </a:cubicBezTo>
                <a:cubicBezTo>
                  <a:pt x="70" y="96"/>
                  <a:pt x="70" y="96"/>
                  <a:pt x="70" y="96"/>
                </a:cubicBezTo>
                <a:cubicBezTo>
                  <a:pt x="71" y="96"/>
                  <a:pt x="71" y="97"/>
                  <a:pt x="70" y="98"/>
                </a:cubicBezTo>
                <a:close/>
                <a:moveTo>
                  <a:pt x="73" y="74"/>
                </a:moveTo>
                <a:cubicBezTo>
                  <a:pt x="74" y="73"/>
                  <a:pt x="75" y="73"/>
                  <a:pt x="76" y="74"/>
                </a:cubicBezTo>
                <a:cubicBezTo>
                  <a:pt x="76" y="75"/>
                  <a:pt x="76" y="75"/>
                  <a:pt x="76" y="75"/>
                </a:cubicBezTo>
                <a:cubicBezTo>
                  <a:pt x="77" y="75"/>
                  <a:pt x="77" y="76"/>
                  <a:pt x="77" y="77"/>
                </a:cubicBezTo>
                <a:cubicBezTo>
                  <a:pt x="76" y="77"/>
                  <a:pt x="75" y="77"/>
                  <a:pt x="74" y="77"/>
                </a:cubicBezTo>
                <a:cubicBezTo>
                  <a:pt x="74" y="76"/>
                  <a:pt x="74" y="76"/>
                  <a:pt x="74" y="76"/>
                </a:cubicBezTo>
                <a:cubicBezTo>
                  <a:pt x="73" y="75"/>
                  <a:pt x="73" y="74"/>
                  <a:pt x="73" y="74"/>
                </a:cubicBezTo>
                <a:close/>
                <a:moveTo>
                  <a:pt x="78" y="105"/>
                </a:moveTo>
                <a:cubicBezTo>
                  <a:pt x="77" y="106"/>
                  <a:pt x="76" y="106"/>
                  <a:pt x="76" y="105"/>
                </a:cubicBezTo>
                <a:cubicBezTo>
                  <a:pt x="74" y="104"/>
                  <a:pt x="74" y="104"/>
                  <a:pt x="74" y="104"/>
                </a:cubicBezTo>
                <a:cubicBezTo>
                  <a:pt x="73" y="103"/>
                  <a:pt x="73" y="102"/>
                  <a:pt x="74" y="102"/>
                </a:cubicBezTo>
                <a:cubicBezTo>
                  <a:pt x="75" y="101"/>
                  <a:pt x="75" y="101"/>
                  <a:pt x="76" y="102"/>
                </a:cubicBezTo>
                <a:cubicBezTo>
                  <a:pt x="78" y="103"/>
                  <a:pt x="78" y="103"/>
                  <a:pt x="78" y="103"/>
                </a:cubicBezTo>
                <a:cubicBezTo>
                  <a:pt x="78" y="104"/>
                  <a:pt x="78" y="105"/>
                  <a:pt x="78" y="105"/>
                </a:cubicBezTo>
                <a:close/>
                <a:moveTo>
                  <a:pt x="80" y="80"/>
                </a:moveTo>
                <a:cubicBezTo>
                  <a:pt x="81" y="80"/>
                  <a:pt x="82" y="80"/>
                  <a:pt x="82" y="81"/>
                </a:cubicBezTo>
                <a:cubicBezTo>
                  <a:pt x="84" y="82"/>
                  <a:pt x="84" y="82"/>
                  <a:pt x="84" y="82"/>
                </a:cubicBezTo>
                <a:cubicBezTo>
                  <a:pt x="85" y="83"/>
                  <a:pt x="85" y="84"/>
                  <a:pt x="84" y="84"/>
                </a:cubicBezTo>
                <a:cubicBezTo>
                  <a:pt x="83" y="85"/>
                  <a:pt x="83" y="85"/>
                  <a:pt x="82" y="84"/>
                </a:cubicBezTo>
                <a:cubicBezTo>
                  <a:pt x="80" y="83"/>
                  <a:pt x="80" y="83"/>
                  <a:pt x="80" y="83"/>
                </a:cubicBezTo>
                <a:cubicBezTo>
                  <a:pt x="80" y="82"/>
                  <a:pt x="80" y="81"/>
                  <a:pt x="80" y="80"/>
                </a:cubicBezTo>
                <a:close/>
                <a:moveTo>
                  <a:pt x="85" y="113"/>
                </a:moveTo>
                <a:cubicBezTo>
                  <a:pt x="85" y="113"/>
                  <a:pt x="84" y="113"/>
                  <a:pt x="83" y="113"/>
                </a:cubicBezTo>
                <a:cubicBezTo>
                  <a:pt x="82" y="111"/>
                  <a:pt x="82" y="111"/>
                  <a:pt x="82" y="111"/>
                </a:cubicBezTo>
                <a:cubicBezTo>
                  <a:pt x="81" y="110"/>
                  <a:pt x="81" y="110"/>
                  <a:pt x="81" y="109"/>
                </a:cubicBezTo>
                <a:cubicBezTo>
                  <a:pt x="82" y="108"/>
                  <a:pt x="83" y="108"/>
                  <a:pt x="84" y="109"/>
                </a:cubicBezTo>
                <a:cubicBezTo>
                  <a:pt x="85" y="111"/>
                  <a:pt x="85" y="111"/>
                  <a:pt x="85" y="111"/>
                </a:cubicBezTo>
                <a:cubicBezTo>
                  <a:pt x="86" y="111"/>
                  <a:pt x="86" y="112"/>
                  <a:pt x="85" y="113"/>
                </a:cubicBezTo>
                <a:close/>
                <a:moveTo>
                  <a:pt x="87" y="60"/>
                </a:moveTo>
                <a:cubicBezTo>
                  <a:pt x="88" y="60"/>
                  <a:pt x="89" y="60"/>
                  <a:pt x="89" y="60"/>
                </a:cubicBezTo>
                <a:cubicBezTo>
                  <a:pt x="90" y="61"/>
                  <a:pt x="90" y="61"/>
                  <a:pt x="90" y="61"/>
                </a:cubicBezTo>
                <a:cubicBezTo>
                  <a:pt x="91" y="62"/>
                  <a:pt x="91" y="63"/>
                  <a:pt x="90" y="63"/>
                </a:cubicBezTo>
                <a:cubicBezTo>
                  <a:pt x="90" y="64"/>
                  <a:pt x="89" y="64"/>
                  <a:pt x="88" y="63"/>
                </a:cubicBezTo>
                <a:cubicBezTo>
                  <a:pt x="87" y="62"/>
                  <a:pt x="87" y="62"/>
                  <a:pt x="87" y="62"/>
                </a:cubicBezTo>
                <a:cubicBezTo>
                  <a:pt x="87" y="62"/>
                  <a:pt x="86" y="61"/>
                  <a:pt x="87" y="60"/>
                </a:cubicBezTo>
                <a:close/>
                <a:moveTo>
                  <a:pt x="88" y="90"/>
                </a:moveTo>
                <a:cubicBezTo>
                  <a:pt x="87" y="89"/>
                  <a:pt x="87" y="88"/>
                  <a:pt x="88" y="88"/>
                </a:cubicBezTo>
                <a:cubicBezTo>
                  <a:pt x="88" y="87"/>
                  <a:pt x="89" y="87"/>
                  <a:pt x="90" y="88"/>
                </a:cubicBezTo>
                <a:cubicBezTo>
                  <a:pt x="91" y="90"/>
                  <a:pt x="91" y="90"/>
                  <a:pt x="91" y="90"/>
                </a:cubicBezTo>
                <a:cubicBezTo>
                  <a:pt x="92" y="90"/>
                  <a:pt x="92" y="91"/>
                  <a:pt x="91" y="92"/>
                </a:cubicBezTo>
                <a:cubicBezTo>
                  <a:pt x="91" y="92"/>
                  <a:pt x="90" y="92"/>
                  <a:pt x="89" y="92"/>
                </a:cubicBezTo>
                <a:lnTo>
                  <a:pt x="88" y="90"/>
                </a:lnTo>
                <a:close/>
                <a:moveTo>
                  <a:pt x="93" y="120"/>
                </a:moveTo>
                <a:cubicBezTo>
                  <a:pt x="92" y="121"/>
                  <a:pt x="91" y="121"/>
                  <a:pt x="91" y="120"/>
                </a:cubicBezTo>
                <a:cubicBezTo>
                  <a:pt x="89" y="119"/>
                  <a:pt x="89" y="119"/>
                  <a:pt x="89" y="119"/>
                </a:cubicBezTo>
                <a:cubicBezTo>
                  <a:pt x="88" y="118"/>
                  <a:pt x="88" y="117"/>
                  <a:pt x="89" y="116"/>
                </a:cubicBezTo>
                <a:cubicBezTo>
                  <a:pt x="89" y="116"/>
                  <a:pt x="90" y="116"/>
                  <a:pt x="91" y="117"/>
                </a:cubicBezTo>
                <a:cubicBezTo>
                  <a:pt x="93" y="118"/>
                  <a:pt x="93" y="118"/>
                  <a:pt x="93" y="118"/>
                </a:cubicBezTo>
                <a:cubicBezTo>
                  <a:pt x="93" y="119"/>
                  <a:pt x="93" y="120"/>
                  <a:pt x="93" y="120"/>
                </a:cubicBezTo>
                <a:close/>
                <a:moveTo>
                  <a:pt x="94" y="67"/>
                </a:moveTo>
                <a:cubicBezTo>
                  <a:pt x="94" y="66"/>
                  <a:pt x="95" y="66"/>
                  <a:pt x="96" y="67"/>
                </a:cubicBezTo>
                <a:cubicBezTo>
                  <a:pt x="97" y="69"/>
                  <a:pt x="97" y="69"/>
                  <a:pt x="97" y="69"/>
                </a:cubicBezTo>
                <a:cubicBezTo>
                  <a:pt x="98" y="69"/>
                  <a:pt x="98" y="70"/>
                  <a:pt x="98" y="71"/>
                </a:cubicBezTo>
                <a:cubicBezTo>
                  <a:pt x="97" y="71"/>
                  <a:pt x="96" y="71"/>
                  <a:pt x="95" y="71"/>
                </a:cubicBezTo>
                <a:cubicBezTo>
                  <a:pt x="94" y="69"/>
                  <a:pt x="94" y="69"/>
                  <a:pt x="94" y="69"/>
                </a:cubicBezTo>
                <a:cubicBezTo>
                  <a:pt x="93" y="68"/>
                  <a:pt x="93" y="67"/>
                  <a:pt x="94" y="67"/>
                </a:cubicBezTo>
                <a:close/>
                <a:moveTo>
                  <a:pt x="95" y="97"/>
                </a:moveTo>
                <a:cubicBezTo>
                  <a:pt x="95" y="97"/>
                  <a:pt x="94" y="96"/>
                  <a:pt x="95" y="95"/>
                </a:cubicBezTo>
                <a:cubicBezTo>
                  <a:pt x="96" y="95"/>
                  <a:pt x="97" y="95"/>
                  <a:pt x="97" y="96"/>
                </a:cubicBezTo>
                <a:cubicBezTo>
                  <a:pt x="99" y="97"/>
                  <a:pt x="99" y="97"/>
                  <a:pt x="99" y="97"/>
                </a:cubicBezTo>
                <a:cubicBezTo>
                  <a:pt x="99" y="98"/>
                  <a:pt x="100" y="99"/>
                  <a:pt x="99" y="99"/>
                </a:cubicBezTo>
                <a:cubicBezTo>
                  <a:pt x="98" y="100"/>
                  <a:pt x="97" y="100"/>
                  <a:pt x="97" y="99"/>
                </a:cubicBezTo>
                <a:lnTo>
                  <a:pt x="95" y="97"/>
                </a:lnTo>
                <a:close/>
                <a:moveTo>
                  <a:pt x="99" y="127"/>
                </a:moveTo>
                <a:cubicBezTo>
                  <a:pt x="99" y="128"/>
                  <a:pt x="98" y="128"/>
                  <a:pt x="97" y="127"/>
                </a:cubicBezTo>
                <a:cubicBezTo>
                  <a:pt x="97" y="126"/>
                  <a:pt x="97" y="126"/>
                  <a:pt x="97" y="126"/>
                </a:cubicBezTo>
                <a:cubicBezTo>
                  <a:pt x="96" y="125"/>
                  <a:pt x="96" y="124"/>
                  <a:pt x="96" y="124"/>
                </a:cubicBezTo>
                <a:cubicBezTo>
                  <a:pt x="97" y="123"/>
                  <a:pt x="98" y="123"/>
                  <a:pt x="99" y="124"/>
                </a:cubicBezTo>
                <a:cubicBezTo>
                  <a:pt x="99" y="125"/>
                  <a:pt x="99" y="125"/>
                  <a:pt x="99" y="125"/>
                </a:cubicBezTo>
                <a:cubicBezTo>
                  <a:pt x="100" y="126"/>
                  <a:pt x="100" y="126"/>
                  <a:pt x="99" y="127"/>
                </a:cubicBezTo>
                <a:close/>
                <a:moveTo>
                  <a:pt x="101" y="74"/>
                </a:moveTo>
                <a:cubicBezTo>
                  <a:pt x="102" y="74"/>
                  <a:pt x="103" y="74"/>
                  <a:pt x="103" y="74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06" y="77"/>
                  <a:pt x="106" y="78"/>
                  <a:pt x="105" y="78"/>
                </a:cubicBezTo>
                <a:cubicBezTo>
                  <a:pt x="105" y="79"/>
                  <a:pt x="104" y="79"/>
                  <a:pt x="103" y="78"/>
                </a:cubicBezTo>
                <a:cubicBezTo>
                  <a:pt x="101" y="76"/>
                  <a:pt x="101" y="76"/>
                  <a:pt x="101" y="76"/>
                </a:cubicBezTo>
                <a:cubicBezTo>
                  <a:pt x="101" y="76"/>
                  <a:pt x="101" y="75"/>
                  <a:pt x="101" y="74"/>
                </a:cubicBezTo>
                <a:close/>
                <a:moveTo>
                  <a:pt x="106" y="107"/>
                </a:moveTo>
                <a:cubicBezTo>
                  <a:pt x="106" y="107"/>
                  <a:pt x="105" y="107"/>
                  <a:pt x="104" y="107"/>
                </a:cubicBezTo>
                <a:cubicBezTo>
                  <a:pt x="103" y="105"/>
                  <a:pt x="103" y="105"/>
                  <a:pt x="103" y="105"/>
                </a:cubicBezTo>
                <a:cubicBezTo>
                  <a:pt x="102" y="104"/>
                  <a:pt x="102" y="103"/>
                  <a:pt x="103" y="103"/>
                </a:cubicBezTo>
                <a:cubicBezTo>
                  <a:pt x="103" y="102"/>
                  <a:pt x="104" y="102"/>
                  <a:pt x="105" y="103"/>
                </a:cubicBezTo>
                <a:cubicBezTo>
                  <a:pt x="106" y="105"/>
                  <a:pt x="106" y="105"/>
                  <a:pt x="106" y="105"/>
                </a:cubicBezTo>
                <a:cubicBezTo>
                  <a:pt x="107" y="105"/>
                  <a:pt x="107" y="106"/>
                  <a:pt x="106" y="107"/>
                </a:cubicBezTo>
                <a:close/>
                <a:moveTo>
                  <a:pt x="109" y="82"/>
                </a:moveTo>
                <a:cubicBezTo>
                  <a:pt x="109" y="81"/>
                  <a:pt x="110" y="81"/>
                  <a:pt x="111" y="82"/>
                </a:cubicBezTo>
                <a:cubicBezTo>
                  <a:pt x="112" y="84"/>
                  <a:pt x="112" y="84"/>
                  <a:pt x="112" y="84"/>
                </a:cubicBezTo>
                <a:cubicBezTo>
                  <a:pt x="113" y="84"/>
                  <a:pt x="113" y="85"/>
                  <a:pt x="113" y="86"/>
                </a:cubicBezTo>
                <a:cubicBezTo>
                  <a:pt x="112" y="86"/>
                  <a:pt x="111" y="86"/>
                  <a:pt x="110" y="86"/>
                </a:cubicBezTo>
                <a:cubicBezTo>
                  <a:pt x="109" y="84"/>
                  <a:pt x="109" y="84"/>
                  <a:pt x="109" y="84"/>
                </a:cubicBezTo>
                <a:cubicBezTo>
                  <a:pt x="108" y="83"/>
                  <a:pt x="108" y="82"/>
                  <a:pt x="109" y="82"/>
                </a:cubicBezTo>
                <a:close/>
                <a:moveTo>
                  <a:pt x="113" y="113"/>
                </a:moveTo>
                <a:cubicBezTo>
                  <a:pt x="113" y="114"/>
                  <a:pt x="112" y="114"/>
                  <a:pt x="111" y="113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1"/>
                  <a:pt x="110" y="110"/>
                </a:cubicBezTo>
                <a:cubicBezTo>
                  <a:pt x="111" y="110"/>
                  <a:pt x="111" y="110"/>
                  <a:pt x="112" y="110"/>
                </a:cubicBezTo>
                <a:cubicBezTo>
                  <a:pt x="113" y="111"/>
                  <a:pt x="113" y="111"/>
                  <a:pt x="113" y="111"/>
                </a:cubicBezTo>
                <a:cubicBezTo>
                  <a:pt x="114" y="112"/>
                  <a:pt x="114" y="113"/>
                  <a:pt x="113" y="113"/>
                </a:cubicBezTo>
                <a:close/>
                <a:moveTo>
                  <a:pt x="120" y="93"/>
                </a:moveTo>
                <a:cubicBezTo>
                  <a:pt x="119" y="94"/>
                  <a:pt x="119" y="94"/>
                  <a:pt x="118" y="93"/>
                </a:cubicBezTo>
                <a:cubicBezTo>
                  <a:pt x="116" y="91"/>
                  <a:pt x="116" y="91"/>
                  <a:pt x="116" y="91"/>
                </a:cubicBezTo>
                <a:cubicBezTo>
                  <a:pt x="116" y="91"/>
                  <a:pt x="116" y="90"/>
                  <a:pt x="116" y="89"/>
                </a:cubicBezTo>
                <a:cubicBezTo>
                  <a:pt x="117" y="89"/>
                  <a:pt x="118" y="89"/>
                  <a:pt x="118" y="89"/>
                </a:cubicBezTo>
                <a:cubicBezTo>
                  <a:pt x="120" y="91"/>
                  <a:pt x="120" y="91"/>
                  <a:pt x="120" y="91"/>
                </a:cubicBezTo>
                <a:cubicBezTo>
                  <a:pt x="121" y="92"/>
                  <a:pt x="121" y="93"/>
                  <a:pt x="120" y="93"/>
                </a:cubicBezTo>
                <a:close/>
                <a:moveTo>
                  <a:pt x="127" y="100"/>
                </a:moveTo>
                <a:cubicBezTo>
                  <a:pt x="126" y="100"/>
                  <a:pt x="125" y="100"/>
                  <a:pt x="125" y="100"/>
                </a:cubicBezTo>
                <a:cubicBezTo>
                  <a:pt x="124" y="99"/>
                  <a:pt x="124" y="99"/>
                  <a:pt x="124" y="99"/>
                </a:cubicBezTo>
                <a:cubicBezTo>
                  <a:pt x="123" y="98"/>
                  <a:pt x="123" y="97"/>
                  <a:pt x="124" y="97"/>
                </a:cubicBezTo>
                <a:cubicBezTo>
                  <a:pt x="124" y="96"/>
                  <a:pt x="125" y="96"/>
                  <a:pt x="126" y="97"/>
                </a:cubicBezTo>
                <a:cubicBezTo>
                  <a:pt x="127" y="98"/>
                  <a:pt x="127" y="98"/>
                  <a:pt x="127" y="98"/>
                </a:cubicBezTo>
                <a:cubicBezTo>
                  <a:pt x="127" y="98"/>
                  <a:pt x="127" y="99"/>
                  <a:pt x="127" y="100"/>
                </a:cubicBezTo>
                <a:close/>
                <a:moveTo>
                  <a:pt x="93" y="145"/>
                </a:moveTo>
                <a:cubicBezTo>
                  <a:pt x="93" y="145"/>
                  <a:pt x="93" y="144"/>
                  <a:pt x="93" y="144"/>
                </a:cubicBezTo>
                <a:cubicBezTo>
                  <a:pt x="54" y="184"/>
                  <a:pt x="54" y="184"/>
                  <a:pt x="54" y="184"/>
                </a:cubicBezTo>
                <a:cubicBezTo>
                  <a:pt x="50" y="188"/>
                  <a:pt x="43" y="188"/>
                  <a:pt x="38" y="184"/>
                </a:cubicBezTo>
                <a:cubicBezTo>
                  <a:pt x="3" y="148"/>
                  <a:pt x="3" y="148"/>
                  <a:pt x="3" y="148"/>
                </a:cubicBezTo>
                <a:cubicBezTo>
                  <a:pt x="1" y="146"/>
                  <a:pt x="0" y="144"/>
                  <a:pt x="0" y="141"/>
                </a:cubicBezTo>
                <a:cubicBezTo>
                  <a:pt x="0" y="138"/>
                  <a:pt x="1" y="135"/>
                  <a:pt x="3" y="133"/>
                </a:cubicBezTo>
                <a:cubicBezTo>
                  <a:pt x="42" y="93"/>
                  <a:pt x="42" y="93"/>
                  <a:pt x="42" y="93"/>
                </a:cubicBezTo>
                <a:cubicBezTo>
                  <a:pt x="42" y="97"/>
                  <a:pt x="44" y="102"/>
                  <a:pt x="47" y="105"/>
                </a:cubicBezTo>
                <a:cubicBezTo>
                  <a:pt x="82" y="140"/>
                  <a:pt x="82" y="140"/>
                  <a:pt x="82" y="140"/>
                </a:cubicBezTo>
                <a:cubicBezTo>
                  <a:pt x="85" y="143"/>
                  <a:pt x="89" y="145"/>
                  <a:pt x="93" y="145"/>
                </a:cubicBezTo>
                <a:close/>
                <a:moveTo>
                  <a:pt x="187" y="46"/>
                </a:moveTo>
                <a:cubicBezTo>
                  <a:pt x="187" y="49"/>
                  <a:pt x="186" y="52"/>
                  <a:pt x="184" y="54"/>
                </a:cubicBezTo>
                <a:cubicBezTo>
                  <a:pt x="144" y="94"/>
                  <a:pt x="144" y="94"/>
                  <a:pt x="144" y="94"/>
                </a:cubicBezTo>
                <a:cubicBezTo>
                  <a:pt x="144" y="93"/>
                  <a:pt x="144" y="93"/>
                  <a:pt x="144" y="93"/>
                </a:cubicBezTo>
                <a:cubicBezTo>
                  <a:pt x="144" y="89"/>
                  <a:pt x="143" y="85"/>
                  <a:pt x="140" y="83"/>
                </a:cubicBezTo>
                <a:cubicBezTo>
                  <a:pt x="104" y="47"/>
                  <a:pt x="104" y="47"/>
                  <a:pt x="104" y="47"/>
                </a:cubicBezTo>
                <a:cubicBezTo>
                  <a:pt x="101" y="44"/>
                  <a:pt x="97" y="43"/>
                  <a:pt x="93" y="43"/>
                </a:cubicBezTo>
                <a:cubicBezTo>
                  <a:pt x="133" y="3"/>
                  <a:pt x="133" y="3"/>
                  <a:pt x="133" y="3"/>
                </a:cubicBezTo>
                <a:cubicBezTo>
                  <a:pt x="135" y="1"/>
                  <a:pt x="138" y="0"/>
                  <a:pt x="140" y="0"/>
                </a:cubicBezTo>
                <a:cubicBezTo>
                  <a:pt x="143" y="0"/>
                  <a:pt x="146" y="1"/>
                  <a:pt x="148" y="3"/>
                </a:cubicBezTo>
                <a:cubicBezTo>
                  <a:pt x="184" y="39"/>
                  <a:pt x="184" y="39"/>
                  <a:pt x="184" y="39"/>
                </a:cubicBezTo>
                <a:cubicBezTo>
                  <a:pt x="186" y="41"/>
                  <a:pt x="187" y="44"/>
                  <a:pt x="187" y="46"/>
                </a:cubicBez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1" name="Freeform 47"/>
          <p:cNvSpPr/>
          <p:nvPr/>
        </p:nvSpPr>
        <p:spPr>
          <a:xfrm>
            <a:off x="3038400" y="3871800"/>
            <a:ext cx="522360" cy="587520"/>
          </a:xfrm>
          <a:custGeom>
            <a:avLst/>
            <a:gdLst/>
            <a:ahLst/>
            <a:rect l="l" t="t" r="r" b="b"/>
            <a:pathLst>
              <a:path w="182" h="204">
                <a:moveTo>
                  <a:pt x="42" y="17"/>
                </a:moveTo>
                <a:cubicBezTo>
                  <a:pt x="42" y="20"/>
                  <a:pt x="41" y="21"/>
                  <a:pt x="39" y="21"/>
                </a:cubicBezTo>
                <a:cubicBezTo>
                  <a:pt x="29" y="21"/>
                  <a:pt x="21" y="29"/>
                  <a:pt x="21" y="39"/>
                </a:cubicBezTo>
                <a:cubicBezTo>
                  <a:pt x="21" y="41"/>
                  <a:pt x="19" y="43"/>
                  <a:pt x="17" y="43"/>
                </a:cubicBezTo>
                <a:cubicBezTo>
                  <a:pt x="15" y="43"/>
                  <a:pt x="13" y="41"/>
                  <a:pt x="13" y="39"/>
                </a:cubicBezTo>
                <a:cubicBezTo>
                  <a:pt x="13" y="25"/>
                  <a:pt x="25" y="14"/>
                  <a:pt x="39" y="14"/>
                </a:cubicBezTo>
                <a:cubicBezTo>
                  <a:pt x="41" y="14"/>
                  <a:pt x="42" y="15"/>
                  <a:pt x="42" y="17"/>
                </a:cubicBezTo>
                <a:close/>
                <a:moveTo>
                  <a:pt x="68" y="178"/>
                </a:moveTo>
                <a:cubicBezTo>
                  <a:pt x="62" y="182"/>
                  <a:pt x="54" y="185"/>
                  <a:pt x="46" y="185"/>
                </a:cubicBezTo>
                <a:cubicBezTo>
                  <a:pt x="39" y="185"/>
                  <a:pt x="39" y="185"/>
                  <a:pt x="39" y="185"/>
                </a:cubicBezTo>
                <a:cubicBezTo>
                  <a:pt x="17" y="185"/>
                  <a:pt x="0" y="167"/>
                  <a:pt x="0" y="146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17"/>
                  <a:pt x="17" y="0"/>
                  <a:pt x="39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68" y="0"/>
                  <a:pt x="85" y="17"/>
                  <a:pt x="85" y="39"/>
                </a:cubicBezTo>
                <a:cubicBezTo>
                  <a:pt x="85" y="90"/>
                  <a:pt x="85" y="90"/>
                  <a:pt x="85" y="90"/>
                </a:cubicBezTo>
                <a:cubicBezTo>
                  <a:pt x="82" y="92"/>
                  <a:pt x="78" y="95"/>
                  <a:pt x="75" y="98"/>
                </a:cubicBezTo>
                <a:cubicBezTo>
                  <a:pt x="54" y="120"/>
                  <a:pt x="51" y="154"/>
                  <a:pt x="68" y="178"/>
                </a:cubicBezTo>
                <a:close/>
                <a:moveTo>
                  <a:pt x="77" y="89"/>
                </a:moveTo>
                <a:cubicBezTo>
                  <a:pt x="77" y="39"/>
                  <a:pt x="77" y="39"/>
                  <a:pt x="77" y="39"/>
                </a:cubicBezTo>
                <a:cubicBezTo>
                  <a:pt x="77" y="22"/>
                  <a:pt x="63" y="8"/>
                  <a:pt x="46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21" y="8"/>
                  <a:pt x="7" y="22"/>
                  <a:pt x="7" y="39"/>
                </a:cubicBezTo>
                <a:cubicBezTo>
                  <a:pt x="7" y="89"/>
                  <a:pt x="7" y="89"/>
                  <a:pt x="7" y="89"/>
                </a:cubicBezTo>
                <a:cubicBezTo>
                  <a:pt x="13" y="89"/>
                  <a:pt x="13" y="89"/>
                  <a:pt x="13" y="89"/>
                </a:cubicBezTo>
                <a:cubicBezTo>
                  <a:pt x="13" y="147"/>
                  <a:pt x="13" y="147"/>
                  <a:pt x="13" y="147"/>
                </a:cubicBezTo>
                <a:cubicBezTo>
                  <a:pt x="13" y="148"/>
                  <a:pt x="15" y="150"/>
                  <a:pt x="16" y="150"/>
                </a:cubicBezTo>
                <a:cubicBezTo>
                  <a:pt x="18" y="150"/>
                  <a:pt x="20" y="148"/>
                  <a:pt x="20" y="147"/>
                </a:cubicBezTo>
                <a:cubicBezTo>
                  <a:pt x="20" y="89"/>
                  <a:pt x="20" y="89"/>
                  <a:pt x="20" y="89"/>
                </a:cubicBezTo>
                <a:lnTo>
                  <a:pt x="77" y="89"/>
                </a:lnTo>
                <a:close/>
                <a:moveTo>
                  <a:pt x="160" y="182"/>
                </a:moveTo>
                <a:cubicBezTo>
                  <a:pt x="138" y="204"/>
                  <a:pt x="103" y="204"/>
                  <a:pt x="81" y="182"/>
                </a:cubicBezTo>
                <a:cubicBezTo>
                  <a:pt x="59" y="160"/>
                  <a:pt x="59" y="125"/>
                  <a:pt x="81" y="103"/>
                </a:cubicBezTo>
                <a:cubicBezTo>
                  <a:pt x="103" y="81"/>
                  <a:pt x="138" y="81"/>
                  <a:pt x="160" y="103"/>
                </a:cubicBezTo>
                <a:cubicBezTo>
                  <a:pt x="182" y="125"/>
                  <a:pt x="182" y="160"/>
                  <a:pt x="160" y="182"/>
                </a:cubicBezTo>
                <a:close/>
                <a:moveTo>
                  <a:pt x="155" y="108"/>
                </a:moveTo>
                <a:cubicBezTo>
                  <a:pt x="154" y="106"/>
                  <a:pt x="151" y="106"/>
                  <a:pt x="150" y="108"/>
                </a:cubicBezTo>
                <a:cubicBezTo>
                  <a:pt x="86" y="172"/>
                  <a:pt x="86" y="172"/>
                  <a:pt x="86" y="172"/>
                </a:cubicBezTo>
                <a:cubicBezTo>
                  <a:pt x="84" y="174"/>
                  <a:pt x="84" y="176"/>
                  <a:pt x="86" y="178"/>
                </a:cubicBezTo>
                <a:cubicBezTo>
                  <a:pt x="87" y="179"/>
                  <a:pt x="90" y="179"/>
                  <a:pt x="91" y="178"/>
                </a:cubicBezTo>
                <a:cubicBezTo>
                  <a:pt x="155" y="113"/>
                  <a:pt x="155" y="113"/>
                  <a:pt x="155" y="113"/>
                </a:cubicBezTo>
                <a:cubicBezTo>
                  <a:pt x="157" y="112"/>
                  <a:pt x="157" y="110"/>
                  <a:pt x="155" y="108"/>
                </a:cubicBezTo>
                <a:close/>
                <a:moveTo>
                  <a:pt x="16" y="54"/>
                </a:moveTo>
                <a:cubicBezTo>
                  <a:pt x="15" y="54"/>
                  <a:pt x="13" y="56"/>
                  <a:pt x="13" y="58"/>
                </a:cubicBezTo>
                <a:cubicBezTo>
                  <a:pt x="13" y="89"/>
                  <a:pt x="13" y="89"/>
                  <a:pt x="13" y="89"/>
                </a:cubicBezTo>
                <a:cubicBezTo>
                  <a:pt x="20" y="89"/>
                  <a:pt x="20" y="89"/>
                  <a:pt x="20" y="89"/>
                </a:cubicBezTo>
                <a:cubicBezTo>
                  <a:pt x="20" y="58"/>
                  <a:pt x="20" y="58"/>
                  <a:pt x="20" y="58"/>
                </a:cubicBezTo>
                <a:cubicBezTo>
                  <a:pt x="20" y="56"/>
                  <a:pt x="18" y="54"/>
                  <a:pt x="16" y="54"/>
                </a:cubicBezTo>
                <a:close/>
              </a:path>
            </a:pathLst>
          </a:cu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6" dur="indefinite" restart="never" nodeType="tmRoot">
          <p:childTnLst>
            <p:seq>
              <p:cTn id="1697" dur="indefinite" nodeType="mainSeq">
                <p:childTnLst>
                  <p:par>
                    <p:cTn id="1698" nodeType="clickEffect" fill="hold">
                      <p:stCondLst>
                        <p:cond delay="0"/>
                      </p:stCondLst>
                      <p:childTnLst>
                        <p:par>
                          <p:cTn id="1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Poppins"/>
              </a:rPr>
              <a:t>PEOPLE PUZZLE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73" name="Freeform 5"/>
          <p:cNvSpPr/>
          <p:nvPr/>
        </p:nvSpPr>
        <p:spPr>
          <a:xfrm flipH="1">
            <a:off x="1853640" y="1719360"/>
            <a:ext cx="2609640" cy="1939680"/>
          </a:xfrm>
          <a:custGeom>
            <a:avLst/>
            <a:gdLst/>
            <a:ahLst/>
            <a:rect l="l" t="t" r="r" b="b"/>
            <a:pathLst>
              <a:path w="886" h="659">
                <a:moveTo>
                  <a:pt x="820" y="261"/>
                </a:moveTo>
                <a:cubicBezTo>
                  <a:pt x="781" y="255"/>
                  <a:pt x="777" y="277"/>
                  <a:pt x="750" y="290"/>
                </a:cubicBezTo>
                <a:cubicBezTo>
                  <a:pt x="737" y="296"/>
                  <a:pt x="726" y="287"/>
                  <a:pt x="724" y="251"/>
                </a:cubicBezTo>
                <a:cubicBezTo>
                  <a:pt x="723" y="251"/>
                  <a:pt x="723" y="251"/>
                  <a:pt x="723" y="251"/>
                </a:cubicBezTo>
                <a:cubicBezTo>
                  <a:pt x="723" y="5"/>
                  <a:pt x="723" y="5"/>
                  <a:pt x="723" y="5"/>
                </a:cubicBezTo>
                <a:cubicBezTo>
                  <a:pt x="697" y="1"/>
                  <a:pt x="671" y="0"/>
                  <a:pt x="644" y="0"/>
                </a:cubicBezTo>
                <a:cubicBezTo>
                  <a:pt x="416" y="0"/>
                  <a:pt x="259" y="60"/>
                  <a:pt x="148" y="189"/>
                </a:cubicBezTo>
                <a:cubicBezTo>
                  <a:pt x="36" y="319"/>
                  <a:pt x="16" y="497"/>
                  <a:pt x="7" y="573"/>
                </a:cubicBezTo>
                <a:cubicBezTo>
                  <a:pt x="7" y="578"/>
                  <a:pt x="6" y="583"/>
                  <a:pt x="6" y="586"/>
                </a:cubicBezTo>
                <a:cubicBezTo>
                  <a:pt x="2" y="616"/>
                  <a:pt x="0" y="640"/>
                  <a:pt x="0" y="659"/>
                </a:cubicBezTo>
                <a:cubicBezTo>
                  <a:pt x="175" y="659"/>
                  <a:pt x="175" y="659"/>
                  <a:pt x="175" y="659"/>
                </a:cubicBezTo>
                <a:cubicBezTo>
                  <a:pt x="175" y="659"/>
                  <a:pt x="175" y="659"/>
                  <a:pt x="175" y="659"/>
                </a:cubicBezTo>
                <a:cubicBezTo>
                  <a:pt x="211" y="656"/>
                  <a:pt x="220" y="645"/>
                  <a:pt x="214" y="632"/>
                </a:cubicBezTo>
                <a:cubicBezTo>
                  <a:pt x="202" y="605"/>
                  <a:pt x="179" y="601"/>
                  <a:pt x="185" y="563"/>
                </a:cubicBezTo>
                <a:cubicBezTo>
                  <a:pt x="195" y="496"/>
                  <a:pt x="301" y="496"/>
                  <a:pt x="311" y="563"/>
                </a:cubicBezTo>
                <a:cubicBezTo>
                  <a:pt x="317" y="601"/>
                  <a:pt x="295" y="605"/>
                  <a:pt x="282" y="632"/>
                </a:cubicBezTo>
                <a:cubicBezTo>
                  <a:pt x="276" y="647"/>
                  <a:pt x="287" y="659"/>
                  <a:pt x="336" y="659"/>
                </a:cubicBezTo>
                <a:cubicBezTo>
                  <a:pt x="723" y="659"/>
                  <a:pt x="723" y="659"/>
                  <a:pt x="723" y="659"/>
                </a:cubicBezTo>
                <a:cubicBezTo>
                  <a:pt x="723" y="412"/>
                  <a:pt x="723" y="412"/>
                  <a:pt x="723" y="412"/>
                </a:cubicBezTo>
                <a:cubicBezTo>
                  <a:pt x="723" y="363"/>
                  <a:pt x="735" y="352"/>
                  <a:pt x="750" y="358"/>
                </a:cubicBezTo>
                <a:cubicBezTo>
                  <a:pt x="777" y="370"/>
                  <a:pt x="781" y="393"/>
                  <a:pt x="820" y="387"/>
                </a:cubicBezTo>
                <a:cubicBezTo>
                  <a:pt x="886" y="377"/>
                  <a:pt x="886" y="271"/>
                  <a:pt x="820" y="261"/>
                </a:cubicBezTo>
                <a:close/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4" name="Freeform 6"/>
          <p:cNvSpPr/>
          <p:nvPr/>
        </p:nvSpPr>
        <p:spPr>
          <a:xfrm flipH="1">
            <a:off x="602640" y="4853160"/>
            <a:ext cx="3819240" cy="2008080"/>
          </a:xfrm>
          <a:custGeom>
            <a:avLst/>
            <a:gdLst/>
            <a:ahLst/>
            <a:rect l="l" t="t" r="r" b="b"/>
            <a:pathLst>
              <a:path w="1297" h="682">
                <a:moveTo>
                  <a:pt x="424" y="682"/>
                </a:moveTo>
                <a:cubicBezTo>
                  <a:pt x="1297" y="682"/>
                  <a:pt x="1297" y="682"/>
                  <a:pt x="1297" y="682"/>
                </a:cubicBezTo>
                <a:cubicBezTo>
                  <a:pt x="1254" y="649"/>
                  <a:pt x="1161" y="573"/>
                  <a:pt x="1128" y="516"/>
                </a:cubicBezTo>
                <a:cubicBezTo>
                  <a:pt x="1102" y="473"/>
                  <a:pt x="1020" y="321"/>
                  <a:pt x="1040" y="198"/>
                </a:cubicBezTo>
                <a:cubicBezTo>
                  <a:pt x="1042" y="185"/>
                  <a:pt x="1045" y="173"/>
                  <a:pt x="1048" y="162"/>
                </a:cubicBezTo>
                <a:cubicBezTo>
                  <a:pt x="782" y="162"/>
                  <a:pt x="782" y="162"/>
                  <a:pt x="782" y="162"/>
                </a:cubicBezTo>
                <a:cubicBezTo>
                  <a:pt x="733" y="162"/>
                  <a:pt x="722" y="150"/>
                  <a:pt x="728" y="136"/>
                </a:cubicBezTo>
                <a:cubicBezTo>
                  <a:pt x="741" y="108"/>
                  <a:pt x="763" y="105"/>
                  <a:pt x="757" y="66"/>
                </a:cubicBezTo>
                <a:cubicBezTo>
                  <a:pt x="747" y="0"/>
                  <a:pt x="641" y="0"/>
                  <a:pt x="631" y="66"/>
                </a:cubicBezTo>
                <a:cubicBezTo>
                  <a:pt x="625" y="105"/>
                  <a:pt x="648" y="108"/>
                  <a:pt x="660" y="136"/>
                </a:cubicBezTo>
                <a:cubicBezTo>
                  <a:pt x="666" y="149"/>
                  <a:pt x="657" y="159"/>
                  <a:pt x="621" y="162"/>
                </a:cubicBezTo>
                <a:cubicBezTo>
                  <a:pt x="621" y="162"/>
                  <a:pt x="621" y="162"/>
                  <a:pt x="621" y="162"/>
                </a:cubicBezTo>
                <a:cubicBezTo>
                  <a:pt x="539" y="162"/>
                  <a:pt x="539" y="162"/>
                  <a:pt x="539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08" y="163"/>
                  <a:pt x="308" y="163"/>
                  <a:pt x="308" y="163"/>
                </a:cubicBezTo>
                <a:cubicBezTo>
                  <a:pt x="273" y="165"/>
                  <a:pt x="264" y="176"/>
                  <a:pt x="270" y="189"/>
                </a:cubicBezTo>
                <a:cubicBezTo>
                  <a:pt x="282" y="216"/>
                  <a:pt x="305" y="220"/>
                  <a:pt x="299" y="259"/>
                </a:cubicBezTo>
                <a:cubicBezTo>
                  <a:pt x="288" y="325"/>
                  <a:pt x="183" y="325"/>
                  <a:pt x="173" y="259"/>
                </a:cubicBezTo>
                <a:cubicBezTo>
                  <a:pt x="167" y="220"/>
                  <a:pt x="189" y="216"/>
                  <a:pt x="202" y="189"/>
                </a:cubicBezTo>
                <a:cubicBezTo>
                  <a:pt x="208" y="174"/>
                  <a:pt x="197" y="162"/>
                  <a:pt x="147" y="162"/>
                </a:cubicBezTo>
                <a:cubicBezTo>
                  <a:pt x="0" y="162"/>
                  <a:pt x="0" y="162"/>
                  <a:pt x="0" y="162"/>
                </a:cubicBezTo>
                <a:cubicBezTo>
                  <a:pt x="8" y="173"/>
                  <a:pt x="8" y="173"/>
                  <a:pt x="8" y="173"/>
                </a:cubicBezTo>
                <a:cubicBezTo>
                  <a:pt x="6" y="193"/>
                  <a:pt x="5" y="227"/>
                  <a:pt x="28" y="249"/>
                </a:cubicBezTo>
                <a:cubicBezTo>
                  <a:pt x="30" y="252"/>
                  <a:pt x="33" y="254"/>
                  <a:pt x="35" y="256"/>
                </a:cubicBezTo>
                <a:cubicBezTo>
                  <a:pt x="50" y="271"/>
                  <a:pt x="50" y="271"/>
                  <a:pt x="45" y="288"/>
                </a:cubicBezTo>
                <a:cubicBezTo>
                  <a:pt x="7" y="403"/>
                  <a:pt x="55" y="452"/>
                  <a:pt x="103" y="473"/>
                </a:cubicBezTo>
                <a:cubicBezTo>
                  <a:pt x="130" y="485"/>
                  <a:pt x="163" y="491"/>
                  <a:pt x="202" y="491"/>
                </a:cubicBezTo>
                <a:cubicBezTo>
                  <a:pt x="246" y="491"/>
                  <a:pt x="289" y="484"/>
                  <a:pt x="323" y="478"/>
                </a:cubicBezTo>
                <a:cubicBezTo>
                  <a:pt x="337" y="476"/>
                  <a:pt x="349" y="474"/>
                  <a:pt x="358" y="473"/>
                </a:cubicBezTo>
                <a:cubicBezTo>
                  <a:pt x="372" y="471"/>
                  <a:pt x="383" y="469"/>
                  <a:pt x="392" y="468"/>
                </a:cubicBezTo>
                <a:cubicBezTo>
                  <a:pt x="394" y="467"/>
                  <a:pt x="395" y="467"/>
                  <a:pt x="396" y="467"/>
                </a:cubicBezTo>
                <a:cubicBezTo>
                  <a:pt x="402" y="498"/>
                  <a:pt x="417" y="548"/>
                  <a:pt x="431" y="571"/>
                </a:cubicBezTo>
                <a:cubicBezTo>
                  <a:pt x="442" y="589"/>
                  <a:pt x="446" y="613"/>
                  <a:pt x="441" y="633"/>
                </a:cubicBezTo>
                <a:cubicBezTo>
                  <a:pt x="437" y="647"/>
                  <a:pt x="430" y="666"/>
                  <a:pt x="424" y="682"/>
                </a:cubicBezTo>
                <a:close/>
              </a:path>
            </a:pathLst>
          </a:custGeom>
          <a:solidFill>
            <a:srgbClr val="41b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5" name="Freeform 7"/>
          <p:cNvSpPr/>
          <p:nvPr/>
        </p:nvSpPr>
        <p:spPr>
          <a:xfrm flipH="1">
            <a:off x="564480" y="1733400"/>
            <a:ext cx="1770120" cy="2405160"/>
          </a:xfrm>
          <a:custGeom>
            <a:avLst/>
            <a:gdLst/>
            <a:ahLst/>
            <a:rect l="l" t="t" r="r" b="b"/>
            <a:pathLst>
              <a:path w="601" h="817">
                <a:moveTo>
                  <a:pt x="533" y="343"/>
                </a:moveTo>
                <a:cubicBezTo>
                  <a:pt x="488" y="260"/>
                  <a:pt x="431" y="201"/>
                  <a:pt x="400" y="173"/>
                </a:cubicBezTo>
                <a:cubicBezTo>
                  <a:pt x="333" y="110"/>
                  <a:pt x="179" y="21"/>
                  <a:pt x="0" y="0"/>
                </a:cubicBezTo>
                <a:cubicBezTo>
                  <a:pt x="0" y="246"/>
                  <a:pt x="0" y="246"/>
                  <a:pt x="0" y="246"/>
                </a:cubicBezTo>
                <a:cubicBezTo>
                  <a:pt x="1" y="246"/>
                  <a:pt x="1" y="246"/>
                  <a:pt x="1" y="246"/>
                </a:cubicBezTo>
                <a:cubicBezTo>
                  <a:pt x="3" y="282"/>
                  <a:pt x="14" y="291"/>
                  <a:pt x="27" y="285"/>
                </a:cubicBezTo>
                <a:cubicBezTo>
                  <a:pt x="54" y="272"/>
                  <a:pt x="58" y="250"/>
                  <a:pt x="97" y="256"/>
                </a:cubicBezTo>
                <a:cubicBezTo>
                  <a:pt x="163" y="266"/>
                  <a:pt x="163" y="372"/>
                  <a:pt x="97" y="382"/>
                </a:cubicBezTo>
                <a:cubicBezTo>
                  <a:pt x="58" y="388"/>
                  <a:pt x="54" y="365"/>
                  <a:pt x="27" y="353"/>
                </a:cubicBezTo>
                <a:cubicBezTo>
                  <a:pt x="12" y="347"/>
                  <a:pt x="0" y="358"/>
                  <a:pt x="0" y="407"/>
                </a:cubicBezTo>
                <a:cubicBezTo>
                  <a:pt x="0" y="654"/>
                  <a:pt x="0" y="654"/>
                  <a:pt x="0" y="654"/>
                </a:cubicBezTo>
                <a:cubicBezTo>
                  <a:pt x="327" y="654"/>
                  <a:pt x="327" y="654"/>
                  <a:pt x="327" y="654"/>
                </a:cubicBezTo>
                <a:cubicBezTo>
                  <a:pt x="376" y="654"/>
                  <a:pt x="388" y="666"/>
                  <a:pt x="381" y="681"/>
                </a:cubicBezTo>
                <a:cubicBezTo>
                  <a:pt x="369" y="708"/>
                  <a:pt x="346" y="712"/>
                  <a:pt x="352" y="750"/>
                </a:cubicBezTo>
                <a:cubicBezTo>
                  <a:pt x="363" y="817"/>
                  <a:pt x="468" y="817"/>
                  <a:pt x="478" y="750"/>
                </a:cubicBezTo>
                <a:cubicBezTo>
                  <a:pt x="484" y="712"/>
                  <a:pt x="462" y="708"/>
                  <a:pt x="449" y="681"/>
                </a:cubicBezTo>
                <a:cubicBezTo>
                  <a:pt x="444" y="668"/>
                  <a:pt x="452" y="657"/>
                  <a:pt x="488" y="654"/>
                </a:cubicBezTo>
                <a:cubicBezTo>
                  <a:pt x="488" y="654"/>
                  <a:pt x="488" y="654"/>
                  <a:pt x="488" y="654"/>
                </a:cubicBezTo>
                <a:cubicBezTo>
                  <a:pt x="591" y="654"/>
                  <a:pt x="591" y="654"/>
                  <a:pt x="591" y="654"/>
                </a:cubicBezTo>
                <a:cubicBezTo>
                  <a:pt x="592" y="642"/>
                  <a:pt x="593" y="629"/>
                  <a:pt x="594" y="616"/>
                </a:cubicBezTo>
                <a:cubicBezTo>
                  <a:pt x="601" y="524"/>
                  <a:pt x="580" y="432"/>
                  <a:pt x="533" y="343"/>
                </a:cubicBez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6" name="Freeform 8"/>
          <p:cNvSpPr/>
          <p:nvPr/>
        </p:nvSpPr>
        <p:spPr>
          <a:xfrm flipH="1">
            <a:off x="592920" y="3659040"/>
            <a:ext cx="2721240" cy="1671840"/>
          </a:xfrm>
          <a:custGeom>
            <a:avLst/>
            <a:gdLst/>
            <a:ahLst/>
            <a:rect l="l" t="t" r="r" b="b"/>
            <a:pathLst>
              <a:path w="924" h="568">
                <a:moveTo>
                  <a:pt x="821" y="0"/>
                </a:moveTo>
                <a:cubicBezTo>
                  <a:pt x="821" y="0"/>
                  <a:pt x="821" y="0"/>
                  <a:pt x="821" y="0"/>
                </a:cubicBezTo>
                <a:cubicBezTo>
                  <a:pt x="785" y="3"/>
                  <a:pt x="777" y="14"/>
                  <a:pt x="782" y="27"/>
                </a:cubicBezTo>
                <a:cubicBezTo>
                  <a:pt x="795" y="54"/>
                  <a:pt x="817" y="58"/>
                  <a:pt x="811" y="96"/>
                </a:cubicBezTo>
                <a:cubicBezTo>
                  <a:pt x="801" y="163"/>
                  <a:pt x="696" y="163"/>
                  <a:pt x="685" y="96"/>
                </a:cubicBezTo>
                <a:cubicBezTo>
                  <a:pt x="679" y="58"/>
                  <a:pt x="702" y="54"/>
                  <a:pt x="714" y="27"/>
                </a:cubicBezTo>
                <a:cubicBezTo>
                  <a:pt x="721" y="12"/>
                  <a:pt x="709" y="0"/>
                  <a:pt x="660" y="0"/>
                </a:cubicBezTo>
                <a:cubicBezTo>
                  <a:pt x="333" y="0"/>
                  <a:pt x="333" y="0"/>
                  <a:pt x="333" y="0"/>
                </a:cubicBezTo>
                <a:cubicBezTo>
                  <a:pt x="163" y="0"/>
                  <a:pt x="163" y="0"/>
                  <a:pt x="163" y="0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43"/>
                  <a:pt x="151" y="255"/>
                  <a:pt x="136" y="248"/>
                </a:cubicBezTo>
                <a:cubicBezTo>
                  <a:pt x="109" y="236"/>
                  <a:pt x="105" y="213"/>
                  <a:pt x="66" y="219"/>
                </a:cubicBezTo>
                <a:cubicBezTo>
                  <a:pt x="0" y="230"/>
                  <a:pt x="0" y="335"/>
                  <a:pt x="66" y="345"/>
                </a:cubicBezTo>
                <a:cubicBezTo>
                  <a:pt x="105" y="351"/>
                  <a:pt x="109" y="329"/>
                  <a:pt x="136" y="317"/>
                </a:cubicBezTo>
                <a:cubicBezTo>
                  <a:pt x="149" y="311"/>
                  <a:pt x="160" y="319"/>
                  <a:pt x="162" y="355"/>
                </a:cubicBezTo>
                <a:cubicBezTo>
                  <a:pt x="163" y="355"/>
                  <a:pt x="163" y="355"/>
                  <a:pt x="163" y="355"/>
                </a:cubicBezTo>
                <a:cubicBezTo>
                  <a:pt x="163" y="568"/>
                  <a:pt x="163" y="568"/>
                  <a:pt x="163" y="568"/>
                </a:cubicBezTo>
                <a:cubicBezTo>
                  <a:pt x="245" y="568"/>
                  <a:pt x="245" y="568"/>
                  <a:pt x="245" y="568"/>
                </a:cubicBezTo>
                <a:cubicBezTo>
                  <a:pt x="245" y="568"/>
                  <a:pt x="245" y="568"/>
                  <a:pt x="245" y="568"/>
                </a:cubicBezTo>
                <a:cubicBezTo>
                  <a:pt x="281" y="565"/>
                  <a:pt x="290" y="555"/>
                  <a:pt x="284" y="542"/>
                </a:cubicBezTo>
                <a:cubicBezTo>
                  <a:pt x="272" y="514"/>
                  <a:pt x="249" y="511"/>
                  <a:pt x="255" y="472"/>
                </a:cubicBezTo>
                <a:cubicBezTo>
                  <a:pt x="265" y="406"/>
                  <a:pt x="371" y="406"/>
                  <a:pt x="381" y="472"/>
                </a:cubicBezTo>
                <a:cubicBezTo>
                  <a:pt x="387" y="511"/>
                  <a:pt x="365" y="514"/>
                  <a:pt x="352" y="542"/>
                </a:cubicBezTo>
                <a:cubicBezTo>
                  <a:pt x="346" y="556"/>
                  <a:pt x="357" y="568"/>
                  <a:pt x="406" y="568"/>
                </a:cubicBezTo>
                <a:cubicBezTo>
                  <a:pt x="672" y="568"/>
                  <a:pt x="672" y="568"/>
                  <a:pt x="672" y="568"/>
                </a:cubicBezTo>
                <a:cubicBezTo>
                  <a:pt x="685" y="529"/>
                  <a:pt x="705" y="505"/>
                  <a:pt x="730" y="477"/>
                </a:cubicBezTo>
                <a:cubicBezTo>
                  <a:pt x="751" y="453"/>
                  <a:pt x="775" y="425"/>
                  <a:pt x="797" y="385"/>
                </a:cubicBezTo>
                <a:cubicBezTo>
                  <a:pt x="851" y="285"/>
                  <a:pt x="905" y="173"/>
                  <a:pt x="924" y="0"/>
                </a:cubicBezTo>
                <a:lnTo>
                  <a:pt x="821" y="0"/>
                </a:lnTo>
                <a:close/>
              </a:path>
            </a:pathLst>
          </a:cu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7" name="Freeform 9"/>
          <p:cNvSpPr/>
          <p:nvPr/>
        </p:nvSpPr>
        <p:spPr>
          <a:xfrm flipH="1">
            <a:off x="2834640" y="3179880"/>
            <a:ext cx="1955880" cy="2630520"/>
          </a:xfrm>
          <a:custGeom>
            <a:avLst/>
            <a:gdLst/>
            <a:ahLst/>
            <a:rect l="l" t="t" r="r" b="b"/>
            <a:pathLst>
              <a:path w="664" h="894">
                <a:moveTo>
                  <a:pt x="567" y="382"/>
                </a:moveTo>
                <a:cubicBezTo>
                  <a:pt x="606" y="376"/>
                  <a:pt x="610" y="399"/>
                  <a:pt x="637" y="411"/>
                </a:cubicBezTo>
                <a:cubicBezTo>
                  <a:pt x="652" y="418"/>
                  <a:pt x="664" y="406"/>
                  <a:pt x="664" y="357"/>
                </a:cubicBezTo>
                <a:cubicBezTo>
                  <a:pt x="664" y="163"/>
                  <a:pt x="664" y="163"/>
                  <a:pt x="664" y="163"/>
                </a:cubicBezTo>
                <a:cubicBezTo>
                  <a:pt x="447" y="163"/>
                  <a:pt x="447" y="163"/>
                  <a:pt x="447" y="163"/>
                </a:cubicBezTo>
                <a:cubicBezTo>
                  <a:pt x="398" y="163"/>
                  <a:pt x="387" y="151"/>
                  <a:pt x="393" y="136"/>
                </a:cubicBezTo>
                <a:cubicBezTo>
                  <a:pt x="406" y="109"/>
                  <a:pt x="428" y="105"/>
                  <a:pt x="422" y="67"/>
                </a:cubicBezTo>
                <a:cubicBezTo>
                  <a:pt x="412" y="0"/>
                  <a:pt x="306" y="0"/>
                  <a:pt x="296" y="67"/>
                </a:cubicBezTo>
                <a:cubicBezTo>
                  <a:pt x="290" y="105"/>
                  <a:pt x="313" y="109"/>
                  <a:pt x="325" y="136"/>
                </a:cubicBezTo>
                <a:cubicBezTo>
                  <a:pt x="331" y="149"/>
                  <a:pt x="322" y="160"/>
                  <a:pt x="286" y="163"/>
                </a:cubicBezTo>
                <a:cubicBezTo>
                  <a:pt x="286" y="163"/>
                  <a:pt x="286" y="163"/>
                  <a:pt x="286" y="163"/>
                </a:cubicBezTo>
                <a:cubicBezTo>
                  <a:pt x="111" y="163"/>
                  <a:pt x="111" y="163"/>
                  <a:pt x="111" y="163"/>
                </a:cubicBezTo>
                <a:cubicBezTo>
                  <a:pt x="111" y="192"/>
                  <a:pt x="116" y="212"/>
                  <a:pt x="130" y="225"/>
                </a:cubicBezTo>
                <a:cubicBezTo>
                  <a:pt x="150" y="245"/>
                  <a:pt x="151" y="263"/>
                  <a:pt x="135" y="285"/>
                </a:cubicBezTo>
                <a:cubicBezTo>
                  <a:pt x="98" y="338"/>
                  <a:pt x="43" y="437"/>
                  <a:pt x="29" y="465"/>
                </a:cubicBezTo>
                <a:cubicBezTo>
                  <a:pt x="19" y="486"/>
                  <a:pt x="0" y="524"/>
                  <a:pt x="14" y="558"/>
                </a:cubicBezTo>
                <a:cubicBezTo>
                  <a:pt x="20" y="571"/>
                  <a:pt x="34" y="589"/>
                  <a:pt x="65" y="598"/>
                </a:cubicBezTo>
                <a:cubicBezTo>
                  <a:pt x="132" y="619"/>
                  <a:pt x="132" y="631"/>
                  <a:pt x="132" y="632"/>
                </a:cubicBezTo>
                <a:cubicBezTo>
                  <a:pt x="130" y="642"/>
                  <a:pt x="126" y="650"/>
                  <a:pt x="123" y="658"/>
                </a:cubicBezTo>
                <a:cubicBezTo>
                  <a:pt x="115" y="677"/>
                  <a:pt x="105" y="704"/>
                  <a:pt x="125" y="731"/>
                </a:cubicBezTo>
                <a:cubicBezTo>
                  <a:pt x="272" y="731"/>
                  <a:pt x="272" y="731"/>
                  <a:pt x="272" y="731"/>
                </a:cubicBezTo>
                <a:cubicBezTo>
                  <a:pt x="322" y="731"/>
                  <a:pt x="333" y="743"/>
                  <a:pt x="327" y="758"/>
                </a:cubicBezTo>
                <a:cubicBezTo>
                  <a:pt x="314" y="785"/>
                  <a:pt x="292" y="789"/>
                  <a:pt x="298" y="828"/>
                </a:cubicBezTo>
                <a:cubicBezTo>
                  <a:pt x="308" y="894"/>
                  <a:pt x="413" y="894"/>
                  <a:pt x="424" y="828"/>
                </a:cubicBezTo>
                <a:cubicBezTo>
                  <a:pt x="430" y="789"/>
                  <a:pt x="407" y="785"/>
                  <a:pt x="395" y="758"/>
                </a:cubicBezTo>
                <a:cubicBezTo>
                  <a:pt x="389" y="745"/>
                  <a:pt x="398" y="734"/>
                  <a:pt x="433" y="732"/>
                </a:cubicBezTo>
                <a:cubicBezTo>
                  <a:pt x="433" y="731"/>
                  <a:pt x="433" y="731"/>
                  <a:pt x="433" y="731"/>
                </a:cubicBezTo>
                <a:cubicBezTo>
                  <a:pt x="664" y="731"/>
                  <a:pt x="664" y="731"/>
                  <a:pt x="664" y="731"/>
                </a:cubicBezTo>
                <a:cubicBezTo>
                  <a:pt x="664" y="518"/>
                  <a:pt x="664" y="518"/>
                  <a:pt x="664" y="518"/>
                </a:cubicBezTo>
                <a:cubicBezTo>
                  <a:pt x="663" y="518"/>
                  <a:pt x="663" y="518"/>
                  <a:pt x="663" y="518"/>
                </a:cubicBezTo>
                <a:cubicBezTo>
                  <a:pt x="661" y="482"/>
                  <a:pt x="650" y="474"/>
                  <a:pt x="637" y="480"/>
                </a:cubicBezTo>
                <a:cubicBezTo>
                  <a:pt x="610" y="492"/>
                  <a:pt x="606" y="514"/>
                  <a:pt x="567" y="508"/>
                </a:cubicBezTo>
                <a:cubicBezTo>
                  <a:pt x="501" y="498"/>
                  <a:pt x="501" y="393"/>
                  <a:pt x="567" y="382"/>
                </a:cubicBezTo>
                <a:close/>
              </a:path>
            </a:pathLst>
          </a:cu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8" name="TextBox 9"/>
          <p:cNvSpPr/>
          <p:nvPr/>
        </p:nvSpPr>
        <p:spPr>
          <a:xfrm>
            <a:off x="2655000" y="248616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oppins"/>
              </a:rPr>
              <a:t>20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9" name="TextBox 10"/>
          <p:cNvSpPr/>
          <p:nvPr/>
        </p:nvSpPr>
        <p:spPr>
          <a:xfrm>
            <a:off x="1019880" y="294336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oppins"/>
              </a:rPr>
              <a:t>20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0" name="TextBox 11"/>
          <p:cNvSpPr/>
          <p:nvPr/>
        </p:nvSpPr>
        <p:spPr>
          <a:xfrm>
            <a:off x="3317760" y="396720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oppins"/>
              </a:rPr>
              <a:t>20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1" name="TextBox 12"/>
          <p:cNvSpPr/>
          <p:nvPr/>
        </p:nvSpPr>
        <p:spPr>
          <a:xfrm>
            <a:off x="1330920" y="414828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oppins"/>
              </a:rPr>
              <a:t>20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2" name="TextBox 13"/>
          <p:cNvSpPr/>
          <p:nvPr/>
        </p:nvSpPr>
        <p:spPr>
          <a:xfrm>
            <a:off x="2005560" y="561024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oppins"/>
              </a:rPr>
              <a:t>20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3" name="TextBox 29"/>
          <p:cNvSpPr/>
          <p:nvPr/>
        </p:nvSpPr>
        <p:spPr>
          <a:xfrm>
            <a:off x="5872320" y="227160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4" name="TextBox 30"/>
          <p:cNvSpPr/>
          <p:nvPr/>
        </p:nvSpPr>
        <p:spPr>
          <a:xfrm>
            <a:off x="5872320" y="2465280"/>
            <a:ext cx="2609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r>
              <a:rPr b="0" lang="id-ID" sz="14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5" name="TextBox 31"/>
          <p:cNvSpPr/>
          <p:nvPr/>
        </p:nvSpPr>
        <p:spPr>
          <a:xfrm>
            <a:off x="5872320" y="366876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6" name="TextBox 32"/>
          <p:cNvSpPr/>
          <p:nvPr/>
        </p:nvSpPr>
        <p:spPr>
          <a:xfrm>
            <a:off x="5872320" y="3862440"/>
            <a:ext cx="2609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r>
              <a:rPr b="0" lang="id-ID" sz="14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7" name="TextBox 33"/>
          <p:cNvSpPr/>
          <p:nvPr/>
        </p:nvSpPr>
        <p:spPr>
          <a:xfrm>
            <a:off x="5872320" y="505764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8" name="TextBox 34"/>
          <p:cNvSpPr/>
          <p:nvPr/>
        </p:nvSpPr>
        <p:spPr>
          <a:xfrm>
            <a:off x="5872320" y="5253120"/>
            <a:ext cx="2609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r>
              <a:rPr b="0" lang="id-ID" sz="14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9" name="TextBox 35"/>
          <p:cNvSpPr/>
          <p:nvPr/>
        </p:nvSpPr>
        <p:spPr>
          <a:xfrm>
            <a:off x="9234360" y="227160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0" name="TextBox 36"/>
          <p:cNvSpPr/>
          <p:nvPr/>
        </p:nvSpPr>
        <p:spPr>
          <a:xfrm>
            <a:off x="9234360" y="2465280"/>
            <a:ext cx="2610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r>
              <a:rPr b="0" lang="id-ID" sz="14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1" name="TextBox 37"/>
          <p:cNvSpPr/>
          <p:nvPr/>
        </p:nvSpPr>
        <p:spPr>
          <a:xfrm>
            <a:off x="9234360" y="366876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2" name="TextBox 38"/>
          <p:cNvSpPr/>
          <p:nvPr/>
        </p:nvSpPr>
        <p:spPr>
          <a:xfrm>
            <a:off x="9234360" y="3862440"/>
            <a:ext cx="2610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r>
              <a:rPr b="0" lang="id-ID" sz="14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3" name="Freeform 80"/>
          <p:cNvSpPr/>
          <p:nvPr/>
        </p:nvSpPr>
        <p:spPr>
          <a:xfrm>
            <a:off x="5418000" y="3873600"/>
            <a:ext cx="405000" cy="331560"/>
          </a:xfrm>
          <a:custGeom>
            <a:avLst/>
            <a:gdLst/>
            <a:ahLst/>
            <a:rect l="l" t="t" r="r" b="b"/>
            <a:pathLst>
              <a:path w="192" h="156">
                <a:moveTo>
                  <a:pt x="173" y="18"/>
                </a:moveTo>
                <a:cubicBezTo>
                  <a:pt x="155" y="0"/>
                  <a:pt x="125" y="0"/>
                  <a:pt x="107" y="18"/>
                </a:cubicBezTo>
                <a:cubicBezTo>
                  <a:pt x="96" y="29"/>
                  <a:pt x="96" y="29"/>
                  <a:pt x="96" y="29"/>
                </a:cubicBezTo>
                <a:cubicBezTo>
                  <a:pt x="86" y="18"/>
                  <a:pt x="86" y="18"/>
                  <a:pt x="86" y="18"/>
                </a:cubicBezTo>
                <a:cubicBezTo>
                  <a:pt x="67" y="0"/>
                  <a:pt x="37" y="0"/>
                  <a:pt x="19" y="18"/>
                </a:cubicBezTo>
                <a:cubicBezTo>
                  <a:pt x="0" y="37"/>
                  <a:pt x="0" y="67"/>
                  <a:pt x="19" y="85"/>
                </a:cubicBezTo>
                <a:cubicBezTo>
                  <a:pt x="83" y="149"/>
                  <a:pt x="83" y="149"/>
                  <a:pt x="83" y="149"/>
                </a:cubicBezTo>
                <a:cubicBezTo>
                  <a:pt x="90" y="156"/>
                  <a:pt x="102" y="156"/>
                  <a:pt x="109" y="149"/>
                </a:cubicBezTo>
                <a:cubicBezTo>
                  <a:pt x="173" y="85"/>
                  <a:pt x="173" y="85"/>
                  <a:pt x="173" y="85"/>
                </a:cubicBezTo>
                <a:cubicBezTo>
                  <a:pt x="192" y="67"/>
                  <a:pt x="192" y="37"/>
                  <a:pt x="173" y="18"/>
                </a:cubicBezTo>
              </a:path>
            </a:pathLst>
          </a:cu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4" name="Freeform 83"/>
          <p:cNvSpPr/>
          <p:nvPr/>
        </p:nvSpPr>
        <p:spPr>
          <a:xfrm>
            <a:off x="5389560" y="2401920"/>
            <a:ext cx="461880" cy="441360"/>
          </a:xfrm>
          <a:custGeom>
            <a:avLst/>
            <a:gdLst/>
            <a:ahLst/>
            <a:rect l="l" t="t" r="r" b="b"/>
            <a:pathLst>
              <a:path w="218" h="208">
                <a:moveTo>
                  <a:pt x="155" y="3"/>
                </a:moveTo>
                <a:cubicBezTo>
                  <a:pt x="100" y="0"/>
                  <a:pt x="53" y="23"/>
                  <a:pt x="35" y="61"/>
                </a:cubicBezTo>
                <a:cubicBezTo>
                  <a:pt x="0" y="132"/>
                  <a:pt x="60" y="184"/>
                  <a:pt x="95" y="193"/>
                </a:cubicBezTo>
                <a:cubicBezTo>
                  <a:pt x="157" y="208"/>
                  <a:pt x="160" y="166"/>
                  <a:pt x="159" y="138"/>
                </a:cubicBezTo>
                <a:cubicBezTo>
                  <a:pt x="158" y="110"/>
                  <a:pt x="206" y="93"/>
                  <a:pt x="214" y="49"/>
                </a:cubicBezTo>
                <a:cubicBezTo>
                  <a:pt x="218" y="25"/>
                  <a:pt x="189" y="4"/>
                  <a:pt x="155" y="3"/>
                </a:cubicBezTo>
                <a:close/>
                <a:moveTo>
                  <a:pt x="75" y="111"/>
                </a:moveTo>
                <a:cubicBezTo>
                  <a:pt x="66" y="111"/>
                  <a:pt x="59" y="104"/>
                  <a:pt x="59" y="95"/>
                </a:cubicBezTo>
                <a:cubicBezTo>
                  <a:pt x="59" y="87"/>
                  <a:pt x="66" y="79"/>
                  <a:pt x="75" y="79"/>
                </a:cubicBezTo>
                <a:cubicBezTo>
                  <a:pt x="84" y="79"/>
                  <a:pt x="91" y="87"/>
                  <a:pt x="91" y="95"/>
                </a:cubicBezTo>
                <a:cubicBezTo>
                  <a:pt x="91" y="104"/>
                  <a:pt x="84" y="111"/>
                  <a:pt x="75" y="111"/>
                </a:cubicBezTo>
                <a:close/>
                <a:moveTo>
                  <a:pt x="94" y="67"/>
                </a:moveTo>
                <a:cubicBezTo>
                  <a:pt x="85" y="67"/>
                  <a:pt x="77" y="59"/>
                  <a:pt x="77" y="50"/>
                </a:cubicBezTo>
                <a:cubicBezTo>
                  <a:pt x="77" y="40"/>
                  <a:pt x="85" y="33"/>
                  <a:pt x="94" y="33"/>
                </a:cubicBezTo>
                <a:cubicBezTo>
                  <a:pt x="103" y="33"/>
                  <a:pt x="111" y="40"/>
                  <a:pt x="111" y="50"/>
                </a:cubicBezTo>
                <a:cubicBezTo>
                  <a:pt x="111" y="59"/>
                  <a:pt x="103" y="67"/>
                  <a:pt x="94" y="67"/>
                </a:cubicBezTo>
                <a:close/>
                <a:moveTo>
                  <a:pt x="130" y="174"/>
                </a:moveTo>
                <a:cubicBezTo>
                  <a:pt x="117" y="185"/>
                  <a:pt x="97" y="180"/>
                  <a:pt x="95" y="168"/>
                </a:cubicBezTo>
                <a:cubicBezTo>
                  <a:pt x="93" y="149"/>
                  <a:pt x="103" y="133"/>
                  <a:pt x="116" y="128"/>
                </a:cubicBezTo>
                <a:cubicBezTo>
                  <a:pt x="121" y="126"/>
                  <a:pt x="131" y="131"/>
                  <a:pt x="135" y="138"/>
                </a:cubicBezTo>
                <a:cubicBezTo>
                  <a:pt x="138" y="147"/>
                  <a:pt x="141" y="165"/>
                  <a:pt x="130" y="174"/>
                </a:cubicBezTo>
                <a:close/>
                <a:moveTo>
                  <a:pt x="135" y="87"/>
                </a:moveTo>
                <a:cubicBezTo>
                  <a:pt x="125" y="87"/>
                  <a:pt x="116" y="78"/>
                  <a:pt x="116" y="68"/>
                </a:cubicBezTo>
                <a:cubicBezTo>
                  <a:pt x="116" y="57"/>
                  <a:pt x="125" y="48"/>
                  <a:pt x="135" y="48"/>
                </a:cubicBezTo>
                <a:cubicBezTo>
                  <a:pt x="146" y="48"/>
                  <a:pt x="154" y="57"/>
                  <a:pt x="154" y="68"/>
                </a:cubicBezTo>
                <a:cubicBezTo>
                  <a:pt x="154" y="78"/>
                  <a:pt x="146" y="87"/>
                  <a:pt x="135" y="87"/>
                </a:cubicBezTo>
                <a:close/>
                <a:moveTo>
                  <a:pt x="168" y="55"/>
                </a:moveTo>
                <a:cubicBezTo>
                  <a:pt x="160" y="55"/>
                  <a:pt x="153" y="48"/>
                  <a:pt x="153" y="40"/>
                </a:cubicBezTo>
                <a:cubicBezTo>
                  <a:pt x="153" y="32"/>
                  <a:pt x="160" y="25"/>
                  <a:pt x="168" y="25"/>
                </a:cubicBezTo>
                <a:cubicBezTo>
                  <a:pt x="176" y="25"/>
                  <a:pt x="183" y="32"/>
                  <a:pt x="183" y="40"/>
                </a:cubicBezTo>
                <a:cubicBezTo>
                  <a:pt x="183" y="48"/>
                  <a:pt x="176" y="55"/>
                  <a:pt x="168" y="55"/>
                </a:cubicBezTo>
                <a:close/>
              </a:path>
            </a:pathLst>
          </a:cu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5" name="Freeform 84"/>
          <p:cNvSpPr/>
          <p:nvPr/>
        </p:nvSpPr>
        <p:spPr>
          <a:xfrm>
            <a:off x="8813880" y="3840120"/>
            <a:ext cx="376200" cy="398520"/>
          </a:xfrm>
          <a:custGeom>
            <a:avLst/>
            <a:gdLst/>
            <a:ahLst/>
            <a:rect l="l" t="t" r="r" b="b"/>
            <a:pathLst>
              <a:path w="178" h="188">
                <a:moveTo>
                  <a:pt x="171" y="115"/>
                </a:moveTo>
                <a:cubicBezTo>
                  <a:pt x="165" y="98"/>
                  <a:pt x="151" y="86"/>
                  <a:pt x="147" y="86"/>
                </a:cubicBezTo>
                <a:cubicBezTo>
                  <a:pt x="144" y="86"/>
                  <a:pt x="125" y="89"/>
                  <a:pt x="114" y="95"/>
                </a:cubicBezTo>
                <a:cubicBezTo>
                  <a:pt x="103" y="101"/>
                  <a:pt x="95" y="111"/>
                  <a:pt x="95" y="111"/>
                </a:cubicBezTo>
                <a:cubicBezTo>
                  <a:pt x="95" y="111"/>
                  <a:pt x="87" y="109"/>
                  <a:pt x="76" y="110"/>
                </a:cubicBezTo>
                <a:cubicBezTo>
                  <a:pt x="70" y="110"/>
                  <a:pt x="61" y="116"/>
                  <a:pt x="61" y="116"/>
                </a:cubicBezTo>
                <a:cubicBezTo>
                  <a:pt x="61" y="116"/>
                  <a:pt x="66" y="105"/>
                  <a:pt x="67" y="98"/>
                </a:cubicBezTo>
                <a:cubicBezTo>
                  <a:pt x="69" y="79"/>
                  <a:pt x="72" y="56"/>
                  <a:pt x="82" y="51"/>
                </a:cubicBezTo>
                <a:cubicBezTo>
                  <a:pt x="84" y="49"/>
                  <a:pt x="92" y="50"/>
                  <a:pt x="95" y="49"/>
                </a:cubicBezTo>
                <a:cubicBezTo>
                  <a:pt x="98" y="49"/>
                  <a:pt x="109" y="42"/>
                  <a:pt x="112" y="42"/>
                </a:cubicBezTo>
                <a:cubicBezTo>
                  <a:pt x="115" y="41"/>
                  <a:pt x="113" y="35"/>
                  <a:pt x="113" y="35"/>
                </a:cubicBezTo>
                <a:cubicBezTo>
                  <a:pt x="113" y="35"/>
                  <a:pt x="115" y="31"/>
                  <a:pt x="119" y="29"/>
                </a:cubicBezTo>
                <a:cubicBezTo>
                  <a:pt x="123" y="26"/>
                  <a:pt x="118" y="18"/>
                  <a:pt x="113" y="12"/>
                </a:cubicBezTo>
                <a:cubicBezTo>
                  <a:pt x="110" y="9"/>
                  <a:pt x="103" y="0"/>
                  <a:pt x="101" y="0"/>
                </a:cubicBezTo>
                <a:cubicBezTo>
                  <a:pt x="99" y="0"/>
                  <a:pt x="80" y="10"/>
                  <a:pt x="72" y="13"/>
                </a:cubicBezTo>
                <a:cubicBezTo>
                  <a:pt x="60" y="17"/>
                  <a:pt x="57" y="24"/>
                  <a:pt x="56" y="28"/>
                </a:cubicBezTo>
                <a:cubicBezTo>
                  <a:pt x="56" y="28"/>
                  <a:pt x="45" y="46"/>
                  <a:pt x="38" y="58"/>
                </a:cubicBezTo>
                <a:cubicBezTo>
                  <a:pt x="24" y="81"/>
                  <a:pt x="1" y="105"/>
                  <a:pt x="1" y="129"/>
                </a:cubicBezTo>
                <a:cubicBezTo>
                  <a:pt x="0" y="153"/>
                  <a:pt x="9" y="161"/>
                  <a:pt x="10" y="174"/>
                </a:cubicBezTo>
                <a:cubicBezTo>
                  <a:pt x="11" y="186"/>
                  <a:pt x="13" y="186"/>
                  <a:pt x="18" y="187"/>
                </a:cubicBezTo>
                <a:cubicBezTo>
                  <a:pt x="23" y="188"/>
                  <a:pt x="36" y="180"/>
                  <a:pt x="56" y="177"/>
                </a:cubicBezTo>
                <a:cubicBezTo>
                  <a:pt x="75" y="175"/>
                  <a:pt x="99" y="177"/>
                  <a:pt x="109" y="174"/>
                </a:cubicBezTo>
                <a:cubicBezTo>
                  <a:pt x="110" y="173"/>
                  <a:pt x="111" y="173"/>
                  <a:pt x="112" y="173"/>
                </a:cubicBezTo>
                <a:cubicBezTo>
                  <a:pt x="120" y="169"/>
                  <a:pt x="126" y="164"/>
                  <a:pt x="134" y="159"/>
                </a:cubicBezTo>
                <a:cubicBezTo>
                  <a:pt x="152" y="146"/>
                  <a:pt x="167" y="152"/>
                  <a:pt x="167" y="152"/>
                </a:cubicBezTo>
                <a:cubicBezTo>
                  <a:pt x="167" y="152"/>
                  <a:pt x="159" y="153"/>
                  <a:pt x="152" y="157"/>
                </a:cubicBezTo>
                <a:cubicBezTo>
                  <a:pt x="160" y="160"/>
                  <a:pt x="170" y="165"/>
                  <a:pt x="170" y="165"/>
                </a:cubicBezTo>
                <a:cubicBezTo>
                  <a:pt x="170" y="165"/>
                  <a:pt x="178" y="138"/>
                  <a:pt x="171" y="115"/>
                </a:cubicBezTo>
                <a:close/>
              </a:path>
            </a:pathLst>
          </a:custGeom>
          <a:solidFill>
            <a:srgbClr val="41b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6" name="Freeform 96"/>
          <p:cNvSpPr/>
          <p:nvPr/>
        </p:nvSpPr>
        <p:spPr>
          <a:xfrm>
            <a:off x="5398920" y="5218200"/>
            <a:ext cx="443160" cy="374400"/>
          </a:xfrm>
          <a:custGeom>
            <a:avLst/>
            <a:gdLst/>
            <a:ahLst/>
            <a:rect l="l" t="t" r="r" b="b"/>
            <a:pathLst>
              <a:path w="209" h="177">
                <a:moveTo>
                  <a:pt x="75" y="49"/>
                </a:moveTo>
                <a:cubicBezTo>
                  <a:pt x="76" y="48"/>
                  <a:pt x="77" y="47"/>
                  <a:pt x="77" y="47"/>
                </a:cubicBezTo>
                <a:cubicBezTo>
                  <a:pt x="79" y="44"/>
                  <a:pt x="69" y="33"/>
                  <a:pt x="74" y="23"/>
                </a:cubicBezTo>
                <a:cubicBezTo>
                  <a:pt x="80" y="13"/>
                  <a:pt x="96" y="12"/>
                  <a:pt x="96" y="12"/>
                </a:cubicBezTo>
                <a:cubicBezTo>
                  <a:pt x="95" y="7"/>
                  <a:pt x="95" y="7"/>
                  <a:pt x="95" y="7"/>
                </a:cubicBezTo>
                <a:cubicBezTo>
                  <a:pt x="95" y="7"/>
                  <a:pt x="63" y="0"/>
                  <a:pt x="47" y="15"/>
                </a:cubicBezTo>
                <a:cubicBezTo>
                  <a:pt x="38" y="24"/>
                  <a:pt x="15" y="47"/>
                  <a:pt x="15" y="47"/>
                </a:cubicBezTo>
                <a:cubicBezTo>
                  <a:pt x="15" y="47"/>
                  <a:pt x="16" y="51"/>
                  <a:pt x="14" y="53"/>
                </a:cubicBezTo>
                <a:cubicBezTo>
                  <a:pt x="12" y="55"/>
                  <a:pt x="8" y="55"/>
                  <a:pt x="8" y="55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3"/>
                  <a:pt x="5" y="72"/>
                  <a:pt x="13" y="80"/>
                </a:cubicBezTo>
                <a:cubicBezTo>
                  <a:pt x="21" y="88"/>
                  <a:pt x="30" y="93"/>
                  <a:pt x="30" y="93"/>
                </a:cubicBezTo>
                <a:cubicBezTo>
                  <a:pt x="38" y="85"/>
                  <a:pt x="38" y="85"/>
                  <a:pt x="38" y="85"/>
                </a:cubicBezTo>
                <a:cubicBezTo>
                  <a:pt x="38" y="85"/>
                  <a:pt x="38" y="81"/>
                  <a:pt x="40" y="79"/>
                </a:cubicBezTo>
                <a:cubicBezTo>
                  <a:pt x="42" y="77"/>
                  <a:pt x="46" y="78"/>
                  <a:pt x="46" y="78"/>
                </a:cubicBezTo>
                <a:cubicBezTo>
                  <a:pt x="46" y="78"/>
                  <a:pt x="47" y="77"/>
                  <a:pt x="49" y="75"/>
                </a:cubicBezTo>
                <a:cubicBezTo>
                  <a:pt x="143" y="172"/>
                  <a:pt x="143" y="172"/>
                  <a:pt x="143" y="172"/>
                </a:cubicBezTo>
                <a:cubicBezTo>
                  <a:pt x="145" y="176"/>
                  <a:pt x="149" y="177"/>
                  <a:pt x="154" y="177"/>
                </a:cubicBezTo>
                <a:cubicBezTo>
                  <a:pt x="158" y="177"/>
                  <a:pt x="162" y="176"/>
                  <a:pt x="165" y="173"/>
                </a:cubicBezTo>
                <a:cubicBezTo>
                  <a:pt x="172" y="165"/>
                  <a:pt x="172" y="165"/>
                  <a:pt x="172" y="165"/>
                </a:cubicBezTo>
                <a:cubicBezTo>
                  <a:pt x="175" y="162"/>
                  <a:pt x="177" y="158"/>
                  <a:pt x="177" y="154"/>
                </a:cubicBezTo>
                <a:cubicBezTo>
                  <a:pt x="177" y="150"/>
                  <a:pt x="175" y="146"/>
                  <a:pt x="172" y="143"/>
                </a:cubicBezTo>
                <a:lnTo>
                  <a:pt x="75" y="49"/>
                </a:lnTo>
                <a:close/>
                <a:moveTo>
                  <a:pt x="167" y="160"/>
                </a:moveTo>
                <a:cubicBezTo>
                  <a:pt x="159" y="167"/>
                  <a:pt x="159" y="167"/>
                  <a:pt x="159" y="167"/>
                </a:cubicBezTo>
                <a:cubicBezTo>
                  <a:pt x="158" y="169"/>
                  <a:pt x="156" y="169"/>
                  <a:pt x="154" y="169"/>
                </a:cubicBezTo>
                <a:cubicBezTo>
                  <a:pt x="152" y="169"/>
                  <a:pt x="150" y="168"/>
                  <a:pt x="148" y="167"/>
                </a:cubicBezTo>
                <a:cubicBezTo>
                  <a:pt x="54" y="69"/>
                  <a:pt x="54" y="69"/>
                  <a:pt x="54" y="69"/>
                </a:cubicBezTo>
                <a:cubicBezTo>
                  <a:pt x="59" y="65"/>
                  <a:pt x="65" y="59"/>
                  <a:pt x="69" y="54"/>
                </a:cubicBezTo>
                <a:cubicBezTo>
                  <a:pt x="167" y="148"/>
                  <a:pt x="167" y="148"/>
                  <a:pt x="167" y="148"/>
                </a:cubicBezTo>
                <a:cubicBezTo>
                  <a:pt x="168" y="150"/>
                  <a:pt x="169" y="152"/>
                  <a:pt x="169" y="154"/>
                </a:cubicBezTo>
                <a:cubicBezTo>
                  <a:pt x="169" y="156"/>
                  <a:pt x="168" y="158"/>
                  <a:pt x="167" y="160"/>
                </a:cubicBezTo>
                <a:close/>
                <a:moveTo>
                  <a:pt x="76" y="112"/>
                </a:moveTo>
                <a:cubicBezTo>
                  <a:pt x="104" y="142"/>
                  <a:pt x="104" y="142"/>
                  <a:pt x="104" y="142"/>
                </a:cubicBezTo>
                <a:cubicBezTo>
                  <a:pt x="76" y="171"/>
                  <a:pt x="76" y="171"/>
                  <a:pt x="76" y="171"/>
                </a:cubicBezTo>
                <a:cubicBezTo>
                  <a:pt x="73" y="174"/>
                  <a:pt x="69" y="176"/>
                  <a:pt x="65" y="176"/>
                </a:cubicBezTo>
                <a:cubicBezTo>
                  <a:pt x="60" y="176"/>
                  <a:pt x="56" y="175"/>
                  <a:pt x="53" y="172"/>
                </a:cubicBezTo>
                <a:cubicBezTo>
                  <a:pt x="46" y="164"/>
                  <a:pt x="46" y="164"/>
                  <a:pt x="46" y="164"/>
                </a:cubicBezTo>
                <a:cubicBezTo>
                  <a:pt x="43" y="161"/>
                  <a:pt x="41" y="157"/>
                  <a:pt x="41" y="153"/>
                </a:cubicBezTo>
                <a:cubicBezTo>
                  <a:pt x="41" y="149"/>
                  <a:pt x="43" y="145"/>
                  <a:pt x="46" y="142"/>
                </a:cubicBezTo>
                <a:lnTo>
                  <a:pt x="76" y="112"/>
                </a:lnTo>
                <a:close/>
                <a:moveTo>
                  <a:pt x="209" y="56"/>
                </a:moveTo>
                <a:cubicBezTo>
                  <a:pt x="207" y="61"/>
                  <a:pt x="204" y="66"/>
                  <a:pt x="200" y="70"/>
                </a:cubicBezTo>
                <a:cubicBezTo>
                  <a:pt x="191" y="79"/>
                  <a:pt x="177" y="83"/>
                  <a:pt x="165" y="79"/>
                </a:cubicBezTo>
                <a:cubicBezTo>
                  <a:pt x="141" y="104"/>
                  <a:pt x="141" y="104"/>
                  <a:pt x="141" y="104"/>
                </a:cubicBezTo>
                <a:cubicBezTo>
                  <a:pt x="113" y="77"/>
                  <a:pt x="113" y="77"/>
                  <a:pt x="113" y="77"/>
                </a:cubicBezTo>
                <a:cubicBezTo>
                  <a:pt x="138" y="53"/>
                  <a:pt x="138" y="53"/>
                  <a:pt x="138" y="53"/>
                </a:cubicBezTo>
                <a:cubicBezTo>
                  <a:pt x="135" y="40"/>
                  <a:pt x="138" y="27"/>
                  <a:pt x="148" y="17"/>
                </a:cubicBezTo>
                <a:cubicBezTo>
                  <a:pt x="162" y="2"/>
                  <a:pt x="186" y="2"/>
                  <a:pt x="200" y="17"/>
                </a:cubicBezTo>
                <a:cubicBezTo>
                  <a:pt x="171" y="25"/>
                  <a:pt x="171" y="25"/>
                  <a:pt x="171" y="25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81" y="64"/>
                  <a:pt x="181" y="64"/>
                  <a:pt x="181" y="64"/>
                </a:cubicBezTo>
                <a:lnTo>
                  <a:pt x="209" y="56"/>
                </a:lnTo>
                <a:close/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7" name="Freeform 100"/>
          <p:cNvSpPr/>
          <p:nvPr/>
        </p:nvSpPr>
        <p:spPr>
          <a:xfrm>
            <a:off x="8780400" y="2421000"/>
            <a:ext cx="442800" cy="403200"/>
          </a:xfrm>
          <a:custGeom>
            <a:avLst/>
            <a:gdLst/>
            <a:ahLst/>
            <a:rect l="l" t="t" r="r" b="b"/>
            <a:pathLst>
              <a:path w="209" h="190">
                <a:moveTo>
                  <a:pt x="87" y="175"/>
                </a:moveTo>
                <a:cubicBezTo>
                  <a:pt x="84" y="175"/>
                  <a:pt x="81" y="173"/>
                  <a:pt x="81" y="169"/>
                </a:cubicBezTo>
                <a:cubicBezTo>
                  <a:pt x="81" y="166"/>
                  <a:pt x="84" y="163"/>
                  <a:pt x="87" y="163"/>
                </a:cubicBezTo>
                <a:cubicBezTo>
                  <a:pt x="123" y="163"/>
                  <a:pt x="123" y="163"/>
                  <a:pt x="123" y="163"/>
                </a:cubicBezTo>
                <a:cubicBezTo>
                  <a:pt x="127" y="163"/>
                  <a:pt x="129" y="166"/>
                  <a:pt x="129" y="169"/>
                </a:cubicBezTo>
                <a:cubicBezTo>
                  <a:pt x="129" y="173"/>
                  <a:pt x="127" y="175"/>
                  <a:pt x="123" y="175"/>
                </a:cubicBezTo>
                <a:lnTo>
                  <a:pt x="87" y="175"/>
                </a:lnTo>
                <a:close/>
                <a:moveTo>
                  <a:pt x="140" y="178"/>
                </a:moveTo>
                <a:cubicBezTo>
                  <a:pt x="70" y="178"/>
                  <a:pt x="70" y="178"/>
                  <a:pt x="70" y="178"/>
                </a:cubicBezTo>
                <a:cubicBezTo>
                  <a:pt x="67" y="178"/>
                  <a:pt x="64" y="181"/>
                  <a:pt x="64" y="184"/>
                </a:cubicBezTo>
                <a:cubicBezTo>
                  <a:pt x="64" y="188"/>
                  <a:pt x="67" y="190"/>
                  <a:pt x="70" y="190"/>
                </a:cubicBezTo>
                <a:cubicBezTo>
                  <a:pt x="140" y="190"/>
                  <a:pt x="140" y="190"/>
                  <a:pt x="140" y="190"/>
                </a:cubicBezTo>
                <a:cubicBezTo>
                  <a:pt x="144" y="190"/>
                  <a:pt x="146" y="188"/>
                  <a:pt x="146" y="184"/>
                </a:cubicBezTo>
                <a:cubicBezTo>
                  <a:pt x="146" y="181"/>
                  <a:pt x="144" y="178"/>
                  <a:pt x="140" y="178"/>
                </a:cubicBezTo>
                <a:close/>
                <a:moveTo>
                  <a:pt x="209" y="101"/>
                </a:moveTo>
                <a:cubicBezTo>
                  <a:pt x="209" y="116"/>
                  <a:pt x="193" y="129"/>
                  <a:pt x="173" y="129"/>
                </a:cubicBezTo>
                <a:cubicBezTo>
                  <a:pt x="153" y="129"/>
                  <a:pt x="137" y="116"/>
                  <a:pt x="137" y="101"/>
                </a:cubicBezTo>
                <a:cubicBezTo>
                  <a:pt x="140" y="101"/>
                  <a:pt x="140" y="101"/>
                  <a:pt x="140" y="101"/>
                </a:cubicBezTo>
                <a:cubicBezTo>
                  <a:pt x="169" y="31"/>
                  <a:pt x="169" y="31"/>
                  <a:pt x="169" y="31"/>
                </a:cubicBezTo>
                <a:cubicBezTo>
                  <a:pt x="167" y="31"/>
                  <a:pt x="165" y="29"/>
                  <a:pt x="164" y="28"/>
                </a:cubicBezTo>
                <a:cubicBezTo>
                  <a:pt x="150" y="25"/>
                  <a:pt x="131" y="26"/>
                  <a:pt x="111" y="31"/>
                </a:cubicBezTo>
                <a:cubicBezTo>
                  <a:pt x="111" y="159"/>
                  <a:pt x="111" y="159"/>
                  <a:pt x="111" y="159"/>
                </a:cubicBezTo>
                <a:cubicBezTo>
                  <a:pt x="99" y="159"/>
                  <a:pt x="99" y="159"/>
                  <a:pt x="99" y="159"/>
                </a:cubicBezTo>
                <a:cubicBezTo>
                  <a:pt x="99" y="34"/>
                  <a:pt x="99" y="34"/>
                  <a:pt x="99" y="34"/>
                </a:cubicBezTo>
                <a:cubicBezTo>
                  <a:pt x="77" y="41"/>
                  <a:pt x="57" y="51"/>
                  <a:pt x="46" y="61"/>
                </a:cubicBezTo>
                <a:cubicBezTo>
                  <a:pt x="46" y="64"/>
                  <a:pt x="45" y="66"/>
                  <a:pt x="44" y="68"/>
                </a:cubicBezTo>
                <a:cubicBezTo>
                  <a:pt x="43" y="68"/>
                  <a:pt x="42" y="69"/>
                  <a:pt x="42" y="70"/>
                </a:cubicBezTo>
                <a:cubicBezTo>
                  <a:pt x="69" y="135"/>
                  <a:pt x="69" y="135"/>
                  <a:pt x="69" y="135"/>
                </a:cubicBezTo>
                <a:cubicBezTo>
                  <a:pt x="72" y="135"/>
                  <a:pt x="72" y="135"/>
                  <a:pt x="72" y="135"/>
                </a:cubicBezTo>
                <a:cubicBezTo>
                  <a:pt x="72" y="150"/>
                  <a:pt x="56" y="163"/>
                  <a:pt x="36" y="163"/>
                </a:cubicBezTo>
                <a:cubicBezTo>
                  <a:pt x="16" y="163"/>
                  <a:pt x="0" y="150"/>
                  <a:pt x="0" y="135"/>
                </a:cubicBezTo>
                <a:cubicBezTo>
                  <a:pt x="3" y="135"/>
                  <a:pt x="3" y="135"/>
                  <a:pt x="3" y="135"/>
                </a:cubicBezTo>
                <a:cubicBezTo>
                  <a:pt x="31" y="68"/>
                  <a:pt x="31" y="68"/>
                  <a:pt x="31" y="68"/>
                </a:cubicBezTo>
                <a:cubicBezTo>
                  <a:pt x="27" y="65"/>
                  <a:pt x="27" y="60"/>
                  <a:pt x="30" y="56"/>
                </a:cubicBezTo>
                <a:cubicBezTo>
                  <a:pt x="32" y="54"/>
                  <a:pt x="35" y="53"/>
                  <a:pt x="37" y="53"/>
                </a:cubicBezTo>
                <a:cubicBezTo>
                  <a:pt x="50" y="40"/>
                  <a:pt x="73" y="29"/>
                  <a:pt x="99" y="22"/>
                </a:cubicBezTo>
                <a:cubicBezTo>
                  <a:pt x="99" y="16"/>
                  <a:pt x="99" y="16"/>
                  <a:pt x="99" y="16"/>
                </a:cubicBezTo>
                <a:cubicBezTo>
                  <a:pt x="97" y="14"/>
                  <a:pt x="96" y="12"/>
                  <a:pt x="96" y="9"/>
                </a:cubicBezTo>
                <a:cubicBezTo>
                  <a:pt x="96" y="4"/>
                  <a:pt x="100" y="0"/>
                  <a:pt x="105" y="0"/>
                </a:cubicBezTo>
                <a:cubicBezTo>
                  <a:pt x="110" y="0"/>
                  <a:pt x="114" y="4"/>
                  <a:pt x="114" y="9"/>
                </a:cubicBezTo>
                <a:cubicBezTo>
                  <a:pt x="114" y="12"/>
                  <a:pt x="113" y="14"/>
                  <a:pt x="111" y="16"/>
                </a:cubicBezTo>
                <a:cubicBezTo>
                  <a:pt x="111" y="19"/>
                  <a:pt x="111" y="19"/>
                  <a:pt x="111" y="19"/>
                </a:cubicBezTo>
                <a:cubicBezTo>
                  <a:pt x="132" y="14"/>
                  <a:pt x="152" y="13"/>
                  <a:pt x="167" y="16"/>
                </a:cubicBezTo>
                <a:cubicBezTo>
                  <a:pt x="169" y="14"/>
                  <a:pt x="173" y="14"/>
                  <a:pt x="175" y="15"/>
                </a:cubicBezTo>
                <a:cubicBezTo>
                  <a:pt x="180" y="16"/>
                  <a:pt x="183" y="22"/>
                  <a:pt x="181" y="26"/>
                </a:cubicBezTo>
                <a:cubicBezTo>
                  <a:pt x="180" y="28"/>
                  <a:pt x="179" y="30"/>
                  <a:pt x="177" y="31"/>
                </a:cubicBezTo>
                <a:cubicBezTo>
                  <a:pt x="206" y="101"/>
                  <a:pt x="206" y="101"/>
                  <a:pt x="206" y="101"/>
                </a:cubicBezTo>
                <a:lnTo>
                  <a:pt x="209" y="101"/>
                </a:lnTo>
                <a:close/>
                <a:moveTo>
                  <a:pt x="59" y="135"/>
                </a:moveTo>
                <a:cubicBezTo>
                  <a:pt x="36" y="73"/>
                  <a:pt x="36" y="73"/>
                  <a:pt x="36" y="73"/>
                </a:cubicBezTo>
                <a:cubicBezTo>
                  <a:pt x="12" y="135"/>
                  <a:pt x="12" y="135"/>
                  <a:pt x="12" y="135"/>
                </a:cubicBezTo>
                <a:cubicBezTo>
                  <a:pt x="59" y="135"/>
                  <a:pt x="59" y="135"/>
                  <a:pt x="59" y="135"/>
                </a:cubicBezTo>
                <a:close/>
                <a:moveTo>
                  <a:pt x="197" y="100"/>
                </a:moveTo>
                <a:cubicBezTo>
                  <a:pt x="173" y="39"/>
                  <a:pt x="173" y="39"/>
                  <a:pt x="173" y="39"/>
                </a:cubicBezTo>
                <a:cubicBezTo>
                  <a:pt x="149" y="101"/>
                  <a:pt x="149" y="101"/>
                  <a:pt x="149" y="101"/>
                </a:cubicBezTo>
                <a:cubicBezTo>
                  <a:pt x="196" y="101"/>
                  <a:pt x="196" y="101"/>
                  <a:pt x="196" y="101"/>
                </a:cubicBezTo>
                <a:lnTo>
                  <a:pt x="197" y="100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5" dur="indefinite" restart="never" nodeType="tmRoot">
          <p:childTnLst>
            <p:seq>
              <p:cTn id="1826" dur="indefinite" nodeType="mainSeq">
                <p:childTnLst>
                  <p:par>
                    <p:cTn id="1827" nodeType="clickEffect" fill="hold">
                      <p:stCondLst>
                        <p:cond delay="0"/>
                      </p:stCondLst>
                      <p:childTnLst>
                        <p:par>
                          <p:cTn id="1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5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Poppins"/>
              </a:rPr>
              <a:t>KEY OF SUCCESS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99" name="Freeform 5"/>
          <p:cNvSpPr/>
          <p:nvPr/>
        </p:nvSpPr>
        <p:spPr>
          <a:xfrm>
            <a:off x="4805280" y="2092320"/>
            <a:ext cx="2008440" cy="2009880"/>
          </a:xfrm>
          <a:custGeom>
            <a:avLst/>
            <a:gdLst/>
            <a:ahLst/>
            <a:rect l="l" t="t" r="r" b="b"/>
            <a:pathLst>
              <a:path w="880" h="880">
                <a:moveTo>
                  <a:pt x="217" y="768"/>
                </a:moveTo>
                <a:cubicBezTo>
                  <a:pt x="317" y="768"/>
                  <a:pt x="317" y="768"/>
                  <a:pt x="317" y="768"/>
                </a:cubicBezTo>
                <a:cubicBezTo>
                  <a:pt x="317" y="765"/>
                  <a:pt x="317" y="761"/>
                  <a:pt x="317" y="757"/>
                </a:cubicBezTo>
                <a:cubicBezTo>
                  <a:pt x="317" y="756"/>
                  <a:pt x="317" y="755"/>
                  <a:pt x="317" y="754"/>
                </a:cubicBezTo>
                <a:cubicBezTo>
                  <a:pt x="318" y="751"/>
                  <a:pt x="318" y="749"/>
                  <a:pt x="318" y="746"/>
                </a:cubicBezTo>
                <a:cubicBezTo>
                  <a:pt x="318" y="745"/>
                  <a:pt x="318" y="744"/>
                  <a:pt x="318" y="742"/>
                </a:cubicBezTo>
                <a:cubicBezTo>
                  <a:pt x="318" y="740"/>
                  <a:pt x="318" y="738"/>
                  <a:pt x="318" y="736"/>
                </a:cubicBezTo>
                <a:cubicBezTo>
                  <a:pt x="318" y="734"/>
                  <a:pt x="319" y="733"/>
                  <a:pt x="319" y="731"/>
                </a:cubicBezTo>
                <a:cubicBezTo>
                  <a:pt x="319" y="729"/>
                  <a:pt x="319" y="727"/>
                  <a:pt x="319" y="725"/>
                </a:cubicBezTo>
                <a:cubicBezTo>
                  <a:pt x="319" y="723"/>
                  <a:pt x="320" y="722"/>
                  <a:pt x="320" y="720"/>
                </a:cubicBezTo>
                <a:cubicBezTo>
                  <a:pt x="320" y="718"/>
                  <a:pt x="320" y="716"/>
                  <a:pt x="320" y="714"/>
                </a:cubicBezTo>
                <a:cubicBezTo>
                  <a:pt x="321" y="712"/>
                  <a:pt x="321" y="711"/>
                  <a:pt x="321" y="710"/>
                </a:cubicBezTo>
                <a:cubicBezTo>
                  <a:pt x="321" y="707"/>
                  <a:pt x="322" y="705"/>
                  <a:pt x="322" y="702"/>
                </a:cubicBezTo>
                <a:cubicBezTo>
                  <a:pt x="322" y="701"/>
                  <a:pt x="322" y="700"/>
                  <a:pt x="322" y="699"/>
                </a:cubicBezTo>
                <a:cubicBezTo>
                  <a:pt x="323" y="696"/>
                  <a:pt x="324" y="692"/>
                  <a:pt x="324" y="689"/>
                </a:cubicBezTo>
                <a:cubicBezTo>
                  <a:pt x="324" y="688"/>
                  <a:pt x="325" y="686"/>
                  <a:pt x="325" y="685"/>
                </a:cubicBezTo>
                <a:cubicBezTo>
                  <a:pt x="325" y="683"/>
                  <a:pt x="326" y="681"/>
                  <a:pt x="326" y="679"/>
                </a:cubicBezTo>
                <a:cubicBezTo>
                  <a:pt x="326" y="677"/>
                  <a:pt x="327" y="675"/>
                  <a:pt x="327" y="674"/>
                </a:cubicBezTo>
                <a:cubicBezTo>
                  <a:pt x="327" y="672"/>
                  <a:pt x="328" y="670"/>
                  <a:pt x="328" y="668"/>
                </a:cubicBezTo>
                <a:cubicBezTo>
                  <a:pt x="329" y="667"/>
                  <a:pt x="329" y="665"/>
                  <a:pt x="329" y="663"/>
                </a:cubicBezTo>
                <a:cubicBezTo>
                  <a:pt x="330" y="662"/>
                  <a:pt x="330" y="660"/>
                  <a:pt x="331" y="658"/>
                </a:cubicBezTo>
                <a:cubicBezTo>
                  <a:pt x="331" y="657"/>
                  <a:pt x="332" y="655"/>
                  <a:pt x="332" y="653"/>
                </a:cubicBezTo>
                <a:cubicBezTo>
                  <a:pt x="332" y="652"/>
                  <a:pt x="333" y="650"/>
                  <a:pt x="333" y="648"/>
                </a:cubicBezTo>
                <a:cubicBezTo>
                  <a:pt x="334" y="647"/>
                  <a:pt x="334" y="645"/>
                  <a:pt x="335" y="643"/>
                </a:cubicBezTo>
                <a:cubicBezTo>
                  <a:pt x="335" y="642"/>
                  <a:pt x="336" y="640"/>
                  <a:pt x="336" y="639"/>
                </a:cubicBezTo>
                <a:cubicBezTo>
                  <a:pt x="337" y="637"/>
                  <a:pt x="337" y="635"/>
                  <a:pt x="338" y="633"/>
                </a:cubicBezTo>
                <a:cubicBezTo>
                  <a:pt x="338" y="632"/>
                  <a:pt x="338" y="631"/>
                  <a:pt x="339" y="630"/>
                </a:cubicBezTo>
                <a:cubicBezTo>
                  <a:pt x="340" y="626"/>
                  <a:pt x="342" y="622"/>
                  <a:pt x="343" y="617"/>
                </a:cubicBezTo>
                <a:cubicBezTo>
                  <a:pt x="343" y="616"/>
                  <a:pt x="344" y="615"/>
                  <a:pt x="344" y="615"/>
                </a:cubicBezTo>
                <a:cubicBezTo>
                  <a:pt x="345" y="612"/>
                  <a:pt x="346" y="610"/>
                  <a:pt x="346" y="608"/>
                </a:cubicBezTo>
                <a:cubicBezTo>
                  <a:pt x="347" y="607"/>
                  <a:pt x="347" y="606"/>
                  <a:pt x="348" y="605"/>
                </a:cubicBezTo>
                <a:cubicBezTo>
                  <a:pt x="348" y="603"/>
                  <a:pt x="349" y="601"/>
                  <a:pt x="350" y="599"/>
                </a:cubicBezTo>
                <a:cubicBezTo>
                  <a:pt x="351" y="598"/>
                  <a:pt x="351" y="597"/>
                  <a:pt x="351" y="596"/>
                </a:cubicBezTo>
                <a:cubicBezTo>
                  <a:pt x="352" y="594"/>
                  <a:pt x="353" y="592"/>
                  <a:pt x="354" y="590"/>
                </a:cubicBezTo>
                <a:cubicBezTo>
                  <a:pt x="354" y="589"/>
                  <a:pt x="355" y="588"/>
                  <a:pt x="355" y="587"/>
                </a:cubicBezTo>
                <a:cubicBezTo>
                  <a:pt x="356" y="584"/>
                  <a:pt x="357" y="582"/>
                  <a:pt x="358" y="580"/>
                </a:cubicBezTo>
                <a:cubicBezTo>
                  <a:pt x="358" y="579"/>
                  <a:pt x="359" y="579"/>
                  <a:pt x="359" y="578"/>
                </a:cubicBezTo>
                <a:cubicBezTo>
                  <a:pt x="364" y="567"/>
                  <a:pt x="370" y="557"/>
                  <a:pt x="375" y="546"/>
                </a:cubicBezTo>
                <a:cubicBezTo>
                  <a:pt x="376" y="546"/>
                  <a:pt x="376" y="546"/>
                  <a:pt x="376" y="546"/>
                </a:cubicBezTo>
                <a:cubicBezTo>
                  <a:pt x="377" y="544"/>
                  <a:pt x="378" y="541"/>
                  <a:pt x="380" y="539"/>
                </a:cubicBezTo>
                <a:cubicBezTo>
                  <a:pt x="380" y="538"/>
                  <a:pt x="380" y="538"/>
                  <a:pt x="381" y="537"/>
                </a:cubicBezTo>
                <a:cubicBezTo>
                  <a:pt x="382" y="535"/>
                  <a:pt x="383" y="533"/>
                  <a:pt x="385" y="530"/>
                </a:cubicBezTo>
                <a:cubicBezTo>
                  <a:pt x="385" y="530"/>
                  <a:pt x="385" y="530"/>
                  <a:pt x="386" y="529"/>
                </a:cubicBezTo>
                <a:cubicBezTo>
                  <a:pt x="387" y="527"/>
                  <a:pt x="389" y="524"/>
                  <a:pt x="390" y="522"/>
                </a:cubicBezTo>
                <a:cubicBezTo>
                  <a:pt x="390" y="522"/>
                  <a:pt x="391" y="522"/>
                  <a:pt x="391" y="521"/>
                </a:cubicBezTo>
                <a:cubicBezTo>
                  <a:pt x="399" y="508"/>
                  <a:pt x="408" y="496"/>
                  <a:pt x="418" y="484"/>
                </a:cubicBezTo>
                <a:cubicBezTo>
                  <a:pt x="418" y="484"/>
                  <a:pt x="418" y="484"/>
                  <a:pt x="418" y="484"/>
                </a:cubicBezTo>
                <a:cubicBezTo>
                  <a:pt x="418" y="484"/>
                  <a:pt x="418" y="484"/>
                  <a:pt x="418" y="484"/>
                </a:cubicBezTo>
                <a:cubicBezTo>
                  <a:pt x="418" y="484"/>
                  <a:pt x="418" y="484"/>
                  <a:pt x="418" y="484"/>
                </a:cubicBezTo>
                <a:cubicBezTo>
                  <a:pt x="418" y="484"/>
                  <a:pt x="418" y="484"/>
                  <a:pt x="418" y="484"/>
                </a:cubicBezTo>
                <a:cubicBezTo>
                  <a:pt x="419" y="482"/>
                  <a:pt x="421" y="481"/>
                  <a:pt x="422" y="479"/>
                </a:cubicBezTo>
                <a:cubicBezTo>
                  <a:pt x="422" y="479"/>
                  <a:pt x="422" y="479"/>
                  <a:pt x="422" y="479"/>
                </a:cubicBezTo>
                <a:cubicBezTo>
                  <a:pt x="429" y="469"/>
                  <a:pt x="427" y="459"/>
                  <a:pt x="406" y="456"/>
                </a:cubicBezTo>
                <a:cubicBezTo>
                  <a:pt x="404" y="456"/>
                  <a:pt x="401" y="456"/>
                  <a:pt x="399" y="456"/>
                </a:cubicBezTo>
                <a:cubicBezTo>
                  <a:pt x="399" y="456"/>
                  <a:pt x="399" y="456"/>
                  <a:pt x="399" y="456"/>
                </a:cubicBezTo>
                <a:cubicBezTo>
                  <a:pt x="389" y="454"/>
                  <a:pt x="379" y="450"/>
                  <a:pt x="372" y="442"/>
                </a:cubicBezTo>
                <a:cubicBezTo>
                  <a:pt x="352" y="423"/>
                  <a:pt x="352" y="391"/>
                  <a:pt x="372" y="372"/>
                </a:cubicBezTo>
                <a:cubicBezTo>
                  <a:pt x="391" y="352"/>
                  <a:pt x="423" y="352"/>
                  <a:pt x="442" y="372"/>
                </a:cubicBezTo>
                <a:cubicBezTo>
                  <a:pt x="450" y="379"/>
                  <a:pt x="454" y="389"/>
                  <a:pt x="456" y="399"/>
                </a:cubicBezTo>
                <a:cubicBezTo>
                  <a:pt x="456" y="399"/>
                  <a:pt x="456" y="399"/>
                  <a:pt x="456" y="399"/>
                </a:cubicBezTo>
                <a:cubicBezTo>
                  <a:pt x="456" y="401"/>
                  <a:pt x="456" y="404"/>
                  <a:pt x="456" y="406"/>
                </a:cubicBezTo>
                <a:cubicBezTo>
                  <a:pt x="459" y="427"/>
                  <a:pt x="469" y="429"/>
                  <a:pt x="479" y="422"/>
                </a:cubicBezTo>
                <a:cubicBezTo>
                  <a:pt x="479" y="422"/>
                  <a:pt x="479" y="422"/>
                  <a:pt x="479" y="422"/>
                </a:cubicBezTo>
                <a:cubicBezTo>
                  <a:pt x="481" y="421"/>
                  <a:pt x="482" y="419"/>
                  <a:pt x="484" y="418"/>
                </a:cubicBezTo>
                <a:cubicBezTo>
                  <a:pt x="484" y="418"/>
                  <a:pt x="484" y="418"/>
                  <a:pt x="484" y="418"/>
                </a:cubicBezTo>
                <a:cubicBezTo>
                  <a:pt x="484" y="418"/>
                  <a:pt x="484" y="418"/>
                  <a:pt x="484" y="418"/>
                </a:cubicBezTo>
                <a:cubicBezTo>
                  <a:pt x="484" y="418"/>
                  <a:pt x="484" y="418"/>
                  <a:pt x="484" y="418"/>
                </a:cubicBezTo>
                <a:cubicBezTo>
                  <a:pt x="496" y="408"/>
                  <a:pt x="508" y="399"/>
                  <a:pt x="521" y="391"/>
                </a:cubicBezTo>
                <a:cubicBezTo>
                  <a:pt x="522" y="390"/>
                  <a:pt x="522" y="390"/>
                  <a:pt x="522" y="390"/>
                </a:cubicBezTo>
                <a:cubicBezTo>
                  <a:pt x="524" y="389"/>
                  <a:pt x="527" y="387"/>
                  <a:pt x="529" y="386"/>
                </a:cubicBezTo>
                <a:cubicBezTo>
                  <a:pt x="530" y="385"/>
                  <a:pt x="530" y="385"/>
                  <a:pt x="530" y="385"/>
                </a:cubicBezTo>
                <a:cubicBezTo>
                  <a:pt x="533" y="383"/>
                  <a:pt x="535" y="382"/>
                  <a:pt x="537" y="381"/>
                </a:cubicBezTo>
                <a:cubicBezTo>
                  <a:pt x="538" y="380"/>
                  <a:pt x="538" y="380"/>
                  <a:pt x="539" y="380"/>
                </a:cubicBezTo>
                <a:cubicBezTo>
                  <a:pt x="541" y="378"/>
                  <a:pt x="544" y="377"/>
                  <a:pt x="546" y="376"/>
                </a:cubicBezTo>
                <a:cubicBezTo>
                  <a:pt x="546" y="376"/>
                  <a:pt x="546" y="376"/>
                  <a:pt x="546" y="376"/>
                </a:cubicBezTo>
                <a:cubicBezTo>
                  <a:pt x="557" y="370"/>
                  <a:pt x="567" y="364"/>
                  <a:pt x="578" y="359"/>
                </a:cubicBezTo>
                <a:cubicBezTo>
                  <a:pt x="579" y="359"/>
                  <a:pt x="579" y="358"/>
                  <a:pt x="580" y="358"/>
                </a:cubicBezTo>
                <a:cubicBezTo>
                  <a:pt x="582" y="357"/>
                  <a:pt x="584" y="356"/>
                  <a:pt x="587" y="355"/>
                </a:cubicBezTo>
                <a:cubicBezTo>
                  <a:pt x="588" y="355"/>
                  <a:pt x="589" y="354"/>
                  <a:pt x="590" y="354"/>
                </a:cubicBezTo>
                <a:cubicBezTo>
                  <a:pt x="592" y="353"/>
                  <a:pt x="594" y="352"/>
                  <a:pt x="596" y="351"/>
                </a:cubicBezTo>
                <a:cubicBezTo>
                  <a:pt x="597" y="351"/>
                  <a:pt x="598" y="351"/>
                  <a:pt x="599" y="350"/>
                </a:cubicBezTo>
                <a:cubicBezTo>
                  <a:pt x="601" y="349"/>
                  <a:pt x="603" y="348"/>
                  <a:pt x="605" y="348"/>
                </a:cubicBezTo>
                <a:cubicBezTo>
                  <a:pt x="606" y="347"/>
                  <a:pt x="607" y="347"/>
                  <a:pt x="608" y="346"/>
                </a:cubicBezTo>
                <a:cubicBezTo>
                  <a:pt x="610" y="346"/>
                  <a:pt x="612" y="345"/>
                  <a:pt x="615" y="344"/>
                </a:cubicBezTo>
                <a:cubicBezTo>
                  <a:pt x="615" y="344"/>
                  <a:pt x="616" y="343"/>
                  <a:pt x="617" y="343"/>
                </a:cubicBezTo>
                <a:cubicBezTo>
                  <a:pt x="622" y="342"/>
                  <a:pt x="626" y="340"/>
                  <a:pt x="630" y="339"/>
                </a:cubicBezTo>
                <a:cubicBezTo>
                  <a:pt x="631" y="338"/>
                  <a:pt x="632" y="338"/>
                  <a:pt x="633" y="338"/>
                </a:cubicBezTo>
                <a:cubicBezTo>
                  <a:pt x="635" y="337"/>
                  <a:pt x="637" y="337"/>
                  <a:pt x="639" y="336"/>
                </a:cubicBezTo>
                <a:cubicBezTo>
                  <a:pt x="640" y="336"/>
                  <a:pt x="642" y="335"/>
                  <a:pt x="643" y="335"/>
                </a:cubicBezTo>
                <a:cubicBezTo>
                  <a:pt x="645" y="334"/>
                  <a:pt x="647" y="334"/>
                  <a:pt x="648" y="333"/>
                </a:cubicBezTo>
                <a:cubicBezTo>
                  <a:pt x="650" y="333"/>
                  <a:pt x="652" y="332"/>
                  <a:pt x="653" y="332"/>
                </a:cubicBezTo>
                <a:cubicBezTo>
                  <a:pt x="655" y="332"/>
                  <a:pt x="657" y="331"/>
                  <a:pt x="658" y="331"/>
                </a:cubicBezTo>
                <a:cubicBezTo>
                  <a:pt x="660" y="330"/>
                  <a:pt x="662" y="330"/>
                  <a:pt x="663" y="329"/>
                </a:cubicBezTo>
                <a:cubicBezTo>
                  <a:pt x="665" y="329"/>
                  <a:pt x="667" y="329"/>
                  <a:pt x="668" y="328"/>
                </a:cubicBezTo>
                <a:cubicBezTo>
                  <a:pt x="670" y="328"/>
                  <a:pt x="672" y="327"/>
                  <a:pt x="674" y="327"/>
                </a:cubicBezTo>
                <a:cubicBezTo>
                  <a:pt x="675" y="327"/>
                  <a:pt x="677" y="326"/>
                  <a:pt x="679" y="326"/>
                </a:cubicBezTo>
                <a:cubicBezTo>
                  <a:pt x="681" y="326"/>
                  <a:pt x="683" y="325"/>
                  <a:pt x="685" y="325"/>
                </a:cubicBezTo>
                <a:cubicBezTo>
                  <a:pt x="686" y="325"/>
                  <a:pt x="688" y="324"/>
                  <a:pt x="689" y="324"/>
                </a:cubicBezTo>
                <a:cubicBezTo>
                  <a:pt x="692" y="324"/>
                  <a:pt x="696" y="323"/>
                  <a:pt x="699" y="322"/>
                </a:cubicBezTo>
                <a:cubicBezTo>
                  <a:pt x="700" y="322"/>
                  <a:pt x="701" y="322"/>
                  <a:pt x="702" y="322"/>
                </a:cubicBezTo>
                <a:cubicBezTo>
                  <a:pt x="705" y="322"/>
                  <a:pt x="707" y="321"/>
                  <a:pt x="710" y="321"/>
                </a:cubicBezTo>
                <a:cubicBezTo>
                  <a:pt x="711" y="321"/>
                  <a:pt x="712" y="321"/>
                  <a:pt x="714" y="320"/>
                </a:cubicBezTo>
                <a:cubicBezTo>
                  <a:pt x="716" y="320"/>
                  <a:pt x="718" y="320"/>
                  <a:pt x="720" y="320"/>
                </a:cubicBezTo>
                <a:cubicBezTo>
                  <a:pt x="722" y="320"/>
                  <a:pt x="723" y="319"/>
                  <a:pt x="725" y="319"/>
                </a:cubicBezTo>
                <a:cubicBezTo>
                  <a:pt x="727" y="319"/>
                  <a:pt x="729" y="319"/>
                  <a:pt x="731" y="319"/>
                </a:cubicBezTo>
                <a:cubicBezTo>
                  <a:pt x="733" y="319"/>
                  <a:pt x="734" y="318"/>
                  <a:pt x="736" y="318"/>
                </a:cubicBezTo>
                <a:cubicBezTo>
                  <a:pt x="738" y="318"/>
                  <a:pt x="740" y="318"/>
                  <a:pt x="742" y="318"/>
                </a:cubicBezTo>
                <a:cubicBezTo>
                  <a:pt x="744" y="318"/>
                  <a:pt x="745" y="318"/>
                  <a:pt x="746" y="318"/>
                </a:cubicBezTo>
                <a:cubicBezTo>
                  <a:pt x="749" y="318"/>
                  <a:pt x="751" y="318"/>
                  <a:pt x="754" y="317"/>
                </a:cubicBezTo>
                <a:cubicBezTo>
                  <a:pt x="755" y="317"/>
                  <a:pt x="756" y="317"/>
                  <a:pt x="757" y="317"/>
                </a:cubicBezTo>
                <a:cubicBezTo>
                  <a:pt x="761" y="317"/>
                  <a:pt x="765" y="317"/>
                  <a:pt x="768" y="317"/>
                </a:cubicBezTo>
                <a:cubicBezTo>
                  <a:pt x="768" y="217"/>
                  <a:pt x="768" y="217"/>
                  <a:pt x="768" y="217"/>
                </a:cubicBezTo>
                <a:cubicBezTo>
                  <a:pt x="768" y="201"/>
                  <a:pt x="776" y="190"/>
                  <a:pt x="796" y="205"/>
                </a:cubicBezTo>
                <a:cubicBezTo>
                  <a:pt x="798" y="207"/>
                  <a:pt x="800" y="209"/>
                  <a:pt x="802" y="210"/>
                </a:cubicBezTo>
                <a:cubicBezTo>
                  <a:pt x="802" y="210"/>
                  <a:pt x="802" y="210"/>
                  <a:pt x="802" y="210"/>
                </a:cubicBezTo>
                <a:cubicBezTo>
                  <a:pt x="810" y="216"/>
                  <a:pt x="820" y="219"/>
                  <a:pt x="831" y="219"/>
                </a:cubicBezTo>
                <a:cubicBezTo>
                  <a:pt x="858" y="219"/>
                  <a:pt x="880" y="197"/>
                  <a:pt x="880" y="170"/>
                </a:cubicBezTo>
                <a:cubicBezTo>
                  <a:pt x="880" y="142"/>
                  <a:pt x="858" y="120"/>
                  <a:pt x="831" y="120"/>
                </a:cubicBezTo>
                <a:cubicBezTo>
                  <a:pt x="820" y="120"/>
                  <a:pt x="810" y="124"/>
                  <a:pt x="802" y="129"/>
                </a:cubicBezTo>
                <a:cubicBezTo>
                  <a:pt x="802" y="129"/>
                  <a:pt x="802" y="129"/>
                  <a:pt x="802" y="129"/>
                </a:cubicBezTo>
                <a:cubicBezTo>
                  <a:pt x="800" y="131"/>
                  <a:pt x="798" y="133"/>
                  <a:pt x="796" y="134"/>
                </a:cubicBezTo>
                <a:cubicBezTo>
                  <a:pt x="776" y="149"/>
                  <a:pt x="768" y="138"/>
                  <a:pt x="768" y="123"/>
                </a:cubicBezTo>
                <a:cubicBezTo>
                  <a:pt x="768" y="0"/>
                  <a:pt x="768" y="0"/>
                  <a:pt x="768" y="0"/>
                </a:cubicBezTo>
                <a:cubicBezTo>
                  <a:pt x="344" y="0"/>
                  <a:pt x="0" y="344"/>
                  <a:pt x="0" y="768"/>
                </a:cubicBezTo>
                <a:cubicBezTo>
                  <a:pt x="123" y="768"/>
                  <a:pt x="123" y="768"/>
                  <a:pt x="123" y="768"/>
                </a:cubicBezTo>
                <a:cubicBezTo>
                  <a:pt x="138" y="768"/>
                  <a:pt x="149" y="776"/>
                  <a:pt x="134" y="796"/>
                </a:cubicBezTo>
                <a:cubicBezTo>
                  <a:pt x="133" y="798"/>
                  <a:pt x="131" y="800"/>
                  <a:pt x="129" y="802"/>
                </a:cubicBezTo>
                <a:cubicBezTo>
                  <a:pt x="129" y="802"/>
                  <a:pt x="129" y="802"/>
                  <a:pt x="129" y="802"/>
                </a:cubicBezTo>
                <a:cubicBezTo>
                  <a:pt x="124" y="810"/>
                  <a:pt x="120" y="820"/>
                  <a:pt x="120" y="831"/>
                </a:cubicBezTo>
                <a:cubicBezTo>
                  <a:pt x="120" y="858"/>
                  <a:pt x="142" y="880"/>
                  <a:pt x="170" y="880"/>
                </a:cubicBezTo>
                <a:cubicBezTo>
                  <a:pt x="197" y="880"/>
                  <a:pt x="219" y="858"/>
                  <a:pt x="219" y="831"/>
                </a:cubicBezTo>
                <a:cubicBezTo>
                  <a:pt x="219" y="820"/>
                  <a:pt x="216" y="810"/>
                  <a:pt x="210" y="802"/>
                </a:cubicBezTo>
                <a:cubicBezTo>
                  <a:pt x="210" y="802"/>
                  <a:pt x="210" y="802"/>
                  <a:pt x="210" y="802"/>
                </a:cubicBezTo>
                <a:cubicBezTo>
                  <a:pt x="209" y="800"/>
                  <a:pt x="207" y="798"/>
                  <a:pt x="205" y="796"/>
                </a:cubicBezTo>
                <a:cubicBezTo>
                  <a:pt x="190" y="776"/>
                  <a:pt x="201" y="768"/>
                  <a:pt x="217" y="768"/>
                </a:cubicBezTo>
                <a:close/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00" name="Freeform 6"/>
          <p:cNvSpPr/>
          <p:nvPr/>
        </p:nvSpPr>
        <p:spPr>
          <a:xfrm>
            <a:off x="720720" y="3483000"/>
            <a:ext cx="4098960" cy="1476360"/>
          </a:xfrm>
          <a:custGeom>
            <a:avLst/>
            <a:gdLst/>
            <a:ahLst/>
            <a:rect l="l" t="t" r="r" b="b"/>
            <a:pathLst>
              <a:path w="1797" h="647">
                <a:moveTo>
                  <a:pt x="1775" y="171"/>
                </a:moveTo>
                <a:cubicBezTo>
                  <a:pt x="1775" y="171"/>
                  <a:pt x="1775" y="171"/>
                  <a:pt x="1775" y="171"/>
                </a:cubicBezTo>
                <a:cubicBezTo>
                  <a:pt x="1775" y="159"/>
                  <a:pt x="1775" y="159"/>
                  <a:pt x="1775" y="159"/>
                </a:cubicBezTo>
                <a:cubicBezTo>
                  <a:pt x="1775" y="147"/>
                  <a:pt x="1775" y="147"/>
                  <a:pt x="1775" y="147"/>
                </a:cubicBezTo>
                <a:cubicBezTo>
                  <a:pt x="1775" y="147"/>
                  <a:pt x="1775" y="147"/>
                  <a:pt x="1775" y="147"/>
                </a:cubicBezTo>
                <a:cubicBezTo>
                  <a:pt x="1776" y="97"/>
                  <a:pt x="1781" y="48"/>
                  <a:pt x="1791" y="0"/>
                </a:cubicBezTo>
                <a:cubicBezTo>
                  <a:pt x="171" y="5"/>
                  <a:pt x="171" y="5"/>
                  <a:pt x="171" y="5"/>
                </a:cubicBezTo>
                <a:cubicBezTo>
                  <a:pt x="76" y="5"/>
                  <a:pt x="0" y="82"/>
                  <a:pt x="0" y="177"/>
                </a:cubicBezTo>
                <a:cubicBezTo>
                  <a:pt x="0" y="225"/>
                  <a:pt x="20" y="267"/>
                  <a:pt x="51" y="298"/>
                </a:cubicBezTo>
                <a:cubicBezTo>
                  <a:pt x="82" y="330"/>
                  <a:pt x="125" y="349"/>
                  <a:pt x="173" y="349"/>
                </a:cubicBezTo>
                <a:cubicBezTo>
                  <a:pt x="311" y="348"/>
                  <a:pt x="311" y="348"/>
                  <a:pt x="311" y="348"/>
                </a:cubicBezTo>
                <a:cubicBezTo>
                  <a:pt x="311" y="647"/>
                  <a:pt x="311" y="647"/>
                  <a:pt x="311" y="647"/>
                </a:cubicBezTo>
                <a:cubicBezTo>
                  <a:pt x="489" y="647"/>
                  <a:pt x="489" y="647"/>
                  <a:pt x="489" y="647"/>
                </a:cubicBezTo>
                <a:cubicBezTo>
                  <a:pt x="491" y="502"/>
                  <a:pt x="491" y="502"/>
                  <a:pt x="491" y="502"/>
                </a:cubicBezTo>
                <a:cubicBezTo>
                  <a:pt x="595" y="503"/>
                  <a:pt x="595" y="503"/>
                  <a:pt x="595" y="503"/>
                </a:cubicBezTo>
                <a:cubicBezTo>
                  <a:pt x="592" y="647"/>
                  <a:pt x="592" y="647"/>
                  <a:pt x="592" y="647"/>
                </a:cubicBezTo>
                <a:cubicBezTo>
                  <a:pt x="724" y="647"/>
                  <a:pt x="724" y="647"/>
                  <a:pt x="724" y="647"/>
                </a:cubicBezTo>
                <a:cubicBezTo>
                  <a:pt x="724" y="346"/>
                  <a:pt x="724" y="346"/>
                  <a:pt x="724" y="346"/>
                </a:cubicBezTo>
                <a:cubicBezTo>
                  <a:pt x="1797" y="344"/>
                  <a:pt x="1797" y="344"/>
                  <a:pt x="1797" y="344"/>
                </a:cubicBezTo>
                <a:cubicBezTo>
                  <a:pt x="1784" y="288"/>
                  <a:pt x="1776" y="231"/>
                  <a:pt x="1775" y="171"/>
                </a:cubicBezTo>
                <a:close/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01" name="Freeform 7"/>
          <p:cNvSpPr/>
          <p:nvPr/>
        </p:nvSpPr>
        <p:spPr>
          <a:xfrm>
            <a:off x="6585120" y="2092320"/>
            <a:ext cx="1725480" cy="2009880"/>
          </a:xfrm>
          <a:custGeom>
            <a:avLst/>
            <a:gdLst/>
            <a:ahLst/>
            <a:rect l="l" t="t" r="r" b="b"/>
            <a:pathLst>
              <a:path w="756" h="880">
                <a:moveTo>
                  <a:pt x="627" y="802"/>
                </a:moveTo>
                <a:cubicBezTo>
                  <a:pt x="626" y="800"/>
                  <a:pt x="624" y="798"/>
                  <a:pt x="622" y="796"/>
                </a:cubicBezTo>
                <a:cubicBezTo>
                  <a:pt x="607" y="776"/>
                  <a:pt x="618" y="768"/>
                  <a:pt x="634" y="768"/>
                </a:cubicBezTo>
                <a:cubicBezTo>
                  <a:pt x="756" y="768"/>
                  <a:pt x="756" y="768"/>
                  <a:pt x="756" y="768"/>
                </a:cubicBezTo>
                <a:cubicBezTo>
                  <a:pt x="756" y="348"/>
                  <a:pt x="419" y="7"/>
                  <a:pt x="0" y="0"/>
                </a:cubicBezTo>
                <a:cubicBezTo>
                  <a:pt x="0" y="123"/>
                  <a:pt x="0" y="123"/>
                  <a:pt x="0" y="123"/>
                </a:cubicBezTo>
                <a:cubicBezTo>
                  <a:pt x="0" y="126"/>
                  <a:pt x="1" y="128"/>
                  <a:pt x="1" y="129"/>
                </a:cubicBezTo>
                <a:cubicBezTo>
                  <a:pt x="2" y="129"/>
                  <a:pt x="5" y="128"/>
                  <a:pt x="8" y="125"/>
                </a:cubicBezTo>
                <a:cubicBezTo>
                  <a:pt x="10" y="123"/>
                  <a:pt x="12" y="121"/>
                  <a:pt x="15" y="120"/>
                </a:cubicBezTo>
                <a:cubicBezTo>
                  <a:pt x="25" y="112"/>
                  <a:pt x="38" y="108"/>
                  <a:pt x="51" y="108"/>
                </a:cubicBezTo>
                <a:cubicBezTo>
                  <a:pt x="85" y="108"/>
                  <a:pt x="112" y="136"/>
                  <a:pt x="112" y="170"/>
                </a:cubicBezTo>
                <a:cubicBezTo>
                  <a:pt x="112" y="204"/>
                  <a:pt x="85" y="231"/>
                  <a:pt x="51" y="231"/>
                </a:cubicBezTo>
                <a:cubicBezTo>
                  <a:pt x="38" y="231"/>
                  <a:pt x="25" y="227"/>
                  <a:pt x="15" y="220"/>
                </a:cubicBezTo>
                <a:cubicBezTo>
                  <a:pt x="12" y="218"/>
                  <a:pt x="10" y="216"/>
                  <a:pt x="8" y="214"/>
                </a:cubicBezTo>
                <a:cubicBezTo>
                  <a:pt x="5" y="212"/>
                  <a:pt x="2" y="211"/>
                  <a:pt x="1" y="210"/>
                </a:cubicBezTo>
                <a:cubicBezTo>
                  <a:pt x="1" y="211"/>
                  <a:pt x="0" y="213"/>
                  <a:pt x="0" y="217"/>
                </a:cubicBezTo>
                <a:cubicBezTo>
                  <a:pt x="0" y="317"/>
                  <a:pt x="0" y="317"/>
                  <a:pt x="0" y="317"/>
                </a:cubicBezTo>
                <a:cubicBezTo>
                  <a:pt x="1" y="317"/>
                  <a:pt x="2" y="317"/>
                  <a:pt x="3" y="317"/>
                </a:cubicBezTo>
                <a:cubicBezTo>
                  <a:pt x="5" y="318"/>
                  <a:pt x="8" y="318"/>
                  <a:pt x="10" y="318"/>
                </a:cubicBezTo>
                <a:cubicBezTo>
                  <a:pt x="11" y="318"/>
                  <a:pt x="13" y="318"/>
                  <a:pt x="14" y="318"/>
                </a:cubicBezTo>
                <a:cubicBezTo>
                  <a:pt x="16" y="318"/>
                  <a:pt x="19" y="318"/>
                  <a:pt x="21" y="318"/>
                </a:cubicBezTo>
                <a:cubicBezTo>
                  <a:pt x="22" y="318"/>
                  <a:pt x="24" y="319"/>
                  <a:pt x="25" y="319"/>
                </a:cubicBezTo>
                <a:cubicBezTo>
                  <a:pt x="27" y="319"/>
                  <a:pt x="29" y="319"/>
                  <a:pt x="32" y="319"/>
                </a:cubicBezTo>
                <a:cubicBezTo>
                  <a:pt x="33" y="319"/>
                  <a:pt x="35" y="320"/>
                  <a:pt x="36" y="320"/>
                </a:cubicBezTo>
                <a:cubicBezTo>
                  <a:pt x="38" y="320"/>
                  <a:pt x="40" y="320"/>
                  <a:pt x="43" y="320"/>
                </a:cubicBezTo>
                <a:cubicBezTo>
                  <a:pt x="44" y="321"/>
                  <a:pt x="45" y="321"/>
                  <a:pt x="47" y="321"/>
                </a:cubicBezTo>
                <a:cubicBezTo>
                  <a:pt x="49" y="321"/>
                  <a:pt x="52" y="322"/>
                  <a:pt x="54" y="322"/>
                </a:cubicBezTo>
                <a:cubicBezTo>
                  <a:pt x="55" y="322"/>
                  <a:pt x="56" y="322"/>
                  <a:pt x="57" y="322"/>
                </a:cubicBezTo>
                <a:cubicBezTo>
                  <a:pt x="61" y="323"/>
                  <a:pt x="64" y="324"/>
                  <a:pt x="67" y="324"/>
                </a:cubicBezTo>
                <a:cubicBezTo>
                  <a:pt x="69" y="324"/>
                  <a:pt x="70" y="325"/>
                  <a:pt x="72" y="325"/>
                </a:cubicBezTo>
                <a:cubicBezTo>
                  <a:pt x="74" y="325"/>
                  <a:pt x="76" y="326"/>
                  <a:pt x="78" y="326"/>
                </a:cubicBezTo>
                <a:cubicBezTo>
                  <a:pt x="79" y="326"/>
                  <a:pt x="81" y="327"/>
                  <a:pt x="83" y="327"/>
                </a:cubicBezTo>
                <a:cubicBezTo>
                  <a:pt x="84" y="327"/>
                  <a:pt x="86" y="328"/>
                  <a:pt x="88" y="328"/>
                </a:cubicBezTo>
                <a:cubicBezTo>
                  <a:pt x="90" y="329"/>
                  <a:pt x="91" y="329"/>
                  <a:pt x="93" y="329"/>
                </a:cubicBezTo>
                <a:cubicBezTo>
                  <a:pt x="95" y="330"/>
                  <a:pt x="96" y="330"/>
                  <a:pt x="98" y="331"/>
                </a:cubicBezTo>
                <a:cubicBezTo>
                  <a:pt x="100" y="331"/>
                  <a:pt x="102" y="332"/>
                  <a:pt x="103" y="332"/>
                </a:cubicBezTo>
                <a:cubicBezTo>
                  <a:pt x="105" y="332"/>
                  <a:pt x="106" y="333"/>
                  <a:pt x="108" y="333"/>
                </a:cubicBezTo>
                <a:cubicBezTo>
                  <a:pt x="110" y="334"/>
                  <a:pt x="112" y="334"/>
                  <a:pt x="113" y="335"/>
                </a:cubicBezTo>
                <a:cubicBezTo>
                  <a:pt x="115" y="335"/>
                  <a:pt x="116" y="336"/>
                  <a:pt x="118" y="336"/>
                </a:cubicBezTo>
                <a:cubicBezTo>
                  <a:pt x="120" y="337"/>
                  <a:pt x="121" y="337"/>
                  <a:pt x="123" y="338"/>
                </a:cubicBezTo>
                <a:cubicBezTo>
                  <a:pt x="124" y="338"/>
                  <a:pt x="125" y="338"/>
                  <a:pt x="125" y="338"/>
                </a:cubicBezTo>
                <a:cubicBezTo>
                  <a:pt x="130" y="340"/>
                  <a:pt x="135" y="342"/>
                  <a:pt x="139" y="343"/>
                </a:cubicBezTo>
                <a:cubicBezTo>
                  <a:pt x="140" y="343"/>
                  <a:pt x="141" y="344"/>
                  <a:pt x="142" y="344"/>
                </a:cubicBezTo>
                <a:cubicBezTo>
                  <a:pt x="144" y="345"/>
                  <a:pt x="146" y="346"/>
                  <a:pt x="148" y="346"/>
                </a:cubicBezTo>
                <a:cubicBezTo>
                  <a:pt x="149" y="347"/>
                  <a:pt x="150" y="347"/>
                  <a:pt x="151" y="348"/>
                </a:cubicBezTo>
                <a:cubicBezTo>
                  <a:pt x="153" y="348"/>
                  <a:pt x="155" y="349"/>
                  <a:pt x="158" y="350"/>
                </a:cubicBezTo>
                <a:cubicBezTo>
                  <a:pt x="159" y="351"/>
                  <a:pt x="160" y="351"/>
                  <a:pt x="161" y="351"/>
                </a:cubicBezTo>
                <a:cubicBezTo>
                  <a:pt x="163" y="352"/>
                  <a:pt x="165" y="353"/>
                  <a:pt x="167" y="354"/>
                </a:cubicBezTo>
                <a:cubicBezTo>
                  <a:pt x="168" y="354"/>
                  <a:pt x="169" y="355"/>
                  <a:pt x="170" y="355"/>
                </a:cubicBezTo>
                <a:cubicBezTo>
                  <a:pt x="172" y="356"/>
                  <a:pt x="174" y="357"/>
                  <a:pt x="176" y="358"/>
                </a:cubicBezTo>
                <a:cubicBezTo>
                  <a:pt x="177" y="358"/>
                  <a:pt x="177" y="359"/>
                  <a:pt x="178" y="359"/>
                </a:cubicBezTo>
                <a:cubicBezTo>
                  <a:pt x="189" y="364"/>
                  <a:pt x="200" y="370"/>
                  <a:pt x="210" y="376"/>
                </a:cubicBezTo>
                <a:cubicBezTo>
                  <a:pt x="210" y="376"/>
                  <a:pt x="210" y="376"/>
                  <a:pt x="210" y="376"/>
                </a:cubicBezTo>
                <a:cubicBezTo>
                  <a:pt x="213" y="377"/>
                  <a:pt x="215" y="379"/>
                  <a:pt x="218" y="380"/>
                </a:cubicBezTo>
                <a:cubicBezTo>
                  <a:pt x="218" y="380"/>
                  <a:pt x="219" y="380"/>
                  <a:pt x="219" y="381"/>
                </a:cubicBezTo>
                <a:cubicBezTo>
                  <a:pt x="221" y="382"/>
                  <a:pt x="224" y="383"/>
                  <a:pt x="226" y="385"/>
                </a:cubicBezTo>
                <a:cubicBezTo>
                  <a:pt x="226" y="385"/>
                  <a:pt x="227" y="385"/>
                  <a:pt x="227" y="386"/>
                </a:cubicBezTo>
                <a:cubicBezTo>
                  <a:pt x="230" y="387"/>
                  <a:pt x="232" y="389"/>
                  <a:pt x="234" y="390"/>
                </a:cubicBezTo>
                <a:cubicBezTo>
                  <a:pt x="234" y="390"/>
                  <a:pt x="235" y="390"/>
                  <a:pt x="235" y="391"/>
                </a:cubicBezTo>
                <a:cubicBezTo>
                  <a:pt x="248" y="399"/>
                  <a:pt x="260" y="408"/>
                  <a:pt x="272" y="418"/>
                </a:cubicBezTo>
                <a:cubicBezTo>
                  <a:pt x="272" y="418"/>
                  <a:pt x="272" y="418"/>
                  <a:pt x="272" y="418"/>
                </a:cubicBezTo>
                <a:cubicBezTo>
                  <a:pt x="272" y="418"/>
                  <a:pt x="272" y="418"/>
                  <a:pt x="272" y="418"/>
                </a:cubicBezTo>
                <a:cubicBezTo>
                  <a:pt x="274" y="419"/>
                  <a:pt x="276" y="421"/>
                  <a:pt x="277" y="422"/>
                </a:cubicBezTo>
                <a:cubicBezTo>
                  <a:pt x="287" y="429"/>
                  <a:pt x="297" y="427"/>
                  <a:pt x="300" y="406"/>
                </a:cubicBezTo>
                <a:cubicBezTo>
                  <a:pt x="300" y="404"/>
                  <a:pt x="300" y="401"/>
                  <a:pt x="301" y="399"/>
                </a:cubicBezTo>
                <a:cubicBezTo>
                  <a:pt x="301" y="399"/>
                  <a:pt x="301" y="399"/>
                  <a:pt x="301" y="399"/>
                </a:cubicBezTo>
                <a:cubicBezTo>
                  <a:pt x="302" y="389"/>
                  <a:pt x="307" y="379"/>
                  <a:pt x="314" y="372"/>
                </a:cubicBezTo>
                <a:cubicBezTo>
                  <a:pt x="334" y="352"/>
                  <a:pt x="365" y="352"/>
                  <a:pt x="385" y="372"/>
                </a:cubicBezTo>
                <a:cubicBezTo>
                  <a:pt x="404" y="391"/>
                  <a:pt x="404" y="423"/>
                  <a:pt x="385" y="442"/>
                </a:cubicBezTo>
                <a:cubicBezTo>
                  <a:pt x="377" y="450"/>
                  <a:pt x="368" y="454"/>
                  <a:pt x="358" y="456"/>
                </a:cubicBezTo>
                <a:cubicBezTo>
                  <a:pt x="358" y="456"/>
                  <a:pt x="358" y="456"/>
                  <a:pt x="358" y="456"/>
                </a:cubicBezTo>
                <a:cubicBezTo>
                  <a:pt x="355" y="456"/>
                  <a:pt x="353" y="456"/>
                  <a:pt x="350" y="456"/>
                </a:cubicBezTo>
                <a:cubicBezTo>
                  <a:pt x="329" y="459"/>
                  <a:pt x="328" y="469"/>
                  <a:pt x="334" y="479"/>
                </a:cubicBezTo>
                <a:cubicBezTo>
                  <a:pt x="336" y="481"/>
                  <a:pt x="337" y="482"/>
                  <a:pt x="338" y="484"/>
                </a:cubicBezTo>
                <a:cubicBezTo>
                  <a:pt x="338" y="484"/>
                  <a:pt x="338" y="484"/>
                  <a:pt x="339" y="484"/>
                </a:cubicBezTo>
                <a:cubicBezTo>
                  <a:pt x="338" y="484"/>
                  <a:pt x="338" y="484"/>
                  <a:pt x="338" y="484"/>
                </a:cubicBezTo>
                <a:cubicBezTo>
                  <a:pt x="338" y="484"/>
                  <a:pt x="338" y="484"/>
                  <a:pt x="338" y="484"/>
                </a:cubicBezTo>
                <a:cubicBezTo>
                  <a:pt x="348" y="496"/>
                  <a:pt x="357" y="508"/>
                  <a:pt x="366" y="521"/>
                </a:cubicBezTo>
                <a:cubicBezTo>
                  <a:pt x="366" y="522"/>
                  <a:pt x="366" y="522"/>
                  <a:pt x="366" y="522"/>
                </a:cubicBezTo>
                <a:cubicBezTo>
                  <a:pt x="368" y="524"/>
                  <a:pt x="369" y="527"/>
                  <a:pt x="371" y="529"/>
                </a:cubicBezTo>
                <a:cubicBezTo>
                  <a:pt x="371" y="530"/>
                  <a:pt x="371" y="530"/>
                  <a:pt x="371" y="530"/>
                </a:cubicBezTo>
                <a:cubicBezTo>
                  <a:pt x="373" y="533"/>
                  <a:pt x="374" y="535"/>
                  <a:pt x="376" y="537"/>
                </a:cubicBezTo>
                <a:cubicBezTo>
                  <a:pt x="376" y="538"/>
                  <a:pt x="376" y="538"/>
                  <a:pt x="376" y="539"/>
                </a:cubicBezTo>
                <a:cubicBezTo>
                  <a:pt x="378" y="541"/>
                  <a:pt x="379" y="544"/>
                  <a:pt x="381" y="546"/>
                </a:cubicBezTo>
                <a:cubicBezTo>
                  <a:pt x="381" y="546"/>
                  <a:pt x="381" y="546"/>
                  <a:pt x="381" y="546"/>
                </a:cubicBezTo>
                <a:cubicBezTo>
                  <a:pt x="387" y="557"/>
                  <a:pt x="392" y="567"/>
                  <a:pt x="397" y="578"/>
                </a:cubicBezTo>
                <a:cubicBezTo>
                  <a:pt x="398" y="579"/>
                  <a:pt x="398" y="579"/>
                  <a:pt x="398" y="580"/>
                </a:cubicBezTo>
                <a:cubicBezTo>
                  <a:pt x="399" y="582"/>
                  <a:pt x="400" y="584"/>
                  <a:pt x="401" y="587"/>
                </a:cubicBezTo>
                <a:cubicBezTo>
                  <a:pt x="402" y="588"/>
                  <a:pt x="402" y="589"/>
                  <a:pt x="402" y="590"/>
                </a:cubicBezTo>
                <a:cubicBezTo>
                  <a:pt x="403" y="592"/>
                  <a:pt x="404" y="594"/>
                  <a:pt x="405" y="596"/>
                </a:cubicBezTo>
                <a:cubicBezTo>
                  <a:pt x="405" y="597"/>
                  <a:pt x="406" y="598"/>
                  <a:pt x="406" y="599"/>
                </a:cubicBezTo>
                <a:cubicBezTo>
                  <a:pt x="407" y="601"/>
                  <a:pt x="408" y="603"/>
                  <a:pt x="409" y="605"/>
                </a:cubicBezTo>
                <a:cubicBezTo>
                  <a:pt x="409" y="606"/>
                  <a:pt x="410" y="607"/>
                  <a:pt x="410" y="608"/>
                </a:cubicBezTo>
                <a:cubicBezTo>
                  <a:pt x="411" y="610"/>
                  <a:pt x="412" y="612"/>
                  <a:pt x="412" y="615"/>
                </a:cubicBezTo>
                <a:cubicBezTo>
                  <a:pt x="413" y="615"/>
                  <a:pt x="413" y="616"/>
                  <a:pt x="413" y="617"/>
                </a:cubicBezTo>
                <a:cubicBezTo>
                  <a:pt x="415" y="622"/>
                  <a:pt x="416" y="626"/>
                  <a:pt x="418" y="630"/>
                </a:cubicBezTo>
                <a:cubicBezTo>
                  <a:pt x="418" y="631"/>
                  <a:pt x="418" y="632"/>
                  <a:pt x="419" y="633"/>
                </a:cubicBezTo>
                <a:cubicBezTo>
                  <a:pt x="419" y="635"/>
                  <a:pt x="420" y="637"/>
                  <a:pt x="420" y="639"/>
                </a:cubicBezTo>
                <a:cubicBezTo>
                  <a:pt x="421" y="640"/>
                  <a:pt x="421" y="642"/>
                  <a:pt x="422" y="643"/>
                </a:cubicBezTo>
                <a:cubicBezTo>
                  <a:pt x="422" y="645"/>
                  <a:pt x="423" y="647"/>
                  <a:pt x="423" y="648"/>
                </a:cubicBezTo>
                <a:cubicBezTo>
                  <a:pt x="423" y="650"/>
                  <a:pt x="424" y="652"/>
                  <a:pt x="424" y="653"/>
                </a:cubicBezTo>
                <a:cubicBezTo>
                  <a:pt x="425" y="655"/>
                  <a:pt x="425" y="657"/>
                  <a:pt x="426" y="658"/>
                </a:cubicBezTo>
                <a:cubicBezTo>
                  <a:pt x="426" y="660"/>
                  <a:pt x="427" y="662"/>
                  <a:pt x="427" y="663"/>
                </a:cubicBezTo>
                <a:cubicBezTo>
                  <a:pt x="427" y="665"/>
                  <a:pt x="428" y="667"/>
                  <a:pt x="428" y="668"/>
                </a:cubicBezTo>
                <a:cubicBezTo>
                  <a:pt x="428" y="670"/>
                  <a:pt x="429" y="672"/>
                  <a:pt x="429" y="674"/>
                </a:cubicBezTo>
                <a:cubicBezTo>
                  <a:pt x="430" y="675"/>
                  <a:pt x="430" y="677"/>
                  <a:pt x="430" y="679"/>
                </a:cubicBezTo>
                <a:cubicBezTo>
                  <a:pt x="431" y="681"/>
                  <a:pt x="431" y="683"/>
                  <a:pt x="431" y="685"/>
                </a:cubicBezTo>
                <a:cubicBezTo>
                  <a:pt x="432" y="686"/>
                  <a:pt x="432" y="688"/>
                  <a:pt x="432" y="689"/>
                </a:cubicBezTo>
                <a:cubicBezTo>
                  <a:pt x="433" y="692"/>
                  <a:pt x="433" y="696"/>
                  <a:pt x="434" y="699"/>
                </a:cubicBezTo>
                <a:cubicBezTo>
                  <a:pt x="434" y="700"/>
                  <a:pt x="434" y="701"/>
                  <a:pt x="434" y="702"/>
                </a:cubicBezTo>
                <a:cubicBezTo>
                  <a:pt x="435" y="705"/>
                  <a:pt x="435" y="707"/>
                  <a:pt x="435" y="710"/>
                </a:cubicBezTo>
                <a:cubicBezTo>
                  <a:pt x="436" y="711"/>
                  <a:pt x="436" y="712"/>
                  <a:pt x="436" y="714"/>
                </a:cubicBezTo>
                <a:cubicBezTo>
                  <a:pt x="436" y="716"/>
                  <a:pt x="436" y="718"/>
                  <a:pt x="437" y="720"/>
                </a:cubicBezTo>
                <a:cubicBezTo>
                  <a:pt x="437" y="722"/>
                  <a:pt x="437" y="723"/>
                  <a:pt x="437" y="725"/>
                </a:cubicBezTo>
                <a:cubicBezTo>
                  <a:pt x="437" y="727"/>
                  <a:pt x="437" y="729"/>
                  <a:pt x="438" y="731"/>
                </a:cubicBezTo>
                <a:cubicBezTo>
                  <a:pt x="438" y="733"/>
                  <a:pt x="438" y="734"/>
                  <a:pt x="438" y="736"/>
                </a:cubicBezTo>
                <a:cubicBezTo>
                  <a:pt x="438" y="738"/>
                  <a:pt x="438" y="740"/>
                  <a:pt x="438" y="742"/>
                </a:cubicBezTo>
                <a:cubicBezTo>
                  <a:pt x="438" y="744"/>
                  <a:pt x="439" y="745"/>
                  <a:pt x="439" y="746"/>
                </a:cubicBezTo>
                <a:cubicBezTo>
                  <a:pt x="439" y="749"/>
                  <a:pt x="439" y="751"/>
                  <a:pt x="439" y="754"/>
                </a:cubicBezTo>
                <a:cubicBezTo>
                  <a:pt x="439" y="755"/>
                  <a:pt x="439" y="756"/>
                  <a:pt x="439" y="757"/>
                </a:cubicBezTo>
                <a:cubicBezTo>
                  <a:pt x="439" y="761"/>
                  <a:pt x="439" y="765"/>
                  <a:pt x="439" y="768"/>
                </a:cubicBezTo>
                <a:cubicBezTo>
                  <a:pt x="540" y="768"/>
                  <a:pt x="540" y="768"/>
                  <a:pt x="540" y="768"/>
                </a:cubicBezTo>
                <a:cubicBezTo>
                  <a:pt x="555" y="768"/>
                  <a:pt x="566" y="776"/>
                  <a:pt x="551" y="796"/>
                </a:cubicBezTo>
                <a:cubicBezTo>
                  <a:pt x="549" y="798"/>
                  <a:pt x="548" y="800"/>
                  <a:pt x="546" y="802"/>
                </a:cubicBezTo>
                <a:cubicBezTo>
                  <a:pt x="546" y="802"/>
                  <a:pt x="546" y="802"/>
                  <a:pt x="546" y="802"/>
                </a:cubicBezTo>
                <a:cubicBezTo>
                  <a:pt x="540" y="810"/>
                  <a:pt x="537" y="820"/>
                  <a:pt x="537" y="831"/>
                </a:cubicBezTo>
                <a:cubicBezTo>
                  <a:pt x="537" y="858"/>
                  <a:pt x="559" y="880"/>
                  <a:pt x="587" y="880"/>
                </a:cubicBezTo>
                <a:cubicBezTo>
                  <a:pt x="614" y="880"/>
                  <a:pt x="636" y="858"/>
                  <a:pt x="636" y="831"/>
                </a:cubicBezTo>
                <a:cubicBezTo>
                  <a:pt x="636" y="820"/>
                  <a:pt x="633" y="810"/>
                  <a:pt x="627" y="802"/>
                </a:cubicBez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02" name="Freeform 8"/>
          <p:cNvSpPr/>
          <p:nvPr/>
        </p:nvSpPr>
        <p:spPr>
          <a:xfrm>
            <a:off x="4805280" y="3873600"/>
            <a:ext cx="2008440" cy="1725480"/>
          </a:xfrm>
          <a:custGeom>
            <a:avLst/>
            <a:gdLst/>
            <a:ahLst/>
            <a:rect l="l" t="t" r="r" b="b"/>
            <a:pathLst>
              <a:path w="880" h="756">
                <a:moveTo>
                  <a:pt x="831" y="537"/>
                </a:moveTo>
                <a:cubicBezTo>
                  <a:pt x="820" y="537"/>
                  <a:pt x="810" y="540"/>
                  <a:pt x="802" y="546"/>
                </a:cubicBezTo>
                <a:cubicBezTo>
                  <a:pt x="802" y="546"/>
                  <a:pt x="802" y="546"/>
                  <a:pt x="802" y="546"/>
                </a:cubicBezTo>
                <a:cubicBezTo>
                  <a:pt x="800" y="548"/>
                  <a:pt x="798" y="549"/>
                  <a:pt x="796" y="551"/>
                </a:cubicBezTo>
                <a:cubicBezTo>
                  <a:pt x="776" y="566"/>
                  <a:pt x="768" y="555"/>
                  <a:pt x="768" y="540"/>
                </a:cubicBezTo>
                <a:cubicBezTo>
                  <a:pt x="768" y="439"/>
                  <a:pt x="768" y="439"/>
                  <a:pt x="768" y="439"/>
                </a:cubicBezTo>
                <a:cubicBezTo>
                  <a:pt x="765" y="439"/>
                  <a:pt x="761" y="439"/>
                  <a:pt x="757" y="439"/>
                </a:cubicBezTo>
                <a:cubicBezTo>
                  <a:pt x="756" y="439"/>
                  <a:pt x="755" y="439"/>
                  <a:pt x="754" y="439"/>
                </a:cubicBezTo>
                <a:cubicBezTo>
                  <a:pt x="751" y="439"/>
                  <a:pt x="749" y="439"/>
                  <a:pt x="746" y="439"/>
                </a:cubicBezTo>
                <a:cubicBezTo>
                  <a:pt x="745" y="439"/>
                  <a:pt x="744" y="438"/>
                  <a:pt x="742" y="438"/>
                </a:cubicBezTo>
                <a:cubicBezTo>
                  <a:pt x="740" y="438"/>
                  <a:pt x="738" y="438"/>
                  <a:pt x="736" y="438"/>
                </a:cubicBezTo>
                <a:cubicBezTo>
                  <a:pt x="734" y="438"/>
                  <a:pt x="733" y="438"/>
                  <a:pt x="731" y="438"/>
                </a:cubicBezTo>
                <a:cubicBezTo>
                  <a:pt x="729" y="437"/>
                  <a:pt x="727" y="437"/>
                  <a:pt x="725" y="437"/>
                </a:cubicBezTo>
                <a:cubicBezTo>
                  <a:pt x="723" y="437"/>
                  <a:pt x="722" y="437"/>
                  <a:pt x="720" y="437"/>
                </a:cubicBezTo>
                <a:cubicBezTo>
                  <a:pt x="718" y="436"/>
                  <a:pt x="716" y="436"/>
                  <a:pt x="714" y="436"/>
                </a:cubicBezTo>
                <a:cubicBezTo>
                  <a:pt x="712" y="436"/>
                  <a:pt x="711" y="436"/>
                  <a:pt x="710" y="435"/>
                </a:cubicBezTo>
                <a:cubicBezTo>
                  <a:pt x="707" y="435"/>
                  <a:pt x="705" y="435"/>
                  <a:pt x="702" y="434"/>
                </a:cubicBezTo>
                <a:cubicBezTo>
                  <a:pt x="701" y="434"/>
                  <a:pt x="700" y="434"/>
                  <a:pt x="699" y="434"/>
                </a:cubicBezTo>
                <a:cubicBezTo>
                  <a:pt x="696" y="433"/>
                  <a:pt x="692" y="433"/>
                  <a:pt x="689" y="432"/>
                </a:cubicBezTo>
                <a:cubicBezTo>
                  <a:pt x="688" y="432"/>
                  <a:pt x="686" y="432"/>
                  <a:pt x="685" y="431"/>
                </a:cubicBezTo>
                <a:cubicBezTo>
                  <a:pt x="683" y="431"/>
                  <a:pt x="681" y="431"/>
                  <a:pt x="679" y="430"/>
                </a:cubicBezTo>
                <a:cubicBezTo>
                  <a:pt x="677" y="430"/>
                  <a:pt x="675" y="430"/>
                  <a:pt x="674" y="429"/>
                </a:cubicBezTo>
                <a:cubicBezTo>
                  <a:pt x="672" y="429"/>
                  <a:pt x="670" y="428"/>
                  <a:pt x="668" y="428"/>
                </a:cubicBezTo>
                <a:cubicBezTo>
                  <a:pt x="667" y="428"/>
                  <a:pt x="665" y="427"/>
                  <a:pt x="663" y="427"/>
                </a:cubicBezTo>
                <a:cubicBezTo>
                  <a:pt x="662" y="427"/>
                  <a:pt x="660" y="426"/>
                  <a:pt x="658" y="426"/>
                </a:cubicBezTo>
                <a:cubicBezTo>
                  <a:pt x="657" y="425"/>
                  <a:pt x="655" y="425"/>
                  <a:pt x="653" y="424"/>
                </a:cubicBezTo>
                <a:cubicBezTo>
                  <a:pt x="652" y="424"/>
                  <a:pt x="650" y="423"/>
                  <a:pt x="648" y="423"/>
                </a:cubicBezTo>
                <a:cubicBezTo>
                  <a:pt x="647" y="423"/>
                  <a:pt x="645" y="422"/>
                  <a:pt x="643" y="422"/>
                </a:cubicBezTo>
                <a:cubicBezTo>
                  <a:pt x="642" y="421"/>
                  <a:pt x="640" y="421"/>
                  <a:pt x="639" y="420"/>
                </a:cubicBezTo>
                <a:cubicBezTo>
                  <a:pt x="637" y="420"/>
                  <a:pt x="635" y="419"/>
                  <a:pt x="633" y="419"/>
                </a:cubicBezTo>
                <a:cubicBezTo>
                  <a:pt x="632" y="418"/>
                  <a:pt x="631" y="418"/>
                  <a:pt x="630" y="418"/>
                </a:cubicBezTo>
                <a:cubicBezTo>
                  <a:pt x="626" y="416"/>
                  <a:pt x="622" y="415"/>
                  <a:pt x="617" y="413"/>
                </a:cubicBezTo>
                <a:cubicBezTo>
                  <a:pt x="616" y="413"/>
                  <a:pt x="615" y="413"/>
                  <a:pt x="615" y="412"/>
                </a:cubicBezTo>
                <a:cubicBezTo>
                  <a:pt x="612" y="412"/>
                  <a:pt x="610" y="411"/>
                  <a:pt x="608" y="410"/>
                </a:cubicBezTo>
                <a:cubicBezTo>
                  <a:pt x="607" y="410"/>
                  <a:pt x="606" y="409"/>
                  <a:pt x="605" y="409"/>
                </a:cubicBezTo>
                <a:cubicBezTo>
                  <a:pt x="603" y="408"/>
                  <a:pt x="601" y="407"/>
                  <a:pt x="599" y="406"/>
                </a:cubicBezTo>
                <a:cubicBezTo>
                  <a:pt x="598" y="406"/>
                  <a:pt x="597" y="405"/>
                  <a:pt x="596" y="405"/>
                </a:cubicBezTo>
                <a:cubicBezTo>
                  <a:pt x="594" y="404"/>
                  <a:pt x="592" y="403"/>
                  <a:pt x="590" y="402"/>
                </a:cubicBezTo>
                <a:cubicBezTo>
                  <a:pt x="589" y="402"/>
                  <a:pt x="588" y="402"/>
                  <a:pt x="587" y="401"/>
                </a:cubicBezTo>
                <a:cubicBezTo>
                  <a:pt x="584" y="400"/>
                  <a:pt x="582" y="399"/>
                  <a:pt x="580" y="398"/>
                </a:cubicBezTo>
                <a:cubicBezTo>
                  <a:pt x="579" y="398"/>
                  <a:pt x="579" y="398"/>
                  <a:pt x="578" y="397"/>
                </a:cubicBezTo>
                <a:cubicBezTo>
                  <a:pt x="567" y="392"/>
                  <a:pt x="557" y="387"/>
                  <a:pt x="546" y="381"/>
                </a:cubicBezTo>
                <a:cubicBezTo>
                  <a:pt x="546" y="381"/>
                  <a:pt x="546" y="381"/>
                  <a:pt x="546" y="381"/>
                </a:cubicBezTo>
                <a:cubicBezTo>
                  <a:pt x="544" y="379"/>
                  <a:pt x="541" y="378"/>
                  <a:pt x="539" y="376"/>
                </a:cubicBezTo>
                <a:cubicBezTo>
                  <a:pt x="538" y="376"/>
                  <a:pt x="538" y="376"/>
                  <a:pt x="537" y="376"/>
                </a:cubicBezTo>
                <a:cubicBezTo>
                  <a:pt x="535" y="374"/>
                  <a:pt x="533" y="373"/>
                  <a:pt x="530" y="371"/>
                </a:cubicBezTo>
                <a:cubicBezTo>
                  <a:pt x="530" y="371"/>
                  <a:pt x="530" y="371"/>
                  <a:pt x="529" y="371"/>
                </a:cubicBezTo>
                <a:cubicBezTo>
                  <a:pt x="527" y="369"/>
                  <a:pt x="524" y="368"/>
                  <a:pt x="522" y="366"/>
                </a:cubicBezTo>
                <a:cubicBezTo>
                  <a:pt x="522" y="366"/>
                  <a:pt x="522" y="366"/>
                  <a:pt x="521" y="366"/>
                </a:cubicBezTo>
                <a:cubicBezTo>
                  <a:pt x="508" y="357"/>
                  <a:pt x="496" y="348"/>
                  <a:pt x="484" y="338"/>
                </a:cubicBezTo>
                <a:cubicBezTo>
                  <a:pt x="484" y="339"/>
                  <a:pt x="484" y="339"/>
                  <a:pt x="484" y="339"/>
                </a:cubicBezTo>
                <a:cubicBezTo>
                  <a:pt x="484" y="338"/>
                  <a:pt x="484" y="338"/>
                  <a:pt x="484" y="338"/>
                </a:cubicBezTo>
                <a:cubicBezTo>
                  <a:pt x="484" y="338"/>
                  <a:pt x="484" y="338"/>
                  <a:pt x="484" y="338"/>
                </a:cubicBezTo>
                <a:cubicBezTo>
                  <a:pt x="482" y="337"/>
                  <a:pt x="481" y="336"/>
                  <a:pt x="479" y="334"/>
                </a:cubicBezTo>
                <a:cubicBezTo>
                  <a:pt x="479" y="334"/>
                  <a:pt x="479" y="334"/>
                  <a:pt x="479" y="334"/>
                </a:cubicBezTo>
                <a:cubicBezTo>
                  <a:pt x="469" y="328"/>
                  <a:pt x="459" y="329"/>
                  <a:pt x="456" y="350"/>
                </a:cubicBezTo>
                <a:cubicBezTo>
                  <a:pt x="456" y="353"/>
                  <a:pt x="456" y="355"/>
                  <a:pt x="456" y="358"/>
                </a:cubicBezTo>
                <a:cubicBezTo>
                  <a:pt x="456" y="358"/>
                  <a:pt x="456" y="358"/>
                  <a:pt x="456" y="358"/>
                </a:cubicBezTo>
                <a:cubicBezTo>
                  <a:pt x="454" y="368"/>
                  <a:pt x="450" y="377"/>
                  <a:pt x="442" y="385"/>
                </a:cubicBezTo>
                <a:cubicBezTo>
                  <a:pt x="423" y="404"/>
                  <a:pt x="391" y="404"/>
                  <a:pt x="372" y="385"/>
                </a:cubicBezTo>
                <a:cubicBezTo>
                  <a:pt x="352" y="365"/>
                  <a:pt x="352" y="334"/>
                  <a:pt x="372" y="314"/>
                </a:cubicBezTo>
                <a:cubicBezTo>
                  <a:pt x="379" y="307"/>
                  <a:pt x="389" y="302"/>
                  <a:pt x="399" y="301"/>
                </a:cubicBezTo>
                <a:cubicBezTo>
                  <a:pt x="399" y="301"/>
                  <a:pt x="399" y="301"/>
                  <a:pt x="399" y="301"/>
                </a:cubicBezTo>
                <a:cubicBezTo>
                  <a:pt x="401" y="300"/>
                  <a:pt x="404" y="300"/>
                  <a:pt x="406" y="300"/>
                </a:cubicBezTo>
                <a:cubicBezTo>
                  <a:pt x="427" y="297"/>
                  <a:pt x="429" y="287"/>
                  <a:pt x="422" y="277"/>
                </a:cubicBezTo>
                <a:cubicBezTo>
                  <a:pt x="422" y="277"/>
                  <a:pt x="422" y="277"/>
                  <a:pt x="422" y="277"/>
                </a:cubicBezTo>
                <a:cubicBezTo>
                  <a:pt x="421" y="276"/>
                  <a:pt x="419" y="274"/>
                  <a:pt x="418" y="272"/>
                </a:cubicBezTo>
                <a:cubicBezTo>
                  <a:pt x="418" y="272"/>
                  <a:pt x="418" y="272"/>
                  <a:pt x="418" y="272"/>
                </a:cubicBezTo>
                <a:cubicBezTo>
                  <a:pt x="418" y="272"/>
                  <a:pt x="418" y="272"/>
                  <a:pt x="418" y="272"/>
                </a:cubicBezTo>
                <a:cubicBezTo>
                  <a:pt x="418" y="272"/>
                  <a:pt x="418" y="272"/>
                  <a:pt x="418" y="272"/>
                </a:cubicBezTo>
                <a:cubicBezTo>
                  <a:pt x="408" y="260"/>
                  <a:pt x="399" y="248"/>
                  <a:pt x="391" y="235"/>
                </a:cubicBezTo>
                <a:cubicBezTo>
                  <a:pt x="390" y="235"/>
                  <a:pt x="390" y="234"/>
                  <a:pt x="390" y="234"/>
                </a:cubicBezTo>
                <a:cubicBezTo>
                  <a:pt x="389" y="232"/>
                  <a:pt x="387" y="230"/>
                  <a:pt x="386" y="227"/>
                </a:cubicBezTo>
                <a:cubicBezTo>
                  <a:pt x="385" y="227"/>
                  <a:pt x="385" y="226"/>
                  <a:pt x="385" y="226"/>
                </a:cubicBezTo>
                <a:cubicBezTo>
                  <a:pt x="383" y="224"/>
                  <a:pt x="382" y="221"/>
                  <a:pt x="381" y="219"/>
                </a:cubicBezTo>
                <a:cubicBezTo>
                  <a:pt x="380" y="219"/>
                  <a:pt x="380" y="218"/>
                  <a:pt x="380" y="218"/>
                </a:cubicBezTo>
                <a:cubicBezTo>
                  <a:pt x="379" y="215"/>
                  <a:pt x="377" y="213"/>
                  <a:pt x="376" y="210"/>
                </a:cubicBezTo>
                <a:cubicBezTo>
                  <a:pt x="376" y="210"/>
                  <a:pt x="376" y="210"/>
                  <a:pt x="376" y="210"/>
                </a:cubicBezTo>
                <a:cubicBezTo>
                  <a:pt x="370" y="200"/>
                  <a:pt x="364" y="189"/>
                  <a:pt x="359" y="178"/>
                </a:cubicBezTo>
                <a:cubicBezTo>
                  <a:pt x="359" y="177"/>
                  <a:pt x="358" y="177"/>
                  <a:pt x="358" y="176"/>
                </a:cubicBezTo>
                <a:cubicBezTo>
                  <a:pt x="357" y="174"/>
                  <a:pt x="356" y="172"/>
                  <a:pt x="355" y="170"/>
                </a:cubicBezTo>
                <a:cubicBezTo>
                  <a:pt x="355" y="169"/>
                  <a:pt x="354" y="168"/>
                  <a:pt x="354" y="167"/>
                </a:cubicBezTo>
                <a:cubicBezTo>
                  <a:pt x="353" y="165"/>
                  <a:pt x="352" y="163"/>
                  <a:pt x="351" y="161"/>
                </a:cubicBezTo>
                <a:cubicBezTo>
                  <a:pt x="351" y="160"/>
                  <a:pt x="351" y="159"/>
                  <a:pt x="350" y="158"/>
                </a:cubicBezTo>
                <a:cubicBezTo>
                  <a:pt x="349" y="155"/>
                  <a:pt x="348" y="153"/>
                  <a:pt x="348" y="151"/>
                </a:cubicBezTo>
                <a:cubicBezTo>
                  <a:pt x="347" y="150"/>
                  <a:pt x="347" y="149"/>
                  <a:pt x="346" y="148"/>
                </a:cubicBezTo>
                <a:cubicBezTo>
                  <a:pt x="346" y="146"/>
                  <a:pt x="345" y="144"/>
                  <a:pt x="344" y="142"/>
                </a:cubicBezTo>
                <a:cubicBezTo>
                  <a:pt x="344" y="141"/>
                  <a:pt x="343" y="140"/>
                  <a:pt x="343" y="139"/>
                </a:cubicBezTo>
                <a:cubicBezTo>
                  <a:pt x="342" y="135"/>
                  <a:pt x="340" y="130"/>
                  <a:pt x="338" y="125"/>
                </a:cubicBezTo>
                <a:cubicBezTo>
                  <a:pt x="338" y="125"/>
                  <a:pt x="338" y="124"/>
                  <a:pt x="338" y="123"/>
                </a:cubicBezTo>
                <a:cubicBezTo>
                  <a:pt x="337" y="121"/>
                  <a:pt x="337" y="120"/>
                  <a:pt x="336" y="118"/>
                </a:cubicBezTo>
                <a:cubicBezTo>
                  <a:pt x="336" y="116"/>
                  <a:pt x="335" y="115"/>
                  <a:pt x="335" y="113"/>
                </a:cubicBezTo>
                <a:cubicBezTo>
                  <a:pt x="334" y="112"/>
                  <a:pt x="334" y="110"/>
                  <a:pt x="333" y="108"/>
                </a:cubicBezTo>
                <a:cubicBezTo>
                  <a:pt x="333" y="106"/>
                  <a:pt x="332" y="105"/>
                  <a:pt x="332" y="103"/>
                </a:cubicBezTo>
                <a:cubicBezTo>
                  <a:pt x="332" y="102"/>
                  <a:pt x="331" y="100"/>
                  <a:pt x="331" y="98"/>
                </a:cubicBezTo>
                <a:cubicBezTo>
                  <a:pt x="330" y="96"/>
                  <a:pt x="330" y="95"/>
                  <a:pt x="329" y="93"/>
                </a:cubicBezTo>
                <a:cubicBezTo>
                  <a:pt x="329" y="91"/>
                  <a:pt x="329" y="90"/>
                  <a:pt x="328" y="88"/>
                </a:cubicBezTo>
                <a:cubicBezTo>
                  <a:pt x="328" y="86"/>
                  <a:pt x="327" y="84"/>
                  <a:pt x="327" y="83"/>
                </a:cubicBezTo>
                <a:cubicBezTo>
                  <a:pt x="327" y="81"/>
                  <a:pt x="326" y="79"/>
                  <a:pt x="326" y="78"/>
                </a:cubicBezTo>
                <a:cubicBezTo>
                  <a:pt x="326" y="76"/>
                  <a:pt x="325" y="74"/>
                  <a:pt x="325" y="72"/>
                </a:cubicBezTo>
                <a:cubicBezTo>
                  <a:pt x="325" y="70"/>
                  <a:pt x="324" y="69"/>
                  <a:pt x="324" y="67"/>
                </a:cubicBezTo>
                <a:cubicBezTo>
                  <a:pt x="324" y="64"/>
                  <a:pt x="323" y="61"/>
                  <a:pt x="322" y="57"/>
                </a:cubicBezTo>
                <a:cubicBezTo>
                  <a:pt x="322" y="56"/>
                  <a:pt x="322" y="55"/>
                  <a:pt x="322" y="54"/>
                </a:cubicBezTo>
                <a:cubicBezTo>
                  <a:pt x="322" y="52"/>
                  <a:pt x="321" y="49"/>
                  <a:pt x="321" y="47"/>
                </a:cubicBezTo>
                <a:cubicBezTo>
                  <a:pt x="321" y="45"/>
                  <a:pt x="321" y="44"/>
                  <a:pt x="320" y="43"/>
                </a:cubicBezTo>
                <a:cubicBezTo>
                  <a:pt x="320" y="40"/>
                  <a:pt x="320" y="38"/>
                  <a:pt x="320" y="36"/>
                </a:cubicBezTo>
                <a:cubicBezTo>
                  <a:pt x="320" y="35"/>
                  <a:pt x="319" y="33"/>
                  <a:pt x="319" y="32"/>
                </a:cubicBezTo>
                <a:cubicBezTo>
                  <a:pt x="319" y="29"/>
                  <a:pt x="319" y="27"/>
                  <a:pt x="319" y="25"/>
                </a:cubicBezTo>
                <a:cubicBezTo>
                  <a:pt x="319" y="24"/>
                  <a:pt x="318" y="22"/>
                  <a:pt x="318" y="21"/>
                </a:cubicBezTo>
                <a:cubicBezTo>
                  <a:pt x="318" y="19"/>
                  <a:pt x="318" y="16"/>
                  <a:pt x="318" y="14"/>
                </a:cubicBezTo>
                <a:cubicBezTo>
                  <a:pt x="318" y="13"/>
                  <a:pt x="318" y="11"/>
                  <a:pt x="318" y="10"/>
                </a:cubicBezTo>
                <a:cubicBezTo>
                  <a:pt x="318" y="8"/>
                  <a:pt x="318" y="5"/>
                  <a:pt x="317" y="3"/>
                </a:cubicBezTo>
                <a:cubicBezTo>
                  <a:pt x="317" y="2"/>
                  <a:pt x="317" y="1"/>
                  <a:pt x="317" y="0"/>
                </a:cubicBezTo>
                <a:cubicBezTo>
                  <a:pt x="217" y="0"/>
                  <a:pt x="217" y="0"/>
                  <a:pt x="217" y="0"/>
                </a:cubicBezTo>
                <a:cubicBezTo>
                  <a:pt x="213" y="0"/>
                  <a:pt x="211" y="1"/>
                  <a:pt x="210" y="1"/>
                </a:cubicBezTo>
                <a:cubicBezTo>
                  <a:pt x="211" y="2"/>
                  <a:pt x="212" y="5"/>
                  <a:pt x="214" y="8"/>
                </a:cubicBezTo>
                <a:cubicBezTo>
                  <a:pt x="216" y="10"/>
                  <a:pt x="218" y="12"/>
                  <a:pt x="220" y="15"/>
                </a:cubicBezTo>
                <a:cubicBezTo>
                  <a:pt x="227" y="25"/>
                  <a:pt x="231" y="38"/>
                  <a:pt x="231" y="51"/>
                </a:cubicBezTo>
                <a:cubicBezTo>
                  <a:pt x="231" y="85"/>
                  <a:pt x="204" y="112"/>
                  <a:pt x="170" y="112"/>
                </a:cubicBezTo>
                <a:cubicBezTo>
                  <a:pt x="136" y="112"/>
                  <a:pt x="108" y="85"/>
                  <a:pt x="108" y="51"/>
                </a:cubicBezTo>
                <a:cubicBezTo>
                  <a:pt x="108" y="38"/>
                  <a:pt x="112" y="25"/>
                  <a:pt x="120" y="15"/>
                </a:cubicBezTo>
                <a:cubicBezTo>
                  <a:pt x="121" y="12"/>
                  <a:pt x="123" y="10"/>
                  <a:pt x="125" y="8"/>
                </a:cubicBezTo>
                <a:cubicBezTo>
                  <a:pt x="128" y="5"/>
                  <a:pt x="129" y="2"/>
                  <a:pt x="129" y="1"/>
                </a:cubicBezTo>
                <a:cubicBezTo>
                  <a:pt x="128" y="1"/>
                  <a:pt x="126" y="0"/>
                  <a:pt x="123" y="0"/>
                </a:cubicBezTo>
                <a:cubicBezTo>
                  <a:pt x="0" y="0"/>
                  <a:pt x="0" y="0"/>
                  <a:pt x="0" y="0"/>
                </a:cubicBezTo>
                <a:cubicBezTo>
                  <a:pt x="7" y="419"/>
                  <a:pt x="348" y="756"/>
                  <a:pt x="768" y="756"/>
                </a:cubicBezTo>
                <a:cubicBezTo>
                  <a:pt x="768" y="634"/>
                  <a:pt x="768" y="634"/>
                  <a:pt x="768" y="634"/>
                </a:cubicBezTo>
                <a:cubicBezTo>
                  <a:pt x="768" y="618"/>
                  <a:pt x="776" y="607"/>
                  <a:pt x="796" y="622"/>
                </a:cubicBezTo>
                <a:cubicBezTo>
                  <a:pt x="798" y="624"/>
                  <a:pt x="800" y="626"/>
                  <a:pt x="802" y="627"/>
                </a:cubicBezTo>
                <a:cubicBezTo>
                  <a:pt x="802" y="627"/>
                  <a:pt x="802" y="627"/>
                  <a:pt x="802" y="627"/>
                </a:cubicBezTo>
                <a:cubicBezTo>
                  <a:pt x="810" y="633"/>
                  <a:pt x="820" y="636"/>
                  <a:pt x="831" y="636"/>
                </a:cubicBezTo>
                <a:cubicBezTo>
                  <a:pt x="858" y="636"/>
                  <a:pt x="880" y="614"/>
                  <a:pt x="880" y="587"/>
                </a:cubicBezTo>
                <a:cubicBezTo>
                  <a:pt x="880" y="559"/>
                  <a:pt x="858" y="537"/>
                  <a:pt x="831" y="537"/>
                </a:cubicBezTo>
                <a:close/>
              </a:path>
            </a:pathLst>
          </a:cu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03" name="Freeform 9"/>
          <p:cNvSpPr/>
          <p:nvPr/>
        </p:nvSpPr>
        <p:spPr>
          <a:xfrm>
            <a:off x="6585120" y="3873600"/>
            <a:ext cx="1725480" cy="1725480"/>
          </a:xfrm>
          <a:custGeom>
            <a:avLst/>
            <a:gdLst/>
            <a:ahLst/>
            <a:rect l="l" t="t" r="r" b="b"/>
            <a:pathLst>
              <a:path w="756" h="756">
                <a:moveTo>
                  <a:pt x="634" y="0"/>
                </a:moveTo>
                <a:cubicBezTo>
                  <a:pt x="630" y="0"/>
                  <a:pt x="628" y="1"/>
                  <a:pt x="627" y="1"/>
                </a:cubicBezTo>
                <a:cubicBezTo>
                  <a:pt x="628" y="2"/>
                  <a:pt x="629" y="5"/>
                  <a:pt x="631" y="8"/>
                </a:cubicBezTo>
                <a:cubicBezTo>
                  <a:pt x="633" y="10"/>
                  <a:pt x="635" y="12"/>
                  <a:pt x="637" y="15"/>
                </a:cubicBezTo>
                <a:cubicBezTo>
                  <a:pt x="644" y="25"/>
                  <a:pt x="648" y="38"/>
                  <a:pt x="648" y="51"/>
                </a:cubicBezTo>
                <a:cubicBezTo>
                  <a:pt x="648" y="85"/>
                  <a:pt x="621" y="112"/>
                  <a:pt x="587" y="112"/>
                </a:cubicBezTo>
                <a:cubicBezTo>
                  <a:pt x="553" y="112"/>
                  <a:pt x="525" y="85"/>
                  <a:pt x="525" y="51"/>
                </a:cubicBezTo>
                <a:cubicBezTo>
                  <a:pt x="525" y="38"/>
                  <a:pt x="529" y="25"/>
                  <a:pt x="537" y="15"/>
                </a:cubicBezTo>
                <a:cubicBezTo>
                  <a:pt x="538" y="12"/>
                  <a:pt x="540" y="10"/>
                  <a:pt x="542" y="8"/>
                </a:cubicBezTo>
                <a:cubicBezTo>
                  <a:pt x="545" y="5"/>
                  <a:pt x="546" y="2"/>
                  <a:pt x="546" y="1"/>
                </a:cubicBezTo>
                <a:cubicBezTo>
                  <a:pt x="545" y="1"/>
                  <a:pt x="543" y="0"/>
                  <a:pt x="540" y="0"/>
                </a:cubicBezTo>
                <a:cubicBezTo>
                  <a:pt x="439" y="0"/>
                  <a:pt x="439" y="0"/>
                  <a:pt x="439" y="0"/>
                </a:cubicBezTo>
                <a:cubicBezTo>
                  <a:pt x="439" y="1"/>
                  <a:pt x="439" y="2"/>
                  <a:pt x="439" y="3"/>
                </a:cubicBezTo>
                <a:cubicBezTo>
                  <a:pt x="439" y="5"/>
                  <a:pt x="439" y="8"/>
                  <a:pt x="439" y="10"/>
                </a:cubicBezTo>
                <a:cubicBezTo>
                  <a:pt x="439" y="11"/>
                  <a:pt x="438" y="13"/>
                  <a:pt x="438" y="14"/>
                </a:cubicBezTo>
                <a:cubicBezTo>
                  <a:pt x="438" y="16"/>
                  <a:pt x="438" y="19"/>
                  <a:pt x="438" y="21"/>
                </a:cubicBezTo>
                <a:cubicBezTo>
                  <a:pt x="438" y="22"/>
                  <a:pt x="438" y="24"/>
                  <a:pt x="438" y="25"/>
                </a:cubicBezTo>
                <a:cubicBezTo>
                  <a:pt x="437" y="27"/>
                  <a:pt x="437" y="29"/>
                  <a:pt x="437" y="32"/>
                </a:cubicBezTo>
                <a:cubicBezTo>
                  <a:pt x="437" y="33"/>
                  <a:pt x="437" y="35"/>
                  <a:pt x="437" y="36"/>
                </a:cubicBezTo>
                <a:cubicBezTo>
                  <a:pt x="436" y="38"/>
                  <a:pt x="436" y="40"/>
                  <a:pt x="436" y="43"/>
                </a:cubicBezTo>
                <a:cubicBezTo>
                  <a:pt x="436" y="44"/>
                  <a:pt x="436" y="45"/>
                  <a:pt x="435" y="47"/>
                </a:cubicBezTo>
                <a:cubicBezTo>
                  <a:pt x="435" y="49"/>
                  <a:pt x="435" y="52"/>
                  <a:pt x="434" y="54"/>
                </a:cubicBezTo>
                <a:cubicBezTo>
                  <a:pt x="434" y="55"/>
                  <a:pt x="434" y="56"/>
                  <a:pt x="434" y="57"/>
                </a:cubicBezTo>
                <a:cubicBezTo>
                  <a:pt x="433" y="61"/>
                  <a:pt x="433" y="64"/>
                  <a:pt x="432" y="67"/>
                </a:cubicBezTo>
                <a:cubicBezTo>
                  <a:pt x="432" y="69"/>
                  <a:pt x="432" y="70"/>
                  <a:pt x="431" y="72"/>
                </a:cubicBezTo>
                <a:cubicBezTo>
                  <a:pt x="431" y="74"/>
                  <a:pt x="431" y="76"/>
                  <a:pt x="430" y="78"/>
                </a:cubicBezTo>
                <a:cubicBezTo>
                  <a:pt x="430" y="79"/>
                  <a:pt x="430" y="81"/>
                  <a:pt x="429" y="83"/>
                </a:cubicBezTo>
                <a:cubicBezTo>
                  <a:pt x="429" y="84"/>
                  <a:pt x="428" y="86"/>
                  <a:pt x="428" y="88"/>
                </a:cubicBezTo>
                <a:cubicBezTo>
                  <a:pt x="428" y="90"/>
                  <a:pt x="427" y="91"/>
                  <a:pt x="427" y="93"/>
                </a:cubicBezTo>
                <a:cubicBezTo>
                  <a:pt x="427" y="95"/>
                  <a:pt x="426" y="96"/>
                  <a:pt x="426" y="98"/>
                </a:cubicBezTo>
                <a:cubicBezTo>
                  <a:pt x="425" y="100"/>
                  <a:pt x="425" y="101"/>
                  <a:pt x="424" y="103"/>
                </a:cubicBezTo>
                <a:cubicBezTo>
                  <a:pt x="424" y="105"/>
                  <a:pt x="423" y="106"/>
                  <a:pt x="423" y="108"/>
                </a:cubicBezTo>
                <a:cubicBezTo>
                  <a:pt x="423" y="110"/>
                  <a:pt x="422" y="112"/>
                  <a:pt x="422" y="113"/>
                </a:cubicBezTo>
                <a:cubicBezTo>
                  <a:pt x="421" y="115"/>
                  <a:pt x="421" y="116"/>
                  <a:pt x="420" y="118"/>
                </a:cubicBezTo>
                <a:cubicBezTo>
                  <a:pt x="420" y="120"/>
                  <a:pt x="419" y="121"/>
                  <a:pt x="419" y="123"/>
                </a:cubicBezTo>
                <a:cubicBezTo>
                  <a:pt x="418" y="124"/>
                  <a:pt x="418" y="125"/>
                  <a:pt x="418" y="126"/>
                </a:cubicBezTo>
                <a:cubicBezTo>
                  <a:pt x="416" y="130"/>
                  <a:pt x="415" y="135"/>
                  <a:pt x="413" y="139"/>
                </a:cubicBezTo>
                <a:cubicBezTo>
                  <a:pt x="413" y="140"/>
                  <a:pt x="413" y="141"/>
                  <a:pt x="412" y="142"/>
                </a:cubicBezTo>
                <a:cubicBezTo>
                  <a:pt x="412" y="144"/>
                  <a:pt x="411" y="146"/>
                  <a:pt x="410" y="148"/>
                </a:cubicBezTo>
                <a:cubicBezTo>
                  <a:pt x="410" y="149"/>
                  <a:pt x="409" y="150"/>
                  <a:pt x="409" y="151"/>
                </a:cubicBezTo>
                <a:cubicBezTo>
                  <a:pt x="408" y="153"/>
                  <a:pt x="407" y="155"/>
                  <a:pt x="406" y="158"/>
                </a:cubicBezTo>
                <a:cubicBezTo>
                  <a:pt x="406" y="159"/>
                  <a:pt x="405" y="160"/>
                  <a:pt x="405" y="161"/>
                </a:cubicBezTo>
                <a:cubicBezTo>
                  <a:pt x="404" y="163"/>
                  <a:pt x="403" y="165"/>
                  <a:pt x="402" y="167"/>
                </a:cubicBezTo>
                <a:cubicBezTo>
                  <a:pt x="402" y="168"/>
                  <a:pt x="402" y="169"/>
                  <a:pt x="401" y="170"/>
                </a:cubicBezTo>
                <a:cubicBezTo>
                  <a:pt x="400" y="172"/>
                  <a:pt x="399" y="174"/>
                  <a:pt x="398" y="176"/>
                </a:cubicBezTo>
                <a:cubicBezTo>
                  <a:pt x="398" y="177"/>
                  <a:pt x="398" y="178"/>
                  <a:pt x="397" y="178"/>
                </a:cubicBezTo>
                <a:cubicBezTo>
                  <a:pt x="392" y="189"/>
                  <a:pt x="387" y="200"/>
                  <a:pt x="381" y="210"/>
                </a:cubicBezTo>
                <a:cubicBezTo>
                  <a:pt x="381" y="210"/>
                  <a:pt x="381" y="210"/>
                  <a:pt x="381" y="210"/>
                </a:cubicBezTo>
                <a:cubicBezTo>
                  <a:pt x="379" y="213"/>
                  <a:pt x="378" y="215"/>
                  <a:pt x="376" y="218"/>
                </a:cubicBezTo>
                <a:cubicBezTo>
                  <a:pt x="376" y="218"/>
                  <a:pt x="376" y="219"/>
                  <a:pt x="376" y="219"/>
                </a:cubicBezTo>
                <a:cubicBezTo>
                  <a:pt x="374" y="221"/>
                  <a:pt x="373" y="224"/>
                  <a:pt x="371" y="226"/>
                </a:cubicBezTo>
                <a:cubicBezTo>
                  <a:pt x="371" y="226"/>
                  <a:pt x="371" y="227"/>
                  <a:pt x="371" y="227"/>
                </a:cubicBezTo>
                <a:cubicBezTo>
                  <a:pt x="369" y="230"/>
                  <a:pt x="368" y="232"/>
                  <a:pt x="366" y="234"/>
                </a:cubicBezTo>
                <a:cubicBezTo>
                  <a:pt x="366" y="234"/>
                  <a:pt x="366" y="235"/>
                  <a:pt x="366" y="235"/>
                </a:cubicBezTo>
                <a:cubicBezTo>
                  <a:pt x="357" y="248"/>
                  <a:pt x="348" y="260"/>
                  <a:pt x="338" y="272"/>
                </a:cubicBezTo>
                <a:cubicBezTo>
                  <a:pt x="338" y="272"/>
                  <a:pt x="338" y="272"/>
                  <a:pt x="338" y="272"/>
                </a:cubicBezTo>
                <a:cubicBezTo>
                  <a:pt x="339" y="272"/>
                  <a:pt x="339" y="272"/>
                  <a:pt x="339" y="272"/>
                </a:cubicBezTo>
                <a:cubicBezTo>
                  <a:pt x="338" y="272"/>
                  <a:pt x="338" y="272"/>
                  <a:pt x="338" y="272"/>
                </a:cubicBezTo>
                <a:cubicBezTo>
                  <a:pt x="338" y="272"/>
                  <a:pt x="338" y="272"/>
                  <a:pt x="338" y="272"/>
                </a:cubicBezTo>
                <a:cubicBezTo>
                  <a:pt x="337" y="274"/>
                  <a:pt x="336" y="276"/>
                  <a:pt x="334" y="277"/>
                </a:cubicBezTo>
                <a:cubicBezTo>
                  <a:pt x="328" y="287"/>
                  <a:pt x="329" y="297"/>
                  <a:pt x="350" y="300"/>
                </a:cubicBezTo>
                <a:cubicBezTo>
                  <a:pt x="353" y="300"/>
                  <a:pt x="355" y="300"/>
                  <a:pt x="358" y="301"/>
                </a:cubicBezTo>
                <a:cubicBezTo>
                  <a:pt x="358" y="301"/>
                  <a:pt x="358" y="301"/>
                  <a:pt x="358" y="301"/>
                </a:cubicBezTo>
                <a:cubicBezTo>
                  <a:pt x="368" y="302"/>
                  <a:pt x="377" y="307"/>
                  <a:pt x="385" y="314"/>
                </a:cubicBezTo>
                <a:cubicBezTo>
                  <a:pt x="404" y="334"/>
                  <a:pt x="404" y="365"/>
                  <a:pt x="385" y="385"/>
                </a:cubicBezTo>
                <a:cubicBezTo>
                  <a:pt x="365" y="404"/>
                  <a:pt x="334" y="404"/>
                  <a:pt x="314" y="385"/>
                </a:cubicBezTo>
                <a:cubicBezTo>
                  <a:pt x="307" y="377"/>
                  <a:pt x="302" y="368"/>
                  <a:pt x="301" y="358"/>
                </a:cubicBezTo>
                <a:cubicBezTo>
                  <a:pt x="301" y="358"/>
                  <a:pt x="301" y="358"/>
                  <a:pt x="301" y="358"/>
                </a:cubicBezTo>
                <a:cubicBezTo>
                  <a:pt x="300" y="355"/>
                  <a:pt x="300" y="353"/>
                  <a:pt x="300" y="350"/>
                </a:cubicBezTo>
                <a:cubicBezTo>
                  <a:pt x="297" y="329"/>
                  <a:pt x="287" y="328"/>
                  <a:pt x="277" y="334"/>
                </a:cubicBezTo>
                <a:cubicBezTo>
                  <a:pt x="277" y="334"/>
                  <a:pt x="277" y="334"/>
                  <a:pt x="277" y="334"/>
                </a:cubicBezTo>
                <a:cubicBezTo>
                  <a:pt x="276" y="336"/>
                  <a:pt x="274" y="337"/>
                  <a:pt x="272" y="338"/>
                </a:cubicBezTo>
                <a:cubicBezTo>
                  <a:pt x="272" y="338"/>
                  <a:pt x="272" y="338"/>
                  <a:pt x="272" y="338"/>
                </a:cubicBezTo>
                <a:cubicBezTo>
                  <a:pt x="272" y="338"/>
                  <a:pt x="272" y="338"/>
                  <a:pt x="272" y="339"/>
                </a:cubicBezTo>
                <a:cubicBezTo>
                  <a:pt x="272" y="338"/>
                  <a:pt x="272" y="338"/>
                  <a:pt x="272" y="338"/>
                </a:cubicBezTo>
                <a:cubicBezTo>
                  <a:pt x="272" y="338"/>
                  <a:pt x="272" y="338"/>
                  <a:pt x="272" y="338"/>
                </a:cubicBezTo>
                <a:cubicBezTo>
                  <a:pt x="260" y="348"/>
                  <a:pt x="248" y="357"/>
                  <a:pt x="235" y="366"/>
                </a:cubicBezTo>
                <a:cubicBezTo>
                  <a:pt x="235" y="366"/>
                  <a:pt x="234" y="366"/>
                  <a:pt x="234" y="366"/>
                </a:cubicBezTo>
                <a:cubicBezTo>
                  <a:pt x="232" y="368"/>
                  <a:pt x="230" y="369"/>
                  <a:pt x="227" y="371"/>
                </a:cubicBezTo>
                <a:cubicBezTo>
                  <a:pt x="227" y="371"/>
                  <a:pt x="226" y="371"/>
                  <a:pt x="226" y="371"/>
                </a:cubicBezTo>
                <a:cubicBezTo>
                  <a:pt x="224" y="373"/>
                  <a:pt x="221" y="374"/>
                  <a:pt x="219" y="376"/>
                </a:cubicBezTo>
                <a:cubicBezTo>
                  <a:pt x="219" y="376"/>
                  <a:pt x="218" y="376"/>
                  <a:pt x="218" y="376"/>
                </a:cubicBezTo>
                <a:cubicBezTo>
                  <a:pt x="215" y="378"/>
                  <a:pt x="213" y="379"/>
                  <a:pt x="210" y="381"/>
                </a:cubicBezTo>
                <a:cubicBezTo>
                  <a:pt x="210" y="381"/>
                  <a:pt x="210" y="381"/>
                  <a:pt x="210" y="381"/>
                </a:cubicBezTo>
                <a:cubicBezTo>
                  <a:pt x="200" y="387"/>
                  <a:pt x="189" y="392"/>
                  <a:pt x="178" y="397"/>
                </a:cubicBezTo>
                <a:cubicBezTo>
                  <a:pt x="178" y="398"/>
                  <a:pt x="177" y="398"/>
                  <a:pt x="176" y="398"/>
                </a:cubicBezTo>
                <a:cubicBezTo>
                  <a:pt x="174" y="399"/>
                  <a:pt x="172" y="400"/>
                  <a:pt x="170" y="401"/>
                </a:cubicBezTo>
                <a:cubicBezTo>
                  <a:pt x="169" y="402"/>
                  <a:pt x="168" y="402"/>
                  <a:pt x="167" y="402"/>
                </a:cubicBezTo>
                <a:cubicBezTo>
                  <a:pt x="165" y="403"/>
                  <a:pt x="163" y="404"/>
                  <a:pt x="161" y="405"/>
                </a:cubicBezTo>
                <a:cubicBezTo>
                  <a:pt x="160" y="405"/>
                  <a:pt x="159" y="406"/>
                  <a:pt x="158" y="406"/>
                </a:cubicBezTo>
                <a:cubicBezTo>
                  <a:pt x="155" y="407"/>
                  <a:pt x="153" y="408"/>
                  <a:pt x="151" y="409"/>
                </a:cubicBezTo>
                <a:cubicBezTo>
                  <a:pt x="150" y="409"/>
                  <a:pt x="149" y="410"/>
                  <a:pt x="148" y="410"/>
                </a:cubicBezTo>
                <a:cubicBezTo>
                  <a:pt x="146" y="411"/>
                  <a:pt x="144" y="412"/>
                  <a:pt x="142" y="412"/>
                </a:cubicBezTo>
                <a:cubicBezTo>
                  <a:pt x="141" y="413"/>
                  <a:pt x="140" y="413"/>
                  <a:pt x="139" y="413"/>
                </a:cubicBezTo>
                <a:cubicBezTo>
                  <a:pt x="135" y="415"/>
                  <a:pt x="130" y="416"/>
                  <a:pt x="126" y="418"/>
                </a:cubicBezTo>
                <a:cubicBezTo>
                  <a:pt x="125" y="418"/>
                  <a:pt x="124" y="418"/>
                  <a:pt x="123" y="419"/>
                </a:cubicBezTo>
                <a:cubicBezTo>
                  <a:pt x="121" y="419"/>
                  <a:pt x="120" y="420"/>
                  <a:pt x="118" y="420"/>
                </a:cubicBezTo>
                <a:cubicBezTo>
                  <a:pt x="116" y="421"/>
                  <a:pt x="115" y="421"/>
                  <a:pt x="113" y="422"/>
                </a:cubicBezTo>
                <a:cubicBezTo>
                  <a:pt x="112" y="422"/>
                  <a:pt x="110" y="423"/>
                  <a:pt x="108" y="423"/>
                </a:cubicBezTo>
                <a:cubicBezTo>
                  <a:pt x="106" y="423"/>
                  <a:pt x="105" y="424"/>
                  <a:pt x="103" y="424"/>
                </a:cubicBezTo>
                <a:cubicBezTo>
                  <a:pt x="102" y="425"/>
                  <a:pt x="100" y="425"/>
                  <a:pt x="98" y="426"/>
                </a:cubicBezTo>
                <a:cubicBezTo>
                  <a:pt x="96" y="426"/>
                  <a:pt x="95" y="427"/>
                  <a:pt x="93" y="427"/>
                </a:cubicBezTo>
                <a:cubicBezTo>
                  <a:pt x="91" y="427"/>
                  <a:pt x="90" y="428"/>
                  <a:pt x="88" y="428"/>
                </a:cubicBezTo>
                <a:cubicBezTo>
                  <a:pt x="86" y="428"/>
                  <a:pt x="84" y="429"/>
                  <a:pt x="83" y="429"/>
                </a:cubicBezTo>
                <a:cubicBezTo>
                  <a:pt x="81" y="430"/>
                  <a:pt x="79" y="430"/>
                  <a:pt x="78" y="430"/>
                </a:cubicBezTo>
                <a:cubicBezTo>
                  <a:pt x="76" y="431"/>
                  <a:pt x="74" y="431"/>
                  <a:pt x="72" y="431"/>
                </a:cubicBezTo>
                <a:cubicBezTo>
                  <a:pt x="70" y="432"/>
                  <a:pt x="69" y="432"/>
                  <a:pt x="67" y="432"/>
                </a:cubicBezTo>
                <a:cubicBezTo>
                  <a:pt x="64" y="433"/>
                  <a:pt x="61" y="433"/>
                  <a:pt x="57" y="434"/>
                </a:cubicBezTo>
                <a:cubicBezTo>
                  <a:pt x="56" y="434"/>
                  <a:pt x="55" y="434"/>
                  <a:pt x="54" y="434"/>
                </a:cubicBezTo>
                <a:cubicBezTo>
                  <a:pt x="52" y="435"/>
                  <a:pt x="49" y="435"/>
                  <a:pt x="47" y="435"/>
                </a:cubicBezTo>
                <a:cubicBezTo>
                  <a:pt x="45" y="436"/>
                  <a:pt x="44" y="436"/>
                  <a:pt x="43" y="436"/>
                </a:cubicBezTo>
                <a:cubicBezTo>
                  <a:pt x="40" y="436"/>
                  <a:pt x="38" y="436"/>
                  <a:pt x="36" y="437"/>
                </a:cubicBezTo>
                <a:cubicBezTo>
                  <a:pt x="35" y="437"/>
                  <a:pt x="33" y="437"/>
                  <a:pt x="32" y="437"/>
                </a:cubicBezTo>
                <a:cubicBezTo>
                  <a:pt x="29" y="437"/>
                  <a:pt x="27" y="437"/>
                  <a:pt x="25" y="438"/>
                </a:cubicBezTo>
                <a:cubicBezTo>
                  <a:pt x="24" y="438"/>
                  <a:pt x="22" y="438"/>
                  <a:pt x="21" y="438"/>
                </a:cubicBezTo>
                <a:cubicBezTo>
                  <a:pt x="19" y="438"/>
                  <a:pt x="16" y="438"/>
                  <a:pt x="14" y="438"/>
                </a:cubicBezTo>
                <a:cubicBezTo>
                  <a:pt x="13" y="438"/>
                  <a:pt x="11" y="439"/>
                  <a:pt x="10" y="439"/>
                </a:cubicBezTo>
                <a:cubicBezTo>
                  <a:pt x="8" y="439"/>
                  <a:pt x="5" y="439"/>
                  <a:pt x="3" y="439"/>
                </a:cubicBezTo>
                <a:cubicBezTo>
                  <a:pt x="2" y="439"/>
                  <a:pt x="1" y="439"/>
                  <a:pt x="0" y="439"/>
                </a:cubicBezTo>
                <a:cubicBezTo>
                  <a:pt x="0" y="540"/>
                  <a:pt x="0" y="540"/>
                  <a:pt x="0" y="540"/>
                </a:cubicBezTo>
                <a:cubicBezTo>
                  <a:pt x="0" y="543"/>
                  <a:pt x="1" y="545"/>
                  <a:pt x="1" y="546"/>
                </a:cubicBezTo>
                <a:cubicBezTo>
                  <a:pt x="2" y="546"/>
                  <a:pt x="5" y="545"/>
                  <a:pt x="8" y="542"/>
                </a:cubicBezTo>
                <a:cubicBezTo>
                  <a:pt x="10" y="540"/>
                  <a:pt x="12" y="538"/>
                  <a:pt x="15" y="537"/>
                </a:cubicBezTo>
                <a:cubicBezTo>
                  <a:pt x="25" y="529"/>
                  <a:pt x="38" y="525"/>
                  <a:pt x="51" y="525"/>
                </a:cubicBezTo>
                <a:cubicBezTo>
                  <a:pt x="85" y="525"/>
                  <a:pt x="112" y="553"/>
                  <a:pt x="112" y="587"/>
                </a:cubicBezTo>
                <a:cubicBezTo>
                  <a:pt x="112" y="621"/>
                  <a:pt x="85" y="648"/>
                  <a:pt x="51" y="648"/>
                </a:cubicBezTo>
                <a:cubicBezTo>
                  <a:pt x="38" y="648"/>
                  <a:pt x="25" y="644"/>
                  <a:pt x="15" y="637"/>
                </a:cubicBezTo>
                <a:cubicBezTo>
                  <a:pt x="14" y="636"/>
                  <a:pt x="14" y="636"/>
                  <a:pt x="14" y="636"/>
                </a:cubicBezTo>
                <a:cubicBezTo>
                  <a:pt x="12" y="635"/>
                  <a:pt x="10" y="633"/>
                  <a:pt x="8" y="631"/>
                </a:cubicBezTo>
                <a:cubicBezTo>
                  <a:pt x="5" y="629"/>
                  <a:pt x="2" y="628"/>
                  <a:pt x="1" y="627"/>
                </a:cubicBezTo>
                <a:cubicBezTo>
                  <a:pt x="1" y="628"/>
                  <a:pt x="0" y="630"/>
                  <a:pt x="0" y="634"/>
                </a:cubicBezTo>
                <a:cubicBezTo>
                  <a:pt x="0" y="756"/>
                  <a:pt x="0" y="756"/>
                  <a:pt x="0" y="756"/>
                </a:cubicBezTo>
                <a:cubicBezTo>
                  <a:pt x="415" y="750"/>
                  <a:pt x="750" y="415"/>
                  <a:pt x="756" y="0"/>
                </a:cubicBezTo>
                <a:lnTo>
                  <a:pt x="634" y="0"/>
                </a:lnTo>
                <a:close/>
              </a:path>
            </a:pathLst>
          </a:cu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04" name="TextBox 19"/>
          <p:cNvSpPr/>
          <p:nvPr/>
        </p:nvSpPr>
        <p:spPr>
          <a:xfrm>
            <a:off x="5733720" y="361152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3f3f3f"/>
                </a:solidFill>
                <a:latin typeface="Poppins"/>
              </a:rPr>
              <a:t>SUCCESS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705" name="Group 20"/>
          <p:cNvGrpSpPr/>
          <p:nvPr/>
        </p:nvGrpSpPr>
        <p:grpSpPr>
          <a:xfrm>
            <a:off x="4195080" y="2184120"/>
            <a:ext cx="849960" cy="403560"/>
            <a:chOff x="4195080" y="2184120"/>
            <a:chExt cx="849960" cy="403560"/>
          </a:xfrm>
        </p:grpSpPr>
        <p:sp>
          <p:nvSpPr>
            <p:cNvPr id="706" name="Straight Connector 21"/>
            <p:cNvSpPr/>
            <p:nvPr/>
          </p:nvSpPr>
          <p:spPr>
            <a:xfrm flipH="1" flipV="1">
              <a:off x="4641840" y="2184480"/>
              <a:ext cx="403200" cy="403200"/>
            </a:xfrm>
            <a:prstGeom prst="line">
              <a:avLst/>
            </a:prstGeom>
            <a:ln w="19080">
              <a:solidFill>
                <a:srgbClr val="2980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707" name="Straight Arrow Connector 22"/>
            <p:cNvCxnSpPr/>
            <p:nvPr/>
          </p:nvCxnSpPr>
          <p:spPr>
            <a:xfrm flipH="1">
              <a:off x="4195080" y="2184120"/>
              <a:ext cx="446760" cy="1080"/>
            </a:xfrm>
            <a:prstGeom prst="straightConnector1">
              <a:avLst/>
            </a:prstGeom>
            <a:ln w="19080">
              <a:solidFill>
                <a:srgbClr val="2980b9"/>
              </a:solidFill>
              <a:miter/>
              <a:tailEnd len="med" type="oval" w="med"/>
            </a:ln>
          </p:spPr>
        </p:cxnSp>
      </p:grpSp>
      <p:grpSp>
        <p:nvGrpSpPr>
          <p:cNvPr id="708" name="Group 23"/>
          <p:cNvGrpSpPr/>
          <p:nvPr/>
        </p:nvGrpSpPr>
        <p:grpSpPr>
          <a:xfrm>
            <a:off x="7994520" y="2180880"/>
            <a:ext cx="849960" cy="403560"/>
            <a:chOff x="7994520" y="2180880"/>
            <a:chExt cx="849960" cy="403560"/>
          </a:xfrm>
        </p:grpSpPr>
        <p:sp>
          <p:nvSpPr>
            <p:cNvPr id="709" name="Straight Connector 24"/>
            <p:cNvSpPr/>
            <p:nvPr/>
          </p:nvSpPr>
          <p:spPr>
            <a:xfrm flipV="1">
              <a:off x="7994520" y="2181240"/>
              <a:ext cx="403200" cy="403200"/>
            </a:xfrm>
            <a:prstGeom prst="line">
              <a:avLst/>
            </a:prstGeom>
            <a:ln w="190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710" name="Straight Arrow Connector 25"/>
            <p:cNvCxnSpPr/>
            <p:nvPr/>
          </p:nvCxnSpPr>
          <p:spPr>
            <a:xfrm>
              <a:off x="8397720" y="2180880"/>
              <a:ext cx="447120" cy="1080"/>
            </a:xfrm>
            <a:prstGeom prst="straightConnector1">
              <a:avLst/>
            </a:prstGeom>
            <a:ln w="19080">
              <a:solidFill>
                <a:srgbClr val="9bbb59"/>
              </a:solidFill>
              <a:miter/>
              <a:tailEnd len="med" type="oval" w="med"/>
            </a:ln>
          </p:spPr>
        </p:cxnSp>
      </p:grpSp>
      <p:grpSp>
        <p:nvGrpSpPr>
          <p:cNvPr id="711" name="Group 28"/>
          <p:cNvGrpSpPr/>
          <p:nvPr/>
        </p:nvGrpSpPr>
        <p:grpSpPr>
          <a:xfrm>
            <a:off x="7994880" y="5186520"/>
            <a:ext cx="849600" cy="403560"/>
            <a:chOff x="7994880" y="5186520"/>
            <a:chExt cx="849600" cy="403560"/>
          </a:xfrm>
        </p:grpSpPr>
        <p:sp>
          <p:nvSpPr>
            <p:cNvPr id="712" name="Straight Connector 32"/>
            <p:cNvSpPr/>
            <p:nvPr/>
          </p:nvSpPr>
          <p:spPr>
            <a:xfrm>
              <a:off x="7994880" y="5186520"/>
              <a:ext cx="404280" cy="403200"/>
            </a:xfrm>
            <a:prstGeom prst="line">
              <a:avLst/>
            </a:prstGeom>
            <a:ln w="19080">
              <a:solidFill>
                <a:srgbClr val="f39c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713" name="Straight Arrow Connector 33"/>
            <p:cNvCxnSpPr/>
            <p:nvPr/>
          </p:nvCxnSpPr>
          <p:spPr>
            <a:xfrm flipV="1">
              <a:off x="8397000" y="5589360"/>
              <a:ext cx="447840" cy="1080"/>
            </a:xfrm>
            <a:prstGeom prst="straightConnector1">
              <a:avLst/>
            </a:prstGeom>
            <a:ln w="19080">
              <a:solidFill>
                <a:srgbClr val="f39c12"/>
              </a:solidFill>
              <a:miter/>
              <a:tailEnd len="med" type="oval" w="med"/>
            </a:ln>
          </p:spPr>
        </p:cxnSp>
      </p:grpSp>
      <p:grpSp>
        <p:nvGrpSpPr>
          <p:cNvPr id="714" name="Group 29"/>
          <p:cNvGrpSpPr/>
          <p:nvPr/>
        </p:nvGrpSpPr>
        <p:grpSpPr>
          <a:xfrm>
            <a:off x="4195080" y="5187960"/>
            <a:ext cx="849960" cy="403560"/>
            <a:chOff x="4195080" y="5187960"/>
            <a:chExt cx="849960" cy="403560"/>
          </a:xfrm>
        </p:grpSpPr>
        <p:sp>
          <p:nvSpPr>
            <p:cNvPr id="715" name="Straight Connector 30"/>
            <p:cNvSpPr/>
            <p:nvPr/>
          </p:nvSpPr>
          <p:spPr>
            <a:xfrm flipH="1">
              <a:off x="4642560" y="5187960"/>
              <a:ext cx="402480" cy="403200"/>
            </a:xfrm>
            <a:prstGeom prst="line">
              <a:avLst/>
            </a:prstGeom>
            <a:ln w="19080">
              <a:solidFill>
                <a:srgbClr val="c039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716" name="Straight Arrow Connector 31"/>
            <p:cNvCxnSpPr/>
            <p:nvPr/>
          </p:nvCxnSpPr>
          <p:spPr>
            <a:xfrm flipH="1" flipV="1">
              <a:off x="4195080" y="5590800"/>
              <a:ext cx="446040" cy="1080"/>
            </a:xfrm>
            <a:prstGeom prst="straightConnector1">
              <a:avLst/>
            </a:prstGeom>
            <a:ln w="19080">
              <a:solidFill>
                <a:srgbClr val="c0392b"/>
              </a:solidFill>
              <a:miter/>
              <a:tailEnd len="med" type="oval" w="med"/>
            </a:ln>
          </p:spPr>
        </p:cxnSp>
      </p:grpSp>
      <p:sp>
        <p:nvSpPr>
          <p:cNvPr id="717" name="Title 1"/>
          <p:cNvSpPr/>
          <p:nvPr/>
        </p:nvSpPr>
        <p:spPr>
          <a:xfrm>
            <a:off x="9023400" y="1870200"/>
            <a:ext cx="26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System Upgrading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8" name="Details 1"/>
          <p:cNvSpPr/>
          <p:nvPr/>
        </p:nvSpPr>
        <p:spPr>
          <a:xfrm>
            <a:off x="9023400" y="2092320"/>
            <a:ext cx="27115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Consectetur adipiscing eliteiusmod temp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9" name="Title 1"/>
          <p:cNvSpPr/>
          <p:nvPr/>
        </p:nvSpPr>
        <p:spPr>
          <a:xfrm>
            <a:off x="1463760" y="1870200"/>
            <a:ext cx="26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Money Managemen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0" name="Details 1"/>
          <p:cNvSpPr/>
          <p:nvPr/>
        </p:nvSpPr>
        <p:spPr>
          <a:xfrm>
            <a:off x="957240" y="2092320"/>
            <a:ext cx="3132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Consectetur adipiscing eliteiusmod temp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1" name="Title 1"/>
          <p:cNvSpPr/>
          <p:nvPr/>
        </p:nvSpPr>
        <p:spPr>
          <a:xfrm>
            <a:off x="9034560" y="4875120"/>
            <a:ext cx="26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Time Managemen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2" name="Details 1"/>
          <p:cNvSpPr/>
          <p:nvPr/>
        </p:nvSpPr>
        <p:spPr>
          <a:xfrm>
            <a:off x="9034560" y="5097600"/>
            <a:ext cx="27129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Consectetur adipiscing eliteiusmod temp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3" name="Title 1"/>
          <p:cNvSpPr/>
          <p:nvPr/>
        </p:nvSpPr>
        <p:spPr>
          <a:xfrm>
            <a:off x="1406520" y="5102280"/>
            <a:ext cx="26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Analysis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4" name="Details 1"/>
          <p:cNvSpPr/>
          <p:nvPr/>
        </p:nvSpPr>
        <p:spPr>
          <a:xfrm>
            <a:off x="900000" y="5326200"/>
            <a:ext cx="3132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Consectetur adipiscing eliteiusmod temp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nodeType="clickEffect" fill="hold">
                      <p:stCondLst>
                        <p:cond delay="0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2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Poppins"/>
              </a:rPr>
              <a:t>BRIEFCASE PUZZLE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6" name="Freeform 14"/>
          <p:cNvSpPr/>
          <p:nvPr/>
        </p:nvSpPr>
        <p:spPr>
          <a:xfrm>
            <a:off x="8158320" y="1405080"/>
            <a:ext cx="1461960" cy="655560"/>
          </a:xfrm>
          <a:custGeom>
            <a:avLst/>
            <a:gdLst/>
            <a:ahLst/>
            <a:rect l="l" t="t" r="r" b="b"/>
            <a:pathLst>
              <a:path w="374" h="168">
                <a:moveTo>
                  <a:pt x="63" y="168"/>
                </a:moveTo>
                <a:cubicBezTo>
                  <a:pt x="63" y="61"/>
                  <a:pt x="63" y="61"/>
                  <a:pt x="63" y="61"/>
                </a:cubicBezTo>
                <a:cubicBezTo>
                  <a:pt x="315" y="61"/>
                  <a:pt x="315" y="61"/>
                  <a:pt x="315" y="61"/>
                </a:cubicBezTo>
                <a:cubicBezTo>
                  <a:pt x="315" y="168"/>
                  <a:pt x="315" y="168"/>
                  <a:pt x="315" y="168"/>
                </a:cubicBezTo>
                <a:cubicBezTo>
                  <a:pt x="374" y="168"/>
                  <a:pt x="374" y="168"/>
                  <a:pt x="374" y="168"/>
                </a:cubicBezTo>
                <a:cubicBezTo>
                  <a:pt x="374" y="78"/>
                  <a:pt x="374" y="78"/>
                  <a:pt x="374" y="78"/>
                </a:cubicBezTo>
                <a:cubicBezTo>
                  <a:pt x="374" y="0"/>
                  <a:pt x="302" y="0"/>
                  <a:pt x="30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2" y="0"/>
                  <a:pt x="0" y="0"/>
                  <a:pt x="0" y="78"/>
                </a:cubicBezTo>
                <a:cubicBezTo>
                  <a:pt x="0" y="168"/>
                  <a:pt x="0" y="168"/>
                  <a:pt x="0" y="168"/>
                </a:cubicBezTo>
                <a:lnTo>
                  <a:pt x="63" y="168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7" name="Rectangle 15"/>
          <p:cNvSpPr/>
          <p:nvPr/>
        </p:nvSpPr>
        <p:spPr>
          <a:xfrm>
            <a:off x="8497800" y="3216240"/>
            <a:ext cx="782640" cy="781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8" name="Freeform 16"/>
          <p:cNvSpPr/>
          <p:nvPr/>
        </p:nvSpPr>
        <p:spPr>
          <a:xfrm>
            <a:off x="7823160" y="3598920"/>
            <a:ext cx="2124000" cy="2440080"/>
          </a:xfrm>
          <a:custGeom>
            <a:avLst/>
            <a:gdLst/>
            <a:ahLst/>
            <a:rect l="l" t="t" r="r" b="b"/>
            <a:pathLst>
              <a:path w="544" h="624">
                <a:moveTo>
                  <a:pt x="0" y="0"/>
                </a:moveTo>
                <a:cubicBezTo>
                  <a:pt x="0" y="272"/>
                  <a:pt x="0" y="272"/>
                  <a:pt x="0" y="272"/>
                </a:cubicBezTo>
                <a:cubicBezTo>
                  <a:pt x="0" y="279"/>
                  <a:pt x="2" y="285"/>
                  <a:pt x="5" y="286"/>
                </a:cubicBezTo>
                <a:cubicBezTo>
                  <a:pt x="8" y="288"/>
                  <a:pt x="14" y="286"/>
                  <a:pt x="21" y="281"/>
                </a:cubicBezTo>
                <a:cubicBezTo>
                  <a:pt x="23" y="279"/>
                  <a:pt x="25" y="277"/>
                  <a:pt x="27" y="275"/>
                </a:cubicBezTo>
                <a:cubicBezTo>
                  <a:pt x="36" y="269"/>
                  <a:pt x="47" y="266"/>
                  <a:pt x="58" y="266"/>
                </a:cubicBezTo>
                <a:cubicBezTo>
                  <a:pt x="88" y="266"/>
                  <a:pt x="112" y="290"/>
                  <a:pt x="112" y="319"/>
                </a:cubicBezTo>
                <a:cubicBezTo>
                  <a:pt x="112" y="349"/>
                  <a:pt x="88" y="373"/>
                  <a:pt x="58" y="373"/>
                </a:cubicBezTo>
                <a:cubicBezTo>
                  <a:pt x="47" y="373"/>
                  <a:pt x="36" y="369"/>
                  <a:pt x="27" y="363"/>
                </a:cubicBezTo>
                <a:cubicBezTo>
                  <a:pt x="25" y="361"/>
                  <a:pt x="23" y="359"/>
                  <a:pt x="21" y="358"/>
                </a:cubicBezTo>
                <a:cubicBezTo>
                  <a:pt x="14" y="352"/>
                  <a:pt x="8" y="350"/>
                  <a:pt x="5" y="352"/>
                </a:cubicBezTo>
                <a:cubicBezTo>
                  <a:pt x="2" y="354"/>
                  <a:pt x="0" y="359"/>
                  <a:pt x="0" y="366"/>
                </a:cubicBezTo>
                <a:cubicBezTo>
                  <a:pt x="0" y="624"/>
                  <a:pt x="0" y="624"/>
                  <a:pt x="0" y="624"/>
                </a:cubicBezTo>
                <a:cubicBezTo>
                  <a:pt x="544" y="624"/>
                  <a:pt x="544" y="624"/>
                  <a:pt x="544" y="624"/>
                </a:cubicBezTo>
                <a:cubicBezTo>
                  <a:pt x="544" y="366"/>
                  <a:pt x="544" y="366"/>
                  <a:pt x="544" y="366"/>
                </a:cubicBezTo>
                <a:cubicBezTo>
                  <a:pt x="544" y="359"/>
                  <a:pt x="542" y="354"/>
                  <a:pt x="539" y="352"/>
                </a:cubicBezTo>
                <a:cubicBezTo>
                  <a:pt x="536" y="350"/>
                  <a:pt x="530" y="352"/>
                  <a:pt x="523" y="358"/>
                </a:cubicBezTo>
                <a:cubicBezTo>
                  <a:pt x="521" y="359"/>
                  <a:pt x="519" y="361"/>
                  <a:pt x="517" y="363"/>
                </a:cubicBezTo>
                <a:cubicBezTo>
                  <a:pt x="508" y="369"/>
                  <a:pt x="497" y="373"/>
                  <a:pt x="486" y="373"/>
                </a:cubicBezTo>
                <a:cubicBezTo>
                  <a:pt x="456" y="373"/>
                  <a:pt x="432" y="349"/>
                  <a:pt x="432" y="319"/>
                </a:cubicBezTo>
                <a:cubicBezTo>
                  <a:pt x="432" y="290"/>
                  <a:pt x="456" y="266"/>
                  <a:pt x="486" y="266"/>
                </a:cubicBezTo>
                <a:cubicBezTo>
                  <a:pt x="497" y="266"/>
                  <a:pt x="508" y="269"/>
                  <a:pt x="517" y="275"/>
                </a:cubicBezTo>
                <a:cubicBezTo>
                  <a:pt x="519" y="277"/>
                  <a:pt x="521" y="279"/>
                  <a:pt x="523" y="281"/>
                </a:cubicBezTo>
                <a:cubicBezTo>
                  <a:pt x="530" y="286"/>
                  <a:pt x="536" y="288"/>
                  <a:pt x="539" y="286"/>
                </a:cubicBezTo>
                <a:cubicBezTo>
                  <a:pt x="542" y="285"/>
                  <a:pt x="544" y="279"/>
                  <a:pt x="544" y="272"/>
                </a:cubicBezTo>
                <a:cubicBezTo>
                  <a:pt x="544" y="0"/>
                  <a:pt x="544" y="0"/>
                  <a:pt x="544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91"/>
                  <a:pt x="397" y="91"/>
                  <a:pt x="397" y="91"/>
                </a:cubicBezTo>
                <a:cubicBezTo>
                  <a:pt x="397" y="110"/>
                  <a:pt x="383" y="125"/>
                  <a:pt x="364" y="125"/>
                </a:cubicBezTo>
                <a:cubicBezTo>
                  <a:pt x="182" y="125"/>
                  <a:pt x="182" y="125"/>
                  <a:pt x="182" y="125"/>
                </a:cubicBezTo>
                <a:cubicBezTo>
                  <a:pt x="163" y="125"/>
                  <a:pt x="148" y="110"/>
                  <a:pt x="148" y="91"/>
                </a:cubicBezTo>
                <a:cubicBezTo>
                  <a:pt x="148" y="0"/>
                  <a:pt x="148" y="0"/>
                  <a:pt x="14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9" name="Freeform 17"/>
          <p:cNvSpPr/>
          <p:nvPr/>
        </p:nvSpPr>
        <p:spPr>
          <a:xfrm>
            <a:off x="6207120" y="3598920"/>
            <a:ext cx="2021040" cy="2440080"/>
          </a:xfrm>
          <a:custGeom>
            <a:avLst/>
            <a:gdLst/>
            <a:ahLst/>
            <a:rect l="l" t="t" r="r" b="b"/>
            <a:pathLst>
              <a:path w="517" h="624">
                <a:moveTo>
                  <a:pt x="405" y="366"/>
                </a:moveTo>
                <a:cubicBezTo>
                  <a:pt x="405" y="355"/>
                  <a:pt x="408" y="348"/>
                  <a:pt x="415" y="345"/>
                </a:cubicBezTo>
                <a:cubicBezTo>
                  <a:pt x="421" y="342"/>
                  <a:pt x="429" y="344"/>
                  <a:pt x="439" y="351"/>
                </a:cubicBezTo>
                <a:cubicBezTo>
                  <a:pt x="439" y="352"/>
                  <a:pt x="439" y="352"/>
                  <a:pt x="439" y="352"/>
                </a:cubicBezTo>
                <a:cubicBezTo>
                  <a:pt x="441" y="353"/>
                  <a:pt x="443" y="355"/>
                  <a:pt x="445" y="356"/>
                </a:cubicBezTo>
                <a:cubicBezTo>
                  <a:pt x="453" y="362"/>
                  <a:pt x="462" y="365"/>
                  <a:pt x="471" y="365"/>
                </a:cubicBezTo>
                <a:cubicBezTo>
                  <a:pt x="497" y="365"/>
                  <a:pt x="517" y="344"/>
                  <a:pt x="517" y="319"/>
                </a:cubicBezTo>
                <a:cubicBezTo>
                  <a:pt x="517" y="294"/>
                  <a:pt x="497" y="274"/>
                  <a:pt x="471" y="274"/>
                </a:cubicBezTo>
                <a:cubicBezTo>
                  <a:pt x="462" y="274"/>
                  <a:pt x="453" y="276"/>
                  <a:pt x="445" y="282"/>
                </a:cubicBezTo>
                <a:cubicBezTo>
                  <a:pt x="443" y="283"/>
                  <a:pt x="441" y="285"/>
                  <a:pt x="439" y="287"/>
                </a:cubicBezTo>
                <a:cubicBezTo>
                  <a:pt x="439" y="287"/>
                  <a:pt x="439" y="287"/>
                  <a:pt x="439" y="287"/>
                </a:cubicBezTo>
                <a:cubicBezTo>
                  <a:pt x="429" y="294"/>
                  <a:pt x="421" y="297"/>
                  <a:pt x="415" y="293"/>
                </a:cubicBezTo>
                <a:cubicBezTo>
                  <a:pt x="408" y="290"/>
                  <a:pt x="405" y="283"/>
                  <a:pt x="405" y="272"/>
                </a:cubicBezTo>
                <a:cubicBezTo>
                  <a:pt x="405" y="0"/>
                  <a:pt x="405" y="0"/>
                  <a:pt x="40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55"/>
                  <a:pt x="0" y="555"/>
                  <a:pt x="0" y="555"/>
                </a:cubicBezTo>
                <a:cubicBezTo>
                  <a:pt x="0" y="624"/>
                  <a:pt x="69" y="624"/>
                  <a:pt x="69" y="624"/>
                </a:cubicBezTo>
                <a:cubicBezTo>
                  <a:pt x="405" y="624"/>
                  <a:pt x="405" y="624"/>
                  <a:pt x="405" y="624"/>
                </a:cubicBezTo>
                <a:lnTo>
                  <a:pt x="405" y="366"/>
                </a:lnTo>
                <a:close/>
              </a:path>
            </a:pathLst>
          </a:custGeom>
          <a:solidFill>
            <a:srgbClr val="41b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0" name="Freeform 18"/>
          <p:cNvSpPr/>
          <p:nvPr/>
        </p:nvSpPr>
        <p:spPr>
          <a:xfrm>
            <a:off x="9540720" y="3598920"/>
            <a:ext cx="2028960" cy="2440080"/>
          </a:xfrm>
          <a:custGeom>
            <a:avLst/>
            <a:gdLst/>
            <a:ahLst/>
            <a:rect l="l" t="t" r="r" b="b"/>
            <a:pathLst>
              <a:path w="519" h="624">
                <a:moveTo>
                  <a:pt x="112" y="0"/>
                </a:moveTo>
                <a:cubicBezTo>
                  <a:pt x="112" y="272"/>
                  <a:pt x="112" y="272"/>
                  <a:pt x="112" y="272"/>
                </a:cubicBezTo>
                <a:cubicBezTo>
                  <a:pt x="112" y="283"/>
                  <a:pt x="109" y="290"/>
                  <a:pt x="102" y="293"/>
                </a:cubicBezTo>
                <a:cubicBezTo>
                  <a:pt x="96" y="297"/>
                  <a:pt x="88" y="294"/>
                  <a:pt x="78" y="287"/>
                </a:cubicBezTo>
                <a:cubicBezTo>
                  <a:pt x="78" y="287"/>
                  <a:pt x="78" y="287"/>
                  <a:pt x="78" y="287"/>
                </a:cubicBezTo>
                <a:cubicBezTo>
                  <a:pt x="76" y="285"/>
                  <a:pt x="74" y="283"/>
                  <a:pt x="72" y="282"/>
                </a:cubicBezTo>
                <a:cubicBezTo>
                  <a:pt x="64" y="276"/>
                  <a:pt x="55" y="274"/>
                  <a:pt x="46" y="274"/>
                </a:cubicBezTo>
                <a:cubicBezTo>
                  <a:pt x="20" y="274"/>
                  <a:pt x="0" y="294"/>
                  <a:pt x="0" y="319"/>
                </a:cubicBezTo>
                <a:cubicBezTo>
                  <a:pt x="0" y="344"/>
                  <a:pt x="20" y="365"/>
                  <a:pt x="46" y="365"/>
                </a:cubicBezTo>
                <a:cubicBezTo>
                  <a:pt x="55" y="365"/>
                  <a:pt x="64" y="362"/>
                  <a:pt x="72" y="356"/>
                </a:cubicBezTo>
                <a:cubicBezTo>
                  <a:pt x="74" y="355"/>
                  <a:pt x="76" y="353"/>
                  <a:pt x="78" y="352"/>
                </a:cubicBezTo>
                <a:cubicBezTo>
                  <a:pt x="78" y="351"/>
                  <a:pt x="78" y="351"/>
                  <a:pt x="78" y="351"/>
                </a:cubicBezTo>
                <a:cubicBezTo>
                  <a:pt x="88" y="344"/>
                  <a:pt x="96" y="342"/>
                  <a:pt x="102" y="345"/>
                </a:cubicBezTo>
                <a:cubicBezTo>
                  <a:pt x="109" y="348"/>
                  <a:pt x="112" y="355"/>
                  <a:pt x="112" y="366"/>
                </a:cubicBezTo>
                <a:cubicBezTo>
                  <a:pt x="112" y="624"/>
                  <a:pt x="112" y="624"/>
                  <a:pt x="112" y="624"/>
                </a:cubicBezTo>
                <a:cubicBezTo>
                  <a:pt x="450" y="624"/>
                  <a:pt x="450" y="624"/>
                  <a:pt x="450" y="624"/>
                </a:cubicBezTo>
                <a:cubicBezTo>
                  <a:pt x="450" y="624"/>
                  <a:pt x="519" y="624"/>
                  <a:pt x="519" y="555"/>
                </a:cubicBezTo>
                <a:cubicBezTo>
                  <a:pt x="519" y="0"/>
                  <a:pt x="519" y="0"/>
                  <a:pt x="519" y="0"/>
                </a:cubicBezTo>
                <a:lnTo>
                  <a:pt x="112" y="0"/>
                </a:lnTo>
                <a:close/>
              </a:path>
            </a:pathLst>
          </a:cu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1" name="Freeform 19"/>
          <p:cNvSpPr/>
          <p:nvPr/>
        </p:nvSpPr>
        <p:spPr>
          <a:xfrm>
            <a:off x="6207120" y="2136600"/>
            <a:ext cx="3057480" cy="1374840"/>
          </a:xfrm>
          <a:custGeom>
            <a:avLst/>
            <a:gdLst/>
            <a:ahLst/>
            <a:rect l="l" t="t" r="r" b="b"/>
            <a:pathLst>
              <a:path w="782" h="352">
                <a:moveTo>
                  <a:pt x="670" y="176"/>
                </a:moveTo>
                <a:cubicBezTo>
                  <a:pt x="670" y="165"/>
                  <a:pt x="673" y="158"/>
                  <a:pt x="679" y="155"/>
                </a:cubicBezTo>
                <a:cubicBezTo>
                  <a:pt x="686" y="152"/>
                  <a:pt x="694" y="154"/>
                  <a:pt x="704" y="161"/>
                </a:cubicBezTo>
                <a:cubicBezTo>
                  <a:pt x="704" y="162"/>
                  <a:pt x="704" y="162"/>
                  <a:pt x="704" y="162"/>
                </a:cubicBezTo>
                <a:cubicBezTo>
                  <a:pt x="706" y="163"/>
                  <a:pt x="708" y="165"/>
                  <a:pt x="710" y="166"/>
                </a:cubicBezTo>
                <a:cubicBezTo>
                  <a:pt x="718" y="172"/>
                  <a:pt x="727" y="175"/>
                  <a:pt x="736" y="175"/>
                </a:cubicBezTo>
                <a:cubicBezTo>
                  <a:pt x="761" y="175"/>
                  <a:pt x="782" y="154"/>
                  <a:pt x="782" y="129"/>
                </a:cubicBezTo>
                <a:cubicBezTo>
                  <a:pt x="782" y="104"/>
                  <a:pt x="761" y="84"/>
                  <a:pt x="736" y="84"/>
                </a:cubicBezTo>
                <a:cubicBezTo>
                  <a:pt x="727" y="84"/>
                  <a:pt x="718" y="86"/>
                  <a:pt x="710" y="92"/>
                </a:cubicBezTo>
                <a:cubicBezTo>
                  <a:pt x="708" y="93"/>
                  <a:pt x="706" y="95"/>
                  <a:pt x="704" y="97"/>
                </a:cubicBezTo>
                <a:cubicBezTo>
                  <a:pt x="704" y="97"/>
                  <a:pt x="704" y="97"/>
                  <a:pt x="704" y="97"/>
                </a:cubicBezTo>
                <a:cubicBezTo>
                  <a:pt x="694" y="104"/>
                  <a:pt x="686" y="107"/>
                  <a:pt x="679" y="103"/>
                </a:cubicBezTo>
                <a:cubicBezTo>
                  <a:pt x="673" y="100"/>
                  <a:pt x="670" y="93"/>
                  <a:pt x="670" y="82"/>
                </a:cubicBezTo>
                <a:cubicBezTo>
                  <a:pt x="670" y="0"/>
                  <a:pt x="670" y="0"/>
                  <a:pt x="670" y="0"/>
                </a:cubicBezTo>
                <a:cubicBezTo>
                  <a:pt x="562" y="0"/>
                  <a:pt x="562" y="0"/>
                  <a:pt x="562" y="0"/>
                </a:cubicBezTo>
                <a:cubicBezTo>
                  <a:pt x="499" y="0"/>
                  <a:pt x="499" y="0"/>
                  <a:pt x="499" y="0"/>
                </a:cubicBezTo>
                <a:cubicBezTo>
                  <a:pt x="420" y="0"/>
                  <a:pt x="420" y="0"/>
                  <a:pt x="420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69" y="0"/>
                  <a:pt x="0" y="0"/>
                  <a:pt x="0" y="71"/>
                </a:cubicBezTo>
                <a:cubicBezTo>
                  <a:pt x="0" y="352"/>
                  <a:pt x="0" y="352"/>
                  <a:pt x="0" y="352"/>
                </a:cubicBezTo>
                <a:cubicBezTo>
                  <a:pt x="561" y="352"/>
                  <a:pt x="561" y="352"/>
                  <a:pt x="561" y="352"/>
                </a:cubicBezTo>
                <a:cubicBezTo>
                  <a:pt x="561" y="283"/>
                  <a:pt x="561" y="283"/>
                  <a:pt x="561" y="283"/>
                </a:cubicBezTo>
                <a:cubicBezTo>
                  <a:pt x="561" y="264"/>
                  <a:pt x="576" y="250"/>
                  <a:pt x="595" y="250"/>
                </a:cubicBezTo>
                <a:cubicBezTo>
                  <a:pt x="670" y="250"/>
                  <a:pt x="670" y="250"/>
                  <a:pt x="670" y="250"/>
                </a:cubicBezTo>
                <a:lnTo>
                  <a:pt x="670" y="176"/>
                </a:lnTo>
                <a:close/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2" name="Freeform 20"/>
          <p:cNvSpPr/>
          <p:nvPr/>
        </p:nvSpPr>
        <p:spPr>
          <a:xfrm>
            <a:off x="8858160" y="2136600"/>
            <a:ext cx="2711520" cy="1374840"/>
          </a:xfrm>
          <a:custGeom>
            <a:avLst/>
            <a:gdLst/>
            <a:ahLst/>
            <a:rect l="l" t="t" r="r" b="b"/>
            <a:pathLst>
              <a:path w="694" h="352">
                <a:moveTo>
                  <a:pt x="625" y="0"/>
                </a:moveTo>
                <a:cubicBezTo>
                  <a:pt x="252" y="0"/>
                  <a:pt x="252" y="0"/>
                  <a:pt x="252" y="0"/>
                </a:cubicBezTo>
                <a:cubicBezTo>
                  <a:pt x="195" y="0"/>
                  <a:pt x="195" y="0"/>
                  <a:pt x="195" y="0"/>
                </a:cubicBezTo>
                <a:cubicBezTo>
                  <a:pt x="136" y="0"/>
                  <a:pt x="136" y="0"/>
                  <a:pt x="1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2"/>
                  <a:pt x="0" y="82"/>
                  <a:pt x="0" y="82"/>
                </a:cubicBezTo>
                <a:cubicBezTo>
                  <a:pt x="0" y="89"/>
                  <a:pt x="2" y="95"/>
                  <a:pt x="5" y="96"/>
                </a:cubicBezTo>
                <a:cubicBezTo>
                  <a:pt x="8" y="98"/>
                  <a:pt x="14" y="96"/>
                  <a:pt x="21" y="91"/>
                </a:cubicBezTo>
                <a:cubicBezTo>
                  <a:pt x="23" y="89"/>
                  <a:pt x="25" y="87"/>
                  <a:pt x="27" y="85"/>
                </a:cubicBezTo>
                <a:cubicBezTo>
                  <a:pt x="36" y="79"/>
                  <a:pt x="47" y="76"/>
                  <a:pt x="58" y="76"/>
                </a:cubicBezTo>
                <a:cubicBezTo>
                  <a:pt x="88" y="76"/>
                  <a:pt x="112" y="100"/>
                  <a:pt x="112" y="129"/>
                </a:cubicBezTo>
                <a:cubicBezTo>
                  <a:pt x="112" y="159"/>
                  <a:pt x="88" y="183"/>
                  <a:pt x="58" y="183"/>
                </a:cubicBezTo>
                <a:cubicBezTo>
                  <a:pt x="47" y="183"/>
                  <a:pt x="36" y="179"/>
                  <a:pt x="27" y="173"/>
                </a:cubicBezTo>
                <a:cubicBezTo>
                  <a:pt x="25" y="171"/>
                  <a:pt x="23" y="169"/>
                  <a:pt x="21" y="168"/>
                </a:cubicBezTo>
                <a:cubicBezTo>
                  <a:pt x="14" y="162"/>
                  <a:pt x="8" y="160"/>
                  <a:pt x="5" y="162"/>
                </a:cubicBezTo>
                <a:cubicBezTo>
                  <a:pt x="2" y="164"/>
                  <a:pt x="0" y="169"/>
                  <a:pt x="0" y="176"/>
                </a:cubicBezTo>
                <a:cubicBezTo>
                  <a:pt x="0" y="250"/>
                  <a:pt x="0" y="250"/>
                  <a:pt x="0" y="250"/>
                </a:cubicBezTo>
                <a:cubicBezTo>
                  <a:pt x="99" y="250"/>
                  <a:pt x="99" y="250"/>
                  <a:pt x="99" y="250"/>
                </a:cubicBezTo>
                <a:cubicBezTo>
                  <a:pt x="118" y="250"/>
                  <a:pt x="132" y="265"/>
                  <a:pt x="132" y="283"/>
                </a:cubicBezTo>
                <a:cubicBezTo>
                  <a:pt x="132" y="352"/>
                  <a:pt x="132" y="352"/>
                  <a:pt x="132" y="352"/>
                </a:cubicBezTo>
                <a:cubicBezTo>
                  <a:pt x="694" y="352"/>
                  <a:pt x="694" y="352"/>
                  <a:pt x="694" y="352"/>
                </a:cubicBezTo>
                <a:cubicBezTo>
                  <a:pt x="694" y="71"/>
                  <a:pt x="694" y="71"/>
                  <a:pt x="694" y="71"/>
                </a:cubicBezTo>
                <a:cubicBezTo>
                  <a:pt x="694" y="0"/>
                  <a:pt x="625" y="0"/>
                  <a:pt x="625" y="0"/>
                </a:cubicBez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3" name="Title 1"/>
          <p:cNvSpPr/>
          <p:nvPr/>
        </p:nvSpPr>
        <p:spPr>
          <a:xfrm>
            <a:off x="6524640" y="2941560"/>
            <a:ext cx="189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4" name="Title 1"/>
          <p:cNvSpPr/>
          <p:nvPr/>
        </p:nvSpPr>
        <p:spPr>
          <a:xfrm>
            <a:off x="9499680" y="2941560"/>
            <a:ext cx="189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5" name="Title 1"/>
          <p:cNvSpPr/>
          <p:nvPr/>
        </p:nvSpPr>
        <p:spPr>
          <a:xfrm>
            <a:off x="9812160" y="5121360"/>
            <a:ext cx="189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6" name="Title 1"/>
          <p:cNvSpPr/>
          <p:nvPr/>
        </p:nvSpPr>
        <p:spPr>
          <a:xfrm>
            <a:off x="7948440" y="5121360"/>
            <a:ext cx="189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7" name="Title 1"/>
          <p:cNvSpPr/>
          <p:nvPr/>
        </p:nvSpPr>
        <p:spPr>
          <a:xfrm>
            <a:off x="6043680" y="5121360"/>
            <a:ext cx="189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8" name="Freeform 54"/>
          <p:cNvSpPr/>
          <p:nvPr/>
        </p:nvSpPr>
        <p:spPr>
          <a:xfrm>
            <a:off x="8675640" y="4459320"/>
            <a:ext cx="439920" cy="471600"/>
          </a:xfrm>
          <a:custGeom>
            <a:avLst/>
            <a:gdLst/>
            <a:ahLst/>
            <a:rect l="l" t="t" r="r" b="b"/>
            <a:pathLst>
              <a:path w="96" h="103">
                <a:moveTo>
                  <a:pt x="96" y="75"/>
                </a:moveTo>
                <a:cubicBezTo>
                  <a:pt x="96" y="84"/>
                  <a:pt x="82" y="87"/>
                  <a:pt x="76" y="87"/>
                </a:cubicBezTo>
                <a:cubicBezTo>
                  <a:pt x="69" y="87"/>
                  <a:pt x="56" y="84"/>
                  <a:pt x="56" y="75"/>
                </a:cubicBezTo>
                <a:cubicBezTo>
                  <a:pt x="56" y="67"/>
                  <a:pt x="69" y="63"/>
                  <a:pt x="76" y="63"/>
                </a:cubicBezTo>
                <a:cubicBezTo>
                  <a:pt x="80" y="63"/>
                  <a:pt x="84" y="64"/>
                  <a:pt x="88" y="66"/>
                </a:cubicBezTo>
                <a:cubicBezTo>
                  <a:pt x="88" y="32"/>
                  <a:pt x="88" y="32"/>
                  <a:pt x="88" y="32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91"/>
                  <a:pt x="40" y="91"/>
                  <a:pt x="40" y="91"/>
                </a:cubicBezTo>
                <a:cubicBezTo>
                  <a:pt x="40" y="100"/>
                  <a:pt x="26" y="103"/>
                  <a:pt x="20" y="103"/>
                </a:cubicBezTo>
                <a:cubicBezTo>
                  <a:pt x="13" y="103"/>
                  <a:pt x="0" y="100"/>
                  <a:pt x="0" y="91"/>
                </a:cubicBezTo>
                <a:cubicBezTo>
                  <a:pt x="0" y="83"/>
                  <a:pt x="13" y="79"/>
                  <a:pt x="20" y="79"/>
                </a:cubicBezTo>
                <a:cubicBezTo>
                  <a:pt x="24" y="79"/>
                  <a:pt x="28" y="80"/>
                  <a:pt x="32" y="82"/>
                </a:cubicBezTo>
                <a:cubicBezTo>
                  <a:pt x="32" y="22"/>
                  <a:pt x="32" y="22"/>
                  <a:pt x="32" y="22"/>
                </a:cubicBezTo>
                <a:cubicBezTo>
                  <a:pt x="32" y="19"/>
                  <a:pt x="33" y="17"/>
                  <a:pt x="36" y="16"/>
                </a:cubicBezTo>
                <a:cubicBezTo>
                  <a:pt x="88" y="0"/>
                  <a:pt x="88" y="0"/>
                  <a:pt x="88" y="0"/>
                </a:cubicBezTo>
                <a:cubicBezTo>
                  <a:pt x="88" y="0"/>
                  <a:pt x="89" y="0"/>
                  <a:pt x="90" y="0"/>
                </a:cubicBezTo>
                <a:cubicBezTo>
                  <a:pt x="93" y="0"/>
                  <a:pt x="96" y="2"/>
                  <a:pt x="96" y="6"/>
                </a:cubicBezTo>
                <a:lnTo>
                  <a:pt x="96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9" name="Freeform 61"/>
          <p:cNvSpPr/>
          <p:nvPr/>
        </p:nvSpPr>
        <p:spPr>
          <a:xfrm>
            <a:off x="6757920" y="4495680"/>
            <a:ext cx="466920" cy="400320"/>
          </a:xfrm>
          <a:custGeom>
            <a:avLst/>
            <a:gdLst/>
            <a:ahLst/>
            <a:rect l="l" t="t" r="r" b="b"/>
            <a:pathLst>
              <a:path w="120" h="103">
                <a:moveTo>
                  <a:pt x="120" y="93"/>
                </a:moveTo>
                <a:cubicBezTo>
                  <a:pt x="120" y="99"/>
                  <a:pt x="116" y="103"/>
                  <a:pt x="110" y="103"/>
                </a:cubicBezTo>
                <a:cubicBezTo>
                  <a:pt x="10" y="103"/>
                  <a:pt x="10" y="103"/>
                  <a:pt x="10" y="103"/>
                </a:cubicBezTo>
                <a:cubicBezTo>
                  <a:pt x="5" y="103"/>
                  <a:pt x="0" y="99"/>
                  <a:pt x="0" y="9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4"/>
                  <a:pt x="5" y="0"/>
                  <a:pt x="10" y="0"/>
                </a:cubicBezTo>
                <a:cubicBezTo>
                  <a:pt x="110" y="0"/>
                  <a:pt x="110" y="0"/>
                  <a:pt x="110" y="0"/>
                </a:cubicBezTo>
                <a:cubicBezTo>
                  <a:pt x="116" y="0"/>
                  <a:pt x="120" y="4"/>
                  <a:pt x="120" y="10"/>
                </a:cubicBezTo>
                <a:lnTo>
                  <a:pt x="120" y="93"/>
                </a:lnTo>
                <a:close/>
                <a:moveTo>
                  <a:pt x="24" y="12"/>
                </a:moveTo>
                <a:cubicBezTo>
                  <a:pt x="24" y="9"/>
                  <a:pt x="23" y="8"/>
                  <a:pt x="20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0" y="8"/>
                  <a:pt x="8" y="9"/>
                  <a:pt x="8" y="12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2"/>
                  <a:pt x="10" y="24"/>
                  <a:pt x="12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23" y="24"/>
                  <a:pt x="24" y="22"/>
                  <a:pt x="24" y="20"/>
                </a:cubicBezTo>
                <a:lnTo>
                  <a:pt x="24" y="12"/>
                </a:lnTo>
                <a:close/>
                <a:moveTo>
                  <a:pt x="24" y="36"/>
                </a:moveTo>
                <a:cubicBezTo>
                  <a:pt x="24" y="33"/>
                  <a:pt x="23" y="32"/>
                  <a:pt x="20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0" y="32"/>
                  <a:pt x="8" y="33"/>
                  <a:pt x="8" y="36"/>
                </a:cubicBezTo>
                <a:cubicBezTo>
                  <a:pt x="8" y="44"/>
                  <a:pt x="8" y="44"/>
                  <a:pt x="8" y="44"/>
                </a:cubicBezTo>
                <a:cubicBezTo>
                  <a:pt x="8" y="46"/>
                  <a:pt x="10" y="48"/>
                  <a:pt x="12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23" y="48"/>
                  <a:pt x="24" y="46"/>
                  <a:pt x="24" y="44"/>
                </a:cubicBezTo>
                <a:lnTo>
                  <a:pt x="24" y="36"/>
                </a:lnTo>
                <a:close/>
                <a:moveTo>
                  <a:pt x="24" y="59"/>
                </a:moveTo>
                <a:cubicBezTo>
                  <a:pt x="24" y="57"/>
                  <a:pt x="23" y="56"/>
                  <a:pt x="20" y="56"/>
                </a:cubicBezTo>
                <a:cubicBezTo>
                  <a:pt x="12" y="56"/>
                  <a:pt x="12" y="56"/>
                  <a:pt x="12" y="56"/>
                </a:cubicBezTo>
                <a:cubicBezTo>
                  <a:pt x="10" y="56"/>
                  <a:pt x="8" y="57"/>
                  <a:pt x="8" y="59"/>
                </a:cubicBezTo>
                <a:cubicBezTo>
                  <a:pt x="8" y="67"/>
                  <a:pt x="8" y="67"/>
                  <a:pt x="8" y="67"/>
                </a:cubicBezTo>
                <a:cubicBezTo>
                  <a:pt x="8" y="70"/>
                  <a:pt x="10" y="71"/>
                  <a:pt x="12" y="71"/>
                </a:cubicBezTo>
                <a:cubicBezTo>
                  <a:pt x="20" y="71"/>
                  <a:pt x="20" y="71"/>
                  <a:pt x="20" y="71"/>
                </a:cubicBezTo>
                <a:cubicBezTo>
                  <a:pt x="23" y="71"/>
                  <a:pt x="24" y="70"/>
                  <a:pt x="24" y="67"/>
                </a:cubicBezTo>
                <a:lnTo>
                  <a:pt x="24" y="59"/>
                </a:lnTo>
                <a:close/>
                <a:moveTo>
                  <a:pt x="24" y="83"/>
                </a:moveTo>
                <a:cubicBezTo>
                  <a:pt x="24" y="81"/>
                  <a:pt x="23" y="79"/>
                  <a:pt x="20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0" y="79"/>
                  <a:pt x="8" y="81"/>
                  <a:pt x="8" y="83"/>
                </a:cubicBezTo>
                <a:cubicBezTo>
                  <a:pt x="8" y="91"/>
                  <a:pt x="8" y="91"/>
                  <a:pt x="8" y="91"/>
                </a:cubicBezTo>
                <a:cubicBezTo>
                  <a:pt x="8" y="94"/>
                  <a:pt x="10" y="95"/>
                  <a:pt x="12" y="95"/>
                </a:cubicBezTo>
                <a:cubicBezTo>
                  <a:pt x="20" y="95"/>
                  <a:pt x="20" y="95"/>
                  <a:pt x="20" y="95"/>
                </a:cubicBezTo>
                <a:cubicBezTo>
                  <a:pt x="23" y="95"/>
                  <a:pt x="24" y="94"/>
                  <a:pt x="24" y="91"/>
                </a:cubicBezTo>
                <a:lnTo>
                  <a:pt x="24" y="83"/>
                </a:lnTo>
                <a:close/>
                <a:moveTo>
                  <a:pt x="88" y="12"/>
                </a:moveTo>
                <a:cubicBezTo>
                  <a:pt x="88" y="9"/>
                  <a:pt x="86" y="8"/>
                  <a:pt x="84" y="8"/>
                </a:cubicBezTo>
                <a:cubicBezTo>
                  <a:pt x="36" y="8"/>
                  <a:pt x="36" y="8"/>
                  <a:pt x="36" y="8"/>
                </a:cubicBezTo>
                <a:cubicBezTo>
                  <a:pt x="34" y="8"/>
                  <a:pt x="32" y="9"/>
                  <a:pt x="32" y="12"/>
                </a:cubicBezTo>
                <a:cubicBezTo>
                  <a:pt x="32" y="44"/>
                  <a:pt x="32" y="44"/>
                  <a:pt x="32" y="44"/>
                </a:cubicBezTo>
                <a:cubicBezTo>
                  <a:pt x="32" y="46"/>
                  <a:pt x="34" y="48"/>
                  <a:pt x="36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6" y="48"/>
                  <a:pt x="88" y="46"/>
                  <a:pt x="88" y="44"/>
                </a:cubicBezTo>
                <a:lnTo>
                  <a:pt x="88" y="12"/>
                </a:lnTo>
                <a:close/>
                <a:moveTo>
                  <a:pt x="88" y="59"/>
                </a:moveTo>
                <a:cubicBezTo>
                  <a:pt x="88" y="57"/>
                  <a:pt x="86" y="56"/>
                  <a:pt x="84" y="56"/>
                </a:cubicBezTo>
                <a:cubicBezTo>
                  <a:pt x="36" y="56"/>
                  <a:pt x="36" y="56"/>
                  <a:pt x="36" y="56"/>
                </a:cubicBezTo>
                <a:cubicBezTo>
                  <a:pt x="34" y="56"/>
                  <a:pt x="32" y="57"/>
                  <a:pt x="32" y="59"/>
                </a:cubicBezTo>
                <a:cubicBezTo>
                  <a:pt x="32" y="91"/>
                  <a:pt x="32" y="91"/>
                  <a:pt x="32" y="91"/>
                </a:cubicBezTo>
                <a:cubicBezTo>
                  <a:pt x="32" y="94"/>
                  <a:pt x="34" y="95"/>
                  <a:pt x="36" y="95"/>
                </a:cubicBezTo>
                <a:cubicBezTo>
                  <a:pt x="84" y="95"/>
                  <a:pt x="84" y="95"/>
                  <a:pt x="84" y="95"/>
                </a:cubicBezTo>
                <a:cubicBezTo>
                  <a:pt x="86" y="95"/>
                  <a:pt x="88" y="94"/>
                  <a:pt x="88" y="91"/>
                </a:cubicBezTo>
                <a:lnTo>
                  <a:pt x="88" y="59"/>
                </a:lnTo>
                <a:close/>
                <a:moveTo>
                  <a:pt x="112" y="12"/>
                </a:moveTo>
                <a:cubicBezTo>
                  <a:pt x="112" y="9"/>
                  <a:pt x="110" y="8"/>
                  <a:pt x="108" y="8"/>
                </a:cubicBezTo>
                <a:cubicBezTo>
                  <a:pt x="100" y="8"/>
                  <a:pt x="100" y="8"/>
                  <a:pt x="100" y="8"/>
                </a:cubicBezTo>
                <a:cubicBezTo>
                  <a:pt x="98" y="8"/>
                  <a:pt x="96" y="9"/>
                  <a:pt x="96" y="12"/>
                </a:cubicBezTo>
                <a:cubicBezTo>
                  <a:pt x="96" y="20"/>
                  <a:pt x="96" y="20"/>
                  <a:pt x="96" y="20"/>
                </a:cubicBezTo>
                <a:cubicBezTo>
                  <a:pt x="96" y="22"/>
                  <a:pt x="98" y="24"/>
                  <a:pt x="100" y="24"/>
                </a:cubicBezTo>
                <a:cubicBezTo>
                  <a:pt x="108" y="24"/>
                  <a:pt x="108" y="24"/>
                  <a:pt x="108" y="24"/>
                </a:cubicBezTo>
                <a:cubicBezTo>
                  <a:pt x="110" y="24"/>
                  <a:pt x="112" y="22"/>
                  <a:pt x="112" y="20"/>
                </a:cubicBezTo>
                <a:lnTo>
                  <a:pt x="112" y="12"/>
                </a:lnTo>
                <a:close/>
                <a:moveTo>
                  <a:pt x="112" y="36"/>
                </a:moveTo>
                <a:cubicBezTo>
                  <a:pt x="112" y="33"/>
                  <a:pt x="110" y="32"/>
                  <a:pt x="108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98" y="32"/>
                  <a:pt x="96" y="33"/>
                  <a:pt x="96" y="36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46"/>
                  <a:pt x="98" y="48"/>
                  <a:pt x="100" y="48"/>
                </a:cubicBezTo>
                <a:cubicBezTo>
                  <a:pt x="108" y="48"/>
                  <a:pt x="108" y="48"/>
                  <a:pt x="108" y="48"/>
                </a:cubicBezTo>
                <a:cubicBezTo>
                  <a:pt x="110" y="48"/>
                  <a:pt x="112" y="46"/>
                  <a:pt x="112" y="44"/>
                </a:cubicBezTo>
                <a:lnTo>
                  <a:pt x="112" y="36"/>
                </a:lnTo>
                <a:close/>
                <a:moveTo>
                  <a:pt x="112" y="59"/>
                </a:moveTo>
                <a:cubicBezTo>
                  <a:pt x="112" y="57"/>
                  <a:pt x="110" y="56"/>
                  <a:pt x="108" y="56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98" y="56"/>
                  <a:pt x="96" y="57"/>
                  <a:pt x="96" y="59"/>
                </a:cubicBezTo>
                <a:cubicBezTo>
                  <a:pt x="96" y="67"/>
                  <a:pt x="96" y="67"/>
                  <a:pt x="96" y="67"/>
                </a:cubicBezTo>
                <a:cubicBezTo>
                  <a:pt x="96" y="70"/>
                  <a:pt x="98" y="71"/>
                  <a:pt x="100" y="71"/>
                </a:cubicBezTo>
                <a:cubicBezTo>
                  <a:pt x="108" y="71"/>
                  <a:pt x="108" y="71"/>
                  <a:pt x="108" y="71"/>
                </a:cubicBezTo>
                <a:cubicBezTo>
                  <a:pt x="110" y="71"/>
                  <a:pt x="112" y="70"/>
                  <a:pt x="112" y="67"/>
                </a:cubicBezTo>
                <a:lnTo>
                  <a:pt x="112" y="59"/>
                </a:lnTo>
                <a:close/>
                <a:moveTo>
                  <a:pt x="112" y="83"/>
                </a:moveTo>
                <a:cubicBezTo>
                  <a:pt x="112" y="81"/>
                  <a:pt x="110" y="79"/>
                  <a:pt x="108" y="79"/>
                </a:cubicBezTo>
                <a:cubicBezTo>
                  <a:pt x="100" y="79"/>
                  <a:pt x="100" y="79"/>
                  <a:pt x="100" y="79"/>
                </a:cubicBezTo>
                <a:cubicBezTo>
                  <a:pt x="98" y="79"/>
                  <a:pt x="96" y="81"/>
                  <a:pt x="96" y="83"/>
                </a:cubicBezTo>
                <a:cubicBezTo>
                  <a:pt x="96" y="91"/>
                  <a:pt x="96" y="91"/>
                  <a:pt x="96" y="91"/>
                </a:cubicBezTo>
                <a:cubicBezTo>
                  <a:pt x="96" y="94"/>
                  <a:pt x="98" y="95"/>
                  <a:pt x="100" y="95"/>
                </a:cubicBezTo>
                <a:cubicBezTo>
                  <a:pt x="108" y="95"/>
                  <a:pt x="108" y="95"/>
                  <a:pt x="108" y="95"/>
                </a:cubicBezTo>
                <a:cubicBezTo>
                  <a:pt x="110" y="95"/>
                  <a:pt x="112" y="94"/>
                  <a:pt x="112" y="91"/>
                </a:cubicBezTo>
                <a:lnTo>
                  <a:pt x="112" y="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0" name="Freeform 62"/>
          <p:cNvSpPr/>
          <p:nvPr/>
        </p:nvSpPr>
        <p:spPr>
          <a:xfrm>
            <a:off x="7264440" y="2428920"/>
            <a:ext cx="414360" cy="409680"/>
          </a:xfrm>
          <a:custGeom>
            <a:avLst/>
            <a:gdLst/>
            <a:ahLst/>
            <a:rect l="l" t="t" r="r" b="b"/>
            <a:pathLst>
              <a:path w="112" h="111">
                <a:moveTo>
                  <a:pt x="112" y="105"/>
                </a:moveTo>
                <a:cubicBezTo>
                  <a:pt x="112" y="109"/>
                  <a:pt x="109" y="111"/>
                  <a:pt x="106" y="111"/>
                </a:cubicBezTo>
                <a:cubicBezTo>
                  <a:pt x="46" y="111"/>
                  <a:pt x="46" y="111"/>
                  <a:pt x="46" y="111"/>
                </a:cubicBezTo>
                <a:cubicBezTo>
                  <a:pt x="43" y="111"/>
                  <a:pt x="40" y="109"/>
                  <a:pt x="40" y="105"/>
                </a:cubicBezTo>
                <a:cubicBezTo>
                  <a:pt x="40" y="95"/>
                  <a:pt x="40" y="95"/>
                  <a:pt x="40" y="95"/>
                </a:cubicBezTo>
                <a:cubicBezTo>
                  <a:pt x="6" y="95"/>
                  <a:pt x="6" y="95"/>
                  <a:pt x="6" y="95"/>
                </a:cubicBezTo>
                <a:cubicBezTo>
                  <a:pt x="3" y="95"/>
                  <a:pt x="0" y="93"/>
                  <a:pt x="0" y="89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7" y="0"/>
                  <a:pt x="80" y="2"/>
                  <a:pt x="80" y="6"/>
                </a:cubicBezTo>
                <a:cubicBezTo>
                  <a:pt x="80" y="26"/>
                  <a:pt x="80" y="26"/>
                  <a:pt x="80" y="26"/>
                </a:cubicBezTo>
                <a:cubicBezTo>
                  <a:pt x="81" y="27"/>
                  <a:pt x="82" y="27"/>
                  <a:pt x="82" y="28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10" y="56"/>
                  <a:pt x="112" y="60"/>
                  <a:pt x="112" y="64"/>
                </a:cubicBezTo>
                <a:lnTo>
                  <a:pt x="112" y="105"/>
                </a:lnTo>
                <a:close/>
                <a:moveTo>
                  <a:pt x="64" y="10"/>
                </a:moveTo>
                <a:cubicBezTo>
                  <a:pt x="64" y="8"/>
                  <a:pt x="63" y="8"/>
                  <a:pt x="62" y="8"/>
                </a:cubicBezTo>
                <a:cubicBezTo>
                  <a:pt x="18" y="8"/>
                  <a:pt x="18" y="8"/>
                  <a:pt x="18" y="8"/>
                </a:cubicBezTo>
                <a:cubicBezTo>
                  <a:pt x="17" y="8"/>
                  <a:pt x="16" y="8"/>
                  <a:pt x="16" y="10"/>
                </a:cubicBezTo>
                <a:cubicBezTo>
                  <a:pt x="16" y="14"/>
                  <a:pt x="16" y="14"/>
                  <a:pt x="16" y="14"/>
                </a:cubicBezTo>
                <a:cubicBezTo>
                  <a:pt x="16" y="15"/>
                  <a:pt x="17" y="16"/>
                  <a:pt x="18" y="16"/>
                </a:cubicBezTo>
                <a:cubicBezTo>
                  <a:pt x="62" y="16"/>
                  <a:pt x="62" y="16"/>
                  <a:pt x="62" y="16"/>
                </a:cubicBezTo>
                <a:cubicBezTo>
                  <a:pt x="63" y="16"/>
                  <a:pt x="64" y="15"/>
                  <a:pt x="64" y="14"/>
                </a:cubicBezTo>
                <a:lnTo>
                  <a:pt x="64" y="10"/>
                </a:lnTo>
                <a:close/>
                <a:moveTo>
                  <a:pt x="104" y="103"/>
                </a:moveTo>
                <a:cubicBezTo>
                  <a:pt x="104" y="64"/>
                  <a:pt x="104" y="64"/>
                  <a:pt x="104" y="64"/>
                </a:cubicBezTo>
                <a:cubicBezTo>
                  <a:pt x="78" y="64"/>
                  <a:pt x="78" y="64"/>
                  <a:pt x="78" y="64"/>
                </a:cubicBezTo>
                <a:cubicBezTo>
                  <a:pt x="75" y="64"/>
                  <a:pt x="72" y="61"/>
                  <a:pt x="72" y="58"/>
                </a:cubicBezTo>
                <a:cubicBezTo>
                  <a:pt x="72" y="32"/>
                  <a:pt x="72" y="32"/>
                  <a:pt x="72" y="32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103"/>
                  <a:pt x="48" y="103"/>
                  <a:pt x="48" y="103"/>
                </a:cubicBezTo>
                <a:lnTo>
                  <a:pt x="104" y="103"/>
                </a:lnTo>
                <a:close/>
                <a:moveTo>
                  <a:pt x="99" y="56"/>
                </a:moveTo>
                <a:cubicBezTo>
                  <a:pt x="80" y="37"/>
                  <a:pt x="80" y="37"/>
                  <a:pt x="80" y="37"/>
                </a:cubicBezTo>
                <a:cubicBezTo>
                  <a:pt x="80" y="56"/>
                  <a:pt x="80" y="56"/>
                  <a:pt x="80" y="56"/>
                </a:cubicBezTo>
                <a:lnTo>
                  <a:pt x="99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1" name="Freeform 63"/>
          <p:cNvSpPr/>
          <p:nvPr/>
        </p:nvSpPr>
        <p:spPr>
          <a:xfrm>
            <a:off x="10531440" y="4478400"/>
            <a:ext cx="453960" cy="433440"/>
          </a:xfrm>
          <a:custGeom>
            <a:avLst/>
            <a:gdLst/>
            <a:ahLst/>
            <a:rect l="l" t="t" r="r" b="b"/>
            <a:pathLst>
              <a:path w="108" h="103">
                <a:moveTo>
                  <a:pt x="82" y="89"/>
                </a:moveTo>
                <a:cubicBezTo>
                  <a:pt x="73" y="98"/>
                  <a:pt x="61" y="103"/>
                  <a:pt x="48" y="103"/>
                </a:cubicBezTo>
                <a:cubicBezTo>
                  <a:pt x="22" y="103"/>
                  <a:pt x="0" y="82"/>
                  <a:pt x="0" y="56"/>
                </a:cubicBezTo>
                <a:cubicBezTo>
                  <a:pt x="0" y="29"/>
                  <a:pt x="22" y="8"/>
                  <a:pt x="48" y="8"/>
                </a:cubicBezTo>
                <a:cubicBezTo>
                  <a:pt x="48" y="55"/>
                  <a:pt x="48" y="55"/>
                  <a:pt x="48" y="55"/>
                </a:cubicBezTo>
                <a:lnTo>
                  <a:pt x="82" y="89"/>
                </a:lnTo>
                <a:close/>
                <a:moveTo>
                  <a:pt x="56" y="48"/>
                </a:moveTo>
                <a:cubicBezTo>
                  <a:pt x="56" y="0"/>
                  <a:pt x="56" y="0"/>
                  <a:pt x="56" y="0"/>
                </a:cubicBezTo>
                <a:cubicBezTo>
                  <a:pt x="82" y="0"/>
                  <a:pt x="104" y="21"/>
                  <a:pt x="104" y="48"/>
                </a:cubicBezTo>
                <a:lnTo>
                  <a:pt x="56" y="48"/>
                </a:lnTo>
                <a:close/>
                <a:moveTo>
                  <a:pt x="108" y="56"/>
                </a:moveTo>
                <a:cubicBezTo>
                  <a:pt x="108" y="69"/>
                  <a:pt x="102" y="81"/>
                  <a:pt x="94" y="90"/>
                </a:cubicBezTo>
                <a:cubicBezTo>
                  <a:pt x="60" y="56"/>
                  <a:pt x="60" y="56"/>
                  <a:pt x="60" y="56"/>
                </a:cubicBezTo>
                <a:lnTo>
                  <a:pt x="108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2" name="Freeform 90"/>
          <p:cNvSpPr/>
          <p:nvPr/>
        </p:nvSpPr>
        <p:spPr>
          <a:xfrm>
            <a:off x="10204560" y="2440080"/>
            <a:ext cx="484200" cy="411120"/>
          </a:xfrm>
          <a:custGeom>
            <a:avLst/>
            <a:gdLst/>
            <a:ahLst/>
            <a:rect l="l" t="t" r="r" b="b"/>
            <a:pathLst>
              <a:path w="104" h="88">
                <a:moveTo>
                  <a:pt x="100" y="67"/>
                </a:moveTo>
                <a:cubicBezTo>
                  <a:pt x="99" y="70"/>
                  <a:pt x="99" y="70"/>
                  <a:pt x="99" y="70"/>
                </a:cubicBezTo>
                <a:cubicBezTo>
                  <a:pt x="87" y="72"/>
                  <a:pt x="87" y="72"/>
                  <a:pt x="87" y="72"/>
                </a:cubicBezTo>
                <a:cubicBezTo>
                  <a:pt x="85" y="79"/>
                  <a:pt x="79" y="84"/>
                  <a:pt x="72" y="84"/>
                </a:cubicBezTo>
                <a:cubicBezTo>
                  <a:pt x="72" y="86"/>
                  <a:pt x="72" y="86"/>
                  <a:pt x="72" y="86"/>
                </a:cubicBezTo>
                <a:cubicBezTo>
                  <a:pt x="72" y="87"/>
                  <a:pt x="71" y="88"/>
                  <a:pt x="70" y="88"/>
                </a:cubicBezTo>
                <a:cubicBezTo>
                  <a:pt x="66" y="88"/>
                  <a:pt x="66" y="88"/>
                  <a:pt x="66" y="88"/>
                </a:cubicBezTo>
                <a:cubicBezTo>
                  <a:pt x="64" y="88"/>
                  <a:pt x="64" y="87"/>
                  <a:pt x="64" y="86"/>
                </a:cubicBezTo>
                <a:cubicBezTo>
                  <a:pt x="64" y="50"/>
                  <a:pt x="64" y="50"/>
                  <a:pt x="64" y="50"/>
                </a:cubicBezTo>
                <a:cubicBezTo>
                  <a:pt x="64" y="49"/>
                  <a:pt x="64" y="48"/>
                  <a:pt x="66" y="48"/>
                </a:cubicBezTo>
                <a:cubicBezTo>
                  <a:pt x="70" y="48"/>
                  <a:pt x="70" y="48"/>
                  <a:pt x="70" y="48"/>
                </a:cubicBezTo>
                <a:cubicBezTo>
                  <a:pt x="71" y="48"/>
                  <a:pt x="72" y="49"/>
                  <a:pt x="72" y="50"/>
                </a:cubicBezTo>
                <a:cubicBezTo>
                  <a:pt x="72" y="52"/>
                  <a:pt x="72" y="52"/>
                  <a:pt x="72" y="52"/>
                </a:cubicBezTo>
                <a:cubicBezTo>
                  <a:pt x="78" y="52"/>
                  <a:pt x="83" y="56"/>
                  <a:pt x="85" y="60"/>
                </a:cubicBezTo>
                <a:cubicBezTo>
                  <a:pt x="90" y="60"/>
                  <a:pt x="90" y="60"/>
                  <a:pt x="90" y="60"/>
                </a:cubicBezTo>
                <a:cubicBezTo>
                  <a:pt x="91" y="56"/>
                  <a:pt x="92" y="52"/>
                  <a:pt x="92" y="48"/>
                </a:cubicBezTo>
                <a:cubicBezTo>
                  <a:pt x="92" y="29"/>
                  <a:pt x="73" y="12"/>
                  <a:pt x="52" y="12"/>
                </a:cubicBezTo>
                <a:cubicBezTo>
                  <a:pt x="30" y="12"/>
                  <a:pt x="12" y="29"/>
                  <a:pt x="12" y="48"/>
                </a:cubicBezTo>
                <a:cubicBezTo>
                  <a:pt x="12" y="52"/>
                  <a:pt x="12" y="56"/>
                  <a:pt x="13" y="60"/>
                </a:cubicBezTo>
                <a:cubicBezTo>
                  <a:pt x="18" y="60"/>
                  <a:pt x="18" y="60"/>
                  <a:pt x="18" y="60"/>
                </a:cubicBezTo>
                <a:cubicBezTo>
                  <a:pt x="20" y="56"/>
                  <a:pt x="26" y="52"/>
                  <a:pt x="32" y="52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49"/>
                  <a:pt x="32" y="48"/>
                  <a:pt x="34" y="48"/>
                </a:cubicBezTo>
                <a:cubicBezTo>
                  <a:pt x="38" y="48"/>
                  <a:pt x="38" y="48"/>
                  <a:pt x="38" y="48"/>
                </a:cubicBezTo>
                <a:cubicBezTo>
                  <a:pt x="39" y="48"/>
                  <a:pt x="40" y="49"/>
                  <a:pt x="40" y="50"/>
                </a:cubicBezTo>
                <a:cubicBezTo>
                  <a:pt x="40" y="86"/>
                  <a:pt x="40" y="86"/>
                  <a:pt x="40" y="86"/>
                </a:cubicBezTo>
                <a:cubicBezTo>
                  <a:pt x="40" y="87"/>
                  <a:pt x="39" y="88"/>
                  <a:pt x="38" y="88"/>
                </a:cubicBezTo>
                <a:cubicBezTo>
                  <a:pt x="34" y="88"/>
                  <a:pt x="34" y="88"/>
                  <a:pt x="34" y="88"/>
                </a:cubicBezTo>
                <a:cubicBezTo>
                  <a:pt x="32" y="88"/>
                  <a:pt x="32" y="87"/>
                  <a:pt x="32" y="86"/>
                </a:cubicBezTo>
                <a:cubicBezTo>
                  <a:pt x="32" y="84"/>
                  <a:pt x="32" y="84"/>
                  <a:pt x="32" y="84"/>
                </a:cubicBezTo>
                <a:cubicBezTo>
                  <a:pt x="24" y="84"/>
                  <a:pt x="18" y="79"/>
                  <a:pt x="16" y="72"/>
                </a:cubicBezTo>
                <a:cubicBezTo>
                  <a:pt x="5" y="70"/>
                  <a:pt x="5" y="70"/>
                  <a:pt x="5" y="70"/>
                </a:cubicBezTo>
                <a:cubicBezTo>
                  <a:pt x="3" y="67"/>
                  <a:pt x="3" y="67"/>
                  <a:pt x="3" y="67"/>
                </a:cubicBezTo>
                <a:cubicBezTo>
                  <a:pt x="1" y="61"/>
                  <a:pt x="0" y="54"/>
                  <a:pt x="0" y="48"/>
                </a:cubicBezTo>
                <a:cubicBezTo>
                  <a:pt x="0" y="22"/>
                  <a:pt x="23" y="0"/>
                  <a:pt x="52" y="0"/>
                </a:cubicBezTo>
                <a:cubicBezTo>
                  <a:pt x="80" y="0"/>
                  <a:pt x="104" y="22"/>
                  <a:pt x="104" y="48"/>
                </a:cubicBezTo>
                <a:cubicBezTo>
                  <a:pt x="104" y="54"/>
                  <a:pt x="102" y="61"/>
                  <a:pt x="100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743" name="Chart 33"/>
          <p:cNvGraphicFramePr/>
          <p:nvPr/>
        </p:nvGraphicFramePr>
        <p:xfrm>
          <a:off x="351000" y="3086280"/>
          <a:ext cx="5574960" cy="33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4" name="Char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3086280"/>
                    <a:ext cx="557496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5" name="TextBox 34"/>
          <p:cNvSpPr/>
          <p:nvPr/>
        </p:nvSpPr>
        <p:spPr>
          <a:xfrm>
            <a:off x="518760" y="1917720"/>
            <a:ext cx="2029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100" spc="-1" strike="noStrike">
                <a:solidFill>
                  <a:srgbClr val="3f3f3f"/>
                </a:solidFill>
                <a:latin typeface="Poppins"/>
              </a:rPr>
              <a:t>Sales Analysis</a:t>
            </a:r>
            <a:endParaRPr b="0" lang="en-US" sz="2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6" name="TextBox 35"/>
          <p:cNvSpPr/>
          <p:nvPr/>
        </p:nvSpPr>
        <p:spPr>
          <a:xfrm>
            <a:off x="1979640" y="2319480"/>
            <a:ext cx="3878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Of shopping carts are abandoned right before the transaction its completed. Suitable for all categories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7" name="TextBox 36"/>
          <p:cNvSpPr/>
          <p:nvPr/>
        </p:nvSpPr>
        <p:spPr>
          <a:xfrm>
            <a:off x="500760" y="2320920"/>
            <a:ext cx="142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980b9"/>
                </a:solidFill>
                <a:latin typeface="Poppins"/>
              </a:rPr>
              <a:t>87%</a:t>
            </a:r>
            <a:endParaRPr b="0" lang="en-US" sz="4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8" dur="indefinite" restart="never" nodeType="tmRoot">
          <p:childTnLst>
            <p:seq>
              <p:cTn id="1989" dur="indefinite" nodeType="mainSeq">
                <p:childTnLst>
                  <p:par>
                    <p:cTn id="1990" nodeType="clickEffect" fill="hold">
                      <p:stCondLst>
                        <p:cond delay="0"/>
                      </p:stCondLst>
                      <p:childTnLst>
                        <p:par>
                          <p:cTn id="1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4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Poppins"/>
              </a:rPr>
              <a:t>TIE PUZZLE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5" name="Freeform 7"/>
          <p:cNvSpPr/>
          <p:nvPr/>
        </p:nvSpPr>
        <p:spPr>
          <a:xfrm>
            <a:off x="5587920" y="2128680"/>
            <a:ext cx="1023840" cy="1157400"/>
          </a:xfrm>
          <a:custGeom>
            <a:avLst/>
            <a:gdLst/>
            <a:ahLst/>
            <a:rect l="l" t="t" r="r" b="b"/>
            <a:pathLst>
              <a:path w="280" h="318">
                <a:moveTo>
                  <a:pt x="160" y="203"/>
                </a:moveTo>
                <a:cubicBezTo>
                  <a:pt x="280" y="203"/>
                  <a:pt x="280" y="203"/>
                  <a:pt x="280" y="203"/>
                </a:cubicBezTo>
                <a:cubicBezTo>
                  <a:pt x="239" y="0"/>
                  <a:pt x="239" y="0"/>
                  <a:pt x="239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0" y="201"/>
                  <a:pt x="0" y="201"/>
                  <a:pt x="0" y="201"/>
                </a:cubicBezTo>
                <a:cubicBezTo>
                  <a:pt x="120" y="201"/>
                  <a:pt x="120" y="201"/>
                  <a:pt x="120" y="201"/>
                </a:cubicBezTo>
                <a:cubicBezTo>
                  <a:pt x="124" y="201"/>
                  <a:pt x="127" y="204"/>
                  <a:pt x="127" y="208"/>
                </a:cubicBezTo>
                <a:cubicBezTo>
                  <a:pt x="127" y="246"/>
                  <a:pt x="127" y="246"/>
                  <a:pt x="127" y="246"/>
                </a:cubicBezTo>
                <a:cubicBezTo>
                  <a:pt x="127" y="249"/>
                  <a:pt x="126" y="251"/>
                  <a:pt x="124" y="252"/>
                </a:cubicBezTo>
                <a:cubicBezTo>
                  <a:pt x="118" y="256"/>
                  <a:pt x="102" y="270"/>
                  <a:pt x="102" y="283"/>
                </a:cubicBezTo>
                <a:cubicBezTo>
                  <a:pt x="102" y="300"/>
                  <a:pt x="115" y="318"/>
                  <a:pt x="138" y="318"/>
                </a:cubicBezTo>
                <a:cubicBezTo>
                  <a:pt x="163" y="318"/>
                  <a:pt x="182" y="304"/>
                  <a:pt x="183" y="287"/>
                </a:cubicBezTo>
                <a:cubicBezTo>
                  <a:pt x="184" y="261"/>
                  <a:pt x="157" y="251"/>
                  <a:pt x="156" y="251"/>
                </a:cubicBezTo>
                <a:cubicBezTo>
                  <a:pt x="153" y="250"/>
                  <a:pt x="151" y="247"/>
                  <a:pt x="151" y="244"/>
                </a:cubicBezTo>
                <a:cubicBezTo>
                  <a:pt x="152" y="210"/>
                  <a:pt x="152" y="210"/>
                  <a:pt x="152" y="210"/>
                </a:cubicBezTo>
                <a:cubicBezTo>
                  <a:pt x="153" y="206"/>
                  <a:pt x="156" y="203"/>
                  <a:pt x="160" y="203"/>
                </a:cubicBezTo>
                <a:close/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" name="Freeform 5"/>
          <p:cNvSpPr/>
          <p:nvPr/>
        </p:nvSpPr>
        <p:spPr>
          <a:xfrm>
            <a:off x="5521320" y="1403280"/>
            <a:ext cx="1152360" cy="655560"/>
          </a:xfrm>
          <a:custGeom>
            <a:avLst/>
            <a:gdLst/>
            <a:ahLst/>
            <a:rect l="l" t="t" r="r" b="b"/>
            <a:pathLst>
              <a:path w="315" h="180">
                <a:moveTo>
                  <a:pt x="315" y="135"/>
                </a:moveTo>
                <a:cubicBezTo>
                  <a:pt x="315" y="160"/>
                  <a:pt x="297" y="180"/>
                  <a:pt x="276" y="180"/>
                </a:cubicBezTo>
                <a:cubicBezTo>
                  <a:pt x="39" y="180"/>
                  <a:pt x="39" y="180"/>
                  <a:pt x="39" y="180"/>
                </a:cubicBezTo>
                <a:cubicBezTo>
                  <a:pt x="18" y="180"/>
                  <a:pt x="0" y="160"/>
                  <a:pt x="0" y="13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20"/>
                  <a:pt x="18" y="0"/>
                  <a:pt x="39" y="0"/>
                </a:cubicBezTo>
                <a:cubicBezTo>
                  <a:pt x="276" y="0"/>
                  <a:pt x="276" y="0"/>
                  <a:pt x="276" y="0"/>
                </a:cubicBezTo>
                <a:cubicBezTo>
                  <a:pt x="297" y="0"/>
                  <a:pt x="315" y="20"/>
                  <a:pt x="315" y="45"/>
                </a:cubicBezTo>
                <a:lnTo>
                  <a:pt x="315" y="135"/>
                </a:lnTo>
                <a:close/>
              </a:path>
            </a:pathLst>
          </a:custGeom>
          <a:solidFill>
            <a:srgbClr val="1f60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" name="Freeform 8"/>
          <p:cNvSpPr/>
          <p:nvPr/>
        </p:nvSpPr>
        <p:spPr>
          <a:xfrm>
            <a:off x="6073920" y="2922480"/>
            <a:ext cx="811080" cy="1328760"/>
          </a:xfrm>
          <a:custGeom>
            <a:avLst/>
            <a:gdLst/>
            <a:ahLst/>
            <a:rect l="l" t="t" r="r" b="b"/>
            <a:pathLst>
              <a:path w="222" h="365">
                <a:moveTo>
                  <a:pt x="150" y="0"/>
                </a:moveTo>
                <a:cubicBezTo>
                  <a:pt x="34" y="0"/>
                  <a:pt x="34" y="0"/>
                  <a:pt x="34" y="0"/>
                </a:cubicBezTo>
                <a:cubicBezTo>
                  <a:pt x="34" y="21"/>
                  <a:pt x="34" y="21"/>
                  <a:pt x="34" y="21"/>
                </a:cubicBezTo>
                <a:cubicBezTo>
                  <a:pt x="44" y="26"/>
                  <a:pt x="66" y="41"/>
                  <a:pt x="65" y="70"/>
                </a:cubicBezTo>
                <a:cubicBezTo>
                  <a:pt x="64" y="95"/>
                  <a:pt x="38" y="115"/>
                  <a:pt x="5" y="115"/>
                </a:cubicBezTo>
                <a:cubicBezTo>
                  <a:pt x="4" y="115"/>
                  <a:pt x="3" y="115"/>
                  <a:pt x="2" y="115"/>
                </a:cubicBezTo>
                <a:cubicBezTo>
                  <a:pt x="2" y="221"/>
                  <a:pt x="2" y="221"/>
                  <a:pt x="2" y="221"/>
                </a:cubicBezTo>
                <a:cubicBezTo>
                  <a:pt x="25" y="222"/>
                  <a:pt x="25" y="222"/>
                  <a:pt x="25" y="222"/>
                </a:cubicBezTo>
                <a:cubicBezTo>
                  <a:pt x="31" y="209"/>
                  <a:pt x="47" y="190"/>
                  <a:pt x="73" y="191"/>
                </a:cubicBezTo>
                <a:cubicBezTo>
                  <a:pt x="98" y="191"/>
                  <a:pt x="117" y="217"/>
                  <a:pt x="117" y="250"/>
                </a:cubicBezTo>
                <a:cubicBezTo>
                  <a:pt x="117" y="282"/>
                  <a:pt x="92" y="300"/>
                  <a:pt x="68" y="300"/>
                </a:cubicBezTo>
                <a:cubicBezTo>
                  <a:pt x="49" y="300"/>
                  <a:pt x="33" y="282"/>
                  <a:pt x="28" y="275"/>
                </a:cubicBezTo>
                <a:cubicBezTo>
                  <a:pt x="0" y="275"/>
                  <a:pt x="0" y="275"/>
                  <a:pt x="0" y="275"/>
                </a:cubicBezTo>
                <a:cubicBezTo>
                  <a:pt x="0" y="365"/>
                  <a:pt x="0" y="365"/>
                  <a:pt x="0" y="365"/>
                </a:cubicBezTo>
                <a:cubicBezTo>
                  <a:pt x="222" y="365"/>
                  <a:pt x="222" y="365"/>
                  <a:pt x="222" y="365"/>
                </a:cubicBezTo>
                <a:lnTo>
                  <a:pt x="150" y="0"/>
                </a:lnTo>
                <a:close/>
              </a:path>
            </a:pathLst>
          </a:cu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" name="Freeform 9"/>
          <p:cNvSpPr/>
          <p:nvPr/>
        </p:nvSpPr>
        <p:spPr>
          <a:xfrm>
            <a:off x="5310360" y="2914560"/>
            <a:ext cx="1139760" cy="1336680"/>
          </a:xfrm>
          <a:custGeom>
            <a:avLst/>
            <a:gdLst/>
            <a:ahLst/>
            <a:rect l="l" t="t" r="r" b="b"/>
            <a:pathLst>
              <a:path w="312" h="367">
                <a:moveTo>
                  <a:pt x="248" y="268"/>
                </a:moveTo>
                <a:cubicBezTo>
                  <a:pt x="255" y="277"/>
                  <a:pt x="267" y="287"/>
                  <a:pt x="277" y="287"/>
                </a:cubicBezTo>
                <a:cubicBezTo>
                  <a:pt x="291" y="287"/>
                  <a:pt x="312" y="278"/>
                  <a:pt x="312" y="252"/>
                </a:cubicBezTo>
                <a:cubicBezTo>
                  <a:pt x="312" y="227"/>
                  <a:pt x="299" y="208"/>
                  <a:pt x="281" y="207"/>
                </a:cubicBezTo>
                <a:cubicBezTo>
                  <a:pt x="281" y="207"/>
                  <a:pt x="281" y="207"/>
                  <a:pt x="280" y="207"/>
                </a:cubicBezTo>
                <a:cubicBezTo>
                  <a:pt x="259" y="207"/>
                  <a:pt x="249" y="226"/>
                  <a:pt x="247" y="230"/>
                </a:cubicBezTo>
                <a:cubicBezTo>
                  <a:pt x="243" y="239"/>
                  <a:pt x="243" y="239"/>
                  <a:pt x="243" y="239"/>
                </a:cubicBezTo>
                <a:cubicBezTo>
                  <a:pt x="197" y="237"/>
                  <a:pt x="197" y="237"/>
                  <a:pt x="197" y="237"/>
                </a:cubicBezTo>
                <a:cubicBezTo>
                  <a:pt x="197" y="114"/>
                  <a:pt x="197" y="114"/>
                  <a:pt x="197" y="114"/>
                </a:cubicBezTo>
                <a:cubicBezTo>
                  <a:pt x="175" y="107"/>
                  <a:pt x="163" y="87"/>
                  <a:pt x="163" y="67"/>
                </a:cubicBezTo>
                <a:cubicBezTo>
                  <a:pt x="163" y="48"/>
                  <a:pt x="181" y="32"/>
                  <a:pt x="188" y="26"/>
                </a:cubicBezTo>
                <a:cubicBezTo>
                  <a:pt x="188" y="0"/>
                  <a:pt x="188" y="0"/>
                  <a:pt x="188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0" y="367"/>
                  <a:pt x="0" y="367"/>
                  <a:pt x="0" y="367"/>
                </a:cubicBezTo>
                <a:cubicBezTo>
                  <a:pt x="195" y="367"/>
                  <a:pt x="195" y="367"/>
                  <a:pt x="195" y="367"/>
                </a:cubicBezTo>
                <a:cubicBezTo>
                  <a:pt x="195" y="262"/>
                  <a:pt x="195" y="262"/>
                  <a:pt x="195" y="262"/>
                </a:cubicBezTo>
                <a:cubicBezTo>
                  <a:pt x="244" y="262"/>
                  <a:pt x="244" y="262"/>
                  <a:pt x="244" y="262"/>
                </a:cubicBezTo>
                <a:lnTo>
                  <a:pt x="248" y="268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" name="Freeform 10"/>
          <p:cNvSpPr/>
          <p:nvPr/>
        </p:nvSpPr>
        <p:spPr>
          <a:xfrm>
            <a:off x="5122800" y="4302000"/>
            <a:ext cx="900000" cy="1146240"/>
          </a:xfrm>
          <a:custGeom>
            <a:avLst/>
            <a:gdLst/>
            <a:ahLst/>
            <a:rect l="l" t="t" r="r" b="b"/>
            <a:pathLst>
              <a:path w="246" h="315">
                <a:moveTo>
                  <a:pt x="6" y="214"/>
                </a:moveTo>
                <a:cubicBezTo>
                  <a:pt x="0" y="238"/>
                  <a:pt x="8" y="274"/>
                  <a:pt x="23" y="294"/>
                </a:cubicBezTo>
                <a:cubicBezTo>
                  <a:pt x="39" y="315"/>
                  <a:pt x="39" y="315"/>
                  <a:pt x="39" y="315"/>
                </a:cubicBezTo>
                <a:cubicBezTo>
                  <a:pt x="119" y="315"/>
                  <a:pt x="119" y="315"/>
                  <a:pt x="119" y="315"/>
                </a:cubicBezTo>
                <a:cubicBezTo>
                  <a:pt x="119" y="292"/>
                  <a:pt x="119" y="292"/>
                  <a:pt x="119" y="292"/>
                </a:cubicBezTo>
                <a:cubicBezTo>
                  <a:pt x="107" y="287"/>
                  <a:pt x="91" y="273"/>
                  <a:pt x="91" y="247"/>
                </a:cubicBezTo>
                <a:cubicBezTo>
                  <a:pt x="90" y="234"/>
                  <a:pt x="94" y="224"/>
                  <a:pt x="101" y="216"/>
                </a:cubicBezTo>
                <a:cubicBezTo>
                  <a:pt x="110" y="207"/>
                  <a:pt x="124" y="202"/>
                  <a:pt x="145" y="202"/>
                </a:cubicBezTo>
                <a:cubicBezTo>
                  <a:pt x="159" y="202"/>
                  <a:pt x="201" y="202"/>
                  <a:pt x="202" y="244"/>
                </a:cubicBezTo>
                <a:cubicBezTo>
                  <a:pt x="203" y="274"/>
                  <a:pt x="183" y="288"/>
                  <a:pt x="173" y="294"/>
                </a:cubicBezTo>
                <a:cubicBezTo>
                  <a:pt x="173" y="314"/>
                  <a:pt x="173" y="314"/>
                  <a:pt x="173" y="314"/>
                </a:cubicBezTo>
                <a:cubicBezTo>
                  <a:pt x="246" y="314"/>
                  <a:pt x="246" y="314"/>
                  <a:pt x="246" y="314"/>
                </a:cubicBezTo>
                <a:cubicBezTo>
                  <a:pt x="246" y="0"/>
                  <a:pt x="246" y="0"/>
                  <a:pt x="246" y="0"/>
                </a:cubicBezTo>
                <a:cubicBezTo>
                  <a:pt x="48" y="0"/>
                  <a:pt x="48" y="0"/>
                  <a:pt x="48" y="0"/>
                </a:cubicBezTo>
                <a:lnTo>
                  <a:pt x="6" y="214"/>
                </a:lnTo>
                <a:close/>
              </a:path>
            </a:pathLst>
          </a:cu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" name="Freeform 11"/>
          <p:cNvSpPr/>
          <p:nvPr/>
        </p:nvSpPr>
        <p:spPr>
          <a:xfrm>
            <a:off x="6073920" y="4302000"/>
            <a:ext cx="995040" cy="1573200"/>
          </a:xfrm>
          <a:custGeom>
            <a:avLst/>
            <a:gdLst/>
            <a:ahLst/>
            <a:rect l="l" t="t" r="r" b="b"/>
            <a:pathLst>
              <a:path w="272" h="432">
                <a:moveTo>
                  <a:pt x="98" y="313"/>
                </a:moveTo>
                <a:cubicBezTo>
                  <a:pt x="236" y="313"/>
                  <a:pt x="236" y="313"/>
                  <a:pt x="236" y="313"/>
                </a:cubicBezTo>
                <a:cubicBezTo>
                  <a:pt x="250" y="294"/>
                  <a:pt x="250" y="294"/>
                  <a:pt x="250" y="294"/>
                </a:cubicBezTo>
                <a:cubicBezTo>
                  <a:pt x="265" y="274"/>
                  <a:pt x="272" y="238"/>
                  <a:pt x="267" y="214"/>
                </a:cubicBezTo>
                <a:cubicBezTo>
                  <a:pt x="225" y="0"/>
                  <a:pt x="225" y="0"/>
                  <a:pt x="22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15"/>
                  <a:pt x="0" y="315"/>
                  <a:pt x="0" y="315"/>
                </a:cubicBezTo>
                <a:cubicBezTo>
                  <a:pt x="59" y="315"/>
                  <a:pt x="59" y="315"/>
                  <a:pt x="59" y="315"/>
                </a:cubicBezTo>
                <a:cubicBezTo>
                  <a:pt x="63" y="315"/>
                  <a:pt x="67" y="318"/>
                  <a:pt x="67" y="322"/>
                </a:cubicBezTo>
                <a:cubicBezTo>
                  <a:pt x="67" y="359"/>
                  <a:pt x="67" y="359"/>
                  <a:pt x="67" y="359"/>
                </a:cubicBezTo>
                <a:cubicBezTo>
                  <a:pt x="67" y="361"/>
                  <a:pt x="66" y="364"/>
                  <a:pt x="64" y="365"/>
                </a:cubicBezTo>
                <a:cubicBezTo>
                  <a:pt x="58" y="370"/>
                  <a:pt x="40" y="386"/>
                  <a:pt x="40" y="399"/>
                </a:cubicBezTo>
                <a:cubicBezTo>
                  <a:pt x="39" y="407"/>
                  <a:pt x="42" y="415"/>
                  <a:pt x="48" y="421"/>
                </a:cubicBezTo>
                <a:cubicBezTo>
                  <a:pt x="54" y="428"/>
                  <a:pt x="64" y="432"/>
                  <a:pt x="77" y="432"/>
                </a:cubicBezTo>
                <a:cubicBezTo>
                  <a:pt x="93" y="432"/>
                  <a:pt x="120" y="428"/>
                  <a:pt x="122" y="404"/>
                </a:cubicBezTo>
                <a:cubicBezTo>
                  <a:pt x="124" y="381"/>
                  <a:pt x="95" y="363"/>
                  <a:pt x="94" y="362"/>
                </a:cubicBezTo>
                <a:cubicBezTo>
                  <a:pt x="92" y="361"/>
                  <a:pt x="91" y="359"/>
                  <a:pt x="91" y="356"/>
                </a:cubicBezTo>
                <a:cubicBezTo>
                  <a:pt x="91" y="320"/>
                  <a:pt x="91" y="320"/>
                  <a:pt x="91" y="320"/>
                </a:cubicBezTo>
                <a:cubicBezTo>
                  <a:pt x="91" y="316"/>
                  <a:pt x="94" y="313"/>
                  <a:pt x="98" y="313"/>
                </a:cubicBezTo>
                <a:close/>
              </a:path>
            </a:pathLst>
          </a:custGeom>
          <a:solidFill>
            <a:srgbClr val="41b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" name="Freeform 12"/>
          <p:cNvSpPr/>
          <p:nvPr/>
        </p:nvSpPr>
        <p:spPr>
          <a:xfrm>
            <a:off x="5307120" y="5092560"/>
            <a:ext cx="1589040" cy="1400400"/>
          </a:xfrm>
          <a:custGeom>
            <a:avLst/>
            <a:gdLst/>
            <a:ahLst/>
            <a:rect l="l" t="t" r="r" b="b"/>
            <a:pathLst>
              <a:path w="435" h="385">
                <a:moveTo>
                  <a:pt x="315" y="110"/>
                </a:moveTo>
                <a:cubicBezTo>
                  <a:pt x="315" y="135"/>
                  <a:pt x="315" y="135"/>
                  <a:pt x="315" y="135"/>
                </a:cubicBezTo>
                <a:cubicBezTo>
                  <a:pt x="324" y="142"/>
                  <a:pt x="349" y="161"/>
                  <a:pt x="347" y="188"/>
                </a:cubicBezTo>
                <a:cubicBezTo>
                  <a:pt x="345" y="214"/>
                  <a:pt x="323" y="229"/>
                  <a:pt x="287" y="229"/>
                </a:cubicBezTo>
                <a:cubicBezTo>
                  <a:pt x="270" y="229"/>
                  <a:pt x="257" y="224"/>
                  <a:pt x="247" y="214"/>
                </a:cubicBezTo>
                <a:cubicBezTo>
                  <a:pt x="239" y="205"/>
                  <a:pt x="235" y="193"/>
                  <a:pt x="235" y="181"/>
                </a:cubicBezTo>
                <a:cubicBezTo>
                  <a:pt x="236" y="163"/>
                  <a:pt x="255" y="145"/>
                  <a:pt x="262" y="139"/>
                </a:cubicBezTo>
                <a:cubicBezTo>
                  <a:pt x="262" y="112"/>
                  <a:pt x="262" y="112"/>
                  <a:pt x="262" y="112"/>
                </a:cubicBezTo>
                <a:cubicBezTo>
                  <a:pt x="196" y="112"/>
                  <a:pt x="196" y="112"/>
                  <a:pt x="196" y="112"/>
                </a:cubicBezTo>
                <a:cubicBezTo>
                  <a:pt x="196" y="112"/>
                  <a:pt x="196" y="112"/>
                  <a:pt x="196" y="112"/>
                </a:cubicBezTo>
                <a:cubicBezTo>
                  <a:pt x="109" y="112"/>
                  <a:pt x="109" y="112"/>
                  <a:pt x="109" y="112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16" y="64"/>
                  <a:pt x="116" y="64"/>
                  <a:pt x="116" y="64"/>
                </a:cubicBezTo>
                <a:cubicBezTo>
                  <a:pt x="124" y="60"/>
                  <a:pt x="138" y="49"/>
                  <a:pt x="138" y="28"/>
                </a:cubicBezTo>
                <a:cubicBezTo>
                  <a:pt x="137" y="8"/>
                  <a:pt x="125" y="0"/>
                  <a:pt x="95" y="0"/>
                </a:cubicBezTo>
                <a:cubicBezTo>
                  <a:pt x="79" y="0"/>
                  <a:pt x="68" y="3"/>
                  <a:pt x="61" y="9"/>
                </a:cubicBezTo>
                <a:cubicBezTo>
                  <a:pt x="57" y="14"/>
                  <a:pt x="55" y="21"/>
                  <a:pt x="55" y="30"/>
                </a:cubicBezTo>
                <a:cubicBezTo>
                  <a:pt x="56" y="51"/>
                  <a:pt x="70" y="60"/>
                  <a:pt x="75" y="62"/>
                </a:cubicBezTo>
                <a:cubicBezTo>
                  <a:pt x="83" y="66"/>
                  <a:pt x="83" y="66"/>
                  <a:pt x="83" y="66"/>
                </a:cubicBezTo>
                <a:cubicBezTo>
                  <a:pt x="83" y="113"/>
                  <a:pt x="83" y="113"/>
                  <a:pt x="83" y="113"/>
                </a:cubicBezTo>
                <a:cubicBezTo>
                  <a:pt x="0" y="113"/>
                  <a:pt x="0" y="113"/>
                  <a:pt x="0" y="113"/>
                </a:cubicBezTo>
                <a:cubicBezTo>
                  <a:pt x="189" y="365"/>
                  <a:pt x="189" y="365"/>
                  <a:pt x="189" y="365"/>
                </a:cubicBezTo>
                <a:cubicBezTo>
                  <a:pt x="204" y="385"/>
                  <a:pt x="229" y="385"/>
                  <a:pt x="244" y="365"/>
                </a:cubicBezTo>
                <a:cubicBezTo>
                  <a:pt x="435" y="110"/>
                  <a:pt x="435" y="110"/>
                  <a:pt x="435" y="110"/>
                </a:cubicBezTo>
                <a:lnTo>
                  <a:pt x="315" y="110"/>
                </a:lnTo>
                <a:close/>
              </a:path>
            </a:pathLst>
          </a:custGeom>
          <a:solidFill>
            <a:srgbClr val="954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cxnSp>
        <p:nvCxnSpPr>
          <p:cNvPr id="102" name="Straight Arrow Connector 5"/>
          <p:cNvCxnSpPr/>
          <p:nvPr/>
        </p:nvCxnSpPr>
        <p:spPr>
          <a:xfrm>
            <a:off x="6438960" y="2476080"/>
            <a:ext cx="816480" cy="1080"/>
          </a:xfrm>
          <a:prstGeom prst="straightConnector1">
            <a:avLst/>
          </a:prstGeom>
          <a:ln w="15840">
            <a:solidFill>
              <a:srgbClr val="2980b9"/>
            </a:solidFill>
            <a:miter/>
            <a:tailEnd len="med" type="oval" w="med"/>
          </a:ln>
        </p:spPr>
      </p:cxnSp>
      <p:cxnSp>
        <p:nvCxnSpPr>
          <p:cNvPr id="103" name="Straight Arrow Connector 41"/>
          <p:cNvCxnSpPr/>
          <p:nvPr/>
        </p:nvCxnSpPr>
        <p:spPr>
          <a:xfrm>
            <a:off x="6673320" y="3428640"/>
            <a:ext cx="815400" cy="1080"/>
          </a:xfrm>
          <a:prstGeom prst="straightConnector1">
            <a:avLst/>
          </a:prstGeom>
          <a:ln w="15840">
            <a:solidFill>
              <a:srgbClr val="f39c12"/>
            </a:solidFill>
            <a:miter/>
            <a:tailEnd len="med" type="oval" w="med"/>
          </a:ln>
        </p:spPr>
      </p:cxnSp>
      <p:cxnSp>
        <p:nvCxnSpPr>
          <p:cNvPr id="104" name="Straight Arrow Connector 42"/>
          <p:cNvCxnSpPr/>
          <p:nvPr/>
        </p:nvCxnSpPr>
        <p:spPr>
          <a:xfrm>
            <a:off x="6846480" y="4770000"/>
            <a:ext cx="816840" cy="1080"/>
          </a:xfrm>
          <a:prstGeom prst="straightConnector1">
            <a:avLst/>
          </a:prstGeom>
          <a:ln w="15840">
            <a:solidFill>
              <a:srgbClr val="41b176"/>
            </a:solidFill>
            <a:miter/>
            <a:tailEnd len="med" type="oval" w="med"/>
          </a:ln>
        </p:spPr>
      </p:cxnSp>
      <p:cxnSp>
        <p:nvCxnSpPr>
          <p:cNvPr id="105" name="Straight Arrow Connector 43"/>
          <p:cNvCxnSpPr/>
          <p:nvPr/>
        </p:nvCxnSpPr>
        <p:spPr>
          <a:xfrm flipH="1">
            <a:off x="4771800" y="3428640"/>
            <a:ext cx="816480" cy="1080"/>
          </a:xfrm>
          <a:prstGeom prst="straightConnector1">
            <a:avLst/>
          </a:prstGeom>
          <a:ln w="15840">
            <a:solidFill>
              <a:srgbClr val="9bbb59"/>
            </a:solidFill>
            <a:miter/>
            <a:tailEnd len="med" type="oval" w="med"/>
          </a:ln>
        </p:spPr>
      </p:cxnSp>
      <p:cxnSp>
        <p:nvCxnSpPr>
          <p:cNvPr id="106" name="Straight Arrow Connector 44"/>
          <p:cNvCxnSpPr/>
          <p:nvPr/>
        </p:nvCxnSpPr>
        <p:spPr>
          <a:xfrm flipH="1">
            <a:off x="4487400" y="4563720"/>
            <a:ext cx="815040" cy="1080"/>
          </a:xfrm>
          <a:prstGeom prst="straightConnector1">
            <a:avLst/>
          </a:prstGeom>
          <a:ln w="15840">
            <a:solidFill>
              <a:srgbClr val="c0392b"/>
            </a:solidFill>
            <a:miter/>
            <a:tailEnd len="med" type="oval" w="med"/>
          </a:ln>
        </p:spPr>
      </p:cxnSp>
      <p:cxnSp>
        <p:nvCxnSpPr>
          <p:cNvPr id="107" name="Straight Arrow Connector 45"/>
          <p:cNvCxnSpPr/>
          <p:nvPr/>
        </p:nvCxnSpPr>
        <p:spPr>
          <a:xfrm flipH="1">
            <a:off x="4893480" y="5843160"/>
            <a:ext cx="816840" cy="1080"/>
          </a:xfrm>
          <a:prstGeom prst="straightConnector1">
            <a:avLst/>
          </a:prstGeom>
          <a:ln w="15840">
            <a:solidFill>
              <a:srgbClr val="954f72"/>
            </a:solidFill>
            <a:miter/>
            <a:tailEnd len="med" type="oval" w="med"/>
          </a:ln>
        </p:spPr>
      </p:cxnSp>
      <p:sp>
        <p:nvSpPr>
          <p:cNvPr id="108" name="Freeform 71"/>
          <p:cNvSpPr/>
          <p:nvPr/>
        </p:nvSpPr>
        <p:spPr>
          <a:xfrm>
            <a:off x="5530680" y="3381480"/>
            <a:ext cx="390600" cy="342720"/>
          </a:xfrm>
          <a:custGeom>
            <a:avLst/>
            <a:gdLst/>
            <a:ahLst/>
            <a:rect l="l" t="t" r="r" b="b"/>
            <a:pathLst>
              <a:path w="104" h="91">
                <a:moveTo>
                  <a:pt x="1" y="91"/>
                </a:moveTo>
                <a:cubicBezTo>
                  <a:pt x="1" y="91"/>
                  <a:pt x="0" y="89"/>
                  <a:pt x="1" y="82"/>
                </a:cubicBezTo>
                <a:cubicBezTo>
                  <a:pt x="7" y="79"/>
                  <a:pt x="35" y="72"/>
                  <a:pt x="36" y="71"/>
                </a:cubicBezTo>
                <a:cubicBezTo>
                  <a:pt x="36" y="66"/>
                  <a:pt x="36" y="66"/>
                  <a:pt x="36" y="66"/>
                </a:cubicBezTo>
                <a:cubicBezTo>
                  <a:pt x="39" y="65"/>
                  <a:pt x="39" y="65"/>
                  <a:pt x="39" y="65"/>
                </a:cubicBezTo>
                <a:cubicBezTo>
                  <a:pt x="39" y="65"/>
                  <a:pt x="39" y="57"/>
                  <a:pt x="39" y="56"/>
                </a:cubicBezTo>
                <a:cubicBezTo>
                  <a:pt x="39" y="56"/>
                  <a:pt x="36" y="50"/>
                  <a:pt x="35" y="46"/>
                </a:cubicBezTo>
                <a:cubicBezTo>
                  <a:pt x="35" y="46"/>
                  <a:pt x="33" y="46"/>
                  <a:pt x="32" y="43"/>
                </a:cubicBezTo>
                <a:cubicBezTo>
                  <a:pt x="32" y="40"/>
                  <a:pt x="32" y="38"/>
                  <a:pt x="32" y="36"/>
                </a:cubicBezTo>
                <a:cubicBezTo>
                  <a:pt x="31" y="34"/>
                  <a:pt x="33" y="32"/>
                  <a:pt x="34" y="32"/>
                </a:cubicBezTo>
                <a:cubicBezTo>
                  <a:pt x="34" y="32"/>
                  <a:pt x="31" y="18"/>
                  <a:pt x="34" y="14"/>
                </a:cubicBezTo>
                <a:cubicBezTo>
                  <a:pt x="36" y="11"/>
                  <a:pt x="42" y="3"/>
                  <a:pt x="57" y="1"/>
                </a:cubicBezTo>
                <a:cubicBezTo>
                  <a:pt x="57" y="1"/>
                  <a:pt x="60" y="0"/>
                  <a:pt x="62" y="1"/>
                </a:cubicBezTo>
                <a:cubicBezTo>
                  <a:pt x="62" y="1"/>
                  <a:pt x="62" y="1"/>
                  <a:pt x="61" y="3"/>
                </a:cubicBezTo>
                <a:cubicBezTo>
                  <a:pt x="61" y="3"/>
                  <a:pt x="68" y="8"/>
                  <a:pt x="70" y="15"/>
                </a:cubicBezTo>
                <a:cubicBezTo>
                  <a:pt x="72" y="20"/>
                  <a:pt x="71" y="30"/>
                  <a:pt x="70" y="32"/>
                </a:cubicBezTo>
                <a:cubicBezTo>
                  <a:pt x="70" y="32"/>
                  <a:pt x="73" y="32"/>
                  <a:pt x="72" y="35"/>
                </a:cubicBezTo>
                <a:cubicBezTo>
                  <a:pt x="72" y="39"/>
                  <a:pt x="72" y="47"/>
                  <a:pt x="69" y="46"/>
                </a:cubicBezTo>
                <a:cubicBezTo>
                  <a:pt x="69" y="46"/>
                  <a:pt x="68" y="55"/>
                  <a:pt x="66" y="57"/>
                </a:cubicBezTo>
                <a:cubicBezTo>
                  <a:pt x="66" y="57"/>
                  <a:pt x="65" y="64"/>
                  <a:pt x="66" y="64"/>
                </a:cubicBezTo>
                <a:cubicBezTo>
                  <a:pt x="68" y="64"/>
                  <a:pt x="68" y="64"/>
                  <a:pt x="68" y="64"/>
                </a:cubicBezTo>
                <a:cubicBezTo>
                  <a:pt x="68" y="64"/>
                  <a:pt x="69" y="70"/>
                  <a:pt x="70" y="72"/>
                </a:cubicBezTo>
                <a:cubicBezTo>
                  <a:pt x="70" y="72"/>
                  <a:pt x="101" y="80"/>
                  <a:pt x="104" y="83"/>
                </a:cubicBezTo>
                <a:cubicBezTo>
                  <a:pt x="104" y="87"/>
                  <a:pt x="104" y="91"/>
                  <a:pt x="104" y="91"/>
                </a:cubicBezTo>
                <a:lnTo>
                  <a:pt x="1" y="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" name="Freeform 8"/>
          <p:cNvSpPr/>
          <p:nvPr/>
        </p:nvSpPr>
        <p:spPr>
          <a:xfrm>
            <a:off x="5892840" y="2313000"/>
            <a:ext cx="404640" cy="365040"/>
          </a:xfrm>
          <a:custGeom>
            <a:avLst/>
            <a:gdLst/>
            <a:ahLst/>
            <a:rect l="l" t="t" r="r" b="b"/>
            <a:pathLst>
              <a:path w="108" h="97">
                <a:moveTo>
                  <a:pt x="48" y="2"/>
                </a:moveTo>
                <a:cubicBezTo>
                  <a:pt x="48" y="95"/>
                  <a:pt x="48" y="95"/>
                  <a:pt x="48" y="95"/>
                </a:cubicBezTo>
                <a:cubicBezTo>
                  <a:pt x="48" y="97"/>
                  <a:pt x="47" y="97"/>
                  <a:pt x="46" y="97"/>
                </a:cubicBezTo>
                <a:cubicBezTo>
                  <a:pt x="41" y="97"/>
                  <a:pt x="41" y="97"/>
                  <a:pt x="41" y="97"/>
                </a:cubicBezTo>
                <a:cubicBezTo>
                  <a:pt x="40" y="97"/>
                  <a:pt x="39" y="97"/>
                  <a:pt x="39" y="95"/>
                </a:cubicBezTo>
                <a:cubicBezTo>
                  <a:pt x="39" y="48"/>
                  <a:pt x="39" y="48"/>
                  <a:pt x="39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9" y="48"/>
                  <a:pt x="18" y="48"/>
                  <a:pt x="17" y="47"/>
                </a:cubicBezTo>
                <a:cubicBezTo>
                  <a:pt x="16" y="47"/>
                  <a:pt x="15" y="46"/>
                  <a:pt x="14" y="46"/>
                </a:cubicBezTo>
                <a:cubicBezTo>
                  <a:pt x="1" y="37"/>
                  <a:pt x="1" y="37"/>
                  <a:pt x="1" y="37"/>
                </a:cubicBezTo>
                <a:cubicBezTo>
                  <a:pt x="1" y="37"/>
                  <a:pt x="0" y="36"/>
                  <a:pt x="0" y="35"/>
                </a:cubicBezTo>
                <a:cubicBezTo>
                  <a:pt x="0" y="35"/>
                  <a:pt x="1" y="34"/>
                  <a:pt x="1" y="34"/>
                </a:cubicBezTo>
                <a:cubicBezTo>
                  <a:pt x="14" y="25"/>
                  <a:pt x="14" y="25"/>
                  <a:pt x="14" y="25"/>
                </a:cubicBezTo>
                <a:cubicBezTo>
                  <a:pt x="15" y="24"/>
                  <a:pt x="16" y="24"/>
                  <a:pt x="17" y="24"/>
                </a:cubicBezTo>
                <a:cubicBezTo>
                  <a:pt x="18" y="23"/>
                  <a:pt x="19" y="23"/>
                  <a:pt x="20" y="23"/>
                </a:cubicBezTo>
                <a:cubicBezTo>
                  <a:pt x="39" y="23"/>
                  <a:pt x="39" y="23"/>
                  <a:pt x="39" y="23"/>
                </a:cubicBezTo>
                <a:cubicBezTo>
                  <a:pt x="39" y="2"/>
                  <a:pt x="39" y="2"/>
                  <a:pt x="39" y="2"/>
                </a:cubicBezTo>
                <a:cubicBezTo>
                  <a:pt x="39" y="1"/>
                  <a:pt x="40" y="0"/>
                  <a:pt x="41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close/>
                <a:moveTo>
                  <a:pt x="108" y="25"/>
                </a:moveTo>
                <a:cubicBezTo>
                  <a:pt x="108" y="25"/>
                  <a:pt x="108" y="26"/>
                  <a:pt x="107" y="26"/>
                </a:cubicBezTo>
                <a:cubicBezTo>
                  <a:pt x="94" y="35"/>
                  <a:pt x="94" y="35"/>
                  <a:pt x="94" y="35"/>
                </a:cubicBezTo>
                <a:cubicBezTo>
                  <a:pt x="94" y="36"/>
                  <a:pt x="93" y="36"/>
                  <a:pt x="92" y="37"/>
                </a:cubicBezTo>
                <a:cubicBezTo>
                  <a:pt x="90" y="37"/>
                  <a:pt x="89" y="37"/>
                  <a:pt x="88" y="37"/>
                </a:cubicBezTo>
                <a:cubicBezTo>
                  <a:pt x="56" y="37"/>
                  <a:pt x="56" y="37"/>
                  <a:pt x="56" y="37"/>
                </a:cubicBezTo>
                <a:cubicBezTo>
                  <a:pt x="52" y="12"/>
                  <a:pt x="52" y="12"/>
                  <a:pt x="52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9" y="12"/>
                  <a:pt x="90" y="12"/>
                  <a:pt x="92" y="13"/>
                </a:cubicBezTo>
                <a:cubicBezTo>
                  <a:pt x="93" y="13"/>
                  <a:pt x="94" y="13"/>
                  <a:pt x="94" y="14"/>
                </a:cubicBezTo>
                <a:cubicBezTo>
                  <a:pt x="107" y="23"/>
                  <a:pt x="107" y="23"/>
                  <a:pt x="107" y="23"/>
                </a:cubicBezTo>
                <a:cubicBezTo>
                  <a:pt x="108" y="23"/>
                  <a:pt x="108" y="24"/>
                  <a:pt x="10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" name="Freeform 102"/>
          <p:cNvSpPr/>
          <p:nvPr/>
        </p:nvSpPr>
        <p:spPr>
          <a:xfrm>
            <a:off x="6380280" y="3220920"/>
            <a:ext cx="241200" cy="362160"/>
          </a:xfrm>
          <a:custGeom>
            <a:avLst/>
            <a:gdLst/>
            <a:ahLst/>
            <a:rect l="l" t="t" r="r" b="b"/>
            <a:pathLst>
              <a:path w="64" h="96">
                <a:moveTo>
                  <a:pt x="61" y="43"/>
                </a:moveTo>
                <a:cubicBezTo>
                  <a:pt x="39" y="92"/>
                  <a:pt x="39" y="92"/>
                  <a:pt x="39" y="92"/>
                </a:cubicBezTo>
                <a:cubicBezTo>
                  <a:pt x="37" y="94"/>
                  <a:pt x="35" y="96"/>
                  <a:pt x="32" y="96"/>
                </a:cubicBezTo>
                <a:cubicBezTo>
                  <a:pt x="29" y="96"/>
                  <a:pt x="26" y="94"/>
                  <a:pt x="24" y="92"/>
                </a:cubicBezTo>
                <a:cubicBezTo>
                  <a:pt x="2" y="43"/>
                  <a:pt x="2" y="43"/>
                  <a:pt x="2" y="43"/>
                </a:cubicBezTo>
                <a:cubicBezTo>
                  <a:pt x="0" y="40"/>
                  <a:pt x="0" y="36"/>
                  <a:pt x="0" y="32"/>
                </a:cubicBezTo>
                <a:cubicBezTo>
                  <a:pt x="0" y="14"/>
                  <a:pt x="14" y="0"/>
                  <a:pt x="32" y="0"/>
                </a:cubicBezTo>
                <a:cubicBezTo>
                  <a:pt x="49" y="0"/>
                  <a:pt x="64" y="14"/>
                  <a:pt x="64" y="32"/>
                </a:cubicBezTo>
                <a:cubicBezTo>
                  <a:pt x="64" y="36"/>
                  <a:pt x="63" y="40"/>
                  <a:pt x="61" y="43"/>
                </a:cubicBezTo>
                <a:close/>
                <a:moveTo>
                  <a:pt x="32" y="16"/>
                </a:moveTo>
                <a:cubicBezTo>
                  <a:pt x="23" y="16"/>
                  <a:pt x="16" y="23"/>
                  <a:pt x="16" y="32"/>
                </a:cubicBezTo>
                <a:cubicBezTo>
                  <a:pt x="16" y="41"/>
                  <a:pt x="23" y="48"/>
                  <a:pt x="32" y="48"/>
                </a:cubicBezTo>
                <a:cubicBezTo>
                  <a:pt x="40" y="48"/>
                  <a:pt x="48" y="41"/>
                  <a:pt x="48" y="32"/>
                </a:cubicBezTo>
                <a:cubicBezTo>
                  <a:pt x="48" y="23"/>
                  <a:pt x="40" y="16"/>
                  <a:pt x="32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" name="Freeform 52"/>
          <p:cNvSpPr/>
          <p:nvPr/>
        </p:nvSpPr>
        <p:spPr>
          <a:xfrm>
            <a:off x="6310440" y="4595760"/>
            <a:ext cx="363240" cy="36504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22"/>
                </a:moveTo>
                <a:cubicBezTo>
                  <a:pt x="97" y="86"/>
                  <a:pt x="97" y="86"/>
                  <a:pt x="97" y="86"/>
                </a:cubicBezTo>
                <a:cubicBezTo>
                  <a:pt x="97" y="92"/>
                  <a:pt x="92" y="97"/>
                  <a:pt x="86" y="97"/>
                </a:cubicBezTo>
                <a:cubicBezTo>
                  <a:pt x="11" y="97"/>
                  <a:pt x="11" y="97"/>
                  <a:pt x="11" y="97"/>
                </a:cubicBezTo>
                <a:cubicBezTo>
                  <a:pt x="5" y="97"/>
                  <a:pt x="0" y="92"/>
                  <a:pt x="0" y="86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6"/>
                  <a:pt x="5" y="11"/>
                  <a:pt x="11" y="11"/>
                </a:cubicBezTo>
                <a:cubicBezTo>
                  <a:pt x="15" y="11"/>
                  <a:pt x="15" y="11"/>
                  <a:pt x="15" y="11"/>
                </a:cubicBezTo>
                <a:cubicBezTo>
                  <a:pt x="15" y="22"/>
                  <a:pt x="15" y="22"/>
                  <a:pt x="15" y="22"/>
                </a:cubicBezTo>
                <a:cubicBezTo>
                  <a:pt x="33" y="22"/>
                  <a:pt x="33" y="22"/>
                  <a:pt x="33" y="22"/>
                </a:cubicBezTo>
                <a:cubicBezTo>
                  <a:pt x="33" y="11"/>
                  <a:pt x="33" y="11"/>
                  <a:pt x="33" y="11"/>
                </a:cubicBezTo>
                <a:cubicBezTo>
                  <a:pt x="64" y="11"/>
                  <a:pt x="64" y="11"/>
                  <a:pt x="64" y="11"/>
                </a:cubicBezTo>
                <a:cubicBezTo>
                  <a:pt x="64" y="22"/>
                  <a:pt x="64" y="22"/>
                  <a:pt x="64" y="22"/>
                </a:cubicBezTo>
                <a:cubicBezTo>
                  <a:pt x="81" y="22"/>
                  <a:pt x="81" y="22"/>
                  <a:pt x="81" y="22"/>
                </a:cubicBezTo>
                <a:cubicBezTo>
                  <a:pt x="81" y="11"/>
                  <a:pt x="81" y="11"/>
                  <a:pt x="81" y="11"/>
                </a:cubicBezTo>
                <a:cubicBezTo>
                  <a:pt x="86" y="11"/>
                  <a:pt x="86" y="11"/>
                  <a:pt x="86" y="11"/>
                </a:cubicBezTo>
                <a:cubicBezTo>
                  <a:pt x="92" y="11"/>
                  <a:pt x="97" y="16"/>
                  <a:pt x="97" y="22"/>
                </a:cubicBezTo>
                <a:close/>
                <a:moveTo>
                  <a:pt x="86" y="43"/>
                </a:moveTo>
                <a:cubicBezTo>
                  <a:pt x="11" y="43"/>
                  <a:pt x="11" y="43"/>
                  <a:pt x="11" y="43"/>
                </a:cubicBezTo>
                <a:cubicBezTo>
                  <a:pt x="11" y="86"/>
                  <a:pt x="11" y="86"/>
                  <a:pt x="11" y="86"/>
                </a:cubicBezTo>
                <a:cubicBezTo>
                  <a:pt x="86" y="86"/>
                  <a:pt x="86" y="86"/>
                  <a:pt x="86" y="86"/>
                </a:cubicBezTo>
                <a:lnTo>
                  <a:pt x="86" y="43"/>
                </a:lnTo>
                <a:close/>
                <a:moveTo>
                  <a:pt x="28" y="18"/>
                </a:moveTo>
                <a:cubicBezTo>
                  <a:pt x="20" y="18"/>
                  <a:pt x="20" y="18"/>
                  <a:pt x="20" y="18"/>
                </a:cubicBezTo>
                <a:cubicBezTo>
                  <a:pt x="20" y="0"/>
                  <a:pt x="20" y="0"/>
                  <a:pt x="20" y="0"/>
                </a:cubicBezTo>
                <a:cubicBezTo>
                  <a:pt x="28" y="0"/>
                  <a:pt x="28" y="0"/>
                  <a:pt x="28" y="0"/>
                </a:cubicBezTo>
                <a:lnTo>
                  <a:pt x="28" y="18"/>
                </a:lnTo>
                <a:close/>
                <a:moveTo>
                  <a:pt x="76" y="18"/>
                </a:moveTo>
                <a:cubicBezTo>
                  <a:pt x="69" y="18"/>
                  <a:pt x="69" y="18"/>
                  <a:pt x="69" y="18"/>
                </a:cubicBezTo>
                <a:cubicBezTo>
                  <a:pt x="69" y="0"/>
                  <a:pt x="69" y="0"/>
                  <a:pt x="69" y="0"/>
                </a:cubicBezTo>
                <a:cubicBezTo>
                  <a:pt x="76" y="0"/>
                  <a:pt x="76" y="0"/>
                  <a:pt x="76" y="0"/>
                </a:cubicBezTo>
                <a:lnTo>
                  <a:pt x="76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" name="Freeform 22"/>
          <p:cNvSpPr/>
          <p:nvPr/>
        </p:nvSpPr>
        <p:spPr>
          <a:xfrm>
            <a:off x="5697360" y="5581800"/>
            <a:ext cx="390600" cy="395280"/>
          </a:xfrm>
          <a:custGeom>
            <a:avLst/>
            <a:gdLst/>
            <a:ahLst/>
            <a:rect l="l" t="t" r="r" b="b"/>
            <a:pathLst>
              <a:path w="104" h="105">
                <a:moveTo>
                  <a:pt x="104" y="52"/>
                </a:moveTo>
                <a:cubicBezTo>
                  <a:pt x="104" y="80"/>
                  <a:pt x="82" y="104"/>
                  <a:pt x="53" y="104"/>
                </a:cubicBezTo>
                <a:cubicBezTo>
                  <a:pt x="24" y="105"/>
                  <a:pt x="1" y="82"/>
                  <a:pt x="1" y="53"/>
                </a:cubicBezTo>
                <a:cubicBezTo>
                  <a:pt x="0" y="25"/>
                  <a:pt x="23" y="1"/>
                  <a:pt x="52" y="1"/>
                </a:cubicBezTo>
                <a:cubicBezTo>
                  <a:pt x="80" y="0"/>
                  <a:pt x="104" y="23"/>
                  <a:pt x="104" y="52"/>
                </a:cubicBezTo>
                <a:close/>
                <a:moveTo>
                  <a:pt x="93" y="52"/>
                </a:moveTo>
                <a:cubicBezTo>
                  <a:pt x="93" y="29"/>
                  <a:pt x="74" y="11"/>
                  <a:pt x="52" y="12"/>
                </a:cubicBezTo>
                <a:cubicBezTo>
                  <a:pt x="29" y="12"/>
                  <a:pt x="11" y="31"/>
                  <a:pt x="11" y="53"/>
                </a:cubicBezTo>
                <a:cubicBezTo>
                  <a:pt x="12" y="76"/>
                  <a:pt x="30" y="94"/>
                  <a:pt x="53" y="94"/>
                </a:cubicBezTo>
                <a:cubicBezTo>
                  <a:pt x="76" y="93"/>
                  <a:pt x="93" y="75"/>
                  <a:pt x="93" y="52"/>
                </a:cubicBezTo>
                <a:close/>
                <a:moveTo>
                  <a:pt x="42" y="42"/>
                </a:moveTo>
                <a:cubicBezTo>
                  <a:pt x="52" y="31"/>
                  <a:pt x="77" y="28"/>
                  <a:pt x="77" y="28"/>
                </a:cubicBezTo>
                <a:cubicBezTo>
                  <a:pt x="77" y="28"/>
                  <a:pt x="74" y="53"/>
                  <a:pt x="63" y="63"/>
                </a:cubicBezTo>
                <a:cubicBezTo>
                  <a:pt x="52" y="74"/>
                  <a:pt x="28" y="77"/>
                  <a:pt x="28" y="77"/>
                </a:cubicBezTo>
                <a:cubicBezTo>
                  <a:pt x="28" y="77"/>
                  <a:pt x="31" y="52"/>
                  <a:pt x="42" y="42"/>
                </a:cubicBezTo>
                <a:close/>
                <a:moveTo>
                  <a:pt x="47" y="58"/>
                </a:moveTo>
                <a:cubicBezTo>
                  <a:pt x="50" y="61"/>
                  <a:pt x="55" y="61"/>
                  <a:pt x="58" y="58"/>
                </a:cubicBezTo>
                <a:cubicBezTo>
                  <a:pt x="62" y="53"/>
                  <a:pt x="65" y="45"/>
                  <a:pt x="67" y="37"/>
                </a:cubicBezTo>
                <a:cubicBezTo>
                  <a:pt x="60" y="39"/>
                  <a:pt x="51" y="43"/>
                  <a:pt x="47" y="47"/>
                </a:cubicBezTo>
                <a:cubicBezTo>
                  <a:pt x="44" y="50"/>
                  <a:pt x="44" y="55"/>
                  <a:pt x="47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" name="Freeform 49"/>
          <p:cNvSpPr/>
          <p:nvPr/>
        </p:nvSpPr>
        <p:spPr>
          <a:xfrm>
            <a:off x="5504040" y="4630680"/>
            <a:ext cx="404640" cy="228600"/>
          </a:xfrm>
          <a:custGeom>
            <a:avLst/>
            <a:gdLst/>
            <a:ahLst/>
            <a:rect l="l" t="t" r="r" b="b"/>
            <a:pathLst>
              <a:path w="108" h="61">
                <a:moveTo>
                  <a:pt x="108" y="31"/>
                </a:moveTo>
                <a:cubicBezTo>
                  <a:pt x="108" y="35"/>
                  <a:pt x="89" y="61"/>
                  <a:pt x="54" y="61"/>
                </a:cubicBezTo>
                <a:cubicBezTo>
                  <a:pt x="18" y="61"/>
                  <a:pt x="0" y="35"/>
                  <a:pt x="0" y="31"/>
                </a:cubicBezTo>
                <a:cubicBezTo>
                  <a:pt x="0" y="26"/>
                  <a:pt x="18" y="0"/>
                  <a:pt x="54" y="0"/>
                </a:cubicBezTo>
                <a:cubicBezTo>
                  <a:pt x="89" y="0"/>
                  <a:pt x="108" y="26"/>
                  <a:pt x="108" y="31"/>
                </a:cubicBezTo>
                <a:close/>
                <a:moveTo>
                  <a:pt x="78" y="31"/>
                </a:moveTo>
                <a:cubicBezTo>
                  <a:pt x="78" y="18"/>
                  <a:pt x="67" y="7"/>
                  <a:pt x="54" y="7"/>
                </a:cubicBezTo>
                <a:cubicBezTo>
                  <a:pt x="40" y="7"/>
                  <a:pt x="30" y="18"/>
                  <a:pt x="30" y="31"/>
                </a:cubicBezTo>
                <a:cubicBezTo>
                  <a:pt x="30" y="43"/>
                  <a:pt x="40" y="54"/>
                  <a:pt x="54" y="54"/>
                </a:cubicBezTo>
                <a:cubicBezTo>
                  <a:pt x="67" y="54"/>
                  <a:pt x="78" y="43"/>
                  <a:pt x="78" y="31"/>
                </a:cubicBezTo>
                <a:close/>
                <a:moveTo>
                  <a:pt x="66" y="31"/>
                </a:moveTo>
                <a:cubicBezTo>
                  <a:pt x="66" y="37"/>
                  <a:pt x="60" y="42"/>
                  <a:pt x="54" y="42"/>
                </a:cubicBezTo>
                <a:cubicBezTo>
                  <a:pt x="47" y="42"/>
                  <a:pt x="42" y="37"/>
                  <a:pt x="42" y="31"/>
                </a:cubicBezTo>
                <a:cubicBezTo>
                  <a:pt x="42" y="24"/>
                  <a:pt x="47" y="19"/>
                  <a:pt x="54" y="19"/>
                </a:cubicBezTo>
                <a:cubicBezTo>
                  <a:pt x="57" y="19"/>
                  <a:pt x="51" y="28"/>
                  <a:pt x="54" y="31"/>
                </a:cubicBezTo>
                <a:cubicBezTo>
                  <a:pt x="55" y="33"/>
                  <a:pt x="66" y="27"/>
                  <a:pt x="66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" name="TextBox 52"/>
          <p:cNvSpPr/>
          <p:nvPr/>
        </p:nvSpPr>
        <p:spPr>
          <a:xfrm>
            <a:off x="7349400" y="183816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Poppins"/>
              </a:rPr>
              <a:t>Content One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" name="TextBox 53"/>
          <p:cNvSpPr/>
          <p:nvPr/>
        </p:nvSpPr>
        <p:spPr>
          <a:xfrm>
            <a:off x="8224920" y="2033640"/>
            <a:ext cx="2840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" name="TextBox 54"/>
          <p:cNvSpPr/>
          <p:nvPr/>
        </p:nvSpPr>
        <p:spPr>
          <a:xfrm>
            <a:off x="7319520" y="21002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80b9"/>
                </a:solidFill>
                <a:latin typeface="Bebas"/>
              </a:rPr>
              <a:t>15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" name="TextBox 55"/>
          <p:cNvSpPr/>
          <p:nvPr/>
        </p:nvSpPr>
        <p:spPr>
          <a:xfrm>
            <a:off x="7545240" y="287640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Poppins"/>
              </a:rPr>
              <a:t>Content One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" name="TextBox 56"/>
          <p:cNvSpPr/>
          <p:nvPr/>
        </p:nvSpPr>
        <p:spPr>
          <a:xfrm>
            <a:off x="8420040" y="307008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" name="TextBox 57"/>
          <p:cNvSpPr/>
          <p:nvPr/>
        </p:nvSpPr>
        <p:spPr>
          <a:xfrm>
            <a:off x="7518600" y="31370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9c12"/>
                </a:solidFill>
                <a:latin typeface="Bebas"/>
              </a:rPr>
              <a:t>10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" name="TextBox 58"/>
          <p:cNvSpPr/>
          <p:nvPr/>
        </p:nvSpPr>
        <p:spPr>
          <a:xfrm>
            <a:off x="7726320" y="423072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Poppins"/>
              </a:rPr>
              <a:t>Content One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" name="TextBox 59"/>
          <p:cNvSpPr/>
          <p:nvPr/>
        </p:nvSpPr>
        <p:spPr>
          <a:xfrm>
            <a:off x="8601120" y="4425840"/>
            <a:ext cx="2840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" name="TextBox 60"/>
          <p:cNvSpPr/>
          <p:nvPr/>
        </p:nvSpPr>
        <p:spPr>
          <a:xfrm>
            <a:off x="7737840" y="44928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b176"/>
                </a:solidFill>
                <a:latin typeface="Bebas"/>
              </a:rPr>
              <a:t>20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" name="TextBox 61"/>
          <p:cNvSpPr/>
          <p:nvPr/>
        </p:nvSpPr>
        <p:spPr>
          <a:xfrm>
            <a:off x="3343320" y="287820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Poppins"/>
              </a:rPr>
              <a:t>Content One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" name="TextBox 62"/>
          <p:cNvSpPr/>
          <p:nvPr/>
        </p:nvSpPr>
        <p:spPr>
          <a:xfrm>
            <a:off x="1424160" y="3124080"/>
            <a:ext cx="2512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" name="TextBox 63"/>
          <p:cNvSpPr/>
          <p:nvPr/>
        </p:nvSpPr>
        <p:spPr>
          <a:xfrm>
            <a:off x="3812040" y="31399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bb59"/>
                </a:solidFill>
                <a:latin typeface="Bebas"/>
              </a:rPr>
              <a:t>30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" name="TextBox 64"/>
          <p:cNvSpPr/>
          <p:nvPr/>
        </p:nvSpPr>
        <p:spPr>
          <a:xfrm>
            <a:off x="3045600" y="401652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Poppins"/>
              </a:rPr>
              <a:t>Content One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" name="TextBox 65"/>
          <p:cNvSpPr/>
          <p:nvPr/>
        </p:nvSpPr>
        <p:spPr>
          <a:xfrm>
            <a:off x="1127160" y="4262400"/>
            <a:ext cx="2512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" name="TextBox 66"/>
          <p:cNvSpPr/>
          <p:nvPr/>
        </p:nvSpPr>
        <p:spPr>
          <a:xfrm>
            <a:off x="3555360" y="42782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392b"/>
                </a:solidFill>
                <a:latin typeface="Bebas"/>
              </a:rPr>
              <a:t>15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" name="TextBox 67"/>
          <p:cNvSpPr/>
          <p:nvPr/>
        </p:nvSpPr>
        <p:spPr>
          <a:xfrm>
            <a:off x="3432960" y="52862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Poppins"/>
              </a:rPr>
              <a:t>Content One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" name="TextBox 68"/>
          <p:cNvSpPr/>
          <p:nvPr/>
        </p:nvSpPr>
        <p:spPr>
          <a:xfrm>
            <a:off x="1514520" y="5532480"/>
            <a:ext cx="2512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" name="TextBox 69"/>
          <p:cNvSpPr/>
          <p:nvPr/>
        </p:nvSpPr>
        <p:spPr>
          <a:xfrm>
            <a:off x="3939840" y="55483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4f72"/>
                </a:solidFill>
                <a:latin typeface="Bebas"/>
              </a:rPr>
              <a:t>10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Freeform 6"/>
          <p:cNvSpPr/>
          <p:nvPr/>
        </p:nvSpPr>
        <p:spPr>
          <a:xfrm flipH="1">
            <a:off x="2367720" y="2349360"/>
            <a:ext cx="2662200" cy="2529000"/>
          </a:xfrm>
          <a:custGeom>
            <a:avLst/>
            <a:gdLst/>
            <a:ahLst/>
            <a:rect l="l" t="t" r="r" b="b"/>
            <a:pathLst>
              <a:path w="1465" h="1393">
                <a:moveTo>
                  <a:pt x="1411" y="785"/>
                </a:moveTo>
                <a:cubicBezTo>
                  <a:pt x="1397" y="780"/>
                  <a:pt x="1383" y="780"/>
                  <a:pt x="1370" y="785"/>
                </a:cubicBezTo>
                <a:cubicBezTo>
                  <a:pt x="1370" y="785"/>
                  <a:pt x="1370" y="785"/>
                  <a:pt x="1370" y="785"/>
                </a:cubicBezTo>
                <a:cubicBezTo>
                  <a:pt x="1367" y="786"/>
                  <a:pt x="1363" y="787"/>
                  <a:pt x="1360" y="788"/>
                </a:cubicBezTo>
                <a:cubicBezTo>
                  <a:pt x="1334" y="798"/>
                  <a:pt x="1326" y="787"/>
                  <a:pt x="1327" y="772"/>
                </a:cubicBezTo>
                <a:cubicBezTo>
                  <a:pt x="1338" y="728"/>
                  <a:pt x="1343" y="682"/>
                  <a:pt x="1343" y="635"/>
                </a:cubicBezTo>
                <a:cubicBezTo>
                  <a:pt x="1343" y="455"/>
                  <a:pt x="1265" y="293"/>
                  <a:pt x="1140" y="181"/>
                </a:cubicBezTo>
                <a:cubicBezTo>
                  <a:pt x="1141" y="181"/>
                  <a:pt x="1141" y="181"/>
                  <a:pt x="1141" y="181"/>
                </a:cubicBezTo>
                <a:cubicBezTo>
                  <a:pt x="1141" y="181"/>
                  <a:pt x="1140" y="181"/>
                  <a:pt x="1140" y="181"/>
                </a:cubicBezTo>
                <a:cubicBezTo>
                  <a:pt x="1138" y="179"/>
                  <a:pt x="1136" y="177"/>
                  <a:pt x="1134" y="175"/>
                </a:cubicBezTo>
                <a:cubicBezTo>
                  <a:pt x="1123" y="164"/>
                  <a:pt x="1123" y="150"/>
                  <a:pt x="1150" y="142"/>
                </a:cubicBezTo>
                <a:cubicBezTo>
                  <a:pt x="1154" y="141"/>
                  <a:pt x="1157" y="141"/>
                  <a:pt x="1160" y="139"/>
                </a:cubicBezTo>
                <a:cubicBezTo>
                  <a:pt x="1173" y="135"/>
                  <a:pt x="1185" y="127"/>
                  <a:pt x="1193" y="115"/>
                </a:cubicBezTo>
                <a:cubicBezTo>
                  <a:pt x="1215" y="85"/>
                  <a:pt x="1209" y="43"/>
                  <a:pt x="1179" y="22"/>
                </a:cubicBezTo>
                <a:cubicBezTo>
                  <a:pt x="1149" y="0"/>
                  <a:pt x="1107" y="6"/>
                  <a:pt x="1085" y="36"/>
                </a:cubicBezTo>
                <a:cubicBezTo>
                  <a:pt x="1076" y="48"/>
                  <a:pt x="1072" y="62"/>
                  <a:pt x="1072" y="75"/>
                </a:cubicBezTo>
                <a:cubicBezTo>
                  <a:pt x="1072" y="75"/>
                  <a:pt x="1072" y="75"/>
                  <a:pt x="1072" y="75"/>
                </a:cubicBezTo>
                <a:cubicBezTo>
                  <a:pt x="1072" y="79"/>
                  <a:pt x="1072" y="82"/>
                  <a:pt x="1073" y="86"/>
                </a:cubicBezTo>
                <a:cubicBezTo>
                  <a:pt x="1073" y="114"/>
                  <a:pt x="1061" y="118"/>
                  <a:pt x="1047" y="112"/>
                </a:cubicBezTo>
                <a:cubicBezTo>
                  <a:pt x="955" y="57"/>
                  <a:pt x="848" y="25"/>
                  <a:pt x="733" y="25"/>
                </a:cubicBezTo>
                <a:cubicBezTo>
                  <a:pt x="618" y="25"/>
                  <a:pt x="511" y="57"/>
                  <a:pt x="419" y="112"/>
                </a:cubicBezTo>
                <a:cubicBezTo>
                  <a:pt x="405" y="118"/>
                  <a:pt x="392" y="114"/>
                  <a:pt x="393" y="86"/>
                </a:cubicBezTo>
                <a:cubicBezTo>
                  <a:pt x="394" y="82"/>
                  <a:pt x="394" y="79"/>
                  <a:pt x="394" y="75"/>
                </a:cubicBezTo>
                <a:cubicBezTo>
                  <a:pt x="394" y="75"/>
                  <a:pt x="394" y="75"/>
                  <a:pt x="394" y="75"/>
                </a:cubicBezTo>
                <a:cubicBezTo>
                  <a:pt x="394" y="62"/>
                  <a:pt x="390" y="48"/>
                  <a:pt x="381" y="36"/>
                </a:cubicBezTo>
                <a:cubicBezTo>
                  <a:pt x="359" y="6"/>
                  <a:pt x="317" y="0"/>
                  <a:pt x="287" y="22"/>
                </a:cubicBezTo>
                <a:cubicBezTo>
                  <a:pt x="257" y="43"/>
                  <a:pt x="251" y="85"/>
                  <a:pt x="272" y="115"/>
                </a:cubicBezTo>
                <a:cubicBezTo>
                  <a:pt x="281" y="127"/>
                  <a:pt x="293" y="135"/>
                  <a:pt x="305" y="139"/>
                </a:cubicBezTo>
                <a:cubicBezTo>
                  <a:pt x="305" y="139"/>
                  <a:pt x="305" y="139"/>
                  <a:pt x="305" y="139"/>
                </a:cubicBezTo>
                <a:cubicBezTo>
                  <a:pt x="309" y="141"/>
                  <a:pt x="312" y="141"/>
                  <a:pt x="316" y="142"/>
                </a:cubicBezTo>
                <a:cubicBezTo>
                  <a:pt x="343" y="150"/>
                  <a:pt x="343" y="164"/>
                  <a:pt x="332" y="175"/>
                </a:cubicBezTo>
                <a:cubicBezTo>
                  <a:pt x="330" y="177"/>
                  <a:pt x="328" y="179"/>
                  <a:pt x="326" y="181"/>
                </a:cubicBezTo>
                <a:cubicBezTo>
                  <a:pt x="325" y="181"/>
                  <a:pt x="325" y="181"/>
                  <a:pt x="325" y="181"/>
                </a:cubicBezTo>
                <a:cubicBezTo>
                  <a:pt x="325" y="181"/>
                  <a:pt x="325" y="181"/>
                  <a:pt x="325" y="181"/>
                </a:cubicBezTo>
                <a:cubicBezTo>
                  <a:pt x="201" y="293"/>
                  <a:pt x="123" y="455"/>
                  <a:pt x="123" y="635"/>
                </a:cubicBezTo>
                <a:cubicBezTo>
                  <a:pt x="123" y="682"/>
                  <a:pt x="128" y="728"/>
                  <a:pt x="139" y="772"/>
                </a:cubicBezTo>
                <a:cubicBezTo>
                  <a:pt x="140" y="787"/>
                  <a:pt x="132" y="798"/>
                  <a:pt x="106" y="788"/>
                </a:cubicBezTo>
                <a:cubicBezTo>
                  <a:pt x="102" y="787"/>
                  <a:pt x="99" y="786"/>
                  <a:pt x="96" y="785"/>
                </a:cubicBezTo>
                <a:cubicBezTo>
                  <a:pt x="96" y="785"/>
                  <a:pt x="96" y="785"/>
                  <a:pt x="96" y="785"/>
                </a:cubicBezTo>
                <a:cubicBezTo>
                  <a:pt x="83" y="780"/>
                  <a:pt x="69" y="780"/>
                  <a:pt x="55" y="785"/>
                </a:cubicBezTo>
                <a:cubicBezTo>
                  <a:pt x="20" y="796"/>
                  <a:pt x="0" y="834"/>
                  <a:pt x="12" y="869"/>
                </a:cubicBezTo>
                <a:cubicBezTo>
                  <a:pt x="23" y="904"/>
                  <a:pt x="61" y="924"/>
                  <a:pt x="96" y="912"/>
                </a:cubicBezTo>
                <a:cubicBezTo>
                  <a:pt x="110" y="908"/>
                  <a:pt x="122" y="899"/>
                  <a:pt x="130" y="888"/>
                </a:cubicBezTo>
                <a:cubicBezTo>
                  <a:pt x="130" y="888"/>
                  <a:pt x="130" y="888"/>
                  <a:pt x="130" y="888"/>
                </a:cubicBezTo>
                <a:cubicBezTo>
                  <a:pt x="132" y="886"/>
                  <a:pt x="134" y="883"/>
                  <a:pt x="135" y="879"/>
                </a:cubicBezTo>
                <a:cubicBezTo>
                  <a:pt x="151" y="857"/>
                  <a:pt x="164" y="860"/>
                  <a:pt x="171" y="873"/>
                </a:cubicBezTo>
                <a:cubicBezTo>
                  <a:pt x="256" y="1073"/>
                  <a:pt x="445" y="1218"/>
                  <a:pt x="669" y="1242"/>
                </a:cubicBezTo>
                <a:cubicBezTo>
                  <a:pt x="669" y="1242"/>
                  <a:pt x="669" y="1242"/>
                  <a:pt x="669" y="1242"/>
                </a:cubicBezTo>
                <a:cubicBezTo>
                  <a:pt x="669" y="1242"/>
                  <a:pt x="669" y="1242"/>
                  <a:pt x="670" y="1242"/>
                </a:cubicBezTo>
                <a:cubicBezTo>
                  <a:pt x="673" y="1242"/>
                  <a:pt x="676" y="1242"/>
                  <a:pt x="679" y="1242"/>
                </a:cubicBezTo>
                <a:cubicBezTo>
                  <a:pt x="694" y="1245"/>
                  <a:pt x="702" y="1256"/>
                  <a:pt x="685" y="1279"/>
                </a:cubicBezTo>
                <a:cubicBezTo>
                  <a:pt x="683" y="1282"/>
                  <a:pt x="680" y="1284"/>
                  <a:pt x="678" y="1287"/>
                </a:cubicBezTo>
                <a:cubicBezTo>
                  <a:pt x="678" y="1287"/>
                  <a:pt x="678" y="1287"/>
                  <a:pt x="678" y="1287"/>
                </a:cubicBezTo>
                <a:cubicBezTo>
                  <a:pt x="671" y="1298"/>
                  <a:pt x="666" y="1312"/>
                  <a:pt x="666" y="1326"/>
                </a:cubicBezTo>
                <a:cubicBezTo>
                  <a:pt x="666" y="1363"/>
                  <a:pt x="696" y="1393"/>
                  <a:pt x="733" y="1393"/>
                </a:cubicBezTo>
                <a:cubicBezTo>
                  <a:pt x="770" y="1393"/>
                  <a:pt x="800" y="1363"/>
                  <a:pt x="800" y="1326"/>
                </a:cubicBezTo>
                <a:cubicBezTo>
                  <a:pt x="800" y="1312"/>
                  <a:pt x="795" y="1298"/>
                  <a:pt x="788" y="1287"/>
                </a:cubicBezTo>
                <a:cubicBezTo>
                  <a:pt x="788" y="1287"/>
                  <a:pt x="788" y="1287"/>
                  <a:pt x="788" y="1287"/>
                </a:cubicBezTo>
                <a:cubicBezTo>
                  <a:pt x="785" y="1284"/>
                  <a:pt x="783" y="1282"/>
                  <a:pt x="781" y="1279"/>
                </a:cubicBezTo>
                <a:cubicBezTo>
                  <a:pt x="764" y="1256"/>
                  <a:pt x="772" y="1245"/>
                  <a:pt x="787" y="1242"/>
                </a:cubicBezTo>
                <a:cubicBezTo>
                  <a:pt x="790" y="1242"/>
                  <a:pt x="793" y="1242"/>
                  <a:pt x="796" y="1242"/>
                </a:cubicBezTo>
                <a:cubicBezTo>
                  <a:pt x="796" y="1242"/>
                  <a:pt x="796" y="1242"/>
                  <a:pt x="796" y="1242"/>
                </a:cubicBezTo>
                <a:cubicBezTo>
                  <a:pt x="796" y="1242"/>
                  <a:pt x="796" y="1242"/>
                  <a:pt x="796" y="1242"/>
                </a:cubicBezTo>
                <a:cubicBezTo>
                  <a:pt x="1021" y="1218"/>
                  <a:pt x="1210" y="1073"/>
                  <a:pt x="1295" y="873"/>
                </a:cubicBezTo>
                <a:cubicBezTo>
                  <a:pt x="1302" y="860"/>
                  <a:pt x="1315" y="857"/>
                  <a:pt x="1331" y="879"/>
                </a:cubicBezTo>
                <a:cubicBezTo>
                  <a:pt x="1332" y="883"/>
                  <a:pt x="1334" y="886"/>
                  <a:pt x="1336" y="888"/>
                </a:cubicBezTo>
                <a:cubicBezTo>
                  <a:pt x="1344" y="899"/>
                  <a:pt x="1356" y="908"/>
                  <a:pt x="1369" y="912"/>
                </a:cubicBezTo>
                <a:cubicBezTo>
                  <a:pt x="1405" y="924"/>
                  <a:pt x="1443" y="904"/>
                  <a:pt x="1454" y="869"/>
                </a:cubicBezTo>
                <a:cubicBezTo>
                  <a:pt x="1465" y="834"/>
                  <a:pt x="1446" y="796"/>
                  <a:pt x="1411" y="785"/>
                </a:cubicBezTo>
                <a:close/>
              </a:path>
            </a:pathLst>
          </a:cu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Poppins"/>
              </a:rPr>
              <a:t>MAGNIFIER PUZZLE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50" name="Freeform 7"/>
          <p:cNvSpPr/>
          <p:nvPr/>
        </p:nvSpPr>
        <p:spPr>
          <a:xfrm flipH="1">
            <a:off x="3424320" y="1616040"/>
            <a:ext cx="2068560" cy="1706760"/>
          </a:xfrm>
          <a:custGeom>
            <a:avLst/>
            <a:gdLst/>
            <a:ahLst/>
            <a:rect l="l" t="t" r="r" b="b"/>
            <a:pathLst>
              <a:path w="1139" h="940">
                <a:moveTo>
                  <a:pt x="244" y="845"/>
                </a:moveTo>
                <a:cubicBezTo>
                  <a:pt x="243" y="842"/>
                  <a:pt x="242" y="838"/>
                  <a:pt x="240" y="835"/>
                </a:cubicBezTo>
                <a:cubicBezTo>
                  <a:pt x="229" y="804"/>
                  <a:pt x="247" y="798"/>
                  <a:pt x="266" y="805"/>
                </a:cubicBezTo>
                <a:cubicBezTo>
                  <a:pt x="397" y="847"/>
                  <a:pt x="397" y="847"/>
                  <a:pt x="397" y="847"/>
                </a:cubicBezTo>
                <a:cubicBezTo>
                  <a:pt x="430" y="744"/>
                  <a:pt x="490" y="650"/>
                  <a:pt x="572" y="576"/>
                </a:cubicBezTo>
                <a:cubicBezTo>
                  <a:pt x="576" y="580"/>
                  <a:pt x="576" y="580"/>
                  <a:pt x="576" y="580"/>
                </a:cubicBezTo>
                <a:cubicBezTo>
                  <a:pt x="574" y="578"/>
                  <a:pt x="574" y="578"/>
                  <a:pt x="574" y="578"/>
                </a:cubicBezTo>
                <a:cubicBezTo>
                  <a:pt x="573" y="576"/>
                  <a:pt x="573" y="576"/>
                  <a:pt x="573" y="576"/>
                </a:cubicBezTo>
                <a:cubicBezTo>
                  <a:pt x="573" y="576"/>
                  <a:pt x="573" y="576"/>
                  <a:pt x="573" y="576"/>
                </a:cubicBezTo>
                <a:cubicBezTo>
                  <a:pt x="575" y="574"/>
                  <a:pt x="577" y="572"/>
                  <a:pt x="578" y="571"/>
                </a:cubicBezTo>
                <a:cubicBezTo>
                  <a:pt x="581" y="568"/>
                  <a:pt x="582" y="566"/>
                  <a:pt x="582" y="565"/>
                </a:cubicBezTo>
                <a:cubicBezTo>
                  <a:pt x="581" y="564"/>
                  <a:pt x="578" y="561"/>
                  <a:pt x="568" y="558"/>
                </a:cubicBezTo>
                <a:cubicBezTo>
                  <a:pt x="564" y="557"/>
                  <a:pt x="561" y="556"/>
                  <a:pt x="558" y="555"/>
                </a:cubicBezTo>
                <a:cubicBezTo>
                  <a:pt x="557" y="555"/>
                  <a:pt x="557" y="555"/>
                  <a:pt x="557" y="555"/>
                </a:cubicBezTo>
                <a:cubicBezTo>
                  <a:pt x="541" y="550"/>
                  <a:pt x="527" y="540"/>
                  <a:pt x="518" y="526"/>
                </a:cubicBezTo>
                <a:cubicBezTo>
                  <a:pt x="492" y="491"/>
                  <a:pt x="500" y="441"/>
                  <a:pt x="535" y="416"/>
                </a:cubicBezTo>
                <a:cubicBezTo>
                  <a:pt x="549" y="406"/>
                  <a:pt x="565" y="401"/>
                  <a:pt x="582" y="401"/>
                </a:cubicBezTo>
                <a:cubicBezTo>
                  <a:pt x="607" y="401"/>
                  <a:pt x="631" y="413"/>
                  <a:pt x="646" y="433"/>
                </a:cubicBezTo>
                <a:cubicBezTo>
                  <a:pt x="655" y="446"/>
                  <a:pt x="660" y="460"/>
                  <a:pt x="661" y="475"/>
                </a:cubicBezTo>
                <a:cubicBezTo>
                  <a:pt x="661" y="475"/>
                  <a:pt x="661" y="475"/>
                  <a:pt x="661" y="475"/>
                </a:cubicBezTo>
                <a:cubicBezTo>
                  <a:pt x="661" y="479"/>
                  <a:pt x="661" y="479"/>
                  <a:pt x="661" y="479"/>
                </a:cubicBezTo>
                <a:cubicBezTo>
                  <a:pt x="661" y="483"/>
                  <a:pt x="661" y="487"/>
                  <a:pt x="660" y="491"/>
                </a:cubicBezTo>
                <a:cubicBezTo>
                  <a:pt x="660" y="503"/>
                  <a:pt x="663" y="506"/>
                  <a:pt x="663" y="506"/>
                </a:cubicBezTo>
                <a:cubicBezTo>
                  <a:pt x="663" y="506"/>
                  <a:pt x="663" y="506"/>
                  <a:pt x="664" y="506"/>
                </a:cubicBezTo>
                <a:cubicBezTo>
                  <a:pt x="665" y="506"/>
                  <a:pt x="666" y="506"/>
                  <a:pt x="669" y="505"/>
                </a:cubicBezTo>
                <a:cubicBezTo>
                  <a:pt x="765" y="447"/>
                  <a:pt x="875" y="417"/>
                  <a:pt x="988" y="417"/>
                </a:cubicBezTo>
                <a:cubicBezTo>
                  <a:pt x="988" y="280"/>
                  <a:pt x="988" y="280"/>
                  <a:pt x="988" y="280"/>
                </a:cubicBezTo>
                <a:cubicBezTo>
                  <a:pt x="988" y="260"/>
                  <a:pt x="999" y="244"/>
                  <a:pt x="1025" y="265"/>
                </a:cubicBezTo>
                <a:cubicBezTo>
                  <a:pt x="1028" y="267"/>
                  <a:pt x="1031" y="269"/>
                  <a:pt x="1033" y="271"/>
                </a:cubicBezTo>
                <a:cubicBezTo>
                  <a:pt x="1033" y="271"/>
                  <a:pt x="1033" y="271"/>
                  <a:pt x="1033" y="271"/>
                </a:cubicBezTo>
                <a:cubicBezTo>
                  <a:pt x="1044" y="279"/>
                  <a:pt x="1058" y="284"/>
                  <a:pt x="1072" y="284"/>
                </a:cubicBezTo>
                <a:cubicBezTo>
                  <a:pt x="1109" y="284"/>
                  <a:pt x="1139" y="254"/>
                  <a:pt x="1139" y="217"/>
                </a:cubicBezTo>
                <a:cubicBezTo>
                  <a:pt x="1139" y="180"/>
                  <a:pt x="1109" y="150"/>
                  <a:pt x="1072" y="150"/>
                </a:cubicBezTo>
                <a:cubicBezTo>
                  <a:pt x="1058" y="150"/>
                  <a:pt x="1044" y="154"/>
                  <a:pt x="1033" y="162"/>
                </a:cubicBezTo>
                <a:cubicBezTo>
                  <a:pt x="1033" y="162"/>
                  <a:pt x="1033" y="162"/>
                  <a:pt x="1033" y="162"/>
                </a:cubicBezTo>
                <a:cubicBezTo>
                  <a:pt x="1031" y="164"/>
                  <a:pt x="1028" y="167"/>
                  <a:pt x="1025" y="169"/>
                </a:cubicBezTo>
                <a:cubicBezTo>
                  <a:pt x="999" y="189"/>
                  <a:pt x="988" y="174"/>
                  <a:pt x="988" y="153"/>
                </a:cubicBezTo>
                <a:cubicBezTo>
                  <a:pt x="988" y="0"/>
                  <a:pt x="988" y="0"/>
                  <a:pt x="988" y="0"/>
                </a:cubicBezTo>
                <a:cubicBezTo>
                  <a:pt x="526" y="0"/>
                  <a:pt x="135" y="301"/>
                  <a:pt x="0" y="718"/>
                </a:cubicBezTo>
                <a:cubicBezTo>
                  <a:pt x="146" y="765"/>
                  <a:pt x="146" y="765"/>
                  <a:pt x="146" y="765"/>
                </a:cubicBezTo>
                <a:cubicBezTo>
                  <a:pt x="165" y="772"/>
                  <a:pt x="177" y="787"/>
                  <a:pt x="149" y="806"/>
                </a:cubicBezTo>
                <a:cubicBezTo>
                  <a:pt x="146" y="807"/>
                  <a:pt x="143" y="809"/>
                  <a:pt x="140" y="811"/>
                </a:cubicBezTo>
                <a:cubicBezTo>
                  <a:pt x="140" y="811"/>
                  <a:pt x="140" y="811"/>
                  <a:pt x="140" y="811"/>
                </a:cubicBezTo>
                <a:cubicBezTo>
                  <a:pt x="129" y="819"/>
                  <a:pt x="121" y="831"/>
                  <a:pt x="116" y="844"/>
                </a:cubicBezTo>
                <a:cubicBezTo>
                  <a:pt x="105" y="880"/>
                  <a:pt x="124" y="918"/>
                  <a:pt x="159" y="929"/>
                </a:cubicBezTo>
                <a:cubicBezTo>
                  <a:pt x="195" y="940"/>
                  <a:pt x="232" y="921"/>
                  <a:pt x="244" y="886"/>
                </a:cubicBezTo>
                <a:cubicBezTo>
                  <a:pt x="248" y="872"/>
                  <a:pt x="248" y="858"/>
                  <a:pt x="244" y="845"/>
                </a:cubicBez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1" name="Freeform 8"/>
          <p:cNvSpPr/>
          <p:nvPr/>
        </p:nvSpPr>
        <p:spPr>
          <a:xfrm flipH="1">
            <a:off x="1904400" y="1616040"/>
            <a:ext cx="1771560" cy="1706760"/>
          </a:xfrm>
          <a:custGeom>
            <a:avLst/>
            <a:gdLst/>
            <a:ahLst/>
            <a:rect l="l" t="t" r="r" b="b"/>
            <a:pathLst>
              <a:path w="976" h="940">
                <a:moveTo>
                  <a:pt x="836" y="811"/>
                </a:moveTo>
                <a:cubicBezTo>
                  <a:pt x="836" y="811"/>
                  <a:pt x="836" y="811"/>
                  <a:pt x="836" y="811"/>
                </a:cubicBezTo>
                <a:cubicBezTo>
                  <a:pt x="833" y="809"/>
                  <a:pt x="830" y="807"/>
                  <a:pt x="827" y="806"/>
                </a:cubicBezTo>
                <a:cubicBezTo>
                  <a:pt x="799" y="787"/>
                  <a:pt x="810" y="772"/>
                  <a:pt x="830" y="765"/>
                </a:cubicBezTo>
                <a:cubicBezTo>
                  <a:pt x="976" y="718"/>
                  <a:pt x="976" y="718"/>
                  <a:pt x="976" y="718"/>
                </a:cubicBezTo>
                <a:cubicBezTo>
                  <a:pt x="842" y="305"/>
                  <a:pt x="456" y="5"/>
                  <a:pt x="0" y="0"/>
                </a:cubicBezTo>
                <a:cubicBezTo>
                  <a:pt x="0" y="153"/>
                  <a:pt x="0" y="153"/>
                  <a:pt x="0" y="153"/>
                </a:cubicBezTo>
                <a:cubicBezTo>
                  <a:pt x="0" y="158"/>
                  <a:pt x="1" y="163"/>
                  <a:pt x="2" y="165"/>
                </a:cubicBezTo>
                <a:cubicBezTo>
                  <a:pt x="3" y="167"/>
                  <a:pt x="3" y="167"/>
                  <a:pt x="4" y="167"/>
                </a:cubicBezTo>
                <a:cubicBezTo>
                  <a:pt x="5" y="167"/>
                  <a:pt x="9" y="166"/>
                  <a:pt x="18" y="160"/>
                </a:cubicBezTo>
                <a:cubicBezTo>
                  <a:pt x="20" y="157"/>
                  <a:pt x="23" y="155"/>
                  <a:pt x="26" y="153"/>
                </a:cubicBezTo>
                <a:cubicBezTo>
                  <a:pt x="26" y="153"/>
                  <a:pt x="26" y="153"/>
                  <a:pt x="26" y="153"/>
                </a:cubicBezTo>
                <a:cubicBezTo>
                  <a:pt x="40" y="143"/>
                  <a:pt x="56" y="138"/>
                  <a:pt x="72" y="138"/>
                </a:cubicBezTo>
                <a:cubicBezTo>
                  <a:pt x="116" y="138"/>
                  <a:pt x="151" y="173"/>
                  <a:pt x="151" y="217"/>
                </a:cubicBezTo>
                <a:cubicBezTo>
                  <a:pt x="151" y="260"/>
                  <a:pt x="116" y="296"/>
                  <a:pt x="72" y="296"/>
                </a:cubicBezTo>
                <a:cubicBezTo>
                  <a:pt x="56" y="296"/>
                  <a:pt x="40" y="291"/>
                  <a:pt x="26" y="281"/>
                </a:cubicBezTo>
                <a:cubicBezTo>
                  <a:pt x="23" y="279"/>
                  <a:pt x="20" y="276"/>
                  <a:pt x="18" y="274"/>
                </a:cubicBezTo>
                <a:cubicBezTo>
                  <a:pt x="9" y="268"/>
                  <a:pt x="5" y="267"/>
                  <a:pt x="4" y="267"/>
                </a:cubicBezTo>
                <a:cubicBezTo>
                  <a:pt x="2" y="267"/>
                  <a:pt x="0" y="272"/>
                  <a:pt x="0" y="280"/>
                </a:cubicBezTo>
                <a:cubicBezTo>
                  <a:pt x="0" y="417"/>
                  <a:pt x="0" y="417"/>
                  <a:pt x="0" y="417"/>
                </a:cubicBezTo>
                <a:cubicBezTo>
                  <a:pt x="108" y="419"/>
                  <a:pt x="214" y="450"/>
                  <a:pt x="307" y="505"/>
                </a:cubicBezTo>
                <a:cubicBezTo>
                  <a:pt x="310" y="506"/>
                  <a:pt x="311" y="506"/>
                  <a:pt x="312" y="506"/>
                </a:cubicBezTo>
                <a:cubicBezTo>
                  <a:pt x="313" y="506"/>
                  <a:pt x="313" y="506"/>
                  <a:pt x="313" y="506"/>
                </a:cubicBezTo>
                <a:cubicBezTo>
                  <a:pt x="313" y="506"/>
                  <a:pt x="316" y="503"/>
                  <a:pt x="316" y="491"/>
                </a:cubicBezTo>
                <a:cubicBezTo>
                  <a:pt x="315" y="487"/>
                  <a:pt x="315" y="483"/>
                  <a:pt x="315" y="479"/>
                </a:cubicBezTo>
                <a:cubicBezTo>
                  <a:pt x="315" y="475"/>
                  <a:pt x="315" y="475"/>
                  <a:pt x="315" y="475"/>
                </a:cubicBezTo>
                <a:cubicBezTo>
                  <a:pt x="315" y="475"/>
                  <a:pt x="315" y="475"/>
                  <a:pt x="315" y="475"/>
                </a:cubicBezTo>
                <a:cubicBezTo>
                  <a:pt x="316" y="460"/>
                  <a:pt x="321" y="446"/>
                  <a:pt x="330" y="433"/>
                </a:cubicBezTo>
                <a:cubicBezTo>
                  <a:pt x="345" y="413"/>
                  <a:pt x="369" y="401"/>
                  <a:pt x="394" y="401"/>
                </a:cubicBezTo>
                <a:cubicBezTo>
                  <a:pt x="411" y="401"/>
                  <a:pt x="427" y="406"/>
                  <a:pt x="441" y="416"/>
                </a:cubicBezTo>
                <a:cubicBezTo>
                  <a:pt x="458" y="428"/>
                  <a:pt x="469" y="447"/>
                  <a:pt x="472" y="467"/>
                </a:cubicBezTo>
                <a:cubicBezTo>
                  <a:pt x="476" y="488"/>
                  <a:pt x="471" y="509"/>
                  <a:pt x="458" y="526"/>
                </a:cubicBezTo>
                <a:cubicBezTo>
                  <a:pt x="448" y="540"/>
                  <a:pt x="435" y="550"/>
                  <a:pt x="419" y="555"/>
                </a:cubicBezTo>
                <a:cubicBezTo>
                  <a:pt x="416" y="556"/>
                  <a:pt x="412" y="557"/>
                  <a:pt x="408" y="558"/>
                </a:cubicBezTo>
                <a:cubicBezTo>
                  <a:pt x="398" y="561"/>
                  <a:pt x="395" y="564"/>
                  <a:pt x="394" y="565"/>
                </a:cubicBezTo>
                <a:cubicBezTo>
                  <a:pt x="394" y="566"/>
                  <a:pt x="395" y="568"/>
                  <a:pt x="397" y="571"/>
                </a:cubicBezTo>
                <a:cubicBezTo>
                  <a:pt x="399" y="572"/>
                  <a:pt x="403" y="576"/>
                  <a:pt x="403" y="576"/>
                </a:cubicBezTo>
                <a:cubicBezTo>
                  <a:pt x="402" y="578"/>
                  <a:pt x="402" y="578"/>
                  <a:pt x="402" y="578"/>
                </a:cubicBezTo>
                <a:cubicBezTo>
                  <a:pt x="400" y="580"/>
                  <a:pt x="400" y="580"/>
                  <a:pt x="400" y="580"/>
                </a:cubicBezTo>
                <a:cubicBezTo>
                  <a:pt x="403" y="576"/>
                  <a:pt x="403" y="576"/>
                  <a:pt x="403" y="576"/>
                </a:cubicBezTo>
                <a:cubicBezTo>
                  <a:pt x="486" y="650"/>
                  <a:pt x="546" y="744"/>
                  <a:pt x="579" y="847"/>
                </a:cubicBezTo>
                <a:cubicBezTo>
                  <a:pt x="709" y="805"/>
                  <a:pt x="709" y="805"/>
                  <a:pt x="709" y="805"/>
                </a:cubicBezTo>
                <a:cubicBezTo>
                  <a:pt x="729" y="798"/>
                  <a:pt x="747" y="804"/>
                  <a:pt x="736" y="835"/>
                </a:cubicBezTo>
                <a:cubicBezTo>
                  <a:pt x="734" y="838"/>
                  <a:pt x="733" y="842"/>
                  <a:pt x="732" y="845"/>
                </a:cubicBezTo>
                <a:cubicBezTo>
                  <a:pt x="732" y="845"/>
                  <a:pt x="732" y="845"/>
                  <a:pt x="732" y="845"/>
                </a:cubicBezTo>
                <a:cubicBezTo>
                  <a:pt x="728" y="858"/>
                  <a:pt x="728" y="872"/>
                  <a:pt x="732" y="886"/>
                </a:cubicBezTo>
                <a:cubicBezTo>
                  <a:pt x="744" y="921"/>
                  <a:pt x="781" y="940"/>
                  <a:pt x="817" y="929"/>
                </a:cubicBezTo>
                <a:cubicBezTo>
                  <a:pt x="852" y="918"/>
                  <a:pt x="871" y="880"/>
                  <a:pt x="860" y="844"/>
                </a:cubicBezTo>
                <a:cubicBezTo>
                  <a:pt x="855" y="831"/>
                  <a:pt x="847" y="819"/>
                  <a:pt x="836" y="811"/>
                </a:cubicBezTo>
                <a:close/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2" name="Freeform 9"/>
          <p:cNvSpPr/>
          <p:nvPr/>
        </p:nvSpPr>
        <p:spPr>
          <a:xfrm flipH="1">
            <a:off x="4314960" y="2940120"/>
            <a:ext cx="1271520" cy="2087640"/>
          </a:xfrm>
          <a:custGeom>
            <a:avLst/>
            <a:gdLst/>
            <a:ahLst/>
            <a:rect l="l" t="t" r="r" b="b"/>
            <a:pathLst>
              <a:path w="700" h="1150">
                <a:moveTo>
                  <a:pt x="663" y="970"/>
                </a:moveTo>
                <a:cubicBezTo>
                  <a:pt x="652" y="962"/>
                  <a:pt x="638" y="958"/>
                  <a:pt x="625" y="958"/>
                </a:cubicBezTo>
                <a:cubicBezTo>
                  <a:pt x="625" y="958"/>
                  <a:pt x="625" y="958"/>
                  <a:pt x="625" y="958"/>
                </a:cubicBezTo>
                <a:cubicBezTo>
                  <a:pt x="621" y="958"/>
                  <a:pt x="618" y="958"/>
                  <a:pt x="614" y="958"/>
                </a:cubicBezTo>
                <a:cubicBezTo>
                  <a:pt x="581" y="959"/>
                  <a:pt x="581" y="940"/>
                  <a:pt x="593" y="924"/>
                </a:cubicBezTo>
                <a:cubicBezTo>
                  <a:pt x="673" y="813"/>
                  <a:pt x="673" y="813"/>
                  <a:pt x="673" y="813"/>
                </a:cubicBezTo>
                <a:cubicBezTo>
                  <a:pt x="584" y="748"/>
                  <a:pt x="511" y="659"/>
                  <a:pt x="467" y="554"/>
                </a:cubicBezTo>
                <a:cubicBezTo>
                  <a:pt x="465" y="551"/>
                  <a:pt x="463" y="550"/>
                  <a:pt x="463" y="550"/>
                </a:cubicBezTo>
                <a:cubicBezTo>
                  <a:pt x="462" y="550"/>
                  <a:pt x="458" y="552"/>
                  <a:pt x="451" y="561"/>
                </a:cubicBezTo>
                <a:cubicBezTo>
                  <a:pt x="450" y="564"/>
                  <a:pt x="448" y="567"/>
                  <a:pt x="445" y="570"/>
                </a:cubicBezTo>
                <a:cubicBezTo>
                  <a:pt x="443" y="573"/>
                  <a:pt x="443" y="573"/>
                  <a:pt x="443" y="573"/>
                </a:cubicBezTo>
                <a:cubicBezTo>
                  <a:pt x="443" y="573"/>
                  <a:pt x="443" y="573"/>
                  <a:pt x="443" y="573"/>
                </a:cubicBezTo>
                <a:cubicBezTo>
                  <a:pt x="434" y="585"/>
                  <a:pt x="421" y="594"/>
                  <a:pt x="406" y="599"/>
                </a:cubicBezTo>
                <a:cubicBezTo>
                  <a:pt x="398" y="601"/>
                  <a:pt x="390" y="603"/>
                  <a:pt x="382" y="603"/>
                </a:cubicBezTo>
                <a:cubicBezTo>
                  <a:pt x="347" y="603"/>
                  <a:pt x="317" y="581"/>
                  <a:pt x="306" y="548"/>
                </a:cubicBezTo>
                <a:cubicBezTo>
                  <a:pt x="300" y="528"/>
                  <a:pt x="302" y="506"/>
                  <a:pt x="311" y="488"/>
                </a:cubicBezTo>
                <a:cubicBezTo>
                  <a:pt x="321" y="469"/>
                  <a:pt x="337" y="455"/>
                  <a:pt x="357" y="448"/>
                </a:cubicBezTo>
                <a:cubicBezTo>
                  <a:pt x="365" y="446"/>
                  <a:pt x="373" y="444"/>
                  <a:pt x="382" y="444"/>
                </a:cubicBezTo>
                <a:cubicBezTo>
                  <a:pt x="390" y="444"/>
                  <a:pt x="398" y="446"/>
                  <a:pt x="405" y="448"/>
                </a:cubicBezTo>
                <a:cubicBezTo>
                  <a:pt x="409" y="449"/>
                  <a:pt x="413" y="451"/>
                  <a:pt x="416" y="452"/>
                </a:cubicBezTo>
                <a:cubicBezTo>
                  <a:pt x="422" y="454"/>
                  <a:pt x="426" y="455"/>
                  <a:pt x="428" y="455"/>
                </a:cubicBezTo>
                <a:cubicBezTo>
                  <a:pt x="431" y="455"/>
                  <a:pt x="432" y="454"/>
                  <a:pt x="432" y="454"/>
                </a:cubicBezTo>
                <a:cubicBezTo>
                  <a:pt x="432" y="454"/>
                  <a:pt x="433" y="452"/>
                  <a:pt x="433" y="449"/>
                </a:cubicBezTo>
                <a:cubicBezTo>
                  <a:pt x="422" y="404"/>
                  <a:pt x="417" y="357"/>
                  <a:pt x="417" y="310"/>
                </a:cubicBezTo>
                <a:cubicBezTo>
                  <a:pt x="417" y="248"/>
                  <a:pt x="426" y="187"/>
                  <a:pt x="444" y="129"/>
                </a:cubicBezTo>
                <a:cubicBezTo>
                  <a:pt x="314" y="87"/>
                  <a:pt x="314" y="87"/>
                  <a:pt x="314" y="87"/>
                </a:cubicBezTo>
                <a:cubicBezTo>
                  <a:pt x="310" y="86"/>
                  <a:pt x="307" y="85"/>
                  <a:pt x="304" y="85"/>
                </a:cubicBezTo>
                <a:cubicBezTo>
                  <a:pt x="302" y="85"/>
                  <a:pt x="300" y="86"/>
                  <a:pt x="300" y="86"/>
                </a:cubicBezTo>
                <a:cubicBezTo>
                  <a:pt x="300" y="87"/>
                  <a:pt x="299" y="91"/>
                  <a:pt x="302" y="102"/>
                </a:cubicBezTo>
                <a:cubicBezTo>
                  <a:pt x="304" y="105"/>
                  <a:pt x="305" y="109"/>
                  <a:pt x="306" y="112"/>
                </a:cubicBezTo>
                <a:cubicBezTo>
                  <a:pt x="307" y="115"/>
                  <a:pt x="307" y="115"/>
                  <a:pt x="307" y="115"/>
                </a:cubicBezTo>
                <a:cubicBezTo>
                  <a:pt x="307" y="116"/>
                  <a:pt x="307" y="116"/>
                  <a:pt x="307" y="116"/>
                </a:cubicBezTo>
                <a:cubicBezTo>
                  <a:pt x="311" y="130"/>
                  <a:pt x="311" y="146"/>
                  <a:pt x="306" y="161"/>
                </a:cubicBezTo>
                <a:cubicBezTo>
                  <a:pt x="296" y="193"/>
                  <a:pt x="265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23" y="215"/>
                  <a:pt x="215" y="214"/>
                  <a:pt x="207" y="211"/>
                </a:cubicBezTo>
                <a:cubicBezTo>
                  <a:pt x="165" y="198"/>
                  <a:pt x="142" y="153"/>
                  <a:pt x="156" y="112"/>
                </a:cubicBezTo>
                <a:cubicBezTo>
                  <a:pt x="161" y="96"/>
                  <a:pt x="171" y="82"/>
                  <a:pt x="184" y="73"/>
                </a:cubicBezTo>
                <a:cubicBezTo>
                  <a:pt x="185" y="72"/>
                  <a:pt x="185" y="72"/>
                  <a:pt x="185" y="72"/>
                </a:cubicBezTo>
                <a:cubicBezTo>
                  <a:pt x="185" y="72"/>
                  <a:pt x="185" y="72"/>
                  <a:pt x="185" y="72"/>
                </a:cubicBezTo>
                <a:cubicBezTo>
                  <a:pt x="188" y="70"/>
                  <a:pt x="191" y="68"/>
                  <a:pt x="194" y="66"/>
                </a:cubicBezTo>
                <a:cubicBezTo>
                  <a:pt x="203" y="60"/>
                  <a:pt x="205" y="56"/>
                  <a:pt x="205" y="55"/>
                </a:cubicBezTo>
                <a:cubicBezTo>
                  <a:pt x="204" y="54"/>
                  <a:pt x="201" y="50"/>
                  <a:pt x="193" y="48"/>
                </a:cubicBezTo>
                <a:cubicBezTo>
                  <a:pt x="47" y="0"/>
                  <a:pt x="47" y="0"/>
                  <a:pt x="47" y="0"/>
                </a:cubicBezTo>
                <a:cubicBezTo>
                  <a:pt x="17" y="98"/>
                  <a:pt x="0" y="202"/>
                  <a:pt x="0" y="310"/>
                </a:cubicBezTo>
                <a:cubicBezTo>
                  <a:pt x="0" y="655"/>
                  <a:pt x="169" y="962"/>
                  <a:pt x="428" y="1150"/>
                </a:cubicBezTo>
                <a:cubicBezTo>
                  <a:pt x="518" y="1026"/>
                  <a:pt x="518" y="1026"/>
                  <a:pt x="518" y="1026"/>
                </a:cubicBezTo>
                <a:cubicBezTo>
                  <a:pt x="531" y="1010"/>
                  <a:pt x="548" y="1004"/>
                  <a:pt x="558" y="1036"/>
                </a:cubicBezTo>
                <a:cubicBezTo>
                  <a:pt x="558" y="1039"/>
                  <a:pt x="559" y="1043"/>
                  <a:pt x="560" y="1046"/>
                </a:cubicBezTo>
                <a:cubicBezTo>
                  <a:pt x="560" y="1046"/>
                  <a:pt x="560" y="1046"/>
                  <a:pt x="560" y="1046"/>
                </a:cubicBezTo>
                <a:cubicBezTo>
                  <a:pt x="565" y="1059"/>
                  <a:pt x="573" y="1070"/>
                  <a:pt x="585" y="1079"/>
                </a:cubicBezTo>
                <a:cubicBezTo>
                  <a:pt x="615" y="1101"/>
                  <a:pt x="657" y="1094"/>
                  <a:pt x="678" y="1064"/>
                </a:cubicBezTo>
                <a:cubicBezTo>
                  <a:pt x="700" y="1034"/>
                  <a:pt x="693" y="992"/>
                  <a:pt x="663" y="970"/>
                </a:cubicBezTo>
                <a:close/>
              </a:path>
            </a:pathLst>
          </a:cu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3" name="Freeform 10"/>
          <p:cNvSpPr/>
          <p:nvPr/>
        </p:nvSpPr>
        <p:spPr>
          <a:xfrm flipH="1">
            <a:off x="2560680" y="4416480"/>
            <a:ext cx="2230560" cy="973080"/>
          </a:xfrm>
          <a:custGeom>
            <a:avLst/>
            <a:gdLst/>
            <a:ahLst/>
            <a:rect l="l" t="t" r="r" b="b"/>
            <a:pathLst>
              <a:path w="1228" h="536">
                <a:moveTo>
                  <a:pt x="1143" y="179"/>
                </a:moveTo>
                <a:cubicBezTo>
                  <a:pt x="1146" y="179"/>
                  <a:pt x="1150" y="179"/>
                  <a:pt x="1153" y="179"/>
                </a:cubicBezTo>
                <a:cubicBezTo>
                  <a:pt x="1153" y="179"/>
                  <a:pt x="1153" y="179"/>
                  <a:pt x="1153" y="179"/>
                </a:cubicBezTo>
                <a:cubicBezTo>
                  <a:pt x="1167" y="179"/>
                  <a:pt x="1180" y="175"/>
                  <a:pt x="1192" y="167"/>
                </a:cubicBezTo>
                <a:cubicBezTo>
                  <a:pt x="1222" y="145"/>
                  <a:pt x="1228" y="103"/>
                  <a:pt x="1207" y="73"/>
                </a:cubicBezTo>
                <a:cubicBezTo>
                  <a:pt x="1185" y="43"/>
                  <a:pt x="1143" y="36"/>
                  <a:pt x="1113" y="58"/>
                </a:cubicBezTo>
                <a:cubicBezTo>
                  <a:pt x="1101" y="67"/>
                  <a:pt x="1093" y="78"/>
                  <a:pt x="1089" y="91"/>
                </a:cubicBezTo>
                <a:cubicBezTo>
                  <a:pt x="1089" y="91"/>
                  <a:pt x="1089" y="91"/>
                  <a:pt x="1089" y="91"/>
                </a:cubicBezTo>
                <a:cubicBezTo>
                  <a:pt x="1088" y="94"/>
                  <a:pt x="1087" y="98"/>
                  <a:pt x="1086" y="101"/>
                </a:cubicBezTo>
                <a:cubicBezTo>
                  <a:pt x="1077" y="133"/>
                  <a:pt x="1059" y="127"/>
                  <a:pt x="1047" y="111"/>
                </a:cubicBezTo>
                <a:cubicBezTo>
                  <a:pt x="967" y="0"/>
                  <a:pt x="967" y="0"/>
                  <a:pt x="967" y="0"/>
                </a:cubicBezTo>
                <a:cubicBezTo>
                  <a:pt x="880" y="63"/>
                  <a:pt x="776" y="104"/>
                  <a:pt x="666" y="116"/>
                </a:cubicBezTo>
                <a:cubicBezTo>
                  <a:pt x="665" y="105"/>
                  <a:pt x="665" y="105"/>
                  <a:pt x="665" y="105"/>
                </a:cubicBezTo>
                <a:cubicBezTo>
                  <a:pt x="665" y="106"/>
                  <a:pt x="665" y="106"/>
                  <a:pt x="665" y="106"/>
                </a:cubicBezTo>
                <a:cubicBezTo>
                  <a:pt x="666" y="116"/>
                  <a:pt x="666" y="116"/>
                  <a:pt x="666" y="116"/>
                </a:cubicBezTo>
                <a:cubicBezTo>
                  <a:pt x="663" y="116"/>
                  <a:pt x="660" y="116"/>
                  <a:pt x="658" y="116"/>
                </a:cubicBezTo>
                <a:cubicBezTo>
                  <a:pt x="657" y="116"/>
                  <a:pt x="657" y="116"/>
                  <a:pt x="657" y="116"/>
                </a:cubicBezTo>
                <a:cubicBezTo>
                  <a:pt x="653" y="117"/>
                  <a:pt x="651" y="118"/>
                  <a:pt x="651" y="119"/>
                </a:cubicBezTo>
                <a:cubicBezTo>
                  <a:pt x="651" y="120"/>
                  <a:pt x="651" y="124"/>
                  <a:pt x="658" y="133"/>
                </a:cubicBezTo>
                <a:cubicBezTo>
                  <a:pt x="661" y="136"/>
                  <a:pt x="663" y="139"/>
                  <a:pt x="665" y="142"/>
                </a:cubicBezTo>
                <a:cubicBezTo>
                  <a:pt x="666" y="143"/>
                  <a:pt x="666" y="143"/>
                  <a:pt x="666" y="143"/>
                </a:cubicBezTo>
                <a:cubicBezTo>
                  <a:pt x="675" y="156"/>
                  <a:pt x="680" y="172"/>
                  <a:pt x="680" y="188"/>
                </a:cubicBezTo>
                <a:cubicBezTo>
                  <a:pt x="680" y="232"/>
                  <a:pt x="645" y="267"/>
                  <a:pt x="601" y="267"/>
                </a:cubicBezTo>
                <a:cubicBezTo>
                  <a:pt x="601" y="267"/>
                  <a:pt x="601" y="267"/>
                  <a:pt x="601" y="267"/>
                </a:cubicBezTo>
                <a:cubicBezTo>
                  <a:pt x="580" y="267"/>
                  <a:pt x="560" y="259"/>
                  <a:pt x="545" y="244"/>
                </a:cubicBezTo>
                <a:cubicBezTo>
                  <a:pt x="530" y="229"/>
                  <a:pt x="522" y="209"/>
                  <a:pt x="522" y="188"/>
                </a:cubicBezTo>
                <a:cubicBezTo>
                  <a:pt x="522" y="171"/>
                  <a:pt x="527" y="156"/>
                  <a:pt x="537" y="142"/>
                </a:cubicBezTo>
                <a:cubicBezTo>
                  <a:pt x="539" y="139"/>
                  <a:pt x="541" y="136"/>
                  <a:pt x="544" y="133"/>
                </a:cubicBezTo>
                <a:cubicBezTo>
                  <a:pt x="550" y="124"/>
                  <a:pt x="551" y="120"/>
                  <a:pt x="551" y="119"/>
                </a:cubicBezTo>
                <a:cubicBezTo>
                  <a:pt x="550" y="118"/>
                  <a:pt x="549" y="117"/>
                  <a:pt x="545" y="116"/>
                </a:cubicBezTo>
                <a:cubicBezTo>
                  <a:pt x="544" y="116"/>
                  <a:pt x="544" y="116"/>
                  <a:pt x="544" y="116"/>
                </a:cubicBezTo>
                <a:cubicBezTo>
                  <a:pt x="542" y="116"/>
                  <a:pt x="539" y="116"/>
                  <a:pt x="536" y="116"/>
                </a:cubicBezTo>
                <a:cubicBezTo>
                  <a:pt x="537" y="105"/>
                  <a:pt x="537" y="105"/>
                  <a:pt x="537" y="105"/>
                </a:cubicBezTo>
                <a:cubicBezTo>
                  <a:pt x="537" y="104"/>
                  <a:pt x="537" y="104"/>
                  <a:pt x="537" y="104"/>
                </a:cubicBezTo>
                <a:cubicBezTo>
                  <a:pt x="536" y="116"/>
                  <a:pt x="536" y="116"/>
                  <a:pt x="536" y="116"/>
                </a:cubicBezTo>
                <a:cubicBezTo>
                  <a:pt x="430" y="105"/>
                  <a:pt x="330" y="66"/>
                  <a:pt x="245" y="7"/>
                </a:cubicBezTo>
                <a:cubicBezTo>
                  <a:pt x="165" y="118"/>
                  <a:pt x="165" y="118"/>
                  <a:pt x="165" y="118"/>
                </a:cubicBezTo>
                <a:cubicBezTo>
                  <a:pt x="160" y="125"/>
                  <a:pt x="159" y="129"/>
                  <a:pt x="160" y="130"/>
                </a:cubicBezTo>
                <a:cubicBezTo>
                  <a:pt x="160" y="131"/>
                  <a:pt x="164" y="133"/>
                  <a:pt x="174" y="133"/>
                </a:cubicBezTo>
                <a:cubicBezTo>
                  <a:pt x="175" y="133"/>
                  <a:pt x="175" y="133"/>
                  <a:pt x="175" y="133"/>
                </a:cubicBezTo>
                <a:cubicBezTo>
                  <a:pt x="179" y="133"/>
                  <a:pt x="182" y="133"/>
                  <a:pt x="186" y="133"/>
                </a:cubicBezTo>
                <a:cubicBezTo>
                  <a:pt x="189" y="133"/>
                  <a:pt x="189" y="133"/>
                  <a:pt x="189" y="133"/>
                </a:cubicBezTo>
                <a:cubicBezTo>
                  <a:pt x="189" y="133"/>
                  <a:pt x="189" y="133"/>
                  <a:pt x="189" y="133"/>
                </a:cubicBezTo>
                <a:cubicBezTo>
                  <a:pt x="205" y="133"/>
                  <a:pt x="220" y="138"/>
                  <a:pt x="232" y="148"/>
                </a:cubicBezTo>
                <a:cubicBezTo>
                  <a:pt x="268" y="173"/>
                  <a:pt x="276" y="223"/>
                  <a:pt x="250" y="258"/>
                </a:cubicBezTo>
                <a:cubicBezTo>
                  <a:pt x="235" y="279"/>
                  <a:pt x="211" y="291"/>
                  <a:pt x="186" y="291"/>
                </a:cubicBezTo>
                <a:cubicBezTo>
                  <a:pt x="186" y="291"/>
                  <a:pt x="186" y="291"/>
                  <a:pt x="186" y="291"/>
                </a:cubicBezTo>
                <a:cubicBezTo>
                  <a:pt x="169" y="291"/>
                  <a:pt x="153" y="285"/>
                  <a:pt x="140" y="276"/>
                </a:cubicBezTo>
                <a:cubicBezTo>
                  <a:pt x="126" y="266"/>
                  <a:pt x="116" y="252"/>
                  <a:pt x="111" y="237"/>
                </a:cubicBezTo>
                <a:cubicBezTo>
                  <a:pt x="110" y="233"/>
                  <a:pt x="109" y="229"/>
                  <a:pt x="108" y="225"/>
                </a:cubicBezTo>
                <a:cubicBezTo>
                  <a:pt x="105" y="214"/>
                  <a:pt x="101" y="212"/>
                  <a:pt x="100" y="212"/>
                </a:cubicBezTo>
                <a:cubicBezTo>
                  <a:pt x="99" y="212"/>
                  <a:pt x="95" y="213"/>
                  <a:pt x="90" y="220"/>
                </a:cubicBezTo>
                <a:cubicBezTo>
                  <a:pt x="0" y="344"/>
                  <a:pt x="0" y="344"/>
                  <a:pt x="0" y="344"/>
                </a:cubicBezTo>
                <a:cubicBezTo>
                  <a:pt x="170" y="465"/>
                  <a:pt x="377" y="536"/>
                  <a:pt x="601" y="536"/>
                </a:cubicBezTo>
                <a:cubicBezTo>
                  <a:pt x="829" y="536"/>
                  <a:pt x="1040" y="462"/>
                  <a:pt x="1212" y="337"/>
                </a:cubicBezTo>
                <a:cubicBezTo>
                  <a:pt x="1121" y="213"/>
                  <a:pt x="1121" y="213"/>
                  <a:pt x="1121" y="213"/>
                </a:cubicBezTo>
                <a:cubicBezTo>
                  <a:pt x="1109" y="197"/>
                  <a:pt x="1109" y="178"/>
                  <a:pt x="1143" y="179"/>
                </a:cubicBezTo>
                <a:close/>
              </a:path>
            </a:pathLst>
          </a:custGeom>
          <a:solidFill>
            <a:srgbClr val="41b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4" name="Freeform 11"/>
          <p:cNvSpPr/>
          <p:nvPr/>
        </p:nvSpPr>
        <p:spPr>
          <a:xfrm flipH="1">
            <a:off x="1810440" y="2940120"/>
            <a:ext cx="1204920" cy="2074680"/>
          </a:xfrm>
          <a:custGeom>
            <a:avLst/>
            <a:gdLst/>
            <a:ahLst/>
            <a:rect l="l" t="t" r="r" b="b"/>
            <a:pathLst>
              <a:path w="664" h="1143">
                <a:moveTo>
                  <a:pt x="617" y="0"/>
                </a:moveTo>
                <a:cubicBezTo>
                  <a:pt x="471" y="48"/>
                  <a:pt x="471" y="48"/>
                  <a:pt x="471" y="48"/>
                </a:cubicBezTo>
                <a:cubicBezTo>
                  <a:pt x="462" y="50"/>
                  <a:pt x="460" y="54"/>
                  <a:pt x="459" y="55"/>
                </a:cubicBezTo>
                <a:cubicBezTo>
                  <a:pt x="459" y="56"/>
                  <a:pt x="461" y="60"/>
                  <a:pt x="470" y="66"/>
                </a:cubicBezTo>
                <a:cubicBezTo>
                  <a:pt x="473" y="68"/>
                  <a:pt x="476" y="70"/>
                  <a:pt x="479" y="72"/>
                </a:cubicBezTo>
                <a:cubicBezTo>
                  <a:pt x="480" y="73"/>
                  <a:pt x="480" y="73"/>
                  <a:pt x="480" y="73"/>
                </a:cubicBezTo>
                <a:cubicBezTo>
                  <a:pt x="493" y="82"/>
                  <a:pt x="503" y="96"/>
                  <a:pt x="508" y="112"/>
                </a:cubicBezTo>
                <a:cubicBezTo>
                  <a:pt x="522" y="153"/>
                  <a:pt x="499" y="198"/>
                  <a:pt x="457" y="211"/>
                </a:cubicBezTo>
                <a:cubicBezTo>
                  <a:pt x="449" y="214"/>
                  <a:pt x="441" y="215"/>
                  <a:pt x="433" y="215"/>
                </a:cubicBezTo>
                <a:cubicBezTo>
                  <a:pt x="433" y="215"/>
                  <a:pt x="433" y="215"/>
                  <a:pt x="433" y="215"/>
                </a:cubicBezTo>
                <a:cubicBezTo>
                  <a:pt x="399" y="215"/>
                  <a:pt x="368" y="193"/>
                  <a:pt x="358" y="161"/>
                </a:cubicBezTo>
                <a:cubicBezTo>
                  <a:pt x="353" y="145"/>
                  <a:pt x="353" y="130"/>
                  <a:pt x="357" y="114"/>
                </a:cubicBezTo>
                <a:cubicBezTo>
                  <a:pt x="357" y="114"/>
                  <a:pt x="357" y="114"/>
                  <a:pt x="357" y="114"/>
                </a:cubicBezTo>
                <a:cubicBezTo>
                  <a:pt x="357" y="112"/>
                  <a:pt x="357" y="112"/>
                  <a:pt x="357" y="112"/>
                </a:cubicBezTo>
                <a:cubicBezTo>
                  <a:pt x="359" y="109"/>
                  <a:pt x="360" y="105"/>
                  <a:pt x="362" y="102"/>
                </a:cubicBezTo>
                <a:cubicBezTo>
                  <a:pt x="365" y="91"/>
                  <a:pt x="364" y="87"/>
                  <a:pt x="364" y="86"/>
                </a:cubicBezTo>
                <a:cubicBezTo>
                  <a:pt x="363" y="86"/>
                  <a:pt x="362" y="85"/>
                  <a:pt x="360" y="85"/>
                </a:cubicBezTo>
                <a:cubicBezTo>
                  <a:pt x="357" y="85"/>
                  <a:pt x="354" y="86"/>
                  <a:pt x="350" y="87"/>
                </a:cubicBezTo>
                <a:cubicBezTo>
                  <a:pt x="220" y="129"/>
                  <a:pt x="220" y="129"/>
                  <a:pt x="220" y="129"/>
                </a:cubicBezTo>
                <a:cubicBezTo>
                  <a:pt x="238" y="187"/>
                  <a:pt x="247" y="248"/>
                  <a:pt x="247" y="310"/>
                </a:cubicBezTo>
                <a:cubicBezTo>
                  <a:pt x="247" y="357"/>
                  <a:pt x="242" y="404"/>
                  <a:pt x="231" y="449"/>
                </a:cubicBezTo>
                <a:cubicBezTo>
                  <a:pt x="231" y="452"/>
                  <a:pt x="232" y="454"/>
                  <a:pt x="232" y="454"/>
                </a:cubicBezTo>
                <a:cubicBezTo>
                  <a:pt x="232" y="454"/>
                  <a:pt x="233" y="455"/>
                  <a:pt x="236" y="455"/>
                </a:cubicBezTo>
                <a:cubicBezTo>
                  <a:pt x="238" y="455"/>
                  <a:pt x="242" y="454"/>
                  <a:pt x="248" y="452"/>
                </a:cubicBezTo>
                <a:cubicBezTo>
                  <a:pt x="251" y="451"/>
                  <a:pt x="255" y="449"/>
                  <a:pt x="258" y="448"/>
                </a:cubicBezTo>
                <a:cubicBezTo>
                  <a:pt x="266" y="446"/>
                  <a:pt x="274" y="444"/>
                  <a:pt x="282" y="444"/>
                </a:cubicBezTo>
                <a:cubicBezTo>
                  <a:pt x="291" y="444"/>
                  <a:pt x="299" y="446"/>
                  <a:pt x="307" y="448"/>
                </a:cubicBezTo>
                <a:cubicBezTo>
                  <a:pt x="348" y="462"/>
                  <a:pt x="371" y="506"/>
                  <a:pt x="357" y="548"/>
                </a:cubicBezTo>
                <a:cubicBezTo>
                  <a:pt x="347" y="581"/>
                  <a:pt x="317" y="603"/>
                  <a:pt x="282" y="603"/>
                </a:cubicBezTo>
                <a:cubicBezTo>
                  <a:pt x="282" y="603"/>
                  <a:pt x="282" y="603"/>
                  <a:pt x="282" y="603"/>
                </a:cubicBezTo>
                <a:cubicBezTo>
                  <a:pt x="274" y="603"/>
                  <a:pt x="266" y="601"/>
                  <a:pt x="258" y="599"/>
                </a:cubicBezTo>
                <a:cubicBezTo>
                  <a:pt x="242" y="594"/>
                  <a:pt x="229" y="584"/>
                  <a:pt x="219" y="571"/>
                </a:cubicBezTo>
                <a:cubicBezTo>
                  <a:pt x="216" y="567"/>
                  <a:pt x="214" y="564"/>
                  <a:pt x="212" y="561"/>
                </a:cubicBezTo>
                <a:cubicBezTo>
                  <a:pt x="206" y="552"/>
                  <a:pt x="202" y="550"/>
                  <a:pt x="201" y="550"/>
                </a:cubicBezTo>
                <a:cubicBezTo>
                  <a:pt x="201" y="550"/>
                  <a:pt x="199" y="551"/>
                  <a:pt x="197" y="554"/>
                </a:cubicBezTo>
                <a:cubicBezTo>
                  <a:pt x="154" y="655"/>
                  <a:pt x="85" y="742"/>
                  <a:pt x="0" y="806"/>
                </a:cubicBezTo>
                <a:cubicBezTo>
                  <a:pt x="81" y="917"/>
                  <a:pt x="81" y="917"/>
                  <a:pt x="81" y="917"/>
                </a:cubicBezTo>
                <a:cubicBezTo>
                  <a:pt x="86" y="924"/>
                  <a:pt x="90" y="925"/>
                  <a:pt x="91" y="925"/>
                </a:cubicBezTo>
                <a:cubicBezTo>
                  <a:pt x="91" y="925"/>
                  <a:pt x="95" y="923"/>
                  <a:pt x="99" y="912"/>
                </a:cubicBezTo>
                <a:cubicBezTo>
                  <a:pt x="99" y="908"/>
                  <a:pt x="100" y="904"/>
                  <a:pt x="101" y="900"/>
                </a:cubicBezTo>
                <a:cubicBezTo>
                  <a:pt x="107" y="885"/>
                  <a:pt x="117" y="871"/>
                  <a:pt x="130" y="861"/>
                </a:cubicBezTo>
                <a:cubicBezTo>
                  <a:pt x="144" y="852"/>
                  <a:pt x="160" y="846"/>
                  <a:pt x="176" y="846"/>
                </a:cubicBezTo>
                <a:cubicBezTo>
                  <a:pt x="202" y="846"/>
                  <a:pt x="226" y="859"/>
                  <a:pt x="240" y="879"/>
                </a:cubicBezTo>
                <a:cubicBezTo>
                  <a:pt x="253" y="896"/>
                  <a:pt x="258" y="917"/>
                  <a:pt x="255" y="938"/>
                </a:cubicBezTo>
                <a:cubicBezTo>
                  <a:pt x="251" y="959"/>
                  <a:pt x="240" y="977"/>
                  <a:pt x="223" y="989"/>
                </a:cubicBezTo>
                <a:cubicBezTo>
                  <a:pt x="210" y="999"/>
                  <a:pt x="194" y="1004"/>
                  <a:pt x="177" y="1004"/>
                </a:cubicBezTo>
                <a:cubicBezTo>
                  <a:pt x="177" y="1004"/>
                  <a:pt x="177" y="1004"/>
                  <a:pt x="177" y="1004"/>
                </a:cubicBezTo>
                <a:cubicBezTo>
                  <a:pt x="173" y="1004"/>
                  <a:pt x="169" y="1004"/>
                  <a:pt x="166" y="1004"/>
                </a:cubicBezTo>
                <a:cubicBezTo>
                  <a:pt x="165" y="1004"/>
                  <a:pt x="165" y="1004"/>
                  <a:pt x="165" y="1004"/>
                </a:cubicBezTo>
                <a:cubicBezTo>
                  <a:pt x="154" y="1004"/>
                  <a:pt x="150" y="1006"/>
                  <a:pt x="150" y="1007"/>
                </a:cubicBezTo>
                <a:cubicBezTo>
                  <a:pt x="150" y="1008"/>
                  <a:pt x="150" y="1012"/>
                  <a:pt x="155" y="1019"/>
                </a:cubicBezTo>
                <a:cubicBezTo>
                  <a:pt x="245" y="1143"/>
                  <a:pt x="245" y="1143"/>
                  <a:pt x="245" y="1143"/>
                </a:cubicBezTo>
                <a:cubicBezTo>
                  <a:pt x="499" y="954"/>
                  <a:pt x="664" y="651"/>
                  <a:pt x="664" y="310"/>
                </a:cubicBezTo>
                <a:cubicBezTo>
                  <a:pt x="664" y="202"/>
                  <a:pt x="647" y="98"/>
                  <a:pt x="617" y="0"/>
                </a:cubicBezTo>
                <a:close/>
              </a:path>
            </a:pathLst>
          </a:custGeom>
          <a:solidFill>
            <a:srgbClr val="954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5" name="Freeform 12"/>
          <p:cNvSpPr/>
          <p:nvPr/>
        </p:nvSpPr>
        <p:spPr>
          <a:xfrm flipH="1">
            <a:off x="571680" y="4748040"/>
            <a:ext cx="1868400" cy="1868760"/>
          </a:xfrm>
          <a:custGeom>
            <a:avLst/>
            <a:gdLst/>
            <a:ahLst/>
            <a:rect l="l" t="t" r="r" b="b"/>
            <a:pathLst>
              <a:path w="1029" h="1029">
                <a:moveTo>
                  <a:pt x="935" y="596"/>
                </a:moveTo>
                <a:cubicBezTo>
                  <a:pt x="382" y="43"/>
                  <a:pt x="382" y="43"/>
                  <a:pt x="382" y="43"/>
                </a:cubicBezTo>
                <a:cubicBezTo>
                  <a:pt x="351" y="12"/>
                  <a:pt x="300" y="12"/>
                  <a:pt x="269" y="43"/>
                </a:cubicBezTo>
                <a:cubicBezTo>
                  <a:pt x="212" y="99"/>
                  <a:pt x="212" y="99"/>
                  <a:pt x="212" y="99"/>
                </a:cubicBezTo>
                <a:cubicBezTo>
                  <a:pt x="113" y="0"/>
                  <a:pt x="113" y="0"/>
                  <a:pt x="113" y="0"/>
                </a:cubicBezTo>
                <a:cubicBezTo>
                  <a:pt x="78" y="41"/>
                  <a:pt x="41" y="79"/>
                  <a:pt x="0" y="114"/>
                </a:cubicBezTo>
                <a:cubicBezTo>
                  <a:pt x="99" y="213"/>
                  <a:pt x="99" y="213"/>
                  <a:pt x="99" y="213"/>
                </a:cubicBezTo>
                <a:cubicBezTo>
                  <a:pt x="43" y="269"/>
                  <a:pt x="43" y="269"/>
                  <a:pt x="43" y="269"/>
                </a:cubicBezTo>
                <a:cubicBezTo>
                  <a:pt x="11" y="300"/>
                  <a:pt x="11" y="351"/>
                  <a:pt x="43" y="382"/>
                </a:cubicBezTo>
                <a:cubicBezTo>
                  <a:pt x="596" y="935"/>
                  <a:pt x="596" y="935"/>
                  <a:pt x="596" y="935"/>
                </a:cubicBezTo>
                <a:cubicBezTo>
                  <a:pt x="690" y="1029"/>
                  <a:pt x="841" y="1029"/>
                  <a:pt x="935" y="935"/>
                </a:cubicBezTo>
                <a:cubicBezTo>
                  <a:pt x="1029" y="842"/>
                  <a:pt x="1029" y="689"/>
                  <a:pt x="935" y="596"/>
                </a:cubicBezTo>
                <a:close/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6" name="Rectangle 14"/>
          <p:cNvSpPr/>
          <p:nvPr/>
        </p:nvSpPr>
        <p:spPr>
          <a:xfrm>
            <a:off x="2980440" y="354960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Poppins"/>
              </a:rPr>
              <a:t>Problem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757" name="Group 20" descr=""/>
          <p:cNvPicPr/>
          <p:nvPr/>
        </p:nvPicPr>
        <p:blipFill>
          <a:blip r:embed="rId1"/>
          <a:stretch/>
        </p:blipFill>
        <p:spPr>
          <a:xfrm>
            <a:off x="3359160" y="2846520"/>
            <a:ext cx="706320" cy="585720"/>
          </a:xfrm>
          <a:prstGeom prst="rect">
            <a:avLst/>
          </a:prstGeom>
          <a:ln w="0">
            <a:noFill/>
          </a:ln>
        </p:spPr>
      </p:pic>
      <p:sp>
        <p:nvSpPr>
          <p:cNvPr id="758" name="TextBox 23"/>
          <p:cNvSpPr/>
          <p:nvPr/>
        </p:nvSpPr>
        <p:spPr>
          <a:xfrm>
            <a:off x="2457360" y="207180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Poppins"/>
              </a:rPr>
              <a:t>20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9" name="TextBox 24"/>
          <p:cNvSpPr/>
          <p:nvPr/>
        </p:nvSpPr>
        <p:spPr>
          <a:xfrm>
            <a:off x="1882800" y="384984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Poppins"/>
              </a:rPr>
              <a:t>20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0" name="TextBox 25"/>
          <p:cNvSpPr/>
          <p:nvPr/>
        </p:nvSpPr>
        <p:spPr>
          <a:xfrm>
            <a:off x="4443480" y="207504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Poppins"/>
              </a:rPr>
              <a:t>20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1" name="TextBox 26"/>
          <p:cNvSpPr/>
          <p:nvPr/>
        </p:nvSpPr>
        <p:spPr>
          <a:xfrm>
            <a:off x="3379680" y="495000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Poppins"/>
              </a:rPr>
              <a:t>20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2" name="TextBox 27"/>
          <p:cNvSpPr/>
          <p:nvPr/>
        </p:nvSpPr>
        <p:spPr>
          <a:xfrm>
            <a:off x="4937040" y="393048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Poppins"/>
              </a:rPr>
              <a:t>20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3" name="Oval 28"/>
          <p:cNvSpPr/>
          <p:nvPr/>
        </p:nvSpPr>
        <p:spPr>
          <a:xfrm>
            <a:off x="6097680" y="2106720"/>
            <a:ext cx="144360" cy="144360"/>
          </a:xfrm>
          <a:prstGeom prst="ellipse">
            <a:avLst/>
          </a:pr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41760" bIns="417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4" name="Oval 29"/>
          <p:cNvSpPr/>
          <p:nvPr/>
        </p:nvSpPr>
        <p:spPr>
          <a:xfrm>
            <a:off x="6097680" y="3532320"/>
            <a:ext cx="144360" cy="142920"/>
          </a:xfrm>
          <a:prstGeom prst="ellipse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40320" bIns="40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5" name="Oval 30"/>
          <p:cNvSpPr/>
          <p:nvPr/>
        </p:nvSpPr>
        <p:spPr>
          <a:xfrm>
            <a:off x="6097680" y="4941720"/>
            <a:ext cx="144360" cy="144720"/>
          </a:xfrm>
          <a:prstGeom prst="ellipse">
            <a:avLst/>
          </a:pr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6" name="TextBox 31"/>
          <p:cNvSpPr/>
          <p:nvPr/>
        </p:nvSpPr>
        <p:spPr>
          <a:xfrm>
            <a:off x="6251760" y="1916280"/>
            <a:ext cx="72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Step 1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7" name="TextBox 32"/>
          <p:cNvSpPr/>
          <p:nvPr/>
        </p:nvSpPr>
        <p:spPr>
          <a:xfrm>
            <a:off x="6246720" y="2136600"/>
            <a:ext cx="2538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Happy Design, guys!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8" name="TextBox 33"/>
          <p:cNvSpPr/>
          <p:nvPr/>
        </p:nvSpPr>
        <p:spPr>
          <a:xfrm>
            <a:off x="6252480" y="3348000"/>
            <a:ext cx="72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Step 2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9" name="TextBox 34"/>
          <p:cNvSpPr/>
          <p:nvPr/>
        </p:nvSpPr>
        <p:spPr>
          <a:xfrm>
            <a:off x="6246720" y="3568680"/>
            <a:ext cx="2538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Happy Design, guys!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0" name="TextBox 35"/>
          <p:cNvSpPr/>
          <p:nvPr/>
        </p:nvSpPr>
        <p:spPr>
          <a:xfrm>
            <a:off x="6239880" y="4780080"/>
            <a:ext cx="72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Step 3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1" name="TextBox 36"/>
          <p:cNvSpPr/>
          <p:nvPr/>
        </p:nvSpPr>
        <p:spPr>
          <a:xfrm>
            <a:off x="6246720" y="5000760"/>
            <a:ext cx="2538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Happy Design, guys!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2" name="Oval 37"/>
          <p:cNvSpPr/>
          <p:nvPr/>
        </p:nvSpPr>
        <p:spPr>
          <a:xfrm>
            <a:off x="9028080" y="2106720"/>
            <a:ext cx="142920" cy="144360"/>
          </a:xfrm>
          <a:prstGeom prst="ellipse">
            <a:avLst/>
          </a:prstGeom>
          <a:solidFill>
            <a:srgbClr val="41b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41760" bIns="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3" name="Oval 38"/>
          <p:cNvSpPr/>
          <p:nvPr/>
        </p:nvSpPr>
        <p:spPr>
          <a:xfrm>
            <a:off x="9028080" y="3532320"/>
            <a:ext cx="142920" cy="142920"/>
          </a:xfrm>
          <a:prstGeom prst="ellipse">
            <a:avLst/>
          </a:prstGeom>
          <a:solidFill>
            <a:srgbClr val="954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4" name="TextBox 39"/>
          <p:cNvSpPr/>
          <p:nvPr/>
        </p:nvSpPr>
        <p:spPr>
          <a:xfrm>
            <a:off x="9189720" y="1916280"/>
            <a:ext cx="72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Step 5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5" name="TextBox 40"/>
          <p:cNvSpPr/>
          <p:nvPr/>
        </p:nvSpPr>
        <p:spPr>
          <a:xfrm>
            <a:off x="9196560" y="2136600"/>
            <a:ext cx="2538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Happy Design, guys!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6" name="TextBox 41"/>
          <p:cNvSpPr/>
          <p:nvPr/>
        </p:nvSpPr>
        <p:spPr>
          <a:xfrm>
            <a:off x="9189720" y="3348000"/>
            <a:ext cx="72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Step 6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7" name="TextBox 42"/>
          <p:cNvSpPr/>
          <p:nvPr/>
        </p:nvSpPr>
        <p:spPr>
          <a:xfrm>
            <a:off x="9196560" y="3568680"/>
            <a:ext cx="2538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Happy Design, guys!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0" dur="indefinite" restart="never" nodeType="tmRoot">
          <p:childTnLst>
            <p:seq>
              <p:cTn id="2071" dur="indefinite" nodeType="mainSeq">
                <p:childTnLst>
                  <p:par>
                    <p:cTn id="2072" nodeType="clickEffect" fill="hold">
                      <p:stCondLst>
                        <p:cond delay="0"/>
                      </p:stCondLst>
                      <p:childTnLst>
                        <p:par>
                          <p:cTn id="2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1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78" name="Straight Arrow Connector 4101"/>
          <p:cNvCxnSpPr/>
          <p:nvPr/>
        </p:nvCxnSpPr>
        <p:spPr>
          <a:xfrm>
            <a:off x="1628280" y="4922640"/>
            <a:ext cx="1080" cy="416520"/>
          </a:xfrm>
          <a:prstGeom prst="straightConnector1">
            <a:avLst/>
          </a:prstGeom>
          <a:ln w="12600">
            <a:solidFill>
              <a:srgbClr val="954f72"/>
            </a:solidFill>
            <a:miter/>
            <a:tailEnd len="med" type="oval" w="med"/>
          </a:ln>
        </p:spPr>
      </p:cxnSp>
      <p:cxnSp>
        <p:nvCxnSpPr>
          <p:cNvPr id="779" name="Straight Arrow Connector 61"/>
          <p:cNvCxnSpPr/>
          <p:nvPr/>
        </p:nvCxnSpPr>
        <p:spPr>
          <a:xfrm>
            <a:off x="4763880" y="4922640"/>
            <a:ext cx="1080" cy="416520"/>
          </a:xfrm>
          <a:prstGeom prst="straightConnector1">
            <a:avLst/>
          </a:prstGeom>
          <a:ln w="12600">
            <a:solidFill>
              <a:srgbClr val="c0392b"/>
            </a:solidFill>
            <a:miter/>
            <a:tailEnd len="med" type="oval" w="med"/>
          </a:ln>
        </p:spPr>
      </p:cxnSp>
      <p:cxnSp>
        <p:nvCxnSpPr>
          <p:cNvPr id="780" name="Straight Arrow Connector 63"/>
          <p:cNvCxnSpPr/>
          <p:nvPr/>
        </p:nvCxnSpPr>
        <p:spPr>
          <a:xfrm>
            <a:off x="7902360" y="4946400"/>
            <a:ext cx="1080" cy="417960"/>
          </a:xfrm>
          <a:prstGeom prst="straightConnector1">
            <a:avLst/>
          </a:prstGeom>
          <a:ln w="12600">
            <a:solidFill>
              <a:srgbClr val="9bbb59"/>
            </a:solidFill>
            <a:miter/>
            <a:tailEnd len="med" type="oval" w="med"/>
          </a:ln>
        </p:spPr>
      </p:cxnSp>
      <p:grpSp>
        <p:nvGrpSpPr>
          <p:cNvPr id="781" name="Group 4"/>
          <p:cNvGrpSpPr/>
          <p:nvPr/>
        </p:nvGrpSpPr>
        <p:grpSpPr>
          <a:xfrm>
            <a:off x="8690040" y="2948040"/>
            <a:ext cx="1582560" cy="2000160"/>
            <a:chOff x="8690040" y="2948040"/>
            <a:chExt cx="1582560" cy="2000160"/>
          </a:xfrm>
        </p:grpSpPr>
        <p:sp>
          <p:nvSpPr>
            <p:cNvPr id="782" name="Rectangle 30"/>
            <p:cNvSpPr/>
            <p:nvPr/>
          </p:nvSpPr>
          <p:spPr>
            <a:xfrm>
              <a:off x="8700120" y="2948040"/>
              <a:ext cx="1572480" cy="2000160"/>
            </a:xfrm>
            <a:prstGeom prst="rect">
              <a:avLst/>
            </a:pr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grpSp>
          <p:nvGrpSpPr>
            <p:cNvPr id="783" name="Group 3"/>
            <p:cNvGrpSpPr/>
            <p:nvPr/>
          </p:nvGrpSpPr>
          <p:grpSpPr>
            <a:xfrm>
              <a:off x="8690040" y="2948040"/>
              <a:ext cx="1582560" cy="1999080"/>
              <a:chOff x="8690040" y="2948040"/>
              <a:chExt cx="1582560" cy="1999080"/>
            </a:xfrm>
          </p:grpSpPr>
          <p:sp>
            <p:nvSpPr>
              <p:cNvPr id="784" name="Rectangle 35"/>
              <p:cNvSpPr/>
              <p:nvPr/>
            </p:nvSpPr>
            <p:spPr>
              <a:xfrm>
                <a:off x="8690040" y="2948040"/>
                <a:ext cx="1582560" cy="287640"/>
              </a:xfrm>
              <a:prstGeom prst="rect">
                <a:avLst/>
              </a:prstGeom>
              <a:solidFill>
                <a:srgbClr val="3f3f3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3f3f"/>
                  </a:solidFill>
                  <a:latin typeface="Open Sans"/>
                </a:endParaRPr>
              </a:p>
            </p:txBody>
          </p:sp>
          <p:sp>
            <p:nvSpPr>
              <p:cNvPr id="785" name="Rectangle 35"/>
              <p:cNvSpPr/>
              <p:nvPr/>
            </p:nvSpPr>
            <p:spPr>
              <a:xfrm>
                <a:off x="8690040" y="4659480"/>
                <a:ext cx="1582560" cy="28764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3f3f"/>
                  </a:solidFill>
                  <a:latin typeface="Open Sans"/>
                </a:endParaRPr>
              </a:p>
            </p:txBody>
          </p:sp>
        </p:grpSp>
      </p:grpSp>
      <p:grpSp>
        <p:nvGrpSpPr>
          <p:cNvPr id="786" name="Group 5"/>
          <p:cNvGrpSpPr/>
          <p:nvPr/>
        </p:nvGrpSpPr>
        <p:grpSpPr>
          <a:xfrm>
            <a:off x="7124760" y="2948040"/>
            <a:ext cx="1814400" cy="2000160"/>
            <a:chOff x="7124760" y="2948040"/>
            <a:chExt cx="1814400" cy="2000160"/>
          </a:xfrm>
        </p:grpSpPr>
        <p:sp>
          <p:nvSpPr>
            <p:cNvPr id="787" name="Freeform 31"/>
            <p:cNvSpPr/>
            <p:nvPr/>
          </p:nvSpPr>
          <p:spPr>
            <a:xfrm>
              <a:off x="7130520" y="2948040"/>
              <a:ext cx="1808640" cy="2000160"/>
            </a:xfrm>
            <a:custGeom>
              <a:avLst/>
              <a:gdLst/>
              <a:ahLst/>
              <a:rect l="l" t="t" r="r" b="b"/>
              <a:pathLst>
                <a:path w="1008" h="1112">
                  <a:moveTo>
                    <a:pt x="87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112"/>
                    <a:pt x="0" y="1112"/>
                    <a:pt x="0" y="1112"/>
                  </a:cubicBezTo>
                  <a:cubicBezTo>
                    <a:pt x="876" y="1112"/>
                    <a:pt x="876" y="1112"/>
                    <a:pt x="876" y="1112"/>
                  </a:cubicBezTo>
                  <a:cubicBezTo>
                    <a:pt x="876" y="611"/>
                    <a:pt x="876" y="611"/>
                    <a:pt x="876" y="611"/>
                  </a:cubicBezTo>
                  <a:cubicBezTo>
                    <a:pt x="876" y="593"/>
                    <a:pt x="885" y="580"/>
                    <a:pt x="909" y="597"/>
                  </a:cubicBezTo>
                  <a:cubicBezTo>
                    <a:pt x="911" y="599"/>
                    <a:pt x="913" y="601"/>
                    <a:pt x="916" y="603"/>
                  </a:cubicBezTo>
                  <a:cubicBezTo>
                    <a:pt x="916" y="603"/>
                    <a:pt x="916" y="603"/>
                    <a:pt x="916" y="603"/>
                  </a:cubicBezTo>
                  <a:cubicBezTo>
                    <a:pt x="925" y="610"/>
                    <a:pt x="937" y="614"/>
                    <a:pt x="950" y="614"/>
                  </a:cubicBezTo>
                  <a:cubicBezTo>
                    <a:pt x="982" y="614"/>
                    <a:pt x="1008" y="588"/>
                    <a:pt x="1008" y="556"/>
                  </a:cubicBezTo>
                  <a:cubicBezTo>
                    <a:pt x="1008" y="523"/>
                    <a:pt x="982" y="497"/>
                    <a:pt x="950" y="497"/>
                  </a:cubicBezTo>
                  <a:cubicBezTo>
                    <a:pt x="937" y="497"/>
                    <a:pt x="925" y="501"/>
                    <a:pt x="916" y="508"/>
                  </a:cubicBezTo>
                  <a:cubicBezTo>
                    <a:pt x="916" y="508"/>
                    <a:pt x="916" y="508"/>
                    <a:pt x="916" y="508"/>
                  </a:cubicBezTo>
                  <a:cubicBezTo>
                    <a:pt x="913" y="510"/>
                    <a:pt x="911" y="512"/>
                    <a:pt x="909" y="514"/>
                  </a:cubicBezTo>
                  <a:cubicBezTo>
                    <a:pt x="885" y="532"/>
                    <a:pt x="876" y="518"/>
                    <a:pt x="876" y="500"/>
                  </a:cubicBezTo>
                  <a:lnTo>
                    <a:pt x="876" y="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grpSp>
          <p:nvGrpSpPr>
            <p:cNvPr id="788" name="Group 41"/>
            <p:cNvGrpSpPr/>
            <p:nvPr/>
          </p:nvGrpSpPr>
          <p:grpSpPr>
            <a:xfrm>
              <a:off x="7124760" y="2948400"/>
              <a:ext cx="1582560" cy="1999080"/>
              <a:chOff x="7124760" y="2948400"/>
              <a:chExt cx="1582560" cy="1999080"/>
            </a:xfrm>
          </p:grpSpPr>
          <p:sp>
            <p:nvSpPr>
              <p:cNvPr id="789" name="Rectangle 35"/>
              <p:cNvSpPr/>
              <p:nvPr/>
            </p:nvSpPr>
            <p:spPr>
              <a:xfrm>
                <a:off x="7124760" y="2948400"/>
                <a:ext cx="1582560" cy="287640"/>
              </a:xfrm>
              <a:prstGeom prst="rect">
                <a:avLst/>
              </a:prstGeom>
              <a:solidFill>
                <a:srgbClr val="3f3f3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3f3f"/>
                  </a:solidFill>
                  <a:latin typeface="Open Sans"/>
                </a:endParaRPr>
              </a:p>
            </p:txBody>
          </p:sp>
          <p:sp>
            <p:nvSpPr>
              <p:cNvPr id="790" name="Rectangle 35"/>
              <p:cNvSpPr/>
              <p:nvPr/>
            </p:nvSpPr>
            <p:spPr>
              <a:xfrm>
                <a:off x="7124760" y="4659840"/>
                <a:ext cx="1582560" cy="28764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3f3f"/>
                  </a:solidFill>
                  <a:latin typeface="Open Sans"/>
                </a:endParaRPr>
              </a:p>
            </p:txBody>
          </p:sp>
        </p:grpSp>
      </p:grpSp>
      <p:grpSp>
        <p:nvGrpSpPr>
          <p:cNvPr id="791" name="Group 6"/>
          <p:cNvGrpSpPr/>
          <p:nvPr/>
        </p:nvGrpSpPr>
        <p:grpSpPr>
          <a:xfrm>
            <a:off x="5543640" y="2948040"/>
            <a:ext cx="1822320" cy="2001960"/>
            <a:chOff x="5543640" y="2948040"/>
            <a:chExt cx="1822320" cy="2001960"/>
          </a:xfrm>
        </p:grpSpPr>
        <p:sp>
          <p:nvSpPr>
            <p:cNvPr id="792" name="Freeform 32"/>
            <p:cNvSpPr/>
            <p:nvPr/>
          </p:nvSpPr>
          <p:spPr>
            <a:xfrm>
              <a:off x="5557680" y="2949480"/>
              <a:ext cx="1808280" cy="2000520"/>
            </a:xfrm>
            <a:custGeom>
              <a:avLst/>
              <a:gdLst/>
              <a:ahLst/>
              <a:rect l="l" t="t" r="r" b="b"/>
              <a:pathLst>
                <a:path w="1008" h="1112">
                  <a:moveTo>
                    <a:pt x="876" y="500"/>
                  </a:moveTo>
                  <a:cubicBezTo>
                    <a:pt x="876" y="0"/>
                    <a:pt x="876" y="0"/>
                    <a:pt x="87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12"/>
                    <a:pt x="0" y="1112"/>
                    <a:pt x="0" y="1112"/>
                  </a:cubicBezTo>
                  <a:cubicBezTo>
                    <a:pt x="876" y="1112"/>
                    <a:pt x="876" y="1112"/>
                    <a:pt x="876" y="1112"/>
                  </a:cubicBezTo>
                  <a:cubicBezTo>
                    <a:pt x="876" y="611"/>
                    <a:pt x="876" y="611"/>
                    <a:pt x="876" y="611"/>
                  </a:cubicBezTo>
                  <a:cubicBezTo>
                    <a:pt x="876" y="593"/>
                    <a:pt x="885" y="580"/>
                    <a:pt x="908" y="597"/>
                  </a:cubicBezTo>
                  <a:cubicBezTo>
                    <a:pt x="911" y="599"/>
                    <a:pt x="913" y="601"/>
                    <a:pt x="915" y="603"/>
                  </a:cubicBezTo>
                  <a:cubicBezTo>
                    <a:pt x="915" y="603"/>
                    <a:pt x="915" y="603"/>
                    <a:pt x="915" y="603"/>
                  </a:cubicBezTo>
                  <a:cubicBezTo>
                    <a:pt x="925" y="610"/>
                    <a:pt x="937" y="614"/>
                    <a:pt x="949" y="614"/>
                  </a:cubicBezTo>
                  <a:cubicBezTo>
                    <a:pt x="982" y="614"/>
                    <a:pt x="1008" y="588"/>
                    <a:pt x="1008" y="556"/>
                  </a:cubicBezTo>
                  <a:cubicBezTo>
                    <a:pt x="1008" y="523"/>
                    <a:pt x="982" y="497"/>
                    <a:pt x="949" y="497"/>
                  </a:cubicBezTo>
                  <a:cubicBezTo>
                    <a:pt x="937" y="497"/>
                    <a:pt x="925" y="501"/>
                    <a:pt x="915" y="508"/>
                  </a:cubicBezTo>
                  <a:cubicBezTo>
                    <a:pt x="915" y="508"/>
                    <a:pt x="915" y="508"/>
                    <a:pt x="915" y="508"/>
                  </a:cubicBezTo>
                  <a:cubicBezTo>
                    <a:pt x="913" y="510"/>
                    <a:pt x="911" y="512"/>
                    <a:pt x="908" y="514"/>
                  </a:cubicBezTo>
                  <a:cubicBezTo>
                    <a:pt x="885" y="532"/>
                    <a:pt x="876" y="518"/>
                    <a:pt x="876" y="500"/>
                  </a:cubicBezTo>
                  <a:close/>
                </a:path>
              </a:pathLst>
            </a:cu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grpSp>
          <p:nvGrpSpPr>
            <p:cNvPr id="793" name="Group 47"/>
            <p:cNvGrpSpPr/>
            <p:nvPr/>
          </p:nvGrpSpPr>
          <p:grpSpPr>
            <a:xfrm>
              <a:off x="5543640" y="2948040"/>
              <a:ext cx="1582560" cy="1999800"/>
              <a:chOff x="5543640" y="2948040"/>
              <a:chExt cx="1582560" cy="1999800"/>
            </a:xfrm>
          </p:grpSpPr>
          <p:sp>
            <p:nvSpPr>
              <p:cNvPr id="794" name="Rectangle 35"/>
              <p:cNvSpPr/>
              <p:nvPr/>
            </p:nvSpPr>
            <p:spPr>
              <a:xfrm>
                <a:off x="5543640" y="2948040"/>
                <a:ext cx="1582560" cy="287640"/>
              </a:xfrm>
              <a:prstGeom prst="rect">
                <a:avLst/>
              </a:prstGeom>
              <a:solidFill>
                <a:srgbClr val="3f3f3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3f3f"/>
                  </a:solidFill>
                  <a:latin typeface="Open Sans"/>
                </a:endParaRPr>
              </a:p>
            </p:txBody>
          </p:sp>
          <p:sp>
            <p:nvSpPr>
              <p:cNvPr id="795" name="Rectangle 35"/>
              <p:cNvSpPr/>
              <p:nvPr/>
            </p:nvSpPr>
            <p:spPr>
              <a:xfrm>
                <a:off x="5543640" y="4660200"/>
                <a:ext cx="1582560" cy="28764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3f3f"/>
                  </a:solidFill>
                  <a:latin typeface="Open Sans"/>
                </a:endParaRPr>
              </a:p>
            </p:txBody>
          </p:sp>
        </p:grpSp>
      </p:grpSp>
      <p:grpSp>
        <p:nvGrpSpPr>
          <p:cNvPr id="796" name="Group 7"/>
          <p:cNvGrpSpPr/>
          <p:nvPr/>
        </p:nvGrpSpPr>
        <p:grpSpPr>
          <a:xfrm>
            <a:off x="3973680" y="2948040"/>
            <a:ext cx="1819080" cy="2000160"/>
            <a:chOff x="3973680" y="2948040"/>
            <a:chExt cx="1819080" cy="2000160"/>
          </a:xfrm>
        </p:grpSpPr>
        <p:sp>
          <p:nvSpPr>
            <p:cNvPr id="797" name="Freeform 33"/>
            <p:cNvSpPr/>
            <p:nvPr/>
          </p:nvSpPr>
          <p:spPr>
            <a:xfrm>
              <a:off x="3984480" y="2948040"/>
              <a:ext cx="1808280" cy="2000160"/>
            </a:xfrm>
            <a:custGeom>
              <a:avLst/>
              <a:gdLst/>
              <a:ahLst/>
              <a:rect l="l" t="t" r="r" b="b"/>
              <a:pathLst>
                <a:path w="1008" h="1112">
                  <a:moveTo>
                    <a:pt x="877" y="500"/>
                  </a:moveTo>
                  <a:cubicBezTo>
                    <a:pt x="877" y="0"/>
                    <a:pt x="877" y="0"/>
                    <a:pt x="87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12"/>
                    <a:pt x="0" y="1112"/>
                    <a:pt x="0" y="1112"/>
                  </a:cubicBezTo>
                  <a:cubicBezTo>
                    <a:pt x="877" y="1112"/>
                    <a:pt x="877" y="1112"/>
                    <a:pt x="877" y="1112"/>
                  </a:cubicBezTo>
                  <a:cubicBezTo>
                    <a:pt x="877" y="611"/>
                    <a:pt x="877" y="611"/>
                    <a:pt x="877" y="611"/>
                  </a:cubicBezTo>
                  <a:cubicBezTo>
                    <a:pt x="877" y="593"/>
                    <a:pt x="886" y="580"/>
                    <a:pt x="909" y="597"/>
                  </a:cubicBezTo>
                  <a:cubicBezTo>
                    <a:pt x="911" y="599"/>
                    <a:pt x="914" y="601"/>
                    <a:pt x="916" y="603"/>
                  </a:cubicBezTo>
                  <a:cubicBezTo>
                    <a:pt x="916" y="603"/>
                    <a:pt x="916" y="603"/>
                    <a:pt x="916" y="603"/>
                  </a:cubicBezTo>
                  <a:cubicBezTo>
                    <a:pt x="926" y="610"/>
                    <a:pt x="937" y="614"/>
                    <a:pt x="950" y="614"/>
                  </a:cubicBezTo>
                  <a:cubicBezTo>
                    <a:pt x="982" y="614"/>
                    <a:pt x="1008" y="588"/>
                    <a:pt x="1008" y="556"/>
                  </a:cubicBezTo>
                  <a:cubicBezTo>
                    <a:pt x="1008" y="523"/>
                    <a:pt x="982" y="497"/>
                    <a:pt x="950" y="497"/>
                  </a:cubicBezTo>
                  <a:cubicBezTo>
                    <a:pt x="937" y="497"/>
                    <a:pt x="926" y="501"/>
                    <a:pt x="916" y="508"/>
                  </a:cubicBezTo>
                  <a:cubicBezTo>
                    <a:pt x="916" y="508"/>
                    <a:pt x="916" y="508"/>
                    <a:pt x="916" y="508"/>
                  </a:cubicBezTo>
                  <a:cubicBezTo>
                    <a:pt x="914" y="510"/>
                    <a:pt x="911" y="512"/>
                    <a:pt x="909" y="514"/>
                  </a:cubicBezTo>
                  <a:cubicBezTo>
                    <a:pt x="886" y="532"/>
                    <a:pt x="877" y="518"/>
                    <a:pt x="877" y="500"/>
                  </a:cubicBezTo>
                  <a:close/>
                </a:path>
              </a:pathLst>
            </a:cu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grpSp>
          <p:nvGrpSpPr>
            <p:cNvPr id="798" name="Group 59"/>
            <p:cNvGrpSpPr/>
            <p:nvPr/>
          </p:nvGrpSpPr>
          <p:grpSpPr>
            <a:xfrm>
              <a:off x="3973680" y="2948400"/>
              <a:ext cx="1582560" cy="1999080"/>
              <a:chOff x="3973680" y="2948400"/>
              <a:chExt cx="1582560" cy="1999080"/>
            </a:xfrm>
          </p:grpSpPr>
          <p:sp>
            <p:nvSpPr>
              <p:cNvPr id="799" name="Rectangle 35"/>
              <p:cNvSpPr/>
              <p:nvPr/>
            </p:nvSpPr>
            <p:spPr>
              <a:xfrm>
                <a:off x="3973680" y="2948400"/>
                <a:ext cx="1582560" cy="287640"/>
              </a:xfrm>
              <a:prstGeom prst="rect">
                <a:avLst/>
              </a:prstGeom>
              <a:solidFill>
                <a:srgbClr val="3f3f3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3f3f"/>
                  </a:solidFill>
                  <a:latin typeface="Open Sans"/>
                </a:endParaRPr>
              </a:p>
            </p:txBody>
          </p:sp>
          <p:sp>
            <p:nvSpPr>
              <p:cNvPr id="800" name="Rectangle 35"/>
              <p:cNvSpPr/>
              <p:nvPr/>
            </p:nvSpPr>
            <p:spPr>
              <a:xfrm>
                <a:off x="3973680" y="4659840"/>
                <a:ext cx="1582560" cy="28764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3f3f"/>
                  </a:solidFill>
                  <a:latin typeface="Open Sans"/>
                </a:endParaRPr>
              </a:p>
            </p:txBody>
          </p:sp>
        </p:grpSp>
      </p:grpSp>
      <p:grpSp>
        <p:nvGrpSpPr>
          <p:cNvPr id="801" name="Group 8"/>
          <p:cNvGrpSpPr/>
          <p:nvPr/>
        </p:nvGrpSpPr>
        <p:grpSpPr>
          <a:xfrm>
            <a:off x="2400480" y="2948040"/>
            <a:ext cx="1812600" cy="2000160"/>
            <a:chOff x="2400480" y="2948040"/>
            <a:chExt cx="1812600" cy="2000160"/>
          </a:xfrm>
        </p:grpSpPr>
        <p:sp>
          <p:nvSpPr>
            <p:cNvPr id="802" name="Freeform 34"/>
            <p:cNvSpPr/>
            <p:nvPr/>
          </p:nvSpPr>
          <p:spPr>
            <a:xfrm>
              <a:off x="2403360" y="2948040"/>
              <a:ext cx="1809720" cy="2000160"/>
            </a:xfrm>
            <a:custGeom>
              <a:avLst/>
              <a:gdLst/>
              <a:ahLst/>
              <a:rect l="l" t="t" r="r" b="b"/>
              <a:pathLst>
                <a:path w="1008" h="1112">
                  <a:moveTo>
                    <a:pt x="877" y="500"/>
                  </a:moveTo>
                  <a:cubicBezTo>
                    <a:pt x="877" y="0"/>
                    <a:pt x="877" y="0"/>
                    <a:pt x="87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12"/>
                    <a:pt x="0" y="1112"/>
                    <a:pt x="0" y="1112"/>
                  </a:cubicBezTo>
                  <a:cubicBezTo>
                    <a:pt x="877" y="1112"/>
                    <a:pt x="877" y="1112"/>
                    <a:pt x="877" y="1112"/>
                  </a:cubicBezTo>
                  <a:cubicBezTo>
                    <a:pt x="877" y="611"/>
                    <a:pt x="877" y="611"/>
                    <a:pt x="877" y="611"/>
                  </a:cubicBezTo>
                  <a:cubicBezTo>
                    <a:pt x="877" y="593"/>
                    <a:pt x="886" y="580"/>
                    <a:pt x="909" y="597"/>
                  </a:cubicBezTo>
                  <a:cubicBezTo>
                    <a:pt x="911" y="599"/>
                    <a:pt x="914" y="601"/>
                    <a:pt x="916" y="603"/>
                  </a:cubicBezTo>
                  <a:cubicBezTo>
                    <a:pt x="916" y="603"/>
                    <a:pt x="916" y="603"/>
                    <a:pt x="916" y="603"/>
                  </a:cubicBezTo>
                  <a:cubicBezTo>
                    <a:pt x="926" y="610"/>
                    <a:pt x="937" y="614"/>
                    <a:pt x="950" y="614"/>
                  </a:cubicBezTo>
                  <a:cubicBezTo>
                    <a:pt x="982" y="614"/>
                    <a:pt x="1008" y="588"/>
                    <a:pt x="1008" y="556"/>
                  </a:cubicBezTo>
                  <a:cubicBezTo>
                    <a:pt x="1008" y="523"/>
                    <a:pt x="982" y="497"/>
                    <a:pt x="950" y="497"/>
                  </a:cubicBezTo>
                  <a:cubicBezTo>
                    <a:pt x="937" y="497"/>
                    <a:pt x="926" y="501"/>
                    <a:pt x="916" y="508"/>
                  </a:cubicBezTo>
                  <a:cubicBezTo>
                    <a:pt x="916" y="508"/>
                    <a:pt x="916" y="508"/>
                    <a:pt x="916" y="508"/>
                  </a:cubicBezTo>
                  <a:cubicBezTo>
                    <a:pt x="914" y="510"/>
                    <a:pt x="911" y="512"/>
                    <a:pt x="909" y="514"/>
                  </a:cubicBezTo>
                  <a:cubicBezTo>
                    <a:pt x="886" y="532"/>
                    <a:pt x="877" y="518"/>
                    <a:pt x="877" y="500"/>
                  </a:cubicBezTo>
                  <a:close/>
                </a:path>
              </a:pathLst>
            </a:custGeom>
            <a:solidFill>
              <a:srgbClr val="41b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grpSp>
          <p:nvGrpSpPr>
            <p:cNvPr id="803" name="Group 72"/>
            <p:cNvGrpSpPr/>
            <p:nvPr/>
          </p:nvGrpSpPr>
          <p:grpSpPr>
            <a:xfrm>
              <a:off x="2400480" y="2948400"/>
              <a:ext cx="1582920" cy="1999080"/>
              <a:chOff x="2400480" y="2948400"/>
              <a:chExt cx="1582920" cy="1999080"/>
            </a:xfrm>
          </p:grpSpPr>
          <p:sp>
            <p:nvSpPr>
              <p:cNvPr id="804" name="Rectangle 35"/>
              <p:cNvSpPr/>
              <p:nvPr/>
            </p:nvSpPr>
            <p:spPr>
              <a:xfrm>
                <a:off x="2400480" y="2948400"/>
                <a:ext cx="1582920" cy="287640"/>
              </a:xfrm>
              <a:prstGeom prst="rect">
                <a:avLst/>
              </a:prstGeom>
              <a:solidFill>
                <a:srgbClr val="3f3f3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3f3f"/>
                  </a:solidFill>
                  <a:latin typeface="Open Sans"/>
                </a:endParaRPr>
              </a:p>
            </p:txBody>
          </p:sp>
          <p:sp>
            <p:nvSpPr>
              <p:cNvPr id="805" name="Rectangle 35"/>
              <p:cNvSpPr/>
              <p:nvPr/>
            </p:nvSpPr>
            <p:spPr>
              <a:xfrm>
                <a:off x="2400480" y="4659840"/>
                <a:ext cx="1582920" cy="28764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3f3f"/>
                  </a:solidFill>
                  <a:latin typeface="Open Sans"/>
                </a:endParaRPr>
              </a:p>
            </p:txBody>
          </p:sp>
        </p:grpSp>
      </p:grpSp>
      <p:grpSp>
        <p:nvGrpSpPr>
          <p:cNvPr id="806" name="Group 9"/>
          <p:cNvGrpSpPr/>
          <p:nvPr/>
        </p:nvGrpSpPr>
        <p:grpSpPr>
          <a:xfrm>
            <a:off x="830160" y="2948040"/>
            <a:ext cx="1816200" cy="2000160"/>
            <a:chOff x="830160" y="2948040"/>
            <a:chExt cx="1816200" cy="2000160"/>
          </a:xfrm>
        </p:grpSpPr>
        <p:sp>
          <p:nvSpPr>
            <p:cNvPr id="807" name="Freeform 34"/>
            <p:cNvSpPr/>
            <p:nvPr/>
          </p:nvSpPr>
          <p:spPr>
            <a:xfrm>
              <a:off x="838080" y="2948040"/>
              <a:ext cx="1808280" cy="2000160"/>
            </a:xfrm>
            <a:custGeom>
              <a:avLst/>
              <a:gdLst/>
              <a:ahLst/>
              <a:rect l="l" t="t" r="r" b="b"/>
              <a:pathLst>
                <a:path w="1008" h="1112">
                  <a:moveTo>
                    <a:pt x="877" y="500"/>
                  </a:moveTo>
                  <a:cubicBezTo>
                    <a:pt x="877" y="0"/>
                    <a:pt x="877" y="0"/>
                    <a:pt x="87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12"/>
                    <a:pt x="0" y="1112"/>
                    <a:pt x="0" y="1112"/>
                  </a:cubicBezTo>
                  <a:cubicBezTo>
                    <a:pt x="877" y="1112"/>
                    <a:pt x="877" y="1112"/>
                    <a:pt x="877" y="1112"/>
                  </a:cubicBezTo>
                  <a:cubicBezTo>
                    <a:pt x="877" y="611"/>
                    <a:pt x="877" y="611"/>
                    <a:pt x="877" y="611"/>
                  </a:cubicBezTo>
                  <a:cubicBezTo>
                    <a:pt x="877" y="593"/>
                    <a:pt x="886" y="580"/>
                    <a:pt x="909" y="597"/>
                  </a:cubicBezTo>
                  <a:cubicBezTo>
                    <a:pt x="911" y="599"/>
                    <a:pt x="914" y="601"/>
                    <a:pt x="916" y="603"/>
                  </a:cubicBezTo>
                  <a:cubicBezTo>
                    <a:pt x="916" y="603"/>
                    <a:pt x="916" y="603"/>
                    <a:pt x="916" y="603"/>
                  </a:cubicBezTo>
                  <a:cubicBezTo>
                    <a:pt x="926" y="610"/>
                    <a:pt x="937" y="614"/>
                    <a:pt x="950" y="614"/>
                  </a:cubicBezTo>
                  <a:cubicBezTo>
                    <a:pt x="982" y="614"/>
                    <a:pt x="1008" y="588"/>
                    <a:pt x="1008" y="556"/>
                  </a:cubicBezTo>
                  <a:cubicBezTo>
                    <a:pt x="1008" y="523"/>
                    <a:pt x="982" y="497"/>
                    <a:pt x="950" y="497"/>
                  </a:cubicBezTo>
                  <a:cubicBezTo>
                    <a:pt x="937" y="497"/>
                    <a:pt x="926" y="501"/>
                    <a:pt x="916" y="508"/>
                  </a:cubicBezTo>
                  <a:cubicBezTo>
                    <a:pt x="916" y="508"/>
                    <a:pt x="916" y="508"/>
                    <a:pt x="916" y="508"/>
                  </a:cubicBezTo>
                  <a:cubicBezTo>
                    <a:pt x="914" y="510"/>
                    <a:pt x="911" y="512"/>
                    <a:pt x="909" y="514"/>
                  </a:cubicBezTo>
                  <a:cubicBezTo>
                    <a:pt x="886" y="532"/>
                    <a:pt x="877" y="518"/>
                    <a:pt x="877" y="500"/>
                  </a:cubicBezTo>
                  <a:close/>
                </a:path>
              </a:pathLst>
            </a:custGeom>
            <a:solidFill>
              <a:srgbClr val="954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grpSp>
          <p:nvGrpSpPr>
            <p:cNvPr id="808" name="Group 76"/>
            <p:cNvGrpSpPr/>
            <p:nvPr/>
          </p:nvGrpSpPr>
          <p:grpSpPr>
            <a:xfrm>
              <a:off x="830160" y="2948400"/>
              <a:ext cx="1582920" cy="1999080"/>
              <a:chOff x="830160" y="2948400"/>
              <a:chExt cx="1582920" cy="1999080"/>
            </a:xfrm>
          </p:grpSpPr>
          <p:sp>
            <p:nvSpPr>
              <p:cNvPr id="809" name="Rectangle 35"/>
              <p:cNvSpPr/>
              <p:nvPr/>
            </p:nvSpPr>
            <p:spPr>
              <a:xfrm>
                <a:off x="830160" y="2948400"/>
                <a:ext cx="1582920" cy="287640"/>
              </a:xfrm>
              <a:prstGeom prst="rect">
                <a:avLst/>
              </a:prstGeom>
              <a:solidFill>
                <a:srgbClr val="3f3f3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3f3f"/>
                  </a:solidFill>
                  <a:latin typeface="Open Sans"/>
                </a:endParaRPr>
              </a:p>
            </p:txBody>
          </p:sp>
          <p:sp>
            <p:nvSpPr>
              <p:cNvPr id="810" name="Rectangle 35"/>
              <p:cNvSpPr/>
              <p:nvPr/>
            </p:nvSpPr>
            <p:spPr>
              <a:xfrm>
                <a:off x="830160" y="4659840"/>
                <a:ext cx="1582920" cy="28764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3f3f"/>
                  </a:solidFill>
                  <a:latin typeface="Open Sans"/>
                </a:endParaRPr>
              </a:p>
            </p:txBody>
          </p:sp>
        </p:grpSp>
      </p:grp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Poppins"/>
              </a:rPr>
              <a:t>PENCIL PUZZLE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812" name="Group 2"/>
          <p:cNvGrpSpPr/>
          <p:nvPr/>
        </p:nvGrpSpPr>
        <p:grpSpPr>
          <a:xfrm>
            <a:off x="10272600" y="2948040"/>
            <a:ext cx="1081080" cy="2000160"/>
            <a:chOff x="10272600" y="2948040"/>
            <a:chExt cx="1081080" cy="2000160"/>
          </a:xfrm>
        </p:grpSpPr>
        <p:sp>
          <p:nvSpPr>
            <p:cNvPr id="813" name="Freeform 26"/>
            <p:cNvSpPr/>
            <p:nvPr/>
          </p:nvSpPr>
          <p:spPr>
            <a:xfrm>
              <a:off x="10272600" y="3947400"/>
              <a:ext cx="1081080" cy="1000800"/>
            </a:xfrm>
            <a:custGeom>
              <a:avLst/>
              <a:gdLst/>
              <a:ahLst/>
              <a:rect l="l" t="t" r="r" b="b"/>
              <a:pathLst>
                <a:path w="800" h="741">
                  <a:moveTo>
                    <a:pt x="0" y="741"/>
                  </a:moveTo>
                  <a:lnTo>
                    <a:pt x="800" y="0"/>
                  </a:lnTo>
                  <a:lnTo>
                    <a:pt x="0" y="0"/>
                  </a:lnTo>
                  <a:lnTo>
                    <a:pt x="0" y="741"/>
                  </a:lnTo>
                  <a:close/>
                </a:path>
              </a:pathLst>
            </a:custGeom>
            <a:solidFill>
              <a:srgbClr val="f5b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814" name="Freeform 27"/>
            <p:cNvSpPr/>
            <p:nvPr/>
          </p:nvSpPr>
          <p:spPr>
            <a:xfrm>
              <a:off x="10272600" y="2948040"/>
              <a:ext cx="1081080" cy="999360"/>
            </a:xfrm>
            <a:custGeom>
              <a:avLst/>
              <a:gdLst/>
              <a:ahLst/>
              <a:rect l="l" t="t" r="r" b="b"/>
              <a:pathLst>
                <a:path w="800" h="740">
                  <a:moveTo>
                    <a:pt x="0" y="740"/>
                  </a:moveTo>
                  <a:lnTo>
                    <a:pt x="800" y="740"/>
                  </a:lnTo>
                  <a:lnTo>
                    <a:pt x="0" y="0"/>
                  </a:lnTo>
                  <a:lnTo>
                    <a:pt x="0" y="740"/>
                  </a:lnTo>
                  <a:close/>
                </a:path>
              </a:pathLst>
            </a:custGeom>
            <a:solidFill>
              <a:srgbClr val="f29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815" name="Freeform 28"/>
            <p:cNvSpPr/>
            <p:nvPr/>
          </p:nvSpPr>
          <p:spPr>
            <a:xfrm>
              <a:off x="11052360" y="3667680"/>
              <a:ext cx="301320" cy="279360"/>
            </a:xfrm>
            <a:custGeom>
              <a:avLst/>
              <a:gdLst/>
              <a:ahLst/>
              <a:rect l="l" t="t" r="r" b="b"/>
              <a:pathLst>
                <a:path w="223" h="207">
                  <a:moveTo>
                    <a:pt x="223" y="207"/>
                  </a:moveTo>
                  <a:lnTo>
                    <a:pt x="0" y="0"/>
                  </a:lnTo>
                  <a:lnTo>
                    <a:pt x="0" y="207"/>
                  </a:lnTo>
                  <a:lnTo>
                    <a:pt x="223" y="207"/>
                  </a:lnTo>
                  <a:close/>
                </a:path>
              </a:pathLst>
            </a:custGeom>
            <a:solidFill>
              <a:srgbClr val="2121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816" name="Freeform 29"/>
            <p:cNvSpPr/>
            <p:nvPr/>
          </p:nvSpPr>
          <p:spPr>
            <a:xfrm>
              <a:off x="11052360" y="3947400"/>
              <a:ext cx="301320" cy="279360"/>
            </a:xfrm>
            <a:custGeom>
              <a:avLst/>
              <a:gdLst/>
              <a:ahLst/>
              <a:rect l="l" t="t" r="r" b="b"/>
              <a:pathLst>
                <a:path w="223" h="207">
                  <a:moveTo>
                    <a:pt x="223" y="0"/>
                  </a:moveTo>
                  <a:lnTo>
                    <a:pt x="0" y="207"/>
                  </a:lnTo>
                  <a:lnTo>
                    <a:pt x="0" y="0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45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817" name="Title 1"/>
          <p:cNvSpPr/>
          <p:nvPr/>
        </p:nvSpPr>
        <p:spPr>
          <a:xfrm>
            <a:off x="3981600" y="424188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8" name="Title 1"/>
          <p:cNvSpPr/>
          <p:nvPr/>
        </p:nvSpPr>
        <p:spPr>
          <a:xfrm>
            <a:off x="2413080" y="4241880"/>
            <a:ext cx="15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9" name="Title 1"/>
          <p:cNvSpPr/>
          <p:nvPr/>
        </p:nvSpPr>
        <p:spPr>
          <a:xfrm>
            <a:off x="8682120" y="424188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0" name="Title 1"/>
          <p:cNvSpPr/>
          <p:nvPr/>
        </p:nvSpPr>
        <p:spPr>
          <a:xfrm>
            <a:off x="7120080" y="424188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1" name="Title 1"/>
          <p:cNvSpPr/>
          <p:nvPr/>
        </p:nvSpPr>
        <p:spPr>
          <a:xfrm>
            <a:off x="5537160" y="4241880"/>
            <a:ext cx="15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2" name="Rectangle 52"/>
          <p:cNvSpPr/>
          <p:nvPr/>
        </p:nvSpPr>
        <p:spPr>
          <a:xfrm>
            <a:off x="404640" y="5338800"/>
            <a:ext cx="2448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3" name="Rectangle 53"/>
          <p:cNvSpPr/>
          <p:nvPr/>
        </p:nvSpPr>
        <p:spPr>
          <a:xfrm>
            <a:off x="1971720" y="1547640"/>
            <a:ext cx="2448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4" name="Rectangle 54"/>
          <p:cNvSpPr/>
          <p:nvPr/>
        </p:nvSpPr>
        <p:spPr>
          <a:xfrm>
            <a:off x="3541680" y="5338800"/>
            <a:ext cx="2446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5" name="Rectangle 55"/>
          <p:cNvSpPr/>
          <p:nvPr/>
        </p:nvSpPr>
        <p:spPr>
          <a:xfrm>
            <a:off x="5132520" y="1547640"/>
            <a:ext cx="2446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6" name="Rectangle 56"/>
          <p:cNvSpPr/>
          <p:nvPr/>
        </p:nvSpPr>
        <p:spPr>
          <a:xfrm>
            <a:off x="6680160" y="5338800"/>
            <a:ext cx="2446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7" name="Rectangle 57"/>
          <p:cNvSpPr/>
          <p:nvPr/>
        </p:nvSpPr>
        <p:spPr>
          <a:xfrm>
            <a:off x="8240760" y="1547640"/>
            <a:ext cx="2448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8" name="Title 1"/>
          <p:cNvSpPr/>
          <p:nvPr/>
        </p:nvSpPr>
        <p:spPr>
          <a:xfrm>
            <a:off x="844560" y="424188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cxnSp>
        <p:nvCxnSpPr>
          <p:cNvPr id="829" name="Straight Arrow Connector 60"/>
          <p:cNvCxnSpPr/>
          <p:nvPr/>
        </p:nvCxnSpPr>
        <p:spPr>
          <a:xfrm flipH="1" flipV="1">
            <a:off x="3195000" y="2531520"/>
            <a:ext cx="1080" cy="416520"/>
          </a:xfrm>
          <a:prstGeom prst="straightConnector1">
            <a:avLst/>
          </a:prstGeom>
          <a:ln w="12600">
            <a:solidFill>
              <a:srgbClr val="41b176"/>
            </a:solidFill>
            <a:miter/>
            <a:tailEnd len="med" type="oval" w="med"/>
          </a:ln>
        </p:spPr>
      </p:cxnSp>
      <p:cxnSp>
        <p:nvCxnSpPr>
          <p:cNvPr id="830" name="Straight Arrow Connector 62"/>
          <p:cNvCxnSpPr/>
          <p:nvPr/>
        </p:nvCxnSpPr>
        <p:spPr>
          <a:xfrm flipH="1" flipV="1">
            <a:off x="6354000" y="2531520"/>
            <a:ext cx="1080" cy="416520"/>
          </a:xfrm>
          <a:prstGeom prst="straightConnector1">
            <a:avLst/>
          </a:prstGeom>
          <a:ln w="12600">
            <a:solidFill>
              <a:srgbClr val="f39c12"/>
            </a:solidFill>
            <a:miter/>
            <a:tailEnd len="med" type="oval" w="med"/>
          </a:ln>
        </p:spPr>
      </p:cxnSp>
      <p:cxnSp>
        <p:nvCxnSpPr>
          <p:cNvPr id="831" name="Straight Arrow Connector 64"/>
          <p:cNvCxnSpPr/>
          <p:nvPr/>
        </p:nvCxnSpPr>
        <p:spPr>
          <a:xfrm flipH="1" flipV="1">
            <a:off x="9464040" y="2555280"/>
            <a:ext cx="1080" cy="416520"/>
          </a:xfrm>
          <a:prstGeom prst="straightConnector1">
            <a:avLst/>
          </a:prstGeom>
          <a:ln w="12600">
            <a:solidFill>
              <a:srgbClr val="2980b9"/>
            </a:solidFill>
            <a:miter/>
            <a:tailEnd len="med" type="oval" w="med"/>
          </a:ln>
        </p:spPr>
      </p:cxnSp>
      <p:sp>
        <p:nvSpPr>
          <p:cNvPr id="832" name="Freeform 14"/>
          <p:cNvSpPr/>
          <p:nvPr/>
        </p:nvSpPr>
        <p:spPr>
          <a:xfrm>
            <a:off x="7634160" y="3495600"/>
            <a:ext cx="538200" cy="538200"/>
          </a:xfrm>
          <a:custGeom>
            <a:avLst/>
            <a:gdLst/>
            <a:ahLst/>
            <a:rect l="l" t="t" r="r" b="b"/>
            <a:pathLst>
              <a:path w="177" h="176">
                <a:moveTo>
                  <a:pt x="161" y="88"/>
                </a:moveTo>
                <a:cubicBezTo>
                  <a:pt x="161" y="77"/>
                  <a:pt x="167" y="68"/>
                  <a:pt x="177" y="64"/>
                </a:cubicBezTo>
                <a:cubicBezTo>
                  <a:pt x="175" y="56"/>
                  <a:pt x="172" y="49"/>
                  <a:pt x="168" y="42"/>
                </a:cubicBezTo>
                <a:cubicBezTo>
                  <a:pt x="158" y="46"/>
                  <a:pt x="147" y="45"/>
                  <a:pt x="139" y="37"/>
                </a:cubicBezTo>
                <a:cubicBezTo>
                  <a:pt x="132" y="29"/>
                  <a:pt x="130" y="18"/>
                  <a:pt x="134" y="9"/>
                </a:cubicBezTo>
                <a:cubicBezTo>
                  <a:pt x="128" y="5"/>
                  <a:pt x="120" y="2"/>
                  <a:pt x="112" y="0"/>
                </a:cubicBezTo>
                <a:cubicBezTo>
                  <a:pt x="109" y="9"/>
                  <a:pt x="100" y="16"/>
                  <a:pt x="89" y="16"/>
                </a:cubicBezTo>
                <a:cubicBezTo>
                  <a:pt x="78" y="16"/>
                  <a:pt x="69" y="9"/>
                  <a:pt x="65" y="0"/>
                </a:cubicBezTo>
                <a:cubicBezTo>
                  <a:pt x="57" y="2"/>
                  <a:pt x="50" y="5"/>
                  <a:pt x="43" y="9"/>
                </a:cubicBezTo>
                <a:cubicBezTo>
                  <a:pt x="47" y="18"/>
                  <a:pt x="46" y="29"/>
                  <a:pt x="38" y="37"/>
                </a:cubicBezTo>
                <a:cubicBezTo>
                  <a:pt x="30" y="45"/>
                  <a:pt x="19" y="46"/>
                  <a:pt x="10" y="42"/>
                </a:cubicBezTo>
                <a:cubicBezTo>
                  <a:pt x="6" y="49"/>
                  <a:pt x="3" y="56"/>
                  <a:pt x="0" y="64"/>
                </a:cubicBezTo>
                <a:cubicBezTo>
                  <a:pt x="10" y="68"/>
                  <a:pt x="17" y="77"/>
                  <a:pt x="17" y="88"/>
                </a:cubicBezTo>
                <a:cubicBezTo>
                  <a:pt x="17" y="99"/>
                  <a:pt x="10" y="108"/>
                  <a:pt x="0" y="111"/>
                </a:cubicBezTo>
                <a:cubicBezTo>
                  <a:pt x="3" y="119"/>
                  <a:pt x="6" y="127"/>
                  <a:pt x="10" y="134"/>
                </a:cubicBezTo>
                <a:cubicBezTo>
                  <a:pt x="19" y="129"/>
                  <a:pt x="30" y="131"/>
                  <a:pt x="38" y="139"/>
                </a:cubicBezTo>
                <a:cubicBezTo>
                  <a:pt x="46" y="146"/>
                  <a:pt x="47" y="158"/>
                  <a:pt x="43" y="167"/>
                </a:cubicBezTo>
                <a:cubicBezTo>
                  <a:pt x="50" y="171"/>
                  <a:pt x="57" y="174"/>
                  <a:pt x="65" y="176"/>
                </a:cubicBezTo>
                <a:cubicBezTo>
                  <a:pt x="69" y="166"/>
                  <a:pt x="78" y="160"/>
                  <a:pt x="89" y="160"/>
                </a:cubicBezTo>
                <a:cubicBezTo>
                  <a:pt x="100" y="160"/>
                  <a:pt x="109" y="166"/>
                  <a:pt x="112" y="176"/>
                </a:cubicBezTo>
                <a:cubicBezTo>
                  <a:pt x="120" y="174"/>
                  <a:pt x="128" y="171"/>
                  <a:pt x="134" y="167"/>
                </a:cubicBezTo>
                <a:cubicBezTo>
                  <a:pt x="130" y="158"/>
                  <a:pt x="132" y="146"/>
                  <a:pt x="139" y="139"/>
                </a:cubicBezTo>
                <a:cubicBezTo>
                  <a:pt x="147" y="131"/>
                  <a:pt x="158" y="129"/>
                  <a:pt x="168" y="134"/>
                </a:cubicBezTo>
                <a:cubicBezTo>
                  <a:pt x="172" y="127"/>
                  <a:pt x="175" y="119"/>
                  <a:pt x="177" y="111"/>
                </a:cubicBezTo>
                <a:cubicBezTo>
                  <a:pt x="167" y="108"/>
                  <a:pt x="161" y="99"/>
                  <a:pt x="161" y="88"/>
                </a:cubicBezTo>
                <a:moveTo>
                  <a:pt x="89" y="132"/>
                </a:moveTo>
                <a:cubicBezTo>
                  <a:pt x="64" y="132"/>
                  <a:pt x="45" y="112"/>
                  <a:pt x="45" y="88"/>
                </a:cubicBezTo>
                <a:cubicBezTo>
                  <a:pt x="45" y="64"/>
                  <a:pt x="64" y="44"/>
                  <a:pt x="89" y="44"/>
                </a:cubicBezTo>
                <a:cubicBezTo>
                  <a:pt x="113" y="44"/>
                  <a:pt x="133" y="64"/>
                  <a:pt x="133" y="88"/>
                </a:cubicBezTo>
                <a:cubicBezTo>
                  <a:pt x="133" y="112"/>
                  <a:pt x="113" y="132"/>
                  <a:pt x="89" y="132"/>
                </a:cubicBezTo>
                <a:moveTo>
                  <a:pt x="89" y="48"/>
                </a:moveTo>
                <a:cubicBezTo>
                  <a:pt x="67" y="48"/>
                  <a:pt x="49" y="66"/>
                  <a:pt x="49" y="88"/>
                </a:cubicBezTo>
                <a:cubicBezTo>
                  <a:pt x="49" y="110"/>
                  <a:pt x="67" y="128"/>
                  <a:pt x="89" y="128"/>
                </a:cubicBezTo>
                <a:cubicBezTo>
                  <a:pt x="111" y="128"/>
                  <a:pt x="128" y="110"/>
                  <a:pt x="128" y="88"/>
                </a:cubicBezTo>
                <a:cubicBezTo>
                  <a:pt x="128" y="66"/>
                  <a:pt x="111" y="48"/>
                  <a:pt x="89" y="48"/>
                </a:cubicBezTo>
                <a:moveTo>
                  <a:pt x="89" y="115"/>
                </a:moveTo>
                <a:cubicBezTo>
                  <a:pt x="74" y="115"/>
                  <a:pt x="62" y="103"/>
                  <a:pt x="62" y="88"/>
                </a:cubicBezTo>
                <a:cubicBezTo>
                  <a:pt x="62" y="73"/>
                  <a:pt x="74" y="61"/>
                  <a:pt x="89" y="61"/>
                </a:cubicBezTo>
                <a:cubicBezTo>
                  <a:pt x="103" y="61"/>
                  <a:pt x="115" y="73"/>
                  <a:pt x="115" y="88"/>
                </a:cubicBezTo>
                <a:cubicBezTo>
                  <a:pt x="115" y="103"/>
                  <a:pt x="103" y="115"/>
                  <a:pt x="89" y="11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3" name="Freeform 22"/>
          <p:cNvSpPr/>
          <p:nvPr/>
        </p:nvSpPr>
        <p:spPr>
          <a:xfrm>
            <a:off x="4457880" y="3506760"/>
            <a:ext cx="614160" cy="515880"/>
          </a:xfrm>
          <a:custGeom>
            <a:avLst/>
            <a:gdLst/>
            <a:ahLst/>
            <a:rect l="l" t="t" r="r" b="b"/>
            <a:pathLst>
              <a:path w="202" h="169">
                <a:moveTo>
                  <a:pt x="138" y="143"/>
                </a:moveTo>
                <a:cubicBezTo>
                  <a:pt x="138" y="147"/>
                  <a:pt x="139" y="151"/>
                  <a:pt x="142" y="154"/>
                </a:cubicBezTo>
                <a:cubicBezTo>
                  <a:pt x="126" y="154"/>
                  <a:pt x="126" y="154"/>
                  <a:pt x="126" y="154"/>
                </a:cubicBezTo>
                <a:cubicBezTo>
                  <a:pt x="119" y="154"/>
                  <a:pt x="102" y="149"/>
                  <a:pt x="97" y="149"/>
                </a:cubicBezTo>
                <a:cubicBezTo>
                  <a:pt x="92" y="149"/>
                  <a:pt x="90" y="151"/>
                  <a:pt x="86" y="151"/>
                </a:cubicBezTo>
                <a:cubicBezTo>
                  <a:pt x="82" y="151"/>
                  <a:pt x="75" y="147"/>
                  <a:pt x="71" y="147"/>
                </a:cubicBezTo>
                <a:cubicBezTo>
                  <a:pt x="60" y="147"/>
                  <a:pt x="60" y="147"/>
                  <a:pt x="60" y="147"/>
                </a:cubicBezTo>
                <a:cubicBezTo>
                  <a:pt x="60" y="73"/>
                  <a:pt x="60" y="73"/>
                  <a:pt x="60" y="73"/>
                </a:cubicBezTo>
                <a:cubicBezTo>
                  <a:pt x="64" y="74"/>
                  <a:pt x="73" y="75"/>
                  <a:pt x="80" y="70"/>
                </a:cubicBezTo>
                <a:cubicBezTo>
                  <a:pt x="89" y="64"/>
                  <a:pt x="97" y="55"/>
                  <a:pt x="101" y="48"/>
                </a:cubicBezTo>
                <a:cubicBezTo>
                  <a:pt x="106" y="42"/>
                  <a:pt x="116" y="36"/>
                  <a:pt x="122" y="21"/>
                </a:cubicBezTo>
                <a:cubicBezTo>
                  <a:pt x="125" y="15"/>
                  <a:pt x="123" y="0"/>
                  <a:pt x="133" y="4"/>
                </a:cubicBezTo>
                <a:cubicBezTo>
                  <a:pt x="144" y="7"/>
                  <a:pt x="144" y="18"/>
                  <a:pt x="144" y="29"/>
                </a:cubicBezTo>
                <a:cubicBezTo>
                  <a:pt x="143" y="41"/>
                  <a:pt x="132" y="63"/>
                  <a:pt x="132" y="67"/>
                </a:cubicBezTo>
                <a:cubicBezTo>
                  <a:pt x="130" y="77"/>
                  <a:pt x="131" y="83"/>
                  <a:pt x="131" y="92"/>
                </a:cubicBezTo>
                <a:cubicBezTo>
                  <a:pt x="130" y="104"/>
                  <a:pt x="123" y="113"/>
                  <a:pt x="123" y="113"/>
                </a:cubicBezTo>
                <a:cubicBezTo>
                  <a:pt x="123" y="113"/>
                  <a:pt x="133" y="107"/>
                  <a:pt x="135" y="98"/>
                </a:cubicBezTo>
                <a:cubicBezTo>
                  <a:pt x="137" y="89"/>
                  <a:pt x="135" y="80"/>
                  <a:pt x="141" y="71"/>
                </a:cubicBezTo>
                <a:cubicBezTo>
                  <a:pt x="142" y="69"/>
                  <a:pt x="143" y="68"/>
                  <a:pt x="145" y="67"/>
                </a:cubicBezTo>
                <a:cubicBezTo>
                  <a:pt x="143" y="69"/>
                  <a:pt x="142" y="73"/>
                  <a:pt x="142" y="77"/>
                </a:cubicBezTo>
                <a:cubicBezTo>
                  <a:pt x="142" y="82"/>
                  <a:pt x="144" y="87"/>
                  <a:pt x="148" y="90"/>
                </a:cubicBezTo>
                <a:cubicBezTo>
                  <a:pt x="147" y="93"/>
                  <a:pt x="146" y="96"/>
                  <a:pt x="146" y="99"/>
                </a:cubicBezTo>
                <a:cubicBezTo>
                  <a:pt x="146" y="102"/>
                  <a:pt x="147" y="105"/>
                  <a:pt x="148" y="108"/>
                </a:cubicBezTo>
                <a:cubicBezTo>
                  <a:pt x="144" y="111"/>
                  <a:pt x="142" y="115"/>
                  <a:pt x="142" y="121"/>
                </a:cubicBezTo>
                <a:cubicBezTo>
                  <a:pt x="142" y="124"/>
                  <a:pt x="143" y="127"/>
                  <a:pt x="144" y="129"/>
                </a:cubicBezTo>
                <a:cubicBezTo>
                  <a:pt x="140" y="133"/>
                  <a:pt x="138" y="137"/>
                  <a:pt x="138" y="143"/>
                </a:cubicBezTo>
                <a:moveTo>
                  <a:pt x="202" y="99"/>
                </a:moveTo>
                <a:cubicBezTo>
                  <a:pt x="202" y="93"/>
                  <a:pt x="197" y="88"/>
                  <a:pt x="190" y="88"/>
                </a:cubicBezTo>
                <a:cubicBezTo>
                  <a:pt x="185" y="88"/>
                  <a:pt x="185" y="88"/>
                  <a:pt x="185" y="88"/>
                </a:cubicBezTo>
                <a:cubicBezTo>
                  <a:pt x="190" y="87"/>
                  <a:pt x="194" y="82"/>
                  <a:pt x="194" y="77"/>
                </a:cubicBezTo>
                <a:cubicBezTo>
                  <a:pt x="194" y="71"/>
                  <a:pt x="189" y="66"/>
                  <a:pt x="182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2" y="66"/>
                  <a:pt x="148" y="71"/>
                  <a:pt x="148" y="77"/>
                </a:cubicBezTo>
                <a:cubicBezTo>
                  <a:pt x="148" y="83"/>
                  <a:pt x="153" y="88"/>
                  <a:pt x="160" y="88"/>
                </a:cubicBezTo>
                <a:cubicBezTo>
                  <a:pt x="161" y="88"/>
                  <a:pt x="161" y="88"/>
                  <a:pt x="161" y="88"/>
                </a:cubicBezTo>
                <a:cubicBezTo>
                  <a:pt x="156" y="89"/>
                  <a:pt x="152" y="94"/>
                  <a:pt x="152" y="99"/>
                </a:cubicBezTo>
                <a:cubicBezTo>
                  <a:pt x="152" y="104"/>
                  <a:pt x="156" y="109"/>
                  <a:pt x="161" y="110"/>
                </a:cubicBezTo>
                <a:cubicBezTo>
                  <a:pt x="160" y="110"/>
                  <a:pt x="160" y="110"/>
                  <a:pt x="160" y="110"/>
                </a:cubicBezTo>
                <a:cubicBezTo>
                  <a:pt x="153" y="110"/>
                  <a:pt x="148" y="115"/>
                  <a:pt x="148" y="121"/>
                </a:cubicBezTo>
                <a:cubicBezTo>
                  <a:pt x="148" y="126"/>
                  <a:pt x="152" y="130"/>
                  <a:pt x="157" y="132"/>
                </a:cubicBezTo>
                <a:cubicBezTo>
                  <a:pt x="156" y="132"/>
                  <a:pt x="156" y="132"/>
                  <a:pt x="156" y="132"/>
                </a:cubicBezTo>
                <a:cubicBezTo>
                  <a:pt x="149" y="132"/>
                  <a:pt x="144" y="137"/>
                  <a:pt x="144" y="143"/>
                </a:cubicBezTo>
                <a:cubicBezTo>
                  <a:pt x="144" y="149"/>
                  <a:pt x="149" y="154"/>
                  <a:pt x="156" y="154"/>
                </a:cubicBezTo>
                <a:cubicBezTo>
                  <a:pt x="167" y="154"/>
                  <a:pt x="167" y="154"/>
                  <a:pt x="167" y="154"/>
                </a:cubicBezTo>
                <a:cubicBezTo>
                  <a:pt x="179" y="154"/>
                  <a:pt x="179" y="154"/>
                  <a:pt x="179" y="154"/>
                </a:cubicBezTo>
                <a:cubicBezTo>
                  <a:pt x="185" y="154"/>
                  <a:pt x="191" y="149"/>
                  <a:pt x="191" y="143"/>
                </a:cubicBezTo>
                <a:cubicBezTo>
                  <a:pt x="191" y="137"/>
                  <a:pt x="187" y="133"/>
                  <a:pt x="181" y="132"/>
                </a:cubicBezTo>
                <a:cubicBezTo>
                  <a:pt x="186" y="132"/>
                  <a:pt x="186" y="132"/>
                  <a:pt x="186" y="132"/>
                </a:cubicBezTo>
                <a:cubicBezTo>
                  <a:pt x="193" y="132"/>
                  <a:pt x="198" y="127"/>
                  <a:pt x="198" y="121"/>
                </a:cubicBezTo>
                <a:cubicBezTo>
                  <a:pt x="198" y="115"/>
                  <a:pt x="194" y="111"/>
                  <a:pt x="189" y="110"/>
                </a:cubicBezTo>
                <a:cubicBezTo>
                  <a:pt x="190" y="110"/>
                  <a:pt x="190" y="110"/>
                  <a:pt x="190" y="110"/>
                </a:cubicBezTo>
                <a:cubicBezTo>
                  <a:pt x="197" y="110"/>
                  <a:pt x="202" y="105"/>
                  <a:pt x="202" y="99"/>
                </a:cubicBezTo>
                <a:moveTo>
                  <a:pt x="0" y="67"/>
                </a:moveTo>
                <a:cubicBezTo>
                  <a:pt x="53" y="67"/>
                  <a:pt x="53" y="67"/>
                  <a:pt x="53" y="67"/>
                </a:cubicBezTo>
                <a:cubicBezTo>
                  <a:pt x="53" y="169"/>
                  <a:pt x="53" y="169"/>
                  <a:pt x="53" y="169"/>
                </a:cubicBezTo>
                <a:cubicBezTo>
                  <a:pt x="0" y="169"/>
                  <a:pt x="0" y="169"/>
                  <a:pt x="0" y="169"/>
                </a:cubicBezTo>
                <a:lnTo>
                  <a:pt x="0" y="67"/>
                </a:lnTo>
                <a:close/>
                <a:moveTo>
                  <a:pt x="32" y="153"/>
                </a:moveTo>
                <a:cubicBezTo>
                  <a:pt x="32" y="156"/>
                  <a:pt x="35" y="159"/>
                  <a:pt x="38" y="159"/>
                </a:cubicBezTo>
                <a:cubicBezTo>
                  <a:pt x="42" y="159"/>
                  <a:pt x="45" y="156"/>
                  <a:pt x="45" y="153"/>
                </a:cubicBezTo>
                <a:cubicBezTo>
                  <a:pt x="45" y="149"/>
                  <a:pt x="42" y="146"/>
                  <a:pt x="38" y="146"/>
                </a:cubicBezTo>
                <a:cubicBezTo>
                  <a:pt x="35" y="146"/>
                  <a:pt x="32" y="149"/>
                  <a:pt x="32" y="15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4" name="Freeform 39"/>
          <p:cNvSpPr/>
          <p:nvPr/>
        </p:nvSpPr>
        <p:spPr>
          <a:xfrm>
            <a:off x="6113520" y="3459240"/>
            <a:ext cx="414360" cy="612720"/>
          </a:xfrm>
          <a:custGeom>
            <a:avLst/>
            <a:gdLst/>
            <a:ahLst/>
            <a:rect l="l" t="t" r="r" b="b"/>
            <a:pathLst>
              <a:path w="136" h="201">
                <a:moveTo>
                  <a:pt x="128" y="188"/>
                </a:moveTo>
                <a:cubicBezTo>
                  <a:pt x="128" y="187"/>
                  <a:pt x="128" y="187"/>
                  <a:pt x="128" y="185"/>
                </a:cubicBezTo>
                <a:cubicBezTo>
                  <a:pt x="128" y="182"/>
                  <a:pt x="124" y="177"/>
                  <a:pt x="117" y="177"/>
                </a:cubicBezTo>
                <a:cubicBezTo>
                  <a:pt x="117" y="177"/>
                  <a:pt x="117" y="177"/>
                  <a:pt x="117" y="177"/>
                </a:cubicBezTo>
                <a:cubicBezTo>
                  <a:pt x="115" y="174"/>
                  <a:pt x="111" y="170"/>
                  <a:pt x="111" y="165"/>
                </a:cubicBezTo>
                <a:cubicBezTo>
                  <a:pt x="111" y="161"/>
                  <a:pt x="115" y="157"/>
                  <a:pt x="117" y="155"/>
                </a:cubicBezTo>
                <a:cubicBezTo>
                  <a:pt x="120" y="155"/>
                  <a:pt x="121" y="155"/>
                  <a:pt x="122" y="155"/>
                </a:cubicBezTo>
                <a:cubicBezTo>
                  <a:pt x="123" y="155"/>
                  <a:pt x="126" y="154"/>
                  <a:pt x="126" y="150"/>
                </a:cubicBezTo>
                <a:cubicBezTo>
                  <a:pt x="126" y="147"/>
                  <a:pt x="122" y="142"/>
                  <a:pt x="114" y="142"/>
                </a:cubicBezTo>
                <a:cubicBezTo>
                  <a:pt x="113" y="142"/>
                  <a:pt x="112" y="142"/>
                  <a:pt x="110" y="142"/>
                </a:cubicBezTo>
                <a:cubicBezTo>
                  <a:pt x="123" y="132"/>
                  <a:pt x="123" y="132"/>
                  <a:pt x="123" y="132"/>
                </a:cubicBezTo>
                <a:cubicBezTo>
                  <a:pt x="123" y="132"/>
                  <a:pt x="111" y="115"/>
                  <a:pt x="111" y="103"/>
                </a:cubicBezTo>
                <a:cubicBezTo>
                  <a:pt x="111" y="103"/>
                  <a:pt x="111" y="103"/>
                  <a:pt x="111" y="102"/>
                </a:cubicBezTo>
                <a:cubicBezTo>
                  <a:pt x="111" y="99"/>
                  <a:pt x="111" y="95"/>
                  <a:pt x="112" y="91"/>
                </a:cubicBezTo>
                <a:cubicBezTo>
                  <a:pt x="112" y="79"/>
                  <a:pt x="113" y="53"/>
                  <a:pt x="102" y="33"/>
                </a:cubicBezTo>
                <a:cubicBezTo>
                  <a:pt x="91" y="12"/>
                  <a:pt x="69" y="0"/>
                  <a:pt x="42" y="6"/>
                </a:cubicBezTo>
                <a:cubicBezTo>
                  <a:pt x="30" y="9"/>
                  <a:pt x="21" y="16"/>
                  <a:pt x="16" y="22"/>
                </a:cubicBezTo>
                <a:cubicBezTo>
                  <a:pt x="9" y="22"/>
                  <a:pt x="9" y="22"/>
                  <a:pt x="9" y="22"/>
                </a:cubicBezTo>
                <a:cubicBezTo>
                  <a:pt x="11" y="23"/>
                  <a:pt x="12" y="24"/>
                  <a:pt x="13" y="25"/>
                </a:cubicBezTo>
                <a:cubicBezTo>
                  <a:pt x="9" y="29"/>
                  <a:pt x="8" y="33"/>
                  <a:pt x="8" y="33"/>
                </a:cubicBezTo>
                <a:cubicBezTo>
                  <a:pt x="20" y="33"/>
                  <a:pt x="20" y="33"/>
                  <a:pt x="20" y="33"/>
                </a:cubicBezTo>
                <a:cubicBezTo>
                  <a:pt x="22" y="31"/>
                  <a:pt x="22" y="30"/>
                  <a:pt x="22" y="30"/>
                </a:cubicBezTo>
                <a:cubicBezTo>
                  <a:pt x="21" y="29"/>
                  <a:pt x="20" y="29"/>
                  <a:pt x="19" y="28"/>
                </a:cubicBezTo>
                <a:cubicBezTo>
                  <a:pt x="22" y="30"/>
                  <a:pt x="22" y="30"/>
                  <a:pt x="22" y="30"/>
                </a:cubicBezTo>
                <a:cubicBezTo>
                  <a:pt x="22" y="30"/>
                  <a:pt x="13" y="43"/>
                  <a:pt x="12" y="44"/>
                </a:cubicBezTo>
                <a:cubicBezTo>
                  <a:pt x="12" y="45"/>
                  <a:pt x="12" y="52"/>
                  <a:pt x="10" y="55"/>
                </a:cubicBezTo>
                <a:cubicBezTo>
                  <a:pt x="9" y="57"/>
                  <a:pt x="2" y="69"/>
                  <a:pt x="1" y="70"/>
                </a:cubicBezTo>
                <a:cubicBezTo>
                  <a:pt x="0" y="71"/>
                  <a:pt x="2" y="75"/>
                  <a:pt x="3" y="78"/>
                </a:cubicBezTo>
                <a:cubicBezTo>
                  <a:pt x="5" y="81"/>
                  <a:pt x="7" y="82"/>
                  <a:pt x="9" y="82"/>
                </a:cubicBezTo>
                <a:cubicBezTo>
                  <a:pt x="12" y="83"/>
                  <a:pt x="18" y="84"/>
                  <a:pt x="19" y="84"/>
                </a:cubicBezTo>
                <a:cubicBezTo>
                  <a:pt x="20" y="85"/>
                  <a:pt x="24" y="83"/>
                  <a:pt x="25" y="82"/>
                </a:cubicBezTo>
                <a:cubicBezTo>
                  <a:pt x="26" y="81"/>
                  <a:pt x="29" y="72"/>
                  <a:pt x="33" y="69"/>
                </a:cubicBezTo>
                <a:cubicBezTo>
                  <a:pt x="37" y="66"/>
                  <a:pt x="43" y="65"/>
                  <a:pt x="47" y="64"/>
                </a:cubicBezTo>
                <a:cubicBezTo>
                  <a:pt x="48" y="68"/>
                  <a:pt x="49" y="82"/>
                  <a:pt x="44" y="90"/>
                </a:cubicBezTo>
                <a:cubicBezTo>
                  <a:pt x="36" y="103"/>
                  <a:pt x="23" y="117"/>
                  <a:pt x="20" y="123"/>
                </a:cubicBezTo>
                <a:cubicBezTo>
                  <a:pt x="20" y="123"/>
                  <a:pt x="20" y="123"/>
                  <a:pt x="20" y="124"/>
                </a:cubicBezTo>
                <a:cubicBezTo>
                  <a:pt x="17" y="129"/>
                  <a:pt x="18" y="133"/>
                  <a:pt x="18" y="133"/>
                </a:cubicBezTo>
                <a:cubicBezTo>
                  <a:pt x="18" y="133"/>
                  <a:pt x="21" y="134"/>
                  <a:pt x="23" y="135"/>
                </a:cubicBezTo>
                <a:cubicBezTo>
                  <a:pt x="24" y="136"/>
                  <a:pt x="25" y="136"/>
                  <a:pt x="25" y="137"/>
                </a:cubicBezTo>
                <a:cubicBezTo>
                  <a:pt x="25" y="137"/>
                  <a:pt x="25" y="137"/>
                  <a:pt x="25" y="137"/>
                </a:cubicBezTo>
                <a:cubicBezTo>
                  <a:pt x="26" y="137"/>
                  <a:pt x="27" y="138"/>
                  <a:pt x="27" y="139"/>
                </a:cubicBezTo>
                <a:cubicBezTo>
                  <a:pt x="27" y="139"/>
                  <a:pt x="27" y="139"/>
                  <a:pt x="27" y="139"/>
                </a:cubicBezTo>
                <a:cubicBezTo>
                  <a:pt x="28" y="139"/>
                  <a:pt x="28" y="140"/>
                  <a:pt x="28" y="140"/>
                </a:cubicBezTo>
                <a:cubicBezTo>
                  <a:pt x="29" y="140"/>
                  <a:pt x="29" y="140"/>
                  <a:pt x="29" y="141"/>
                </a:cubicBezTo>
                <a:cubicBezTo>
                  <a:pt x="29" y="141"/>
                  <a:pt x="29" y="142"/>
                  <a:pt x="30" y="142"/>
                </a:cubicBezTo>
                <a:cubicBezTo>
                  <a:pt x="30" y="142"/>
                  <a:pt x="30" y="142"/>
                  <a:pt x="30" y="142"/>
                </a:cubicBezTo>
                <a:cubicBezTo>
                  <a:pt x="27" y="142"/>
                  <a:pt x="25" y="142"/>
                  <a:pt x="24" y="142"/>
                </a:cubicBezTo>
                <a:cubicBezTo>
                  <a:pt x="23" y="142"/>
                  <a:pt x="23" y="142"/>
                  <a:pt x="23" y="142"/>
                </a:cubicBezTo>
                <a:cubicBezTo>
                  <a:pt x="20" y="142"/>
                  <a:pt x="17" y="143"/>
                  <a:pt x="15" y="145"/>
                </a:cubicBezTo>
                <a:cubicBezTo>
                  <a:pt x="12" y="146"/>
                  <a:pt x="11" y="149"/>
                  <a:pt x="11" y="150"/>
                </a:cubicBezTo>
                <a:cubicBezTo>
                  <a:pt x="11" y="152"/>
                  <a:pt x="12" y="154"/>
                  <a:pt x="13" y="154"/>
                </a:cubicBezTo>
                <a:cubicBezTo>
                  <a:pt x="13" y="154"/>
                  <a:pt x="13" y="154"/>
                  <a:pt x="13" y="154"/>
                </a:cubicBezTo>
                <a:cubicBezTo>
                  <a:pt x="14" y="155"/>
                  <a:pt x="15" y="155"/>
                  <a:pt x="16" y="155"/>
                </a:cubicBezTo>
                <a:cubicBezTo>
                  <a:pt x="16" y="155"/>
                  <a:pt x="16" y="155"/>
                  <a:pt x="16" y="155"/>
                </a:cubicBezTo>
                <a:cubicBezTo>
                  <a:pt x="16" y="155"/>
                  <a:pt x="16" y="155"/>
                  <a:pt x="16" y="155"/>
                </a:cubicBezTo>
                <a:cubicBezTo>
                  <a:pt x="16" y="155"/>
                  <a:pt x="18" y="155"/>
                  <a:pt x="20" y="155"/>
                </a:cubicBezTo>
                <a:cubicBezTo>
                  <a:pt x="23" y="157"/>
                  <a:pt x="26" y="161"/>
                  <a:pt x="26" y="165"/>
                </a:cubicBezTo>
                <a:cubicBezTo>
                  <a:pt x="26" y="170"/>
                  <a:pt x="23" y="174"/>
                  <a:pt x="20" y="177"/>
                </a:cubicBezTo>
                <a:cubicBezTo>
                  <a:pt x="20" y="177"/>
                  <a:pt x="20" y="177"/>
                  <a:pt x="20" y="177"/>
                </a:cubicBezTo>
                <a:cubicBezTo>
                  <a:pt x="20" y="177"/>
                  <a:pt x="20" y="177"/>
                  <a:pt x="20" y="177"/>
                </a:cubicBezTo>
                <a:cubicBezTo>
                  <a:pt x="14" y="177"/>
                  <a:pt x="9" y="182"/>
                  <a:pt x="9" y="185"/>
                </a:cubicBezTo>
                <a:cubicBezTo>
                  <a:pt x="9" y="186"/>
                  <a:pt x="9" y="187"/>
                  <a:pt x="9" y="187"/>
                </a:cubicBezTo>
                <a:cubicBezTo>
                  <a:pt x="10" y="187"/>
                  <a:pt x="10" y="188"/>
                  <a:pt x="10" y="188"/>
                </a:cubicBezTo>
                <a:cubicBezTo>
                  <a:pt x="9" y="188"/>
                  <a:pt x="8" y="189"/>
                  <a:pt x="7" y="189"/>
                </a:cubicBezTo>
                <a:cubicBezTo>
                  <a:pt x="6" y="189"/>
                  <a:pt x="6" y="189"/>
                  <a:pt x="6" y="189"/>
                </a:cubicBezTo>
                <a:cubicBezTo>
                  <a:pt x="6" y="190"/>
                  <a:pt x="6" y="190"/>
                  <a:pt x="6" y="190"/>
                </a:cubicBezTo>
                <a:cubicBezTo>
                  <a:pt x="6" y="190"/>
                  <a:pt x="6" y="190"/>
                  <a:pt x="6" y="190"/>
                </a:cubicBezTo>
                <a:cubicBezTo>
                  <a:pt x="6" y="190"/>
                  <a:pt x="5" y="190"/>
                  <a:pt x="5" y="190"/>
                </a:cubicBezTo>
                <a:cubicBezTo>
                  <a:pt x="5" y="190"/>
                  <a:pt x="5" y="190"/>
                  <a:pt x="5" y="190"/>
                </a:cubicBezTo>
                <a:cubicBezTo>
                  <a:pt x="5" y="190"/>
                  <a:pt x="5" y="191"/>
                  <a:pt x="4" y="191"/>
                </a:cubicBezTo>
                <a:cubicBezTo>
                  <a:pt x="4" y="191"/>
                  <a:pt x="4" y="191"/>
                  <a:pt x="4" y="191"/>
                </a:cubicBezTo>
                <a:cubicBezTo>
                  <a:pt x="4" y="191"/>
                  <a:pt x="4" y="191"/>
                  <a:pt x="4" y="191"/>
                </a:cubicBezTo>
                <a:cubicBezTo>
                  <a:pt x="3" y="192"/>
                  <a:pt x="3" y="192"/>
                  <a:pt x="3" y="192"/>
                </a:cubicBezTo>
                <a:cubicBezTo>
                  <a:pt x="3" y="192"/>
                  <a:pt x="3" y="192"/>
                  <a:pt x="3" y="193"/>
                </a:cubicBezTo>
                <a:cubicBezTo>
                  <a:pt x="3" y="193"/>
                  <a:pt x="3" y="193"/>
                  <a:pt x="2" y="193"/>
                </a:cubicBezTo>
                <a:cubicBezTo>
                  <a:pt x="2" y="193"/>
                  <a:pt x="2" y="193"/>
                  <a:pt x="2" y="193"/>
                </a:cubicBezTo>
                <a:cubicBezTo>
                  <a:pt x="2" y="193"/>
                  <a:pt x="2" y="194"/>
                  <a:pt x="2" y="194"/>
                </a:cubicBezTo>
                <a:cubicBezTo>
                  <a:pt x="2" y="194"/>
                  <a:pt x="2" y="194"/>
                  <a:pt x="2" y="194"/>
                </a:cubicBezTo>
                <a:cubicBezTo>
                  <a:pt x="2" y="194"/>
                  <a:pt x="2" y="194"/>
                  <a:pt x="2" y="195"/>
                </a:cubicBezTo>
                <a:cubicBezTo>
                  <a:pt x="2" y="195"/>
                  <a:pt x="2" y="195"/>
                  <a:pt x="2" y="195"/>
                </a:cubicBezTo>
                <a:cubicBezTo>
                  <a:pt x="1" y="195"/>
                  <a:pt x="1" y="196"/>
                  <a:pt x="1" y="196"/>
                </a:cubicBezTo>
                <a:cubicBezTo>
                  <a:pt x="1" y="196"/>
                  <a:pt x="2" y="197"/>
                  <a:pt x="2" y="197"/>
                </a:cubicBezTo>
                <a:cubicBezTo>
                  <a:pt x="2" y="197"/>
                  <a:pt x="2" y="198"/>
                  <a:pt x="2" y="198"/>
                </a:cubicBezTo>
                <a:cubicBezTo>
                  <a:pt x="2" y="198"/>
                  <a:pt x="2" y="198"/>
                  <a:pt x="2" y="198"/>
                </a:cubicBezTo>
                <a:cubicBezTo>
                  <a:pt x="2" y="198"/>
                  <a:pt x="2" y="198"/>
                  <a:pt x="2" y="199"/>
                </a:cubicBezTo>
                <a:cubicBezTo>
                  <a:pt x="2" y="199"/>
                  <a:pt x="2" y="199"/>
                  <a:pt x="2" y="199"/>
                </a:cubicBezTo>
                <a:cubicBezTo>
                  <a:pt x="3" y="199"/>
                  <a:pt x="3" y="199"/>
                  <a:pt x="3" y="200"/>
                </a:cubicBezTo>
                <a:cubicBezTo>
                  <a:pt x="3" y="200"/>
                  <a:pt x="3" y="200"/>
                  <a:pt x="3" y="200"/>
                </a:cubicBezTo>
                <a:cubicBezTo>
                  <a:pt x="3" y="200"/>
                  <a:pt x="3" y="200"/>
                  <a:pt x="3" y="200"/>
                </a:cubicBezTo>
                <a:cubicBezTo>
                  <a:pt x="4" y="201"/>
                  <a:pt x="5" y="201"/>
                  <a:pt x="6" y="201"/>
                </a:cubicBezTo>
                <a:cubicBezTo>
                  <a:pt x="6" y="201"/>
                  <a:pt x="6" y="201"/>
                  <a:pt x="6" y="201"/>
                </a:cubicBezTo>
                <a:cubicBezTo>
                  <a:pt x="7" y="201"/>
                  <a:pt x="28" y="201"/>
                  <a:pt x="52" y="201"/>
                </a:cubicBezTo>
                <a:cubicBezTo>
                  <a:pt x="87" y="201"/>
                  <a:pt x="130" y="201"/>
                  <a:pt x="131" y="201"/>
                </a:cubicBezTo>
                <a:cubicBezTo>
                  <a:pt x="133" y="201"/>
                  <a:pt x="136" y="200"/>
                  <a:pt x="136" y="196"/>
                </a:cubicBezTo>
                <a:cubicBezTo>
                  <a:pt x="136" y="193"/>
                  <a:pt x="133" y="189"/>
                  <a:pt x="128" y="1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5" name="Freeform 47"/>
          <p:cNvSpPr/>
          <p:nvPr/>
        </p:nvSpPr>
        <p:spPr>
          <a:xfrm>
            <a:off x="9175680" y="3456000"/>
            <a:ext cx="577800" cy="617400"/>
          </a:xfrm>
          <a:custGeom>
            <a:avLst/>
            <a:gdLst/>
            <a:ahLst/>
            <a:rect l="l" t="t" r="r" b="b"/>
            <a:pathLst>
              <a:path w="190" h="202">
                <a:moveTo>
                  <a:pt x="80" y="130"/>
                </a:moveTo>
                <a:cubicBezTo>
                  <a:pt x="83" y="141"/>
                  <a:pt x="76" y="153"/>
                  <a:pt x="63" y="157"/>
                </a:cubicBezTo>
                <a:cubicBezTo>
                  <a:pt x="50" y="161"/>
                  <a:pt x="37" y="155"/>
                  <a:pt x="34" y="145"/>
                </a:cubicBezTo>
                <a:lnTo>
                  <a:pt x="80" y="130"/>
                </a:lnTo>
                <a:close/>
                <a:moveTo>
                  <a:pt x="69" y="39"/>
                </a:moveTo>
                <a:cubicBezTo>
                  <a:pt x="70" y="34"/>
                  <a:pt x="74" y="30"/>
                  <a:pt x="78" y="30"/>
                </a:cubicBezTo>
                <a:cubicBezTo>
                  <a:pt x="88" y="12"/>
                  <a:pt x="106" y="0"/>
                  <a:pt x="126" y="0"/>
                </a:cubicBezTo>
                <a:cubicBezTo>
                  <a:pt x="132" y="0"/>
                  <a:pt x="137" y="1"/>
                  <a:pt x="142" y="3"/>
                </a:cubicBezTo>
                <a:cubicBezTo>
                  <a:pt x="167" y="10"/>
                  <a:pt x="183" y="34"/>
                  <a:pt x="181" y="60"/>
                </a:cubicBezTo>
                <a:cubicBezTo>
                  <a:pt x="184" y="62"/>
                  <a:pt x="185" y="67"/>
                  <a:pt x="184" y="72"/>
                </a:cubicBezTo>
                <a:cubicBezTo>
                  <a:pt x="182" y="78"/>
                  <a:pt x="178" y="81"/>
                  <a:pt x="174" y="81"/>
                </a:cubicBezTo>
                <a:cubicBezTo>
                  <a:pt x="164" y="98"/>
                  <a:pt x="146" y="109"/>
                  <a:pt x="127" y="109"/>
                </a:cubicBezTo>
                <a:cubicBezTo>
                  <a:pt x="121" y="109"/>
                  <a:pt x="116" y="108"/>
                  <a:pt x="111" y="107"/>
                </a:cubicBezTo>
                <a:cubicBezTo>
                  <a:pt x="87" y="100"/>
                  <a:pt x="71" y="77"/>
                  <a:pt x="72" y="51"/>
                </a:cubicBezTo>
                <a:cubicBezTo>
                  <a:pt x="69" y="49"/>
                  <a:pt x="67" y="44"/>
                  <a:pt x="69" y="39"/>
                </a:cubicBezTo>
                <a:close/>
                <a:moveTo>
                  <a:pt x="76" y="46"/>
                </a:moveTo>
                <a:cubicBezTo>
                  <a:pt x="76" y="46"/>
                  <a:pt x="76" y="46"/>
                  <a:pt x="76" y="46"/>
                </a:cubicBezTo>
                <a:cubicBezTo>
                  <a:pt x="77" y="46"/>
                  <a:pt x="78" y="46"/>
                  <a:pt x="78" y="47"/>
                </a:cubicBezTo>
                <a:cubicBezTo>
                  <a:pt x="78" y="47"/>
                  <a:pt x="79" y="48"/>
                  <a:pt x="79" y="49"/>
                </a:cubicBezTo>
                <a:cubicBezTo>
                  <a:pt x="76" y="72"/>
                  <a:pt x="90" y="94"/>
                  <a:pt x="113" y="101"/>
                </a:cubicBezTo>
                <a:cubicBezTo>
                  <a:pt x="117" y="102"/>
                  <a:pt x="122" y="103"/>
                  <a:pt x="127" y="103"/>
                </a:cubicBezTo>
                <a:cubicBezTo>
                  <a:pt x="145" y="103"/>
                  <a:pt x="162" y="92"/>
                  <a:pt x="170" y="75"/>
                </a:cubicBezTo>
                <a:cubicBezTo>
                  <a:pt x="170" y="75"/>
                  <a:pt x="171" y="74"/>
                  <a:pt x="171" y="74"/>
                </a:cubicBezTo>
                <a:cubicBezTo>
                  <a:pt x="172" y="74"/>
                  <a:pt x="173" y="74"/>
                  <a:pt x="173" y="75"/>
                </a:cubicBezTo>
                <a:cubicBezTo>
                  <a:pt x="173" y="75"/>
                  <a:pt x="174" y="75"/>
                  <a:pt x="174" y="75"/>
                </a:cubicBezTo>
                <a:cubicBezTo>
                  <a:pt x="175" y="75"/>
                  <a:pt x="177" y="73"/>
                  <a:pt x="178" y="71"/>
                </a:cubicBezTo>
                <a:cubicBezTo>
                  <a:pt x="179" y="68"/>
                  <a:pt x="178" y="65"/>
                  <a:pt x="177" y="65"/>
                </a:cubicBezTo>
                <a:cubicBezTo>
                  <a:pt x="177" y="65"/>
                  <a:pt x="176" y="65"/>
                  <a:pt x="176" y="65"/>
                </a:cubicBezTo>
                <a:cubicBezTo>
                  <a:pt x="176" y="65"/>
                  <a:pt x="176" y="65"/>
                  <a:pt x="176" y="65"/>
                </a:cubicBezTo>
                <a:cubicBezTo>
                  <a:pt x="175" y="66"/>
                  <a:pt x="175" y="67"/>
                  <a:pt x="175" y="69"/>
                </a:cubicBezTo>
                <a:cubicBezTo>
                  <a:pt x="174" y="70"/>
                  <a:pt x="174" y="71"/>
                  <a:pt x="174" y="72"/>
                </a:cubicBezTo>
                <a:cubicBezTo>
                  <a:pt x="155" y="63"/>
                  <a:pt x="141" y="46"/>
                  <a:pt x="135" y="27"/>
                </a:cubicBezTo>
                <a:cubicBezTo>
                  <a:pt x="119" y="40"/>
                  <a:pt x="99" y="46"/>
                  <a:pt x="78" y="44"/>
                </a:cubicBezTo>
                <a:cubicBezTo>
                  <a:pt x="78" y="43"/>
                  <a:pt x="78" y="42"/>
                  <a:pt x="79" y="41"/>
                </a:cubicBezTo>
                <a:cubicBezTo>
                  <a:pt x="79" y="39"/>
                  <a:pt x="79" y="38"/>
                  <a:pt x="80" y="37"/>
                </a:cubicBezTo>
                <a:cubicBezTo>
                  <a:pt x="80" y="36"/>
                  <a:pt x="79" y="36"/>
                  <a:pt x="79" y="36"/>
                </a:cubicBezTo>
                <a:cubicBezTo>
                  <a:pt x="79" y="36"/>
                  <a:pt x="79" y="36"/>
                  <a:pt x="79" y="36"/>
                </a:cubicBezTo>
                <a:cubicBezTo>
                  <a:pt x="77" y="36"/>
                  <a:pt x="76" y="38"/>
                  <a:pt x="75" y="40"/>
                </a:cubicBezTo>
                <a:cubicBezTo>
                  <a:pt x="74" y="43"/>
                  <a:pt x="75" y="46"/>
                  <a:pt x="76" y="46"/>
                </a:cubicBezTo>
                <a:close/>
                <a:moveTo>
                  <a:pt x="115" y="94"/>
                </a:moveTo>
                <a:cubicBezTo>
                  <a:pt x="130" y="98"/>
                  <a:pt x="144" y="91"/>
                  <a:pt x="147" y="79"/>
                </a:cubicBezTo>
                <a:cubicBezTo>
                  <a:pt x="96" y="64"/>
                  <a:pt x="96" y="64"/>
                  <a:pt x="96" y="64"/>
                </a:cubicBezTo>
                <a:cubicBezTo>
                  <a:pt x="92" y="76"/>
                  <a:pt x="101" y="89"/>
                  <a:pt x="115" y="94"/>
                </a:cubicBezTo>
                <a:close/>
                <a:moveTo>
                  <a:pt x="115" y="171"/>
                </a:moveTo>
                <a:cubicBezTo>
                  <a:pt x="117" y="182"/>
                  <a:pt x="130" y="189"/>
                  <a:pt x="143" y="187"/>
                </a:cubicBezTo>
                <a:cubicBezTo>
                  <a:pt x="156" y="184"/>
                  <a:pt x="165" y="173"/>
                  <a:pt x="163" y="162"/>
                </a:cubicBezTo>
                <a:lnTo>
                  <a:pt x="115" y="171"/>
                </a:lnTo>
                <a:close/>
                <a:moveTo>
                  <a:pt x="190" y="185"/>
                </a:moveTo>
                <a:cubicBezTo>
                  <a:pt x="167" y="189"/>
                  <a:pt x="167" y="189"/>
                  <a:pt x="167" y="189"/>
                </a:cubicBezTo>
                <a:cubicBezTo>
                  <a:pt x="160" y="194"/>
                  <a:pt x="153" y="197"/>
                  <a:pt x="145" y="199"/>
                </a:cubicBezTo>
                <a:cubicBezTo>
                  <a:pt x="137" y="200"/>
                  <a:pt x="129" y="200"/>
                  <a:pt x="121" y="197"/>
                </a:cubicBezTo>
                <a:cubicBezTo>
                  <a:pt x="98" y="202"/>
                  <a:pt x="98" y="202"/>
                  <a:pt x="98" y="202"/>
                </a:cubicBezTo>
                <a:cubicBezTo>
                  <a:pt x="98" y="200"/>
                  <a:pt x="98" y="200"/>
                  <a:pt x="98" y="200"/>
                </a:cubicBezTo>
                <a:cubicBezTo>
                  <a:pt x="98" y="200"/>
                  <a:pt x="97" y="198"/>
                  <a:pt x="93" y="173"/>
                </a:cubicBezTo>
                <a:cubicBezTo>
                  <a:pt x="92" y="172"/>
                  <a:pt x="92" y="171"/>
                  <a:pt x="91" y="171"/>
                </a:cubicBezTo>
                <a:cubicBezTo>
                  <a:pt x="88" y="170"/>
                  <a:pt x="84" y="166"/>
                  <a:pt x="83" y="161"/>
                </a:cubicBezTo>
                <a:cubicBezTo>
                  <a:pt x="83" y="157"/>
                  <a:pt x="84" y="152"/>
                  <a:pt x="87" y="150"/>
                </a:cubicBezTo>
                <a:cubicBezTo>
                  <a:pt x="87" y="134"/>
                  <a:pt x="96" y="119"/>
                  <a:pt x="109" y="110"/>
                </a:cubicBezTo>
                <a:cubicBezTo>
                  <a:pt x="109" y="111"/>
                  <a:pt x="110" y="111"/>
                  <a:pt x="110" y="111"/>
                </a:cubicBezTo>
                <a:cubicBezTo>
                  <a:pt x="115" y="112"/>
                  <a:pt x="121" y="113"/>
                  <a:pt x="127" y="113"/>
                </a:cubicBezTo>
                <a:cubicBezTo>
                  <a:pt x="136" y="113"/>
                  <a:pt x="146" y="110"/>
                  <a:pt x="155" y="106"/>
                </a:cubicBezTo>
                <a:cubicBezTo>
                  <a:pt x="167" y="111"/>
                  <a:pt x="176" y="120"/>
                  <a:pt x="181" y="133"/>
                </a:cubicBezTo>
                <a:cubicBezTo>
                  <a:pt x="185" y="133"/>
                  <a:pt x="188" y="137"/>
                  <a:pt x="189" y="142"/>
                </a:cubicBezTo>
                <a:cubicBezTo>
                  <a:pt x="190" y="147"/>
                  <a:pt x="188" y="151"/>
                  <a:pt x="185" y="153"/>
                </a:cubicBezTo>
                <a:cubicBezTo>
                  <a:pt x="185" y="154"/>
                  <a:pt x="185" y="155"/>
                  <a:pt x="185" y="156"/>
                </a:cubicBezTo>
                <a:lnTo>
                  <a:pt x="190" y="185"/>
                </a:lnTo>
                <a:close/>
                <a:moveTo>
                  <a:pt x="183" y="143"/>
                </a:moveTo>
                <a:cubicBezTo>
                  <a:pt x="183" y="140"/>
                  <a:pt x="181" y="139"/>
                  <a:pt x="180" y="139"/>
                </a:cubicBezTo>
                <a:cubicBezTo>
                  <a:pt x="180" y="139"/>
                  <a:pt x="180" y="139"/>
                  <a:pt x="179" y="139"/>
                </a:cubicBezTo>
                <a:cubicBezTo>
                  <a:pt x="179" y="139"/>
                  <a:pt x="179" y="139"/>
                  <a:pt x="179" y="139"/>
                </a:cubicBezTo>
                <a:cubicBezTo>
                  <a:pt x="180" y="140"/>
                  <a:pt x="180" y="141"/>
                  <a:pt x="180" y="143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66" y="141"/>
                  <a:pt x="153" y="134"/>
                  <a:pt x="143" y="123"/>
                </a:cubicBezTo>
                <a:cubicBezTo>
                  <a:pt x="134" y="143"/>
                  <a:pt x="116" y="159"/>
                  <a:pt x="93" y="163"/>
                </a:cubicBezTo>
                <a:cubicBezTo>
                  <a:pt x="93" y="162"/>
                  <a:pt x="92" y="160"/>
                  <a:pt x="92" y="159"/>
                </a:cubicBezTo>
                <a:cubicBezTo>
                  <a:pt x="92" y="158"/>
                  <a:pt x="92" y="157"/>
                  <a:pt x="92" y="155"/>
                </a:cubicBezTo>
                <a:cubicBezTo>
                  <a:pt x="91" y="155"/>
                  <a:pt x="91" y="155"/>
                  <a:pt x="91" y="155"/>
                </a:cubicBezTo>
                <a:cubicBezTo>
                  <a:pt x="90" y="156"/>
                  <a:pt x="89" y="158"/>
                  <a:pt x="89" y="160"/>
                </a:cubicBezTo>
                <a:cubicBezTo>
                  <a:pt x="90" y="163"/>
                  <a:pt x="91" y="164"/>
                  <a:pt x="92" y="164"/>
                </a:cubicBezTo>
                <a:cubicBezTo>
                  <a:pt x="92" y="164"/>
                  <a:pt x="93" y="164"/>
                  <a:pt x="93" y="164"/>
                </a:cubicBezTo>
                <a:cubicBezTo>
                  <a:pt x="93" y="164"/>
                  <a:pt x="94" y="164"/>
                  <a:pt x="94" y="164"/>
                </a:cubicBezTo>
                <a:cubicBezTo>
                  <a:pt x="94" y="164"/>
                  <a:pt x="94" y="164"/>
                  <a:pt x="95" y="164"/>
                </a:cubicBezTo>
                <a:cubicBezTo>
                  <a:pt x="95" y="164"/>
                  <a:pt x="96" y="165"/>
                  <a:pt x="96" y="165"/>
                </a:cubicBezTo>
                <a:cubicBezTo>
                  <a:pt x="102" y="182"/>
                  <a:pt x="118" y="194"/>
                  <a:pt x="136" y="194"/>
                </a:cubicBezTo>
                <a:cubicBezTo>
                  <a:pt x="139" y="194"/>
                  <a:pt x="141" y="193"/>
                  <a:pt x="144" y="193"/>
                </a:cubicBezTo>
                <a:cubicBezTo>
                  <a:pt x="164" y="189"/>
                  <a:pt x="179" y="171"/>
                  <a:pt x="179" y="150"/>
                </a:cubicBezTo>
                <a:cubicBezTo>
                  <a:pt x="179" y="149"/>
                  <a:pt x="179" y="149"/>
                  <a:pt x="179" y="148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1" y="148"/>
                  <a:pt x="182" y="148"/>
                  <a:pt x="182" y="148"/>
                </a:cubicBezTo>
                <a:cubicBezTo>
                  <a:pt x="183" y="147"/>
                  <a:pt x="183" y="145"/>
                  <a:pt x="183" y="143"/>
                </a:cubicBezTo>
                <a:close/>
                <a:moveTo>
                  <a:pt x="65" y="163"/>
                </a:moveTo>
                <a:cubicBezTo>
                  <a:pt x="61" y="164"/>
                  <a:pt x="56" y="165"/>
                  <a:pt x="52" y="165"/>
                </a:cubicBezTo>
                <a:cubicBezTo>
                  <a:pt x="52" y="165"/>
                  <a:pt x="52" y="165"/>
                  <a:pt x="52" y="165"/>
                </a:cubicBezTo>
                <a:cubicBezTo>
                  <a:pt x="36" y="165"/>
                  <a:pt x="21" y="155"/>
                  <a:pt x="14" y="141"/>
                </a:cubicBezTo>
                <a:cubicBezTo>
                  <a:pt x="14" y="140"/>
                  <a:pt x="13" y="140"/>
                  <a:pt x="12" y="140"/>
                </a:cubicBezTo>
                <a:cubicBezTo>
                  <a:pt x="12" y="140"/>
                  <a:pt x="12" y="140"/>
                  <a:pt x="12" y="140"/>
                </a:cubicBezTo>
                <a:cubicBezTo>
                  <a:pt x="12" y="140"/>
                  <a:pt x="11" y="140"/>
                  <a:pt x="11" y="140"/>
                </a:cubicBezTo>
                <a:cubicBezTo>
                  <a:pt x="10" y="140"/>
                  <a:pt x="10" y="140"/>
                  <a:pt x="10" y="140"/>
                </a:cubicBezTo>
                <a:cubicBezTo>
                  <a:pt x="9" y="140"/>
                  <a:pt x="8" y="139"/>
                  <a:pt x="7" y="137"/>
                </a:cubicBezTo>
                <a:cubicBezTo>
                  <a:pt x="6" y="135"/>
                  <a:pt x="7" y="133"/>
                  <a:pt x="7" y="132"/>
                </a:cubicBezTo>
                <a:cubicBezTo>
                  <a:pt x="7" y="132"/>
                  <a:pt x="7" y="132"/>
                  <a:pt x="8" y="132"/>
                </a:cubicBezTo>
                <a:cubicBezTo>
                  <a:pt x="8" y="132"/>
                  <a:pt x="8" y="132"/>
                  <a:pt x="8" y="132"/>
                </a:cubicBezTo>
                <a:cubicBezTo>
                  <a:pt x="8" y="132"/>
                  <a:pt x="8" y="132"/>
                  <a:pt x="9" y="132"/>
                </a:cubicBezTo>
                <a:cubicBezTo>
                  <a:pt x="9" y="133"/>
                  <a:pt x="9" y="134"/>
                  <a:pt x="10" y="135"/>
                </a:cubicBezTo>
                <a:cubicBezTo>
                  <a:pt x="10" y="137"/>
                  <a:pt x="10" y="138"/>
                  <a:pt x="11" y="139"/>
                </a:cubicBezTo>
                <a:cubicBezTo>
                  <a:pt x="33" y="132"/>
                  <a:pt x="49" y="115"/>
                  <a:pt x="55" y="94"/>
                </a:cubicBezTo>
                <a:cubicBezTo>
                  <a:pt x="67" y="103"/>
                  <a:pt x="80" y="109"/>
                  <a:pt x="95" y="109"/>
                </a:cubicBezTo>
                <a:cubicBezTo>
                  <a:pt x="95" y="109"/>
                  <a:pt x="95" y="109"/>
                  <a:pt x="95" y="109"/>
                </a:cubicBezTo>
                <a:cubicBezTo>
                  <a:pt x="95" y="108"/>
                  <a:pt x="94" y="107"/>
                  <a:pt x="94" y="106"/>
                </a:cubicBezTo>
                <a:cubicBezTo>
                  <a:pt x="94" y="105"/>
                  <a:pt x="94" y="105"/>
                  <a:pt x="95" y="105"/>
                </a:cubicBezTo>
                <a:cubicBezTo>
                  <a:pt x="95" y="105"/>
                  <a:pt x="97" y="106"/>
                  <a:pt x="98" y="109"/>
                </a:cubicBezTo>
                <a:cubicBezTo>
                  <a:pt x="98" y="110"/>
                  <a:pt x="98" y="112"/>
                  <a:pt x="98" y="113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97" y="114"/>
                  <a:pt x="95" y="114"/>
                  <a:pt x="95" y="115"/>
                </a:cubicBezTo>
                <a:cubicBezTo>
                  <a:pt x="94" y="115"/>
                  <a:pt x="94" y="116"/>
                  <a:pt x="94" y="116"/>
                </a:cubicBezTo>
                <a:cubicBezTo>
                  <a:pt x="94" y="117"/>
                  <a:pt x="94" y="118"/>
                  <a:pt x="94" y="118"/>
                </a:cubicBezTo>
                <a:cubicBezTo>
                  <a:pt x="97" y="115"/>
                  <a:pt x="100" y="112"/>
                  <a:pt x="104" y="109"/>
                </a:cubicBezTo>
                <a:cubicBezTo>
                  <a:pt x="104" y="109"/>
                  <a:pt x="104" y="109"/>
                  <a:pt x="104" y="109"/>
                </a:cubicBezTo>
                <a:cubicBezTo>
                  <a:pt x="90" y="103"/>
                  <a:pt x="79" y="92"/>
                  <a:pt x="73" y="78"/>
                </a:cubicBezTo>
                <a:cubicBezTo>
                  <a:pt x="67" y="75"/>
                  <a:pt x="60" y="73"/>
                  <a:pt x="52" y="73"/>
                </a:cubicBezTo>
                <a:cubicBezTo>
                  <a:pt x="47" y="73"/>
                  <a:pt x="43" y="74"/>
                  <a:pt x="38" y="76"/>
                </a:cubicBezTo>
                <a:cubicBezTo>
                  <a:pt x="16" y="82"/>
                  <a:pt x="1" y="104"/>
                  <a:pt x="4" y="127"/>
                </a:cubicBezTo>
                <a:cubicBezTo>
                  <a:pt x="3" y="128"/>
                  <a:pt x="2" y="128"/>
                  <a:pt x="2" y="129"/>
                </a:cubicBezTo>
                <a:cubicBezTo>
                  <a:pt x="0" y="132"/>
                  <a:pt x="0" y="135"/>
                  <a:pt x="1" y="139"/>
                </a:cubicBezTo>
                <a:cubicBezTo>
                  <a:pt x="3" y="143"/>
                  <a:pt x="6" y="147"/>
                  <a:pt x="10" y="147"/>
                </a:cubicBezTo>
                <a:cubicBezTo>
                  <a:pt x="19" y="162"/>
                  <a:pt x="35" y="171"/>
                  <a:pt x="52" y="171"/>
                </a:cubicBezTo>
                <a:cubicBezTo>
                  <a:pt x="57" y="171"/>
                  <a:pt x="62" y="170"/>
                  <a:pt x="66" y="169"/>
                </a:cubicBezTo>
                <a:cubicBezTo>
                  <a:pt x="71" y="167"/>
                  <a:pt x="75" y="165"/>
                  <a:pt x="79" y="163"/>
                </a:cubicBezTo>
                <a:cubicBezTo>
                  <a:pt x="79" y="162"/>
                  <a:pt x="79" y="162"/>
                  <a:pt x="79" y="162"/>
                </a:cubicBezTo>
                <a:cubicBezTo>
                  <a:pt x="79" y="160"/>
                  <a:pt x="79" y="157"/>
                  <a:pt x="80" y="155"/>
                </a:cubicBezTo>
                <a:cubicBezTo>
                  <a:pt x="75" y="158"/>
                  <a:pt x="70" y="161"/>
                  <a:pt x="65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6" name="Freeform 54"/>
          <p:cNvSpPr/>
          <p:nvPr/>
        </p:nvSpPr>
        <p:spPr>
          <a:xfrm>
            <a:off x="1411200" y="3481560"/>
            <a:ext cx="435240" cy="566640"/>
          </a:xfrm>
          <a:custGeom>
            <a:avLst/>
            <a:gdLst/>
            <a:ahLst/>
            <a:rect l="l" t="t" r="r" b="b"/>
            <a:pathLst>
              <a:path w="143" h="186">
                <a:moveTo>
                  <a:pt x="133" y="105"/>
                </a:moveTo>
                <a:cubicBezTo>
                  <a:pt x="108" y="72"/>
                  <a:pt x="108" y="72"/>
                  <a:pt x="108" y="72"/>
                </a:cubicBezTo>
                <a:cubicBezTo>
                  <a:pt x="108" y="88"/>
                  <a:pt x="108" y="88"/>
                  <a:pt x="108" y="88"/>
                </a:cubicBezTo>
                <a:cubicBezTo>
                  <a:pt x="108" y="92"/>
                  <a:pt x="104" y="96"/>
                  <a:pt x="100" y="96"/>
                </a:cubicBezTo>
                <a:cubicBezTo>
                  <a:pt x="95" y="96"/>
                  <a:pt x="92" y="92"/>
                  <a:pt x="92" y="88"/>
                </a:cubicBezTo>
                <a:cubicBezTo>
                  <a:pt x="92" y="71"/>
                  <a:pt x="92" y="71"/>
                  <a:pt x="92" y="71"/>
                </a:cubicBezTo>
                <a:cubicBezTo>
                  <a:pt x="92" y="70"/>
                  <a:pt x="91" y="67"/>
                  <a:pt x="90" y="64"/>
                </a:cubicBezTo>
                <a:cubicBezTo>
                  <a:pt x="89" y="65"/>
                  <a:pt x="89" y="65"/>
                  <a:pt x="88" y="65"/>
                </a:cubicBezTo>
                <a:cubicBezTo>
                  <a:pt x="87" y="67"/>
                  <a:pt x="86" y="70"/>
                  <a:pt x="86" y="71"/>
                </a:cubicBezTo>
                <a:cubicBezTo>
                  <a:pt x="86" y="76"/>
                  <a:pt x="86" y="76"/>
                  <a:pt x="86" y="76"/>
                </a:cubicBezTo>
                <a:cubicBezTo>
                  <a:pt x="86" y="81"/>
                  <a:pt x="83" y="84"/>
                  <a:pt x="78" y="84"/>
                </a:cubicBezTo>
                <a:cubicBezTo>
                  <a:pt x="74" y="84"/>
                  <a:pt x="70" y="81"/>
                  <a:pt x="70" y="76"/>
                </a:cubicBezTo>
                <a:cubicBezTo>
                  <a:pt x="70" y="71"/>
                  <a:pt x="70" y="71"/>
                  <a:pt x="70" y="71"/>
                </a:cubicBezTo>
                <a:cubicBezTo>
                  <a:pt x="70" y="68"/>
                  <a:pt x="71" y="64"/>
                  <a:pt x="73" y="60"/>
                </a:cubicBezTo>
                <a:cubicBezTo>
                  <a:pt x="65" y="60"/>
                  <a:pt x="65" y="60"/>
                  <a:pt x="65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4" y="115"/>
                  <a:pt x="0" y="132"/>
                  <a:pt x="0" y="143"/>
                </a:cubicBezTo>
                <a:cubicBezTo>
                  <a:pt x="0" y="158"/>
                  <a:pt x="0" y="158"/>
                  <a:pt x="0" y="158"/>
                </a:cubicBezTo>
                <a:cubicBezTo>
                  <a:pt x="0" y="169"/>
                  <a:pt x="17" y="186"/>
                  <a:pt x="28" y="186"/>
                </a:cubicBezTo>
                <a:cubicBezTo>
                  <a:pt x="115" y="186"/>
                  <a:pt x="115" y="186"/>
                  <a:pt x="115" y="186"/>
                </a:cubicBezTo>
                <a:cubicBezTo>
                  <a:pt x="126" y="186"/>
                  <a:pt x="143" y="169"/>
                  <a:pt x="143" y="158"/>
                </a:cubicBezTo>
                <a:cubicBezTo>
                  <a:pt x="143" y="143"/>
                  <a:pt x="143" y="143"/>
                  <a:pt x="143" y="143"/>
                </a:cubicBezTo>
                <a:cubicBezTo>
                  <a:pt x="143" y="132"/>
                  <a:pt x="139" y="115"/>
                  <a:pt x="133" y="105"/>
                </a:cubicBezTo>
                <a:close/>
                <a:moveTo>
                  <a:pt x="78" y="161"/>
                </a:moveTo>
                <a:cubicBezTo>
                  <a:pt x="78" y="171"/>
                  <a:pt x="78" y="171"/>
                  <a:pt x="78" y="171"/>
                </a:cubicBezTo>
                <a:cubicBezTo>
                  <a:pt x="65" y="171"/>
                  <a:pt x="65" y="171"/>
                  <a:pt x="65" y="171"/>
                </a:cubicBezTo>
                <a:cubicBezTo>
                  <a:pt x="65" y="162"/>
                  <a:pt x="65" y="162"/>
                  <a:pt x="65" y="162"/>
                </a:cubicBezTo>
                <a:cubicBezTo>
                  <a:pt x="61" y="161"/>
                  <a:pt x="57" y="160"/>
                  <a:pt x="54" y="158"/>
                </a:cubicBezTo>
                <a:cubicBezTo>
                  <a:pt x="52" y="156"/>
                  <a:pt x="52" y="156"/>
                  <a:pt x="52" y="156"/>
                </a:cubicBezTo>
                <a:cubicBezTo>
                  <a:pt x="56" y="144"/>
                  <a:pt x="56" y="144"/>
                  <a:pt x="56" y="144"/>
                </a:cubicBezTo>
                <a:cubicBezTo>
                  <a:pt x="60" y="146"/>
                  <a:pt x="60" y="146"/>
                  <a:pt x="60" y="146"/>
                </a:cubicBezTo>
                <a:cubicBezTo>
                  <a:pt x="63" y="148"/>
                  <a:pt x="67" y="149"/>
                  <a:pt x="70" y="149"/>
                </a:cubicBezTo>
                <a:cubicBezTo>
                  <a:pt x="74" y="149"/>
                  <a:pt x="77" y="147"/>
                  <a:pt x="77" y="145"/>
                </a:cubicBezTo>
                <a:cubicBezTo>
                  <a:pt x="77" y="143"/>
                  <a:pt x="76" y="141"/>
                  <a:pt x="69" y="138"/>
                </a:cubicBezTo>
                <a:cubicBezTo>
                  <a:pt x="61" y="135"/>
                  <a:pt x="53" y="130"/>
                  <a:pt x="53" y="120"/>
                </a:cubicBezTo>
                <a:cubicBezTo>
                  <a:pt x="53" y="112"/>
                  <a:pt x="58" y="106"/>
                  <a:pt x="66" y="103"/>
                </a:cubicBezTo>
                <a:cubicBezTo>
                  <a:pt x="66" y="94"/>
                  <a:pt x="66" y="94"/>
                  <a:pt x="66" y="94"/>
                </a:cubicBezTo>
                <a:cubicBezTo>
                  <a:pt x="78" y="94"/>
                  <a:pt x="78" y="94"/>
                  <a:pt x="78" y="94"/>
                </a:cubicBezTo>
                <a:cubicBezTo>
                  <a:pt x="78" y="103"/>
                  <a:pt x="78" y="103"/>
                  <a:pt x="78" y="103"/>
                </a:cubicBezTo>
                <a:cubicBezTo>
                  <a:pt x="82" y="103"/>
                  <a:pt x="85" y="104"/>
                  <a:pt x="88" y="106"/>
                </a:cubicBezTo>
                <a:cubicBezTo>
                  <a:pt x="90" y="107"/>
                  <a:pt x="90" y="107"/>
                  <a:pt x="90" y="107"/>
                </a:cubicBezTo>
                <a:cubicBezTo>
                  <a:pt x="86" y="120"/>
                  <a:pt x="86" y="120"/>
                  <a:pt x="86" y="120"/>
                </a:cubicBezTo>
                <a:cubicBezTo>
                  <a:pt x="82" y="118"/>
                  <a:pt x="82" y="118"/>
                  <a:pt x="82" y="118"/>
                </a:cubicBezTo>
                <a:cubicBezTo>
                  <a:pt x="81" y="117"/>
                  <a:pt x="78" y="115"/>
                  <a:pt x="73" y="115"/>
                </a:cubicBezTo>
                <a:cubicBezTo>
                  <a:pt x="70" y="115"/>
                  <a:pt x="68" y="117"/>
                  <a:pt x="68" y="119"/>
                </a:cubicBezTo>
                <a:cubicBezTo>
                  <a:pt x="68" y="121"/>
                  <a:pt x="68" y="122"/>
                  <a:pt x="76" y="125"/>
                </a:cubicBezTo>
                <a:cubicBezTo>
                  <a:pt x="83" y="128"/>
                  <a:pt x="91" y="133"/>
                  <a:pt x="91" y="144"/>
                </a:cubicBezTo>
                <a:cubicBezTo>
                  <a:pt x="91" y="152"/>
                  <a:pt x="86" y="159"/>
                  <a:pt x="78" y="161"/>
                </a:cubicBezTo>
                <a:close/>
                <a:moveTo>
                  <a:pt x="45" y="42"/>
                </a:moveTo>
                <a:cubicBezTo>
                  <a:pt x="32" y="0"/>
                  <a:pt x="32" y="0"/>
                  <a:pt x="32" y="0"/>
                </a:cubicBezTo>
                <a:cubicBezTo>
                  <a:pt x="40" y="2"/>
                  <a:pt x="41" y="9"/>
                  <a:pt x="50" y="9"/>
                </a:cubicBezTo>
                <a:cubicBezTo>
                  <a:pt x="61" y="9"/>
                  <a:pt x="61" y="0"/>
                  <a:pt x="72" y="0"/>
                </a:cubicBezTo>
                <a:cubicBezTo>
                  <a:pt x="82" y="0"/>
                  <a:pt x="82" y="9"/>
                  <a:pt x="93" y="9"/>
                </a:cubicBezTo>
                <a:cubicBezTo>
                  <a:pt x="102" y="9"/>
                  <a:pt x="103" y="2"/>
                  <a:pt x="111" y="0"/>
                </a:cubicBezTo>
                <a:cubicBezTo>
                  <a:pt x="98" y="42"/>
                  <a:pt x="98" y="42"/>
                  <a:pt x="98" y="42"/>
                </a:cubicBezTo>
                <a:lnTo>
                  <a:pt x="45" y="42"/>
                </a:lnTo>
                <a:close/>
                <a:moveTo>
                  <a:pt x="100" y="56"/>
                </a:moveTo>
                <a:cubicBezTo>
                  <a:pt x="99" y="56"/>
                  <a:pt x="99" y="56"/>
                  <a:pt x="99" y="56"/>
                </a:cubicBezTo>
                <a:cubicBezTo>
                  <a:pt x="101" y="60"/>
                  <a:pt x="104" y="66"/>
                  <a:pt x="104" y="71"/>
                </a:cubicBezTo>
                <a:cubicBezTo>
                  <a:pt x="104" y="88"/>
                  <a:pt x="104" y="88"/>
                  <a:pt x="104" y="88"/>
                </a:cubicBezTo>
                <a:cubicBezTo>
                  <a:pt x="104" y="90"/>
                  <a:pt x="102" y="92"/>
                  <a:pt x="100" y="92"/>
                </a:cubicBezTo>
                <a:cubicBezTo>
                  <a:pt x="97" y="92"/>
                  <a:pt x="96" y="90"/>
                  <a:pt x="96" y="88"/>
                </a:cubicBezTo>
                <a:cubicBezTo>
                  <a:pt x="96" y="71"/>
                  <a:pt x="96" y="71"/>
                  <a:pt x="96" y="71"/>
                </a:cubicBezTo>
                <a:cubicBezTo>
                  <a:pt x="96" y="68"/>
                  <a:pt x="94" y="63"/>
                  <a:pt x="92" y="60"/>
                </a:cubicBezTo>
                <a:cubicBezTo>
                  <a:pt x="91" y="60"/>
                  <a:pt x="89" y="61"/>
                  <a:pt x="88" y="61"/>
                </a:cubicBezTo>
                <a:cubicBezTo>
                  <a:pt x="87" y="61"/>
                  <a:pt x="86" y="60"/>
                  <a:pt x="86" y="60"/>
                </a:cubicBezTo>
                <a:cubicBezTo>
                  <a:pt x="84" y="64"/>
                  <a:pt x="82" y="68"/>
                  <a:pt x="82" y="71"/>
                </a:cubicBezTo>
                <a:cubicBezTo>
                  <a:pt x="82" y="76"/>
                  <a:pt x="82" y="76"/>
                  <a:pt x="82" y="76"/>
                </a:cubicBezTo>
                <a:cubicBezTo>
                  <a:pt x="82" y="79"/>
                  <a:pt x="80" y="80"/>
                  <a:pt x="78" y="80"/>
                </a:cubicBezTo>
                <a:cubicBezTo>
                  <a:pt x="76" y="80"/>
                  <a:pt x="74" y="79"/>
                  <a:pt x="74" y="76"/>
                </a:cubicBezTo>
                <a:cubicBezTo>
                  <a:pt x="74" y="71"/>
                  <a:pt x="74" y="71"/>
                  <a:pt x="74" y="71"/>
                </a:cubicBezTo>
                <a:cubicBezTo>
                  <a:pt x="74" y="66"/>
                  <a:pt x="77" y="60"/>
                  <a:pt x="79" y="56"/>
                </a:cubicBezTo>
                <a:cubicBezTo>
                  <a:pt x="44" y="56"/>
                  <a:pt x="44" y="56"/>
                  <a:pt x="44" y="56"/>
                </a:cubicBezTo>
                <a:cubicBezTo>
                  <a:pt x="41" y="56"/>
                  <a:pt x="40" y="54"/>
                  <a:pt x="40" y="52"/>
                </a:cubicBezTo>
                <a:cubicBezTo>
                  <a:pt x="40" y="49"/>
                  <a:pt x="41" y="48"/>
                  <a:pt x="44" y="48"/>
                </a:cubicBezTo>
                <a:cubicBezTo>
                  <a:pt x="82" y="48"/>
                  <a:pt x="82" y="48"/>
                  <a:pt x="82" y="48"/>
                </a:cubicBezTo>
                <a:cubicBezTo>
                  <a:pt x="83" y="46"/>
                  <a:pt x="85" y="45"/>
                  <a:pt x="88" y="45"/>
                </a:cubicBezTo>
                <a:cubicBezTo>
                  <a:pt x="90" y="45"/>
                  <a:pt x="92" y="46"/>
                  <a:pt x="94" y="48"/>
                </a:cubicBezTo>
                <a:cubicBezTo>
                  <a:pt x="100" y="48"/>
                  <a:pt x="100" y="48"/>
                  <a:pt x="100" y="48"/>
                </a:cubicBezTo>
                <a:cubicBezTo>
                  <a:pt x="102" y="48"/>
                  <a:pt x="104" y="49"/>
                  <a:pt x="104" y="52"/>
                </a:cubicBezTo>
                <a:cubicBezTo>
                  <a:pt x="104" y="54"/>
                  <a:pt x="102" y="56"/>
                  <a:pt x="100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7" name="Freeform 82"/>
          <p:cNvSpPr/>
          <p:nvPr/>
        </p:nvSpPr>
        <p:spPr>
          <a:xfrm>
            <a:off x="2998800" y="3506760"/>
            <a:ext cx="393840" cy="515880"/>
          </a:xfrm>
          <a:custGeom>
            <a:avLst/>
            <a:gdLst/>
            <a:ahLst/>
            <a:rect l="l" t="t" r="r" b="b"/>
            <a:pathLst>
              <a:path w="129" h="169">
                <a:moveTo>
                  <a:pt x="120" y="56"/>
                </a:moveTo>
                <a:cubicBezTo>
                  <a:pt x="120" y="49"/>
                  <a:pt x="119" y="41"/>
                  <a:pt x="116" y="34"/>
                </a:cubicBezTo>
                <a:cubicBezTo>
                  <a:pt x="107" y="14"/>
                  <a:pt x="87" y="0"/>
                  <a:pt x="64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41" y="0"/>
                  <a:pt x="21" y="14"/>
                  <a:pt x="13" y="34"/>
                </a:cubicBezTo>
                <a:cubicBezTo>
                  <a:pt x="10" y="41"/>
                  <a:pt x="8" y="49"/>
                  <a:pt x="8" y="56"/>
                </a:cubicBezTo>
                <a:cubicBezTo>
                  <a:pt x="8" y="84"/>
                  <a:pt x="8" y="84"/>
                  <a:pt x="8" y="84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169"/>
                  <a:pt x="0" y="169"/>
                  <a:pt x="0" y="169"/>
                </a:cubicBezTo>
                <a:cubicBezTo>
                  <a:pt x="129" y="169"/>
                  <a:pt x="129" y="169"/>
                  <a:pt x="129" y="169"/>
                </a:cubicBezTo>
                <a:cubicBezTo>
                  <a:pt x="129" y="84"/>
                  <a:pt x="129" y="84"/>
                  <a:pt x="129" y="84"/>
                </a:cubicBezTo>
                <a:cubicBezTo>
                  <a:pt x="120" y="84"/>
                  <a:pt x="120" y="84"/>
                  <a:pt x="120" y="84"/>
                </a:cubicBezTo>
                <a:lnTo>
                  <a:pt x="120" y="56"/>
                </a:lnTo>
                <a:close/>
                <a:moveTo>
                  <a:pt x="72" y="142"/>
                </a:moveTo>
                <a:cubicBezTo>
                  <a:pt x="57" y="142"/>
                  <a:pt x="57" y="142"/>
                  <a:pt x="57" y="142"/>
                </a:cubicBezTo>
                <a:cubicBezTo>
                  <a:pt x="57" y="121"/>
                  <a:pt x="57" y="121"/>
                  <a:pt x="57" y="121"/>
                </a:cubicBezTo>
                <a:cubicBezTo>
                  <a:pt x="72" y="121"/>
                  <a:pt x="72" y="121"/>
                  <a:pt x="72" y="121"/>
                </a:cubicBezTo>
                <a:lnTo>
                  <a:pt x="72" y="142"/>
                </a:lnTo>
                <a:close/>
                <a:moveTo>
                  <a:pt x="105" y="84"/>
                </a:moveTo>
                <a:cubicBezTo>
                  <a:pt x="24" y="84"/>
                  <a:pt x="24" y="84"/>
                  <a:pt x="24" y="84"/>
                </a:cubicBezTo>
                <a:cubicBezTo>
                  <a:pt x="24" y="56"/>
                  <a:pt x="24" y="56"/>
                  <a:pt x="24" y="56"/>
                </a:cubicBezTo>
                <a:cubicBezTo>
                  <a:pt x="24" y="34"/>
                  <a:pt x="42" y="16"/>
                  <a:pt x="64" y="16"/>
                </a:cubicBezTo>
                <a:cubicBezTo>
                  <a:pt x="86" y="16"/>
                  <a:pt x="105" y="34"/>
                  <a:pt x="105" y="56"/>
                </a:cubicBezTo>
                <a:lnTo>
                  <a:pt x="105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0" dur="indefinite" restart="never" nodeType="tmRoot">
          <p:childTnLst>
            <p:seq>
              <p:cTn id="2191" dur="indefinite" nodeType="mainSeq">
                <p:childTnLst>
                  <p:par>
                    <p:cTn id="2192" nodeType="clickEffect" fill="hold">
                      <p:stCondLst>
                        <p:cond delay="0"/>
                      </p:stCondLst>
                      <p:childTnLst>
                        <p:par>
                          <p:cTn id="2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1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5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7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1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9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9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7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7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5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3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Poppins"/>
              </a:rPr>
              <a:t>Puzzle Ball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33" name="Freeform 5"/>
          <p:cNvSpPr/>
          <p:nvPr/>
        </p:nvSpPr>
        <p:spPr>
          <a:xfrm>
            <a:off x="5184720" y="2916360"/>
            <a:ext cx="1854360" cy="1697040"/>
          </a:xfrm>
          <a:custGeom>
            <a:avLst/>
            <a:gdLst/>
            <a:ahLst/>
            <a:rect l="l" t="t" r="r" b="b"/>
            <a:pathLst>
              <a:path w="351" h="321">
                <a:moveTo>
                  <a:pt x="351" y="219"/>
                </a:moveTo>
                <a:cubicBezTo>
                  <a:pt x="350" y="226"/>
                  <a:pt x="349" y="233"/>
                  <a:pt x="341" y="238"/>
                </a:cubicBezTo>
                <a:cubicBezTo>
                  <a:pt x="334" y="242"/>
                  <a:pt x="326" y="239"/>
                  <a:pt x="323" y="231"/>
                </a:cubicBezTo>
                <a:cubicBezTo>
                  <a:pt x="321" y="224"/>
                  <a:pt x="316" y="220"/>
                  <a:pt x="309" y="218"/>
                </a:cubicBezTo>
                <a:cubicBezTo>
                  <a:pt x="306" y="217"/>
                  <a:pt x="306" y="219"/>
                  <a:pt x="305" y="221"/>
                </a:cubicBezTo>
                <a:cubicBezTo>
                  <a:pt x="300" y="239"/>
                  <a:pt x="295" y="257"/>
                  <a:pt x="289" y="275"/>
                </a:cubicBezTo>
                <a:cubicBezTo>
                  <a:pt x="288" y="282"/>
                  <a:pt x="286" y="289"/>
                  <a:pt x="283" y="296"/>
                </a:cubicBezTo>
                <a:cubicBezTo>
                  <a:pt x="279" y="308"/>
                  <a:pt x="269" y="315"/>
                  <a:pt x="257" y="316"/>
                </a:cubicBezTo>
                <a:cubicBezTo>
                  <a:pt x="237" y="317"/>
                  <a:pt x="218" y="317"/>
                  <a:pt x="198" y="318"/>
                </a:cubicBezTo>
                <a:cubicBezTo>
                  <a:pt x="172" y="319"/>
                  <a:pt x="145" y="319"/>
                  <a:pt x="118" y="321"/>
                </a:cubicBezTo>
                <a:cubicBezTo>
                  <a:pt x="109" y="321"/>
                  <a:pt x="99" y="321"/>
                  <a:pt x="90" y="321"/>
                </a:cubicBezTo>
                <a:cubicBezTo>
                  <a:pt x="76" y="321"/>
                  <a:pt x="64" y="312"/>
                  <a:pt x="59" y="299"/>
                </a:cubicBezTo>
                <a:cubicBezTo>
                  <a:pt x="41" y="248"/>
                  <a:pt x="23" y="196"/>
                  <a:pt x="5" y="145"/>
                </a:cubicBezTo>
                <a:cubicBezTo>
                  <a:pt x="0" y="132"/>
                  <a:pt x="4" y="119"/>
                  <a:pt x="15" y="110"/>
                </a:cubicBezTo>
                <a:cubicBezTo>
                  <a:pt x="58" y="77"/>
                  <a:pt x="100" y="44"/>
                  <a:pt x="143" y="11"/>
                </a:cubicBezTo>
                <a:cubicBezTo>
                  <a:pt x="157" y="0"/>
                  <a:pt x="168" y="0"/>
                  <a:pt x="182" y="9"/>
                </a:cubicBezTo>
                <a:cubicBezTo>
                  <a:pt x="227" y="39"/>
                  <a:pt x="272" y="70"/>
                  <a:pt x="316" y="99"/>
                </a:cubicBezTo>
                <a:cubicBezTo>
                  <a:pt x="325" y="105"/>
                  <a:pt x="330" y="113"/>
                  <a:pt x="332" y="123"/>
                </a:cubicBezTo>
                <a:cubicBezTo>
                  <a:pt x="332" y="127"/>
                  <a:pt x="332" y="130"/>
                  <a:pt x="331" y="134"/>
                </a:cubicBezTo>
                <a:cubicBezTo>
                  <a:pt x="324" y="157"/>
                  <a:pt x="318" y="180"/>
                  <a:pt x="311" y="203"/>
                </a:cubicBezTo>
                <a:cubicBezTo>
                  <a:pt x="309" y="207"/>
                  <a:pt x="310" y="209"/>
                  <a:pt x="314" y="210"/>
                </a:cubicBezTo>
                <a:cubicBezTo>
                  <a:pt x="321" y="211"/>
                  <a:pt x="326" y="212"/>
                  <a:pt x="331" y="207"/>
                </a:cubicBezTo>
                <a:cubicBezTo>
                  <a:pt x="335" y="203"/>
                  <a:pt x="340" y="204"/>
                  <a:pt x="344" y="206"/>
                </a:cubicBezTo>
                <a:cubicBezTo>
                  <a:pt x="349" y="209"/>
                  <a:pt x="351" y="213"/>
                  <a:pt x="351" y="219"/>
                </a:cubicBezTo>
                <a:close/>
              </a:path>
            </a:pathLst>
          </a:custGeom>
          <a:solidFill>
            <a:srgbClr val="1f60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4" name="Freeform 6"/>
          <p:cNvSpPr/>
          <p:nvPr/>
        </p:nvSpPr>
        <p:spPr>
          <a:xfrm>
            <a:off x="5121360" y="4602240"/>
            <a:ext cx="1971720" cy="1200240"/>
          </a:xfrm>
          <a:custGeom>
            <a:avLst/>
            <a:gdLst/>
            <a:ahLst/>
            <a:rect l="l" t="t" r="r" b="b"/>
            <a:pathLst>
              <a:path w="373" h="227">
                <a:moveTo>
                  <a:pt x="123" y="227"/>
                </a:moveTo>
                <a:cubicBezTo>
                  <a:pt x="121" y="227"/>
                  <a:pt x="119" y="227"/>
                  <a:pt x="118" y="227"/>
                </a:cubicBezTo>
                <a:cubicBezTo>
                  <a:pt x="114" y="227"/>
                  <a:pt x="111" y="226"/>
                  <a:pt x="110" y="222"/>
                </a:cubicBezTo>
                <a:cubicBezTo>
                  <a:pt x="109" y="220"/>
                  <a:pt x="107" y="218"/>
                  <a:pt x="105" y="216"/>
                </a:cubicBezTo>
                <a:cubicBezTo>
                  <a:pt x="92" y="203"/>
                  <a:pt x="79" y="190"/>
                  <a:pt x="66" y="178"/>
                </a:cubicBezTo>
                <a:cubicBezTo>
                  <a:pt x="65" y="177"/>
                  <a:pt x="65" y="176"/>
                  <a:pt x="64" y="176"/>
                </a:cubicBezTo>
                <a:cubicBezTo>
                  <a:pt x="62" y="175"/>
                  <a:pt x="61" y="171"/>
                  <a:pt x="58" y="172"/>
                </a:cubicBezTo>
                <a:cubicBezTo>
                  <a:pt x="55" y="174"/>
                  <a:pt x="53" y="178"/>
                  <a:pt x="53" y="181"/>
                </a:cubicBezTo>
                <a:cubicBezTo>
                  <a:pt x="53" y="183"/>
                  <a:pt x="54" y="185"/>
                  <a:pt x="54" y="186"/>
                </a:cubicBezTo>
                <a:cubicBezTo>
                  <a:pt x="55" y="190"/>
                  <a:pt x="54" y="193"/>
                  <a:pt x="51" y="196"/>
                </a:cubicBezTo>
                <a:cubicBezTo>
                  <a:pt x="48" y="199"/>
                  <a:pt x="44" y="199"/>
                  <a:pt x="40" y="197"/>
                </a:cubicBezTo>
                <a:cubicBezTo>
                  <a:pt x="36" y="195"/>
                  <a:pt x="33" y="192"/>
                  <a:pt x="30" y="188"/>
                </a:cubicBezTo>
                <a:cubicBezTo>
                  <a:pt x="28" y="186"/>
                  <a:pt x="27" y="183"/>
                  <a:pt x="29" y="179"/>
                </a:cubicBezTo>
                <a:cubicBezTo>
                  <a:pt x="31" y="175"/>
                  <a:pt x="34" y="173"/>
                  <a:pt x="38" y="173"/>
                </a:cubicBezTo>
                <a:cubicBezTo>
                  <a:pt x="44" y="173"/>
                  <a:pt x="47" y="171"/>
                  <a:pt x="51" y="167"/>
                </a:cubicBezTo>
                <a:cubicBezTo>
                  <a:pt x="52" y="166"/>
                  <a:pt x="52" y="165"/>
                  <a:pt x="51" y="163"/>
                </a:cubicBezTo>
                <a:cubicBezTo>
                  <a:pt x="37" y="150"/>
                  <a:pt x="24" y="137"/>
                  <a:pt x="10" y="124"/>
                </a:cubicBezTo>
                <a:cubicBezTo>
                  <a:pt x="0" y="115"/>
                  <a:pt x="0" y="115"/>
                  <a:pt x="8" y="104"/>
                </a:cubicBezTo>
                <a:cubicBezTo>
                  <a:pt x="19" y="91"/>
                  <a:pt x="29" y="78"/>
                  <a:pt x="39" y="65"/>
                </a:cubicBezTo>
                <a:cubicBezTo>
                  <a:pt x="42" y="62"/>
                  <a:pt x="42" y="60"/>
                  <a:pt x="38" y="58"/>
                </a:cubicBezTo>
                <a:cubicBezTo>
                  <a:pt x="34" y="55"/>
                  <a:pt x="30" y="54"/>
                  <a:pt x="25" y="55"/>
                </a:cubicBezTo>
                <a:cubicBezTo>
                  <a:pt x="22" y="56"/>
                  <a:pt x="19" y="56"/>
                  <a:pt x="16" y="55"/>
                </a:cubicBezTo>
                <a:cubicBezTo>
                  <a:pt x="11" y="53"/>
                  <a:pt x="9" y="48"/>
                  <a:pt x="10" y="43"/>
                </a:cubicBezTo>
                <a:cubicBezTo>
                  <a:pt x="12" y="38"/>
                  <a:pt x="16" y="34"/>
                  <a:pt x="19" y="31"/>
                </a:cubicBezTo>
                <a:cubicBezTo>
                  <a:pt x="26" y="26"/>
                  <a:pt x="35" y="30"/>
                  <a:pt x="36" y="39"/>
                </a:cubicBezTo>
                <a:cubicBezTo>
                  <a:pt x="36" y="43"/>
                  <a:pt x="38" y="47"/>
                  <a:pt x="41" y="50"/>
                </a:cubicBezTo>
                <a:cubicBezTo>
                  <a:pt x="45" y="54"/>
                  <a:pt x="47" y="53"/>
                  <a:pt x="50" y="49"/>
                </a:cubicBezTo>
                <a:cubicBezTo>
                  <a:pt x="59" y="37"/>
                  <a:pt x="69" y="25"/>
                  <a:pt x="78" y="13"/>
                </a:cubicBezTo>
                <a:cubicBezTo>
                  <a:pt x="82" y="7"/>
                  <a:pt x="82" y="7"/>
                  <a:pt x="89" y="9"/>
                </a:cubicBezTo>
                <a:cubicBezTo>
                  <a:pt x="99" y="11"/>
                  <a:pt x="109" y="11"/>
                  <a:pt x="119" y="10"/>
                </a:cubicBezTo>
                <a:cubicBezTo>
                  <a:pt x="129" y="10"/>
                  <a:pt x="140" y="10"/>
                  <a:pt x="151" y="9"/>
                </a:cubicBezTo>
                <a:cubicBezTo>
                  <a:pt x="165" y="8"/>
                  <a:pt x="179" y="8"/>
                  <a:pt x="193" y="8"/>
                </a:cubicBezTo>
                <a:cubicBezTo>
                  <a:pt x="219" y="7"/>
                  <a:pt x="244" y="6"/>
                  <a:pt x="269" y="5"/>
                </a:cubicBezTo>
                <a:cubicBezTo>
                  <a:pt x="274" y="5"/>
                  <a:pt x="280" y="4"/>
                  <a:pt x="285" y="1"/>
                </a:cubicBezTo>
                <a:cubicBezTo>
                  <a:pt x="287" y="0"/>
                  <a:pt x="289" y="1"/>
                  <a:pt x="290" y="3"/>
                </a:cubicBezTo>
                <a:cubicBezTo>
                  <a:pt x="304" y="20"/>
                  <a:pt x="319" y="37"/>
                  <a:pt x="333" y="54"/>
                </a:cubicBezTo>
                <a:cubicBezTo>
                  <a:pt x="334" y="55"/>
                  <a:pt x="336" y="56"/>
                  <a:pt x="335" y="58"/>
                </a:cubicBezTo>
                <a:cubicBezTo>
                  <a:pt x="334" y="59"/>
                  <a:pt x="332" y="59"/>
                  <a:pt x="331" y="58"/>
                </a:cubicBezTo>
                <a:cubicBezTo>
                  <a:pt x="319" y="56"/>
                  <a:pt x="310" y="66"/>
                  <a:pt x="311" y="75"/>
                </a:cubicBezTo>
                <a:cubicBezTo>
                  <a:pt x="311" y="82"/>
                  <a:pt x="320" y="94"/>
                  <a:pt x="326" y="96"/>
                </a:cubicBezTo>
                <a:cubicBezTo>
                  <a:pt x="334" y="99"/>
                  <a:pt x="344" y="94"/>
                  <a:pt x="346" y="84"/>
                </a:cubicBezTo>
                <a:cubicBezTo>
                  <a:pt x="346" y="81"/>
                  <a:pt x="346" y="78"/>
                  <a:pt x="346" y="76"/>
                </a:cubicBezTo>
                <a:cubicBezTo>
                  <a:pt x="347" y="75"/>
                  <a:pt x="346" y="73"/>
                  <a:pt x="348" y="73"/>
                </a:cubicBezTo>
                <a:cubicBezTo>
                  <a:pt x="349" y="73"/>
                  <a:pt x="349" y="74"/>
                  <a:pt x="350" y="74"/>
                </a:cubicBezTo>
                <a:cubicBezTo>
                  <a:pt x="357" y="83"/>
                  <a:pt x="364" y="92"/>
                  <a:pt x="371" y="100"/>
                </a:cubicBezTo>
                <a:cubicBezTo>
                  <a:pt x="373" y="102"/>
                  <a:pt x="372" y="103"/>
                  <a:pt x="370" y="105"/>
                </a:cubicBezTo>
                <a:cubicBezTo>
                  <a:pt x="360" y="116"/>
                  <a:pt x="350" y="128"/>
                  <a:pt x="339" y="139"/>
                </a:cubicBezTo>
                <a:cubicBezTo>
                  <a:pt x="319" y="162"/>
                  <a:pt x="298" y="185"/>
                  <a:pt x="278" y="207"/>
                </a:cubicBezTo>
                <a:cubicBezTo>
                  <a:pt x="274" y="211"/>
                  <a:pt x="271" y="214"/>
                  <a:pt x="269" y="219"/>
                </a:cubicBezTo>
                <a:cubicBezTo>
                  <a:pt x="269" y="220"/>
                  <a:pt x="267" y="221"/>
                  <a:pt x="266" y="221"/>
                </a:cubicBezTo>
                <a:cubicBezTo>
                  <a:pt x="253" y="221"/>
                  <a:pt x="240" y="222"/>
                  <a:pt x="226" y="222"/>
                </a:cubicBezTo>
                <a:cubicBezTo>
                  <a:pt x="202" y="223"/>
                  <a:pt x="178" y="224"/>
                  <a:pt x="153" y="225"/>
                </a:cubicBezTo>
                <a:cubicBezTo>
                  <a:pt x="143" y="226"/>
                  <a:pt x="133" y="226"/>
                  <a:pt x="123" y="227"/>
                </a:cubicBez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5" name="Freeform 7"/>
          <p:cNvSpPr/>
          <p:nvPr/>
        </p:nvSpPr>
        <p:spPr>
          <a:xfrm>
            <a:off x="4175280" y="3301920"/>
            <a:ext cx="1342800" cy="1876680"/>
          </a:xfrm>
          <a:custGeom>
            <a:avLst/>
            <a:gdLst/>
            <a:ahLst/>
            <a:rect l="l" t="t" r="r" b="b"/>
            <a:pathLst>
              <a:path w="254" h="355">
                <a:moveTo>
                  <a:pt x="222" y="289"/>
                </a:moveTo>
                <a:cubicBezTo>
                  <a:pt x="222" y="287"/>
                  <a:pt x="221" y="284"/>
                  <a:pt x="221" y="282"/>
                </a:cubicBezTo>
                <a:cubicBezTo>
                  <a:pt x="219" y="275"/>
                  <a:pt x="215" y="271"/>
                  <a:pt x="208" y="270"/>
                </a:cubicBezTo>
                <a:cubicBezTo>
                  <a:pt x="201" y="269"/>
                  <a:pt x="195" y="270"/>
                  <a:pt x="191" y="277"/>
                </a:cubicBezTo>
                <a:cubicBezTo>
                  <a:pt x="189" y="279"/>
                  <a:pt x="188" y="281"/>
                  <a:pt x="187" y="283"/>
                </a:cubicBezTo>
                <a:cubicBezTo>
                  <a:pt x="178" y="293"/>
                  <a:pt x="188" y="306"/>
                  <a:pt x="198" y="306"/>
                </a:cubicBezTo>
                <a:cubicBezTo>
                  <a:pt x="201" y="306"/>
                  <a:pt x="204" y="306"/>
                  <a:pt x="207" y="305"/>
                </a:cubicBezTo>
                <a:cubicBezTo>
                  <a:pt x="207" y="305"/>
                  <a:pt x="208" y="305"/>
                  <a:pt x="209" y="306"/>
                </a:cubicBezTo>
                <a:cubicBezTo>
                  <a:pt x="210" y="307"/>
                  <a:pt x="209" y="307"/>
                  <a:pt x="209" y="308"/>
                </a:cubicBezTo>
                <a:cubicBezTo>
                  <a:pt x="198" y="323"/>
                  <a:pt x="187" y="337"/>
                  <a:pt x="176" y="352"/>
                </a:cubicBezTo>
                <a:cubicBezTo>
                  <a:pt x="174" y="355"/>
                  <a:pt x="172" y="353"/>
                  <a:pt x="170" y="352"/>
                </a:cubicBezTo>
                <a:cubicBezTo>
                  <a:pt x="144" y="339"/>
                  <a:pt x="118" y="326"/>
                  <a:pt x="92" y="313"/>
                </a:cubicBezTo>
                <a:cubicBezTo>
                  <a:pt x="79" y="307"/>
                  <a:pt x="66" y="300"/>
                  <a:pt x="53" y="293"/>
                </a:cubicBezTo>
                <a:cubicBezTo>
                  <a:pt x="50" y="292"/>
                  <a:pt x="47" y="291"/>
                  <a:pt x="45" y="291"/>
                </a:cubicBezTo>
                <a:cubicBezTo>
                  <a:pt x="41" y="292"/>
                  <a:pt x="40" y="290"/>
                  <a:pt x="39" y="287"/>
                </a:cubicBezTo>
                <a:cubicBezTo>
                  <a:pt x="34" y="268"/>
                  <a:pt x="28" y="248"/>
                  <a:pt x="22" y="229"/>
                </a:cubicBezTo>
                <a:cubicBezTo>
                  <a:pt x="15" y="205"/>
                  <a:pt x="9" y="182"/>
                  <a:pt x="2" y="159"/>
                </a:cubicBezTo>
                <a:cubicBezTo>
                  <a:pt x="1" y="156"/>
                  <a:pt x="0" y="153"/>
                  <a:pt x="3" y="150"/>
                </a:cubicBezTo>
                <a:cubicBezTo>
                  <a:pt x="4" y="149"/>
                  <a:pt x="5" y="148"/>
                  <a:pt x="5" y="147"/>
                </a:cubicBezTo>
                <a:cubicBezTo>
                  <a:pt x="15" y="127"/>
                  <a:pt x="25" y="108"/>
                  <a:pt x="34" y="89"/>
                </a:cubicBezTo>
                <a:cubicBezTo>
                  <a:pt x="36" y="86"/>
                  <a:pt x="35" y="85"/>
                  <a:pt x="32" y="83"/>
                </a:cubicBezTo>
                <a:cubicBezTo>
                  <a:pt x="27" y="81"/>
                  <a:pt x="22" y="81"/>
                  <a:pt x="17" y="84"/>
                </a:cubicBezTo>
                <a:cubicBezTo>
                  <a:pt x="13" y="86"/>
                  <a:pt x="9" y="87"/>
                  <a:pt x="5" y="83"/>
                </a:cubicBezTo>
                <a:cubicBezTo>
                  <a:pt x="3" y="81"/>
                  <a:pt x="2" y="76"/>
                  <a:pt x="4" y="72"/>
                </a:cubicBezTo>
                <a:cubicBezTo>
                  <a:pt x="5" y="69"/>
                  <a:pt x="6" y="65"/>
                  <a:pt x="9" y="62"/>
                </a:cubicBezTo>
                <a:cubicBezTo>
                  <a:pt x="11" y="59"/>
                  <a:pt x="14" y="58"/>
                  <a:pt x="18" y="59"/>
                </a:cubicBezTo>
                <a:cubicBezTo>
                  <a:pt x="22" y="59"/>
                  <a:pt x="25" y="61"/>
                  <a:pt x="25" y="66"/>
                </a:cubicBezTo>
                <a:cubicBezTo>
                  <a:pt x="26" y="72"/>
                  <a:pt x="32" y="76"/>
                  <a:pt x="38" y="77"/>
                </a:cubicBezTo>
                <a:cubicBezTo>
                  <a:pt x="40" y="77"/>
                  <a:pt x="40" y="75"/>
                  <a:pt x="41" y="73"/>
                </a:cubicBezTo>
                <a:cubicBezTo>
                  <a:pt x="49" y="58"/>
                  <a:pt x="56" y="43"/>
                  <a:pt x="63" y="27"/>
                </a:cubicBezTo>
                <a:cubicBezTo>
                  <a:pt x="66" y="22"/>
                  <a:pt x="66" y="22"/>
                  <a:pt x="72" y="23"/>
                </a:cubicBezTo>
                <a:cubicBezTo>
                  <a:pt x="87" y="27"/>
                  <a:pt x="102" y="31"/>
                  <a:pt x="118" y="35"/>
                </a:cubicBezTo>
                <a:cubicBezTo>
                  <a:pt x="120" y="35"/>
                  <a:pt x="122" y="37"/>
                  <a:pt x="124" y="35"/>
                </a:cubicBezTo>
                <a:cubicBezTo>
                  <a:pt x="126" y="32"/>
                  <a:pt x="127" y="29"/>
                  <a:pt x="126" y="25"/>
                </a:cubicBezTo>
                <a:cubicBezTo>
                  <a:pt x="125" y="23"/>
                  <a:pt x="124" y="22"/>
                  <a:pt x="123" y="20"/>
                </a:cubicBezTo>
                <a:cubicBezTo>
                  <a:pt x="120" y="16"/>
                  <a:pt x="120" y="10"/>
                  <a:pt x="123" y="6"/>
                </a:cubicBezTo>
                <a:cubicBezTo>
                  <a:pt x="124" y="5"/>
                  <a:pt x="125" y="4"/>
                  <a:pt x="126" y="3"/>
                </a:cubicBezTo>
                <a:cubicBezTo>
                  <a:pt x="132" y="0"/>
                  <a:pt x="144" y="5"/>
                  <a:pt x="147" y="10"/>
                </a:cubicBezTo>
                <a:cubicBezTo>
                  <a:pt x="151" y="16"/>
                  <a:pt x="148" y="22"/>
                  <a:pt x="142" y="25"/>
                </a:cubicBezTo>
                <a:cubicBezTo>
                  <a:pt x="138" y="27"/>
                  <a:pt x="134" y="29"/>
                  <a:pt x="133" y="35"/>
                </a:cubicBezTo>
                <a:cubicBezTo>
                  <a:pt x="133" y="38"/>
                  <a:pt x="133" y="39"/>
                  <a:pt x="137" y="40"/>
                </a:cubicBezTo>
                <a:cubicBezTo>
                  <a:pt x="149" y="43"/>
                  <a:pt x="162" y="46"/>
                  <a:pt x="175" y="50"/>
                </a:cubicBezTo>
                <a:cubicBezTo>
                  <a:pt x="178" y="51"/>
                  <a:pt x="182" y="50"/>
                  <a:pt x="185" y="53"/>
                </a:cubicBezTo>
                <a:cubicBezTo>
                  <a:pt x="187" y="55"/>
                  <a:pt x="185" y="59"/>
                  <a:pt x="185" y="63"/>
                </a:cubicBezTo>
                <a:cubicBezTo>
                  <a:pt x="186" y="72"/>
                  <a:pt x="189" y="79"/>
                  <a:pt x="192" y="87"/>
                </a:cubicBezTo>
                <a:cubicBezTo>
                  <a:pt x="209" y="134"/>
                  <a:pt x="226" y="179"/>
                  <a:pt x="242" y="225"/>
                </a:cubicBezTo>
                <a:cubicBezTo>
                  <a:pt x="245" y="232"/>
                  <a:pt x="248" y="239"/>
                  <a:pt x="253" y="244"/>
                </a:cubicBezTo>
                <a:cubicBezTo>
                  <a:pt x="254" y="246"/>
                  <a:pt x="254" y="247"/>
                  <a:pt x="253" y="249"/>
                </a:cubicBezTo>
                <a:cubicBezTo>
                  <a:pt x="243" y="262"/>
                  <a:pt x="234" y="275"/>
                  <a:pt x="224" y="288"/>
                </a:cubicBezTo>
                <a:cubicBezTo>
                  <a:pt x="223" y="288"/>
                  <a:pt x="223" y="289"/>
                  <a:pt x="222" y="289"/>
                </a:cubicBezTo>
                <a:close/>
              </a:path>
            </a:pathLst>
          </a:cu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6680160" y="3313080"/>
            <a:ext cx="1273320" cy="1812960"/>
          </a:xfrm>
          <a:custGeom>
            <a:avLst/>
            <a:gdLst/>
            <a:ahLst/>
            <a:rect l="l" t="t" r="r" b="b"/>
            <a:pathLst>
              <a:path w="241" h="343">
                <a:moveTo>
                  <a:pt x="222" y="209"/>
                </a:moveTo>
                <a:cubicBezTo>
                  <a:pt x="221" y="215"/>
                  <a:pt x="220" y="221"/>
                  <a:pt x="219" y="227"/>
                </a:cubicBezTo>
                <a:cubicBezTo>
                  <a:pt x="216" y="239"/>
                  <a:pt x="213" y="252"/>
                  <a:pt x="210" y="265"/>
                </a:cubicBezTo>
                <a:cubicBezTo>
                  <a:pt x="210" y="267"/>
                  <a:pt x="209" y="268"/>
                  <a:pt x="208" y="269"/>
                </a:cubicBezTo>
                <a:cubicBezTo>
                  <a:pt x="197" y="273"/>
                  <a:pt x="188" y="279"/>
                  <a:pt x="179" y="284"/>
                </a:cubicBezTo>
                <a:cubicBezTo>
                  <a:pt x="169" y="290"/>
                  <a:pt x="160" y="296"/>
                  <a:pt x="151" y="301"/>
                </a:cubicBezTo>
                <a:cubicBezTo>
                  <a:pt x="147" y="303"/>
                  <a:pt x="147" y="304"/>
                  <a:pt x="148" y="307"/>
                </a:cubicBezTo>
                <a:cubicBezTo>
                  <a:pt x="150" y="312"/>
                  <a:pt x="154" y="315"/>
                  <a:pt x="159" y="316"/>
                </a:cubicBezTo>
                <a:cubicBezTo>
                  <a:pt x="164" y="317"/>
                  <a:pt x="167" y="320"/>
                  <a:pt x="169" y="325"/>
                </a:cubicBezTo>
                <a:cubicBezTo>
                  <a:pt x="170" y="327"/>
                  <a:pt x="169" y="330"/>
                  <a:pt x="168" y="332"/>
                </a:cubicBezTo>
                <a:cubicBezTo>
                  <a:pt x="165" y="339"/>
                  <a:pt x="151" y="343"/>
                  <a:pt x="145" y="339"/>
                </a:cubicBezTo>
                <a:cubicBezTo>
                  <a:pt x="141" y="336"/>
                  <a:pt x="140" y="331"/>
                  <a:pt x="142" y="325"/>
                </a:cubicBezTo>
                <a:cubicBezTo>
                  <a:pt x="144" y="320"/>
                  <a:pt x="144" y="316"/>
                  <a:pt x="142" y="312"/>
                </a:cubicBezTo>
                <a:cubicBezTo>
                  <a:pt x="140" y="309"/>
                  <a:pt x="138" y="308"/>
                  <a:pt x="135" y="310"/>
                </a:cubicBezTo>
                <a:cubicBezTo>
                  <a:pt x="120" y="320"/>
                  <a:pt x="103" y="329"/>
                  <a:pt x="87" y="339"/>
                </a:cubicBezTo>
                <a:cubicBezTo>
                  <a:pt x="84" y="341"/>
                  <a:pt x="83" y="340"/>
                  <a:pt x="80" y="338"/>
                </a:cubicBezTo>
                <a:cubicBezTo>
                  <a:pt x="73" y="328"/>
                  <a:pt x="66" y="319"/>
                  <a:pt x="58" y="310"/>
                </a:cubicBezTo>
                <a:cubicBezTo>
                  <a:pt x="56" y="307"/>
                  <a:pt x="54" y="307"/>
                  <a:pt x="52" y="309"/>
                </a:cubicBezTo>
                <a:cubicBezTo>
                  <a:pt x="48" y="313"/>
                  <a:pt x="45" y="316"/>
                  <a:pt x="46" y="322"/>
                </a:cubicBezTo>
                <a:cubicBezTo>
                  <a:pt x="47" y="331"/>
                  <a:pt x="39" y="338"/>
                  <a:pt x="32" y="334"/>
                </a:cubicBezTo>
                <a:cubicBezTo>
                  <a:pt x="27" y="331"/>
                  <a:pt x="23" y="326"/>
                  <a:pt x="21" y="321"/>
                </a:cubicBezTo>
                <a:cubicBezTo>
                  <a:pt x="19" y="315"/>
                  <a:pt x="25" y="305"/>
                  <a:pt x="33" y="308"/>
                </a:cubicBezTo>
                <a:cubicBezTo>
                  <a:pt x="39" y="310"/>
                  <a:pt x="47" y="306"/>
                  <a:pt x="50" y="301"/>
                </a:cubicBezTo>
                <a:cubicBezTo>
                  <a:pt x="51" y="299"/>
                  <a:pt x="49" y="299"/>
                  <a:pt x="48" y="297"/>
                </a:cubicBezTo>
                <a:cubicBezTo>
                  <a:pt x="37" y="283"/>
                  <a:pt x="25" y="268"/>
                  <a:pt x="13" y="254"/>
                </a:cubicBezTo>
                <a:cubicBezTo>
                  <a:pt x="10" y="249"/>
                  <a:pt x="6" y="245"/>
                  <a:pt x="2" y="240"/>
                </a:cubicBezTo>
                <a:cubicBezTo>
                  <a:pt x="1" y="238"/>
                  <a:pt x="0" y="237"/>
                  <a:pt x="2" y="235"/>
                </a:cubicBezTo>
                <a:cubicBezTo>
                  <a:pt x="7" y="230"/>
                  <a:pt x="9" y="223"/>
                  <a:pt x="11" y="215"/>
                </a:cubicBezTo>
                <a:cubicBezTo>
                  <a:pt x="17" y="196"/>
                  <a:pt x="23" y="176"/>
                  <a:pt x="29" y="156"/>
                </a:cubicBezTo>
                <a:cubicBezTo>
                  <a:pt x="29" y="155"/>
                  <a:pt x="29" y="153"/>
                  <a:pt x="31" y="152"/>
                </a:cubicBezTo>
                <a:cubicBezTo>
                  <a:pt x="33" y="152"/>
                  <a:pt x="33" y="154"/>
                  <a:pt x="33" y="156"/>
                </a:cubicBezTo>
                <a:cubicBezTo>
                  <a:pt x="34" y="157"/>
                  <a:pt x="35" y="159"/>
                  <a:pt x="36" y="161"/>
                </a:cubicBezTo>
                <a:cubicBezTo>
                  <a:pt x="40" y="167"/>
                  <a:pt x="45" y="171"/>
                  <a:pt x="53" y="171"/>
                </a:cubicBezTo>
                <a:cubicBezTo>
                  <a:pt x="61" y="170"/>
                  <a:pt x="67" y="166"/>
                  <a:pt x="70" y="158"/>
                </a:cubicBezTo>
                <a:cubicBezTo>
                  <a:pt x="72" y="154"/>
                  <a:pt x="74" y="149"/>
                  <a:pt x="74" y="145"/>
                </a:cubicBezTo>
                <a:cubicBezTo>
                  <a:pt x="76" y="137"/>
                  <a:pt x="73" y="130"/>
                  <a:pt x="66" y="126"/>
                </a:cubicBezTo>
                <a:cubicBezTo>
                  <a:pt x="60" y="122"/>
                  <a:pt x="53" y="122"/>
                  <a:pt x="46" y="125"/>
                </a:cubicBezTo>
                <a:cubicBezTo>
                  <a:pt x="43" y="126"/>
                  <a:pt x="40" y="130"/>
                  <a:pt x="38" y="128"/>
                </a:cubicBezTo>
                <a:cubicBezTo>
                  <a:pt x="35" y="126"/>
                  <a:pt x="38" y="122"/>
                  <a:pt x="39" y="120"/>
                </a:cubicBezTo>
                <a:cubicBezTo>
                  <a:pt x="44" y="102"/>
                  <a:pt x="49" y="85"/>
                  <a:pt x="55" y="68"/>
                </a:cubicBezTo>
                <a:cubicBezTo>
                  <a:pt x="57" y="60"/>
                  <a:pt x="58" y="52"/>
                  <a:pt x="57" y="44"/>
                </a:cubicBezTo>
                <a:cubicBezTo>
                  <a:pt x="56" y="41"/>
                  <a:pt x="58" y="40"/>
                  <a:pt x="60" y="39"/>
                </a:cubicBezTo>
                <a:cubicBezTo>
                  <a:pt x="90" y="27"/>
                  <a:pt x="120" y="16"/>
                  <a:pt x="150" y="5"/>
                </a:cubicBezTo>
                <a:cubicBezTo>
                  <a:pt x="153" y="4"/>
                  <a:pt x="156" y="3"/>
                  <a:pt x="158" y="2"/>
                </a:cubicBezTo>
                <a:cubicBezTo>
                  <a:pt x="162" y="0"/>
                  <a:pt x="164" y="1"/>
                  <a:pt x="167" y="4"/>
                </a:cubicBezTo>
                <a:cubicBezTo>
                  <a:pt x="175" y="19"/>
                  <a:pt x="184" y="34"/>
                  <a:pt x="192" y="49"/>
                </a:cubicBezTo>
                <a:cubicBezTo>
                  <a:pt x="196" y="56"/>
                  <a:pt x="196" y="57"/>
                  <a:pt x="203" y="51"/>
                </a:cubicBezTo>
                <a:cubicBezTo>
                  <a:pt x="205" y="49"/>
                  <a:pt x="207" y="47"/>
                  <a:pt x="207" y="43"/>
                </a:cubicBezTo>
                <a:cubicBezTo>
                  <a:pt x="208" y="38"/>
                  <a:pt x="212" y="33"/>
                  <a:pt x="216" y="32"/>
                </a:cubicBezTo>
                <a:cubicBezTo>
                  <a:pt x="221" y="31"/>
                  <a:pt x="225" y="33"/>
                  <a:pt x="228" y="38"/>
                </a:cubicBezTo>
                <a:cubicBezTo>
                  <a:pt x="230" y="41"/>
                  <a:pt x="231" y="43"/>
                  <a:pt x="233" y="46"/>
                </a:cubicBezTo>
                <a:cubicBezTo>
                  <a:pt x="235" y="50"/>
                  <a:pt x="233" y="54"/>
                  <a:pt x="230" y="57"/>
                </a:cubicBezTo>
                <a:cubicBezTo>
                  <a:pt x="227" y="60"/>
                  <a:pt x="224" y="61"/>
                  <a:pt x="220" y="59"/>
                </a:cubicBezTo>
                <a:cubicBezTo>
                  <a:pt x="213" y="55"/>
                  <a:pt x="207" y="59"/>
                  <a:pt x="202" y="63"/>
                </a:cubicBezTo>
                <a:cubicBezTo>
                  <a:pt x="200" y="64"/>
                  <a:pt x="201" y="65"/>
                  <a:pt x="202" y="66"/>
                </a:cubicBezTo>
                <a:cubicBezTo>
                  <a:pt x="212" y="85"/>
                  <a:pt x="223" y="104"/>
                  <a:pt x="234" y="123"/>
                </a:cubicBezTo>
                <a:cubicBezTo>
                  <a:pt x="234" y="123"/>
                  <a:pt x="235" y="124"/>
                  <a:pt x="235" y="125"/>
                </a:cubicBezTo>
                <a:cubicBezTo>
                  <a:pt x="241" y="128"/>
                  <a:pt x="239" y="133"/>
                  <a:pt x="238" y="138"/>
                </a:cubicBezTo>
                <a:cubicBezTo>
                  <a:pt x="235" y="152"/>
                  <a:pt x="232" y="166"/>
                  <a:pt x="229" y="180"/>
                </a:cubicBezTo>
                <a:cubicBezTo>
                  <a:pt x="229" y="181"/>
                  <a:pt x="229" y="183"/>
                  <a:pt x="228" y="183"/>
                </a:cubicBezTo>
                <a:cubicBezTo>
                  <a:pt x="226" y="184"/>
                  <a:pt x="226" y="182"/>
                  <a:pt x="225" y="181"/>
                </a:cubicBezTo>
                <a:cubicBezTo>
                  <a:pt x="222" y="176"/>
                  <a:pt x="218" y="172"/>
                  <a:pt x="213" y="169"/>
                </a:cubicBezTo>
                <a:cubicBezTo>
                  <a:pt x="203" y="165"/>
                  <a:pt x="191" y="171"/>
                  <a:pt x="188" y="182"/>
                </a:cubicBezTo>
                <a:cubicBezTo>
                  <a:pt x="186" y="187"/>
                  <a:pt x="185" y="192"/>
                  <a:pt x="185" y="197"/>
                </a:cubicBezTo>
                <a:cubicBezTo>
                  <a:pt x="185" y="206"/>
                  <a:pt x="190" y="212"/>
                  <a:pt x="197" y="215"/>
                </a:cubicBezTo>
                <a:cubicBezTo>
                  <a:pt x="205" y="219"/>
                  <a:pt x="212" y="217"/>
                  <a:pt x="218" y="212"/>
                </a:cubicBezTo>
                <a:cubicBezTo>
                  <a:pt x="219" y="211"/>
                  <a:pt x="220" y="209"/>
                  <a:pt x="222" y="209"/>
                </a:cubicBezTo>
                <a:close/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" name="Freeform 9"/>
          <p:cNvSpPr/>
          <p:nvPr/>
        </p:nvSpPr>
        <p:spPr>
          <a:xfrm>
            <a:off x="4545000" y="2239920"/>
            <a:ext cx="1643040" cy="1306440"/>
          </a:xfrm>
          <a:custGeom>
            <a:avLst/>
            <a:gdLst/>
            <a:ahLst/>
            <a:rect l="l" t="t" r="r" b="b"/>
            <a:pathLst>
              <a:path w="311" h="247">
                <a:moveTo>
                  <a:pt x="72" y="233"/>
                </a:moveTo>
                <a:cubicBezTo>
                  <a:pt x="77" y="230"/>
                  <a:pt x="81" y="227"/>
                  <a:pt x="83" y="222"/>
                </a:cubicBezTo>
                <a:cubicBezTo>
                  <a:pt x="85" y="214"/>
                  <a:pt x="82" y="205"/>
                  <a:pt x="74" y="202"/>
                </a:cubicBezTo>
                <a:cubicBezTo>
                  <a:pt x="68" y="200"/>
                  <a:pt x="63" y="197"/>
                  <a:pt x="56" y="199"/>
                </a:cubicBezTo>
                <a:cubicBezTo>
                  <a:pt x="46" y="202"/>
                  <a:pt x="42" y="213"/>
                  <a:pt x="47" y="222"/>
                </a:cubicBezTo>
                <a:cubicBezTo>
                  <a:pt x="48" y="223"/>
                  <a:pt x="48" y="223"/>
                  <a:pt x="49" y="224"/>
                </a:cubicBezTo>
                <a:cubicBezTo>
                  <a:pt x="49" y="225"/>
                  <a:pt x="50" y="226"/>
                  <a:pt x="49" y="227"/>
                </a:cubicBezTo>
                <a:cubicBezTo>
                  <a:pt x="49" y="228"/>
                  <a:pt x="48" y="227"/>
                  <a:pt x="47" y="227"/>
                </a:cubicBezTo>
                <a:cubicBezTo>
                  <a:pt x="44" y="227"/>
                  <a:pt x="42" y="226"/>
                  <a:pt x="40" y="226"/>
                </a:cubicBezTo>
                <a:cubicBezTo>
                  <a:pt x="28" y="223"/>
                  <a:pt x="17" y="220"/>
                  <a:pt x="5" y="217"/>
                </a:cubicBezTo>
                <a:cubicBezTo>
                  <a:pt x="1" y="216"/>
                  <a:pt x="0" y="215"/>
                  <a:pt x="1" y="211"/>
                </a:cubicBezTo>
                <a:cubicBezTo>
                  <a:pt x="10" y="174"/>
                  <a:pt x="18" y="137"/>
                  <a:pt x="26" y="101"/>
                </a:cubicBezTo>
                <a:cubicBezTo>
                  <a:pt x="27" y="97"/>
                  <a:pt x="28" y="94"/>
                  <a:pt x="26" y="90"/>
                </a:cubicBezTo>
                <a:cubicBezTo>
                  <a:pt x="25" y="87"/>
                  <a:pt x="27" y="86"/>
                  <a:pt x="29" y="84"/>
                </a:cubicBezTo>
                <a:cubicBezTo>
                  <a:pt x="54" y="65"/>
                  <a:pt x="78" y="46"/>
                  <a:pt x="103" y="28"/>
                </a:cubicBezTo>
                <a:cubicBezTo>
                  <a:pt x="114" y="19"/>
                  <a:pt x="125" y="11"/>
                  <a:pt x="135" y="3"/>
                </a:cubicBezTo>
                <a:cubicBezTo>
                  <a:pt x="138" y="1"/>
                  <a:pt x="140" y="0"/>
                  <a:pt x="143" y="2"/>
                </a:cubicBezTo>
                <a:cubicBezTo>
                  <a:pt x="147" y="5"/>
                  <a:pt x="152" y="5"/>
                  <a:pt x="156" y="5"/>
                </a:cubicBezTo>
                <a:cubicBezTo>
                  <a:pt x="194" y="10"/>
                  <a:pt x="232" y="15"/>
                  <a:pt x="270" y="21"/>
                </a:cubicBezTo>
                <a:cubicBezTo>
                  <a:pt x="274" y="21"/>
                  <a:pt x="275" y="23"/>
                  <a:pt x="275" y="27"/>
                </a:cubicBezTo>
                <a:cubicBezTo>
                  <a:pt x="276" y="42"/>
                  <a:pt x="276" y="57"/>
                  <a:pt x="276" y="73"/>
                </a:cubicBezTo>
                <a:cubicBezTo>
                  <a:pt x="276" y="78"/>
                  <a:pt x="278" y="79"/>
                  <a:pt x="283" y="78"/>
                </a:cubicBezTo>
                <a:cubicBezTo>
                  <a:pt x="287" y="78"/>
                  <a:pt x="289" y="75"/>
                  <a:pt x="291" y="73"/>
                </a:cubicBezTo>
                <a:cubicBezTo>
                  <a:pt x="294" y="68"/>
                  <a:pt x="301" y="66"/>
                  <a:pt x="306" y="69"/>
                </a:cubicBezTo>
                <a:cubicBezTo>
                  <a:pt x="309" y="71"/>
                  <a:pt x="311" y="73"/>
                  <a:pt x="310" y="76"/>
                </a:cubicBezTo>
                <a:cubicBezTo>
                  <a:pt x="310" y="79"/>
                  <a:pt x="310" y="82"/>
                  <a:pt x="310" y="84"/>
                </a:cubicBezTo>
                <a:cubicBezTo>
                  <a:pt x="310" y="89"/>
                  <a:pt x="307" y="94"/>
                  <a:pt x="303" y="96"/>
                </a:cubicBezTo>
                <a:cubicBezTo>
                  <a:pt x="298" y="98"/>
                  <a:pt x="293" y="96"/>
                  <a:pt x="290" y="92"/>
                </a:cubicBezTo>
                <a:cubicBezTo>
                  <a:pt x="287" y="90"/>
                  <a:pt x="285" y="88"/>
                  <a:pt x="281" y="88"/>
                </a:cubicBezTo>
                <a:cubicBezTo>
                  <a:pt x="277" y="88"/>
                  <a:pt x="276" y="89"/>
                  <a:pt x="276" y="92"/>
                </a:cubicBezTo>
                <a:cubicBezTo>
                  <a:pt x="276" y="101"/>
                  <a:pt x="276" y="109"/>
                  <a:pt x="276" y="117"/>
                </a:cubicBezTo>
                <a:cubicBezTo>
                  <a:pt x="276" y="121"/>
                  <a:pt x="275" y="123"/>
                  <a:pt x="272" y="124"/>
                </a:cubicBezTo>
                <a:cubicBezTo>
                  <a:pt x="263" y="127"/>
                  <a:pt x="256" y="133"/>
                  <a:pt x="249" y="139"/>
                </a:cubicBezTo>
                <a:cubicBezTo>
                  <a:pt x="210" y="170"/>
                  <a:pt x="171" y="200"/>
                  <a:pt x="132" y="231"/>
                </a:cubicBezTo>
                <a:cubicBezTo>
                  <a:pt x="127" y="235"/>
                  <a:pt x="122" y="239"/>
                  <a:pt x="119" y="244"/>
                </a:cubicBezTo>
                <a:cubicBezTo>
                  <a:pt x="119" y="246"/>
                  <a:pt x="118" y="247"/>
                  <a:pt x="116" y="246"/>
                </a:cubicBezTo>
                <a:cubicBezTo>
                  <a:pt x="102" y="242"/>
                  <a:pt x="87" y="238"/>
                  <a:pt x="72" y="233"/>
                </a:cubicBezTo>
                <a:close/>
              </a:path>
            </a:pathLst>
          </a:cu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8" name="Freeform 10"/>
          <p:cNvSpPr/>
          <p:nvPr/>
        </p:nvSpPr>
        <p:spPr>
          <a:xfrm>
            <a:off x="6046920" y="2135160"/>
            <a:ext cx="1488960" cy="1352520"/>
          </a:xfrm>
          <a:custGeom>
            <a:avLst/>
            <a:gdLst/>
            <a:ahLst/>
            <a:rect l="l" t="t" r="r" b="b"/>
            <a:pathLst>
              <a:path w="282" h="256">
                <a:moveTo>
                  <a:pt x="0" y="56"/>
                </a:moveTo>
                <a:cubicBezTo>
                  <a:pt x="0" y="52"/>
                  <a:pt x="0" y="48"/>
                  <a:pt x="0" y="45"/>
                </a:cubicBezTo>
                <a:cubicBezTo>
                  <a:pt x="0" y="42"/>
                  <a:pt x="1" y="41"/>
                  <a:pt x="4" y="41"/>
                </a:cubicBezTo>
                <a:cubicBezTo>
                  <a:pt x="18" y="38"/>
                  <a:pt x="32" y="35"/>
                  <a:pt x="46" y="33"/>
                </a:cubicBezTo>
                <a:cubicBezTo>
                  <a:pt x="52" y="32"/>
                  <a:pt x="53" y="30"/>
                  <a:pt x="50" y="25"/>
                </a:cubicBezTo>
                <a:cubicBezTo>
                  <a:pt x="49" y="23"/>
                  <a:pt x="47" y="21"/>
                  <a:pt x="45" y="21"/>
                </a:cubicBezTo>
                <a:cubicBezTo>
                  <a:pt x="41" y="19"/>
                  <a:pt x="39" y="16"/>
                  <a:pt x="39" y="12"/>
                </a:cubicBezTo>
                <a:cubicBezTo>
                  <a:pt x="40" y="7"/>
                  <a:pt x="43" y="3"/>
                  <a:pt x="47" y="2"/>
                </a:cubicBezTo>
                <a:cubicBezTo>
                  <a:pt x="49" y="2"/>
                  <a:pt x="51" y="1"/>
                  <a:pt x="53" y="1"/>
                </a:cubicBezTo>
                <a:cubicBezTo>
                  <a:pt x="57" y="0"/>
                  <a:pt x="60" y="0"/>
                  <a:pt x="63" y="4"/>
                </a:cubicBezTo>
                <a:cubicBezTo>
                  <a:pt x="65" y="8"/>
                  <a:pt x="65" y="12"/>
                  <a:pt x="62" y="16"/>
                </a:cubicBezTo>
                <a:cubicBezTo>
                  <a:pt x="60" y="18"/>
                  <a:pt x="58" y="21"/>
                  <a:pt x="59" y="25"/>
                </a:cubicBezTo>
                <a:cubicBezTo>
                  <a:pt x="59" y="30"/>
                  <a:pt x="60" y="30"/>
                  <a:pt x="65" y="29"/>
                </a:cubicBezTo>
                <a:cubicBezTo>
                  <a:pt x="79" y="26"/>
                  <a:pt x="94" y="24"/>
                  <a:pt x="108" y="20"/>
                </a:cubicBezTo>
                <a:cubicBezTo>
                  <a:pt x="116" y="19"/>
                  <a:pt x="125" y="18"/>
                  <a:pt x="132" y="14"/>
                </a:cubicBezTo>
                <a:cubicBezTo>
                  <a:pt x="134" y="13"/>
                  <a:pt x="136" y="14"/>
                  <a:pt x="138" y="15"/>
                </a:cubicBezTo>
                <a:cubicBezTo>
                  <a:pt x="171" y="38"/>
                  <a:pt x="204" y="60"/>
                  <a:pt x="238" y="83"/>
                </a:cubicBezTo>
                <a:cubicBezTo>
                  <a:pt x="238" y="83"/>
                  <a:pt x="239" y="83"/>
                  <a:pt x="240" y="84"/>
                </a:cubicBezTo>
                <a:cubicBezTo>
                  <a:pt x="245" y="87"/>
                  <a:pt x="248" y="90"/>
                  <a:pt x="248" y="97"/>
                </a:cubicBezTo>
                <a:cubicBezTo>
                  <a:pt x="248" y="106"/>
                  <a:pt x="252" y="116"/>
                  <a:pt x="255" y="125"/>
                </a:cubicBezTo>
                <a:cubicBezTo>
                  <a:pt x="257" y="133"/>
                  <a:pt x="259" y="142"/>
                  <a:pt x="262" y="150"/>
                </a:cubicBezTo>
                <a:cubicBezTo>
                  <a:pt x="262" y="151"/>
                  <a:pt x="263" y="153"/>
                  <a:pt x="262" y="154"/>
                </a:cubicBezTo>
                <a:cubicBezTo>
                  <a:pt x="261" y="155"/>
                  <a:pt x="259" y="154"/>
                  <a:pt x="258" y="153"/>
                </a:cubicBezTo>
                <a:cubicBezTo>
                  <a:pt x="254" y="151"/>
                  <a:pt x="251" y="149"/>
                  <a:pt x="247" y="149"/>
                </a:cubicBezTo>
                <a:cubicBezTo>
                  <a:pt x="237" y="149"/>
                  <a:pt x="230" y="157"/>
                  <a:pt x="232" y="166"/>
                </a:cubicBezTo>
                <a:cubicBezTo>
                  <a:pt x="233" y="170"/>
                  <a:pt x="234" y="174"/>
                  <a:pt x="235" y="177"/>
                </a:cubicBezTo>
                <a:cubicBezTo>
                  <a:pt x="238" y="184"/>
                  <a:pt x="244" y="188"/>
                  <a:pt x="251" y="188"/>
                </a:cubicBezTo>
                <a:cubicBezTo>
                  <a:pt x="259" y="187"/>
                  <a:pt x="263" y="184"/>
                  <a:pt x="266" y="176"/>
                </a:cubicBezTo>
                <a:cubicBezTo>
                  <a:pt x="266" y="175"/>
                  <a:pt x="267" y="173"/>
                  <a:pt x="268" y="173"/>
                </a:cubicBezTo>
                <a:cubicBezTo>
                  <a:pt x="270" y="173"/>
                  <a:pt x="270" y="175"/>
                  <a:pt x="271" y="176"/>
                </a:cubicBezTo>
                <a:cubicBezTo>
                  <a:pt x="274" y="188"/>
                  <a:pt x="277" y="199"/>
                  <a:pt x="280" y="211"/>
                </a:cubicBezTo>
                <a:cubicBezTo>
                  <a:pt x="282" y="214"/>
                  <a:pt x="281" y="215"/>
                  <a:pt x="278" y="216"/>
                </a:cubicBezTo>
                <a:cubicBezTo>
                  <a:pt x="244" y="229"/>
                  <a:pt x="210" y="242"/>
                  <a:pt x="177" y="255"/>
                </a:cubicBezTo>
                <a:cubicBezTo>
                  <a:pt x="174" y="256"/>
                  <a:pt x="172" y="256"/>
                  <a:pt x="171" y="253"/>
                </a:cubicBezTo>
                <a:cubicBezTo>
                  <a:pt x="168" y="247"/>
                  <a:pt x="163" y="243"/>
                  <a:pt x="158" y="239"/>
                </a:cubicBezTo>
                <a:cubicBezTo>
                  <a:pt x="114" y="210"/>
                  <a:pt x="71" y="181"/>
                  <a:pt x="27" y="152"/>
                </a:cubicBezTo>
                <a:cubicBezTo>
                  <a:pt x="20" y="147"/>
                  <a:pt x="14" y="142"/>
                  <a:pt x="5" y="143"/>
                </a:cubicBezTo>
                <a:cubicBezTo>
                  <a:pt x="3" y="143"/>
                  <a:pt x="2" y="141"/>
                  <a:pt x="2" y="139"/>
                </a:cubicBezTo>
                <a:cubicBezTo>
                  <a:pt x="2" y="133"/>
                  <a:pt x="2" y="126"/>
                  <a:pt x="2" y="119"/>
                </a:cubicBezTo>
                <a:cubicBezTo>
                  <a:pt x="2" y="117"/>
                  <a:pt x="2" y="116"/>
                  <a:pt x="4" y="118"/>
                </a:cubicBezTo>
                <a:cubicBezTo>
                  <a:pt x="9" y="123"/>
                  <a:pt x="15" y="124"/>
                  <a:pt x="22" y="121"/>
                </a:cubicBezTo>
                <a:cubicBezTo>
                  <a:pt x="28" y="118"/>
                  <a:pt x="31" y="112"/>
                  <a:pt x="31" y="105"/>
                </a:cubicBezTo>
                <a:cubicBezTo>
                  <a:pt x="31" y="102"/>
                  <a:pt x="31" y="98"/>
                  <a:pt x="31" y="95"/>
                </a:cubicBezTo>
                <a:cubicBezTo>
                  <a:pt x="30" y="89"/>
                  <a:pt x="26" y="85"/>
                  <a:pt x="21" y="83"/>
                </a:cubicBezTo>
                <a:cubicBezTo>
                  <a:pt x="15" y="82"/>
                  <a:pt x="10" y="82"/>
                  <a:pt x="5" y="87"/>
                </a:cubicBezTo>
                <a:cubicBezTo>
                  <a:pt x="5" y="88"/>
                  <a:pt x="4" y="90"/>
                  <a:pt x="2" y="89"/>
                </a:cubicBezTo>
                <a:cubicBezTo>
                  <a:pt x="1" y="88"/>
                  <a:pt x="1" y="86"/>
                  <a:pt x="1" y="85"/>
                </a:cubicBezTo>
                <a:cubicBezTo>
                  <a:pt x="1" y="75"/>
                  <a:pt x="1" y="66"/>
                  <a:pt x="1" y="56"/>
                </a:cubicBezTo>
                <a:cubicBezTo>
                  <a:pt x="1" y="56"/>
                  <a:pt x="1" y="56"/>
                  <a:pt x="0" y="56"/>
                </a:cubicBezTo>
                <a:close/>
              </a:path>
            </a:pathLst>
          </a:custGeom>
          <a:solidFill>
            <a:srgbClr val="41b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9" name="Freeform 11"/>
          <p:cNvSpPr/>
          <p:nvPr/>
        </p:nvSpPr>
        <p:spPr>
          <a:xfrm>
            <a:off x="6573960" y="4772160"/>
            <a:ext cx="1295280" cy="1141200"/>
          </a:xfrm>
          <a:custGeom>
            <a:avLst/>
            <a:gdLst/>
            <a:ahLst/>
            <a:rect l="l" t="t" r="r" b="b"/>
            <a:pathLst>
              <a:path w="245" h="216">
                <a:moveTo>
                  <a:pt x="157" y="43"/>
                </a:moveTo>
                <a:cubicBezTo>
                  <a:pt x="156" y="48"/>
                  <a:pt x="154" y="53"/>
                  <a:pt x="156" y="58"/>
                </a:cubicBezTo>
                <a:cubicBezTo>
                  <a:pt x="160" y="67"/>
                  <a:pt x="168" y="71"/>
                  <a:pt x="177" y="68"/>
                </a:cubicBezTo>
                <a:cubicBezTo>
                  <a:pt x="179" y="68"/>
                  <a:pt x="182" y="67"/>
                  <a:pt x="184" y="66"/>
                </a:cubicBezTo>
                <a:cubicBezTo>
                  <a:pt x="191" y="64"/>
                  <a:pt x="194" y="59"/>
                  <a:pt x="194" y="52"/>
                </a:cubicBezTo>
                <a:cubicBezTo>
                  <a:pt x="194" y="45"/>
                  <a:pt x="190" y="39"/>
                  <a:pt x="184" y="37"/>
                </a:cubicBezTo>
                <a:cubicBezTo>
                  <a:pt x="183" y="36"/>
                  <a:pt x="181" y="36"/>
                  <a:pt x="179" y="35"/>
                </a:cubicBezTo>
                <a:cubicBezTo>
                  <a:pt x="178" y="35"/>
                  <a:pt x="176" y="35"/>
                  <a:pt x="176" y="33"/>
                </a:cubicBezTo>
                <a:cubicBezTo>
                  <a:pt x="175" y="31"/>
                  <a:pt x="177" y="31"/>
                  <a:pt x="178" y="30"/>
                </a:cubicBezTo>
                <a:cubicBezTo>
                  <a:pt x="193" y="21"/>
                  <a:pt x="207" y="13"/>
                  <a:pt x="222" y="4"/>
                </a:cubicBezTo>
                <a:cubicBezTo>
                  <a:pt x="223" y="4"/>
                  <a:pt x="224" y="3"/>
                  <a:pt x="225" y="2"/>
                </a:cubicBezTo>
                <a:cubicBezTo>
                  <a:pt x="231" y="0"/>
                  <a:pt x="237" y="3"/>
                  <a:pt x="239" y="9"/>
                </a:cubicBezTo>
                <a:cubicBezTo>
                  <a:pt x="241" y="15"/>
                  <a:pt x="243" y="22"/>
                  <a:pt x="245" y="28"/>
                </a:cubicBezTo>
                <a:cubicBezTo>
                  <a:pt x="245" y="31"/>
                  <a:pt x="245" y="33"/>
                  <a:pt x="243" y="35"/>
                </a:cubicBezTo>
                <a:cubicBezTo>
                  <a:pt x="221" y="74"/>
                  <a:pt x="194" y="109"/>
                  <a:pt x="161" y="139"/>
                </a:cubicBezTo>
                <a:cubicBezTo>
                  <a:pt x="127" y="169"/>
                  <a:pt x="89" y="193"/>
                  <a:pt x="47" y="210"/>
                </a:cubicBezTo>
                <a:cubicBezTo>
                  <a:pt x="43" y="211"/>
                  <a:pt x="38" y="213"/>
                  <a:pt x="34" y="215"/>
                </a:cubicBezTo>
                <a:cubicBezTo>
                  <a:pt x="31" y="216"/>
                  <a:pt x="29" y="215"/>
                  <a:pt x="26" y="214"/>
                </a:cubicBezTo>
                <a:cubicBezTo>
                  <a:pt x="21" y="211"/>
                  <a:pt x="15" y="207"/>
                  <a:pt x="9" y="203"/>
                </a:cubicBezTo>
                <a:cubicBezTo>
                  <a:pt x="1" y="198"/>
                  <a:pt x="0" y="191"/>
                  <a:pt x="6" y="184"/>
                </a:cubicBezTo>
                <a:cubicBezTo>
                  <a:pt x="26" y="161"/>
                  <a:pt x="47" y="138"/>
                  <a:pt x="67" y="116"/>
                </a:cubicBezTo>
                <a:cubicBezTo>
                  <a:pt x="79" y="102"/>
                  <a:pt x="91" y="89"/>
                  <a:pt x="103" y="76"/>
                </a:cubicBezTo>
                <a:cubicBezTo>
                  <a:pt x="108" y="70"/>
                  <a:pt x="116" y="67"/>
                  <a:pt x="122" y="64"/>
                </a:cubicBezTo>
                <a:cubicBezTo>
                  <a:pt x="132" y="57"/>
                  <a:pt x="142" y="52"/>
                  <a:pt x="152" y="46"/>
                </a:cubicBezTo>
                <a:cubicBezTo>
                  <a:pt x="154" y="45"/>
                  <a:pt x="156" y="44"/>
                  <a:pt x="157" y="43"/>
                </a:cubicBezTo>
                <a:close/>
              </a:path>
            </a:pathLst>
          </a:cu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0" name="Freeform 12"/>
          <p:cNvSpPr/>
          <p:nvPr/>
        </p:nvSpPr>
        <p:spPr>
          <a:xfrm>
            <a:off x="4334040" y="4878360"/>
            <a:ext cx="1341360" cy="1071720"/>
          </a:xfrm>
          <a:custGeom>
            <a:avLst/>
            <a:gdLst/>
            <a:ahLst/>
            <a:rect l="l" t="t" r="r" b="b"/>
            <a:pathLst>
              <a:path w="254" h="203">
                <a:moveTo>
                  <a:pt x="208" y="132"/>
                </a:moveTo>
                <a:cubicBezTo>
                  <a:pt x="212" y="136"/>
                  <a:pt x="216" y="139"/>
                  <a:pt x="219" y="142"/>
                </a:cubicBezTo>
                <a:cubicBezTo>
                  <a:pt x="228" y="150"/>
                  <a:pt x="237" y="160"/>
                  <a:pt x="246" y="168"/>
                </a:cubicBezTo>
                <a:cubicBezTo>
                  <a:pt x="248" y="169"/>
                  <a:pt x="249" y="171"/>
                  <a:pt x="250" y="173"/>
                </a:cubicBezTo>
                <a:cubicBezTo>
                  <a:pt x="254" y="178"/>
                  <a:pt x="253" y="183"/>
                  <a:pt x="248" y="187"/>
                </a:cubicBezTo>
                <a:cubicBezTo>
                  <a:pt x="242" y="192"/>
                  <a:pt x="236" y="197"/>
                  <a:pt x="229" y="201"/>
                </a:cubicBezTo>
                <a:cubicBezTo>
                  <a:pt x="227" y="203"/>
                  <a:pt x="225" y="203"/>
                  <a:pt x="223" y="202"/>
                </a:cubicBezTo>
                <a:cubicBezTo>
                  <a:pt x="170" y="186"/>
                  <a:pt x="123" y="161"/>
                  <a:pt x="81" y="126"/>
                </a:cubicBezTo>
                <a:cubicBezTo>
                  <a:pt x="50" y="100"/>
                  <a:pt x="24" y="70"/>
                  <a:pt x="3" y="36"/>
                </a:cubicBezTo>
                <a:cubicBezTo>
                  <a:pt x="1" y="33"/>
                  <a:pt x="0" y="30"/>
                  <a:pt x="0" y="27"/>
                </a:cubicBezTo>
                <a:cubicBezTo>
                  <a:pt x="1" y="20"/>
                  <a:pt x="3" y="14"/>
                  <a:pt x="5" y="8"/>
                </a:cubicBezTo>
                <a:cubicBezTo>
                  <a:pt x="7" y="2"/>
                  <a:pt x="14" y="0"/>
                  <a:pt x="20" y="3"/>
                </a:cubicBezTo>
                <a:cubicBezTo>
                  <a:pt x="40" y="13"/>
                  <a:pt x="60" y="23"/>
                  <a:pt x="80" y="33"/>
                </a:cubicBezTo>
                <a:cubicBezTo>
                  <a:pt x="99" y="43"/>
                  <a:pt x="118" y="53"/>
                  <a:pt x="137" y="63"/>
                </a:cubicBezTo>
                <a:cubicBezTo>
                  <a:pt x="140" y="64"/>
                  <a:pt x="143" y="67"/>
                  <a:pt x="145" y="69"/>
                </a:cubicBezTo>
                <a:cubicBezTo>
                  <a:pt x="159" y="83"/>
                  <a:pt x="172" y="96"/>
                  <a:pt x="185" y="109"/>
                </a:cubicBezTo>
                <a:cubicBezTo>
                  <a:pt x="186" y="110"/>
                  <a:pt x="187" y="111"/>
                  <a:pt x="188" y="112"/>
                </a:cubicBezTo>
                <a:cubicBezTo>
                  <a:pt x="189" y="113"/>
                  <a:pt x="191" y="113"/>
                  <a:pt x="191" y="115"/>
                </a:cubicBezTo>
                <a:cubicBezTo>
                  <a:pt x="190" y="117"/>
                  <a:pt x="188" y="116"/>
                  <a:pt x="187" y="116"/>
                </a:cubicBezTo>
                <a:cubicBezTo>
                  <a:pt x="184" y="116"/>
                  <a:pt x="181" y="116"/>
                  <a:pt x="178" y="118"/>
                </a:cubicBezTo>
                <a:cubicBezTo>
                  <a:pt x="170" y="124"/>
                  <a:pt x="169" y="134"/>
                  <a:pt x="177" y="140"/>
                </a:cubicBezTo>
                <a:cubicBezTo>
                  <a:pt x="178" y="142"/>
                  <a:pt x="180" y="143"/>
                  <a:pt x="181" y="145"/>
                </a:cubicBezTo>
                <a:cubicBezTo>
                  <a:pt x="187" y="150"/>
                  <a:pt x="195" y="152"/>
                  <a:pt x="201" y="150"/>
                </a:cubicBezTo>
                <a:cubicBezTo>
                  <a:pt x="208" y="146"/>
                  <a:pt x="209" y="140"/>
                  <a:pt x="208" y="132"/>
                </a:cubicBezTo>
                <a:close/>
              </a:path>
            </a:pathLst>
          </a:custGeom>
          <a:solidFill>
            <a:srgbClr val="74b5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1" name="Freeform 13"/>
          <p:cNvSpPr/>
          <p:nvPr/>
        </p:nvSpPr>
        <p:spPr>
          <a:xfrm>
            <a:off x="7292880" y="2577960"/>
            <a:ext cx="803520" cy="1395720"/>
          </a:xfrm>
          <a:custGeom>
            <a:avLst/>
            <a:gdLst/>
            <a:ahLst/>
            <a:rect l="l" t="t" r="r" b="b"/>
            <a:pathLst>
              <a:path w="152" h="264">
                <a:moveTo>
                  <a:pt x="37" y="3"/>
                </a:moveTo>
                <a:cubicBezTo>
                  <a:pt x="47" y="0"/>
                  <a:pt x="52" y="7"/>
                  <a:pt x="57" y="13"/>
                </a:cubicBezTo>
                <a:cubicBezTo>
                  <a:pt x="80" y="40"/>
                  <a:pt x="99" y="69"/>
                  <a:pt x="115" y="100"/>
                </a:cubicBezTo>
                <a:cubicBezTo>
                  <a:pt x="133" y="138"/>
                  <a:pt x="144" y="177"/>
                  <a:pt x="149" y="218"/>
                </a:cubicBezTo>
                <a:cubicBezTo>
                  <a:pt x="150" y="227"/>
                  <a:pt x="151" y="236"/>
                  <a:pt x="152" y="245"/>
                </a:cubicBezTo>
                <a:cubicBezTo>
                  <a:pt x="152" y="249"/>
                  <a:pt x="150" y="253"/>
                  <a:pt x="147" y="255"/>
                </a:cubicBezTo>
                <a:cubicBezTo>
                  <a:pt x="144" y="256"/>
                  <a:pt x="142" y="258"/>
                  <a:pt x="140" y="260"/>
                </a:cubicBezTo>
                <a:cubicBezTo>
                  <a:pt x="134" y="264"/>
                  <a:pt x="127" y="262"/>
                  <a:pt x="124" y="256"/>
                </a:cubicBezTo>
                <a:cubicBezTo>
                  <a:pt x="114" y="239"/>
                  <a:pt x="105" y="222"/>
                  <a:pt x="95" y="206"/>
                </a:cubicBezTo>
                <a:cubicBezTo>
                  <a:pt x="94" y="203"/>
                  <a:pt x="95" y="202"/>
                  <a:pt x="97" y="202"/>
                </a:cubicBezTo>
                <a:cubicBezTo>
                  <a:pt x="99" y="202"/>
                  <a:pt x="101" y="203"/>
                  <a:pt x="103" y="203"/>
                </a:cubicBezTo>
                <a:cubicBezTo>
                  <a:pt x="110" y="205"/>
                  <a:pt x="117" y="203"/>
                  <a:pt x="120" y="198"/>
                </a:cubicBezTo>
                <a:cubicBezTo>
                  <a:pt x="124" y="193"/>
                  <a:pt x="124" y="187"/>
                  <a:pt x="120" y="180"/>
                </a:cubicBezTo>
                <a:cubicBezTo>
                  <a:pt x="118" y="178"/>
                  <a:pt x="117" y="176"/>
                  <a:pt x="115" y="173"/>
                </a:cubicBezTo>
                <a:cubicBezTo>
                  <a:pt x="111" y="168"/>
                  <a:pt x="106" y="166"/>
                  <a:pt x="99" y="167"/>
                </a:cubicBezTo>
                <a:cubicBezTo>
                  <a:pt x="93" y="169"/>
                  <a:pt x="88" y="173"/>
                  <a:pt x="87" y="180"/>
                </a:cubicBezTo>
                <a:cubicBezTo>
                  <a:pt x="87" y="181"/>
                  <a:pt x="87" y="181"/>
                  <a:pt x="86" y="182"/>
                </a:cubicBezTo>
                <a:cubicBezTo>
                  <a:pt x="86" y="183"/>
                  <a:pt x="86" y="185"/>
                  <a:pt x="85" y="185"/>
                </a:cubicBezTo>
                <a:cubicBezTo>
                  <a:pt x="84" y="185"/>
                  <a:pt x="83" y="184"/>
                  <a:pt x="83" y="183"/>
                </a:cubicBezTo>
                <a:cubicBezTo>
                  <a:pt x="76" y="171"/>
                  <a:pt x="70" y="160"/>
                  <a:pt x="63" y="149"/>
                </a:cubicBezTo>
                <a:cubicBezTo>
                  <a:pt x="53" y="133"/>
                  <a:pt x="50" y="115"/>
                  <a:pt x="44" y="98"/>
                </a:cubicBezTo>
                <a:cubicBezTo>
                  <a:pt x="43" y="94"/>
                  <a:pt x="41" y="89"/>
                  <a:pt x="40" y="84"/>
                </a:cubicBezTo>
                <a:cubicBezTo>
                  <a:pt x="40" y="82"/>
                  <a:pt x="38" y="82"/>
                  <a:pt x="36" y="82"/>
                </a:cubicBezTo>
                <a:cubicBezTo>
                  <a:pt x="30" y="83"/>
                  <a:pt x="25" y="86"/>
                  <a:pt x="23" y="93"/>
                </a:cubicBezTo>
                <a:cubicBezTo>
                  <a:pt x="22" y="99"/>
                  <a:pt x="13" y="101"/>
                  <a:pt x="8" y="97"/>
                </a:cubicBezTo>
                <a:cubicBezTo>
                  <a:pt x="2" y="92"/>
                  <a:pt x="0" y="86"/>
                  <a:pt x="0" y="79"/>
                </a:cubicBezTo>
                <a:cubicBezTo>
                  <a:pt x="1" y="74"/>
                  <a:pt x="5" y="71"/>
                  <a:pt x="10" y="71"/>
                </a:cubicBezTo>
                <a:cubicBezTo>
                  <a:pt x="13" y="71"/>
                  <a:pt x="16" y="71"/>
                  <a:pt x="18" y="73"/>
                </a:cubicBezTo>
                <a:cubicBezTo>
                  <a:pt x="24" y="78"/>
                  <a:pt x="29" y="75"/>
                  <a:pt x="34" y="73"/>
                </a:cubicBezTo>
                <a:cubicBezTo>
                  <a:pt x="37" y="72"/>
                  <a:pt x="35" y="70"/>
                  <a:pt x="35" y="68"/>
                </a:cubicBezTo>
                <a:cubicBezTo>
                  <a:pt x="30" y="50"/>
                  <a:pt x="25" y="33"/>
                  <a:pt x="20" y="15"/>
                </a:cubicBezTo>
                <a:cubicBezTo>
                  <a:pt x="18" y="8"/>
                  <a:pt x="22" y="3"/>
                  <a:pt x="30" y="3"/>
                </a:cubicBezTo>
                <a:cubicBezTo>
                  <a:pt x="32" y="3"/>
                  <a:pt x="34" y="3"/>
                  <a:pt x="37" y="3"/>
                </a:cubicBezTo>
                <a:close/>
              </a:path>
            </a:pathLst>
          </a:custGeom>
          <a:solidFill>
            <a:srgbClr val="74b5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2" name="Freeform 14"/>
          <p:cNvSpPr/>
          <p:nvPr/>
        </p:nvSpPr>
        <p:spPr>
          <a:xfrm>
            <a:off x="4037040" y="2668680"/>
            <a:ext cx="608040" cy="1427040"/>
          </a:xfrm>
          <a:custGeom>
            <a:avLst/>
            <a:gdLst/>
            <a:ahLst/>
            <a:rect l="l" t="t" r="r" b="b"/>
            <a:pathLst>
              <a:path w="115" h="270">
                <a:moveTo>
                  <a:pt x="1" y="246"/>
                </a:moveTo>
                <a:cubicBezTo>
                  <a:pt x="2" y="169"/>
                  <a:pt x="24" y="97"/>
                  <a:pt x="68" y="33"/>
                </a:cubicBezTo>
                <a:cubicBezTo>
                  <a:pt x="74" y="24"/>
                  <a:pt x="81" y="16"/>
                  <a:pt x="87" y="7"/>
                </a:cubicBezTo>
                <a:cubicBezTo>
                  <a:pt x="91" y="3"/>
                  <a:pt x="104" y="0"/>
                  <a:pt x="110" y="4"/>
                </a:cubicBezTo>
                <a:cubicBezTo>
                  <a:pt x="113" y="6"/>
                  <a:pt x="115" y="10"/>
                  <a:pt x="114" y="15"/>
                </a:cubicBezTo>
                <a:cubicBezTo>
                  <a:pt x="109" y="35"/>
                  <a:pt x="105" y="55"/>
                  <a:pt x="100" y="75"/>
                </a:cubicBezTo>
                <a:cubicBezTo>
                  <a:pt x="96" y="93"/>
                  <a:pt x="93" y="110"/>
                  <a:pt x="88" y="128"/>
                </a:cubicBezTo>
                <a:cubicBezTo>
                  <a:pt x="86" y="138"/>
                  <a:pt x="81" y="147"/>
                  <a:pt x="77" y="156"/>
                </a:cubicBezTo>
                <a:cubicBezTo>
                  <a:pt x="72" y="166"/>
                  <a:pt x="67" y="176"/>
                  <a:pt x="62" y="186"/>
                </a:cubicBezTo>
                <a:cubicBezTo>
                  <a:pt x="62" y="188"/>
                  <a:pt x="61" y="190"/>
                  <a:pt x="59" y="190"/>
                </a:cubicBezTo>
                <a:cubicBezTo>
                  <a:pt x="57" y="189"/>
                  <a:pt x="56" y="187"/>
                  <a:pt x="56" y="185"/>
                </a:cubicBezTo>
                <a:cubicBezTo>
                  <a:pt x="55" y="183"/>
                  <a:pt x="55" y="180"/>
                  <a:pt x="53" y="178"/>
                </a:cubicBezTo>
                <a:cubicBezTo>
                  <a:pt x="47" y="171"/>
                  <a:pt x="35" y="172"/>
                  <a:pt x="30" y="182"/>
                </a:cubicBezTo>
                <a:cubicBezTo>
                  <a:pt x="27" y="186"/>
                  <a:pt x="25" y="191"/>
                  <a:pt x="24" y="196"/>
                </a:cubicBezTo>
                <a:cubicBezTo>
                  <a:pt x="23" y="201"/>
                  <a:pt x="25" y="206"/>
                  <a:pt x="29" y="209"/>
                </a:cubicBezTo>
                <a:cubicBezTo>
                  <a:pt x="34" y="212"/>
                  <a:pt x="39" y="212"/>
                  <a:pt x="44" y="209"/>
                </a:cubicBezTo>
                <a:cubicBezTo>
                  <a:pt x="46" y="208"/>
                  <a:pt x="48" y="206"/>
                  <a:pt x="50" y="208"/>
                </a:cubicBezTo>
                <a:cubicBezTo>
                  <a:pt x="52" y="210"/>
                  <a:pt x="49" y="212"/>
                  <a:pt x="49" y="214"/>
                </a:cubicBezTo>
                <a:cubicBezTo>
                  <a:pt x="41" y="230"/>
                  <a:pt x="34" y="245"/>
                  <a:pt x="26" y="260"/>
                </a:cubicBezTo>
                <a:cubicBezTo>
                  <a:pt x="25" y="263"/>
                  <a:pt x="24" y="265"/>
                  <a:pt x="22" y="267"/>
                </a:cubicBezTo>
                <a:cubicBezTo>
                  <a:pt x="20" y="269"/>
                  <a:pt x="17" y="270"/>
                  <a:pt x="13" y="269"/>
                </a:cubicBezTo>
                <a:cubicBezTo>
                  <a:pt x="5" y="265"/>
                  <a:pt x="0" y="261"/>
                  <a:pt x="1" y="253"/>
                </a:cubicBezTo>
                <a:cubicBezTo>
                  <a:pt x="1" y="251"/>
                  <a:pt x="1" y="248"/>
                  <a:pt x="1" y="246"/>
                </a:cubicBezTo>
                <a:close/>
              </a:path>
            </a:pathLst>
          </a:custGeom>
          <a:solidFill>
            <a:srgbClr val="f8c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3" name="Freeform 15"/>
          <p:cNvSpPr/>
          <p:nvPr/>
        </p:nvSpPr>
        <p:spPr>
          <a:xfrm>
            <a:off x="5295960" y="1965240"/>
            <a:ext cx="1447920" cy="344520"/>
          </a:xfrm>
          <a:custGeom>
            <a:avLst/>
            <a:gdLst/>
            <a:ahLst/>
            <a:rect l="l" t="t" r="r" b="b"/>
            <a:pathLst>
              <a:path w="274" h="65">
                <a:moveTo>
                  <a:pt x="150" y="0"/>
                </a:moveTo>
                <a:cubicBezTo>
                  <a:pt x="188" y="0"/>
                  <a:pt x="225" y="5"/>
                  <a:pt x="261" y="16"/>
                </a:cubicBezTo>
                <a:cubicBezTo>
                  <a:pt x="268" y="19"/>
                  <a:pt x="271" y="25"/>
                  <a:pt x="273" y="31"/>
                </a:cubicBezTo>
                <a:cubicBezTo>
                  <a:pt x="274" y="35"/>
                  <a:pt x="270" y="40"/>
                  <a:pt x="264" y="41"/>
                </a:cubicBezTo>
                <a:cubicBezTo>
                  <a:pt x="248" y="44"/>
                  <a:pt x="232" y="47"/>
                  <a:pt x="216" y="50"/>
                </a:cubicBezTo>
                <a:cubicBezTo>
                  <a:pt x="216" y="51"/>
                  <a:pt x="216" y="51"/>
                  <a:pt x="215" y="51"/>
                </a:cubicBezTo>
                <a:cubicBezTo>
                  <a:pt x="213" y="51"/>
                  <a:pt x="209" y="53"/>
                  <a:pt x="208" y="52"/>
                </a:cubicBezTo>
                <a:cubicBezTo>
                  <a:pt x="206" y="50"/>
                  <a:pt x="210" y="48"/>
                  <a:pt x="210" y="46"/>
                </a:cubicBezTo>
                <a:cubicBezTo>
                  <a:pt x="213" y="36"/>
                  <a:pt x="207" y="28"/>
                  <a:pt x="197" y="28"/>
                </a:cubicBezTo>
                <a:cubicBezTo>
                  <a:pt x="187" y="29"/>
                  <a:pt x="180" y="33"/>
                  <a:pt x="177" y="40"/>
                </a:cubicBezTo>
                <a:cubicBezTo>
                  <a:pt x="175" y="45"/>
                  <a:pt x="177" y="50"/>
                  <a:pt x="180" y="53"/>
                </a:cubicBezTo>
                <a:cubicBezTo>
                  <a:pt x="182" y="56"/>
                  <a:pt x="182" y="57"/>
                  <a:pt x="179" y="57"/>
                </a:cubicBezTo>
                <a:cubicBezTo>
                  <a:pt x="167" y="59"/>
                  <a:pt x="155" y="62"/>
                  <a:pt x="143" y="64"/>
                </a:cubicBezTo>
                <a:cubicBezTo>
                  <a:pt x="136" y="65"/>
                  <a:pt x="129" y="63"/>
                  <a:pt x="122" y="62"/>
                </a:cubicBezTo>
                <a:cubicBezTo>
                  <a:pt x="85" y="57"/>
                  <a:pt x="49" y="53"/>
                  <a:pt x="12" y="48"/>
                </a:cubicBezTo>
                <a:cubicBezTo>
                  <a:pt x="11" y="48"/>
                  <a:pt x="9" y="47"/>
                  <a:pt x="8" y="47"/>
                </a:cubicBezTo>
                <a:cubicBezTo>
                  <a:pt x="2" y="46"/>
                  <a:pt x="0" y="41"/>
                  <a:pt x="2" y="36"/>
                </a:cubicBezTo>
                <a:cubicBezTo>
                  <a:pt x="3" y="33"/>
                  <a:pt x="5" y="30"/>
                  <a:pt x="7" y="27"/>
                </a:cubicBezTo>
                <a:cubicBezTo>
                  <a:pt x="8" y="26"/>
                  <a:pt x="8" y="26"/>
                  <a:pt x="9" y="25"/>
                </a:cubicBezTo>
                <a:cubicBezTo>
                  <a:pt x="40" y="13"/>
                  <a:pt x="72" y="5"/>
                  <a:pt x="105" y="2"/>
                </a:cubicBezTo>
                <a:cubicBezTo>
                  <a:pt x="120" y="1"/>
                  <a:pt x="135" y="0"/>
                  <a:pt x="150" y="0"/>
                </a:cubicBezTo>
                <a:close/>
              </a:path>
            </a:pathLst>
          </a:custGeom>
          <a:solidFill>
            <a:srgbClr val="c49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4" name="Freeform 16"/>
          <p:cNvSpPr/>
          <p:nvPr/>
        </p:nvSpPr>
        <p:spPr>
          <a:xfrm>
            <a:off x="5591160" y="5813280"/>
            <a:ext cx="1073160" cy="216000"/>
          </a:xfrm>
          <a:custGeom>
            <a:avLst/>
            <a:gdLst/>
            <a:ahLst/>
            <a:rect l="l" t="t" r="r" b="b"/>
            <a:pathLst>
              <a:path w="203" h="41">
                <a:moveTo>
                  <a:pt x="97" y="40"/>
                </a:moveTo>
                <a:cubicBezTo>
                  <a:pt x="64" y="40"/>
                  <a:pt x="35" y="37"/>
                  <a:pt x="5" y="31"/>
                </a:cubicBezTo>
                <a:cubicBezTo>
                  <a:pt x="5" y="31"/>
                  <a:pt x="4" y="30"/>
                  <a:pt x="3" y="30"/>
                </a:cubicBezTo>
                <a:cubicBezTo>
                  <a:pt x="0" y="30"/>
                  <a:pt x="0" y="28"/>
                  <a:pt x="2" y="27"/>
                </a:cubicBezTo>
                <a:cubicBezTo>
                  <a:pt x="7" y="23"/>
                  <a:pt x="11" y="20"/>
                  <a:pt x="15" y="16"/>
                </a:cubicBezTo>
                <a:cubicBezTo>
                  <a:pt x="18" y="14"/>
                  <a:pt x="20" y="12"/>
                  <a:pt x="21" y="9"/>
                </a:cubicBezTo>
                <a:cubicBezTo>
                  <a:pt x="22" y="6"/>
                  <a:pt x="24" y="6"/>
                  <a:pt x="27" y="6"/>
                </a:cubicBezTo>
                <a:cubicBezTo>
                  <a:pt x="43" y="5"/>
                  <a:pt x="59" y="5"/>
                  <a:pt x="75" y="4"/>
                </a:cubicBezTo>
                <a:cubicBezTo>
                  <a:pt x="105" y="3"/>
                  <a:pt x="134" y="1"/>
                  <a:pt x="163" y="0"/>
                </a:cubicBezTo>
                <a:cubicBezTo>
                  <a:pt x="168" y="0"/>
                  <a:pt x="172" y="0"/>
                  <a:pt x="177" y="0"/>
                </a:cubicBezTo>
                <a:cubicBezTo>
                  <a:pt x="179" y="0"/>
                  <a:pt x="180" y="0"/>
                  <a:pt x="181" y="2"/>
                </a:cubicBezTo>
                <a:cubicBezTo>
                  <a:pt x="182" y="7"/>
                  <a:pt x="187" y="10"/>
                  <a:pt x="191" y="13"/>
                </a:cubicBezTo>
                <a:cubicBezTo>
                  <a:pt x="194" y="15"/>
                  <a:pt x="198" y="18"/>
                  <a:pt x="201" y="20"/>
                </a:cubicBezTo>
                <a:cubicBezTo>
                  <a:pt x="202" y="21"/>
                  <a:pt x="203" y="21"/>
                  <a:pt x="203" y="22"/>
                </a:cubicBezTo>
                <a:cubicBezTo>
                  <a:pt x="203" y="23"/>
                  <a:pt x="202" y="24"/>
                  <a:pt x="201" y="24"/>
                </a:cubicBezTo>
                <a:cubicBezTo>
                  <a:pt x="182" y="29"/>
                  <a:pt x="162" y="34"/>
                  <a:pt x="143" y="36"/>
                </a:cubicBezTo>
                <a:cubicBezTo>
                  <a:pt x="127" y="39"/>
                  <a:pt x="110" y="41"/>
                  <a:pt x="97" y="40"/>
                </a:cubicBezTo>
                <a:close/>
              </a:path>
            </a:pathLst>
          </a:custGeom>
          <a:solidFill>
            <a:srgbClr val="c49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5" name="Freeform 17"/>
          <p:cNvSpPr/>
          <p:nvPr/>
        </p:nvSpPr>
        <p:spPr>
          <a:xfrm>
            <a:off x="7701120" y="3957480"/>
            <a:ext cx="406080" cy="905040"/>
          </a:xfrm>
          <a:custGeom>
            <a:avLst/>
            <a:gdLst/>
            <a:ahLst/>
            <a:rect l="l" t="t" r="r" b="b"/>
            <a:pathLst>
              <a:path w="77" h="171">
                <a:moveTo>
                  <a:pt x="77" y="14"/>
                </a:moveTo>
                <a:cubicBezTo>
                  <a:pt x="75" y="56"/>
                  <a:pt x="67" y="99"/>
                  <a:pt x="53" y="140"/>
                </a:cubicBezTo>
                <a:cubicBezTo>
                  <a:pt x="49" y="149"/>
                  <a:pt x="46" y="158"/>
                  <a:pt x="42" y="166"/>
                </a:cubicBezTo>
                <a:cubicBezTo>
                  <a:pt x="41" y="168"/>
                  <a:pt x="41" y="171"/>
                  <a:pt x="39" y="171"/>
                </a:cubicBezTo>
                <a:cubicBezTo>
                  <a:pt x="37" y="170"/>
                  <a:pt x="37" y="168"/>
                  <a:pt x="37" y="166"/>
                </a:cubicBezTo>
                <a:cubicBezTo>
                  <a:pt x="35" y="161"/>
                  <a:pt x="34" y="156"/>
                  <a:pt x="30" y="153"/>
                </a:cubicBezTo>
                <a:cubicBezTo>
                  <a:pt x="26" y="150"/>
                  <a:pt x="26" y="146"/>
                  <a:pt x="27" y="142"/>
                </a:cubicBezTo>
                <a:cubicBezTo>
                  <a:pt x="31" y="123"/>
                  <a:pt x="35" y="103"/>
                  <a:pt x="39" y="84"/>
                </a:cubicBezTo>
                <a:cubicBezTo>
                  <a:pt x="40" y="80"/>
                  <a:pt x="38" y="79"/>
                  <a:pt x="35" y="79"/>
                </a:cubicBezTo>
                <a:cubicBezTo>
                  <a:pt x="29" y="78"/>
                  <a:pt x="25" y="81"/>
                  <a:pt x="21" y="85"/>
                </a:cubicBezTo>
                <a:cubicBezTo>
                  <a:pt x="17" y="89"/>
                  <a:pt x="11" y="89"/>
                  <a:pt x="5" y="87"/>
                </a:cubicBezTo>
                <a:cubicBezTo>
                  <a:pt x="1" y="84"/>
                  <a:pt x="0" y="80"/>
                  <a:pt x="0" y="76"/>
                </a:cubicBezTo>
                <a:cubicBezTo>
                  <a:pt x="0" y="72"/>
                  <a:pt x="1" y="68"/>
                  <a:pt x="2" y="64"/>
                </a:cubicBezTo>
                <a:cubicBezTo>
                  <a:pt x="2" y="58"/>
                  <a:pt x="5" y="55"/>
                  <a:pt x="10" y="53"/>
                </a:cubicBezTo>
                <a:cubicBezTo>
                  <a:pt x="16" y="52"/>
                  <a:pt x="20" y="53"/>
                  <a:pt x="24" y="58"/>
                </a:cubicBezTo>
                <a:cubicBezTo>
                  <a:pt x="26" y="59"/>
                  <a:pt x="27" y="60"/>
                  <a:pt x="27" y="62"/>
                </a:cubicBezTo>
                <a:cubicBezTo>
                  <a:pt x="30" y="68"/>
                  <a:pt x="36" y="69"/>
                  <a:pt x="41" y="70"/>
                </a:cubicBezTo>
                <a:cubicBezTo>
                  <a:pt x="44" y="71"/>
                  <a:pt x="43" y="68"/>
                  <a:pt x="44" y="67"/>
                </a:cubicBezTo>
                <a:cubicBezTo>
                  <a:pt x="47" y="50"/>
                  <a:pt x="51" y="34"/>
                  <a:pt x="54" y="18"/>
                </a:cubicBezTo>
                <a:cubicBezTo>
                  <a:pt x="54" y="17"/>
                  <a:pt x="55" y="15"/>
                  <a:pt x="55" y="14"/>
                </a:cubicBezTo>
                <a:cubicBezTo>
                  <a:pt x="55" y="11"/>
                  <a:pt x="57" y="9"/>
                  <a:pt x="60" y="9"/>
                </a:cubicBezTo>
                <a:cubicBezTo>
                  <a:pt x="65" y="8"/>
                  <a:pt x="69" y="5"/>
                  <a:pt x="73" y="2"/>
                </a:cubicBezTo>
                <a:cubicBezTo>
                  <a:pt x="74" y="1"/>
                  <a:pt x="75" y="0"/>
                  <a:pt x="76" y="1"/>
                </a:cubicBezTo>
                <a:cubicBezTo>
                  <a:pt x="77" y="2"/>
                  <a:pt x="77" y="3"/>
                  <a:pt x="77" y="4"/>
                </a:cubicBezTo>
                <a:cubicBezTo>
                  <a:pt x="77" y="7"/>
                  <a:pt x="77" y="10"/>
                  <a:pt x="77" y="14"/>
                </a:cubicBezTo>
                <a:close/>
              </a:path>
            </a:pathLst>
          </a:custGeom>
          <a:solidFill>
            <a:srgbClr val="c49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4043520" y="4111560"/>
            <a:ext cx="306360" cy="855720"/>
          </a:xfrm>
          <a:custGeom>
            <a:avLst/>
            <a:gdLst/>
            <a:ahLst/>
            <a:rect l="l" t="t" r="r" b="b"/>
            <a:pathLst>
              <a:path w="58" h="162">
                <a:moveTo>
                  <a:pt x="58" y="140"/>
                </a:moveTo>
                <a:cubicBezTo>
                  <a:pt x="58" y="141"/>
                  <a:pt x="58" y="142"/>
                  <a:pt x="57" y="143"/>
                </a:cubicBezTo>
                <a:cubicBezTo>
                  <a:pt x="52" y="147"/>
                  <a:pt x="50" y="153"/>
                  <a:pt x="49" y="159"/>
                </a:cubicBezTo>
                <a:cubicBezTo>
                  <a:pt x="49" y="160"/>
                  <a:pt x="49" y="161"/>
                  <a:pt x="47" y="162"/>
                </a:cubicBezTo>
                <a:cubicBezTo>
                  <a:pt x="46" y="162"/>
                  <a:pt x="46" y="160"/>
                  <a:pt x="45" y="159"/>
                </a:cubicBezTo>
                <a:cubicBezTo>
                  <a:pt x="24" y="119"/>
                  <a:pt x="10" y="77"/>
                  <a:pt x="4" y="32"/>
                </a:cubicBezTo>
                <a:cubicBezTo>
                  <a:pt x="3" y="23"/>
                  <a:pt x="2" y="14"/>
                  <a:pt x="1" y="5"/>
                </a:cubicBezTo>
                <a:cubicBezTo>
                  <a:pt x="0" y="0"/>
                  <a:pt x="0" y="0"/>
                  <a:pt x="5" y="2"/>
                </a:cubicBezTo>
                <a:cubicBezTo>
                  <a:pt x="8" y="3"/>
                  <a:pt x="11" y="5"/>
                  <a:pt x="14" y="5"/>
                </a:cubicBezTo>
                <a:cubicBezTo>
                  <a:pt x="18" y="4"/>
                  <a:pt x="19" y="6"/>
                  <a:pt x="20" y="9"/>
                </a:cubicBezTo>
                <a:cubicBezTo>
                  <a:pt x="29" y="40"/>
                  <a:pt x="38" y="71"/>
                  <a:pt x="47" y="103"/>
                </a:cubicBezTo>
                <a:cubicBezTo>
                  <a:pt x="50" y="114"/>
                  <a:pt x="54" y="126"/>
                  <a:pt x="57" y="137"/>
                </a:cubicBezTo>
                <a:cubicBezTo>
                  <a:pt x="58" y="138"/>
                  <a:pt x="58" y="139"/>
                  <a:pt x="58" y="140"/>
                </a:cubicBezTo>
                <a:close/>
              </a:path>
            </a:pathLst>
          </a:custGeom>
          <a:solidFill>
            <a:srgbClr val="c49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" name="Freeform 19"/>
          <p:cNvSpPr/>
          <p:nvPr/>
        </p:nvSpPr>
        <p:spPr>
          <a:xfrm>
            <a:off x="6759720" y="2087640"/>
            <a:ext cx="734760" cy="480960"/>
          </a:xfrm>
          <a:custGeom>
            <a:avLst/>
            <a:gdLst/>
            <a:ahLst/>
            <a:rect l="l" t="t" r="r" b="b"/>
            <a:pathLst>
              <a:path w="139" h="91">
                <a:moveTo>
                  <a:pt x="0" y="0"/>
                </a:moveTo>
                <a:cubicBezTo>
                  <a:pt x="10" y="3"/>
                  <a:pt x="18" y="6"/>
                  <a:pt x="26" y="10"/>
                </a:cubicBezTo>
                <a:cubicBezTo>
                  <a:pt x="55" y="23"/>
                  <a:pt x="82" y="38"/>
                  <a:pt x="107" y="58"/>
                </a:cubicBezTo>
                <a:cubicBezTo>
                  <a:pt x="118" y="66"/>
                  <a:pt x="128" y="75"/>
                  <a:pt x="137" y="84"/>
                </a:cubicBezTo>
                <a:cubicBezTo>
                  <a:pt x="138" y="85"/>
                  <a:pt x="139" y="85"/>
                  <a:pt x="138" y="87"/>
                </a:cubicBezTo>
                <a:cubicBezTo>
                  <a:pt x="138" y="87"/>
                  <a:pt x="137" y="87"/>
                  <a:pt x="136" y="87"/>
                </a:cubicBezTo>
                <a:cubicBezTo>
                  <a:pt x="130" y="87"/>
                  <a:pt x="124" y="87"/>
                  <a:pt x="119" y="90"/>
                </a:cubicBezTo>
                <a:cubicBezTo>
                  <a:pt x="117" y="91"/>
                  <a:pt x="116" y="90"/>
                  <a:pt x="115" y="89"/>
                </a:cubicBezTo>
                <a:cubicBezTo>
                  <a:pt x="79" y="65"/>
                  <a:pt x="42" y="41"/>
                  <a:pt x="6" y="16"/>
                </a:cubicBezTo>
                <a:cubicBezTo>
                  <a:pt x="4" y="15"/>
                  <a:pt x="3" y="14"/>
                  <a:pt x="3" y="11"/>
                </a:cubicBezTo>
                <a:cubicBezTo>
                  <a:pt x="3" y="7"/>
                  <a:pt x="3" y="4"/>
                  <a:pt x="0" y="0"/>
                </a:cubicBezTo>
                <a:close/>
              </a:path>
            </a:pathLst>
          </a:custGeom>
          <a:solidFill>
            <a:srgbClr val="89d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8" name="Freeform 20"/>
          <p:cNvSpPr/>
          <p:nvPr/>
        </p:nvSpPr>
        <p:spPr>
          <a:xfrm>
            <a:off x="4572000" y="2128680"/>
            <a:ext cx="696960" cy="535320"/>
          </a:xfrm>
          <a:custGeom>
            <a:avLst/>
            <a:gdLst/>
            <a:ahLst/>
            <a:rect l="l" t="t" r="r" b="b"/>
            <a:pathLst>
              <a:path w="132" h="101">
                <a:moveTo>
                  <a:pt x="132" y="0"/>
                </a:moveTo>
                <a:cubicBezTo>
                  <a:pt x="130" y="5"/>
                  <a:pt x="129" y="8"/>
                  <a:pt x="130" y="12"/>
                </a:cubicBezTo>
                <a:cubicBezTo>
                  <a:pt x="130" y="14"/>
                  <a:pt x="128" y="15"/>
                  <a:pt x="126" y="16"/>
                </a:cubicBezTo>
                <a:cubicBezTo>
                  <a:pt x="96" y="39"/>
                  <a:pt x="66" y="62"/>
                  <a:pt x="36" y="85"/>
                </a:cubicBezTo>
                <a:cubicBezTo>
                  <a:pt x="31" y="89"/>
                  <a:pt x="25" y="94"/>
                  <a:pt x="19" y="98"/>
                </a:cubicBezTo>
                <a:cubicBezTo>
                  <a:pt x="17" y="100"/>
                  <a:pt x="15" y="101"/>
                  <a:pt x="13" y="99"/>
                </a:cubicBezTo>
                <a:cubicBezTo>
                  <a:pt x="10" y="97"/>
                  <a:pt x="7" y="96"/>
                  <a:pt x="3" y="97"/>
                </a:cubicBezTo>
                <a:cubicBezTo>
                  <a:pt x="2" y="97"/>
                  <a:pt x="1" y="97"/>
                  <a:pt x="0" y="96"/>
                </a:cubicBezTo>
                <a:cubicBezTo>
                  <a:pt x="0" y="95"/>
                  <a:pt x="1" y="94"/>
                  <a:pt x="2" y="93"/>
                </a:cubicBezTo>
                <a:cubicBezTo>
                  <a:pt x="18" y="75"/>
                  <a:pt x="36" y="59"/>
                  <a:pt x="55" y="45"/>
                </a:cubicBezTo>
                <a:cubicBezTo>
                  <a:pt x="78" y="28"/>
                  <a:pt x="103" y="13"/>
                  <a:pt x="129" y="1"/>
                </a:cubicBezTo>
                <a:cubicBezTo>
                  <a:pt x="130" y="1"/>
                  <a:pt x="130" y="1"/>
                  <a:pt x="132" y="0"/>
                </a:cubicBezTo>
                <a:close/>
              </a:path>
            </a:pathLst>
          </a:custGeom>
          <a:solidFill>
            <a:srgbClr val="e18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" name="TextBox 58"/>
          <p:cNvSpPr/>
          <p:nvPr/>
        </p:nvSpPr>
        <p:spPr>
          <a:xfrm>
            <a:off x="5508360" y="3498840"/>
            <a:ext cx="114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aleway"/>
              </a:rPr>
              <a:t>Cor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aleway"/>
              </a:rPr>
              <a:t>Process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50" name="Group 59" descr=""/>
          <p:cNvPicPr/>
          <p:nvPr/>
        </p:nvPicPr>
        <p:blipFill>
          <a:blip r:embed="rId1"/>
          <a:stretch/>
        </p:blipFill>
        <p:spPr>
          <a:xfrm>
            <a:off x="7259760" y="3968640"/>
            <a:ext cx="299880" cy="420840"/>
          </a:xfrm>
          <a:prstGeom prst="rect">
            <a:avLst/>
          </a:prstGeom>
          <a:ln w="0">
            <a:noFill/>
          </a:ln>
        </p:spPr>
      </p:pic>
      <p:pic>
        <p:nvPicPr>
          <p:cNvPr id="151" name="Group 62" descr=""/>
          <p:cNvPicPr/>
          <p:nvPr/>
        </p:nvPicPr>
        <p:blipFill>
          <a:blip r:embed="rId2"/>
          <a:stretch/>
        </p:blipFill>
        <p:spPr>
          <a:xfrm>
            <a:off x="5022720" y="2567160"/>
            <a:ext cx="487440" cy="480960"/>
          </a:xfrm>
          <a:prstGeom prst="rect">
            <a:avLst/>
          </a:prstGeom>
          <a:ln w="0">
            <a:noFill/>
          </a:ln>
        </p:spPr>
      </p:pic>
      <p:pic>
        <p:nvPicPr>
          <p:cNvPr id="152" name="Group 69" descr=""/>
          <p:cNvPicPr/>
          <p:nvPr/>
        </p:nvPicPr>
        <p:blipFill>
          <a:blip r:embed="rId3"/>
          <a:stretch/>
        </p:blipFill>
        <p:spPr>
          <a:xfrm>
            <a:off x="5870520" y="5078520"/>
            <a:ext cx="480960" cy="420480"/>
          </a:xfrm>
          <a:prstGeom prst="rect">
            <a:avLst/>
          </a:prstGeom>
          <a:ln w="0">
            <a:noFill/>
          </a:ln>
        </p:spPr>
      </p:pic>
      <p:sp>
        <p:nvSpPr>
          <p:cNvPr id="153" name="Freeform 30"/>
          <p:cNvSpPr/>
          <p:nvPr/>
        </p:nvSpPr>
        <p:spPr>
          <a:xfrm>
            <a:off x="6545160" y="2592360"/>
            <a:ext cx="405000" cy="432000"/>
          </a:xfrm>
          <a:custGeom>
            <a:avLst/>
            <a:gdLst/>
            <a:ahLst/>
            <a:rect l="l" t="t" r="r" b="b"/>
            <a:pathLst>
              <a:path w="120" h="128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62"/>
                  <a:pt x="2" y="64"/>
                  <a:pt x="4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111"/>
                  <a:pt x="56" y="111"/>
                  <a:pt x="56" y="111"/>
                </a:cubicBezTo>
                <a:cubicBezTo>
                  <a:pt x="56" y="116"/>
                  <a:pt x="51" y="120"/>
                  <a:pt x="46" y="120"/>
                </a:cubicBezTo>
                <a:cubicBezTo>
                  <a:pt x="40" y="120"/>
                  <a:pt x="36" y="116"/>
                  <a:pt x="36" y="111"/>
                </a:cubicBezTo>
                <a:cubicBezTo>
                  <a:pt x="36" y="108"/>
                  <a:pt x="34" y="107"/>
                  <a:pt x="32" y="107"/>
                </a:cubicBezTo>
                <a:cubicBezTo>
                  <a:pt x="30" y="107"/>
                  <a:pt x="28" y="108"/>
                  <a:pt x="28" y="111"/>
                </a:cubicBezTo>
                <a:cubicBezTo>
                  <a:pt x="28" y="120"/>
                  <a:pt x="36" y="128"/>
                  <a:pt x="46" y="128"/>
                </a:cubicBezTo>
                <a:cubicBezTo>
                  <a:pt x="56" y="128"/>
                  <a:pt x="64" y="120"/>
                  <a:pt x="64" y="111"/>
                </a:cubicBezTo>
                <a:cubicBezTo>
                  <a:pt x="64" y="64"/>
                  <a:pt x="64" y="64"/>
                  <a:pt x="64" y="64"/>
                </a:cubicBezTo>
                <a:cubicBezTo>
                  <a:pt x="116" y="64"/>
                  <a:pt x="116" y="64"/>
                  <a:pt x="116" y="64"/>
                </a:cubicBezTo>
                <a:cubicBezTo>
                  <a:pt x="118" y="64"/>
                  <a:pt x="120" y="62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" y="56"/>
                </a:moveTo>
                <a:cubicBezTo>
                  <a:pt x="10" y="32"/>
                  <a:pt x="28" y="13"/>
                  <a:pt x="51" y="9"/>
                </a:cubicBezTo>
                <a:cubicBezTo>
                  <a:pt x="38" y="17"/>
                  <a:pt x="30" y="35"/>
                  <a:pt x="30" y="56"/>
                </a:cubicBezTo>
                <a:lnTo>
                  <a:pt x="8" y="56"/>
                </a:lnTo>
                <a:close/>
                <a:moveTo>
                  <a:pt x="34" y="56"/>
                </a:moveTo>
                <a:cubicBezTo>
                  <a:pt x="34" y="32"/>
                  <a:pt x="44" y="14"/>
                  <a:pt x="60" y="9"/>
                </a:cubicBezTo>
                <a:cubicBezTo>
                  <a:pt x="76" y="14"/>
                  <a:pt x="86" y="32"/>
                  <a:pt x="86" y="56"/>
                </a:cubicBezTo>
                <a:lnTo>
                  <a:pt x="34" y="56"/>
                </a:lnTo>
                <a:close/>
                <a:moveTo>
                  <a:pt x="90" y="56"/>
                </a:moveTo>
                <a:cubicBezTo>
                  <a:pt x="90" y="35"/>
                  <a:pt x="82" y="17"/>
                  <a:pt x="69" y="9"/>
                </a:cubicBezTo>
                <a:cubicBezTo>
                  <a:pt x="92" y="13"/>
                  <a:pt x="110" y="32"/>
                  <a:pt x="112" y="56"/>
                </a:cubicBezTo>
                <a:lnTo>
                  <a:pt x="9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54" name="Group 74" descr=""/>
          <p:cNvPicPr/>
          <p:nvPr/>
        </p:nvPicPr>
        <p:blipFill>
          <a:blip r:embed="rId4"/>
          <a:stretch/>
        </p:blipFill>
        <p:spPr>
          <a:xfrm>
            <a:off x="4578480" y="4078440"/>
            <a:ext cx="395280" cy="39672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81"/>
          <p:cNvGrpSpPr/>
          <p:nvPr/>
        </p:nvGrpSpPr>
        <p:grpSpPr>
          <a:xfrm>
            <a:off x="7035840" y="1788840"/>
            <a:ext cx="1346400" cy="765000"/>
            <a:chOff x="7035840" y="1788840"/>
            <a:chExt cx="1346400" cy="765000"/>
          </a:xfrm>
        </p:grpSpPr>
        <p:sp>
          <p:nvSpPr>
            <p:cNvPr id="156" name="Straight Connector 82"/>
            <p:cNvSpPr/>
            <p:nvPr/>
          </p:nvSpPr>
          <p:spPr>
            <a:xfrm flipV="1">
              <a:off x="7035840" y="1788840"/>
              <a:ext cx="672840" cy="765000"/>
            </a:xfrm>
            <a:prstGeom prst="line">
              <a:avLst/>
            </a:prstGeom>
            <a:ln w="19080">
              <a:solidFill>
                <a:srgbClr val="9f9f9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157" name="Straight Arrow Connector 83"/>
            <p:cNvCxnSpPr/>
            <p:nvPr/>
          </p:nvCxnSpPr>
          <p:spPr>
            <a:xfrm>
              <a:off x="7705800" y="1790280"/>
              <a:ext cx="676800" cy="1080"/>
            </a:xfrm>
            <a:prstGeom prst="straightConnector1">
              <a:avLst/>
            </a:prstGeom>
            <a:ln w="19080">
              <a:solidFill>
                <a:srgbClr val="9f9f9f"/>
              </a:solidFill>
              <a:miter/>
              <a:tailEnd len="med" type="diamond" w="med"/>
            </a:ln>
          </p:spPr>
        </p:cxnSp>
      </p:grpSp>
      <p:cxnSp>
        <p:nvCxnSpPr>
          <p:cNvPr id="158" name="Straight Arrow Connector 84"/>
          <p:cNvCxnSpPr/>
          <p:nvPr/>
        </p:nvCxnSpPr>
        <p:spPr>
          <a:xfrm>
            <a:off x="7692840" y="4613040"/>
            <a:ext cx="849960" cy="1080"/>
          </a:xfrm>
          <a:prstGeom prst="straightConnector1">
            <a:avLst/>
          </a:prstGeom>
          <a:ln w="19080">
            <a:solidFill>
              <a:srgbClr val="9f9f9f"/>
            </a:solidFill>
            <a:miter/>
            <a:headEnd len="med" type="oval" w="med"/>
            <a:tailEnd len="med" type="diamond" w="med"/>
          </a:ln>
        </p:spPr>
      </p:cxnSp>
      <p:cxnSp>
        <p:nvCxnSpPr>
          <p:cNvPr id="159" name="Straight Arrow Connector 85"/>
          <p:cNvCxnSpPr/>
          <p:nvPr/>
        </p:nvCxnSpPr>
        <p:spPr>
          <a:xfrm flipH="1">
            <a:off x="3695400" y="5312880"/>
            <a:ext cx="1908720" cy="1080"/>
          </a:xfrm>
          <a:prstGeom prst="straightConnector1">
            <a:avLst/>
          </a:prstGeom>
          <a:ln w="19080">
            <a:solidFill>
              <a:srgbClr val="9f9f9f"/>
            </a:solidFill>
            <a:miter/>
            <a:headEnd len="med" type="oval" w="med"/>
            <a:tailEnd len="med" type="diamond" w="med"/>
          </a:ln>
        </p:spPr>
      </p:cxnSp>
      <p:cxnSp>
        <p:nvCxnSpPr>
          <p:cNvPr id="160" name="Straight Arrow Connector 86"/>
          <p:cNvCxnSpPr/>
          <p:nvPr/>
        </p:nvCxnSpPr>
        <p:spPr>
          <a:xfrm flipH="1">
            <a:off x="3550680" y="3854160"/>
            <a:ext cx="1081800" cy="1080"/>
          </a:xfrm>
          <a:prstGeom prst="straightConnector1">
            <a:avLst/>
          </a:prstGeom>
          <a:ln w="19080">
            <a:solidFill>
              <a:srgbClr val="9f9f9f"/>
            </a:solidFill>
            <a:miter/>
            <a:headEnd len="med" type="oval" w="med"/>
            <a:tailEnd len="med" type="diamond" w="med"/>
          </a:ln>
        </p:spPr>
      </p:cxnSp>
      <p:grpSp>
        <p:nvGrpSpPr>
          <p:cNvPr id="161" name="Group 87"/>
          <p:cNvGrpSpPr/>
          <p:nvPr/>
        </p:nvGrpSpPr>
        <p:grpSpPr>
          <a:xfrm>
            <a:off x="3565080" y="2131920"/>
            <a:ext cx="1365480" cy="682560"/>
            <a:chOff x="3565080" y="2131920"/>
            <a:chExt cx="1365480" cy="682560"/>
          </a:xfrm>
        </p:grpSpPr>
        <p:sp>
          <p:nvSpPr>
            <p:cNvPr id="162" name="Straight Connector 88"/>
            <p:cNvSpPr/>
            <p:nvPr/>
          </p:nvSpPr>
          <p:spPr>
            <a:xfrm flipH="1" flipV="1">
              <a:off x="4248000" y="2131920"/>
              <a:ext cx="682560" cy="682560"/>
            </a:xfrm>
            <a:prstGeom prst="line">
              <a:avLst/>
            </a:prstGeom>
            <a:ln w="19080">
              <a:solidFill>
                <a:srgbClr val="9f9f9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163" name="Straight Arrow Connector 89"/>
            <p:cNvCxnSpPr/>
            <p:nvPr/>
          </p:nvCxnSpPr>
          <p:spPr>
            <a:xfrm flipH="1">
              <a:off x="3565080" y="2133000"/>
              <a:ext cx="686520" cy="1080"/>
            </a:xfrm>
            <a:prstGeom prst="straightConnector1">
              <a:avLst/>
            </a:prstGeom>
            <a:ln w="19080">
              <a:solidFill>
                <a:srgbClr val="9f9f9f"/>
              </a:solidFill>
              <a:miter/>
              <a:tailEnd len="med" type="diamond" w="med"/>
            </a:ln>
          </p:spPr>
        </p:cxnSp>
      </p:grpSp>
      <p:sp>
        <p:nvSpPr>
          <p:cNvPr id="164" name="TextBox 90"/>
          <p:cNvSpPr/>
          <p:nvPr/>
        </p:nvSpPr>
        <p:spPr>
          <a:xfrm>
            <a:off x="9276840" y="146520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" name="Rectangle 91"/>
          <p:cNvSpPr/>
          <p:nvPr/>
        </p:nvSpPr>
        <p:spPr>
          <a:xfrm>
            <a:off x="9304200" y="1684440"/>
            <a:ext cx="2257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6" name="TextBox 92"/>
          <p:cNvSpPr/>
          <p:nvPr/>
        </p:nvSpPr>
        <p:spPr>
          <a:xfrm>
            <a:off x="1557360" y="18748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" name="Rectangle 93"/>
          <p:cNvSpPr/>
          <p:nvPr/>
        </p:nvSpPr>
        <p:spPr>
          <a:xfrm>
            <a:off x="299880" y="2073240"/>
            <a:ext cx="2448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" name="TextBox 94"/>
          <p:cNvSpPr/>
          <p:nvPr/>
        </p:nvSpPr>
        <p:spPr>
          <a:xfrm>
            <a:off x="1611360" y="502452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" name="Rectangle 95"/>
          <p:cNvSpPr/>
          <p:nvPr/>
        </p:nvSpPr>
        <p:spPr>
          <a:xfrm>
            <a:off x="353880" y="5224320"/>
            <a:ext cx="2448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" name="TextBox 96"/>
          <p:cNvSpPr/>
          <p:nvPr/>
        </p:nvSpPr>
        <p:spPr>
          <a:xfrm>
            <a:off x="9415440" y="429084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" name="Rectangle 97"/>
          <p:cNvSpPr/>
          <p:nvPr/>
        </p:nvSpPr>
        <p:spPr>
          <a:xfrm>
            <a:off x="9442440" y="4510080"/>
            <a:ext cx="217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" name="TextBox 98"/>
          <p:cNvSpPr/>
          <p:nvPr/>
        </p:nvSpPr>
        <p:spPr>
          <a:xfrm>
            <a:off x="1494720" y="35416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" name="Rectangle 99"/>
          <p:cNvSpPr/>
          <p:nvPr/>
        </p:nvSpPr>
        <p:spPr>
          <a:xfrm>
            <a:off x="236520" y="3741840"/>
            <a:ext cx="2448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" name="TextBox 100"/>
          <p:cNvSpPr/>
          <p:nvPr/>
        </p:nvSpPr>
        <p:spPr>
          <a:xfrm>
            <a:off x="8631360" y="4324320"/>
            <a:ext cx="11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80b9"/>
                </a:solidFill>
                <a:latin typeface="Bebas"/>
              </a:rPr>
              <a:t>15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5" name="TextBox 101"/>
          <p:cNvSpPr/>
          <p:nvPr/>
        </p:nvSpPr>
        <p:spPr>
          <a:xfrm>
            <a:off x="2576880" y="35542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9c12"/>
                </a:solidFill>
                <a:latin typeface="Bebas"/>
              </a:rPr>
              <a:t>10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6" name="TextBox 102"/>
          <p:cNvSpPr/>
          <p:nvPr/>
        </p:nvSpPr>
        <p:spPr>
          <a:xfrm>
            <a:off x="8384760" y="151596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b176"/>
                </a:solidFill>
                <a:latin typeface="Bebas"/>
              </a:rPr>
              <a:t>20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7" name="TextBox 103"/>
          <p:cNvSpPr/>
          <p:nvPr/>
        </p:nvSpPr>
        <p:spPr>
          <a:xfrm>
            <a:off x="2700000" y="50180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bb59"/>
                </a:solidFill>
                <a:latin typeface="Bebas"/>
              </a:rPr>
              <a:t>30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" name="TextBox 104"/>
          <p:cNvSpPr/>
          <p:nvPr/>
        </p:nvSpPr>
        <p:spPr>
          <a:xfrm>
            <a:off x="2652840" y="18860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392b"/>
                </a:solidFill>
                <a:latin typeface="Bebas"/>
              </a:rPr>
              <a:t>15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7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7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7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7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7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7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7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7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7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7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7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7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7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7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7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7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7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7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7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7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75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7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7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7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7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7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7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7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7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7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7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7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7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7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7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75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6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Poppins"/>
              </a:rPr>
              <a:t>PUZZLE CHAT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80" name="Freeform 5"/>
          <p:cNvSpPr/>
          <p:nvPr/>
        </p:nvSpPr>
        <p:spPr>
          <a:xfrm>
            <a:off x="4970520" y="2190600"/>
            <a:ext cx="2270160" cy="1417680"/>
          </a:xfrm>
          <a:custGeom>
            <a:avLst/>
            <a:gdLst/>
            <a:ahLst/>
            <a:rect l="l" t="t" r="r" b="b"/>
            <a:pathLst>
              <a:path w="704" h="440">
                <a:moveTo>
                  <a:pt x="349" y="0"/>
                </a:moveTo>
                <a:cubicBezTo>
                  <a:pt x="218" y="0"/>
                  <a:pt x="97" y="32"/>
                  <a:pt x="0" y="87"/>
                </a:cubicBezTo>
                <a:cubicBezTo>
                  <a:pt x="101" y="187"/>
                  <a:pt x="101" y="187"/>
                  <a:pt x="101" y="187"/>
                </a:cubicBezTo>
                <a:cubicBezTo>
                  <a:pt x="111" y="197"/>
                  <a:pt x="114" y="207"/>
                  <a:pt x="111" y="215"/>
                </a:cubicBezTo>
                <a:cubicBezTo>
                  <a:pt x="108" y="223"/>
                  <a:pt x="99" y="227"/>
                  <a:pt x="85" y="227"/>
                </a:cubicBezTo>
                <a:cubicBezTo>
                  <a:pt x="84" y="227"/>
                  <a:pt x="69" y="228"/>
                  <a:pt x="47" y="250"/>
                </a:cubicBezTo>
                <a:cubicBezTo>
                  <a:pt x="12" y="284"/>
                  <a:pt x="12" y="341"/>
                  <a:pt x="47" y="375"/>
                </a:cubicBezTo>
                <a:cubicBezTo>
                  <a:pt x="82" y="410"/>
                  <a:pt x="138" y="410"/>
                  <a:pt x="172" y="375"/>
                </a:cubicBezTo>
                <a:cubicBezTo>
                  <a:pt x="195" y="353"/>
                  <a:pt x="195" y="338"/>
                  <a:pt x="195" y="338"/>
                </a:cubicBezTo>
                <a:cubicBezTo>
                  <a:pt x="195" y="324"/>
                  <a:pt x="200" y="314"/>
                  <a:pt x="207" y="311"/>
                </a:cubicBezTo>
                <a:cubicBezTo>
                  <a:pt x="215" y="308"/>
                  <a:pt x="225" y="312"/>
                  <a:pt x="235" y="321"/>
                </a:cubicBezTo>
                <a:cubicBezTo>
                  <a:pt x="353" y="440"/>
                  <a:pt x="353" y="440"/>
                  <a:pt x="353" y="440"/>
                </a:cubicBezTo>
                <a:cubicBezTo>
                  <a:pt x="472" y="322"/>
                  <a:pt x="472" y="322"/>
                  <a:pt x="472" y="322"/>
                </a:cubicBezTo>
                <a:cubicBezTo>
                  <a:pt x="483" y="310"/>
                  <a:pt x="484" y="300"/>
                  <a:pt x="474" y="296"/>
                </a:cubicBezTo>
                <a:cubicBezTo>
                  <a:pt x="470" y="296"/>
                  <a:pt x="466" y="295"/>
                  <a:pt x="462" y="294"/>
                </a:cubicBezTo>
                <a:cubicBezTo>
                  <a:pt x="461" y="294"/>
                  <a:pt x="461" y="294"/>
                  <a:pt x="461" y="294"/>
                </a:cubicBezTo>
                <a:cubicBezTo>
                  <a:pt x="460" y="294"/>
                  <a:pt x="442" y="294"/>
                  <a:pt x="418" y="269"/>
                </a:cubicBezTo>
                <a:cubicBezTo>
                  <a:pt x="381" y="232"/>
                  <a:pt x="381" y="171"/>
                  <a:pt x="418" y="134"/>
                </a:cubicBezTo>
                <a:cubicBezTo>
                  <a:pt x="456" y="96"/>
                  <a:pt x="516" y="96"/>
                  <a:pt x="554" y="134"/>
                </a:cubicBezTo>
                <a:cubicBezTo>
                  <a:pt x="578" y="158"/>
                  <a:pt x="579" y="175"/>
                  <a:pt x="578" y="177"/>
                </a:cubicBezTo>
                <a:cubicBezTo>
                  <a:pt x="580" y="181"/>
                  <a:pt x="580" y="185"/>
                  <a:pt x="581" y="190"/>
                </a:cubicBezTo>
                <a:cubicBezTo>
                  <a:pt x="583" y="195"/>
                  <a:pt x="587" y="198"/>
                  <a:pt x="592" y="196"/>
                </a:cubicBezTo>
                <a:cubicBezTo>
                  <a:pt x="596" y="195"/>
                  <a:pt x="601" y="192"/>
                  <a:pt x="606" y="187"/>
                </a:cubicBezTo>
                <a:cubicBezTo>
                  <a:pt x="704" y="90"/>
                  <a:pt x="704" y="90"/>
                  <a:pt x="704" y="90"/>
                </a:cubicBezTo>
                <a:cubicBezTo>
                  <a:pt x="606" y="33"/>
                  <a:pt x="483" y="0"/>
                  <a:pt x="349" y="0"/>
                </a:cubicBez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1" name="Freeform 6"/>
          <p:cNvSpPr/>
          <p:nvPr/>
        </p:nvSpPr>
        <p:spPr>
          <a:xfrm>
            <a:off x="6124680" y="2489040"/>
            <a:ext cx="1850760" cy="2295720"/>
          </a:xfrm>
          <a:custGeom>
            <a:avLst/>
            <a:gdLst/>
            <a:ahLst/>
            <a:rect l="l" t="t" r="r" b="b"/>
            <a:pathLst>
              <a:path w="574" h="712">
                <a:moveTo>
                  <a:pt x="549" y="469"/>
                </a:moveTo>
                <a:cubicBezTo>
                  <a:pt x="565" y="428"/>
                  <a:pt x="574" y="386"/>
                  <a:pt x="574" y="341"/>
                </a:cubicBezTo>
                <a:cubicBezTo>
                  <a:pt x="574" y="203"/>
                  <a:pt x="487" y="80"/>
                  <a:pt x="352" y="0"/>
                </a:cubicBezTo>
                <a:cubicBezTo>
                  <a:pt x="253" y="99"/>
                  <a:pt x="253" y="99"/>
                  <a:pt x="253" y="99"/>
                </a:cubicBezTo>
                <a:cubicBezTo>
                  <a:pt x="241" y="112"/>
                  <a:pt x="229" y="114"/>
                  <a:pt x="221" y="106"/>
                </a:cubicBezTo>
                <a:cubicBezTo>
                  <a:pt x="216" y="102"/>
                  <a:pt x="214" y="94"/>
                  <a:pt x="213" y="83"/>
                </a:cubicBezTo>
                <a:cubicBezTo>
                  <a:pt x="213" y="83"/>
                  <a:pt x="213" y="68"/>
                  <a:pt x="191" y="46"/>
                </a:cubicBezTo>
                <a:cubicBezTo>
                  <a:pt x="156" y="11"/>
                  <a:pt x="100" y="11"/>
                  <a:pt x="65" y="46"/>
                </a:cubicBezTo>
                <a:cubicBezTo>
                  <a:pt x="31" y="80"/>
                  <a:pt x="31" y="137"/>
                  <a:pt x="65" y="171"/>
                </a:cubicBezTo>
                <a:cubicBezTo>
                  <a:pt x="87" y="193"/>
                  <a:pt x="103" y="194"/>
                  <a:pt x="103" y="194"/>
                </a:cubicBezTo>
                <a:cubicBezTo>
                  <a:pt x="113" y="194"/>
                  <a:pt x="121" y="196"/>
                  <a:pt x="126" y="201"/>
                </a:cubicBezTo>
                <a:cubicBezTo>
                  <a:pt x="134" y="209"/>
                  <a:pt x="131" y="221"/>
                  <a:pt x="119" y="233"/>
                </a:cubicBezTo>
                <a:cubicBezTo>
                  <a:pt x="0" y="352"/>
                  <a:pt x="0" y="352"/>
                  <a:pt x="0" y="352"/>
                </a:cubicBezTo>
                <a:cubicBezTo>
                  <a:pt x="119" y="471"/>
                  <a:pt x="119" y="471"/>
                  <a:pt x="119" y="471"/>
                </a:cubicBezTo>
                <a:cubicBezTo>
                  <a:pt x="126" y="477"/>
                  <a:pt x="132" y="481"/>
                  <a:pt x="137" y="480"/>
                </a:cubicBezTo>
                <a:cubicBezTo>
                  <a:pt x="140" y="479"/>
                  <a:pt x="142" y="477"/>
                  <a:pt x="144" y="473"/>
                </a:cubicBezTo>
                <a:cubicBezTo>
                  <a:pt x="145" y="468"/>
                  <a:pt x="145" y="464"/>
                  <a:pt x="146" y="460"/>
                </a:cubicBezTo>
                <a:cubicBezTo>
                  <a:pt x="146" y="459"/>
                  <a:pt x="146" y="459"/>
                  <a:pt x="146" y="459"/>
                </a:cubicBezTo>
                <a:cubicBezTo>
                  <a:pt x="147" y="459"/>
                  <a:pt x="147" y="441"/>
                  <a:pt x="171" y="417"/>
                </a:cubicBezTo>
                <a:cubicBezTo>
                  <a:pt x="209" y="379"/>
                  <a:pt x="269" y="379"/>
                  <a:pt x="307" y="417"/>
                </a:cubicBezTo>
                <a:cubicBezTo>
                  <a:pt x="344" y="454"/>
                  <a:pt x="344" y="515"/>
                  <a:pt x="307" y="552"/>
                </a:cubicBezTo>
                <a:cubicBezTo>
                  <a:pt x="283" y="577"/>
                  <a:pt x="265" y="577"/>
                  <a:pt x="264" y="577"/>
                </a:cubicBezTo>
                <a:cubicBezTo>
                  <a:pt x="260" y="578"/>
                  <a:pt x="255" y="579"/>
                  <a:pt x="251" y="580"/>
                </a:cubicBezTo>
                <a:cubicBezTo>
                  <a:pt x="247" y="581"/>
                  <a:pt x="244" y="583"/>
                  <a:pt x="244" y="586"/>
                </a:cubicBezTo>
                <a:cubicBezTo>
                  <a:pt x="243" y="591"/>
                  <a:pt x="246" y="598"/>
                  <a:pt x="253" y="605"/>
                </a:cubicBezTo>
                <a:cubicBezTo>
                  <a:pt x="361" y="712"/>
                  <a:pt x="361" y="712"/>
                  <a:pt x="361" y="712"/>
                </a:cubicBezTo>
                <a:cubicBezTo>
                  <a:pt x="431" y="648"/>
                  <a:pt x="503" y="565"/>
                  <a:pt x="549" y="469"/>
                </a:cubicBezTo>
                <a:close/>
              </a:path>
            </a:pathLst>
          </a:cu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2" name="Freeform 7"/>
          <p:cNvSpPr/>
          <p:nvPr/>
        </p:nvSpPr>
        <p:spPr>
          <a:xfrm>
            <a:off x="5016600" y="3639960"/>
            <a:ext cx="2252520" cy="1663920"/>
          </a:xfrm>
          <a:custGeom>
            <a:avLst/>
            <a:gdLst/>
            <a:ahLst/>
            <a:rect l="l" t="t" r="r" b="b"/>
            <a:pathLst>
              <a:path w="699" h="516">
                <a:moveTo>
                  <a:pt x="608" y="213"/>
                </a:moveTo>
                <a:cubicBezTo>
                  <a:pt x="608" y="213"/>
                  <a:pt x="624" y="212"/>
                  <a:pt x="646" y="190"/>
                </a:cubicBezTo>
                <a:cubicBezTo>
                  <a:pt x="681" y="156"/>
                  <a:pt x="681" y="99"/>
                  <a:pt x="646" y="65"/>
                </a:cubicBezTo>
                <a:cubicBezTo>
                  <a:pt x="611" y="30"/>
                  <a:pt x="555" y="30"/>
                  <a:pt x="520" y="65"/>
                </a:cubicBezTo>
                <a:cubicBezTo>
                  <a:pt x="498" y="87"/>
                  <a:pt x="498" y="102"/>
                  <a:pt x="498" y="103"/>
                </a:cubicBezTo>
                <a:cubicBezTo>
                  <a:pt x="498" y="116"/>
                  <a:pt x="493" y="126"/>
                  <a:pt x="485" y="129"/>
                </a:cubicBezTo>
                <a:cubicBezTo>
                  <a:pt x="478" y="132"/>
                  <a:pt x="468" y="129"/>
                  <a:pt x="458" y="119"/>
                </a:cubicBezTo>
                <a:cubicBezTo>
                  <a:pt x="339" y="0"/>
                  <a:pt x="339" y="0"/>
                  <a:pt x="339" y="0"/>
                </a:cubicBezTo>
                <a:cubicBezTo>
                  <a:pt x="221" y="119"/>
                  <a:pt x="221" y="119"/>
                  <a:pt x="221" y="119"/>
                </a:cubicBezTo>
                <a:cubicBezTo>
                  <a:pt x="210" y="130"/>
                  <a:pt x="209" y="140"/>
                  <a:pt x="218" y="144"/>
                </a:cubicBezTo>
                <a:cubicBezTo>
                  <a:pt x="223" y="144"/>
                  <a:pt x="227" y="145"/>
                  <a:pt x="231" y="146"/>
                </a:cubicBezTo>
                <a:cubicBezTo>
                  <a:pt x="232" y="146"/>
                  <a:pt x="232" y="146"/>
                  <a:pt x="232" y="146"/>
                </a:cubicBezTo>
                <a:cubicBezTo>
                  <a:pt x="233" y="146"/>
                  <a:pt x="250" y="147"/>
                  <a:pt x="275" y="171"/>
                </a:cubicBezTo>
                <a:cubicBezTo>
                  <a:pt x="312" y="208"/>
                  <a:pt x="312" y="269"/>
                  <a:pt x="275" y="306"/>
                </a:cubicBezTo>
                <a:cubicBezTo>
                  <a:pt x="237" y="344"/>
                  <a:pt x="176" y="344"/>
                  <a:pt x="139" y="306"/>
                </a:cubicBezTo>
                <a:cubicBezTo>
                  <a:pt x="115" y="282"/>
                  <a:pt x="114" y="265"/>
                  <a:pt x="114" y="263"/>
                </a:cubicBezTo>
                <a:cubicBezTo>
                  <a:pt x="113" y="259"/>
                  <a:pt x="112" y="255"/>
                  <a:pt x="112" y="250"/>
                </a:cubicBezTo>
                <a:cubicBezTo>
                  <a:pt x="108" y="240"/>
                  <a:pt x="98" y="241"/>
                  <a:pt x="87" y="253"/>
                </a:cubicBezTo>
                <a:cubicBezTo>
                  <a:pt x="0" y="340"/>
                  <a:pt x="0" y="340"/>
                  <a:pt x="0" y="340"/>
                </a:cubicBezTo>
                <a:cubicBezTo>
                  <a:pt x="95" y="390"/>
                  <a:pt x="210" y="419"/>
                  <a:pt x="335" y="419"/>
                </a:cubicBezTo>
                <a:cubicBezTo>
                  <a:pt x="408" y="419"/>
                  <a:pt x="478" y="409"/>
                  <a:pt x="543" y="390"/>
                </a:cubicBezTo>
                <a:cubicBezTo>
                  <a:pt x="483" y="516"/>
                  <a:pt x="483" y="516"/>
                  <a:pt x="483" y="516"/>
                </a:cubicBezTo>
                <a:cubicBezTo>
                  <a:pt x="483" y="516"/>
                  <a:pt x="589" y="460"/>
                  <a:pt x="699" y="360"/>
                </a:cubicBezTo>
                <a:cubicBezTo>
                  <a:pt x="592" y="253"/>
                  <a:pt x="592" y="253"/>
                  <a:pt x="592" y="253"/>
                </a:cubicBezTo>
                <a:cubicBezTo>
                  <a:pt x="582" y="243"/>
                  <a:pt x="578" y="233"/>
                  <a:pt x="582" y="225"/>
                </a:cubicBezTo>
                <a:cubicBezTo>
                  <a:pt x="585" y="218"/>
                  <a:pt x="594" y="213"/>
                  <a:pt x="608" y="213"/>
                </a:cubicBezTo>
                <a:close/>
              </a:path>
            </a:pathLst>
          </a:cu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3" name="Freeform 8"/>
          <p:cNvSpPr/>
          <p:nvPr/>
        </p:nvSpPr>
        <p:spPr>
          <a:xfrm>
            <a:off x="4216320" y="2479680"/>
            <a:ext cx="1876680" cy="2243160"/>
          </a:xfrm>
          <a:custGeom>
            <a:avLst/>
            <a:gdLst/>
            <a:ahLst/>
            <a:rect l="l" t="t" r="r" b="b"/>
            <a:pathLst>
              <a:path w="582" h="696">
                <a:moveTo>
                  <a:pt x="0" y="344"/>
                </a:moveTo>
                <a:cubicBezTo>
                  <a:pt x="0" y="489"/>
                  <a:pt x="95" y="617"/>
                  <a:pt x="241" y="696"/>
                </a:cubicBezTo>
                <a:cubicBezTo>
                  <a:pt x="330" y="608"/>
                  <a:pt x="330" y="608"/>
                  <a:pt x="330" y="608"/>
                </a:cubicBezTo>
                <a:cubicBezTo>
                  <a:pt x="342" y="595"/>
                  <a:pt x="354" y="593"/>
                  <a:pt x="362" y="601"/>
                </a:cubicBezTo>
                <a:cubicBezTo>
                  <a:pt x="367" y="605"/>
                  <a:pt x="369" y="613"/>
                  <a:pt x="369" y="624"/>
                </a:cubicBezTo>
                <a:cubicBezTo>
                  <a:pt x="369" y="624"/>
                  <a:pt x="370" y="639"/>
                  <a:pt x="392" y="662"/>
                </a:cubicBezTo>
                <a:cubicBezTo>
                  <a:pt x="427" y="696"/>
                  <a:pt x="483" y="696"/>
                  <a:pt x="518" y="662"/>
                </a:cubicBezTo>
                <a:cubicBezTo>
                  <a:pt x="552" y="627"/>
                  <a:pt x="552" y="571"/>
                  <a:pt x="518" y="536"/>
                </a:cubicBezTo>
                <a:cubicBezTo>
                  <a:pt x="496" y="514"/>
                  <a:pt x="480" y="513"/>
                  <a:pt x="480" y="513"/>
                </a:cubicBezTo>
                <a:cubicBezTo>
                  <a:pt x="469" y="513"/>
                  <a:pt x="461" y="511"/>
                  <a:pt x="457" y="506"/>
                </a:cubicBezTo>
                <a:cubicBezTo>
                  <a:pt x="453" y="502"/>
                  <a:pt x="451" y="497"/>
                  <a:pt x="453" y="491"/>
                </a:cubicBezTo>
                <a:cubicBezTo>
                  <a:pt x="454" y="485"/>
                  <a:pt x="458" y="480"/>
                  <a:pt x="464" y="474"/>
                </a:cubicBezTo>
                <a:cubicBezTo>
                  <a:pt x="582" y="355"/>
                  <a:pt x="582" y="355"/>
                  <a:pt x="582" y="355"/>
                </a:cubicBezTo>
                <a:cubicBezTo>
                  <a:pt x="464" y="237"/>
                  <a:pt x="464" y="237"/>
                  <a:pt x="464" y="237"/>
                </a:cubicBezTo>
                <a:cubicBezTo>
                  <a:pt x="457" y="230"/>
                  <a:pt x="450" y="226"/>
                  <a:pt x="446" y="227"/>
                </a:cubicBezTo>
                <a:cubicBezTo>
                  <a:pt x="443" y="228"/>
                  <a:pt x="440" y="230"/>
                  <a:pt x="439" y="234"/>
                </a:cubicBezTo>
                <a:cubicBezTo>
                  <a:pt x="438" y="239"/>
                  <a:pt x="437" y="243"/>
                  <a:pt x="436" y="247"/>
                </a:cubicBezTo>
                <a:cubicBezTo>
                  <a:pt x="436" y="248"/>
                  <a:pt x="436" y="248"/>
                  <a:pt x="436" y="248"/>
                </a:cubicBezTo>
                <a:cubicBezTo>
                  <a:pt x="436" y="249"/>
                  <a:pt x="436" y="266"/>
                  <a:pt x="412" y="290"/>
                </a:cubicBezTo>
                <a:cubicBezTo>
                  <a:pt x="374" y="328"/>
                  <a:pt x="313" y="328"/>
                  <a:pt x="276" y="290"/>
                </a:cubicBezTo>
                <a:cubicBezTo>
                  <a:pt x="239" y="253"/>
                  <a:pt x="239" y="192"/>
                  <a:pt x="276" y="155"/>
                </a:cubicBezTo>
                <a:cubicBezTo>
                  <a:pt x="300" y="130"/>
                  <a:pt x="318" y="130"/>
                  <a:pt x="319" y="130"/>
                </a:cubicBezTo>
                <a:cubicBezTo>
                  <a:pt x="323" y="129"/>
                  <a:pt x="328" y="128"/>
                  <a:pt x="332" y="128"/>
                </a:cubicBezTo>
                <a:cubicBezTo>
                  <a:pt x="336" y="126"/>
                  <a:pt x="338" y="124"/>
                  <a:pt x="339" y="121"/>
                </a:cubicBezTo>
                <a:cubicBezTo>
                  <a:pt x="340" y="116"/>
                  <a:pt x="337" y="109"/>
                  <a:pt x="330" y="102"/>
                </a:cubicBezTo>
                <a:cubicBezTo>
                  <a:pt x="228" y="0"/>
                  <a:pt x="228" y="0"/>
                  <a:pt x="228" y="0"/>
                </a:cubicBezTo>
                <a:cubicBezTo>
                  <a:pt x="89" y="80"/>
                  <a:pt x="0" y="204"/>
                  <a:pt x="0" y="344"/>
                </a:cubicBezTo>
                <a:close/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4" name="Details 1"/>
          <p:cNvSpPr/>
          <p:nvPr/>
        </p:nvSpPr>
        <p:spPr>
          <a:xfrm>
            <a:off x="8253360" y="3429000"/>
            <a:ext cx="31003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Great Paragraph line is a sample Lorem ipsum dolor sit amet. Consectetur adipiscing eliteiusmod temp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5" name="Details 1"/>
          <p:cNvSpPr/>
          <p:nvPr/>
        </p:nvSpPr>
        <p:spPr>
          <a:xfrm>
            <a:off x="1336680" y="3192480"/>
            <a:ext cx="26146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Great Paragraph line is a sample Lorem ipsum dolor sit amet. Consectetur adipiscing eliteiusmod temp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6" name="Details 1"/>
          <p:cNvSpPr/>
          <p:nvPr/>
        </p:nvSpPr>
        <p:spPr>
          <a:xfrm>
            <a:off x="3106800" y="5407200"/>
            <a:ext cx="3190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Great Paragraph line is a sample Lorem ipsum dolor sit amet. Consectetur adipiscing eliteiusmod temp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7" name="Details 1"/>
          <p:cNvSpPr/>
          <p:nvPr/>
        </p:nvSpPr>
        <p:spPr>
          <a:xfrm>
            <a:off x="7473960" y="1501920"/>
            <a:ext cx="3191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Great Paragraph line is a sample Lorem ipsum dolor sit amet. Consectetur adipiscing eliteiusmod temp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8" name="Freeform 62"/>
          <p:cNvSpPr/>
          <p:nvPr/>
        </p:nvSpPr>
        <p:spPr>
          <a:xfrm>
            <a:off x="4735440" y="3560760"/>
            <a:ext cx="469800" cy="463680"/>
          </a:xfrm>
          <a:custGeom>
            <a:avLst/>
            <a:gdLst/>
            <a:ahLst/>
            <a:rect l="l" t="t" r="r" b="b"/>
            <a:pathLst>
              <a:path w="112" h="111">
                <a:moveTo>
                  <a:pt x="112" y="105"/>
                </a:moveTo>
                <a:cubicBezTo>
                  <a:pt x="112" y="109"/>
                  <a:pt x="109" y="111"/>
                  <a:pt x="106" y="111"/>
                </a:cubicBezTo>
                <a:cubicBezTo>
                  <a:pt x="46" y="111"/>
                  <a:pt x="46" y="111"/>
                  <a:pt x="46" y="111"/>
                </a:cubicBezTo>
                <a:cubicBezTo>
                  <a:pt x="43" y="111"/>
                  <a:pt x="40" y="109"/>
                  <a:pt x="40" y="105"/>
                </a:cubicBezTo>
                <a:cubicBezTo>
                  <a:pt x="40" y="95"/>
                  <a:pt x="40" y="95"/>
                  <a:pt x="40" y="95"/>
                </a:cubicBezTo>
                <a:cubicBezTo>
                  <a:pt x="6" y="95"/>
                  <a:pt x="6" y="95"/>
                  <a:pt x="6" y="95"/>
                </a:cubicBezTo>
                <a:cubicBezTo>
                  <a:pt x="3" y="95"/>
                  <a:pt x="0" y="93"/>
                  <a:pt x="0" y="89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7" y="0"/>
                  <a:pt x="80" y="2"/>
                  <a:pt x="80" y="6"/>
                </a:cubicBezTo>
                <a:cubicBezTo>
                  <a:pt x="80" y="26"/>
                  <a:pt x="80" y="26"/>
                  <a:pt x="80" y="26"/>
                </a:cubicBezTo>
                <a:cubicBezTo>
                  <a:pt x="81" y="27"/>
                  <a:pt x="82" y="27"/>
                  <a:pt x="82" y="28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10" y="56"/>
                  <a:pt x="112" y="60"/>
                  <a:pt x="112" y="64"/>
                </a:cubicBezTo>
                <a:lnTo>
                  <a:pt x="112" y="105"/>
                </a:lnTo>
                <a:close/>
                <a:moveTo>
                  <a:pt x="64" y="10"/>
                </a:moveTo>
                <a:cubicBezTo>
                  <a:pt x="64" y="8"/>
                  <a:pt x="63" y="8"/>
                  <a:pt x="62" y="8"/>
                </a:cubicBezTo>
                <a:cubicBezTo>
                  <a:pt x="18" y="8"/>
                  <a:pt x="18" y="8"/>
                  <a:pt x="18" y="8"/>
                </a:cubicBezTo>
                <a:cubicBezTo>
                  <a:pt x="17" y="8"/>
                  <a:pt x="16" y="8"/>
                  <a:pt x="16" y="10"/>
                </a:cubicBezTo>
                <a:cubicBezTo>
                  <a:pt x="16" y="14"/>
                  <a:pt x="16" y="14"/>
                  <a:pt x="16" y="14"/>
                </a:cubicBezTo>
                <a:cubicBezTo>
                  <a:pt x="16" y="15"/>
                  <a:pt x="17" y="16"/>
                  <a:pt x="18" y="16"/>
                </a:cubicBezTo>
                <a:cubicBezTo>
                  <a:pt x="62" y="16"/>
                  <a:pt x="62" y="16"/>
                  <a:pt x="62" y="16"/>
                </a:cubicBezTo>
                <a:cubicBezTo>
                  <a:pt x="63" y="16"/>
                  <a:pt x="64" y="15"/>
                  <a:pt x="64" y="14"/>
                </a:cubicBezTo>
                <a:lnTo>
                  <a:pt x="64" y="10"/>
                </a:lnTo>
                <a:close/>
                <a:moveTo>
                  <a:pt x="104" y="103"/>
                </a:moveTo>
                <a:cubicBezTo>
                  <a:pt x="104" y="64"/>
                  <a:pt x="104" y="64"/>
                  <a:pt x="104" y="64"/>
                </a:cubicBezTo>
                <a:cubicBezTo>
                  <a:pt x="78" y="64"/>
                  <a:pt x="78" y="64"/>
                  <a:pt x="78" y="64"/>
                </a:cubicBezTo>
                <a:cubicBezTo>
                  <a:pt x="75" y="64"/>
                  <a:pt x="72" y="61"/>
                  <a:pt x="72" y="58"/>
                </a:cubicBezTo>
                <a:cubicBezTo>
                  <a:pt x="72" y="32"/>
                  <a:pt x="72" y="32"/>
                  <a:pt x="72" y="32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103"/>
                  <a:pt x="48" y="103"/>
                  <a:pt x="48" y="103"/>
                </a:cubicBezTo>
                <a:lnTo>
                  <a:pt x="104" y="103"/>
                </a:lnTo>
                <a:close/>
                <a:moveTo>
                  <a:pt x="99" y="56"/>
                </a:moveTo>
                <a:cubicBezTo>
                  <a:pt x="80" y="37"/>
                  <a:pt x="80" y="37"/>
                  <a:pt x="80" y="37"/>
                </a:cubicBezTo>
                <a:cubicBezTo>
                  <a:pt x="80" y="56"/>
                  <a:pt x="80" y="56"/>
                  <a:pt x="80" y="56"/>
                </a:cubicBezTo>
                <a:lnTo>
                  <a:pt x="99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9" name="Freeform 77"/>
          <p:cNvSpPr/>
          <p:nvPr/>
        </p:nvSpPr>
        <p:spPr>
          <a:xfrm>
            <a:off x="7047000" y="3200400"/>
            <a:ext cx="477720" cy="336600"/>
          </a:xfrm>
          <a:custGeom>
            <a:avLst/>
            <a:gdLst/>
            <a:ahLst/>
            <a:rect l="l" t="t" r="r" b="b"/>
            <a:pathLst>
              <a:path w="114" h="80">
                <a:moveTo>
                  <a:pt x="111" y="80"/>
                </a:moveTo>
                <a:cubicBezTo>
                  <a:pt x="67" y="80"/>
                  <a:pt x="67" y="80"/>
                  <a:pt x="67" y="80"/>
                </a:cubicBezTo>
                <a:cubicBezTo>
                  <a:pt x="68" y="80"/>
                  <a:pt x="69" y="80"/>
                  <a:pt x="69" y="78"/>
                </a:cubicBezTo>
                <a:cubicBezTo>
                  <a:pt x="68" y="62"/>
                  <a:pt x="68" y="62"/>
                  <a:pt x="68" y="62"/>
                </a:cubicBezTo>
                <a:cubicBezTo>
                  <a:pt x="68" y="61"/>
                  <a:pt x="67" y="60"/>
                  <a:pt x="66" y="60"/>
                </a:cubicBezTo>
                <a:cubicBezTo>
                  <a:pt x="49" y="60"/>
                  <a:pt x="49" y="60"/>
                  <a:pt x="49" y="60"/>
                </a:cubicBezTo>
                <a:cubicBezTo>
                  <a:pt x="48" y="60"/>
                  <a:pt x="47" y="61"/>
                  <a:pt x="47" y="62"/>
                </a:cubicBezTo>
                <a:cubicBezTo>
                  <a:pt x="45" y="78"/>
                  <a:pt x="45" y="78"/>
                  <a:pt x="45" y="78"/>
                </a:cubicBezTo>
                <a:cubicBezTo>
                  <a:pt x="45" y="80"/>
                  <a:pt x="46" y="80"/>
                  <a:pt x="47" y="80"/>
                </a:cubicBezTo>
                <a:cubicBezTo>
                  <a:pt x="3" y="80"/>
                  <a:pt x="3" y="80"/>
                  <a:pt x="3" y="80"/>
                </a:cubicBezTo>
                <a:cubicBezTo>
                  <a:pt x="1" y="80"/>
                  <a:pt x="0" y="78"/>
                  <a:pt x="0" y="76"/>
                </a:cubicBezTo>
                <a:cubicBezTo>
                  <a:pt x="0" y="73"/>
                  <a:pt x="1" y="71"/>
                  <a:pt x="2" y="69"/>
                </a:cubicBezTo>
                <a:cubicBezTo>
                  <a:pt x="28" y="3"/>
                  <a:pt x="28" y="3"/>
                  <a:pt x="28" y="3"/>
                </a:cubicBezTo>
                <a:cubicBezTo>
                  <a:pt x="29" y="2"/>
                  <a:pt x="30" y="0"/>
                  <a:pt x="32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2" y="0"/>
                  <a:pt x="51" y="1"/>
                  <a:pt x="51" y="2"/>
                </a:cubicBezTo>
                <a:cubicBezTo>
                  <a:pt x="50" y="14"/>
                  <a:pt x="50" y="14"/>
                  <a:pt x="50" y="14"/>
                </a:cubicBezTo>
                <a:cubicBezTo>
                  <a:pt x="50" y="16"/>
                  <a:pt x="51" y="16"/>
                  <a:pt x="52" y="16"/>
                </a:cubicBezTo>
                <a:cubicBezTo>
                  <a:pt x="63" y="16"/>
                  <a:pt x="63" y="16"/>
                  <a:pt x="63" y="16"/>
                </a:cubicBezTo>
                <a:cubicBezTo>
                  <a:pt x="64" y="16"/>
                  <a:pt x="64" y="16"/>
                  <a:pt x="64" y="14"/>
                </a:cubicBezTo>
                <a:cubicBezTo>
                  <a:pt x="63" y="2"/>
                  <a:pt x="63" y="2"/>
                  <a:pt x="63" y="2"/>
                </a:cubicBezTo>
                <a:cubicBezTo>
                  <a:pt x="63" y="1"/>
                  <a:pt x="62" y="0"/>
                  <a:pt x="61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4" y="0"/>
                  <a:pt x="86" y="2"/>
                  <a:pt x="86" y="3"/>
                </a:cubicBezTo>
                <a:cubicBezTo>
                  <a:pt x="113" y="69"/>
                  <a:pt x="113" y="69"/>
                  <a:pt x="113" y="69"/>
                </a:cubicBezTo>
                <a:cubicBezTo>
                  <a:pt x="113" y="71"/>
                  <a:pt x="114" y="73"/>
                  <a:pt x="114" y="76"/>
                </a:cubicBezTo>
                <a:cubicBezTo>
                  <a:pt x="114" y="78"/>
                  <a:pt x="114" y="80"/>
                  <a:pt x="111" y="80"/>
                </a:cubicBezTo>
                <a:close/>
                <a:moveTo>
                  <a:pt x="67" y="46"/>
                </a:moveTo>
                <a:cubicBezTo>
                  <a:pt x="65" y="26"/>
                  <a:pt x="65" y="26"/>
                  <a:pt x="65" y="26"/>
                </a:cubicBezTo>
                <a:cubicBezTo>
                  <a:pt x="65" y="25"/>
                  <a:pt x="64" y="24"/>
                  <a:pt x="63" y="24"/>
                </a:cubicBezTo>
                <a:cubicBezTo>
                  <a:pt x="52" y="24"/>
                  <a:pt x="52" y="24"/>
                  <a:pt x="52" y="24"/>
                </a:cubicBezTo>
                <a:cubicBezTo>
                  <a:pt x="50" y="24"/>
                  <a:pt x="49" y="25"/>
                  <a:pt x="49" y="26"/>
                </a:cubicBezTo>
                <a:cubicBezTo>
                  <a:pt x="48" y="46"/>
                  <a:pt x="48" y="46"/>
                  <a:pt x="48" y="46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8"/>
                  <a:pt x="49" y="48"/>
                  <a:pt x="50" y="48"/>
                </a:cubicBezTo>
                <a:cubicBezTo>
                  <a:pt x="65" y="48"/>
                  <a:pt x="65" y="48"/>
                  <a:pt x="65" y="48"/>
                </a:cubicBezTo>
                <a:cubicBezTo>
                  <a:pt x="66" y="48"/>
                  <a:pt x="67" y="48"/>
                  <a:pt x="67" y="47"/>
                </a:cubicBezTo>
                <a:lnTo>
                  <a:pt x="67" y="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0" name="Freeform 86"/>
          <p:cNvSpPr/>
          <p:nvPr/>
        </p:nvSpPr>
        <p:spPr>
          <a:xfrm>
            <a:off x="5676840" y="2506680"/>
            <a:ext cx="401760" cy="403200"/>
          </a:xfrm>
          <a:custGeom>
            <a:avLst/>
            <a:gdLst/>
            <a:ahLst/>
            <a:rect l="l" t="t" r="r" b="b"/>
            <a:pathLst>
              <a:path w="96" h="96">
                <a:moveTo>
                  <a:pt x="94" y="59"/>
                </a:moveTo>
                <a:cubicBezTo>
                  <a:pt x="89" y="81"/>
                  <a:pt x="70" y="96"/>
                  <a:pt x="47" y="96"/>
                </a:cubicBezTo>
                <a:cubicBezTo>
                  <a:pt x="35" y="96"/>
                  <a:pt x="23" y="91"/>
                  <a:pt x="15" y="83"/>
                </a:cubicBezTo>
                <a:cubicBezTo>
                  <a:pt x="7" y="91"/>
                  <a:pt x="7" y="91"/>
                  <a:pt x="7" y="91"/>
                </a:cubicBezTo>
                <a:cubicBezTo>
                  <a:pt x="6" y="92"/>
                  <a:pt x="5" y="92"/>
                  <a:pt x="4" y="92"/>
                </a:cubicBezTo>
                <a:cubicBezTo>
                  <a:pt x="2" y="92"/>
                  <a:pt x="0" y="90"/>
                  <a:pt x="0" y="8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58"/>
                  <a:pt x="2" y="56"/>
                  <a:pt x="4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4" y="56"/>
                  <a:pt x="36" y="58"/>
                  <a:pt x="36" y="60"/>
                </a:cubicBezTo>
                <a:cubicBezTo>
                  <a:pt x="36" y="61"/>
                  <a:pt x="35" y="62"/>
                  <a:pt x="34" y="63"/>
                </a:cubicBezTo>
                <a:cubicBezTo>
                  <a:pt x="26" y="72"/>
                  <a:pt x="26" y="72"/>
                  <a:pt x="26" y="72"/>
                </a:cubicBezTo>
                <a:cubicBezTo>
                  <a:pt x="32" y="77"/>
                  <a:pt x="40" y="80"/>
                  <a:pt x="48" y="80"/>
                </a:cubicBezTo>
                <a:cubicBezTo>
                  <a:pt x="59" y="80"/>
                  <a:pt x="69" y="74"/>
                  <a:pt x="75" y="65"/>
                </a:cubicBezTo>
                <a:cubicBezTo>
                  <a:pt x="76" y="63"/>
                  <a:pt x="77" y="60"/>
                  <a:pt x="78" y="58"/>
                </a:cubicBezTo>
                <a:cubicBezTo>
                  <a:pt x="79" y="57"/>
                  <a:pt x="79" y="56"/>
                  <a:pt x="80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3" y="56"/>
                  <a:pt x="94" y="57"/>
                  <a:pt x="94" y="58"/>
                </a:cubicBezTo>
                <a:cubicBezTo>
                  <a:pt x="94" y="58"/>
                  <a:pt x="94" y="59"/>
                  <a:pt x="94" y="59"/>
                </a:cubicBezTo>
                <a:close/>
                <a:moveTo>
                  <a:pt x="96" y="36"/>
                </a:moveTo>
                <a:cubicBezTo>
                  <a:pt x="96" y="38"/>
                  <a:pt x="94" y="40"/>
                  <a:pt x="92" y="40"/>
                </a:cubicBezTo>
                <a:cubicBezTo>
                  <a:pt x="64" y="40"/>
                  <a:pt x="64" y="40"/>
                  <a:pt x="64" y="40"/>
                </a:cubicBezTo>
                <a:cubicBezTo>
                  <a:pt x="61" y="40"/>
                  <a:pt x="60" y="38"/>
                  <a:pt x="60" y="36"/>
                </a:cubicBezTo>
                <a:cubicBezTo>
                  <a:pt x="60" y="35"/>
                  <a:pt x="60" y="34"/>
                  <a:pt x="61" y="33"/>
                </a:cubicBezTo>
                <a:cubicBezTo>
                  <a:pt x="69" y="25"/>
                  <a:pt x="69" y="25"/>
                  <a:pt x="69" y="25"/>
                </a:cubicBezTo>
                <a:cubicBezTo>
                  <a:pt x="64" y="19"/>
                  <a:pt x="56" y="16"/>
                  <a:pt x="48" y="16"/>
                </a:cubicBezTo>
                <a:cubicBezTo>
                  <a:pt x="37" y="16"/>
                  <a:pt x="26" y="22"/>
                  <a:pt x="20" y="31"/>
                </a:cubicBezTo>
                <a:cubicBezTo>
                  <a:pt x="19" y="34"/>
                  <a:pt x="18" y="36"/>
                  <a:pt x="17" y="39"/>
                </a:cubicBezTo>
                <a:cubicBezTo>
                  <a:pt x="17" y="40"/>
                  <a:pt x="16" y="40"/>
                  <a:pt x="15" y="40"/>
                </a:cubicBezTo>
                <a:cubicBezTo>
                  <a:pt x="3" y="40"/>
                  <a:pt x="3" y="40"/>
                  <a:pt x="3" y="40"/>
                </a:cubicBezTo>
                <a:cubicBezTo>
                  <a:pt x="2" y="40"/>
                  <a:pt x="1" y="39"/>
                  <a:pt x="1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6" y="16"/>
                  <a:pt x="25" y="0"/>
                  <a:pt x="48" y="0"/>
                </a:cubicBezTo>
                <a:cubicBezTo>
                  <a:pt x="60" y="0"/>
                  <a:pt x="72" y="5"/>
                  <a:pt x="81" y="14"/>
                </a:cubicBezTo>
                <a:cubicBezTo>
                  <a:pt x="89" y="5"/>
                  <a:pt x="89" y="5"/>
                  <a:pt x="89" y="5"/>
                </a:cubicBezTo>
                <a:cubicBezTo>
                  <a:pt x="90" y="5"/>
                  <a:pt x="91" y="4"/>
                  <a:pt x="92" y="4"/>
                </a:cubicBezTo>
                <a:cubicBezTo>
                  <a:pt x="94" y="4"/>
                  <a:pt x="96" y="6"/>
                  <a:pt x="96" y="8"/>
                </a:cubicBezTo>
                <a:lnTo>
                  <a:pt x="96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1" name="Freeform 90"/>
          <p:cNvSpPr/>
          <p:nvPr/>
        </p:nvSpPr>
        <p:spPr>
          <a:xfrm>
            <a:off x="6278400" y="4311720"/>
            <a:ext cx="435240" cy="369720"/>
          </a:xfrm>
          <a:custGeom>
            <a:avLst/>
            <a:gdLst/>
            <a:ahLst/>
            <a:rect l="l" t="t" r="r" b="b"/>
            <a:pathLst>
              <a:path w="104" h="88">
                <a:moveTo>
                  <a:pt x="100" y="67"/>
                </a:moveTo>
                <a:cubicBezTo>
                  <a:pt x="99" y="70"/>
                  <a:pt x="99" y="70"/>
                  <a:pt x="99" y="70"/>
                </a:cubicBezTo>
                <a:cubicBezTo>
                  <a:pt x="87" y="72"/>
                  <a:pt x="87" y="72"/>
                  <a:pt x="87" y="72"/>
                </a:cubicBezTo>
                <a:cubicBezTo>
                  <a:pt x="85" y="79"/>
                  <a:pt x="79" y="84"/>
                  <a:pt x="72" y="84"/>
                </a:cubicBezTo>
                <a:cubicBezTo>
                  <a:pt x="72" y="86"/>
                  <a:pt x="72" y="86"/>
                  <a:pt x="72" y="86"/>
                </a:cubicBezTo>
                <a:cubicBezTo>
                  <a:pt x="72" y="87"/>
                  <a:pt x="71" y="88"/>
                  <a:pt x="70" y="88"/>
                </a:cubicBezTo>
                <a:cubicBezTo>
                  <a:pt x="66" y="88"/>
                  <a:pt x="66" y="88"/>
                  <a:pt x="66" y="88"/>
                </a:cubicBezTo>
                <a:cubicBezTo>
                  <a:pt x="64" y="88"/>
                  <a:pt x="64" y="87"/>
                  <a:pt x="64" y="86"/>
                </a:cubicBezTo>
                <a:cubicBezTo>
                  <a:pt x="64" y="50"/>
                  <a:pt x="64" y="50"/>
                  <a:pt x="64" y="50"/>
                </a:cubicBezTo>
                <a:cubicBezTo>
                  <a:pt x="64" y="49"/>
                  <a:pt x="64" y="48"/>
                  <a:pt x="66" y="48"/>
                </a:cubicBezTo>
                <a:cubicBezTo>
                  <a:pt x="70" y="48"/>
                  <a:pt x="70" y="48"/>
                  <a:pt x="70" y="48"/>
                </a:cubicBezTo>
                <a:cubicBezTo>
                  <a:pt x="71" y="48"/>
                  <a:pt x="72" y="49"/>
                  <a:pt x="72" y="50"/>
                </a:cubicBezTo>
                <a:cubicBezTo>
                  <a:pt x="72" y="52"/>
                  <a:pt x="72" y="52"/>
                  <a:pt x="72" y="52"/>
                </a:cubicBezTo>
                <a:cubicBezTo>
                  <a:pt x="78" y="52"/>
                  <a:pt x="83" y="56"/>
                  <a:pt x="85" y="60"/>
                </a:cubicBezTo>
                <a:cubicBezTo>
                  <a:pt x="90" y="60"/>
                  <a:pt x="90" y="60"/>
                  <a:pt x="90" y="60"/>
                </a:cubicBezTo>
                <a:cubicBezTo>
                  <a:pt x="91" y="56"/>
                  <a:pt x="92" y="52"/>
                  <a:pt x="92" y="48"/>
                </a:cubicBezTo>
                <a:cubicBezTo>
                  <a:pt x="92" y="29"/>
                  <a:pt x="73" y="12"/>
                  <a:pt x="52" y="12"/>
                </a:cubicBezTo>
                <a:cubicBezTo>
                  <a:pt x="30" y="12"/>
                  <a:pt x="12" y="29"/>
                  <a:pt x="12" y="48"/>
                </a:cubicBezTo>
                <a:cubicBezTo>
                  <a:pt x="12" y="52"/>
                  <a:pt x="12" y="56"/>
                  <a:pt x="13" y="60"/>
                </a:cubicBezTo>
                <a:cubicBezTo>
                  <a:pt x="18" y="60"/>
                  <a:pt x="18" y="60"/>
                  <a:pt x="18" y="60"/>
                </a:cubicBezTo>
                <a:cubicBezTo>
                  <a:pt x="20" y="56"/>
                  <a:pt x="26" y="52"/>
                  <a:pt x="32" y="52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49"/>
                  <a:pt x="32" y="48"/>
                  <a:pt x="34" y="48"/>
                </a:cubicBezTo>
                <a:cubicBezTo>
                  <a:pt x="38" y="48"/>
                  <a:pt x="38" y="48"/>
                  <a:pt x="38" y="48"/>
                </a:cubicBezTo>
                <a:cubicBezTo>
                  <a:pt x="39" y="48"/>
                  <a:pt x="40" y="49"/>
                  <a:pt x="40" y="50"/>
                </a:cubicBezTo>
                <a:cubicBezTo>
                  <a:pt x="40" y="86"/>
                  <a:pt x="40" y="86"/>
                  <a:pt x="40" y="86"/>
                </a:cubicBezTo>
                <a:cubicBezTo>
                  <a:pt x="40" y="87"/>
                  <a:pt x="39" y="88"/>
                  <a:pt x="38" y="88"/>
                </a:cubicBezTo>
                <a:cubicBezTo>
                  <a:pt x="34" y="88"/>
                  <a:pt x="34" y="88"/>
                  <a:pt x="34" y="88"/>
                </a:cubicBezTo>
                <a:cubicBezTo>
                  <a:pt x="32" y="88"/>
                  <a:pt x="32" y="87"/>
                  <a:pt x="32" y="86"/>
                </a:cubicBezTo>
                <a:cubicBezTo>
                  <a:pt x="32" y="84"/>
                  <a:pt x="32" y="84"/>
                  <a:pt x="32" y="84"/>
                </a:cubicBezTo>
                <a:cubicBezTo>
                  <a:pt x="24" y="84"/>
                  <a:pt x="18" y="79"/>
                  <a:pt x="16" y="72"/>
                </a:cubicBezTo>
                <a:cubicBezTo>
                  <a:pt x="5" y="70"/>
                  <a:pt x="5" y="70"/>
                  <a:pt x="5" y="70"/>
                </a:cubicBezTo>
                <a:cubicBezTo>
                  <a:pt x="3" y="67"/>
                  <a:pt x="3" y="67"/>
                  <a:pt x="3" y="67"/>
                </a:cubicBezTo>
                <a:cubicBezTo>
                  <a:pt x="1" y="61"/>
                  <a:pt x="0" y="54"/>
                  <a:pt x="0" y="48"/>
                </a:cubicBezTo>
                <a:cubicBezTo>
                  <a:pt x="0" y="22"/>
                  <a:pt x="23" y="0"/>
                  <a:pt x="52" y="0"/>
                </a:cubicBezTo>
                <a:cubicBezTo>
                  <a:pt x="80" y="0"/>
                  <a:pt x="104" y="22"/>
                  <a:pt x="104" y="48"/>
                </a:cubicBezTo>
                <a:cubicBezTo>
                  <a:pt x="104" y="54"/>
                  <a:pt x="102" y="61"/>
                  <a:pt x="100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2" name="Title 1"/>
          <p:cNvSpPr/>
          <p:nvPr/>
        </p:nvSpPr>
        <p:spPr>
          <a:xfrm>
            <a:off x="7473960" y="1306440"/>
            <a:ext cx="26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3" name="Title 1"/>
          <p:cNvSpPr/>
          <p:nvPr/>
        </p:nvSpPr>
        <p:spPr>
          <a:xfrm>
            <a:off x="1325520" y="2992320"/>
            <a:ext cx="26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8253360" y="3240000"/>
            <a:ext cx="26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5" name="Title 1"/>
          <p:cNvSpPr/>
          <p:nvPr/>
        </p:nvSpPr>
        <p:spPr>
          <a:xfrm>
            <a:off x="3672000" y="5213520"/>
            <a:ext cx="26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Poppins"/>
              </a:rPr>
              <a:t>BULB IDEA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97" name="Freeform 5"/>
          <p:cNvSpPr/>
          <p:nvPr/>
        </p:nvSpPr>
        <p:spPr>
          <a:xfrm>
            <a:off x="6143760" y="3157560"/>
            <a:ext cx="1562040" cy="2471760"/>
          </a:xfrm>
          <a:custGeom>
            <a:avLst/>
            <a:gdLst/>
            <a:ahLst/>
            <a:rect l="l" t="t" r="r" b="b"/>
            <a:pathLst>
              <a:path w="1837" h="2908">
                <a:moveTo>
                  <a:pt x="1491" y="673"/>
                </a:moveTo>
                <a:cubicBezTo>
                  <a:pt x="1385" y="673"/>
                  <a:pt x="1311" y="607"/>
                  <a:pt x="1311" y="512"/>
                </a:cubicBezTo>
                <a:cubicBezTo>
                  <a:pt x="1311" y="485"/>
                  <a:pt x="1317" y="457"/>
                  <a:pt x="1330" y="429"/>
                </a:cubicBezTo>
                <a:cubicBezTo>
                  <a:pt x="1331" y="427"/>
                  <a:pt x="1331" y="427"/>
                  <a:pt x="1331" y="427"/>
                </a:cubicBezTo>
                <a:cubicBezTo>
                  <a:pt x="1356" y="369"/>
                  <a:pt x="1393" y="265"/>
                  <a:pt x="1393" y="217"/>
                </a:cubicBezTo>
                <a:cubicBezTo>
                  <a:pt x="1393" y="177"/>
                  <a:pt x="1383" y="139"/>
                  <a:pt x="1362" y="105"/>
                </a:cubicBezTo>
                <a:cubicBezTo>
                  <a:pt x="1360" y="102"/>
                  <a:pt x="1359" y="99"/>
                  <a:pt x="1356" y="96"/>
                </a:cubicBezTo>
                <a:cubicBezTo>
                  <a:pt x="1316" y="36"/>
                  <a:pt x="1249" y="0"/>
                  <a:pt x="1177" y="0"/>
                </a:cubicBezTo>
                <a:cubicBezTo>
                  <a:pt x="1105" y="0"/>
                  <a:pt x="1037" y="36"/>
                  <a:pt x="997" y="96"/>
                </a:cubicBezTo>
                <a:cubicBezTo>
                  <a:pt x="996" y="98"/>
                  <a:pt x="994" y="100"/>
                  <a:pt x="993" y="102"/>
                </a:cubicBezTo>
                <a:cubicBezTo>
                  <a:pt x="992" y="103"/>
                  <a:pt x="992" y="104"/>
                  <a:pt x="991" y="105"/>
                </a:cubicBezTo>
                <a:cubicBezTo>
                  <a:pt x="971" y="139"/>
                  <a:pt x="960" y="177"/>
                  <a:pt x="960" y="217"/>
                </a:cubicBezTo>
                <a:cubicBezTo>
                  <a:pt x="960" y="265"/>
                  <a:pt x="998" y="368"/>
                  <a:pt x="1023" y="427"/>
                </a:cubicBezTo>
                <a:cubicBezTo>
                  <a:pt x="1024" y="428"/>
                  <a:pt x="1024" y="428"/>
                  <a:pt x="1024" y="428"/>
                </a:cubicBezTo>
                <a:cubicBezTo>
                  <a:pt x="1028" y="438"/>
                  <a:pt x="1031" y="448"/>
                  <a:pt x="1034" y="457"/>
                </a:cubicBezTo>
                <a:cubicBezTo>
                  <a:pt x="1039" y="476"/>
                  <a:pt x="1042" y="494"/>
                  <a:pt x="1042" y="512"/>
                </a:cubicBezTo>
                <a:cubicBezTo>
                  <a:pt x="1042" y="532"/>
                  <a:pt x="1038" y="550"/>
                  <a:pt x="1032" y="567"/>
                </a:cubicBezTo>
                <a:cubicBezTo>
                  <a:pt x="1010" y="631"/>
                  <a:pt x="947" y="673"/>
                  <a:pt x="863" y="673"/>
                </a:cubicBezTo>
                <a:cubicBezTo>
                  <a:pt x="0" y="673"/>
                  <a:pt x="0" y="673"/>
                  <a:pt x="0" y="673"/>
                </a:cubicBezTo>
                <a:cubicBezTo>
                  <a:pt x="0" y="1540"/>
                  <a:pt x="0" y="1540"/>
                  <a:pt x="0" y="1540"/>
                </a:cubicBezTo>
                <a:cubicBezTo>
                  <a:pt x="0" y="1571"/>
                  <a:pt x="10" y="1594"/>
                  <a:pt x="27" y="1605"/>
                </a:cubicBezTo>
                <a:cubicBezTo>
                  <a:pt x="43" y="1616"/>
                  <a:pt x="68" y="1615"/>
                  <a:pt x="97" y="1603"/>
                </a:cubicBezTo>
                <a:cubicBezTo>
                  <a:pt x="114" y="1595"/>
                  <a:pt x="264" y="1531"/>
                  <a:pt x="350" y="1531"/>
                </a:cubicBezTo>
                <a:cubicBezTo>
                  <a:pt x="464" y="1531"/>
                  <a:pt x="564" y="1590"/>
                  <a:pt x="622" y="1679"/>
                </a:cubicBezTo>
                <a:cubicBezTo>
                  <a:pt x="654" y="1729"/>
                  <a:pt x="674" y="1789"/>
                  <a:pt x="674" y="1854"/>
                </a:cubicBezTo>
                <a:cubicBezTo>
                  <a:pt x="674" y="2032"/>
                  <a:pt x="528" y="2177"/>
                  <a:pt x="350" y="2177"/>
                </a:cubicBezTo>
                <a:cubicBezTo>
                  <a:pt x="301" y="2177"/>
                  <a:pt x="232" y="2156"/>
                  <a:pt x="177" y="2137"/>
                </a:cubicBezTo>
                <a:cubicBezTo>
                  <a:pt x="136" y="2122"/>
                  <a:pt x="104" y="2108"/>
                  <a:pt x="97" y="2105"/>
                </a:cubicBezTo>
                <a:cubicBezTo>
                  <a:pt x="68" y="2093"/>
                  <a:pt x="43" y="2092"/>
                  <a:pt x="27" y="2103"/>
                </a:cubicBezTo>
                <a:cubicBezTo>
                  <a:pt x="10" y="2114"/>
                  <a:pt x="0" y="2137"/>
                  <a:pt x="0" y="2168"/>
                </a:cubicBezTo>
                <a:cubicBezTo>
                  <a:pt x="0" y="2270"/>
                  <a:pt x="0" y="2270"/>
                  <a:pt x="0" y="2270"/>
                </a:cubicBezTo>
                <a:cubicBezTo>
                  <a:pt x="0" y="2908"/>
                  <a:pt x="0" y="2908"/>
                  <a:pt x="0" y="2908"/>
                </a:cubicBezTo>
                <a:cubicBezTo>
                  <a:pt x="813" y="2908"/>
                  <a:pt x="813" y="2908"/>
                  <a:pt x="813" y="2908"/>
                </a:cubicBezTo>
                <a:cubicBezTo>
                  <a:pt x="885" y="2908"/>
                  <a:pt x="943" y="2860"/>
                  <a:pt x="943" y="2800"/>
                </a:cubicBezTo>
                <a:cubicBezTo>
                  <a:pt x="943" y="2729"/>
                  <a:pt x="943" y="2729"/>
                  <a:pt x="943" y="2729"/>
                </a:cubicBezTo>
                <a:cubicBezTo>
                  <a:pt x="943" y="2690"/>
                  <a:pt x="919" y="2657"/>
                  <a:pt x="883" y="2638"/>
                </a:cubicBezTo>
                <a:cubicBezTo>
                  <a:pt x="907" y="2572"/>
                  <a:pt x="927" y="2489"/>
                  <a:pt x="944" y="2384"/>
                </a:cubicBezTo>
                <a:cubicBezTo>
                  <a:pt x="1022" y="1918"/>
                  <a:pt x="1148" y="2090"/>
                  <a:pt x="1624" y="1233"/>
                </a:cubicBezTo>
                <a:cubicBezTo>
                  <a:pt x="1720" y="1060"/>
                  <a:pt x="1793" y="872"/>
                  <a:pt x="1837" y="673"/>
                </a:cubicBezTo>
                <a:lnTo>
                  <a:pt x="1491" y="673"/>
                </a:lnTo>
                <a:close/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8" name="Freeform 6"/>
          <p:cNvSpPr/>
          <p:nvPr/>
        </p:nvSpPr>
        <p:spPr>
          <a:xfrm>
            <a:off x="5332320" y="5735520"/>
            <a:ext cx="1525680" cy="246240"/>
          </a:xfrm>
          <a:custGeom>
            <a:avLst/>
            <a:gdLst/>
            <a:ahLst/>
            <a:rect l="l" t="t" r="r" b="b"/>
            <a:pathLst>
              <a:path w="1793" h="288">
                <a:moveTo>
                  <a:pt x="1676" y="0"/>
                </a:moveTo>
                <a:cubicBezTo>
                  <a:pt x="117" y="0"/>
                  <a:pt x="117" y="0"/>
                  <a:pt x="117" y="0"/>
                </a:cubicBezTo>
                <a:cubicBezTo>
                  <a:pt x="53" y="0"/>
                  <a:pt x="0" y="49"/>
                  <a:pt x="0" y="108"/>
                </a:cubicBezTo>
                <a:cubicBezTo>
                  <a:pt x="0" y="180"/>
                  <a:pt x="0" y="180"/>
                  <a:pt x="0" y="180"/>
                </a:cubicBezTo>
                <a:cubicBezTo>
                  <a:pt x="0" y="240"/>
                  <a:pt x="53" y="288"/>
                  <a:pt x="117" y="288"/>
                </a:cubicBezTo>
                <a:cubicBezTo>
                  <a:pt x="1676" y="288"/>
                  <a:pt x="1676" y="288"/>
                  <a:pt x="1676" y="288"/>
                </a:cubicBezTo>
                <a:cubicBezTo>
                  <a:pt x="1741" y="288"/>
                  <a:pt x="1793" y="240"/>
                  <a:pt x="1793" y="180"/>
                </a:cubicBezTo>
                <a:cubicBezTo>
                  <a:pt x="1793" y="108"/>
                  <a:pt x="1793" y="108"/>
                  <a:pt x="1793" y="108"/>
                </a:cubicBezTo>
                <a:cubicBezTo>
                  <a:pt x="1793" y="49"/>
                  <a:pt x="1741" y="0"/>
                  <a:pt x="1676" y="0"/>
                </a:cubicBezTo>
                <a:close/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5549760" y="6087960"/>
            <a:ext cx="1108080" cy="306360"/>
          </a:xfrm>
          <a:custGeom>
            <a:avLst/>
            <a:gdLst/>
            <a:ahLst/>
            <a:rect l="l" t="t" r="r" b="b"/>
            <a:pathLst>
              <a:path w="1303" h="359">
                <a:moveTo>
                  <a:pt x="652" y="359"/>
                </a:moveTo>
                <a:cubicBezTo>
                  <a:pt x="956" y="359"/>
                  <a:pt x="1303" y="216"/>
                  <a:pt x="130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"/>
                  <a:pt x="348" y="359"/>
                  <a:pt x="652" y="359"/>
                </a:cubicBezTo>
                <a:close/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0" name="Freeform 8"/>
          <p:cNvSpPr/>
          <p:nvPr/>
        </p:nvSpPr>
        <p:spPr>
          <a:xfrm>
            <a:off x="4484520" y="3728880"/>
            <a:ext cx="2136960" cy="1900440"/>
          </a:xfrm>
          <a:custGeom>
            <a:avLst/>
            <a:gdLst/>
            <a:ahLst/>
            <a:rect l="l" t="t" r="r" b="b"/>
            <a:pathLst>
              <a:path w="2511" h="2234">
                <a:moveTo>
                  <a:pt x="2496" y="1098"/>
                </a:moveTo>
                <a:cubicBezTo>
                  <a:pt x="2480" y="1058"/>
                  <a:pt x="2452" y="1022"/>
                  <a:pt x="2415" y="997"/>
                </a:cubicBezTo>
                <a:cubicBezTo>
                  <a:pt x="2412" y="995"/>
                  <a:pt x="2409" y="993"/>
                  <a:pt x="2406" y="991"/>
                </a:cubicBezTo>
                <a:cubicBezTo>
                  <a:pt x="2372" y="971"/>
                  <a:pt x="2334" y="960"/>
                  <a:pt x="2294" y="960"/>
                </a:cubicBezTo>
                <a:cubicBezTo>
                  <a:pt x="2246" y="960"/>
                  <a:pt x="2142" y="997"/>
                  <a:pt x="2084" y="1023"/>
                </a:cubicBezTo>
                <a:cubicBezTo>
                  <a:pt x="2083" y="1023"/>
                  <a:pt x="2083" y="1023"/>
                  <a:pt x="2083" y="1023"/>
                </a:cubicBezTo>
                <a:cubicBezTo>
                  <a:pt x="2054" y="1036"/>
                  <a:pt x="2026" y="1042"/>
                  <a:pt x="1999" y="1042"/>
                </a:cubicBezTo>
                <a:cubicBezTo>
                  <a:pt x="1904" y="1042"/>
                  <a:pt x="1838" y="968"/>
                  <a:pt x="1838" y="862"/>
                </a:cubicBezTo>
                <a:cubicBezTo>
                  <a:pt x="1838" y="0"/>
                  <a:pt x="1838" y="0"/>
                  <a:pt x="1838" y="0"/>
                </a:cubicBezTo>
                <a:cubicBezTo>
                  <a:pt x="971" y="0"/>
                  <a:pt x="971" y="0"/>
                  <a:pt x="971" y="0"/>
                </a:cubicBezTo>
                <a:cubicBezTo>
                  <a:pt x="940" y="0"/>
                  <a:pt x="917" y="9"/>
                  <a:pt x="906" y="26"/>
                </a:cubicBezTo>
                <a:cubicBezTo>
                  <a:pt x="895" y="43"/>
                  <a:pt x="896" y="68"/>
                  <a:pt x="908" y="96"/>
                </a:cubicBezTo>
                <a:cubicBezTo>
                  <a:pt x="916" y="113"/>
                  <a:pt x="980" y="264"/>
                  <a:pt x="980" y="350"/>
                </a:cubicBezTo>
                <a:cubicBezTo>
                  <a:pt x="980" y="528"/>
                  <a:pt x="835" y="673"/>
                  <a:pt x="657" y="673"/>
                </a:cubicBezTo>
                <a:cubicBezTo>
                  <a:pt x="479" y="673"/>
                  <a:pt x="334" y="528"/>
                  <a:pt x="334" y="350"/>
                </a:cubicBezTo>
                <a:cubicBezTo>
                  <a:pt x="334" y="264"/>
                  <a:pt x="399" y="113"/>
                  <a:pt x="406" y="96"/>
                </a:cubicBezTo>
                <a:cubicBezTo>
                  <a:pt x="418" y="68"/>
                  <a:pt x="419" y="43"/>
                  <a:pt x="408" y="26"/>
                </a:cubicBezTo>
                <a:cubicBezTo>
                  <a:pt x="397" y="9"/>
                  <a:pt x="374" y="0"/>
                  <a:pt x="343" y="0"/>
                </a:cubicBezTo>
                <a:cubicBezTo>
                  <a:pt x="0" y="0"/>
                  <a:pt x="0" y="0"/>
                  <a:pt x="0" y="0"/>
                </a:cubicBezTo>
                <a:cubicBezTo>
                  <a:pt x="44" y="198"/>
                  <a:pt x="118" y="386"/>
                  <a:pt x="213" y="559"/>
                </a:cubicBezTo>
                <a:cubicBezTo>
                  <a:pt x="689" y="1416"/>
                  <a:pt x="815" y="1244"/>
                  <a:pt x="893" y="1710"/>
                </a:cubicBezTo>
                <a:cubicBezTo>
                  <a:pt x="910" y="1815"/>
                  <a:pt x="930" y="1898"/>
                  <a:pt x="955" y="1964"/>
                </a:cubicBezTo>
                <a:cubicBezTo>
                  <a:pt x="918" y="1983"/>
                  <a:pt x="894" y="2016"/>
                  <a:pt x="894" y="2055"/>
                </a:cubicBezTo>
                <a:cubicBezTo>
                  <a:pt x="894" y="2084"/>
                  <a:pt x="894" y="2084"/>
                  <a:pt x="894" y="2084"/>
                </a:cubicBezTo>
                <a:cubicBezTo>
                  <a:pt x="894" y="2126"/>
                  <a:pt x="894" y="2126"/>
                  <a:pt x="894" y="2126"/>
                </a:cubicBezTo>
                <a:cubicBezTo>
                  <a:pt x="894" y="2186"/>
                  <a:pt x="952" y="2234"/>
                  <a:pt x="1024" y="2234"/>
                </a:cubicBezTo>
                <a:cubicBezTo>
                  <a:pt x="1838" y="2234"/>
                  <a:pt x="1838" y="2234"/>
                  <a:pt x="1838" y="2234"/>
                </a:cubicBezTo>
                <a:cubicBezTo>
                  <a:pt x="1838" y="1670"/>
                  <a:pt x="1838" y="1670"/>
                  <a:pt x="1838" y="1670"/>
                </a:cubicBezTo>
                <a:cubicBezTo>
                  <a:pt x="1838" y="1490"/>
                  <a:pt x="1838" y="1490"/>
                  <a:pt x="1838" y="1490"/>
                </a:cubicBezTo>
                <a:cubicBezTo>
                  <a:pt x="1838" y="1385"/>
                  <a:pt x="1904" y="1311"/>
                  <a:pt x="1999" y="1311"/>
                </a:cubicBezTo>
                <a:cubicBezTo>
                  <a:pt x="2026" y="1311"/>
                  <a:pt x="2054" y="1317"/>
                  <a:pt x="2082" y="1329"/>
                </a:cubicBezTo>
                <a:cubicBezTo>
                  <a:pt x="2084" y="1330"/>
                  <a:pt x="2084" y="1330"/>
                  <a:pt x="2084" y="1330"/>
                </a:cubicBezTo>
                <a:cubicBezTo>
                  <a:pt x="2121" y="1346"/>
                  <a:pt x="2176" y="1367"/>
                  <a:pt x="2223" y="1380"/>
                </a:cubicBezTo>
                <a:cubicBezTo>
                  <a:pt x="2251" y="1388"/>
                  <a:pt x="2276" y="1393"/>
                  <a:pt x="2294" y="1393"/>
                </a:cubicBezTo>
                <a:cubicBezTo>
                  <a:pt x="2334" y="1393"/>
                  <a:pt x="2373" y="1382"/>
                  <a:pt x="2406" y="1362"/>
                </a:cubicBezTo>
                <a:cubicBezTo>
                  <a:pt x="2409" y="1360"/>
                  <a:pt x="2412" y="1358"/>
                  <a:pt x="2415" y="1356"/>
                </a:cubicBezTo>
                <a:cubicBezTo>
                  <a:pt x="2475" y="1316"/>
                  <a:pt x="2511" y="1249"/>
                  <a:pt x="2511" y="1176"/>
                </a:cubicBezTo>
                <a:cubicBezTo>
                  <a:pt x="2511" y="1149"/>
                  <a:pt x="2505" y="1123"/>
                  <a:pt x="2496" y="1098"/>
                </a:cubicBezTo>
                <a:close/>
              </a:path>
            </a:pathLst>
          </a:cu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1" name="Freeform 9"/>
          <p:cNvSpPr/>
          <p:nvPr/>
        </p:nvSpPr>
        <p:spPr>
          <a:xfrm>
            <a:off x="4446720" y="1736640"/>
            <a:ext cx="1603080" cy="2471760"/>
          </a:xfrm>
          <a:custGeom>
            <a:avLst/>
            <a:gdLst/>
            <a:ahLst/>
            <a:rect l="l" t="t" r="r" b="b"/>
            <a:pathLst>
              <a:path w="1883" h="2907">
                <a:moveTo>
                  <a:pt x="1856" y="1302"/>
                </a:moveTo>
                <a:cubicBezTo>
                  <a:pt x="1839" y="1291"/>
                  <a:pt x="1814" y="1292"/>
                  <a:pt x="1786" y="1305"/>
                </a:cubicBezTo>
                <a:cubicBezTo>
                  <a:pt x="1769" y="1312"/>
                  <a:pt x="1618" y="1377"/>
                  <a:pt x="1532" y="1377"/>
                </a:cubicBezTo>
                <a:cubicBezTo>
                  <a:pt x="1354" y="1377"/>
                  <a:pt x="1209" y="1232"/>
                  <a:pt x="1209" y="1053"/>
                </a:cubicBezTo>
                <a:cubicBezTo>
                  <a:pt x="1209" y="875"/>
                  <a:pt x="1354" y="730"/>
                  <a:pt x="1532" y="730"/>
                </a:cubicBezTo>
                <a:cubicBezTo>
                  <a:pt x="1618" y="730"/>
                  <a:pt x="1769" y="795"/>
                  <a:pt x="1786" y="802"/>
                </a:cubicBezTo>
                <a:cubicBezTo>
                  <a:pt x="1814" y="815"/>
                  <a:pt x="1839" y="816"/>
                  <a:pt x="1856" y="805"/>
                </a:cubicBezTo>
                <a:cubicBezTo>
                  <a:pt x="1873" y="794"/>
                  <a:pt x="1882" y="770"/>
                  <a:pt x="1882" y="739"/>
                </a:cubicBezTo>
                <a:cubicBezTo>
                  <a:pt x="1882" y="309"/>
                  <a:pt x="1882" y="309"/>
                  <a:pt x="1882" y="309"/>
                </a:cubicBezTo>
                <a:cubicBezTo>
                  <a:pt x="1883" y="0"/>
                  <a:pt x="1883" y="0"/>
                  <a:pt x="1883" y="0"/>
                </a:cubicBezTo>
                <a:cubicBezTo>
                  <a:pt x="1725" y="5"/>
                  <a:pt x="1572" y="28"/>
                  <a:pt x="1426" y="68"/>
                </a:cubicBezTo>
                <a:cubicBezTo>
                  <a:pt x="604" y="293"/>
                  <a:pt x="0" y="1044"/>
                  <a:pt x="0" y="1936"/>
                </a:cubicBezTo>
                <a:cubicBezTo>
                  <a:pt x="0" y="2038"/>
                  <a:pt x="9" y="2137"/>
                  <a:pt x="24" y="2234"/>
                </a:cubicBezTo>
                <a:cubicBezTo>
                  <a:pt x="392" y="2234"/>
                  <a:pt x="392" y="2234"/>
                  <a:pt x="392" y="2234"/>
                </a:cubicBezTo>
                <a:cubicBezTo>
                  <a:pt x="497" y="2234"/>
                  <a:pt x="571" y="2300"/>
                  <a:pt x="571" y="2395"/>
                </a:cubicBezTo>
                <a:cubicBezTo>
                  <a:pt x="571" y="2422"/>
                  <a:pt x="565" y="2450"/>
                  <a:pt x="553" y="2478"/>
                </a:cubicBezTo>
                <a:cubicBezTo>
                  <a:pt x="552" y="2481"/>
                  <a:pt x="552" y="2481"/>
                  <a:pt x="552" y="2481"/>
                </a:cubicBezTo>
                <a:cubicBezTo>
                  <a:pt x="527" y="2539"/>
                  <a:pt x="489" y="2643"/>
                  <a:pt x="489" y="2690"/>
                </a:cubicBezTo>
                <a:cubicBezTo>
                  <a:pt x="489" y="2730"/>
                  <a:pt x="500" y="2769"/>
                  <a:pt x="520" y="2802"/>
                </a:cubicBezTo>
                <a:cubicBezTo>
                  <a:pt x="522" y="2805"/>
                  <a:pt x="524" y="2808"/>
                  <a:pt x="526" y="2811"/>
                </a:cubicBezTo>
                <a:cubicBezTo>
                  <a:pt x="566" y="2871"/>
                  <a:pt x="633" y="2907"/>
                  <a:pt x="706" y="2907"/>
                </a:cubicBezTo>
                <a:cubicBezTo>
                  <a:pt x="778" y="2907"/>
                  <a:pt x="845" y="2871"/>
                  <a:pt x="885" y="2811"/>
                </a:cubicBezTo>
                <a:cubicBezTo>
                  <a:pt x="887" y="2808"/>
                  <a:pt x="889" y="2806"/>
                  <a:pt x="891" y="2803"/>
                </a:cubicBezTo>
                <a:cubicBezTo>
                  <a:pt x="912" y="2769"/>
                  <a:pt x="922" y="2730"/>
                  <a:pt x="922" y="2690"/>
                </a:cubicBezTo>
                <a:cubicBezTo>
                  <a:pt x="922" y="2643"/>
                  <a:pt x="885" y="2539"/>
                  <a:pt x="859" y="2481"/>
                </a:cubicBezTo>
                <a:cubicBezTo>
                  <a:pt x="859" y="2479"/>
                  <a:pt x="859" y="2479"/>
                  <a:pt x="859" y="2479"/>
                </a:cubicBezTo>
                <a:cubicBezTo>
                  <a:pt x="846" y="2451"/>
                  <a:pt x="840" y="2422"/>
                  <a:pt x="840" y="2395"/>
                </a:cubicBezTo>
                <a:cubicBezTo>
                  <a:pt x="840" y="2300"/>
                  <a:pt x="914" y="2234"/>
                  <a:pt x="1020" y="2234"/>
                </a:cubicBezTo>
                <a:cubicBezTo>
                  <a:pt x="1882" y="2234"/>
                  <a:pt x="1882" y="2234"/>
                  <a:pt x="1882" y="2234"/>
                </a:cubicBezTo>
                <a:cubicBezTo>
                  <a:pt x="1882" y="1368"/>
                  <a:pt x="1882" y="1368"/>
                  <a:pt x="1882" y="1368"/>
                </a:cubicBezTo>
                <a:cubicBezTo>
                  <a:pt x="1882" y="1337"/>
                  <a:pt x="1873" y="1313"/>
                  <a:pt x="1856" y="1302"/>
                </a:cubicBezTo>
                <a:close/>
              </a:path>
            </a:pathLst>
          </a:cu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2" name="Freeform 10"/>
          <p:cNvSpPr/>
          <p:nvPr/>
        </p:nvSpPr>
        <p:spPr>
          <a:xfrm>
            <a:off x="5570640" y="1736640"/>
            <a:ext cx="2174760" cy="1898640"/>
          </a:xfrm>
          <a:custGeom>
            <a:avLst/>
            <a:gdLst/>
            <a:ahLst/>
            <a:rect l="l" t="t" r="r" b="b"/>
            <a:pathLst>
              <a:path w="2555" h="2234">
                <a:moveTo>
                  <a:pt x="673" y="0"/>
                </a:moveTo>
                <a:cubicBezTo>
                  <a:pt x="673" y="382"/>
                  <a:pt x="673" y="382"/>
                  <a:pt x="673" y="382"/>
                </a:cubicBezTo>
                <a:cubicBezTo>
                  <a:pt x="673" y="743"/>
                  <a:pt x="673" y="743"/>
                  <a:pt x="673" y="743"/>
                </a:cubicBezTo>
                <a:cubicBezTo>
                  <a:pt x="673" y="849"/>
                  <a:pt x="606" y="922"/>
                  <a:pt x="512" y="922"/>
                </a:cubicBezTo>
                <a:cubicBezTo>
                  <a:pt x="484" y="922"/>
                  <a:pt x="457" y="916"/>
                  <a:pt x="428" y="904"/>
                </a:cubicBezTo>
                <a:cubicBezTo>
                  <a:pt x="426" y="903"/>
                  <a:pt x="426" y="903"/>
                  <a:pt x="426" y="903"/>
                </a:cubicBezTo>
                <a:cubicBezTo>
                  <a:pt x="368" y="878"/>
                  <a:pt x="264" y="840"/>
                  <a:pt x="216" y="840"/>
                </a:cubicBezTo>
                <a:cubicBezTo>
                  <a:pt x="177" y="840"/>
                  <a:pt x="138" y="851"/>
                  <a:pt x="104" y="871"/>
                </a:cubicBezTo>
                <a:cubicBezTo>
                  <a:pt x="101" y="873"/>
                  <a:pt x="98" y="875"/>
                  <a:pt x="95" y="877"/>
                </a:cubicBezTo>
                <a:cubicBezTo>
                  <a:pt x="36" y="918"/>
                  <a:pt x="0" y="985"/>
                  <a:pt x="0" y="1057"/>
                </a:cubicBezTo>
                <a:cubicBezTo>
                  <a:pt x="0" y="1129"/>
                  <a:pt x="36" y="1196"/>
                  <a:pt x="96" y="1237"/>
                </a:cubicBezTo>
                <a:cubicBezTo>
                  <a:pt x="98" y="1239"/>
                  <a:pt x="101" y="1241"/>
                  <a:pt x="104" y="1242"/>
                </a:cubicBezTo>
                <a:cubicBezTo>
                  <a:pt x="138" y="1263"/>
                  <a:pt x="177" y="1274"/>
                  <a:pt x="216" y="1274"/>
                </a:cubicBezTo>
                <a:cubicBezTo>
                  <a:pt x="264" y="1274"/>
                  <a:pt x="368" y="1236"/>
                  <a:pt x="426" y="1211"/>
                </a:cubicBezTo>
                <a:cubicBezTo>
                  <a:pt x="428" y="1210"/>
                  <a:pt x="428" y="1210"/>
                  <a:pt x="428" y="1210"/>
                </a:cubicBezTo>
                <a:cubicBezTo>
                  <a:pt x="456" y="1198"/>
                  <a:pt x="484" y="1192"/>
                  <a:pt x="512" y="1192"/>
                </a:cubicBezTo>
                <a:cubicBezTo>
                  <a:pt x="606" y="1192"/>
                  <a:pt x="673" y="1265"/>
                  <a:pt x="673" y="1371"/>
                </a:cubicBezTo>
                <a:cubicBezTo>
                  <a:pt x="673" y="2234"/>
                  <a:pt x="673" y="2234"/>
                  <a:pt x="673" y="2234"/>
                </a:cubicBezTo>
                <a:cubicBezTo>
                  <a:pt x="1539" y="2233"/>
                  <a:pt x="1539" y="2233"/>
                  <a:pt x="1539" y="2233"/>
                </a:cubicBezTo>
                <a:cubicBezTo>
                  <a:pt x="1570" y="2233"/>
                  <a:pt x="1593" y="2224"/>
                  <a:pt x="1604" y="2207"/>
                </a:cubicBezTo>
                <a:cubicBezTo>
                  <a:pt x="1615" y="2190"/>
                  <a:pt x="1615" y="2165"/>
                  <a:pt x="1602" y="2137"/>
                </a:cubicBezTo>
                <a:cubicBezTo>
                  <a:pt x="1595" y="2120"/>
                  <a:pt x="1530" y="1970"/>
                  <a:pt x="1530" y="1884"/>
                </a:cubicBezTo>
                <a:cubicBezTo>
                  <a:pt x="1530" y="1790"/>
                  <a:pt x="1570" y="1706"/>
                  <a:pt x="1634" y="1646"/>
                </a:cubicBezTo>
                <a:cubicBezTo>
                  <a:pt x="1692" y="1593"/>
                  <a:pt x="1769" y="1560"/>
                  <a:pt x="1853" y="1560"/>
                </a:cubicBezTo>
                <a:cubicBezTo>
                  <a:pt x="2032" y="1560"/>
                  <a:pt x="2177" y="1705"/>
                  <a:pt x="2177" y="1884"/>
                </a:cubicBezTo>
                <a:cubicBezTo>
                  <a:pt x="2177" y="1970"/>
                  <a:pt x="2112" y="2120"/>
                  <a:pt x="2104" y="2137"/>
                </a:cubicBezTo>
                <a:cubicBezTo>
                  <a:pt x="2092" y="2165"/>
                  <a:pt x="2091" y="2190"/>
                  <a:pt x="2102" y="2207"/>
                </a:cubicBezTo>
                <a:cubicBezTo>
                  <a:pt x="2113" y="2224"/>
                  <a:pt x="2136" y="2233"/>
                  <a:pt x="2167" y="2233"/>
                </a:cubicBezTo>
                <a:cubicBezTo>
                  <a:pt x="2531" y="2234"/>
                  <a:pt x="2531" y="2234"/>
                  <a:pt x="2531" y="2234"/>
                </a:cubicBezTo>
                <a:cubicBezTo>
                  <a:pt x="2547" y="2137"/>
                  <a:pt x="2555" y="2038"/>
                  <a:pt x="2555" y="1936"/>
                </a:cubicBezTo>
                <a:cubicBezTo>
                  <a:pt x="2555" y="885"/>
                  <a:pt x="1717" y="30"/>
                  <a:pt x="673" y="0"/>
                </a:cubicBez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203" name="Group 9"/>
          <p:cNvGrpSpPr/>
          <p:nvPr/>
        </p:nvGrpSpPr>
        <p:grpSpPr>
          <a:xfrm>
            <a:off x="3768120" y="2084040"/>
            <a:ext cx="849960" cy="403560"/>
            <a:chOff x="3768120" y="2084040"/>
            <a:chExt cx="849960" cy="403560"/>
          </a:xfrm>
        </p:grpSpPr>
        <p:sp>
          <p:nvSpPr>
            <p:cNvPr id="204" name="Straight Connector 10"/>
            <p:cNvSpPr/>
            <p:nvPr/>
          </p:nvSpPr>
          <p:spPr>
            <a:xfrm flipH="1" flipV="1">
              <a:off x="4214880" y="2084400"/>
              <a:ext cx="403200" cy="403200"/>
            </a:xfrm>
            <a:prstGeom prst="line">
              <a:avLst/>
            </a:prstGeom>
            <a:ln w="19080">
              <a:solidFill>
                <a:srgbClr val="f39c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205" name="Straight Arrow Connector 11"/>
            <p:cNvCxnSpPr/>
            <p:nvPr/>
          </p:nvCxnSpPr>
          <p:spPr>
            <a:xfrm flipH="1">
              <a:off x="3768120" y="2084040"/>
              <a:ext cx="446760" cy="1080"/>
            </a:xfrm>
            <a:prstGeom prst="straightConnector1">
              <a:avLst/>
            </a:prstGeom>
            <a:ln w="19080">
              <a:solidFill>
                <a:srgbClr val="f39c12"/>
              </a:solidFill>
              <a:miter/>
              <a:tailEnd len="med" type="oval" w="med"/>
            </a:ln>
          </p:spPr>
        </p:cxnSp>
      </p:grpSp>
      <p:grpSp>
        <p:nvGrpSpPr>
          <p:cNvPr id="206" name="Group 12"/>
          <p:cNvGrpSpPr/>
          <p:nvPr/>
        </p:nvGrpSpPr>
        <p:grpSpPr>
          <a:xfrm>
            <a:off x="3768120" y="4570560"/>
            <a:ext cx="1040040" cy="593640"/>
            <a:chOff x="3768120" y="4570560"/>
            <a:chExt cx="1040040" cy="593640"/>
          </a:xfrm>
        </p:grpSpPr>
        <p:sp>
          <p:nvSpPr>
            <p:cNvPr id="207" name="Straight Connector 13"/>
            <p:cNvSpPr/>
            <p:nvPr/>
          </p:nvSpPr>
          <p:spPr>
            <a:xfrm flipH="1">
              <a:off x="4215240" y="4570560"/>
              <a:ext cx="592920" cy="593640"/>
            </a:xfrm>
            <a:prstGeom prst="line">
              <a:avLst/>
            </a:prstGeom>
            <a:ln w="19080">
              <a:solidFill>
                <a:srgbClr val="c039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208" name="Straight Arrow Connector 14"/>
            <p:cNvCxnSpPr/>
            <p:nvPr/>
          </p:nvCxnSpPr>
          <p:spPr>
            <a:xfrm flipH="1" flipV="1">
              <a:off x="3768120" y="5163480"/>
              <a:ext cx="446040" cy="1080"/>
            </a:xfrm>
            <a:prstGeom prst="straightConnector1">
              <a:avLst/>
            </a:prstGeom>
            <a:ln w="19080">
              <a:solidFill>
                <a:srgbClr val="c0392b"/>
              </a:solidFill>
              <a:miter/>
              <a:tailEnd len="med" type="oval" w="med"/>
            </a:ln>
          </p:spPr>
        </p:cxnSp>
      </p:grpSp>
      <p:grpSp>
        <p:nvGrpSpPr>
          <p:cNvPr id="209" name="Group 15"/>
          <p:cNvGrpSpPr/>
          <p:nvPr/>
        </p:nvGrpSpPr>
        <p:grpSpPr>
          <a:xfrm>
            <a:off x="7567200" y="2082600"/>
            <a:ext cx="849960" cy="403560"/>
            <a:chOff x="7567200" y="2082600"/>
            <a:chExt cx="849960" cy="403560"/>
          </a:xfrm>
        </p:grpSpPr>
        <p:sp>
          <p:nvSpPr>
            <p:cNvPr id="210" name="Straight Connector 16"/>
            <p:cNvSpPr/>
            <p:nvPr/>
          </p:nvSpPr>
          <p:spPr>
            <a:xfrm flipV="1">
              <a:off x="7567200" y="2082960"/>
              <a:ext cx="403200" cy="403200"/>
            </a:xfrm>
            <a:prstGeom prst="line">
              <a:avLst/>
            </a:prstGeom>
            <a:ln w="190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211" name="Straight Arrow Connector 17"/>
            <p:cNvCxnSpPr/>
            <p:nvPr/>
          </p:nvCxnSpPr>
          <p:spPr>
            <a:xfrm>
              <a:off x="7970760" y="2082600"/>
              <a:ext cx="446760" cy="1080"/>
            </a:xfrm>
            <a:prstGeom prst="straightConnector1">
              <a:avLst/>
            </a:prstGeom>
            <a:ln w="19080">
              <a:solidFill>
                <a:srgbClr val="9bbb59"/>
              </a:solidFill>
              <a:miter/>
              <a:tailEnd len="med" type="oval" w="med"/>
            </a:ln>
          </p:spPr>
        </p:cxnSp>
      </p:grpSp>
      <p:grpSp>
        <p:nvGrpSpPr>
          <p:cNvPr id="212" name="Group 18"/>
          <p:cNvGrpSpPr/>
          <p:nvPr/>
        </p:nvGrpSpPr>
        <p:grpSpPr>
          <a:xfrm>
            <a:off x="7380360" y="4570560"/>
            <a:ext cx="1036800" cy="592200"/>
            <a:chOff x="7380360" y="4570560"/>
            <a:chExt cx="1036800" cy="592200"/>
          </a:xfrm>
        </p:grpSpPr>
        <p:sp>
          <p:nvSpPr>
            <p:cNvPr id="213" name="Straight Connector 19"/>
            <p:cNvSpPr/>
            <p:nvPr/>
          </p:nvSpPr>
          <p:spPr>
            <a:xfrm>
              <a:off x="7380360" y="4570560"/>
              <a:ext cx="591480" cy="590400"/>
            </a:xfrm>
            <a:prstGeom prst="line">
              <a:avLst/>
            </a:prstGeom>
            <a:ln w="19080">
              <a:solidFill>
                <a:srgbClr val="2980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214" name="Straight Arrow Connector 20"/>
            <p:cNvCxnSpPr/>
            <p:nvPr/>
          </p:nvCxnSpPr>
          <p:spPr>
            <a:xfrm flipV="1">
              <a:off x="7970040" y="5162040"/>
              <a:ext cx="447480" cy="1080"/>
            </a:xfrm>
            <a:prstGeom prst="straightConnector1">
              <a:avLst/>
            </a:prstGeom>
            <a:ln w="19080">
              <a:solidFill>
                <a:srgbClr val="2980b9"/>
              </a:solidFill>
              <a:miter/>
              <a:tailEnd len="med" type="oval" w="med"/>
            </a:ln>
          </p:spPr>
        </p:cxnSp>
      </p:grpSp>
      <p:sp>
        <p:nvSpPr>
          <p:cNvPr id="215" name="Title 1"/>
          <p:cNvSpPr/>
          <p:nvPr/>
        </p:nvSpPr>
        <p:spPr>
          <a:xfrm>
            <a:off x="8999640" y="1771560"/>
            <a:ext cx="26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6" name="Details 1"/>
          <p:cNvSpPr/>
          <p:nvPr/>
        </p:nvSpPr>
        <p:spPr>
          <a:xfrm>
            <a:off x="8999640" y="1987560"/>
            <a:ext cx="26971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Great Paragraph line is a sample Lorem ipsum dolor sit amet. Consectetur adipiscing eliteiusmod temp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568440" y="1809720"/>
            <a:ext cx="26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8" name="Details 1"/>
          <p:cNvSpPr/>
          <p:nvPr/>
        </p:nvSpPr>
        <p:spPr>
          <a:xfrm>
            <a:off x="746280" y="2023920"/>
            <a:ext cx="24476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Great Paragraph line is a sample Lorem ipsum dolor sit amet. Consectetur adipiscing eliteiusmod temp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9" name="Title 1"/>
          <p:cNvSpPr/>
          <p:nvPr/>
        </p:nvSpPr>
        <p:spPr>
          <a:xfrm>
            <a:off x="8999640" y="4848120"/>
            <a:ext cx="26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0" name="Details 1"/>
          <p:cNvSpPr/>
          <p:nvPr/>
        </p:nvSpPr>
        <p:spPr>
          <a:xfrm>
            <a:off x="8999640" y="5062680"/>
            <a:ext cx="26971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Great Paragraph line is a sample Lorem ipsum dolor sit amet. Consectetur adipiscing eliteiusmod temp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568440" y="4848120"/>
            <a:ext cx="26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2" name="Details 1"/>
          <p:cNvSpPr/>
          <p:nvPr/>
        </p:nvSpPr>
        <p:spPr>
          <a:xfrm>
            <a:off x="746280" y="5062680"/>
            <a:ext cx="24476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Great Paragraph line is a sample Lorem ipsum dolor sit amet. Consectetur adipiscing eliteiusmod temp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3" name="TextBox 29"/>
          <p:cNvSpPr/>
          <p:nvPr/>
        </p:nvSpPr>
        <p:spPr>
          <a:xfrm>
            <a:off x="4740840" y="292428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oppins"/>
              </a:rPr>
              <a:t>25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4" name="TextBox 30"/>
          <p:cNvSpPr/>
          <p:nvPr/>
        </p:nvSpPr>
        <p:spPr>
          <a:xfrm>
            <a:off x="6325920" y="237492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oppins"/>
              </a:rPr>
              <a:t>25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5" name="TextBox 31"/>
          <p:cNvSpPr/>
          <p:nvPr/>
        </p:nvSpPr>
        <p:spPr>
          <a:xfrm>
            <a:off x="6350760" y="383364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oppins"/>
              </a:rPr>
              <a:t>25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6" name="TextBox 32"/>
          <p:cNvSpPr/>
          <p:nvPr/>
        </p:nvSpPr>
        <p:spPr>
          <a:xfrm>
            <a:off x="5072040" y="434988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oppins"/>
              </a:rPr>
              <a:t>25%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7" name="Freeform 113"/>
          <p:cNvSpPr/>
          <p:nvPr/>
        </p:nvSpPr>
        <p:spPr>
          <a:xfrm>
            <a:off x="8594640" y="4976640"/>
            <a:ext cx="411120" cy="40032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228" name="Group 34" descr=""/>
          <p:cNvPicPr/>
          <p:nvPr/>
        </p:nvPicPr>
        <p:blipFill>
          <a:blip r:embed="rId1"/>
          <a:stretch/>
        </p:blipFill>
        <p:spPr>
          <a:xfrm>
            <a:off x="3309840" y="1828800"/>
            <a:ext cx="274680" cy="401760"/>
          </a:xfrm>
          <a:prstGeom prst="rect">
            <a:avLst/>
          </a:prstGeom>
          <a:ln w="0">
            <a:noFill/>
          </a:ln>
        </p:spPr>
      </p:pic>
      <p:pic>
        <p:nvPicPr>
          <p:cNvPr id="229" name="Group 37" descr=""/>
          <p:cNvPicPr/>
          <p:nvPr/>
        </p:nvPicPr>
        <p:blipFill>
          <a:blip r:embed="rId2"/>
          <a:stretch/>
        </p:blipFill>
        <p:spPr>
          <a:xfrm>
            <a:off x="8553600" y="1914480"/>
            <a:ext cx="395280" cy="401760"/>
          </a:xfrm>
          <a:prstGeom prst="rect">
            <a:avLst/>
          </a:prstGeom>
          <a:ln w="0">
            <a:noFill/>
          </a:ln>
        </p:spPr>
      </p:pic>
      <p:pic>
        <p:nvPicPr>
          <p:cNvPr id="230" name="Group 41" descr=""/>
          <p:cNvPicPr/>
          <p:nvPr/>
        </p:nvPicPr>
        <p:blipFill>
          <a:blip r:embed="rId3"/>
          <a:stretch/>
        </p:blipFill>
        <p:spPr>
          <a:xfrm>
            <a:off x="3230640" y="4956120"/>
            <a:ext cx="41436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1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75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75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75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75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75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75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75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75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75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75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75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7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75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75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75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75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Poppins"/>
              </a:rPr>
              <a:t>CIRCLE PUZZLE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32" name="Freeform 5"/>
          <p:cNvSpPr/>
          <p:nvPr/>
        </p:nvSpPr>
        <p:spPr>
          <a:xfrm>
            <a:off x="3795840" y="1568520"/>
            <a:ext cx="2286000" cy="2913120"/>
          </a:xfrm>
          <a:custGeom>
            <a:avLst/>
            <a:gdLst/>
            <a:ahLst/>
            <a:rect l="l" t="t" r="r" b="b"/>
            <a:pathLst>
              <a:path w="1477" h="1882">
                <a:moveTo>
                  <a:pt x="1109" y="1882"/>
                </a:moveTo>
                <a:cubicBezTo>
                  <a:pt x="1109" y="309"/>
                  <a:pt x="1109" y="309"/>
                  <a:pt x="1109" y="309"/>
                </a:cubicBezTo>
                <a:cubicBezTo>
                  <a:pt x="1281" y="309"/>
                  <a:pt x="1281" y="309"/>
                  <a:pt x="1281" y="309"/>
                </a:cubicBezTo>
                <a:cubicBezTo>
                  <a:pt x="1297" y="345"/>
                  <a:pt x="1333" y="370"/>
                  <a:pt x="1374" y="370"/>
                </a:cubicBezTo>
                <a:cubicBezTo>
                  <a:pt x="1431" y="370"/>
                  <a:pt x="1477" y="324"/>
                  <a:pt x="1477" y="267"/>
                </a:cubicBezTo>
                <a:cubicBezTo>
                  <a:pt x="1477" y="210"/>
                  <a:pt x="1431" y="164"/>
                  <a:pt x="1374" y="164"/>
                </a:cubicBezTo>
                <a:cubicBezTo>
                  <a:pt x="1331" y="164"/>
                  <a:pt x="1294" y="191"/>
                  <a:pt x="1279" y="229"/>
                </a:cubicBezTo>
                <a:cubicBezTo>
                  <a:pt x="1109" y="229"/>
                  <a:pt x="1109" y="229"/>
                  <a:pt x="1109" y="229"/>
                </a:cubicBezTo>
                <a:cubicBezTo>
                  <a:pt x="1109" y="0"/>
                  <a:pt x="1109" y="0"/>
                  <a:pt x="1109" y="0"/>
                </a:cubicBezTo>
                <a:cubicBezTo>
                  <a:pt x="471" y="167"/>
                  <a:pt x="0" y="748"/>
                  <a:pt x="0" y="1438"/>
                </a:cubicBezTo>
                <a:cubicBezTo>
                  <a:pt x="0" y="1593"/>
                  <a:pt x="24" y="1742"/>
                  <a:pt x="67" y="1882"/>
                </a:cubicBezTo>
                <a:lnTo>
                  <a:pt x="1109" y="1882"/>
                </a:lnTo>
                <a:close/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3" name="Freeform 6"/>
          <p:cNvSpPr/>
          <p:nvPr/>
        </p:nvSpPr>
        <p:spPr>
          <a:xfrm>
            <a:off x="3924360" y="3519360"/>
            <a:ext cx="3195720" cy="2575080"/>
          </a:xfrm>
          <a:custGeom>
            <a:avLst/>
            <a:gdLst/>
            <a:ahLst/>
            <a:rect l="l" t="t" r="r" b="b"/>
            <a:pathLst>
              <a:path w="2065" h="1663">
                <a:moveTo>
                  <a:pt x="1707" y="1293"/>
                </a:moveTo>
                <a:cubicBezTo>
                  <a:pt x="1867" y="1293"/>
                  <a:pt x="1867" y="1293"/>
                  <a:pt x="1867" y="1293"/>
                </a:cubicBezTo>
                <a:cubicBezTo>
                  <a:pt x="1882" y="1331"/>
                  <a:pt x="1919" y="1358"/>
                  <a:pt x="1962" y="1358"/>
                </a:cubicBezTo>
                <a:cubicBezTo>
                  <a:pt x="2019" y="1358"/>
                  <a:pt x="2065" y="1312"/>
                  <a:pt x="2065" y="1255"/>
                </a:cubicBezTo>
                <a:cubicBezTo>
                  <a:pt x="2065" y="1199"/>
                  <a:pt x="2019" y="1152"/>
                  <a:pt x="1962" y="1152"/>
                </a:cubicBezTo>
                <a:cubicBezTo>
                  <a:pt x="1920" y="1152"/>
                  <a:pt x="1884" y="1178"/>
                  <a:pt x="1868" y="1214"/>
                </a:cubicBezTo>
                <a:cubicBezTo>
                  <a:pt x="1707" y="1214"/>
                  <a:pt x="1707" y="1214"/>
                  <a:pt x="1707" y="1214"/>
                </a:cubicBezTo>
                <a:cubicBezTo>
                  <a:pt x="1707" y="0"/>
                  <a:pt x="1707" y="0"/>
                  <a:pt x="1707" y="0"/>
                </a:cubicBezTo>
                <a:cubicBezTo>
                  <a:pt x="1459" y="0"/>
                  <a:pt x="1459" y="0"/>
                  <a:pt x="1459" y="0"/>
                </a:cubicBezTo>
                <a:cubicBezTo>
                  <a:pt x="1459" y="103"/>
                  <a:pt x="1459" y="103"/>
                  <a:pt x="1459" y="103"/>
                </a:cubicBezTo>
                <a:cubicBezTo>
                  <a:pt x="1497" y="130"/>
                  <a:pt x="1522" y="174"/>
                  <a:pt x="1522" y="224"/>
                </a:cubicBezTo>
                <a:cubicBezTo>
                  <a:pt x="1522" y="306"/>
                  <a:pt x="1456" y="373"/>
                  <a:pt x="1374" y="373"/>
                </a:cubicBezTo>
                <a:cubicBezTo>
                  <a:pt x="1292" y="373"/>
                  <a:pt x="1225" y="306"/>
                  <a:pt x="1225" y="224"/>
                </a:cubicBezTo>
                <a:cubicBezTo>
                  <a:pt x="1225" y="173"/>
                  <a:pt x="1250" y="129"/>
                  <a:pt x="1289" y="102"/>
                </a:cubicBezTo>
                <a:cubicBezTo>
                  <a:pt x="1289" y="0"/>
                  <a:pt x="1289" y="0"/>
                  <a:pt x="1289" y="0"/>
                </a:cubicBezTo>
                <a:cubicBezTo>
                  <a:pt x="1072" y="0"/>
                  <a:pt x="1072" y="0"/>
                  <a:pt x="1072" y="0"/>
                </a:cubicBezTo>
                <a:cubicBezTo>
                  <a:pt x="1072" y="667"/>
                  <a:pt x="1072" y="667"/>
                  <a:pt x="1072" y="667"/>
                </a:cubicBezTo>
                <a:cubicBezTo>
                  <a:pt x="0" y="667"/>
                  <a:pt x="0" y="667"/>
                  <a:pt x="0" y="667"/>
                </a:cubicBezTo>
                <a:cubicBezTo>
                  <a:pt x="202" y="1247"/>
                  <a:pt x="754" y="1663"/>
                  <a:pt x="1403" y="1663"/>
                </a:cubicBezTo>
                <a:cubicBezTo>
                  <a:pt x="1507" y="1663"/>
                  <a:pt x="1609" y="1652"/>
                  <a:pt x="1707" y="1632"/>
                </a:cubicBezTo>
                <a:lnTo>
                  <a:pt x="1707" y="1293"/>
                </a:lnTo>
                <a:close/>
              </a:path>
            </a:pathLst>
          </a:cu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4" name="Freeform 7"/>
          <p:cNvSpPr/>
          <p:nvPr/>
        </p:nvSpPr>
        <p:spPr>
          <a:xfrm>
            <a:off x="6637320" y="2978280"/>
            <a:ext cx="1758960" cy="3052800"/>
          </a:xfrm>
          <a:custGeom>
            <a:avLst/>
            <a:gdLst/>
            <a:ahLst/>
            <a:rect l="l" t="t" r="r" b="b"/>
            <a:pathLst>
              <a:path w="1136" h="1972">
                <a:moveTo>
                  <a:pt x="851" y="350"/>
                </a:moveTo>
                <a:cubicBezTo>
                  <a:pt x="851" y="196"/>
                  <a:pt x="851" y="196"/>
                  <a:pt x="851" y="196"/>
                </a:cubicBezTo>
                <a:cubicBezTo>
                  <a:pt x="886" y="180"/>
                  <a:pt x="911" y="144"/>
                  <a:pt x="911" y="102"/>
                </a:cubicBezTo>
                <a:cubicBezTo>
                  <a:pt x="911" y="46"/>
                  <a:pt x="865" y="0"/>
                  <a:pt x="809" y="0"/>
                </a:cubicBezTo>
                <a:cubicBezTo>
                  <a:pt x="752" y="0"/>
                  <a:pt x="706" y="46"/>
                  <a:pt x="706" y="102"/>
                </a:cubicBezTo>
                <a:cubicBezTo>
                  <a:pt x="706" y="146"/>
                  <a:pt x="733" y="183"/>
                  <a:pt x="771" y="198"/>
                </a:cubicBezTo>
                <a:cubicBezTo>
                  <a:pt x="771" y="350"/>
                  <a:pt x="771" y="350"/>
                  <a:pt x="771" y="350"/>
                </a:cubicBezTo>
                <a:cubicBezTo>
                  <a:pt x="0" y="350"/>
                  <a:pt x="0" y="350"/>
                  <a:pt x="0" y="350"/>
                </a:cubicBezTo>
                <a:cubicBezTo>
                  <a:pt x="0" y="1518"/>
                  <a:pt x="0" y="1518"/>
                  <a:pt x="0" y="1518"/>
                </a:cubicBezTo>
                <a:cubicBezTo>
                  <a:pt x="89" y="1518"/>
                  <a:pt x="89" y="1518"/>
                  <a:pt x="89" y="1518"/>
                </a:cubicBezTo>
                <a:cubicBezTo>
                  <a:pt x="116" y="1481"/>
                  <a:pt x="160" y="1456"/>
                  <a:pt x="209" y="1456"/>
                </a:cubicBezTo>
                <a:cubicBezTo>
                  <a:pt x="291" y="1456"/>
                  <a:pt x="358" y="1523"/>
                  <a:pt x="358" y="1605"/>
                </a:cubicBezTo>
                <a:cubicBezTo>
                  <a:pt x="358" y="1687"/>
                  <a:pt x="291" y="1754"/>
                  <a:pt x="209" y="1754"/>
                </a:cubicBezTo>
                <a:cubicBezTo>
                  <a:pt x="158" y="1754"/>
                  <a:pt x="113" y="1728"/>
                  <a:pt x="86" y="1689"/>
                </a:cubicBezTo>
                <a:cubicBezTo>
                  <a:pt x="0" y="1689"/>
                  <a:pt x="0" y="1689"/>
                  <a:pt x="0" y="1689"/>
                </a:cubicBezTo>
                <a:cubicBezTo>
                  <a:pt x="0" y="1972"/>
                  <a:pt x="0" y="1972"/>
                  <a:pt x="0" y="1972"/>
                </a:cubicBezTo>
                <a:cubicBezTo>
                  <a:pt x="652" y="1814"/>
                  <a:pt x="1136" y="1227"/>
                  <a:pt x="1136" y="527"/>
                </a:cubicBezTo>
                <a:cubicBezTo>
                  <a:pt x="1136" y="467"/>
                  <a:pt x="1133" y="408"/>
                  <a:pt x="1126" y="350"/>
                </a:cubicBezTo>
                <a:lnTo>
                  <a:pt x="851" y="350"/>
                </a:lnTo>
                <a:close/>
              </a:path>
            </a:pathLst>
          </a:cu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5" name="Freeform 8"/>
          <p:cNvSpPr/>
          <p:nvPr/>
        </p:nvSpPr>
        <p:spPr>
          <a:xfrm>
            <a:off x="5583240" y="1494000"/>
            <a:ext cx="2786040" cy="2531880"/>
          </a:xfrm>
          <a:custGeom>
            <a:avLst/>
            <a:gdLst/>
            <a:ahLst/>
            <a:rect l="l" t="t" r="r" b="b"/>
            <a:pathLst>
              <a:path w="1800" h="1636">
                <a:moveTo>
                  <a:pt x="0" y="231"/>
                </a:moveTo>
                <a:cubicBezTo>
                  <a:pt x="97" y="231"/>
                  <a:pt x="97" y="231"/>
                  <a:pt x="97" y="231"/>
                </a:cubicBezTo>
                <a:cubicBezTo>
                  <a:pt x="123" y="192"/>
                  <a:pt x="168" y="166"/>
                  <a:pt x="219" y="166"/>
                </a:cubicBezTo>
                <a:cubicBezTo>
                  <a:pt x="301" y="166"/>
                  <a:pt x="368" y="233"/>
                  <a:pt x="368" y="315"/>
                </a:cubicBezTo>
                <a:cubicBezTo>
                  <a:pt x="368" y="397"/>
                  <a:pt x="301" y="464"/>
                  <a:pt x="219" y="464"/>
                </a:cubicBezTo>
                <a:cubicBezTo>
                  <a:pt x="170" y="464"/>
                  <a:pt x="126" y="439"/>
                  <a:pt x="99" y="402"/>
                </a:cubicBezTo>
                <a:cubicBezTo>
                  <a:pt x="0" y="402"/>
                  <a:pt x="0" y="402"/>
                  <a:pt x="0" y="402"/>
                </a:cubicBezTo>
                <a:cubicBezTo>
                  <a:pt x="0" y="1263"/>
                  <a:pt x="0" y="1263"/>
                  <a:pt x="0" y="1263"/>
                </a:cubicBezTo>
                <a:cubicBezTo>
                  <a:pt x="263" y="1263"/>
                  <a:pt x="263" y="1263"/>
                  <a:pt x="263" y="1263"/>
                </a:cubicBezTo>
                <a:cubicBezTo>
                  <a:pt x="263" y="1438"/>
                  <a:pt x="263" y="1438"/>
                  <a:pt x="263" y="1438"/>
                </a:cubicBezTo>
                <a:cubicBezTo>
                  <a:pt x="225" y="1453"/>
                  <a:pt x="199" y="1490"/>
                  <a:pt x="199" y="1533"/>
                </a:cubicBezTo>
                <a:cubicBezTo>
                  <a:pt x="199" y="1589"/>
                  <a:pt x="245" y="1636"/>
                  <a:pt x="302" y="1636"/>
                </a:cubicBezTo>
                <a:cubicBezTo>
                  <a:pt x="358" y="1636"/>
                  <a:pt x="404" y="1589"/>
                  <a:pt x="404" y="1533"/>
                </a:cubicBezTo>
                <a:cubicBezTo>
                  <a:pt x="404" y="1490"/>
                  <a:pt x="378" y="1454"/>
                  <a:pt x="342" y="1438"/>
                </a:cubicBezTo>
                <a:cubicBezTo>
                  <a:pt x="342" y="1263"/>
                  <a:pt x="342" y="1263"/>
                  <a:pt x="342" y="1263"/>
                </a:cubicBezTo>
                <a:cubicBezTo>
                  <a:pt x="1406" y="1263"/>
                  <a:pt x="1406" y="1263"/>
                  <a:pt x="1406" y="1263"/>
                </a:cubicBezTo>
                <a:cubicBezTo>
                  <a:pt x="1406" y="1184"/>
                  <a:pt x="1406" y="1184"/>
                  <a:pt x="1406" y="1184"/>
                </a:cubicBezTo>
                <a:cubicBezTo>
                  <a:pt x="1367" y="1158"/>
                  <a:pt x="1341" y="1112"/>
                  <a:pt x="1341" y="1061"/>
                </a:cubicBezTo>
                <a:cubicBezTo>
                  <a:pt x="1341" y="979"/>
                  <a:pt x="1408" y="913"/>
                  <a:pt x="1490" y="913"/>
                </a:cubicBezTo>
                <a:cubicBezTo>
                  <a:pt x="1572" y="913"/>
                  <a:pt x="1638" y="979"/>
                  <a:pt x="1638" y="1061"/>
                </a:cubicBezTo>
                <a:cubicBezTo>
                  <a:pt x="1638" y="1111"/>
                  <a:pt x="1614" y="1154"/>
                  <a:pt x="1577" y="1181"/>
                </a:cubicBezTo>
                <a:cubicBezTo>
                  <a:pt x="1577" y="1263"/>
                  <a:pt x="1577" y="1263"/>
                  <a:pt x="1577" y="1263"/>
                </a:cubicBezTo>
                <a:cubicBezTo>
                  <a:pt x="1800" y="1263"/>
                  <a:pt x="1800" y="1263"/>
                  <a:pt x="1800" y="1263"/>
                </a:cubicBezTo>
                <a:cubicBezTo>
                  <a:pt x="1693" y="548"/>
                  <a:pt x="1076" y="0"/>
                  <a:pt x="331" y="0"/>
                </a:cubicBezTo>
                <a:cubicBezTo>
                  <a:pt x="217" y="0"/>
                  <a:pt x="106" y="13"/>
                  <a:pt x="0" y="37"/>
                </a:cubicBezTo>
                <a:lnTo>
                  <a:pt x="0" y="231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6" name="TextBox 10"/>
          <p:cNvSpPr/>
          <p:nvPr/>
        </p:nvSpPr>
        <p:spPr>
          <a:xfrm>
            <a:off x="4021920" y="392904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Poppins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7" name="TextBox 11"/>
          <p:cNvSpPr/>
          <p:nvPr/>
        </p:nvSpPr>
        <p:spPr>
          <a:xfrm>
            <a:off x="4983840" y="531036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Poppins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8" name="TextBox 12"/>
          <p:cNvSpPr/>
          <p:nvPr/>
        </p:nvSpPr>
        <p:spPr>
          <a:xfrm>
            <a:off x="6825240" y="386388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Poppins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6059520" y="288288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Poppins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0" name="Freeform 12"/>
          <p:cNvSpPr/>
          <p:nvPr/>
        </p:nvSpPr>
        <p:spPr>
          <a:xfrm>
            <a:off x="6469200" y="2055960"/>
            <a:ext cx="525240" cy="642960"/>
          </a:xfrm>
          <a:custGeom>
            <a:avLst/>
            <a:gdLst/>
            <a:ahLst/>
            <a:rect l="l" t="t" r="r" b="b"/>
            <a:pathLst>
              <a:path w="626" h="769">
                <a:moveTo>
                  <a:pt x="319" y="55"/>
                </a:moveTo>
                <a:cubicBezTo>
                  <a:pt x="302" y="55"/>
                  <a:pt x="302" y="55"/>
                  <a:pt x="302" y="55"/>
                </a:cubicBezTo>
                <a:cubicBezTo>
                  <a:pt x="293" y="55"/>
                  <a:pt x="285" y="48"/>
                  <a:pt x="285" y="39"/>
                </a:cubicBezTo>
                <a:cubicBezTo>
                  <a:pt x="285" y="38"/>
                  <a:pt x="285" y="38"/>
                  <a:pt x="285" y="38"/>
                </a:cubicBezTo>
                <a:cubicBezTo>
                  <a:pt x="285" y="17"/>
                  <a:pt x="268" y="0"/>
                  <a:pt x="247" y="0"/>
                </a:cubicBezTo>
                <a:cubicBezTo>
                  <a:pt x="246" y="0"/>
                  <a:pt x="246" y="0"/>
                  <a:pt x="246" y="0"/>
                </a:cubicBezTo>
                <a:cubicBezTo>
                  <a:pt x="225" y="0"/>
                  <a:pt x="208" y="17"/>
                  <a:pt x="208" y="38"/>
                </a:cubicBezTo>
                <a:cubicBezTo>
                  <a:pt x="208" y="39"/>
                  <a:pt x="208" y="39"/>
                  <a:pt x="208" y="39"/>
                </a:cubicBezTo>
                <a:cubicBezTo>
                  <a:pt x="208" y="48"/>
                  <a:pt x="201" y="55"/>
                  <a:pt x="192" y="55"/>
                </a:cubicBezTo>
                <a:cubicBezTo>
                  <a:pt x="175" y="55"/>
                  <a:pt x="175" y="55"/>
                  <a:pt x="175" y="55"/>
                </a:cubicBezTo>
                <a:cubicBezTo>
                  <a:pt x="157" y="55"/>
                  <a:pt x="143" y="70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106"/>
                  <a:pt x="157" y="121"/>
                  <a:pt x="175" y="121"/>
                </a:cubicBezTo>
                <a:cubicBezTo>
                  <a:pt x="319" y="121"/>
                  <a:pt x="319" y="121"/>
                  <a:pt x="319" y="121"/>
                </a:cubicBezTo>
                <a:cubicBezTo>
                  <a:pt x="337" y="121"/>
                  <a:pt x="351" y="106"/>
                  <a:pt x="351" y="88"/>
                </a:cubicBezTo>
                <a:cubicBezTo>
                  <a:pt x="351" y="88"/>
                  <a:pt x="351" y="88"/>
                  <a:pt x="351" y="88"/>
                </a:cubicBezTo>
                <a:cubicBezTo>
                  <a:pt x="351" y="70"/>
                  <a:pt x="337" y="55"/>
                  <a:pt x="319" y="55"/>
                </a:cubicBezTo>
                <a:close/>
                <a:moveTo>
                  <a:pt x="247" y="55"/>
                </a:moveTo>
                <a:cubicBezTo>
                  <a:pt x="238" y="55"/>
                  <a:pt x="230" y="48"/>
                  <a:pt x="230" y="38"/>
                </a:cubicBezTo>
                <a:cubicBezTo>
                  <a:pt x="230" y="29"/>
                  <a:pt x="238" y="22"/>
                  <a:pt x="247" y="22"/>
                </a:cubicBezTo>
                <a:cubicBezTo>
                  <a:pt x="256" y="22"/>
                  <a:pt x="263" y="29"/>
                  <a:pt x="263" y="38"/>
                </a:cubicBezTo>
                <a:cubicBezTo>
                  <a:pt x="263" y="48"/>
                  <a:pt x="256" y="55"/>
                  <a:pt x="247" y="55"/>
                </a:cubicBezTo>
                <a:close/>
                <a:moveTo>
                  <a:pt x="320" y="692"/>
                </a:moveTo>
                <a:cubicBezTo>
                  <a:pt x="44" y="692"/>
                  <a:pt x="44" y="692"/>
                  <a:pt x="44" y="692"/>
                </a:cubicBezTo>
                <a:cubicBezTo>
                  <a:pt x="19" y="692"/>
                  <a:pt x="0" y="673"/>
                  <a:pt x="0" y="648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97"/>
                  <a:pt x="19" y="77"/>
                  <a:pt x="33" y="77"/>
                </a:cubicBezTo>
                <a:cubicBezTo>
                  <a:pt x="122" y="77"/>
                  <a:pt x="122" y="77"/>
                  <a:pt x="122" y="77"/>
                </a:cubicBezTo>
                <a:cubicBezTo>
                  <a:pt x="121" y="81"/>
                  <a:pt x="121" y="84"/>
                  <a:pt x="121" y="88"/>
                </a:cubicBezTo>
                <a:cubicBezTo>
                  <a:pt x="121" y="118"/>
                  <a:pt x="145" y="143"/>
                  <a:pt x="175" y="143"/>
                </a:cubicBezTo>
                <a:cubicBezTo>
                  <a:pt x="319" y="143"/>
                  <a:pt x="319" y="143"/>
                  <a:pt x="319" y="143"/>
                </a:cubicBezTo>
                <a:cubicBezTo>
                  <a:pt x="349" y="143"/>
                  <a:pt x="373" y="118"/>
                  <a:pt x="373" y="88"/>
                </a:cubicBezTo>
                <a:cubicBezTo>
                  <a:pt x="373" y="84"/>
                  <a:pt x="373" y="80"/>
                  <a:pt x="372" y="77"/>
                </a:cubicBezTo>
                <a:cubicBezTo>
                  <a:pt x="439" y="77"/>
                  <a:pt x="439" y="77"/>
                  <a:pt x="439" y="77"/>
                </a:cubicBezTo>
                <a:cubicBezTo>
                  <a:pt x="474" y="77"/>
                  <a:pt x="494" y="97"/>
                  <a:pt x="494" y="121"/>
                </a:cubicBezTo>
                <a:cubicBezTo>
                  <a:pt x="494" y="451"/>
                  <a:pt x="494" y="451"/>
                  <a:pt x="494" y="451"/>
                </a:cubicBezTo>
                <a:cubicBezTo>
                  <a:pt x="491" y="451"/>
                  <a:pt x="487" y="450"/>
                  <a:pt x="483" y="450"/>
                </a:cubicBezTo>
                <a:cubicBezTo>
                  <a:pt x="468" y="450"/>
                  <a:pt x="453" y="453"/>
                  <a:pt x="439" y="456"/>
                </a:cubicBezTo>
                <a:cubicBezTo>
                  <a:pt x="439" y="198"/>
                  <a:pt x="439" y="198"/>
                  <a:pt x="439" y="198"/>
                </a:cubicBezTo>
                <a:cubicBezTo>
                  <a:pt x="55" y="198"/>
                  <a:pt x="55" y="198"/>
                  <a:pt x="55" y="198"/>
                </a:cubicBezTo>
                <a:cubicBezTo>
                  <a:pt x="55" y="637"/>
                  <a:pt x="55" y="637"/>
                  <a:pt x="55" y="637"/>
                </a:cubicBezTo>
                <a:cubicBezTo>
                  <a:pt x="308" y="637"/>
                  <a:pt x="308" y="637"/>
                  <a:pt x="308" y="637"/>
                </a:cubicBezTo>
                <a:cubicBezTo>
                  <a:pt x="309" y="657"/>
                  <a:pt x="313" y="675"/>
                  <a:pt x="320" y="692"/>
                </a:cubicBezTo>
                <a:close/>
                <a:moveTo>
                  <a:pt x="483" y="483"/>
                </a:moveTo>
                <a:cubicBezTo>
                  <a:pt x="404" y="483"/>
                  <a:pt x="340" y="547"/>
                  <a:pt x="340" y="626"/>
                </a:cubicBezTo>
                <a:cubicBezTo>
                  <a:pt x="340" y="705"/>
                  <a:pt x="404" y="769"/>
                  <a:pt x="483" y="769"/>
                </a:cubicBezTo>
                <a:cubicBezTo>
                  <a:pt x="562" y="769"/>
                  <a:pt x="626" y="705"/>
                  <a:pt x="626" y="626"/>
                </a:cubicBezTo>
                <a:cubicBezTo>
                  <a:pt x="626" y="547"/>
                  <a:pt x="562" y="483"/>
                  <a:pt x="483" y="483"/>
                </a:cubicBezTo>
                <a:close/>
                <a:moveTo>
                  <a:pt x="576" y="597"/>
                </a:moveTo>
                <a:cubicBezTo>
                  <a:pt x="489" y="696"/>
                  <a:pt x="489" y="696"/>
                  <a:pt x="489" y="696"/>
                </a:cubicBezTo>
                <a:cubicBezTo>
                  <a:pt x="484" y="701"/>
                  <a:pt x="478" y="703"/>
                  <a:pt x="472" y="703"/>
                </a:cubicBezTo>
                <a:cubicBezTo>
                  <a:pt x="467" y="703"/>
                  <a:pt x="462" y="702"/>
                  <a:pt x="458" y="698"/>
                </a:cubicBezTo>
                <a:cubicBezTo>
                  <a:pt x="404" y="654"/>
                  <a:pt x="404" y="654"/>
                  <a:pt x="404" y="654"/>
                </a:cubicBezTo>
                <a:cubicBezTo>
                  <a:pt x="394" y="647"/>
                  <a:pt x="392" y="633"/>
                  <a:pt x="400" y="624"/>
                </a:cubicBezTo>
                <a:cubicBezTo>
                  <a:pt x="408" y="614"/>
                  <a:pt x="421" y="613"/>
                  <a:pt x="431" y="620"/>
                </a:cubicBezTo>
                <a:cubicBezTo>
                  <a:pt x="470" y="651"/>
                  <a:pt x="470" y="651"/>
                  <a:pt x="470" y="651"/>
                </a:cubicBezTo>
                <a:cubicBezTo>
                  <a:pt x="544" y="568"/>
                  <a:pt x="544" y="568"/>
                  <a:pt x="544" y="568"/>
                </a:cubicBezTo>
                <a:cubicBezTo>
                  <a:pt x="552" y="559"/>
                  <a:pt x="566" y="558"/>
                  <a:pt x="575" y="566"/>
                </a:cubicBezTo>
                <a:cubicBezTo>
                  <a:pt x="584" y="574"/>
                  <a:pt x="585" y="588"/>
                  <a:pt x="576" y="597"/>
                </a:cubicBezTo>
                <a:close/>
                <a:moveTo>
                  <a:pt x="384" y="385"/>
                </a:moveTo>
                <a:cubicBezTo>
                  <a:pt x="99" y="385"/>
                  <a:pt x="99" y="385"/>
                  <a:pt x="99" y="385"/>
                </a:cubicBezTo>
                <a:cubicBezTo>
                  <a:pt x="93" y="385"/>
                  <a:pt x="88" y="380"/>
                  <a:pt x="88" y="374"/>
                </a:cubicBezTo>
                <a:cubicBezTo>
                  <a:pt x="88" y="363"/>
                  <a:pt x="88" y="363"/>
                  <a:pt x="88" y="363"/>
                </a:cubicBezTo>
                <a:cubicBezTo>
                  <a:pt x="88" y="357"/>
                  <a:pt x="93" y="352"/>
                  <a:pt x="99" y="352"/>
                </a:cubicBezTo>
                <a:cubicBezTo>
                  <a:pt x="384" y="352"/>
                  <a:pt x="384" y="352"/>
                  <a:pt x="384" y="352"/>
                </a:cubicBezTo>
                <a:cubicBezTo>
                  <a:pt x="390" y="352"/>
                  <a:pt x="395" y="357"/>
                  <a:pt x="395" y="363"/>
                </a:cubicBezTo>
                <a:cubicBezTo>
                  <a:pt x="395" y="374"/>
                  <a:pt x="395" y="374"/>
                  <a:pt x="395" y="374"/>
                </a:cubicBezTo>
                <a:cubicBezTo>
                  <a:pt x="395" y="380"/>
                  <a:pt x="390" y="385"/>
                  <a:pt x="384" y="385"/>
                </a:cubicBezTo>
                <a:close/>
                <a:moveTo>
                  <a:pt x="384" y="286"/>
                </a:moveTo>
                <a:cubicBezTo>
                  <a:pt x="99" y="286"/>
                  <a:pt x="99" y="286"/>
                  <a:pt x="99" y="286"/>
                </a:cubicBezTo>
                <a:cubicBezTo>
                  <a:pt x="93" y="286"/>
                  <a:pt x="88" y="281"/>
                  <a:pt x="88" y="275"/>
                </a:cubicBezTo>
                <a:cubicBezTo>
                  <a:pt x="88" y="264"/>
                  <a:pt x="88" y="264"/>
                  <a:pt x="88" y="264"/>
                </a:cubicBezTo>
                <a:cubicBezTo>
                  <a:pt x="88" y="258"/>
                  <a:pt x="93" y="253"/>
                  <a:pt x="99" y="253"/>
                </a:cubicBezTo>
                <a:cubicBezTo>
                  <a:pt x="384" y="253"/>
                  <a:pt x="384" y="253"/>
                  <a:pt x="384" y="253"/>
                </a:cubicBezTo>
                <a:cubicBezTo>
                  <a:pt x="390" y="253"/>
                  <a:pt x="395" y="258"/>
                  <a:pt x="395" y="264"/>
                </a:cubicBezTo>
                <a:cubicBezTo>
                  <a:pt x="395" y="275"/>
                  <a:pt x="395" y="275"/>
                  <a:pt x="395" y="275"/>
                </a:cubicBezTo>
                <a:cubicBezTo>
                  <a:pt x="395" y="281"/>
                  <a:pt x="390" y="286"/>
                  <a:pt x="384" y="286"/>
                </a:cubicBezTo>
                <a:close/>
                <a:moveTo>
                  <a:pt x="329" y="472"/>
                </a:moveTo>
                <a:cubicBezTo>
                  <a:pt x="99" y="472"/>
                  <a:pt x="99" y="472"/>
                  <a:pt x="99" y="472"/>
                </a:cubicBezTo>
                <a:cubicBezTo>
                  <a:pt x="93" y="472"/>
                  <a:pt x="88" y="468"/>
                  <a:pt x="88" y="461"/>
                </a:cubicBezTo>
                <a:cubicBezTo>
                  <a:pt x="88" y="450"/>
                  <a:pt x="88" y="450"/>
                  <a:pt x="88" y="450"/>
                </a:cubicBezTo>
                <a:cubicBezTo>
                  <a:pt x="88" y="444"/>
                  <a:pt x="93" y="439"/>
                  <a:pt x="99" y="439"/>
                </a:cubicBezTo>
                <a:cubicBezTo>
                  <a:pt x="329" y="439"/>
                  <a:pt x="329" y="439"/>
                  <a:pt x="329" y="439"/>
                </a:cubicBezTo>
                <a:cubicBezTo>
                  <a:pt x="335" y="439"/>
                  <a:pt x="340" y="444"/>
                  <a:pt x="340" y="450"/>
                </a:cubicBezTo>
                <a:cubicBezTo>
                  <a:pt x="340" y="461"/>
                  <a:pt x="340" y="461"/>
                  <a:pt x="340" y="461"/>
                </a:cubicBezTo>
                <a:cubicBezTo>
                  <a:pt x="340" y="468"/>
                  <a:pt x="335" y="472"/>
                  <a:pt x="329" y="472"/>
                </a:cubicBezTo>
                <a:close/>
                <a:moveTo>
                  <a:pt x="307" y="571"/>
                </a:moveTo>
                <a:cubicBezTo>
                  <a:pt x="99" y="571"/>
                  <a:pt x="99" y="571"/>
                  <a:pt x="99" y="571"/>
                </a:cubicBezTo>
                <a:cubicBezTo>
                  <a:pt x="93" y="571"/>
                  <a:pt x="88" y="566"/>
                  <a:pt x="88" y="560"/>
                </a:cubicBezTo>
                <a:cubicBezTo>
                  <a:pt x="88" y="549"/>
                  <a:pt x="88" y="549"/>
                  <a:pt x="88" y="549"/>
                </a:cubicBezTo>
                <a:cubicBezTo>
                  <a:pt x="88" y="543"/>
                  <a:pt x="93" y="538"/>
                  <a:pt x="99" y="538"/>
                </a:cubicBezTo>
                <a:cubicBezTo>
                  <a:pt x="307" y="538"/>
                  <a:pt x="307" y="538"/>
                  <a:pt x="307" y="538"/>
                </a:cubicBezTo>
                <a:cubicBezTo>
                  <a:pt x="313" y="538"/>
                  <a:pt x="318" y="543"/>
                  <a:pt x="318" y="549"/>
                </a:cubicBezTo>
                <a:cubicBezTo>
                  <a:pt x="318" y="560"/>
                  <a:pt x="318" y="560"/>
                  <a:pt x="318" y="560"/>
                </a:cubicBezTo>
                <a:cubicBezTo>
                  <a:pt x="318" y="566"/>
                  <a:pt x="313" y="571"/>
                  <a:pt x="307" y="571"/>
                </a:cubicBezTo>
                <a:close/>
                <a:moveTo>
                  <a:pt x="307" y="571"/>
                </a:moveTo>
                <a:cubicBezTo>
                  <a:pt x="307" y="571"/>
                  <a:pt x="307" y="571"/>
                  <a:pt x="307" y="57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1" name="Freeform 13"/>
          <p:cNvSpPr/>
          <p:nvPr/>
        </p:nvSpPr>
        <p:spPr>
          <a:xfrm>
            <a:off x="5719680" y="4408560"/>
            <a:ext cx="620640" cy="581040"/>
          </a:xfrm>
          <a:custGeom>
            <a:avLst/>
            <a:gdLst/>
            <a:ahLst/>
            <a:rect l="l" t="t" r="r" b="b"/>
            <a:pathLst>
              <a:path w="1141" h="1070">
                <a:moveTo>
                  <a:pt x="648" y="0"/>
                </a:moveTo>
                <a:cubicBezTo>
                  <a:pt x="482" y="0"/>
                  <a:pt x="335" y="83"/>
                  <a:pt x="246" y="210"/>
                </a:cubicBezTo>
                <a:cubicBezTo>
                  <a:pt x="264" y="222"/>
                  <a:pt x="282" y="239"/>
                  <a:pt x="299" y="260"/>
                </a:cubicBezTo>
                <a:cubicBezTo>
                  <a:pt x="366" y="160"/>
                  <a:pt x="473" y="90"/>
                  <a:pt x="598" y="75"/>
                </a:cubicBezTo>
                <a:cubicBezTo>
                  <a:pt x="648" y="161"/>
                  <a:pt x="648" y="161"/>
                  <a:pt x="648" y="161"/>
                </a:cubicBezTo>
                <a:cubicBezTo>
                  <a:pt x="699" y="75"/>
                  <a:pt x="699" y="75"/>
                  <a:pt x="699" y="75"/>
                </a:cubicBezTo>
                <a:cubicBezTo>
                  <a:pt x="890" y="99"/>
                  <a:pt x="1042" y="251"/>
                  <a:pt x="1065" y="442"/>
                </a:cubicBezTo>
                <a:cubicBezTo>
                  <a:pt x="980" y="492"/>
                  <a:pt x="980" y="492"/>
                  <a:pt x="980" y="492"/>
                </a:cubicBezTo>
                <a:cubicBezTo>
                  <a:pt x="1065" y="543"/>
                  <a:pt x="1065" y="543"/>
                  <a:pt x="1065" y="543"/>
                </a:cubicBezTo>
                <a:cubicBezTo>
                  <a:pt x="1050" y="671"/>
                  <a:pt x="977" y="781"/>
                  <a:pt x="873" y="847"/>
                </a:cubicBezTo>
                <a:cubicBezTo>
                  <a:pt x="879" y="862"/>
                  <a:pt x="883" y="878"/>
                  <a:pt x="884" y="893"/>
                </a:cubicBezTo>
                <a:cubicBezTo>
                  <a:pt x="884" y="905"/>
                  <a:pt x="883" y="916"/>
                  <a:pt x="881" y="926"/>
                </a:cubicBezTo>
                <a:cubicBezTo>
                  <a:pt x="1035" y="843"/>
                  <a:pt x="1141" y="680"/>
                  <a:pt x="1141" y="492"/>
                </a:cubicBezTo>
                <a:cubicBezTo>
                  <a:pt x="1141" y="221"/>
                  <a:pt x="920" y="0"/>
                  <a:pt x="648" y="0"/>
                </a:cubicBezTo>
                <a:close/>
                <a:moveTo>
                  <a:pt x="774" y="811"/>
                </a:moveTo>
                <a:cubicBezTo>
                  <a:pt x="661" y="720"/>
                  <a:pt x="629" y="765"/>
                  <a:pt x="577" y="816"/>
                </a:cubicBezTo>
                <a:cubicBezTo>
                  <a:pt x="541" y="852"/>
                  <a:pt x="450" y="777"/>
                  <a:pt x="372" y="698"/>
                </a:cubicBezTo>
                <a:cubicBezTo>
                  <a:pt x="293" y="620"/>
                  <a:pt x="218" y="529"/>
                  <a:pt x="254" y="493"/>
                </a:cubicBezTo>
                <a:cubicBezTo>
                  <a:pt x="306" y="441"/>
                  <a:pt x="351" y="410"/>
                  <a:pt x="259" y="296"/>
                </a:cubicBezTo>
                <a:cubicBezTo>
                  <a:pt x="168" y="183"/>
                  <a:pt x="107" y="270"/>
                  <a:pt x="57" y="320"/>
                </a:cubicBezTo>
                <a:cubicBezTo>
                  <a:pt x="0" y="377"/>
                  <a:pt x="54" y="592"/>
                  <a:pt x="266" y="804"/>
                </a:cubicBezTo>
                <a:cubicBezTo>
                  <a:pt x="478" y="1016"/>
                  <a:pt x="693" y="1070"/>
                  <a:pt x="751" y="1013"/>
                </a:cubicBezTo>
                <a:cubicBezTo>
                  <a:pt x="800" y="963"/>
                  <a:pt x="888" y="902"/>
                  <a:pt x="774" y="811"/>
                </a:cubicBezTo>
                <a:close/>
                <a:moveTo>
                  <a:pt x="428" y="570"/>
                </a:moveTo>
                <a:cubicBezTo>
                  <a:pt x="428" y="469"/>
                  <a:pt x="547" y="451"/>
                  <a:pt x="547" y="411"/>
                </a:cubicBezTo>
                <a:cubicBezTo>
                  <a:pt x="547" y="392"/>
                  <a:pt x="531" y="384"/>
                  <a:pt x="517" y="384"/>
                </a:cubicBezTo>
                <a:cubicBezTo>
                  <a:pt x="491" y="384"/>
                  <a:pt x="477" y="413"/>
                  <a:pt x="477" y="413"/>
                </a:cubicBezTo>
                <a:cubicBezTo>
                  <a:pt x="427" y="380"/>
                  <a:pt x="427" y="380"/>
                  <a:pt x="427" y="380"/>
                </a:cubicBezTo>
                <a:cubicBezTo>
                  <a:pt x="427" y="380"/>
                  <a:pt x="452" y="321"/>
                  <a:pt x="523" y="321"/>
                </a:cubicBezTo>
                <a:cubicBezTo>
                  <a:pt x="568" y="321"/>
                  <a:pt x="617" y="347"/>
                  <a:pt x="617" y="405"/>
                </a:cubicBezTo>
                <a:cubicBezTo>
                  <a:pt x="617" y="490"/>
                  <a:pt x="506" y="506"/>
                  <a:pt x="505" y="542"/>
                </a:cubicBezTo>
                <a:cubicBezTo>
                  <a:pt x="621" y="542"/>
                  <a:pt x="621" y="542"/>
                  <a:pt x="621" y="542"/>
                </a:cubicBezTo>
                <a:cubicBezTo>
                  <a:pt x="621" y="599"/>
                  <a:pt x="621" y="599"/>
                  <a:pt x="621" y="599"/>
                </a:cubicBezTo>
                <a:cubicBezTo>
                  <a:pt x="432" y="599"/>
                  <a:pt x="432" y="599"/>
                  <a:pt x="432" y="599"/>
                </a:cubicBezTo>
                <a:cubicBezTo>
                  <a:pt x="430" y="588"/>
                  <a:pt x="428" y="579"/>
                  <a:pt x="428" y="570"/>
                </a:cubicBezTo>
                <a:close/>
                <a:moveTo>
                  <a:pt x="649" y="492"/>
                </a:moveTo>
                <a:cubicBezTo>
                  <a:pt x="754" y="326"/>
                  <a:pt x="754" y="326"/>
                  <a:pt x="754" y="326"/>
                </a:cubicBezTo>
                <a:cubicBezTo>
                  <a:pt x="836" y="326"/>
                  <a:pt x="836" y="326"/>
                  <a:pt x="836" y="326"/>
                </a:cubicBezTo>
                <a:cubicBezTo>
                  <a:pt x="836" y="477"/>
                  <a:pt x="836" y="477"/>
                  <a:pt x="836" y="477"/>
                </a:cubicBezTo>
                <a:cubicBezTo>
                  <a:pt x="868" y="477"/>
                  <a:pt x="868" y="477"/>
                  <a:pt x="868" y="477"/>
                </a:cubicBezTo>
                <a:cubicBezTo>
                  <a:pt x="868" y="533"/>
                  <a:pt x="868" y="533"/>
                  <a:pt x="868" y="533"/>
                </a:cubicBezTo>
                <a:cubicBezTo>
                  <a:pt x="836" y="533"/>
                  <a:pt x="836" y="533"/>
                  <a:pt x="836" y="533"/>
                </a:cubicBezTo>
                <a:cubicBezTo>
                  <a:pt x="836" y="599"/>
                  <a:pt x="836" y="599"/>
                  <a:pt x="836" y="599"/>
                </a:cubicBezTo>
                <a:cubicBezTo>
                  <a:pt x="770" y="599"/>
                  <a:pt x="770" y="599"/>
                  <a:pt x="770" y="599"/>
                </a:cubicBezTo>
                <a:cubicBezTo>
                  <a:pt x="770" y="533"/>
                  <a:pt x="770" y="533"/>
                  <a:pt x="770" y="533"/>
                </a:cubicBezTo>
                <a:cubicBezTo>
                  <a:pt x="649" y="533"/>
                  <a:pt x="649" y="533"/>
                  <a:pt x="649" y="533"/>
                </a:cubicBezTo>
                <a:lnTo>
                  <a:pt x="649" y="492"/>
                </a:lnTo>
                <a:close/>
                <a:moveTo>
                  <a:pt x="770" y="477"/>
                </a:moveTo>
                <a:cubicBezTo>
                  <a:pt x="770" y="416"/>
                  <a:pt x="770" y="416"/>
                  <a:pt x="770" y="416"/>
                </a:cubicBezTo>
                <a:cubicBezTo>
                  <a:pt x="770" y="401"/>
                  <a:pt x="772" y="386"/>
                  <a:pt x="772" y="386"/>
                </a:cubicBezTo>
                <a:cubicBezTo>
                  <a:pt x="771" y="386"/>
                  <a:pt x="771" y="386"/>
                  <a:pt x="771" y="386"/>
                </a:cubicBezTo>
                <a:cubicBezTo>
                  <a:pt x="771" y="386"/>
                  <a:pt x="766" y="402"/>
                  <a:pt x="758" y="414"/>
                </a:cubicBezTo>
                <a:cubicBezTo>
                  <a:pt x="717" y="477"/>
                  <a:pt x="717" y="477"/>
                  <a:pt x="717" y="477"/>
                </a:cubicBezTo>
                <a:cubicBezTo>
                  <a:pt x="717" y="477"/>
                  <a:pt x="717" y="477"/>
                  <a:pt x="717" y="477"/>
                </a:cubicBezTo>
                <a:cubicBezTo>
                  <a:pt x="770" y="477"/>
                  <a:pt x="770" y="477"/>
                  <a:pt x="770" y="477"/>
                </a:cubicBezTo>
                <a:close/>
                <a:moveTo>
                  <a:pt x="770" y="477"/>
                </a:moveTo>
                <a:cubicBezTo>
                  <a:pt x="770" y="477"/>
                  <a:pt x="770" y="477"/>
                  <a:pt x="770" y="47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2" name="Freeform 14"/>
          <p:cNvSpPr/>
          <p:nvPr/>
        </p:nvSpPr>
        <p:spPr>
          <a:xfrm>
            <a:off x="4336920" y="3084480"/>
            <a:ext cx="666720" cy="490680"/>
          </a:xfrm>
          <a:custGeom>
            <a:avLst/>
            <a:gdLst/>
            <a:ahLst/>
            <a:rect l="l" t="t" r="r" b="b"/>
            <a:pathLst>
              <a:path w="1105" h="812">
                <a:moveTo>
                  <a:pt x="53" y="697"/>
                </a:moveTo>
                <a:cubicBezTo>
                  <a:pt x="15" y="697"/>
                  <a:pt x="15" y="697"/>
                  <a:pt x="15" y="697"/>
                </a:cubicBezTo>
                <a:cubicBezTo>
                  <a:pt x="7" y="697"/>
                  <a:pt x="0" y="690"/>
                  <a:pt x="0" y="682"/>
                </a:cubicBezTo>
                <a:cubicBezTo>
                  <a:pt x="0" y="634"/>
                  <a:pt x="0" y="634"/>
                  <a:pt x="0" y="634"/>
                </a:cubicBezTo>
                <a:cubicBezTo>
                  <a:pt x="0" y="626"/>
                  <a:pt x="7" y="619"/>
                  <a:pt x="15" y="619"/>
                </a:cubicBezTo>
                <a:cubicBezTo>
                  <a:pt x="96" y="619"/>
                  <a:pt x="96" y="619"/>
                  <a:pt x="96" y="619"/>
                </a:cubicBezTo>
                <a:cubicBezTo>
                  <a:pt x="73" y="638"/>
                  <a:pt x="58" y="666"/>
                  <a:pt x="53" y="697"/>
                </a:cubicBezTo>
                <a:close/>
                <a:moveTo>
                  <a:pt x="1105" y="634"/>
                </a:moveTo>
                <a:cubicBezTo>
                  <a:pt x="1105" y="682"/>
                  <a:pt x="1105" y="682"/>
                  <a:pt x="1105" y="682"/>
                </a:cubicBezTo>
                <a:cubicBezTo>
                  <a:pt x="1105" y="690"/>
                  <a:pt x="1098" y="697"/>
                  <a:pt x="1089" y="697"/>
                </a:cubicBezTo>
                <a:cubicBezTo>
                  <a:pt x="963" y="697"/>
                  <a:pt x="963" y="697"/>
                  <a:pt x="963" y="697"/>
                </a:cubicBezTo>
                <a:cubicBezTo>
                  <a:pt x="954" y="635"/>
                  <a:pt x="901" y="588"/>
                  <a:pt x="837" y="588"/>
                </a:cubicBezTo>
                <a:cubicBezTo>
                  <a:pt x="773" y="588"/>
                  <a:pt x="720" y="635"/>
                  <a:pt x="711" y="697"/>
                </a:cubicBezTo>
                <a:cubicBezTo>
                  <a:pt x="306" y="697"/>
                  <a:pt x="306" y="697"/>
                  <a:pt x="306" y="697"/>
                </a:cubicBezTo>
                <a:cubicBezTo>
                  <a:pt x="301" y="666"/>
                  <a:pt x="286" y="638"/>
                  <a:pt x="263" y="619"/>
                </a:cubicBezTo>
                <a:cubicBezTo>
                  <a:pt x="351" y="619"/>
                  <a:pt x="351" y="619"/>
                  <a:pt x="351" y="619"/>
                </a:cubicBezTo>
                <a:cubicBezTo>
                  <a:pt x="274" y="174"/>
                  <a:pt x="274" y="174"/>
                  <a:pt x="274" y="174"/>
                </a:cubicBezTo>
                <a:cubicBezTo>
                  <a:pt x="267" y="176"/>
                  <a:pt x="259" y="177"/>
                  <a:pt x="252" y="177"/>
                </a:cubicBezTo>
                <a:cubicBezTo>
                  <a:pt x="233" y="177"/>
                  <a:pt x="216" y="172"/>
                  <a:pt x="202" y="162"/>
                </a:cubicBezTo>
                <a:cubicBezTo>
                  <a:pt x="202" y="224"/>
                  <a:pt x="202" y="224"/>
                  <a:pt x="202" y="224"/>
                </a:cubicBezTo>
                <a:cubicBezTo>
                  <a:pt x="230" y="231"/>
                  <a:pt x="252" y="257"/>
                  <a:pt x="252" y="289"/>
                </a:cubicBezTo>
                <a:cubicBezTo>
                  <a:pt x="252" y="325"/>
                  <a:pt x="222" y="355"/>
                  <a:pt x="186" y="355"/>
                </a:cubicBezTo>
                <a:cubicBezTo>
                  <a:pt x="149" y="355"/>
                  <a:pt x="119" y="325"/>
                  <a:pt x="119" y="289"/>
                </a:cubicBezTo>
                <a:cubicBezTo>
                  <a:pt x="119" y="280"/>
                  <a:pt x="126" y="273"/>
                  <a:pt x="135" y="273"/>
                </a:cubicBezTo>
                <a:cubicBezTo>
                  <a:pt x="144" y="273"/>
                  <a:pt x="151" y="280"/>
                  <a:pt x="151" y="289"/>
                </a:cubicBezTo>
                <a:cubicBezTo>
                  <a:pt x="151" y="308"/>
                  <a:pt x="167" y="323"/>
                  <a:pt x="186" y="323"/>
                </a:cubicBezTo>
                <a:cubicBezTo>
                  <a:pt x="205" y="323"/>
                  <a:pt x="220" y="308"/>
                  <a:pt x="220" y="289"/>
                </a:cubicBezTo>
                <a:cubicBezTo>
                  <a:pt x="220" y="270"/>
                  <a:pt x="205" y="254"/>
                  <a:pt x="186" y="254"/>
                </a:cubicBezTo>
                <a:cubicBezTo>
                  <a:pt x="177" y="254"/>
                  <a:pt x="170" y="247"/>
                  <a:pt x="170" y="238"/>
                </a:cubicBezTo>
                <a:cubicBezTo>
                  <a:pt x="170" y="123"/>
                  <a:pt x="170" y="123"/>
                  <a:pt x="170" y="123"/>
                </a:cubicBezTo>
                <a:cubicBezTo>
                  <a:pt x="165" y="112"/>
                  <a:pt x="163" y="101"/>
                  <a:pt x="163" y="89"/>
                </a:cubicBezTo>
                <a:cubicBezTo>
                  <a:pt x="163" y="40"/>
                  <a:pt x="203" y="0"/>
                  <a:pt x="252" y="0"/>
                </a:cubicBezTo>
                <a:cubicBezTo>
                  <a:pt x="301" y="0"/>
                  <a:pt x="340" y="40"/>
                  <a:pt x="340" y="89"/>
                </a:cubicBezTo>
                <a:cubicBezTo>
                  <a:pt x="340" y="101"/>
                  <a:pt x="338" y="113"/>
                  <a:pt x="333" y="124"/>
                </a:cubicBezTo>
                <a:cubicBezTo>
                  <a:pt x="655" y="609"/>
                  <a:pt x="655" y="609"/>
                  <a:pt x="655" y="609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57"/>
                  <a:pt x="668" y="143"/>
                  <a:pt x="686" y="143"/>
                </a:cubicBezTo>
                <a:cubicBezTo>
                  <a:pt x="832" y="143"/>
                  <a:pt x="832" y="143"/>
                  <a:pt x="832" y="143"/>
                </a:cubicBezTo>
                <a:cubicBezTo>
                  <a:pt x="874" y="143"/>
                  <a:pt x="912" y="164"/>
                  <a:pt x="935" y="198"/>
                </a:cubicBezTo>
                <a:cubicBezTo>
                  <a:pt x="1030" y="338"/>
                  <a:pt x="1030" y="338"/>
                  <a:pt x="1030" y="338"/>
                </a:cubicBezTo>
                <a:cubicBezTo>
                  <a:pt x="1044" y="359"/>
                  <a:pt x="1051" y="383"/>
                  <a:pt x="1051" y="408"/>
                </a:cubicBezTo>
                <a:cubicBezTo>
                  <a:pt x="1051" y="619"/>
                  <a:pt x="1051" y="619"/>
                  <a:pt x="1051" y="619"/>
                </a:cubicBezTo>
                <a:cubicBezTo>
                  <a:pt x="1089" y="619"/>
                  <a:pt x="1089" y="619"/>
                  <a:pt x="1089" y="619"/>
                </a:cubicBezTo>
                <a:cubicBezTo>
                  <a:pt x="1098" y="619"/>
                  <a:pt x="1105" y="626"/>
                  <a:pt x="1105" y="634"/>
                </a:cubicBezTo>
                <a:close/>
                <a:moveTo>
                  <a:pt x="296" y="89"/>
                </a:moveTo>
                <a:cubicBezTo>
                  <a:pt x="296" y="64"/>
                  <a:pt x="276" y="44"/>
                  <a:pt x="252" y="44"/>
                </a:cubicBezTo>
                <a:cubicBezTo>
                  <a:pt x="227" y="44"/>
                  <a:pt x="207" y="64"/>
                  <a:pt x="207" y="89"/>
                </a:cubicBezTo>
                <a:cubicBezTo>
                  <a:pt x="207" y="113"/>
                  <a:pt x="227" y="133"/>
                  <a:pt x="252" y="133"/>
                </a:cubicBezTo>
                <a:cubicBezTo>
                  <a:pt x="276" y="133"/>
                  <a:pt x="296" y="113"/>
                  <a:pt x="296" y="89"/>
                </a:cubicBezTo>
                <a:close/>
                <a:moveTo>
                  <a:pt x="414" y="619"/>
                </a:moveTo>
                <a:cubicBezTo>
                  <a:pt x="586" y="619"/>
                  <a:pt x="586" y="619"/>
                  <a:pt x="586" y="619"/>
                </a:cubicBezTo>
                <a:cubicBezTo>
                  <a:pt x="353" y="267"/>
                  <a:pt x="353" y="267"/>
                  <a:pt x="353" y="267"/>
                </a:cubicBezTo>
                <a:lnTo>
                  <a:pt x="414" y="619"/>
                </a:lnTo>
                <a:close/>
                <a:moveTo>
                  <a:pt x="947" y="342"/>
                </a:moveTo>
                <a:cubicBezTo>
                  <a:pt x="871" y="234"/>
                  <a:pt x="871" y="234"/>
                  <a:pt x="871" y="234"/>
                </a:cubicBezTo>
                <a:cubicBezTo>
                  <a:pt x="868" y="230"/>
                  <a:pt x="864" y="228"/>
                  <a:pt x="859" y="228"/>
                </a:cubicBezTo>
                <a:cubicBezTo>
                  <a:pt x="741" y="228"/>
                  <a:pt x="741" y="228"/>
                  <a:pt x="741" y="228"/>
                </a:cubicBezTo>
                <a:cubicBezTo>
                  <a:pt x="732" y="228"/>
                  <a:pt x="725" y="235"/>
                  <a:pt x="725" y="243"/>
                </a:cubicBezTo>
                <a:cubicBezTo>
                  <a:pt x="725" y="351"/>
                  <a:pt x="725" y="351"/>
                  <a:pt x="725" y="351"/>
                </a:cubicBezTo>
                <a:cubicBezTo>
                  <a:pt x="725" y="359"/>
                  <a:pt x="732" y="366"/>
                  <a:pt x="741" y="366"/>
                </a:cubicBezTo>
                <a:cubicBezTo>
                  <a:pt x="934" y="366"/>
                  <a:pt x="934" y="366"/>
                  <a:pt x="934" y="366"/>
                </a:cubicBezTo>
                <a:cubicBezTo>
                  <a:pt x="947" y="366"/>
                  <a:pt x="954" y="352"/>
                  <a:pt x="947" y="342"/>
                </a:cubicBezTo>
                <a:close/>
                <a:moveTo>
                  <a:pt x="934" y="716"/>
                </a:moveTo>
                <a:cubicBezTo>
                  <a:pt x="934" y="769"/>
                  <a:pt x="890" y="812"/>
                  <a:pt x="837" y="812"/>
                </a:cubicBezTo>
                <a:cubicBezTo>
                  <a:pt x="784" y="812"/>
                  <a:pt x="740" y="769"/>
                  <a:pt x="740" y="716"/>
                </a:cubicBezTo>
                <a:cubicBezTo>
                  <a:pt x="740" y="662"/>
                  <a:pt x="784" y="619"/>
                  <a:pt x="837" y="619"/>
                </a:cubicBezTo>
                <a:cubicBezTo>
                  <a:pt x="890" y="619"/>
                  <a:pt x="934" y="662"/>
                  <a:pt x="934" y="716"/>
                </a:cubicBezTo>
                <a:close/>
                <a:moveTo>
                  <a:pt x="885" y="716"/>
                </a:moveTo>
                <a:cubicBezTo>
                  <a:pt x="885" y="689"/>
                  <a:pt x="864" y="667"/>
                  <a:pt x="837" y="667"/>
                </a:cubicBezTo>
                <a:cubicBezTo>
                  <a:pt x="810" y="667"/>
                  <a:pt x="789" y="689"/>
                  <a:pt x="789" y="716"/>
                </a:cubicBezTo>
                <a:cubicBezTo>
                  <a:pt x="789" y="742"/>
                  <a:pt x="810" y="764"/>
                  <a:pt x="837" y="764"/>
                </a:cubicBezTo>
                <a:cubicBezTo>
                  <a:pt x="864" y="764"/>
                  <a:pt x="885" y="742"/>
                  <a:pt x="885" y="716"/>
                </a:cubicBezTo>
                <a:close/>
                <a:moveTo>
                  <a:pt x="276" y="716"/>
                </a:moveTo>
                <a:cubicBezTo>
                  <a:pt x="276" y="769"/>
                  <a:pt x="233" y="812"/>
                  <a:pt x="180" y="812"/>
                </a:cubicBezTo>
                <a:cubicBezTo>
                  <a:pt x="126" y="812"/>
                  <a:pt x="83" y="769"/>
                  <a:pt x="83" y="716"/>
                </a:cubicBezTo>
                <a:cubicBezTo>
                  <a:pt x="83" y="662"/>
                  <a:pt x="126" y="619"/>
                  <a:pt x="180" y="619"/>
                </a:cubicBezTo>
                <a:cubicBezTo>
                  <a:pt x="233" y="619"/>
                  <a:pt x="276" y="662"/>
                  <a:pt x="276" y="716"/>
                </a:cubicBezTo>
                <a:close/>
                <a:moveTo>
                  <a:pt x="228" y="716"/>
                </a:moveTo>
                <a:cubicBezTo>
                  <a:pt x="228" y="689"/>
                  <a:pt x="206" y="667"/>
                  <a:pt x="180" y="667"/>
                </a:cubicBezTo>
                <a:cubicBezTo>
                  <a:pt x="153" y="667"/>
                  <a:pt x="131" y="689"/>
                  <a:pt x="131" y="716"/>
                </a:cubicBezTo>
                <a:cubicBezTo>
                  <a:pt x="131" y="742"/>
                  <a:pt x="153" y="764"/>
                  <a:pt x="180" y="764"/>
                </a:cubicBezTo>
                <a:cubicBezTo>
                  <a:pt x="206" y="764"/>
                  <a:pt x="228" y="742"/>
                  <a:pt x="228" y="716"/>
                </a:cubicBezTo>
                <a:close/>
                <a:moveTo>
                  <a:pt x="228" y="716"/>
                </a:moveTo>
                <a:cubicBezTo>
                  <a:pt x="228" y="716"/>
                  <a:pt x="228" y="716"/>
                  <a:pt x="228" y="71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3" name="Freeform 15"/>
          <p:cNvSpPr/>
          <p:nvPr/>
        </p:nvSpPr>
        <p:spPr>
          <a:xfrm>
            <a:off x="7178760" y="4386240"/>
            <a:ext cx="565200" cy="372960"/>
          </a:xfrm>
          <a:custGeom>
            <a:avLst/>
            <a:gdLst/>
            <a:ahLst/>
            <a:rect l="l" t="t" r="r" b="b"/>
            <a:pathLst>
              <a:path w="1105" h="729">
                <a:moveTo>
                  <a:pt x="272" y="521"/>
                </a:moveTo>
                <a:cubicBezTo>
                  <a:pt x="215" y="521"/>
                  <a:pt x="168" y="568"/>
                  <a:pt x="168" y="625"/>
                </a:cubicBezTo>
                <a:cubicBezTo>
                  <a:pt x="168" y="683"/>
                  <a:pt x="215" y="729"/>
                  <a:pt x="272" y="729"/>
                </a:cubicBezTo>
                <a:cubicBezTo>
                  <a:pt x="330" y="729"/>
                  <a:pt x="376" y="683"/>
                  <a:pt x="376" y="625"/>
                </a:cubicBezTo>
                <a:cubicBezTo>
                  <a:pt x="376" y="568"/>
                  <a:pt x="330" y="521"/>
                  <a:pt x="272" y="521"/>
                </a:cubicBezTo>
                <a:close/>
                <a:moveTo>
                  <a:pt x="272" y="677"/>
                </a:moveTo>
                <a:cubicBezTo>
                  <a:pt x="243" y="677"/>
                  <a:pt x="220" y="654"/>
                  <a:pt x="220" y="625"/>
                </a:cubicBezTo>
                <a:cubicBezTo>
                  <a:pt x="220" y="596"/>
                  <a:pt x="243" y="573"/>
                  <a:pt x="272" y="573"/>
                </a:cubicBezTo>
                <a:cubicBezTo>
                  <a:pt x="301" y="573"/>
                  <a:pt x="324" y="596"/>
                  <a:pt x="324" y="625"/>
                </a:cubicBezTo>
                <a:cubicBezTo>
                  <a:pt x="324" y="654"/>
                  <a:pt x="301" y="677"/>
                  <a:pt x="272" y="677"/>
                </a:cubicBezTo>
                <a:close/>
                <a:moveTo>
                  <a:pt x="817" y="521"/>
                </a:moveTo>
                <a:cubicBezTo>
                  <a:pt x="760" y="521"/>
                  <a:pt x="713" y="568"/>
                  <a:pt x="713" y="625"/>
                </a:cubicBezTo>
                <a:cubicBezTo>
                  <a:pt x="713" y="683"/>
                  <a:pt x="760" y="729"/>
                  <a:pt x="817" y="729"/>
                </a:cubicBezTo>
                <a:cubicBezTo>
                  <a:pt x="875" y="729"/>
                  <a:pt x="921" y="683"/>
                  <a:pt x="921" y="625"/>
                </a:cubicBezTo>
                <a:cubicBezTo>
                  <a:pt x="921" y="568"/>
                  <a:pt x="875" y="521"/>
                  <a:pt x="817" y="521"/>
                </a:cubicBezTo>
                <a:close/>
                <a:moveTo>
                  <a:pt x="817" y="677"/>
                </a:moveTo>
                <a:cubicBezTo>
                  <a:pt x="788" y="677"/>
                  <a:pt x="765" y="654"/>
                  <a:pt x="765" y="625"/>
                </a:cubicBezTo>
                <a:cubicBezTo>
                  <a:pt x="765" y="596"/>
                  <a:pt x="788" y="573"/>
                  <a:pt x="817" y="573"/>
                </a:cubicBezTo>
                <a:cubicBezTo>
                  <a:pt x="846" y="573"/>
                  <a:pt x="869" y="596"/>
                  <a:pt x="869" y="625"/>
                </a:cubicBezTo>
                <a:cubicBezTo>
                  <a:pt x="869" y="654"/>
                  <a:pt x="846" y="677"/>
                  <a:pt x="817" y="677"/>
                </a:cubicBezTo>
                <a:close/>
                <a:moveTo>
                  <a:pt x="1088" y="483"/>
                </a:moveTo>
                <a:cubicBezTo>
                  <a:pt x="1071" y="483"/>
                  <a:pt x="1071" y="483"/>
                  <a:pt x="1071" y="483"/>
                </a:cubicBezTo>
                <a:cubicBezTo>
                  <a:pt x="1071" y="326"/>
                  <a:pt x="1071" y="326"/>
                  <a:pt x="1071" y="326"/>
                </a:cubicBezTo>
                <a:cubicBezTo>
                  <a:pt x="1071" y="308"/>
                  <a:pt x="1057" y="293"/>
                  <a:pt x="1039" y="291"/>
                </a:cubicBezTo>
                <a:cubicBezTo>
                  <a:pt x="974" y="287"/>
                  <a:pt x="974" y="287"/>
                  <a:pt x="974" y="287"/>
                </a:cubicBezTo>
                <a:cubicBezTo>
                  <a:pt x="954" y="286"/>
                  <a:pt x="935" y="274"/>
                  <a:pt x="925" y="257"/>
                </a:cubicBezTo>
                <a:cubicBezTo>
                  <a:pt x="876" y="147"/>
                  <a:pt x="876" y="147"/>
                  <a:pt x="876" y="147"/>
                </a:cubicBezTo>
                <a:cubicBezTo>
                  <a:pt x="833" y="43"/>
                  <a:pt x="773" y="0"/>
                  <a:pt x="713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35" y="0"/>
                  <a:pt x="0" y="35"/>
                  <a:pt x="0" y="78"/>
                </a:cubicBezTo>
                <a:cubicBezTo>
                  <a:pt x="0" y="544"/>
                  <a:pt x="0" y="544"/>
                  <a:pt x="0" y="544"/>
                </a:cubicBezTo>
                <a:cubicBezTo>
                  <a:pt x="0" y="587"/>
                  <a:pt x="35" y="622"/>
                  <a:pt x="78" y="622"/>
                </a:cubicBezTo>
                <a:cubicBezTo>
                  <a:pt x="135" y="622"/>
                  <a:pt x="135" y="622"/>
                  <a:pt x="135" y="622"/>
                </a:cubicBezTo>
                <a:cubicBezTo>
                  <a:pt x="137" y="547"/>
                  <a:pt x="197" y="488"/>
                  <a:pt x="272" y="488"/>
                </a:cubicBezTo>
                <a:cubicBezTo>
                  <a:pt x="347" y="488"/>
                  <a:pt x="408" y="547"/>
                  <a:pt x="410" y="622"/>
                </a:cubicBezTo>
                <a:cubicBezTo>
                  <a:pt x="680" y="622"/>
                  <a:pt x="680" y="622"/>
                  <a:pt x="680" y="622"/>
                </a:cubicBezTo>
                <a:cubicBezTo>
                  <a:pt x="682" y="547"/>
                  <a:pt x="742" y="488"/>
                  <a:pt x="817" y="488"/>
                </a:cubicBezTo>
                <a:cubicBezTo>
                  <a:pt x="892" y="488"/>
                  <a:pt x="953" y="547"/>
                  <a:pt x="955" y="622"/>
                </a:cubicBezTo>
                <a:cubicBezTo>
                  <a:pt x="1088" y="622"/>
                  <a:pt x="1088" y="622"/>
                  <a:pt x="1088" y="622"/>
                </a:cubicBezTo>
                <a:cubicBezTo>
                  <a:pt x="1098" y="622"/>
                  <a:pt x="1105" y="614"/>
                  <a:pt x="1105" y="604"/>
                </a:cubicBezTo>
                <a:cubicBezTo>
                  <a:pt x="1105" y="501"/>
                  <a:pt x="1105" y="501"/>
                  <a:pt x="1105" y="501"/>
                </a:cubicBezTo>
                <a:cubicBezTo>
                  <a:pt x="1105" y="491"/>
                  <a:pt x="1098" y="483"/>
                  <a:pt x="1088" y="483"/>
                </a:cubicBezTo>
                <a:close/>
                <a:moveTo>
                  <a:pt x="812" y="277"/>
                </a:moveTo>
                <a:cubicBezTo>
                  <a:pt x="625" y="277"/>
                  <a:pt x="625" y="277"/>
                  <a:pt x="625" y="277"/>
                </a:cubicBezTo>
                <a:cubicBezTo>
                  <a:pt x="616" y="277"/>
                  <a:pt x="609" y="270"/>
                  <a:pt x="609" y="261"/>
                </a:cubicBezTo>
                <a:cubicBezTo>
                  <a:pt x="609" y="110"/>
                  <a:pt x="609" y="110"/>
                  <a:pt x="609" y="110"/>
                </a:cubicBezTo>
                <a:cubicBezTo>
                  <a:pt x="609" y="101"/>
                  <a:pt x="616" y="93"/>
                  <a:pt x="625" y="93"/>
                </a:cubicBezTo>
                <a:cubicBezTo>
                  <a:pt x="724" y="93"/>
                  <a:pt x="724" y="93"/>
                  <a:pt x="724" y="93"/>
                </a:cubicBezTo>
                <a:cubicBezTo>
                  <a:pt x="736" y="93"/>
                  <a:pt x="748" y="100"/>
                  <a:pt x="753" y="111"/>
                </a:cubicBezTo>
                <a:cubicBezTo>
                  <a:pt x="827" y="253"/>
                  <a:pt x="827" y="253"/>
                  <a:pt x="827" y="253"/>
                </a:cubicBezTo>
                <a:cubicBezTo>
                  <a:pt x="833" y="264"/>
                  <a:pt x="825" y="277"/>
                  <a:pt x="812" y="277"/>
                </a:cubicBezTo>
                <a:close/>
                <a:moveTo>
                  <a:pt x="812" y="277"/>
                </a:moveTo>
                <a:cubicBezTo>
                  <a:pt x="812" y="277"/>
                  <a:pt x="812" y="277"/>
                  <a:pt x="812" y="27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4" name="Details 1"/>
          <p:cNvSpPr/>
          <p:nvPr/>
        </p:nvSpPr>
        <p:spPr>
          <a:xfrm>
            <a:off x="8358120" y="1987560"/>
            <a:ext cx="26971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Great Paragraph line is a sample Lorem ipsum dolor sit amet. Consectetur adipiscing eliteiusmod temp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5" name="Details 1"/>
          <p:cNvSpPr/>
          <p:nvPr/>
        </p:nvSpPr>
        <p:spPr>
          <a:xfrm>
            <a:off x="1347840" y="2023920"/>
            <a:ext cx="2448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Great Paragraph line is a sample Lorem ipsum dolor sit amet. Consectetur adipiscing eliteiusmod temp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6" name="Details 1"/>
          <p:cNvSpPr/>
          <p:nvPr/>
        </p:nvSpPr>
        <p:spPr>
          <a:xfrm>
            <a:off x="8358120" y="5062680"/>
            <a:ext cx="26971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Great Paragraph line is a sample Lorem ipsum dolor sit amet. Consectetur adipiscing eliteiusmod temp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7" name="Details 1"/>
          <p:cNvSpPr/>
          <p:nvPr/>
        </p:nvSpPr>
        <p:spPr>
          <a:xfrm>
            <a:off x="1347840" y="5062680"/>
            <a:ext cx="2448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Great Paragraph line is a sample Lorem ipsum dolor sit amet. Consectetur adipiscing eliteiusmod temp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Poppins"/>
              </a:rPr>
              <a:t>HOUSE PUZZLE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49" name="Freeform 5"/>
          <p:cNvSpPr/>
          <p:nvPr/>
        </p:nvSpPr>
        <p:spPr>
          <a:xfrm>
            <a:off x="679320" y="1436760"/>
            <a:ext cx="5069160" cy="1957320"/>
          </a:xfrm>
          <a:custGeom>
            <a:avLst/>
            <a:gdLst/>
            <a:ahLst/>
            <a:rect l="l" t="t" r="r" b="b"/>
            <a:pathLst>
              <a:path w="1952" h="754">
                <a:moveTo>
                  <a:pt x="1924" y="694"/>
                </a:moveTo>
                <a:cubicBezTo>
                  <a:pt x="1905" y="724"/>
                  <a:pt x="1873" y="740"/>
                  <a:pt x="1841" y="740"/>
                </a:cubicBezTo>
                <a:cubicBezTo>
                  <a:pt x="1823" y="740"/>
                  <a:pt x="1805" y="736"/>
                  <a:pt x="1789" y="726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163" y="726"/>
                  <a:pt x="163" y="726"/>
                  <a:pt x="163" y="726"/>
                </a:cubicBezTo>
                <a:cubicBezTo>
                  <a:pt x="118" y="754"/>
                  <a:pt x="57" y="740"/>
                  <a:pt x="29" y="694"/>
                </a:cubicBezTo>
                <a:cubicBezTo>
                  <a:pt x="0" y="649"/>
                  <a:pt x="14" y="588"/>
                  <a:pt x="60" y="560"/>
                </a:cubicBezTo>
                <a:cubicBezTo>
                  <a:pt x="925" y="20"/>
                  <a:pt x="925" y="20"/>
                  <a:pt x="925" y="20"/>
                </a:cubicBezTo>
                <a:cubicBezTo>
                  <a:pt x="956" y="0"/>
                  <a:pt x="996" y="0"/>
                  <a:pt x="1028" y="20"/>
                </a:cubicBezTo>
                <a:cubicBezTo>
                  <a:pt x="1893" y="560"/>
                  <a:pt x="1893" y="560"/>
                  <a:pt x="1893" y="560"/>
                </a:cubicBezTo>
                <a:cubicBezTo>
                  <a:pt x="1938" y="588"/>
                  <a:pt x="1952" y="649"/>
                  <a:pt x="1924" y="694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0" name="Freeform 6"/>
          <p:cNvSpPr/>
          <p:nvPr/>
        </p:nvSpPr>
        <p:spPr>
          <a:xfrm>
            <a:off x="2224080" y="3259080"/>
            <a:ext cx="1968480" cy="2006640"/>
          </a:xfrm>
          <a:custGeom>
            <a:avLst/>
            <a:gdLst/>
            <a:ahLst/>
            <a:rect l="l" t="t" r="r" b="b"/>
            <a:pathLst>
              <a:path w="758" h="773">
                <a:moveTo>
                  <a:pt x="441" y="53"/>
                </a:moveTo>
                <a:cubicBezTo>
                  <a:pt x="441" y="69"/>
                  <a:pt x="426" y="99"/>
                  <a:pt x="426" y="99"/>
                </a:cubicBezTo>
                <a:cubicBezTo>
                  <a:pt x="418" y="117"/>
                  <a:pt x="431" y="132"/>
                  <a:pt x="452" y="133"/>
                </a:cubicBezTo>
                <a:cubicBezTo>
                  <a:pt x="455" y="133"/>
                  <a:pt x="455" y="133"/>
                  <a:pt x="455" y="133"/>
                </a:cubicBezTo>
                <a:cubicBezTo>
                  <a:pt x="624" y="133"/>
                  <a:pt x="624" y="133"/>
                  <a:pt x="624" y="133"/>
                </a:cubicBezTo>
                <a:cubicBezTo>
                  <a:pt x="624" y="173"/>
                  <a:pt x="624" y="173"/>
                  <a:pt x="624" y="173"/>
                </a:cubicBezTo>
                <a:cubicBezTo>
                  <a:pt x="624" y="173"/>
                  <a:pt x="624" y="173"/>
                  <a:pt x="624" y="173"/>
                </a:cubicBezTo>
                <a:cubicBezTo>
                  <a:pt x="624" y="323"/>
                  <a:pt x="624" y="323"/>
                  <a:pt x="624" y="323"/>
                </a:cubicBezTo>
                <a:cubicBezTo>
                  <a:pt x="624" y="325"/>
                  <a:pt x="624" y="327"/>
                  <a:pt x="624" y="328"/>
                </a:cubicBezTo>
                <a:cubicBezTo>
                  <a:pt x="624" y="327"/>
                  <a:pt x="624" y="327"/>
                  <a:pt x="624" y="326"/>
                </a:cubicBezTo>
                <a:cubicBezTo>
                  <a:pt x="625" y="347"/>
                  <a:pt x="640" y="360"/>
                  <a:pt x="658" y="351"/>
                </a:cubicBezTo>
                <a:cubicBezTo>
                  <a:pt x="658" y="351"/>
                  <a:pt x="689" y="332"/>
                  <a:pt x="704" y="332"/>
                </a:cubicBezTo>
                <a:cubicBezTo>
                  <a:pt x="734" y="332"/>
                  <a:pt x="758" y="359"/>
                  <a:pt x="758" y="392"/>
                </a:cubicBezTo>
                <a:cubicBezTo>
                  <a:pt x="758" y="426"/>
                  <a:pt x="734" y="452"/>
                  <a:pt x="704" y="452"/>
                </a:cubicBezTo>
                <a:cubicBezTo>
                  <a:pt x="689" y="452"/>
                  <a:pt x="658" y="437"/>
                  <a:pt x="658" y="437"/>
                </a:cubicBezTo>
                <a:cubicBezTo>
                  <a:pt x="640" y="429"/>
                  <a:pt x="625" y="438"/>
                  <a:pt x="624" y="459"/>
                </a:cubicBezTo>
                <a:cubicBezTo>
                  <a:pt x="624" y="463"/>
                  <a:pt x="624" y="463"/>
                  <a:pt x="624" y="463"/>
                </a:cubicBezTo>
                <a:cubicBezTo>
                  <a:pt x="624" y="524"/>
                  <a:pt x="624" y="524"/>
                  <a:pt x="624" y="524"/>
                </a:cubicBezTo>
                <a:cubicBezTo>
                  <a:pt x="624" y="524"/>
                  <a:pt x="624" y="524"/>
                  <a:pt x="624" y="524"/>
                </a:cubicBezTo>
                <a:cubicBezTo>
                  <a:pt x="624" y="632"/>
                  <a:pt x="624" y="632"/>
                  <a:pt x="624" y="632"/>
                </a:cubicBezTo>
                <a:cubicBezTo>
                  <a:pt x="455" y="632"/>
                  <a:pt x="455" y="632"/>
                  <a:pt x="455" y="632"/>
                </a:cubicBezTo>
                <a:cubicBezTo>
                  <a:pt x="452" y="632"/>
                  <a:pt x="452" y="632"/>
                  <a:pt x="452" y="632"/>
                </a:cubicBezTo>
                <a:cubicBezTo>
                  <a:pt x="431" y="633"/>
                  <a:pt x="418" y="648"/>
                  <a:pt x="426" y="666"/>
                </a:cubicBezTo>
                <a:cubicBezTo>
                  <a:pt x="426" y="666"/>
                  <a:pt x="445" y="700"/>
                  <a:pt x="445" y="715"/>
                </a:cubicBezTo>
                <a:cubicBezTo>
                  <a:pt x="445" y="745"/>
                  <a:pt x="418" y="773"/>
                  <a:pt x="385" y="773"/>
                </a:cubicBezTo>
                <a:cubicBezTo>
                  <a:pt x="352" y="773"/>
                  <a:pt x="325" y="745"/>
                  <a:pt x="325" y="715"/>
                </a:cubicBezTo>
                <a:cubicBezTo>
                  <a:pt x="325" y="700"/>
                  <a:pt x="344" y="666"/>
                  <a:pt x="344" y="666"/>
                </a:cubicBezTo>
                <a:cubicBezTo>
                  <a:pt x="353" y="648"/>
                  <a:pt x="339" y="633"/>
                  <a:pt x="318" y="632"/>
                </a:cubicBezTo>
                <a:cubicBezTo>
                  <a:pt x="319" y="632"/>
                  <a:pt x="320" y="632"/>
                  <a:pt x="320" y="632"/>
                </a:cubicBezTo>
                <a:cubicBezTo>
                  <a:pt x="320" y="632"/>
                  <a:pt x="318" y="632"/>
                  <a:pt x="316" y="632"/>
                </a:cubicBezTo>
                <a:cubicBezTo>
                  <a:pt x="134" y="632"/>
                  <a:pt x="134" y="632"/>
                  <a:pt x="134" y="632"/>
                </a:cubicBezTo>
                <a:cubicBezTo>
                  <a:pt x="134" y="632"/>
                  <a:pt x="134" y="613"/>
                  <a:pt x="134" y="602"/>
                </a:cubicBezTo>
                <a:cubicBezTo>
                  <a:pt x="134" y="462"/>
                  <a:pt x="134" y="462"/>
                  <a:pt x="134" y="462"/>
                </a:cubicBezTo>
                <a:cubicBezTo>
                  <a:pt x="134" y="460"/>
                  <a:pt x="134" y="458"/>
                  <a:pt x="134" y="457"/>
                </a:cubicBezTo>
                <a:cubicBezTo>
                  <a:pt x="134" y="458"/>
                  <a:pt x="134" y="458"/>
                  <a:pt x="134" y="459"/>
                </a:cubicBezTo>
                <a:cubicBezTo>
                  <a:pt x="132" y="438"/>
                  <a:pt x="118" y="425"/>
                  <a:pt x="100" y="434"/>
                </a:cubicBezTo>
                <a:cubicBezTo>
                  <a:pt x="100" y="434"/>
                  <a:pt x="69" y="452"/>
                  <a:pt x="54" y="452"/>
                </a:cubicBezTo>
                <a:cubicBezTo>
                  <a:pt x="24" y="452"/>
                  <a:pt x="0" y="426"/>
                  <a:pt x="0" y="392"/>
                </a:cubicBezTo>
                <a:cubicBezTo>
                  <a:pt x="0" y="359"/>
                  <a:pt x="24" y="332"/>
                  <a:pt x="54" y="332"/>
                </a:cubicBezTo>
                <a:cubicBezTo>
                  <a:pt x="69" y="332"/>
                  <a:pt x="100" y="351"/>
                  <a:pt x="100" y="351"/>
                </a:cubicBezTo>
                <a:cubicBezTo>
                  <a:pt x="118" y="360"/>
                  <a:pt x="132" y="347"/>
                  <a:pt x="134" y="326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4" y="249"/>
                  <a:pt x="134" y="249"/>
                  <a:pt x="134" y="249"/>
                </a:cubicBezTo>
                <a:cubicBezTo>
                  <a:pt x="134" y="249"/>
                  <a:pt x="134" y="249"/>
                  <a:pt x="134" y="249"/>
                </a:cubicBezTo>
                <a:cubicBezTo>
                  <a:pt x="134" y="178"/>
                  <a:pt x="134" y="178"/>
                  <a:pt x="134" y="178"/>
                </a:cubicBezTo>
                <a:cubicBezTo>
                  <a:pt x="134" y="175"/>
                  <a:pt x="134" y="133"/>
                  <a:pt x="134" y="133"/>
                </a:cubicBezTo>
                <a:cubicBezTo>
                  <a:pt x="316" y="133"/>
                  <a:pt x="316" y="133"/>
                  <a:pt x="316" y="133"/>
                </a:cubicBezTo>
                <a:cubicBezTo>
                  <a:pt x="318" y="133"/>
                  <a:pt x="320" y="133"/>
                  <a:pt x="320" y="133"/>
                </a:cubicBezTo>
                <a:cubicBezTo>
                  <a:pt x="320" y="133"/>
                  <a:pt x="319" y="133"/>
                  <a:pt x="318" y="133"/>
                </a:cubicBezTo>
                <a:cubicBezTo>
                  <a:pt x="339" y="132"/>
                  <a:pt x="353" y="117"/>
                  <a:pt x="344" y="99"/>
                </a:cubicBezTo>
                <a:cubicBezTo>
                  <a:pt x="344" y="99"/>
                  <a:pt x="329" y="69"/>
                  <a:pt x="329" y="53"/>
                </a:cubicBezTo>
                <a:cubicBezTo>
                  <a:pt x="329" y="24"/>
                  <a:pt x="352" y="0"/>
                  <a:pt x="385" y="0"/>
                </a:cubicBezTo>
                <a:cubicBezTo>
                  <a:pt x="418" y="0"/>
                  <a:pt x="441" y="24"/>
                  <a:pt x="441" y="53"/>
                </a:cubicBez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1325520" y="2498760"/>
            <a:ext cx="1203480" cy="1414440"/>
          </a:xfrm>
          <a:custGeom>
            <a:avLst/>
            <a:gdLst/>
            <a:ahLst/>
            <a:rect l="l" t="t" r="r" b="b"/>
            <a:pathLst>
              <a:path w="463" h="545">
                <a:moveTo>
                  <a:pt x="463" y="379"/>
                </a:moveTo>
                <a:cubicBezTo>
                  <a:pt x="463" y="237"/>
                  <a:pt x="463" y="237"/>
                  <a:pt x="463" y="237"/>
                </a:cubicBezTo>
                <a:cubicBezTo>
                  <a:pt x="463" y="235"/>
                  <a:pt x="463" y="233"/>
                  <a:pt x="463" y="233"/>
                </a:cubicBezTo>
                <a:cubicBezTo>
                  <a:pt x="462" y="226"/>
                  <a:pt x="459" y="222"/>
                  <a:pt x="456" y="220"/>
                </a:cubicBezTo>
                <a:cubicBezTo>
                  <a:pt x="451" y="217"/>
                  <a:pt x="445" y="219"/>
                  <a:pt x="442" y="221"/>
                </a:cubicBezTo>
                <a:cubicBezTo>
                  <a:pt x="438" y="222"/>
                  <a:pt x="409" y="237"/>
                  <a:pt x="392" y="237"/>
                </a:cubicBezTo>
                <a:cubicBezTo>
                  <a:pt x="357" y="237"/>
                  <a:pt x="329" y="206"/>
                  <a:pt x="329" y="168"/>
                </a:cubicBezTo>
                <a:cubicBezTo>
                  <a:pt x="329" y="130"/>
                  <a:pt x="357" y="99"/>
                  <a:pt x="392" y="99"/>
                </a:cubicBezTo>
                <a:cubicBezTo>
                  <a:pt x="409" y="99"/>
                  <a:pt x="438" y="113"/>
                  <a:pt x="442" y="115"/>
                </a:cubicBezTo>
                <a:cubicBezTo>
                  <a:pt x="447" y="117"/>
                  <a:pt x="452" y="118"/>
                  <a:pt x="456" y="116"/>
                </a:cubicBezTo>
                <a:cubicBezTo>
                  <a:pt x="460" y="114"/>
                  <a:pt x="462" y="109"/>
                  <a:pt x="463" y="102"/>
                </a:cubicBezTo>
                <a:cubicBezTo>
                  <a:pt x="463" y="102"/>
                  <a:pt x="463" y="101"/>
                  <a:pt x="463" y="101"/>
                </a:cubicBezTo>
                <a:cubicBezTo>
                  <a:pt x="463" y="97"/>
                  <a:pt x="463" y="97"/>
                  <a:pt x="463" y="97"/>
                </a:cubicBezTo>
                <a:cubicBezTo>
                  <a:pt x="463" y="0"/>
                  <a:pt x="463" y="0"/>
                  <a:pt x="463" y="0"/>
                </a:cubicBezTo>
                <a:cubicBezTo>
                  <a:pt x="49" y="258"/>
                  <a:pt x="49" y="258"/>
                  <a:pt x="49" y="258"/>
                </a:cubicBezTo>
                <a:cubicBezTo>
                  <a:pt x="18" y="277"/>
                  <a:pt x="0" y="311"/>
                  <a:pt x="0" y="347"/>
                </a:cubicBezTo>
                <a:cubicBezTo>
                  <a:pt x="0" y="411"/>
                  <a:pt x="0" y="411"/>
                  <a:pt x="0" y="411"/>
                </a:cubicBezTo>
                <a:cubicBezTo>
                  <a:pt x="5" y="411"/>
                  <a:pt x="11" y="411"/>
                  <a:pt x="14" y="411"/>
                </a:cubicBezTo>
                <a:cubicBezTo>
                  <a:pt x="23" y="411"/>
                  <a:pt x="31" y="411"/>
                  <a:pt x="40" y="411"/>
                </a:cubicBezTo>
                <a:cubicBezTo>
                  <a:pt x="50" y="411"/>
                  <a:pt x="60" y="411"/>
                  <a:pt x="70" y="411"/>
                </a:cubicBezTo>
                <a:cubicBezTo>
                  <a:pt x="81" y="411"/>
                  <a:pt x="91" y="411"/>
                  <a:pt x="101" y="411"/>
                </a:cubicBezTo>
                <a:cubicBezTo>
                  <a:pt x="110" y="411"/>
                  <a:pt x="120" y="411"/>
                  <a:pt x="129" y="411"/>
                </a:cubicBezTo>
                <a:cubicBezTo>
                  <a:pt x="136" y="411"/>
                  <a:pt x="143" y="411"/>
                  <a:pt x="150" y="411"/>
                </a:cubicBezTo>
                <a:cubicBezTo>
                  <a:pt x="154" y="411"/>
                  <a:pt x="158" y="411"/>
                  <a:pt x="162" y="411"/>
                </a:cubicBezTo>
                <a:cubicBezTo>
                  <a:pt x="167" y="411"/>
                  <a:pt x="171" y="411"/>
                  <a:pt x="175" y="412"/>
                </a:cubicBezTo>
                <a:cubicBezTo>
                  <a:pt x="181" y="414"/>
                  <a:pt x="187" y="417"/>
                  <a:pt x="191" y="422"/>
                </a:cubicBezTo>
                <a:cubicBezTo>
                  <a:pt x="196" y="427"/>
                  <a:pt x="199" y="434"/>
                  <a:pt x="199" y="441"/>
                </a:cubicBezTo>
                <a:cubicBezTo>
                  <a:pt x="199" y="446"/>
                  <a:pt x="197" y="452"/>
                  <a:pt x="195" y="457"/>
                </a:cubicBezTo>
                <a:cubicBezTo>
                  <a:pt x="189" y="469"/>
                  <a:pt x="181" y="490"/>
                  <a:pt x="181" y="500"/>
                </a:cubicBezTo>
                <a:cubicBezTo>
                  <a:pt x="181" y="525"/>
                  <a:pt x="204" y="545"/>
                  <a:pt x="232" y="545"/>
                </a:cubicBezTo>
                <a:cubicBezTo>
                  <a:pt x="260" y="545"/>
                  <a:pt x="283" y="525"/>
                  <a:pt x="283" y="500"/>
                </a:cubicBezTo>
                <a:cubicBezTo>
                  <a:pt x="283" y="490"/>
                  <a:pt x="275" y="469"/>
                  <a:pt x="269" y="457"/>
                </a:cubicBezTo>
                <a:cubicBezTo>
                  <a:pt x="266" y="452"/>
                  <a:pt x="265" y="446"/>
                  <a:pt x="265" y="441"/>
                </a:cubicBezTo>
                <a:cubicBezTo>
                  <a:pt x="265" y="424"/>
                  <a:pt x="278" y="412"/>
                  <a:pt x="298" y="411"/>
                </a:cubicBezTo>
                <a:cubicBezTo>
                  <a:pt x="299" y="411"/>
                  <a:pt x="299" y="411"/>
                  <a:pt x="299" y="411"/>
                </a:cubicBezTo>
                <a:cubicBezTo>
                  <a:pt x="302" y="411"/>
                  <a:pt x="302" y="411"/>
                  <a:pt x="302" y="411"/>
                </a:cubicBezTo>
                <a:cubicBezTo>
                  <a:pt x="463" y="411"/>
                  <a:pt x="463" y="411"/>
                  <a:pt x="463" y="411"/>
                </a:cubicBezTo>
                <a:cubicBezTo>
                  <a:pt x="463" y="411"/>
                  <a:pt x="463" y="379"/>
                  <a:pt x="463" y="379"/>
                </a:cubicBezTo>
                <a:close/>
              </a:path>
            </a:pathLst>
          </a:cu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2" name="Freeform 8"/>
          <p:cNvSpPr/>
          <p:nvPr/>
        </p:nvSpPr>
        <p:spPr>
          <a:xfrm>
            <a:off x="2214720" y="2111400"/>
            <a:ext cx="1969920" cy="1455840"/>
          </a:xfrm>
          <a:custGeom>
            <a:avLst/>
            <a:gdLst/>
            <a:ahLst/>
            <a:rect l="l" t="t" r="r" b="b"/>
            <a:pathLst>
              <a:path w="759" h="561">
                <a:moveTo>
                  <a:pt x="623" y="138"/>
                </a:moveTo>
                <a:cubicBezTo>
                  <a:pt x="436" y="21"/>
                  <a:pt x="436" y="21"/>
                  <a:pt x="436" y="21"/>
                </a:cubicBezTo>
                <a:cubicBezTo>
                  <a:pt x="402" y="0"/>
                  <a:pt x="359" y="0"/>
                  <a:pt x="325" y="21"/>
                </a:cubicBezTo>
                <a:cubicBezTo>
                  <a:pt x="136" y="139"/>
                  <a:pt x="136" y="139"/>
                  <a:pt x="136" y="139"/>
                </a:cubicBezTo>
                <a:cubicBezTo>
                  <a:pt x="136" y="245"/>
                  <a:pt x="136" y="245"/>
                  <a:pt x="136" y="245"/>
                </a:cubicBezTo>
                <a:cubicBezTo>
                  <a:pt x="136" y="247"/>
                  <a:pt x="136" y="248"/>
                  <a:pt x="137" y="249"/>
                </a:cubicBezTo>
                <a:cubicBezTo>
                  <a:pt x="136" y="249"/>
                  <a:pt x="136" y="249"/>
                  <a:pt x="136" y="249"/>
                </a:cubicBezTo>
                <a:cubicBezTo>
                  <a:pt x="135" y="262"/>
                  <a:pt x="130" y="272"/>
                  <a:pt x="121" y="277"/>
                </a:cubicBezTo>
                <a:cubicBezTo>
                  <a:pt x="112" y="282"/>
                  <a:pt x="101" y="282"/>
                  <a:pt x="91" y="277"/>
                </a:cubicBezTo>
                <a:cubicBezTo>
                  <a:pt x="82" y="272"/>
                  <a:pt x="58" y="262"/>
                  <a:pt x="47" y="262"/>
                </a:cubicBezTo>
                <a:cubicBezTo>
                  <a:pt x="21" y="262"/>
                  <a:pt x="0" y="286"/>
                  <a:pt x="0" y="316"/>
                </a:cubicBezTo>
                <a:cubicBezTo>
                  <a:pt x="0" y="345"/>
                  <a:pt x="21" y="369"/>
                  <a:pt x="47" y="369"/>
                </a:cubicBezTo>
                <a:cubicBezTo>
                  <a:pt x="58" y="369"/>
                  <a:pt x="82" y="359"/>
                  <a:pt x="91" y="355"/>
                </a:cubicBezTo>
                <a:cubicBezTo>
                  <a:pt x="101" y="349"/>
                  <a:pt x="112" y="349"/>
                  <a:pt x="121" y="354"/>
                </a:cubicBezTo>
                <a:cubicBezTo>
                  <a:pt x="130" y="359"/>
                  <a:pt x="136" y="370"/>
                  <a:pt x="136" y="383"/>
                </a:cubicBezTo>
                <a:cubicBezTo>
                  <a:pt x="136" y="387"/>
                  <a:pt x="136" y="387"/>
                  <a:pt x="136" y="387"/>
                </a:cubicBezTo>
                <a:cubicBezTo>
                  <a:pt x="136" y="561"/>
                  <a:pt x="136" y="561"/>
                  <a:pt x="136" y="561"/>
                </a:cubicBezTo>
                <a:cubicBezTo>
                  <a:pt x="159" y="561"/>
                  <a:pt x="159" y="561"/>
                  <a:pt x="159" y="561"/>
                </a:cubicBezTo>
                <a:cubicBezTo>
                  <a:pt x="250" y="561"/>
                  <a:pt x="250" y="561"/>
                  <a:pt x="250" y="561"/>
                </a:cubicBezTo>
                <a:cubicBezTo>
                  <a:pt x="317" y="561"/>
                  <a:pt x="317" y="561"/>
                  <a:pt x="317" y="561"/>
                </a:cubicBezTo>
                <a:cubicBezTo>
                  <a:pt x="317" y="561"/>
                  <a:pt x="320" y="561"/>
                  <a:pt x="320" y="561"/>
                </a:cubicBezTo>
                <a:cubicBezTo>
                  <a:pt x="331" y="560"/>
                  <a:pt x="338" y="555"/>
                  <a:pt x="338" y="547"/>
                </a:cubicBezTo>
                <a:cubicBezTo>
                  <a:pt x="338" y="544"/>
                  <a:pt x="337" y="541"/>
                  <a:pt x="335" y="537"/>
                </a:cubicBezTo>
                <a:cubicBezTo>
                  <a:pt x="334" y="534"/>
                  <a:pt x="319" y="504"/>
                  <a:pt x="319" y="487"/>
                </a:cubicBezTo>
                <a:cubicBezTo>
                  <a:pt x="319" y="452"/>
                  <a:pt x="350" y="424"/>
                  <a:pt x="388" y="424"/>
                </a:cubicBezTo>
                <a:cubicBezTo>
                  <a:pt x="426" y="424"/>
                  <a:pt x="457" y="452"/>
                  <a:pt x="457" y="487"/>
                </a:cubicBezTo>
                <a:cubicBezTo>
                  <a:pt x="457" y="504"/>
                  <a:pt x="443" y="534"/>
                  <a:pt x="441" y="537"/>
                </a:cubicBezTo>
                <a:cubicBezTo>
                  <a:pt x="440" y="541"/>
                  <a:pt x="439" y="544"/>
                  <a:pt x="439" y="547"/>
                </a:cubicBezTo>
                <a:cubicBezTo>
                  <a:pt x="439" y="555"/>
                  <a:pt x="445" y="560"/>
                  <a:pt x="457" y="561"/>
                </a:cubicBezTo>
                <a:cubicBezTo>
                  <a:pt x="457" y="561"/>
                  <a:pt x="487" y="561"/>
                  <a:pt x="487" y="561"/>
                </a:cubicBezTo>
                <a:cubicBezTo>
                  <a:pt x="512" y="561"/>
                  <a:pt x="512" y="561"/>
                  <a:pt x="512" y="561"/>
                </a:cubicBezTo>
                <a:cubicBezTo>
                  <a:pt x="520" y="561"/>
                  <a:pt x="520" y="561"/>
                  <a:pt x="520" y="561"/>
                </a:cubicBezTo>
                <a:cubicBezTo>
                  <a:pt x="593" y="561"/>
                  <a:pt x="593" y="561"/>
                  <a:pt x="593" y="561"/>
                </a:cubicBezTo>
                <a:cubicBezTo>
                  <a:pt x="594" y="561"/>
                  <a:pt x="612" y="561"/>
                  <a:pt x="623" y="561"/>
                </a:cubicBezTo>
                <a:cubicBezTo>
                  <a:pt x="623" y="391"/>
                  <a:pt x="623" y="391"/>
                  <a:pt x="623" y="391"/>
                </a:cubicBezTo>
                <a:cubicBezTo>
                  <a:pt x="623" y="387"/>
                  <a:pt x="623" y="387"/>
                  <a:pt x="623" y="387"/>
                </a:cubicBezTo>
                <a:cubicBezTo>
                  <a:pt x="624" y="373"/>
                  <a:pt x="629" y="363"/>
                  <a:pt x="639" y="358"/>
                </a:cubicBezTo>
                <a:cubicBezTo>
                  <a:pt x="647" y="353"/>
                  <a:pt x="658" y="353"/>
                  <a:pt x="669" y="358"/>
                </a:cubicBezTo>
                <a:cubicBezTo>
                  <a:pt x="677" y="362"/>
                  <a:pt x="701" y="373"/>
                  <a:pt x="712" y="373"/>
                </a:cubicBezTo>
                <a:cubicBezTo>
                  <a:pt x="738" y="373"/>
                  <a:pt x="759" y="349"/>
                  <a:pt x="759" y="319"/>
                </a:cubicBezTo>
                <a:cubicBezTo>
                  <a:pt x="759" y="290"/>
                  <a:pt x="738" y="266"/>
                  <a:pt x="712" y="266"/>
                </a:cubicBezTo>
                <a:cubicBezTo>
                  <a:pt x="701" y="266"/>
                  <a:pt x="677" y="276"/>
                  <a:pt x="669" y="280"/>
                </a:cubicBezTo>
                <a:cubicBezTo>
                  <a:pt x="658" y="286"/>
                  <a:pt x="647" y="286"/>
                  <a:pt x="639" y="281"/>
                </a:cubicBezTo>
                <a:cubicBezTo>
                  <a:pt x="630" y="275"/>
                  <a:pt x="624" y="266"/>
                  <a:pt x="623" y="253"/>
                </a:cubicBezTo>
                <a:cubicBezTo>
                  <a:pt x="623" y="253"/>
                  <a:pt x="623" y="253"/>
                  <a:pt x="623" y="253"/>
                </a:cubicBezTo>
                <a:cubicBezTo>
                  <a:pt x="623" y="252"/>
                  <a:pt x="623" y="250"/>
                  <a:pt x="623" y="248"/>
                </a:cubicBezTo>
                <a:lnTo>
                  <a:pt x="623" y="138"/>
                </a:lnTo>
                <a:close/>
              </a:path>
            </a:pathLst>
          </a:cu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3" name="Freeform 9"/>
          <p:cNvSpPr/>
          <p:nvPr/>
        </p:nvSpPr>
        <p:spPr>
          <a:xfrm>
            <a:off x="3875040" y="2495520"/>
            <a:ext cx="1203480" cy="1443240"/>
          </a:xfrm>
          <a:custGeom>
            <a:avLst/>
            <a:gdLst/>
            <a:ahLst/>
            <a:rect l="l" t="t" r="r" b="b"/>
            <a:pathLst>
              <a:path w="463" h="556">
                <a:moveTo>
                  <a:pt x="415" y="259"/>
                </a:moveTo>
                <a:cubicBezTo>
                  <a:pt x="0" y="0"/>
                  <a:pt x="0" y="0"/>
                  <a:pt x="0" y="0"/>
                </a:cubicBezTo>
                <a:cubicBezTo>
                  <a:pt x="0" y="101"/>
                  <a:pt x="0" y="101"/>
                  <a:pt x="0" y="101"/>
                </a:cubicBezTo>
                <a:cubicBezTo>
                  <a:pt x="0" y="105"/>
                  <a:pt x="0" y="105"/>
                  <a:pt x="0" y="105"/>
                </a:cubicBezTo>
                <a:cubicBezTo>
                  <a:pt x="0" y="105"/>
                  <a:pt x="0" y="105"/>
                  <a:pt x="0" y="106"/>
                </a:cubicBezTo>
                <a:cubicBezTo>
                  <a:pt x="0" y="112"/>
                  <a:pt x="3" y="117"/>
                  <a:pt x="7" y="120"/>
                </a:cubicBezTo>
                <a:cubicBezTo>
                  <a:pt x="10" y="122"/>
                  <a:pt x="15" y="121"/>
                  <a:pt x="21" y="119"/>
                </a:cubicBezTo>
                <a:cubicBezTo>
                  <a:pt x="24" y="117"/>
                  <a:pt x="54" y="103"/>
                  <a:pt x="71" y="103"/>
                </a:cubicBezTo>
                <a:cubicBezTo>
                  <a:pt x="105" y="103"/>
                  <a:pt x="133" y="134"/>
                  <a:pt x="133" y="172"/>
                </a:cubicBezTo>
                <a:cubicBezTo>
                  <a:pt x="133" y="210"/>
                  <a:pt x="105" y="240"/>
                  <a:pt x="71" y="240"/>
                </a:cubicBezTo>
                <a:cubicBezTo>
                  <a:pt x="54" y="240"/>
                  <a:pt x="24" y="226"/>
                  <a:pt x="21" y="224"/>
                </a:cubicBezTo>
                <a:cubicBezTo>
                  <a:pt x="17" y="223"/>
                  <a:pt x="12" y="221"/>
                  <a:pt x="7" y="223"/>
                </a:cubicBezTo>
                <a:cubicBezTo>
                  <a:pt x="3" y="225"/>
                  <a:pt x="1" y="230"/>
                  <a:pt x="0" y="236"/>
                </a:cubicBezTo>
                <a:cubicBezTo>
                  <a:pt x="0" y="237"/>
                  <a:pt x="0" y="239"/>
                  <a:pt x="0" y="241"/>
                </a:cubicBezTo>
                <a:cubicBezTo>
                  <a:pt x="0" y="382"/>
                  <a:pt x="0" y="382"/>
                  <a:pt x="0" y="382"/>
                </a:cubicBezTo>
                <a:cubicBezTo>
                  <a:pt x="0" y="391"/>
                  <a:pt x="0" y="391"/>
                  <a:pt x="0" y="391"/>
                </a:cubicBezTo>
                <a:cubicBezTo>
                  <a:pt x="0" y="415"/>
                  <a:pt x="0" y="415"/>
                  <a:pt x="0" y="415"/>
                </a:cubicBezTo>
                <a:cubicBezTo>
                  <a:pt x="168" y="415"/>
                  <a:pt x="168" y="415"/>
                  <a:pt x="168" y="415"/>
                </a:cubicBezTo>
                <a:cubicBezTo>
                  <a:pt x="172" y="415"/>
                  <a:pt x="172" y="415"/>
                  <a:pt x="172" y="415"/>
                </a:cubicBezTo>
                <a:cubicBezTo>
                  <a:pt x="172" y="415"/>
                  <a:pt x="172" y="415"/>
                  <a:pt x="172" y="415"/>
                </a:cubicBezTo>
                <a:cubicBezTo>
                  <a:pt x="164" y="415"/>
                  <a:pt x="164" y="415"/>
                  <a:pt x="164" y="415"/>
                </a:cubicBezTo>
                <a:cubicBezTo>
                  <a:pt x="184" y="416"/>
                  <a:pt x="205" y="428"/>
                  <a:pt x="205" y="445"/>
                </a:cubicBezTo>
                <a:cubicBezTo>
                  <a:pt x="205" y="450"/>
                  <a:pt x="204" y="456"/>
                  <a:pt x="201" y="461"/>
                </a:cubicBezTo>
                <a:cubicBezTo>
                  <a:pt x="195" y="472"/>
                  <a:pt x="187" y="494"/>
                  <a:pt x="187" y="504"/>
                </a:cubicBezTo>
                <a:cubicBezTo>
                  <a:pt x="187" y="528"/>
                  <a:pt x="210" y="556"/>
                  <a:pt x="238" y="556"/>
                </a:cubicBezTo>
                <a:cubicBezTo>
                  <a:pt x="266" y="556"/>
                  <a:pt x="289" y="528"/>
                  <a:pt x="289" y="504"/>
                </a:cubicBezTo>
                <a:cubicBezTo>
                  <a:pt x="289" y="494"/>
                  <a:pt x="281" y="472"/>
                  <a:pt x="275" y="461"/>
                </a:cubicBezTo>
                <a:cubicBezTo>
                  <a:pt x="273" y="456"/>
                  <a:pt x="271" y="450"/>
                  <a:pt x="271" y="445"/>
                </a:cubicBezTo>
                <a:cubicBezTo>
                  <a:pt x="271" y="439"/>
                  <a:pt x="273" y="433"/>
                  <a:pt x="276" y="428"/>
                </a:cubicBezTo>
                <a:cubicBezTo>
                  <a:pt x="280" y="423"/>
                  <a:pt x="285" y="420"/>
                  <a:pt x="291" y="418"/>
                </a:cubicBezTo>
                <a:cubicBezTo>
                  <a:pt x="293" y="417"/>
                  <a:pt x="295" y="416"/>
                  <a:pt x="297" y="416"/>
                </a:cubicBezTo>
                <a:cubicBezTo>
                  <a:pt x="301" y="415"/>
                  <a:pt x="304" y="415"/>
                  <a:pt x="308" y="415"/>
                </a:cubicBezTo>
                <a:cubicBezTo>
                  <a:pt x="309" y="415"/>
                  <a:pt x="310" y="415"/>
                  <a:pt x="312" y="415"/>
                </a:cubicBezTo>
                <a:cubicBezTo>
                  <a:pt x="314" y="415"/>
                  <a:pt x="316" y="415"/>
                  <a:pt x="318" y="415"/>
                </a:cubicBezTo>
                <a:cubicBezTo>
                  <a:pt x="318" y="415"/>
                  <a:pt x="318" y="415"/>
                  <a:pt x="318" y="415"/>
                </a:cubicBezTo>
                <a:cubicBezTo>
                  <a:pt x="318" y="415"/>
                  <a:pt x="319" y="415"/>
                  <a:pt x="319" y="415"/>
                </a:cubicBezTo>
                <a:cubicBezTo>
                  <a:pt x="319" y="415"/>
                  <a:pt x="319" y="415"/>
                  <a:pt x="319" y="415"/>
                </a:cubicBezTo>
                <a:cubicBezTo>
                  <a:pt x="322" y="415"/>
                  <a:pt x="325" y="415"/>
                  <a:pt x="329" y="415"/>
                </a:cubicBezTo>
                <a:cubicBezTo>
                  <a:pt x="333" y="415"/>
                  <a:pt x="337" y="415"/>
                  <a:pt x="341" y="415"/>
                </a:cubicBezTo>
                <a:cubicBezTo>
                  <a:pt x="345" y="415"/>
                  <a:pt x="350" y="415"/>
                  <a:pt x="354" y="415"/>
                </a:cubicBezTo>
                <a:cubicBezTo>
                  <a:pt x="359" y="415"/>
                  <a:pt x="363" y="415"/>
                  <a:pt x="368" y="415"/>
                </a:cubicBezTo>
                <a:cubicBezTo>
                  <a:pt x="373" y="415"/>
                  <a:pt x="378" y="415"/>
                  <a:pt x="383" y="415"/>
                </a:cubicBezTo>
                <a:cubicBezTo>
                  <a:pt x="388" y="415"/>
                  <a:pt x="392" y="415"/>
                  <a:pt x="397" y="415"/>
                </a:cubicBezTo>
                <a:cubicBezTo>
                  <a:pt x="402" y="415"/>
                  <a:pt x="407" y="415"/>
                  <a:pt x="412" y="415"/>
                </a:cubicBezTo>
                <a:cubicBezTo>
                  <a:pt x="416" y="415"/>
                  <a:pt x="421" y="415"/>
                  <a:pt x="425" y="415"/>
                </a:cubicBezTo>
                <a:cubicBezTo>
                  <a:pt x="430" y="415"/>
                  <a:pt x="434" y="415"/>
                  <a:pt x="438" y="415"/>
                </a:cubicBezTo>
                <a:cubicBezTo>
                  <a:pt x="442" y="415"/>
                  <a:pt x="446" y="415"/>
                  <a:pt x="449" y="415"/>
                </a:cubicBezTo>
                <a:cubicBezTo>
                  <a:pt x="453" y="415"/>
                  <a:pt x="456" y="415"/>
                  <a:pt x="459" y="415"/>
                </a:cubicBezTo>
                <a:cubicBezTo>
                  <a:pt x="460" y="415"/>
                  <a:pt x="462" y="415"/>
                  <a:pt x="463" y="415"/>
                </a:cubicBezTo>
                <a:cubicBezTo>
                  <a:pt x="463" y="348"/>
                  <a:pt x="463" y="348"/>
                  <a:pt x="463" y="348"/>
                </a:cubicBezTo>
                <a:cubicBezTo>
                  <a:pt x="463" y="312"/>
                  <a:pt x="445" y="278"/>
                  <a:pt x="415" y="259"/>
                </a:cubicBezTo>
                <a:close/>
              </a:path>
            </a:pathLst>
          </a:cu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4" name="Freeform 10"/>
          <p:cNvSpPr/>
          <p:nvPr/>
        </p:nvSpPr>
        <p:spPr>
          <a:xfrm>
            <a:off x="3890880" y="3611520"/>
            <a:ext cx="1187640" cy="1301760"/>
          </a:xfrm>
          <a:custGeom>
            <a:avLst/>
            <a:gdLst/>
            <a:ahLst/>
            <a:rect l="l" t="t" r="r" b="b"/>
            <a:pathLst>
              <a:path w="457" h="501">
                <a:moveTo>
                  <a:pt x="300" y="0"/>
                </a:moveTo>
                <a:cubicBezTo>
                  <a:pt x="299" y="0"/>
                  <a:pt x="297" y="0"/>
                  <a:pt x="297" y="0"/>
                </a:cubicBezTo>
                <a:cubicBezTo>
                  <a:pt x="292" y="1"/>
                  <a:pt x="281" y="7"/>
                  <a:pt x="281" y="17"/>
                </a:cubicBezTo>
                <a:cubicBezTo>
                  <a:pt x="281" y="20"/>
                  <a:pt x="282" y="23"/>
                  <a:pt x="284" y="26"/>
                </a:cubicBezTo>
                <a:cubicBezTo>
                  <a:pt x="285" y="30"/>
                  <a:pt x="300" y="61"/>
                  <a:pt x="300" y="79"/>
                </a:cubicBezTo>
                <a:cubicBezTo>
                  <a:pt x="300" y="115"/>
                  <a:pt x="269" y="144"/>
                  <a:pt x="231" y="144"/>
                </a:cubicBezTo>
                <a:cubicBezTo>
                  <a:pt x="193" y="144"/>
                  <a:pt x="162" y="115"/>
                  <a:pt x="162" y="79"/>
                </a:cubicBezTo>
                <a:cubicBezTo>
                  <a:pt x="162" y="61"/>
                  <a:pt x="176" y="30"/>
                  <a:pt x="178" y="26"/>
                </a:cubicBezTo>
                <a:cubicBezTo>
                  <a:pt x="179" y="23"/>
                  <a:pt x="180" y="20"/>
                  <a:pt x="180" y="17"/>
                </a:cubicBezTo>
                <a:cubicBezTo>
                  <a:pt x="180" y="7"/>
                  <a:pt x="169" y="1"/>
                  <a:pt x="164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186"/>
                  <a:pt x="0" y="186"/>
                  <a:pt x="0" y="186"/>
                </a:cubicBezTo>
                <a:cubicBezTo>
                  <a:pt x="0" y="189"/>
                  <a:pt x="0" y="190"/>
                  <a:pt x="0" y="191"/>
                </a:cubicBezTo>
                <a:cubicBezTo>
                  <a:pt x="0" y="191"/>
                  <a:pt x="0" y="191"/>
                  <a:pt x="0" y="191"/>
                </a:cubicBezTo>
                <a:cubicBezTo>
                  <a:pt x="1" y="197"/>
                  <a:pt x="3" y="202"/>
                  <a:pt x="7" y="205"/>
                </a:cubicBezTo>
                <a:cubicBezTo>
                  <a:pt x="12" y="207"/>
                  <a:pt x="17" y="205"/>
                  <a:pt x="21" y="203"/>
                </a:cubicBezTo>
                <a:cubicBezTo>
                  <a:pt x="24" y="202"/>
                  <a:pt x="54" y="187"/>
                  <a:pt x="71" y="187"/>
                </a:cubicBezTo>
                <a:cubicBezTo>
                  <a:pt x="106" y="187"/>
                  <a:pt x="134" y="219"/>
                  <a:pt x="134" y="259"/>
                </a:cubicBezTo>
                <a:cubicBezTo>
                  <a:pt x="134" y="299"/>
                  <a:pt x="106" y="331"/>
                  <a:pt x="71" y="331"/>
                </a:cubicBezTo>
                <a:cubicBezTo>
                  <a:pt x="54" y="331"/>
                  <a:pt x="24" y="316"/>
                  <a:pt x="21" y="314"/>
                </a:cubicBezTo>
                <a:cubicBezTo>
                  <a:pt x="16" y="312"/>
                  <a:pt x="11" y="311"/>
                  <a:pt x="7" y="313"/>
                </a:cubicBezTo>
                <a:cubicBezTo>
                  <a:pt x="3" y="316"/>
                  <a:pt x="1" y="321"/>
                  <a:pt x="0" y="328"/>
                </a:cubicBezTo>
                <a:cubicBezTo>
                  <a:pt x="0" y="328"/>
                  <a:pt x="0" y="329"/>
                  <a:pt x="0" y="329"/>
                </a:cubicBezTo>
                <a:cubicBezTo>
                  <a:pt x="0" y="333"/>
                  <a:pt x="0" y="333"/>
                  <a:pt x="0" y="333"/>
                </a:cubicBezTo>
                <a:cubicBezTo>
                  <a:pt x="0" y="501"/>
                  <a:pt x="0" y="501"/>
                  <a:pt x="0" y="501"/>
                </a:cubicBezTo>
                <a:cubicBezTo>
                  <a:pt x="160" y="501"/>
                  <a:pt x="160" y="501"/>
                  <a:pt x="160" y="501"/>
                </a:cubicBezTo>
                <a:cubicBezTo>
                  <a:pt x="163" y="501"/>
                  <a:pt x="163" y="501"/>
                  <a:pt x="163" y="501"/>
                </a:cubicBezTo>
                <a:cubicBezTo>
                  <a:pt x="164" y="501"/>
                  <a:pt x="164" y="501"/>
                  <a:pt x="164" y="501"/>
                </a:cubicBezTo>
                <a:cubicBezTo>
                  <a:pt x="167" y="501"/>
                  <a:pt x="180" y="499"/>
                  <a:pt x="180" y="488"/>
                </a:cubicBezTo>
                <a:cubicBezTo>
                  <a:pt x="180" y="485"/>
                  <a:pt x="179" y="482"/>
                  <a:pt x="178" y="479"/>
                </a:cubicBezTo>
                <a:cubicBezTo>
                  <a:pt x="176" y="475"/>
                  <a:pt x="162" y="444"/>
                  <a:pt x="162" y="426"/>
                </a:cubicBezTo>
                <a:cubicBezTo>
                  <a:pt x="162" y="390"/>
                  <a:pt x="193" y="361"/>
                  <a:pt x="231" y="361"/>
                </a:cubicBezTo>
                <a:cubicBezTo>
                  <a:pt x="269" y="361"/>
                  <a:pt x="300" y="390"/>
                  <a:pt x="300" y="426"/>
                </a:cubicBezTo>
                <a:cubicBezTo>
                  <a:pt x="300" y="444"/>
                  <a:pt x="285" y="475"/>
                  <a:pt x="284" y="479"/>
                </a:cubicBezTo>
                <a:cubicBezTo>
                  <a:pt x="282" y="482"/>
                  <a:pt x="281" y="485"/>
                  <a:pt x="281" y="488"/>
                </a:cubicBezTo>
                <a:cubicBezTo>
                  <a:pt x="281" y="498"/>
                  <a:pt x="292" y="500"/>
                  <a:pt x="297" y="501"/>
                </a:cubicBezTo>
                <a:cubicBezTo>
                  <a:pt x="298" y="501"/>
                  <a:pt x="298" y="501"/>
                  <a:pt x="298" y="501"/>
                </a:cubicBezTo>
                <a:cubicBezTo>
                  <a:pt x="298" y="501"/>
                  <a:pt x="298" y="501"/>
                  <a:pt x="298" y="501"/>
                </a:cubicBezTo>
                <a:cubicBezTo>
                  <a:pt x="298" y="501"/>
                  <a:pt x="300" y="501"/>
                  <a:pt x="300" y="501"/>
                </a:cubicBezTo>
                <a:cubicBezTo>
                  <a:pt x="457" y="501"/>
                  <a:pt x="457" y="501"/>
                  <a:pt x="457" y="501"/>
                </a:cubicBezTo>
                <a:cubicBezTo>
                  <a:pt x="457" y="0"/>
                  <a:pt x="457" y="0"/>
                  <a:pt x="457" y="0"/>
                </a:cubicBezTo>
                <a:cubicBezTo>
                  <a:pt x="401" y="0"/>
                  <a:pt x="300" y="0"/>
                  <a:pt x="300" y="0"/>
                </a:cubicBezTo>
                <a:close/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5" name="Freeform 11"/>
          <p:cNvSpPr/>
          <p:nvPr/>
        </p:nvSpPr>
        <p:spPr>
          <a:xfrm>
            <a:off x="3881520" y="4603680"/>
            <a:ext cx="1197000" cy="1569960"/>
          </a:xfrm>
          <a:custGeom>
            <a:avLst/>
            <a:gdLst/>
            <a:ahLst/>
            <a:rect l="l" t="t" r="r" b="b"/>
            <a:pathLst>
              <a:path w="461" h="605">
                <a:moveTo>
                  <a:pt x="461" y="134"/>
                </a:moveTo>
                <a:cubicBezTo>
                  <a:pt x="304" y="134"/>
                  <a:pt x="304" y="134"/>
                  <a:pt x="304" y="134"/>
                </a:cubicBezTo>
                <a:cubicBezTo>
                  <a:pt x="291" y="134"/>
                  <a:pt x="277" y="130"/>
                  <a:pt x="271" y="118"/>
                </a:cubicBezTo>
                <a:cubicBezTo>
                  <a:pt x="269" y="114"/>
                  <a:pt x="268" y="109"/>
                  <a:pt x="268" y="104"/>
                </a:cubicBezTo>
                <a:cubicBezTo>
                  <a:pt x="268" y="99"/>
                  <a:pt x="269" y="93"/>
                  <a:pt x="272" y="88"/>
                </a:cubicBezTo>
                <a:cubicBezTo>
                  <a:pt x="277" y="77"/>
                  <a:pt x="286" y="55"/>
                  <a:pt x="286" y="45"/>
                </a:cubicBezTo>
                <a:cubicBezTo>
                  <a:pt x="286" y="21"/>
                  <a:pt x="263" y="0"/>
                  <a:pt x="234" y="0"/>
                </a:cubicBezTo>
                <a:cubicBezTo>
                  <a:pt x="206" y="0"/>
                  <a:pt x="183" y="21"/>
                  <a:pt x="183" y="45"/>
                </a:cubicBezTo>
                <a:cubicBezTo>
                  <a:pt x="183" y="55"/>
                  <a:pt x="192" y="77"/>
                  <a:pt x="197" y="88"/>
                </a:cubicBezTo>
                <a:cubicBezTo>
                  <a:pt x="200" y="93"/>
                  <a:pt x="201" y="99"/>
                  <a:pt x="201" y="104"/>
                </a:cubicBezTo>
                <a:cubicBezTo>
                  <a:pt x="201" y="121"/>
                  <a:pt x="188" y="133"/>
                  <a:pt x="169" y="134"/>
                </a:cubicBezTo>
                <a:cubicBezTo>
                  <a:pt x="168" y="134"/>
                  <a:pt x="168" y="134"/>
                  <a:pt x="168" y="134"/>
                </a:cubicBezTo>
                <a:cubicBezTo>
                  <a:pt x="164" y="134"/>
                  <a:pt x="164" y="134"/>
                  <a:pt x="164" y="134"/>
                </a:cubicBezTo>
                <a:cubicBezTo>
                  <a:pt x="0" y="134"/>
                  <a:pt x="0" y="134"/>
                  <a:pt x="0" y="134"/>
                </a:cubicBezTo>
                <a:cubicBezTo>
                  <a:pt x="0" y="134"/>
                  <a:pt x="0" y="167"/>
                  <a:pt x="0" y="167"/>
                </a:cubicBezTo>
                <a:cubicBezTo>
                  <a:pt x="0" y="308"/>
                  <a:pt x="0" y="308"/>
                  <a:pt x="0" y="308"/>
                </a:cubicBezTo>
                <a:cubicBezTo>
                  <a:pt x="0" y="310"/>
                  <a:pt x="0" y="312"/>
                  <a:pt x="0" y="313"/>
                </a:cubicBezTo>
                <a:cubicBezTo>
                  <a:pt x="1" y="319"/>
                  <a:pt x="3" y="324"/>
                  <a:pt x="7" y="326"/>
                </a:cubicBezTo>
                <a:cubicBezTo>
                  <a:pt x="12" y="328"/>
                  <a:pt x="17" y="326"/>
                  <a:pt x="21" y="325"/>
                </a:cubicBezTo>
                <a:cubicBezTo>
                  <a:pt x="24" y="323"/>
                  <a:pt x="54" y="309"/>
                  <a:pt x="71" y="309"/>
                </a:cubicBezTo>
                <a:cubicBezTo>
                  <a:pt x="105" y="309"/>
                  <a:pt x="137" y="340"/>
                  <a:pt x="137" y="377"/>
                </a:cubicBezTo>
                <a:cubicBezTo>
                  <a:pt x="137" y="415"/>
                  <a:pt x="105" y="446"/>
                  <a:pt x="71" y="446"/>
                </a:cubicBezTo>
                <a:cubicBezTo>
                  <a:pt x="54" y="446"/>
                  <a:pt x="24" y="432"/>
                  <a:pt x="21" y="430"/>
                </a:cubicBezTo>
                <a:cubicBezTo>
                  <a:pt x="16" y="428"/>
                  <a:pt x="11" y="427"/>
                  <a:pt x="7" y="429"/>
                </a:cubicBezTo>
                <a:cubicBezTo>
                  <a:pt x="3" y="432"/>
                  <a:pt x="1" y="437"/>
                  <a:pt x="0" y="443"/>
                </a:cubicBezTo>
                <a:cubicBezTo>
                  <a:pt x="0" y="444"/>
                  <a:pt x="0" y="444"/>
                  <a:pt x="0" y="444"/>
                </a:cubicBezTo>
                <a:cubicBezTo>
                  <a:pt x="0" y="448"/>
                  <a:pt x="0" y="448"/>
                  <a:pt x="0" y="448"/>
                </a:cubicBezTo>
                <a:cubicBezTo>
                  <a:pt x="0" y="605"/>
                  <a:pt x="0" y="605"/>
                  <a:pt x="0" y="605"/>
                </a:cubicBezTo>
                <a:cubicBezTo>
                  <a:pt x="7" y="605"/>
                  <a:pt x="12" y="605"/>
                  <a:pt x="16" y="605"/>
                </a:cubicBezTo>
                <a:cubicBezTo>
                  <a:pt x="358" y="605"/>
                  <a:pt x="358" y="605"/>
                  <a:pt x="358" y="605"/>
                </a:cubicBezTo>
                <a:cubicBezTo>
                  <a:pt x="415" y="605"/>
                  <a:pt x="461" y="558"/>
                  <a:pt x="461" y="501"/>
                </a:cubicBezTo>
                <a:lnTo>
                  <a:pt x="461" y="134"/>
                </a:lnTo>
                <a:close/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6" name="Freeform 12"/>
          <p:cNvSpPr/>
          <p:nvPr/>
        </p:nvSpPr>
        <p:spPr>
          <a:xfrm>
            <a:off x="2214720" y="4938840"/>
            <a:ext cx="1985760" cy="1234800"/>
          </a:xfrm>
          <a:custGeom>
            <a:avLst/>
            <a:gdLst/>
            <a:ahLst/>
            <a:rect l="l" t="t" r="r" b="b"/>
            <a:pathLst>
              <a:path w="765" h="476">
                <a:moveTo>
                  <a:pt x="717" y="193"/>
                </a:moveTo>
                <a:cubicBezTo>
                  <a:pt x="706" y="193"/>
                  <a:pt x="682" y="204"/>
                  <a:pt x="673" y="208"/>
                </a:cubicBezTo>
                <a:cubicBezTo>
                  <a:pt x="663" y="213"/>
                  <a:pt x="652" y="214"/>
                  <a:pt x="643" y="209"/>
                </a:cubicBezTo>
                <a:cubicBezTo>
                  <a:pt x="634" y="203"/>
                  <a:pt x="628" y="193"/>
                  <a:pt x="627" y="179"/>
                </a:cubicBezTo>
                <a:cubicBezTo>
                  <a:pt x="627" y="175"/>
                  <a:pt x="627" y="175"/>
                  <a:pt x="627" y="175"/>
                </a:cubicBezTo>
                <a:cubicBezTo>
                  <a:pt x="627" y="0"/>
                  <a:pt x="627" y="0"/>
                  <a:pt x="627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513" y="0"/>
                  <a:pt x="513" y="0"/>
                  <a:pt x="513" y="0"/>
                </a:cubicBezTo>
                <a:cubicBezTo>
                  <a:pt x="461" y="0"/>
                  <a:pt x="461" y="0"/>
                  <a:pt x="461" y="0"/>
                </a:cubicBezTo>
                <a:cubicBezTo>
                  <a:pt x="458" y="0"/>
                  <a:pt x="458" y="0"/>
                  <a:pt x="458" y="0"/>
                </a:cubicBezTo>
                <a:cubicBezTo>
                  <a:pt x="458" y="0"/>
                  <a:pt x="458" y="0"/>
                  <a:pt x="458" y="0"/>
                </a:cubicBezTo>
                <a:cubicBezTo>
                  <a:pt x="446" y="1"/>
                  <a:pt x="440" y="6"/>
                  <a:pt x="440" y="15"/>
                </a:cubicBezTo>
                <a:cubicBezTo>
                  <a:pt x="440" y="17"/>
                  <a:pt x="440" y="21"/>
                  <a:pt x="442" y="24"/>
                </a:cubicBezTo>
                <a:cubicBezTo>
                  <a:pt x="444" y="27"/>
                  <a:pt x="458" y="58"/>
                  <a:pt x="458" y="75"/>
                </a:cubicBezTo>
                <a:cubicBezTo>
                  <a:pt x="458" y="110"/>
                  <a:pt x="427" y="138"/>
                  <a:pt x="389" y="138"/>
                </a:cubicBezTo>
                <a:cubicBezTo>
                  <a:pt x="350" y="138"/>
                  <a:pt x="319" y="110"/>
                  <a:pt x="319" y="75"/>
                </a:cubicBezTo>
                <a:cubicBezTo>
                  <a:pt x="319" y="58"/>
                  <a:pt x="334" y="27"/>
                  <a:pt x="335" y="24"/>
                </a:cubicBezTo>
                <a:cubicBezTo>
                  <a:pt x="337" y="21"/>
                  <a:pt x="338" y="17"/>
                  <a:pt x="338" y="15"/>
                </a:cubicBezTo>
                <a:cubicBezTo>
                  <a:pt x="338" y="6"/>
                  <a:pt x="331" y="1"/>
                  <a:pt x="320" y="0"/>
                </a:cubicBezTo>
                <a:cubicBezTo>
                  <a:pt x="319" y="0"/>
                  <a:pt x="289" y="0"/>
                  <a:pt x="289" y="0"/>
                </a:cubicBezTo>
                <a:cubicBezTo>
                  <a:pt x="248" y="0"/>
                  <a:pt x="248" y="0"/>
                  <a:pt x="248" y="0"/>
                </a:cubicBezTo>
                <a:cubicBezTo>
                  <a:pt x="241" y="0"/>
                  <a:pt x="241" y="0"/>
                  <a:pt x="241" y="0"/>
                </a:cubicBezTo>
                <a:cubicBezTo>
                  <a:pt x="168" y="0"/>
                  <a:pt x="168" y="0"/>
                  <a:pt x="168" y="0"/>
                </a:cubicBezTo>
                <a:cubicBezTo>
                  <a:pt x="166" y="0"/>
                  <a:pt x="148" y="1"/>
                  <a:pt x="137" y="1"/>
                </a:cubicBezTo>
                <a:cubicBezTo>
                  <a:pt x="137" y="175"/>
                  <a:pt x="137" y="175"/>
                  <a:pt x="137" y="175"/>
                </a:cubicBezTo>
                <a:cubicBezTo>
                  <a:pt x="137" y="179"/>
                  <a:pt x="137" y="179"/>
                  <a:pt x="137" y="179"/>
                </a:cubicBezTo>
                <a:cubicBezTo>
                  <a:pt x="136" y="193"/>
                  <a:pt x="131" y="203"/>
                  <a:pt x="121" y="209"/>
                </a:cubicBezTo>
                <a:cubicBezTo>
                  <a:pt x="113" y="214"/>
                  <a:pt x="102" y="214"/>
                  <a:pt x="91" y="208"/>
                </a:cubicBezTo>
                <a:cubicBezTo>
                  <a:pt x="83" y="204"/>
                  <a:pt x="58" y="194"/>
                  <a:pt x="47" y="194"/>
                </a:cubicBezTo>
                <a:cubicBezTo>
                  <a:pt x="21" y="194"/>
                  <a:pt x="0" y="218"/>
                  <a:pt x="0" y="248"/>
                </a:cubicBezTo>
                <a:cubicBezTo>
                  <a:pt x="0" y="277"/>
                  <a:pt x="21" y="302"/>
                  <a:pt x="47" y="302"/>
                </a:cubicBezTo>
                <a:cubicBezTo>
                  <a:pt x="58" y="302"/>
                  <a:pt x="83" y="291"/>
                  <a:pt x="91" y="287"/>
                </a:cubicBezTo>
                <a:cubicBezTo>
                  <a:pt x="102" y="281"/>
                  <a:pt x="113" y="281"/>
                  <a:pt x="121" y="286"/>
                </a:cubicBezTo>
                <a:cubicBezTo>
                  <a:pt x="130" y="292"/>
                  <a:pt x="136" y="302"/>
                  <a:pt x="137" y="315"/>
                </a:cubicBezTo>
                <a:cubicBezTo>
                  <a:pt x="137" y="315"/>
                  <a:pt x="137" y="315"/>
                  <a:pt x="137" y="315"/>
                </a:cubicBezTo>
                <a:cubicBezTo>
                  <a:pt x="137" y="315"/>
                  <a:pt x="137" y="317"/>
                  <a:pt x="137" y="319"/>
                </a:cubicBezTo>
                <a:cubicBezTo>
                  <a:pt x="137" y="476"/>
                  <a:pt x="137" y="476"/>
                  <a:pt x="137" y="476"/>
                </a:cubicBezTo>
                <a:cubicBezTo>
                  <a:pt x="242" y="476"/>
                  <a:pt x="526" y="476"/>
                  <a:pt x="627" y="476"/>
                </a:cubicBezTo>
                <a:cubicBezTo>
                  <a:pt x="627" y="319"/>
                  <a:pt x="627" y="319"/>
                  <a:pt x="627" y="319"/>
                </a:cubicBezTo>
                <a:cubicBezTo>
                  <a:pt x="627" y="317"/>
                  <a:pt x="627" y="315"/>
                  <a:pt x="627" y="315"/>
                </a:cubicBezTo>
                <a:cubicBezTo>
                  <a:pt x="627" y="315"/>
                  <a:pt x="627" y="315"/>
                  <a:pt x="627" y="315"/>
                </a:cubicBezTo>
                <a:cubicBezTo>
                  <a:pt x="628" y="302"/>
                  <a:pt x="634" y="292"/>
                  <a:pt x="643" y="286"/>
                </a:cubicBezTo>
                <a:cubicBezTo>
                  <a:pt x="652" y="281"/>
                  <a:pt x="663" y="281"/>
                  <a:pt x="673" y="287"/>
                </a:cubicBezTo>
                <a:cubicBezTo>
                  <a:pt x="682" y="291"/>
                  <a:pt x="706" y="301"/>
                  <a:pt x="717" y="301"/>
                </a:cubicBezTo>
                <a:cubicBezTo>
                  <a:pt x="744" y="301"/>
                  <a:pt x="765" y="277"/>
                  <a:pt x="765" y="247"/>
                </a:cubicBezTo>
                <a:cubicBezTo>
                  <a:pt x="765" y="218"/>
                  <a:pt x="744" y="193"/>
                  <a:pt x="717" y="193"/>
                </a:cubicBezTo>
                <a:close/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7" name="Freeform 13"/>
          <p:cNvSpPr/>
          <p:nvPr/>
        </p:nvSpPr>
        <p:spPr>
          <a:xfrm>
            <a:off x="1325520" y="4595760"/>
            <a:ext cx="1203480" cy="1577880"/>
          </a:xfrm>
          <a:custGeom>
            <a:avLst/>
            <a:gdLst/>
            <a:ahLst/>
            <a:rect l="l" t="t" r="r" b="b"/>
            <a:pathLst>
              <a:path w="463" h="608">
                <a:moveTo>
                  <a:pt x="463" y="608"/>
                </a:moveTo>
                <a:cubicBezTo>
                  <a:pt x="463" y="451"/>
                  <a:pt x="463" y="451"/>
                  <a:pt x="463" y="451"/>
                </a:cubicBezTo>
                <a:cubicBezTo>
                  <a:pt x="463" y="448"/>
                  <a:pt x="463" y="448"/>
                  <a:pt x="463" y="448"/>
                </a:cubicBezTo>
                <a:cubicBezTo>
                  <a:pt x="463" y="447"/>
                  <a:pt x="463" y="447"/>
                  <a:pt x="463" y="447"/>
                </a:cubicBezTo>
                <a:cubicBezTo>
                  <a:pt x="462" y="440"/>
                  <a:pt x="460" y="435"/>
                  <a:pt x="456" y="433"/>
                </a:cubicBezTo>
                <a:cubicBezTo>
                  <a:pt x="452" y="431"/>
                  <a:pt x="447" y="431"/>
                  <a:pt x="442" y="434"/>
                </a:cubicBezTo>
                <a:cubicBezTo>
                  <a:pt x="438" y="435"/>
                  <a:pt x="409" y="450"/>
                  <a:pt x="392" y="450"/>
                </a:cubicBezTo>
                <a:cubicBezTo>
                  <a:pt x="357" y="450"/>
                  <a:pt x="329" y="419"/>
                  <a:pt x="329" y="381"/>
                </a:cubicBezTo>
                <a:cubicBezTo>
                  <a:pt x="329" y="343"/>
                  <a:pt x="357" y="312"/>
                  <a:pt x="392" y="312"/>
                </a:cubicBezTo>
                <a:cubicBezTo>
                  <a:pt x="409" y="312"/>
                  <a:pt x="438" y="326"/>
                  <a:pt x="442" y="328"/>
                </a:cubicBezTo>
                <a:cubicBezTo>
                  <a:pt x="445" y="330"/>
                  <a:pt x="451" y="331"/>
                  <a:pt x="456" y="329"/>
                </a:cubicBezTo>
                <a:cubicBezTo>
                  <a:pt x="459" y="327"/>
                  <a:pt x="462" y="322"/>
                  <a:pt x="463" y="316"/>
                </a:cubicBezTo>
                <a:cubicBezTo>
                  <a:pt x="463" y="315"/>
                  <a:pt x="463" y="314"/>
                  <a:pt x="463" y="311"/>
                </a:cubicBezTo>
                <a:cubicBezTo>
                  <a:pt x="463" y="170"/>
                  <a:pt x="463" y="170"/>
                  <a:pt x="463" y="170"/>
                </a:cubicBezTo>
                <a:cubicBezTo>
                  <a:pt x="463" y="161"/>
                  <a:pt x="463" y="161"/>
                  <a:pt x="463" y="161"/>
                </a:cubicBezTo>
                <a:cubicBezTo>
                  <a:pt x="463" y="161"/>
                  <a:pt x="463" y="138"/>
                  <a:pt x="463" y="138"/>
                </a:cubicBezTo>
                <a:cubicBezTo>
                  <a:pt x="463" y="138"/>
                  <a:pt x="440" y="138"/>
                  <a:pt x="439" y="138"/>
                </a:cubicBezTo>
                <a:cubicBezTo>
                  <a:pt x="421" y="138"/>
                  <a:pt x="404" y="138"/>
                  <a:pt x="386" y="138"/>
                </a:cubicBezTo>
                <a:cubicBezTo>
                  <a:pt x="368" y="138"/>
                  <a:pt x="349" y="138"/>
                  <a:pt x="331" y="138"/>
                </a:cubicBezTo>
                <a:cubicBezTo>
                  <a:pt x="322" y="138"/>
                  <a:pt x="312" y="138"/>
                  <a:pt x="303" y="138"/>
                </a:cubicBezTo>
                <a:cubicBezTo>
                  <a:pt x="284" y="138"/>
                  <a:pt x="265" y="128"/>
                  <a:pt x="265" y="108"/>
                </a:cubicBezTo>
                <a:cubicBezTo>
                  <a:pt x="265" y="102"/>
                  <a:pt x="266" y="97"/>
                  <a:pt x="269" y="91"/>
                </a:cubicBezTo>
                <a:cubicBezTo>
                  <a:pt x="275" y="80"/>
                  <a:pt x="283" y="58"/>
                  <a:pt x="283" y="49"/>
                </a:cubicBezTo>
                <a:cubicBezTo>
                  <a:pt x="283" y="24"/>
                  <a:pt x="260" y="0"/>
                  <a:pt x="232" y="0"/>
                </a:cubicBezTo>
                <a:cubicBezTo>
                  <a:pt x="204" y="0"/>
                  <a:pt x="181" y="24"/>
                  <a:pt x="181" y="49"/>
                </a:cubicBezTo>
                <a:cubicBezTo>
                  <a:pt x="181" y="59"/>
                  <a:pt x="189" y="80"/>
                  <a:pt x="195" y="91"/>
                </a:cubicBezTo>
                <a:cubicBezTo>
                  <a:pt x="197" y="97"/>
                  <a:pt x="199" y="102"/>
                  <a:pt x="199" y="107"/>
                </a:cubicBezTo>
                <a:cubicBezTo>
                  <a:pt x="199" y="113"/>
                  <a:pt x="197" y="119"/>
                  <a:pt x="194" y="124"/>
                </a:cubicBezTo>
                <a:cubicBezTo>
                  <a:pt x="190" y="129"/>
                  <a:pt x="185" y="133"/>
                  <a:pt x="179" y="135"/>
                </a:cubicBezTo>
                <a:cubicBezTo>
                  <a:pt x="176" y="136"/>
                  <a:pt x="173" y="137"/>
                  <a:pt x="170" y="137"/>
                </a:cubicBezTo>
                <a:cubicBezTo>
                  <a:pt x="167" y="137"/>
                  <a:pt x="165" y="138"/>
                  <a:pt x="162" y="138"/>
                </a:cubicBezTo>
                <a:cubicBezTo>
                  <a:pt x="0" y="138"/>
                  <a:pt x="0" y="138"/>
                  <a:pt x="0" y="138"/>
                </a:cubicBezTo>
                <a:cubicBezTo>
                  <a:pt x="0" y="504"/>
                  <a:pt x="0" y="504"/>
                  <a:pt x="0" y="504"/>
                </a:cubicBezTo>
                <a:cubicBezTo>
                  <a:pt x="0" y="562"/>
                  <a:pt x="46" y="608"/>
                  <a:pt x="104" y="608"/>
                </a:cubicBezTo>
                <a:cubicBezTo>
                  <a:pt x="445" y="608"/>
                  <a:pt x="445" y="608"/>
                  <a:pt x="445" y="608"/>
                </a:cubicBezTo>
                <a:cubicBezTo>
                  <a:pt x="449" y="608"/>
                  <a:pt x="455" y="608"/>
                  <a:pt x="463" y="608"/>
                </a:cubicBezTo>
                <a:close/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8" name="Freeform 14"/>
          <p:cNvSpPr/>
          <p:nvPr/>
        </p:nvSpPr>
        <p:spPr>
          <a:xfrm>
            <a:off x="1325520" y="3603600"/>
            <a:ext cx="1203480" cy="1303200"/>
          </a:xfrm>
          <a:custGeom>
            <a:avLst/>
            <a:gdLst/>
            <a:ahLst/>
            <a:rect l="l" t="t" r="r" b="b"/>
            <a:pathLst>
              <a:path w="463" h="502">
                <a:moveTo>
                  <a:pt x="463" y="332"/>
                </a:moveTo>
                <a:cubicBezTo>
                  <a:pt x="463" y="328"/>
                  <a:pt x="463" y="328"/>
                  <a:pt x="463" y="328"/>
                </a:cubicBezTo>
                <a:cubicBezTo>
                  <a:pt x="463" y="328"/>
                  <a:pt x="463" y="327"/>
                  <a:pt x="463" y="327"/>
                </a:cubicBezTo>
                <a:cubicBezTo>
                  <a:pt x="462" y="320"/>
                  <a:pt x="460" y="314"/>
                  <a:pt x="456" y="312"/>
                </a:cubicBezTo>
                <a:cubicBezTo>
                  <a:pt x="452" y="310"/>
                  <a:pt x="447" y="310"/>
                  <a:pt x="442" y="313"/>
                </a:cubicBezTo>
                <a:cubicBezTo>
                  <a:pt x="438" y="315"/>
                  <a:pt x="409" y="330"/>
                  <a:pt x="392" y="330"/>
                </a:cubicBezTo>
                <a:cubicBezTo>
                  <a:pt x="357" y="330"/>
                  <a:pt x="329" y="297"/>
                  <a:pt x="329" y="257"/>
                </a:cubicBezTo>
                <a:cubicBezTo>
                  <a:pt x="329" y="217"/>
                  <a:pt x="357" y="184"/>
                  <a:pt x="392" y="184"/>
                </a:cubicBezTo>
                <a:cubicBezTo>
                  <a:pt x="409" y="184"/>
                  <a:pt x="438" y="199"/>
                  <a:pt x="442" y="201"/>
                </a:cubicBezTo>
                <a:cubicBezTo>
                  <a:pt x="445" y="203"/>
                  <a:pt x="451" y="205"/>
                  <a:pt x="456" y="202"/>
                </a:cubicBezTo>
                <a:cubicBezTo>
                  <a:pt x="459" y="200"/>
                  <a:pt x="462" y="195"/>
                  <a:pt x="463" y="188"/>
                </a:cubicBezTo>
                <a:cubicBezTo>
                  <a:pt x="463" y="188"/>
                  <a:pt x="463" y="188"/>
                  <a:pt x="463" y="188"/>
                </a:cubicBezTo>
                <a:cubicBezTo>
                  <a:pt x="463" y="188"/>
                  <a:pt x="463" y="186"/>
                  <a:pt x="463" y="184"/>
                </a:cubicBezTo>
                <a:cubicBezTo>
                  <a:pt x="463" y="34"/>
                  <a:pt x="463" y="34"/>
                  <a:pt x="463" y="34"/>
                </a:cubicBezTo>
                <a:cubicBezTo>
                  <a:pt x="463" y="25"/>
                  <a:pt x="463" y="25"/>
                  <a:pt x="463" y="25"/>
                </a:cubicBezTo>
                <a:cubicBezTo>
                  <a:pt x="463" y="0"/>
                  <a:pt x="463" y="0"/>
                  <a:pt x="463" y="0"/>
                </a:cubicBezTo>
                <a:cubicBezTo>
                  <a:pt x="302" y="0"/>
                  <a:pt x="302" y="0"/>
                  <a:pt x="302" y="0"/>
                </a:cubicBezTo>
                <a:cubicBezTo>
                  <a:pt x="298" y="0"/>
                  <a:pt x="298" y="0"/>
                  <a:pt x="298" y="0"/>
                </a:cubicBezTo>
                <a:cubicBezTo>
                  <a:pt x="294" y="0"/>
                  <a:pt x="283" y="2"/>
                  <a:pt x="283" y="13"/>
                </a:cubicBezTo>
                <a:cubicBezTo>
                  <a:pt x="283" y="16"/>
                  <a:pt x="283" y="19"/>
                  <a:pt x="285" y="22"/>
                </a:cubicBezTo>
                <a:cubicBezTo>
                  <a:pt x="286" y="26"/>
                  <a:pt x="301" y="57"/>
                  <a:pt x="301" y="75"/>
                </a:cubicBezTo>
                <a:cubicBezTo>
                  <a:pt x="301" y="112"/>
                  <a:pt x="270" y="138"/>
                  <a:pt x="232" y="138"/>
                </a:cubicBezTo>
                <a:cubicBezTo>
                  <a:pt x="194" y="138"/>
                  <a:pt x="163" y="112"/>
                  <a:pt x="163" y="75"/>
                </a:cubicBezTo>
                <a:cubicBezTo>
                  <a:pt x="163" y="57"/>
                  <a:pt x="177" y="26"/>
                  <a:pt x="179" y="22"/>
                </a:cubicBezTo>
                <a:cubicBezTo>
                  <a:pt x="181" y="19"/>
                  <a:pt x="181" y="16"/>
                  <a:pt x="181" y="13"/>
                </a:cubicBezTo>
                <a:cubicBezTo>
                  <a:pt x="181" y="3"/>
                  <a:pt x="171" y="0"/>
                  <a:pt x="166" y="0"/>
                </a:cubicBezTo>
                <a:cubicBezTo>
                  <a:pt x="165" y="0"/>
                  <a:pt x="164" y="0"/>
                  <a:pt x="16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02"/>
                  <a:pt x="0" y="502"/>
                  <a:pt x="0" y="502"/>
                </a:cubicBezTo>
                <a:cubicBezTo>
                  <a:pt x="36" y="502"/>
                  <a:pt x="165" y="502"/>
                  <a:pt x="165" y="502"/>
                </a:cubicBezTo>
                <a:cubicBezTo>
                  <a:pt x="165" y="502"/>
                  <a:pt x="165" y="502"/>
                  <a:pt x="165" y="502"/>
                </a:cubicBezTo>
                <a:cubicBezTo>
                  <a:pt x="166" y="502"/>
                  <a:pt x="166" y="502"/>
                  <a:pt x="166" y="502"/>
                </a:cubicBezTo>
                <a:cubicBezTo>
                  <a:pt x="171" y="501"/>
                  <a:pt x="181" y="499"/>
                  <a:pt x="181" y="488"/>
                </a:cubicBezTo>
                <a:cubicBezTo>
                  <a:pt x="181" y="486"/>
                  <a:pt x="181" y="482"/>
                  <a:pt x="179" y="479"/>
                </a:cubicBezTo>
                <a:cubicBezTo>
                  <a:pt x="177" y="476"/>
                  <a:pt x="163" y="444"/>
                  <a:pt x="163" y="426"/>
                </a:cubicBezTo>
                <a:cubicBezTo>
                  <a:pt x="163" y="390"/>
                  <a:pt x="194" y="364"/>
                  <a:pt x="232" y="364"/>
                </a:cubicBezTo>
                <a:cubicBezTo>
                  <a:pt x="270" y="364"/>
                  <a:pt x="301" y="390"/>
                  <a:pt x="301" y="426"/>
                </a:cubicBezTo>
                <a:cubicBezTo>
                  <a:pt x="301" y="444"/>
                  <a:pt x="287" y="476"/>
                  <a:pt x="285" y="479"/>
                </a:cubicBezTo>
                <a:cubicBezTo>
                  <a:pt x="283" y="482"/>
                  <a:pt x="283" y="486"/>
                  <a:pt x="283" y="488"/>
                </a:cubicBezTo>
                <a:cubicBezTo>
                  <a:pt x="283" y="500"/>
                  <a:pt x="295" y="501"/>
                  <a:pt x="299" y="502"/>
                </a:cubicBezTo>
                <a:cubicBezTo>
                  <a:pt x="299" y="502"/>
                  <a:pt x="299" y="502"/>
                  <a:pt x="299" y="502"/>
                </a:cubicBezTo>
                <a:cubicBezTo>
                  <a:pt x="302" y="502"/>
                  <a:pt x="302" y="502"/>
                  <a:pt x="302" y="502"/>
                </a:cubicBezTo>
                <a:cubicBezTo>
                  <a:pt x="463" y="502"/>
                  <a:pt x="463" y="502"/>
                  <a:pt x="463" y="502"/>
                </a:cubicBezTo>
                <a:lnTo>
                  <a:pt x="463" y="332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9" name="TextBox 47"/>
          <p:cNvSpPr/>
          <p:nvPr/>
        </p:nvSpPr>
        <p:spPr>
          <a:xfrm>
            <a:off x="6245280" y="2100240"/>
            <a:ext cx="5307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For every 6 emails received, we get 3 Phone calls. Suitable for all categories business and personal presentation</a:t>
            </a:r>
            <a:r>
              <a:rPr b="1" lang="id-ID" sz="1200" spc="-1" strike="noStrike">
                <a:solidFill>
                  <a:srgbClr val="3f3f3f"/>
                </a:solidFill>
                <a:latin typeface="Open Sans"/>
              </a:rPr>
              <a:t>,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0" name="TextBox 48"/>
          <p:cNvSpPr/>
          <p:nvPr/>
        </p:nvSpPr>
        <p:spPr>
          <a:xfrm>
            <a:off x="6256800" y="1776240"/>
            <a:ext cx="24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Poppins"/>
              </a:rPr>
              <a:t>PUZZLE DIAGRAM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1" name="TextBox 49"/>
          <p:cNvSpPr/>
          <p:nvPr/>
        </p:nvSpPr>
        <p:spPr>
          <a:xfrm>
            <a:off x="6214320" y="324180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2" name="TextBox 50"/>
          <p:cNvSpPr/>
          <p:nvPr/>
        </p:nvSpPr>
        <p:spPr>
          <a:xfrm>
            <a:off x="6214320" y="398772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3" name="TextBox 51"/>
          <p:cNvSpPr/>
          <p:nvPr/>
        </p:nvSpPr>
        <p:spPr>
          <a:xfrm>
            <a:off x="6214320" y="471816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4" name="TextBox 52"/>
          <p:cNvSpPr/>
          <p:nvPr/>
        </p:nvSpPr>
        <p:spPr>
          <a:xfrm>
            <a:off x="6214320" y="545796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5" name="Rectangle 53"/>
          <p:cNvSpPr/>
          <p:nvPr/>
        </p:nvSpPr>
        <p:spPr>
          <a:xfrm>
            <a:off x="6351480" y="3541680"/>
            <a:ext cx="3984840" cy="378000"/>
          </a:xfrm>
          <a:prstGeom prst="rect">
            <a:avLst/>
          </a:pr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6" name="Rectangle 54"/>
          <p:cNvSpPr/>
          <p:nvPr/>
        </p:nvSpPr>
        <p:spPr>
          <a:xfrm>
            <a:off x="6351480" y="4278240"/>
            <a:ext cx="3429000" cy="3780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7" name="Rectangle 55"/>
          <p:cNvSpPr/>
          <p:nvPr/>
        </p:nvSpPr>
        <p:spPr>
          <a:xfrm>
            <a:off x="6351480" y="5014800"/>
            <a:ext cx="2482920" cy="378000"/>
          </a:xfrm>
          <a:prstGeom prst="rect">
            <a:avLst/>
          </a:pr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8" name="Rectangle 56"/>
          <p:cNvSpPr/>
          <p:nvPr/>
        </p:nvSpPr>
        <p:spPr>
          <a:xfrm>
            <a:off x="6351480" y="5761080"/>
            <a:ext cx="1600200" cy="377640"/>
          </a:xfrm>
          <a:prstGeom prst="rect">
            <a:avLst/>
          </a:pr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9" name="TextBox 57"/>
          <p:cNvSpPr/>
          <p:nvPr/>
        </p:nvSpPr>
        <p:spPr>
          <a:xfrm>
            <a:off x="10336320" y="3510000"/>
            <a:ext cx="1216080" cy="3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Poppins"/>
                <a:ea typeface="Open Sans"/>
              </a:rPr>
              <a:t>29.57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10281600" y="3733920"/>
            <a:ext cx="1325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0960" bIns="30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c8c8c"/>
                </a:solidFill>
                <a:latin typeface="Open Sans"/>
                <a:ea typeface="Arial"/>
              </a:rPr>
              <a:t>Put your 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1" name="TextBox 59"/>
          <p:cNvSpPr/>
          <p:nvPr/>
        </p:nvSpPr>
        <p:spPr>
          <a:xfrm>
            <a:off x="8834400" y="4971960"/>
            <a:ext cx="1039680" cy="3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Poppins"/>
                <a:ea typeface="Open Sans"/>
              </a:rPr>
              <a:t>17.09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8780400" y="5197320"/>
            <a:ext cx="1325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0960" bIns="30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c8c8c"/>
                </a:solidFill>
                <a:latin typeface="Open Sans"/>
                <a:ea typeface="Arial"/>
              </a:rPr>
              <a:t>Put your 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3" name="TextBox 61"/>
          <p:cNvSpPr/>
          <p:nvPr/>
        </p:nvSpPr>
        <p:spPr>
          <a:xfrm>
            <a:off x="7958160" y="5745240"/>
            <a:ext cx="1100160" cy="3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Poppins"/>
                <a:ea typeface="Open Sans"/>
              </a:rPr>
              <a:t>11.28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7904160" y="5970600"/>
            <a:ext cx="1325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0960" bIns="30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c8c8c"/>
                </a:solidFill>
                <a:latin typeface="Open Sans"/>
                <a:ea typeface="Arial"/>
              </a:rPr>
              <a:t>Put your 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5" name="TextBox 63"/>
          <p:cNvSpPr/>
          <p:nvPr/>
        </p:nvSpPr>
        <p:spPr>
          <a:xfrm>
            <a:off x="9779040" y="4243320"/>
            <a:ext cx="1089000" cy="3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Poppins"/>
                <a:ea typeface="Open Sans"/>
              </a:rPr>
              <a:t>23.13%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6" name="TextBox 3"/>
          <p:cNvSpPr/>
          <p:nvPr/>
        </p:nvSpPr>
        <p:spPr>
          <a:xfrm>
            <a:off x="9724320" y="4468680"/>
            <a:ext cx="1325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0960" bIns="30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c8c8c"/>
                </a:solidFill>
                <a:latin typeface="Open Sans"/>
                <a:ea typeface="Arial"/>
              </a:rPr>
              <a:t>Put your 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Poppins"/>
              </a:rPr>
              <a:t>MIND PUZZLE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78" name="Freeform 5"/>
          <p:cNvSpPr/>
          <p:nvPr/>
        </p:nvSpPr>
        <p:spPr>
          <a:xfrm>
            <a:off x="7778880" y="1736640"/>
            <a:ext cx="804600" cy="804960"/>
          </a:xfrm>
          <a:custGeom>
            <a:avLst/>
            <a:gdLst/>
            <a:ahLst/>
            <a:rect l="l" t="t" r="r" b="b"/>
            <a:pathLst>
              <a:path w="310" h="310">
                <a:moveTo>
                  <a:pt x="310" y="181"/>
                </a:moveTo>
                <a:cubicBezTo>
                  <a:pt x="310" y="152"/>
                  <a:pt x="287" y="129"/>
                  <a:pt x="258" y="128"/>
                </a:cubicBezTo>
                <a:cubicBezTo>
                  <a:pt x="258" y="52"/>
                  <a:pt x="258" y="52"/>
                  <a:pt x="258" y="52"/>
                </a:cubicBezTo>
                <a:cubicBezTo>
                  <a:pt x="181" y="52"/>
                  <a:pt x="181" y="52"/>
                  <a:pt x="181" y="52"/>
                </a:cubicBezTo>
                <a:cubicBezTo>
                  <a:pt x="181" y="23"/>
                  <a:pt x="157" y="0"/>
                  <a:pt x="128" y="0"/>
                </a:cubicBezTo>
                <a:cubicBezTo>
                  <a:pt x="99" y="0"/>
                  <a:pt x="75" y="23"/>
                  <a:pt x="75" y="52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128"/>
                  <a:pt x="0" y="128"/>
                  <a:pt x="0" y="128"/>
                </a:cubicBezTo>
                <a:cubicBezTo>
                  <a:pt x="29" y="129"/>
                  <a:pt x="52" y="152"/>
                  <a:pt x="52" y="181"/>
                </a:cubicBezTo>
                <a:cubicBezTo>
                  <a:pt x="52" y="210"/>
                  <a:pt x="29" y="234"/>
                  <a:pt x="0" y="234"/>
                </a:cubicBezTo>
                <a:cubicBezTo>
                  <a:pt x="0" y="310"/>
                  <a:pt x="0" y="310"/>
                  <a:pt x="0" y="310"/>
                </a:cubicBezTo>
                <a:cubicBezTo>
                  <a:pt x="75" y="310"/>
                  <a:pt x="75" y="310"/>
                  <a:pt x="75" y="310"/>
                </a:cubicBezTo>
                <a:cubicBezTo>
                  <a:pt x="75" y="281"/>
                  <a:pt x="99" y="257"/>
                  <a:pt x="128" y="257"/>
                </a:cubicBezTo>
                <a:cubicBezTo>
                  <a:pt x="157" y="257"/>
                  <a:pt x="181" y="281"/>
                  <a:pt x="181" y="310"/>
                </a:cubicBezTo>
                <a:cubicBezTo>
                  <a:pt x="258" y="310"/>
                  <a:pt x="258" y="310"/>
                  <a:pt x="258" y="310"/>
                </a:cubicBezTo>
                <a:cubicBezTo>
                  <a:pt x="258" y="234"/>
                  <a:pt x="258" y="234"/>
                  <a:pt x="258" y="234"/>
                </a:cubicBezTo>
                <a:cubicBezTo>
                  <a:pt x="287" y="234"/>
                  <a:pt x="310" y="210"/>
                  <a:pt x="310" y="181"/>
                </a:cubicBezTo>
                <a:close/>
              </a:path>
            </a:pathLst>
          </a:custGeom>
          <a:solidFill>
            <a:srgbClr val="c0392b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9" name="Freeform 6"/>
          <p:cNvSpPr/>
          <p:nvPr/>
        </p:nvSpPr>
        <p:spPr>
          <a:xfrm>
            <a:off x="8448840" y="1736640"/>
            <a:ext cx="803160" cy="804960"/>
          </a:xfrm>
          <a:custGeom>
            <a:avLst/>
            <a:gdLst/>
            <a:ahLst/>
            <a:rect l="l" t="t" r="r" b="b"/>
            <a:pathLst>
              <a:path w="309" h="310">
                <a:moveTo>
                  <a:pt x="309" y="181"/>
                </a:moveTo>
                <a:cubicBezTo>
                  <a:pt x="309" y="152"/>
                  <a:pt x="286" y="129"/>
                  <a:pt x="258" y="128"/>
                </a:cubicBezTo>
                <a:cubicBezTo>
                  <a:pt x="258" y="52"/>
                  <a:pt x="258" y="52"/>
                  <a:pt x="258" y="52"/>
                </a:cubicBezTo>
                <a:cubicBezTo>
                  <a:pt x="181" y="52"/>
                  <a:pt x="181" y="52"/>
                  <a:pt x="181" y="52"/>
                </a:cubicBezTo>
                <a:cubicBezTo>
                  <a:pt x="181" y="23"/>
                  <a:pt x="157" y="0"/>
                  <a:pt x="128" y="0"/>
                </a:cubicBezTo>
                <a:cubicBezTo>
                  <a:pt x="99" y="0"/>
                  <a:pt x="75" y="23"/>
                  <a:pt x="75" y="52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128"/>
                  <a:pt x="0" y="128"/>
                  <a:pt x="0" y="128"/>
                </a:cubicBezTo>
                <a:cubicBezTo>
                  <a:pt x="29" y="129"/>
                  <a:pt x="52" y="152"/>
                  <a:pt x="52" y="181"/>
                </a:cubicBezTo>
                <a:cubicBezTo>
                  <a:pt x="52" y="210"/>
                  <a:pt x="29" y="234"/>
                  <a:pt x="0" y="234"/>
                </a:cubicBezTo>
                <a:cubicBezTo>
                  <a:pt x="0" y="310"/>
                  <a:pt x="0" y="310"/>
                  <a:pt x="0" y="310"/>
                </a:cubicBezTo>
                <a:cubicBezTo>
                  <a:pt x="75" y="310"/>
                  <a:pt x="75" y="310"/>
                  <a:pt x="75" y="310"/>
                </a:cubicBezTo>
                <a:cubicBezTo>
                  <a:pt x="75" y="281"/>
                  <a:pt x="99" y="257"/>
                  <a:pt x="128" y="257"/>
                </a:cubicBezTo>
                <a:cubicBezTo>
                  <a:pt x="157" y="257"/>
                  <a:pt x="181" y="281"/>
                  <a:pt x="181" y="310"/>
                </a:cubicBezTo>
                <a:cubicBezTo>
                  <a:pt x="258" y="310"/>
                  <a:pt x="258" y="310"/>
                  <a:pt x="258" y="310"/>
                </a:cubicBezTo>
                <a:cubicBezTo>
                  <a:pt x="258" y="234"/>
                  <a:pt x="258" y="234"/>
                  <a:pt x="258" y="234"/>
                </a:cubicBezTo>
                <a:cubicBezTo>
                  <a:pt x="286" y="234"/>
                  <a:pt x="309" y="210"/>
                  <a:pt x="309" y="181"/>
                </a:cubicBezTo>
                <a:close/>
              </a:path>
            </a:pathLst>
          </a:custGeom>
          <a:solidFill>
            <a:srgbClr val="c0392b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0" name="Freeform 7"/>
          <p:cNvSpPr/>
          <p:nvPr/>
        </p:nvSpPr>
        <p:spPr>
          <a:xfrm>
            <a:off x="9118440" y="1736640"/>
            <a:ext cx="803520" cy="804960"/>
          </a:xfrm>
          <a:custGeom>
            <a:avLst/>
            <a:gdLst/>
            <a:ahLst/>
            <a:rect l="l" t="t" r="r" b="b"/>
            <a:pathLst>
              <a:path w="309" h="310">
                <a:moveTo>
                  <a:pt x="309" y="181"/>
                </a:moveTo>
                <a:cubicBezTo>
                  <a:pt x="309" y="152"/>
                  <a:pt x="286" y="129"/>
                  <a:pt x="257" y="128"/>
                </a:cubicBezTo>
                <a:cubicBezTo>
                  <a:pt x="257" y="52"/>
                  <a:pt x="257" y="52"/>
                  <a:pt x="257" y="52"/>
                </a:cubicBezTo>
                <a:cubicBezTo>
                  <a:pt x="180" y="52"/>
                  <a:pt x="180" y="52"/>
                  <a:pt x="180" y="52"/>
                </a:cubicBezTo>
                <a:cubicBezTo>
                  <a:pt x="180" y="23"/>
                  <a:pt x="157" y="0"/>
                  <a:pt x="127" y="0"/>
                </a:cubicBezTo>
                <a:cubicBezTo>
                  <a:pt x="98" y="0"/>
                  <a:pt x="75" y="23"/>
                  <a:pt x="75" y="52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128"/>
                  <a:pt x="0" y="128"/>
                  <a:pt x="0" y="128"/>
                </a:cubicBezTo>
                <a:cubicBezTo>
                  <a:pt x="28" y="129"/>
                  <a:pt x="51" y="152"/>
                  <a:pt x="51" y="181"/>
                </a:cubicBezTo>
                <a:cubicBezTo>
                  <a:pt x="51" y="210"/>
                  <a:pt x="28" y="234"/>
                  <a:pt x="0" y="234"/>
                </a:cubicBezTo>
                <a:cubicBezTo>
                  <a:pt x="0" y="310"/>
                  <a:pt x="0" y="310"/>
                  <a:pt x="0" y="310"/>
                </a:cubicBezTo>
                <a:cubicBezTo>
                  <a:pt x="75" y="310"/>
                  <a:pt x="75" y="310"/>
                  <a:pt x="75" y="310"/>
                </a:cubicBezTo>
                <a:cubicBezTo>
                  <a:pt x="75" y="281"/>
                  <a:pt x="98" y="257"/>
                  <a:pt x="127" y="257"/>
                </a:cubicBezTo>
                <a:cubicBezTo>
                  <a:pt x="157" y="257"/>
                  <a:pt x="180" y="281"/>
                  <a:pt x="180" y="310"/>
                </a:cubicBezTo>
                <a:cubicBezTo>
                  <a:pt x="257" y="310"/>
                  <a:pt x="257" y="310"/>
                  <a:pt x="257" y="310"/>
                </a:cubicBezTo>
                <a:cubicBezTo>
                  <a:pt x="257" y="234"/>
                  <a:pt x="257" y="234"/>
                  <a:pt x="257" y="234"/>
                </a:cubicBezTo>
                <a:cubicBezTo>
                  <a:pt x="286" y="234"/>
                  <a:pt x="309" y="210"/>
                  <a:pt x="309" y="181"/>
                </a:cubicBezTo>
                <a:close/>
              </a:path>
            </a:pathLst>
          </a:custGeom>
          <a:solidFill>
            <a:srgbClr val="c0392b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1" name="Freeform 8"/>
          <p:cNvSpPr/>
          <p:nvPr/>
        </p:nvSpPr>
        <p:spPr>
          <a:xfrm>
            <a:off x="9786960" y="1736640"/>
            <a:ext cx="804960" cy="804960"/>
          </a:xfrm>
          <a:custGeom>
            <a:avLst/>
            <a:gdLst/>
            <a:ahLst/>
            <a:rect l="l" t="t" r="r" b="b"/>
            <a:pathLst>
              <a:path w="310" h="310">
                <a:moveTo>
                  <a:pt x="310" y="181"/>
                </a:moveTo>
                <a:cubicBezTo>
                  <a:pt x="310" y="152"/>
                  <a:pt x="287" y="129"/>
                  <a:pt x="258" y="128"/>
                </a:cubicBezTo>
                <a:cubicBezTo>
                  <a:pt x="258" y="52"/>
                  <a:pt x="258" y="52"/>
                  <a:pt x="258" y="52"/>
                </a:cubicBezTo>
                <a:cubicBezTo>
                  <a:pt x="181" y="52"/>
                  <a:pt x="181" y="52"/>
                  <a:pt x="181" y="52"/>
                </a:cubicBezTo>
                <a:cubicBezTo>
                  <a:pt x="181" y="23"/>
                  <a:pt x="157" y="0"/>
                  <a:pt x="128" y="0"/>
                </a:cubicBezTo>
                <a:cubicBezTo>
                  <a:pt x="99" y="0"/>
                  <a:pt x="75" y="23"/>
                  <a:pt x="75" y="52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128"/>
                  <a:pt x="0" y="128"/>
                  <a:pt x="0" y="128"/>
                </a:cubicBezTo>
                <a:cubicBezTo>
                  <a:pt x="29" y="129"/>
                  <a:pt x="52" y="152"/>
                  <a:pt x="52" y="181"/>
                </a:cubicBezTo>
                <a:cubicBezTo>
                  <a:pt x="52" y="210"/>
                  <a:pt x="29" y="234"/>
                  <a:pt x="0" y="234"/>
                </a:cubicBezTo>
                <a:cubicBezTo>
                  <a:pt x="0" y="310"/>
                  <a:pt x="0" y="310"/>
                  <a:pt x="0" y="310"/>
                </a:cubicBezTo>
                <a:cubicBezTo>
                  <a:pt x="75" y="310"/>
                  <a:pt x="75" y="310"/>
                  <a:pt x="75" y="310"/>
                </a:cubicBezTo>
                <a:cubicBezTo>
                  <a:pt x="75" y="281"/>
                  <a:pt x="99" y="257"/>
                  <a:pt x="128" y="257"/>
                </a:cubicBezTo>
                <a:cubicBezTo>
                  <a:pt x="157" y="257"/>
                  <a:pt x="181" y="281"/>
                  <a:pt x="181" y="310"/>
                </a:cubicBezTo>
                <a:cubicBezTo>
                  <a:pt x="258" y="310"/>
                  <a:pt x="258" y="310"/>
                  <a:pt x="258" y="310"/>
                </a:cubicBezTo>
                <a:cubicBezTo>
                  <a:pt x="258" y="234"/>
                  <a:pt x="258" y="234"/>
                  <a:pt x="258" y="234"/>
                </a:cubicBezTo>
                <a:cubicBezTo>
                  <a:pt x="287" y="234"/>
                  <a:pt x="310" y="210"/>
                  <a:pt x="310" y="181"/>
                </a:cubicBezTo>
                <a:close/>
              </a:path>
            </a:pathLst>
          </a:custGeom>
          <a:solidFill>
            <a:srgbClr val="c0392b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2" name="Freeform 9"/>
          <p:cNvSpPr/>
          <p:nvPr/>
        </p:nvSpPr>
        <p:spPr>
          <a:xfrm>
            <a:off x="7778880" y="2403360"/>
            <a:ext cx="804600" cy="808200"/>
          </a:xfrm>
          <a:custGeom>
            <a:avLst/>
            <a:gdLst/>
            <a:ahLst/>
            <a:rect l="l" t="t" r="r" b="b"/>
            <a:pathLst>
              <a:path w="310" h="311">
                <a:moveTo>
                  <a:pt x="310" y="182"/>
                </a:moveTo>
                <a:cubicBezTo>
                  <a:pt x="310" y="153"/>
                  <a:pt x="287" y="130"/>
                  <a:pt x="258" y="129"/>
                </a:cubicBezTo>
                <a:cubicBezTo>
                  <a:pt x="258" y="53"/>
                  <a:pt x="258" y="53"/>
                  <a:pt x="258" y="53"/>
                </a:cubicBezTo>
                <a:cubicBezTo>
                  <a:pt x="181" y="53"/>
                  <a:pt x="181" y="53"/>
                  <a:pt x="181" y="53"/>
                </a:cubicBezTo>
                <a:cubicBezTo>
                  <a:pt x="181" y="24"/>
                  <a:pt x="157" y="0"/>
                  <a:pt x="128" y="0"/>
                </a:cubicBezTo>
                <a:cubicBezTo>
                  <a:pt x="99" y="0"/>
                  <a:pt x="75" y="24"/>
                  <a:pt x="75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129"/>
                  <a:pt x="0" y="129"/>
                  <a:pt x="0" y="129"/>
                </a:cubicBezTo>
                <a:cubicBezTo>
                  <a:pt x="29" y="130"/>
                  <a:pt x="52" y="153"/>
                  <a:pt x="52" y="182"/>
                </a:cubicBezTo>
                <a:cubicBezTo>
                  <a:pt x="52" y="211"/>
                  <a:pt x="29" y="234"/>
                  <a:pt x="0" y="235"/>
                </a:cubicBezTo>
                <a:cubicBezTo>
                  <a:pt x="0" y="311"/>
                  <a:pt x="0" y="311"/>
                  <a:pt x="0" y="311"/>
                </a:cubicBezTo>
                <a:cubicBezTo>
                  <a:pt x="75" y="311"/>
                  <a:pt x="75" y="311"/>
                  <a:pt x="75" y="311"/>
                </a:cubicBezTo>
                <a:cubicBezTo>
                  <a:pt x="75" y="282"/>
                  <a:pt x="99" y="258"/>
                  <a:pt x="128" y="258"/>
                </a:cubicBezTo>
                <a:cubicBezTo>
                  <a:pt x="157" y="258"/>
                  <a:pt x="181" y="282"/>
                  <a:pt x="181" y="311"/>
                </a:cubicBezTo>
                <a:cubicBezTo>
                  <a:pt x="258" y="311"/>
                  <a:pt x="258" y="311"/>
                  <a:pt x="258" y="311"/>
                </a:cubicBezTo>
                <a:cubicBezTo>
                  <a:pt x="258" y="235"/>
                  <a:pt x="258" y="235"/>
                  <a:pt x="258" y="235"/>
                </a:cubicBezTo>
                <a:cubicBezTo>
                  <a:pt x="287" y="234"/>
                  <a:pt x="310" y="211"/>
                  <a:pt x="310" y="182"/>
                </a:cubicBezTo>
                <a:close/>
              </a:path>
            </a:pathLst>
          </a:custGeom>
          <a:solidFill>
            <a:srgbClr val="c0392b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3" name="Freeform 10"/>
          <p:cNvSpPr/>
          <p:nvPr/>
        </p:nvSpPr>
        <p:spPr>
          <a:xfrm>
            <a:off x="8448840" y="2403360"/>
            <a:ext cx="803160" cy="808200"/>
          </a:xfrm>
          <a:custGeom>
            <a:avLst/>
            <a:gdLst/>
            <a:ahLst/>
            <a:rect l="l" t="t" r="r" b="b"/>
            <a:pathLst>
              <a:path w="309" h="311">
                <a:moveTo>
                  <a:pt x="309" y="182"/>
                </a:moveTo>
                <a:cubicBezTo>
                  <a:pt x="309" y="153"/>
                  <a:pt x="286" y="130"/>
                  <a:pt x="258" y="129"/>
                </a:cubicBezTo>
                <a:cubicBezTo>
                  <a:pt x="258" y="53"/>
                  <a:pt x="258" y="53"/>
                  <a:pt x="258" y="53"/>
                </a:cubicBezTo>
                <a:cubicBezTo>
                  <a:pt x="181" y="53"/>
                  <a:pt x="181" y="53"/>
                  <a:pt x="181" y="53"/>
                </a:cubicBezTo>
                <a:cubicBezTo>
                  <a:pt x="181" y="24"/>
                  <a:pt x="157" y="0"/>
                  <a:pt x="128" y="0"/>
                </a:cubicBezTo>
                <a:cubicBezTo>
                  <a:pt x="99" y="0"/>
                  <a:pt x="75" y="24"/>
                  <a:pt x="75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129"/>
                  <a:pt x="0" y="129"/>
                  <a:pt x="0" y="129"/>
                </a:cubicBezTo>
                <a:cubicBezTo>
                  <a:pt x="29" y="130"/>
                  <a:pt x="52" y="153"/>
                  <a:pt x="52" y="182"/>
                </a:cubicBezTo>
                <a:cubicBezTo>
                  <a:pt x="52" y="211"/>
                  <a:pt x="29" y="234"/>
                  <a:pt x="0" y="235"/>
                </a:cubicBezTo>
                <a:cubicBezTo>
                  <a:pt x="0" y="311"/>
                  <a:pt x="0" y="311"/>
                  <a:pt x="0" y="311"/>
                </a:cubicBezTo>
                <a:cubicBezTo>
                  <a:pt x="75" y="311"/>
                  <a:pt x="75" y="311"/>
                  <a:pt x="75" y="311"/>
                </a:cubicBezTo>
                <a:cubicBezTo>
                  <a:pt x="75" y="282"/>
                  <a:pt x="99" y="258"/>
                  <a:pt x="128" y="258"/>
                </a:cubicBezTo>
                <a:cubicBezTo>
                  <a:pt x="157" y="258"/>
                  <a:pt x="181" y="282"/>
                  <a:pt x="181" y="311"/>
                </a:cubicBezTo>
                <a:cubicBezTo>
                  <a:pt x="258" y="311"/>
                  <a:pt x="258" y="311"/>
                  <a:pt x="258" y="311"/>
                </a:cubicBezTo>
                <a:cubicBezTo>
                  <a:pt x="258" y="235"/>
                  <a:pt x="258" y="235"/>
                  <a:pt x="258" y="235"/>
                </a:cubicBezTo>
                <a:cubicBezTo>
                  <a:pt x="286" y="234"/>
                  <a:pt x="309" y="211"/>
                  <a:pt x="309" y="182"/>
                </a:cubicBezTo>
                <a:close/>
              </a:path>
            </a:pathLst>
          </a:custGeom>
          <a:solidFill>
            <a:srgbClr val="c0392b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4" name="Freeform 11"/>
          <p:cNvSpPr/>
          <p:nvPr/>
        </p:nvSpPr>
        <p:spPr>
          <a:xfrm>
            <a:off x="9118440" y="2403360"/>
            <a:ext cx="803520" cy="808200"/>
          </a:xfrm>
          <a:custGeom>
            <a:avLst/>
            <a:gdLst/>
            <a:ahLst/>
            <a:rect l="l" t="t" r="r" b="b"/>
            <a:pathLst>
              <a:path w="309" h="311">
                <a:moveTo>
                  <a:pt x="309" y="182"/>
                </a:moveTo>
                <a:cubicBezTo>
                  <a:pt x="309" y="153"/>
                  <a:pt x="286" y="130"/>
                  <a:pt x="257" y="129"/>
                </a:cubicBezTo>
                <a:cubicBezTo>
                  <a:pt x="257" y="53"/>
                  <a:pt x="257" y="53"/>
                  <a:pt x="257" y="53"/>
                </a:cubicBezTo>
                <a:cubicBezTo>
                  <a:pt x="180" y="53"/>
                  <a:pt x="180" y="53"/>
                  <a:pt x="180" y="53"/>
                </a:cubicBezTo>
                <a:cubicBezTo>
                  <a:pt x="180" y="24"/>
                  <a:pt x="157" y="0"/>
                  <a:pt x="127" y="0"/>
                </a:cubicBezTo>
                <a:cubicBezTo>
                  <a:pt x="98" y="0"/>
                  <a:pt x="75" y="24"/>
                  <a:pt x="75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129"/>
                  <a:pt x="0" y="129"/>
                  <a:pt x="0" y="129"/>
                </a:cubicBezTo>
                <a:cubicBezTo>
                  <a:pt x="28" y="130"/>
                  <a:pt x="51" y="153"/>
                  <a:pt x="51" y="182"/>
                </a:cubicBezTo>
                <a:cubicBezTo>
                  <a:pt x="51" y="211"/>
                  <a:pt x="28" y="234"/>
                  <a:pt x="0" y="235"/>
                </a:cubicBezTo>
                <a:cubicBezTo>
                  <a:pt x="0" y="311"/>
                  <a:pt x="0" y="311"/>
                  <a:pt x="0" y="311"/>
                </a:cubicBezTo>
                <a:cubicBezTo>
                  <a:pt x="75" y="311"/>
                  <a:pt x="75" y="311"/>
                  <a:pt x="75" y="311"/>
                </a:cubicBezTo>
                <a:cubicBezTo>
                  <a:pt x="75" y="282"/>
                  <a:pt x="98" y="258"/>
                  <a:pt x="127" y="258"/>
                </a:cubicBezTo>
                <a:cubicBezTo>
                  <a:pt x="157" y="258"/>
                  <a:pt x="180" y="282"/>
                  <a:pt x="180" y="311"/>
                </a:cubicBezTo>
                <a:cubicBezTo>
                  <a:pt x="257" y="311"/>
                  <a:pt x="257" y="311"/>
                  <a:pt x="257" y="311"/>
                </a:cubicBezTo>
                <a:cubicBezTo>
                  <a:pt x="257" y="235"/>
                  <a:pt x="257" y="235"/>
                  <a:pt x="257" y="235"/>
                </a:cubicBezTo>
                <a:cubicBezTo>
                  <a:pt x="286" y="234"/>
                  <a:pt x="309" y="211"/>
                  <a:pt x="309" y="182"/>
                </a:cubicBezTo>
                <a:close/>
              </a:path>
            </a:pathLst>
          </a:custGeom>
          <a:solidFill>
            <a:srgbClr val="c0392b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5" name="Freeform 12"/>
          <p:cNvSpPr/>
          <p:nvPr/>
        </p:nvSpPr>
        <p:spPr>
          <a:xfrm>
            <a:off x="9786960" y="2403360"/>
            <a:ext cx="804960" cy="808200"/>
          </a:xfrm>
          <a:custGeom>
            <a:avLst/>
            <a:gdLst/>
            <a:ahLst/>
            <a:rect l="l" t="t" r="r" b="b"/>
            <a:pathLst>
              <a:path w="310" h="311">
                <a:moveTo>
                  <a:pt x="310" y="182"/>
                </a:moveTo>
                <a:cubicBezTo>
                  <a:pt x="310" y="153"/>
                  <a:pt x="287" y="130"/>
                  <a:pt x="258" y="129"/>
                </a:cubicBezTo>
                <a:cubicBezTo>
                  <a:pt x="258" y="53"/>
                  <a:pt x="258" y="53"/>
                  <a:pt x="258" y="53"/>
                </a:cubicBezTo>
                <a:cubicBezTo>
                  <a:pt x="181" y="53"/>
                  <a:pt x="181" y="53"/>
                  <a:pt x="181" y="53"/>
                </a:cubicBezTo>
                <a:cubicBezTo>
                  <a:pt x="181" y="24"/>
                  <a:pt x="157" y="0"/>
                  <a:pt x="128" y="0"/>
                </a:cubicBezTo>
                <a:cubicBezTo>
                  <a:pt x="99" y="0"/>
                  <a:pt x="75" y="24"/>
                  <a:pt x="75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129"/>
                  <a:pt x="0" y="129"/>
                  <a:pt x="0" y="129"/>
                </a:cubicBezTo>
                <a:cubicBezTo>
                  <a:pt x="29" y="130"/>
                  <a:pt x="52" y="153"/>
                  <a:pt x="52" y="182"/>
                </a:cubicBezTo>
                <a:cubicBezTo>
                  <a:pt x="52" y="211"/>
                  <a:pt x="29" y="234"/>
                  <a:pt x="0" y="235"/>
                </a:cubicBezTo>
                <a:cubicBezTo>
                  <a:pt x="0" y="311"/>
                  <a:pt x="0" y="311"/>
                  <a:pt x="0" y="311"/>
                </a:cubicBezTo>
                <a:cubicBezTo>
                  <a:pt x="75" y="311"/>
                  <a:pt x="75" y="311"/>
                  <a:pt x="75" y="311"/>
                </a:cubicBezTo>
                <a:cubicBezTo>
                  <a:pt x="75" y="282"/>
                  <a:pt x="99" y="258"/>
                  <a:pt x="128" y="258"/>
                </a:cubicBezTo>
                <a:cubicBezTo>
                  <a:pt x="157" y="258"/>
                  <a:pt x="181" y="282"/>
                  <a:pt x="181" y="311"/>
                </a:cubicBezTo>
                <a:cubicBezTo>
                  <a:pt x="258" y="311"/>
                  <a:pt x="258" y="311"/>
                  <a:pt x="258" y="311"/>
                </a:cubicBezTo>
                <a:cubicBezTo>
                  <a:pt x="258" y="235"/>
                  <a:pt x="258" y="235"/>
                  <a:pt x="258" y="235"/>
                </a:cubicBezTo>
                <a:cubicBezTo>
                  <a:pt x="287" y="234"/>
                  <a:pt x="310" y="211"/>
                  <a:pt x="310" y="182"/>
                </a:cubicBezTo>
                <a:close/>
              </a:path>
            </a:pathLst>
          </a:custGeom>
          <a:solidFill>
            <a:srgbClr val="2980b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6" name="Freeform 13"/>
          <p:cNvSpPr/>
          <p:nvPr/>
        </p:nvSpPr>
        <p:spPr>
          <a:xfrm>
            <a:off x="7778880" y="3073320"/>
            <a:ext cx="804600" cy="804960"/>
          </a:xfrm>
          <a:custGeom>
            <a:avLst/>
            <a:gdLst/>
            <a:ahLst/>
            <a:rect l="l" t="t" r="r" b="b"/>
            <a:pathLst>
              <a:path w="310" h="310">
                <a:moveTo>
                  <a:pt x="310" y="181"/>
                </a:moveTo>
                <a:cubicBezTo>
                  <a:pt x="310" y="153"/>
                  <a:pt x="287" y="129"/>
                  <a:pt x="258" y="129"/>
                </a:cubicBezTo>
                <a:cubicBezTo>
                  <a:pt x="258" y="53"/>
                  <a:pt x="258" y="53"/>
                  <a:pt x="258" y="53"/>
                </a:cubicBezTo>
                <a:cubicBezTo>
                  <a:pt x="181" y="53"/>
                  <a:pt x="181" y="53"/>
                  <a:pt x="181" y="53"/>
                </a:cubicBezTo>
                <a:cubicBezTo>
                  <a:pt x="181" y="23"/>
                  <a:pt x="157" y="0"/>
                  <a:pt x="128" y="0"/>
                </a:cubicBezTo>
                <a:cubicBezTo>
                  <a:pt x="99" y="0"/>
                  <a:pt x="75" y="23"/>
                  <a:pt x="75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129"/>
                  <a:pt x="0" y="129"/>
                  <a:pt x="0" y="129"/>
                </a:cubicBezTo>
                <a:cubicBezTo>
                  <a:pt x="29" y="129"/>
                  <a:pt x="52" y="153"/>
                  <a:pt x="52" y="181"/>
                </a:cubicBezTo>
                <a:cubicBezTo>
                  <a:pt x="52" y="210"/>
                  <a:pt x="29" y="234"/>
                  <a:pt x="0" y="234"/>
                </a:cubicBezTo>
                <a:cubicBezTo>
                  <a:pt x="0" y="310"/>
                  <a:pt x="0" y="310"/>
                  <a:pt x="0" y="310"/>
                </a:cubicBezTo>
                <a:cubicBezTo>
                  <a:pt x="75" y="310"/>
                  <a:pt x="75" y="310"/>
                  <a:pt x="75" y="310"/>
                </a:cubicBezTo>
                <a:cubicBezTo>
                  <a:pt x="75" y="281"/>
                  <a:pt x="99" y="258"/>
                  <a:pt x="128" y="258"/>
                </a:cubicBezTo>
                <a:cubicBezTo>
                  <a:pt x="157" y="258"/>
                  <a:pt x="181" y="281"/>
                  <a:pt x="181" y="310"/>
                </a:cubicBezTo>
                <a:cubicBezTo>
                  <a:pt x="258" y="310"/>
                  <a:pt x="258" y="310"/>
                  <a:pt x="258" y="310"/>
                </a:cubicBezTo>
                <a:cubicBezTo>
                  <a:pt x="258" y="234"/>
                  <a:pt x="258" y="234"/>
                  <a:pt x="258" y="234"/>
                </a:cubicBezTo>
                <a:cubicBezTo>
                  <a:pt x="287" y="234"/>
                  <a:pt x="310" y="210"/>
                  <a:pt x="310" y="181"/>
                </a:cubicBezTo>
                <a:close/>
              </a:path>
            </a:pathLst>
          </a:custGeom>
          <a:solidFill>
            <a:srgbClr val="c0392b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7" name="Freeform 14"/>
          <p:cNvSpPr/>
          <p:nvPr/>
        </p:nvSpPr>
        <p:spPr>
          <a:xfrm>
            <a:off x="8448840" y="3073320"/>
            <a:ext cx="803160" cy="804960"/>
          </a:xfrm>
          <a:custGeom>
            <a:avLst/>
            <a:gdLst/>
            <a:ahLst/>
            <a:rect l="l" t="t" r="r" b="b"/>
            <a:pathLst>
              <a:path w="309" h="310">
                <a:moveTo>
                  <a:pt x="309" y="181"/>
                </a:moveTo>
                <a:cubicBezTo>
                  <a:pt x="309" y="153"/>
                  <a:pt x="286" y="129"/>
                  <a:pt x="258" y="129"/>
                </a:cubicBezTo>
                <a:cubicBezTo>
                  <a:pt x="258" y="53"/>
                  <a:pt x="258" y="53"/>
                  <a:pt x="258" y="53"/>
                </a:cubicBezTo>
                <a:cubicBezTo>
                  <a:pt x="181" y="53"/>
                  <a:pt x="181" y="53"/>
                  <a:pt x="181" y="53"/>
                </a:cubicBezTo>
                <a:cubicBezTo>
                  <a:pt x="181" y="23"/>
                  <a:pt x="157" y="0"/>
                  <a:pt x="128" y="0"/>
                </a:cubicBezTo>
                <a:cubicBezTo>
                  <a:pt x="99" y="0"/>
                  <a:pt x="75" y="23"/>
                  <a:pt x="75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129"/>
                  <a:pt x="0" y="129"/>
                  <a:pt x="0" y="129"/>
                </a:cubicBezTo>
                <a:cubicBezTo>
                  <a:pt x="29" y="129"/>
                  <a:pt x="52" y="153"/>
                  <a:pt x="52" y="181"/>
                </a:cubicBezTo>
                <a:cubicBezTo>
                  <a:pt x="52" y="210"/>
                  <a:pt x="29" y="234"/>
                  <a:pt x="0" y="234"/>
                </a:cubicBezTo>
                <a:cubicBezTo>
                  <a:pt x="0" y="310"/>
                  <a:pt x="0" y="310"/>
                  <a:pt x="0" y="310"/>
                </a:cubicBezTo>
                <a:cubicBezTo>
                  <a:pt x="75" y="310"/>
                  <a:pt x="75" y="310"/>
                  <a:pt x="75" y="310"/>
                </a:cubicBezTo>
                <a:cubicBezTo>
                  <a:pt x="75" y="281"/>
                  <a:pt x="99" y="258"/>
                  <a:pt x="128" y="258"/>
                </a:cubicBezTo>
                <a:cubicBezTo>
                  <a:pt x="157" y="258"/>
                  <a:pt x="181" y="281"/>
                  <a:pt x="181" y="310"/>
                </a:cubicBezTo>
                <a:cubicBezTo>
                  <a:pt x="258" y="310"/>
                  <a:pt x="258" y="310"/>
                  <a:pt x="258" y="310"/>
                </a:cubicBezTo>
                <a:cubicBezTo>
                  <a:pt x="258" y="234"/>
                  <a:pt x="258" y="234"/>
                  <a:pt x="258" y="234"/>
                </a:cubicBezTo>
                <a:cubicBezTo>
                  <a:pt x="286" y="234"/>
                  <a:pt x="309" y="210"/>
                  <a:pt x="309" y="181"/>
                </a:cubicBezTo>
                <a:close/>
              </a:path>
            </a:pathLst>
          </a:custGeom>
          <a:solidFill>
            <a:srgbClr val="2980b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8" name="Freeform 15"/>
          <p:cNvSpPr/>
          <p:nvPr/>
        </p:nvSpPr>
        <p:spPr>
          <a:xfrm>
            <a:off x="9118440" y="3073320"/>
            <a:ext cx="803520" cy="804960"/>
          </a:xfrm>
          <a:custGeom>
            <a:avLst/>
            <a:gdLst/>
            <a:ahLst/>
            <a:rect l="l" t="t" r="r" b="b"/>
            <a:pathLst>
              <a:path w="309" h="310">
                <a:moveTo>
                  <a:pt x="309" y="181"/>
                </a:moveTo>
                <a:cubicBezTo>
                  <a:pt x="309" y="153"/>
                  <a:pt x="286" y="129"/>
                  <a:pt x="257" y="129"/>
                </a:cubicBezTo>
                <a:cubicBezTo>
                  <a:pt x="257" y="53"/>
                  <a:pt x="257" y="53"/>
                  <a:pt x="257" y="53"/>
                </a:cubicBezTo>
                <a:cubicBezTo>
                  <a:pt x="180" y="53"/>
                  <a:pt x="180" y="53"/>
                  <a:pt x="180" y="53"/>
                </a:cubicBezTo>
                <a:cubicBezTo>
                  <a:pt x="180" y="23"/>
                  <a:pt x="157" y="0"/>
                  <a:pt x="127" y="0"/>
                </a:cubicBezTo>
                <a:cubicBezTo>
                  <a:pt x="98" y="0"/>
                  <a:pt x="75" y="23"/>
                  <a:pt x="75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129"/>
                  <a:pt x="0" y="129"/>
                  <a:pt x="0" y="129"/>
                </a:cubicBezTo>
                <a:cubicBezTo>
                  <a:pt x="28" y="129"/>
                  <a:pt x="51" y="153"/>
                  <a:pt x="51" y="181"/>
                </a:cubicBezTo>
                <a:cubicBezTo>
                  <a:pt x="51" y="210"/>
                  <a:pt x="28" y="234"/>
                  <a:pt x="0" y="234"/>
                </a:cubicBezTo>
                <a:cubicBezTo>
                  <a:pt x="0" y="310"/>
                  <a:pt x="0" y="310"/>
                  <a:pt x="0" y="310"/>
                </a:cubicBezTo>
                <a:cubicBezTo>
                  <a:pt x="75" y="310"/>
                  <a:pt x="75" y="310"/>
                  <a:pt x="75" y="310"/>
                </a:cubicBezTo>
                <a:cubicBezTo>
                  <a:pt x="75" y="281"/>
                  <a:pt x="98" y="258"/>
                  <a:pt x="127" y="258"/>
                </a:cubicBezTo>
                <a:cubicBezTo>
                  <a:pt x="157" y="258"/>
                  <a:pt x="180" y="281"/>
                  <a:pt x="180" y="310"/>
                </a:cubicBezTo>
                <a:cubicBezTo>
                  <a:pt x="257" y="310"/>
                  <a:pt x="257" y="310"/>
                  <a:pt x="257" y="310"/>
                </a:cubicBezTo>
                <a:cubicBezTo>
                  <a:pt x="257" y="234"/>
                  <a:pt x="257" y="234"/>
                  <a:pt x="257" y="234"/>
                </a:cubicBezTo>
                <a:cubicBezTo>
                  <a:pt x="286" y="234"/>
                  <a:pt x="309" y="210"/>
                  <a:pt x="309" y="181"/>
                </a:cubicBezTo>
                <a:close/>
              </a:path>
            </a:pathLst>
          </a:custGeom>
          <a:solidFill>
            <a:srgbClr val="2980b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9" name="Freeform 16"/>
          <p:cNvSpPr/>
          <p:nvPr/>
        </p:nvSpPr>
        <p:spPr>
          <a:xfrm>
            <a:off x="9786960" y="3073320"/>
            <a:ext cx="804960" cy="804960"/>
          </a:xfrm>
          <a:custGeom>
            <a:avLst/>
            <a:gdLst/>
            <a:ahLst/>
            <a:rect l="l" t="t" r="r" b="b"/>
            <a:pathLst>
              <a:path w="310" h="310">
                <a:moveTo>
                  <a:pt x="310" y="181"/>
                </a:moveTo>
                <a:cubicBezTo>
                  <a:pt x="310" y="153"/>
                  <a:pt x="287" y="129"/>
                  <a:pt x="258" y="129"/>
                </a:cubicBezTo>
                <a:cubicBezTo>
                  <a:pt x="258" y="53"/>
                  <a:pt x="258" y="53"/>
                  <a:pt x="258" y="53"/>
                </a:cubicBezTo>
                <a:cubicBezTo>
                  <a:pt x="181" y="53"/>
                  <a:pt x="181" y="53"/>
                  <a:pt x="181" y="53"/>
                </a:cubicBezTo>
                <a:cubicBezTo>
                  <a:pt x="181" y="23"/>
                  <a:pt x="157" y="0"/>
                  <a:pt x="128" y="0"/>
                </a:cubicBezTo>
                <a:cubicBezTo>
                  <a:pt x="99" y="0"/>
                  <a:pt x="75" y="23"/>
                  <a:pt x="75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129"/>
                  <a:pt x="0" y="129"/>
                  <a:pt x="0" y="129"/>
                </a:cubicBezTo>
                <a:cubicBezTo>
                  <a:pt x="29" y="129"/>
                  <a:pt x="52" y="153"/>
                  <a:pt x="52" y="181"/>
                </a:cubicBezTo>
                <a:cubicBezTo>
                  <a:pt x="52" y="210"/>
                  <a:pt x="29" y="234"/>
                  <a:pt x="0" y="234"/>
                </a:cubicBezTo>
                <a:cubicBezTo>
                  <a:pt x="0" y="310"/>
                  <a:pt x="0" y="310"/>
                  <a:pt x="0" y="310"/>
                </a:cubicBezTo>
                <a:cubicBezTo>
                  <a:pt x="75" y="310"/>
                  <a:pt x="75" y="310"/>
                  <a:pt x="75" y="310"/>
                </a:cubicBezTo>
                <a:cubicBezTo>
                  <a:pt x="75" y="281"/>
                  <a:pt x="99" y="258"/>
                  <a:pt x="128" y="258"/>
                </a:cubicBezTo>
                <a:cubicBezTo>
                  <a:pt x="157" y="258"/>
                  <a:pt x="181" y="281"/>
                  <a:pt x="181" y="310"/>
                </a:cubicBezTo>
                <a:cubicBezTo>
                  <a:pt x="258" y="310"/>
                  <a:pt x="258" y="310"/>
                  <a:pt x="258" y="310"/>
                </a:cubicBezTo>
                <a:cubicBezTo>
                  <a:pt x="258" y="234"/>
                  <a:pt x="258" y="234"/>
                  <a:pt x="258" y="234"/>
                </a:cubicBezTo>
                <a:cubicBezTo>
                  <a:pt x="287" y="234"/>
                  <a:pt x="310" y="210"/>
                  <a:pt x="310" y="181"/>
                </a:cubicBezTo>
                <a:close/>
              </a:path>
            </a:pathLst>
          </a:custGeom>
          <a:solidFill>
            <a:srgbClr val="2980b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0" name="Freeform 17"/>
          <p:cNvSpPr/>
          <p:nvPr/>
        </p:nvSpPr>
        <p:spPr>
          <a:xfrm>
            <a:off x="7778880" y="3743280"/>
            <a:ext cx="804600" cy="804960"/>
          </a:xfrm>
          <a:custGeom>
            <a:avLst/>
            <a:gdLst/>
            <a:ahLst/>
            <a:rect l="l" t="t" r="r" b="b"/>
            <a:pathLst>
              <a:path w="310" h="310">
                <a:moveTo>
                  <a:pt x="310" y="181"/>
                </a:moveTo>
                <a:cubicBezTo>
                  <a:pt x="310" y="152"/>
                  <a:pt x="287" y="129"/>
                  <a:pt x="258" y="128"/>
                </a:cubicBezTo>
                <a:cubicBezTo>
                  <a:pt x="258" y="52"/>
                  <a:pt x="258" y="52"/>
                  <a:pt x="258" y="52"/>
                </a:cubicBezTo>
                <a:cubicBezTo>
                  <a:pt x="181" y="52"/>
                  <a:pt x="181" y="52"/>
                  <a:pt x="181" y="52"/>
                </a:cubicBezTo>
                <a:cubicBezTo>
                  <a:pt x="181" y="23"/>
                  <a:pt x="157" y="0"/>
                  <a:pt x="128" y="0"/>
                </a:cubicBezTo>
                <a:cubicBezTo>
                  <a:pt x="99" y="0"/>
                  <a:pt x="75" y="23"/>
                  <a:pt x="75" y="52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128"/>
                  <a:pt x="0" y="128"/>
                  <a:pt x="0" y="128"/>
                </a:cubicBezTo>
                <a:cubicBezTo>
                  <a:pt x="29" y="129"/>
                  <a:pt x="52" y="152"/>
                  <a:pt x="52" y="181"/>
                </a:cubicBezTo>
                <a:cubicBezTo>
                  <a:pt x="52" y="210"/>
                  <a:pt x="29" y="234"/>
                  <a:pt x="0" y="234"/>
                </a:cubicBezTo>
                <a:cubicBezTo>
                  <a:pt x="0" y="310"/>
                  <a:pt x="0" y="310"/>
                  <a:pt x="0" y="310"/>
                </a:cubicBezTo>
                <a:cubicBezTo>
                  <a:pt x="75" y="310"/>
                  <a:pt x="75" y="310"/>
                  <a:pt x="75" y="310"/>
                </a:cubicBezTo>
                <a:cubicBezTo>
                  <a:pt x="75" y="281"/>
                  <a:pt x="99" y="257"/>
                  <a:pt x="128" y="257"/>
                </a:cubicBezTo>
                <a:cubicBezTo>
                  <a:pt x="157" y="257"/>
                  <a:pt x="181" y="281"/>
                  <a:pt x="181" y="310"/>
                </a:cubicBezTo>
                <a:cubicBezTo>
                  <a:pt x="258" y="310"/>
                  <a:pt x="258" y="310"/>
                  <a:pt x="258" y="310"/>
                </a:cubicBezTo>
                <a:cubicBezTo>
                  <a:pt x="258" y="234"/>
                  <a:pt x="258" y="234"/>
                  <a:pt x="258" y="234"/>
                </a:cubicBezTo>
                <a:cubicBezTo>
                  <a:pt x="287" y="234"/>
                  <a:pt x="310" y="210"/>
                  <a:pt x="310" y="181"/>
                </a:cubicBezTo>
                <a:close/>
              </a:path>
            </a:pathLst>
          </a:custGeom>
          <a:solidFill>
            <a:srgbClr val="2980b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1" name="Freeform 18"/>
          <p:cNvSpPr/>
          <p:nvPr/>
        </p:nvSpPr>
        <p:spPr>
          <a:xfrm>
            <a:off x="8448840" y="3743280"/>
            <a:ext cx="803160" cy="804960"/>
          </a:xfrm>
          <a:custGeom>
            <a:avLst/>
            <a:gdLst/>
            <a:ahLst/>
            <a:rect l="l" t="t" r="r" b="b"/>
            <a:pathLst>
              <a:path w="309" h="310">
                <a:moveTo>
                  <a:pt x="309" y="181"/>
                </a:moveTo>
                <a:cubicBezTo>
                  <a:pt x="309" y="152"/>
                  <a:pt x="286" y="129"/>
                  <a:pt x="258" y="128"/>
                </a:cubicBezTo>
                <a:cubicBezTo>
                  <a:pt x="258" y="52"/>
                  <a:pt x="258" y="52"/>
                  <a:pt x="258" y="52"/>
                </a:cubicBezTo>
                <a:cubicBezTo>
                  <a:pt x="181" y="52"/>
                  <a:pt x="181" y="52"/>
                  <a:pt x="181" y="52"/>
                </a:cubicBezTo>
                <a:cubicBezTo>
                  <a:pt x="181" y="23"/>
                  <a:pt x="157" y="0"/>
                  <a:pt x="128" y="0"/>
                </a:cubicBezTo>
                <a:cubicBezTo>
                  <a:pt x="99" y="0"/>
                  <a:pt x="75" y="23"/>
                  <a:pt x="75" y="52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128"/>
                  <a:pt x="0" y="128"/>
                  <a:pt x="0" y="128"/>
                </a:cubicBezTo>
                <a:cubicBezTo>
                  <a:pt x="29" y="129"/>
                  <a:pt x="52" y="152"/>
                  <a:pt x="52" y="181"/>
                </a:cubicBezTo>
                <a:cubicBezTo>
                  <a:pt x="52" y="210"/>
                  <a:pt x="29" y="234"/>
                  <a:pt x="0" y="234"/>
                </a:cubicBezTo>
                <a:cubicBezTo>
                  <a:pt x="0" y="310"/>
                  <a:pt x="0" y="310"/>
                  <a:pt x="0" y="310"/>
                </a:cubicBezTo>
                <a:cubicBezTo>
                  <a:pt x="75" y="310"/>
                  <a:pt x="75" y="310"/>
                  <a:pt x="75" y="310"/>
                </a:cubicBezTo>
                <a:cubicBezTo>
                  <a:pt x="75" y="281"/>
                  <a:pt x="99" y="257"/>
                  <a:pt x="128" y="257"/>
                </a:cubicBezTo>
                <a:cubicBezTo>
                  <a:pt x="157" y="257"/>
                  <a:pt x="181" y="281"/>
                  <a:pt x="181" y="310"/>
                </a:cubicBezTo>
                <a:cubicBezTo>
                  <a:pt x="258" y="310"/>
                  <a:pt x="258" y="310"/>
                  <a:pt x="258" y="310"/>
                </a:cubicBezTo>
                <a:cubicBezTo>
                  <a:pt x="258" y="234"/>
                  <a:pt x="258" y="234"/>
                  <a:pt x="258" y="234"/>
                </a:cubicBezTo>
                <a:cubicBezTo>
                  <a:pt x="286" y="234"/>
                  <a:pt x="309" y="210"/>
                  <a:pt x="309" y="181"/>
                </a:cubicBezTo>
                <a:close/>
              </a:path>
            </a:pathLst>
          </a:custGeom>
          <a:solidFill>
            <a:srgbClr val="2980b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2" name="Freeform 19"/>
          <p:cNvSpPr/>
          <p:nvPr/>
        </p:nvSpPr>
        <p:spPr>
          <a:xfrm>
            <a:off x="9118440" y="3743280"/>
            <a:ext cx="803520" cy="804960"/>
          </a:xfrm>
          <a:custGeom>
            <a:avLst/>
            <a:gdLst/>
            <a:ahLst/>
            <a:rect l="l" t="t" r="r" b="b"/>
            <a:pathLst>
              <a:path w="309" h="310">
                <a:moveTo>
                  <a:pt x="309" y="181"/>
                </a:moveTo>
                <a:cubicBezTo>
                  <a:pt x="309" y="152"/>
                  <a:pt x="286" y="129"/>
                  <a:pt x="257" y="128"/>
                </a:cubicBezTo>
                <a:cubicBezTo>
                  <a:pt x="257" y="52"/>
                  <a:pt x="257" y="52"/>
                  <a:pt x="257" y="52"/>
                </a:cubicBezTo>
                <a:cubicBezTo>
                  <a:pt x="180" y="52"/>
                  <a:pt x="180" y="52"/>
                  <a:pt x="180" y="52"/>
                </a:cubicBezTo>
                <a:cubicBezTo>
                  <a:pt x="180" y="23"/>
                  <a:pt x="157" y="0"/>
                  <a:pt x="127" y="0"/>
                </a:cubicBezTo>
                <a:cubicBezTo>
                  <a:pt x="98" y="0"/>
                  <a:pt x="75" y="23"/>
                  <a:pt x="75" y="52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128"/>
                  <a:pt x="0" y="128"/>
                  <a:pt x="0" y="128"/>
                </a:cubicBezTo>
                <a:cubicBezTo>
                  <a:pt x="28" y="129"/>
                  <a:pt x="51" y="152"/>
                  <a:pt x="51" y="181"/>
                </a:cubicBezTo>
                <a:cubicBezTo>
                  <a:pt x="51" y="210"/>
                  <a:pt x="28" y="234"/>
                  <a:pt x="0" y="234"/>
                </a:cubicBezTo>
                <a:cubicBezTo>
                  <a:pt x="0" y="310"/>
                  <a:pt x="0" y="310"/>
                  <a:pt x="0" y="310"/>
                </a:cubicBezTo>
                <a:cubicBezTo>
                  <a:pt x="75" y="310"/>
                  <a:pt x="75" y="310"/>
                  <a:pt x="75" y="310"/>
                </a:cubicBezTo>
                <a:cubicBezTo>
                  <a:pt x="75" y="281"/>
                  <a:pt x="98" y="257"/>
                  <a:pt x="127" y="257"/>
                </a:cubicBezTo>
                <a:cubicBezTo>
                  <a:pt x="157" y="257"/>
                  <a:pt x="180" y="281"/>
                  <a:pt x="180" y="310"/>
                </a:cubicBezTo>
                <a:cubicBezTo>
                  <a:pt x="257" y="310"/>
                  <a:pt x="257" y="310"/>
                  <a:pt x="257" y="310"/>
                </a:cubicBezTo>
                <a:cubicBezTo>
                  <a:pt x="257" y="234"/>
                  <a:pt x="257" y="234"/>
                  <a:pt x="257" y="234"/>
                </a:cubicBezTo>
                <a:cubicBezTo>
                  <a:pt x="286" y="234"/>
                  <a:pt x="309" y="210"/>
                  <a:pt x="309" y="181"/>
                </a:cubicBezTo>
                <a:close/>
              </a:path>
            </a:pathLst>
          </a:custGeom>
          <a:solidFill>
            <a:srgbClr val="2980b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3" name="Freeform 20"/>
          <p:cNvSpPr/>
          <p:nvPr/>
        </p:nvSpPr>
        <p:spPr>
          <a:xfrm>
            <a:off x="7778880" y="4411800"/>
            <a:ext cx="804600" cy="806400"/>
          </a:xfrm>
          <a:custGeom>
            <a:avLst/>
            <a:gdLst/>
            <a:ahLst/>
            <a:rect l="l" t="t" r="r" b="b"/>
            <a:pathLst>
              <a:path w="310" h="311">
                <a:moveTo>
                  <a:pt x="310" y="182"/>
                </a:moveTo>
                <a:cubicBezTo>
                  <a:pt x="310" y="153"/>
                  <a:pt x="287" y="129"/>
                  <a:pt x="258" y="129"/>
                </a:cubicBezTo>
                <a:cubicBezTo>
                  <a:pt x="258" y="53"/>
                  <a:pt x="258" y="53"/>
                  <a:pt x="258" y="53"/>
                </a:cubicBezTo>
                <a:cubicBezTo>
                  <a:pt x="181" y="53"/>
                  <a:pt x="181" y="53"/>
                  <a:pt x="181" y="53"/>
                </a:cubicBezTo>
                <a:cubicBezTo>
                  <a:pt x="181" y="24"/>
                  <a:pt x="157" y="0"/>
                  <a:pt x="128" y="0"/>
                </a:cubicBezTo>
                <a:cubicBezTo>
                  <a:pt x="99" y="0"/>
                  <a:pt x="75" y="24"/>
                  <a:pt x="75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129"/>
                  <a:pt x="0" y="129"/>
                  <a:pt x="0" y="129"/>
                </a:cubicBezTo>
                <a:cubicBezTo>
                  <a:pt x="29" y="129"/>
                  <a:pt x="52" y="153"/>
                  <a:pt x="52" y="182"/>
                </a:cubicBezTo>
                <a:cubicBezTo>
                  <a:pt x="52" y="211"/>
                  <a:pt x="29" y="234"/>
                  <a:pt x="0" y="235"/>
                </a:cubicBezTo>
                <a:cubicBezTo>
                  <a:pt x="0" y="311"/>
                  <a:pt x="0" y="311"/>
                  <a:pt x="0" y="311"/>
                </a:cubicBezTo>
                <a:cubicBezTo>
                  <a:pt x="75" y="311"/>
                  <a:pt x="75" y="311"/>
                  <a:pt x="75" y="311"/>
                </a:cubicBezTo>
                <a:cubicBezTo>
                  <a:pt x="75" y="281"/>
                  <a:pt x="99" y="258"/>
                  <a:pt x="128" y="258"/>
                </a:cubicBezTo>
                <a:cubicBezTo>
                  <a:pt x="157" y="258"/>
                  <a:pt x="181" y="281"/>
                  <a:pt x="181" y="311"/>
                </a:cubicBezTo>
                <a:cubicBezTo>
                  <a:pt x="258" y="311"/>
                  <a:pt x="258" y="311"/>
                  <a:pt x="258" y="311"/>
                </a:cubicBezTo>
                <a:cubicBezTo>
                  <a:pt x="258" y="235"/>
                  <a:pt x="258" y="235"/>
                  <a:pt x="258" y="235"/>
                </a:cubicBezTo>
                <a:cubicBezTo>
                  <a:pt x="287" y="234"/>
                  <a:pt x="310" y="211"/>
                  <a:pt x="310" y="182"/>
                </a:cubicBezTo>
                <a:close/>
              </a:path>
            </a:pathLst>
          </a:custGeom>
          <a:solidFill>
            <a:srgbClr val="2980b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4" name="Freeform 21"/>
          <p:cNvSpPr/>
          <p:nvPr/>
        </p:nvSpPr>
        <p:spPr>
          <a:xfrm>
            <a:off x="8448840" y="4411800"/>
            <a:ext cx="803160" cy="806400"/>
          </a:xfrm>
          <a:custGeom>
            <a:avLst/>
            <a:gdLst/>
            <a:ahLst/>
            <a:rect l="l" t="t" r="r" b="b"/>
            <a:pathLst>
              <a:path w="309" h="311">
                <a:moveTo>
                  <a:pt x="309" y="182"/>
                </a:moveTo>
                <a:cubicBezTo>
                  <a:pt x="309" y="153"/>
                  <a:pt x="286" y="129"/>
                  <a:pt x="258" y="129"/>
                </a:cubicBezTo>
                <a:cubicBezTo>
                  <a:pt x="258" y="53"/>
                  <a:pt x="258" y="53"/>
                  <a:pt x="258" y="53"/>
                </a:cubicBezTo>
                <a:cubicBezTo>
                  <a:pt x="181" y="53"/>
                  <a:pt x="181" y="53"/>
                  <a:pt x="181" y="53"/>
                </a:cubicBezTo>
                <a:cubicBezTo>
                  <a:pt x="181" y="24"/>
                  <a:pt x="157" y="0"/>
                  <a:pt x="128" y="0"/>
                </a:cubicBezTo>
                <a:cubicBezTo>
                  <a:pt x="99" y="0"/>
                  <a:pt x="75" y="24"/>
                  <a:pt x="75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129"/>
                  <a:pt x="0" y="129"/>
                  <a:pt x="0" y="129"/>
                </a:cubicBezTo>
                <a:cubicBezTo>
                  <a:pt x="29" y="129"/>
                  <a:pt x="52" y="153"/>
                  <a:pt x="52" y="182"/>
                </a:cubicBezTo>
                <a:cubicBezTo>
                  <a:pt x="52" y="211"/>
                  <a:pt x="29" y="234"/>
                  <a:pt x="0" y="235"/>
                </a:cubicBezTo>
                <a:cubicBezTo>
                  <a:pt x="0" y="311"/>
                  <a:pt x="0" y="311"/>
                  <a:pt x="0" y="311"/>
                </a:cubicBezTo>
                <a:cubicBezTo>
                  <a:pt x="75" y="311"/>
                  <a:pt x="75" y="311"/>
                  <a:pt x="75" y="311"/>
                </a:cubicBezTo>
                <a:cubicBezTo>
                  <a:pt x="75" y="281"/>
                  <a:pt x="99" y="258"/>
                  <a:pt x="128" y="258"/>
                </a:cubicBezTo>
                <a:cubicBezTo>
                  <a:pt x="157" y="258"/>
                  <a:pt x="181" y="281"/>
                  <a:pt x="181" y="311"/>
                </a:cubicBezTo>
                <a:cubicBezTo>
                  <a:pt x="258" y="311"/>
                  <a:pt x="258" y="311"/>
                  <a:pt x="258" y="311"/>
                </a:cubicBezTo>
                <a:cubicBezTo>
                  <a:pt x="258" y="235"/>
                  <a:pt x="258" y="235"/>
                  <a:pt x="258" y="235"/>
                </a:cubicBezTo>
                <a:cubicBezTo>
                  <a:pt x="286" y="234"/>
                  <a:pt x="309" y="211"/>
                  <a:pt x="309" y="182"/>
                </a:cubicBezTo>
                <a:close/>
              </a:path>
            </a:pathLst>
          </a:custGeom>
          <a:solidFill>
            <a:srgbClr val="2980b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5" name="Freeform 22"/>
          <p:cNvSpPr/>
          <p:nvPr/>
        </p:nvSpPr>
        <p:spPr>
          <a:xfrm>
            <a:off x="9118440" y="4411800"/>
            <a:ext cx="803520" cy="806400"/>
          </a:xfrm>
          <a:custGeom>
            <a:avLst/>
            <a:gdLst/>
            <a:ahLst/>
            <a:rect l="l" t="t" r="r" b="b"/>
            <a:pathLst>
              <a:path w="309" h="311">
                <a:moveTo>
                  <a:pt x="309" y="182"/>
                </a:moveTo>
                <a:cubicBezTo>
                  <a:pt x="309" y="153"/>
                  <a:pt x="286" y="129"/>
                  <a:pt x="257" y="129"/>
                </a:cubicBezTo>
                <a:cubicBezTo>
                  <a:pt x="257" y="53"/>
                  <a:pt x="257" y="53"/>
                  <a:pt x="257" y="53"/>
                </a:cubicBezTo>
                <a:cubicBezTo>
                  <a:pt x="180" y="53"/>
                  <a:pt x="180" y="53"/>
                  <a:pt x="180" y="53"/>
                </a:cubicBezTo>
                <a:cubicBezTo>
                  <a:pt x="180" y="24"/>
                  <a:pt x="157" y="0"/>
                  <a:pt x="127" y="0"/>
                </a:cubicBezTo>
                <a:cubicBezTo>
                  <a:pt x="98" y="0"/>
                  <a:pt x="75" y="24"/>
                  <a:pt x="75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129"/>
                  <a:pt x="0" y="129"/>
                  <a:pt x="0" y="129"/>
                </a:cubicBezTo>
                <a:cubicBezTo>
                  <a:pt x="28" y="129"/>
                  <a:pt x="51" y="153"/>
                  <a:pt x="51" y="182"/>
                </a:cubicBezTo>
                <a:cubicBezTo>
                  <a:pt x="51" y="211"/>
                  <a:pt x="28" y="234"/>
                  <a:pt x="0" y="235"/>
                </a:cubicBezTo>
                <a:cubicBezTo>
                  <a:pt x="0" y="311"/>
                  <a:pt x="0" y="311"/>
                  <a:pt x="0" y="311"/>
                </a:cubicBezTo>
                <a:cubicBezTo>
                  <a:pt x="75" y="311"/>
                  <a:pt x="75" y="311"/>
                  <a:pt x="75" y="311"/>
                </a:cubicBezTo>
                <a:cubicBezTo>
                  <a:pt x="75" y="281"/>
                  <a:pt x="98" y="258"/>
                  <a:pt x="127" y="258"/>
                </a:cubicBezTo>
                <a:cubicBezTo>
                  <a:pt x="157" y="258"/>
                  <a:pt x="180" y="281"/>
                  <a:pt x="180" y="311"/>
                </a:cubicBezTo>
                <a:cubicBezTo>
                  <a:pt x="257" y="311"/>
                  <a:pt x="257" y="311"/>
                  <a:pt x="257" y="311"/>
                </a:cubicBezTo>
                <a:cubicBezTo>
                  <a:pt x="257" y="235"/>
                  <a:pt x="257" y="235"/>
                  <a:pt x="257" y="235"/>
                </a:cubicBezTo>
                <a:cubicBezTo>
                  <a:pt x="286" y="234"/>
                  <a:pt x="309" y="211"/>
                  <a:pt x="309" y="182"/>
                </a:cubicBezTo>
                <a:close/>
              </a:path>
            </a:pathLst>
          </a:custGeom>
          <a:solidFill>
            <a:srgbClr val="2980b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6" name="Freeform 23"/>
          <p:cNvSpPr/>
          <p:nvPr/>
        </p:nvSpPr>
        <p:spPr>
          <a:xfrm>
            <a:off x="9118440" y="5079960"/>
            <a:ext cx="803520" cy="804960"/>
          </a:xfrm>
          <a:custGeom>
            <a:avLst/>
            <a:gdLst/>
            <a:ahLst/>
            <a:rect l="l" t="t" r="r" b="b"/>
            <a:pathLst>
              <a:path w="309" h="310">
                <a:moveTo>
                  <a:pt x="309" y="181"/>
                </a:moveTo>
                <a:cubicBezTo>
                  <a:pt x="309" y="153"/>
                  <a:pt x="286" y="129"/>
                  <a:pt x="257" y="129"/>
                </a:cubicBezTo>
                <a:cubicBezTo>
                  <a:pt x="257" y="53"/>
                  <a:pt x="257" y="53"/>
                  <a:pt x="257" y="53"/>
                </a:cubicBezTo>
                <a:cubicBezTo>
                  <a:pt x="180" y="53"/>
                  <a:pt x="180" y="53"/>
                  <a:pt x="180" y="53"/>
                </a:cubicBezTo>
                <a:cubicBezTo>
                  <a:pt x="180" y="23"/>
                  <a:pt x="157" y="0"/>
                  <a:pt x="127" y="0"/>
                </a:cubicBezTo>
                <a:cubicBezTo>
                  <a:pt x="98" y="0"/>
                  <a:pt x="75" y="23"/>
                  <a:pt x="75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129"/>
                  <a:pt x="0" y="129"/>
                  <a:pt x="0" y="129"/>
                </a:cubicBezTo>
                <a:cubicBezTo>
                  <a:pt x="28" y="129"/>
                  <a:pt x="51" y="153"/>
                  <a:pt x="51" y="181"/>
                </a:cubicBezTo>
                <a:cubicBezTo>
                  <a:pt x="51" y="210"/>
                  <a:pt x="28" y="234"/>
                  <a:pt x="0" y="234"/>
                </a:cubicBezTo>
                <a:cubicBezTo>
                  <a:pt x="0" y="310"/>
                  <a:pt x="0" y="310"/>
                  <a:pt x="0" y="310"/>
                </a:cubicBezTo>
                <a:cubicBezTo>
                  <a:pt x="75" y="310"/>
                  <a:pt x="75" y="310"/>
                  <a:pt x="75" y="310"/>
                </a:cubicBezTo>
                <a:cubicBezTo>
                  <a:pt x="75" y="281"/>
                  <a:pt x="98" y="258"/>
                  <a:pt x="127" y="258"/>
                </a:cubicBezTo>
                <a:cubicBezTo>
                  <a:pt x="157" y="258"/>
                  <a:pt x="180" y="281"/>
                  <a:pt x="180" y="310"/>
                </a:cubicBezTo>
                <a:cubicBezTo>
                  <a:pt x="257" y="310"/>
                  <a:pt x="257" y="310"/>
                  <a:pt x="257" y="310"/>
                </a:cubicBezTo>
                <a:cubicBezTo>
                  <a:pt x="257" y="234"/>
                  <a:pt x="257" y="234"/>
                  <a:pt x="257" y="234"/>
                </a:cubicBezTo>
                <a:cubicBezTo>
                  <a:pt x="286" y="234"/>
                  <a:pt x="309" y="210"/>
                  <a:pt x="309" y="181"/>
                </a:cubicBezTo>
                <a:close/>
              </a:path>
            </a:pathLst>
          </a:custGeom>
          <a:solidFill>
            <a:srgbClr val="2980b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7" name="Freeform 24"/>
          <p:cNvSpPr/>
          <p:nvPr/>
        </p:nvSpPr>
        <p:spPr>
          <a:xfrm>
            <a:off x="7394400" y="3073320"/>
            <a:ext cx="519120" cy="804960"/>
          </a:xfrm>
          <a:custGeom>
            <a:avLst/>
            <a:gdLst/>
            <a:ahLst/>
            <a:rect l="l" t="t" r="r" b="b"/>
            <a:pathLst>
              <a:path w="200" h="310">
                <a:moveTo>
                  <a:pt x="148" y="129"/>
                </a:moveTo>
                <a:cubicBezTo>
                  <a:pt x="148" y="53"/>
                  <a:pt x="148" y="53"/>
                  <a:pt x="148" y="53"/>
                </a:cubicBezTo>
                <a:cubicBezTo>
                  <a:pt x="71" y="53"/>
                  <a:pt x="71" y="53"/>
                  <a:pt x="71" y="53"/>
                </a:cubicBezTo>
                <a:cubicBezTo>
                  <a:pt x="71" y="23"/>
                  <a:pt x="47" y="0"/>
                  <a:pt x="18" y="0"/>
                </a:cubicBezTo>
                <a:cubicBezTo>
                  <a:pt x="12" y="0"/>
                  <a:pt x="5" y="1"/>
                  <a:pt x="0" y="3"/>
                </a:cubicBezTo>
                <a:cubicBezTo>
                  <a:pt x="20" y="177"/>
                  <a:pt x="63" y="201"/>
                  <a:pt x="30" y="259"/>
                </a:cubicBezTo>
                <a:cubicBezTo>
                  <a:pt x="53" y="264"/>
                  <a:pt x="71" y="285"/>
                  <a:pt x="71" y="310"/>
                </a:cubicBezTo>
                <a:cubicBezTo>
                  <a:pt x="148" y="310"/>
                  <a:pt x="148" y="310"/>
                  <a:pt x="148" y="310"/>
                </a:cubicBezTo>
                <a:cubicBezTo>
                  <a:pt x="148" y="234"/>
                  <a:pt x="148" y="234"/>
                  <a:pt x="148" y="234"/>
                </a:cubicBezTo>
                <a:cubicBezTo>
                  <a:pt x="177" y="234"/>
                  <a:pt x="200" y="210"/>
                  <a:pt x="200" y="181"/>
                </a:cubicBezTo>
                <a:cubicBezTo>
                  <a:pt x="200" y="153"/>
                  <a:pt x="177" y="129"/>
                  <a:pt x="148" y="129"/>
                </a:cubicBezTo>
                <a:close/>
              </a:path>
            </a:pathLst>
          </a:custGeom>
          <a:solidFill>
            <a:srgbClr val="c0392b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8" name="Freeform 25"/>
          <p:cNvSpPr/>
          <p:nvPr/>
        </p:nvSpPr>
        <p:spPr>
          <a:xfrm>
            <a:off x="7365960" y="2403360"/>
            <a:ext cx="547560" cy="808200"/>
          </a:xfrm>
          <a:custGeom>
            <a:avLst/>
            <a:gdLst/>
            <a:ahLst/>
            <a:rect l="l" t="t" r="r" b="b"/>
            <a:pathLst>
              <a:path w="211" h="311">
                <a:moveTo>
                  <a:pt x="159" y="129"/>
                </a:moveTo>
                <a:cubicBezTo>
                  <a:pt x="159" y="53"/>
                  <a:pt x="159" y="53"/>
                  <a:pt x="159" y="53"/>
                </a:cubicBezTo>
                <a:cubicBezTo>
                  <a:pt x="82" y="53"/>
                  <a:pt x="82" y="53"/>
                  <a:pt x="82" y="53"/>
                </a:cubicBezTo>
                <a:cubicBezTo>
                  <a:pt x="82" y="24"/>
                  <a:pt x="58" y="0"/>
                  <a:pt x="29" y="0"/>
                </a:cubicBezTo>
                <a:cubicBezTo>
                  <a:pt x="29" y="0"/>
                  <a:pt x="28" y="0"/>
                  <a:pt x="28" y="0"/>
                </a:cubicBezTo>
                <a:cubicBezTo>
                  <a:pt x="9" y="54"/>
                  <a:pt x="0" y="113"/>
                  <a:pt x="4" y="177"/>
                </a:cubicBezTo>
                <a:cubicBezTo>
                  <a:pt x="5" y="209"/>
                  <a:pt x="8" y="237"/>
                  <a:pt x="11" y="262"/>
                </a:cubicBezTo>
                <a:cubicBezTo>
                  <a:pt x="16" y="259"/>
                  <a:pt x="23" y="258"/>
                  <a:pt x="29" y="258"/>
                </a:cubicBezTo>
                <a:cubicBezTo>
                  <a:pt x="58" y="258"/>
                  <a:pt x="82" y="282"/>
                  <a:pt x="82" y="311"/>
                </a:cubicBezTo>
                <a:cubicBezTo>
                  <a:pt x="159" y="311"/>
                  <a:pt x="159" y="311"/>
                  <a:pt x="159" y="311"/>
                </a:cubicBezTo>
                <a:cubicBezTo>
                  <a:pt x="159" y="235"/>
                  <a:pt x="159" y="235"/>
                  <a:pt x="159" y="235"/>
                </a:cubicBezTo>
                <a:cubicBezTo>
                  <a:pt x="188" y="234"/>
                  <a:pt x="211" y="211"/>
                  <a:pt x="211" y="182"/>
                </a:cubicBezTo>
                <a:cubicBezTo>
                  <a:pt x="211" y="153"/>
                  <a:pt x="188" y="130"/>
                  <a:pt x="159" y="129"/>
                </a:cubicBezTo>
                <a:close/>
              </a:path>
            </a:pathLst>
          </a:custGeom>
          <a:solidFill>
            <a:srgbClr val="c0392b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9" name="Freeform 26"/>
          <p:cNvSpPr/>
          <p:nvPr/>
        </p:nvSpPr>
        <p:spPr>
          <a:xfrm>
            <a:off x="7439040" y="1903320"/>
            <a:ext cx="474480" cy="638280"/>
          </a:xfrm>
          <a:custGeom>
            <a:avLst/>
            <a:gdLst/>
            <a:ahLst/>
            <a:rect l="l" t="t" r="r" b="b"/>
            <a:pathLst>
              <a:path w="183" h="246">
                <a:moveTo>
                  <a:pt x="0" y="193"/>
                </a:moveTo>
                <a:cubicBezTo>
                  <a:pt x="0" y="193"/>
                  <a:pt x="1" y="193"/>
                  <a:pt x="1" y="193"/>
                </a:cubicBezTo>
                <a:cubicBezTo>
                  <a:pt x="30" y="193"/>
                  <a:pt x="54" y="217"/>
                  <a:pt x="54" y="246"/>
                </a:cubicBezTo>
                <a:cubicBezTo>
                  <a:pt x="131" y="246"/>
                  <a:pt x="131" y="246"/>
                  <a:pt x="131" y="246"/>
                </a:cubicBezTo>
                <a:cubicBezTo>
                  <a:pt x="131" y="170"/>
                  <a:pt x="131" y="170"/>
                  <a:pt x="131" y="170"/>
                </a:cubicBezTo>
                <a:cubicBezTo>
                  <a:pt x="160" y="170"/>
                  <a:pt x="183" y="146"/>
                  <a:pt x="183" y="117"/>
                </a:cubicBezTo>
                <a:cubicBezTo>
                  <a:pt x="183" y="88"/>
                  <a:pt x="160" y="65"/>
                  <a:pt x="131" y="64"/>
                </a:cubicBezTo>
                <a:cubicBezTo>
                  <a:pt x="131" y="0"/>
                  <a:pt x="131" y="0"/>
                  <a:pt x="131" y="0"/>
                </a:cubicBezTo>
                <a:cubicBezTo>
                  <a:pt x="71" y="54"/>
                  <a:pt x="25" y="119"/>
                  <a:pt x="0" y="193"/>
                </a:cubicBezTo>
                <a:close/>
              </a:path>
            </a:pathLst>
          </a:custGeom>
          <a:solidFill>
            <a:srgbClr val="c0392b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0" name="Freeform 27"/>
          <p:cNvSpPr/>
          <p:nvPr/>
        </p:nvSpPr>
        <p:spPr>
          <a:xfrm>
            <a:off x="7813800" y="1490760"/>
            <a:ext cx="769680" cy="384120"/>
          </a:xfrm>
          <a:custGeom>
            <a:avLst/>
            <a:gdLst/>
            <a:ahLst/>
            <a:rect l="l" t="t" r="r" b="b"/>
            <a:pathLst>
              <a:path w="297" h="148">
                <a:moveTo>
                  <a:pt x="293" y="0"/>
                </a:moveTo>
                <a:cubicBezTo>
                  <a:pt x="179" y="32"/>
                  <a:pt x="78" y="81"/>
                  <a:pt x="0" y="148"/>
                </a:cubicBezTo>
                <a:cubicBezTo>
                  <a:pt x="62" y="148"/>
                  <a:pt x="62" y="148"/>
                  <a:pt x="62" y="148"/>
                </a:cubicBezTo>
                <a:cubicBezTo>
                  <a:pt x="62" y="119"/>
                  <a:pt x="86" y="95"/>
                  <a:pt x="115" y="95"/>
                </a:cubicBezTo>
                <a:cubicBezTo>
                  <a:pt x="144" y="95"/>
                  <a:pt x="168" y="119"/>
                  <a:pt x="168" y="148"/>
                </a:cubicBezTo>
                <a:cubicBezTo>
                  <a:pt x="245" y="148"/>
                  <a:pt x="245" y="148"/>
                  <a:pt x="245" y="148"/>
                </a:cubicBezTo>
                <a:cubicBezTo>
                  <a:pt x="245" y="72"/>
                  <a:pt x="245" y="72"/>
                  <a:pt x="245" y="72"/>
                </a:cubicBezTo>
                <a:cubicBezTo>
                  <a:pt x="274" y="71"/>
                  <a:pt x="297" y="48"/>
                  <a:pt x="297" y="19"/>
                </a:cubicBezTo>
                <a:cubicBezTo>
                  <a:pt x="297" y="12"/>
                  <a:pt x="295" y="6"/>
                  <a:pt x="293" y="0"/>
                </a:cubicBezTo>
                <a:close/>
              </a:path>
            </a:pathLst>
          </a:custGeom>
          <a:solidFill>
            <a:srgbClr val="c0392b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1" name="Freeform 28"/>
          <p:cNvSpPr/>
          <p:nvPr/>
        </p:nvSpPr>
        <p:spPr>
          <a:xfrm>
            <a:off x="8448840" y="1392120"/>
            <a:ext cx="803160" cy="482760"/>
          </a:xfrm>
          <a:custGeom>
            <a:avLst/>
            <a:gdLst/>
            <a:ahLst/>
            <a:rect l="l" t="t" r="r" b="b"/>
            <a:pathLst>
              <a:path w="309" h="186">
                <a:moveTo>
                  <a:pt x="181" y="186"/>
                </a:moveTo>
                <a:cubicBezTo>
                  <a:pt x="258" y="186"/>
                  <a:pt x="258" y="186"/>
                  <a:pt x="258" y="186"/>
                </a:cubicBezTo>
                <a:cubicBezTo>
                  <a:pt x="258" y="110"/>
                  <a:pt x="258" y="110"/>
                  <a:pt x="258" y="110"/>
                </a:cubicBezTo>
                <a:cubicBezTo>
                  <a:pt x="286" y="109"/>
                  <a:pt x="309" y="86"/>
                  <a:pt x="309" y="57"/>
                </a:cubicBezTo>
                <a:cubicBezTo>
                  <a:pt x="309" y="28"/>
                  <a:pt x="286" y="5"/>
                  <a:pt x="258" y="4"/>
                </a:cubicBezTo>
                <a:cubicBezTo>
                  <a:pt x="258" y="0"/>
                  <a:pt x="258" y="0"/>
                  <a:pt x="258" y="0"/>
                </a:cubicBezTo>
                <a:cubicBezTo>
                  <a:pt x="216" y="4"/>
                  <a:pt x="172" y="11"/>
                  <a:pt x="126" y="20"/>
                </a:cubicBezTo>
                <a:cubicBezTo>
                  <a:pt x="99" y="25"/>
                  <a:pt x="73" y="32"/>
                  <a:pt x="48" y="38"/>
                </a:cubicBezTo>
                <a:cubicBezTo>
                  <a:pt x="50" y="44"/>
                  <a:pt x="52" y="50"/>
                  <a:pt x="52" y="57"/>
                </a:cubicBezTo>
                <a:cubicBezTo>
                  <a:pt x="52" y="86"/>
                  <a:pt x="29" y="109"/>
                  <a:pt x="0" y="110"/>
                </a:cubicBezTo>
                <a:cubicBezTo>
                  <a:pt x="0" y="186"/>
                  <a:pt x="0" y="186"/>
                  <a:pt x="0" y="186"/>
                </a:cubicBezTo>
                <a:cubicBezTo>
                  <a:pt x="75" y="186"/>
                  <a:pt x="75" y="186"/>
                  <a:pt x="75" y="186"/>
                </a:cubicBezTo>
                <a:cubicBezTo>
                  <a:pt x="75" y="157"/>
                  <a:pt x="99" y="133"/>
                  <a:pt x="128" y="133"/>
                </a:cubicBezTo>
                <a:cubicBezTo>
                  <a:pt x="157" y="133"/>
                  <a:pt x="181" y="157"/>
                  <a:pt x="181" y="186"/>
                </a:cubicBezTo>
                <a:close/>
              </a:path>
            </a:pathLst>
          </a:custGeom>
          <a:solidFill>
            <a:srgbClr val="c0392b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2" name="Freeform 29"/>
          <p:cNvSpPr/>
          <p:nvPr/>
        </p:nvSpPr>
        <p:spPr>
          <a:xfrm>
            <a:off x="9118440" y="1357200"/>
            <a:ext cx="803520" cy="517680"/>
          </a:xfrm>
          <a:custGeom>
            <a:avLst/>
            <a:gdLst/>
            <a:ahLst/>
            <a:rect l="l" t="t" r="r" b="b"/>
            <a:pathLst>
              <a:path w="309" h="199">
                <a:moveTo>
                  <a:pt x="127" y="146"/>
                </a:moveTo>
                <a:cubicBezTo>
                  <a:pt x="157" y="146"/>
                  <a:pt x="180" y="170"/>
                  <a:pt x="180" y="199"/>
                </a:cubicBezTo>
                <a:cubicBezTo>
                  <a:pt x="257" y="199"/>
                  <a:pt x="257" y="199"/>
                  <a:pt x="257" y="199"/>
                </a:cubicBezTo>
                <a:cubicBezTo>
                  <a:pt x="257" y="123"/>
                  <a:pt x="257" y="123"/>
                  <a:pt x="257" y="123"/>
                </a:cubicBezTo>
                <a:cubicBezTo>
                  <a:pt x="286" y="122"/>
                  <a:pt x="309" y="99"/>
                  <a:pt x="309" y="70"/>
                </a:cubicBezTo>
                <a:cubicBezTo>
                  <a:pt x="309" y="50"/>
                  <a:pt x="298" y="32"/>
                  <a:pt x="281" y="23"/>
                </a:cubicBezTo>
                <a:cubicBezTo>
                  <a:pt x="199" y="3"/>
                  <a:pt x="106" y="0"/>
                  <a:pt x="0" y="13"/>
                </a:cubicBezTo>
                <a:cubicBezTo>
                  <a:pt x="0" y="17"/>
                  <a:pt x="0" y="17"/>
                  <a:pt x="0" y="17"/>
                </a:cubicBezTo>
                <a:cubicBezTo>
                  <a:pt x="28" y="18"/>
                  <a:pt x="51" y="41"/>
                  <a:pt x="51" y="70"/>
                </a:cubicBezTo>
                <a:cubicBezTo>
                  <a:pt x="51" y="99"/>
                  <a:pt x="28" y="122"/>
                  <a:pt x="0" y="123"/>
                </a:cubicBezTo>
                <a:cubicBezTo>
                  <a:pt x="0" y="199"/>
                  <a:pt x="0" y="199"/>
                  <a:pt x="0" y="199"/>
                </a:cubicBezTo>
                <a:cubicBezTo>
                  <a:pt x="75" y="199"/>
                  <a:pt x="75" y="199"/>
                  <a:pt x="75" y="199"/>
                </a:cubicBezTo>
                <a:cubicBezTo>
                  <a:pt x="75" y="170"/>
                  <a:pt x="98" y="146"/>
                  <a:pt x="127" y="146"/>
                </a:cubicBezTo>
                <a:close/>
              </a:path>
            </a:pathLst>
          </a:custGeom>
          <a:solidFill>
            <a:srgbClr val="c0392b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3" name="Freeform 30"/>
          <p:cNvSpPr/>
          <p:nvPr/>
        </p:nvSpPr>
        <p:spPr>
          <a:xfrm>
            <a:off x="9786960" y="1417680"/>
            <a:ext cx="669960" cy="457200"/>
          </a:xfrm>
          <a:custGeom>
            <a:avLst/>
            <a:gdLst/>
            <a:ahLst/>
            <a:rect l="l" t="t" r="r" b="b"/>
            <a:pathLst>
              <a:path w="258" h="176">
                <a:moveTo>
                  <a:pt x="128" y="123"/>
                </a:moveTo>
                <a:cubicBezTo>
                  <a:pt x="157" y="123"/>
                  <a:pt x="181" y="147"/>
                  <a:pt x="181" y="176"/>
                </a:cubicBezTo>
                <a:cubicBezTo>
                  <a:pt x="258" y="176"/>
                  <a:pt x="258" y="176"/>
                  <a:pt x="258" y="176"/>
                </a:cubicBezTo>
                <a:cubicBezTo>
                  <a:pt x="258" y="128"/>
                  <a:pt x="258" y="128"/>
                  <a:pt x="258" y="128"/>
                </a:cubicBezTo>
                <a:cubicBezTo>
                  <a:pt x="188" y="63"/>
                  <a:pt x="112" y="22"/>
                  <a:pt x="24" y="0"/>
                </a:cubicBezTo>
                <a:cubicBezTo>
                  <a:pt x="41" y="9"/>
                  <a:pt x="52" y="27"/>
                  <a:pt x="52" y="47"/>
                </a:cubicBezTo>
                <a:cubicBezTo>
                  <a:pt x="52" y="76"/>
                  <a:pt x="29" y="99"/>
                  <a:pt x="0" y="100"/>
                </a:cubicBezTo>
                <a:cubicBezTo>
                  <a:pt x="0" y="176"/>
                  <a:pt x="0" y="176"/>
                  <a:pt x="0" y="176"/>
                </a:cubicBezTo>
                <a:cubicBezTo>
                  <a:pt x="75" y="176"/>
                  <a:pt x="75" y="176"/>
                  <a:pt x="75" y="176"/>
                </a:cubicBezTo>
                <a:cubicBezTo>
                  <a:pt x="75" y="147"/>
                  <a:pt x="99" y="123"/>
                  <a:pt x="128" y="123"/>
                </a:cubicBezTo>
                <a:close/>
              </a:path>
            </a:pathLst>
          </a:custGeom>
          <a:solidFill>
            <a:srgbClr val="c0392b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4" name="Freeform 31"/>
          <p:cNvSpPr/>
          <p:nvPr/>
        </p:nvSpPr>
        <p:spPr>
          <a:xfrm>
            <a:off x="10456920" y="1871640"/>
            <a:ext cx="417600" cy="669960"/>
          </a:xfrm>
          <a:custGeom>
            <a:avLst/>
            <a:gdLst/>
            <a:ahLst/>
            <a:rect l="l" t="t" r="r" b="b"/>
            <a:pathLst>
              <a:path w="161" h="258">
                <a:moveTo>
                  <a:pt x="161" y="217"/>
                </a:moveTo>
                <a:cubicBezTo>
                  <a:pt x="139" y="137"/>
                  <a:pt x="101" y="62"/>
                  <a:pt x="4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76"/>
                  <a:pt x="0" y="76"/>
                  <a:pt x="0" y="76"/>
                </a:cubicBezTo>
                <a:cubicBezTo>
                  <a:pt x="29" y="77"/>
                  <a:pt x="52" y="100"/>
                  <a:pt x="52" y="129"/>
                </a:cubicBezTo>
                <a:cubicBezTo>
                  <a:pt x="52" y="158"/>
                  <a:pt x="29" y="182"/>
                  <a:pt x="0" y="182"/>
                </a:cubicBezTo>
                <a:cubicBezTo>
                  <a:pt x="0" y="258"/>
                  <a:pt x="0" y="258"/>
                  <a:pt x="0" y="258"/>
                </a:cubicBezTo>
                <a:cubicBezTo>
                  <a:pt x="75" y="258"/>
                  <a:pt x="75" y="258"/>
                  <a:pt x="75" y="258"/>
                </a:cubicBezTo>
                <a:cubicBezTo>
                  <a:pt x="75" y="229"/>
                  <a:pt x="99" y="205"/>
                  <a:pt x="128" y="205"/>
                </a:cubicBezTo>
                <a:cubicBezTo>
                  <a:pt x="141" y="205"/>
                  <a:pt x="152" y="210"/>
                  <a:pt x="161" y="217"/>
                </a:cubicBezTo>
                <a:close/>
              </a:path>
            </a:pathLst>
          </a:custGeom>
          <a:solidFill>
            <a:srgbClr val="c0392b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5" name="Freeform 32"/>
          <p:cNvSpPr/>
          <p:nvPr/>
        </p:nvSpPr>
        <p:spPr>
          <a:xfrm>
            <a:off x="10456920" y="2403360"/>
            <a:ext cx="498240" cy="808200"/>
          </a:xfrm>
          <a:custGeom>
            <a:avLst/>
            <a:gdLst/>
            <a:ahLst/>
            <a:rect l="l" t="t" r="r" b="b"/>
            <a:pathLst>
              <a:path w="192" h="311">
                <a:moveTo>
                  <a:pt x="161" y="12"/>
                </a:moveTo>
                <a:cubicBezTo>
                  <a:pt x="152" y="5"/>
                  <a:pt x="141" y="0"/>
                  <a:pt x="128" y="0"/>
                </a:cubicBezTo>
                <a:cubicBezTo>
                  <a:pt x="99" y="0"/>
                  <a:pt x="75" y="24"/>
                  <a:pt x="75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129"/>
                  <a:pt x="0" y="129"/>
                  <a:pt x="0" y="129"/>
                </a:cubicBezTo>
                <a:cubicBezTo>
                  <a:pt x="29" y="130"/>
                  <a:pt x="52" y="153"/>
                  <a:pt x="52" y="182"/>
                </a:cubicBezTo>
                <a:cubicBezTo>
                  <a:pt x="52" y="211"/>
                  <a:pt x="29" y="234"/>
                  <a:pt x="0" y="235"/>
                </a:cubicBezTo>
                <a:cubicBezTo>
                  <a:pt x="0" y="311"/>
                  <a:pt x="0" y="311"/>
                  <a:pt x="0" y="311"/>
                </a:cubicBezTo>
                <a:cubicBezTo>
                  <a:pt x="75" y="311"/>
                  <a:pt x="75" y="311"/>
                  <a:pt x="75" y="311"/>
                </a:cubicBezTo>
                <a:cubicBezTo>
                  <a:pt x="75" y="282"/>
                  <a:pt x="99" y="258"/>
                  <a:pt x="128" y="258"/>
                </a:cubicBezTo>
                <a:cubicBezTo>
                  <a:pt x="152" y="258"/>
                  <a:pt x="173" y="275"/>
                  <a:pt x="179" y="297"/>
                </a:cubicBezTo>
                <a:cubicBezTo>
                  <a:pt x="192" y="205"/>
                  <a:pt x="187" y="105"/>
                  <a:pt x="161" y="12"/>
                </a:cubicBezTo>
                <a:close/>
              </a:path>
            </a:pathLst>
          </a:custGeom>
          <a:solidFill>
            <a:srgbClr val="2980b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6" name="Freeform 33"/>
          <p:cNvSpPr/>
          <p:nvPr/>
        </p:nvSpPr>
        <p:spPr>
          <a:xfrm>
            <a:off x="10456920" y="3073320"/>
            <a:ext cx="463320" cy="804960"/>
          </a:xfrm>
          <a:custGeom>
            <a:avLst/>
            <a:gdLst/>
            <a:ahLst/>
            <a:rect l="l" t="t" r="r" b="b"/>
            <a:pathLst>
              <a:path w="179" h="310">
                <a:moveTo>
                  <a:pt x="128" y="0"/>
                </a:moveTo>
                <a:cubicBezTo>
                  <a:pt x="99" y="0"/>
                  <a:pt x="75" y="23"/>
                  <a:pt x="75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129"/>
                  <a:pt x="0" y="129"/>
                  <a:pt x="0" y="129"/>
                </a:cubicBezTo>
                <a:cubicBezTo>
                  <a:pt x="29" y="129"/>
                  <a:pt x="52" y="153"/>
                  <a:pt x="52" y="181"/>
                </a:cubicBezTo>
                <a:cubicBezTo>
                  <a:pt x="52" y="210"/>
                  <a:pt x="29" y="234"/>
                  <a:pt x="0" y="234"/>
                </a:cubicBezTo>
                <a:cubicBezTo>
                  <a:pt x="0" y="310"/>
                  <a:pt x="0" y="310"/>
                  <a:pt x="0" y="310"/>
                </a:cubicBezTo>
                <a:cubicBezTo>
                  <a:pt x="75" y="310"/>
                  <a:pt x="75" y="310"/>
                  <a:pt x="75" y="310"/>
                </a:cubicBezTo>
                <a:cubicBezTo>
                  <a:pt x="75" y="290"/>
                  <a:pt x="86" y="273"/>
                  <a:pt x="103" y="264"/>
                </a:cubicBezTo>
                <a:cubicBezTo>
                  <a:pt x="107" y="257"/>
                  <a:pt x="111" y="250"/>
                  <a:pt x="115" y="242"/>
                </a:cubicBezTo>
                <a:cubicBezTo>
                  <a:pt x="147" y="184"/>
                  <a:pt x="169" y="113"/>
                  <a:pt x="179" y="39"/>
                </a:cubicBezTo>
                <a:cubicBezTo>
                  <a:pt x="173" y="16"/>
                  <a:pt x="152" y="0"/>
                  <a:pt x="128" y="0"/>
                </a:cubicBezTo>
                <a:close/>
              </a:path>
            </a:pathLst>
          </a:custGeom>
          <a:solidFill>
            <a:srgbClr val="2980b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7" name="Freeform 34"/>
          <p:cNvSpPr/>
          <p:nvPr/>
        </p:nvSpPr>
        <p:spPr>
          <a:xfrm>
            <a:off x="10456920" y="3759120"/>
            <a:ext cx="266760" cy="352440"/>
          </a:xfrm>
          <a:custGeom>
            <a:avLst/>
            <a:gdLst/>
            <a:ahLst/>
            <a:rect l="l" t="t" r="r" b="b"/>
            <a:pathLst>
              <a:path w="103" h="136">
                <a:moveTo>
                  <a:pt x="75" y="46"/>
                </a:moveTo>
                <a:cubicBezTo>
                  <a:pt x="0" y="46"/>
                  <a:pt x="0" y="46"/>
                  <a:pt x="0" y="46"/>
                </a:cubicBezTo>
                <a:cubicBezTo>
                  <a:pt x="0" y="122"/>
                  <a:pt x="0" y="122"/>
                  <a:pt x="0" y="122"/>
                </a:cubicBezTo>
                <a:cubicBezTo>
                  <a:pt x="13" y="123"/>
                  <a:pt x="25" y="128"/>
                  <a:pt x="34" y="136"/>
                </a:cubicBezTo>
                <a:cubicBezTo>
                  <a:pt x="54" y="94"/>
                  <a:pt x="77" y="49"/>
                  <a:pt x="103" y="0"/>
                </a:cubicBezTo>
                <a:cubicBezTo>
                  <a:pt x="86" y="9"/>
                  <a:pt x="75" y="26"/>
                  <a:pt x="75" y="46"/>
                </a:cubicBezTo>
                <a:close/>
              </a:path>
            </a:pathLst>
          </a:custGeom>
          <a:solidFill>
            <a:srgbClr val="2980b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8" name="Freeform 35"/>
          <p:cNvSpPr/>
          <p:nvPr/>
        </p:nvSpPr>
        <p:spPr>
          <a:xfrm>
            <a:off x="9786960" y="3743280"/>
            <a:ext cx="757080" cy="804960"/>
          </a:xfrm>
          <a:custGeom>
            <a:avLst/>
            <a:gdLst/>
            <a:ahLst/>
            <a:rect l="l" t="t" r="r" b="b"/>
            <a:pathLst>
              <a:path w="292" h="310">
                <a:moveTo>
                  <a:pt x="258" y="128"/>
                </a:moveTo>
                <a:cubicBezTo>
                  <a:pt x="258" y="52"/>
                  <a:pt x="258" y="52"/>
                  <a:pt x="258" y="52"/>
                </a:cubicBezTo>
                <a:cubicBezTo>
                  <a:pt x="181" y="52"/>
                  <a:pt x="181" y="52"/>
                  <a:pt x="181" y="52"/>
                </a:cubicBezTo>
                <a:cubicBezTo>
                  <a:pt x="181" y="23"/>
                  <a:pt x="157" y="0"/>
                  <a:pt x="128" y="0"/>
                </a:cubicBezTo>
                <a:cubicBezTo>
                  <a:pt x="99" y="0"/>
                  <a:pt x="75" y="23"/>
                  <a:pt x="75" y="52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128"/>
                  <a:pt x="0" y="128"/>
                  <a:pt x="0" y="128"/>
                </a:cubicBezTo>
                <a:cubicBezTo>
                  <a:pt x="29" y="129"/>
                  <a:pt x="52" y="152"/>
                  <a:pt x="52" y="181"/>
                </a:cubicBezTo>
                <a:cubicBezTo>
                  <a:pt x="52" y="210"/>
                  <a:pt x="29" y="234"/>
                  <a:pt x="0" y="234"/>
                </a:cubicBezTo>
                <a:cubicBezTo>
                  <a:pt x="0" y="310"/>
                  <a:pt x="0" y="310"/>
                  <a:pt x="0" y="310"/>
                </a:cubicBezTo>
                <a:cubicBezTo>
                  <a:pt x="75" y="310"/>
                  <a:pt x="75" y="310"/>
                  <a:pt x="75" y="310"/>
                </a:cubicBezTo>
                <a:cubicBezTo>
                  <a:pt x="75" y="281"/>
                  <a:pt x="99" y="257"/>
                  <a:pt x="128" y="257"/>
                </a:cubicBezTo>
                <a:cubicBezTo>
                  <a:pt x="157" y="257"/>
                  <a:pt x="181" y="281"/>
                  <a:pt x="181" y="310"/>
                </a:cubicBezTo>
                <a:cubicBezTo>
                  <a:pt x="226" y="310"/>
                  <a:pt x="226" y="310"/>
                  <a:pt x="226" y="310"/>
                </a:cubicBezTo>
                <a:cubicBezTo>
                  <a:pt x="241" y="261"/>
                  <a:pt x="263" y="205"/>
                  <a:pt x="292" y="142"/>
                </a:cubicBezTo>
                <a:cubicBezTo>
                  <a:pt x="283" y="134"/>
                  <a:pt x="271" y="129"/>
                  <a:pt x="258" y="128"/>
                </a:cubicBezTo>
                <a:close/>
              </a:path>
            </a:pathLst>
          </a:custGeom>
          <a:solidFill>
            <a:srgbClr val="2980b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9" name="Freeform 36"/>
          <p:cNvSpPr/>
          <p:nvPr/>
        </p:nvSpPr>
        <p:spPr>
          <a:xfrm>
            <a:off x="9786960" y="4411800"/>
            <a:ext cx="585720" cy="806400"/>
          </a:xfrm>
          <a:custGeom>
            <a:avLst/>
            <a:gdLst/>
            <a:ahLst/>
            <a:rect l="l" t="t" r="r" b="b"/>
            <a:pathLst>
              <a:path w="226" h="311">
                <a:moveTo>
                  <a:pt x="181" y="53"/>
                </a:moveTo>
                <a:cubicBezTo>
                  <a:pt x="181" y="24"/>
                  <a:pt x="157" y="0"/>
                  <a:pt x="128" y="0"/>
                </a:cubicBezTo>
                <a:cubicBezTo>
                  <a:pt x="99" y="0"/>
                  <a:pt x="75" y="24"/>
                  <a:pt x="75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129"/>
                  <a:pt x="0" y="129"/>
                  <a:pt x="0" y="129"/>
                </a:cubicBezTo>
                <a:cubicBezTo>
                  <a:pt x="29" y="129"/>
                  <a:pt x="52" y="153"/>
                  <a:pt x="52" y="182"/>
                </a:cubicBezTo>
                <a:cubicBezTo>
                  <a:pt x="52" y="211"/>
                  <a:pt x="29" y="234"/>
                  <a:pt x="0" y="235"/>
                </a:cubicBezTo>
                <a:cubicBezTo>
                  <a:pt x="0" y="311"/>
                  <a:pt x="0" y="311"/>
                  <a:pt x="0" y="311"/>
                </a:cubicBezTo>
                <a:cubicBezTo>
                  <a:pt x="75" y="311"/>
                  <a:pt x="75" y="311"/>
                  <a:pt x="75" y="311"/>
                </a:cubicBezTo>
                <a:cubicBezTo>
                  <a:pt x="75" y="281"/>
                  <a:pt x="99" y="258"/>
                  <a:pt x="128" y="258"/>
                </a:cubicBezTo>
                <a:cubicBezTo>
                  <a:pt x="157" y="258"/>
                  <a:pt x="181" y="281"/>
                  <a:pt x="181" y="311"/>
                </a:cubicBezTo>
                <a:cubicBezTo>
                  <a:pt x="217" y="311"/>
                  <a:pt x="217" y="311"/>
                  <a:pt x="217" y="311"/>
                </a:cubicBezTo>
                <a:cubicBezTo>
                  <a:pt x="193" y="244"/>
                  <a:pt x="192" y="165"/>
                  <a:pt x="226" y="53"/>
                </a:cubicBezTo>
                <a:lnTo>
                  <a:pt x="181" y="53"/>
                </a:lnTo>
                <a:close/>
              </a:path>
            </a:pathLst>
          </a:custGeom>
          <a:solidFill>
            <a:srgbClr val="2980b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0" name="Freeform 37"/>
          <p:cNvSpPr/>
          <p:nvPr/>
        </p:nvSpPr>
        <p:spPr>
          <a:xfrm>
            <a:off x="9786960" y="5079960"/>
            <a:ext cx="692280" cy="804960"/>
          </a:xfrm>
          <a:custGeom>
            <a:avLst/>
            <a:gdLst/>
            <a:ahLst/>
            <a:rect l="l" t="t" r="r" b="b"/>
            <a:pathLst>
              <a:path w="267" h="310">
                <a:moveTo>
                  <a:pt x="267" y="141"/>
                </a:moveTo>
                <a:cubicBezTo>
                  <a:pt x="246" y="113"/>
                  <a:pt x="229" y="85"/>
                  <a:pt x="217" y="53"/>
                </a:cubicBezTo>
                <a:cubicBezTo>
                  <a:pt x="181" y="53"/>
                  <a:pt x="181" y="53"/>
                  <a:pt x="181" y="53"/>
                </a:cubicBezTo>
                <a:cubicBezTo>
                  <a:pt x="181" y="23"/>
                  <a:pt x="157" y="0"/>
                  <a:pt x="128" y="0"/>
                </a:cubicBezTo>
                <a:cubicBezTo>
                  <a:pt x="99" y="0"/>
                  <a:pt x="75" y="23"/>
                  <a:pt x="75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129"/>
                  <a:pt x="0" y="129"/>
                  <a:pt x="0" y="129"/>
                </a:cubicBezTo>
                <a:cubicBezTo>
                  <a:pt x="29" y="129"/>
                  <a:pt x="52" y="153"/>
                  <a:pt x="52" y="181"/>
                </a:cubicBezTo>
                <a:cubicBezTo>
                  <a:pt x="52" y="210"/>
                  <a:pt x="29" y="234"/>
                  <a:pt x="0" y="234"/>
                </a:cubicBezTo>
                <a:cubicBezTo>
                  <a:pt x="0" y="310"/>
                  <a:pt x="0" y="310"/>
                  <a:pt x="0" y="310"/>
                </a:cubicBezTo>
                <a:cubicBezTo>
                  <a:pt x="75" y="310"/>
                  <a:pt x="75" y="310"/>
                  <a:pt x="75" y="310"/>
                </a:cubicBezTo>
                <a:cubicBezTo>
                  <a:pt x="75" y="281"/>
                  <a:pt x="99" y="258"/>
                  <a:pt x="128" y="258"/>
                </a:cubicBezTo>
                <a:cubicBezTo>
                  <a:pt x="134" y="258"/>
                  <a:pt x="139" y="258"/>
                  <a:pt x="145" y="260"/>
                </a:cubicBezTo>
                <a:cubicBezTo>
                  <a:pt x="184" y="225"/>
                  <a:pt x="225" y="185"/>
                  <a:pt x="267" y="141"/>
                </a:cubicBezTo>
                <a:close/>
              </a:path>
            </a:pathLst>
          </a:custGeom>
          <a:solidFill>
            <a:srgbClr val="2980b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1" name="Freeform 38"/>
          <p:cNvSpPr/>
          <p:nvPr/>
        </p:nvSpPr>
        <p:spPr>
          <a:xfrm>
            <a:off x="9786960" y="5748480"/>
            <a:ext cx="376200" cy="315720"/>
          </a:xfrm>
          <a:custGeom>
            <a:avLst/>
            <a:gdLst/>
            <a:ahLst/>
            <a:rect l="l" t="t" r="r" b="b"/>
            <a:pathLst>
              <a:path w="145" h="122">
                <a:moveTo>
                  <a:pt x="128" y="0"/>
                </a:moveTo>
                <a:cubicBezTo>
                  <a:pt x="99" y="0"/>
                  <a:pt x="75" y="24"/>
                  <a:pt x="75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122"/>
                  <a:pt x="0" y="122"/>
                  <a:pt x="0" y="122"/>
                </a:cubicBezTo>
                <a:cubicBezTo>
                  <a:pt x="45" y="89"/>
                  <a:pt x="93" y="49"/>
                  <a:pt x="145" y="3"/>
                </a:cubicBezTo>
                <a:cubicBezTo>
                  <a:pt x="140" y="1"/>
                  <a:pt x="134" y="0"/>
                  <a:pt x="128" y="0"/>
                </a:cubicBezTo>
                <a:close/>
              </a:path>
            </a:pathLst>
          </a:custGeom>
          <a:solidFill>
            <a:srgbClr val="2980b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2" name="Freeform 39"/>
          <p:cNvSpPr/>
          <p:nvPr/>
        </p:nvSpPr>
        <p:spPr>
          <a:xfrm>
            <a:off x="9118440" y="5748480"/>
            <a:ext cx="668520" cy="690480"/>
          </a:xfrm>
          <a:custGeom>
            <a:avLst/>
            <a:gdLst/>
            <a:ahLst/>
            <a:rect l="l" t="t" r="r" b="b"/>
            <a:pathLst>
              <a:path w="257" h="266">
                <a:moveTo>
                  <a:pt x="180" y="53"/>
                </a:moveTo>
                <a:cubicBezTo>
                  <a:pt x="180" y="24"/>
                  <a:pt x="157" y="0"/>
                  <a:pt x="127" y="0"/>
                </a:cubicBezTo>
                <a:cubicBezTo>
                  <a:pt x="98" y="0"/>
                  <a:pt x="75" y="24"/>
                  <a:pt x="75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129"/>
                  <a:pt x="0" y="129"/>
                  <a:pt x="0" y="129"/>
                </a:cubicBezTo>
                <a:cubicBezTo>
                  <a:pt x="28" y="130"/>
                  <a:pt x="51" y="153"/>
                  <a:pt x="51" y="182"/>
                </a:cubicBezTo>
                <a:cubicBezTo>
                  <a:pt x="51" y="211"/>
                  <a:pt x="28" y="234"/>
                  <a:pt x="0" y="235"/>
                </a:cubicBezTo>
                <a:cubicBezTo>
                  <a:pt x="0" y="266"/>
                  <a:pt x="0" y="266"/>
                  <a:pt x="0" y="266"/>
                </a:cubicBezTo>
                <a:cubicBezTo>
                  <a:pt x="68" y="243"/>
                  <a:pt x="154" y="198"/>
                  <a:pt x="257" y="122"/>
                </a:cubicBezTo>
                <a:cubicBezTo>
                  <a:pt x="257" y="53"/>
                  <a:pt x="257" y="53"/>
                  <a:pt x="257" y="53"/>
                </a:cubicBezTo>
                <a:lnTo>
                  <a:pt x="180" y="53"/>
                </a:lnTo>
                <a:close/>
              </a:path>
            </a:pathLst>
          </a:custGeom>
          <a:solidFill>
            <a:srgbClr val="2980b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3" name="Freeform 40"/>
          <p:cNvSpPr/>
          <p:nvPr/>
        </p:nvSpPr>
        <p:spPr>
          <a:xfrm>
            <a:off x="8667720" y="6418440"/>
            <a:ext cx="233280" cy="85680"/>
          </a:xfrm>
          <a:custGeom>
            <a:avLst/>
            <a:gdLst/>
            <a:ahLst/>
            <a:rect l="l" t="t" r="r" b="b"/>
            <a:pathLst>
              <a:path w="90" h="33">
                <a:moveTo>
                  <a:pt x="90" y="28"/>
                </a:moveTo>
                <a:cubicBezTo>
                  <a:pt x="81" y="11"/>
                  <a:pt x="64" y="0"/>
                  <a:pt x="44" y="0"/>
                </a:cubicBezTo>
                <a:cubicBezTo>
                  <a:pt x="26" y="0"/>
                  <a:pt x="10" y="9"/>
                  <a:pt x="0" y="23"/>
                </a:cubicBezTo>
                <a:cubicBezTo>
                  <a:pt x="21" y="30"/>
                  <a:pt x="51" y="33"/>
                  <a:pt x="90" y="28"/>
                </a:cubicBezTo>
                <a:close/>
              </a:path>
            </a:pathLst>
          </a:custGeom>
          <a:solidFill>
            <a:srgbClr val="2980b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4" name="Freeform 41"/>
          <p:cNvSpPr/>
          <p:nvPr/>
        </p:nvSpPr>
        <p:spPr>
          <a:xfrm>
            <a:off x="8558280" y="5748480"/>
            <a:ext cx="693720" cy="741240"/>
          </a:xfrm>
          <a:custGeom>
            <a:avLst/>
            <a:gdLst/>
            <a:ahLst/>
            <a:rect l="l" t="t" r="r" b="b"/>
            <a:pathLst>
              <a:path w="267" h="286">
                <a:moveTo>
                  <a:pt x="216" y="235"/>
                </a:moveTo>
                <a:cubicBezTo>
                  <a:pt x="244" y="234"/>
                  <a:pt x="267" y="211"/>
                  <a:pt x="267" y="182"/>
                </a:cubicBezTo>
                <a:cubicBezTo>
                  <a:pt x="267" y="153"/>
                  <a:pt x="244" y="130"/>
                  <a:pt x="216" y="129"/>
                </a:cubicBezTo>
                <a:cubicBezTo>
                  <a:pt x="216" y="53"/>
                  <a:pt x="216" y="53"/>
                  <a:pt x="216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39" y="24"/>
                  <a:pt x="115" y="0"/>
                  <a:pt x="86" y="0"/>
                </a:cubicBezTo>
                <a:cubicBezTo>
                  <a:pt x="85" y="0"/>
                  <a:pt x="84" y="0"/>
                  <a:pt x="83" y="0"/>
                </a:cubicBezTo>
                <a:cubicBezTo>
                  <a:pt x="74" y="94"/>
                  <a:pt x="44" y="195"/>
                  <a:pt x="9" y="239"/>
                </a:cubicBezTo>
                <a:cubicBezTo>
                  <a:pt x="0" y="251"/>
                  <a:pt x="11" y="270"/>
                  <a:pt x="42" y="281"/>
                </a:cubicBezTo>
                <a:cubicBezTo>
                  <a:pt x="52" y="267"/>
                  <a:pt x="68" y="258"/>
                  <a:pt x="86" y="258"/>
                </a:cubicBezTo>
                <a:cubicBezTo>
                  <a:pt x="106" y="258"/>
                  <a:pt x="123" y="269"/>
                  <a:pt x="132" y="286"/>
                </a:cubicBezTo>
                <a:cubicBezTo>
                  <a:pt x="157" y="283"/>
                  <a:pt x="184" y="276"/>
                  <a:pt x="216" y="266"/>
                </a:cubicBezTo>
                <a:lnTo>
                  <a:pt x="216" y="235"/>
                </a:lnTo>
                <a:close/>
              </a:path>
            </a:pathLst>
          </a:custGeom>
          <a:solidFill>
            <a:srgbClr val="2980b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5" name="Freeform 42"/>
          <p:cNvSpPr/>
          <p:nvPr/>
        </p:nvSpPr>
        <p:spPr>
          <a:xfrm>
            <a:off x="8448840" y="5079960"/>
            <a:ext cx="803160" cy="804960"/>
          </a:xfrm>
          <a:custGeom>
            <a:avLst/>
            <a:gdLst/>
            <a:ahLst/>
            <a:rect l="l" t="t" r="r" b="b"/>
            <a:pathLst>
              <a:path w="309" h="310">
                <a:moveTo>
                  <a:pt x="128" y="258"/>
                </a:moveTo>
                <a:cubicBezTo>
                  <a:pt x="157" y="258"/>
                  <a:pt x="181" y="281"/>
                  <a:pt x="181" y="310"/>
                </a:cubicBezTo>
                <a:cubicBezTo>
                  <a:pt x="258" y="310"/>
                  <a:pt x="258" y="310"/>
                  <a:pt x="258" y="310"/>
                </a:cubicBezTo>
                <a:cubicBezTo>
                  <a:pt x="258" y="234"/>
                  <a:pt x="258" y="234"/>
                  <a:pt x="258" y="234"/>
                </a:cubicBezTo>
                <a:cubicBezTo>
                  <a:pt x="286" y="234"/>
                  <a:pt x="309" y="210"/>
                  <a:pt x="309" y="181"/>
                </a:cubicBezTo>
                <a:cubicBezTo>
                  <a:pt x="309" y="153"/>
                  <a:pt x="286" y="129"/>
                  <a:pt x="258" y="129"/>
                </a:cubicBezTo>
                <a:cubicBezTo>
                  <a:pt x="258" y="53"/>
                  <a:pt x="258" y="53"/>
                  <a:pt x="258" y="53"/>
                </a:cubicBezTo>
                <a:cubicBezTo>
                  <a:pt x="181" y="53"/>
                  <a:pt x="181" y="53"/>
                  <a:pt x="181" y="53"/>
                </a:cubicBezTo>
                <a:cubicBezTo>
                  <a:pt x="181" y="23"/>
                  <a:pt x="157" y="0"/>
                  <a:pt x="128" y="0"/>
                </a:cubicBezTo>
                <a:cubicBezTo>
                  <a:pt x="99" y="0"/>
                  <a:pt x="75" y="23"/>
                  <a:pt x="75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61"/>
                  <a:pt x="0" y="61"/>
                  <a:pt x="0" y="61"/>
                </a:cubicBezTo>
                <a:cubicBezTo>
                  <a:pt x="37" y="54"/>
                  <a:pt x="70" y="55"/>
                  <a:pt x="92" y="75"/>
                </a:cubicBezTo>
                <a:cubicBezTo>
                  <a:pt x="125" y="104"/>
                  <a:pt x="133" y="178"/>
                  <a:pt x="125" y="258"/>
                </a:cubicBezTo>
                <a:cubicBezTo>
                  <a:pt x="126" y="258"/>
                  <a:pt x="127" y="258"/>
                  <a:pt x="128" y="258"/>
                </a:cubicBezTo>
                <a:close/>
              </a:path>
            </a:pathLst>
          </a:custGeom>
          <a:solidFill>
            <a:srgbClr val="2980b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6" name="Freeform 43"/>
          <p:cNvSpPr/>
          <p:nvPr/>
        </p:nvSpPr>
        <p:spPr>
          <a:xfrm>
            <a:off x="7778880" y="5079960"/>
            <a:ext cx="669960" cy="317520"/>
          </a:xfrm>
          <a:custGeom>
            <a:avLst/>
            <a:gdLst/>
            <a:ahLst/>
            <a:rect l="l" t="t" r="r" b="b"/>
            <a:pathLst>
              <a:path w="258" h="122">
                <a:moveTo>
                  <a:pt x="258" y="53"/>
                </a:moveTo>
                <a:cubicBezTo>
                  <a:pt x="181" y="53"/>
                  <a:pt x="181" y="53"/>
                  <a:pt x="181" y="53"/>
                </a:cubicBezTo>
                <a:cubicBezTo>
                  <a:pt x="181" y="23"/>
                  <a:pt x="157" y="0"/>
                  <a:pt x="128" y="0"/>
                </a:cubicBezTo>
                <a:cubicBezTo>
                  <a:pt x="99" y="0"/>
                  <a:pt x="75" y="23"/>
                  <a:pt x="75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86"/>
                  <a:pt x="0" y="86"/>
                  <a:pt x="0" y="86"/>
                </a:cubicBezTo>
                <a:cubicBezTo>
                  <a:pt x="75" y="122"/>
                  <a:pt x="178" y="75"/>
                  <a:pt x="258" y="61"/>
                </a:cubicBezTo>
                <a:lnTo>
                  <a:pt x="258" y="53"/>
                </a:lnTo>
                <a:close/>
              </a:path>
            </a:pathLst>
          </a:custGeom>
          <a:solidFill>
            <a:srgbClr val="2980b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7" name="Freeform 44"/>
          <p:cNvSpPr/>
          <p:nvPr/>
        </p:nvSpPr>
        <p:spPr>
          <a:xfrm>
            <a:off x="7659720" y="5218200"/>
            <a:ext cx="119160" cy="85680"/>
          </a:xfrm>
          <a:custGeom>
            <a:avLst/>
            <a:gdLst/>
            <a:ahLst/>
            <a:rect l="l" t="t" r="r" b="b"/>
            <a:pathLst>
              <a:path w="46" h="33">
                <a:moveTo>
                  <a:pt x="39" y="29"/>
                </a:moveTo>
                <a:cubicBezTo>
                  <a:pt x="42" y="31"/>
                  <a:pt x="44" y="32"/>
                  <a:pt x="46" y="33"/>
                </a:cubicBezTo>
                <a:cubicBezTo>
                  <a:pt x="46" y="0"/>
                  <a:pt x="46" y="0"/>
                  <a:pt x="46" y="0"/>
                </a:cubicBezTo>
                <a:cubicBezTo>
                  <a:pt x="0" y="0"/>
                  <a:pt x="0" y="0"/>
                  <a:pt x="0" y="0"/>
                </a:cubicBezTo>
                <a:cubicBezTo>
                  <a:pt x="10" y="10"/>
                  <a:pt x="23" y="20"/>
                  <a:pt x="39" y="29"/>
                </a:cubicBezTo>
                <a:close/>
              </a:path>
            </a:pathLst>
          </a:custGeom>
          <a:solidFill>
            <a:srgbClr val="2980b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8" name="Freeform 45"/>
          <p:cNvSpPr/>
          <p:nvPr/>
        </p:nvSpPr>
        <p:spPr>
          <a:xfrm>
            <a:off x="7358040" y="4411800"/>
            <a:ext cx="555480" cy="806400"/>
          </a:xfrm>
          <a:custGeom>
            <a:avLst/>
            <a:gdLst/>
            <a:ahLst/>
            <a:rect l="l" t="t" r="r" b="b"/>
            <a:pathLst>
              <a:path w="214" h="311">
                <a:moveTo>
                  <a:pt x="162" y="129"/>
                </a:moveTo>
                <a:cubicBezTo>
                  <a:pt x="162" y="53"/>
                  <a:pt x="162" y="53"/>
                  <a:pt x="162" y="53"/>
                </a:cubicBezTo>
                <a:cubicBezTo>
                  <a:pt x="85" y="53"/>
                  <a:pt x="85" y="53"/>
                  <a:pt x="85" y="53"/>
                </a:cubicBezTo>
                <a:cubicBezTo>
                  <a:pt x="85" y="24"/>
                  <a:pt x="61" y="0"/>
                  <a:pt x="32" y="0"/>
                </a:cubicBezTo>
                <a:cubicBezTo>
                  <a:pt x="22" y="0"/>
                  <a:pt x="12" y="3"/>
                  <a:pt x="4" y="8"/>
                </a:cubicBezTo>
                <a:cubicBezTo>
                  <a:pt x="0" y="31"/>
                  <a:pt x="6" y="55"/>
                  <a:pt x="48" y="76"/>
                </a:cubicBezTo>
                <a:cubicBezTo>
                  <a:pt x="27" y="92"/>
                  <a:pt x="12" y="133"/>
                  <a:pt x="61" y="161"/>
                </a:cubicBezTo>
                <a:cubicBezTo>
                  <a:pt x="102" y="185"/>
                  <a:pt x="62" y="253"/>
                  <a:pt x="116" y="311"/>
                </a:cubicBezTo>
                <a:cubicBezTo>
                  <a:pt x="162" y="311"/>
                  <a:pt x="162" y="311"/>
                  <a:pt x="162" y="311"/>
                </a:cubicBezTo>
                <a:cubicBezTo>
                  <a:pt x="162" y="235"/>
                  <a:pt x="162" y="235"/>
                  <a:pt x="162" y="235"/>
                </a:cubicBezTo>
                <a:cubicBezTo>
                  <a:pt x="191" y="234"/>
                  <a:pt x="214" y="211"/>
                  <a:pt x="214" y="182"/>
                </a:cubicBezTo>
                <a:cubicBezTo>
                  <a:pt x="214" y="153"/>
                  <a:pt x="191" y="129"/>
                  <a:pt x="162" y="129"/>
                </a:cubicBezTo>
                <a:close/>
              </a:path>
            </a:pathLst>
          </a:custGeom>
          <a:solidFill>
            <a:srgbClr val="2980b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9" name="Freeform 46"/>
          <p:cNvSpPr/>
          <p:nvPr/>
        </p:nvSpPr>
        <p:spPr>
          <a:xfrm>
            <a:off x="7164360" y="3746520"/>
            <a:ext cx="749160" cy="801720"/>
          </a:xfrm>
          <a:custGeom>
            <a:avLst/>
            <a:gdLst/>
            <a:ahLst/>
            <a:rect l="l" t="t" r="r" b="b"/>
            <a:pathLst>
              <a:path w="289" h="309">
                <a:moveTo>
                  <a:pt x="237" y="127"/>
                </a:moveTo>
                <a:cubicBezTo>
                  <a:pt x="237" y="51"/>
                  <a:pt x="237" y="51"/>
                  <a:pt x="237" y="51"/>
                </a:cubicBezTo>
                <a:cubicBezTo>
                  <a:pt x="160" y="51"/>
                  <a:pt x="160" y="51"/>
                  <a:pt x="160" y="51"/>
                </a:cubicBezTo>
                <a:cubicBezTo>
                  <a:pt x="160" y="26"/>
                  <a:pt x="142" y="5"/>
                  <a:pt x="119" y="0"/>
                </a:cubicBezTo>
                <a:cubicBezTo>
                  <a:pt x="112" y="11"/>
                  <a:pt x="103" y="24"/>
                  <a:pt x="89" y="40"/>
                </a:cubicBezTo>
                <a:cubicBezTo>
                  <a:pt x="0" y="145"/>
                  <a:pt x="33" y="160"/>
                  <a:pt x="79" y="188"/>
                </a:cubicBezTo>
                <a:cubicBezTo>
                  <a:pt x="106" y="205"/>
                  <a:pt x="84" y="234"/>
                  <a:pt x="79" y="264"/>
                </a:cubicBezTo>
                <a:cubicBezTo>
                  <a:pt x="87" y="259"/>
                  <a:pt x="97" y="256"/>
                  <a:pt x="107" y="256"/>
                </a:cubicBezTo>
                <a:cubicBezTo>
                  <a:pt x="136" y="256"/>
                  <a:pt x="160" y="280"/>
                  <a:pt x="160" y="309"/>
                </a:cubicBezTo>
                <a:cubicBezTo>
                  <a:pt x="237" y="309"/>
                  <a:pt x="237" y="309"/>
                  <a:pt x="237" y="309"/>
                </a:cubicBezTo>
                <a:cubicBezTo>
                  <a:pt x="237" y="233"/>
                  <a:pt x="237" y="233"/>
                  <a:pt x="237" y="233"/>
                </a:cubicBezTo>
                <a:cubicBezTo>
                  <a:pt x="266" y="233"/>
                  <a:pt x="289" y="209"/>
                  <a:pt x="289" y="180"/>
                </a:cubicBezTo>
                <a:cubicBezTo>
                  <a:pt x="289" y="151"/>
                  <a:pt x="266" y="128"/>
                  <a:pt x="237" y="127"/>
                </a:cubicBezTo>
                <a:close/>
              </a:path>
            </a:pathLst>
          </a:custGeom>
          <a:solidFill>
            <a:srgbClr val="2980b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0" name="Freeform 47"/>
          <p:cNvSpPr/>
          <p:nvPr/>
        </p:nvSpPr>
        <p:spPr>
          <a:xfrm>
            <a:off x="10456920" y="1749600"/>
            <a:ext cx="119160" cy="125280"/>
          </a:xfrm>
          <a:custGeom>
            <a:avLst/>
            <a:gdLst/>
            <a:ahLst/>
            <a:rect l="l" t="t" r="r" b="b"/>
            <a:pathLst>
              <a:path w="46" h="48">
                <a:moveTo>
                  <a:pt x="45" y="47"/>
                </a:moveTo>
                <a:cubicBezTo>
                  <a:pt x="31" y="30"/>
                  <a:pt x="15" y="15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46" y="48"/>
                  <a:pt x="46" y="48"/>
                  <a:pt x="46" y="48"/>
                </a:cubicBezTo>
                <a:cubicBezTo>
                  <a:pt x="46" y="47"/>
                  <a:pt x="46" y="47"/>
                  <a:pt x="45" y="47"/>
                </a:cubicBezTo>
                <a:close/>
              </a:path>
            </a:pathLst>
          </a:custGeom>
          <a:solidFill>
            <a:srgbClr val="c0392b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1" name="Title 1"/>
          <p:cNvSpPr/>
          <p:nvPr/>
        </p:nvSpPr>
        <p:spPr>
          <a:xfrm>
            <a:off x="866880" y="1647720"/>
            <a:ext cx="578808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Poppins"/>
              </a:rPr>
              <a:t>INFOGRAPHIC</a:t>
            </a:r>
            <a:endParaRPr b="0" lang="en-US" sz="4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2" name="TextBox 50"/>
          <p:cNvSpPr/>
          <p:nvPr/>
        </p:nvSpPr>
        <p:spPr>
          <a:xfrm>
            <a:off x="927000" y="2386080"/>
            <a:ext cx="4792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For every 6 emails received, we get 3 Phone calls. Suitable for all categories business and personal presentation</a:t>
            </a:r>
            <a:r>
              <a:rPr b="1" lang="id-ID" sz="1200" spc="-1" strike="noStrike">
                <a:solidFill>
                  <a:srgbClr val="3f3f3f"/>
                </a:solidFill>
                <a:latin typeface="Open Sans"/>
              </a:rPr>
              <a:t>,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3" name="TextBox 51"/>
          <p:cNvSpPr/>
          <p:nvPr/>
        </p:nvSpPr>
        <p:spPr>
          <a:xfrm>
            <a:off x="932400" y="358776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f3f3f"/>
                </a:solidFill>
                <a:latin typeface="Poppins"/>
              </a:rPr>
              <a:t>Male user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4" name="TextBox 52"/>
          <p:cNvSpPr/>
          <p:nvPr/>
        </p:nvSpPr>
        <p:spPr>
          <a:xfrm>
            <a:off x="933120" y="485316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f3f3f"/>
                </a:solidFill>
                <a:latin typeface="Poppins"/>
              </a:rPr>
              <a:t>Female User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5" name="TextBox 53"/>
          <p:cNvSpPr/>
          <p:nvPr/>
        </p:nvSpPr>
        <p:spPr>
          <a:xfrm>
            <a:off x="4466520" y="388152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4400" spc="-1" strike="noStrike">
                <a:solidFill>
                  <a:srgbClr val="2980b9"/>
                </a:solidFill>
                <a:latin typeface="Open Sans"/>
              </a:rPr>
              <a:t>238K</a:t>
            </a:r>
            <a:endParaRPr b="0" lang="en-US" sz="44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326" name="Group 54"/>
          <p:cNvGrpSpPr/>
          <p:nvPr/>
        </p:nvGrpSpPr>
        <p:grpSpPr>
          <a:xfrm>
            <a:off x="1082520" y="3949560"/>
            <a:ext cx="3259440" cy="559080"/>
            <a:chOff x="1082520" y="3949560"/>
            <a:chExt cx="3259440" cy="559080"/>
          </a:xfrm>
        </p:grpSpPr>
        <p:sp>
          <p:nvSpPr>
            <p:cNvPr id="327" name="Oval 5"/>
            <p:cNvSpPr/>
            <p:nvPr/>
          </p:nvSpPr>
          <p:spPr>
            <a:xfrm>
              <a:off x="1149480" y="3949560"/>
              <a:ext cx="101520" cy="101520"/>
            </a:xfrm>
            <a:prstGeom prst="ellipse">
              <a:avLst/>
            </a:pr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28" name="Freeform 6"/>
            <p:cNvSpPr/>
            <p:nvPr/>
          </p:nvSpPr>
          <p:spPr>
            <a:xfrm>
              <a:off x="1082520" y="4058280"/>
              <a:ext cx="233280" cy="450360"/>
            </a:xfrm>
            <a:custGeom>
              <a:avLst/>
              <a:gdLst/>
              <a:ahLst/>
              <a:rect l="l" t="t" r="r" b="b"/>
              <a:pathLst>
                <a:path w="69" h="132">
                  <a:moveTo>
                    <a:pt x="69" y="19"/>
                  </a:moveTo>
                  <a:cubicBezTo>
                    <a:pt x="69" y="9"/>
                    <a:pt x="60" y="0"/>
                    <a:pt x="5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0" y="0"/>
                    <a:pt x="0" y="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62"/>
                    <a:pt x="3" y="64"/>
                    <a:pt x="7" y="64"/>
                  </a:cubicBezTo>
                  <a:cubicBezTo>
                    <a:pt x="11" y="64"/>
                    <a:pt x="13" y="62"/>
                    <a:pt x="13" y="58"/>
                  </a:cubicBezTo>
                  <a:cubicBezTo>
                    <a:pt x="13" y="35"/>
                    <a:pt x="13" y="35"/>
                    <a:pt x="13" y="35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61"/>
                    <a:pt x="16" y="61"/>
                    <a:pt x="16" y="61"/>
                  </a:cubicBezTo>
                  <a:cubicBezTo>
                    <a:pt x="16" y="64"/>
                    <a:pt x="16" y="64"/>
                    <a:pt x="16" y="64"/>
                  </a:cubicBezTo>
                  <a:cubicBezTo>
                    <a:pt x="16" y="124"/>
                    <a:pt x="16" y="124"/>
                    <a:pt x="16" y="124"/>
                  </a:cubicBezTo>
                  <a:cubicBezTo>
                    <a:pt x="16" y="129"/>
                    <a:pt x="20" y="132"/>
                    <a:pt x="25" y="132"/>
                  </a:cubicBezTo>
                  <a:cubicBezTo>
                    <a:pt x="30" y="132"/>
                    <a:pt x="33" y="129"/>
                    <a:pt x="33" y="124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7" y="64"/>
                    <a:pt x="37" y="64"/>
                    <a:pt x="37" y="64"/>
                  </a:cubicBezTo>
                  <a:cubicBezTo>
                    <a:pt x="37" y="124"/>
                    <a:pt x="37" y="124"/>
                    <a:pt x="37" y="124"/>
                  </a:cubicBezTo>
                  <a:cubicBezTo>
                    <a:pt x="37" y="129"/>
                    <a:pt x="40" y="132"/>
                    <a:pt x="45" y="132"/>
                  </a:cubicBezTo>
                  <a:cubicBezTo>
                    <a:pt x="50" y="132"/>
                    <a:pt x="53" y="129"/>
                    <a:pt x="53" y="124"/>
                  </a:cubicBezTo>
                  <a:cubicBezTo>
                    <a:pt x="53" y="64"/>
                    <a:pt x="53" y="64"/>
                    <a:pt x="53" y="64"/>
                  </a:cubicBezTo>
                  <a:cubicBezTo>
                    <a:pt x="53" y="61"/>
                    <a:pt x="53" y="61"/>
                    <a:pt x="53" y="61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22"/>
                    <a:pt x="53" y="22"/>
                    <a:pt x="53" y="22"/>
                  </a:cubicBezTo>
                  <a:cubicBezTo>
                    <a:pt x="57" y="22"/>
                    <a:pt x="57" y="22"/>
                    <a:pt x="57" y="22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58"/>
                    <a:pt x="57" y="58"/>
                    <a:pt x="57" y="58"/>
                  </a:cubicBezTo>
                  <a:cubicBezTo>
                    <a:pt x="57" y="62"/>
                    <a:pt x="59" y="64"/>
                    <a:pt x="63" y="64"/>
                  </a:cubicBezTo>
                  <a:cubicBezTo>
                    <a:pt x="66" y="64"/>
                    <a:pt x="69" y="62"/>
                    <a:pt x="69" y="58"/>
                  </a:cubicBezTo>
                  <a:cubicBezTo>
                    <a:pt x="69" y="19"/>
                    <a:pt x="69" y="19"/>
                    <a:pt x="69" y="19"/>
                  </a:cubicBezTo>
                  <a:cubicBezTo>
                    <a:pt x="69" y="19"/>
                    <a:pt x="69" y="19"/>
                    <a:pt x="69" y="19"/>
                  </a:cubicBezTo>
                  <a:close/>
                </a:path>
              </a:pathLst>
            </a:cu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29" name="Oval 7"/>
            <p:cNvSpPr/>
            <p:nvPr/>
          </p:nvSpPr>
          <p:spPr>
            <a:xfrm>
              <a:off x="1488960" y="3949560"/>
              <a:ext cx="98640" cy="101520"/>
            </a:xfrm>
            <a:prstGeom prst="ellipse">
              <a:avLst/>
            </a:pr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30" name="Freeform 8"/>
            <p:cNvSpPr/>
            <p:nvPr/>
          </p:nvSpPr>
          <p:spPr>
            <a:xfrm>
              <a:off x="1417320" y="4058280"/>
              <a:ext cx="234720" cy="450360"/>
            </a:xfrm>
            <a:custGeom>
              <a:avLst/>
              <a:gdLst/>
              <a:ahLst/>
              <a:rect l="l" t="t" r="r" b="b"/>
              <a:pathLst>
                <a:path w="69" h="132">
                  <a:moveTo>
                    <a:pt x="69" y="19"/>
                  </a:moveTo>
                  <a:cubicBezTo>
                    <a:pt x="69" y="9"/>
                    <a:pt x="60" y="0"/>
                    <a:pt x="5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0" y="0"/>
                    <a:pt x="0" y="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62"/>
                    <a:pt x="4" y="64"/>
                    <a:pt x="7" y="64"/>
                  </a:cubicBezTo>
                  <a:cubicBezTo>
                    <a:pt x="11" y="64"/>
                    <a:pt x="13" y="62"/>
                    <a:pt x="13" y="58"/>
                  </a:cubicBezTo>
                  <a:cubicBezTo>
                    <a:pt x="13" y="35"/>
                    <a:pt x="13" y="35"/>
                    <a:pt x="13" y="35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61"/>
                    <a:pt x="16" y="61"/>
                    <a:pt x="16" y="61"/>
                  </a:cubicBezTo>
                  <a:cubicBezTo>
                    <a:pt x="16" y="64"/>
                    <a:pt x="16" y="64"/>
                    <a:pt x="16" y="64"/>
                  </a:cubicBezTo>
                  <a:cubicBezTo>
                    <a:pt x="16" y="124"/>
                    <a:pt x="16" y="124"/>
                    <a:pt x="16" y="124"/>
                  </a:cubicBezTo>
                  <a:cubicBezTo>
                    <a:pt x="16" y="129"/>
                    <a:pt x="20" y="132"/>
                    <a:pt x="25" y="132"/>
                  </a:cubicBezTo>
                  <a:cubicBezTo>
                    <a:pt x="30" y="132"/>
                    <a:pt x="33" y="129"/>
                    <a:pt x="33" y="124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7" y="64"/>
                    <a:pt x="37" y="64"/>
                    <a:pt x="37" y="64"/>
                  </a:cubicBezTo>
                  <a:cubicBezTo>
                    <a:pt x="37" y="124"/>
                    <a:pt x="37" y="124"/>
                    <a:pt x="37" y="124"/>
                  </a:cubicBezTo>
                  <a:cubicBezTo>
                    <a:pt x="37" y="129"/>
                    <a:pt x="40" y="132"/>
                    <a:pt x="45" y="132"/>
                  </a:cubicBezTo>
                  <a:cubicBezTo>
                    <a:pt x="50" y="132"/>
                    <a:pt x="54" y="129"/>
                    <a:pt x="54" y="124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61"/>
                    <a:pt x="54" y="61"/>
                    <a:pt x="54" y="61"/>
                  </a:cubicBezTo>
                  <a:cubicBezTo>
                    <a:pt x="54" y="37"/>
                    <a:pt x="54" y="37"/>
                    <a:pt x="54" y="37"/>
                  </a:cubicBezTo>
                  <a:cubicBezTo>
                    <a:pt x="54" y="22"/>
                    <a:pt x="54" y="22"/>
                    <a:pt x="54" y="22"/>
                  </a:cubicBezTo>
                  <a:cubicBezTo>
                    <a:pt x="57" y="22"/>
                    <a:pt x="57" y="22"/>
                    <a:pt x="57" y="22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58"/>
                    <a:pt x="57" y="58"/>
                    <a:pt x="57" y="58"/>
                  </a:cubicBezTo>
                  <a:cubicBezTo>
                    <a:pt x="57" y="62"/>
                    <a:pt x="59" y="64"/>
                    <a:pt x="63" y="64"/>
                  </a:cubicBezTo>
                  <a:cubicBezTo>
                    <a:pt x="66" y="64"/>
                    <a:pt x="69" y="62"/>
                    <a:pt x="69" y="58"/>
                  </a:cubicBezTo>
                  <a:cubicBezTo>
                    <a:pt x="69" y="19"/>
                    <a:pt x="69" y="19"/>
                    <a:pt x="69" y="19"/>
                  </a:cubicBezTo>
                  <a:cubicBezTo>
                    <a:pt x="69" y="19"/>
                    <a:pt x="69" y="19"/>
                    <a:pt x="69" y="19"/>
                  </a:cubicBezTo>
                  <a:close/>
                </a:path>
              </a:pathLst>
            </a:cu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31" name="Oval 9"/>
            <p:cNvSpPr/>
            <p:nvPr/>
          </p:nvSpPr>
          <p:spPr>
            <a:xfrm>
              <a:off x="1824120" y="3949560"/>
              <a:ext cx="98640" cy="101520"/>
            </a:xfrm>
            <a:prstGeom prst="ellipse">
              <a:avLst/>
            </a:pr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32" name="Freeform 10"/>
            <p:cNvSpPr/>
            <p:nvPr/>
          </p:nvSpPr>
          <p:spPr>
            <a:xfrm>
              <a:off x="1753920" y="4058280"/>
              <a:ext cx="237600" cy="450360"/>
            </a:xfrm>
            <a:custGeom>
              <a:avLst/>
              <a:gdLst/>
              <a:ahLst/>
              <a:rect l="l" t="t" r="r" b="b"/>
              <a:pathLst>
                <a:path w="70" h="132">
                  <a:moveTo>
                    <a:pt x="70" y="19"/>
                  </a:moveTo>
                  <a:cubicBezTo>
                    <a:pt x="70" y="9"/>
                    <a:pt x="60" y="0"/>
                    <a:pt x="5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0" y="0"/>
                    <a:pt x="0" y="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62"/>
                    <a:pt x="4" y="64"/>
                    <a:pt x="7" y="64"/>
                  </a:cubicBezTo>
                  <a:cubicBezTo>
                    <a:pt x="11" y="64"/>
                    <a:pt x="13" y="62"/>
                    <a:pt x="13" y="58"/>
                  </a:cubicBezTo>
                  <a:cubicBezTo>
                    <a:pt x="13" y="35"/>
                    <a:pt x="13" y="35"/>
                    <a:pt x="13" y="35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61"/>
                    <a:pt x="16" y="61"/>
                    <a:pt x="16" y="61"/>
                  </a:cubicBezTo>
                  <a:cubicBezTo>
                    <a:pt x="16" y="64"/>
                    <a:pt x="16" y="64"/>
                    <a:pt x="16" y="64"/>
                  </a:cubicBezTo>
                  <a:cubicBezTo>
                    <a:pt x="16" y="124"/>
                    <a:pt x="16" y="124"/>
                    <a:pt x="16" y="124"/>
                  </a:cubicBezTo>
                  <a:cubicBezTo>
                    <a:pt x="16" y="129"/>
                    <a:pt x="20" y="132"/>
                    <a:pt x="25" y="132"/>
                  </a:cubicBezTo>
                  <a:cubicBezTo>
                    <a:pt x="30" y="132"/>
                    <a:pt x="33" y="129"/>
                    <a:pt x="33" y="124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7" y="64"/>
                    <a:pt x="37" y="64"/>
                    <a:pt x="37" y="64"/>
                  </a:cubicBezTo>
                  <a:cubicBezTo>
                    <a:pt x="37" y="124"/>
                    <a:pt x="37" y="124"/>
                    <a:pt x="37" y="124"/>
                  </a:cubicBezTo>
                  <a:cubicBezTo>
                    <a:pt x="37" y="129"/>
                    <a:pt x="40" y="132"/>
                    <a:pt x="45" y="132"/>
                  </a:cubicBezTo>
                  <a:cubicBezTo>
                    <a:pt x="50" y="132"/>
                    <a:pt x="54" y="129"/>
                    <a:pt x="54" y="124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61"/>
                    <a:pt x="54" y="61"/>
                    <a:pt x="54" y="61"/>
                  </a:cubicBezTo>
                  <a:cubicBezTo>
                    <a:pt x="54" y="37"/>
                    <a:pt x="54" y="37"/>
                    <a:pt x="54" y="37"/>
                  </a:cubicBezTo>
                  <a:cubicBezTo>
                    <a:pt x="54" y="22"/>
                    <a:pt x="54" y="22"/>
                    <a:pt x="54" y="22"/>
                  </a:cubicBezTo>
                  <a:cubicBezTo>
                    <a:pt x="57" y="22"/>
                    <a:pt x="57" y="22"/>
                    <a:pt x="57" y="22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58"/>
                    <a:pt x="57" y="58"/>
                    <a:pt x="57" y="58"/>
                  </a:cubicBezTo>
                  <a:cubicBezTo>
                    <a:pt x="57" y="62"/>
                    <a:pt x="59" y="64"/>
                    <a:pt x="63" y="64"/>
                  </a:cubicBezTo>
                  <a:cubicBezTo>
                    <a:pt x="66" y="64"/>
                    <a:pt x="70" y="62"/>
                    <a:pt x="70" y="58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lose/>
                </a:path>
              </a:pathLst>
            </a:cu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33" name="Oval 11"/>
            <p:cNvSpPr/>
            <p:nvPr/>
          </p:nvSpPr>
          <p:spPr>
            <a:xfrm>
              <a:off x="2160720" y="3949560"/>
              <a:ext cx="98640" cy="101520"/>
            </a:xfrm>
            <a:prstGeom prst="ellipse">
              <a:avLst/>
            </a:pr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34" name="Freeform 12"/>
            <p:cNvSpPr/>
            <p:nvPr/>
          </p:nvSpPr>
          <p:spPr>
            <a:xfrm>
              <a:off x="2093400" y="4058280"/>
              <a:ext cx="233280" cy="450360"/>
            </a:xfrm>
            <a:custGeom>
              <a:avLst/>
              <a:gdLst/>
              <a:ahLst/>
              <a:rect l="l" t="t" r="r" b="b"/>
              <a:pathLst>
                <a:path w="69" h="132">
                  <a:moveTo>
                    <a:pt x="69" y="19"/>
                  </a:moveTo>
                  <a:cubicBezTo>
                    <a:pt x="69" y="9"/>
                    <a:pt x="59" y="0"/>
                    <a:pt x="4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9" y="0"/>
                    <a:pt x="0" y="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62"/>
                    <a:pt x="3" y="64"/>
                    <a:pt x="6" y="64"/>
                  </a:cubicBezTo>
                  <a:cubicBezTo>
                    <a:pt x="10" y="64"/>
                    <a:pt x="12" y="62"/>
                    <a:pt x="12" y="58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4"/>
                    <a:pt x="15" y="64"/>
                    <a:pt x="15" y="64"/>
                  </a:cubicBezTo>
                  <a:cubicBezTo>
                    <a:pt x="15" y="124"/>
                    <a:pt x="15" y="124"/>
                    <a:pt x="15" y="124"/>
                  </a:cubicBezTo>
                  <a:cubicBezTo>
                    <a:pt x="15" y="129"/>
                    <a:pt x="19" y="132"/>
                    <a:pt x="24" y="132"/>
                  </a:cubicBezTo>
                  <a:cubicBezTo>
                    <a:pt x="29" y="132"/>
                    <a:pt x="32" y="129"/>
                    <a:pt x="32" y="124"/>
                  </a:cubicBezTo>
                  <a:cubicBezTo>
                    <a:pt x="32" y="64"/>
                    <a:pt x="32" y="64"/>
                    <a:pt x="32" y="64"/>
                  </a:cubicBezTo>
                  <a:cubicBezTo>
                    <a:pt x="36" y="64"/>
                    <a:pt x="36" y="64"/>
                    <a:pt x="36" y="64"/>
                  </a:cubicBezTo>
                  <a:cubicBezTo>
                    <a:pt x="36" y="124"/>
                    <a:pt x="36" y="124"/>
                    <a:pt x="36" y="124"/>
                  </a:cubicBezTo>
                  <a:cubicBezTo>
                    <a:pt x="36" y="129"/>
                    <a:pt x="39" y="132"/>
                    <a:pt x="44" y="132"/>
                  </a:cubicBezTo>
                  <a:cubicBezTo>
                    <a:pt x="49" y="132"/>
                    <a:pt x="53" y="129"/>
                    <a:pt x="53" y="124"/>
                  </a:cubicBezTo>
                  <a:cubicBezTo>
                    <a:pt x="53" y="64"/>
                    <a:pt x="53" y="64"/>
                    <a:pt x="53" y="64"/>
                  </a:cubicBezTo>
                  <a:cubicBezTo>
                    <a:pt x="53" y="61"/>
                    <a:pt x="53" y="61"/>
                    <a:pt x="53" y="61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22"/>
                    <a:pt x="53" y="22"/>
                    <a:pt x="53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6" y="62"/>
                    <a:pt x="58" y="64"/>
                    <a:pt x="62" y="64"/>
                  </a:cubicBezTo>
                  <a:cubicBezTo>
                    <a:pt x="66" y="64"/>
                    <a:pt x="69" y="62"/>
                    <a:pt x="69" y="58"/>
                  </a:cubicBezTo>
                  <a:cubicBezTo>
                    <a:pt x="69" y="19"/>
                    <a:pt x="69" y="19"/>
                    <a:pt x="69" y="19"/>
                  </a:cubicBezTo>
                  <a:cubicBezTo>
                    <a:pt x="69" y="19"/>
                    <a:pt x="69" y="19"/>
                    <a:pt x="69" y="19"/>
                  </a:cubicBezTo>
                  <a:close/>
                </a:path>
              </a:pathLst>
            </a:cu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35" name="Oval 13"/>
            <p:cNvSpPr/>
            <p:nvPr/>
          </p:nvSpPr>
          <p:spPr>
            <a:xfrm>
              <a:off x="2497320" y="3949560"/>
              <a:ext cx="97200" cy="101520"/>
            </a:xfrm>
            <a:prstGeom prst="ellipse">
              <a:avLst/>
            </a:pr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36" name="Freeform 14"/>
            <p:cNvSpPr/>
            <p:nvPr/>
          </p:nvSpPr>
          <p:spPr>
            <a:xfrm>
              <a:off x="2428560" y="4058280"/>
              <a:ext cx="234720" cy="450360"/>
            </a:xfrm>
            <a:custGeom>
              <a:avLst/>
              <a:gdLst/>
              <a:ahLst/>
              <a:rect l="l" t="t" r="r" b="b"/>
              <a:pathLst>
                <a:path w="69" h="132">
                  <a:moveTo>
                    <a:pt x="69" y="19"/>
                  </a:moveTo>
                  <a:cubicBezTo>
                    <a:pt x="69" y="9"/>
                    <a:pt x="59" y="0"/>
                    <a:pt x="4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62"/>
                    <a:pt x="3" y="64"/>
                    <a:pt x="6" y="64"/>
                  </a:cubicBezTo>
                  <a:cubicBezTo>
                    <a:pt x="10" y="64"/>
                    <a:pt x="12" y="62"/>
                    <a:pt x="12" y="58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61"/>
                    <a:pt x="16" y="61"/>
                    <a:pt x="16" y="61"/>
                  </a:cubicBezTo>
                  <a:cubicBezTo>
                    <a:pt x="16" y="64"/>
                    <a:pt x="16" y="64"/>
                    <a:pt x="16" y="64"/>
                  </a:cubicBezTo>
                  <a:cubicBezTo>
                    <a:pt x="16" y="124"/>
                    <a:pt x="16" y="124"/>
                    <a:pt x="16" y="124"/>
                  </a:cubicBezTo>
                  <a:cubicBezTo>
                    <a:pt x="16" y="129"/>
                    <a:pt x="20" y="132"/>
                    <a:pt x="24" y="132"/>
                  </a:cubicBezTo>
                  <a:cubicBezTo>
                    <a:pt x="29" y="132"/>
                    <a:pt x="32" y="129"/>
                    <a:pt x="32" y="124"/>
                  </a:cubicBezTo>
                  <a:cubicBezTo>
                    <a:pt x="32" y="64"/>
                    <a:pt x="32" y="64"/>
                    <a:pt x="32" y="64"/>
                  </a:cubicBezTo>
                  <a:cubicBezTo>
                    <a:pt x="36" y="64"/>
                    <a:pt x="36" y="64"/>
                    <a:pt x="36" y="64"/>
                  </a:cubicBezTo>
                  <a:cubicBezTo>
                    <a:pt x="36" y="124"/>
                    <a:pt x="36" y="124"/>
                    <a:pt x="36" y="124"/>
                  </a:cubicBezTo>
                  <a:cubicBezTo>
                    <a:pt x="36" y="129"/>
                    <a:pt x="39" y="132"/>
                    <a:pt x="44" y="132"/>
                  </a:cubicBezTo>
                  <a:cubicBezTo>
                    <a:pt x="49" y="132"/>
                    <a:pt x="53" y="129"/>
                    <a:pt x="53" y="124"/>
                  </a:cubicBezTo>
                  <a:cubicBezTo>
                    <a:pt x="53" y="64"/>
                    <a:pt x="53" y="64"/>
                    <a:pt x="53" y="64"/>
                  </a:cubicBezTo>
                  <a:cubicBezTo>
                    <a:pt x="53" y="61"/>
                    <a:pt x="53" y="61"/>
                    <a:pt x="53" y="61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22"/>
                    <a:pt x="53" y="22"/>
                    <a:pt x="53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6" y="62"/>
                    <a:pt x="58" y="64"/>
                    <a:pt x="62" y="64"/>
                  </a:cubicBezTo>
                  <a:cubicBezTo>
                    <a:pt x="66" y="64"/>
                    <a:pt x="69" y="62"/>
                    <a:pt x="69" y="58"/>
                  </a:cubicBezTo>
                  <a:cubicBezTo>
                    <a:pt x="69" y="19"/>
                    <a:pt x="69" y="19"/>
                    <a:pt x="69" y="19"/>
                  </a:cubicBezTo>
                  <a:cubicBezTo>
                    <a:pt x="69" y="19"/>
                    <a:pt x="69" y="19"/>
                    <a:pt x="69" y="19"/>
                  </a:cubicBezTo>
                  <a:close/>
                </a:path>
              </a:pathLst>
            </a:cu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37" name="Oval 15"/>
            <p:cNvSpPr/>
            <p:nvPr/>
          </p:nvSpPr>
          <p:spPr>
            <a:xfrm>
              <a:off x="2832480" y="3949560"/>
              <a:ext cx="98640" cy="101520"/>
            </a:xfrm>
            <a:prstGeom prst="ellipse">
              <a:avLst/>
            </a:pr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38" name="Freeform 16"/>
            <p:cNvSpPr/>
            <p:nvPr/>
          </p:nvSpPr>
          <p:spPr>
            <a:xfrm>
              <a:off x="2765160" y="4058280"/>
              <a:ext cx="233280" cy="450360"/>
            </a:xfrm>
            <a:custGeom>
              <a:avLst/>
              <a:gdLst/>
              <a:ahLst/>
              <a:rect l="l" t="t" r="r" b="b"/>
              <a:pathLst>
                <a:path w="69" h="132">
                  <a:moveTo>
                    <a:pt x="69" y="19"/>
                  </a:moveTo>
                  <a:cubicBezTo>
                    <a:pt x="69" y="9"/>
                    <a:pt x="59" y="0"/>
                    <a:pt x="4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62"/>
                    <a:pt x="3" y="64"/>
                    <a:pt x="6" y="64"/>
                  </a:cubicBezTo>
                  <a:cubicBezTo>
                    <a:pt x="10" y="64"/>
                    <a:pt x="13" y="62"/>
                    <a:pt x="13" y="58"/>
                  </a:cubicBezTo>
                  <a:cubicBezTo>
                    <a:pt x="13" y="35"/>
                    <a:pt x="13" y="35"/>
                    <a:pt x="13" y="35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61"/>
                    <a:pt x="16" y="61"/>
                    <a:pt x="16" y="61"/>
                  </a:cubicBezTo>
                  <a:cubicBezTo>
                    <a:pt x="16" y="64"/>
                    <a:pt x="16" y="64"/>
                    <a:pt x="16" y="64"/>
                  </a:cubicBezTo>
                  <a:cubicBezTo>
                    <a:pt x="16" y="124"/>
                    <a:pt x="16" y="124"/>
                    <a:pt x="16" y="124"/>
                  </a:cubicBezTo>
                  <a:cubicBezTo>
                    <a:pt x="16" y="129"/>
                    <a:pt x="20" y="132"/>
                    <a:pt x="24" y="132"/>
                  </a:cubicBezTo>
                  <a:cubicBezTo>
                    <a:pt x="29" y="132"/>
                    <a:pt x="32" y="129"/>
                    <a:pt x="32" y="124"/>
                  </a:cubicBezTo>
                  <a:cubicBezTo>
                    <a:pt x="32" y="64"/>
                    <a:pt x="32" y="64"/>
                    <a:pt x="32" y="64"/>
                  </a:cubicBezTo>
                  <a:cubicBezTo>
                    <a:pt x="36" y="64"/>
                    <a:pt x="36" y="64"/>
                    <a:pt x="36" y="64"/>
                  </a:cubicBezTo>
                  <a:cubicBezTo>
                    <a:pt x="36" y="124"/>
                    <a:pt x="36" y="124"/>
                    <a:pt x="36" y="124"/>
                  </a:cubicBezTo>
                  <a:cubicBezTo>
                    <a:pt x="36" y="129"/>
                    <a:pt x="40" y="132"/>
                    <a:pt x="44" y="132"/>
                  </a:cubicBezTo>
                  <a:cubicBezTo>
                    <a:pt x="49" y="132"/>
                    <a:pt x="53" y="129"/>
                    <a:pt x="53" y="124"/>
                  </a:cubicBezTo>
                  <a:cubicBezTo>
                    <a:pt x="53" y="64"/>
                    <a:pt x="53" y="64"/>
                    <a:pt x="53" y="64"/>
                  </a:cubicBezTo>
                  <a:cubicBezTo>
                    <a:pt x="53" y="61"/>
                    <a:pt x="53" y="61"/>
                    <a:pt x="53" y="61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22"/>
                    <a:pt x="53" y="22"/>
                    <a:pt x="53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6" y="62"/>
                    <a:pt x="59" y="64"/>
                    <a:pt x="63" y="64"/>
                  </a:cubicBezTo>
                  <a:cubicBezTo>
                    <a:pt x="66" y="64"/>
                    <a:pt x="69" y="62"/>
                    <a:pt x="69" y="58"/>
                  </a:cubicBezTo>
                  <a:cubicBezTo>
                    <a:pt x="69" y="19"/>
                    <a:pt x="69" y="19"/>
                    <a:pt x="69" y="19"/>
                  </a:cubicBezTo>
                  <a:cubicBezTo>
                    <a:pt x="69" y="19"/>
                    <a:pt x="69" y="19"/>
                    <a:pt x="69" y="19"/>
                  </a:cubicBezTo>
                  <a:close/>
                </a:path>
              </a:pathLst>
            </a:cu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39" name="Oval 17"/>
            <p:cNvSpPr/>
            <p:nvPr/>
          </p:nvSpPr>
          <p:spPr>
            <a:xfrm>
              <a:off x="3169080" y="3949560"/>
              <a:ext cx="97200" cy="101520"/>
            </a:xfrm>
            <a:prstGeom prst="ellipse">
              <a:avLst/>
            </a:pr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40" name="Freeform 18"/>
            <p:cNvSpPr/>
            <p:nvPr/>
          </p:nvSpPr>
          <p:spPr>
            <a:xfrm>
              <a:off x="3100320" y="4058280"/>
              <a:ext cx="234720" cy="450360"/>
            </a:xfrm>
            <a:custGeom>
              <a:avLst/>
              <a:gdLst/>
              <a:ahLst/>
              <a:rect l="l" t="t" r="r" b="b"/>
              <a:pathLst>
                <a:path w="69" h="132">
                  <a:moveTo>
                    <a:pt x="69" y="19"/>
                  </a:moveTo>
                  <a:cubicBezTo>
                    <a:pt x="69" y="9"/>
                    <a:pt x="60" y="0"/>
                    <a:pt x="4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62"/>
                    <a:pt x="3" y="64"/>
                    <a:pt x="6" y="64"/>
                  </a:cubicBezTo>
                  <a:cubicBezTo>
                    <a:pt x="10" y="64"/>
                    <a:pt x="13" y="62"/>
                    <a:pt x="13" y="58"/>
                  </a:cubicBezTo>
                  <a:cubicBezTo>
                    <a:pt x="13" y="35"/>
                    <a:pt x="13" y="35"/>
                    <a:pt x="13" y="35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61"/>
                    <a:pt x="16" y="61"/>
                    <a:pt x="16" y="61"/>
                  </a:cubicBezTo>
                  <a:cubicBezTo>
                    <a:pt x="16" y="64"/>
                    <a:pt x="16" y="64"/>
                    <a:pt x="16" y="64"/>
                  </a:cubicBezTo>
                  <a:cubicBezTo>
                    <a:pt x="16" y="124"/>
                    <a:pt x="16" y="124"/>
                    <a:pt x="16" y="124"/>
                  </a:cubicBezTo>
                  <a:cubicBezTo>
                    <a:pt x="16" y="129"/>
                    <a:pt x="20" y="132"/>
                    <a:pt x="25" y="132"/>
                  </a:cubicBezTo>
                  <a:cubicBezTo>
                    <a:pt x="29" y="132"/>
                    <a:pt x="32" y="129"/>
                    <a:pt x="32" y="124"/>
                  </a:cubicBezTo>
                  <a:cubicBezTo>
                    <a:pt x="32" y="64"/>
                    <a:pt x="32" y="64"/>
                    <a:pt x="32" y="64"/>
                  </a:cubicBezTo>
                  <a:cubicBezTo>
                    <a:pt x="36" y="64"/>
                    <a:pt x="36" y="64"/>
                    <a:pt x="36" y="64"/>
                  </a:cubicBezTo>
                  <a:cubicBezTo>
                    <a:pt x="36" y="124"/>
                    <a:pt x="36" y="124"/>
                    <a:pt x="36" y="124"/>
                  </a:cubicBezTo>
                  <a:cubicBezTo>
                    <a:pt x="36" y="129"/>
                    <a:pt x="40" y="132"/>
                    <a:pt x="44" y="132"/>
                  </a:cubicBezTo>
                  <a:cubicBezTo>
                    <a:pt x="49" y="132"/>
                    <a:pt x="53" y="129"/>
                    <a:pt x="53" y="124"/>
                  </a:cubicBezTo>
                  <a:cubicBezTo>
                    <a:pt x="53" y="64"/>
                    <a:pt x="53" y="64"/>
                    <a:pt x="53" y="64"/>
                  </a:cubicBezTo>
                  <a:cubicBezTo>
                    <a:pt x="53" y="61"/>
                    <a:pt x="53" y="61"/>
                    <a:pt x="53" y="61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22"/>
                    <a:pt x="53" y="22"/>
                    <a:pt x="53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6" y="62"/>
                    <a:pt x="59" y="64"/>
                    <a:pt x="63" y="64"/>
                  </a:cubicBezTo>
                  <a:cubicBezTo>
                    <a:pt x="66" y="64"/>
                    <a:pt x="69" y="62"/>
                    <a:pt x="69" y="58"/>
                  </a:cubicBezTo>
                  <a:cubicBezTo>
                    <a:pt x="69" y="19"/>
                    <a:pt x="69" y="19"/>
                    <a:pt x="69" y="19"/>
                  </a:cubicBezTo>
                  <a:cubicBezTo>
                    <a:pt x="69" y="19"/>
                    <a:pt x="69" y="19"/>
                    <a:pt x="69" y="19"/>
                  </a:cubicBezTo>
                  <a:close/>
                </a:path>
              </a:pathLst>
            </a:cu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41" name="Oval 19"/>
            <p:cNvSpPr/>
            <p:nvPr/>
          </p:nvSpPr>
          <p:spPr>
            <a:xfrm>
              <a:off x="3504240" y="3949560"/>
              <a:ext cx="98640" cy="101520"/>
            </a:xfrm>
            <a:prstGeom prst="ellipse">
              <a:avLst/>
            </a:pr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42" name="Freeform 20"/>
            <p:cNvSpPr/>
            <p:nvPr/>
          </p:nvSpPr>
          <p:spPr>
            <a:xfrm>
              <a:off x="3436920" y="4058280"/>
              <a:ext cx="233280" cy="450360"/>
            </a:xfrm>
            <a:custGeom>
              <a:avLst/>
              <a:gdLst/>
              <a:ahLst/>
              <a:rect l="l" t="t" r="r" b="b"/>
              <a:pathLst>
                <a:path w="69" h="132">
                  <a:moveTo>
                    <a:pt x="69" y="19"/>
                  </a:moveTo>
                  <a:cubicBezTo>
                    <a:pt x="69" y="9"/>
                    <a:pt x="60" y="0"/>
                    <a:pt x="4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0" y="0"/>
                    <a:pt x="0" y="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62"/>
                    <a:pt x="3" y="64"/>
                    <a:pt x="6" y="64"/>
                  </a:cubicBezTo>
                  <a:cubicBezTo>
                    <a:pt x="10" y="64"/>
                    <a:pt x="13" y="62"/>
                    <a:pt x="13" y="58"/>
                  </a:cubicBezTo>
                  <a:cubicBezTo>
                    <a:pt x="13" y="35"/>
                    <a:pt x="13" y="35"/>
                    <a:pt x="13" y="35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61"/>
                    <a:pt x="16" y="61"/>
                    <a:pt x="16" y="61"/>
                  </a:cubicBezTo>
                  <a:cubicBezTo>
                    <a:pt x="16" y="64"/>
                    <a:pt x="16" y="64"/>
                    <a:pt x="16" y="64"/>
                  </a:cubicBezTo>
                  <a:cubicBezTo>
                    <a:pt x="16" y="124"/>
                    <a:pt x="16" y="124"/>
                    <a:pt x="16" y="124"/>
                  </a:cubicBezTo>
                  <a:cubicBezTo>
                    <a:pt x="16" y="129"/>
                    <a:pt x="20" y="132"/>
                    <a:pt x="25" y="132"/>
                  </a:cubicBezTo>
                  <a:cubicBezTo>
                    <a:pt x="29" y="132"/>
                    <a:pt x="33" y="129"/>
                    <a:pt x="33" y="124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7" y="64"/>
                    <a:pt x="37" y="64"/>
                    <a:pt x="37" y="64"/>
                  </a:cubicBezTo>
                  <a:cubicBezTo>
                    <a:pt x="37" y="124"/>
                    <a:pt x="37" y="124"/>
                    <a:pt x="37" y="124"/>
                  </a:cubicBezTo>
                  <a:cubicBezTo>
                    <a:pt x="37" y="129"/>
                    <a:pt x="40" y="132"/>
                    <a:pt x="45" y="132"/>
                  </a:cubicBezTo>
                  <a:cubicBezTo>
                    <a:pt x="49" y="132"/>
                    <a:pt x="53" y="129"/>
                    <a:pt x="53" y="124"/>
                  </a:cubicBezTo>
                  <a:cubicBezTo>
                    <a:pt x="53" y="64"/>
                    <a:pt x="53" y="64"/>
                    <a:pt x="53" y="64"/>
                  </a:cubicBezTo>
                  <a:cubicBezTo>
                    <a:pt x="53" y="61"/>
                    <a:pt x="53" y="61"/>
                    <a:pt x="53" y="61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22"/>
                    <a:pt x="53" y="22"/>
                    <a:pt x="53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6" y="62"/>
                    <a:pt x="59" y="64"/>
                    <a:pt x="63" y="64"/>
                  </a:cubicBezTo>
                  <a:cubicBezTo>
                    <a:pt x="66" y="64"/>
                    <a:pt x="69" y="62"/>
                    <a:pt x="69" y="58"/>
                  </a:cubicBezTo>
                  <a:cubicBezTo>
                    <a:pt x="69" y="19"/>
                    <a:pt x="69" y="19"/>
                    <a:pt x="69" y="19"/>
                  </a:cubicBezTo>
                  <a:cubicBezTo>
                    <a:pt x="69" y="19"/>
                    <a:pt x="69" y="19"/>
                    <a:pt x="69" y="19"/>
                  </a:cubicBezTo>
                  <a:close/>
                </a:path>
              </a:pathLst>
            </a:cu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43" name="Oval 21"/>
            <p:cNvSpPr/>
            <p:nvPr/>
          </p:nvSpPr>
          <p:spPr>
            <a:xfrm>
              <a:off x="3840480" y="3949560"/>
              <a:ext cx="101520" cy="10152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44" name="Freeform 22"/>
            <p:cNvSpPr/>
            <p:nvPr/>
          </p:nvSpPr>
          <p:spPr>
            <a:xfrm>
              <a:off x="3772080" y="4059000"/>
              <a:ext cx="234720" cy="449640"/>
            </a:xfrm>
            <a:custGeom>
              <a:avLst/>
              <a:gdLst/>
              <a:ahLst/>
              <a:rect l="l" t="t" r="r" b="b"/>
              <a:pathLst>
                <a:path w="69" h="132">
                  <a:moveTo>
                    <a:pt x="69" y="19"/>
                  </a:moveTo>
                  <a:cubicBezTo>
                    <a:pt x="69" y="9"/>
                    <a:pt x="60" y="0"/>
                    <a:pt x="49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0" y="0"/>
                    <a:pt x="0" y="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62"/>
                    <a:pt x="3" y="64"/>
                    <a:pt x="6" y="64"/>
                  </a:cubicBezTo>
                  <a:cubicBezTo>
                    <a:pt x="10" y="64"/>
                    <a:pt x="13" y="62"/>
                    <a:pt x="13" y="58"/>
                  </a:cubicBezTo>
                  <a:cubicBezTo>
                    <a:pt x="13" y="35"/>
                    <a:pt x="13" y="35"/>
                    <a:pt x="13" y="35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61"/>
                    <a:pt x="16" y="61"/>
                    <a:pt x="16" y="61"/>
                  </a:cubicBezTo>
                  <a:cubicBezTo>
                    <a:pt x="16" y="64"/>
                    <a:pt x="16" y="64"/>
                    <a:pt x="16" y="64"/>
                  </a:cubicBezTo>
                  <a:cubicBezTo>
                    <a:pt x="16" y="124"/>
                    <a:pt x="16" y="124"/>
                    <a:pt x="16" y="124"/>
                  </a:cubicBezTo>
                  <a:cubicBezTo>
                    <a:pt x="16" y="129"/>
                    <a:pt x="20" y="132"/>
                    <a:pt x="25" y="132"/>
                  </a:cubicBezTo>
                  <a:cubicBezTo>
                    <a:pt x="30" y="132"/>
                    <a:pt x="33" y="129"/>
                    <a:pt x="33" y="124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7" y="64"/>
                    <a:pt x="37" y="64"/>
                    <a:pt x="37" y="64"/>
                  </a:cubicBezTo>
                  <a:cubicBezTo>
                    <a:pt x="37" y="124"/>
                    <a:pt x="37" y="124"/>
                    <a:pt x="37" y="124"/>
                  </a:cubicBezTo>
                  <a:cubicBezTo>
                    <a:pt x="37" y="129"/>
                    <a:pt x="40" y="132"/>
                    <a:pt x="45" y="132"/>
                  </a:cubicBezTo>
                  <a:cubicBezTo>
                    <a:pt x="49" y="132"/>
                    <a:pt x="53" y="129"/>
                    <a:pt x="53" y="124"/>
                  </a:cubicBezTo>
                  <a:cubicBezTo>
                    <a:pt x="53" y="64"/>
                    <a:pt x="53" y="64"/>
                    <a:pt x="53" y="64"/>
                  </a:cubicBezTo>
                  <a:cubicBezTo>
                    <a:pt x="53" y="61"/>
                    <a:pt x="53" y="61"/>
                    <a:pt x="53" y="61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22"/>
                    <a:pt x="53" y="22"/>
                    <a:pt x="53" y="22"/>
                  </a:cubicBezTo>
                  <a:cubicBezTo>
                    <a:pt x="57" y="22"/>
                    <a:pt x="57" y="22"/>
                    <a:pt x="57" y="22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58"/>
                    <a:pt x="57" y="58"/>
                    <a:pt x="57" y="58"/>
                  </a:cubicBezTo>
                  <a:cubicBezTo>
                    <a:pt x="57" y="62"/>
                    <a:pt x="59" y="64"/>
                    <a:pt x="63" y="64"/>
                  </a:cubicBezTo>
                  <a:cubicBezTo>
                    <a:pt x="66" y="64"/>
                    <a:pt x="69" y="62"/>
                    <a:pt x="69" y="58"/>
                  </a:cubicBezTo>
                  <a:cubicBezTo>
                    <a:pt x="69" y="19"/>
                    <a:pt x="69" y="19"/>
                    <a:pt x="69" y="19"/>
                  </a:cubicBezTo>
                  <a:cubicBezTo>
                    <a:pt x="69" y="19"/>
                    <a:pt x="69" y="19"/>
                    <a:pt x="69" y="19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45" name="Oval 23"/>
            <p:cNvSpPr/>
            <p:nvPr/>
          </p:nvSpPr>
          <p:spPr>
            <a:xfrm>
              <a:off x="4175280" y="3949560"/>
              <a:ext cx="101520" cy="10152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46" name="Freeform 24"/>
            <p:cNvSpPr/>
            <p:nvPr/>
          </p:nvSpPr>
          <p:spPr>
            <a:xfrm>
              <a:off x="4108680" y="4059000"/>
              <a:ext cx="233280" cy="449640"/>
            </a:xfrm>
            <a:custGeom>
              <a:avLst/>
              <a:gdLst/>
              <a:ahLst/>
              <a:rect l="l" t="t" r="r" b="b"/>
              <a:pathLst>
                <a:path w="69" h="132">
                  <a:moveTo>
                    <a:pt x="69" y="19"/>
                  </a:moveTo>
                  <a:cubicBezTo>
                    <a:pt x="69" y="9"/>
                    <a:pt x="60" y="0"/>
                    <a:pt x="5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0" y="0"/>
                    <a:pt x="0" y="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62"/>
                    <a:pt x="3" y="64"/>
                    <a:pt x="7" y="64"/>
                  </a:cubicBezTo>
                  <a:cubicBezTo>
                    <a:pt x="11" y="64"/>
                    <a:pt x="13" y="62"/>
                    <a:pt x="13" y="58"/>
                  </a:cubicBezTo>
                  <a:cubicBezTo>
                    <a:pt x="13" y="35"/>
                    <a:pt x="13" y="35"/>
                    <a:pt x="13" y="35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61"/>
                    <a:pt x="16" y="61"/>
                    <a:pt x="16" y="61"/>
                  </a:cubicBezTo>
                  <a:cubicBezTo>
                    <a:pt x="16" y="64"/>
                    <a:pt x="16" y="64"/>
                    <a:pt x="16" y="64"/>
                  </a:cubicBezTo>
                  <a:cubicBezTo>
                    <a:pt x="16" y="124"/>
                    <a:pt x="16" y="124"/>
                    <a:pt x="16" y="124"/>
                  </a:cubicBezTo>
                  <a:cubicBezTo>
                    <a:pt x="16" y="129"/>
                    <a:pt x="20" y="132"/>
                    <a:pt x="25" y="132"/>
                  </a:cubicBezTo>
                  <a:cubicBezTo>
                    <a:pt x="30" y="132"/>
                    <a:pt x="33" y="129"/>
                    <a:pt x="33" y="124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7" y="64"/>
                    <a:pt x="37" y="64"/>
                    <a:pt x="37" y="64"/>
                  </a:cubicBezTo>
                  <a:cubicBezTo>
                    <a:pt x="37" y="124"/>
                    <a:pt x="37" y="124"/>
                    <a:pt x="37" y="124"/>
                  </a:cubicBezTo>
                  <a:cubicBezTo>
                    <a:pt x="37" y="129"/>
                    <a:pt x="40" y="132"/>
                    <a:pt x="45" y="132"/>
                  </a:cubicBezTo>
                  <a:cubicBezTo>
                    <a:pt x="50" y="132"/>
                    <a:pt x="53" y="129"/>
                    <a:pt x="53" y="124"/>
                  </a:cubicBezTo>
                  <a:cubicBezTo>
                    <a:pt x="53" y="64"/>
                    <a:pt x="53" y="64"/>
                    <a:pt x="53" y="64"/>
                  </a:cubicBezTo>
                  <a:cubicBezTo>
                    <a:pt x="53" y="61"/>
                    <a:pt x="53" y="61"/>
                    <a:pt x="53" y="61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22"/>
                    <a:pt x="53" y="22"/>
                    <a:pt x="53" y="22"/>
                  </a:cubicBezTo>
                  <a:cubicBezTo>
                    <a:pt x="57" y="22"/>
                    <a:pt x="57" y="22"/>
                    <a:pt x="57" y="22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58"/>
                    <a:pt x="57" y="58"/>
                    <a:pt x="57" y="58"/>
                  </a:cubicBezTo>
                  <a:cubicBezTo>
                    <a:pt x="57" y="62"/>
                    <a:pt x="59" y="64"/>
                    <a:pt x="63" y="64"/>
                  </a:cubicBezTo>
                  <a:cubicBezTo>
                    <a:pt x="66" y="64"/>
                    <a:pt x="69" y="62"/>
                    <a:pt x="69" y="58"/>
                  </a:cubicBezTo>
                  <a:cubicBezTo>
                    <a:pt x="69" y="19"/>
                    <a:pt x="69" y="19"/>
                    <a:pt x="69" y="19"/>
                  </a:cubicBezTo>
                  <a:cubicBezTo>
                    <a:pt x="69" y="19"/>
                    <a:pt x="69" y="19"/>
                    <a:pt x="69" y="19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347" name="Group 75"/>
          <p:cNvGrpSpPr/>
          <p:nvPr/>
        </p:nvGrpSpPr>
        <p:grpSpPr>
          <a:xfrm>
            <a:off x="1082520" y="5246640"/>
            <a:ext cx="3286440" cy="557280"/>
            <a:chOff x="1082520" y="5246640"/>
            <a:chExt cx="3286440" cy="557280"/>
          </a:xfrm>
        </p:grpSpPr>
        <p:sp>
          <p:nvSpPr>
            <p:cNvPr id="348" name="Oval 25"/>
            <p:cNvSpPr/>
            <p:nvPr/>
          </p:nvSpPr>
          <p:spPr>
            <a:xfrm>
              <a:off x="1161720" y="5246640"/>
              <a:ext cx="101520" cy="98280"/>
            </a:xfrm>
            <a:prstGeom prst="ellipse">
              <a:avLst/>
            </a:pr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49" name="Freeform 26"/>
            <p:cNvSpPr/>
            <p:nvPr/>
          </p:nvSpPr>
          <p:spPr>
            <a:xfrm>
              <a:off x="1082520" y="5352840"/>
              <a:ext cx="258480" cy="451080"/>
            </a:xfrm>
            <a:custGeom>
              <a:avLst/>
              <a:gdLst/>
              <a:ahLst/>
              <a:rect l="l" t="t" r="r" b="b"/>
              <a:pathLst>
                <a:path w="76" h="132">
                  <a:moveTo>
                    <a:pt x="75" y="51"/>
                  </a:moveTo>
                  <a:cubicBezTo>
                    <a:pt x="64" y="15"/>
                    <a:pt x="64" y="15"/>
                    <a:pt x="64" y="15"/>
                  </a:cubicBezTo>
                  <a:cubicBezTo>
                    <a:pt x="63" y="14"/>
                    <a:pt x="63" y="14"/>
                    <a:pt x="63" y="14"/>
                  </a:cubicBezTo>
                  <a:cubicBezTo>
                    <a:pt x="59" y="3"/>
                    <a:pt x="49" y="0"/>
                    <a:pt x="45" y="0"/>
                  </a:cubicBezTo>
                  <a:cubicBezTo>
                    <a:pt x="41" y="0"/>
                    <a:pt x="42" y="0"/>
                    <a:pt x="39" y="0"/>
                  </a:cubicBezTo>
                  <a:cubicBezTo>
                    <a:pt x="38" y="0"/>
                    <a:pt x="37" y="0"/>
                    <a:pt x="37" y="0"/>
                  </a:cubicBezTo>
                  <a:cubicBezTo>
                    <a:pt x="33" y="0"/>
                    <a:pt x="34" y="0"/>
                    <a:pt x="31" y="0"/>
                  </a:cubicBezTo>
                  <a:cubicBezTo>
                    <a:pt x="27" y="0"/>
                    <a:pt x="17" y="3"/>
                    <a:pt x="13" y="14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" y="51"/>
                    <a:pt x="1" y="51"/>
                    <a:pt x="1" y="51"/>
                  </a:cubicBezTo>
                  <a:cubicBezTo>
                    <a:pt x="0" y="54"/>
                    <a:pt x="1" y="57"/>
                    <a:pt x="4" y="58"/>
                  </a:cubicBezTo>
                  <a:cubicBezTo>
                    <a:pt x="7" y="59"/>
                    <a:pt x="10" y="57"/>
                    <a:pt x="12" y="55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5" y="20"/>
                    <a:pt x="25" y="20"/>
                    <a:pt x="25" y="20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21" y="79"/>
                    <a:pt x="21" y="79"/>
                    <a:pt x="21" y="79"/>
                  </a:cubicBezTo>
                  <a:cubicBezTo>
                    <a:pt x="21" y="125"/>
                    <a:pt x="21" y="125"/>
                    <a:pt x="21" y="125"/>
                  </a:cubicBezTo>
                  <a:cubicBezTo>
                    <a:pt x="21" y="129"/>
                    <a:pt x="25" y="132"/>
                    <a:pt x="29" y="132"/>
                  </a:cubicBezTo>
                  <a:cubicBezTo>
                    <a:pt x="33" y="132"/>
                    <a:pt x="35" y="129"/>
                    <a:pt x="35" y="125"/>
                  </a:cubicBezTo>
                  <a:cubicBezTo>
                    <a:pt x="35" y="79"/>
                    <a:pt x="35" y="79"/>
                    <a:pt x="35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1" y="125"/>
                    <a:pt x="41" y="125"/>
                    <a:pt x="41" y="125"/>
                  </a:cubicBezTo>
                  <a:cubicBezTo>
                    <a:pt x="41" y="129"/>
                    <a:pt x="43" y="132"/>
                    <a:pt x="47" y="132"/>
                  </a:cubicBezTo>
                  <a:cubicBezTo>
                    <a:pt x="51" y="132"/>
                    <a:pt x="54" y="129"/>
                    <a:pt x="54" y="125"/>
                  </a:cubicBezTo>
                  <a:cubicBezTo>
                    <a:pt x="54" y="79"/>
                    <a:pt x="54" y="79"/>
                    <a:pt x="54" y="79"/>
                  </a:cubicBezTo>
                  <a:cubicBezTo>
                    <a:pt x="69" y="79"/>
                    <a:pt x="69" y="79"/>
                    <a:pt x="69" y="79"/>
                  </a:cubicBezTo>
                  <a:cubicBezTo>
                    <a:pt x="50" y="20"/>
                    <a:pt x="50" y="20"/>
                    <a:pt x="50" y="20"/>
                  </a:cubicBezTo>
                  <a:cubicBezTo>
                    <a:pt x="53" y="20"/>
                    <a:pt x="53" y="20"/>
                    <a:pt x="53" y="20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5" y="57"/>
                    <a:pt x="69" y="59"/>
                    <a:pt x="72" y="58"/>
                  </a:cubicBezTo>
                  <a:cubicBezTo>
                    <a:pt x="74" y="57"/>
                    <a:pt x="76" y="54"/>
                    <a:pt x="75" y="51"/>
                  </a:cubicBezTo>
                  <a:close/>
                </a:path>
              </a:pathLst>
            </a:cu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50" name="Oval 27"/>
            <p:cNvSpPr/>
            <p:nvPr/>
          </p:nvSpPr>
          <p:spPr>
            <a:xfrm>
              <a:off x="1498320" y="5246640"/>
              <a:ext cx="101520" cy="98280"/>
            </a:xfrm>
            <a:prstGeom prst="ellipse">
              <a:avLst/>
            </a:pr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51" name="Freeform 28"/>
            <p:cNvSpPr/>
            <p:nvPr/>
          </p:nvSpPr>
          <p:spPr>
            <a:xfrm>
              <a:off x="1419120" y="5352840"/>
              <a:ext cx="257040" cy="451080"/>
            </a:xfrm>
            <a:custGeom>
              <a:avLst/>
              <a:gdLst/>
              <a:ahLst/>
              <a:rect l="l" t="t" r="r" b="b"/>
              <a:pathLst>
                <a:path w="76" h="132">
                  <a:moveTo>
                    <a:pt x="75" y="51"/>
                  </a:moveTo>
                  <a:cubicBezTo>
                    <a:pt x="64" y="15"/>
                    <a:pt x="64" y="15"/>
                    <a:pt x="64" y="15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60" y="3"/>
                    <a:pt x="49" y="0"/>
                    <a:pt x="45" y="0"/>
                  </a:cubicBezTo>
                  <a:cubicBezTo>
                    <a:pt x="42" y="0"/>
                    <a:pt x="43" y="0"/>
                    <a:pt x="40" y="0"/>
                  </a:cubicBezTo>
                  <a:cubicBezTo>
                    <a:pt x="39" y="0"/>
                    <a:pt x="38" y="0"/>
                    <a:pt x="37" y="0"/>
                  </a:cubicBezTo>
                  <a:cubicBezTo>
                    <a:pt x="34" y="0"/>
                    <a:pt x="35" y="0"/>
                    <a:pt x="32" y="0"/>
                  </a:cubicBezTo>
                  <a:cubicBezTo>
                    <a:pt x="28" y="0"/>
                    <a:pt x="17" y="3"/>
                    <a:pt x="13" y="14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" y="51"/>
                    <a:pt x="1" y="51"/>
                    <a:pt x="1" y="51"/>
                  </a:cubicBezTo>
                  <a:cubicBezTo>
                    <a:pt x="0" y="54"/>
                    <a:pt x="2" y="57"/>
                    <a:pt x="4" y="58"/>
                  </a:cubicBezTo>
                  <a:cubicBezTo>
                    <a:pt x="8" y="59"/>
                    <a:pt x="11" y="57"/>
                    <a:pt x="12" y="55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7" y="79"/>
                    <a:pt x="7" y="79"/>
                    <a:pt x="7" y="79"/>
                  </a:cubicBezTo>
                  <a:cubicBezTo>
                    <a:pt x="22" y="79"/>
                    <a:pt x="22" y="79"/>
                    <a:pt x="22" y="79"/>
                  </a:cubicBezTo>
                  <a:cubicBezTo>
                    <a:pt x="22" y="125"/>
                    <a:pt x="22" y="125"/>
                    <a:pt x="22" y="125"/>
                  </a:cubicBezTo>
                  <a:cubicBezTo>
                    <a:pt x="22" y="129"/>
                    <a:pt x="25" y="132"/>
                    <a:pt x="29" y="132"/>
                  </a:cubicBezTo>
                  <a:cubicBezTo>
                    <a:pt x="33" y="132"/>
                    <a:pt x="36" y="129"/>
                    <a:pt x="36" y="125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1" y="125"/>
                    <a:pt x="41" y="125"/>
                    <a:pt x="41" y="125"/>
                  </a:cubicBezTo>
                  <a:cubicBezTo>
                    <a:pt x="41" y="129"/>
                    <a:pt x="44" y="132"/>
                    <a:pt x="48" y="132"/>
                  </a:cubicBezTo>
                  <a:cubicBezTo>
                    <a:pt x="52" y="132"/>
                    <a:pt x="55" y="129"/>
                    <a:pt x="55" y="125"/>
                  </a:cubicBezTo>
                  <a:cubicBezTo>
                    <a:pt x="55" y="79"/>
                    <a:pt x="55" y="79"/>
                    <a:pt x="55" y="79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54" y="20"/>
                    <a:pt x="54" y="20"/>
                    <a:pt x="54" y="20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6" y="57"/>
                    <a:pt x="69" y="59"/>
                    <a:pt x="72" y="58"/>
                  </a:cubicBezTo>
                  <a:cubicBezTo>
                    <a:pt x="75" y="57"/>
                    <a:pt x="76" y="54"/>
                    <a:pt x="75" y="51"/>
                  </a:cubicBezTo>
                  <a:close/>
                </a:path>
              </a:pathLst>
            </a:cu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52" name="Oval 29"/>
            <p:cNvSpPr/>
            <p:nvPr/>
          </p:nvSpPr>
          <p:spPr>
            <a:xfrm>
              <a:off x="1836720" y="5246640"/>
              <a:ext cx="102960" cy="98280"/>
            </a:xfrm>
            <a:prstGeom prst="ellipse">
              <a:avLst/>
            </a:pr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53" name="Freeform 30"/>
            <p:cNvSpPr/>
            <p:nvPr/>
          </p:nvSpPr>
          <p:spPr>
            <a:xfrm>
              <a:off x="1758600" y="5352840"/>
              <a:ext cx="257040" cy="451080"/>
            </a:xfrm>
            <a:custGeom>
              <a:avLst/>
              <a:gdLst/>
              <a:ahLst/>
              <a:rect l="l" t="t" r="r" b="b"/>
              <a:pathLst>
                <a:path w="76" h="132">
                  <a:moveTo>
                    <a:pt x="75" y="51"/>
                  </a:moveTo>
                  <a:cubicBezTo>
                    <a:pt x="64" y="15"/>
                    <a:pt x="64" y="15"/>
                    <a:pt x="64" y="15"/>
                  </a:cubicBezTo>
                  <a:cubicBezTo>
                    <a:pt x="63" y="14"/>
                    <a:pt x="63" y="14"/>
                    <a:pt x="63" y="14"/>
                  </a:cubicBezTo>
                  <a:cubicBezTo>
                    <a:pt x="59" y="3"/>
                    <a:pt x="49" y="0"/>
                    <a:pt x="45" y="0"/>
                  </a:cubicBezTo>
                  <a:cubicBezTo>
                    <a:pt x="42" y="0"/>
                    <a:pt x="42" y="0"/>
                    <a:pt x="39" y="0"/>
                  </a:cubicBezTo>
                  <a:cubicBezTo>
                    <a:pt x="38" y="0"/>
                    <a:pt x="38" y="0"/>
                    <a:pt x="37" y="0"/>
                  </a:cubicBezTo>
                  <a:cubicBezTo>
                    <a:pt x="34" y="0"/>
                    <a:pt x="34" y="0"/>
                    <a:pt x="31" y="0"/>
                  </a:cubicBezTo>
                  <a:cubicBezTo>
                    <a:pt x="27" y="0"/>
                    <a:pt x="17" y="3"/>
                    <a:pt x="13" y="14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" y="51"/>
                    <a:pt x="1" y="51"/>
                    <a:pt x="1" y="51"/>
                  </a:cubicBezTo>
                  <a:cubicBezTo>
                    <a:pt x="0" y="54"/>
                    <a:pt x="2" y="57"/>
                    <a:pt x="4" y="58"/>
                  </a:cubicBezTo>
                  <a:cubicBezTo>
                    <a:pt x="7" y="59"/>
                    <a:pt x="10" y="57"/>
                    <a:pt x="12" y="55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22" y="79"/>
                    <a:pt x="22" y="79"/>
                    <a:pt x="22" y="79"/>
                  </a:cubicBezTo>
                  <a:cubicBezTo>
                    <a:pt x="22" y="125"/>
                    <a:pt x="22" y="125"/>
                    <a:pt x="22" y="125"/>
                  </a:cubicBezTo>
                  <a:cubicBezTo>
                    <a:pt x="22" y="129"/>
                    <a:pt x="25" y="132"/>
                    <a:pt x="29" y="132"/>
                  </a:cubicBezTo>
                  <a:cubicBezTo>
                    <a:pt x="33" y="132"/>
                    <a:pt x="35" y="129"/>
                    <a:pt x="35" y="125"/>
                  </a:cubicBezTo>
                  <a:cubicBezTo>
                    <a:pt x="35" y="79"/>
                    <a:pt x="35" y="79"/>
                    <a:pt x="35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1" y="125"/>
                    <a:pt x="41" y="125"/>
                    <a:pt x="41" y="125"/>
                  </a:cubicBezTo>
                  <a:cubicBezTo>
                    <a:pt x="41" y="129"/>
                    <a:pt x="43" y="132"/>
                    <a:pt x="47" y="132"/>
                  </a:cubicBezTo>
                  <a:cubicBezTo>
                    <a:pt x="51" y="132"/>
                    <a:pt x="54" y="129"/>
                    <a:pt x="54" y="125"/>
                  </a:cubicBezTo>
                  <a:cubicBezTo>
                    <a:pt x="54" y="79"/>
                    <a:pt x="54" y="79"/>
                    <a:pt x="54" y="79"/>
                  </a:cubicBezTo>
                  <a:cubicBezTo>
                    <a:pt x="69" y="79"/>
                    <a:pt x="69" y="79"/>
                    <a:pt x="69" y="79"/>
                  </a:cubicBezTo>
                  <a:cubicBezTo>
                    <a:pt x="50" y="20"/>
                    <a:pt x="50" y="20"/>
                    <a:pt x="50" y="20"/>
                  </a:cubicBezTo>
                  <a:cubicBezTo>
                    <a:pt x="53" y="20"/>
                    <a:pt x="53" y="20"/>
                    <a:pt x="53" y="20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5" y="57"/>
                    <a:pt x="69" y="59"/>
                    <a:pt x="72" y="58"/>
                  </a:cubicBezTo>
                  <a:cubicBezTo>
                    <a:pt x="74" y="57"/>
                    <a:pt x="76" y="54"/>
                    <a:pt x="75" y="51"/>
                  </a:cubicBezTo>
                  <a:close/>
                </a:path>
              </a:pathLst>
            </a:cu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54" name="Oval 31"/>
            <p:cNvSpPr/>
            <p:nvPr/>
          </p:nvSpPr>
          <p:spPr>
            <a:xfrm>
              <a:off x="2173320" y="5246640"/>
              <a:ext cx="101520" cy="98280"/>
            </a:xfrm>
            <a:prstGeom prst="ellipse">
              <a:avLst/>
            </a:pr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55" name="Freeform 32"/>
            <p:cNvSpPr/>
            <p:nvPr/>
          </p:nvSpPr>
          <p:spPr>
            <a:xfrm>
              <a:off x="2095200" y="5352840"/>
              <a:ext cx="257040" cy="451080"/>
            </a:xfrm>
            <a:custGeom>
              <a:avLst/>
              <a:gdLst/>
              <a:ahLst/>
              <a:rect l="l" t="t" r="r" b="b"/>
              <a:pathLst>
                <a:path w="76" h="132">
                  <a:moveTo>
                    <a:pt x="75" y="51"/>
                  </a:moveTo>
                  <a:cubicBezTo>
                    <a:pt x="64" y="15"/>
                    <a:pt x="64" y="15"/>
                    <a:pt x="64" y="15"/>
                  </a:cubicBezTo>
                  <a:cubicBezTo>
                    <a:pt x="63" y="14"/>
                    <a:pt x="63" y="14"/>
                    <a:pt x="63" y="14"/>
                  </a:cubicBezTo>
                  <a:cubicBezTo>
                    <a:pt x="59" y="3"/>
                    <a:pt x="49" y="0"/>
                    <a:pt x="45" y="0"/>
                  </a:cubicBezTo>
                  <a:cubicBezTo>
                    <a:pt x="42" y="0"/>
                    <a:pt x="43" y="0"/>
                    <a:pt x="39" y="0"/>
                  </a:cubicBezTo>
                  <a:cubicBezTo>
                    <a:pt x="39" y="0"/>
                    <a:pt x="38" y="0"/>
                    <a:pt x="37" y="0"/>
                  </a:cubicBezTo>
                  <a:cubicBezTo>
                    <a:pt x="34" y="0"/>
                    <a:pt x="35" y="0"/>
                    <a:pt x="31" y="0"/>
                  </a:cubicBezTo>
                  <a:cubicBezTo>
                    <a:pt x="27" y="0"/>
                    <a:pt x="17" y="3"/>
                    <a:pt x="13" y="14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" y="51"/>
                    <a:pt x="1" y="51"/>
                    <a:pt x="1" y="51"/>
                  </a:cubicBezTo>
                  <a:cubicBezTo>
                    <a:pt x="0" y="54"/>
                    <a:pt x="2" y="57"/>
                    <a:pt x="4" y="58"/>
                  </a:cubicBezTo>
                  <a:cubicBezTo>
                    <a:pt x="8" y="59"/>
                    <a:pt x="11" y="57"/>
                    <a:pt x="12" y="55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7" y="79"/>
                    <a:pt x="7" y="79"/>
                    <a:pt x="7" y="79"/>
                  </a:cubicBezTo>
                  <a:cubicBezTo>
                    <a:pt x="22" y="79"/>
                    <a:pt x="22" y="79"/>
                    <a:pt x="22" y="79"/>
                  </a:cubicBezTo>
                  <a:cubicBezTo>
                    <a:pt x="22" y="125"/>
                    <a:pt x="22" y="125"/>
                    <a:pt x="22" y="125"/>
                  </a:cubicBezTo>
                  <a:cubicBezTo>
                    <a:pt x="22" y="129"/>
                    <a:pt x="25" y="132"/>
                    <a:pt x="29" y="132"/>
                  </a:cubicBezTo>
                  <a:cubicBezTo>
                    <a:pt x="33" y="132"/>
                    <a:pt x="35" y="129"/>
                    <a:pt x="35" y="125"/>
                  </a:cubicBezTo>
                  <a:cubicBezTo>
                    <a:pt x="35" y="79"/>
                    <a:pt x="35" y="79"/>
                    <a:pt x="35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1" y="125"/>
                    <a:pt x="41" y="125"/>
                    <a:pt x="41" y="125"/>
                  </a:cubicBezTo>
                  <a:cubicBezTo>
                    <a:pt x="41" y="129"/>
                    <a:pt x="43" y="132"/>
                    <a:pt x="47" y="132"/>
                  </a:cubicBezTo>
                  <a:cubicBezTo>
                    <a:pt x="51" y="132"/>
                    <a:pt x="55" y="129"/>
                    <a:pt x="55" y="125"/>
                  </a:cubicBezTo>
                  <a:cubicBezTo>
                    <a:pt x="55" y="79"/>
                    <a:pt x="55" y="79"/>
                    <a:pt x="55" y="79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54" y="20"/>
                    <a:pt x="54" y="20"/>
                    <a:pt x="54" y="20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6" y="57"/>
                    <a:pt x="69" y="59"/>
                    <a:pt x="72" y="58"/>
                  </a:cubicBezTo>
                  <a:cubicBezTo>
                    <a:pt x="75" y="57"/>
                    <a:pt x="76" y="54"/>
                    <a:pt x="75" y="51"/>
                  </a:cubicBezTo>
                  <a:close/>
                </a:path>
              </a:pathLst>
            </a:cu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56" name="Oval 33"/>
            <p:cNvSpPr/>
            <p:nvPr/>
          </p:nvSpPr>
          <p:spPr>
            <a:xfrm>
              <a:off x="2504880" y="5246640"/>
              <a:ext cx="101520" cy="98280"/>
            </a:xfrm>
            <a:prstGeom prst="ellipse">
              <a:avLst/>
            </a:pr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57" name="Freeform 34"/>
            <p:cNvSpPr/>
            <p:nvPr/>
          </p:nvSpPr>
          <p:spPr>
            <a:xfrm>
              <a:off x="2427120" y="5352840"/>
              <a:ext cx="258480" cy="451080"/>
            </a:xfrm>
            <a:custGeom>
              <a:avLst/>
              <a:gdLst/>
              <a:ahLst/>
              <a:rect l="l" t="t" r="r" b="b"/>
              <a:pathLst>
                <a:path w="76" h="132">
                  <a:moveTo>
                    <a:pt x="75" y="51"/>
                  </a:moveTo>
                  <a:cubicBezTo>
                    <a:pt x="64" y="15"/>
                    <a:pt x="64" y="15"/>
                    <a:pt x="64" y="15"/>
                  </a:cubicBezTo>
                  <a:cubicBezTo>
                    <a:pt x="63" y="14"/>
                    <a:pt x="63" y="14"/>
                    <a:pt x="63" y="14"/>
                  </a:cubicBezTo>
                  <a:cubicBezTo>
                    <a:pt x="59" y="3"/>
                    <a:pt x="49" y="0"/>
                    <a:pt x="45" y="0"/>
                  </a:cubicBezTo>
                  <a:cubicBezTo>
                    <a:pt x="42" y="0"/>
                    <a:pt x="42" y="0"/>
                    <a:pt x="39" y="0"/>
                  </a:cubicBezTo>
                  <a:cubicBezTo>
                    <a:pt x="38" y="0"/>
                    <a:pt x="38" y="0"/>
                    <a:pt x="37" y="0"/>
                  </a:cubicBezTo>
                  <a:cubicBezTo>
                    <a:pt x="34" y="0"/>
                    <a:pt x="34" y="0"/>
                    <a:pt x="31" y="0"/>
                  </a:cubicBezTo>
                  <a:cubicBezTo>
                    <a:pt x="27" y="0"/>
                    <a:pt x="17" y="3"/>
                    <a:pt x="13" y="14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" y="51"/>
                    <a:pt x="1" y="51"/>
                    <a:pt x="1" y="51"/>
                  </a:cubicBezTo>
                  <a:cubicBezTo>
                    <a:pt x="0" y="54"/>
                    <a:pt x="2" y="57"/>
                    <a:pt x="4" y="58"/>
                  </a:cubicBezTo>
                  <a:cubicBezTo>
                    <a:pt x="7" y="59"/>
                    <a:pt x="10" y="57"/>
                    <a:pt x="12" y="55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22" y="79"/>
                    <a:pt x="22" y="79"/>
                    <a:pt x="22" y="79"/>
                  </a:cubicBezTo>
                  <a:cubicBezTo>
                    <a:pt x="22" y="125"/>
                    <a:pt x="22" y="125"/>
                    <a:pt x="22" y="125"/>
                  </a:cubicBezTo>
                  <a:cubicBezTo>
                    <a:pt x="22" y="129"/>
                    <a:pt x="25" y="132"/>
                    <a:pt x="29" y="132"/>
                  </a:cubicBezTo>
                  <a:cubicBezTo>
                    <a:pt x="33" y="132"/>
                    <a:pt x="35" y="129"/>
                    <a:pt x="35" y="125"/>
                  </a:cubicBezTo>
                  <a:cubicBezTo>
                    <a:pt x="35" y="79"/>
                    <a:pt x="35" y="79"/>
                    <a:pt x="35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1" y="125"/>
                    <a:pt x="41" y="125"/>
                    <a:pt x="41" y="125"/>
                  </a:cubicBezTo>
                  <a:cubicBezTo>
                    <a:pt x="41" y="129"/>
                    <a:pt x="43" y="132"/>
                    <a:pt x="47" y="132"/>
                  </a:cubicBezTo>
                  <a:cubicBezTo>
                    <a:pt x="51" y="132"/>
                    <a:pt x="54" y="129"/>
                    <a:pt x="54" y="125"/>
                  </a:cubicBezTo>
                  <a:cubicBezTo>
                    <a:pt x="54" y="79"/>
                    <a:pt x="54" y="79"/>
                    <a:pt x="54" y="79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50" y="20"/>
                    <a:pt x="50" y="20"/>
                    <a:pt x="50" y="20"/>
                  </a:cubicBezTo>
                  <a:cubicBezTo>
                    <a:pt x="54" y="20"/>
                    <a:pt x="54" y="20"/>
                    <a:pt x="54" y="20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6" y="57"/>
                    <a:pt x="69" y="59"/>
                    <a:pt x="72" y="58"/>
                  </a:cubicBezTo>
                  <a:cubicBezTo>
                    <a:pt x="74" y="57"/>
                    <a:pt x="76" y="54"/>
                    <a:pt x="75" y="51"/>
                  </a:cubicBezTo>
                  <a:close/>
                </a:path>
              </a:pathLst>
            </a:cu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58" name="Oval 35"/>
            <p:cNvSpPr/>
            <p:nvPr/>
          </p:nvSpPr>
          <p:spPr>
            <a:xfrm>
              <a:off x="2841480" y="5246640"/>
              <a:ext cx="101520" cy="98280"/>
            </a:xfrm>
            <a:prstGeom prst="ellipse">
              <a:avLst/>
            </a:pr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59" name="Freeform 36"/>
            <p:cNvSpPr/>
            <p:nvPr/>
          </p:nvSpPr>
          <p:spPr>
            <a:xfrm>
              <a:off x="2762280" y="5352840"/>
              <a:ext cx="258480" cy="451080"/>
            </a:xfrm>
            <a:custGeom>
              <a:avLst/>
              <a:gdLst/>
              <a:ahLst/>
              <a:rect l="l" t="t" r="r" b="b"/>
              <a:pathLst>
                <a:path w="76" h="132">
                  <a:moveTo>
                    <a:pt x="75" y="51"/>
                  </a:moveTo>
                  <a:cubicBezTo>
                    <a:pt x="64" y="15"/>
                    <a:pt x="64" y="15"/>
                    <a:pt x="64" y="15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60" y="3"/>
                    <a:pt x="49" y="0"/>
                    <a:pt x="45" y="0"/>
                  </a:cubicBezTo>
                  <a:cubicBezTo>
                    <a:pt x="42" y="0"/>
                    <a:pt x="43" y="0"/>
                    <a:pt x="40" y="0"/>
                  </a:cubicBezTo>
                  <a:cubicBezTo>
                    <a:pt x="39" y="0"/>
                    <a:pt x="38" y="0"/>
                    <a:pt x="37" y="0"/>
                  </a:cubicBezTo>
                  <a:cubicBezTo>
                    <a:pt x="34" y="0"/>
                    <a:pt x="35" y="0"/>
                    <a:pt x="32" y="0"/>
                  </a:cubicBezTo>
                  <a:cubicBezTo>
                    <a:pt x="28" y="0"/>
                    <a:pt x="17" y="3"/>
                    <a:pt x="13" y="14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" y="51"/>
                    <a:pt x="1" y="51"/>
                    <a:pt x="1" y="51"/>
                  </a:cubicBezTo>
                  <a:cubicBezTo>
                    <a:pt x="0" y="54"/>
                    <a:pt x="2" y="57"/>
                    <a:pt x="4" y="58"/>
                  </a:cubicBezTo>
                  <a:cubicBezTo>
                    <a:pt x="8" y="59"/>
                    <a:pt x="11" y="57"/>
                    <a:pt x="12" y="55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7" y="79"/>
                    <a:pt x="7" y="79"/>
                    <a:pt x="7" y="79"/>
                  </a:cubicBezTo>
                  <a:cubicBezTo>
                    <a:pt x="22" y="79"/>
                    <a:pt x="22" y="79"/>
                    <a:pt x="22" y="79"/>
                  </a:cubicBezTo>
                  <a:cubicBezTo>
                    <a:pt x="22" y="125"/>
                    <a:pt x="22" y="125"/>
                    <a:pt x="22" y="125"/>
                  </a:cubicBezTo>
                  <a:cubicBezTo>
                    <a:pt x="22" y="129"/>
                    <a:pt x="25" y="132"/>
                    <a:pt x="29" y="132"/>
                  </a:cubicBezTo>
                  <a:cubicBezTo>
                    <a:pt x="33" y="132"/>
                    <a:pt x="36" y="129"/>
                    <a:pt x="36" y="125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1" y="125"/>
                    <a:pt x="41" y="125"/>
                    <a:pt x="41" y="125"/>
                  </a:cubicBezTo>
                  <a:cubicBezTo>
                    <a:pt x="41" y="129"/>
                    <a:pt x="44" y="132"/>
                    <a:pt x="48" y="132"/>
                  </a:cubicBezTo>
                  <a:cubicBezTo>
                    <a:pt x="52" y="132"/>
                    <a:pt x="55" y="129"/>
                    <a:pt x="55" y="125"/>
                  </a:cubicBezTo>
                  <a:cubicBezTo>
                    <a:pt x="55" y="79"/>
                    <a:pt x="55" y="79"/>
                    <a:pt x="55" y="79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54" y="20"/>
                    <a:pt x="54" y="20"/>
                    <a:pt x="54" y="20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6" y="57"/>
                    <a:pt x="69" y="59"/>
                    <a:pt x="72" y="58"/>
                  </a:cubicBezTo>
                  <a:cubicBezTo>
                    <a:pt x="75" y="57"/>
                    <a:pt x="76" y="54"/>
                    <a:pt x="75" y="51"/>
                  </a:cubicBezTo>
                  <a:close/>
                </a:path>
              </a:pathLst>
            </a:custGeom>
            <a:solidFill>
              <a:srgbClr val="c0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60" name="Oval 37"/>
            <p:cNvSpPr/>
            <p:nvPr/>
          </p:nvSpPr>
          <p:spPr>
            <a:xfrm>
              <a:off x="3181320" y="5246640"/>
              <a:ext cx="101520" cy="9828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61" name="Freeform 38"/>
            <p:cNvSpPr/>
            <p:nvPr/>
          </p:nvSpPr>
          <p:spPr>
            <a:xfrm>
              <a:off x="3102120" y="5352840"/>
              <a:ext cx="258480" cy="451080"/>
            </a:xfrm>
            <a:custGeom>
              <a:avLst/>
              <a:gdLst/>
              <a:ahLst/>
              <a:rect l="l" t="t" r="r" b="b"/>
              <a:pathLst>
                <a:path w="76" h="132">
                  <a:moveTo>
                    <a:pt x="75" y="51"/>
                  </a:moveTo>
                  <a:cubicBezTo>
                    <a:pt x="64" y="15"/>
                    <a:pt x="64" y="15"/>
                    <a:pt x="64" y="15"/>
                  </a:cubicBezTo>
                  <a:cubicBezTo>
                    <a:pt x="63" y="14"/>
                    <a:pt x="63" y="14"/>
                    <a:pt x="63" y="14"/>
                  </a:cubicBezTo>
                  <a:cubicBezTo>
                    <a:pt x="59" y="3"/>
                    <a:pt x="48" y="0"/>
                    <a:pt x="44" y="0"/>
                  </a:cubicBezTo>
                  <a:cubicBezTo>
                    <a:pt x="41" y="0"/>
                    <a:pt x="42" y="0"/>
                    <a:pt x="39" y="0"/>
                  </a:cubicBezTo>
                  <a:cubicBezTo>
                    <a:pt x="38" y="0"/>
                    <a:pt x="37" y="0"/>
                    <a:pt x="36" y="0"/>
                  </a:cubicBezTo>
                  <a:cubicBezTo>
                    <a:pt x="33" y="0"/>
                    <a:pt x="34" y="0"/>
                    <a:pt x="31" y="0"/>
                  </a:cubicBezTo>
                  <a:cubicBezTo>
                    <a:pt x="27" y="0"/>
                    <a:pt x="17" y="3"/>
                    <a:pt x="13" y="14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" y="51"/>
                    <a:pt x="1" y="51"/>
                    <a:pt x="1" y="51"/>
                  </a:cubicBezTo>
                  <a:cubicBezTo>
                    <a:pt x="0" y="54"/>
                    <a:pt x="1" y="57"/>
                    <a:pt x="4" y="58"/>
                  </a:cubicBezTo>
                  <a:cubicBezTo>
                    <a:pt x="7" y="59"/>
                    <a:pt x="10" y="57"/>
                    <a:pt x="12" y="55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5" y="20"/>
                    <a:pt x="25" y="20"/>
                    <a:pt x="25" y="20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21" y="79"/>
                    <a:pt x="21" y="79"/>
                    <a:pt x="21" y="79"/>
                  </a:cubicBezTo>
                  <a:cubicBezTo>
                    <a:pt x="21" y="125"/>
                    <a:pt x="21" y="125"/>
                    <a:pt x="21" y="125"/>
                  </a:cubicBezTo>
                  <a:cubicBezTo>
                    <a:pt x="21" y="129"/>
                    <a:pt x="25" y="132"/>
                    <a:pt x="29" y="132"/>
                  </a:cubicBezTo>
                  <a:cubicBezTo>
                    <a:pt x="33" y="132"/>
                    <a:pt x="35" y="129"/>
                    <a:pt x="35" y="125"/>
                  </a:cubicBezTo>
                  <a:cubicBezTo>
                    <a:pt x="35" y="79"/>
                    <a:pt x="35" y="79"/>
                    <a:pt x="35" y="79"/>
                  </a:cubicBezTo>
                  <a:cubicBezTo>
                    <a:pt x="40" y="79"/>
                    <a:pt x="40" y="79"/>
                    <a:pt x="40" y="79"/>
                  </a:cubicBezTo>
                  <a:cubicBezTo>
                    <a:pt x="40" y="125"/>
                    <a:pt x="40" y="125"/>
                    <a:pt x="40" y="125"/>
                  </a:cubicBezTo>
                  <a:cubicBezTo>
                    <a:pt x="40" y="129"/>
                    <a:pt x="43" y="132"/>
                    <a:pt x="47" y="132"/>
                  </a:cubicBezTo>
                  <a:cubicBezTo>
                    <a:pt x="51" y="132"/>
                    <a:pt x="54" y="129"/>
                    <a:pt x="54" y="125"/>
                  </a:cubicBezTo>
                  <a:cubicBezTo>
                    <a:pt x="54" y="79"/>
                    <a:pt x="54" y="79"/>
                    <a:pt x="54" y="79"/>
                  </a:cubicBezTo>
                  <a:cubicBezTo>
                    <a:pt x="69" y="79"/>
                    <a:pt x="69" y="79"/>
                    <a:pt x="69" y="79"/>
                  </a:cubicBezTo>
                  <a:cubicBezTo>
                    <a:pt x="50" y="20"/>
                    <a:pt x="50" y="20"/>
                    <a:pt x="50" y="20"/>
                  </a:cubicBezTo>
                  <a:cubicBezTo>
                    <a:pt x="53" y="20"/>
                    <a:pt x="53" y="20"/>
                    <a:pt x="53" y="20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5" y="57"/>
                    <a:pt x="68" y="59"/>
                    <a:pt x="72" y="58"/>
                  </a:cubicBezTo>
                  <a:cubicBezTo>
                    <a:pt x="74" y="57"/>
                    <a:pt x="76" y="54"/>
                    <a:pt x="75" y="51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62" name="Oval 39"/>
            <p:cNvSpPr/>
            <p:nvPr/>
          </p:nvSpPr>
          <p:spPr>
            <a:xfrm>
              <a:off x="3516480" y="5246640"/>
              <a:ext cx="101520" cy="9828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63" name="Freeform 40"/>
            <p:cNvSpPr/>
            <p:nvPr/>
          </p:nvSpPr>
          <p:spPr>
            <a:xfrm>
              <a:off x="3438720" y="5352840"/>
              <a:ext cx="258480" cy="451080"/>
            </a:xfrm>
            <a:custGeom>
              <a:avLst/>
              <a:gdLst/>
              <a:ahLst/>
              <a:rect l="l" t="t" r="r" b="b"/>
              <a:pathLst>
                <a:path w="76" h="132">
                  <a:moveTo>
                    <a:pt x="75" y="51"/>
                  </a:moveTo>
                  <a:cubicBezTo>
                    <a:pt x="64" y="15"/>
                    <a:pt x="64" y="15"/>
                    <a:pt x="64" y="15"/>
                  </a:cubicBezTo>
                  <a:cubicBezTo>
                    <a:pt x="63" y="14"/>
                    <a:pt x="63" y="14"/>
                    <a:pt x="63" y="14"/>
                  </a:cubicBezTo>
                  <a:cubicBezTo>
                    <a:pt x="59" y="3"/>
                    <a:pt x="49" y="0"/>
                    <a:pt x="45" y="0"/>
                  </a:cubicBezTo>
                  <a:cubicBezTo>
                    <a:pt x="42" y="0"/>
                    <a:pt x="42" y="0"/>
                    <a:pt x="39" y="0"/>
                  </a:cubicBezTo>
                  <a:cubicBezTo>
                    <a:pt x="38" y="0"/>
                    <a:pt x="38" y="0"/>
                    <a:pt x="37" y="0"/>
                  </a:cubicBezTo>
                  <a:cubicBezTo>
                    <a:pt x="34" y="0"/>
                    <a:pt x="34" y="0"/>
                    <a:pt x="31" y="0"/>
                  </a:cubicBezTo>
                  <a:cubicBezTo>
                    <a:pt x="27" y="0"/>
                    <a:pt x="17" y="3"/>
                    <a:pt x="13" y="14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" y="51"/>
                    <a:pt x="1" y="51"/>
                    <a:pt x="1" y="51"/>
                  </a:cubicBezTo>
                  <a:cubicBezTo>
                    <a:pt x="0" y="54"/>
                    <a:pt x="2" y="57"/>
                    <a:pt x="4" y="58"/>
                  </a:cubicBezTo>
                  <a:cubicBezTo>
                    <a:pt x="7" y="59"/>
                    <a:pt x="10" y="57"/>
                    <a:pt x="12" y="55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22" y="79"/>
                    <a:pt x="22" y="79"/>
                    <a:pt x="22" y="79"/>
                  </a:cubicBezTo>
                  <a:cubicBezTo>
                    <a:pt x="22" y="125"/>
                    <a:pt x="22" y="125"/>
                    <a:pt x="22" y="125"/>
                  </a:cubicBezTo>
                  <a:cubicBezTo>
                    <a:pt x="22" y="129"/>
                    <a:pt x="25" y="132"/>
                    <a:pt x="29" y="132"/>
                  </a:cubicBezTo>
                  <a:cubicBezTo>
                    <a:pt x="33" y="132"/>
                    <a:pt x="35" y="129"/>
                    <a:pt x="35" y="125"/>
                  </a:cubicBezTo>
                  <a:cubicBezTo>
                    <a:pt x="35" y="79"/>
                    <a:pt x="35" y="79"/>
                    <a:pt x="35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1" y="125"/>
                    <a:pt x="41" y="125"/>
                    <a:pt x="41" y="125"/>
                  </a:cubicBezTo>
                  <a:cubicBezTo>
                    <a:pt x="41" y="129"/>
                    <a:pt x="43" y="132"/>
                    <a:pt x="47" y="132"/>
                  </a:cubicBezTo>
                  <a:cubicBezTo>
                    <a:pt x="51" y="132"/>
                    <a:pt x="54" y="129"/>
                    <a:pt x="54" y="125"/>
                  </a:cubicBezTo>
                  <a:cubicBezTo>
                    <a:pt x="54" y="79"/>
                    <a:pt x="54" y="79"/>
                    <a:pt x="54" y="79"/>
                  </a:cubicBezTo>
                  <a:cubicBezTo>
                    <a:pt x="69" y="79"/>
                    <a:pt x="69" y="79"/>
                    <a:pt x="69" y="79"/>
                  </a:cubicBezTo>
                  <a:cubicBezTo>
                    <a:pt x="50" y="20"/>
                    <a:pt x="50" y="20"/>
                    <a:pt x="50" y="20"/>
                  </a:cubicBezTo>
                  <a:cubicBezTo>
                    <a:pt x="53" y="20"/>
                    <a:pt x="53" y="20"/>
                    <a:pt x="53" y="20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5" y="57"/>
                    <a:pt x="69" y="59"/>
                    <a:pt x="72" y="58"/>
                  </a:cubicBezTo>
                  <a:cubicBezTo>
                    <a:pt x="74" y="57"/>
                    <a:pt x="76" y="54"/>
                    <a:pt x="75" y="51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64" name="Oval 41"/>
            <p:cNvSpPr/>
            <p:nvPr/>
          </p:nvSpPr>
          <p:spPr>
            <a:xfrm>
              <a:off x="4188240" y="5246640"/>
              <a:ext cx="101520" cy="9828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65" name="Freeform 42"/>
            <p:cNvSpPr/>
            <p:nvPr/>
          </p:nvSpPr>
          <p:spPr>
            <a:xfrm>
              <a:off x="4111920" y="5352840"/>
              <a:ext cx="257040" cy="451080"/>
            </a:xfrm>
            <a:custGeom>
              <a:avLst/>
              <a:gdLst/>
              <a:ahLst/>
              <a:rect l="l" t="t" r="r" b="b"/>
              <a:pathLst>
                <a:path w="76" h="132">
                  <a:moveTo>
                    <a:pt x="75" y="51"/>
                  </a:moveTo>
                  <a:cubicBezTo>
                    <a:pt x="64" y="15"/>
                    <a:pt x="64" y="15"/>
                    <a:pt x="64" y="15"/>
                  </a:cubicBezTo>
                  <a:cubicBezTo>
                    <a:pt x="63" y="14"/>
                    <a:pt x="63" y="14"/>
                    <a:pt x="63" y="14"/>
                  </a:cubicBezTo>
                  <a:cubicBezTo>
                    <a:pt x="59" y="3"/>
                    <a:pt x="49" y="0"/>
                    <a:pt x="45" y="0"/>
                  </a:cubicBezTo>
                  <a:cubicBezTo>
                    <a:pt x="41" y="0"/>
                    <a:pt x="42" y="0"/>
                    <a:pt x="39" y="0"/>
                  </a:cubicBezTo>
                  <a:cubicBezTo>
                    <a:pt x="38" y="0"/>
                    <a:pt x="37" y="0"/>
                    <a:pt x="37" y="0"/>
                  </a:cubicBezTo>
                  <a:cubicBezTo>
                    <a:pt x="33" y="0"/>
                    <a:pt x="34" y="0"/>
                    <a:pt x="31" y="0"/>
                  </a:cubicBezTo>
                  <a:cubicBezTo>
                    <a:pt x="27" y="0"/>
                    <a:pt x="17" y="3"/>
                    <a:pt x="13" y="14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" y="51"/>
                    <a:pt x="1" y="51"/>
                    <a:pt x="1" y="51"/>
                  </a:cubicBezTo>
                  <a:cubicBezTo>
                    <a:pt x="0" y="54"/>
                    <a:pt x="1" y="57"/>
                    <a:pt x="4" y="58"/>
                  </a:cubicBezTo>
                  <a:cubicBezTo>
                    <a:pt x="7" y="59"/>
                    <a:pt x="10" y="57"/>
                    <a:pt x="12" y="55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5" y="20"/>
                    <a:pt x="25" y="20"/>
                    <a:pt x="25" y="20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21" y="79"/>
                    <a:pt x="21" y="79"/>
                    <a:pt x="21" y="79"/>
                  </a:cubicBezTo>
                  <a:cubicBezTo>
                    <a:pt x="21" y="125"/>
                    <a:pt x="21" y="125"/>
                    <a:pt x="21" y="125"/>
                  </a:cubicBezTo>
                  <a:cubicBezTo>
                    <a:pt x="21" y="129"/>
                    <a:pt x="25" y="132"/>
                    <a:pt x="29" y="132"/>
                  </a:cubicBezTo>
                  <a:cubicBezTo>
                    <a:pt x="33" y="132"/>
                    <a:pt x="35" y="129"/>
                    <a:pt x="35" y="125"/>
                  </a:cubicBezTo>
                  <a:cubicBezTo>
                    <a:pt x="35" y="79"/>
                    <a:pt x="35" y="79"/>
                    <a:pt x="35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1" y="125"/>
                    <a:pt x="41" y="125"/>
                    <a:pt x="41" y="125"/>
                  </a:cubicBezTo>
                  <a:cubicBezTo>
                    <a:pt x="41" y="129"/>
                    <a:pt x="43" y="132"/>
                    <a:pt x="47" y="132"/>
                  </a:cubicBezTo>
                  <a:cubicBezTo>
                    <a:pt x="51" y="132"/>
                    <a:pt x="54" y="129"/>
                    <a:pt x="54" y="125"/>
                  </a:cubicBezTo>
                  <a:cubicBezTo>
                    <a:pt x="54" y="79"/>
                    <a:pt x="54" y="79"/>
                    <a:pt x="54" y="79"/>
                  </a:cubicBezTo>
                  <a:cubicBezTo>
                    <a:pt x="69" y="79"/>
                    <a:pt x="69" y="79"/>
                    <a:pt x="69" y="79"/>
                  </a:cubicBezTo>
                  <a:cubicBezTo>
                    <a:pt x="50" y="20"/>
                    <a:pt x="50" y="20"/>
                    <a:pt x="50" y="20"/>
                  </a:cubicBezTo>
                  <a:cubicBezTo>
                    <a:pt x="53" y="20"/>
                    <a:pt x="53" y="20"/>
                    <a:pt x="53" y="20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5" y="57"/>
                    <a:pt x="69" y="59"/>
                    <a:pt x="72" y="58"/>
                  </a:cubicBezTo>
                  <a:cubicBezTo>
                    <a:pt x="74" y="57"/>
                    <a:pt x="76" y="54"/>
                    <a:pt x="75" y="51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66" name="Oval 43"/>
            <p:cNvSpPr/>
            <p:nvPr/>
          </p:nvSpPr>
          <p:spPr>
            <a:xfrm>
              <a:off x="3848400" y="5246640"/>
              <a:ext cx="102960" cy="9828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67" name="Freeform 44"/>
            <p:cNvSpPr/>
            <p:nvPr/>
          </p:nvSpPr>
          <p:spPr>
            <a:xfrm>
              <a:off x="3772080" y="5352840"/>
              <a:ext cx="257040" cy="451080"/>
            </a:xfrm>
            <a:custGeom>
              <a:avLst/>
              <a:gdLst/>
              <a:ahLst/>
              <a:rect l="l" t="t" r="r" b="b"/>
              <a:pathLst>
                <a:path w="76" h="132">
                  <a:moveTo>
                    <a:pt x="75" y="51"/>
                  </a:moveTo>
                  <a:cubicBezTo>
                    <a:pt x="64" y="15"/>
                    <a:pt x="64" y="15"/>
                    <a:pt x="64" y="15"/>
                  </a:cubicBezTo>
                  <a:cubicBezTo>
                    <a:pt x="63" y="14"/>
                    <a:pt x="63" y="14"/>
                    <a:pt x="63" y="14"/>
                  </a:cubicBezTo>
                  <a:cubicBezTo>
                    <a:pt x="59" y="3"/>
                    <a:pt x="49" y="0"/>
                    <a:pt x="45" y="0"/>
                  </a:cubicBezTo>
                  <a:cubicBezTo>
                    <a:pt x="42" y="0"/>
                    <a:pt x="43" y="0"/>
                    <a:pt x="39" y="0"/>
                  </a:cubicBezTo>
                  <a:cubicBezTo>
                    <a:pt x="39" y="0"/>
                    <a:pt x="38" y="0"/>
                    <a:pt x="37" y="0"/>
                  </a:cubicBezTo>
                  <a:cubicBezTo>
                    <a:pt x="34" y="0"/>
                    <a:pt x="35" y="0"/>
                    <a:pt x="31" y="0"/>
                  </a:cubicBezTo>
                  <a:cubicBezTo>
                    <a:pt x="27" y="0"/>
                    <a:pt x="17" y="3"/>
                    <a:pt x="13" y="14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" y="51"/>
                    <a:pt x="1" y="51"/>
                    <a:pt x="1" y="51"/>
                  </a:cubicBezTo>
                  <a:cubicBezTo>
                    <a:pt x="0" y="54"/>
                    <a:pt x="2" y="57"/>
                    <a:pt x="4" y="58"/>
                  </a:cubicBezTo>
                  <a:cubicBezTo>
                    <a:pt x="8" y="59"/>
                    <a:pt x="11" y="57"/>
                    <a:pt x="12" y="55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7" y="79"/>
                    <a:pt x="7" y="79"/>
                    <a:pt x="7" y="79"/>
                  </a:cubicBezTo>
                  <a:cubicBezTo>
                    <a:pt x="22" y="79"/>
                    <a:pt x="22" y="79"/>
                    <a:pt x="22" y="79"/>
                  </a:cubicBezTo>
                  <a:cubicBezTo>
                    <a:pt x="22" y="125"/>
                    <a:pt x="22" y="125"/>
                    <a:pt x="22" y="125"/>
                  </a:cubicBezTo>
                  <a:cubicBezTo>
                    <a:pt x="22" y="129"/>
                    <a:pt x="25" y="132"/>
                    <a:pt x="29" y="132"/>
                  </a:cubicBezTo>
                  <a:cubicBezTo>
                    <a:pt x="33" y="132"/>
                    <a:pt x="35" y="129"/>
                    <a:pt x="35" y="125"/>
                  </a:cubicBezTo>
                  <a:cubicBezTo>
                    <a:pt x="35" y="79"/>
                    <a:pt x="35" y="79"/>
                    <a:pt x="35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1" y="125"/>
                    <a:pt x="41" y="125"/>
                    <a:pt x="41" y="125"/>
                  </a:cubicBezTo>
                  <a:cubicBezTo>
                    <a:pt x="41" y="129"/>
                    <a:pt x="43" y="132"/>
                    <a:pt x="47" y="132"/>
                  </a:cubicBezTo>
                  <a:cubicBezTo>
                    <a:pt x="51" y="132"/>
                    <a:pt x="55" y="129"/>
                    <a:pt x="55" y="125"/>
                  </a:cubicBezTo>
                  <a:cubicBezTo>
                    <a:pt x="55" y="79"/>
                    <a:pt x="55" y="79"/>
                    <a:pt x="55" y="79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54" y="20"/>
                    <a:pt x="54" y="20"/>
                    <a:pt x="54" y="20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6" y="57"/>
                    <a:pt x="69" y="59"/>
                    <a:pt x="72" y="58"/>
                  </a:cubicBezTo>
                  <a:cubicBezTo>
                    <a:pt x="75" y="57"/>
                    <a:pt x="76" y="54"/>
                    <a:pt x="75" y="51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368" name="TextBox 96"/>
          <p:cNvSpPr/>
          <p:nvPr/>
        </p:nvSpPr>
        <p:spPr>
          <a:xfrm>
            <a:off x="4466520" y="517860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4400" spc="-1" strike="noStrike">
                <a:solidFill>
                  <a:srgbClr val="c0392b"/>
                </a:solidFill>
                <a:latin typeface="Open Sans"/>
              </a:rPr>
              <a:t>106K</a:t>
            </a:r>
            <a:endParaRPr b="0" lang="en-US" sz="4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0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Poppins"/>
              </a:rPr>
              <a:t>MONEY BAG PUZZLE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370" name="Group 15"/>
          <p:cNvGrpSpPr/>
          <p:nvPr/>
        </p:nvGrpSpPr>
        <p:grpSpPr>
          <a:xfrm>
            <a:off x="360" y="1060560"/>
            <a:ext cx="3989520" cy="2603520"/>
            <a:chOff x="360" y="1060560"/>
            <a:chExt cx="3989520" cy="2603520"/>
          </a:xfrm>
        </p:grpSpPr>
        <p:sp>
          <p:nvSpPr>
            <p:cNvPr id="371" name="Freeform 5"/>
            <p:cNvSpPr/>
            <p:nvPr/>
          </p:nvSpPr>
          <p:spPr>
            <a:xfrm>
              <a:off x="2597040" y="2610000"/>
              <a:ext cx="1322280" cy="1054080"/>
            </a:xfrm>
            <a:custGeom>
              <a:avLst/>
              <a:gdLst/>
              <a:ahLst/>
              <a:rect l="l" t="t" r="r" b="b"/>
              <a:pathLst>
                <a:path w="320" h="255">
                  <a:moveTo>
                    <a:pt x="172" y="231"/>
                  </a:moveTo>
                  <a:cubicBezTo>
                    <a:pt x="172" y="231"/>
                    <a:pt x="169" y="229"/>
                    <a:pt x="169" y="224"/>
                  </a:cubicBezTo>
                  <a:cubicBezTo>
                    <a:pt x="169" y="222"/>
                    <a:pt x="169" y="225"/>
                    <a:pt x="169" y="209"/>
                  </a:cubicBezTo>
                  <a:cubicBezTo>
                    <a:pt x="311" y="209"/>
                    <a:pt x="311" y="209"/>
                    <a:pt x="311" y="209"/>
                  </a:cubicBezTo>
                  <a:cubicBezTo>
                    <a:pt x="318" y="209"/>
                    <a:pt x="320" y="201"/>
                    <a:pt x="315" y="197"/>
                  </a:cubicBezTo>
                  <a:cubicBezTo>
                    <a:pt x="256" y="151"/>
                    <a:pt x="198" y="95"/>
                    <a:pt x="161" y="1"/>
                  </a:cubicBezTo>
                  <a:cubicBezTo>
                    <a:pt x="161" y="0"/>
                    <a:pt x="161" y="0"/>
                    <a:pt x="161" y="0"/>
                  </a:cubicBezTo>
                  <a:cubicBezTo>
                    <a:pt x="160" y="0"/>
                    <a:pt x="160" y="0"/>
                    <a:pt x="160" y="1"/>
                  </a:cubicBezTo>
                  <a:cubicBezTo>
                    <a:pt x="160" y="0"/>
                    <a:pt x="160" y="0"/>
                    <a:pt x="160" y="0"/>
                  </a:cubicBezTo>
                  <a:cubicBezTo>
                    <a:pt x="160" y="1"/>
                    <a:pt x="160" y="1"/>
                    <a:pt x="160" y="1"/>
                  </a:cubicBezTo>
                  <a:cubicBezTo>
                    <a:pt x="123" y="95"/>
                    <a:pt x="65" y="151"/>
                    <a:pt x="5" y="197"/>
                  </a:cubicBezTo>
                  <a:cubicBezTo>
                    <a:pt x="0" y="201"/>
                    <a:pt x="3" y="209"/>
                    <a:pt x="9" y="209"/>
                  </a:cubicBezTo>
                  <a:cubicBezTo>
                    <a:pt x="158" y="209"/>
                    <a:pt x="158" y="209"/>
                    <a:pt x="158" y="209"/>
                  </a:cubicBezTo>
                  <a:cubicBezTo>
                    <a:pt x="158" y="225"/>
                    <a:pt x="158" y="222"/>
                    <a:pt x="158" y="224"/>
                  </a:cubicBezTo>
                  <a:cubicBezTo>
                    <a:pt x="158" y="230"/>
                    <a:pt x="155" y="231"/>
                    <a:pt x="155" y="231"/>
                  </a:cubicBezTo>
                  <a:cubicBezTo>
                    <a:pt x="151" y="233"/>
                    <a:pt x="148" y="238"/>
                    <a:pt x="148" y="243"/>
                  </a:cubicBezTo>
                  <a:cubicBezTo>
                    <a:pt x="149" y="250"/>
                    <a:pt x="155" y="255"/>
                    <a:pt x="162" y="255"/>
                  </a:cubicBezTo>
                  <a:cubicBezTo>
                    <a:pt x="165" y="255"/>
                    <a:pt x="165" y="255"/>
                    <a:pt x="165" y="255"/>
                  </a:cubicBezTo>
                  <a:cubicBezTo>
                    <a:pt x="173" y="255"/>
                    <a:pt x="178" y="249"/>
                    <a:pt x="178" y="242"/>
                  </a:cubicBezTo>
                  <a:cubicBezTo>
                    <a:pt x="178" y="242"/>
                    <a:pt x="179" y="235"/>
                    <a:pt x="172" y="231"/>
                  </a:cubicBezTo>
                  <a:close/>
                </a:path>
              </a:pathLst>
            </a:cu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72" name="Freeform 6"/>
            <p:cNvSpPr/>
            <p:nvPr/>
          </p:nvSpPr>
          <p:spPr>
            <a:xfrm>
              <a:off x="2777400" y="1779480"/>
              <a:ext cx="1009440" cy="380520"/>
            </a:xfrm>
            <a:custGeom>
              <a:avLst/>
              <a:gdLst/>
              <a:ahLst/>
              <a:rect l="l" t="t" r="r" b="b"/>
              <a:pathLst>
                <a:path w="244" h="92">
                  <a:moveTo>
                    <a:pt x="0" y="33"/>
                  </a:moveTo>
                  <a:cubicBezTo>
                    <a:pt x="137" y="0"/>
                    <a:pt x="137" y="0"/>
                    <a:pt x="137" y="0"/>
                  </a:cubicBezTo>
                  <a:cubicBezTo>
                    <a:pt x="239" y="6"/>
                    <a:pt x="239" y="6"/>
                    <a:pt x="239" y="6"/>
                  </a:cubicBezTo>
                  <a:cubicBezTo>
                    <a:pt x="239" y="6"/>
                    <a:pt x="244" y="70"/>
                    <a:pt x="201" y="81"/>
                  </a:cubicBezTo>
                  <a:cubicBezTo>
                    <a:pt x="158" y="92"/>
                    <a:pt x="0" y="33"/>
                    <a:pt x="0" y="33"/>
                  </a:cubicBezTo>
                  <a:close/>
                </a:path>
              </a:pathLst>
            </a:cu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73" name="Freeform 7"/>
            <p:cNvSpPr/>
            <p:nvPr/>
          </p:nvSpPr>
          <p:spPr>
            <a:xfrm>
              <a:off x="2757240" y="1060560"/>
              <a:ext cx="1004760" cy="892080"/>
            </a:xfrm>
            <a:custGeom>
              <a:avLst/>
              <a:gdLst/>
              <a:ahLst/>
              <a:rect l="l" t="t" r="r" b="b"/>
              <a:pathLst>
                <a:path w="243" h="216">
                  <a:moveTo>
                    <a:pt x="175" y="216"/>
                  </a:moveTo>
                  <a:cubicBezTo>
                    <a:pt x="184" y="171"/>
                    <a:pt x="210" y="125"/>
                    <a:pt x="243" y="79"/>
                  </a:cubicBezTo>
                  <a:cubicBezTo>
                    <a:pt x="243" y="79"/>
                    <a:pt x="229" y="34"/>
                    <a:pt x="176" y="56"/>
                  </a:cubicBezTo>
                  <a:cubicBezTo>
                    <a:pt x="176" y="56"/>
                    <a:pt x="146" y="81"/>
                    <a:pt x="129" y="77"/>
                  </a:cubicBezTo>
                  <a:cubicBezTo>
                    <a:pt x="111" y="74"/>
                    <a:pt x="50" y="0"/>
                    <a:pt x="0" y="50"/>
                  </a:cubicBezTo>
                  <a:cubicBezTo>
                    <a:pt x="0" y="50"/>
                    <a:pt x="63" y="157"/>
                    <a:pt x="71" y="216"/>
                  </a:cubicBezTo>
                  <a:lnTo>
                    <a:pt x="175" y="216"/>
                  </a:lnTo>
                  <a:close/>
                </a:path>
              </a:pathLst>
            </a:cu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74" name="Freeform 8"/>
            <p:cNvSpPr/>
            <p:nvPr/>
          </p:nvSpPr>
          <p:spPr>
            <a:xfrm>
              <a:off x="1959840" y="1862640"/>
              <a:ext cx="2030040" cy="1351440"/>
            </a:xfrm>
            <a:custGeom>
              <a:avLst/>
              <a:gdLst/>
              <a:ahLst/>
              <a:rect l="l" t="t" r="r" b="b"/>
              <a:pathLst>
                <a:path w="491" h="327">
                  <a:moveTo>
                    <a:pt x="314" y="0"/>
                  </a:moveTo>
                  <a:cubicBezTo>
                    <a:pt x="213" y="9"/>
                    <a:pt x="213" y="9"/>
                    <a:pt x="213" y="9"/>
                  </a:cubicBezTo>
                  <a:cubicBezTo>
                    <a:pt x="202" y="11"/>
                    <a:pt x="190" y="14"/>
                    <a:pt x="180" y="20"/>
                  </a:cubicBezTo>
                  <a:cubicBezTo>
                    <a:pt x="139" y="42"/>
                    <a:pt x="139" y="42"/>
                    <a:pt x="139" y="42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7" y="259"/>
                    <a:pt x="7" y="259"/>
                    <a:pt x="7" y="259"/>
                  </a:cubicBezTo>
                  <a:cubicBezTo>
                    <a:pt x="145" y="273"/>
                    <a:pt x="145" y="273"/>
                    <a:pt x="145" y="273"/>
                  </a:cubicBezTo>
                  <a:cubicBezTo>
                    <a:pt x="210" y="307"/>
                    <a:pt x="210" y="307"/>
                    <a:pt x="210" y="307"/>
                  </a:cubicBezTo>
                  <a:cubicBezTo>
                    <a:pt x="218" y="312"/>
                    <a:pt x="227" y="315"/>
                    <a:pt x="237" y="317"/>
                  </a:cubicBezTo>
                  <a:cubicBezTo>
                    <a:pt x="320" y="324"/>
                    <a:pt x="320" y="324"/>
                    <a:pt x="320" y="324"/>
                  </a:cubicBezTo>
                  <a:cubicBezTo>
                    <a:pt x="330" y="327"/>
                    <a:pt x="341" y="327"/>
                    <a:pt x="351" y="324"/>
                  </a:cubicBezTo>
                  <a:cubicBezTo>
                    <a:pt x="425" y="309"/>
                    <a:pt x="425" y="309"/>
                    <a:pt x="425" y="309"/>
                  </a:cubicBezTo>
                  <a:cubicBezTo>
                    <a:pt x="435" y="307"/>
                    <a:pt x="442" y="300"/>
                    <a:pt x="444" y="290"/>
                  </a:cubicBezTo>
                  <a:cubicBezTo>
                    <a:pt x="448" y="274"/>
                    <a:pt x="448" y="274"/>
                    <a:pt x="448" y="274"/>
                  </a:cubicBezTo>
                  <a:cubicBezTo>
                    <a:pt x="451" y="264"/>
                    <a:pt x="446" y="253"/>
                    <a:pt x="437" y="247"/>
                  </a:cubicBezTo>
                  <a:cubicBezTo>
                    <a:pt x="436" y="247"/>
                    <a:pt x="436" y="247"/>
                    <a:pt x="436" y="247"/>
                  </a:cubicBezTo>
                  <a:cubicBezTo>
                    <a:pt x="436" y="246"/>
                    <a:pt x="436" y="245"/>
                    <a:pt x="437" y="245"/>
                  </a:cubicBezTo>
                  <a:cubicBezTo>
                    <a:pt x="444" y="244"/>
                    <a:pt x="444" y="244"/>
                    <a:pt x="444" y="244"/>
                  </a:cubicBezTo>
                  <a:cubicBezTo>
                    <a:pt x="455" y="244"/>
                    <a:pt x="463" y="237"/>
                    <a:pt x="465" y="226"/>
                  </a:cubicBezTo>
                  <a:cubicBezTo>
                    <a:pt x="469" y="203"/>
                    <a:pt x="469" y="203"/>
                    <a:pt x="469" y="203"/>
                  </a:cubicBezTo>
                  <a:cubicBezTo>
                    <a:pt x="472" y="193"/>
                    <a:pt x="468" y="180"/>
                    <a:pt x="459" y="174"/>
                  </a:cubicBezTo>
                  <a:cubicBezTo>
                    <a:pt x="451" y="170"/>
                    <a:pt x="451" y="170"/>
                    <a:pt x="451" y="170"/>
                  </a:cubicBezTo>
                  <a:cubicBezTo>
                    <a:pt x="450" y="169"/>
                    <a:pt x="450" y="167"/>
                    <a:pt x="451" y="167"/>
                  </a:cubicBezTo>
                  <a:cubicBezTo>
                    <a:pt x="461" y="168"/>
                    <a:pt x="461" y="168"/>
                    <a:pt x="461" y="168"/>
                  </a:cubicBezTo>
                  <a:cubicBezTo>
                    <a:pt x="474" y="169"/>
                    <a:pt x="477" y="160"/>
                    <a:pt x="479" y="147"/>
                  </a:cubicBezTo>
                  <a:cubicBezTo>
                    <a:pt x="482" y="128"/>
                    <a:pt x="482" y="128"/>
                    <a:pt x="482" y="128"/>
                  </a:cubicBezTo>
                  <a:cubicBezTo>
                    <a:pt x="483" y="108"/>
                    <a:pt x="466" y="105"/>
                    <a:pt x="455" y="101"/>
                  </a:cubicBezTo>
                  <a:cubicBezTo>
                    <a:pt x="449" y="99"/>
                    <a:pt x="449" y="99"/>
                    <a:pt x="449" y="99"/>
                  </a:cubicBezTo>
                  <a:cubicBezTo>
                    <a:pt x="448" y="99"/>
                    <a:pt x="448" y="97"/>
                    <a:pt x="449" y="97"/>
                  </a:cubicBezTo>
                  <a:cubicBezTo>
                    <a:pt x="466" y="94"/>
                    <a:pt x="466" y="94"/>
                    <a:pt x="466" y="94"/>
                  </a:cubicBezTo>
                  <a:cubicBezTo>
                    <a:pt x="477" y="93"/>
                    <a:pt x="486" y="83"/>
                    <a:pt x="487" y="72"/>
                  </a:cubicBezTo>
                  <a:cubicBezTo>
                    <a:pt x="490" y="45"/>
                    <a:pt x="490" y="45"/>
                    <a:pt x="490" y="45"/>
                  </a:cubicBezTo>
                  <a:cubicBezTo>
                    <a:pt x="491" y="31"/>
                    <a:pt x="481" y="19"/>
                    <a:pt x="468" y="18"/>
                  </a:cubicBezTo>
                  <a:lnTo>
                    <a:pt x="314" y="0"/>
                  </a:lnTo>
                  <a:close/>
                </a:path>
              </a:pathLst>
            </a:custGeom>
            <a:solidFill>
              <a:srgbClr val="e9c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75" name="Freeform 9"/>
            <p:cNvSpPr/>
            <p:nvPr/>
          </p:nvSpPr>
          <p:spPr>
            <a:xfrm>
              <a:off x="1992240" y="1940040"/>
              <a:ext cx="503280" cy="1170000"/>
            </a:xfrm>
            <a:custGeom>
              <a:avLst/>
              <a:gdLst/>
              <a:ahLst/>
              <a:rect l="l" t="t" r="r" b="b"/>
              <a:pathLst>
                <a:path w="320" h="744">
                  <a:moveTo>
                    <a:pt x="294" y="0"/>
                  </a:moveTo>
                  <a:lnTo>
                    <a:pt x="320" y="744"/>
                  </a:lnTo>
                  <a:lnTo>
                    <a:pt x="50" y="736"/>
                  </a:lnTo>
                  <a:lnTo>
                    <a:pt x="0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360" y="1906560"/>
              <a:ext cx="2165400" cy="1295280"/>
            </a:xfrm>
            <a:custGeom>
              <a:avLst/>
              <a:gdLst/>
              <a:ahLst/>
              <a:rect l="l" t="t" r="r" b="b"/>
              <a:pathLst>
                <a:path w="1377" h="823">
                  <a:moveTo>
                    <a:pt x="0" y="0"/>
                  </a:moveTo>
                  <a:lnTo>
                    <a:pt x="0" y="823"/>
                  </a:lnTo>
                  <a:lnTo>
                    <a:pt x="1377" y="812"/>
                  </a:lnTo>
                  <a:lnTo>
                    <a:pt x="137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2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377" name="Freeform 11"/>
            <p:cNvSpPr/>
            <p:nvPr/>
          </p:nvSpPr>
          <p:spPr>
            <a:xfrm>
              <a:off x="3257280" y="1862640"/>
              <a:ext cx="732600" cy="1343520"/>
            </a:xfrm>
            <a:custGeom>
              <a:avLst/>
              <a:gdLst/>
              <a:ahLst/>
              <a:rect l="l" t="t" r="r" b="b"/>
              <a:pathLst>
                <a:path w="177" h="325">
                  <a:moveTo>
                    <a:pt x="37" y="324"/>
                  </a:moveTo>
                  <a:cubicBezTo>
                    <a:pt x="111" y="309"/>
                    <a:pt x="111" y="309"/>
                    <a:pt x="111" y="309"/>
                  </a:cubicBezTo>
                  <a:cubicBezTo>
                    <a:pt x="121" y="307"/>
                    <a:pt x="128" y="300"/>
                    <a:pt x="130" y="290"/>
                  </a:cubicBezTo>
                  <a:cubicBezTo>
                    <a:pt x="134" y="274"/>
                    <a:pt x="134" y="274"/>
                    <a:pt x="134" y="274"/>
                  </a:cubicBezTo>
                  <a:cubicBezTo>
                    <a:pt x="137" y="264"/>
                    <a:pt x="132" y="253"/>
                    <a:pt x="123" y="247"/>
                  </a:cubicBezTo>
                  <a:cubicBezTo>
                    <a:pt x="122" y="247"/>
                    <a:pt x="122" y="247"/>
                    <a:pt x="122" y="247"/>
                  </a:cubicBezTo>
                  <a:cubicBezTo>
                    <a:pt x="122" y="246"/>
                    <a:pt x="122" y="245"/>
                    <a:pt x="123" y="245"/>
                  </a:cubicBezTo>
                  <a:cubicBezTo>
                    <a:pt x="130" y="244"/>
                    <a:pt x="130" y="244"/>
                    <a:pt x="130" y="244"/>
                  </a:cubicBezTo>
                  <a:cubicBezTo>
                    <a:pt x="141" y="244"/>
                    <a:pt x="149" y="237"/>
                    <a:pt x="151" y="226"/>
                  </a:cubicBezTo>
                  <a:cubicBezTo>
                    <a:pt x="155" y="203"/>
                    <a:pt x="155" y="203"/>
                    <a:pt x="155" y="203"/>
                  </a:cubicBezTo>
                  <a:cubicBezTo>
                    <a:pt x="158" y="193"/>
                    <a:pt x="154" y="180"/>
                    <a:pt x="145" y="174"/>
                  </a:cubicBezTo>
                  <a:cubicBezTo>
                    <a:pt x="137" y="170"/>
                    <a:pt x="137" y="170"/>
                    <a:pt x="137" y="170"/>
                  </a:cubicBezTo>
                  <a:cubicBezTo>
                    <a:pt x="136" y="169"/>
                    <a:pt x="136" y="167"/>
                    <a:pt x="137" y="167"/>
                  </a:cubicBezTo>
                  <a:cubicBezTo>
                    <a:pt x="147" y="168"/>
                    <a:pt x="147" y="168"/>
                    <a:pt x="147" y="168"/>
                  </a:cubicBezTo>
                  <a:cubicBezTo>
                    <a:pt x="160" y="169"/>
                    <a:pt x="163" y="160"/>
                    <a:pt x="165" y="147"/>
                  </a:cubicBezTo>
                  <a:cubicBezTo>
                    <a:pt x="168" y="128"/>
                    <a:pt x="168" y="128"/>
                    <a:pt x="168" y="128"/>
                  </a:cubicBezTo>
                  <a:cubicBezTo>
                    <a:pt x="169" y="108"/>
                    <a:pt x="152" y="105"/>
                    <a:pt x="141" y="101"/>
                  </a:cubicBezTo>
                  <a:cubicBezTo>
                    <a:pt x="135" y="99"/>
                    <a:pt x="135" y="99"/>
                    <a:pt x="135" y="99"/>
                  </a:cubicBezTo>
                  <a:cubicBezTo>
                    <a:pt x="134" y="99"/>
                    <a:pt x="134" y="97"/>
                    <a:pt x="135" y="97"/>
                  </a:cubicBezTo>
                  <a:cubicBezTo>
                    <a:pt x="152" y="94"/>
                    <a:pt x="152" y="94"/>
                    <a:pt x="152" y="94"/>
                  </a:cubicBezTo>
                  <a:cubicBezTo>
                    <a:pt x="163" y="93"/>
                    <a:pt x="172" y="83"/>
                    <a:pt x="173" y="72"/>
                  </a:cubicBezTo>
                  <a:cubicBezTo>
                    <a:pt x="176" y="45"/>
                    <a:pt x="176" y="45"/>
                    <a:pt x="176" y="45"/>
                  </a:cubicBezTo>
                  <a:cubicBezTo>
                    <a:pt x="177" y="31"/>
                    <a:pt x="167" y="19"/>
                    <a:pt x="154" y="1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1" y="325"/>
                    <a:pt x="31" y="325"/>
                    <a:pt x="31" y="325"/>
                  </a:cubicBezTo>
                  <a:cubicBezTo>
                    <a:pt x="33" y="325"/>
                    <a:pt x="35" y="325"/>
                    <a:pt x="37" y="324"/>
                  </a:cubicBezTo>
                  <a:close/>
                </a:path>
              </a:pathLst>
            </a:custGeom>
            <a:solidFill>
              <a:srgbClr val="d9b17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378" name="Freeform 12"/>
          <p:cNvSpPr/>
          <p:nvPr/>
        </p:nvSpPr>
        <p:spPr>
          <a:xfrm>
            <a:off x="3822840" y="3530520"/>
            <a:ext cx="919080" cy="906480"/>
          </a:xfrm>
          <a:custGeom>
            <a:avLst/>
            <a:gdLst/>
            <a:ahLst/>
            <a:rect l="l" t="t" r="r" b="b"/>
            <a:pathLst>
              <a:path w="222" h="219">
                <a:moveTo>
                  <a:pt x="151" y="195"/>
                </a:moveTo>
                <a:cubicBezTo>
                  <a:pt x="151" y="195"/>
                  <a:pt x="148" y="192"/>
                  <a:pt x="148" y="188"/>
                </a:cubicBezTo>
                <a:cubicBezTo>
                  <a:pt x="148" y="186"/>
                  <a:pt x="148" y="188"/>
                  <a:pt x="148" y="174"/>
                </a:cubicBezTo>
                <a:cubicBezTo>
                  <a:pt x="213" y="174"/>
                  <a:pt x="213" y="174"/>
                  <a:pt x="213" y="174"/>
                </a:cubicBezTo>
                <a:cubicBezTo>
                  <a:pt x="218" y="174"/>
                  <a:pt x="222" y="168"/>
                  <a:pt x="219" y="164"/>
                </a:cubicBezTo>
                <a:cubicBezTo>
                  <a:pt x="179" y="91"/>
                  <a:pt x="119" y="49"/>
                  <a:pt x="57" y="3"/>
                </a:cubicBezTo>
                <a:cubicBezTo>
                  <a:pt x="52" y="0"/>
                  <a:pt x="46" y="3"/>
                  <a:pt x="46" y="8"/>
                </a:cubicBezTo>
                <a:cubicBezTo>
                  <a:pt x="46" y="137"/>
                  <a:pt x="46" y="137"/>
                  <a:pt x="46" y="137"/>
                </a:cubicBezTo>
                <a:cubicBezTo>
                  <a:pt x="30" y="137"/>
                  <a:pt x="33" y="137"/>
                  <a:pt x="31" y="137"/>
                </a:cubicBezTo>
                <a:cubicBezTo>
                  <a:pt x="25" y="137"/>
                  <a:pt x="24" y="134"/>
                  <a:pt x="24" y="134"/>
                </a:cubicBezTo>
                <a:cubicBezTo>
                  <a:pt x="21" y="130"/>
                  <a:pt x="17" y="127"/>
                  <a:pt x="12" y="128"/>
                </a:cubicBezTo>
                <a:cubicBezTo>
                  <a:pt x="5" y="128"/>
                  <a:pt x="0" y="134"/>
                  <a:pt x="0" y="141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52"/>
                  <a:pt x="5" y="158"/>
                  <a:pt x="13" y="158"/>
                </a:cubicBezTo>
                <a:cubicBezTo>
                  <a:pt x="13" y="158"/>
                  <a:pt x="20" y="159"/>
                  <a:pt x="24" y="152"/>
                </a:cubicBezTo>
                <a:cubicBezTo>
                  <a:pt x="24" y="152"/>
                  <a:pt x="26" y="149"/>
                  <a:pt x="31" y="149"/>
                </a:cubicBezTo>
                <a:cubicBezTo>
                  <a:pt x="33" y="149"/>
                  <a:pt x="30" y="149"/>
                  <a:pt x="46" y="149"/>
                </a:cubicBezTo>
                <a:cubicBezTo>
                  <a:pt x="46" y="167"/>
                  <a:pt x="46" y="167"/>
                  <a:pt x="46" y="167"/>
                </a:cubicBezTo>
                <a:cubicBezTo>
                  <a:pt x="46" y="171"/>
                  <a:pt x="49" y="174"/>
                  <a:pt x="53" y="174"/>
                </a:cubicBezTo>
                <a:cubicBezTo>
                  <a:pt x="136" y="174"/>
                  <a:pt x="136" y="174"/>
                  <a:pt x="136" y="174"/>
                </a:cubicBezTo>
                <a:cubicBezTo>
                  <a:pt x="136" y="188"/>
                  <a:pt x="136" y="186"/>
                  <a:pt x="136" y="188"/>
                </a:cubicBezTo>
                <a:cubicBezTo>
                  <a:pt x="136" y="193"/>
                  <a:pt x="133" y="195"/>
                  <a:pt x="133" y="195"/>
                </a:cubicBezTo>
                <a:cubicBezTo>
                  <a:pt x="129" y="197"/>
                  <a:pt x="126" y="202"/>
                  <a:pt x="127" y="207"/>
                </a:cubicBezTo>
                <a:cubicBezTo>
                  <a:pt x="127" y="214"/>
                  <a:pt x="134" y="219"/>
                  <a:pt x="141" y="219"/>
                </a:cubicBezTo>
                <a:cubicBezTo>
                  <a:pt x="144" y="219"/>
                  <a:pt x="144" y="219"/>
                  <a:pt x="144" y="219"/>
                </a:cubicBezTo>
                <a:cubicBezTo>
                  <a:pt x="151" y="219"/>
                  <a:pt x="157" y="213"/>
                  <a:pt x="157" y="206"/>
                </a:cubicBezTo>
                <a:cubicBezTo>
                  <a:pt x="157" y="206"/>
                  <a:pt x="158" y="199"/>
                  <a:pt x="151" y="195"/>
                </a:cubicBez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9" name="Freeform 13"/>
          <p:cNvSpPr/>
          <p:nvPr/>
        </p:nvSpPr>
        <p:spPr>
          <a:xfrm>
            <a:off x="3798720" y="4282920"/>
            <a:ext cx="1121040" cy="930600"/>
          </a:xfrm>
          <a:custGeom>
            <a:avLst/>
            <a:gdLst/>
            <a:ahLst/>
            <a:rect l="l" t="t" r="r" b="b"/>
            <a:pathLst>
              <a:path w="271" h="225">
                <a:moveTo>
                  <a:pt x="157" y="201"/>
                </a:moveTo>
                <a:cubicBezTo>
                  <a:pt x="157" y="201"/>
                  <a:pt x="154" y="199"/>
                  <a:pt x="154" y="194"/>
                </a:cubicBezTo>
                <a:cubicBezTo>
                  <a:pt x="154" y="192"/>
                  <a:pt x="154" y="195"/>
                  <a:pt x="154" y="180"/>
                </a:cubicBezTo>
                <a:cubicBezTo>
                  <a:pt x="264" y="180"/>
                  <a:pt x="264" y="180"/>
                  <a:pt x="264" y="180"/>
                </a:cubicBezTo>
                <a:cubicBezTo>
                  <a:pt x="268" y="180"/>
                  <a:pt x="271" y="177"/>
                  <a:pt x="271" y="173"/>
                </a:cubicBezTo>
                <a:cubicBezTo>
                  <a:pt x="269" y="102"/>
                  <a:pt x="256" y="48"/>
                  <a:pt x="236" y="4"/>
                </a:cubicBezTo>
                <a:cubicBezTo>
                  <a:pt x="235" y="2"/>
                  <a:pt x="233" y="0"/>
                  <a:pt x="230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62" y="6"/>
                  <a:pt x="162" y="6"/>
                  <a:pt x="162" y="6"/>
                </a:cubicBezTo>
                <a:cubicBezTo>
                  <a:pt x="162" y="6"/>
                  <a:pt x="161" y="6"/>
                  <a:pt x="161" y="6"/>
                </a:cubicBezTo>
                <a:cubicBezTo>
                  <a:pt x="170" y="11"/>
                  <a:pt x="172" y="19"/>
                  <a:pt x="171" y="24"/>
                </a:cubicBezTo>
                <a:cubicBezTo>
                  <a:pt x="171" y="36"/>
                  <a:pt x="161" y="45"/>
                  <a:pt x="150" y="45"/>
                </a:cubicBezTo>
                <a:cubicBezTo>
                  <a:pt x="147" y="45"/>
                  <a:pt x="147" y="45"/>
                  <a:pt x="147" y="45"/>
                </a:cubicBezTo>
                <a:cubicBezTo>
                  <a:pt x="135" y="45"/>
                  <a:pt x="125" y="35"/>
                  <a:pt x="125" y="24"/>
                </a:cubicBezTo>
                <a:cubicBezTo>
                  <a:pt x="125" y="17"/>
                  <a:pt x="128" y="10"/>
                  <a:pt x="134" y="6"/>
                </a:cubicBezTo>
                <a:cubicBezTo>
                  <a:pt x="134" y="6"/>
                  <a:pt x="134" y="6"/>
                  <a:pt x="134" y="6"/>
                </a:cubicBezTo>
                <a:cubicBezTo>
                  <a:pt x="134" y="0"/>
                  <a:pt x="134" y="0"/>
                  <a:pt x="134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173"/>
                  <a:pt x="0" y="173"/>
                  <a:pt x="0" y="173"/>
                </a:cubicBezTo>
                <a:cubicBezTo>
                  <a:pt x="0" y="177"/>
                  <a:pt x="3" y="180"/>
                  <a:pt x="6" y="180"/>
                </a:cubicBezTo>
                <a:cubicBezTo>
                  <a:pt x="142" y="180"/>
                  <a:pt x="142" y="180"/>
                  <a:pt x="142" y="180"/>
                </a:cubicBezTo>
                <a:cubicBezTo>
                  <a:pt x="142" y="195"/>
                  <a:pt x="142" y="192"/>
                  <a:pt x="142" y="194"/>
                </a:cubicBezTo>
                <a:cubicBezTo>
                  <a:pt x="142" y="200"/>
                  <a:pt x="139" y="201"/>
                  <a:pt x="139" y="201"/>
                </a:cubicBezTo>
                <a:cubicBezTo>
                  <a:pt x="135" y="204"/>
                  <a:pt x="132" y="208"/>
                  <a:pt x="133" y="213"/>
                </a:cubicBezTo>
                <a:cubicBezTo>
                  <a:pt x="133" y="220"/>
                  <a:pt x="140" y="225"/>
                  <a:pt x="147" y="225"/>
                </a:cubicBezTo>
                <a:cubicBezTo>
                  <a:pt x="150" y="225"/>
                  <a:pt x="150" y="225"/>
                  <a:pt x="150" y="225"/>
                </a:cubicBezTo>
                <a:cubicBezTo>
                  <a:pt x="157" y="225"/>
                  <a:pt x="163" y="220"/>
                  <a:pt x="163" y="212"/>
                </a:cubicBezTo>
                <a:cubicBezTo>
                  <a:pt x="163" y="212"/>
                  <a:pt x="164" y="205"/>
                  <a:pt x="157" y="201"/>
                </a:cubicBez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0" name="Freeform 14"/>
          <p:cNvSpPr/>
          <p:nvPr/>
        </p:nvSpPr>
        <p:spPr>
          <a:xfrm>
            <a:off x="3600360" y="5837400"/>
            <a:ext cx="1214640" cy="620640"/>
          </a:xfrm>
          <a:custGeom>
            <a:avLst/>
            <a:gdLst/>
            <a:ahLst/>
            <a:rect l="l" t="t" r="r" b="b"/>
            <a:pathLst>
              <a:path w="294" h="150">
                <a:moveTo>
                  <a:pt x="282" y="82"/>
                </a:moveTo>
                <a:cubicBezTo>
                  <a:pt x="282" y="82"/>
                  <a:pt x="282" y="82"/>
                  <a:pt x="282" y="82"/>
                </a:cubicBezTo>
                <a:cubicBezTo>
                  <a:pt x="271" y="58"/>
                  <a:pt x="269" y="32"/>
                  <a:pt x="273" y="8"/>
                </a:cubicBezTo>
                <a:cubicBezTo>
                  <a:pt x="274" y="4"/>
                  <a:pt x="271" y="0"/>
                  <a:pt x="266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10" y="5"/>
                  <a:pt x="210" y="5"/>
                  <a:pt x="210" y="5"/>
                </a:cubicBezTo>
                <a:cubicBezTo>
                  <a:pt x="210" y="5"/>
                  <a:pt x="209" y="5"/>
                  <a:pt x="209" y="5"/>
                </a:cubicBezTo>
                <a:cubicBezTo>
                  <a:pt x="218" y="11"/>
                  <a:pt x="220" y="19"/>
                  <a:pt x="219" y="24"/>
                </a:cubicBezTo>
                <a:cubicBezTo>
                  <a:pt x="219" y="35"/>
                  <a:pt x="209" y="44"/>
                  <a:pt x="198" y="44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183" y="44"/>
                  <a:pt x="173" y="35"/>
                  <a:pt x="173" y="23"/>
                </a:cubicBezTo>
                <a:cubicBezTo>
                  <a:pt x="173" y="16"/>
                  <a:pt x="176" y="10"/>
                  <a:pt x="182" y="6"/>
                </a:cubicBezTo>
                <a:cubicBezTo>
                  <a:pt x="182" y="6"/>
                  <a:pt x="182" y="5"/>
                  <a:pt x="182" y="5"/>
                </a:cubicBezTo>
                <a:cubicBezTo>
                  <a:pt x="182" y="0"/>
                  <a:pt x="182" y="0"/>
                  <a:pt x="182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1" y="0"/>
                  <a:pt x="48" y="3"/>
                  <a:pt x="48" y="6"/>
                </a:cubicBezTo>
                <a:cubicBezTo>
                  <a:pt x="48" y="78"/>
                  <a:pt x="48" y="78"/>
                  <a:pt x="48" y="78"/>
                </a:cubicBezTo>
                <a:cubicBezTo>
                  <a:pt x="30" y="78"/>
                  <a:pt x="33" y="78"/>
                  <a:pt x="31" y="78"/>
                </a:cubicBezTo>
                <a:cubicBezTo>
                  <a:pt x="26" y="78"/>
                  <a:pt x="24" y="75"/>
                  <a:pt x="24" y="75"/>
                </a:cubicBezTo>
                <a:cubicBezTo>
                  <a:pt x="22" y="71"/>
                  <a:pt x="17" y="68"/>
                  <a:pt x="12" y="68"/>
                </a:cubicBezTo>
                <a:cubicBezTo>
                  <a:pt x="5" y="69"/>
                  <a:pt x="0" y="75"/>
                  <a:pt x="0" y="82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93"/>
                  <a:pt x="6" y="99"/>
                  <a:pt x="13" y="99"/>
                </a:cubicBezTo>
                <a:cubicBezTo>
                  <a:pt x="13" y="99"/>
                  <a:pt x="20" y="100"/>
                  <a:pt x="24" y="92"/>
                </a:cubicBezTo>
                <a:cubicBezTo>
                  <a:pt x="24" y="92"/>
                  <a:pt x="27" y="89"/>
                  <a:pt x="31" y="89"/>
                </a:cubicBezTo>
                <a:cubicBezTo>
                  <a:pt x="33" y="89"/>
                  <a:pt x="30" y="89"/>
                  <a:pt x="48" y="89"/>
                </a:cubicBezTo>
                <a:cubicBezTo>
                  <a:pt x="48" y="142"/>
                  <a:pt x="48" y="142"/>
                  <a:pt x="48" y="142"/>
                </a:cubicBezTo>
                <a:cubicBezTo>
                  <a:pt x="48" y="147"/>
                  <a:pt x="52" y="150"/>
                  <a:pt x="56" y="149"/>
                </a:cubicBezTo>
                <a:cubicBezTo>
                  <a:pt x="77" y="143"/>
                  <a:pt x="97" y="136"/>
                  <a:pt x="116" y="128"/>
                </a:cubicBezTo>
                <a:cubicBezTo>
                  <a:pt x="155" y="111"/>
                  <a:pt x="199" y="109"/>
                  <a:pt x="239" y="123"/>
                </a:cubicBezTo>
                <a:cubicBezTo>
                  <a:pt x="241" y="124"/>
                  <a:pt x="241" y="124"/>
                  <a:pt x="241" y="124"/>
                </a:cubicBezTo>
                <a:cubicBezTo>
                  <a:pt x="257" y="131"/>
                  <a:pt x="271" y="135"/>
                  <a:pt x="282" y="124"/>
                </a:cubicBezTo>
                <a:cubicBezTo>
                  <a:pt x="294" y="112"/>
                  <a:pt x="291" y="101"/>
                  <a:pt x="282" y="82"/>
                </a:cubicBezTo>
                <a:close/>
              </a:path>
            </a:pathLst>
          </a:cu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1" name="Freeform 15"/>
          <p:cNvSpPr/>
          <p:nvPr/>
        </p:nvSpPr>
        <p:spPr>
          <a:xfrm>
            <a:off x="3600360" y="5059440"/>
            <a:ext cx="1319400" cy="927000"/>
          </a:xfrm>
          <a:custGeom>
            <a:avLst/>
            <a:gdLst/>
            <a:ahLst/>
            <a:rect l="l" t="t" r="r" b="b"/>
            <a:pathLst>
              <a:path w="319" h="224">
                <a:moveTo>
                  <a:pt x="313" y="0"/>
                </a:moveTo>
                <a:cubicBezTo>
                  <a:pt x="210" y="0"/>
                  <a:pt x="210" y="0"/>
                  <a:pt x="210" y="0"/>
                </a:cubicBezTo>
                <a:cubicBezTo>
                  <a:pt x="210" y="6"/>
                  <a:pt x="210" y="6"/>
                  <a:pt x="210" y="6"/>
                </a:cubicBezTo>
                <a:cubicBezTo>
                  <a:pt x="210" y="6"/>
                  <a:pt x="209" y="7"/>
                  <a:pt x="209" y="7"/>
                </a:cubicBezTo>
                <a:cubicBezTo>
                  <a:pt x="218" y="12"/>
                  <a:pt x="220" y="20"/>
                  <a:pt x="219" y="25"/>
                </a:cubicBezTo>
                <a:cubicBezTo>
                  <a:pt x="219" y="36"/>
                  <a:pt x="209" y="46"/>
                  <a:pt x="198" y="46"/>
                </a:cubicBezTo>
                <a:cubicBezTo>
                  <a:pt x="195" y="46"/>
                  <a:pt x="195" y="46"/>
                  <a:pt x="195" y="46"/>
                </a:cubicBezTo>
                <a:cubicBezTo>
                  <a:pt x="183" y="46"/>
                  <a:pt x="173" y="36"/>
                  <a:pt x="173" y="24"/>
                </a:cubicBezTo>
                <a:cubicBezTo>
                  <a:pt x="173" y="17"/>
                  <a:pt x="176" y="11"/>
                  <a:pt x="182" y="7"/>
                </a:cubicBezTo>
                <a:cubicBezTo>
                  <a:pt x="182" y="7"/>
                  <a:pt x="182" y="7"/>
                  <a:pt x="182" y="6"/>
                </a:cubicBezTo>
                <a:cubicBezTo>
                  <a:pt x="182" y="0"/>
                  <a:pt x="182" y="0"/>
                  <a:pt x="182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1" y="0"/>
                  <a:pt x="48" y="3"/>
                  <a:pt x="48" y="7"/>
                </a:cubicBezTo>
                <a:cubicBezTo>
                  <a:pt x="48" y="135"/>
                  <a:pt x="48" y="135"/>
                  <a:pt x="48" y="135"/>
                </a:cubicBezTo>
                <a:cubicBezTo>
                  <a:pt x="30" y="135"/>
                  <a:pt x="33" y="135"/>
                  <a:pt x="31" y="135"/>
                </a:cubicBezTo>
                <a:cubicBezTo>
                  <a:pt x="26" y="135"/>
                  <a:pt x="24" y="132"/>
                  <a:pt x="24" y="132"/>
                </a:cubicBezTo>
                <a:cubicBezTo>
                  <a:pt x="22" y="128"/>
                  <a:pt x="17" y="125"/>
                  <a:pt x="12" y="126"/>
                </a:cubicBezTo>
                <a:cubicBezTo>
                  <a:pt x="5" y="126"/>
                  <a:pt x="0" y="132"/>
                  <a:pt x="0" y="139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50"/>
                  <a:pt x="6" y="156"/>
                  <a:pt x="13" y="156"/>
                </a:cubicBezTo>
                <a:cubicBezTo>
                  <a:pt x="13" y="156"/>
                  <a:pt x="20" y="157"/>
                  <a:pt x="24" y="150"/>
                </a:cubicBezTo>
                <a:cubicBezTo>
                  <a:pt x="24" y="150"/>
                  <a:pt x="27" y="146"/>
                  <a:pt x="31" y="146"/>
                </a:cubicBezTo>
                <a:cubicBezTo>
                  <a:pt x="33" y="146"/>
                  <a:pt x="30" y="146"/>
                  <a:pt x="48" y="146"/>
                </a:cubicBezTo>
                <a:cubicBezTo>
                  <a:pt x="48" y="173"/>
                  <a:pt x="48" y="173"/>
                  <a:pt x="48" y="173"/>
                </a:cubicBezTo>
                <a:cubicBezTo>
                  <a:pt x="48" y="177"/>
                  <a:pt x="51" y="180"/>
                  <a:pt x="54" y="180"/>
                </a:cubicBezTo>
                <a:cubicBezTo>
                  <a:pt x="190" y="180"/>
                  <a:pt x="190" y="180"/>
                  <a:pt x="190" y="180"/>
                </a:cubicBezTo>
                <a:cubicBezTo>
                  <a:pt x="190" y="194"/>
                  <a:pt x="190" y="191"/>
                  <a:pt x="190" y="193"/>
                </a:cubicBezTo>
                <a:cubicBezTo>
                  <a:pt x="190" y="199"/>
                  <a:pt x="187" y="200"/>
                  <a:pt x="187" y="200"/>
                </a:cubicBezTo>
                <a:cubicBezTo>
                  <a:pt x="183" y="203"/>
                  <a:pt x="180" y="207"/>
                  <a:pt x="181" y="212"/>
                </a:cubicBezTo>
                <a:cubicBezTo>
                  <a:pt x="181" y="219"/>
                  <a:pt x="188" y="224"/>
                  <a:pt x="195" y="224"/>
                </a:cubicBezTo>
                <a:cubicBezTo>
                  <a:pt x="198" y="224"/>
                  <a:pt x="198" y="224"/>
                  <a:pt x="198" y="224"/>
                </a:cubicBezTo>
                <a:cubicBezTo>
                  <a:pt x="205" y="224"/>
                  <a:pt x="211" y="218"/>
                  <a:pt x="211" y="211"/>
                </a:cubicBezTo>
                <a:cubicBezTo>
                  <a:pt x="211" y="211"/>
                  <a:pt x="212" y="204"/>
                  <a:pt x="205" y="200"/>
                </a:cubicBezTo>
                <a:cubicBezTo>
                  <a:pt x="205" y="200"/>
                  <a:pt x="202" y="198"/>
                  <a:pt x="202" y="193"/>
                </a:cubicBezTo>
                <a:cubicBezTo>
                  <a:pt x="202" y="191"/>
                  <a:pt x="202" y="194"/>
                  <a:pt x="202" y="180"/>
                </a:cubicBezTo>
                <a:cubicBezTo>
                  <a:pt x="272" y="180"/>
                  <a:pt x="272" y="180"/>
                  <a:pt x="272" y="180"/>
                </a:cubicBezTo>
                <a:cubicBezTo>
                  <a:pt x="275" y="180"/>
                  <a:pt x="278" y="178"/>
                  <a:pt x="279" y="175"/>
                </a:cubicBezTo>
                <a:cubicBezTo>
                  <a:pt x="280" y="170"/>
                  <a:pt x="282" y="166"/>
                  <a:pt x="285" y="161"/>
                </a:cubicBezTo>
                <a:cubicBezTo>
                  <a:pt x="307" y="117"/>
                  <a:pt x="319" y="65"/>
                  <a:pt x="319" y="7"/>
                </a:cubicBezTo>
                <a:cubicBezTo>
                  <a:pt x="319" y="7"/>
                  <a:pt x="319" y="7"/>
                  <a:pt x="319" y="7"/>
                </a:cubicBezTo>
                <a:cubicBezTo>
                  <a:pt x="319" y="3"/>
                  <a:pt x="316" y="0"/>
                  <a:pt x="313" y="0"/>
                </a:cubicBezTo>
                <a:close/>
              </a:path>
            </a:pathLst>
          </a:cu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2" name="Freeform 16"/>
          <p:cNvSpPr/>
          <p:nvPr/>
        </p:nvSpPr>
        <p:spPr>
          <a:xfrm>
            <a:off x="2563920" y="5837400"/>
            <a:ext cx="1198440" cy="690480"/>
          </a:xfrm>
          <a:custGeom>
            <a:avLst/>
            <a:gdLst/>
            <a:ahLst/>
            <a:rect l="l" t="t" r="r" b="b"/>
            <a:pathLst>
              <a:path w="290" h="167">
                <a:moveTo>
                  <a:pt x="264" y="60"/>
                </a:moveTo>
                <a:cubicBezTo>
                  <a:pt x="271" y="60"/>
                  <a:pt x="278" y="64"/>
                  <a:pt x="282" y="70"/>
                </a:cubicBezTo>
                <a:cubicBezTo>
                  <a:pt x="282" y="70"/>
                  <a:pt x="282" y="70"/>
                  <a:pt x="282" y="70"/>
                </a:cubicBezTo>
                <a:cubicBezTo>
                  <a:pt x="290" y="70"/>
                  <a:pt x="290" y="70"/>
                  <a:pt x="290" y="70"/>
                </a:cubicBezTo>
                <a:cubicBezTo>
                  <a:pt x="290" y="6"/>
                  <a:pt x="290" y="6"/>
                  <a:pt x="290" y="6"/>
                </a:cubicBezTo>
                <a:cubicBezTo>
                  <a:pt x="290" y="3"/>
                  <a:pt x="287" y="0"/>
                  <a:pt x="284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49" y="0"/>
                  <a:pt x="46" y="3"/>
                  <a:pt x="46" y="6"/>
                </a:cubicBezTo>
                <a:cubicBezTo>
                  <a:pt x="46" y="78"/>
                  <a:pt x="46" y="78"/>
                  <a:pt x="46" y="78"/>
                </a:cubicBezTo>
                <a:cubicBezTo>
                  <a:pt x="31" y="78"/>
                  <a:pt x="33" y="78"/>
                  <a:pt x="31" y="78"/>
                </a:cubicBezTo>
                <a:cubicBezTo>
                  <a:pt x="26" y="78"/>
                  <a:pt x="24" y="75"/>
                  <a:pt x="24" y="75"/>
                </a:cubicBezTo>
                <a:cubicBezTo>
                  <a:pt x="22" y="71"/>
                  <a:pt x="17" y="68"/>
                  <a:pt x="12" y="68"/>
                </a:cubicBezTo>
                <a:cubicBezTo>
                  <a:pt x="5" y="69"/>
                  <a:pt x="0" y="75"/>
                  <a:pt x="0" y="82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93"/>
                  <a:pt x="6" y="99"/>
                  <a:pt x="13" y="99"/>
                </a:cubicBezTo>
                <a:cubicBezTo>
                  <a:pt x="13" y="99"/>
                  <a:pt x="20" y="100"/>
                  <a:pt x="24" y="92"/>
                </a:cubicBezTo>
                <a:cubicBezTo>
                  <a:pt x="24" y="92"/>
                  <a:pt x="27" y="89"/>
                  <a:pt x="31" y="89"/>
                </a:cubicBezTo>
                <a:cubicBezTo>
                  <a:pt x="33" y="89"/>
                  <a:pt x="31" y="89"/>
                  <a:pt x="46" y="89"/>
                </a:cubicBezTo>
                <a:cubicBezTo>
                  <a:pt x="46" y="148"/>
                  <a:pt x="46" y="148"/>
                  <a:pt x="46" y="148"/>
                </a:cubicBezTo>
                <a:cubicBezTo>
                  <a:pt x="46" y="151"/>
                  <a:pt x="48" y="154"/>
                  <a:pt x="51" y="154"/>
                </a:cubicBezTo>
                <a:cubicBezTo>
                  <a:pt x="88" y="163"/>
                  <a:pt x="128" y="167"/>
                  <a:pt x="168" y="167"/>
                </a:cubicBezTo>
                <a:cubicBezTo>
                  <a:pt x="168" y="167"/>
                  <a:pt x="168" y="167"/>
                  <a:pt x="168" y="167"/>
                </a:cubicBezTo>
                <a:cubicBezTo>
                  <a:pt x="168" y="167"/>
                  <a:pt x="168" y="167"/>
                  <a:pt x="168" y="167"/>
                </a:cubicBezTo>
                <a:cubicBezTo>
                  <a:pt x="168" y="167"/>
                  <a:pt x="168" y="167"/>
                  <a:pt x="169" y="167"/>
                </a:cubicBezTo>
                <a:cubicBezTo>
                  <a:pt x="169" y="167"/>
                  <a:pt x="169" y="167"/>
                  <a:pt x="169" y="167"/>
                </a:cubicBezTo>
                <a:cubicBezTo>
                  <a:pt x="209" y="167"/>
                  <a:pt x="248" y="163"/>
                  <a:pt x="285" y="154"/>
                </a:cubicBezTo>
                <a:cubicBezTo>
                  <a:pt x="288" y="154"/>
                  <a:pt x="290" y="151"/>
                  <a:pt x="290" y="148"/>
                </a:cubicBezTo>
                <a:cubicBezTo>
                  <a:pt x="290" y="97"/>
                  <a:pt x="290" y="97"/>
                  <a:pt x="290" y="97"/>
                </a:cubicBezTo>
                <a:cubicBezTo>
                  <a:pt x="282" y="97"/>
                  <a:pt x="282" y="97"/>
                  <a:pt x="282" y="97"/>
                </a:cubicBezTo>
                <a:cubicBezTo>
                  <a:pt x="282" y="97"/>
                  <a:pt x="282" y="97"/>
                  <a:pt x="282" y="97"/>
                </a:cubicBezTo>
                <a:cubicBezTo>
                  <a:pt x="277" y="106"/>
                  <a:pt x="269" y="107"/>
                  <a:pt x="264" y="107"/>
                </a:cubicBezTo>
                <a:cubicBezTo>
                  <a:pt x="252" y="106"/>
                  <a:pt x="243" y="97"/>
                  <a:pt x="243" y="86"/>
                </a:cubicBezTo>
                <a:cubicBezTo>
                  <a:pt x="243" y="82"/>
                  <a:pt x="243" y="82"/>
                  <a:pt x="243" y="82"/>
                </a:cubicBezTo>
                <a:cubicBezTo>
                  <a:pt x="243" y="71"/>
                  <a:pt x="253" y="60"/>
                  <a:pt x="264" y="60"/>
                </a:cubicBezTo>
                <a:close/>
              </a:path>
            </a:pathLst>
          </a:custGeom>
          <a:solidFill>
            <a:srgbClr val="954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3" name="Freeform 17"/>
          <p:cNvSpPr/>
          <p:nvPr/>
        </p:nvSpPr>
        <p:spPr>
          <a:xfrm>
            <a:off x="1703520" y="5651640"/>
            <a:ext cx="1015920" cy="806400"/>
          </a:xfrm>
          <a:custGeom>
            <a:avLst/>
            <a:gdLst/>
            <a:ahLst/>
            <a:rect l="l" t="t" r="r" b="b"/>
            <a:pathLst>
              <a:path w="246" h="195">
                <a:moveTo>
                  <a:pt x="221" y="105"/>
                </a:moveTo>
                <a:cubicBezTo>
                  <a:pt x="228" y="105"/>
                  <a:pt x="235" y="109"/>
                  <a:pt x="239" y="115"/>
                </a:cubicBezTo>
                <a:cubicBezTo>
                  <a:pt x="239" y="115"/>
                  <a:pt x="239" y="115"/>
                  <a:pt x="239" y="115"/>
                </a:cubicBezTo>
                <a:cubicBezTo>
                  <a:pt x="246" y="115"/>
                  <a:pt x="246" y="115"/>
                  <a:pt x="246" y="115"/>
                </a:cubicBezTo>
                <a:cubicBezTo>
                  <a:pt x="246" y="51"/>
                  <a:pt x="246" y="51"/>
                  <a:pt x="246" y="51"/>
                </a:cubicBezTo>
                <a:cubicBezTo>
                  <a:pt x="246" y="48"/>
                  <a:pt x="243" y="45"/>
                  <a:pt x="239" y="45"/>
                </a:cubicBezTo>
                <a:cubicBezTo>
                  <a:pt x="124" y="45"/>
                  <a:pt x="124" y="45"/>
                  <a:pt x="124" y="45"/>
                </a:cubicBezTo>
                <a:cubicBezTo>
                  <a:pt x="124" y="30"/>
                  <a:pt x="124" y="33"/>
                  <a:pt x="124" y="31"/>
                </a:cubicBezTo>
                <a:cubicBezTo>
                  <a:pt x="124" y="25"/>
                  <a:pt x="128" y="24"/>
                  <a:pt x="128" y="24"/>
                </a:cubicBezTo>
                <a:cubicBezTo>
                  <a:pt x="132" y="21"/>
                  <a:pt x="134" y="17"/>
                  <a:pt x="134" y="12"/>
                </a:cubicBezTo>
                <a:cubicBezTo>
                  <a:pt x="133" y="5"/>
                  <a:pt x="127" y="0"/>
                  <a:pt x="120" y="0"/>
                </a:cubicBezTo>
                <a:cubicBezTo>
                  <a:pt x="117" y="0"/>
                  <a:pt x="117" y="0"/>
                  <a:pt x="117" y="0"/>
                </a:cubicBezTo>
                <a:cubicBezTo>
                  <a:pt x="110" y="0"/>
                  <a:pt x="104" y="6"/>
                  <a:pt x="104" y="13"/>
                </a:cubicBezTo>
                <a:cubicBezTo>
                  <a:pt x="104" y="13"/>
                  <a:pt x="103" y="20"/>
                  <a:pt x="110" y="24"/>
                </a:cubicBezTo>
                <a:cubicBezTo>
                  <a:pt x="110" y="24"/>
                  <a:pt x="113" y="26"/>
                  <a:pt x="113" y="31"/>
                </a:cubicBezTo>
                <a:cubicBezTo>
                  <a:pt x="113" y="33"/>
                  <a:pt x="113" y="30"/>
                  <a:pt x="113" y="45"/>
                </a:cubicBezTo>
                <a:cubicBezTo>
                  <a:pt x="27" y="45"/>
                  <a:pt x="27" y="45"/>
                  <a:pt x="27" y="45"/>
                </a:cubicBezTo>
                <a:cubicBezTo>
                  <a:pt x="23" y="45"/>
                  <a:pt x="20" y="49"/>
                  <a:pt x="21" y="53"/>
                </a:cubicBezTo>
                <a:cubicBezTo>
                  <a:pt x="25" y="77"/>
                  <a:pt x="22" y="103"/>
                  <a:pt x="12" y="127"/>
                </a:cubicBezTo>
                <a:cubicBezTo>
                  <a:pt x="11" y="127"/>
                  <a:pt x="11" y="127"/>
                  <a:pt x="11" y="127"/>
                </a:cubicBezTo>
                <a:cubicBezTo>
                  <a:pt x="3" y="146"/>
                  <a:pt x="0" y="157"/>
                  <a:pt x="11" y="169"/>
                </a:cubicBezTo>
                <a:cubicBezTo>
                  <a:pt x="23" y="180"/>
                  <a:pt x="36" y="176"/>
                  <a:pt x="53" y="169"/>
                </a:cubicBezTo>
                <a:cubicBezTo>
                  <a:pt x="55" y="168"/>
                  <a:pt x="55" y="168"/>
                  <a:pt x="55" y="168"/>
                </a:cubicBezTo>
                <a:cubicBezTo>
                  <a:pt x="95" y="154"/>
                  <a:pt x="139" y="156"/>
                  <a:pt x="178" y="173"/>
                </a:cubicBezTo>
                <a:cubicBezTo>
                  <a:pt x="197" y="181"/>
                  <a:pt x="217" y="188"/>
                  <a:pt x="237" y="194"/>
                </a:cubicBezTo>
                <a:cubicBezTo>
                  <a:pt x="242" y="195"/>
                  <a:pt x="246" y="192"/>
                  <a:pt x="246" y="187"/>
                </a:cubicBezTo>
                <a:cubicBezTo>
                  <a:pt x="246" y="142"/>
                  <a:pt x="246" y="142"/>
                  <a:pt x="246" y="142"/>
                </a:cubicBezTo>
                <a:cubicBezTo>
                  <a:pt x="239" y="142"/>
                  <a:pt x="239" y="142"/>
                  <a:pt x="239" y="142"/>
                </a:cubicBezTo>
                <a:cubicBezTo>
                  <a:pt x="239" y="142"/>
                  <a:pt x="239" y="142"/>
                  <a:pt x="239" y="142"/>
                </a:cubicBezTo>
                <a:cubicBezTo>
                  <a:pt x="234" y="151"/>
                  <a:pt x="226" y="152"/>
                  <a:pt x="221" y="152"/>
                </a:cubicBezTo>
                <a:cubicBezTo>
                  <a:pt x="209" y="151"/>
                  <a:pt x="200" y="142"/>
                  <a:pt x="200" y="131"/>
                </a:cubicBezTo>
                <a:cubicBezTo>
                  <a:pt x="200" y="127"/>
                  <a:pt x="200" y="127"/>
                  <a:pt x="200" y="127"/>
                </a:cubicBezTo>
                <a:cubicBezTo>
                  <a:pt x="200" y="116"/>
                  <a:pt x="210" y="105"/>
                  <a:pt x="221" y="105"/>
                </a:cubicBezTo>
                <a:close/>
              </a:path>
            </a:pathLst>
          </a:custGeom>
          <a:solidFill>
            <a:srgbClr val="954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4" name="Freeform 18"/>
          <p:cNvSpPr/>
          <p:nvPr/>
        </p:nvSpPr>
        <p:spPr>
          <a:xfrm>
            <a:off x="1595520" y="4878360"/>
            <a:ext cx="1123920" cy="925560"/>
          </a:xfrm>
          <a:custGeom>
            <a:avLst/>
            <a:gdLst/>
            <a:ahLst/>
            <a:rect l="l" t="t" r="r" b="b"/>
            <a:pathLst>
              <a:path w="272" h="224">
                <a:moveTo>
                  <a:pt x="150" y="44"/>
                </a:moveTo>
                <a:cubicBezTo>
                  <a:pt x="150" y="30"/>
                  <a:pt x="150" y="33"/>
                  <a:pt x="150" y="31"/>
                </a:cubicBezTo>
                <a:cubicBezTo>
                  <a:pt x="150" y="25"/>
                  <a:pt x="154" y="24"/>
                  <a:pt x="154" y="24"/>
                </a:cubicBezTo>
                <a:cubicBezTo>
                  <a:pt x="158" y="22"/>
                  <a:pt x="160" y="17"/>
                  <a:pt x="160" y="12"/>
                </a:cubicBezTo>
                <a:cubicBezTo>
                  <a:pt x="159" y="5"/>
                  <a:pt x="153" y="0"/>
                  <a:pt x="146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36" y="0"/>
                  <a:pt x="130" y="6"/>
                  <a:pt x="130" y="13"/>
                </a:cubicBezTo>
                <a:cubicBezTo>
                  <a:pt x="130" y="13"/>
                  <a:pt x="129" y="20"/>
                  <a:pt x="136" y="24"/>
                </a:cubicBezTo>
                <a:cubicBezTo>
                  <a:pt x="136" y="24"/>
                  <a:pt x="139" y="26"/>
                  <a:pt x="139" y="31"/>
                </a:cubicBezTo>
                <a:cubicBezTo>
                  <a:pt x="139" y="33"/>
                  <a:pt x="139" y="30"/>
                  <a:pt x="139" y="44"/>
                </a:cubicBezTo>
                <a:cubicBezTo>
                  <a:pt x="7" y="44"/>
                  <a:pt x="7" y="44"/>
                  <a:pt x="7" y="44"/>
                </a:cubicBezTo>
                <a:cubicBezTo>
                  <a:pt x="3" y="44"/>
                  <a:pt x="0" y="47"/>
                  <a:pt x="0" y="51"/>
                </a:cubicBezTo>
                <a:cubicBezTo>
                  <a:pt x="0" y="51"/>
                  <a:pt x="0" y="51"/>
                  <a:pt x="0" y="51"/>
                </a:cubicBezTo>
                <a:cubicBezTo>
                  <a:pt x="0" y="109"/>
                  <a:pt x="13" y="161"/>
                  <a:pt x="35" y="205"/>
                </a:cubicBezTo>
                <a:cubicBezTo>
                  <a:pt x="37" y="210"/>
                  <a:pt x="39" y="214"/>
                  <a:pt x="41" y="219"/>
                </a:cubicBezTo>
                <a:cubicBezTo>
                  <a:pt x="42" y="222"/>
                  <a:pt x="45" y="224"/>
                  <a:pt x="47" y="224"/>
                </a:cubicBezTo>
                <a:cubicBezTo>
                  <a:pt x="131" y="224"/>
                  <a:pt x="131" y="224"/>
                  <a:pt x="131" y="224"/>
                </a:cubicBezTo>
                <a:cubicBezTo>
                  <a:pt x="131" y="218"/>
                  <a:pt x="131" y="218"/>
                  <a:pt x="131" y="218"/>
                </a:cubicBezTo>
                <a:cubicBezTo>
                  <a:pt x="131" y="218"/>
                  <a:pt x="131" y="218"/>
                  <a:pt x="131" y="218"/>
                </a:cubicBezTo>
                <a:cubicBezTo>
                  <a:pt x="123" y="213"/>
                  <a:pt x="121" y="204"/>
                  <a:pt x="122" y="199"/>
                </a:cubicBezTo>
                <a:cubicBezTo>
                  <a:pt x="122" y="188"/>
                  <a:pt x="131" y="179"/>
                  <a:pt x="143" y="179"/>
                </a:cubicBezTo>
                <a:cubicBezTo>
                  <a:pt x="146" y="179"/>
                  <a:pt x="146" y="179"/>
                  <a:pt x="146" y="179"/>
                </a:cubicBezTo>
                <a:cubicBezTo>
                  <a:pt x="158" y="179"/>
                  <a:pt x="168" y="188"/>
                  <a:pt x="168" y="200"/>
                </a:cubicBezTo>
                <a:cubicBezTo>
                  <a:pt x="168" y="207"/>
                  <a:pt x="165" y="213"/>
                  <a:pt x="159" y="217"/>
                </a:cubicBezTo>
                <a:cubicBezTo>
                  <a:pt x="159" y="218"/>
                  <a:pt x="159" y="218"/>
                  <a:pt x="159" y="218"/>
                </a:cubicBezTo>
                <a:cubicBezTo>
                  <a:pt x="159" y="224"/>
                  <a:pt x="159" y="224"/>
                  <a:pt x="159" y="224"/>
                </a:cubicBezTo>
                <a:cubicBezTo>
                  <a:pt x="265" y="224"/>
                  <a:pt x="265" y="224"/>
                  <a:pt x="265" y="224"/>
                </a:cubicBezTo>
                <a:cubicBezTo>
                  <a:pt x="269" y="224"/>
                  <a:pt x="272" y="221"/>
                  <a:pt x="272" y="217"/>
                </a:cubicBezTo>
                <a:cubicBezTo>
                  <a:pt x="272" y="51"/>
                  <a:pt x="272" y="51"/>
                  <a:pt x="272" y="51"/>
                </a:cubicBezTo>
                <a:cubicBezTo>
                  <a:pt x="272" y="47"/>
                  <a:pt x="269" y="44"/>
                  <a:pt x="265" y="44"/>
                </a:cubicBezTo>
                <a:lnTo>
                  <a:pt x="150" y="44"/>
                </a:lnTo>
                <a:close/>
              </a:path>
            </a:pathLst>
          </a:custGeom>
          <a:solidFill>
            <a:srgbClr val="41b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5" name="Freeform 19"/>
          <p:cNvSpPr/>
          <p:nvPr/>
        </p:nvSpPr>
        <p:spPr>
          <a:xfrm>
            <a:off x="1776240" y="3506760"/>
            <a:ext cx="2203560" cy="743040"/>
          </a:xfrm>
          <a:custGeom>
            <a:avLst/>
            <a:gdLst/>
            <a:ahLst/>
            <a:rect l="l" t="t" r="r" b="b"/>
            <a:pathLst>
              <a:path w="533" h="180">
                <a:moveTo>
                  <a:pt x="526" y="163"/>
                </a:moveTo>
                <a:cubicBezTo>
                  <a:pt x="525" y="163"/>
                  <a:pt x="525" y="162"/>
                  <a:pt x="525" y="162"/>
                </a:cubicBezTo>
                <a:cubicBezTo>
                  <a:pt x="520" y="171"/>
                  <a:pt x="512" y="172"/>
                  <a:pt x="507" y="172"/>
                </a:cubicBezTo>
                <a:cubicBezTo>
                  <a:pt x="496" y="172"/>
                  <a:pt x="486" y="162"/>
                  <a:pt x="486" y="151"/>
                </a:cubicBezTo>
                <a:cubicBezTo>
                  <a:pt x="486" y="148"/>
                  <a:pt x="486" y="148"/>
                  <a:pt x="486" y="148"/>
                </a:cubicBezTo>
                <a:cubicBezTo>
                  <a:pt x="486" y="136"/>
                  <a:pt x="496" y="126"/>
                  <a:pt x="507" y="126"/>
                </a:cubicBezTo>
                <a:cubicBezTo>
                  <a:pt x="515" y="125"/>
                  <a:pt x="521" y="129"/>
                  <a:pt x="525" y="135"/>
                </a:cubicBezTo>
                <a:cubicBezTo>
                  <a:pt x="525" y="135"/>
                  <a:pt x="525" y="135"/>
                  <a:pt x="526" y="135"/>
                </a:cubicBezTo>
                <a:cubicBezTo>
                  <a:pt x="533" y="135"/>
                  <a:pt x="533" y="135"/>
                  <a:pt x="533" y="135"/>
                </a:cubicBezTo>
                <a:cubicBezTo>
                  <a:pt x="533" y="7"/>
                  <a:pt x="533" y="7"/>
                  <a:pt x="533" y="7"/>
                </a:cubicBezTo>
                <a:cubicBezTo>
                  <a:pt x="533" y="3"/>
                  <a:pt x="530" y="0"/>
                  <a:pt x="526" y="0"/>
                </a:cubicBezTo>
                <a:cubicBezTo>
                  <a:pt x="375" y="0"/>
                  <a:pt x="375" y="0"/>
                  <a:pt x="375" y="0"/>
                </a:cubicBezTo>
                <a:cubicBezTo>
                  <a:pt x="375" y="7"/>
                  <a:pt x="375" y="7"/>
                  <a:pt x="375" y="7"/>
                </a:cubicBezTo>
                <a:cubicBezTo>
                  <a:pt x="375" y="7"/>
                  <a:pt x="375" y="7"/>
                  <a:pt x="375" y="7"/>
                </a:cubicBezTo>
                <a:cubicBezTo>
                  <a:pt x="383" y="12"/>
                  <a:pt x="385" y="21"/>
                  <a:pt x="385" y="25"/>
                </a:cubicBezTo>
                <a:cubicBezTo>
                  <a:pt x="384" y="37"/>
                  <a:pt x="375" y="46"/>
                  <a:pt x="363" y="46"/>
                </a:cubicBezTo>
                <a:cubicBezTo>
                  <a:pt x="360" y="46"/>
                  <a:pt x="360" y="46"/>
                  <a:pt x="360" y="46"/>
                </a:cubicBezTo>
                <a:cubicBezTo>
                  <a:pt x="349" y="46"/>
                  <a:pt x="338" y="37"/>
                  <a:pt x="338" y="25"/>
                </a:cubicBezTo>
                <a:cubicBezTo>
                  <a:pt x="338" y="18"/>
                  <a:pt x="342" y="11"/>
                  <a:pt x="347" y="7"/>
                </a:cubicBezTo>
                <a:cubicBezTo>
                  <a:pt x="347" y="7"/>
                  <a:pt x="348" y="7"/>
                  <a:pt x="348" y="7"/>
                </a:cubicBezTo>
                <a:cubicBezTo>
                  <a:pt x="348" y="0"/>
                  <a:pt x="348" y="0"/>
                  <a:pt x="348" y="0"/>
                </a:cubicBezTo>
                <a:cubicBezTo>
                  <a:pt x="179" y="0"/>
                  <a:pt x="179" y="0"/>
                  <a:pt x="179" y="0"/>
                </a:cubicBezTo>
                <a:cubicBezTo>
                  <a:pt x="177" y="0"/>
                  <a:pt x="176" y="1"/>
                  <a:pt x="175" y="2"/>
                </a:cubicBezTo>
                <a:cubicBezTo>
                  <a:pt x="109" y="50"/>
                  <a:pt x="44" y="94"/>
                  <a:pt x="3" y="170"/>
                </a:cubicBezTo>
                <a:cubicBezTo>
                  <a:pt x="0" y="174"/>
                  <a:pt x="3" y="180"/>
                  <a:pt x="8" y="180"/>
                </a:cubicBezTo>
                <a:cubicBezTo>
                  <a:pt x="87" y="180"/>
                  <a:pt x="87" y="180"/>
                  <a:pt x="87" y="180"/>
                </a:cubicBezTo>
                <a:cubicBezTo>
                  <a:pt x="87" y="175"/>
                  <a:pt x="87" y="175"/>
                  <a:pt x="87" y="175"/>
                </a:cubicBezTo>
                <a:cubicBezTo>
                  <a:pt x="87" y="175"/>
                  <a:pt x="87" y="175"/>
                  <a:pt x="87" y="175"/>
                </a:cubicBezTo>
                <a:cubicBezTo>
                  <a:pt x="79" y="169"/>
                  <a:pt x="77" y="161"/>
                  <a:pt x="78" y="156"/>
                </a:cubicBezTo>
                <a:cubicBezTo>
                  <a:pt x="78" y="145"/>
                  <a:pt x="87" y="136"/>
                  <a:pt x="99" y="136"/>
                </a:cubicBezTo>
                <a:cubicBezTo>
                  <a:pt x="102" y="136"/>
                  <a:pt x="102" y="136"/>
                  <a:pt x="102" y="136"/>
                </a:cubicBezTo>
                <a:cubicBezTo>
                  <a:pt x="114" y="136"/>
                  <a:pt x="124" y="145"/>
                  <a:pt x="124" y="157"/>
                </a:cubicBezTo>
                <a:cubicBezTo>
                  <a:pt x="124" y="164"/>
                  <a:pt x="121" y="170"/>
                  <a:pt x="115" y="174"/>
                </a:cubicBezTo>
                <a:cubicBezTo>
                  <a:pt x="115" y="174"/>
                  <a:pt x="115" y="175"/>
                  <a:pt x="115" y="175"/>
                </a:cubicBezTo>
                <a:cubicBezTo>
                  <a:pt x="115" y="180"/>
                  <a:pt x="115" y="180"/>
                  <a:pt x="115" y="180"/>
                </a:cubicBezTo>
                <a:cubicBezTo>
                  <a:pt x="526" y="180"/>
                  <a:pt x="526" y="180"/>
                  <a:pt x="526" y="180"/>
                </a:cubicBezTo>
                <a:cubicBezTo>
                  <a:pt x="530" y="180"/>
                  <a:pt x="533" y="177"/>
                  <a:pt x="533" y="173"/>
                </a:cubicBezTo>
                <a:cubicBezTo>
                  <a:pt x="533" y="163"/>
                  <a:pt x="533" y="163"/>
                  <a:pt x="533" y="163"/>
                </a:cubicBezTo>
                <a:lnTo>
                  <a:pt x="526" y="163"/>
                </a:lnTo>
                <a:close/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6" name="Freeform 20"/>
          <p:cNvSpPr/>
          <p:nvPr/>
        </p:nvSpPr>
        <p:spPr>
          <a:xfrm>
            <a:off x="2752560" y="4282920"/>
            <a:ext cx="1009800" cy="1521000"/>
          </a:xfrm>
          <a:custGeom>
            <a:avLst/>
            <a:gdLst/>
            <a:ahLst/>
            <a:rect l="l" t="t" r="r" b="b"/>
            <a:pathLst>
              <a:path w="244" h="368">
                <a:moveTo>
                  <a:pt x="218" y="305"/>
                </a:moveTo>
                <a:cubicBezTo>
                  <a:pt x="225" y="305"/>
                  <a:pt x="232" y="309"/>
                  <a:pt x="236" y="315"/>
                </a:cubicBezTo>
                <a:cubicBezTo>
                  <a:pt x="236" y="315"/>
                  <a:pt x="236" y="315"/>
                  <a:pt x="236" y="315"/>
                </a:cubicBezTo>
                <a:cubicBezTo>
                  <a:pt x="244" y="315"/>
                  <a:pt x="244" y="315"/>
                  <a:pt x="244" y="315"/>
                </a:cubicBezTo>
                <a:cubicBezTo>
                  <a:pt x="244" y="7"/>
                  <a:pt x="244" y="7"/>
                  <a:pt x="244" y="7"/>
                </a:cubicBezTo>
                <a:cubicBezTo>
                  <a:pt x="244" y="3"/>
                  <a:pt x="241" y="0"/>
                  <a:pt x="238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28"/>
                  <a:pt x="0" y="28"/>
                  <a:pt x="0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28"/>
                  <a:pt x="6" y="29"/>
                  <a:pt x="6" y="29"/>
                </a:cubicBezTo>
                <a:cubicBezTo>
                  <a:pt x="11" y="20"/>
                  <a:pt x="20" y="18"/>
                  <a:pt x="25" y="19"/>
                </a:cubicBezTo>
                <a:cubicBezTo>
                  <a:pt x="36" y="19"/>
                  <a:pt x="45" y="29"/>
                  <a:pt x="45" y="40"/>
                </a:cubicBezTo>
                <a:cubicBezTo>
                  <a:pt x="45" y="43"/>
                  <a:pt x="45" y="43"/>
                  <a:pt x="45" y="43"/>
                </a:cubicBezTo>
                <a:cubicBezTo>
                  <a:pt x="45" y="55"/>
                  <a:pt x="36" y="65"/>
                  <a:pt x="24" y="65"/>
                </a:cubicBezTo>
                <a:cubicBezTo>
                  <a:pt x="17" y="65"/>
                  <a:pt x="11" y="62"/>
                  <a:pt x="7" y="56"/>
                </a:cubicBezTo>
                <a:cubicBezTo>
                  <a:pt x="6" y="56"/>
                  <a:pt x="6" y="56"/>
                  <a:pt x="6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361"/>
                  <a:pt x="0" y="361"/>
                  <a:pt x="0" y="361"/>
                </a:cubicBezTo>
                <a:cubicBezTo>
                  <a:pt x="0" y="365"/>
                  <a:pt x="3" y="368"/>
                  <a:pt x="7" y="368"/>
                </a:cubicBezTo>
                <a:cubicBezTo>
                  <a:pt x="238" y="368"/>
                  <a:pt x="238" y="368"/>
                  <a:pt x="238" y="368"/>
                </a:cubicBezTo>
                <a:cubicBezTo>
                  <a:pt x="241" y="368"/>
                  <a:pt x="244" y="365"/>
                  <a:pt x="244" y="361"/>
                </a:cubicBezTo>
                <a:cubicBezTo>
                  <a:pt x="244" y="342"/>
                  <a:pt x="244" y="342"/>
                  <a:pt x="244" y="342"/>
                </a:cubicBezTo>
                <a:cubicBezTo>
                  <a:pt x="236" y="342"/>
                  <a:pt x="236" y="342"/>
                  <a:pt x="236" y="342"/>
                </a:cubicBezTo>
                <a:cubicBezTo>
                  <a:pt x="236" y="342"/>
                  <a:pt x="236" y="342"/>
                  <a:pt x="236" y="342"/>
                </a:cubicBezTo>
                <a:cubicBezTo>
                  <a:pt x="231" y="351"/>
                  <a:pt x="223" y="352"/>
                  <a:pt x="218" y="352"/>
                </a:cubicBezTo>
                <a:cubicBezTo>
                  <a:pt x="206" y="352"/>
                  <a:pt x="197" y="342"/>
                  <a:pt x="197" y="331"/>
                </a:cubicBezTo>
                <a:cubicBezTo>
                  <a:pt x="197" y="327"/>
                  <a:pt x="197" y="327"/>
                  <a:pt x="197" y="327"/>
                </a:cubicBezTo>
                <a:cubicBezTo>
                  <a:pt x="197" y="316"/>
                  <a:pt x="207" y="305"/>
                  <a:pt x="218" y="305"/>
                </a:cubicBezTo>
                <a:close/>
              </a:path>
            </a:pathLst>
          </a:cu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7" name="Freeform 21"/>
          <p:cNvSpPr/>
          <p:nvPr/>
        </p:nvSpPr>
        <p:spPr>
          <a:xfrm>
            <a:off x="1600200" y="4102200"/>
            <a:ext cx="1306440" cy="923760"/>
          </a:xfrm>
          <a:custGeom>
            <a:avLst/>
            <a:gdLst/>
            <a:ahLst/>
            <a:rect l="l" t="t" r="r" b="b"/>
            <a:pathLst>
              <a:path w="316" h="224">
                <a:moveTo>
                  <a:pt x="303" y="71"/>
                </a:moveTo>
                <a:cubicBezTo>
                  <a:pt x="303" y="71"/>
                  <a:pt x="296" y="70"/>
                  <a:pt x="292" y="77"/>
                </a:cubicBezTo>
                <a:cubicBezTo>
                  <a:pt x="292" y="77"/>
                  <a:pt x="290" y="80"/>
                  <a:pt x="285" y="80"/>
                </a:cubicBezTo>
                <a:cubicBezTo>
                  <a:pt x="283" y="80"/>
                  <a:pt x="286" y="80"/>
                  <a:pt x="271" y="80"/>
                </a:cubicBezTo>
                <a:cubicBezTo>
                  <a:pt x="271" y="51"/>
                  <a:pt x="271" y="51"/>
                  <a:pt x="271" y="51"/>
                </a:cubicBezTo>
                <a:cubicBezTo>
                  <a:pt x="271" y="47"/>
                  <a:pt x="268" y="44"/>
                  <a:pt x="264" y="44"/>
                </a:cubicBezTo>
                <a:cubicBezTo>
                  <a:pt x="149" y="44"/>
                  <a:pt x="149" y="44"/>
                  <a:pt x="149" y="44"/>
                </a:cubicBezTo>
                <a:cubicBezTo>
                  <a:pt x="149" y="30"/>
                  <a:pt x="149" y="33"/>
                  <a:pt x="149" y="31"/>
                </a:cubicBezTo>
                <a:cubicBezTo>
                  <a:pt x="149" y="25"/>
                  <a:pt x="153" y="24"/>
                  <a:pt x="153" y="24"/>
                </a:cubicBezTo>
                <a:cubicBezTo>
                  <a:pt x="157" y="21"/>
                  <a:pt x="159" y="17"/>
                  <a:pt x="159" y="12"/>
                </a:cubicBezTo>
                <a:cubicBezTo>
                  <a:pt x="158" y="5"/>
                  <a:pt x="152" y="0"/>
                  <a:pt x="145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35" y="0"/>
                  <a:pt x="129" y="6"/>
                  <a:pt x="129" y="13"/>
                </a:cubicBezTo>
                <a:cubicBezTo>
                  <a:pt x="129" y="13"/>
                  <a:pt x="128" y="20"/>
                  <a:pt x="135" y="24"/>
                </a:cubicBezTo>
                <a:cubicBezTo>
                  <a:pt x="135" y="24"/>
                  <a:pt x="138" y="26"/>
                  <a:pt x="138" y="31"/>
                </a:cubicBezTo>
                <a:cubicBezTo>
                  <a:pt x="138" y="33"/>
                  <a:pt x="138" y="30"/>
                  <a:pt x="138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8" y="44"/>
                  <a:pt x="36" y="46"/>
                  <a:pt x="35" y="48"/>
                </a:cubicBezTo>
                <a:cubicBezTo>
                  <a:pt x="15" y="92"/>
                  <a:pt x="2" y="146"/>
                  <a:pt x="0" y="217"/>
                </a:cubicBezTo>
                <a:cubicBezTo>
                  <a:pt x="0" y="221"/>
                  <a:pt x="3" y="224"/>
                  <a:pt x="7" y="224"/>
                </a:cubicBezTo>
                <a:cubicBezTo>
                  <a:pt x="130" y="224"/>
                  <a:pt x="130" y="224"/>
                  <a:pt x="130" y="224"/>
                </a:cubicBezTo>
                <a:cubicBezTo>
                  <a:pt x="130" y="219"/>
                  <a:pt x="130" y="219"/>
                  <a:pt x="130" y="219"/>
                </a:cubicBezTo>
                <a:cubicBezTo>
                  <a:pt x="130" y="219"/>
                  <a:pt x="130" y="219"/>
                  <a:pt x="130" y="219"/>
                </a:cubicBezTo>
                <a:cubicBezTo>
                  <a:pt x="122" y="214"/>
                  <a:pt x="120" y="205"/>
                  <a:pt x="121" y="200"/>
                </a:cubicBezTo>
                <a:cubicBezTo>
                  <a:pt x="121" y="189"/>
                  <a:pt x="130" y="180"/>
                  <a:pt x="142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57" y="180"/>
                  <a:pt x="167" y="189"/>
                  <a:pt x="167" y="201"/>
                </a:cubicBezTo>
                <a:cubicBezTo>
                  <a:pt x="167" y="208"/>
                  <a:pt x="164" y="215"/>
                  <a:pt x="158" y="218"/>
                </a:cubicBezTo>
                <a:cubicBezTo>
                  <a:pt x="158" y="219"/>
                  <a:pt x="158" y="219"/>
                  <a:pt x="158" y="219"/>
                </a:cubicBezTo>
                <a:cubicBezTo>
                  <a:pt x="158" y="224"/>
                  <a:pt x="158" y="224"/>
                  <a:pt x="158" y="224"/>
                </a:cubicBezTo>
                <a:cubicBezTo>
                  <a:pt x="264" y="224"/>
                  <a:pt x="264" y="224"/>
                  <a:pt x="264" y="224"/>
                </a:cubicBezTo>
                <a:cubicBezTo>
                  <a:pt x="268" y="224"/>
                  <a:pt x="271" y="221"/>
                  <a:pt x="271" y="217"/>
                </a:cubicBezTo>
                <a:cubicBezTo>
                  <a:pt x="271" y="92"/>
                  <a:pt x="271" y="92"/>
                  <a:pt x="271" y="92"/>
                </a:cubicBezTo>
                <a:cubicBezTo>
                  <a:pt x="286" y="92"/>
                  <a:pt x="283" y="92"/>
                  <a:pt x="285" y="92"/>
                </a:cubicBezTo>
                <a:cubicBezTo>
                  <a:pt x="291" y="92"/>
                  <a:pt x="292" y="95"/>
                  <a:pt x="292" y="95"/>
                </a:cubicBezTo>
                <a:cubicBezTo>
                  <a:pt x="295" y="99"/>
                  <a:pt x="299" y="102"/>
                  <a:pt x="304" y="101"/>
                </a:cubicBezTo>
                <a:cubicBezTo>
                  <a:pt x="311" y="101"/>
                  <a:pt x="316" y="94"/>
                  <a:pt x="316" y="88"/>
                </a:cubicBezTo>
                <a:cubicBezTo>
                  <a:pt x="316" y="84"/>
                  <a:pt x="316" y="84"/>
                  <a:pt x="316" y="84"/>
                </a:cubicBezTo>
                <a:cubicBezTo>
                  <a:pt x="316" y="77"/>
                  <a:pt x="310" y="71"/>
                  <a:pt x="303" y="71"/>
                </a:cubicBezTo>
                <a:close/>
              </a:path>
            </a:pathLst>
          </a:custGeom>
          <a:solidFill>
            <a:srgbClr val="41b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8" name="Freeform 5"/>
          <p:cNvSpPr/>
          <p:nvPr/>
        </p:nvSpPr>
        <p:spPr>
          <a:xfrm>
            <a:off x="2811600" y="3726000"/>
            <a:ext cx="188640" cy="291960"/>
          </a:xfrm>
          <a:custGeom>
            <a:avLst/>
            <a:gdLst/>
            <a:ahLst/>
            <a:rect l="l" t="t" r="r" b="b"/>
            <a:pathLst>
              <a:path w="1014" h="1574">
                <a:moveTo>
                  <a:pt x="906" y="813"/>
                </a:moveTo>
                <a:cubicBezTo>
                  <a:pt x="859" y="777"/>
                  <a:pt x="788" y="747"/>
                  <a:pt x="694" y="723"/>
                </a:cubicBezTo>
                <a:cubicBezTo>
                  <a:pt x="621" y="707"/>
                  <a:pt x="621" y="707"/>
                  <a:pt x="621" y="707"/>
                </a:cubicBezTo>
                <a:cubicBezTo>
                  <a:pt x="621" y="397"/>
                  <a:pt x="621" y="397"/>
                  <a:pt x="621" y="397"/>
                </a:cubicBezTo>
                <a:cubicBezTo>
                  <a:pt x="623" y="399"/>
                  <a:pt x="625" y="400"/>
                  <a:pt x="627" y="400"/>
                </a:cubicBezTo>
                <a:cubicBezTo>
                  <a:pt x="629" y="400"/>
                  <a:pt x="630" y="401"/>
                  <a:pt x="630" y="403"/>
                </a:cubicBezTo>
                <a:cubicBezTo>
                  <a:pt x="692" y="433"/>
                  <a:pt x="725" y="484"/>
                  <a:pt x="730" y="557"/>
                </a:cubicBezTo>
                <a:cubicBezTo>
                  <a:pt x="976" y="557"/>
                  <a:pt x="976" y="557"/>
                  <a:pt x="976" y="557"/>
                </a:cubicBezTo>
                <a:cubicBezTo>
                  <a:pt x="972" y="429"/>
                  <a:pt x="924" y="331"/>
                  <a:pt x="832" y="262"/>
                </a:cubicBezTo>
                <a:cubicBezTo>
                  <a:pt x="772" y="218"/>
                  <a:pt x="702" y="188"/>
                  <a:pt x="621" y="173"/>
                </a:cubicBezTo>
                <a:cubicBezTo>
                  <a:pt x="621" y="0"/>
                  <a:pt x="621" y="0"/>
                  <a:pt x="621" y="0"/>
                </a:cubicBezTo>
                <a:cubicBezTo>
                  <a:pt x="394" y="0"/>
                  <a:pt x="394" y="0"/>
                  <a:pt x="394" y="0"/>
                </a:cubicBezTo>
                <a:cubicBezTo>
                  <a:pt x="394" y="166"/>
                  <a:pt x="394" y="166"/>
                  <a:pt x="394" y="166"/>
                </a:cubicBezTo>
                <a:cubicBezTo>
                  <a:pt x="287" y="179"/>
                  <a:pt x="203" y="213"/>
                  <a:pt x="141" y="269"/>
                </a:cubicBezTo>
                <a:cubicBezTo>
                  <a:pt x="60" y="341"/>
                  <a:pt x="19" y="433"/>
                  <a:pt x="19" y="544"/>
                </a:cubicBezTo>
                <a:cubicBezTo>
                  <a:pt x="19" y="663"/>
                  <a:pt x="61" y="752"/>
                  <a:pt x="144" y="810"/>
                </a:cubicBezTo>
                <a:cubicBezTo>
                  <a:pt x="189" y="842"/>
                  <a:pt x="272" y="871"/>
                  <a:pt x="394" y="899"/>
                </a:cubicBezTo>
                <a:cubicBezTo>
                  <a:pt x="394" y="1232"/>
                  <a:pt x="394" y="1232"/>
                  <a:pt x="394" y="1232"/>
                </a:cubicBezTo>
                <a:cubicBezTo>
                  <a:pt x="349" y="1219"/>
                  <a:pt x="315" y="1199"/>
                  <a:pt x="291" y="1171"/>
                </a:cubicBezTo>
                <a:cubicBezTo>
                  <a:pt x="266" y="1141"/>
                  <a:pt x="250" y="1101"/>
                  <a:pt x="243" y="1050"/>
                </a:cubicBezTo>
                <a:cubicBezTo>
                  <a:pt x="0" y="1050"/>
                  <a:pt x="0" y="1050"/>
                  <a:pt x="0" y="1050"/>
                </a:cubicBezTo>
                <a:cubicBezTo>
                  <a:pt x="0" y="1175"/>
                  <a:pt x="46" y="1275"/>
                  <a:pt x="138" y="1347"/>
                </a:cubicBezTo>
                <a:cubicBezTo>
                  <a:pt x="204" y="1398"/>
                  <a:pt x="289" y="1431"/>
                  <a:pt x="394" y="1446"/>
                </a:cubicBezTo>
                <a:cubicBezTo>
                  <a:pt x="394" y="1574"/>
                  <a:pt x="394" y="1574"/>
                  <a:pt x="394" y="1574"/>
                </a:cubicBezTo>
                <a:cubicBezTo>
                  <a:pt x="621" y="1574"/>
                  <a:pt x="621" y="1574"/>
                  <a:pt x="621" y="1574"/>
                </a:cubicBezTo>
                <a:cubicBezTo>
                  <a:pt x="621" y="1450"/>
                  <a:pt x="621" y="1450"/>
                  <a:pt x="621" y="1450"/>
                </a:cubicBezTo>
                <a:cubicBezTo>
                  <a:pt x="732" y="1435"/>
                  <a:pt x="820" y="1399"/>
                  <a:pt x="886" y="1344"/>
                </a:cubicBezTo>
                <a:cubicBezTo>
                  <a:pt x="972" y="1269"/>
                  <a:pt x="1014" y="1175"/>
                  <a:pt x="1014" y="1062"/>
                </a:cubicBezTo>
                <a:cubicBezTo>
                  <a:pt x="1014" y="954"/>
                  <a:pt x="978" y="870"/>
                  <a:pt x="906" y="813"/>
                </a:cubicBezTo>
                <a:close/>
                <a:moveTo>
                  <a:pt x="394" y="653"/>
                </a:moveTo>
                <a:cubicBezTo>
                  <a:pt x="357" y="642"/>
                  <a:pt x="332" y="633"/>
                  <a:pt x="317" y="624"/>
                </a:cubicBezTo>
                <a:cubicBezTo>
                  <a:pt x="276" y="603"/>
                  <a:pt x="256" y="570"/>
                  <a:pt x="256" y="525"/>
                </a:cubicBezTo>
                <a:cubicBezTo>
                  <a:pt x="256" y="476"/>
                  <a:pt x="276" y="438"/>
                  <a:pt x="317" y="413"/>
                </a:cubicBezTo>
                <a:cubicBezTo>
                  <a:pt x="338" y="400"/>
                  <a:pt x="364" y="389"/>
                  <a:pt x="394" y="381"/>
                </a:cubicBezTo>
                <a:lnTo>
                  <a:pt x="394" y="653"/>
                </a:lnTo>
                <a:close/>
                <a:moveTo>
                  <a:pt x="659" y="1226"/>
                </a:moveTo>
                <a:cubicBezTo>
                  <a:pt x="649" y="1230"/>
                  <a:pt x="636" y="1233"/>
                  <a:pt x="621" y="1235"/>
                </a:cubicBezTo>
                <a:cubicBezTo>
                  <a:pt x="621" y="950"/>
                  <a:pt x="621" y="950"/>
                  <a:pt x="621" y="950"/>
                </a:cubicBezTo>
                <a:cubicBezTo>
                  <a:pt x="661" y="963"/>
                  <a:pt x="692" y="976"/>
                  <a:pt x="714" y="989"/>
                </a:cubicBezTo>
                <a:cubicBezTo>
                  <a:pt x="750" y="1012"/>
                  <a:pt x="768" y="1044"/>
                  <a:pt x="768" y="1085"/>
                </a:cubicBezTo>
                <a:cubicBezTo>
                  <a:pt x="768" y="1153"/>
                  <a:pt x="732" y="1200"/>
                  <a:pt x="659" y="1226"/>
                </a:cubicBezTo>
                <a:close/>
                <a:moveTo>
                  <a:pt x="659" y="1226"/>
                </a:moveTo>
                <a:cubicBezTo>
                  <a:pt x="659" y="1226"/>
                  <a:pt x="659" y="1226"/>
                  <a:pt x="659" y="122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389" name="Group 53" descr=""/>
          <p:cNvPicPr/>
          <p:nvPr/>
        </p:nvPicPr>
        <p:blipFill>
          <a:blip r:embed="rId1"/>
          <a:stretch/>
        </p:blipFill>
        <p:spPr>
          <a:xfrm>
            <a:off x="1968480" y="5175360"/>
            <a:ext cx="390600" cy="287280"/>
          </a:xfrm>
          <a:prstGeom prst="rect">
            <a:avLst/>
          </a:prstGeom>
          <a:ln w="0">
            <a:noFill/>
          </a:ln>
        </p:spPr>
      </p:pic>
      <p:sp>
        <p:nvSpPr>
          <p:cNvPr id="390" name="Freeform 16"/>
          <p:cNvSpPr/>
          <p:nvPr/>
        </p:nvSpPr>
        <p:spPr>
          <a:xfrm>
            <a:off x="4208400" y="5389560"/>
            <a:ext cx="193680" cy="264960"/>
          </a:xfrm>
          <a:custGeom>
            <a:avLst/>
            <a:gdLst/>
            <a:ahLst/>
            <a:rect l="l" t="t" r="r" b="b"/>
            <a:pathLst>
              <a:path w="268" h="367">
                <a:moveTo>
                  <a:pt x="266" y="4"/>
                </a:moveTo>
                <a:cubicBezTo>
                  <a:pt x="265" y="1"/>
                  <a:pt x="262" y="0"/>
                  <a:pt x="259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06" y="0"/>
                  <a:pt x="203" y="2"/>
                  <a:pt x="202" y="5"/>
                </a:cubicBezTo>
                <a:cubicBezTo>
                  <a:pt x="152" y="114"/>
                  <a:pt x="152" y="114"/>
                  <a:pt x="152" y="114"/>
                </a:cubicBezTo>
                <a:cubicBezTo>
                  <a:pt x="151" y="117"/>
                  <a:pt x="149" y="123"/>
                  <a:pt x="145" y="130"/>
                </a:cubicBezTo>
                <a:cubicBezTo>
                  <a:pt x="142" y="138"/>
                  <a:pt x="139" y="144"/>
                  <a:pt x="137" y="148"/>
                </a:cubicBezTo>
                <a:cubicBezTo>
                  <a:pt x="131" y="133"/>
                  <a:pt x="126" y="122"/>
                  <a:pt x="123" y="115"/>
                </a:cubicBezTo>
                <a:cubicBezTo>
                  <a:pt x="66" y="5"/>
                  <a:pt x="66" y="5"/>
                  <a:pt x="66" y="5"/>
                </a:cubicBezTo>
                <a:cubicBezTo>
                  <a:pt x="65" y="2"/>
                  <a:pt x="62" y="0"/>
                  <a:pt x="59" y="0"/>
                </a:cubicBezTo>
                <a:cubicBezTo>
                  <a:pt x="8" y="0"/>
                  <a:pt x="8" y="0"/>
                  <a:pt x="8" y="0"/>
                </a:cubicBezTo>
                <a:cubicBezTo>
                  <a:pt x="5" y="0"/>
                  <a:pt x="3" y="1"/>
                  <a:pt x="1" y="4"/>
                </a:cubicBezTo>
                <a:cubicBezTo>
                  <a:pt x="0" y="7"/>
                  <a:pt x="0" y="10"/>
                  <a:pt x="1" y="13"/>
                </a:cubicBezTo>
                <a:cubicBezTo>
                  <a:pt x="85" y="163"/>
                  <a:pt x="85" y="163"/>
                  <a:pt x="85" y="163"/>
                </a:cubicBezTo>
                <a:cubicBezTo>
                  <a:pt x="29" y="163"/>
                  <a:pt x="29" y="163"/>
                  <a:pt x="29" y="163"/>
                </a:cubicBezTo>
                <a:cubicBezTo>
                  <a:pt x="27" y="163"/>
                  <a:pt x="25" y="164"/>
                  <a:pt x="23" y="166"/>
                </a:cubicBezTo>
                <a:cubicBezTo>
                  <a:pt x="21" y="167"/>
                  <a:pt x="21" y="169"/>
                  <a:pt x="21" y="172"/>
                </a:cubicBezTo>
                <a:cubicBezTo>
                  <a:pt x="21" y="199"/>
                  <a:pt x="21" y="199"/>
                  <a:pt x="21" y="199"/>
                </a:cubicBezTo>
                <a:cubicBezTo>
                  <a:pt x="21" y="201"/>
                  <a:pt x="21" y="203"/>
                  <a:pt x="23" y="205"/>
                </a:cubicBezTo>
                <a:cubicBezTo>
                  <a:pt x="25" y="206"/>
                  <a:pt x="27" y="207"/>
                  <a:pt x="29" y="207"/>
                </a:cubicBezTo>
                <a:cubicBezTo>
                  <a:pt x="104" y="207"/>
                  <a:pt x="104" y="207"/>
                  <a:pt x="104" y="207"/>
                </a:cubicBezTo>
                <a:cubicBezTo>
                  <a:pt x="104" y="229"/>
                  <a:pt x="104" y="229"/>
                  <a:pt x="104" y="229"/>
                </a:cubicBezTo>
                <a:cubicBezTo>
                  <a:pt x="29" y="229"/>
                  <a:pt x="29" y="229"/>
                  <a:pt x="29" y="229"/>
                </a:cubicBezTo>
                <a:cubicBezTo>
                  <a:pt x="27" y="229"/>
                  <a:pt x="25" y="230"/>
                  <a:pt x="23" y="232"/>
                </a:cubicBezTo>
                <a:cubicBezTo>
                  <a:pt x="21" y="233"/>
                  <a:pt x="21" y="235"/>
                  <a:pt x="21" y="238"/>
                </a:cubicBezTo>
                <a:cubicBezTo>
                  <a:pt x="21" y="264"/>
                  <a:pt x="21" y="264"/>
                  <a:pt x="21" y="264"/>
                </a:cubicBezTo>
                <a:cubicBezTo>
                  <a:pt x="21" y="267"/>
                  <a:pt x="21" y="269"/>
                  <a:pt x="23" y="270"/>
                </a:cubicBezTo>
                <a:cubicBezTo>
                  <a:pt x="25" y="272"/>
                  <a:pt x="27" y="273"/>
                  <a:pt x="29" y="273"/>
                </a:cubicBezTo>
                <a:cubicBezTo>
                  <a:pt x="104" y="273"/>
                  <a:pt x="104" y="273"/>
                  <a:pt x="104" y="273"/>
                </a:cubicBezTo>
                <a:cubicBezTo>
                  <a:pt x="104" y="359"/>
                  <a:pt x="104" y="359"/>
                  <a:pt x="104" y="359"/>
                </a:cubicBezTo>
                <a:cubicBezTo>
                  <a:pt x="104" y="361"/>
                  <a:pt x="105" y="363"/>
                  <a:pt x="107" y="365"/>
                </a:cubicBezTo>
                <a:cubicBezTo>
                  <a:pt x="108" y="366"/>
                  <a:pt x="110" y="367"/>
                  <a:pt x="112" y="367"/>
                </a:cubicBezTo>
                <a:cubicBezTo>
                  <a:pt x="157" y="367"/>
                  <a:pt x="157" y="367"/>
                  <a:pt x="157" y="367"/>
                </a:cubicBezTo>
                <a:cubicBezTo>
                  <a:pt x="159" y="367"/>
                  <a:pt x="161" y="366"/>
                  <a:pt x="163" y="365"/>
                </a:cubicBezTo>
                <a:cubicBezTo>
                  <a:pt x="165" y="363"/>
                  <a:pt x="166" y="361"/>
                  <a:pt x="166" y="359"/>
                </a:cubicBezTo>
                <a:cubicBezTo>
                  <a:pt x="166" y="273"/>
                  <a:pt x="166" y="273"/>
                  <a:pt x="166" y="273"/>
                </a:cubicBezTo>
                <a:cubicBezTo>
                  <a:pt x="241" y="273"/>
                  <a:pt x="241" y="273"/>
                  <a:pt x="241" y="273"/>
                </a:cubicBezTo>
                <a:cubicBezTo>
                  <a:pt x="243" y="273"/>
                  <a:pt x="245" y="272"/>
                  <a:pt x="247" y="270"/>
                </a:cubicBezTo>
                <a:cubicBezTo>
                  <a:pt x="249" y="269"/>
                  <a:pt x="250" y="267"/>
                  <a:pt x="250" y="264"/>
                </a:cubicBezTo>
                <a:cubicBezTo>
                  <a:pt x="250" y="238"/>
                  <a:pt x="250" y="238"/>
                  <a:pt x="250" y="238"/>
                </a:cubicBezTo>
                <a:cubicBezTo>
                  <a:pt x="250" y="235"/>
                  <a:pt x="249" y="233"/>
                  <a:pt x="247" y="232"/>
                </a:cubicBezTo>
                <a:cubicBezTo>
                  <a:pt x="245" y="230"/>
                  <a:pt x="243" y="229"/>
                  <a:pt x="241" y="229"/>
                </a:cubicBezTo>
                <a:cubicBezTo>
                  <a:pt x="166" y="229"/>
                  <a:pt x="166" y="229"/>
                  <a:pt x="166" y="229"/>
                </a:cubicBezTo>
                <a:cubicBezTo>
                  <a:pt x="166" y="207"/>
                  <a:pt x="166" y="207"/>
                  <a:pt x="166" y="207"/>
                </a:cubicBezTo>
                <a:cubicBezTo>
                  <a:pt x="241" y="207"/>
                  <a:pt x="241" y="207"/>
                  <a:pt x="241" y="207"/>
                </a:cubicBezTo>
                <a:cubicBezTo>
                  <a:pt x="243" y="207"/>
                  <a:pt x="245" y="206"/>
                  <a:pt x="247" y="205"/>
                </a:cubicBezTo>
                <a:cubicBezTo>
                  <a:pt x="249" y="203"/>
                  <a:pt x="250" y="201"/>
                  <a:pt x="250" y="199"/>
                </a:cubicBezTo>
                <a:cubicBezTo>
                  <a:pt x="250" y="172"/>
                  <a:pt x="250" y="172"/>
                  <a:pt x="250" y="172"/>
                </a:cubicBezTo>
                <a:cubicBezTo>
                  <a:pt x="250" y="169"/>
                  <a:pt x="249" y="167"/>
                  <a:pt x="247" y="166"/>
                </a:cubicBezTo>
                <a:cubicBezTo>
                  <a:pt x="245" y="164"/>
                  <a:pt x="243" y="163"/>
                  <a:pt x="241" y="163"/>
                </a:cubicBezTo>
                <a:cubicBezTo>
                  <a:pt x="185" y="163"/>
                  <a:pt x="185" y="163"/>
                  <a:pt x="185" y="163"/>
                </a:cubicBezTo>
                <a:cubicBezTo>
                  <a:pt x="267" y="12"/>
                  <a:pt x="267" y="12"/>
                  <a:pt x="267" y="12"/>
                </a:cubicBezTo>
                <a:cubicBezTo>
                  <a:pt x="268" y="9"/>
                  <a:pt x="268" y="7"/>
                  <a:pt x="266" y="4"/>
                </a:cubicBezTo>
                <a:close/>
                <a:moveTo>
                  <a:pt x="266" y="4"/>
                </a:moveTo>
                <a:cubicBezTo>
                  <a:pt x="266" y="4"/>
                  <a:pt x="266" y="4"/>
                  <a:pt x="266" y="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1" name="Freeform 20"/>
          <p:cNvSpPr/>
          <p:nvPr/>
        </p:nvSpPr>
        <p:spPr>
          <a:xfrm>
            <a:off x="3112920" y="6004080"/>
            <a:ext cx="201960" cy="303120"/>
          </a:xfrm>
          <a:custGeom>
            <a:avLst/>
            <a:gdLst/>
            <a:ahLst/>
            <a:rect l="l" t="t" r="r" b="b"/>
            <a:pathLst>
              <a:path w="684" h="1028">
                <a:moveTo>
                  <a:pt x="658" y="880"/>
                </a:moveTo>
                <a:cubicBezTo>
                  <a:pt x="601" y="891"/>
                  <a:pt x="577" y="879"/>
                  <a:pt x="535" y="860"/>
                </a:cubicBezTo>
                <a:cubicBezTo>
                  <a:pt x="501" y="844"/>
                  <a:pt x="458" y="824"/>
                  <a:pt x="395" y="818"/>
                </a:cubicBezTo>
                <a:cubicBezTo>
                  <a:pt x="325" y="810"/>
                  <a:pt x="257" y="827"/>
                  <a:pt x="196" y="845"/>
                </a:cubicBezTo>
                <a:cubicBezTo>
                  <a:pt x="230" y="754"/>
                  <a:pt x="230" y="672"/>
                  <a:pt x="225" y="596"/>
                </a:cubicBezTo>
                <a:cubicBezTo>
                  <a:pt x="537" y="596"/>
                  <a:pt x="537" y="596"/>
                  <a:pt x="537" y="596"/>
                </a:cubicBezTo>
                <a:cubicBezTo>
                  <a:pt x="537" y="452"/>
                  <a:pt x="537" y="452"/>
                  <a:pt x="537" y="452"/>
                </a:cubicBezTo>
                <a:cubicBezTo>
                  <a:pt x="216" y="452"/>
                  <a:pt x="216" y="452"/>
                  <a:pt x="216" y="452"/>
                </a:cubicBezTo>
                <a:cubicBezTo>
                  <a:pt x="217" y="408"/>
                  <a:pt x="221" y="363"/>
                  <a:pt x="235" y="315"/>
                </a:cubicBezTo>
                <a:cubicBezTo>
                  <a:pt x="256" y="258"/>
                  <a:pt x="295" y="186"/>
                  <a:pt x="367" y="168"/>
                </a:cubicBezTo>
                <a:cubicBezTo>
                  <a:pt x="430" y="152"/>
                  <a:pt x="510" y="181"/>
                  <a:pt x="579" y="244"/>
                </a:cubicBezTo>
                <a:cubicBezTo>
                  <a:pt x="676" y="138"/>
                  <a:pt x="676" y="138"/>
                  <a:pt x="676" y="138"/>
                </a:cubicBezTo>
                <a:cubicBezTo>
                  <a:pt x="569" y="40"/>
                  <a:pt x="444" y="0"/>
                  <a:pt x="332" y="28"/>
                </a:cubicBezTo>
                <a:cubicBezTo>
                  <a:pt x="226" y="55"/>
                  <a:pt x="144" y="140"/>
                  <a:pt x="99" y="269"/>
                </a:cubicBezTo>
                <a:cubicBezTo>
                  <a:pt x="98" y="272"/>
                  <a:pt x="98" y="272"/>
                  <a:pt x="98" y="272"/>
                </a:cubicBezTo>
                <a:cubicBezTo>
                  <a:pt x="78" y="337"/>
                  <a:pt x="72" y="397"/>
                  <a:pt x="72" y="452"/>
                </a:cubicBezTo>
                <a:cubicBezTo>
                  <a:pt x="2" y="452"/>
                  <a:pt x="2" y="452"/>
                  <a:pt x="2" y="452"/>
                </a:cubicBezTo>
                <a:cubicBezTo>
                  <a:pt x="2" y="596"/>
                  <a:pt x="2" y="596"/>
                  <a:pt x="2" y="596"/>
                </a:cubicBezTo>
                <a:cubicBezTo>
                  <a:pt x="80" y="596"/>
                  <a:pt x="80" y="596"/>
                  <a:pt x="80" y="596"/>
                </a:cubicBezTo>
                <a:cubicBezTo>
                  <a:pt x="88" y="701"/>
                  <a:pt x="86" y="789"/>
                  <a:pt x="0" y="904"/>
                </a:cubicBezTo>
                <a:cubicBezTo>
                  <a:pt x="58" y="1019"/>
                  <a:pt x="58" y="1019"/>
                  <a:pt x="58" y="1019"/>
                </a:cubicBezTo>
                <a:cubicBezTo>
                  <a:pt x="112" y="1019"/>
                  <a:pt x="166" y="1003"/>
                  <a:pt x="219" y="988"/>
                </a:cubicBezTo>
                <a:cubicBezTo>
                  <a:pt x="274" y="972"/>
                  <a:pt x="331" y="956"/>
                  <a:pt x="379" y="961"/>
                </a:cubicBezTo>
                <a:cubicBezTo>
                  <a:pt x="380" y="961"/>
                  <a:pt x="380" y="961"/>
                  <a:pt x="380" y="961"/>
                </a:cubicBezTo>
                <a:cubicBezTo>
                  <a:pt x="419" y="965"/>
                  <a:pt x="445" y="977"/>
                  <a:pt x="475" y="991"/>
                </a:cubicBezTo>
                <a:cubicBezTo>
                  <a:pt x="513" y="1009"/>
                  <a:pt x="556" y="1028"/>
                  <a:pt x="619" y="1028"/>
                </a:cubicBezTo>
                <a:cubicBezTo>
                  <a:pt x="639" y="1028"/>
                  <a:pt x="660" y="1026"/>
                  <a:pt x="684" y="1022"/>
                </a:cubicBezTo>
                <a:lnTo>
                  <a:pt x="658" y="880"/>
                </a:lnTo>
                <a:close/>
                <a:moveTo>
                  <a:pt x="658" y="880"/>
                </a:moveTo>
                <a:cubicBezTo>
                  <a:pt x="658" y="880"/>
                  <a:pt x="658" y="880"/>
                  <a:pt x="658" y="8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392" name="Group 60" descr=""/>
          <p:cNvPicPr/>
          <p:nvPr/>
        </p:nvPicPr>
        <p:blipFill>
          <a:blip r:embed="rId2"/>
          <a:stretch/>
        </p:blipFill>
        <p:spPr>
          <a:xfrm>
            <a:off x="3157560" y="4900680"/>
            <a:ext cx="274680" cy="268200"/>
          </a:xfrm>
          <a:prstGeom prst="rect">
            <a:avLst/>
          </a:prstGeom>
          <a:ln w="0">
            <a:noFill/>
          </a:ln>
        </p:spPr>
      </p:pic>
      <p:sp>
        <p:nvSpPr>
          <p:cNvPr id="393" name="Freeform 29"/>
          <p:cNvSpPr/>
          <p:nvPr/>
        </p:nvSpPr>
        <p:spPr>
          <a:xfrm>
            <a:off x="4160880" y="4556160"/>
            <a:ext cx="258840" cy="276120"/>
          </a:xfrm>
          <a:custGeom>
            <a:avLst/>
            <a:gdLst/>
            <a:ahLst/>
            <a:rect l="l" t="t" r="r" b="b"/>
            <a:pathLst>
              <a:path w="930" h="995">
                <a:moveTo>
                  <a:pt x="556" y="851"/>
                </a:moveTo>
                <a:cubicBezTo>
                  <a:pt x="452" y="851"/>
                  <a:pt x="361" y="781"/>
                  <a:pt x="312" y="677"/>
                </a:cubicBezTo>
                <a:cubicBezTo>
                  <a:pt x="638" y="677"/>
                  <a:pt x="638" y="677"/>
                  <a:pt x="638" y="677"/>
                </a:cubicBezTo>
                <a:cubicBezTo>
                  <a:pt x="638" y="533"/>
                  <a:pt x="638" y="533"/>
                  <a:pt x="638" y="533"/>
                </a:cubicBezTo>
                <a:cubicBezTo>
                  <a:pt x="274" y="533"/>
                  <a:pt x="274" y="533"/>
                  <a:pt x="274" y="533"/>
                </a:cubicBezTo>
                <a:cubicBezTo>
                  <a:pt x="273" y="521"/>
                  <a:pt x="272" y="509"/>
                  <a:pt x="272" y="497"/>
                </a:cubicBezTo>
                <a:cubicBezTo>
                  <a:pt x="272" y="486"/>
                  <a:pt x="273" y="474"/>
                  <a:pt x="274" y="462"/>
                </a:cubicBezTo>
                <a:cubicBezTo>
                  <a:pt x="638" y="462"/>
                  <a:pt x="638" y="462"/>
                  <a:pt x="638" y="462"/>
                </a:cubicBezTo>
                <a:cubicBezTo>
                  <a:pt x="638" y="318"/>
                  <a:pt x="638" y="318"/>
                  <a:pt x="638" y="318"/>
                </a:cubicBezTo>
                <a:cubicBezTo>
                  <a:pt x="312" y="318"/>
                  <a:pt x="312" y="318"/>
                  <a:pt x="312" y="318"/>
                </a:cubicBezTo>
                <a:cubicBezTo>
                  <a:pt x="361" y="214"/>
                  <a:pt x="452" y="144"/>
                  <a:pt x="556" y="144"/>
                </a:cubicBezTo>
                <a:cubicBezTo>
                  <a:pt x="655" y="144"/>
                  <a:pt x="748" y="211"/>
                  <a:pt x="800" y="318"/>
                </a:cubicBezTo>
                <a:cubicBezTo>
                  <a:pt x="930" y="256"/>
                  <a:pt x="930" y="256"/>
                  <a:pt x="930" y="256"/>
                </a:cubicBezTo>
                <a:cubicBezTo>
                  <a:pt x="854" y="98"/>
                  <a:pt x="711" y="0"/>
                  <a:pt x="556" y="0"/>
                </a:cubicBezTo>
                <a:cubicBezTo>
                  <a:pt x="439" y="0"/>
                  <a:pt x="330" y="54"/>
                  <a:pt x="249" y="151"/>
                </a:cubicBezTo>
                <a:cubicBezTo>
                  <a:pt x="208" y="199"/>
                  <a:pt x="177" y="256"/>
                  <a:pt x="157" y="318"/>
                </a:cubicBezTo>
                <a:cubicBezTo>
                  <a:pt x="0" y="318"/>
                  <a:pt x="0" y="318"/>
                  <a:pt x="0" y="318"/>
                </a:cubicBezTo>
                <a:cubicBezTo>
                  <a:pt x="0" y="462"/>
                  <a:pt x="0" y="462"/>
                  <a:pt x="0" y="462"/>
                </a:cubicBezTo>
                <a:cubicBezTo>
                  <a:pt x="129" y="462"/>
                  <a:pt x="129" y="462"/>
                  <a:pt x="129" y="462"/>
                </a:cubicBezTo>
                <a:cubicBezTo>
                  <a:pt x="128" y="474"/>
                  <a:pt x="128" y="486"/>
                  <a:pt x="128" y="497"/>
                </a:cubicBezTo>
                <a:cubicBezTo>
                  <a:pt x="128" y="509"/>
                  <a:pt x="128" y="521"/>
                  <a:pt x="129" y="533"/>
                </a:cubicBezTo>
                <a:cubicBezTo>
                  <a:pt x="0" y="533"/>
                  <a:pt x="0" y="533"/>
                  <a:pt x="0" y="533"/>
                </a:cubicBezTo>
                <a:cubicBezTo>
                  <a:pt x="0" y="677"/>
                  <a:pt x="0" y="677"/>
                  <a:pt x="0" y="677"/>
                </a:cubicBezTo>
                <a:cubicBezTo>
                  <a:pt x="157" y="677"/>
                  <a:pt x="157" y="677"/>
                  <a:pt x="157" y="677"/>
                </a:cubicBezTo>
                <a:cubicBezTo>
                  <a:pt x="177" y="739"/>
                  <a:pt x="208" y="796"/>
                  <a:pt x="249" y="844"/>
                </a:cubicBezTo>
                <a:cubicBezTo>
                  <a:pt x="330" y="941"/>
                  <a:pt x="439" y="995"/>
                  <a:pt x="556" y="995"/>
                </a:cubicBezTo>
                <a:cubicBezTo>
                  <a:pt x="711" y="995"/>
                  <a:pt x="854" y="897"/>
                  <a:pt x="930" y="739"/>
                </a:cubicBezTo>
                <a:cubicBezTo>
                  <a:pt x="800" y="677"/>
                  <a:pt x="800" y="677"/>
                  <a:pt x="800" y="677"/>
                </a:cubicBezTo>
                <a:cubicBezTo>
                  <a:pt x="748" y="784"/>
                  <a:pt x="655" y="851"/>
                  <a:pt x="556" y="8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4" name="Rounded Rectangle 45"/>
          <p:cNvSpPr/>
          <p:nvPr/>
        </p:nvSpPr>
        <p:spPr>
          <a:xfrm rot="5400000">
            <a:off x="8290080" y="1145160"/>
            <a:ext cx="330480" cy="3760920"/>
          </a:xfrm>
          <a:custGeom>
            <a:avLst/>
            <a:gdLst>
              <a:gd name="textAreaLeft" fmla="*/ 48240 w 330480"/>
              <a:gd name="textAreaRight" fmla="*/ 282240 w 330480"/>
              <a:gd name="textAreaTop" fmla="*/ 48240 h 3760920"/>
              <a:gd name="textAreaBottom" fmla="*/ 3712680 h 3760920"/>
            </a:gdLst>
            <a:ahLst/>
            <a:rect l="textAreaLeft" t="textAreaTop" r="textAreaRight" b="textAreaBottom"/>
            <a:pathLst>
              <a:path w="21600" h="245568">
                <a:moveTo>
                  <a:pt x="10800" y="0"/>
                </a:moveTo>
                <a:arcTo wR="10800" hR="10800" stAng="16200000" swAng="-5400000"/>
                <a:lnTo>
                  <a:pt x="0" y="234768"/>
                </a:lnTo>
                <a:arcTo wR="10800" hR="10800" stAng="10800000" swAng="-5400000"/>
                <a:lnTo>
                  <a:pt x="10800" y="2455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5" name="Rounded Rectangle 47"/>
          <p:cNvSpPr/>
          <p:nvPr/>
        </p:nvSpPr>
        <p:spPr>
          <a:xfrm rot="5400000">
            <a:off x="8291160" y="1698120"/>
            <a:ext cx="328680" cy="3760920"/>
          </a:xfrm>
          <a:custGeom>
            <a:avLst/>
            <a:gdLst>
              <a:gd name="textAreaLeft" fmla="*/ 47880 w 328680"/>
              <a:gd name="textAreaRight" fmla="*/ 280800 w 328680"/>
              <a:gd name="textAreaTop" fmla="*/ 47880 h 3760920"/>
              <a:gd name="textAreaBottom" fmla="*/ 3713040 h 3760920"/>
            </a:gdLst>
            <a:ahLst/>
            <a:rect l="textAreaLeft" t="textAreaTop" r="textAreaRight" b="textAreaBottom"/>
            <a:pathLst>
              <a:path w="21600" h="246911">
                <a:moveTo>
                  <a:pt x="10800" y="0"/>
                </a:moveTo>
                <a:arcTo wR="10800" hR="10800" stAng="16200000" swAng="-5400000"/>
                <a:lnTo>
                  <a:pt x="0" y="236111"/>
                </a:lnTo>
                <a:arcTo wR="10800" hR="10800" stAng="10800000" swAng="-5400000"/>
                <a:lnTo>
                  <a:pt x="10800" y="2469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6" name="Rounded Rectangle 49"/>
          <p:cNvSpPr/>
          <p:nvPr/>
        </p:nvSpPr>
        <p:spPr>
          <a:xfrm rot="5400000">
            <a:off x="8291160" y="2252160"/>
            <a:ext cx="328680" cy="3760920"/>
          </a:xfrm>
          <a:custGeom>
            <a:avLst/>
            <a:gdLst>
              <a:gd name="textAreaLeft" fmla="*/ 47880 w 328680"/>
              <a:gd name="textAreaRight" fmla="*/ 280800 w 328680"/>
              <a:gd name="textAreaTop" fmla="*/ 47880 h 3760920"/>
              <a:gd name="textAreaBottom" fmla="*/ 3713040 h 3760920"/>
            </a:gdLst>
            <a:ahLst/>
            <a:rect l="textAreaLeft" t="textAreaTop" r="textAreaRight" b="textAreaBottom"/>
            <a:pathLst>
              <a:path w="21600" h="246911">
                <a:moveTo>
                  <a:pt x="10800" y="0"/>
                </a:moveTo>
                <a:arcTo wR="10800" hR="10800" stAng="16200000" swAng="-5400000"/>
                <a:lnTo>
                  <a:pt x="0" y="236111"/>
                </a:lnTo>
                <a:arcTo wR="10800" hR="10800" stAng="10800000" swAng="-5400000"/>
                <a:lnTo>
                  <a:pt x="10800" y="2469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7" name="Rounded Rectangle 51"/>
          <p:cNvSpPr/>
          <p:nvPr/>
        </p:nvSpPr>
        <p:spPr>
          <a:xfrm rot="5400000">
            <a:off x="8290440" y="2805480"/>
            <a:ext cx="330120" cy="3760920"/>
          </a:xfrm>
          <a:custGeom>
            <a:avLst/>
            <a:gdLst>
              <a:gd name="textAreaLeft" fmla="*/ 48240 w 330120"/>
              <a:gd name="textAreaRight" fmla="*/ 281880 w 330120"/>
              <a:gd name="textAreaTop" fmla="*/ 48240 h 3760920"/>
              <a:gd name="textAreaBottom" fmla="*/ 3712680 h 3760920"/>
            </a:gdLst>
            <a:ahLst/>
            <a:rect l="textAreaLeft" t="textAreaTop" r="textAreaRight" b="textAreaBottom"/>
            <a:pathLst>
              <a:path w="21600" h="245835">
                <a:moveTo>
                  <a:pt x="10800" y="0"/>
                </a:moveTo>
                <a:arcTo wR="10800" hR="10800" stAng="16200000" swAng="-5400000"/>
                <a:lnTo>
                  <a:pt x="0" y="235035"/>
                </a:lnTo>
                <a:arcTo wR="10800" hR="10800" stAng="10800000" swAng="-5400000"/>
                <a:lnTo>
                  <a:pt x="10800" y="2458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8" name="Rounded Rectangle 53"/>
          <p:cNvSpPr/>
          <p:nvPr/>
        </p:nvSpPr>
        <p:spPr>
          <a:xfrm rot="5400000">
            <a:off x="8291160" y="3359160"/>
            <a:ext cx="328680" cy="3760920"/>
          </a:xfrm>
          <a:custGeom>
            <a:avLst/>
            <a:gdLst>
              <a:gd name="textAreaLeft" fmla="*/ 47880 w 328680"/>
              <a:gd name="textAreaRight" fmla="*/ 280800 w 328680"/>
              <a:gd name="textAreaTop" fmla="*/ 47880 h 3760920"/>
              <a:gd name="textAreaBottom" fmla="*/ 3713040 h 3760920"/>
            </a:gdLst>
            <a:ahLst/>
            <a:rect l="textAreaLeft" t="textAreaTop" r="textAreaRight" b="textAreaBottom"/>
            <a:pathLst>
              <a:path w="21600" h="246911">
                <a:moveTo>
                  <a:pt x="10800" y="0"/>
                </a:moveTo>
                <a:arcTo wR="10800" hR="10800" stAng="16200000" swAng="-5400000"/>
                <a:lnTo>
                  <a:pt x="0" y="236111"/>
                </a:lnTo>
                <a:arcTo wR="10800" hR="10800" stAng="10800000" swAng="-5400000"/>
                <a:lnTo>
                  <a:pt x="10800" y="2469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399" name="Group 69"/>
          <p:cNvGrpSpPr/>
          <p:nvPr/>
        </p:nvGrpSpPr>
        <p:grpSpPr>
          <a:xfrm>
            <a:off x="6497640" y="6151680"/>
            <a:ext cx="4381560" cy="296280"/>
            <a:chOff x="6497640" y="6151680"/>
            <a:chExt cx="4381560" cy="296280"/>
          </a:xfrm>
        </p:grpSpPr>
        <p:sp>
          <p:nvSpPr>
            <p:cNvPr id="400" name="Rectangle 70"/>
            <p:cNvSpPr/>
            <p:nvPr/>
          </p:nvSpPr>
          <p:spPr>
            <a:xfrm>
              <a:off x="9772920" y="6151680"/>
              <a:ext cx="11062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Open Sans"/>
                </a:rPr>
                <a:t>100%</a:t>
              </a:r>
              <a:endParaRPr b="0" lang="en-US" sz="14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01" name="Rectangle 71"/>
            <p:cNvSpPr/>
            <p:nvPr/>
          </p:nvSpPr>
          <p:spPr>
            <a:xfrm>
              <a:off x="8953560" y="6151680"/>
              <a:ext cx="11062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Open Sans"/>
                </a:rPr>
                <a:t>75%</a:t>
              </a:r>
              <a:endParaRPr b="0" lang="en-US" sz="14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02" name="Rectangle 72"/>
            <p:cNvSpPr/>
            <p:nvPr/>
          </p:nvSpPr>
          <p:spPr>
            <a:xfrm>
              <a:off x="8136000" y="6151680"/>
              <a:ext cx="11048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Open Sans"/>
                </a:rPr>
                <a:t>50%</a:t>
              </a:r>
              <a:endParaRPr b="0" lang="en-US" sz="14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03" name="Rectangle 73"/>
            <p:cNvSpPr/>
            <p:nvPr/>
          </p:nvSpPr>
          <p:spPr>
            <a:xfrm>
              <a:off x="6497640" y="6151680"/>
              <a:ext cx="11062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Open Sans"/>
                </a:rPr>
                <a:t>0%</a:t>
              </a:r>
              <a:endParaRPr b="0" lang="en-US" sz="14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404" name="Rectangle 74"/>
            <p:cNvSpPr/>
            <p:nvPr/>
          </p:nvSpPr>
          <p:spPr>
            <a:xfrm>
              <a:off x="7316640" y="6151680"/>
              <a:ext cx="11062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Open Sans"/>
                </a:rPr>
                <a:t>25%</a:t>
              </a:r>
              <a:endParaRPr b="0" lang="en-US" sz="14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405" name="TextBox 75"/>
          <p:cNvSpPr/>
          <p:nvPr/>
        </p:nvSpPr>
        <p:spPr>
          <a:xfrm>
            <a:off x="5911920" y="2411280"/>
            <a:ext cx="1404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</a:rPr>
              <a:t>Growth Rates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6" name="Rectangle 76"/>
          <p:cNvSpPr/>
          <p:nvPr/>
        </p:nvSpPr>
        <p:spPr>
          <a:xfrm>
            <a:off x="5524560" y="5070600"/>
            <a:ext cx="934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2015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7" name="Rectangle 77"/>
          <p:cNvSpPr/>
          <p:nvPr/>
        </p:nvSpPr>
        <p:spPr>
          <a:xfrm>
            <a:off x="5524560" y="4518000"/>
            <a:ext cx="934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2014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8" name="Rectangle 78"/>
          <p:cNvSpPr/>
          <p:nvPr/>
        </p:nvSpPr>
        <p:spPr>
          <a:xfrm>
            <a:off x="5524560" y="3963960"/>
            <a:ext cx="934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2013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9" name="Rectangle 79"/>
          <p:cNvSpPr/>
          <p:nvPr/>
        </p:nvSpPr>
        <p:spPr>
          <a:xfrm>
            <a:off x="5524560" y="3409920"/>
            <a:ext cx="934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2012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0" name="Rectangle 80"/>
          <p:cNvSpPr/>
          <p:nvPr/>
        </p:nvSpPr>
        <p:spPr>
          <a:xfrm>
            <a:off x="5524560" y="2857680"/>
            <a:ext cx="934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2011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1" name="Rounded Rectangle 46"/>
          <p:cNvSpPr/>
          <p:nvPr/>
        </p:nvSpPr>
        <p:spPr>
          <a:xfrm>
            <a:off x="6575400" y="2860560"/>
            <a:ext cx="1028880" cy="330480"/>
          </a:xfrm>
          <a:prstGeom prst="roundRect">
            <a:avLst>
              <a:gd name="adj" fmla="val 50000"/>
            </a:avLst>
          </a:pr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960" bIns="11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300" spc="-1" strike="noStrike">
                <a:solidFill>
                  <a:srgbClr val="ffffff"/>
                </a:solidFill>
                <a:latin typeface="Open Sans"/>
              </a:rPr>
              <a:t>25</a:t>
            </a:r>
            <a:r>
              <a:rPr b="0" lang="en-US" sz="1300" spc="-1" strike="noStrike">
                <a:solidFill>
                  <a:srgbClr val="ffffff"/>
                </a:solidFill>
                <a:latin typeface="Open Sans"/>
              </a:rPr>
              <a:t>%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2" name="Rounded Rectangle 48"/>
          <p:cNvSpPr/>
          <p:nvPr/>
        </p:nvSpPr>
        <p:spPr>
          <a:xfrm>
            <a:off x="6575400" y="3414600"/>
            <a:ext cx="2379600" cy="328680"/>
          </a:xfrm>
          <a:prstGeom prst="roundRect">
            <a:avLst>
              <a:gd name="adj" fmla="val 50000"/>
            </a:avLst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0880" bIns="11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300" spc="-1" strike="noStrike">
                <a:solidFill>
                  <a:srgbClr val="ffffff"/>
                </a:solidFill>
                <a:latin typeface="Open Sans"/>
              </a:rPr>
              <a:t>65</a:t>
            </a:r>
            <a:r>
              <a:rPr b="0" lang="en-US" sz="1300" spc="-1" strike="noStrike">
                <a:solidFill>
                  <a:srgbClr val="ffffff"/>
                </a:solidFill>
                <a:latin typeface="Open Sans"/>
              </a:rPr>
              <a:t>%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3" name="Rounded Rectangle 50"/>
          <p:cNvSpPr/>
          <p:nvPr/>
        </p:nvSpPr>
        <p:spPr>
          <a:xfrm>
            <a:off x="6575400" y="3968640"/>
            <a:ext cx="1847880" cy="328680"/>
          </a:xfrm>
          <a:prstGeom prst="roundRect">
            <a:avLst>
              <a:gd name="adj" fmla="val 50000"/>
            </a:avLst>
          </a:pr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0880" bIns="11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300" spc="-1" strike="noStrike">
                <a:solidFill>
                  <a:srgbClr val="ffffff"/>
                </a:solidFill>
                <a:latin typeface="Open Sans"/>
              </a:rPr>
              <a:t>50</a:t>
            </a:r>
            <a:r>
              <a:rPr b="0" lang="en-US" sz="1300" spc="-1" strike="noStrike">
                <a:solidFill>
                  <a:srgbClr val="ffffff"/>
                </a:solidFill>
                <a:latin typeface="Open Sans"/>
              </a:rPr>
              <a:t>%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4" name="Rounded Rectangle 52"/>
          <p:cNvSpPr/>
          <p:nvPr/>
        </p:nvSpPr>
        <p:spPr>
          <a:xfrm>
            <a:off x="6575400" y="4521240"/>
            <a:ext cx="2666880" cy="330120"/>
          </a:xfrm>
          <a:prstGeom prst="roundRect">
            <a:avLst>
              <a:gd name="adj" fmla="val 50000"/>
            </a:avLst>
          </a:pr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0" bIns="11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300" spc="-1" strike="noStrike">
                <a:solidFill>
                  <a:srgbClr val="ffffff"/>
                </a:solidFill>
                <a:latin typeface="Open Sans"/>
              </a:rPr>
              <a:t>75</a:t>
            </a:r>
            <a:r>
              <a:rPr b="0" lang="en-US" sz="1300" spc="-1" strike="noStrike">
                <a:solidFill>
                  <a:srgbClr val="ffffff"/>
                </a:solidFill>
                <a:latin typeface="Open Sans"/>
              </a:rPr>
              <a:t>%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5" name="Rounded Rectangle 54"/>
          <p:cNvSpPr/>
          <p:nvPr/>
        </p:nvSpPr>
        <p:spPr>
          <a:xfrm>
            <a:off x="6575400" y="5075280"/>
            <a:ext cx="2282760" cy="328680"/>
          </a:xfrm>
          <a:prstGeom prst="roundRect">
            <a:avLst>
              <a:gd name="adj" fmla="val 50000"/>
            </a:avLst>
          </a:prstGeom>
          <a:solidFill>
            <a:srgbClr val="41b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0880" bIns="11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Open Sans"/>
              </a:rPr>
              <a:t>6</a:t>
            </a:r>
            <a:r>
              <a:rPr b="0" lang="id-ID" sz="1300" spc="-1" strike="noStrike">
                <a:solidFill>
                  <a:srgbClr val="ffffff"/>
                </a:solidFill>
                <a:latin typeface="Open Sans"/>
              </a:rPr>
              <a:t>0</a:t>
            </a:r>
            <a:r>
              <a:rPr b="0" lang="en-US" sz="1300" spc="-1" strike="noStrike">
                <a:solidFill>
                  <a:srgbClr val="ffffff"/>
                </a:solidFill>
                <a:latin typeface="Open Sans"/>
              </a:rPr>
              <a:t>%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6" name="Rounded Rectangle 53"/>
          <p:cNvSpPr/>
          <p:nvPr/>
        </p:nvSpPr>
        <p:spPr>
          <a:xfrm rot="5400000">
            <a:off x="8291160" y="3925800"/>
            <a:ext cx="328680" cy="3760920"/>
          </a:xfrm>
          <a:custGeom>
            <a:avLst/>
            <a:gdLst>
              <a:gd name="textAreaLeft" fmla="*/ 47880 w 328680"/>
              <a:gd name="textAreaRight" fmla="*/ 280800 w 328680"/>
              <a:gd name="textAreaTop" fmla="*/ 47880 h 3760920"/>
              <a:gd name="textAreaBottom" fmla="*/ 3713040 h 3760920"/>
            </a:gdLst>
            <a:ahLst/>
            <a:rect l="textAreaLeft" t="textAreaTop" r="textAreaRight" b="textAreaBottom"/>
            <a:pathLst>
              <a:path w="21600" h="246911">
                <a:moveTo>
                  <a:pt x="10800" y="0"/>
                </a:moveTo>
                <a:arcTo wR="10800" hR="10800" stAng="16200000" swAng="-5400000"/>
                <a:lnTo>
                  <a:pt x="0" y="236111"/>
                </a:lnTo>
                <a:arcTo wR="10800" hR="10800" stAng="10800000" swAng="-5400000"/>
                <a:lnTo>
                  <a:pt x="10800" y="2469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7" name="Rectangle 87"/>
          <p:cNvSpPr/>
          <p:nvPr/>
        </p:nvSpPr>
        <p:spPr>
          <a:xfrm>
            <a:off x="5524560" y="5637240"/>
            <a:ext cx="934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2015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8" name="Rounded Rectangle 54"/>
          <p:cNvSpPr/>
          <p:nvPr/>
        </p:nvSpPr>
        <p:spPr>
          <a:xfrm>
            <a:off x="6575400" y="5641920"/>
            <a:ext cx="3484440" cy="328680"/>
          </a:xfrm>
          <a:prstGeom prst="roundRect">
            <a:avLst>
              <a:gd name="adj" fmla="val 50000"/>
            </a:avLst>
          </a:prstGeom>
          <a:solidFill>
            <a:srgbClr val="954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0880" bIns="11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300" spc="-1" strike="noStrike">
                <a:solidFill>
                  <a:srgbClr val="ffffff"/>
                </a:solidFill>
                <a:latin typeface="Open Sans"/>
              </a:rPr>
              <a:t>95</a:t>
            </a:r>
            <a:r>
              <a:rPr b="0" lang="en-US" sz="1300" spc="-1" strike="noStrike">
                <a:solidFill>
                  <a:srgbClr val="ffffff"/>
                </a:solidFill>
                <a:latin typeface="Open Sans"/>
              </a:rPr>
              <a:t>%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9" name="TextBox 89"/>
          <p:cNvSpPr/>
          <p:nvPr/>
        </p:nvSpPr>
        <p:spPr>
          <a:xfrm>
            <a:off x="5742000" y="1554120"/>
            <a:ext cx="5137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For every 6 emails received, we get 3 Phone calls. Suitable for all categories business and personal presentation</a:t>
            </a:r>
            <a:r>
              <a:rPr b="1" lang="id-ID" sz="1200" spc="-1" strike="noStrike">
                <a:solidFill>
                  <a:srgbClr val="3f3f3f"/>
                </a:solidFill>
                <a:latin typeface="Open Sans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31T07:30:01Z</dcterms:created>
  <dc:creator>Musedsmh</dc:creator>
  <dc:description/>
  <dc:language>en-US</dc:language>
  <cp:lastModifiedBy>muse</cp:lastModifiedBy>
  <dcterms:modified xsi:type="dcterms:W3CDTF">2018-01-12T00:37:08Z</dcterms:modified>
  <cp:revision>339</cp:revision>
  <dc:subject/>
  <dc:title>CYCLE PROC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fs.IsStoryboard">
    <vt:bool>1</vt:bool>
  </property>
</Properties>
</file>